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1756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552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3960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1756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9552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4e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0" y="90000"/>
            <a:ext cx="7524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4e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4e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51756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5520" y="119700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93960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51756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95520" y="3974040"/>
            <a:ext cx="24548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0" y="90000"/>
            <a:ext cx="7524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4e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846680" y="397404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3960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46680" y="1197000"/>
            <a:ext cx="372060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39600" y="3974040"/>
            <a:ext cx="7624440" cy="25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8101800">
            <a:off x="6748560" y="1276200"/>
            <a:ext cx="1503000" cy="385920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42352"/>
                </a:srgbClr>
              </a:gs>
              <a:gs pos="100000">
                <a:srgbClr val="0000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 flipV="1">
            <a:off x="7639200" y="0"/>
            <a:ext cx="1504800" cy="6153120"/>
          </a:xfrm>
          <a:prstGeom prst="line">
            <a:avLst/>
          </a:prstGeom>
          <a:ln w="9360">
            <a:solidFill>
              <a:srgbClr val="2a4c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959520" y="6132600"/>
            <a:ext cx="804600" cy="793080"/>
            <a:chOff x="6959520" y="6132600"/>
            <a:chExt cx="804600" cy="793080"/>
          </a:xfrm>
        </p:grpSpPr>
        <p:sp>
          <p:nvSpPr>
            <p:cNvPr id="3" name=""/>
            <p:cNvSpPr/>
            <p:nvPr/>
          </p:nvSpPr>
          <p:spPr>
            <a:xfrm flipH="1" rot="18975000">
              <a:off x="7169760" y="6243120"/>
              <a:ext cx="443160" cy="61452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8975000">
              <a:off x="7110000" y="6200640"/>
              <a:ext cx="443520" cy="61452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18975000">
              <a:off x="7242480" y="6285600"/>
              <a:ext cx="240840" cy="40140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18975000">
              <a:off x="7192080" y="6327720"/>
              <a:ext cx="182160" cy="41544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41360" y="4191120"/>
            <a:ext cx="446040" cy="1285920"/>
          </a:xfrm>
          <a:custGeom>
            <a:avLst/>
            <a:gdLst/>
            <a:ahLst/>
            <a:rect l="l" t="t" r="r" b="b"/>
            <a:pathLst>
              <a:path w="1816" h="5514">
                <a:moveTo>
                  <a:pt x="174" y="1546"/>
                </a:moveTo>
                <a:lnTo>
                  <a:pt x="0" y="1377"/>
                </a:lnTo>
                <a:lnTo>
                  <a:pt x="50" y="1305"/>
                </a:lnTo>
                <a:lnTo>
                  <a:pt x="100" y="1236"/>
                </a:lnTo>
                <a:lnTo>
                  <a:pt x="147" y="1170"/>
                </a:lnTo>
                <a:lnTo>
                  <a:pt x="193" y="1108"/>
                </a:lnTo>
                <a:lnTo>
                  <a:pt x="236" y="1046"/>
                </a:lnTo>
                <a:lnTo>
                  <a:pt x="277" y="984"/>
                </a:lnTo>
                <a:lnTo>
                  <a:pt x="297" y="952"/>
                </a:lnTo>
                <a:lnTo>
                  <a:pt x="316" y="921"/>
                </a:lnTo>
                <a:lnTo>
                  <a:pt x="333" y="890"/>
                </a:lnTo>
                <a:lnTo>
                  <a:pt x="350" y="857"/>
                </a:lnTo>
                <a:lnTo>
                  <a:pt x="367" y="824"/>
                </a:lnTo>
                <a:lnTo>
                  <a:pt x="382" y="789"/>
                </a:lnTo>
                <a:lnTo>
                  <a:pt x="397" y="754"/>
                </a:lnTo>
                <a:lnTo>
                  <a:pt x="410" y="718"/>
                </a:lnTo>
                <a:lnTo>
                  <a:pt x="423" y="680"/>
                </a:lnTo>
                <a:lnTo>
                  <a:pt x="434" y="641"/>
                </a:lnTo>
                <a:lnTo>
                  <a:pt x="444" y="601"/>
                </a:lnTo>
                <a:lnTo>
                  <a:pt x="453" y="557"/>
                </a:lnTo>
                <a:lnTo>
                  <a:pt x="462" y="514"/>
                </a:lnTo>
                <a:lnTo>
                  <a:pt x="468" y="468"/>
                </a:lnTo>
                <a:lnTo>
                  <a:pt x="474" y="420"/>
                </a:lnTo>
                <a:lnTo>
                  <a:pt x="478" y="369"/>
                </a:lnTo>
                <a:lnTo>
                  <a:pt x="481" y="317"/>
                </a:lnTo>
                <a:lnTo>
                  <a:pt x="483" y="262"/>
                </a:lnTo>
                <a:lnTo>
                  <a:pt x="483" y="205"/>
                </a:lnTo>
                <a:lnTo>
                  <a:pt x="482" y="144"/>
                </a:lnTo>
                <a:lnTo>
                  <a:pt x="482" y="134"/>
                </a:lnTo>
                <a:lnTo>
                  <a:pt x="483" y="123"/>
                </a:lnTo>
                <a:lnTo>
                  <a:pt x="483" y="113"/>
                </a:lnTo>
                <a:lnTo>
                  <a:pt x="485" y="102"/>
                </a:lnTo>
                <a:lnTo>
                  <a:pt x="487" y="92"/>
                </a:lnTo>
                <a:lnTo>
                  <a:pt x="489" y="82"/>
                </a:lnTo>
                <a:lnTo>
                  <a:pt x="492" y="73"/>
                </a:lnTo>
                <a:lnTo>
                  <a:pt x="497" y="64"/>
                </a:lnTo>
                <a:lnTo>
                  <a:pt x="501" y="54"/>
                </a:lnTo>
                <a:lnTo>
                  <a:pt x="506" y="46"/>
                </a:lnTo>
                <a:lnTo>
                  <a:pt x="511" y="38"/>
                </a:lnTo>
                <a:lnTo>
                  <a:pt x="517" y="31"/>
                </a:lnTo>
                <a:lnTo>
                  <a:pt x="523" y="25"/>
                </a:lnTo>
                <a:lnTo>
                  <a:pt x="532" y="18"/>
                </a:lnTo>
                <a:lnTo>
                  <a:pt x="540" y="13"/>
                </a:lnTo>
                <a:lnTo>
                  <a:pt x="548" y="9"/>
                </a:lnTo>
                <a:lnTo>
                  <a:pt x="557" y="5"/>
                </a:lnTo>
                <a:lnTo>
                  <a:pt x="568" y="3"/>
                </a:lnTo>
                <a:lnTo>
                  <a:pt x="579" y="1"/>
                </a:lnTo>
                <a:lnTo>
                  <a:pt x="590" y="0"/>
                </a:lnTo>
                <a:lnTo>
                  <a:pt x="603" y="0"/>
                </a:lnTo>
                <a:lnTo>
                  <a:pt x="616" y="2"/>
                </a:lnTo>
                <a:lnTo>
                  <a:pt x="629" y="4"/>
                </a:lnTo>
                <a:lnTo>
                  <a:pt x="644" y="8"/>
                </a:lnTo>
                <a:lnTo>
                  <a:pt x="659" y="12"/>
                </a:lnTo>
                <a:lnTo>
                  <a:pt x="676" y="18"/>
                </a:lnTo>
                <a:lnTo>
                  <a:pt x="693" y="27"/>
                </a:lnTo>
                <a:lnTo>
                  <a:pt x="711" y="35"/>
                </a:lnTo>
                <a:lnTo>
                  <a:pt x="729" y="45"/>
                </a:lnTo>
                <a:lnTo>
                  <a:pt x="749" y="57"/>
                </a:lnTo>
                <a:lnTo>
                  <a:pt x="769" y="71"/>
                </a:lnTo>
                <a:lnTo>
                  <a:pt x="791" y="86"/>
                </a:lnTo>
                <a:lnTo>
                  <a:pt x="949" y="265"/>
                </a:lnTo>
                <a:lnTo>
                  <a:pt x="1091" y="439"/>
                </a:lnTo>
                <a:lnTo>
                  <a:pt x="1219" y="609"/>
                </a:lnTo>
                <a:lnTo>
                  <a:pt x="1332" y="773"/>
                </a:lnTo>
                <a:lnTo>
                  <a:pt x="1432" y="935"/>
                </a:lnTo>
                <a:lnTo>
                  <a:pt x="1518" y="1092"/>
                </a:lnTo>
                <a:lnTo>
                  <a:pt x="1591" y="1246"/>
                </a:lnTo>
                <a:lnTo>
                  <a:pt x="1654" y="1397"/>
                </a:lnTo>
                <a:lnTo>
                  <a:pt x="1705" y="1546"/>
                </a:lnTo>
                <a:lnTo>
                  <a:pt x="1745" y="1692"/>
                </a:lnTo>
                <a:lnTo>
                  <a:pt x="1776" y="1836"/>
                </a:lnTo>
                <a:lnTo>
                  <a:pt x="1798" y="1978"/>
                </a:lnTo>
                <a:lnTo>
                  <a:pt x="1811" y="2120"/>
                </a:lnTo>
                <a:lnTo>
                  <a:pt x="1816" y="2260"/>
                </a:lnTo>
                <a:lnTo>
                  <a:pt x="1814" y="2399"/>
                </a:lnTo>
                <a:lnTo>
                  <a:pt x="1806" y="2539"/>
                </a:lnTo>
                <a:lnTo>
                  <a:pt x="1793" y="2679"/>
                </a:lnTo>
                <a:lnTo>
                  <a:pt x="1773" y="2820"/>
                </a:lnTo>
                <a:lnTo>
                  <a:pt x="1748" y="2961"/>
                </a:lnTo>
                <a:lnTo>
                  <a:pt x="1721" y="3104"/>
                </a:lnTo>
                <a:lnTo>
                  <a:pt x="1690" y="3248"/>
                </a:lnTo>
                <a:lnTo>
                  <a:pt x="1656" y="3394"/>
                </a:lnTo>
                <a:lnTo>
                  <a:pt x="1621" y="3542"/>
                </a:lnTo>
                <a:lnTo>
                  <a:pt x="1584" y="3693"/>
                </a:lnTo>
                <a:lnTo>
                  <a:pt x="1546" y="3846"/>
                </a:lnTo>
                <a:lnTo>
                  <a:pt x="1509" y="4004"/>
                </a:lnTo>
                <a:lnTo>
                  <a:pt x="1472" y="4165"/>
                </a:lnTo>
                <a:lnTo>
                  <a:pt x="1436" y="4330"/>
                </a:lnTo>
                <a:lnTo>
                  <a:pt x="1403" y="4499"/>
                </a:lnTo>
                <a:lnTo>
                  <a:pt x="1372" y="4673"/>
                </a:lnTo>
                <a:lnTo>
                  <a:pt x="1344" y="4852"/>
                </a:lnTo>
                <a:lnTo>
                  <a:pt x="1320" y="5036"/>
                </a:lnTo>
                <a:lnTo>
                  <a:pt x="1181" y="5514"/>
                </a:lnTo>
                <a:lnTo>
                  <a:pt x="1169" y="5338"/>
                </a:lnTo>
                <a:lnTo>
                  <a:pt x="1163" y="5165"/>
                </a:lnTo>
                <a:lnTo>
                  <a:pt x="1163" y="4996"/>
                </a:lnTo>
                <a:lnTo>
                  <a:pt x="1166" y="4831"/>
                </a:lnTo>
                <a:lnTo>
                  <a:pt x="1174" y="4669"/>
                </a:lnTo>
                <a:lnTo>
                  <a:pt x="1186" y="4510"/>
                </a:lnTo>
                <a:lnTo>
                  <a:pt x="1199" y="4354"/>
                </a:lnTo>
                <a:lnTo>
                  <a:pt x="1215" y="4199"/>
                </a:lnTo>
                <a:lnTo>
                  <a:pt x="1232" y="4047"/>
                </a:lnTo>
                <a:lnTo>
                  <a:pt x="1251" y="3898"/>
                </a:lnTo>
                <a:lnTo>
                  <a:pt x="1269" y="3749"/>
                </a:lnTo>
                <a:lnTo>
                  <a:pt x="1289" y="3603"/>
                </a:lnTo>
                <a:lnTo>
                  <a:pt x="1306" y="3457"/>
                </a:lnTo>
                <a:lnTo>
                  <a:pt x="1323" y="3312"/>
                </a:lnTo>
                <a:lnTo>
                  <a:pt x="1337" y="3168"/>
                </a:lnTo>
                <a:lnTo>
                  <a:pt x="1349" y="3025"/>
                </a:lnTo>
                <a:lnTo>
                  <a:pt x="1359" y="2882"/>
                </a:lnTo>
                <a:lnTo>
                  <a:pt x="1364" y="2738"/>
                </a:lnTo>
                <a:lnTo>
                  <a:pt x="1366" y="2595"/>
                </a:lnTo>
                <a:lnTo>
                  <a:pt x="1362" y="2451"/>
                </a:lnTo>
                <a:lnTo>
                  <a:pt x="1352" y="2306"/>
                </a:lnTo>
                <a:lnTo>
                  <a:pt x="1338" y="2160"/>
                </a:lnTo>
                <a:lnTo>
                  <a:pt x="1316" y="2013"/>
                </a:lnTo>
                <a:lnTo>
                  <a:pt x="1288" y="1865"/>
                </a:lnTo>
                <a:lnTo>
                  <a:pt x="1252" y="1713"/>
                </a:lnTo>
                <a:lnTo>
                  <a:pt x="1206" y="1561"/>
                </a:lnTo>
                <a:lnTo>
                  <a:pt x="1153" y="1407"/>
                </a:lnTo>
                <a:lnTo>
                  <a:pt x="1090" y="1250"/>
                </a:lnTo>
                <a:lnTo>
                  <a:pt x="1017" y="1090"/>
                </a:lnTo>
                <a:lnTo>
                  <a:pt x="934" y="928"/>
                </a:lnTo>
                <a:lnTo>
                  <a:pt x="839" y="762"/>
                </a:lnTo>
                <a:lnTo>
                  <a:pt x="732" y="592"/>
                </a:lnTo>
                <a:lnTo>
                  <a:pt x="723" y="632"/>
                </a:lnTo>
                <a:lnTo>
                  <a:pt x="714" y="671"/>
                </a:lnTo>
                <a:lnTo>
                  <a:pt x="702" y="710"/>
                </a:lnTo>
                <a:lnTo>
                  <a:pt x="691" y="747"/>
                </a:lnTo>
                <a:lnTo>
                  <a:pt x="680" y="783"/>
                </a:lnTo>
                <a:lnTo>
                  <a:pt x="667" y="819"/>
                </a:lnTo>
                <a:lnTo>
                  <a:pt x="655" y="853"/>
                </a:lnTo>
                <a:lnTo>
                  <a:pt x="642" y="886"/>
                </a:lnTo>
                <a:lnTo>
                  <a:pt x="627" y="919"/>
                </a:lnTo>
                <a:lnTo>
                  <a:pt x="613" y="951"/>
                </a:lnTo>
                <a:lnTo>
                  <a:pt x="598" y="983"/>
                </a:lnTo>
                <a:lnTo>
                  <a:pt x="583" y="1013"/>
                </a:lnTo>
                <a:lnTo>
                  <a:pt x="567" y="1044"/>
                </a:lnTo>
                <a:lnTo>
                  <a:pt x="550" y="1073"/>
                </a:lnTo>
                <a:lnTo>
                  <a:pt x="533" y="1102"/>
                </a:lnTo>
                <a:lnTo>
                  <a:pt x="515" y="1130"/>
                </a:lnTo>
                <a:lnTo>
                  <a:pt x="498" y="1158"/>
                </a:lnTo>
                <a:lnTo>
                  <a:pt x="479" y="1186"/>
                </a:lnTo>
                <a:lnTo>
                  <a:pt x="461" y="1212"/>
                </a:lnTo>
                <a:lnTo>
                  <a:pt x="441" y="1239"/>
                </a:lnTo>
                <a:lnTo>
                  <a:pt x="401" y="1293"/>
                </a:lnTo>
                <a:lnTo>
                  <a:pt x="359" y="1344"/>
                </a:lnTo>
                <a:lnTo>
                  <a:pt x="314" y="1395"/>
                </a:lnTo>
                <a:lnTo>
                  <a:pt x="269" y="1445"/>
                </a:lnTo>
                <a:lnTo>
                  <a:pt x="223" y="1495"/>
                </a:lnTo>
                <a:lnTo>
                  <a:pt x="174" y="1546"/>
                </a:lnTo>
                <a:close/>
              </a:path>
            </a:pathLst>
          </a:custGeom>
          <a:solidFill>
            <a:srgbClr val="2a4caa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192240" y="4600440"/>
            <a:ext cx="2401920" cy="1060560"/>
          </a:xfrm>
          <a:custGeom>
            <a:avLst/>
            <a:gdLst/>
            <a:ahLst/>
            <a:rect l="l" t="t" r="r" b="b"/>
            <a:pathLst>
              <a:path w="9738" h="4549">
                <a:moveTo>
                  <a:pt x="9664" y="948"/>
                </a:moveTo>
                <a:lnTo>
                  <a:pt x="9677" y="959"/>
                </a:lnTo>
                <a:lnTo>
                  <a:pt x="9690" y="971"/>
                </a:lnTo>
                <a:lnTo>
                  <a:pt x="9702" y="984"/>
                </a:lnTo>
                <a:lnTo>
                  <a:pt x="9712" y="997"/>
                </a:lnTo>
                <a:lnTo>
                  <a:pt x="9720" y="1011"/>
                </a:lnTo>
                <a:lnTo>
                  <a:pt x="9727" y="1024"/>
                </a:lnTo>
                <a:lnTo>
                  <a:pt x="9732" y="1038"/>
                </a:lnTo>
                <a:lnTo>
                  <a:pt x="9736" y="1054"/>
                </a:lnTo>
                <a:lnTo>
                  <a:pt x="9738" y="1069"/>
                </a:lnTo>
                <a:lnTo>
                  <a:pt x="9738" y="1086"/>
                </a:lnTo>
                <a:lnTo>
                  <a:pt x="9736" y="1102"/>
                </a:lnTo>
                <a:lnTo>
                  <a:pt x="9731" y="1120"/>
                </a:lnTo>
                <a:lnTo>
                  <a:pt x="9725" y="1138"/>
                </a:lnTo>
                <a:lnTo>
                  <a:pt x="9716" y="1158"/>
                </a:lnTo>
                <a:lnTo>
                  <a:pt x="9706" y="1177"/>
                </a:lnTo>
                <a:lnTo>
                  <a:pt x="9692" y="1198"/>
                </a:lnTo>
                <a:lnTo>
                  <a:pt x="9384" y="1704"/>
                </a:lnTo>
                <a:lnTo>
                  <a:pt x="9186" y="1681"/>
                </a:lnTo>
                <a:lnTo>
                  <a:pt x="9387" y="1280"/>
                </a:lnTo>
                <a:lnTo>
                  <a:pt x="9390" y="1274"/>
                </a:lnTo>
                <a:lnTo>
                  <a:pt x="9392" y="1265"/>
                </a:lnTo>
                <a:lnTo>
                  <a:pt x="9392" y="1254"/>
                </a:lnTo>
                <a:lnTo>
                  <a:pt x="9391" y="1243"/>
                </a:lnTo>
                <a:lnTo>
                  <a:pt x="9390" y="1237"/>
                </a:lnTo>
                <a:lnTo>
                  <a:pt x="9388" y="1231"/>
                </a:lnTo>
                <a:lnTo>
                  <a:pt x="9386" y="1226"/>
                </a:lnTo>
                <a:lnTo>
                  <a:pt x="9383" y="1220"/>
                </a:lnTo>
                <a:lnTo>
                  <a:pt x="9380" y="1215"/>
                </a:lnTo>
                <a:lnTo>
                  <a:pt x="9374" y="1210"/>
                </a:lnTo>
                <a:lnTo>
                  <a:pt x="9369" y="1207"/>
                </a:lnTo>
                <a:lnTo>
                  <a:pt x="9364" y="1204"/>
                </a:lnTo>
                <a:lnTo>
                  <a:pt x="9148" y="1120"/>
                </a:lnTo>
                <a:lnTo>
                  <a:pt x="8930" y="1057"/>
                </a:lnTo>
                <a:lnTo>
                  <a:pt x="8710" y="1013"/>
                </a:lnTo>
                <a:lnTo>
                  <a:pt x="8489" y="988"/>
                </a:lnTo>
                <a:lnTo>
                  <a:pt x="8268" y="981"/>
                </a:lnTo>
                <a:lnTo>
                  <a:pt x="8046" y="990"/>
                </a:lnTo>
                <a:lnTo>
                  <a:pt x="7822" y="1017"/>
                </a:lnTo>
                <a:lnTo>
                  <a:pt x="7600" y="1058"/>
                </a:lnTo>
                <a:lnTo>
                  <a:pt x="7379" y="1113"/>
                </a:lnTo>
                <a:lnTo>
                  <a:pt x="7158" y="1183"/>
                </a:lnTo>
                <a:lnTo>
                  <a:pt x="6939" y="1266"/>
                </a:lnTo>
                <a:lnTo>
                  <a:pt x="6721" y="1361"/>
                </a:lnTo>
                <a:lnTo>
                  <a:pt x="6506" y="1467"/>
                </a:lnTo>
                <a:lnTo>
                  <a:pt x="6292" y="1583"/>
                </a:lnTo>
                <a:lnTo>
                  <a:pt x="6082" y="1710"/>
                </a:lnTo>
                <a:lnTo>
                  <a:pt x="5874" y="1845"/>
                </a:lnTo>
                <a:lnTo>
                  <a:pt x="5670" y="1989"/>
                </a:lnTo>
                <a:lnTo>
                  <a:pt x="5471" y="2139"/>
                </a:lnTo>
                <a:lnTo>
                  <a:pt x="5275" y="2296"/>
                </a:lnTo>
                <a:lnTo>
                  <a:pt x="5084" y="2459"/>
                </a:lnTo>
                <a:lnTo>
                  <a:pt x="4898" y="2625"/>
                </a:lnTo>
                <a:lnTo>
                  <a:pt x="4717" y="2797"/>
                </a:lnTo>
                <a:lnTo>
                  <a:pt x="4542" y="2971"/>
                </a:lnTo>
                <a:lnTo>
                  <a:pt x="4373" y="3148"/>
                </a:lnTo>
                <a:lnTo>
                  <a:pt x="4211" y="3327"/>
                </a:lnTo>
                <a:lnTo>
                  <a:pt x="4056" y="3506"/>
                </a:lnTo>
                <a:lnTo>
                  <a:pt x="3907" y="3685"/>
                </a:lnTo>
                <a:lnTo>
                  <a:pt x="3766" y="3863"/>
                </a:lnTo>
                <a:lnTo>
                  <a:pt x="3634" y="4038"/>
                </a:lnTo>
                <a:lnTo>
                  <a:pt x="3509" y="4212"/>
                </a:lnTo>
                <a:lnTo>
                  <a:pt x="3393" y="4383"/>
                </a:lnTo>
                <a:lnTo>
                  <a:pt x="3286" y="4549"/>
                </a:lnTo>
                <a:lnTo>
                  <a:pt x="3036" y="4409"/>
                </a:lnTo>
                <a:lnTo>
                  <a:pt x="2933" y="4107"/>
                </a:lnTo>
                <a:lnTo>
                  <a:pt x="2831" y="3806"/>
                </a:lnTo>
                <a:lnTo>
                  <a:pt x="2779" y="3657"/>
                </a:lnTo>
                <a:lnTo>
                  <a:pt x="2728" y="3507"/>
                </a:lnTo>
                <a:lnTo>
                  <a:pt x="2674" y="3359"/>
                </a:lnTo>
                <a:lnTo>
                  <a:pt x="2620" y="3211"/>
                </a:lnTo>
                <a:lnTo>
                  <a:pt x="2565" y="3064"/>
                </a:lnTo>
                <a:lnTo>
                  <a:pt x="2508" y="2919"/>
                </a:lnTo>
                <a:lnTo>
                  <a:pt x="2450" y="2775"/>
                </a:lnTo>
                <a:lnTo>
                  <a:pt x="2389" y="2635"/>
                </a:lnTo>
                <a:lnTo>
                  <a:pt x="2326" y="2495"/>
                </a:lnTo>
                <a:lnTo>
                  <a:pt x="2263" y="2357"/>
                </a:lnTo>
                <a:lnTo>
                  <a:pt x="2195" y="2221"/>
                </a:lnTo>
                <a:lnTo>
                  <a:pt x="2125" y="2088"/>
                </a:lnTo>
                <a:lnTo>
                  <a:pt x="2052" y="1959"/>
                </a:lnTo>
                <a:lnTo>
                  <a:pt x="1976" y="1831"/>
                </a:lnTo>
                <a:lnTo>
                  <a:pt x="1895" y="1708"/>
                </a:lnTo>
                <a:lnTo>
                  <a:pt x="1812" y="1587"/>
                </a:lnTo>
                <a:lnTo>
                  <a:pt x="1725" y="1469"/>
                </a:lnTo>
                <a:lnTo>
                  <a:pt x="1633" y="1356"/>
                </a:lnTo>
                <a:lnTo>
                  <a:pt x="1537" y="1246"/>
                </a:lnTo>
                <a:lnTo>
                  <a:pt x="1437" y="1140"/>
                </a:lnTo>
                <a:lnTo>
                  <a:pt x="1332" y="1039"/>
                </a:lnTo>
                <a:lnTo>
                  <a:pt x="1222" y="942"/>
                </a:lnTo>
                <a:lnTo>
                  <a:pt x="1106" y="849"/>
                </a:lnTo>
                <a:lnTo>
                  <a:pt x="985" y="762"/>
                </a:lnTo>
                <a:lnTo>
                  <a:pt x="859" y="679"/>
                </a:lnTo>
                <a:lnTo>
                  <a:pt x="726" y="601"/>
                </a:lnTo>
                <a:lnTo>
                  <a:pt x="588" y="529"/>
                </a:lnTo>
                <a:lnTo>
                  <a:pt x="443" y="462"/>
                </a:lnTo>
                <a:lnTo>
                  <a:pt x="435" y="459"/>
                </a:lnTo>
                <a:lnTo>
                  <a:pt x="427" y="457"/>
                </a:lnTo>
                <a:lnTo>
                  <a:pt x="420" y="455"/>
                </a:lnTo>
                <a:lnTo>
                  <a:pt x="414" y="454"/>
                </a:lnTo>
                <a:lnTo>
                  <a:pt x="408" y="454"/>
                </a:lnTo>
                <a:lnTo>
                  <a:pt x="404" y="454"/>
                </a:lnTo>
                <a:lnTo>
                  <a:pt x="400" y="455"/>
                </a:lnTo>
                <a:lnTo>
                  <a:pt x="396" y="457"/>
                </a:lnTo>
                <a:lnTo>
                  <a:pt x="390" y="460"/>
                </a:lnTo>
                <a:lnTo>
                  <a:pt x="385" y="465"/>
                </a:lnTo>
                <a:lnTo>
                  <a:pt x="381" y="472"/>
                </a:lnTo>
                <a:lnTo>
                  <a:pt x="378" y="477"/>
                </a:lnTo>
                <a:lnTo>
                  <a:pt x="168" y="919"/>
                </a:lnTo>
                <a:lnTo>
                  <a:pt x="0" y="692"/>
                </a:lnTo>
                <a:lnTo>
                  <a:pt x="168" y="214"/>
                </a:lnTo>
                <a:lnTo>
                  <a:pt x="172" y="198"/>
                </a:lnTo>
                <a:lnTo>
                  <a:pt x="179" y="182"/>
                </a:lnTo>
                <a:lnTo>
                  <a:pt x="184" y="166"/>
                </a:lnTo>
                <a:lnTo>
                  <a:pt x="190" y="152"/>
                </a:lnTo>
                <a:lnTo>
                  <a:pt x="196" y="137"/>
                </a:lnTo>
                <a:lnTo>
                  <a:pt x="203" y="124"/>
                </a:lnTo>
                <a:lnTo>
                  <a:pt x="210" y="111"/>
                </a:lnTo>
                <a:lnTo>
                  <a:pt x="218" y="99"/>
                </a:lnTo>
                <a:lnTo>
                  <a:pt x="225" y="88"/>
                </a:lnTo>
                <a:lnTo>
                  <a:pt x="233" y="77"/>
                </a:lnTo>
                <a:lnTo>
                  <a:pt x="241" y="67"/>
                </a:lnTo>
                <a:lnTo>
                  <a:pt x="251" y="58"/>
                </a:lnTo>
                <a:lnTo>
                  <a:pt x="260" y="49"/>
                </a:lnTo>
                <a:lnTo>
                  <a:pt x="269" y="41"/>
                </a:lnTo>
                <a:lnTo>
                  <a:pt x="279" y="33"/>
                </a:lnTo>
                <a:lnTo>
                  <a:pt x="290" y="27"/>
                </a:lnTo>
                <a:lnTo>
                  <a:pt x="301" y="21"/>
                </a:lnTo>
                <a:lnTo>
                  <a:pt x="312" y="16"/>
                </a:lnTo>
                <a:lnTo>
                  <a:pt x="324" y="12"/>
                </a:lnTo>
                <a:lnTo>
                  <a:pt x="335" y="8"/>
                </a:lnTo>
                <a:lnTo>
                  <a:pt x="347" y="5"/>
                </a:lnTo>
                <a:lnTo>
                  <a:pt x="360" y="3"/>
                </a:lnTo>
                <a:lnTo>
                  <a:pt x="373" y="2"/>
                </a:lnTo>
                <a:lnTo>
                  <a:pt x="386" y="1"/>
                </a:lnTo>
                <a:lnTo>
                  <a:pt x="400" y="0"/>
                </a:lnTo>
                <a:lnTo>
                  <a:pt x="414" y="1"/>
                </a:lnTo>
                <a:lnTo>
                  <a:pt x="429" y="2"/>
                </a:lnTo>
                <a:lnTo>
                  <a:pt x="443" y="3"/>
                </a:lnTo>
                <a:lnTo>
                  <a:pt x="458" y="6"/>
                </a:lnTo>
                <a:lnTo>
                  <a:pt x="474" y="9"/>
                </a:lnTo>
                <a:lnTo>
                  <a:pt x="489" y="13"/>
                </a:lnTo>
                <a:lnTo>
                  <a:pt x="506" y="17"/>
                </a:lnTo>
                <a:lnTo>
                  <a:pt x="634" y="84"/>
                </a:lnTo>
                <a:lnTo>
                  <a:pt x="760" y="158"/>
                </a:lnTo>
                <a:lnTo>
                  <a:pt x="882" y="239"/>
                </a:lnTo>
                <a:lnTo>
                  <a:pt x="1003" y="327"/>
                </a:lnTo>
                <a:lnTo>
                  <a:pt x="1120" y="420"/>
                </a:lnTo>
                <a:lnTo>
                  <a:pt x="1235" y="520"/>
                </a:lnTo>
                <a:lnTo>
                  <a:pt x="1347" y="624"/>
                </a:lnTo>
                <a:lnTo>
                  <a:pt x="1456" y="734"/>
                </a:lnTo>
                <a:lnTo>
                  <a:pt x="1562" y="849"/>
                </a:lnTo>
                <a:lnTo>
                  <a:pt x="1666" y="967"/>
                </a:lnTo>
                <a:lnTo>
                  <a:pt x="1767" y="1091"/>
                </a:lnTo>
                <a:lnTo>
                  <a:pt x="1865" y="1217"/>
                </a:lnTo>
                <a:lnTo>
                  <a:pt x="1960" y="1348"/>
                </a:lnTo>
                <a:lnTo>
                  <a:pt x="2053" y="1481"/>
                </a:lnTo>
                <a:lnTo>
                  <a:pt x="2142" y="1616"/>
                </a:lnTo>
                <a:lnTo>
                  <a:pt x="2229" y="1755"/>
                </a:lnTo>
                <a:lnTo>
                  <a:pt x="2313" y="1895"/>
                </a:lnTo>
                <a:lnTo>
                  <a:pt x="2394" y="2037"/>
                </a:lnTo>
                <a:lnTo>
                  <a:pt x="2472" y="2181"/>
                </a:lnTo>
                <a:lnTo>
                  <a:pt x="2549" y="2325"/>
                </a:lnTo>
                <a:lnTo>
                  <a:pt x="2621" y="2470"/>
                </a:lnTo>
                <a:lnTo>
                  <a:pt x="2691" y="2616"/>
                </a:lnTo>
                <a:lnTo>
                  <a:pt x="2757" y="2761"/>
                </a:lnTo>
                <a:lnTo>
                  <a:pt x="2822" y="2906"/>
                </a:lnTo>
                <a:lnTo>
                  <a:pt x="2884" y="3050"/>
                </a:lnTo>
                <a:lnTo>
                  <a:pt x="2943" y="3194"/>
                </a:lnTo>
                <a:lnTo>
                  <a:pt x="2998" y="3336"/>
                </a:lnTo>
                <a:lnTo>
                  <a:pt x="3051" y="3476"/>
                </a:lnTo>
                <a:lnTo>
                  <a:pt x="3101" y="3615"/>
                </a:lnTo>
                <a:lnTo>
                  <a:pt x="3148" y="3750"/>
                </a:lnTo>
                <a:lnTo>
                  <a:pt x="3193" y="3883"/>
                </a:lnTo>
                <a:lnTo>
                  <a:pt x="3235" y="4014"/>
                </a:lnTo>
                <a:lnTo>
                  <a:pt x="3464" y="3739"/>
                </a:lnTo>
                <a:lnTo>
                  <a:pt x="3719" y="3434"/>
                </a:lnTo>
                <a:lnTo>
                  <a:pt x="3856" y="3273"/>
                </a:lnTo>
                <a:lnTo>
                  <a:pt x="3999" y="3108"/>
                </a:lnTo>
                <a:lnTo>
                  <a:pt x="4149" y="2939"/>
                </a:lnTo>
                <a:lnTo>
                  <a:pt x="4304" y="2768"/>
                </a:lnTo>
                <a:lnTo>
                  <a:pt x="4465" y="2598"/>
                </a:lnTo>
                <a:lnTo>
                  <a:pt x="4633" y="2426"/>
                </a:lnTo>
                <a:lnTo>
                  <a:pt x="4805" y="2256"/>
                </a:lnTo>
                <a:lnTo>
                  <a:pt x="4984" y="2088"/>
                </a:lnTo>
                <a:lnTo>
                  <a:pt x="5168" y="1925"/>
                </a:lnTo>
                <a:lnTo>
                  <a:pt x="5359" y="1765"/>
                </a:lnTo>
                <a:lnTo>
                  <a:pt x="5554" y="1611"/>
                </a:lnTo>
                <a:lnTo>
                  <a:pt x="5755" y="1465"/>
                </a:lnTo>
                <a:lnTo>
                  <a:pt x="5962" y="1325"/>
                </a:lnTo>
                <a:lnTo>
                  <a:pt x="6173" y="1196"/>
                </a:lnTo>
                <a:lnTo>
                  <a:pt x="6390" y="1076"/>
                </a:lnTo>
                <a:lnTo>
                  <a:pt x="6613" y="967"/>
                </a:lnTo>
                <a:lnTo>
                  <a:pt x="6841" y="872"/>
                </a:lnTo>
                <a:lnTo>
                  <a:pt x="7073" y="789"/>
                </a:lnTo>
                <a:lnTo>
                  <a:pt x="7311" y="722"/>
                </a:lnTo>
                <a:lnTo>
                  <a:pt x="7553" y="669"/>
                </a:lnTo>
                <a:lnTo>
                  <a:pt x="7801" y="633"/>
                </a:lnTo>
                <a:lnTo>
                  <a:pt x="8053" y="616"/>
                </a:lnTo>
                <a:lnTo>
                  <a:pt x="8310" y="617"/>
                </a:lnTo>
                <a:lnTo>
                  <a:pt x="8571" y="638"/>
                </a:lnTo>
                <a:lnTo>
                  <a:pt x="8838" y="681"/>
                </a:lnTo>
                <a:lnTo>
                  <a:pt x="9108" y="746"/>
                </a:lnTo>
                <a:lnTo>
                  <a:pt x="9384" y="835"/>
                </a:lnTo>
                <a:lnTo>
                  <a:pt x="9664" y="948"/>
                </a:lnTo>
                <a:close/>
              </a:path>
            </a:pathLst>
          </a:custGeom>
          <a:solidFill>
            <a:srgbClr val="7586b1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577800" y="4683240"/>
            <a:ext cx="743040" cy="439560"/>
          </a:xfrm>
          <a:custGeom>
            <a:avLst/>
            <a:gdLst/>
            <a:ahLst/>
            <a:rect l="l" t="t" r="r" b="b"/>
            <a:pathLst>
              <a:path w="3009" h="1880">
                <a:moveTo>
                  <a:pt x="3009" y="1880"/>
                </a:moveTo>
                <a:lnTo>
                  <a:pt x="2900" y="1685"/>
                </a:lnTo>
                <a:lnTo>
                  <a:pt x="2798" y="1503"/>
                </a:lnTo>
                <a:lnTo>
                  <a:pt x="2748" y="1417"/>
                </a:lnTo>
                <a:lnTo>
                  <a:pt x="2699" y="1332"/>
                </a:lnTo>
                <a:lnTo>
                  <a:pt x="2652" y="1251"/>
                </a:lnTo>
                <a:lnTo>
                  <a:pt x="2604" y="1172"/>
                </a:lnTo>
                <a:lnTo>
                  <a:pt x="2557" y="1096"/>
                </a:lnTo>
                <a:lnTo>
                  <a:pt x="2510" y="1023"/>
                </a:lnTo>
                <a:lnTo>
                  <a:pt x="2462" y="952"/>
                </a:lnTo>
                <a:lnTo>
                  <a:pt x="2414" y="884"/>
                </a:lnTo>
                <a:lnTo>
                  <a:pt x="2366" y="818"/>
                </a:lnTo>
                <a:lnTo>
                  <a:pt x="2317" y="754"/>
                </a:lnTo>
                <a:lnTo>
                  <a:pt x="2267" y="694"/>
                </a:lnTo>
                <a:lnTo>
                  <a:pt x="2216" y="636"/>
                </a:lnTo>
                <a:lnTo>
                  <a:pt x="2163" y="580"/>
                </a:lnTo>
                <a:lnTo>
                  <a:pt x="2109" y="526"/>
                </a:lnTo>
                <a:lnTo>
                  <a:pt x="2053" y="476"/>
                </a:lnTo>
                <a:lnTo>
                  <a:pt x="1995" y="426"/>
                </a:lnTo>
                <a:lnTo>
                  <a:pt x="1935" y="380"/>
                </a:lnTo>
                <a:lnTo>
                  <a:pt x="1872" y="336"/>
                </a:lnTo>
                <a:lnTo>
                  <a:pt x="1807" y="294"/>
                </a:lnTo>
                <a:lnTo>
                  <a:pt x="1739" y="254"/>
                </a:lnTo>
                <a:lnTo>
                  <a:pt x="1668" y="217"/>
                </a:lnTo>
                <a:lnTo>
                  <a:pt x="1593" y="181"/>
                </a:lnTo>
                <a:lnTo>
                  <a:pt x="1516" y="148"/>
                </a:lnTo>
                <a:lnTo>
                  <a:pt x="1435" y="117"/>
                </a:lnTo>
                <a:lnTo>
                  <a:pt x="1350" y="87"/>
                </a:lnTo>
                <a:lnTo>
                  <a:pt x="1260" y="60"/>
                </a:lnTo>
                <a:lnTo>
                  <a:pt x="1166" y="34"/>
                </a:lnTo>
                <a:lnTo>
                  <a:pt x="1069" y="12"/>
                </a:lnTo>
                <a:lnTo>
                  <a:pt x="1049" y="8"/>
                </a:lnTo>
                <a:lnTo>
                  <a:pt x="1030" y="5"/>
                </a:lnTo>
                <a:lnTo>
                  <a:pt x="1010" y="3"/>
                </a:lnTo>
                <a:lnTo>
                  <a:pt x="991" y="1"/>
                </a:lnTo>
                <a:lnTo>
                  <a:pt x="971" y="0"/>
                </a:lnTo>
                <a:lnTo>
                  <a:pt x="951" y="0"/>
                </a:lnTo>
                <a:lnTo>
                  <a:pt x="933" y="0"/>
                </a:lnTo>
                <a:lnTo>
                  <a:pt x="913" y="1"/>
                </a:lnTo>
                <a:lnTo>
                  <a:pt x="895" y="2"/>
                </a:lnTo>
                <a:lnTo>
                  <a:pt x="875" y="4"/>
                </a:lnTo>
                <a:lnTo>
                  <a:pt x="857" y="6"/>
                </a:lnTo>
                <a:lnTo>
                  <a:pt x="839" y="9"/>
                </a:lnTo>
                <a:lnTo>
                  <a:pt x="821" y="13"/>
                </a:lnTo>
                <a:lnTo>
                  <a:pt x="803" y="17"/>
                </a:lnTo>
                <a:lnTo>
                  <a:pt x="786" y="21"/>
                </a:lnTo>
                <a:lnTo>
                  <a:pt x="768" y="26"/>
                </a:lnTo>
                <a:lnTo>
                  <a:pt x="752" y="31"/>
                </a:lnTo>
                <a:lnTo>
                  <a:pt x="735" y="38"/>
                </a:lnTo>
                <a:lnTo>
                  <a:pt x="720" y="44"/>
                </a:lnTo>
                <a:lnTo>
                  <a:pt x="705" y="51"/>
                </a:lnTo>
                <a:lnTo>
                  <a:pt x="689" y="58"/>
                </a:lnTo>
                <a:lnTo>
                  <a:pt x="675" y="66"/>
                </a:lnTo>
                <a:lnTo>
                  <a:pt x="660" y="74"/>
                </a:lnTo>
                <a:lnTo>
                  <a:pt x="647" y="83"/>
                </a:lnTo>
                <a:lnTo>
                  <a:pt x="634" y="91"/>
                </a:lnTo>
                <a:lnTo>
                  <a:pt x="621" y="100"/>
                </a:lnTo>
                <a:lnTo>
                  <a:pt x="609" y="111"/>
                </a:lnTo>
                <a:lnTo>
                  <a:pt x="598" y="120"/>
                </a:lnTo>
                <a:lnTo>
                  <a:pt x="587" y="130"/>
                </a:lnTo>
                <a:lnTo>
                  <a:pt x="577" y="141"/>
                </a:lnTo>
                <a:lnTo>
                  <a:pt x="568" y="152"/>
                </a:lnTo>
                <a:lnTo>
                  <a:pt x="558" y="163"/>
                </a:lnTo>
                <a:lnTo>
                  <a:pt x="0" y="896"/>
                </a:lnTo>
                <a:lnTo>
                  <a:pt x="309" y="978"/>
                </a:lnTo>
                <a:lnTo>
                  <a:pt x="477" y="669"/>
                </a:lnTo>
                <a:lnTo>
                  <a:pt x="484" y="659"/>
                </a:lnTo>
                <a:lnTo>
                  <a:pt x="495" y="651"/>
                </a:lnTo>
                <a:lnTo>
                  <a:pt x="507" y="644"/>
                </a:lnTo>
                <a:lnTo>
                  <a:pt x="521" y="639"/>
                </a:lnTo>
                <a:lnTo>
                  <a:pt x="539" y="637"/>
                </a:lnTo>
                <a:lnTo>
                  <a:pt x="557" y="636"/>
                </a:lnTo>
                <a:lnTo>
                  <a:pt x="579" y="637"/>
                </a:lnTo>
                <a:lnTo>
                  <a:pt x="602" y="639"/>
                </a:lnTo>
                <a:lnTo>
                  <a:pt x="626" y="644"/>
                </a:lnTo>
                <a:lnTo>
                  <a:pt x="653" y="650"/>
                </a:lnTo>
                <a:lnTo>
                  <a:pt x="680" y="657"/>
                </a:lnTo>
                <a:lnTo>
                  <a:pt x="709" y="666"/>
                </a:lnTo>
                <a:lnTo>
                  <a:pt x="740" y="676"/>
                </a:lnTo>
                <a:lnTo>
                  <a:pt x="770" y="688"/>
                </a:lnTo>
                <a:lnTo>
                  <a:pt x="802" y="700"/>
                </a:lnTo>
                <a:lnTo>
                  <a:pt x="834" y="713"/>
                </a:lnTo>
                <a:lnTo>
                  <a:pt x="868" y="729"/>
                </a:lnTo>
                <a:lnTo>
                  <a:pt x="901" y="744"/>
                </a:lnTo>
                <a:lnTo>
                  <a:pt x="935" y="761"/>
                </a:lnTo>
                <a:lnTo>
                  <a:pt x="970" y="779"/>
                </a:lnTo>
                <a:lnTo>
                  <a:pt x="1004" y="798"/>
                </a:lnTo>
                <a:lnTo>
                  <a:pt x="1038" y="816"/>
                </a:lnTo>
                <a:lnTo>
                  <a:pt x="1072" y="837"/>
                </a:lnTo>
                <a:lnTo>
                  <a:pt x="1106" y="857"/>
                </a:lnTo>
                <a:lnTo>
                  <a:pt x="1139" y="878"/>
                </a:lnTo>
                <a:lnTo>
                  <a:pt x="1171" y="899"/>
                </a:lnTo>
                <a:lnTo>
                  <a:pt x="1202" y="922"/>
                </a:lnTo>
                <a:lnTo>
                  <a:pt x="1233" y="944"/>
                </a:lnTo>
                <a:lnTo>
                  <a:pt x="1263" y="966"/>
                </a:lnTo>
                <a:lnTo>
                  <a:pt x="1292" y="990"/>
                </a:lnTo>
                <a:lnTo>
                  <a:pt x="1319" y="1013"/>
                </a:lnTo>
                <a:lnTo>
                  <a:pt x="1344" y="1036"/>
                </a:lnTo>
                <a:lnTo>
                  <a:pt x="1326" y="999"/>
                </a:lnTo>
                <a:lnTo>
                  <a:pt x="1305" y="962"/>
                </a:lnTo>
                <a:lnTo>
                  <a:pt x="1284" y="926"/>
                </a:lnTo>
                <a:lnTo>
                  <a:pt x="1260" y="891"/>
                </a:lnTo>
                <a:lnTo>
                  <a:pt x="1235" y="856"/>
                </a:lnTo>
                <a:lnTo>
                  <a:pt x="1208" y="822"/>
                </a:lnTo>
                <a:lnTo>
                  <a:pt x="1179" y="789"/>
                </a:lnTo>
                <a:lnTo>
                  <a:pt x="1148" y="758"/>
                </a:lnTo>
                <a:lnTo>
                  <a:pt x="1131" y="741"/>
                </a:lnTo>
                <a:lnTo>
                  <a:pt x="1115" y="726"/>
                </a:lnTo>
                <a:lnTo>
                  <a:pt x="1097" y="710"/>
                </a:lnTo>
                <a:lnTo>
                  <a:pt x="1080" y="695"/>
                </a:lnTo>
                <a:lnTo>
                  <a:pt x="1060" y="679"/>
                </a:lnTo>
                <a:lnTo>
                  <a:pt x="1042" y="665"/>
                </a:lnTo>
                <a:lnTo>
                  <a:pt x="1022" y="651"/>
                </a:lnTo>
                <a:lnTo>
                  <a:pt x="1002" y="636"/>
                </a:lnTo>
                <a:lnTo>
                  <a:pt x="980" y="622"/>
                </a:lnTo>
                <a:lnTo>
                  <a:pt x="959" y="607"/>
                </a:lnTo>
                <a:lnTo>
                  <a:pt x="937" y="594"/>
                </a:lnTo>
                <a:lnTo>
                  <a:pt x="913" y="581"/>
                </a:lnTo>
                <a:lnTo>
                  <a:pt x="890" y="567"/>
                </a:lnTo>
                <a:lnTo>
                  <a:pt x="866" y="555"/>
                </a:lnTo>
                <a:lnTo>
                  <a:pt x="840" y="543"/>
                </a:lnTo>
                <a:lnTo>
                  <a:pt x="815" y="529"/>
                </a:lnTo>
                <a:lnTo>
                  <a:pt x="806" y="519"/>
                </a:lnTo>
                <a:lnTo>
                  <a:pt x="798" y="508"/>
                </a:lnTo>
                <a:lnTo>
                  <a:pt x="791" y="496"/>
                </a:lnTo>
                <a:lnTo>
                  <a:pt x="786" y="484"/>
                </a:lnTo>
                <a:lnTo>
                  <a:pt x="782" y="472"/>
                </a:lnTo>
                <a:lnTo>
                  <a:pt x="779" y="459"/>
                </a:lnTo>
                <a:lnTo>
                  <a:pt x="776" y="446"/>
                </a:lnTo>
                <a:lnTo>
                  <a:pt x="776" y="434"/>
                </a:lnTo>
                <a:lnTo>
                  <a:pt x="776" y="420"/>
                </a:lnTo>
                <a:lnTo>
                  <a:pt x="777" y="408"/>
                </a:lnTo>
                <a:lnTo>
                  <a:pt x="780" y="395"/>
                </a:lnTo>
                <a:lnTo>
                  <a:pt x="784" y="383"/>
                </a:lnTo>
                <a:lnTo>
                  <a:pt x="789" y="372"/>
                </a:lnTo>
                <a:lnTo>
                  <a:pt x="796" y="361"/>
                </a:lnTo>
                <a:lnTo>
                  <a:pt x="804" y="349"/>
                </a:lnTo>
                <a:lnTo>
                  <a:pt x="814" y="340"/>
                </a:lnTo>
                <a:lnTo>
                  <a:pt x="824" y="330"/>
                </a:lnTo>
                <a:lnTo>
                  <a:pt x="836" y="321"/>
                </a:lnTo>
                <a:lnTo>
                  <a:pt x="850" y="314"/>
                </a:lnTo>
                <a:lnTo>
                  <a:pt x="865" y="307"/>
                </a:lnTo>
                <a:lnTo>
                  <a:pt x="881" y="301"/>
                </a:lnTo>
                <a:lnTo>
                  <a:pt x="899" y="297"/>
                </a:lnTo>
                <a:lnTo>
                  <a:pt x="919" y="294"/>
                </a:lnTo>
                <a:lnTo>
                  <a:pt x="939" y="292"/>
                </a:lnTo>
                <a:lnTo>
                  <a:pt x="962" y="291"/>
                </a:lnTo>
                <a:lnTo>
                  <a:pt x="985" y="292"/>
                </a:lnTo>
                <a:lnTo>
                  <a:pt x="1011" y="294"/>
                </a:lnTo>
                <a:lnTo>
                  <a:pt x="1038" y="298"/>
                </a:lnTo>
                <a:lnTo>
                  <a:pt x="1067" y="304"/>
                </a:lnTo>
                <a:lnTo>
                  <a:pt x="1097" y="311"/>
                </a:lnTo>
                <a:lnTo>
                  <a:pt x="1129" y="320"/>
                </a:lnTo>
                <a:lnTo>
                  <a:pt x="1162" y="332"/>
                </a:lnTo>
                <a:lnTo>
                  <a:pt x="1260" y="373"/>
                </a:lnTo>
                <a:lnTo>
                  <a:pt x="1353" y="414"/>
                </a:lnTo>
                <a:lnTo>
                  <a:pt x="1441" y="455"/>
                </a:lnTo>
                <a:lnTo>
                  <a:pt x="1526" y="497"/>
                </a:lnTo>
                <a:lnTo>
                  <a:pt x="1608" y="541"/>
                </a:lnTo>
                <a:lnTo>
                  <a:pt x="1686" y="584"/>
                </a:lnTo>
                <a:lnTo>
                  <a:pt x="1761" y="628"/>
                </a:lnTo>
                <a:lnTo>
                  <a:pt x="1832" y="672"/>
                </a:lnTo>
                <a:lnTo>
                  <a:pt x="1900" y="717"/>
                </a:lnTo>
                <a:lnTo>
                  <a:pt x="1966" y="763"/>
                </a:lnTo>
                <a:lnTo>
                  <a:pt x="2028" y="809"/>
                </a:lnTo>
                <a:lnTo>
                  <a:pt x="2089" y="855"/>
                </a:lnTo>
                <a:lnTo>
                  <a:pt x="2147" y="902"/>
                </a:lnTo>
                <a:lnTo>
                  <a:pt x="2202" y="949"/>
                </a:lnTo>
                <a:lnTo>
                  <a:pt x="2256" y="997"/>
                </a:lnTo>
                <a:lnTo>
                  <a:pt x="2308" y="1045"/>
                </a:lnTo>
                <a:lnTo>
                  <a:pt x="2358" y="1094"/>
                </a:lnTo>
                <a:lnTo>
                  <a:pt x="2406" y="1143"/>
                </a:lnTo>
                <a:lnTo>
                  <a:pt x="2453" y="1194"/>
                </a:lnTo>
                <a:lnTo>
                  <a:pt x="2498" y="1244"/>
                </a:lnTo>
                <a:lnTo>
                  <a:pt x="2544" y="1294"/>
                </a:lnTo>
                <a:lnTo>
                  <a:pt x="2587" y="1346"/>
                </a:lnTo>
                <a:lnTo>
                  <a:pt x="2630" y="1397"/>
                </a:lnTo>
                <a:lnTo>
                  <a:pt x="2672" y="1449"/>
                </a:lnTo>
                <a:lnTo>
                  <a:pt x="2756" y="1554"/>
                </a:lnTo>
                <a:lnTo>
                  <a:pt x="2839" y="1661"/>
                </a:lnTo>
                <a:lnTo>
                  <a:pt x="2922" y="1770"/>
                </a:lnTo>
                <a:lnTo>
                  <a:pt x="3009" y="1880"/>
                </a:lnTo>
                <a:close/>
              </a:path>
            </a:pathLst>
          </a:custGeom>
          <a:solidFill>
            <a:srgbClr val="2a4caa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2400" y="4354560"/>
            <a:ext cx="531720" cy="1143000"/>
          </a:xfrm>
          <a:custGeom>
            <a:avLst/>
            <a:gdLst/>
            <a:ahLst/>
            <a:rect l="l" t="t" r="r" b="b"/>
            <a:pathLst>
              <a:path w="2158" h="4894">
                <a:moveTo>
                  <a:pt x="2135" y="3852"/>
                </a:moveTo>
                <a:lnTo>
                  <a:pt x="2139" y="3714"/>
                </a:lnTo>
                <a:lnTo>
                  <a:pt x="2144" y="3578"/>
                </a:lnTo>
                <a:lnTo>
                  <a:pt x="2147" y="3441"/>
                </a:lnTo>
                <a:lnTo>
                  <a:pt x="2149" y="3306"/>
                </a:lnTo>
                <a:lnTo>
                  <a:pt x="2150" y="3173"/>
                </a:lnTo>
                <a:lnTo>
                  <a:pt x="2149" y="3041"/>
                </a:lnTo>
                <a:lnTo>
                  <a:pt x="2147" y="2910"/>
                </a:lnTo>
                <a:lnTo>
                  <a:pt x="2143" y="2781"/>
                </a:lnTo>
                <a:lnTo>
                  <a:pt x="2135" y="2652"/>
                </a:lnTo>
                <a:lnTo>
                  <a:pt x="2127" y="2524"/>
                </a:lnTo>
                <a:lnTo>
                  <a:pt x="2115" y="2398"/>
                </a:lnTo>
                <a:lnTo>
                  <a:pt x="2100" y="2273"/>
                </a:lnTo>
                <a:lnTo>
                  <a:pt x="2083" y="2150"/>
                </a:lnTo>
                <a:lnTo>
                  <a:pt x="2062" y="2028"/>
                </a:lnTo>
                <a:lnTo>
                  <a:pt x="2038" y="1907"/>
                </a:lnTo>
                <a:lnTo>
                  <a:pt x="2009" y="1788"/>
                </a:lnTo>
                <a:lnTo>
                  <a:pt x="1977" y="1670"/>
                </a:lnTo>
                <a:lnTo>
                  <a:pt x="1940" y="1553"/>
                </a:lnTo>
                <a:lnTo>
                  <a:pt x="1899" y="1436"/>
                </a:lnTo>
                <a:lnTo>
                  <a:pt x="1853" y="1322"/>
                </a:lnTo>
                <a:lnTo>
                  <a:pt x="1801" y="1209"/>
                </a:lnTo>
                <a:lnTo>
                  <a:pt x="1745" y="1098"/>
                </a:lnTo>
                <a:lnTo>
                  <a:pt x="1683" y="987"/>
                </a:lnTo>
                <a:lnTo>
                  <a:pt x="1615" y="878"/>
                </a:lnTo>
                <a:lnTo>
                  <a:pt x="1541" y="770"/>
                </a:lnTo>
                <a:lnTo>
                  <a:pt x="1461" y="664"/>
                </a:lnTo>
                <a:lnTo>
                  <a:pt x="1374" y="559"/>
                </a:lnTo>
                <a:lnTo>
                  <a:pt x="1282" y="455"/>
                </a:lnTo>
                <a:lnTo>
                  <a:pt x="1182" y="352"/>
                </a:lnTo>
                <a:lnTo>
                  <a:pt x="1074" y="251"/>
                </a:lnTo>
                <a:lnTo>
                  <a:pt x="960" y="152"/>
                </a:lnTo>
                <a:lnTo>
                  <a:pt x="837" y="54"/>
                </a:lnTo>
                <a:lnTo>
                  <a:pt x="823" y="45"/>
                </a:lnTo>
                <a:lnTo>
                  <a:pt x="808" y="36"/>
                </a:lnTo>
                <a:lnTo>
                  <a:pt x="794" y="28"/>
                </a:lnTo>
                <a:lnTo>
                  <a:pt x="781" y="22"/>
                </a:lnTo>
                <a:lnTo>
                  <a:pt x="767" y="16"/>
                </a:lnTo>
                <a:lnTo>
                  <a:pt x="755" y="12"/>
                </a:lnTo>
                <a:lnTo>
                  <a:pt x="743" y="8"/>
                </a:lnTo>
                <a:lnTo>
                  <a:pt x="730" y="5"/>
                </a:lnTo>
                <a:lnTo>
                  <a:pt x="719" y="3"/>
                </a:lnTo>
                <a:lnTo>
                  <a:pt x="708" y="0"/>
                </a:lnTo>
                <a:lnTo>
                  <a:pt x="696" y="0"/>
                </a:lnTo>
                <a:lnTo>
                  <a:pt x="685" y="0"/>
                </a:lnTo>
                <a:lnTo>
                  <a:pt x="675" y="0"/>
                </a:lnTo>
                <a:lnTo>
                  <a:pt x="665" y="3"/>
                </a:lnTo>
                <a:lnTo>
                  <a:pt x="655" y="5"/>
                </a:lnTo>
                <a:lnTo>
                  <a:pt x="646" y="8"/>
                </a:lnTo>
                <a:lnTo>
                  <a:pt x="637" y="12"/>
                </a:lnTo>
                <a:lnTo>
                  <a:pt x="627" y="16"/>
                </a:lnTo>
                <a:lnTo>
                  <a:pt x="619" y="21"/>
                </a:lnTo>
                <a:lnTo>
                  <a:pt x="611" y="27"/>
                </a:lnTo>
                <a:lnTo>
                  <a:pt x="603" y="33"/>
                </a:lnTo>
                <a:lnTo>
                  <a:pt x="595" y="41"/>
                </a:lnTo>
                <a:lnTo>
                  <a:pt x="587" y="48"/>
                </a:lnTo>
                <a:lnTo>
                  <a:pt x="580" y="56"/>
                </a:lnTo>
                <a:lnTo>
                  <a:pt x="566" y="75"/>
                </a:lnTo>
                <a:lnTo>
                  <a:pt x="552" y="95"/>
                </a:lnTo>
                <a:lnTo>
                  <a:pt x="541" y="117"/>
                </a:lnTo>
                <a:lnTo>
                  <a:pt x="529" y="141"/>
                </a:lnTo>
                <a:lnTo>
                  <a:pt x="525" y="200"/>
                </a:lnTo>
                <a:lnTo>
                  <a:pt x="519" y="258"/>
                </a:lnTo>
                <a:lnTo>
                  <a:pt x="513" y="315"/>
                </a:lnTo>
                <a:lnTo>
                  <a:pt x="507" y="373"/>
                </a:lnTo>
                <a:lnTo>
                  <a:pt x="499" y="429"/>
                </a:lnTo>
                <a:lnTo>
                  <a:pt x="491" y="486"/>
                </a:lnTo>
                <a:lnTo>
                  <a:pt x="481" y="541"/>
                </a:lnTo>
                <a:lnTo>
                  <a:pt x="471" y="597"/>
                </a:lnTo>
                <a:lnTo>
                  <a:pt x="460" y="653"/>
                </a:lnTo>
                <a:lnTo>
                  <a:pt x="448" y="707"/>
                </a:lnTo>
                <a:lnTo>
                  <a:pt x="436" y="762"/>
                </a:lnTo>
                <a:lnTo>
                  <a:pt x="423" y="815"/>
                </a:lnTo>
                <a:lnTo>
                  <a:pt x="408" y="869"/>
                </a:lnTo>
                <a:lnTo>
                  <a:pt x="394" y="921"/>
                </a:lnTo>
                <a:lnTo>
                  <a:pt x="377" y="973"/>
                </a:lnTo>
                <a:lnTo>
                  <a:pt x="362" y="1025"/>
                </a:lnTo>
                <a:lnTo>
                  <a:pt x="345" y="1076"/>
                </a:lnTo>
                <a:lnTo>
                  <a:pt x="327" y="1127"/>
                </a:lnTo>
                <a:lnTo>
                  <a:pt x="308" y="1177"/>
                </a:lnTo>
                <a:lnTo>
                  <a:pt x="289" y="1226"/>
                </a:lnTo>
                <a:lnTo>
                  <a:pt x="268" y="1275"/>
                </a:lnTo>
                <a:lnTo>
                  <a:pt x="248" y="1323"/>
                </a:lnTo>
                <a:lnTo>
                  <a:pt x="226" y="1371"/>
                </a:lnTo>
                <a:lnTo>
                  <a:pt x="204" y="1418"/>
                </a:lnTo>
                <a:lnTo>
                  <a:pt x="181" y="1464"/>
                </a:lnTo>
                <a:lnTo>
                  <a:pt x="157" y="1510"/>
                </a:lnTo>
                <a:lnTo>
                  <a:pt x="133" y="1556"/>
                </a:lnTo>
                <a:lnTo>
                  <a:pt x="107" y="1600"/>
                </a:lnTo>
                <a:lnTo>
                  <a:pt x="81" y="1643"/>
                </a:lnTo>
                <a:lnTo>
                  <a:pt x="54" y="1686"/>
                </a:lnTo>
                <a:lnTo>
                  <a:pt x="28" y="1728"/>
                </a:lnTo>
                <a:lnTo>
                  <a:pt x="0" y="1770"/>
                </a:lnTo>
                <a:lnTo>
                  <a:pt x="191" y="2165"/>
                </a:lnTo>
                <a:lnTo>
                  <a:pt x="246" y="2057"/>
                </a:lnTo>
                <a:lnTo>
                  <a:pt x="298" y="1954"/>
                </a:lnTo>
                <a:lnTo>
                  <a:pt x="347" y="1852"/>
                </a:lnTo>
                <a:lnTo>
                  <a:pt x="393" y="1752"/>
                </a:lnTo>
                <a:lnTo>
                  <a:pt x="437" y="1654"/>
                </a:lnTo>
                <a:lnTo>
                  <a:pt x="478" y="1558"/>
                </a:lnTo>
                <a:lnTo>
                  <a:pt x="498" y="1508"/>
                </a:lnTo>
                <a:lnTo>
                  <a:pt x="517" y="1460"/>
                </a:lnTo>
                <a:lnTo>
                  <a:pt x="536" y="1412"/>
                </a:lnTo>
                <a:lnTo>
                  <a:pt x="554" y="1363"/>
                </a:lnTo>
                <a:lnTo>
                  <a:pt x="572" y="1314"/>
                </a:lnTo>
                <a:lnTo>
                  <a:pt x="589" y="1266"/>
                </a:lnTo>
                <a:lnTo>
                  <a:pt x="606" y="1215"/>
                </a:lnTo>
                <a:lnTo>
                  <a:pt x="622" y="1166"/>
                </a:lnTo>
                <a:lnTo>
                  <a:pt x="638" y="1115"/>
                </a:lnTo>
                <a:lnTo>
                  <a:pt x="653" y="1064"/>
                </a:lnTo>
                <a:lnTo>
                  <a:pt x="669" y="1013"/>
                </a:lnTo>
                <a:lnTo>
                  <a:pt x="683" y="959"/>
                </a:lnTo>
                <a:lnTo>
                  <a:pt x="696" y="906"/>
                </a:lnTo>
                <a:lnTo>
                  <a:pt x="711" y="852"/>
                </a:lnTo>
                <a:lnTo>
                  <a:pt x="724" y="797"/>
                </a:lnTo>
                <a:lnTo>
                  <a:pt x="736" y="740"/>
                </a:lnTo>
                <a:lnTo>
                  <a:pt x="749" y="682"/>
                </a:lnTo>
                <a:lnTo>
                  <a:pt x="761" y="624"/>
                </a:lnTo>
                <a:lnTo>
                  <a:pt x="773" y="563"/>
                </a:lnTo>
                <a:lnTo>
                  <a:pt x="785" y="501"/>
                </a:lnTo>
                <a:lnTo>
                  <a:pt x="901" y="604"/>
                </a:lnTo>
                <a:lnTo>
                  <a:pt x="1008" y="711"/>
                </a:lnTo>
                <a:lnTo>
                  <a:pt x="1108" y="821"/>
                </a:lnTo>
                <a:lnTo>
                  <a:pt x="1199" y="934"/>
                </a:lnTo>
                <a:lnTo>
                  <a:pt x="1285" y="1051"/>
                </a:lnTo>
                <a:lnTo>
                  <a:pt x="1363" y="1170"/>
                </a:lnTo>
                <a:lnTo>
                  <a:pt x="1434" y="1291"/>
                </a:lnTo>
                <a:lnTo>
                  <a:pt x="1500" y="1417"/>
                </a:lnTo>
                <a:lnTo>
                  <a:pt x="1559" y="1544"/>
                </a:lnTo>
                <a:lnTo>
                  <a:pt x="1614" y="1674"/>
                </a:lnTo>
                <a:lnTo>
                  <a:pt x="1663" y="1807"/>
                </a:lnTo>
                <a:lnTo>
                  <a:pt x="1707" y="1941"/>
                </a:lnTo>
                <a:lnTo>
                  <a:pt x="1748" y="2077"/>
                </a:lnTo>
                <a:lnTo>
                  <a:pt x="1784" y="2216"/>
                </a:lnTo>
                <a:lnTo>
                  <a:pt x="1817" y="2356"/>
                </a:lnTo>
                <a:lnTo>
                  <a:pt x="1846" y="2499"/>
                </a:lnTo>
                <a:lnTo>
                  <a:pt x="1873" y="2642"/>
                </a:lnTo>
                <a:lnTo>
                  <a:pt x="1897" y="2787"/>
                </a:lnTo>
                <a:lnTo>
                  <a:pt x="1918" y="2934"/>
                </a:lnTo>
                <a:lnTo>
                  <a:pt x="1938" y="3081"/>
                </a:lnTo>
                <a:lnTo>
                  <a:pt x="1956" y="3229"/>
                </a:lnTo>
                <a:lnTo>
                  <a:pt x="1973" y="3379"/>
                </a:lnTo>
                <a:lnTo>
                  <a:pt x="1989" y="3529"/>
                </a:lnTo>
                <a:lnTo>
                  <a:pt x="2006" y="3679"/>
                </a:lnTo>
                <a:lnTo>
                  <a:pt x="2021" y="3832"/>
                </a:lnTo>
                <a:lnTo>
                  <a:pt x="2038" y="3983"/>
                </a:lnTo>
                <a:lnTo>
                  <a:pt x="2054" y="4135"/>
                </a:lnTo>
                <a:lnTo>
                  <a:pt x="2072" y="4287"/>
                </a:lnTo>
                <a:lnTo>
                  <a:pt x="2090" y="4439"/>
                </a:lnTo>
                <a:lnTo>
                  <a:pt x="2111" y="4591"/>
                </a:lnTo>
                <a:lnTo>
                  <a:pt x="2133" y="4743"/>
                </a:lnTo>
                <a:lnTo>
                  <a:pt x="2158" y="4894"/>
                </a:lnTo>
                <a:lnTo>
                  <a:pt x="2135" y="3852"/>
                </a:lnTo>
                <a:close/>
              </a:path>
            </a:pathLst>
          </a:custGeom>
          <a:solidFill>
            <a:srgbClr val="c3c08d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0"/>
            <a:ext cx="3079800" cy="2533680"/>
          </a:xfrm>
          <a:prstGeom prst="line">
            <a:avLst/>
          </a:prstGeom>
          <a:ln w="9360">
            <a:solidFill>
              <a:srgbClr val="c3c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157320" y="4761000"/>
            <a:ext cx="1028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36680" y="4110120"/>
            <a:ext cx="446040" cy="1285920"/>
          </a:xfrm>
          <a:custGeom>
            <a:avLst/>
            <a:gdLst/>
            <a:ahLst/>
            <a:rect l="l" t="t" r="r" b="b"/>
            <a:pathLst>
              <a:path w="1816" h="5514">
                <a:moveTo>
                  <a:pt x="174" y="1546"/>
                </a:moveTo>
                <a:lnTo>
                  <a:pt x="0" y="1377"/>
                </a:lnTo>
                <a:lnTo>
                  <a:pt x="50" y="1305"/>
                </a:lnTo>
                <a:lnTo>
                  <a:pt x="100" y="1236"/>
                </a:lnTo>
                <a:lnTo>
                  <a:pt x="147" y="1170"/>
                </a:lnTo>
                <a:lnTo>
                  <a:pt x="193" y="1108"/>
                </a:lnTo>
                <a:lnTo>
                  <a:pt x="236" y="1046"/>
                </a:lnTo>
                <a:lnTo>
                  <a:pt x="277" y="984"/>
                </a:lnTo>
                <a:lnTo>
                  <a:pt x="297" y="952"/>
                </a:lnTo>
                <a:lnTo>
                  <a:pt x="316" y="921"/>
                </a:lnTo>
                <a:lnTo>
                  <a:pt x="333" y="890"/>
                </a:lnTo>
                <a:lnTo>
                  <a:pt x="350" y="857"/>
                </a:lnTo>
                <a:lnTo>
                  <a:pt x="367" y="824"/>
                </a:lnTo>
                <a:lnTo>
                  <a:pt x="382" y="789"/>
                </a:lnTo>
                <a:lnTo>
                  <a:pt x="397" y="754"/>
                </a:lnTo>
                <a:lnTo>
                  <a:pt x="410" y="718"/>
                </a:lnTo>
                <a:lnTo>
                  <a:pt x="423" y="680"/>
                </a:lnTo>
                <a:lnTo>
                  <a:pt x="434" y="641"/>
                </a:lnTo>
                <a:lnTo>
                  <a:pt x="444" y="601"/>
                </a:lnTo>
                <a:lnTo>
                  <a:pt x="453" y="557"/>
                </a:lnTo>
                <a:lnTo>
                  <a:pt x="462" y="514"/>
                </a:lnTo>
                <a:lnTo>
                  <a:pt x="468" y="468"/>
                </a:lnTo>
                <a:lnTo>
                  <a:pt x="474" y="420"/>
                </a:lnTo>
                <a:lnTo>
                  <a:pt x="478" y="369"/>
                </a:lnTo>
                <a:lnTo>
                  <a:pt x="481" y="317"/>
                </a:lnTo>
                <a:lnTo>
                  <a:pt x="483" y="262"/>
                </a:lnTo>
                <a:lnTo>
                  <a:pt x="483" y="205"/>
                </a:lnTo>
                <a:lnTo>
                  <a:pt x="482" y="144"/>
                </a:lnTo>
                <a:lnTo>
                  <a:pt x="482" y="134"/>
                </a:lnTo>
                <a:lnTo>
                  <a:pt x="483" y="123"/>
                </a:lnTo>
                <a:lnTo>
                  <a:pt x="483" y="113"/>
                </a:lnTo>
                <a:lnTo>
                  <a:pt x="485" y="102"/>
                </a:lnTo>
                <a:lnTo>
                  <a:pt x="487" y="92"/>
                </a:lnTo>
                <a:lnTo>
                  <a:pt x="489" y="82"/>
                </a:lnTo>
                <a:lnTo>
                  <a:pt x="492" y="73"/>
                </a:lnTo>
                <a:lnTo>
                  <a:pt x="497" y="64"/>
                </a:lnTo>
                <a:lnTo>
                  <a:pt x="501" y="54"/>
                </a:lnTo>
                <a:lnTo>
                  <a:pt x="506" y="46"/>
                </a:lnTo>
                <a:lnTo>
                  <a:pt x="511" y="38"/>
                </a:lnTo>
                <a:lnTo>
                  <a:pt x="517" y="31"/>
                </a:lnTo>
                <a:lnTo>
                  <a:pt x="523" y="25"/>
                </a:lnTo>
                <a:lnTo>
                  <a:pt x="532" y="18"/>
                </a:lnTo>
                <a:lnTo>
                  <a:pt x="540" y="13"/>
                </a:lnTo>
                <a:lnTo>
                  <a:pt x="548" y="9"/>
                </a:lnTo>
                <a:lnTo>
                  <a:pt x="557" y="5"/>
                </a:lnTo>
                <a:lnTo>
                  <a:pt x="568" y="3"/>
                </a:lnTo>
                <a:lnTo>
                  <a:pt x="579" y="1"/>
                </a:lnTo>
                <a:lnTo>
                  <a:pt x="590" y="0"/>
                </a:lnTo>
                <a:lnTo>
                  <a:pt x="603" y="0"/>
                </a:lnTo>
                <a:lnTo>
                  <a:pt x="616" y="2"/>
                </a:lnTo>
                <a:lnTo>
                  <a:pt x="629" y="4"/>
                </a:lnTo>
                <a:lnTo>
                  <a:pt x="644" y="8"/>
                </a:lnTo>
                <a:lnTo>
                  <a:pt x="659" y="12"/>
                </a:lnTo>
                <a:lnTo>
                  <a:pt x="676" y="18"/>
                </a:lnTo>
                <a:lnTo>
                  <a:pt x="693" y="27"/>
                </a:lnTo>
                <a:lnTo>
                  <a:pt x="711" y="35"/>
                </a:lnTo>
                <a:lnTo>
                  <a:pt x="729" y="45"/>
                </a:lnTo>
                <a:lnTo>
                  <a:pt x="749" y="57"/>
                </a:lnTo>
                <a:lnTo>
                  <a:pt x="769" y="71"/>
                </a:lnTo>
                <a:lnTo>
                  <a:pt x="791" y="86"/>
                </a:lnTo>
                <a:lnTo>
                  <a:pt x="949" y="265"/>
                </a:lnTo>
                <a:lnTo>
                  <a:pt x="1091" y="439"/>
                </a:lnTo>
                <a:lnTo>
                  <a:pt x="1219" y="609"/>
                </a:lnTo>
                <a:lnTo>
                  <a:pt x="1332" y="773"/>
                </a:lnTo>
                <a:lnTo>
                  <a:pt x="1432" y="935"/>
                </a:lnTo>
                <a:lnTo>
                  <a:pt x="1518" y="1092"/>
                </a:lnTo>
                <a:lnTo>
                  <a:pt x="1591" y="1246"/>
                </a:lnTo>
                <a:lnTo>
                  <a:pt x="1654" y="1397"/>
                </a:lnTo>
                <a:lnTo>
                  <a:pt x="1705" y="1546"/>
                </a:lnTo>
                <a:lnTo>
                  <a:pt x="1745" y="1692"/>
                </a:lnTo>
                <a:lnTo>
                  <a:pt x="1776" y="1836"/>
                </a:lnTo>
                <a:lnTo>
                  <a:pt x="1798" y="1978"/>
                </a:lnTo>
                <a:lnTo>
                  <a:pt x="1811" y="2120"/>
                </a:lnTo>
                <a:lnTo>
                  <a:pt x="1816" y="2260"/>
                </a:lnTo>
                <a:lnTo>
                  <a:pt x="1814" y="2399"/>
                </a:lnTo>
                <a:lnTo>
                  <a:pt x="1806" y="2539"/>
                </a:lnTo>
                <a:lnTo>
                  <a:pt x="1793" y="2679"/>
                </a:lnTo>
                <a:lnTo>
                  <a:pt x="1773" y="2820"/>
                </a:lnTo>
                <a:lnTo>
                  <a:pt x="1748" y="2961"/>
                </a:lnTo>
                <a:lnTo>
                  <a:pt x="1721" y="3104"/>
                </a:lnTo>
                <a:lnTo>
                  <a:pt x="1690" y="3248"/>
                </a:lnTo>
                <a:lnTo>
                  <a:pt x="1656" y="3394"/>
                </a:lnTo>
                <a:lnTo>
                  <a:pt x="1621" y="3542"/>
                </a:lnTo>
                <a:lnTo>
                  <a:pt x="1584" y="3693"/>
                </a:lnTo>
                <a:lnTo>
                  <a:pt x="1546" y="3846"/>
                </a:lnTo>
                <a:lnTo>
                  <a:pt x="1509" y="4004"/>
                </a:lnTo>
                <a:lnTo>
                  <a:pt x="1472" y="4165"/>
                </a:lnTo>
                <a:lnTo>
                  <a:pt x="1436" y="4330"/>
                </a:lnTo>
                <a:lnTo>
                  <a:pt x="1403" y="4499"/>
                </a:lnTo>
                <a:lnTo>
                  <a:pt x="1372" y="4673"/>
                </a:lnTo>
                <a:lnTo>
                  <a:pt x="1344" y="4852"/>
                </a:lnTo>
                <a:lnTo>
                  <a:pt x="1320" y="5036"/>
                </a:lnTo>
                <a:lnTo>
                  <a:pt x="1181" y="5514"/>
                </a:lnTo>
                <a:lnTo>
                  <a:pt x="1169" y="5338"/>
                </a:lnTo>
                <a:lnTo>
                  <a:pt x="1163" y="5165"/>
                </a:lnTo>
                <a:lnTo>
                  <a:pt x="1163" y="4996"/>
                </a:lnTo>
                <a:lnTo>
                  <a:pt x="1166" y="4831"/>
                </a:lnTo>
                <a:lnTo>
                  <a:pt x="1174" y="4669"/>
                </a:lnTo>
                <a:lnTo>
                  <a:pt x="1186" y="4510"/>
                </a:lnTo>
                <a:lnTo>
                  <a:pt x="1199" y="4354"/>
                </a:lnTo>
                <a:lnTo>
                  <a:pt x="1215" y="4199"/>
                </a:lnTo>
                <a:lnTo>
                  <a:pt x="1232" y="4047"/>
                </a:lnTo>
                <a:lnTo>
                  <a:pt x="1251" y="3898"/>
                </a:lnTo>
                <a:lnTo>
                  <a:pt x="1269" y="3749"/>
                </a:lnTo>
                <a:lnTo>
                  <a:pt x="1289" y="3603"/>
                </a:lnTo>
                <a:lnTo>
                  <a:pt x="1306" y="3457"/>
                </a:lnTo>
                <a:lnTo>
                  <a:pt x="1323" y="3312"/>
                </a:lnTo>
                <a:lnTo>
                  <a:pt x="1337" y="3168"/>
                </a:lnTo>
                <a:lnTo>
                  <a:pt x="1349" y="3025"/>
                </a:lnTo>
                <a:lnTo>
                  <a:pt x="1359" y="2882"/>
                </a:lnTo>
                <a:lnTo>
                  <a:pt x="1364" y="2738"/>
                </a:lnTo>
                <a:lnTo>
                  <a:pt x="1366" y="2595"/>
                </a:lnTo>
                <a:lnTo>
                  <a:pt x="1362" y="2451"/>
                </a:lnTo>
                <a:lnTo>
                  <a:pt x="1352" y="2306"/>
                </a:lnTo>
                <a:lnTo>
                  <a:pt x="1338" y="2160"/>
                </a:lnTo>
                <a:lnTo>
                  <a:pt x="1316" y="2013"/>
                </a:lnTo>
                <a:lnTo>
                  <a:pt x="1288" y="1865"/>
                </a:lnTo>
                <a:lnTo>
                  <a:pt x="1252" y="1713"/>
                </a:lnTo>
                <a:lnTo>
                  <a:pt x="1206" y="1561"/>
                </a:lnTo>
                <a:lnTo>
                  <a:pt x="1153" y="1407"/>
                </a:lnTo>
                <a:lnTo>
                  <a:pt x="1090" y="1250"/>
                </a:lnTo>
                <a:lnTo>
                  <a:pt x="1017" y="1090"/>
                </a:lnTo>
                <a:lnTo>
                  <a:pt x="934" y="928"/>
                </a:lnTo>
                <a:lnTo>
                  <a:pt x="839" y="762"/>
                </a:lnTo>
                <a:lnTo>
                  <a:pt x="732" y="592"/>
                </a:lnTo>
                <a:lnTo>
                  <a:pt x="723" y="632"/>
                </a:lnTo>
                <a:lnTo>
                  <a:pt x="714" y="671"/>
                </a:lnTo>
                <a:lnTo>
                  <a:pt x="702" y="710"/>
                </a:lnTo>
                <a:lnTo>
                  <a:pt x="691" y="747"/>
                </a:lnTo>
                <a:lnTo>
                  <a:pt x="680" y="783"/>
                </a:lnTo>
                <a:lnTo>
                  <a:pt x="667" y="819"/>
                </a:lnTo>
                <a:lnTo>
                  <a:pt x="655" y="853"/>
                </a:lnTo>
                <a:lnTo>
                  <a:pt x="642" y="886"/>
                </a:lnTo>
                <a:lnTo>
                  <a:pt x="627" y="919"/>
                </a:lnTo>
                <a:lnTo>
                  <a:pt x="613" y="951"/>
                </a:lnTo>
                <a:lnTo>
                  <a:pt x="598" y="983"/>
                </a:lnTo>
                <a:lnTo>
                  <a:pt x="583" y="1013"/>
                </a:lnTo>
                <a:lnTo>
                  <a:pt x="567" y="1044"/>
                </a:lnTo>
                <a:lnTo>
                  <a:pt x="550" y="1073"/>
                </a:lnTo>
                <a:lnTo>
                  <a:pt x="533" y="1102"/>
                </a:lnTo>
                <a:lnTo>
                  <a:pt x="515" y="1130"/>
                </a:lnTo>
                <a:lnTo>
                  <a:pt x="498" y="1158"/>
                </a:lnTo>
                <a:lnTo>
                  <a:pt x="479" y="1186"/>
                </a:lnTo>
                <a:lnTo>
                  <a:pt x="461" y="1212"/>
                </a:lnTo>
                <a:lnTo>
                  <a:pt x="441" y="1239"/>
                </a:lnTo>
                <a:lnTo>
                  <a:pt x="401" y="1293"/>
                </a:lnTo>
                <a:lnTo>
                  <a:pt x="359" y="1344"/>
                </a:lnTo>
                <a:lnTo>
                  <a:pt x="314" y="1395"/>
                </a:lnTo>
                <a:lnTo>
                  <a:pt x="269" y="1445"/>
                </a:lnTo>
                <a:lnTo>
                  <a:pt x="223" y="1495"/>
                </a:lnTo>
                <a:lnTo>
                  <a:pt x="174" y="1546"/>
                </a:lnTo>
                <a:close/>
              </a:path>
            </a:pathLst>
          </a:custGeom>
          <a:solidFill>
            <a:srgbClr val="2a4ca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17360" y="4273560"/>
            <a:ext cx="532080" cy="1143000"/>
          </a:xfrm>
          <a:custGeom>
            <a:avLst/>
            <a:gdLst/>
            <a:ahLst/>
            <a:rect l="l" t="t" r="r" b="b"/>
            <a:pathLst>
              <a:path w="2158" h="4894">
                <a:moveTo>
                  <a:pt x="2135" y="3852"/>
                </a:moveTo>
                <a:lnTo>
                  <a:pt x="2139" y="3714"/>
                </a:lnTo>
                <a:lnTo>
                  <a:pt x="2144" y="3578"/>
                </a:lnTo>
                <a:lnTo>
                  <a:pt x="2147" y="3441"/>
                </a:lnTo>
                <a:lnTo>
                  <a:pt x="2149" y="3306"/>
                </a:lnTo>
                <a:lnTo>
                  <a:pt x="2150" y="3173"/>
                </a:lnTo>
                <a:lnTo>
                  <a:pt x="2149" y="3041"/>
                </a:lnTo>
                <a:lnTo>
                  <a:pt x="2147" y="2910"/>
                </a:lnTo>
                <a:lnTo>
                  <a:pt x="2143" y="2781"/>
                </a:lnTo>
                <a:lnTo>
                  <a:pt x="2135" y="2652"/>
                </a:lnTo>
                <a:lnTo>
                  <a:pt x="2127" y="2524"/>
                </a:lnTo>
                <a:lnTo>
                  <a:pt x="2115" y="2398"/>
                </a:lnTo>
                <a:lnTo>
                  <a:pt x="2100" y="2273"/>
                </a:lnTo>
                <a:lnTo>
                  <a:pt x="2083" y="2150"/>
                </a:lnTo>
                <a:lnTo>
                  <a:pt x="2062" y="2028"/>
                </a:lnTo>
                <a:lnTo>
                  <a:pt x="2038" y="1907"/>
                </a:lnTo>
                <a:lnTo>
                  <a:pt x="2009" y="1788"/>
                </a:lnTo>
                <a:lnTo>
                  <a:pt x="1977" y="1670"/>
                </a:lnTo>
                <a:lnTo>
                  <a:pt x="1940" y="1553"/>
                </a:lnTo>
                <a:lnTo>
                  <a:pt x="1899" y="1436"/>
                </a:lnTo>
                <a:lnTo>
                  <a:pt x="1853" y="1322"/>
                </a:lnTo>
                <a:lnTo>
                  <a:pt x="1801" y="1209"/>
                </a:lnTo>
                <a:lnTo>
                  <a:pt x="1745" y="1098"/>
                </a:lnTo>
                <a:lnTo>
                  <a:pt x="1683" y="987"/>
                </a:lnTo>
                <a:lnTo>
                  <a:pt x="1615" y="878"/>
                </a:lnTo>
                <a:lnTo>
                  <a:pt x="1541" y="770"/>
                </a:lnTo>
                <a:lnTo>
                  <a:pt x="1461" y="664"/>
                </a:lnTo>
                <a:lnTo>
                  <a:pt x="1374" y="559"/>
                </a:lnTo>
                <a:lnTo>
                  <a:pt x="1282" y="455"/>
                </a:lnTo>
                <a:lnTo>
                  <a:pt x="1182" y="352"/>
                </a:lnTo>
                <a:lnTo>
                  <a:pt x="1074" y="251"/>
                </a:lnTo>
                <a:lnTo>
                  <a:pt x="960" y="152"/>
                </a:lnTo>
                <a:lnTo>
                  <a:pt x="837" y="54"/>
                </a:lnTo>
                <a:lnTo>
                  <a:pt x="823" y="45"/>
                </a:lnTo>
                <a:lnTo>
                  <a:pt x="808" y="36"/>
                </a:lnTo>
                <a:lnTo>
                  <a:pt x="794" y="28"/>
                </a:lnTo>
                <a:lnTo>
                  <a:pt x="781" y="22"/>
                </a:lnTo>
                <a:lnTo>
                  <a:pt x="767" y="16"/>
                </a:lnTo>
                <a:lnTo>
                  <a:pt x="755" y="12"/>
                </a:lnTo>
                <a:lnTo>
                  <a:pt x="743" y="8"/>
                </a:lnTo>
                <a:lnTo>
                  <a:pt x="730" y="5"/>
                </a:lnTo>
                <a:lnTo>
                  <a:pt x="719" y="3"/>
                </a:lnTo>
                <a:lnTo>
                  <a:pt x="708" y="0"/>
                </a:lnTo>
                <a:lnTo>
                  <a:pt x="696" y="0"/>
                </a:lnTo>
                <a:lnTo>
                  <a:pt x="685" y="0"/>
                </a:lnTo>
                <a:lnTo>
                  <a:pt x="675" y="0"/>
                </a:lnTo>
                <a:lnTo>
                  <a:pt x="665" y="3"/>
                </a:lnTo>
                <a:lnTo>
                  <a:pt x="655" y="5"/>
                </a:lnTo>
                <a:lnTo>
                  <a:pt x="646" y="8"/>
                </a:lnTo>
                <a:lnTo>
                  <a:pt x="637" y="12"/>
                </a:lnTo>
                <a:lnTo>
                  <a:pt x="627" y="16"/>
                </a:lnTo>
                <a:lnTo>
                  <a:pt x="619" y="21"/>
                </a:lnTo>
                <a:lnTo>
                  <a:pt x="611" y="27"/>
                </a:lnTo>
                <a:lnTo>
                  <a:pt x="603" y="33"/>
                </a:lnTo>
                <a:lnTo>
                  <a:pt x="595" y="41"/>
                </a:lnTo>
                <a:lnTo>
                  <a:pt x="587" y="48"/>
                </a:lnTo>
                <a:lnTo>
                  <a:pt x="580" y="56"/>
                </a:lnTo>
                <a:lnTo>
                  <a:pt x="566" y="75"/>
                </a:lnTo>
                <a:lnTo>
                  <a:pt x="552" y="95"/>
                </a:lnTo>
                <a:lnTo>
                  <a:pt x="541" y="117"/>
                </a:lnTo>
                <a:lnTo>
                  <a:pt x="529" y="141"/>
                </a:lnTo>
                <a:lnTo>
                  <a:pt x="525" y="200"/>
                </a:lnTo>
                <a:lnTo>
                  <a:pt x="519" y="258"/>
                </a:lnTo>
                <a:lnTo>
                  <a:pt x="513" y="315"/>
                </a:lnTo>
                <a:lnTo>
                  <a:pt x="507" y="373"/>
                </a:lnTo>
                <a:lnTo>
                  <a:pt x="499" y="429"/>
                </a:lnTo>
                <a:lnTo>
                  <a:pt x="491" y="486"/>
                </a:lnTo>
                <a:lnTo>
                  <a:pt x="481" y="541"/>
                </a:lnTo>
                <a:lnTo>
                  <a:pt x="471" y="597"/>
                </a:lnTo>
                <a:lnTo>
                  <a:pt x="460" y="653"/>
                </a:lnTo>
                <a:lnTo>
                  <a:pt x="448" y="707"/>
                </a:lnTo>
                <a:lnTo>
                  <a:pt x="436" y="762"/>
                </a:lnTo>
                <a:lnTo>
                  <a:pt x="423" y="815"/>
                </a:lnTo>
                <a:lnTo>
                  <a:pt x="408" y="869"/>
                </a:lnTo>
                <a:lnTo>
                  <a:pt x="394" y="921"/>
                </a:lnTo>
                <a:lnTo>
                  <a:pt x="377" y="973"/>
                </a:lnTo>
                <a:lnTo>
                  <a:pt x="362" y="1025"/>
                </a:lnTo>
                <a:lnTo>
                  <a:pt x="345" y="1076"/>
                </a:lnTo>
                <a:lnTo>
                  <a:pt x="327" y="1127"/>
                </a:lnTo>
                <a:lnTo>
                  <a:pt x="308" y="1177"/>
                </a:lnTo>
                <a:lnTo>
                  <a:pt x="289" y="1226"/>
                </a:lnTo>
                <a:lnTo>
                  <a:pt x="268" y="1275"/>
                </a:lnTo>
                <a:lnTo>
                  <a:pt x="248" y="1323"/>
                </a:lnTo>
                <a:lnTo>
                  <a:pt x="226" y="1371"/>
                </a:lnTo>
                <a:lnTo>
                  <a:pt x="204" y="1418"/>
                </a:lnTo>
                <a:lnTo>
                  <a:pt x="181" y="1464"/>
                </a:lnTo>
                <a:lnTo>
                  <a:pt x="157" y="1510"/>
                </a:lnTo>
                <a:lnTo>
                  <a:pt x="133" y="1556"/>
                </a:lnTo>
                <a:lnTo>
                  <a:pt x="107" y="1600"/>
                </a:lnTo>
                <a:lnTo>
                  <a:pt x="81" y="1643"/>
                </a:lnTo>
                <a:lnTo>
                  <a:pt x="54" y="1686"/>
                </a:lnTo>
                <a:lnTo>
                  <a:pt x="28" y="1728"/>
                </a:lnTo>
                <a:lnTo>
                  <a:pt x="0" y="1770"/>
                </a:lnTo>
                <a:lnTo>
                  <a:pt x="191" y="2165"/>
                </a:lnTo>
                <a:lnTo>
                  <a:pt x="246" y="2057"/>
                </a:lnTo>
                <a:lnTo>
                  <a:pt x="298" y="1954"/>
                </a:lnTo>
                <a:lnTo>
                  <a:pt x="347" y="1852"/>
                </a:lnTo>
                <a:lnTo>
                  <a:pt x="393" y="1752"/>
                </a:lnTo>
                <a:lnTo>
                  <a:pt x="437" y="1654"/>
                </a:lnTo>
                <a:lnTo>
                  <a:pt x="478" y="1558"/>
                </a:lnTo>
                <a:lnTo>
                  <a:pt x="498" y="1508"/>
                </a:lnTo>
                <a:lnTo>
                  <a:pt x="517" y="1460"/>
                </a:lnTo>
                <a:lnTo>
                  <a:pt x="536" y="1412"/>
                </a:lnTo>
                <a:lnTo>
                  <a:pt x="554" y="1363"/>
                </a:lnTo>
                <a:lnTo>
                  <a:pt x="572" y="1314"/>
                </a:lnTo>
                <a:lnTo>
                  <a:pt x="589" y="1266"/>
                </a:lnTo>
                <a:lnTo>
                  <a:pt x="606" y="1215"/>
                </a:lnTo>
                <a:lnTo>
                  <a:pt x="622" y="1166"/>
                </a:lnTo>
                <a:lnTo>
                  <a:pt x="638" y="1115"/>
                </a:lnTo>
                <a:lnTo>
                  <a:pt x="653" y="1064"/>
                </a:lnTo>
                <a:lnTo>
                  <a:pt x="669" y="1013"/>
                </a:lnTo>
                <a:lnTo>
                  <a:pt x="683" y="959"/>
                </a:lnTo>
                <a:lnTo>
                  <a:pt x="696" y="906"/>
                </a:lnTo>
                <a:lnTo>
                  <a:pt x="711" y="852"/>
                </a:lnTo>
                <a:lnTo>
                  <a:pt x="724" y="797"/>
                </a:lnTo>
                <a:lnTo>
                  <a:pt x="736" y="740"/>
                </a:lnTo>
                <a:lnTo>
                  <a:pt x="749" y="682"/>
                </a:lnTo>
                <a:lnTo>
                  <a:pt x="761" y="624"/>
                </a:lnTo>
                <a:lnTo>
                  <a:pt x="773" y="563"/>
                </a:lnTo>
                <a:lnTo>
                  <a:pt x="785" y="501"/>
                </a:lnTo>
                <a:lnTo>
                  <a:pt x="901" y="604"/>
                </a:lnTo>
                <a:lnTo>
                  <a:pt x="1008" y="711"/>
                </a:lnTo>
                <a:lnTo>
                  <a:pt x="1108" y="821"/>
                </a:lnTo>
                <a:lnTo>
                  <a:pt x="1199" y="934"/>
                </a:lnTo>
                <a:lnTo>
                  <a:pt x="1285" y="1051"/>
                </a:lnTo>
                <a:lnTo>
                  <a:pt x="1363" y="1170"/>
                </a:lnTo>
                <a:lnTo>
                  <a:pt x="1434" y="1291"/>
                </a:lnTo>
                <a:lnTo>
                  <a:pt x="1500" y="1417"/>
                </a:lnTo>
                <a:lnTo>
                  <a:pt x="1559" y="1544"/>
                </a:lnTo>
                <a:lnTo>
                  <a:pt x="1614" y="1674"/>
                </a:lnTo>
                <a:lnTo>
                  <a:pt x="1663" y="1807"/>
                </a:lnTo>
                <a:lnTo>
                  <a:pt x="1707" y="1941"/>
                </a:lnTo>
                <a:lnTo>
                  <a:pt x="1748" y="2077"/>
                </a:lnTo>
                <a:lnTo>
                  <a:pt x="1784" y="2216"/>
                </a:lnTo>
                <a:lnTo>
                  <a:pt x="1817" y="2356"/>
                </a:lnTo>
                <a:lnTo>
                  <a:pt x="1846" y="2499"/>
                </a:lnTo>
                <a:lnTo>
                  <a:pt x="1873" y="2642"/>
                </a:lnTo>
                <a:lnTo>
                  <a:pt x="1897" y="2787"/>
                </a:lnTo>
                <a:lnTo>
                  <a:pt x="1918" y="2934"/>
                </a:lnTo>
                <a:lnTo>
                  <a:pt x="1938" y="3081"/>
                </a:lnTo>
                <a:lnTo>
                  <a:pt x="1956" y="3229"/>
                </a:lnTo>
                <a:lnTo>
                  <a:pt x="1973" y="3379"/>
                </a:lnTo>
                <a:lnTo>
                  <a:pt x="1989" y="3529"/>
                </a:lnTo>
                <a:lnTo>
                  <a:pt x="2006" y="3679"/>
                </a:lnTo>
                <a:lnTo>
                  <a:pt x="2021" y="3832"/>
                </a:lnTo>
                <a:lnTo>
                  <a:pt x="2038" y="3983"/>
                </a:lnTo>
                <a:lnTo>
                  <a:pt x="2054" y="4135"/>
                </a:lnTo>
                <a:lnTo>
                  <a:pt x="2072" y="4287"/>
                </a:lnTo>
                <a:lnTo>
                  <a:pt x="2090" y="4439"/>
                </a:lnTo>
                <a:lnTo>
                  <a:pt x="2111" y="4591"/>
                </a:lnTo>
                <a:lnTo>
                  <a:pt x="2133" y="4743"/>
                </a:lnTo>
                <a:lnTo>
                  <a:pt x="2158" y="4894"/>
                </a:lnTo>
                <a:lnTo>
                  <a:pt x="2135" y="3852"/>
                </a:lnTo>
                <a:close/>
              </a:path>
            </a:pathLst>
          </a:custGeom>
          <a:solidFill>
            <a:srgbClr val="2a4ca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196920" y="4519440"/>
            <a:ext cx="2401920" cy="1060560"/>
          </a:xfrm>
          <a:custGeom>
            <a:avLst/>
            <a:gdLst/>
            <a:ahLst/>
            <a:rect l="l" t="t" r="r" b="b"/>
            <a:pathLst>
              <a:path w="9738" h="4549">
                <a:moveTo>
                  <a:pt x="9664" y="948"/>
                </a:moveTo>
                <a:lnTo>
                  <a:pt x="9677" y="959"/>
                </a:lnTo>
                <a:lnTo>
                  <a:pt x="9690" y="971"/>
                </a:lnTo>
                <a:lnTo>
                  <a:pt x="9702" y="984"/>
                </a:lnTo>
                <a:lnTo>
                  <a:pt x="9712" y="997"/>
                </a:lnTo>
                <a:lnTo>
                  <a:pt x="9720" y="1011"/>
                </a:lnTo>
                <a:lnTo>
                  <a:pt x="9727" y="1024"/>
                </a:lnTo>
                <a:lnTo>
                  <a:pt x="9732" y="1038"/>
                </a:lnTo>
                <a:lnTo>
                  <a:pt x="9736" y="1054"/>
                </a:lnTo>
                <a:lnTo>
                  <a:pt x="9738" y="1069"/>
                </a:lnTo>
                <a:lnTo>
                  <a:pt x="9738" y="1086"/>
                </a:lnTo>
                <a:lnTo>
                  <a:pt x="9736" y="1102"/>
                </a:lnTo>
                <a:lnTo>
                  <a:pt x="9731" y="1120"/>
                </a:lnTo>
                <a:lnTo>
                  <a:pt x="9725" y="1138"/>
                </a:lnTo>
                <a:lnTo>
                  <a:pt x="9716" y="1158"/>
                </a:lnTo>
                <a:lnTo>
                  <a:pt x="9706" y="1177"/>
                </a:lnTo>
                <a:lnTo>
                  <a:pt x="9692" y="1198"/>
                </a:lnTo>
                <a:lnTo>
                  <a:pt x="9384" y="1704"/>
                </a:lnTo>
                <a:lnTo>
                  <a:pt x="9186" y="1681"/>
                </a:lnTo>
                <a:lnTo>
                  <a:pt x="9387" y="1280"/>
                </a:lnTo>
                <a:lnTo>
                  <a:pt x="9390" y="1274"/>
                </a:lnTo>
                <a:lnTo>
                  <a:pt x="9392" y="1265"/>
                </a:lnTo>
                <a:lnTo>
                  <a:pt x="9392" y="1254"/>
                </a:lnTo>
                <a:lnTo>
                  <a:pt x="9391" y="1243"/>
                </a:lnTo>
                <a:lnTo>
                  <a:pt x="9390" y="1237"/>
                </a:lnTo>
                <a:lnTo>
                  <a:pt x="9388" y="1231"/>
                </a:lnTo>
                <a:lnTo>
                  <a:pt x="9386" y="1226"/>
                </a:lnTo>
                <a:lnTo>
                  <a:pt x="9383" y="1220"/>
                </a:lnTo>
                <a:lnTo>
                  <a:pt x="9380" y="1215"/>
                </a:lnTo>
                <a:lnTo>
                  <a:pt x="9374" y="1210"/>
                </a:lnTo>
                <a:lnTo>
                  <a:pt x="9369" y="1207"/>
                </a:lnTo>
                <a:lnTo>
                  <a:pt x="9364" y="1204"/>
                </a:lnTo>
                <a:lnTo>
                  <a:pt x="9148" y="1120"/>
                </a:lnTo>
                <a:lnTo>
                  <a:pt x="8930" y="1057"/>
                </a:lnTo>
                <a:lnTo>
                  <a:pt x="8710" y="1013"/>
                </a:lnTo>
                <a:lnTo>
                  <a:pt x="8489" y="988"/>
                </a:lnTo>
                <a:lnTo>
                  <a:pt x="8268" y="981"/>
                </a:lnTo>
                <a:lnTo>
                  <a:pt x="8046" y="990"/>
                </a:lnTo>
                <a:lnTo>
                  <a:pt x="7822" y="1017"/>
                </a:lnTo>
                <a:lnTo>
                  <a:pt x="7600" y="1058"/>
                </a:lnTo>
                <a:lnTo>
                  <a:pt x="7379" y="1113"/>
                </a:lnTo>
                <a:lnTo>
                  <a:pt x="7158" y="1183"/>
                </a:lnTo>
                <a:lnTo>
                  <a:pt x="6939" y="1266"/>
                </a:lnTo>
                <a:lnTo>
                  <a:pt x="6721" y="1361"/>
                </a:lnTo>
                <a:lnTo>
                  <a:pt x="6506" y="1467"/>
                </a:lnTo>
                <a:lnTo>
                  <a:pt x="6292" y="1583"/>
                </a:lnTo>
                <a:lnTo>
                  <a:pt x="6082" y="1710"/>
                </a:lnTo>
                <a:lnTo>
                  <a:pt x="5874" y="1845"/>
                </a:lnTo>
                <a:lnTo>
                  <a:pt x="5670" y="1989"/>
                </a:lnTo>
                <a:lnTo>
                  <a:pt x="5471" y="2139"/>
                </a:lnTo>
                <a:lnTo>
                  <a:pt x="5275" y="2296"/>
                </a:lnTo>
                <a:lnTo>
                  <a:pt x="5084" y="2459"/>
                </a:lnTo>
                <a:lnTo>
                  <a:pt x="4898" y="2625"/>
                </a:lnTo>
                <a:lnTo>
                  <a:pt x="4717" y="2797"/>
                </a:lnTo>
                <a:lnTo>
                  <a:pt x="4542" y="2971"/>
                </a:lnTo>
                <a:lnTo>
                  <a:pt x="4373" y="3148"/>
                </a:lnTo>
                <a:lnTo>
                  <a:pt x="4211" y="3327"/>
                </a:lnTo>
                <a:lnTo>
                  <a:pt x="4056" y="3506"/>
                </a:lnTo>
                <a:lnTo>
                  <a:pt x="3907" y="3685"/>
                </a:lnTo>
                <a:lnTo>
                  <a:pt x="3766" y="3863"/>
                </a:lnTo>
                <a:lnTo>
                  <a:pt x="3634" y="4038"/>
                </a:lnTo>
                <a:lnTo>
                  <a:pt x="3509" y="4212"/>
                </a:lnTo>
                <a:lnTo>
                  <a:pt x="3393" y="4383"/>
                </a:lnTo>
                <a:lnTo>
                  <a:pt x="3286" y="4549"/>
                </a:lnTo>
                <a:lnTo>
                  <a:pt x="3036" y="4409"/>
                </a:lnTo>
                <a:lnTo>
                  <a:pt x="2933" y="4107"/>
                </a:lnTo>
                <a:lnTo>
                  <a:pt x="2831" y="3806"/>
                </a:lnTo>
                <a:lnTo>
                  <a:pt x="2779" y="3657"/>
                </a:lnTo>
                <a:lnTo>
                  <a:pt x="2728" y="3507"/>
                </a:lnTo>
                <a:lnTo>
                  <a:pt x="2674" y="3359"/>
                </a:lnTo>
                <a:lnTo>
                  <a:pt x="2620" y="3211"/>
                </a:lnTo>
                <a:lnTo>
                  <a:pt x="2565" y="3064"/>
                </a:lnTo>
                <a:lnTo>
                  <a:pt x="2508" y="2919"/>
                </a:lnTo>
                <a:lnTo>
                  <a:pt x="2450" y="2775"/>
                </a:lnTo>
                <a:lnTo>
                  <a:pt x="2389" y="2635"/>
                </a:lnTo>
                <a:lnTo>
                  <a:pt x="2326" y="2495"/>
                </a:lnTo>
                <a:lnTo>
                  <a:pt x="2263" y="2357"/>
                </a:lnTo>
                <a:lnTo>
                  <a:pt x="2195" y="2221"/>
                </a:lnTo>
                <a:lnTo>
                  <a:pt x="2125" y="2088"/>
                </a:lnTo>
                <a:lnTo>
                  <a:pt x="2052" y="1959"/>
                </a:lnTo>
                <a:lnTo>
                  <a:pt x="1976" y="1831"/>
                </a:lnTo>
                <a:lnTo>
                  <a:pt x="1895" y="1708"/>
                </a:lnTo>
                <a:lnTo>
                  <a:pt x="1812" y="1587"/>
                </a:lnTo>
                <a:lnTo>
                  <a:pt x="1725" y="1469"/>
                </a:lnTo>
                <a:lnTo>
                  <a:pt x="1633" y="1356"/>
                </a:lnTo>
                <a:lnTo>
                  <a:pt x="1537" y="1246"/>
                </a:lnTo>
                <a:lnTo>
                  <a:pt x="1437" y="1140"/>
                </a:lnTo>
                <a:lnTo>
                  <a:pt x="1332" y="1039"/>
                </a:lnTo>
                <a:lnTo>
                  <a:pt x="1222" y="942"/>
                </a:lnTo>
                <a:lnTo>
                  <a:pt x="1106" y="849"/>
                </a:lnTo>
                <a:lnTo>
                  <a:pt x="985" y="762"/>
                </a:lnTo>
                <a:lnTo>
                  <a:pt x="859" y="679"/>
                </a:lnTo>
                <a:lnTo>
                  <a:pt x="726" y="601"/>
                </a:lnTo>
                <a:lnTo>
                  <a:pt x="588" y="529"/>
                </a:lnTo>
                <a:lnTo>
                  <a:pt x="443" y="462"/>
                </a:lnTo>
                <a:lnTo>
                  <a:pt x="435" y="459"/>
                </a:lnTo>
                <a:lnTo>
                  <a:pt x="427" y="457"/>
                </a:lnTo>
                <a:lnTo>
                  <a:pt x="420" y="455"/>
                </a:lnTo>
                <a:lnTo>
                  <a:pt x="414" y="454"/>
                </a:lnTo>
                <a:lnTo>
                  <a:pt x="408" y="454"/>
                </a:lnTo>
                <a:lnTo>
                  <a:pt x="404" y="454"/>
                </a:lnTo>
                <a:lnTo>
                  <a:pt x="400" y="455"/>
                </a:lnTo>
                <a:lnTo>
                  <a:pt x="396" y="457"/>
                </a:lnTo>
                <a:lnTo>
                  <a:pt x="390" y="460"/>
                </a:lnTo>
                <a:lnTo>
                  <a:pt x="385" y="465"/>
                </a:lnTo>
                <a:lnTo>
                  <a:pt x="381" y="472"/>
                </a:lnTo>
                <a:lnTo>
                  <a:pt x="378" y="477"/>
                </a:lnTo>
                <a:lnTo>
                  <a:pt x="168" y="919"/>
                </a:lnTo>
                <a:lnTo>
                  <a:pt x="0" y="692"/>
                </a:lnTo>
                <a:lnTo>
                  <a:pt x="168" y="214"/>
                </a:lnTo>
                <a:lnTo>
                  <a:pt x="172" y="198"/>
                </a:lnTo>
                <a:lnTo>
                  <a:pt x="179" y="182"/>
                </a:lnTo>
                <a:lnTo>
                  <a:pt x="184" y="166"/>
                </a:lnTo>
                <a:lnTo>
                  <a:pt x="190" y="152"/>
                </a:lnTo>
                <a:lnTo>
                  <a:pt x="196" y="137"/>
                </a:lnTo>
                <a:lnTo>
                  <a:pt x="203" y="124"/>
                </a:lnTo>
                <a:lnTo>
                  <a:pt x="210" y="111"/>
                </a:lnTo>
                <a:lnTo>
                  <a:pt x="218" y="99"/>
                </a:lnTo>
                <a:lnTo>
                  <a:pt x="225" y="88"/>
                </a:lnTo>
                <a:lnTo>
                  <a:pt x="233" y="77"/>
                </a:lnTo>
                <a:lnTo>
                  <a:pt x="241" y="67"/>
                </a:lnTo>
                <a:lnTo>
                  <a:pt x="251" y="58"/>
                </a:lnTo>
                <a:lnTo>
                  <a:pt x="260" y="49"/>
                </a:lnTo>
                <a:lnTo>
                  <a:pt x="269" y="41"/>
                </a:lnTo>
                <a:lnTo>
                  <a:pt x="279" y="33"/>
                </a:lnTo>
                <a:lnTo>
                  <a:pt x="290" y="27"/>
                </a:lnTo>
                <a:lnTo>
                  <a:pt x="301" y="21"/>
                </a:lnTo>
                <a:lnTo>
                  <a:pt x="312" y="16"/>
                </a:lnTo>
                <a:lnTo>
                  <a:pt x="324" y="12"/>
                </a:lnTo>
                <a:lnTo>
                  <a:pt x="335" y="8"/>
                </a:lnTo>
                <a:lnTo>
                  <a:pt x="347" y="5"/>
                </a:lnTo>
                <a:lnTo>
                  <a:pt x="360" y="3"/>
                </a:lnTo>
                <a:lnTo>
                  <a:pt x="373" y="2"/>
                </a:lnTo>
                <a:lnTo>
                  <a:pt x="386" y="1"/>
                </a:lnTo>
                <a:lnTo>
                  <a:pt x="400" y="0"/>
                </a:lnTo>
                <a:lnTo>
                  <a:pt x="414" y="1"/>
                </a:lnTo>
                <a:lnTo>
                  <a:pt x="429" y="2"/>
                </a:lnTo>
                <a:lnTo>
                  <a:pt x="443" y="3"/>
                </a:lnTo>
                <a:lnTo>
                  <a:pt x="458" y="6"/>
                </a:lnTo>
                <a:lnTo>
                  <a:pt x="474" y="9"/>
                </a:lnTo>
                <a:lnTo>
                  <a:pt x="489" y="13"/>
                </a:lnTo>
                <a:lnTo>
                  <a:pt x="506" y="17"/>
                </a:lnTo>
                <a:lnTo>
                  <a:pt x="634" y="84"/>
                </a:lnTo>
                <a:lnTo>
                  <a:pt x="760" y="158"/>
                </a:lnTo>
                <a:lnTo>
                  <a:pt x="882" y="239"/>
                </a:lnTo>
                <a:lnTo>
                  <a:pt x="1003" y="327"/>
                </a:lnTo>
                <a:lnTo>
                  <a:pt x="1120" y="420"/>
                </a:lnTo>
                <a:lnTo>
                  <a:pt x="1235" y="520"/>
                </a:lnTo>
                <a:lnTo>
                  <a:pt x="1347" y="624"/>
                </a:lnTo>
                <a:lnTo>
                  <a:pt x="1456" y="734"/>
                </a:lnTo>
                <a:lnTo>
                  <a:pt x="1562" y="849"/>
                </a:lnTo>
                <a:lnTo>
                  <a:pt x="1666" y="967"/>
                </a:lnTo>
                <a:lnTo>
                  <a:pt x="1767" y="1091"/>
                </a:lnTo>
                <a:lnTo>
                  <a:pt x="1865" y="1217"/>
                </a:lnTo>
                <a:lnTo>
                  <a:pt x="1960" y="1348"/>
                </a:lnTo>
                <a:lnTo>
                  <a:pt x="2053" y="1481"/>
                </a:lnTo>
                <a:lnTo>
                  <a:pt x="2142" y="1616"/>
                </a:lnTo>
                <a:lnTo>
                  <a:pt x="2229" y="1755"/>
                </a:lnTo>
                <a:lnTo>
                  <a:pt x="2313" y="1895"/>
                </a:lnTo>
                <a:lnTo>
                  <a:pt x="2394" y="2037"/>
                </a:lnTo>
                <a:lnTo>
                  <a:pt x="2472" y="2181"/>
                </a:lnTo>
                <a:lnTo>
                  <a:pt x="2549" y="2325"/>
                </a:lnTo>
                <a:lnTo>
                  <a:pt x="2621" y="2470"/>
                </a:lnTo>
                <a:lnTo>
                  <a:pt x="2691" y="2616"/>
                </a:lnTo>
                <a:lnTo>
                  <a:pt x="2757" y="2761"/>
                </a:lnTo>
                <a:lnTo>
                  <a:pt x="2822" y="2906"/>
                </a:lnTo>
                <a:lnTo>
                  <a:pt x="2884" y="3050"/>
                </a:lnTo>
                <a:lnTo>
                  <a:pt x="2943" y="3194"/>
                </a:lnTo>
                <a:lnTo>
                  <a:pt x="2998" y="3336"/>
                </a:lnTo>
                <a:lnTo>
                  <a:pt x="3051" y="3476"/>
                </a:lnTo>
                <a:lnTo>
                  <a:pt x="3101" y="3615"/>
                </a:lnTo>
                <a:lnTo>
                  <a:pt x="3148" y="3750"/>
                </a:lnTo>
                <a:lnTo>
                  <a:pt x="3193" y="3883"/>
                </a:lnTo>
                <a:lnTo>
                  <a:pt x="3235" y="4014"/>
                </a:lnTo>
                <a:lnTo>
                  <a:pt x="3464" y="3739"/>
                </a:lnTo>
                <a:lnTo>
                  <a:pt x="3719" y="3434"/>
                </a:lnTo>
                <a:lnTo>
                  <a:pt x="3856" y="3273"/>
                </a:lnTo>
                <a:lnTo>
                  <a:pt x="3999" y="3108"/>
                </a:lnTo>
                <a:lnTo>
                  <a:pt x="4149" y="2939"/>
                </a:lnTo>
                <a:lnTo>
                  <a:pt x="4304" y="2768"/>
                </a:lnTo>
                <a:lnTo>
                  <a:pt x="4465" y="2598"/>
                </a:lnTo>
                <a:lnTo>
                  <a:pt x="4633" y="2426"/>
                </a:lnTo>
                <a:lnTo>
                  <a:pt x="4805" y="2256"/>
                </a:lnTo>
                <a:lnTo>
                  <a:pt x="4984" y="2088"/>
                </a:lnTo>
                <a:lnTo>
                  <a:pt x="5168" y="1925"/>
                </a:lnTo>
                <a:lnTo>
                  <a:pt x="5359" y="1765"/>
                </a:lnTo>
                <a:lnTo>
                  <a:pt x="5554" y="1611"/>
                </a:lnTo>
                <a:lnTo>
                  <a:pt x="5755" y="1465"/>
                </a:lnTo>
                <a:lnTo>
                  <a:pt x="5962" y="1325"/>
                </a:lnTo>
                <a:lnTo>
                  <a:pt x="6173" y="1196"/>
                </a:lnTo>
                <a:lnTo>
                  <a:pt x="6390" y="1076"/>
                </a:lnTo>
                <a:lnTo>
                  <a:pt x="6613" y="967"/>
                </a:lnTo>
                <a:lnTo>
                  <a:pt x="6841" y="872"/>
                </a:lnTo>
                <a:lnTo>
                  <a:pt x="7073" y="789"/>
                </a:lnTo>
                <a:lnTo>
                  <a:pt x="7311" y="722"/>
                </a:lnTo>
                <a:lnTo>
                  <a:pt x="7553" y="669"/>
                </a:lnTo>
                <a:lnTo>
                  <a:pt x="7801" y="633"/>
                </a:lnTo>
                <a:lnTo>
                  <a:pt x="8053" y="616"/>
                </a:lnTo>
                <a:lnTo>
                  <a:pt x="8310" y="617"/>
                </a:lnTo>
                <a:lnTo>
                  <a:pt x="8571" y="638"/>
                </a:lnTo>
                <a:lnTo>
                  <a:pt x="8838" y="681"/>
                </a:lnTo>
                <a:lnTo>
                  <a:pt x="9108" y="746"/>
                </a:lnTo>
                <a:lnTo>
                  <a:pt x="9384" y="835"/>
                </a:lnTo>
                <a:lnTo>
                  <a:pt x="9664" y="948"/>
                </a:lnTo>
                <a:close/>
              </a:path>
            </a:pathLst>
          </a:custGeom>
          <a:solidFill>
            <a:srgbClr val="2a4ca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893880" y="4878360"/>
            <a:ext cx="1409760" cy="446040"/>
          </a:xfrm>
          <a:custGeom>
            <a:avLst/>
            <a:gdLst/>
            <a:ahLst/>
            <a:rect l="l" t="t" r="r" b="b"/>
            <a:pathLst>
              <a:path w="5726" h="1900">
                <a:moveTo>
                  <a:pt x="0" y="1900"/>
                </a:moveTo>
                <a:lnTo>
                  <a:pt x="169" y="1737"/>
                </a:lnTo>
                <a:lnTo>
                  <a:pt x="335" y="1581"/>
                </a:lnTo>
                <a:lnTo>
                  <a:pt x="496" y="1433"/>
                </a:lnTo>
                <a:lnTo>
                  <a:pt x="655" y="1293"/>
                </a:lnTo>
                <a:lnTo>
                  <a:pt x="811" y="1162"/>
                </a:lnTo>
                <a:lnTo>
                  <a:pt x="965" y="1037"/>
                </a:lnTo>
                <a:lnTo>
                  <a:pt x="1117" y="921"/>
                </a:lnTo>
                <a:lnTo>
                  <a:pt x="1269" y="811"/>
                </a:lnTo>
                <a:lnTo>
                  <a:pt x="1419" y="709"/>
                </a:lnTo>
                <a:lnTo>
                  <a:pt x="1568" y="614"/>
                </a:lnTo>
                <a:lnTo>
                  <a:pt x="1717" y="527"/>
                </a:lnTo>
                <a:lnTo>
                  <a:pt x="1866" y="447"/>
                </a:lnTo>
                <a:lnTo>
                  <a:pt x="2015" y="373"/>
                </a:lnTo>
                <a:lnTo>
                  <a:pt x="2166" y="307"/>
                </a:lnTo>
                <a:lnTo>
                  <a:pt x="2317" y="246"/>
                </a:lnTo>
                <a:lnTo>
                  <a:pt x="2470" y="194"/>
                </a:lnTo>
                <a:lnTo>
                  <a:pt x="2624" y="148"/>
                </a:lnTo>
                <a:lnTo>
                  <a:pt x="2782" y="107"/>
                </a:lnTo>
                <a:lnTo>
                  <a:pt x="2941" y="75"/>
                </a:lnTo>
                <a:lnTo>
                  <a:pt x="3104" y="47"/>
                </a:lnTo>
                <a:lnTo>
                  <a:pt x="3269" y="26"/>
                </a:lnTo>
                <a:lnTo>
                  <a:pt x="3439" y="12"/>
                </a:lnTo>
                <a:lnTo>
                  <a:pt x="3613" y="4"/>
                </a:lnTo>
                <a:lnTo>
                  <a:pt x="3792" y="0"/>
                </a:lnTo>
                <a:lnTo>
                  <a:pt x="3975" y="4"/>
                </a:lnTo>
                <a:lnTo>
                  <a:pt x="4163" y="13"/>
                </a:lnTo>
                <a:lnTo>
                  <a:pt x="4357" y="28"/>
                </a:lnTo>
                <a:lnTo>
                  <a:pt x="4556" y="48"/>
                </a:lnTo>
                <a:lnTo>
                  <a:pt x="4763" y="75"/>
                </a:lnTo>
                <a:lnTo>
                  <a:pt x="4976" y="105"/>
                </a:lnTo>
                <a:lnTo>
                  <a:pt x="5196" y="142"/>
                </a:lnTo>
                <a:lnTo>
                  <a:pt x="5423" y="185"/>
                </a:lnTo>
                <a:lnTo>
                  <a:pt x="5470" y="198"/>
                </a:lnTo>
                <a:lnTo>
                  <a:pt x="5513" y="212"/>
                </a:lnTo>
                <a:lnTo>
                  <a:pt x="5533" y="221"/>
                </a:lnTo>
                <a:lnTo>
                  <a:pt x="5553" y="228"/>
                </a:lnTo>
                <a:lnTo>
                  <a:pt x="5570" y="236"/>
                </a:lnTo>
                <a:lnTo>
                  <a:pt x="5588" y="244"/>
                </a:lnTo>
                <a:lnTo>
                  <a:pt x="5604" y="253"/>
                </a:lnTo>
                <a:lnTo>
                  <a:pt x="5620" y="262"/>
                </a:lnTo>
                <a:lnTo>
                  <a:pt x="5634" y="271"/>
                </a:lnTo>
                <a:lnTo>
                  <a:pt x="5647" y="280"/>
                </a:lnTo>
                <a:lnTo>
                  <a:pt x="5660" y="291"/>
                </a:lnTo>
                <a:lnTo>
                  <a:pt x="5671" y="300"/>
                </a:lnTo>
                <a:lnTo>
                  <a:pt x="5681" y="310"/>
                </a:lnTo>
                <a:lnTo>
                  <a:pt x="5691" y="320"/>
                </a:lnTo>
                <a:lnTo>
                  <a:pt x="5699" y="332"/>
                </a:lnTo>
                <a:lnTo>
                  <a:pt x="5706" y="343"/>
                </a:lnTo>
                <a:lnTo>
                  <a:pt x="5711" y="354"/>
                </a:lnTo>
                <a:lnTo>
                  <a:pt x="5716" y="367"/>
                </a:lnTo>
                <a:lnTo>
                  <a:pt x="5721" y="379"/>
                </a:lnTo>
                <a:lnTo>
                  <a:pt x="5724" y="391"/>
                </a:lnTo>
                <a:lnTo>
                  <a:pt x="5726" y="405"/>
                </a:lnTo>
                <a:lnTo>
                  <a:pt x="5726" y="417"/>
                </a:lnTo>
                <a:lnTo>
                  <a:pt x="5726" y="431"/>
                </a:lnTo>
                <a:lnTo>
                  <a:pt x="5725" y="445"/>
                </a:lnTo>
                <a:lnTo>
                  <a:pt x="5722" y="460"/>
                </a:lnTo>
                <a:lnTo>
                  <a:pt x="5717" y="475"/>
                </a:lnTo>
                <a:lnTo>
                  <a:pt x="5713" y="490"/>
                </a:lnTo>
                <a:lnTo>
                  <a:pt x="5707" y="505"/>
                </a:lnTo>
                <a:lnTo>
                  <a:pt x="5700" y="522"/>
                </a:lnTo>
                <a:lnTo>
                  <a:pt x="5692" y="538"/>
                </a:lnTo>
                <a:lnTo>
                  <a:pt x="5033" y="1679"/>
                </a:lnTo>
                <a:lnTo>
                  <a:pt x="4828" y="1580"/>
                </a:lnTo>
                <a:lnTo>
                  <a:pt x="5213" y="630"/>
                </a:lnTo>
                <a:lnTo>
                  <a:pt x="5219" y="618"/>
                </a:lnTo>
                <a:lnTo>
                  <a:pt x="5222" y="606"/>
                </a:lnTo>
                <a:lnTo>
                  <a:pt x="5222" y="594"/>
                </a:lnTo>
                <a:lnTo>
                  <a:pt x="5221" y="583"/>
                </a:lnTo>
                <a:lnTo>
                  <a:pt x="5218" y="571"/>
                </a:lnTo>
                <a:lnTo>
                  <a:pt x="5213" y="560"/>
                </a:lnTo>
                <a:lnTo>
                  <a:pt x="5207" y="550"/>
                </a:lnTo>
                <a:lnTo>
                  <a:pt x="5199" y="539"/>
                </a:lnTo>
                <a:lnTo>
                  <a:pt x="5190" y="530"/>
                </a:lnTo>
                <a:lnTo>
                  <a:pt x="5179" y="521"/>
                </a:lnTo>
                <a:lnTo>
                  <a:pt x="5167" y="513"/>
                </a:lnTo>
                <a:lnTo>
                  <a:pt x="5154" y="505"/>
                </a:lnTo>
                <a:lnTo>
                  <a:pt x="5140" y="498"/>
                </a:lnTo>
                <a:lnTo>
                  <a:pt x="5125" y="492"/>
                </a:lnTo>
                <a:lnTo>
                  <a:pt x="5110" y="487"/>
                </a:lnTo>
                <a:lnTo>
                  <a:pt x="5093" y="483"/>
                </a:lnTo>
                <a:lnTo>
                  <a:pt x="4882" y="439"/>
                </a:lnTo>
                <a:lnTo>
                  <a:pt x="4680" y="402"/>
                </a:lnTo>
                <a:lnTo>
                  <a:pt x="4482" y="372"/>
                </a:lnTo>
                <a:lnTo>
                  <a:pt x="4292" y="348"/>
                </a:lnTo>
                <a:lnTo>
                  <a:pt x="4108" y="332"/>
                </a:lnTo>
                <a:lnTo>
                  <a:pt x="3929" y="321"/>
                </a:lnTo>
                <a:lnTo>
                  <a:pt x="3755" y="317"/>
                </a:lnTo>
                <a:lnTo>
                  <a:pt x="3586" y="320"/>
                </a:lnTo>
                <a:lnTo>
                  <a:pt x="3422" y="329"/>
                </a:lnTo>
                <a:lnTo>
                  <a:pt x="3261" y="343"/>
                </a:lnTo>
                <a:lnTo>
                  <a:pt x="3104" y="364"/>
                </a:lnTo>
                <a:lnTo>
                  <a:pt x="2950" y="389"/>
                </a:lnTo>
                <a:lnTo>
                  <a:pt x="2800" y="421"/>
                </a:lnTo>
                <a:lnTo>
                  <a:pt x="2652" y="458"/>
                </a:lnTo>
                <a:lnTo>
                  <a:pt x="2506" y="501"/>
                </a:lnTo>
                <a:lnTo>
                  <a:pt x="2362" y="549"/>
                </a:lnTo>
                <a:lnTo>
                  <a:pt x="2220" y="601"/>
                </a:lnTo>
                <a:lnTo>
                  <a:pt x="2078" y="659"/>
                </a:lnTo>
                <a:lnTo>
                  <a:pt x="1937" y="720"/>
                </a:lnTo>
                <a:lnTo>
                  <a:pt x="1797" y="787"/>
                </a:lnTo>
                <a:lnTo>
                  <a:pt x="1656" y="859"/>
                </a:lnTo>
                <a:lnTo>
                  <a:pt x="1516" y="934"/>
                </a:lnTo>
                <a:lnTo>
                  <a:pt x="1374" y="1015"/>
                </a:lnTo>
                <a:lnTo>
                  <a:pt x="1232" y="1099"/>
                </a:lnTo>
                <a:lnTo>
                  <a:pt x="1087" y="1186"/>
                </a:lnTo>
                <a:lnTo>
                  <a:pt x="941" y="1278"/>
                </a:lnTo>
                <a:lnTo>
                  <a:pt x="791" y="1374"/>
                </a:lnTo>
                <a:lnTo>
                  <a:pt x="640" y="1472"/>
                </a:lnTo>
                <a:lnTo>
                  <a:pt x="327" y="1680"/>
                </a:lnTo>
                <a:lnTo>
                  <a:pt x="0" y="1900"/>
                </a:lnTo>
                <a:close/>
              </a:path>
            </a:pathLst>
          </a:custGeom>
          <a:solidFill>
            <a:srgbClr val="8fa4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-582480" y="4602240"/>
            <a:ext cx="742680" cy="439560"/>
          </a:xfrm>
          <a:custGeom>
            <a:avLst/>
            <a:gdLst/>
            <a:ahLst/>
            <a:rect l="l" t="t" r="r" b="b"/>
            <a:pathLst>
              <a:path w="3009" h="1880">
                <a:moveTo>
                  <a:pt x="3009" y="1880"/>
                </a:moveTo>
                <a:lnTo>
                  <a:pt x="2900" y="1685"/>
                </a:lnTo>
                <a:lnTo>
                  <a:pt x="2798" y="1503"/>
                </a:lnTo>
                <a:lnTo>
                  <a:pt x="2748" y="1417"/>
                </a:lnTo>
                <a:lnTo>
                  <a:pt x="2699" y="1332"/>
                </a:lnTo>
                <a:lnTo>
                  <a:pt x="2652" y="1251"/>
                </a:lnTo>
                <a:lnTo>
                  <a:pt x="2604" y="1172"/>
                </a:lnTo>
                <a:lnTo>
                  <a:pt x="2557" y="1096"/>
                </a:lnTo>
                <a:lnTo>
                  <a:pt x="2510" y="1023"/>
                </a:lnTo>
                <a:lnTo>
                  <a:pt x="2462" y="952"/>
                </a:lnTo>
                <a:lnTo>
                  <a:pt x="2414" y="884"/>
                </a:lnTo>
                <a:lnTo>
                  <a:pt x="2366" y="818"/>
                </a:lnTo>
                <a:lnTo>
                  <a:pt x="2317" y="754"/>
                </a:lnTo>
                <a:lnTo>
                  <a:pt x="2267" y="694"/>
                </a:lnTo>
                <a:lnTo>
                  <a:pt x="2216" y="636"/>
                </a:lnTo>
                <a:lnTo>
                  <a:pt x="2163" y="580"/>
                </a:lnTo>
                <a:lnTo>
                  <a:pt x="2109" y="526"/>
                </a:lnTo>
                <a:lnTo>
                  <a:pt x="2053" y="476"/>
                </a:lnTo>
                <a:lnTo>
                  <a:pt x="1995" y="426"/>
                </a:lnTo>
                <a:lnTo>
                  <a:pt x="1935" y="380"/>
                </a:lnTo>
                <a:lnTo>
                  <a:pt x="1872" y="336"/>
                </a:lnTo>
                <a:lnTo>
                  <a:pt x="1807" y="294"/>
                </a:lnTo>
                <a:lnTo>
                  <a:pt x="1739" y="254"/>
                </a:lnTo>
                <a:lnTo>
                  <a:pt x="1668" y="217"/>
                </a:lnTo>
                <a:lnTo>
                  <a:pt x="1593" y="181"/>
                </a:lnTo>
                <a:lnTo>
                  <a:pt x="1516" y="148"/>
                </a:lnTo>
                <a:lnTo>
                  <a:pt x="1435" y="117"/>
                </a:lnTo>
                <a:lnTo>
                  <a:pt x="1350" y="87"/>
                </a:lnTo>
                <a:lnTo>
                  <a:pt x="1260" y="60"/>
                </a:lnTo>
                <a:lnTo>
                  <a:pt x="1166" y="34"/>
                </a:lnTo>
                <a:lnTo>
                  <a:pt x="1069" y="12"/>
                </a:lnTo>
                <a:lnTo>
                  <a:pt x="1049" y="8"/>
                </a:lnTo>
                <a:lnTo>
                  <a:pt x="1030" y="5"/>
                </a:lnTo>
                <a:lnTo>
                  <a:pt x="1010" y="3"/>
                </a:lnTo>
                <a:lnTo>
                  <a:pt x="991" y="1"/>
                </a:lnTo>
                <a:lnTo>
                  <a:pt x="971" y="0"/>
                </a:lnTo>
                <a:lnTo>
                  <a:pt x="951" y="0"/>
                </a:lnTo>
                <a:lnTo>
                  <a:pt x="933" y="0"/>
                </a:lnTo>
                <a:lnTo>
                  <a:pt x="913" y="1"/>
                </a:lnTo>
                <a:lnTo>
                  <a:pt x="895" y="2"/>
                </a:lnTo>
                <a:lnTo>
                  <a:pt x="875" y="4"/>
                </a:lnTo>
                <a:lnTo>
                  <a:pt x="857" y="6"/>
                </a:lnTo>
                <a:lnTo>
                  <a:pt x="839" y="9"/>
                </a:lnTo>
                <a:lnTo>
                  <a:pt x="821" y="13"/>
                </a:lnTo>
                <a:lnTo>
                  <a:pt x="803" y="17"/>
                </a:lnTo>
                <a:lnTo>
                  <a:pt x="786" y="21"/>
                </a:lnTo>
                <a:lnTo>
                  <a:pt x="768" y="26"/>
                </a:lnTo>
                <a:lnTo>
                  <a:pt x="752" y="31"/>
                </a:lnTo>
                <a:lnTo>
                  <a:pt x="735" y="38"/>
                </a:lnTo>
                <a:lnTo>
                  <a:pt x="720" y="44"/>
                </a:lnTo>
                <a:lnTo>
                  <a:pt x="705" y="51"/>
                </a:lnTo>
                <a:lnTo>
                  <a:pt x="689" y="58"/>
                </a:lnTo>
                <a:lnTo>
                  <a:pt x="675" y="66"/>
                </a:lnTo>
                <a:lnTo>
                  <a:pt x="660" y="74"/>
                </a:lnTo>
                <a:lnTo>
                  <a:pt x="647" y="83"/>
                </a:lnTo>
                <a:lnTo>
                  <a:pt x="634" y="91"/>
                </a:lnTo>
                <a:lnTo>
                  <a:pt x="621" y="100"/>
                </a:lnTo>
                <a:lnTo>
                  <a:pt x="609" y="111"/>
                </a:lnTo>
                <a:lnTo>
                  <a:pt x="598" y="120"/>
                </a:lnTo>
                <a:lnTo>
                  <a:pt x="587" y="130"/>
                </a:lnTo>
                <a:lnTo>
                  <a:pt x="577" y="141"/>
                </a:lnTo>
                <a:lnTo>
                  <a:pt x="568" y="152"/>
                </a:lnTo>
                <a:lnTo>
                  <a:pt x="558" y="163"/>
                </a:lnTo>
                <a:lnTo>
                  <a:pt x="0" y="896"/>
                </a:lnTo>
                <a:lnTo>
                  <a:pt x="309" y="978"/>
                </a:lnTo>
                <a:lnTo>
                  <a:pt x="477" y="669"/>
                </a:lnTo>
                <a:lnTo>
                  <a:pt x="484" y="659"/>
                </a:lnTo>
                <a:lnTo>
                  <a:pt x="495" y="651"/>
                </a:lnTo>
                <a:lnTo>
                  <a:pt x="507" y="644"/>
                </a:lnTo>
                <a:lnTo>
                  <a:pt x="521" y="639"/>
                </a:lnTo>
                <a:lnTo>
                  <a:pt x="539" y="637"/>
                </a:lnTo>
                <a:lnTo>
                  <a:pt x="557" y="636"/>
                </a:lnTo>
                <a:lnTo>
                  <a:pt x="579" y="637"/>
                </a:lnTo>
                <a:lnTo>
                  <a:pt x="602" y="639"/>
                </a:lnTo>
                <a:lnTo>
                  <a:pt x="626" y="644"/>
                </a:lnTo>
                <a:lnTo>
                  <a:pt x="653" y="650"/>
                </a:lnTo>
                <a:lnTo>
                  <a:pt x="680" y="657"/>
                </a:lnTo>
                <a:lnTo>
                  <a:pt x="709" y="666"/>
                </a:lnTo>
                <a:lnTo>
                  <a:pt x="740" y="676"/>
                </a:lnTo>
                <a:lnTo>
                  <a:pt x="770" y="688"/>
                </a:lnTo>
                <a:lnTo>
                  <a:pt x="802" y="700"/>
                </a:lnTo>
                <a:lnTo>
                  <a:pt x="834" y="713"/>
                </a:lnTo>
                <a:lnTo>
                  <a:pt x="868" y="729"/>
                </a:lnTo>
                <a:lnTo>
                  <a:pt x="901" y="744"/>
                </a:lnTo>
                <a:lnTo>
                  <a:pt x="935" y="761"/>
                </a:lnTo>
                <a:lnTo>
                  <a:pt x="970" y="779"/>
                </a:lnTo>
                <a:lnTo>
                  <a:pt x="1004" y="798"/>
                </a:lnTo>
                <a:lnTo>
                  <a:pt x="1038" y="816"/>
                </a:lnTo>
                <a:lnTo>
                  <a:pt x="1072" y="837"/>
                </a:lnTo>
                <a:lnTo>
                  <a:pt x="1106" y="857"/>
                </a:lnTo>
                <a:lnTo>
                  <a:pt x="1139" y="878"/>
                </a:lnTo>
                <a:lnTo>
                  <a:pt x="1171" y="899"/>
                </a:lnTo>
                <a:lnTo>
                  <a:pt x="1202" y="922"/>
                </a:lnTo>
                <a:lnTo>
                  <a:pt x="1233" y="944"/>
                </a:lnTo>
                <a:lnTo>
                  <a:pt x="1263" y="966"/>
                </a:lnTo>
                <a:lnTo>
                  <a:pt x="1292" y="990"/>
                </a:lnTo>
                <a:lnTo>
                  <a:pt x="1319" y="1013"/>
                </a:lnTo>
                <a:lnTo>
                  <a:pt x="1344" y="1036"/>
                </a:lnTo>
                <a:lnTo>
                  <a:pt x="1326" y="999"/>
                </a:lnTo>
                <a:lnTo>
                  <a:pt x="1305" y="962"/>
                </a:lnTo>
                <a:lnTo>
                  <a:pt x="1284" y="926"/>
                </a:lnTo>
                <a:lnTo>
                  <a:pt x="1260" y="891"/>
                </a:lnTo>
                <a:lnTo>
                  <a:pt x="1235" y="856"/>
                </a:lnTo>
                <a:lnTo>
                  <a:pt x="1208" y="822"/>
                </a:lnTo>
                <a:lnTo>
                  <a:pt x="1179" y="789"/>
                </a:lnTo>
                <a:lnTo>
                  <a:pt x="1148" y="758"/>
                </a:lnTo>
                <a:lnTo>
                  <a:pt x="1131" y="741"/>
                </a:lnTo>
                <a:lnTo>
                  <a:pt x="1115" y="726"/>
                </a:lnTo>
                <a:lnTo>
                  <a:pt x="1097" y="710"/>
                </a:lnTo>
                <a:lnTo>
                  <a:pt x="1080" y="695"/>
                </a:lnTo>
                <a:lnTo>
                  <a:pt x="1060" y="679"/>
                </a:lnTo>
                <a:lnTo>
                  <a:pt x="1042" y="665"/>
                </a:lnTo>
                <a:lnTo>
                  <a:pt x="1022" y="651"/>
                </a:lnTo>
                <a:lnTo>
                  <a:pt x="1002" y="636"/>
                </a:lnTo>
                <a:lnTo>
                  <a:pt x="980" y="622"/>
                </a:lnTo>
                <a:lnTo>
                  <a:pt x="959" y="607"/>
                </a:lnTo>
                <a:lnTo>
                  <a:pt x="937" y="594"/>
                </a:lnTo>
                <a:lnTo>
                  <a:pt x="913" y="581"/>
                </a:lnTo>
                <a:lnTo>
                  <a:pt x="890" y="567"/>
                </a:lnTo>
                <a:lnTo>
                  <a:pt x="866" y="555"/>
                </a:lnTo>
                <a:lnTo>
                  <a:pt x="840" y="543"/>
                </a:lnTo>
                <a:lnTo>
                  <a:pt x="815" y="529"/>
                </a:lnTo>
                <a:lnTo>
                  <a:pt x="806" y="519"/>
                </a:lnTo>
                <a:lnTo>
                  <a:pt x="798" y="508"/>
                </a:lnTo>
                <a:lnTo>
                  <a:pt x="791" y="496"/>
                </a:lnTo>
                <a:lnTo>
                  <a:pt x="786" y="484"/>
                </a:lnTo>
                <a:lnTo>
                  <a:pt x="782" y="472"/>
                </a:lnTo>
                <a:lnTo>
                  <a:pt x="779" y="459"/>
                </a:lnTo>
                <a:lnTo>
                  <a:pt x="776" y="446"/>
                </a:lnTo>
                <a:lnTo>
                  <a:pt x="776" y="434"/>
                </a:lnTo>
                <a:lnTo>
                  <a:pt x="776" y="420"/>
                </a:lnTo>
                <a:lnTo>
                  <a:pt x="777" y="408"/>
                </a:lnTo>
                <a:lnTo>
                  <a:pt x="780" y="395"/>
                </a:lnTo>
                <a:lnTo>
                  <a:pt x="784" y="383"/>
                </a:lnTo>
                <a:lnTo>
                  <a:pt x="789" y="372"/>
                </a:lnTo>
                <a:lnTo>
                  <a:pt x="796" y="361"/>
                </a:lnTo>
                <a:lnTo>
                  <a:pt x="804" y="349"/>
                </a:lnTo>
                <a:lnTo>
                  <a:pt x="814" y="340"/>
                </a:lnTo>
                <a:lnTo>
                  <a:pt x="824" y="330"/>
                </a:lnTo>
                <a:lnTo>
                  <a:pt x="836" y="321"/>
                </a:lnTo>
                <a:lnTo>
                  <a:pt x="850" y="314"/>
                </a:lnTo>
                <a:lnTo>
                  <a:pt x="865" y="307"/>
                </a:lnTo>
                <a:lnTo>
                  <a:pt x="881" y="301"/>
                </a:lnTo>
                <a:lnTo>
                  <a:pt x="899" y="297"/>
                </a:lnTo>
                <a:lnTo>
                  <a:pt x="919" y="294"/>
                </a:lnTo>
                <a:lnTo>
                  <a:pt x="939" y="292"/>
                </a:lnTo>
                <a:lnTo>
                  <a:pt x="962" y="291"/>
                </a:lnTo>
                <a:lnTo>
                  <a:pt x="985" y="292"/>
                </a:lnTo>
                <a:lnTo>
                  <a:pt x="1011" y="294"/>
                </a:lnTo>
                <a:lnTo>
                  <a:pt x="1038" y="298"/>
                </a:lnTo>
                <a:lnTo>
                  <a:pt x="1067" y="304"/>
                </a:lnTo>
                <a:lnTo>
                  <a:pt x="1097" y="311"/>
                </a:lnTo>
                <a:lnTo>
                  <a:pt x="1129" y="320"/>
                </a:lnTo>
                <a:lnTo>
                  <a:pt x="1162" y="332"/>
                </a:lnTo>
                <a:lnTo>
                  <a:pt x="1260" y="373"/>
                </a:lnTo>
                <a:lnTo>
                  <a:pt x="1353" y="414"/>
                </a:lnTo>
                <a:lnTo>
                  <a:pt x="1441" y="455"/>
                </a:lnTo>
                <a:lnTo>
                  <a:pt x="1526" y="497"/>
                </a:lnTo>
                <a:lnTo>
                  <a:pt x="1608" y="541"/>
                </a:lnTo>
                <a:lnTo>
                  <a:pt x="1686" y="584"/>
                </a:lnTo>
                <a:lnTo>
                  <a:pt x="1761" y="628"/>
                </a:lnTo>
                <a:lnTo>
                  <a:pt x="1832" y="672"/>
                </a:lnTo>
                <a:lnTo>
                  <a:pt x="1900" y="717"/>
                </a:lnTo>
                <a:lnTo>
                  <a:pt x="1966" y="763"/>
                </a:lnTo>
                <a:lnTo>
                  <a:pt x="2028" y="809"/>
                </a:lnTo>
                <a:lnTo>
                  <a:pt x="2089" y="855"/>
                </a:lnTo>
                <a:lnTo>
                  <a:pt x="2147" y="902"/>
                </a:lnTo>
                <a:lnTo>
                  <a:pt x="2202" y="949"/>
                </a:lnTo>
                <a:lnTo>
                  <a:pt x="2256" y="997"/>
                </a:lnTo>
                <a:lnTo>
                  <a:pt x="2308" y="1045"/>
                </a:lnTo>
                <a:lnTo>
                  <a:pt x="2358" y="1094"/>
                </a:lnTo>
                <a:lnTo>
                  <a:pt x="2406" y="1143"/>
                </a:lnTo>
                <a:lnTo>
                  <a:pt x="2453" y="1194"/>
                </a:lnTo>
                <a:lnTo>
                  <a:pt x="2498" y="1244"/>
                </a:lnTo>
                <a:lnTo>
                  <a:pt x="2544" y="1294"/>
                </a:lnTo>
                <a:lnTo>
                  <a:pt x="2587" y="1346"/>
                </a:lnTo>
                <a:lnTo>
                  <a:pt x="2630" y="1397"/>
                </a:lnTo>
                <a:lnTo>
                  <a:pt x="2672" y="1449"/>
                </a:lnTo>
                <a:lnTo>
                  <a:pt x="2756" y="1554"/>
                </a:lnTo>
                <a:lnTo>
                  <a:pt x="2839" y="1661"/>
                </a:lnTo>
                <a:lnTo>
                  <a:pt x="2922" y="1770"/>
                </a:lnTo>
                <a:lnTo>
                  <a:pt x="3009" y="1880"/>
                </a:lnTo>
                <a:close/>
              </a:path>
            </a:pathLst>
          </a:custGeom>
          <a:solidFill>
            <a:srgbClr val="2a4caa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-819000" y="4757760"/>
            <a:ext cx="1193760" cy="2101680"/>
          </a:xfrm>
          <a:custGeom>
            <a:avLst/>
            <a:gdLst/>
            <a:ahLst/>
            <a:rect l="l" t="t" r="r" b="b"/>
            <a:pathLst>
              <a:path w="4845" h="8988">
                <a:moveTo>
                  <a:pt x="4306" y="2475"/>
                </a:moveTo>
                <a:lnTo>
                  <a:pt x="4215" y="2369"/>
                </a:lnTo>
                <a:lnTo>
                  <a:pt x="4124" y="2265"/>
                </a:lnTo>
                <a:lnTo>
                  <a:pt x="4031" y="2162"/>
                </a:lnTo>
                <a:lnTo>
                  <a:pt x="3937" y="2062"/>
                </a:lnTo>
                <a:lnTo>
                  <a:pt x="3841" y="1963"/>
                </a:lnTo>
                <a:lnTo>
                  <a:pt x="3744" y="1865"/>
                </a:lnTo>
                <a:lnTo>
                  <a:pt x="3646" y="1770"/>
                </a:lnTo>
                <a:lnTo>
                  <a:pt x="3547" y="1676"/>
                </a:lnTo>
                <a:lnTo>
                  <a:pt x="3446" y="1584"/>
                </a:lnTo>
                <a:lnTo>
                  <a:pt x="3343" y="1495"/>
                </a:lnTo>
                <a:lnTo>
                  <a:pt x="3239" y="1407"/>
                </a:lnTo>
                <a:lnTo>
                  <a:pt x="3133" y="1320"/>
                </a:lnTo>
                <a:lnTo>
                  <a:pt x="3026" y="1236"/>
                </a:lnTo>
                <a:lnTo>
                  <a:pt x="2918" y="1155"/>
                </a:lnTo>
                <a:lnTo>
                  <a:pt x="2807" y="1074"/>
                </a:lnTo>
                <a:lnTo>
                  <a:pt x="2696" y="996"/>
                </a:lnTo>
                <a:lnTo>
                  <a:pt x="2582" y="920"/>
                </a:lnTo>
                <a:lnTo>
                  <a:pt x="2467" y="846"/>
                </a:lnTo>
                <a:lnTo>
                  <a:pt x="2349" y="774"/>
                </a:lnTo>
                <a:lnTo>
                  <a:pt x="2231" y="704"/>
                </a:lnTo>
                <a:lnTo>
                  <a:pt x="2110" y="636"/>
                </a:lnTo>
                <a:lnTo>
                  <a:pt x="1987" y="570"/>
                </a:lnTo>
                <a:lnTo>
                  <a:pt x="1863" y="508"/>
                </a:lnTo>
                <a:lnTo>
                  <a:pt x="1737" y="446"/>
                </a:lnTo>
                <a:lnTo>
                  <a:pt x="1609" y="387"/>
                </a:lnTo>
                <a:lnTo>
                  <a:pt x="1479" y="331"/>
                </a:lnTo>
                <a:lnTo>
                  <a:pt x="1346" y="276"/>
                </a:lnTo>
                <a:lnTo>
                  <a:pt x="1213" y="225"/>
                </a:lnTo>
                <a:lnTo>
                  <a:pt x="1076" y="175"/>
                </a:lnTo>
                <a:lnTo>
                  <a:pt x="938" y="128"/>
                </a:lnTo>
                <a:lnTo>
                  <a:pt x="798" y="83"/>
                </a:lnTo>
                <a:lnTo>
                  <a:pt x="655" y="41"/>
                </a:lnTo>
                <a:lnTo>
                  <a:pt x="627" y="29"/>
                </a:lnTo>
                <a:lnTo>
                  <a:pt x="599" y="20"/>
                </a:lnTo>
                <a:lnTo>
                  <a:pt x="569" y="13"/>
                </a:lnTo>
                <a:lnTo>
                  <a:pt x="538" y="7"/>
                </a:lnTo>
                <a:lnTo>
                  <a:pt x="507" y="3"/>
                </a:lnTo>
                <a:lnTo>
                  <a:pt x="475" y="1"/>
                </a:lnTo>
                <a:lnTo>
                  <a:pt x="442" y="0"/>
                </a:lnTo>
                <a:lnTo>
                  <a:pt x="410" y="2"/>
                </a:lnTo>
                <a:lnTo>
                  <a:pt x="378" y="4"/>
                </a:lnTo>
                <a:lnTo>
                  <a:pt x="346" y="9"/>
                </a:lnTo>
                <a:lnTo>
                  <a:pt x="314" y="15"/>
                </a:lnTo>
                <a:lnTo>
                  <a:pt x="283" y="22"/>
                </a:lnTo>
                <a:lnTo>
                  <a:pt x="252" y="32"/>
                </a:lnTo>
                <a:lnTo>
                  <a:pt x="222" y="43"/>
                </a:lnTo>
                <a:lnTo>
                  <a:pt x="194" y="56"/>
                </a:lnTo>
                <a:lnTo>
                  <a:pt x="167" y="69"/>
                </a:lnTo>
                <a:lnTo>
                  <a:pt x="141" y="85"/>
                </a:lnTo>
                <a:lnTo>
                  <a:pt x="117" y="102"/>
                </a:lnTo>
                <a:lnTo>
                  <a:pt x="95" y="121"/>
                </a:lnTo>
                <a:lnTo>
                  <a:pt x="74" y="141"/>
                </a:lnTo>
                <a:lnTo>
                  <a:pt x="56" y="163"/>
                </a:lnTo>
                <a:lnTo>
                  <a:pt x="39" y="186"/>
                </a:lnTo>
                <a:lnTo>
                  <a:pt x="26" y="210"/>
                </a:lnTo>
                <a:lnTo>
                  <a:pt x="15" y="236"/>
                </a:lnTo>
                <a:lnTo>
                  <a:pt x="7" y="263"/>
                </a:lnTo>
                <a:lnTo>
                  <a:pt x="2" y="292"/>
                </a:lnTo>
                <a:lnTo>
                  <a:pt x="0" y="320"/>
                </a:lnTo>
                <a:lnTo>
                  <a:pt x="1" y="352"/>
                </a:lnTo>
                <a:lnTo>
                  <a:pt x="6" y="384"/>
                </a:lnTo>
                <a:lnTo>
                  <a:pt x="15" y="418"/>
                </a:lnTo>
                <a:lnTo>
                  <a:pt x="28" y="452"/>
                </a:lnTo>
                <a:lnTo>
                  <a:pt x="44" y="488"/>
                </a:lnTo>
                <a:lnTo>
                  <a:pt x="146" y="677"/>
                </a:lnTo>
                <a:lnTo>
                  <a:pt x="245" y="868"/>
                </a:lnTo>
                <a:lnTo>
                  <a:pt x="339" y="1060"/>
                </a:lnTo>
                <a:lnTo>
                  <a:pt x="431" y="1254"/>
                </a:lnTo>
                <a:lnTo>
                  <a:pt x="519" y="1450"/>
                </a:lnTo>
                <a:lnTo>
                  <a:pt x="604" y="1647"/>
                </a:lnTo>
                <a:lnTo>
                  <a:pt x="685" y="1847"/>
                </a:lnTo>
                <a:lnTo>
                  <a:pt x="763" y="2047"/>
                </a:lnTo>
                <a:lnTo>
                  <a:pt x="838" y="2250"/>
                </a:lnTo>
                <a:lnTo>
                  <a:pt x="911" y="2454"/>
                </a:lnTo>
                <a:lnTo>
                  <a:pt x="981" y="2658"/>
                </a:lnTo>
                <a:lnTo>
                  <a:pt x="1048" y="2864"/>
                </a:lnTo>
                <a:lnTo>
                  <a:pt x="1112" y="3072"/>
                </a:lnTo>
                <a:lnTo>
                  <a:pt x="1174" y="3279"/>
                </a:lnTo>
                <a:lnTo>
                  <a:pt x="1233" y="3488"/>
                </a:lnTo>
                <a:lnTo>
                  <a:pt x="1291" y="3698"/>
                </a:lnTo>
                <a:lnTo>
                  <a:pt x="1345" y="3909"/>
                </a:lnTo>
                <a:lnTo>
                  <a:pt x="1399" y="4120"/>
                </a:lnTo>
                <a:lnTo>
                  <a:pt x="1450" y="4333"/>
                </a:lnTo>
                <a:lnTo>
                  <a:pt x="1499" y="4544"/>
                </a:lnTo>
                <a:lnTo>
                  <a:pt x="1547" y="4757"/>
                </a:lnTo>
                <a:lnTo>
                  <a:pt x="1592" y="4970"/>
                </a:lnTo>
                <a:lnTo>
                  <a:pt x="1637" y="5184"/>
                </a:lnTo>
                <a:lnTo>
                  <a:pt x="1680" y="5397"/>
                </a:lnTo>
                <a:lnTo>
                  <a:pt x="1721" y="5611"/>
                </a:lnTo>
                <a:lnTo>
                  <a:pt x="1761" y="5825"/>
                </a:lnTo>
                <a:lnTo>
                  <a:pt x="1801" y="6039"/>
                </a:lnTo>
                <a:lnTo>
                  <a:pt x="1839" y="6252"/>
                </a:lnTo>
                <a:lnTo>
                  <a:pt x="1876" y="6465"/>
                </a:lnTo>
                <a:lnTo>
                  <a:pt x="1912" y="6678"/>
                </a:lnTo>
                <a:lnTo>
                  <a:pt x="1948" y="6890"/>
                </a:lnTo>
                <a:lnTo>
                  <a:pt x="1983" y="7102"/>
                </a:lnTo>
                <a:lnTo>
                  <a:pt x="1987" y="7124"/>
                </a:lnTo>
                <a:lnTo>
                  <a:pt x="1991" y="7145"/>
                </a:lnTo>
                <a:lnTo>
                  <a:pt x="1997" y="7164"/>
                </a:lnTo>
                <a:lnTo>
                  <a:pt x="2002" y="7184"/>
                </a:lnTo>
                <a:lnTo>
                  <a:pt x="2008" y="7202"/>
                </a:lnTo>
                <a:lnTo>
                  <a:pt x="2014" y="7221"/>
                </a:lnTo>
                <a:lnTo>
                  <a:pt x="2020" y="7238"/>
                </a:lnTo>
                <a:lnTo>
                  <a:pt x="2027" y="7255"/>
                </a:lnTo>
                <a:lnTo>
                  <a:pt x="2035" y="7271"/>
                </a:lnTo>
                <a:lnTo>
                  <a:pt x="2043" y="7286"/>
                </a:lnTo>
                <a:lnTo>
                  <a:pt x="2051" y="7301"/>
                </a:lnTo>
                <a:lnTo>
                  <a:pt x="2059" y="7315"/>
                </a:lnTo>
                <a:lnTo>
                  <a:pt x="2069" y="7329"/>
                </a:lnTo>
                <a:lnTo>
                  <a:pt x="2078" y="7342"/>
                </a:lnTo>
                <a:lnTo>
                  <a:pt x="2088" y="7354"/>
                </a:lnTo>
                <a:lnTo>
                  <a:pt x="2098" y="7367"/>
                </a:lnTo>
                <a:lnTo>
                  <a:pt x="2109" y="7378"/>
                </a:lnTo>
                <a:lnTo>
                  <a:pt x="2119" y="7388"/>
                </a:lnTo>
                <a:lnTo>
                  <a:pt x="2130" y="7399"/>
                </a:lnTo>
                <a:lnTo>
                  <a:pt x="2142" y="7408"/>
                </a:lnTo>
                <a:lnTo>
                  <a:pt x="2153" y="7417"/>
                </a:lnTo>
                <a:lnTo>
                  <a:pt x="2164" y="7425"/>
                </a:lnTo>
                <a:lnTo>
                  <a:pt x="2177" y="7434"/>
                </a:lnTo>
                <a:lnTo>
                  <a:pt x="2189" y="7441"/>
                </a:lnTo>
                <a:lnTo>
                  <a:pt x="2201" y="7448"/>
                </a:lnTo>
                <a:lnTo>
                  <a:pt x="2215" y="7454"/>
                </a:lnTo>
                <a:lnTo>
                  <a:pt x="2228" y="7460"/>
                </a:lnTo>
                <a:lnTo>
                  <a:pt x="2240" y="7465"/>
                </a:lnTo>
                <a:lnTo>
                  <a:pt x="2255" y="7470"/>
                </a:lnTo>
                <a:lnTo>
                  <a:pt x="2268" y="7474"/>
                </a:lnTo>
                <a:lnTo>
                  <a:pt x="2281" y="7478"/>
                </a:lnTo>
                <a:lnTo>
                  <a:pt x="2296" y="7481"/>
                </a:lnTo>
                <a:lnTo>
                  <a:pt x="2389" y="7501"/>
                </a:lnTo>
                <a:lnTo>
                  <a:pt x="2481" y="7524"/>
                </a:lnTo>
                <a:lnTo>
                  <a:pt x="2573" y="7549"/>
                </a:lnTo>
                <a:lnTo>
                  <a:pt x="2662" y="7575"/>
                </a:lnTo>
                <a:lnTo>
                  <a:pt x="2751" y="7604"/>
                </a:lnTo>
                <a:lnTo>
                  <a:pt x="2838" y="7635"/>
                </a:lnTo>
                <a:lnTo>
                  <a:pt x="2924" y="7668"/>
                </a:lnTo>
                <a:lnTo>
                  <a:pt x="3009" y="7703"/>
                </a:lnTo>
                <a:lnTo>
                  <a:pt x="3093" y="7739"/>
                </a:lnTo>
                <a:lnTo>
                  <a:pt x="3175" y="7778"/>
                </a:lnTo>
                <a:lnTo>
                  <a:pt x="3258" y="7818"/>
                </a:lnTo>
                <a:lnTo>
                  <a:pt x="3339" y="7859"/>
                </a:lnTo>
                <a:lnTo>
                  <a:pt x="3419" y="7903"/>
                </a:lnTo>
                <a:lnTo>
                  <a:pt x="3498" y="7948"/>
                </a:lnTo>
                <a:lnTo>
                  <a:pt x="3578" y="7994"/>
                </a:lnTo>
                <a:lnTo>
                  <a:pt x="3655" y="8042"/>
                </a:lnTo>
                <a:lnTo>
                  <a:pt x="3733" y="8092"/>
                </a:lnTo>
                <a:lnTo>
                  <a:pt x="3809" y="8143"/>
                </a:lnTo>
                <a:lnTo>
                  <a:pt x="3885" y="8196"/>
                </a:lnTo>
                <a:lnTo>
                  <a:pt x="3961" y="8250"/>
                </a:lnTo>
                <a:lnTo>
                  <a:pt x="4036" y="8305"/>
                </a:lnTo>
                <a:lnTo>
                  <a:pt x="4110" y="8361"/>
                </a:lnTo>
                <a:lnTo>
                  <a:pt x="4184" y="8419"/>
                </a:lnTo>
                <a:lnTo>
                  <a:pt x="4258" y="8477"/>
                </a:lnTo>
                <a:lnTo>
                  <a:pt x="4333" y="8538"/>
                </a:lnTo>
                <a:lnTo>
                  <a:pt x="4406" y="8599"/>
                </a:lnTo>
                <a:lnTo>
                  <a:pt x="4479" y="8662"/>
                </a:lnTo>
                <a:lnTo>
                  <a:pt x="4553" y="8724"/>
                </a:lnTo>
                <a:lnTo>
                  <a:pt x="4626" y="8789"/>
                </a:lnTo>
                <a:lnTo>
                  <a:pt x="4699" y="8854"/>
                </a:lnTo>
                <a:lnTo>
                  <a:pt x="4771" y="8921"/>
                </a:lnTo>
                <a:lnTo>
                  <a:pt x="4845" y="8988"/>
                </a:lnTo>
                <a:lnTo>
                  <a:pt x="4780" y="8463"/>
                </a:lnTo>
                <a:lnTo>
                  <a:pt x="4674" y="8368"/>
                </a:lnTo>
                <a:lnTo>
                  <a:pt x="4562" y="8270"/>
                </a:lnTo>
                <a:lnTo>
                  <a:pt x="4502" y="8219"/>
                </a:lnTo>
                <a:lnTo>
                  <a:pt x="4442" y="8168"/>
                </a:lnTo>
                <a:lnTo>
                  <a:pt x="4380" y="8116"/>
                </a:lnTo>
                <a:lnTo>
                  <a:pt x="4316" y="8064"/>
                </a:lnTo>
                <a:lnTo>
                  <a:pt x="4250" y="8012"/>
                </a:lnTo>
                <a:lnTo>
                  <a:pt x="4183" y="7960"/>
                </a:lnTo>
                <a:lnTo>
                  <a:pt x="4114" y="7908"/>
                </a:lnTo>
                <a:lnTo>
                  <a:pt x="4046" y="7856"/>
                </a:lnTo>
                <a:lnTo>
                  <a:pt x="3975" y="7805"/>
                </a:lnTo>
                <a:lnTo>
                  <a:pt x="3903" y="7753"/>
                </a:lnTo>
                <a:lnTo>
                  <a:pt x="3829" y="7703"/>
                </a:lnTo>
                <a:lnTo>
                  <a:pt x="3754" y="7654"/>
                </a:lnTo>
                <a:lnTo>
                  <a:pt x="3679" y="7605"/>
                </a:lnTo>
                <a:lnTo>
                  <a:pt x="3603" y="7558"/>
                </a:lnTo>
                <a:lnTo>
                  <a:pt x="3525" y="7513"/>
                </a:lnTo>
                <a:lnTo>
                  <a:pt x="3447" y="7467"/>
                </a:lnTo>
                <a:lnTo>
                  <a:pt x="3369" y="7425"/>
                </a:lnTo>
                <a:lnTo>
                  <a:pt x="3288" y="7384"/>
                </a:lnTo>
                <a:lnTo>
                  <a:pt x="3208" y="7344"/>
                </a:lnTo>
                <a:lnTo>
                  <a:pt x="3127" y="7307"/>
                </a:lnTo>
                <a:lnTo>
                  <a:pt x="3046" y="7272"/>
                </a:lnTo>
                <a:lnTo>
                  <a:pt x="2963" y="7239"/>
                </a:lnTo>
                <a:lnTo>
                  <a:pt x="2881" y="7208"/>
                </a:lnTo>
                <a:lnTo>
                  <a:pt x="2798" y="7181"/>
                </a:lnTo>
                <a:lnTo>
                  <a:pt x="2715" y="7155"/>
                </a:lnTo>
                <a:lnTo>
                  <a:pt x="2631" y="7133"/>
                </a:lnTo>
                <a:lnTo>
                  <a:pt x="2548" y="7114"/>
                </a:lnTo>
                <a:lnTo>
                  <a:pt x="2464" y="7097"/>
                </a:lnTo>
                <a:lnTo>
                  <a:pt x="2444" y="7093"/>
                </a:lnTo>
                <a:lnTo>
                  <a:pt x="2427" y="7089"/>
                </a:lnTo>
                <a:lnTo>
                  <a:pt x="2412" y="7083"/>
                </a:lnTo>
                <a:lnTo>
                  <a:pt x="2399" y="7076"/>
                </a:lnTo>
                <a:lnTo>
                  <a:pt x="2387" y="7068"/>
                </a:lnTo>
                <a:lnTo>
                  <a:pt x="2377" y="7060"/>
                </a:lnTo>
                <a:lnTo>
                  <a:pt x="2369" y="7051"/>
                </a:lnTo>
                <a:lnTo>
                  <a:pt x="2362" y="7041"/>
                </a:lnTo>
                <a:lnTo>
                  <a:pt x="2356" y="7029"/>
                </a:lnTo>
                <a:lnTo>
                  <a:pt x="2350" y="7018"/>
                </a:lnTo>
                <a:lnTo>
                  <a:pt x="2346" y="7007"/>
                </a:lnTo>
                <a:lnTo>
                  <a:pt x="2343" y="6993"/>
                </a:lnTo>
                <a:lnTo>
                  <a:pt x="2337" y="6967"/>
                </a:lnTo>
                <a:lnTo>
                  <a:pt x="2333" y="6937"/>
                </a:lnTo>
                <a:lnTo>
                  <a:pt x="2302" y="6726"/>
                </a:lnTo>
                <a:lnTo>
                  <a:pt x="2270" y="6516"/>
                </a:lnTo>
                <a:lnTo>
                  <a:pt x="2237" y="6308"/>
                </a:lnTo>
                <a:lnTo>
                  <a:pt x="2203" y="6101"/>
                </a:lnTo>
                <a:lnTo>
                  <a:pt x="2169" y="5894"/>
                </a:lnTo>
                <a:lnTo>
                  <a:pt x="2133" y="5688"/>
                </a:lnTo>
                <a:lnTo>
                  <a:pt x="2097" y="5484"/>
                </a:lnTo>
                <a:lnTo>
                  <a:pt x="2059" y="5280"/>
                </a:lnTo>
                <a:lnTo>
                  <a:pt x="2020" y="5076"/>
                </a:lnTo>
                <a:lnTo>
                  <a:pt x="1979" y="4875"/>
                </a:lnTo>
                <a:lnTo>
                  <a:pt x="1937" y="4673"/>
                </a:lnTo>
                <a:lnTo>
                  <a:pt x="1893" y="4472"/>
                </a:lnTo>
                <a:lnTo>
                  <a:pt x="1847" y="4273"/>
                </a:lnTo>
                <a:lnTo>
                  <a:pt x="1800" y="4073"/>
                </a:lnTo>
                <a:lnTo>
                  <a:pt x="1750" y="3875"/>
                </a:lnTo>
                <a:lnTo>
                  <a:pt x="1698" y="3677"/>
                </a:lnTo>
                <a:lnTo>
                  <a:pt x="1645" y="3480"/>
                </a:lnTo>
                <a:lnTo>
                  <a:pt x="1588" y="3284"/>
                </a:lnTo>
                <a:lnTo>
                  <a:pt x="1530" y="3088"/>
                </a:lnTo>
                <a:lnTo>
                  <a:pt x="1469" y="2893"/>
                </a:lnTo>
                <a:lnTo>
                  <a:pt x="1405" y="2698"/>
                </a:lnTo>
                <a:lnTo>
                  <a:pt x="1338" y="2504"/>
                </a:lnTo>
                <a:lnTo>
                  <a:pt x="1269" y="2311"/>
                </a:lnTo>
                <a:lnTo>
                  <a:pt x="1197" y="2117"/>
                </a:lnTo>
                <a:lnTo>
                  <a:pt x="1122" y="1925"/>
                </a:lnTo>
                <a:lnTo>
                  <a:pt x="1044" y="1733"/>
                </a:lnTo>
                <a:lnTo>
                  <a:pt x="962" y="1541"/>
                </a:lnTo>
                <a:lnTo>
                  <a:pt x="877" y="1350"/>
                </a:lnTo>
                <a:lnTo>
                  <a:pt x="789" y="1159"/>
                </a:lnTo>
                <a:lnTo>
                  <a:pt x="696" y="968"/>
                </a:lnTo>
                <a:lnTo>
                  <a:pt x="601" y="778"/>
                </a:lnTo>
                <a:lnTo>
                  <a:pt x="502" y="588"/>
                </a:lnTo>
                <a:lnTo>
                  <a:pt x="498" y="583"/>
                </a:lnTo>
                <a:lnTo>
                  <a:pt x="496" y="578"/>
                </a:lnTo>
                <a:lnTo>
                  <a:pt x="493" y="572"/>
                </a:lnTo>
                <a:lnTo>
                  <a:pt x="492" y="567"/>
                </a:lnTo>
                <a:lnTo>
                  <a:pt x="491" y="561"/>
                </a:lnTo>
                <a:lnTo>
                  <a:pt x="491" y="556"/>
                </a:lnTo>
                <a:lnTo>
                  <a:pt x="491" y="551"/>
                </a:lnTo>
                <a:lnTo>
                  <a:pt x="493" y="545"/>
                </a:lnTo>
                <a:lnTo>
                  <a:pt x="494" y="540"/>
                </a:lnTo>
                <a:lnTo>
                  <a:pt x="496" y="533"/>
                </a:lnTo>
                <a:lnTo>
                  <a:pt x="499" y="528"/>
                </a:lnTo>
                <a:lnTo>
                  <a:pt x="502" y="523"/>
                </a:lnTo>
                <a:lnTo>
                  <a:pt x="511" y="512"/>
                </a:lnTo>
                <a:lnTo>
                  <a:pt x="522" y="502"/>
                </a:lnTo>
                <a:lnTo>
                  <a:pt x="534" y="493"/>
                </a:lnTo>
                <a:lnTo>
                  <a:pt x="548" y="485"/>
                </a:lnTo>
                <a:lnTo>
                  <a:pt x="564" y="478"/>
                </a:lnTo>
                <a:lnTo>
                  <a:pt x="581" y="473"/>
                </a:lnTo>
                <a:lnTo>
                  <a:pt x="600" y="468"/>
                </a:lnTo>
                <a:lnTo>
                  <a:pt x="620" y="465"/>
                </a:lnTo>
                <a:lnTo>
                  <a:pt x="642" y="464"/>
                </a:lnTo>
                <a:lnTo>
                  <a:pt x="664" y="466"/>
                </a:lnTo>
                <a:lnTo>
                  <a:pt x="759" y="479"/>
                </a:lnTo>
                <a:lnTo>
                  <a:pt x="857" y="497"/>
                </a:lnTo>
                <a:lnTo>
                  <a:pt x="957" y="521"/>
                </a:lnTo>
                <a:lnTo>
                  <a:pt x="1058" y="550"/>
                </a:lnTo>
                <a:lnTo>
                  <a:pt x="1162" y="583"/>
                </a:lnTo>
                <a:lnTo>
                  <a:pt x="1268" y="622"/>
                </a:lnTo>
                <a:lnTo>
                  <a:pt x="1377" y="665"/>
                </a:lnTo>
                <a:lnTo>
                  <a:pt x="1487" y="713"/>
                </a:lnTo>
                <a:lnTo>
                  <a:pt x="1598" y="767"/>
                </a:lnTo>
                <a:lnTo>
                  <a:pt x="1712" y="824"/>
                </a:lnTo>
                <a:lnTo>
                  <a:pt x="1826" y="886"/>
                </a:lnTo>
                <a:lnTo>
                  <a:pt x="1942" y="952"/>
                </a:lnTo>
                <a:lnTo>
                  <a:pt x="2058" y="1022"/>
                </a:lnTo>
                <a:lnTo>
                  <a:pt x="2177" y="1097"/>
                </a:lnTo>
                <a:lnTo>
                  <a:pt x="2295" y="1175"/>
                </a:lnTo>
                <a:lnTo>
                  <a:pt x="2414" y="1257"/>
                </a:lnTo>
                <a:lnTo>
                  <a:pt x="2535" y="1344"/>
                </a:lnTo>
                <a:lnTo>
                  <a:pt x="2655" y="1433"/>
                </a:lnTo>
                <a:lnTo>
                  <a:pt x="2775" y="1527"/>
                </a:lnTo>
                <a:lnTo>
                  <a:pt x="2896" y="1625"/>
                </a:lnTo>
                <a:lnTo>
                  <a:pt x="3017" y="1724"/>
                </a:lnTo>
                <a:lnTo>
                  <a:pt x="3138" y="1828"/>
                </a:lnTo>
                <a:lnTo>
                  <a:pt x="3259" y="1934"/>
                </a:lnTo>
                <a:lnTo>
                  <a:pt x="3379" y="2044"/>
                </a:lnTo>
                <a:lnTo>
                  <a:pt x="3498" y="2157"/>
                </a:lnTo>
                <a:lnTo>
                  <a:pt x="3618" y="2273"/>
                </a:lnTo>
                <a:lnTo>
                  <a:pt x="3737" y="2391"/>
                </a:lnTo>
                <a:lnTo>
                  <a:pt x="3854" y="2511"/>
                </a:lnTo>
                <a:lnTo>
                  <a:pt x="3970" y="2635"/>
                </a:lnTo>
                <a:lnTo>
                  <a:pt x="4087" y="2761"/>
                </a:lnTo>
                <a:lnTo>
                  <a:pt x="4201" y="2889"/>
                </a:lnTo>
                <a:lnTo>
                  <a:pt x="4314" y="3019"/>
                </a:lnTo>
                <a:lnTo>
                  <a:pt x="4358" y="3019"/>
                </a:lnTo>
                <a:lnTo>
                  <a:pt x="4398" y="3019"/>
                </a:lnTo>
                <a:lnTo>
                  <a:pt x="4435" y="3017"/>
                </a:lnTo>
                <a:lnTo>
                  <a:pt x="4468" y="3015"/>
                </a:lnTo>
                <a:lnTo>
                  <a:pt x="4497" y="3011"/>
                </a:lnTo>
                <a:lnTo>
                  <a:pt x="4524" y="3006"/>
                </a:lnTo>
                <a:lnTo>
                  <a:pt x="4546" y="3000"/>
                </a:lnTo>
                <a:lnTo>
                  <a:pt x="4565" y="2992"/>
                </a:lnTo>
                <a:lnTo>
                  <a:pt x="4581" y="2984"/>
                </a:lnTo>
                <a:lnTo>
                  <a:pt x="4595" y="2975"/>
                </a:lnTo>
                <a:lnTo>
                  <a:pt x="4605" y="2965"/>
                </a:lnTo>
                <a:lnTo>
                  <a:pt x="4612" y="2952"/>
                </a:lnTo>
                <a:lnTo>
                  <a:pt x="4616" y="2940"/>
                </a:lnTo>
                <a:lnTo>
                  <a:pt x="4618" y="2926"/>
                </a:lnTo>
                <a:lnTo>
                  <a:pt x="4617" y="2910"/>
                </a:lnTo>
                <a:lnTo>
                  <a:pt x="4614" y="2894"/>
                </a:lnTo>
                <a:lnTo>
                  <a:pt x="4608" y="2876"/>
                </a:lnTo>
                <a:lnTo>
                  <a:pt x="4600" y="2858"/>
                </a:lnTo>
                <a:lnTo>
                  <a:pt x="4590" y="2838"/>
                </a:lnTo>
                <a:lnTo>
                  <a:pt x="4578" y="2817"/>
                </a:lnTo>
                <a:lnTo>
                  <a:pt x="4564" y="2795"/>
                </a:lnTo>
                <a:lnTo>
                  <a:pt x="4548" y="2771"/>
                </a:lnTo>
                <a:lnTo>
                  <a:pt x="4530" y="2748"/>
                </a:lnTo>
                <a:lnTo>
                  <a:pt x="4510" y="2722"/>
                </a:lnTo>
                <a:lnTo>
                  <a:pt x="4466" y="2667"/>
                </a:lnTo>
                <a:lnTo>
                  <a:pt x="4418" y="2608"/>
                </a:lnTo>
                <a:lnTo>
                  <a:pt x="4363" y="2544"/>
                </a:lnTo>
                <a:lnTo>
                  <a:pt x="4306" y="2475"/>
                </a:lnTo>
                <a:close/>
              </a:path>
            </a:pathLst>
          </a:custGeom>
          <a:solidFill>
            <a:srgbClr val="8fa4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06280" y="5194440"/>
            <a:ext cx="2219400" cy="1931760"/>
          </a:xfrm>
          <a:custGeom>
            <a:avLst/>
            <a:gdLst/>
            <a:ahLst/>
            <a:rect l="l" t="t" r="r" b="b"/>
            <a:pathLst>
              <a:path w="8995" h="8286">
                <a:moveTo>
                  <a:pt x="448" y="1054"/>
                </a:moveTo>
                <a:lnTo>
                  <a:pt x="425" y="1391"/>
                </a:lnTo>
                <a:lnTo>
                  <a:pt x="419" y="1456"/>
                </a:lnTo>
                <a:lnTo>
                  <a:pt x="418" y="1519"/>
                </a:lnTo>
                <a:lnTo>
                  <a:pt x="422" y="1580"/>
                </a:lnTo>
                <a:lnTo>
                  <a:pt x="432" y="1638"/>
                </a:lnTo>
                <a:lnTo>
                  <a:pt x="446" y="1695"/>
                </a:lnTo>
                <a:lnTo>
                  <a:pt x="466" y="1749"/>
                </a:lnTo>
                <a:lnTo>
                  <a:pt x="491" y="1801"/>
                </a:lnTo>
                <a:lnTo>
                  <a:pt x="519" y="1850"/>
                </a:lnTo>
                <a:lnTo>
                  <a:pt x="552" y="1896"/>
                </a:lnTo>
                <a:lnTo>
                  <a:pt x="589" y="1940"/>
                </a:lnTo>
                <a:lnTo>
                  <a:pt x="631" y="1981"/>
                </a:lnTo>
                <a:lnTo>
                  <a:pt x="675" y="2018"/>
                </a:lnTo>
                <a:lnTo>
                  <a:pt x="722" y="2053"/>
                </a:lnTo>
                <a:lnTo>
                  <a:pt x="772" y="2084"/>
                </a:lnTo>
                <a:lnTo>
                  <a:pt x="826" y="2111"/>
                </a:lnTo>
                <a:lnTo>
                  <a:pt x="882" y="2135"/>
                </a:lnTo>
                <a:lnTo>
                  <a:pt x="940" y="2156"/>
                </a:lnTo>
                <a:lnTo>
                  <a:pt x="1001" y="2172"/>
                </a:lnTo>
                <a:lnTo>
                  <a:pt x="1063" y="2184"/>
                </a:lnTo>
                <a:lnTo>
                  <a:pt x="1127" y="2194"/>
                </a:lnTo>
                <a:lnTo>
                  <a:pt x="1193" y="2198"/>
                </a:lnTo>
                <a:lnTo>
                  <a:pt x="1260" y="2198"/>
                </a:lnTo>
                <a:lnTo>
                  <a:pt x="1328" y="2194"/>
                </a:lnTo>
                <a:lnTo>
                  <a:pt x="1397" y="2185"/>
                </a:lnTo>
                <a:lnTo>
                  <a:pt x="1466" y="2172"/>
                </a:lnTo>
                <a:lnTo>
                  <a:pt x="1536" y="2154"/>
                </a:lnTo>
                <a:lnTo>
                  <a:pt x="1606" y="2131"/>
                </a:lnTo>
                <a:lnTo>
                  <a:pt x="1676" y="2102"/>
                </a:lnTo>
                <a:lnTo>
                  <a:pt x="1745" y="2069"/>
                </a:lnTo>
                <a:lnTo>
                  <a:pt x="1813" y="2031"/>
                </a:lnTo>
                <a:lnTo>
                  <a:pt x="1882" y="1987"/>
                </a:lnTo>
                <a:lnTo>
                  <a:pt x="1949" y="1938"/>
                </a:lnTo>
                <a:lnTo>
                  <a:pt x="2061" y="1812"/>
                </a:lnTo>
                <a:lnTo>
                  <a:pt x="2179" y="1688"/>
                </a:lnTo>
                <a:lnTo>
                  <a:pt x="2302" y="1565"/>
                </a:lnTo>
                <a:lnTo>
                  <a:pt x="2432" y="1444"/>
                </a:lnTo>
                <a:lnTo>
                  <a:pt x="2566" y="1326"/>
                </a:lnTo>
                <a:lnTo>
                  <a:pt x="2707" y="1210"/>
                </a:lnTo>
                <a:lnTo>
                  <a:pt x="2854" y="1097"/>
                </a:lnTo>
                <a:lnTo>
                  <a:pt x="3007" y="988"/>
                </a:lnTo>
                <a:lnTo>
                  <a:pt x="3164" y="883"/>
                </a:lnTo>
                <a:lnTo>
                  <a:pt x="3328" y="782"/>
                </a:lnTo>
                <a:lnTo>
                  <a:pt x="3496" y="685"/>
                </a:lnTo>
                <a:lnTo>
                  <a:pt x="3671" y="593"/>
                </a:lnTo>
                <a:lnTo>
                  <a:pt x="3851" y="507"/>
                </a:lnTo>
                <a:lnTo>
                  <a:pt x="4036" y="426"/>
                </a:lnTo>
                <a:lnTo>
                  <a:pt x="4227" y="351"/>
                </a:lnTo>
                <a:lnTo>
                  <a:pt x="4422" y="282"/>
                </a:lnTo>
                <a:lnTo>
                  <a:pt x="4624" y="219"/>
                </a:lnTo>
                <a:lnTo>
                  <a:pt x="4829" y="164"/>
                </a:lnTo>
                <a:lnTo>
                  <a:pt x="5040" y="116"/>
                </a:lnTo>
                <a:lnTo>
                  <a:pt x="5257" y="76"/>
                </a:lnTo>
                <a:lnTo>
                  <a:pt x="5478" y="44"/>
                </a:lnTo>
                <a:lnTo>
                  <a:pt x="5705" y="21"/>
                </a:lnTo>
                <a:lnTo>
                  <a:pt x="5936" y="6"/>
                </a:lnTo>
                <a:lnTo>
                  <a:pt x="6173" y="0"/>
                </a:lnTo>
                <a:lnTo>
                  <a:pt x="6413" y="4"/>
                </a:lnTo>
                <a:lnTo>
                  <a:pt x="6659" y="17"/>
                </a:lnTo>
                <a:lnTo>
                  <a:pt x="6910" y="41"/>
                </a:lnTo>
                <a:lnTo>
                  <a:pt x="7165" y="76"/>
                </a:lnTo>
                <a:lnTo>
                  <a:pt x="7426" y="121"/>
                </a:lnTo>
                <a:lnTo>
                  <a:pt x="7690" y="178"/>
                </a:lnTo>
                <a:lnTo>
                  <a:pt x="7959" y="247"/>
                </a:lnTo>
                <a:lnTo>
                  <a:pt x="8233" y="327"/>
                </a:lnTo>
                <a:lnTo>
                  <a:pt x="8281" y="350"/>
                </a:lnTo>
                <a:lnTo>
                  <a:pt x="8330" y="371"/>
                </a:lnTo>
                <a:lnTo>
                  <a:pt x="8377" y="391"/>
                </a:lnTo>
                <a:lnTo>
                  <a:pt x="8423" y="410"/>
                </a:lnTo>
                <a:lnTo>
                  <a:pt x="8513" y="446"/>
                </a:lnTo>
                <a:lnTo>
                  <a:pt x="8597" y="481"/>
                </a:lnTo>
                <a:lnTo>
                  <a:pt x="8637" y="499"/>
                </a:lnTo>
                <a:lnTo>
                  <a:pt x="8676" y="516"/>
                </a:lnTo>
                <a:lnTo>
                  <a:pt x="8713" y="535"/>
                </a:lnTo>
                <a:lnTo>
                  <a:pt x="8748" y="554"/>
                </a:lnTo>
                <a:lnTo>
                  <a:pt x="8782" y="575"/>
                </a:lnTo>
                <a:lnTo>
                  <a:pt x="8814" y="596"/>
                </a:lnTo>
                <a:lnTo>
                  <a:pt x="8843" y="620"/>
                </a:lnTo>
                <a:lnTo>
                  <a:pt x="8870" y="645"/>
                </a:lnTo>
                <a:lnTo>
                  <a:pt x="8894" y="673"/>
                </a:lnTo>
                <a:lnTo>
                  <a:pt x="8917" y="701"/>
                </a:lnTo>
                <a:lnTo>
                  <a:pt x="8937" y="733"/>
                </a:lnTo>
                <a:lnTo>
                  <a:pt x="8954" y="768"/>
                </a:lnTo>
                <a:lnTo>
                  <a:pt x="8968" y="806"/>
                </a:lnTo>
                <a:lnTo>
                  <a:pt x="8980" y="846"/>
                </a:lnTo>
                <a:lnTo>
                  <a:pt x="8988" y="891"/>
                </a:lnTo>
                <a:lnTo>
                  <a:pt x="8993" y="938"/>
                </a:lnTo>
                <a:lnTo>
                  <a:pt x="8995" y="990"/>
                </a:lnTo>
                <a:lnTo>
                  <a:pt x="8993" y="1046"/>
                </a:lnTo>
                <a:lnTo>
                  <a:pt x="8989" y="1106"/>
                </a:lnTo>
                <a:lnTo>
                  <a:pt x="8980" y="1170"/>
                </a:lnTo>
                <a:lnTo>
                  <a:pt x="8967" y="1240"/>
                </a:lnTo>
                <a:lnTo>
                  <a:pt x="8952" y="1314"/>
                </a:lnTo>
                <a:lnTo>
                  <a:pt x="8931" y="1394"/>
                </a:lnTo>
                <a:lnTo>
                  <a:pt x="8908" y="1479"/>
                </a:lnTo>
                <a:lnTo>
                  <a:pt x="8868" y="1628"/>
                </a:lnTo>
                <a:lnTo>
                  <a:pt x="8831" y="1778"/>
                </a:lnTo>
                <a:lnTo>
                  <a:pt x="8796" y="1928"/>
                </a:lnTo>
                <a:lnTo>
                  <a:pt x="8764" y="2078"/>
                </a:lnTo>
                <a:lnTo>
                  <a:pt x="8735" y="2229"/>
                </a:lnTo>
                <a:lnTo>
                  <a:pt x="8708" y="2379"/>
                </a:lnTo>
                <a:lnTo>
                  <a:pt x="8686" y="2530"/>
                </a:lnTo>
                <a:lnTo>
                  <a:pt x="8664" y="2681"/>
                </a:lnTo>
                <a:lnTo>
                  <a:pt x="8646" y="2832"/>
                </a:lnTo>
                <a:lnTo>
                  <a:pt x="8629" y="2985"/>
                </a:lnTo>
                <a:lnTo>
                  <a:pt x="8616" y="3137"/>
                </a:lnTo>
                <a:lnTo>
                  <a:pt x="8604" y="3290"/>
                </a:lnTo>
                <a:lnTo>
                  <a:pt x="8595" y="3443"/>
                </a:lnTo>
                <a:lnTo>
                  <a:pt x="8588" y="3598"/>
                </a:lnTo>
                <a:lnTo>
                  <a:pt x="8584" y="3752"/>
                </a:lnTo>
                <a:lnTo>
                  <a:pt x="8581" y="3907"/>
                </a:lnTo>
                <a:lnTo>
                  <a:pt x="8580" y="4064"/>
                </a:lnTo>
                <a:lnTo>
                  <a:pt x="8582" y="4220"/>
                </a:lnTo>
                <a:lnTo>
                  <a:pt x="8585" y="4378"/>
                </a:lnTo>
                <a:lnTo>
                  <a:pt x="8589" y="4537"/>
                </a:lnTo>
                <a:lnTo>
                  <a:pt x="8596" y="4695"/>
                </a:lnTo>
                <a:lnTo>
                  <a:pt x="8604" y="4855"/>
                </a:lnTo>
                <a:lnTo>
                  <a:pt x="8615" y="5016"/>
                </a:lnTo>
                <a:lnTo>
                  <a:pt x="8626" y="5178"/>
                </a:lnTo>
                <a:lnTo>
                  <a:pt x="8639" y="5341"/>
                </a:lnTo>
                <a:lnTo>
                  <a:pt x="8654" y="5504"/>
                </a:lnTo>
                <a:lnTo>
                  <a:pt x="8670" y="5670"/>
                </a:lnTo>
                <a:lnTo>
                  <a:pt x="8687" y="5836"/>
                </a:lnTo>
                <a:lnTo>
                  <a:pt x="8705" y="6002"/>
                </a:lnTo>
                <a:lnTo>
                  <a:pt x="8726" y="6171"/>
                </a:lnTo>
                <a:lnTo>
                  <a:pt x="8746" y="6341"/>
                </a:lnTo>
                <a:lnTo>
                  <a:pt x="8768" y="6511"/>
                </a:lnTo>
                <a:lnTo>
                  <a:pt x="8777" y="6550"/>
                </a:lnTo>
                <a:lnTo>
                  <a:pt x="8783" y="6587"/>
                </a:lnTo>
                <a:lnTo>
                  <a:pt x="8788" y="6622"/>
                </a:lnTo>
                <a:lnTo>
                  <a:pt x="8792" y="6655"/>
                </a:lnTo>
                <a:lnTo>
                  <a:pt x="8793" y="6686"/>
                </a:lnTo>
                <a:lnTo>
                  <a:pt x="8792" y="6716"/>
                </a:lnTo>
                <a:lnTo>
                  <a:pt x="8790" y="6744"/>
                </a:lnTo>
                <a:lnTo>
                  <a:pt x="8785" y="6770"/>
                </a:lnTo>
                <a:lnTo>
                  <a:pt x="8779" y="6793"/>
                </a:lnTo>
                <a:lnTo>
                  <a:pt x="8772" y="6815"/>
                </a:lnTo>
                <a:lnTo>
                  <a:pt x="8764" y="6835"/>
                </a:lnTo>
                <a:lnTo>
                  <a:pt x="8754" y="6854"/>
                </a:lnTo>
                <a:lnTo>
                  <a:pt x="8741" y="6871"/>
                </a:lnTo>
                <a:lnTo>
                  <a:pt x="8728" y="6887"/>
                </a:lnTo>
                <a:lnTo>
                  <a:pt x="8714" y="6900"/>
                </a:lnTo>
                <a:lnTo>
                  <a:pt x="8698" y="6912"/>
                </a:lnTo>
                <a:lnTo>
                  <a:pt x="8682" y="6924"/>
                </a:lnTo>
                <a:lnTo>
                  <a:pt x="8663" y="6933"/>
                </a:lnTo>
                <a:lnTo>
                  <a:pt x="8644" y="6940"/>
                </a:lnTo>
                <a:lnTo>
                  <a:pt x="8624" y="6947"/>
                </a:lnTo>
                <a:lnTo>
                  <a:pt x="8602" y="6953"/>
                </a:lnTo>
                <a:lnTo>
                  <a:pt x="8581" y="6956"/>
                </a:lnTo>
                <a:lnTo>
                  <a:pt x="8558" y="6959"/>
                </a:lnTo>
                <a:lnTo>
                  <a:pt x="8533" y="6960"/>
                </a:lnTo>
                <a:lnTo>
                  <a:pt x="8509" y="6959"/>
                </a:lnTo>
                <a:lnTo>
                  <a:pt x="8483" y="6958"/>
                </a:lnTo>
                <a:lnTo>
                  <a:pt x="8457" y="6956"/>
                </a:lnTo>
                <a:lnTo>
                  <a:pt x="8431" y="6952"/>
                </a:lnTo>
                <a:lnTo>
                  <a:pt x="8403" y="6946"/>
                </a:lnTo>
                <a:lnTo>
                  <a:pt x="8375" y="6941"/>
                </a:lnTo>
                <a:lnTo>
                  <a:pt x="8346" y="6934"/>
                </a:lnTo>
                <a:lnTo>
                  <a:pt x="8317" y="6926"/>
                </a:lnTo>
                <a:lnTo>
                  <a:pt x="8115" y="6872"/>
                </a:lnTo>
                <a:lnTo>
                  <a:pt x="7911" y="6827"/>
                </a:lnTo>
                <a:lnTo>
                  <a:pt x="7705" y="6792"/>
                </a:lnTo>
                <a:lnTo>
                  <a:pt x="7499" y="6765"/>
                </a:lnTo>
                <a:lnTo>
                  <a:pt x="7292" y="6747"/>
                </a:lnTo>
                <a:lnTo>
                  <a:pt x="7084" y="6737"/>
                </a:lnTo>
                <a:lnTo>
                  <a:pt x="6876" y="6735"/>
                </a:lnTo>
                <a:lnTo>
                  <a:pt x="6670" y="6739"/>
                </a:lnTo>
                <a:lnTo>
                  <a:pt x="6464" y="6751"/>
                </a:lnTo>
                <a:lnTo>
                  <a:pt x="6260" y="6771"/>
                </a:lnTo>
                <a:lnTo>
                  <a:pt x="6058" y="6795"/>
                </a:lnTo>
                <a:lnTo>
                  <a:pt x="5857" y="6827"/>
                </a:lnTo>
                <a:lnTo>
                  <a:pt x="5658" y="6865"/>
                </a:lnTo>
                <a:lnTo>
                  <a:pt x="5464" y="6908"/>
                </a:lnTo>
                <a:lnTo>
                  <a:pt x="5273" y="6957"/>
                </a:lnTo>
                <a:lnTo>
                  <a:pt x="5084" y="7009"/>
                </a:lnTo>
                <a:lnTo>
                  <a:pt x="4901" y="7068"/>
                </a:lnTo>
                <a:lnTo>
                  <a:pt x="4722" y="7131"/>
                </a:lnTo>
                <a:lnTo>
                  <a:pt x="4547" y="7196"/>
                </a:lnTo>
                <a:lnTo>
                  <a:pt x="4379" y="7266"/>
                </a:lnTo>
                <a:lnTo>
                  <a:pt x="4216" y="7340"/>
                </a:lnTo>
                <a:lnTo>
                  <a:pt x="4060" y="7416"/>
                </a:lnTo>
                <a:lnTo>
                  <a:pt x="3910" y="7496"/>
                </a:lnTo>
                <a:lnTo>
                  <a:pt x="3767" y="7578"/>
                </a:lnTo>
                <a:lnTo>
                  <a:pt x="3631" y="7662"/>
                </a:lnTo>
                <a:lnTo>
                  <a:pt x="3502" y="7748"/>
                </a:lnTo>
                <a:lnTo>
                  <a:pt x="3383" y="7835"/>
                </a:lnTo>
                <a:lnTo>
                  <a:pt x="3272" y="7925"/>
                </a:lnTo>
                <a:lnTo>
                  <a:pt x="3170" y="8014"/>
                </a:lnTo>
                <a:lnTo>
                  <a:pt x="3077" y="8105"/>
                </a:lnTo>
                <a:lnTo>
                  <a:pt x="2994" y="8195"/>
                </a:lnTo>
                <a:lnTo>
                  <a:pt x="2921" y="8286"/>
                </a:lnTo>
                <a:lnTo>
                  <a:pt x="2753" y="7948"/>
                </a:lnTo>
                <a:lnTo>
                  <a:pt x="2854" y="7832"/>
                </a:lnTo>
                <a:lnTo>
                  <a:pt x="2969" y="7718"/>
                </a:lnTo>
                <a:lnTo>
                  <a:pt x="3093" y="7607"/>
                </a:lnTo>
                <a:lnTo>
                  <a:pt x="3228" y="7500"/>
                </a:lnTo>
                <a:lnTo>
                  <a:pt x="3373" y="7395"/>
                </a:lnTo>
                <a:lnTo>
                  <a:pt x="3527" y="7294"/>
                </a:lnTo>
                <a:lnTo>
                  <a:pt x="3689" y="7196"/>
                </a:lnTo>
                <a:lnTo>
                  <a:pt x="3858" y="7103"/>
                </a:lnTo>
                <a:lnTo>
                  <a:pt x="4034" y="7013"/>
                </a:lnTo>
                <a:lnTo>
                  <a:pt x="4217" y="6928"/>
                </a:lnTo>
                <a:lnTo>
                  <a:pt x="4405" y="6848"/>
                </a:lnTo>
                <a:lnTo>
                  <a:pt x="4597" y="6772"/>
                </a:lnTo>
                <a:lnTo>
                  <a:pt x="4794" y="6702"/>
                </a:lnTo>
                <a:lnTo>
                  <a:pt x="4994" y="6636"/>
                </a:lnTo>
                <a:lnTo>
                  <a:pt x="5197" y="6576"/>
                </a:lnTo>
                <a:lnTo>
                  <a:pt x="5401" y="6522"/>
                </a:lnTo>
                <a:lnTo>
                  <a:pt x="5607" y="6473"/>
                </a:lnTo>
                <a:lnTo>
                  <a:pt x="5814" y="6430"/>
                </a:lnTo>
                <a:lnTo>
                  <a:pt x="6019" y="6394"/>
                </a:lnTo>
                <a:lnTo>
                  <a:pt x="6225" y="6364"/>
                </a:lnTo>
                <a:lnTo>
                  <a:pt x="6429" y="6342"/>
                </a:lnTo>
                <a:lnTo>
                  <a:pt x="6630" y="6326"/>
                </a:lnTo>
                <a:lnTo>
                  <a:pt x="6830" y="6317"/>
                </a:lnTo>
                <a:lnTo>
                  <a:pt x="7025" y="6316"/>
                </a:lnTo>
                <a:lnTo>
                  <a:pt x="7216" y="6322"/>
                </a:lnTo>
                <a:lnTo>
                  <a:pt x="7402" y="6337"/>
                </a:lnTo>
                <a:lnTo>
                  <a:pt x="7582" y="6358"/>
                </a:lnTo>
                <a:lnTo>
                  <a:pt x="7756" y="6389"/>
                </a:lnTo>
                <a:lnTo>
                  <a:pt x="7922" y="6428"/>
                </a:lnTo>
                <a:lnTo>
                  <a:pt x="8081" y="6475"/>
                </a:lnTo>
                <a:lnTo>
                  <a:pt x="8231" y="6532"/>
                </a:lnTo>
                <a:lnTo>
                  <a:pt x="8373" y="6598"/>
                </a:lnTo>
                <a:lnTo>
                  <a:pt x="8356" y="6432"/>
                </a:lnTo>
                <a:lnTo>
                  <a:pt x="8341" y="6266"/>
                </a:lnTo>
                <a:lnTo>
                  <a:pt x="8327" y="6099"/>
                </a:lnTo>
                <a:lnTo>
                  <a:pt x="8313" y="5933"/>
                </a:lnTo>
                <a:lnTo>
                  <a:pt x="8301" y="5768"/>
                </a:lnTo>
                <a:lnTo>
                  <a:pt x="8290" y="5601"/>
                </a:lnTo>
                <a:lnTo>
                  <a:pt x="8279" y="5436"/>
                </a:lnTo>
                <a:lnTo>
                  <a:pt x="8271" y="5270"/>
                </a:lnTo>
                <a:lnTo>
                  <a:pt x="8263" y="5104"/>
                </a:lnTo>
                <a:lnTo>
                  <a:pt x="8257" y="4940"/>
                </a:lnTo>
                <a:lnTo>
                  <a:pt x="8252" y="4774"/>
                </a:lnTo>
                <a:lnTo>
                  <a:pt x="8247" y="4610"/>
                </a:lnTo>
                <a:lnTo>
                  <a:pt x="8245" y="4444"/>
                </a:lnTo>
                <a:lnTo>
                  <a:pt x="8244" y="4280"/>
                </a:lnTo>
                <a:lnTo>
                  <a:pt x="8244" y="4115"/>
                </a:lnTo>
                <a:lnTo>
                  <a:pt x="8245" y="3950"/>
                </a:lnTo>
                <a:lnTo>
                  <a:pt x="8248" y="3786"/>
                </a:lnTo>
                <a:lnTo>
                  <a:pt x="8254" y="3621"/>
                </a:lnTo>
                <a:lnTo>
                  <a:pt x="8259" y="3457"/>
                </a:lnTo>
                <a:lnTo>
                  <a:pt x="8267" y="3293"/>
                </a:lnTo>
                <a:lnTo>
                  <a:pt x="8276" y="3129"/>
                </a:lnTo>
                <a:lnTo>
                  <a:pt x="8287" y="2965"/>
                </a:lnTo>
                <a:lnTo>
                  <a:pt x="8299" y="2802"/>
                </a:lnTo>
                <a:lnTo>
                  <a:pt x="8313" y="2638"/>
                </a:lnTo>
                <a:lnTo>
                  <a:pt x="8329" y="2475"/>
                </a:lnTo>
                <a:lnTo>
                  <a:pt x="8346" y="2311"/>
                </a:lnTo>
                <a:lnTo>
                  <a:pt x="8366" y="2147"/>
                </a:lnTo>
                <a:lnTo>
                  <a:pt x="8386" y="1985"/>
                </a:lnTo>
                <a:lnTo>
                  <a:pt x="8409" y="1821"/>
                </a:lnTo>
                <a:lnTo>
                  <a:pt x="8434" y="1659"/>
                </a:lnTo>
                <a:lnTo>
                  <a:pt x="8460" y="1496"/>
                </a:lnTo>
                <a:lnTo>
                  <a:pt x="8489" y="1334"/>
                </a:lnTo>
                <a:lnTo>
                  <a:pt x="8499" y="1307"/>
                </a:lnTo>
                <a:lnTo>
                  <a:pt x="8510" y="1282"/>
                </a:lnTo>
                <a:lnTo>
                  <a:pt x="8517" y="1257"/>
                </a:lnTo>
                <a:lnTo>
                  <a:pt x="8524" y="1232"/>
                </a:lnTo>
                <a:lnTo>
                  <a:pt x="8529" y="1208"/>
                </a:lnTo>
                <a:lnTo>
                  <a:pt x="8532" y="1185"/>
                </a:lnTo>
                <a:lnTo>
                  <a:pt x="8534" y="1161"/>
                </a:lnTo>
                <a:lnTo>
                  <a:pt x="8534" y="1138"/>
                </a:lnTo>
                <a:lnTo>
                  <a:pt x="8533" y="1116"/>
                </a:lnTo>
                <a:lnTo>
                  <a:pt x="8531" y="1093"/>
                </a:lnTo>
                <a:lnTo>
                  <a:pt x="8527" y="1072"/>
                </a:lnTo>
                <a:lnTo>
                  <a:pt x="8521" y="1051"/>
                </a:lnTo>
                <a:lnTo>
                  <a:pt x="8515" y="1029"/>
                </a:lnTo>
                <a:lnTo>
                  <a:pt x="8506" y="1010"/>
                </a:lnTo>
                <a:lnTo>
                  <a:pt x="8495" y="989"/>
                </a:lnTo>
                <a:lnTo>
                  <a:pt x="8484" y="970"/>
                </a:lnTo>
                <a:lnTo>
                  <a:pt x="8471" y="951"/>
                </a:lnTo>
                <a:lnTo>
                  <a:pt x="8456" y="933"/>
                </a:lnTo>
                <a:lnTo>
                  <a:pt x="8440" y="914"/>
                </a:lnTo>
                <a:lnTo>
                  <a:pt x="8422" y="897"/>
                </a:lnTo>
                <a:lnTo>
                  <a:pt x="8404" y="879"/>
                </a:lnTo>
                <a:lnTo>
                  <a:pt x="8383" y="862"/>
                </a:lnTo>
                <a:lnTo>
                  <a:pt x="8361" y="845"/>
                </a:lnTo>
                <a:lnTo>
                  <a:pt x="8337" y="830"/>
                </a:lnTo>
                <a:lnTo>
                  <a:pt x="8312" y="815"/>
                </a:lnTo>
                <a:lnTo>
                  <a:pt x="8285" y="799"/>
                </a:lnTo>
                <a:lnTo>
                  <a:pt x="8257" y="785"/>
                </a:lnTo>
                <a:lnTo>
                  <a:pt x="8227" y="770"/>
                </a:lnTo>
                <a:lnTo>
                  <a:pt x="8196" y="756"/>
                </a:lnTo>
                <a:lnTo>
                  <a:pt x="8163" y="743"/>
                </a:lnTo>
                <a:lnTo>
                  <a:pt x="8129" y="729"/>
                </a:lnTo>
                <a:lnTo>
                  <a:pt x="8093" y="717"/>
                </a:lnTo>
                <a:lnTo>
                  <a:pt x="7869" y="663"/>
                </a:lnTo>
                <a:lnTo>
                  <a:pt x="7647" y="615"/>
                </a:lnTo>
                <a:lnTo>
                  <a:pt x="7426" y="573"/>
                </a:lnTo>
                <a:lnTo>
                  <a:pt x="7206" y="537"/>
                </a:lnTo>
                <a:lnTo>
                  <a:pt x="6990" y="507"/>
                </a:lnTo>
                <a:lnTo>
                  <a:pt x="6775" y="482"/>
                </a:lnTo>
                <a:lnTo>
                  <a:pt x="6563" y="465"/>
                </a:lnTo>
                <a:lnTo>
                  <a:pt x="6352" y="454"/>
                </a:lnTo>
                <a:lnTo>
                  <a:pt x="6143" y="449"/>
                </a:lnTo>
                <a:lnTo>
                  <a:pt x="5936" y="451"/>
                </a:lnTo>
                <a:lnTo>
                  <a:pt x="5731" y="461"/>
                </a:lnTo>
                <a:lnTo>
                  <a:pt x="5530" y="477"/>
                </a:lnTo>
                <a:lnTo>
                  <a:pt x="5330" y="500"/>
                </a:lnTo>
                <a:lnTo>
                  <a:pt x="5133" y="531"/>
                </a:lnTo>
                <a:lnTo>
                  <a:pt x="4937" y="569"/>
                </a:lnTo>
                <a:lnTo>
                  <a:pt x="4745" y="615"/>
                </a:lnTo>
                <a:lnTo>
                  <a:pt x="4555" y="668"/>
                </a:lnTo>
                <a:lnTo>
                  <a:pt x="4367" y="730"/>
                </a:lnTo>
                <a:lnTo>
                  <a:pt x="4182" y="799"/>
                </a:lnTo>
                <a:lnTo>
                  <a:pt x="4000" y="877"/>
                </a:lnTo>
                <a:lnTo>
                  <a:pt x="3820" y="963"/>
                </a:lnTo>
                <a:lnTo>
                  <a:pt x="3643" y="1057"/>
                </a:lnTo>
                <a:lnTo>
                  <a:pt x="3468" y="1160"/>
                </a:lnTo>
                <a:lnTo>
                  <a:pt x="3298" y="1272"/>
                </a:lnTo>
                <a:lnTo>
                  <a:pt x="3129" y="1393"/>
                </a:lnTo>
                <a:lnTo>
                  <a:pt x="2962" y="1522"/>
                </a:lnTo>
                <a:lnTo>
                  <a:pt x="2800" y="1661"/>
                </a:lnTo>
                <a:lnTo>
                  <a:pt x="2640" y="1809"/>
                </a:lnTo>
                <a:lnTo>
                  <a:pt x="2483" y="1966"/>
                </a:lnTo>
                <a:lnTo>
                  <a:pt x="2329" y="2134"/>
                </a:lnTo>
                <a:lnTo>
                  <a:pt x="2179" y="2310"/>
                </a:lnTo>
                <a:lnTo>
                  <a:pt x="2030" y="2497"/>
                </a:lnTo>
                <a:lnTo>
                  <a:pt x="1977" y="2527"/>
                </a:lnTo>
                <a:lnTo>
                  <a:pt x="1918" y="2555"/>
                </a:lnTo>
                <a:lnTo>
                  <a:pt x="1855" y="2578"/>
                </a:lnTo>
                <a:lnTo>
                  <a:pt x="1788" y="2599"/>
                </a:lnTo>
                <a:lnTo>
                  <a:pt x="1718" y="2616"/>
                </a:lnTo>
                <a:lnTo>
                  <a:pt x="1645" y="2630"/>
                </a:lnTo>
                <a:lnTo>
                  <a:pt x="1569" y="2640"/>
                </a:lnTo>
                <a:lnTo>
                  <a:pt x="1490" y="2647"/>
                </a:lnTo>
                <a:lnTo>
                  <a:pt x="1410" y="2650"/>
                </a:lnTo>
                <a:lnTo>
                  <a:pt x="1329" y="2650"/>
                </a:lnTo>
                <a:lnTo>
                  <a:pt x="1247" y="2646"/>
                </a:lnTo>
                <a:lnTo>
                  <a:pt x="1163" y="2639"/>
                </a:lnTo>
                <a:lnTo>
                  <a:pt x="1080" y="2628"/>
                </a:lnTo>
                <a:lnTo>
                  <a:pt x="997" y="2613"/>
                </a:lnTo>
                <a:lnTo>
                  <a:pt x="914" y="2595"/>
                </a:lnTo>
                <a:lnTo>
                  <a:pt x="833" y="2572"/>
                </a:lnTo>
                <a:lnTo>
                  <a:pt x="753" y="2545"/>
                </a:lnTo>
                <a:lnTo>
                  <a:pt x="675" y="2515"/>
                </a:lnTo>
                <a:lnTo>
                  <a:pt x="599" y="2481"/>
                </a:lnTo>
                <a:lnTo>
                  <a:pt x="526" y="2443"/>
                </a:lnTo>
                <a:lnTo>
                  <a:pt x="456" y="2399"/>
                </a:lnTo>
                <a:lnTo>
                  <a:pt x="389" y="2353"/>
                </a:lnTo>
                <a:lnTo>
                  <a:pt x="326" y="2302"/>
                </a:lnTo>
                <a:lnTo>
                  <a:pt x="267" y="2247"/>
                </a:lnTo>
                <a:lnTo>
                  <a:pt x="213" y="2188"/>
                </a:lnTo>
                <a:lnTo>
                  <a:pt x="165" y="2124"/>
                </a:lnTo>
                <a:lnTo>
                  <a:pt x="120" y="2056"/>
                </a:lnTo>
                <a:lnTo>
                  <a:pt x="83" y="1983"/>
                </a:lnTo>
                <a:lnTo>
                  <a:pt x="52" y="1906"/>
                </a:lnTo>
                <a:lnTo>
                  <a:pt x="28" y="1824"/>
                </a:lnTo>
                <a:lnTo>
                  <a:pt x="10" y="1738"/>
                </a:lnTo>
                <a:lnTo>
                  <a:pt x="0" y="1648"/>
                </a:lnTo>
                <a:lnTo>
                  <a:pt x="30" y="1113"/>
                </a:lnTo>
                <a:lnTo>
                  <a:pt x="448" y="1054"/>
                </a:lnTo>
                <a:close/>
              </a:path>
            </a:pathLst>
          </a:custGeom>
          <a:solidFill>
            <a:srgbClr val="2a4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52280" y="5334120"/>
            <a:ext cx="797040" cy="1941480"/>
          </a:xfrm>
          <a:custGeom>
            <a:avLst/>
            <a:gdLst/>
            <a:ahLst/>
            <a:rect l="l" t="t" r="r" b="b"/>
            <a:pathLst>
              <a:path w="3248" h="8310">
                <a:moveTo>
                  <a:pt x="425" y="444"/>
                </a:moveTo>
                <a:lnTo>
                  <a:pt x="230" y="137"/>
                </a:lnTo>
                <a:lnTo>
                  <a:pt x="30" y="0"/>
                </a:lnTo>
                <a:lnTo>
                  <a:pt x="14" y="228"/>
                </a:lnTo>
                <a:lnTo>
                  <a:pt x="4" y="465"/>
                </a:lnTo>
                <a:lnTo>
                  <a:pt x="0" y="709"/>
                </a:lnTo>
                <a:lnTo>
                  <a:pt x="2" y="961"/>
                </a:lnTo>
                <a:lnTo>
                  <a:pt x="10" y="1221"/>
                </a:lnTo>
                <a:lnTo>
                  <a:pt x="22" y="1484"/>
                </a:lnTo>
                <a:lnTo>
                  <a:pt x="38" y="1752"/>
                </a:lnTo>
                <a:lnTo>
                  <a:pt x="59" y="2025"/>
                </a:lnTo>
                <a:lnTo>
                  <a:pt x="83" y="2299"/>
                </a:lnTo>
                <a:lnTo>
                  <a:pt x="111" y="2576"/>
                </a:lnTo>
                <a:lnTo>
                  <a:pt x="142" y="2854"/>
                </a:lnTo>
                <a:lnTo>
                  <a:pt x="176" y="3132"/>
                </a:lnTo>
                <a:lnTo>
                  <a:pt x="212" y="3408"/>
                </a:lnTo>
                <a:lnTo>
                  <a:pt x="251" y="3684"/>
                </a:lnTo>
                <a:lnTo>
                  <a:pt x="291" y="3956"/>
                </a:lnTo>
                <a:lnTo>
                  <a:pt x="334" y="4226"/>
                </a:lnTo>
                <a:lnTo>
                  <a:pt x="377" y="4490"/>
                </a:lnTo>
                <a:lnTo>
                  <a:pt x="421" y="4749"/>
                </a:lnTo>
                <a:lnTo>
                  <a:pt x="465" y="5003"/>
                </a:lnTo>
                <a:lnTo>
                  <a:pt x="510" y="5249"/>
                </a:lnTo>
                <a:lnTo>
                  <a:pt x="554" y="5488"/>
                </a:lnTo>
                <a:lnTo>
                  <a:pt x="597" y="5717"/>
                </a:lnTo>
                <a:lnTo>
                  <a:pt x="640" y="5937"/>
                </a:lnTo>
                <a:lnTo>
                  <a:pt x="681" y="6146"/>
                </a:lnTo>
                <a:lnTo>
                  <a:pt x="759" y="6529"/>
                </a:lnTo>
                <a:lnTo>
                  <a:pt x="829" y="6859"/>
                </a:lnTo>
                <a:lnTo>
                  <a:pt x="887" y="7128"/>
                </a:lnTo>
                <a:lnTo>
                  <a:pt x="930" y="7330"/>
                </a:lnTo>
                <a:lnTo>
                  <a:pt x="944" y="7438"/>
                </a:lnTo>
                <a:lnTo>
                  <a:pt x="970" y="7540"/>
                </a:lnTo>
                <a:lnTo>
                  <a:pt x="1008" y="7636"/>
                </a:lnTo>
                <a:lnTo>
                  <a:pt x="1056" y="7726"/>
                </a:lnTo>
                <a:lnTo>
                  <a:pt x="1113" y="7810"/>
                </a:lnTo>
                <a:lnTo>
                  <a:pt x="1180" y="7888"/>
                </a:lnTo>
                <a:lnTo>
                  <a:pt x="1254" y="7959"/>
                </a:lnTo>
                <a:lnTo>
                  <a:pt x="1337" y="8024"/>
                </a:lnTo>
                <a:lnTo>
                  <a:pt x="1424" y="8083"/>
                </a:lnTo>
                <a:lnTo>
                  <a:pt x="1518" y="8135"/>
                </a:lnTo>
                <a:lnTo>
                  <a:pt x="1615" y="8180"/>
                </a:lnTo>
                <a:lnTo>
                  <a:pt x="1717" y="8218"/>
                </a:lnTo>
                <a:lnTo>
                  <a:pt x="1822" y="8251"/>
                </a:lnTo>
                <a:lnTo>
                  <a:pt x="1928" y="8276"/>
                </a:lnTo>
                <a:lnTo>
                  <a:pt x="2036" y="8295"/>
                </a:lnTo>
                <a:lnTo>
                  <a:pt x="2145" y="8306"/>
                </a:lnTo>
                <a:lnTo>
                  <a:pt x="2252" y="8310"/>
                </a:lnTo>
                <a:lnTo>
                  <a:pt x="2359" y="8307"/>
                </a:lnTo>
                <a:lnTo>
                  <a:pt x="2464" y="8298"/>
                </a:lnTo>
                <a:lnTo>
                  <a:pt x="2565" y="8280"/>
                </a:lnTo>
                <a:lnTo>
                  <a:pt x="2662" y="8255"/>
                </a:lnTo>
                <a:lnTo>
                  <a:pt x="2756" y="8224"/>
                </a:lnTo>
                <a:lnTo>
                  <a:pt x="2843" y="8185"/>
                </a:lnTo>
                <a:lnTo>
                  <a:pt x="2925" y="8137"/>
                </a:lnTo>
                <a:lnTo>
                  <a:pt x="2999" y="8083"/>
                </a:lnTo>
                <a:lnTo>
                  <a:pt x="3066" y="8020"/>
                </a:lnTo>
                <a:lnTo>
                  <a:pt x="3122" y="7950"/>
                </a:lnTo>
                <a:lnTo>
                  <a:pt x="3171" y="7873"/>
                </a:lnTo>
                <a:lnTo>
                  <a:pt x="3208" y="7786"/>
                </a:lnTo>
                <a:lnTo>
                  <a:pt x="3233" y="7693"/>
                </a:lnTo>
                <a:lnTo>
                  <a:pt x="3247" y="7591"/>
                </a:lnTo>
                <a:lnTo>
                  <a:pt x="3248" y="7481"/>
                </a:lnTo>
                <a:lnTo>
                  <a:pt x="3194" y="7299"/>
                </a:lnTo>
                <a:lnTo>
                  <a:pt x="3142" y="7116"/>
                </a:lnTo>
                <a:lnTo>
                  <a:pt x="3091" y="6934"/>
                </a:lnTo>
                <a:lnTo>
                  <a:pt x="3042" y="6751"/>
                </a:lnTo>
                <a:lnTo>
                  <a:pt x="2995" y="6568"/>
                </a:lnTo>
                <a:lnTo>
                  <a:pt x="2948" y="6384"/>
                </a:lnTo>
                <a:lnTo>
                  <a:pt x="2903" y="6201"/>
                </a:lnTo>
                <a:lnTo>
                  <a:pt x="2860" y="6016"/>
                </a:lnTo>
                <a:lnTo>
                  <a:pt x="2818" y="5832"/>
                </a:lnTo>
                <a:lnTo>
                  <a:pt x="2777" y="5648"/>
                </a:lnTo>
                <a:lnTo>
                  <a:pt x="2737" y="5464"/>
                </a:lnTo>
                <a:lnTo>
                  <a:pt x="2700" y="5279"/>
                </a:lnTo>
                <a:lnTo>
                  <a:pt x="2663" y="5094"/>
                </a:lnTo>
                <a:lnTo>
                  <a:pt x="2629" y="4909"/>
                </a:lnTo>
                <a:lnTo>
                  <a:pt x="2596" y="4724"/>
                </a:lnTo>
                <a:lnTo>
                  <a:pt x="2564" y="4538"/>
                </a:lnTo>
                <a:lnTo>
                  <a:pt x="2534" y="4352"/>
                </a:lnTo>
                <a:lnTo>
                  <a:pt x="2505" y="4166"/>
                </a:lnTo>
                <a:lnTo>
                  <a:pt x="2477" y="3980"/>
                </a:lnTo>
                <a:lnTo>
                  <a:pt x="2452" y="3794"/>
                </a:lnTo>
                <a:lnTo>
                  <a:pt x="2428" y="3608"/>
                </a:lnTo>
                <a:lnTo>
                  <a:pt x="2405" y="3421"/>
                </a:lnTo>
                <a:lnTo>
                  <a:pt x="2385" y="3233"/>
                </a:lnTo>
                <a:lnTo>
                  <a:pt x="2365" y="3046"/>
                </a:lnTo>
                <a:lnTo>
                  <a:pt x="2347" y="2859"/>
                </a:lnTo>
                <a:lnTo>
                  <a:pt x="2330" y="2671"/>
                </a:lnTo>
                <a:lnTo>
                  <a:pt x="2316" y="2484"/>
                </a:lnTo>
                <a:lnTo>
                  <a:pt x="2302" y="2295"/>
                </a:lnTo>
                <a:lnTo>
                  <a:pt x="2291" y="2106"/>
                </a:lnTo>
                <a:lnTo>
                  <a:pt x="2282" y="1918"/>
                </a:lnTo>
                <a:lnTo>
                  <a:pt x="2274" y="1729"/>
                </a:lnTo>
                <a:lnTo>
                  <a:pt x="2266" y="1539"/>
                </a:lnTo>
                <a:lnTo>
                  <a:pt x="1928" y="1906"/>
                </a:lnTo>
                <a:lnTo>
                  <a:pt x="1928" y="2082"/>
                </a:lnTo>
                <a:lnTo>
                  <a:pt x="1930" y="2259"/>
                </a:lnTo>
                <a:lnTo>
                  <a:pt x="1935" y="2436"/>
                </a:lnTo>
                <a:lnTo>
                  <a:pt x="1942" y="2613"/>
                </a:lnTo>
                <a:lnTo>
                  <a:pt x="1953" y="2790"/>
                </a:lnTo>
                <a:lnTo>
                  <a:pt x="1965" y="2967"/>
                </a:lnTo>
                <a:lnTo>
                  <a:pt x="1978" y="3144"/>
                </a:lnTo>
                <a:lnTo>
                  <a:pt x="1995" y="3321"/>
                </a:lnTo>
                <a:lnTo>
                  <a:pt x="2013" y="3498"/>
                </a:lnTo>
                <a:lnTo>
                  <a:pt x="2034" y="3675"/>
                </a:lnTo>
                <a:lnTo>
                  <a:pt x="2057" y="3852"/>
                </a:lnTo>
                <a:lnTo>
                  <a:pt x="2081" y="4029"/>
                </a:lnTo>
                <a:lnTo>
                  <a:pt x="2108" y="4206"/>
                </a:lnTo>
                <a:lnTo>
                  <a:pt x="2136" y="4383"/>
                </a:lnTo>
                <a:lnTo>
                  <a:pt x="2167" y="4560"/>
                </a:lnTo>
                <a:lnTo>
                  <a:pt x="2198" y="4736"/>
                </a:lnTo>
                <a:lnTo>
                  <a:pt x="2232" y="4913"/>
                </a:lnTo>
                <a:lnTo>
                  <a:pt x="2267" y="5090"/>
                </a:lnTo>
                <a:lnTo>
                  <a:pt x="2304" y="5266"/>
                </a:lnTo>
                <a:lnTo>
                  <a:pt x="2343" y="5442"/>
                </a:lnTo>
                <a:lnTo>
                  <a:pt x="2383" y="5618"/>
                </a:lnTo>
                <a:lnTo>
                  <a:pt x="2425" y="5794"/>
                </a:lnTo>
                <a:lnTo>
                  <a:pt x="2468" y="5969"/>
                </a:lnTo>
                <a:lnTo>
                  <a:pt x="2512" y="6145"/>
                </a:lnTo>
                <a:lnTo>
                  <a:pt x="2557" y="6320"/>
                </a:lnTo>
                <a:lnTo>
                  <a:pt x="2605" y="6496"/>
                </a:lnTo>
                <a:lnTo>
                  <a:pt x="2653" y="6670"/>
                </a:lnTo>
                <a:lnTo>
                  <a:pt x="2701" y="6844"/>
                </a:lnTo>
                <a:lnTo>
                  <a:pt x="2752" y="7019"/>
                </a:lnTo>
                <a:lnTo>
                  <a:pt x="2804" y="7193"/>
                </a:lnTo>
                <a:lnTo>
                  <a:pt x="2857" y="7366"/>
                </a:lnTo>
                <a:lnTo>
                  <a:pt x="2910" y="7540"/>
                </a:lnTo>
                <a:lnTo>
                  <a:pt x="2896" y="7592"/>
                </a:lnTo>
                <a:lnTo>
                  <a:pt x="2874" y="7639"/>
                </a:lnTo>
                <a:lnTo>
                  <a:pt x="2847" y="7682"/>
                </a:lnTo>
                <a:lnTo>
                  <a:pt x="2811" y="7720"/>
                </a:lnTo>
                <a:lnTo>
                  <a:pt x="2769" y="7753"/>
                </a:lnTo>
                <a:lnTo>
                  <a:pt x="2723" y="7780"/>
                </a:lnTo>
                <a:lnTo>
                  <a:pt x="2672" y="7804"/>
                </a:lnTo>
                <a:lnTo>
                  <a:pt x="2615" y="7824"/>
                </a:lnTo>
                <a:lnTo>
                  <a:pt x="2555" y="7839"/>
                </a:lnTo>
                <a:lnTo>
                  <a:pt x="2492" y="7850"/>
                </a:lnTo>
                <a:lnTo>
                  <a:pt x="2425" y="7858"/>
                </a:lnTo>
                <a:lnTo>
                  <a:pt x="2356" y="7863"/>
                </a:lnTo>
                <a:lnTo>
                  <a:pt x="2285" y="7863"/>
                </a:lnTo>
                <a:lnTo>
                  <a:pt x="2213" y="7860"/>
                </a:lnTo>
                <a:lnTo>
                  <a:pt x="2140" y="7853"/>
                </a:lnTo>
                <a:lnTo>
                  <a:pt x="2066" y="7843"/>
                </a:lnTo>
                <a:lnTo>
                  <a:pt x="1993" y="7831"/>
                </a:lnTo>
                <a:lnTo>
                  <a:pt x="1920" y="7815"/>
                </a:lnTo>
                <a:lnTo>
                  <a:pt x="1849" y="7798"/>
                </a:lnTo>
                <a:lnTo>
                  <a:pt x="1779" y="7776"/>
                </a:lnTo>
                <a:lnTo>
                  <a:pt x="1712" y="7754"/>
                </a:lnTo>
                <a:lnTo>
                  <a:pt x="1647" y="7728"/>
                </a:lnTo>
                <a:lnTo>
                  <a:pt x="1585" y="7701"/>
                </a:lnTo>
                <a:lnTo>
                  <a:pt x="1528" y="7671"/>
                </a:lnTo>
                <a:lnTo>
                  <a:pt x="1474" y="7639"/>
                </a:lnTo>
                <a:lnTo>
                  <a:pt x="1426" y="7607"/>
                </a:lnTo>
                <a:lnTo>
                  <a:pt x="1383" y="7572"/>
                </a:lnTo>
                <a:lnTo>
                  <a:pt x="1346" y="7536"/>
                </a:lnTo>
                <a:lnTo>
                  <a:pt x="1315" y="7499"/>
                </a:lnTo>
                <a:lnTo>
                  <a:pt x="1290" y="7460"/>
                </a:lnTo>
                <a:lnTo>
                  <a:pt x="1274" y="7420"/>
                </a:lnTo>
                <a:lnTo>
                  <a:pt x="1266" y="7380"/>
                </a:lnTo>
                <a:lnTo>
                  <a:pt x="1236" y="7259"/>
                </a:lnTo>
                <a:lnTo>
                  <a:pt x="1204" y="7125"/>
                </a:lnTo>
                <a:lnTo>
                  <a:pt x="1171" y="6979"/>
                </a:lnTo>
                <a:lnTo>
                  <a:pt x="1137" y="6823"/>
                </a:lnTo>
                <a:lnTo>
                  <a:pt x="1102" y="6655"/>
                </a:lnTo>
                <a:lnTo>
                  <a:pt x="1066" y="6478"/>
                </a:lnTo>
                <a:lnTo>
                  <a:pt x="1029" y="6292"/>
                </a:lnTo>
                <a:lnTo>
                  <a:pt x="992" y="6099"/>
                </a:lnTo>
                <a:lnTo>
                  <a:pt x="954" y="5899"/>
                </a:lnTo>
                <a:lnTo>
                  <a:pt x="916" y="5692"/>
                </a:lnTo>
                <a:lnTo>
                  <a:pt x="878" y="5482"/>
                </a:lnTo>
                <a:lnTo>
                  <a:pt x="840" y="5266"/>
                </a:lnTo>
                <a:lnTo>
                  <a:pt x="802" y="5047"/>
                </a:lnTo>
                <a:lnTo>
                  <a:pt x="765" y="4825"/>
                </a:lnTo>
                <a:lnTo>
                  <a:pt x="728" y="4602"/>
                </a:lnTo>
                <a:lnTo>
                  <a:pt x="691" y="4378"/>
                </a:lnTo>
                <a:lnTo>
                  <a:pt x="656" y="4155"/>
                </a:lnTo>
                <a:lnTo>
                  <a:pt x="621" y="3932"/>
                </a:lnTo>
                <a:lnTo>
                  <a:pt x="588" y="3711"/>
                </a:lnTo>
                <a:lnTo>
                  <a:pt x="556" y="3493"/>
                </a:lnTo>
                <a:lnTo>
                  <a:pt x="525" y="3278"/>
                </a:lnTo>
                <a:lnTo>
                  <a:pt x="496" y="3068"/>
                </a:lnTo>
                <a:lnTo>
                  <a:pt x="469" y="2863"/>
                </a:lnTo>
                <a:lnTo>
                  <a:pt x="444" y="2665"/>
                </a:lnTo>
                <a:lnTo>
                  <a:pt x="421" y="2472"/>
                </a:lnTo>
                <a:lnTo>
                  <a:pt x="400" y="2289"/>
                </a:lnTo>
                <a:lnTo>
                  <a:pt x="382" y="2114"/>
                </a:lnTo>
                <a:lnTo>
                  <a:pt x="367" y="1949"/>
                </a:lnTo>
                <a:lnTo>
                  <a:pt x="353" y="1794"/>
                </a:lnTo>
                <a:lnTo>
                  <a:pt x="343" y="1651"/>
                </a:lnTo>
                <a:lnTo>
                  <a:pt x="336" y="1520"/>
                </a:lnTo>
                <a:lnTo>
                  <a:pt x="332" y="1403"/>
                </a:lnTo>
                <a:lnTo>
                  <a:pt x="356" y="1013"/>
                </a:lnTo>
                <a:lnTo>
                  <a:pt x="379" y="559"/>
                </a:lnTo>
                <a:lnTo>
                  <a:pt x="425" y="444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735120" y="3436920"/>
            <a:ext cx="1974240" cy="1281240"/>
            <a:chOff x="735120" y="3436920"/>
            <a:chExt cx="1974240" cy="1281240"/>
          </a:xfrm>
        </p:grpSpPr>
        <p:sp>
          <p:nvSpPr>
            <p:cNvPr id="22" name=""/>
            <p:cNvSpPr/>
            <p:nvPr/>
          </p:nvSpPr>
          <p:spPr>
            <a:xfrm>
              <a:off x="1168200" y="3772080"/>
              <a:ext cx="1269720" cy="91584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987200" y="4414680"/>
              <a:ext cx="722160" cy="30348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39440" y="3503520"/>
              <a:ext cx="358560" cy="76212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63160" y="3705120"/>
              <a:ext cx="1269720" cy="91620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82520" y="4348080"/>
              <a:ext cx="721800" cy="30312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5120" y="3436920"/>
              <a:ext cx="358200" cy="76212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c3c08d">
                <a:alpha val="31000"/>
              </a:srgbClr>
            </a:soli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58560" y="3782880"/>
              <a:ext cx="907560" cy="528840"/>
            </a:xfrm>
            <a:custGeom>
              <a:avLst/>
              <a:gdLst/>
              <a:ahLst/>
              <a:rect l="l" t="t" r="r" b="b"/>
              <a:pathLst>
                <a:path w="3736" h="2244">
                  <a:moveTo>
                    <a:pt x="3736" y="0"/>
                  </a:moveTo>
                  <a:lnTo>
                    <a:pt x="3603" y="8"/>
                  </a:lnTo>
                  <a:lnTo>
                    <a:pt x="3408" y="11"/>
                  </a:lnTo>
                  <a:lnTo>
                    <a:pt x="3218" y="15"/>
                  </a:lnTo>
                  <a:lnTo>
                    <a:pt x="3032" y="22"/>
                  </a:lnTo>
                  <a:lnTo>
                    <a:pt x="2850" y="32"/>
                  </a:lnTo>
                  <a:lnTo>
                    <a:pt x="2673" y="44"/>
                  </a:lnTo>
                  <a:lnTo>
                    <a:pt x="2501" y="60"/>
                  </a:lnTo>
                  <a:lnTo>
                    <a:pt x="2333" y="78"/>
                  </a:lnTo>
                  <a:lnTo>
                    <a:pt x="2170" y="100"/>
                  </a:lnTo>
                  <a:lnTo>
                    <a:pt x="2012" y="126"/>
                  </a:lnTo>
                  <a:lnTo>
                    <a:pt x="1860" y="156"/>
                  </a:lnTo>
                  <a:lnTo>
                    <a:pt x="1712" y="190"/>
                  </a:lnTo>
                  <a:lnTo>
                    <a:pt x="1570" y="228"/>
                  </a:lnTo>
                  <a:lnTo>
                    <a:pt x="1433" y="271"/>
                  </a:lnTo>
                  <a:lnTo>
                    <a:pt x="1303" y="318"/>
                  </a:lnTo>
                  <a:lnTo>
                    <a:pt x="1176" y="371"/>
                  </a:lnTo>
                  <a:lnTo>
                    <a:pt x="1057" y="429"/>
                  </a:lnTo>
                  <a:lnTo>
                    <a:pt x="943" y="492"/>
                  </a:lnTo>
                  <a:lnTo>
                    <a:pt x="835" y="561"/>
                  </a:lnTo>
                  <a:lnTo>
                    <a:pt x="732" y="636"/>
                  </a:lnTo>
                  <a:lnTo>
                    <a:pt x="636" y="717"/>
                  </a:lnTo>
                  <a:lnTo>
                    <a:pt x="547" y="805"/>
                  </a:lnTo>
                  <a:lnTo>
                    <a:pt x="463" y="898"/>
                  </a:lnTo>
                  <a:lnTo>
                    <a:pt x="386" y="999"/>
                  </a:lnTo>
                  <a:lnTo>
                    <a:pt x="315" y="1106"/>
                  </a:lnTo>
                  <a:lnTo>
                    <a:pt x="251" y="1221"/>
                  </a:lnTo>
                  <a:lnTo>
                    <a:pt x="195" y="1343"/>
                  </a:lnTo>
                  <a:lnTo>
                    <a:pt x="144" y="1473"/>
                  </a:lnTo>
                  <a:lnTo>
                    <a:pt x="101" y="1611"/>
                  </a:lnTo>
                  <a:lnTo>
                    <a:pt x="65" y="1757"/>
                  </a:lnTo>
                  <a:lnTo>
                    <a:pt x="36" y="1910"/>
                  </a:lnTo>
                  <a:lnTo>
                    <a:pt x="15" y="2074"/>
                  </a:lnTo>
                  <a:lnTo>
                    <a:pt x="0" y="2244"/>
                  </a:lnTo>
                  <a:lnTo>
                    <a:pt x="109" y="2092"/>
                  </a:lnTo>
                  <a:lnTo>
                    <a:pt x="226" y="1945"/>
                  </a:lnTo>
                  <a:lnTo>
                    <a:pt x="349" y="1805"/>
                  </a:lnTo>
                  <a:lnTo>
                    <a:pt x="479" y="1671"/>
                  </a:lnTo>
                  <a:lnTo>
                    <a:pt x="615" y="1542"/>
                  </a:lnTo>
                  <a:lnTo>
                    <a:pt x="754" y="1420"/>
                  </a:lnTo>
                  <a:lnTo>
                    <a:pt x="899" y="1303"/>
                  </a:lnTo>
                  <a:lnTo>
                    <a:pt x="1047" y="1192"/>
                  </a:lnTo>
                  <a:lnTo>
                    <a:pt x="1198" y="1087"/>
                  </a:lnTo>
                  <a:lnTo>
                    <a:pt x="1350" y="988"/>
                  </a:lnTo>
                  <a:lnTo>
                    <a:pt x="1503" y="893"/>
                  </a:lnTo>
                  <a:lnTo>
                    <a:pt x="1658" y="805"/>
                  </a:lnTo>
                  <a:lnTo>
                    <a:pt x="1812" y="720"/>
                  </a:lnTo>
                  <a:lnTo>
                    <a:pt x="1965" y="642"/>
                  </a:lnTo>
                  <a:lnTo>
                    <a:pt x="2116" y="568"/>
                  </a:lnTo>
                  <a:lnTo>
                    <a:pt x="2265" y="500"/>
                  </a:lnTo>
                  <a:lnTo>
                    <a:pt x="2411" y="436"/>
                  </a:lnTo>
                  <a:lnTo>
                    <a:pt x="2552" y="377"/>
                  </a:lnTo>
                  <a:lnTo>
                    <a:pt x="2690" y="323"/>
                  </a:lnTo>
                  <a:lnTo>
                    <a:pt x="2823" y="273"/>
                  </a:lnTo>
                  <a:lnTo>
                    <a:pt x="2948" y="228"/>
                  </a:lnTo>
                  <a:lnTo>
                    <a:pt x="3069" y="187"/>
                  </a:lnTo>
                  <a:lnTo>
                    <a:pt x="3181" y="150"/>
                  </a:lnTo>
                  <a:lnTo>
                    <a:pt x="3285" y="119"/>
                  </a:lnTo>
                  <a:lnTo>
                    <a:pt x="3379" y="90"/>
                  </a:lnTo>
                  <a:lnTo>
                    <a:pt x="3465" y="66"/>
                  </a:lnTo>
                  <a:lnTo>
                    <a:pt x="3540" y="46"/>
                  </a:lnTo>
                  <a:lnTo>
                    <a:pt x="3605" y="29"/>
                  </a:lnTo>
                  <a:lnTo>
                    <a:pt x="3657" y="17"/>
                  </a:lnTo>
                  <a:lnTo>
                    <a:pt x="3696" y="7"/>
                  </a:lnTo>
                  <a:lnTo>
                    <a:pt x="3723" y="2"/>
                  </a:lnTo>
                  <a:lnTo>
                    <a:pt x="3736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253880" y="3824280"/>
              <a:ext cx="950400" cy="636480"/>
            </a:xfrm>
            <a:custGeom>
              <a:avLst/>
              <a:gdLst/>
              <a:ahLst/>
              <a:rect l="l" t="t" r="r" b="b"/>
              <a:pathLst>
                <a:path w="3911" h="2822">
                  <a:moveTo>
                    <a:pt x="0" y="2822"/>
                  </a:moveTo>
                  <a:lnTo>
                    <a:pt x="66" y="2682"/>
                  </a:lnTo>
                  <a:lnTo>
                    <a:pt x="139" y="2545"/>
                  </a:lnTo>
                  <a:lnTo>
                    <a:pt x="217" y="2412"/>
                  </a:lnTo>
                  <a:lnTo>
                    <a:pt x="299" y="2281"/>
                  </a:lnTo>
                  <a:lnTo>
                    <a:pt x="386" y="2154"/>
                  </a:lnTo>
                  <a:lnTo>
                    <a:pt x="478" y="2031"/>
                  </a:lnTo>
                  <a:lnTo>
                    <a:pt x="575" y="1912"/>
                  </a:lnTo>
                  <a:lnTo>
                    <a:pt x="674" y="1794"/>
                  </a:lnTo>
                  <a:lnTo>
                    <a:pt x="779" y="1681"/>
                  </a:lnTo>
                  <a:lnTo>
                    <a:pt x="887" y="1572"/>
                  </a:lnTo>
                  <a:lnTo>
                    <a:pt x="999" y="1465"/>
                  </a:lnTo>
                  <a:lnTo>
                    <a:pt x="1115" y="1363"/>
                  </a:lnTo>
                  <a:lnTo>
                    <a:pt x="1233" y="1263"/>
                  </a:lnTo>
                  <a:lnTo>
                    <a:pt x="1355" y="1166"/>
                  </a:lnTo>
                  <a:lnTo>
                    <a:pt x="1481" y="1074"/>
                  </a:lnTo>
                  <a:lnTo>
                    <a:pt x="1608" y="984"/>
                  </a:lnTo>
                  <a:lnTo>
                    <a:pt x="1739" y="898"/>
                  </a:lnTo>
                  <a:lnTo>
                    <a:pt x="1873" y="814"/>
                  </a:lnTo>
                  <a:lnTo>
                    <a:pt x="2008" y="735"/>
                  </a:lnTo>
                  <a:lnTo>
                    <a:pt x="2146" y="659"/>
                  </a:lnTo>
                  <a:lnTo>
                    <a:pt x="2286" y="586"/>
                  </a:lnTo>
                  <a:lnTo>
                    <a:pt x="2427" y="516"/>
                  </a:lnTo>
                  <a:lnTo>
                    <a:pt x="2571" y="450"/>
                  </a:lnTo>
                  <a:lnTo>
                    <a:pt x="2716" y="386"/>
                  </a:lnTo>
                  <a:lnTo>
                    <a:pt x="2862" y="327"/>
                  </a:lnTo>
                  <a:lnTo>
                    <a:pt x="3010" y="270"/>
                  </a:lnTo>
                  <a:lnTo>
                    <a:pt x="3158" y="217"/>
                  </a:lnTo>
                  <a:lnTo>
                    <a:pt x="3308" y="167"/>
                  </a:lnTo>
                  <a:lnTo>
                    <a:pt x="3458" y="121"/>
                  </a:lnTo>
                  <a:lnTo>
                    <a:pt x="3609" y="77"/>
                  </a:lnTo>
                  <a:lnTo>
                    <a:pt x="3760" y="37"/>
                  </a:lnTo>
                  <a:lnTo>
                    <a:pt x="3911" y="0"/>
                  </a:lnTo>
                  <a:lnTo>
                    <a:pt x="3862" y="115"/>
                  </a:lnTo>
                  <a:lnTo>
                    <a:pt x="3813" y="227"/>
                  </a:lnTo>
                  <a:lnTo>
                    <a:pt x="3762" y="334"/>
                  </a:lnTo>
                  <a:lnTo>
                    <a:pt x="3713" y="438"/>
                  </a:lnTo>
                  <a:lnTo>
                    <a:pt x="3662" y="538"/>
                  </a:lnTo>
                  <a:lnTo>
                    <a:pt x="3612" y="634"/>
                  </a:lnTo>
                  <a:lnTo>
                    <a:pt x="3561" y="727"/>
                  </a:lnTo>
                  <a:lnTo>
                    <a:pt x="3509" y="816"/>
                  </a:lnTo>
                  <a:lnTo>
                    <a:pt x="3456" y="903"/>
                  </a:lnTo>
                  <a:lnTo>
                    <a:pt x="3402" y="987"/>
                  </a:lnTo>
                  <a:lnTo>
                    <a:pt x="3347" y="1067"/>
                  </a:lnTo>
                  <a:lnTo>
                    <a:pt x="3291" y="1144"/>
                  </a:lnTo>
                  <a:lnTo>
                    <a:pt x="3234" y="1220"/>
                  </a:lnTo>
                  <a:lnTo>
                    <a:pt x="3175" y="1292"/>
                  </a:lnTo>
                  <a:lnTo>
                    <a:pt x="3114" y="1361"/>
                  </a:lnTo>
                  <a:lnTo>
                    <a:pt x="3051" y="1428"/>
                  </a:lnTo>
                  <a:lnTo>
                    <a:pt x="2988" y="1494"/>
                  </a:lnTo>
                  <a:lnTo>
                    <a:pt x="2922" y="1557"/>
                  </a:lnTo>
                  <a:lnTo>
                    <a:pt x="2854" y="1618"/>
                  </a:lnTo>
                  <a:lnTo>
                    <a:pt x="2783" y="1676"/>
                  </a:lnTo>
                  <a:lnTo>
                    <a:pt x="2711" y="1733"/>
                  </a:lnTo>
                  <a:lnTo>
                    <a:pt x="2636" y="1788"/>
                  </a:lnTo>
                  <a:lnTo>
                    <a:pt x="2558" y="1842"/>
                  </a:lnTo>
                  <a:lnTo>
                    <a:pt x="2477" y="1893"/>
                  </a:lnTo>
                  <a:lnTo>
                    <a:pt x="2395" y="1945"/>
                  </a:lnTo>
                  <a:lnTo>
                    <a:pt x="2309" y="1994"/>
                  </a:lnTo>
                  <a:lnTo>
                    <a:pt x="2219" y="2042"/>
                  </a:lnTo>
                  <a:lnTo>
                    <a:pt x="2128" y="2089"/>
                  </a:lnTo>
                  <a:lnTo>
                    <a:pt x="2032" y="2135"/>
                  </a:lnTo>
                  <a:lnTo>
                    <a:pt x="1933" y="2180"/>
                  </a:lnTo>
                  <a:lnTo>
                    <a:pt x="1830" y="2225"/>
                  </a:lnTo>
                  <a:lnTo>
                    <a:pt x="1725" y="2269"/>
                  </a:lnTo>
                  <a:lnTo>
                    <a:pt x="1681" y="2286"/>
                  </a:lnTo>
                  <a:lnTo>
                    <a:pt x="1637" y="2302"/>
                  </a:lnTo>
                  <a:lnTo>
                    <a:pt x="1593" y="2315"/>
                  </a:lnTo>
                  <a:lnTo>
                    <a:pt x="1548" y="2328"/>
                  </a:lnTo>
                  <a:lnTo>
                    <a:pt x="1502" y="2342"/>
                  </a:lnTo>
                  <a:lnTo>
                    <a:pt x="1456" y="2353"/>
                  </a:lnTo>
                  <a:lnTo>
                    <a:pt x="1409" y="2364"/>
                  </a:lnTo>
                  <a:lnTo>
                    <a:pt x="1361" y="2375"/>
                  </a:lnTo>
                  <a:lnTo>
                    <a:pt x="1265" y="2395"/>
                  </a:lnTo>
                  <a:lnTo>
                    <a:pt x="1165" y="2415"/>
                  </a:lnTo>
                  <a:lnTo>
                    <a:pt x="1063" y="2435"/>
                  </a:lnTo>
                  <a:lnTo>
                    <a:pt x="957" y="2458"/>
                  </a:lnTo>
                  <a:lnTo>
                    <a:pt x="904" y="2470"/>
                  </a:lnTo>
                  <a:lnTo>
                    <a:pt x="849" y="2483"/>
                  </a:lnTo>
                  <a:lnTo>
                    <a:pt x="794" y="2497"/>
                  </a:lnTo>
                  <a:lnTo>
                    <a:pt x="738" y="2511"/>
                  </a:lnTo>
                  <a:lnTo>
                    <a:pt x="680" y="2528"/>
                  </a:lnTo>
                  <a:lnTo>
                    <a:pt x="623" y="2545"/>
                  </a:lnTo>
                  <a:lnTo>
                    <a:pt x="564" y="2564"/>
                  </a:lnTo>
                  <a:lnTo>
                    <a:pt x="506" y="2584"/>
                  </a:lnTo>
                  <a:lnTo>
                    <a:pt x="445" y="2607"/>
                  </a:lnTo>
                  <a:lnTo>
                    <a:pt x="384" y="2632"/>
                  </a:lnTo>
                  <a:lnTo>
                    <a:pt x="323" y="2657"/>
                  </a:lnTo>
                  <a:lnTo>
                    <a:pt x="260" y="2685"/>
                  </a:lnTo>
                  <a:lnTo>
                    <a:pt x="196" y="2716"/>
                  </a:lnTo>
                  <a:lnTo>
                    <a:pt x="131" y="2749"/>
                  </a:lnTo>
                  <a:lnTo>
                    <a:pt x="66" y="2784"/>
                  </a:lnTo>
                  <a:lnTo>
                    <a:pt x="0" y="282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133360" y="4384800"/>
              <a:ext cx="448920" cy="174600"/>
            </a:xfrm>
            <a:custGeom>
              <a:avLst/>
              <a:gdLst/>
              <a:ahLst/>
              <a:rect l="l" t="t" r="r" b="b"/>
              <a:pathLst>
                <a:path w="1973" h="778">
                  <a:moveTo>
                    <a:pt x="1973" y="778"/>
                  </a:moveTo>
                  <a:lnTo>
                    <a:pt x="1925" y="737"/>
                  </a:lnTo>
                  <a:lnTo>
                    <a:pt x="1861" y="674"/>
                  </a:lnTo>
                  <a:lnTo>
                    <a:pt x="1796" y="613"/>
                  </a:lnTo>
                  <a:lnTo>
                    <a:pt x="1732" y="554"/>
                  </a:lnTo>
                  <a:lnTo>
                    <a:pt x="1668" y="499"/>
                  </a:lnTo>
                  <a:lnTo>
                    <a:pt x="1606" y="444"/>
                  </a:lnTo>
                  <a:lnTo>
                    <a:pt x="1544" y="393"/>
                  </a:lnTo>
                  <a:lnTo>
                    <a:pt x="1482" y="344"/>
                  </a:lnTo>
                  <a:lnTo>
                    <a:pt x="1421" y="298"/>
                  </a:lnTo>
                  <a:lnTo>
                    <a:pt x="1361" y="255"/>
                  </a:lnTo>
                  <a:lnTo>
                    <a:pt x="1300" y="215"/>
                  </a:lnTo>
                  <a:lnTo>
                    <a:pt x="1240" y="178"/>
                  </a:lnTo>
                  <a:lnTo>
                    <a:pt x="1181" y="144"/>
                  </a:lnTo>
                  <a:lnTo>
                    <a:pt x="1121" y="114"/>
                  </a:lnTo>
                  <a:lnTo>
                    <a:pt x="1062" y="86"/>
                  </a:lnTo>
                  <a:lnTo>
                    <a:pt x="1004" y="62"/>
                  </a:lnTo>
                  <a:lnTo>
                    <a:pt x="945" y="42"/>
                  </a:lnTo>
                  <a:lnTo>
                    <a:pt x="887" y="25"/>
                  </a:lnTo>
                  <a:lnTo>
                    <a:pt x="828" y="13"/>
                  </a:lnTo>
                  <a:lnTo>
                    <a:pt x="769" y="5"/>
                  </a:lnTo>
                  <a:lnTo>
                    <a:pt x="712" y="0"/>
                  </a:lnTo>
                  <a:lnTo>
                    <a:pt x="653" y="0"/>
                  </a:lnTo>
                  <a:lnTo>
                    <a:pt x="594" y="3"/>
                  </a:lnTo>
                  <a:lnTo>
                    <a:pt x="536" y="11"/>
                  </a:lnTo>
                  <a:lnTo>
                    <a:pt x="477" y="23"/>
                  </a:lnTo>
                  <a:lnTo>
                    <a:pt x="419" y="41"/>
                  </a:lnTo>
                  <a:lnTo>
                    <a:pt x="360" y="62"/>
                  </a:lnTo>
                  <a:lnTo>
                    <a:pt x="300" y="89"/>
                  </a:lnTo>
                  <a:lnTo>
                    <a:pt x="242" y="121"/>
                  </a:lnTo>
                  <a:lnTo>
                    <a:pt x="182" y="157"/>
                  </a:lnTo>
                  <a:lnTo>
                    <a:pt x="121" y="198"/>
                  </a:lnTo>
                  <a:lnTo>
                    <a:pt x="61" y="246"/>
                  </a:lnTo>
                  <a:lnTo>
                    <a:pt x="0" y="297"/>
                  </a:lnTo>
                  <a:lnTo>
                    <a:pt x="86" y="283"/>
                  </a:lnTo>
                  <a:lnTo>
                    <a:pt x="173" y="272"/>
                  </a:lnTo>
                  <a:lnTo>
                    <a:pt x="260" y="266"/>
                  </a:lnTo>
                  <a:lnTo>
                    <a:pt x="347" y="264"/>
                  </a:lnTo>
                  <a:lnTo>
                    <a:pt x="434" y="266"/>
                  </a:lnTo>
                  <a:lnTo>
                    <a:pt x="520" y="271"/>
                  </a:lnTo>
                  <a:lnTo>
                    <a:pt x="606" y="281"/>
                  </a:lnTo>
                  <a:lnTo>
                    <a:pt x="691" y="292"/>
                  </a:lnTo>
                  <a:lnTo>
                    <a:pt x="775" y="306"/>
                  </a:lnTo>
                  <a:lnTo>
                    <a:pt x="859" y="324"/>
                  </a:lnTo>
                  <a:lnTo>
                    <a:pt x="941" y="342"/>
                  </a:lnTo>
                  <a:lnTo>
                    <a:pt x="1021" y="364"/>
                  </a:lnTo>
                  <a:lnTo>
                    <a:pt x="1099" y="386"/>
                  </a:lnTo>
                  <a:lnTo>
                    <a:pt x="1176" y="410"/>
                  </a:lnTo>
                  <a:lnTo>
                    <a:pt x="1250" y="436"/>
                  </a:lnTo>
                  <a:lnTo>
                    <a:pt x="1322" y="462"/>
                  </a:lnTo>
                  <a:lnTo>
                    <a:pt x="1391" y="488"/>
                  </a:lnTo>
                  <a:lnTo>
                    <a:pt x="1457" y="515"/>
                  </a:lnTo>
                  <a:lnTo>
                    <a:pt x="1520" y="543"/>
                  </a:lnTo>
                  <a:lnTo>
                    <a:pt x="1581" y="570"/>
                  </a:lnTo>
                  <a:lnTo>
                    <a:pt x="1637" y="595"/>
                  </a:lnTo>
                  <a:lnTo>
                    <a:pt x="1690" y="621"/>
                  </a:lnTo>
                  <a:lnTo>
                    <a:pt x="1739" y="646"/>
                  </a:lnTo>
                  <a:lnTo>
                    <a:pt x="1785" y="669"/>
                  </a:lnTo>
                  <a:lnTo>
                    <a:pt x="1861" y="711"/>
                  </a:lnTo>
                  <a:lnTo>
                    <a:pt x="1919" y="744"/>
                  </a:lnTo>
                  <a:lnTo>
                    <a:pt x="1956" y="768"/>
                  </a:lnTo>
                  <a:lnTo>
                    <a:pt x="1973" y="778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90520" y="4471920"/>
              <a:ext cx="491760" cy="138240"/>
            </a:xfrm>
            <a:custGeom>
              <a:avLst/>
              <a:gdLst/>
              <a:ahLst/>
              <a:rect l="l" t="t" r="r" b="b"/>
              <a:pathLst>
                <a:path w="2220" h="663">
                  <a:moveTo>
                    <a:pt x="0" y="124"/>
                  </a:moveTo>
                  <a:lnTo>
                    <a:pt x="68" y="99"/>
                  </a:lnTo>
                  <a:lnTo>
                    <a:pt x="137" y="78"/>
                  </a:lnTo>
                  <a:lnTo>
                    <a:pt x="207" y="59"/>
                  </a:lnTo>
                  <a:lnTo>
                    <a:pt x="277" y="43"/>
                  </a:lnTo>
                  <a:lnTo>
                    <a:pt x="347" y="29"/>
                  </a:lnTo>
                  <a:lnTo>
                    <a:pt x="418" y="19"/>
                  </a:lnTo>
                  <a:lnTo>
                    <a:pt x="489" y="11"/>
                  </a:lnTo>
                  <a:lnTo>
                    <a:pt x="561" y="5"/>
                  </a:lnTo>
                  <a:lnTo>
                    <a:pt x="632" y="1"/>
                  </a:lnTo>
                  <a:lnTo>
                    <a:pt x="704" y="0"/>
                  </a:lnTo>
                  <a:lnTo>
                    <a:pt x="776" y="2"/>
                  </a:lnTo>
                  <a:lnTo>
                    <a:pt x="848" y="6"/>
                  </a:lnTo>
                  <a:lnTo>
                    <a:pt x="920" y="12"/>
                  </a:lnTo>
                  <a:lnTo>
                    <a:pt x="992" y="20"/>
                  </a:lnTo>
                  <a:lnTo>
                    <a:pt x="1064" y="30"/>
                  </a:lnTo>
                  <a:lnTo>
                    <a:pt x="1135" y="43"/>
                  </a:lnTo>
                  <a:lnTo>
                    <a:pt x="1207" y="56"/>
                  </a:lnTo>
                  <a:lnTo>
                    <a:pt x="1278" y="72"/>
                  </a:lnTo>
                  <a:lnTo>
                    <a:pt x="1349" y="91"/>
                  </a:lnTo>
                  <a:lnTo>
                    <a:pt x="1420" y="110"/>
                  </a:lnTo>
                  <a:lnTo>
                    <a:pt x="1490" y="132"/>
                  </a:lnTo>
                  <a:lnTo>
                    <a:pt x="1560" y="156"/>
                  </a:lnTo>
                  <a:lnTo>
                    <a:pt x="1629" y="180"/>
                  </a:lnTo>
                  <a:lnTo>
                    <a:pt x="1698" y="207"/>
                  </a:lnTo>
                  <a:lnTo>
                    <a:pt x="1766" y="235"/>
                  </a:lnTo>
                  <a:lnTo>
                    <a:pt x="1833" y="265"/>
                  </a:lnTo>
                  <a:lnTo>
                    <a:pt x="1899" y="296"/>
                  </a:lnTo>
                  <a:lnTo>
                    <a:pt x="1966" y="328"/>
                  </a:lnTo>
                  <a:lnTo>
                    <a:pt x="2031" y="362"/>
                  </a:lnTo>
                  <a:lnTo>
                    <a:pt x="2095" y="397"/>
                  </a:lnTo>
                  <a:lnTo>
                    <a:pt x="2157" y="433"/>
                  </a:lnTo>
                  <a:lnTo>
                    <a:pt x="2220" y="470"/>
                  </a:lnTo>
                  <a:lnTo>
                    <a:pt x="2166" y="493"/>
                  </a:lnTo>
                  <a:lnTo>
                    <a:pt x="2113" y="514"/>
                  </a:lnTo>
                  <a:lnTo>
                    <a:pt x="2062" y="533"/>
                  </a:lnTo>
                  <a:lnTo>
                    <a:pt x="2011" y="551"/>
                  </a:lnTo>
                  <a:lnTo>
                    <a:pt x="1962" y="567"/>
                  </a:lnTo>
                  <a:lnTo>
                    <a:pt x="1914" y="583"/>
                  </a:lnTo>
                  <a:lnTo>
                    <a:pt x="1866" y="597"/>
                  </a:lnTo>
                  <a:lnTo>
                    <a:pt x="1819" y="609"/>
                  </a:lnTo>
                  <a:lnTo>
                    <a:pt x="1774" y="621"/>
                  </a:lnTo>
                  <a:lnTo>
                    <a:pt x="1729" y="631"/>
                  </a:lnTo>
                  <a:lnTo>
                    <a:pt x="1683" y="639"/>
                  </a:lnTo>
                  <a:lnTo>
                    <a:pt x="1640" y="646"/>
                  </a:lnTo>
                  <a:lnTo>
                    <a:pt x="1596" y="652"/>
                  </a:lnTo>
                  <a:lnTo>
                    <a:pt x="1553" y="657"/>
                  </a:lnTo>
                  <a:lnTo>
                    <a:pt x="1510" y="661"/>
                  </a:lnTo>
                  <a:lnTo>
                    <a:pt x="1467" y="662"/>
                  </a:lnTo>
                  <a:lnTo>
                    <a:pt x="1425" y="663"/>
                  </a:lnTo>
                  <a:lnTo>
                    <a:pt x="1383" y="662"/>
                  </a:lnTo>
                  <a:lnTo>
                    <a:pt x="1340" y="660"/>
                  </a:lnTo>
                  <a:lnTo>
                    <a:pt x="1298" y="657"/>
                  </a:lnTo>
                  <a:lnTo>
                    <a:pt x="1255" y="651"/>
                  </a:lnTo>
                  <a:lnTo>
                    <a:pt x="1212" y="645"/>
                  </a:lnTo>
                  <a:lnTo>
                    <a:pt x="1169" y="637"/>
                  </a:lnTo>
                  <a:lnTo>
                    <a:pt x="1125" y="628"/>
                  </a:lnTo>
                  <a:lnTo>
                    <a:pt x="1082" y="618"/>
                  </a:lnTo>
                  <a:lnTo>
                    <a:pt x="1036" y="606"/>
                  </a:lnTo>
                  <a:lnTo>
                    <a:pt x="991" y="593"/>
                  </a:lnTo>
                  <a:lnTo>
                    <a:pt x="945" y="578"/>
                  </a:lnTo>
                  <a:lnTo>
                    <a:pt x="898" y="562"/>
                  </a:lnTo>
                  <a:lnTo>
                    <a:pt x="851" y="544"/>
                  </a:lnTo>
                  <a:lnTo>
                    <a:pt x="803" y="526"/>
                  </a:lnTo>
                  <a:lnTo>
                    <a:pt x="752" y="505"/>
                  </a:lnTo>
                  <a:lnTo>
                    <a:pt x="733" y="497"/>
                  </a:lnTo>
                  <a:lnTo>
                    <a:pt x="713" y="488"/>
                  </a:lnTo>
                  <a:lnTo>
                    <a:pt x="694" y="478"/>
                  </a:lnTo>
                  <a:lnTo>
                    <a:pt x="675" y="467"/>
                  </a:lnTo>
                  <a:lnTo>
                    <a:pt x="636" y="446"/>
                  </a:lnTo>
                  <a:lnTo>
                    <a:pt x="598" y="422"/>
                  </a:lnTo>
                  <a:lnTo>
                    <a:pt x="559" y="396"/>
                  </a:lnTo>
                  <a:lnTo>
                    <a:pt x="520" y="371"/>
                  </a:lnTo>
                  <a:lnTo>
                    <a:pt x="479" y="344"/>
                  </a:lnTo>
                  <a:lnTo>
                    <a:pt x="437" y="317"/>
                  </a:lnTo>
                  <a:lnTo>
                    <a:pt x="393" y="289"/>
                  </a:lnTo>
                  <a:lnTo>
                    <a:pt x="347" y="263"/>
                  </a:lnTo>
                  <a:lnTo>
                    <a:pt x="322" y="249"/>
                  </a:lnTo>
                  <a:lnTo>
                    <a:pt x="298" y="236"/>
                  </a:lnTo>
                  <a:lnTo>
                    <a:pt x="272" y="224"/>
                  </a:lnTo>
                  <a:lnTo>
                    <a:pt x="246" y="210"/>
                  </a:lnTo>
                  <a:lnTo>
                    <a:pt x="219" y="198"/>
                  </a:lnTo>
                  <a:lnTo>
                    <a:pt x="191" y="187"/>
                  </a:lnTo>
                  <a:lnTo>
                    <a:pt x="161" y="175"/>
                  </a:lnTo>
                  <a:lnTo>
                    <a:pt x="131" y="164"/>
                  </a:lnTo>
                  <a:lnTo>
                    <a:pt x="100" y="153"/>
                  </a:lnTo>
                  <a:lnTo>
                    <a:pt x="68" y="142"/>
                  </a:lnTo>
                  <a:lnTo>
                    <a:pt x="34" y="13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77600" y="3567240"/>
              <a:ext cx="194760" cy="49824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96760" y="3562200"/>
              <a:ext cx="145440" cy="51444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898560" y="4959360"/>
            <a:ext cx="1409760" cy="446040"/>
          </a:xfrm>
          <a:custGeom>
            <a:avLst/>
            <a:gdLst/>
            <a:ahLst/>
            <a:rect l="l" t="t" r="r" b="b"/>
            <a:pathLst>
              <a:path w="5726" h="1900">
                <a:moveTo>
                  <a:pt x="0" y="1900"/>
                </a:moveTo>
                <a:lnTo>
                  <a:pt x="169" y="1737"/>
                </a:lnTo>
                <a:lnTo>
                  <a:pt x="335" y="1581"/>
                </a:lnTo>
                <a:lnTo>
                  <a:pt x="496" y="1433"/>
                </a:lnTo>
                <a:lnTo>
                  <a:pt x="655" y="1293"/>
                </a:lnTo>
                <a:lnTo>
                  <a:pt x="811" y="1162"/>
                </a:lnTo>
                <a:lnTo>
                  <a:pt x="965" y="1037"/>
                </a:lnTo>
                <a:lnTo>
                  <a:pt x="1117" y="921"/>
                </a:lnTo>
                <a:lnTo>
                  <a:pt x="1269" y="811"/>
                </a:lnTo>
                <a:lnTo>
                  <a:pt x="1419" y="709"/>
                </a:lnTo>
                <a:lnTo>
                  <a:pt x="1568" y="614"/>
                </a:lnTo>
                <a:lnTo>
                  <a:pt x="1717" y="527"/>
                </a:lnTo>
                <a:lnTo>
                  <a:pt x="1866" y="447"/>
                </a:lnTo>
                <a:lnTo>
                  <a:pt x="2015" y="373"/>
                </a:lnTo>
                <a:lnTo>
                  <a:pt x="2166" y="307"/>
                </a:lnTo>
                <a:lnTo>
                  <a:pt x="2317" y="246"/>
                </a:lnTo>
                <a:lnTo>
                  <a:pt x="2470" y="194"/>
                </a:lnTo>
                <a:lnTo>
                  <a:pt x="2624" y="148"/>
                </a:lnTo>
                <a:lnTo>
                  <a:pt x="2782" y="107"/>
                </a:lnTo>
                <a:lnTo>
                  <a:pt x="2941" y="75"/>
                </a:lnTo>
                <a:lnTo>
                  <a:pt x="3104" y="47"/>
                </a:lnTo>
                <a:lnTo>
                  <a:pt x="3269" y="26"/>
                </a:lnTo>
                <a:lnTo>
                  <a:pt x="3439" y="12"/>
                </a:lnTo>
                <a:lnTo>
                  <a:pt x="3613" y="4"/>
                </a:lnTo>
                <a:lnTo>
                  <a:pt x="3792" y="0"/>
                </a:lnTo>
                <a:lnTo>
                  <a:pt x="3975" y="4"/>
                </a:lnTo>
                <a:lnTo>
                  <a:pt x="4163" y="13"/>
                </a:lnTo>
                <a:lnTo>
                  <a:pt x="4357" y="28"/>
                </a:lnTo>
                <a:lnTo>
                  <a:pt x="4556" y="48"/>
                </a:lnTo>
                <a:lnTo>
                  <a:pt x="4763" y="75"/>
                </a:lnTo>
                <a:lnTo>
                  <a:pt x="4976" y="105"/>
                </a:lnTo>
                <a:lnTo>
                  <a:pt x="5196" y="142"/>
                </a:lnTo>
                <a:lnTo>
                  <a:pt x="5423" y="185"/>
                </a:lnTo>
                <a:lnTo>
                  <a:pt x="5470" y="198"/>
                </a:lnTo>
                <a:lnTo>
                  <a:pt x="5513" y="212"/>
                </a:lnTo>
                <a:lnTo>
                  <a:pt x="5533" y="221"/>
                </a:lnTo>
                <a:lnTo>
                  <a:pt x="5553" y="228"/>
                </a:lnTo>
                <a:lnTo>
                  <a:pt x="5570" y="236"/>
                </a:lnTo>
                <a:lnTo>
                  <a:pt x="5588" y="244"/>
                </a:lnTo>
                <a:lnTo>
                  <a:pt x="5604" y="253"/>
                </a:lnTo>
                <a:lnTo>
                  <a:pt x="5620" y="262"/>
                </a:lnTo>
                <a:lnTo>
                  <a:pt x="5634" y="271"/>
                </a:lnTo>
                <a:lnTo>
                  <a:pt x="5647" y="280"/>
                </a:lnTo>
                <a:lnTo>
                  <a:pt x="5660" y="291"/>
                </a:lnTo>
                <a:lnTo>
                  <a:pt x="5671" y="300"/>
                </a:lnTo>
                <a:lnTo>
                  <a:pt x="5681" y="310"/>
                </a:lnTo>
                <a:lnTo>
                  <a:pt x="5691" y="320"/>
                </a:lnTo>
                <a:lnTo>
                  <a:pt x="5699" y="332"/>
                </a:lnTo>
                <a:lnTo>
                  <a:pt x="5706" y="343"/>
                </a:lnTo>
                <a:lnTo>
                  <a:pt x="5711" y="354"/>
                </a:lnTo>
                <a:lnTo>
                  <a:pt x="5716" y="367"/>
                </a:lnTo>
                <a:lnTo>
                  <a:pt x="5721" y="379"/>
                </a:lnTo>
                <a:lnTo>
                  <a:pt x="5724" y="391"/>
                </a:lnTo>
                <a:lnTo>
                  <a:pt x="5726" y="405"/>
                </a:lnTo>
                <a:lnTo>
                  <a:pt x="5726" y="417"/>
                </a:lnTo>
                <a:lnTo>
                  <a:pt x="5726" y="431"/>
                </a:lnTo>
                <a:lnTo>
                  <a:pt x="5725" y="445"/>
                </a:lnTo>
                <a:lnTo>
                  <a:pt x="5722" y="460"/>
                </a:lnTo>
                <a:lnTo>
                  <a:pt x="5717" y="475"/>
                </a:lnTo>
                <a:lnTo>
                  <a:pt x="5713" y="490"/>
                </a:lnTo>
                <a:lnTo>
                  <a:pt x="5707" y="505"/>
                </a:lnTo>
                <a:lnTo>
                  <a:pt x="5700" y="522"/>
                </a:lnTo>
                <a:lnTo>
                  <a:pt x="5692" y="538"/>
                </a:lnTo>
                <a:lnTo>
                  <a:pt x="5033" y="1679"/>
                </a:lnTo>
                <a:lnTo>
                  <a:pt x="4828" y="1580"/>
                </a:lnTo>
                <a:lnTo>
                  <a:pt x="5213" y="630"/>
                </a:lnTo>
                <a:lnTo>
                  <a:pt x="5219" y="618"/>
                </a:lnTo>
                <a:lnTo>
                  <a:pt x="5222" y="606"/>
                </a:lnTo>
                <a:lnTo>
                  <a:pt x="5222" y="594"/>
                </a:lnTo>
                <a:lnTo>
                  <a:pt x="5221" y="583"/>
                </a:lnTo>
                <a:lnTo>
                  <a:pt x="5218" y="571"/>
                </a:lnTo>
                <a:lnTo>
                  <a:pt x="5213" y="560"/>
                </a:lnTo>
                <a:lnTo>
                  <a:pt x="5207" y="550"/>
                </a:lnTo>
                <a:lnTo>
                  <a:pt x="5199" y="539"/>
                </a:lnTo>
                <a:lnTo>
                  <a:pt x="5190" y="530"/>
                </a:lnTo>
                <a:lnTo>
                  <a:pt x="5179" y="521"/>
                </a:lnTo>
                <a:lnTo>
                  <a:pt x="5167" y="513"/>
                </a:lnTo>
                <a:lnTo>
                  <a:pt x="5154" y="505"/>
                </a:lnTo>
                <a:lnTo>
                  <a:pt x="5140" y="498"/>
                </a:lnTo>
                <a:lnTo>
                  <a:pt x="5125" y="492"/>
                </a:lnTo>
                <a:lnTo>
                  <a:pt x="5110" y="487"/>
                </a:lnTo>
                <a:lnTo>
                  <a:pt x="5093" y="483"/>
                </a:lnTo>
                <a:lnTo>
                  <a:pt x="4882" y="439"/>
                </a:lnTo>
                <a:lnTo>
                  <a:pt x="4680" y="402"/>
                </a:lnTo>
                <a:lnTo>
                  <a:pt x="4482" y="372"/>
                </a:lnTo>
                <a:lnTo>
                  <a:pt x="4292" y="348"/>
                </a:lnTo>
                <a:lnTo>
                  <a:pt x="4108" y="332"/>
                </a:lnTo>
                <a:lnTo>
                  <a:pt x="3929" y="321"/>
                </a:lnTo>
                <a:lnTo>
                  <a:pt x="3755" y="317"/>
                </a:lnTo>
                <a:lnTo>
                  <a:pt x="3586" y="320"/>
                </a:lnTo>
                <a:lnTo>
                  <a:pt x="3422" y="329"/>
                </a:lnTo>
                <a:lnTo>
                  <a:pt x="3261" y="343"/>
                </a:lnTo>
                <a:lnTo>
                  <a:pt x="3104" y="364"/>
                </a:lnTo>
                <a:lnTo>
                  <a:pt x="2950" y="389"/>
                </a:lnTo>
                <a:lnTo>
                  <a:pt x="2800" y="421"/>
                </a:lnTo>
                <a:lnTo>
                  <a:pt x="2652" y="458"/>
                </a:lnTo>
                <a:lnTo>
                  <a:pt x="2506" y="501"/>
                </a:lnTo>
                <a:lnTo>
                  <a:pt x="2362" y="549"/>
                </a:lnTo>
                <a:lnTo>
                  <a:pt x="2220" y="601"/>
                </a:lnTo>
                <a:lnTo>
                  <a:pt x="2078" y="659"/>
                </a:lnTo>
                <a:lnTo>
                  <a:pt x="1937" y="720"/>
                </a:lnTo>
                <a:lnTo>
                  <a:pt x="1797" y="787"/>
                </a:lnTo>
                <a:lnTo>
                  <a:pt x="1656" y="859"/>
                </a:lnTo>
                <a:lnTo>
                  <a:pt x="1516" y="934"/>
                </a:lnTo>
                <a:lnTo>
                  <a:pt x="1374" y="1015"/>
                </a:lnTo>
                <a:lnTo>
                  <a:pt x="1232" y="1099"/>
                </a:lnTo>
                <a:lnTo>
                  <a:pt x="1087" y="1186"/>
                </a:lnTo>
                <a:lnTo>
                  <a:pt x="941" y="1278"/>
                </a:lnTo>
                <a:lnTo>
                  <a:pt x="791" y="1374"/>
                </a:lnTo>
                <a:lnTo>
                  <a:pt x="640" y="1472"/>
                </a:lnTo>
                <a:lnTo>
                  <a:pt x="327" y="1680"/>
                </a:lnTo>
                <a:lnTo>
                  <a:pt x="0" y="1900"/>
                </a:lnTo>
                <a:close/>
              </a:path>
            </a:pathLst>
          </a:custGeom>
          <a:solidFill>
            <a:srgbClr val="2a4caa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-871560" y="4767120"/>
            <a:ext cx="1193760" cy="2102040"/>
          </a:xfrm>
          <a:custGeom>
            <a:avLst/>
            <a:gdLst/>
            <a:ahLst/>
            <a:rect l="l" t="t" r="r" b="b"/>
            <a:pathLst>
              <a:path w="4845" h="8988">
                <a:moveTo>
                  <a:pt x="4306" y="2475"/>
                </a:moveTo>
                <a:lnTo>
                  <a:pt x="4215" y="2369"/>
                </a:lnTo>
                <a:lnTo>
                  <a:pt x="4124" y="2265"/>
                </a:lnTo>
                <a:lnTo>
                  <a:pt x="4031" y="2162"/>
                </a:lnTo>
                <a:lnTo>
                  <a:pt x="3937" y="2062"/>
                </a:lnTo>
                <a:lnTo>
                  <a:pt x="3841" y="1963"/>
                </a:lnTo>
                <a:lnTo>
                  <a:pt x="3744" y="1865"/>
                </a:lnTo>
                <a:lnTo>
                  <a:pt x="3646" y="1770"/>
                </a:lnTo>
                <a:lnTo>
                  <a:pt x="3547" y="1676"/>
                </a:lnTo>
                <a:lnTo>
                  <a:pt x="3446" y="1584"/>
                </a:lnTo>
                <a:lnTo>
                  <a:pt x="3343" y="1495"/>
                </a:lnTo>
                <a:lnTo>
                  <a:pt x="3239" y="1407"/>
                </a:lnTo>
                <a:lnTo>
                  <a:pt x="3133" y="1320"/>
                </a:lnTo>
                <a:lnTo>
                  <a:pt x="3026" y="1236"/>
                </a:lnTo>
                <a:lnTo>
                  <a:pt x="2918" y="1155"/>
                </a:lnTo>
                <a:lnTo>
                  <a:pt x="2807" y="1074"/>
                </a:lnTo>
                <a:lnTo>
                  <a:pt x="2696" y="996"/>
                </a:lnTo>
                <a:lnTo>
                  <a:pt x="2582" y="920"/>
                </a:lnTo>
                <a:lnTo>
                  <a:pt x="2467" y="846"/>
                </a:lnTo>
                <a:lnTo>
                  <a:pt x="2349" y="774"/>
                </a:lnTo>
                <a:lnTo>
                  <a:pt x="2231" y="704"/>
                </a:lnTo>
                <a:lnTo>
                  <a:pt x="2110" y="636"/>
                </a:lnTo>
                <a:lnTo>
                  <a:pt x="1987" y="570"/>
                </a:lnTo>
                <a:lnTo>
                  <a:pt x="1863" y="508"/>
                </a:lnTo>
                <a:lnTo>
                  <a:pt x="1737" y="446"/>
                </a:lnTo>
                <a:lnTo>
                  <a:pt x="1609" y="387"/>
                </a:lnTo>
                <a:lnTo>
                  <a:pt x="1479" y="331"/>
                </a:lnTo>
                <a:lnTo>
                  <a:pt x="1346" y="276"/>
                </a:lnTo>
                <a:lnTo>
                  <a:pt x="1213" y="225"/>
                </a:lnTo>
                <a:lnTo>
                  <a:pt x="1076" y="175"/>
                </a:lnTo>
                <a:lnTo>
                  <a:pt x="938" y="128"/>
                </a:lnTo>
                <a:lnTo>
                  <a:pt x="798" y="83"/>
                </a:lnTo>
                <a:lnTo>
                  <a:pt x="655" y="41"/>
                </a:lnTo>
                <a:lnTo>
                  <a:pt x="627" y="29"/>
                </a:lnTo>
                <a:lnTo>
                  <a:pt x="599" y="20"/>
                </a:lnTo>
                <a:lnTo>
                  <a:pt x="569" y="13"/>
                </a:lnTo>
                <a:lnTo>
                  <a:pt x="538" y="7"/>
                </a:lnTo>
                <a:lnTo>
                  <a:pt x="507" y="3"/>
                </a:lnTo>
                <a:lnTo>
                  <a:pt x="475" y="1"/>
                </a:lnTo>
                <a:lnTo>
                  <a:pt x="442" y="0"/>
                </a:lnTo>
                <a:lnTo>
                  <a:pt x="410" y="2"/>
                </a:lnTo>
                <a:lnTo>
                  <a:pt x="378" y="4"/>
                </a:lnTo>
                <a:lnTo>
                  <a:pt x="346" y="9"/>
                </a:lnTo>
                <a:lnTo>
                  <a:pt x="314" y="15"/>
                </a:lnTo>
                <a:lnTo>
                  <a:pt x="283" y="22"/>
                </a:lnTo>
                <a:lnTo>
                  <a:pt x="252" y="32"/>
                </a:lnTo>
                <a:lnTo>
                  <a:pt x="222" y="43"/>
                </a:lnTo>
                <a:lnTo>
                  <a:pt x="194" y="56"/>
                </a:lnTo>
                <a:lnTo>
                  <a:pt x="167" y="69"/>
                </a:lnTo>
                <a:lnTo>
                  <a:pt x="141" y="85"/>
                </a:lnTo>
                <a:lnTo>
                  <a:pt x="117" y="102"/>
                </a:lnTo>
                <a:lnTo>
                  <a:pt x="95" y="121"/>
                </a:lnTo>
                <a:lnTo>
                  <a:pt x="74" y="141"/>
                </a:lnTo>
                <a:lnTo>
                  <a:pt x="56" y="163"/>
                </a:lnTo>
                <a:lnTo>
                  <a:pt x="39" y="186"/>
                </a:lnTo>
                <a:lnTo>
                  <a:pt x="26" y="210"/>
                </a:lnTo>
                <a:lnTo>
                  <a:pt x="15" y="236"/>
                </a:lnTo>
                <a:lnTo>
                  <a:pt x="7" y="263"/>
                </a:lnTo>
                <a:lnTo>
                  <a:pt x="2" y="292"/>
                </a:lnTo>
                <a:lnTo>
                  <a:pt x="0" y="320"/>
                </a:lnTo>
                <a:lnTo>
                  <a:pt x="1" y="352"/>
                </a:lnTo>
                <a:lnTo>
                  <a:pt x="6" y="384"/>
                </a:lnTo>
                <a:lnTo>
                  <a:pt x="15" y="418"/>
                </a:lnTo>
                <a:lnTo>
                  <a:pt x="28" y="452"/>
                </a:lnTo>
                <a:lnTo>
                  <a:pt x="44" y="488"/>
                </a:lnTo>
                <a:lnTo>
                  <a:pt x="146" y="677"/>
                </a:lnTo>
                <a:lnTo>
                  <a:pt x="245" y="868"/>
                </a:lnTo>
                <a:lnTo>
                  <a:pt x="339" y="1060"/>
                </a:lnTo>
                <a:lnTo>
                  <a:pt x="431" y="1254"/>
                </a:lnTo>
                <a:lnTo>
                  <a:pt x="519" y="1450"/>
                </a:lnTo>
                <a:lnTo>
                  <a:pt x="604" y="1647"/>
                </a:lnTo>
                <a:lnTo>
                  <a:pt x="685" y="1847"/>
                </a:lnTo>
                <a:lnTo>
                  <a:pt x="763" y="2047"/>
                </a:lnTo>
                <a:lnTo>
                  <a:pt x="838" y="2250"/>
                </a:lnTo>
                <a:lnTo>
                  <a:pt x="911" y="2454"/>
                </a:lnTo>
                <a:lnTo>
                  <a:pt x="981" y="2658"/>
                </a:lnTo>
                <a:lnTo>
                  <a:pt x="1048" y="2864"/>
                </a:lnTo>
                <a:lnTo>
                  <a:pt x="1112" y="3072"/>
                </a:lnTo>
                <a:lnTo>
                  <a:pt x="1174" y="3279"/>
                </a:lnTo>
                <a:lnTo>
                  <a:pt x="1233" y="3488"/>
                </a:lnTo>
                <a:lnTo>
                  <a:pt x="1291" y="3698"/>
                </a:lnTo>
                <a:lnTo>
                  <a:pt x="1345" y="3909"/>
                </a:lnTo>
                <a:lnTo>
                  <a:pt x="1399" y="4120"/>
                </a:lnTo>
                <a:lnTo>
                  <a:pt x="1450" y="4333"/>
                </a:lnTo>
                <a:lnTo>
                  <a:pt x="1499" y="4544"/>
                </a:lnTo>
                <a:lnTo>
                  <a:pt x="1547" y="4757"/>
                </a:lnTo>
                <a:lnTo>
                  <a:pt x="1592" y="4970"/>
                </a:lnTo>
                <a:lnTo>
                  <a:pt x="1637" y="5184"/>
                </a:lnTo>
                <a:lnTo>
                  <a:pt x="1680" y="5397"/>
                </a:lnTo>
                <a:lnTo>
                  <a:pt x="1721" y="5611"/>
                </a:lnTo>
                <a:lnTo>
                  <a:pt x="1761" y="5825"/>
                </a:lnTo>
                <a:lnTo>
                  <a:pt x="1801" y="6039"/>
                </a:lnTo>
                <a:lnTo>
                  <a:pt x="1839" y="6252"/>
                </a:lnTo>
                <a:lnTo>
                  <a:pt x="1876" y="6465"/>
                </a:lnTo>
                <a:lnTo>
                  <a:pt x="1912" y="6678"/>
                </a:lnTo>
                <a:lnTo>
                  <a:pt x="1948" y="6890"/>
                </a:lnTo>
                <a:lnTo>
                  <a:pt x="1983" y="7102"/>
                </a:lnTo>
                <a:lnTo>
                  <a:pt x="1987" y="7124"/>
                </a:lnTo>
                <a:lnTo>
                  <a:pt x="1991" y="7145"/>
                </a:lnTo>
                <a:lnTo>
                  <a:pt x="1997" y="7164"/>
                </a:lnTo>
                <a:lnTo>
                  <a:pt x="2002" y="7184"/>
                </a:lnTo>
                <a:lnTo>
                  <a:pt x="2008" y="7202"/>
                </a:lnTo>
                <a:lnTo>
                  <a:pt x="2014" y="7221"/>
                </a:lnTo>
                <a:lnTo>
                  <a:pt x="2020" y="7238"/>
                </a:lnTo>
                <a:lnTo>
                  <a:pt x="2027" y="7255"/>
                </a:lnTo>
                <a:lnTo>
                  <a:pt x="2035" y="7271"/>
                </a:lnTo>
                <a:lnTo>
                  <a:pt x="2043" y="7286"/>
                </a:lnTo>
                <a:lnTo>
                  <a:pt x="2051" y="7301"/>
                </a:lnTo>
                <a:lnTo>
                  <a:pt x="2059" y="7315"/>
                </a:lnTo>
                <a:lnTo>
                  <a:pt x="2069" y="7329"/>
                </a:lnTo>
                <a:lnTo>
                  <a:pt x="2078" y="7342"/>
                </a:lnTo>
                <a:lnTo>
                  <a:pt x="2088" y="7354"/>
                </a:lnTo>
                <a:lnTo>
                  <a:pt x="2098" y="7367"/>
                </a:lnTo>
                <a:lnTo>
                  <a:pt x="2109" y="7378"/>
                </a:lnTo>
                <a:lnTo>
                  <a:pt x="2119" y="7388"/>
                </a:lnTo>
                <a:lnTo>
                  <a:pt x="2130" y="7399"/>
                </a:lnTo>
                <a:lnTo>
                  <a:pt x="2142" y="7408"/>
                </a:lnTo>
                <a:lnTo>
                  <a:pt x="2153" y="7417"/>
                </a:lnTo>
                <a:lnTo>
                  <a:pt x="2164" y="7425"/>
                </a:lnTo>
                <a:lnTo>
                  <a:pt x="2177" y="7434"/>
                </a:lnTo>
                <a:lnTo>
                  <a:pt x="2189" y="7441"/>
                </a:lnTo>
                <a:lnTo>
                  <a:pt x="2201" y="7448"/>
                </a:lnTo>
                <a:lnTo>
                  <a:pt x="2215" y="7454"/>
                </a:lnTo>
                <a:lnTo>
                  <a:pt x="2228" y="7460"/>
                </a:lnTo>
                <a:lnTo>
                  <a:pt x="2240" y="7465"/>
                </a:lnTo>
                <a:lnTo>
                  <a:pt x="2255" y="7470"/>
                </a:lnTo>
                <a:lnTo>
                  <a:pt x="2268" y="7474"/>
                </a:lnTo>
                <a:lnTo>
                  <a:pt x="2281" y="7478"/>
                </a:lnTo>
                <a:lnTo>
                  <a:pt x="2296" y="7481"/>
                </a:lnTo>
                <a:lnTo>
                  <a:pt x="2389" y="7501"/>
                </a:lnTo>
                <a:lnTo>
                  <a:pt x="2481" y="7524"/>
                </a:lnTo>
                <a:lnTo>
                  <a:pt x="2573" y="7549"/>
                </a:lnTo>
                <a:lnTo>
                  <a:pt x="2662" y="7575"/>
                </a:lnTo>
                <a:lnTo>
                  <a:pt x="2751" y="7604"/>
                </a:lnTo>
                <a:lnTo>
                  <a:pt x="2838" y="7635"/>
                </a:lnTo>
                <a:lnTo>
                  <a:pt x="2924" y="7668"/>
                </a:lnTo>
                <a:lnTo>
                  <a:pt x="3009" y="7703"/>
                </a:lnTo>
                <a:lnTo>
                  <a:pt x="3093" y="7739"/>
                </a:lnTo>
                <a:lnTo>
                  <a:pt x="3175" y="7778"/>
                </a:lnTo>
                <a:lnTo>
                  <a:pt x="3258" y="7818"/>
                </a:lnTo>
                <a:lnTo>
                  <a:pt x="3339" y="7859"/>
                </a:lnTo>
                <a:lnTo>
                  <a:pt x="3419" y="7903"/>
                </a:lnTo>
                <a:lnTo>
                  <a:pt x="3498" y="7948"/>
                </a:lnTo>
                <a:lnTo>
                  <a:pt x="3578" y="7994"/>
                </a:lnTo>
                <a:lnTo>
                  <a:pt x="3655" y="8042"/>
                </a:lnTo>
                <a:lnTo>
                  <a:pt x="3733" y="8092"/>
                </a:lnTo>
                <a:lnTo>
                  <a:pt x="3809" y="8143"/>
                </a:lnTo>
                <a:lnTo>
                  <a:pt x="3885" y="8196"/>
                </a:lnTo>
                <a:lnTo>
                  <a:pt x="3961" y="8250"/>
                </a:lnTo>
                <a:lnTo>
                  <a:pt x="4036" y="8305"/>
                </a:lnTo>
                <a:lnTo>
                  <a:pt x="4110" y="8361"/>
                </a:lnTo>
                <a:lnTo>
                  <a:pt x="4184" y="8419"/>
                </a:lnTo>
                <a:lnTo>
                  <a:pt x="4258" y="8477"/>
                </a:lnTo>
                <a:lnTo>
                  <a:pt x="4333" y="8538"/>
                </a:lnTo>
                <a:lnTo>
                  <a:pt x="4406" y="8599"/>
                </a:lnTo>
                <a:lnTo>
                  <a:pt x="4479" y="8662"/>
                </a:lnTo>
                <a:lnTo>
                  <a:pt x="4553" y="8724"/>
                </a:lnTo>
                <a:lnTo>
                  <a:pt x="4626" y="8789"/>
                </a:lnTo>
                <a:lnTo>
                  <a:pt x="4699" y="8854"/>
                </a:lnTo>
                <a:lnTo>
                  <a:pt x="4771" y="8921"/>
                </a:lnTo>
                <a:lnTo>
                  <a:pt x="4845" y="8988"/>
                </a:lnTo>
                <a:lnTo>
                  <a:pt x="4780" y="8463"/>
                </a:lnTo>
                <a:lnTo>
                  <a:pt x="4674" y="8368"/>
                </a:lnTo>
                <a:lnTo>
                  <a:pt x="4562" y="8270"/>
                </a:lnTo>
                <a:lnTo>
                  <a:pt x="4502" y="8219"/>
                </a:lnTo>
                <a:lnTo>
                  <a:pt x="4442" y="8168"/>
                </a:lnTo>
                <a:lnTo>
                  <a:pt x="4380" y="8116"/>
                </a:lnTo>
                <a:lnTo>
                  <a:pt x="4316" y="8064"/>
                </a:lnTo>
                <a:lnTo>
                  <a:pt x="4250" y="8012"/>
                </a:lnTo>
                <a:lnTo>
                  <a:pt x="4183" y="7960"/>
                </a:lnTo>
                <a:lnTo>
                  <a:pt x="4114" y="7908"/>
                </a:lnTo>
                <a:lnTo>
                  <a:pt x="4046" y="7856"/>
                </a:lnTo>
                <a:lnTo>
                  <a:pt x="3975" y="7805"/>
                </a:lnTo>
                <a:lnTo>
                  <a:pt x="3903" y="7753"/>
                </a:lnTo>
                <a:lnTo>
                  <a:pt x="3829" y="7703"/>
                </a:lnTo>
                <a:lnTo>
                  <a:pt x="3754" y="7654"/>
                </a:lnTo>
                <a:lnTo>
                  <a:pt x="3679" y="7605"/>
                </a:lnTo>
                <a:lnTo>
                  <a:pt x="3603" y="7558"/>
                </a:lnTo>
                <a:lnTo>
                  <a:pt x="3525" y="7513"/>
                </a:lnTo>
                <a:lnTo>
                  <a:pt x="3447" y="7467"/>
                </a:lnTo>
                <a:lnTo>
                  <a:pt x="3369" y="7425"/>
                </a:lnTo>
                <a:lnTo>
                  <a:pt x="3288" y="7384"/>
                </a:lnTo>
                <a:lnTo>
                  <a:pt x="3208" y="7344"/>
                </a:lnTo>
                <a:lnTo>
                  <a:pt x="3127" y="7307"/>
                </a:lnTo>
                <a:lnTo>
                  <a:pt x="3046" y="7272"/>
                </a:lnTo>
                <a:lnTo>
                  <a:pt x="2963" y="7239"/>
                </a:lnTo>
                <a:lnTo>
                  <a:pt x="2881" y="7208"/>
                </a:lnTo>
                <a:lnTo>
                  <a:pt x="2798" y="7181"/>
                </a:lnTo>
                <a:lnTo>
                  <a:pt x="2715" y="7155"/>
                </a:lnTo>
                <a:lnTo>
                  <a:pt x="2631" y="7133"/>
                </a:lnTo>
                <a:lnTo>
                  <a:pt x="2548" y="7114"/>
                </a:lnTo>
                <a:lnTo>
                  <a:pt x="2464" y="7097"/>
                </a:lnTo>
                <a:lnTo>
                  <a:pt x="2444" y="7093"/>
                </a:lnTo>
                <a:lnTo>
                  <a:pt x="2427" y="7089"/>
                </a:lnTo>
                <a:lnTo>
                  <a:pt x="2412" y="7083"/>
                </a:lnTo>
                <a:lnTo>
                  <a:pt x="2399" y="7076"/>
                </a:lnTo>
                <a:lnTo>
                  <a:pt x="2387" y="7068"/>
                </a:lnTo>
                <a:lnTo>
                  <a:pt x="2377" y="7060"/>
                </a:lnTo>
                <a:lnTo>
                  <a:pt x="2369" y="7051"/>
                </a:lnTo>
                <a:lnTo>
                  <a:pt x="2362" y="7041"/>
                </a:lnTo>
                <a:lnTo>
                  <a:pt x="2356" y="7029"/>
                </a:lnTo>
                <a:lnTo>
                  <a:pt x="2350" y="7018"/>
                </a:lnTo>
                <a:lnTo>
                  <a:pt x="2346" y="7007"/>
                </a:lnTo>
                <a:lnTo>
                  <a:pt x="2343" y="6993"/>
                </a:lnTo>
                <a:lnTo>
                  <a:pt x="2337" y="6967"/>
                </a:lnTo>
                <a:lnTo>
                  <a:pt x="2333" y="6937"/>
                </a:lnTo>
                <a:lnTo>
                  <a:pt x="2302" y="6726"/>
                </a:lnTo>
                <a:lnTo>
                  <a:pt x="2270" y="6516"/>
                </a:lnTo>
                <a:lnTo>
                  <a:pt x="2237" y="6308"/>
                </a:lnTo>
                <a:lnTo>
                  <a:pt x="2203" y="6101"/>
                </a:lnTo>
                <a:lnTo>
                  <a:pt x="2169" y="5894"/>
                </a:lnTo>
                <a:lnTo>
                  <a:pt x="2133" y="5688"/>
                </a:lnTo>
                <a:lnTo>
                  <a:pt x="2097" y="5484"/>
                </a:lnTo>
                <a:lnTo>
                  <a:pt x="2059" y="5280"/>
                </a:lnTo>
                <a:lnTo>
                  <a:pt x="2020" y="5076"/>
                </a:lnTo>
                <a:lnTo>
                  <a:pt x="1979" y="4875"/>
                </a:lnTo>
                <a:lnTo>
                  <a:pt x="1937" y="4673"/>
                </a:lnTo>
                <a:lnTo>
                  <a:pt x="1893" y="4472"/>
                </a:lnTo>
                <a:lnTo>
                  <a:pt x="1847" y="4273"/>
                </a:lnTo>
                <a:lnTo>
                  <a:pt x="1800" y="4073"/>
                </a:lnTo>
                <a:lnTo>
                  <a:pt x="1750" y="3875"/>
                </a:lnTo>
                <a:lnTo>
                  <a:pt x="1698" y="3677"/>
                </a:lnTo>
                <a:lnTo>
                  <a:pt x="1645" y="3480"/>
                </a:lnTo>
                <a:lnTo>
                  <a:pt x="1588" y="3284"/>
                </a:lnTo>
                <a:lnTo>
                  <a:pt x="1530" y="3088"/>
                </a:lnTo>
                <a:lnTo>
                  <a:pt x="1469" y="2893"/>
                </a:lnTo>
                <a:lnTo>
                  <a:pt x="1405" y="2698"/>
                </a:lnTo>
                <a:lnTo>
                  <a:pt x="1338" y="2504"/>
                </a:lnTo>
                <a:lnTo>
                  <a:pt x="1269" y="2311"/>
                </a:lnTo>
                <a:lnTo>
                  <a:pt x="1197" y="2117"/>
                </a:lnTo>
                <a:lnTo>
                  <a:pt x="1122" y="1925"/>
                </a:lnTo>
                <a:lnTo>
                  <a:pt x="1044" y="1733"/>
                </a:lnTo>
                <a:lnTo>
                  <a:pt x="962" y="1541"/>
                </a:lnTo>
                <a:lnTo>
                  <a:pt x="877" y="1350"/>
                </a:lnTo>
                <a:lnTo>
                  <a:pt x="789" y="1159"/>
                </a:lnTo>
                <a:lnTo>
                  <a:pt x="696" y="968"/>
                </a:lnTo>
                <a:lnTo>
                  <a:pt x="601" y="778"/>
                </a:lnTo>
                <a:lnTo>
                  <a:pt x="502" y="588"/>
                </a:lnTo>
                <a:lnTo>
                  <a:pt x="498" y="583"/>
                </a:lnTo>
                <a:lnTo>
                  <a:pt x="496" y="578"/>
                </a:lnTo>
                <a:lnTo>
                  <a:pt x="493" y="572"/>
                </a:lnTo>
                <a:lnTo>
                  <a:pt x="492" y="567"/>
                </a:lnTo>
                <a:lnTo>
                  <a:pt x="491" y="561"/>
                </a:lnTo>
                <a:lnTo>
                  <a:pt x="491" y="556"/>
                </a:lnTo>
                <a:lnTo>
                  <a:pt x="491" y="551"/>
                </a:lnTo>
                <a:lnTo>
                  <a:pt x="493" y="545"/>
                </a:lnTo>
                <a:lnTo>
                  <a:pt x="494" y="540"/>
                </a:lnTo>
                <a:lnTo>
                  <a:pt x="496" y="533"/>
                </a:lnTo>
                <a:lnTo>
                  <a:pt x="499" y="528"/>
                </a:lnTo>
                <a:lnTo>
                  <a:pt x="502" y="523"/>
                </a:lnTo>
                <a:lnTo>
                  <a:pt x="511" y="512"/>
                </a:lnTo>
                <a:lnTo>
                  <a:pt x="522" y="502"/>
                </a:lnTo>
                <a:lnTo>
                  <a:pt x="534" y="493"/>
                </a:lnTo>
                <a:lnTo>
                  <a:pt x="548" y="485"/>
                </a:lnTo>
                <a:lnTo>
                  <a:pt x="564" y="478"/>
                </a:lnTo>
                <a:lnTo>
                  <a:pt x="581" y="473"/>
                </a:lnTo>
                <a:lnTo>
                  <a:pt x="600" y="468"/>
                </a:lnTo>
                <a:lnTo>
                  <a:pt x="620" y="465"/>
                </a:lnTo>
                <a:lnTo>
                  <a:pt x="642" y="464"/>
                </a:lnTo>
                <a:lnTo>
                  <a:pt x="664" y="466"/>
                </a:lnTo>
                <a:lnTo>
                  <a:pt x="759" y="479"/>
                </a:lnTo>
                <a:lnTo>
                  <a:pt x="857" y="497"/>
                </a:lnTo>
                <a:lnTo>
                  <a:pt x="957" y="521"/>
                </a:lnTo>
                <a:lnTo>
                  <a:pt x="1058" y="550"/>
                </a:lnTo>
                <a:lnTo>
                  <a:pt x="1162" y="583"/>
                </a:lnTo>
                <a:lnTo>
                  <a:pt x="1268" y="622"/>
                </a:lnTo>
                <a:lnTo>
                  <a:pt x="1377" y="665"/>
                </a:lnTo>
                <a:lnTo>
                  <a:pt x="1487" y="713"/>
                </a:lnTo>
                <a:lnTo>
                  <a:pt x="1598" y="767"/>
                </a:lnTo>
                <a:lnTo>
                  <a:pt x="1712" y="824"/>
                </a:lnTo>
                <a:lnTo>
                  <a:pt x="1826" y="886"/>
                </a:lnTo>
                <a:lnTo>
                  <a:pt x="1942" y="952"/>
                </a:lnTo>
                <a:lnTo>
                  <a:pt x="2058" y="1022"/>
                </a:lnTo>
                <a:lnTo>
                  <a:pt x="2177" y="1097"/>
                </a:lnTo>
                <a:lnTo>
                  <a:pt x="2295" y="1175"/>
                </a:lnTo>
                <a:lnTo>
                  <a:pt x="2414" y="1257"/>
                </a:lnTo>
                <a:lnTo>
                  <a:pt x="2535" y="1344"/>
                </a:lnTo>
                <a:lnTo>
                  <a:pt x="2655" y="1433"/>
                </a:lnTo>
                <a:lnTo>
                  <a:pt x="2775" y="1527"/>
                </a:lnTo>
                <a:lnTo>
                  <a:pt x="2896" y="1625"/>
                </a:lnTo>
                <a:lnTo>
                  <a:pt x="3017" y="1724"/>
                </a:lnTo>
                <a:lnTo>
                  <a:pt x="3138" y="1828"/>
                </a:lnTo>
                <a:lnTo>
                  <a:pt x="3259" y="1934"/>
                </a:lnTo>
                <a:lnTo>
                  <a:pt x="3379" y="2044"/>
                </a:lnTo>
                <a:lnTo>
                  <a:pt x="3498" y="2157"/>
                </a:lnTo>
                <a:lnTo>
                  <a:pt x="3618" y="2273"/>
                </a:lnTo>
                <a:lnTo>
                  <a:pt x="3737" y="2391"/>
                </a:lnTo>
                <a:lnTo>
                  <a:pt x="3854" y="2511"/>
                </a:lnTo>
                <a:lnTo>
                  <a:pt x="3970" y="2635"/>
                </a:lnTo>
                <a:lnTo>
                  <a:pt x="4087" y="2761"/>
                </a:lnTo>
                <a:lnTo>
                  <a:pt x="4201" y="2889"/>
                </a:lnTo>
                <a:lnTo>
                  <a:pt x="4314" y="3019"/>
                </a:lnTo>
                <a:lnTo>
                  <a:pt x="4358" y="3019"/>
                </a:lnTo>
                <a:lnTo>
                  <a:pt x="4398" y="3019"/>
                </a:lnTo>
                <a:lnTo>
                  <a:pt x="4435" y="3017"/>
                </a:lnTo>
                <a:lnTo>
                  <a:pt x="4468" y="3015"/>
                </a:lnTo>
                <a:lnTo>
                  <a:pt x="4497" y="3011"/>
                </a:lnTo>
                <a:lnTo>
                  <a:pt x="4524" y="3006"/>
                </a:lnTo>
                <a:lnTo>
                  <a:pt x="4546" y="3000"/>
                </a:lnTo>
                <a:lnTo>
                  <a:pt x="4565" y="2992"/>
                </a:lnTo>
                <a:lnTo>
                  <a:pt x="4581" y="2984"/>
                </a:lnTo>
                <a:lnTo>
                  <a:pt x="4595" y="2975"/>
                </a:lnTo>
                <a:lnTo>
                  <a:pt x="4605" y="2965"/>
                </a:lnTo>
                <a:lnTo>
                  <a:pt x="4612" y="2952"/>
                </a:lnTo>
                <a:lnTo>
                  <a:pt x="4616" y="2940"/>
                </a:lnTo>
                <a:lnTo>
                  <a:pt x="4618" y="2926"/>
                </a:lnTo>
                <a:lnTo>
                  <a:pt x="4617" y="2910"/>
                </a:lnTo>
                <a:lnTo>
                  <a:pt x="4614" y="2894"/>
                </a:lnTo>
                <a:lnTo>
                  <a:pt x="4608" y="2876"/>
                </a:lnTo>
                <a:lnTo>
                  <a:pt x="4600" y="2858"/>
                </a:lnTo>
                <a:lnTo>
                  <a:pt x="4590" y="2838"/>
                </a:lnTo>
                <a:lnTo>
                  <a:pt x="4578" y="2817"/>
                </a:lnTo>
                <a:lnTo>
                  <a:pt x="4564" y="2795"/>
                </a:lnTo>
                <a:lnTo>
                  <a:pt x="4548" y="2771"/>
                </a:lnTo>
                <a:lnTo>
                  <a:pt x="4530" y="2748"/>
                </a:lnTo>
                <a:lnTo>
                  <a:pt x="4510" y="2722"/>
                </a:lnTo>
                <a:lnTo>
                  <a:pt x="4466" y="2667"/>
                </a:lnTo>
                <a:lnTo>
                  <a:pt x="4418" y="2608"/>
                </a:lnTo>
                <a:lnTo>
                  <a:pt x="4363" y="2544"/>
                </a:lnTo>
                <a:lnTo>
                  <a:pt x="4306" y="2475"/>
                </a:lnTo>
                <a:close/>
              </a:path>
            </a:pathLst>
          </a:custGeom>
          <a:solidFill>
            <a:srgbClr val="00336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154080" y="5203800"/>
            <a:ext cx="2219400" cy="1932120"/>
          </a:xfrm>
          <a:custGeom>
            <a:avLst/>
            <a:gdLst/>
            <a:ahLst/>
            <a:rect l="l" t="t" r="r" b="b"/>
            <a:pathLst>
              <a:path w="8995" h="8286">
                <a:moveTo>
                  <a:pt x="448" y="1054"/>
                </a:moveTo>
                <a:lnTo>
                  <a:pt x="425" y="1391"/>
                </a:lnTo>
                <a:lnTo>
                  <a:pt x="419" y="1456"/>
                </a:lnTo>
                <a:lnTo>
                  <a:pt x="418" y="1519"/>
                </a:lnTo>
                <a:lnTo>
                  <a:pt x="422" y="1580"/>
                </a:lnTo>
                <a:lnTo>
                  <a:pt x="432" y="1638"/>
                </a:lnTo>
                <a:lnTo>
                  <a:pt x="446" y="1695"/>
                </a:lnTo>
                <a:lnTo>
                  <a:pt x="466" y="1749"/>
                </a:lnTo>
                <a:lnTo>
                  <a:pt x="491" y="1801"/>
                </a:lnTo>
                <a:lnTo>
                  <a:pt x="519" y="1850"/>
                </a:lnTo>
                <a:lnTo>
                  <a:pt x="552" y="1896"/>
                </a:lnTo>
                <a:lnTo>
                  <a:pt x="589" y="1940"/>
                </a:lnTo>
                <a:lnTo>
                  <a:pt x="631" y="1981"/>
                </a:lnTo>
                <a:lnTo>
                  <a:pt x="675" y="2018"/>
                </a:lnTo>
                <a:lnTo>
                  <a:pt x="722" y="2053"/>
                </a:lnTo>
                <a:lnTo>
                  <a:pt x="772" y="2084"/>
                </a:lnTo>
                <a:lnTo>
                  <a:pt x="826" y="2111"/>
                </a:lnTo>
                <a:lnTo>
                  <a:pt x="882" y="2135"/>
                </a:lnTo>
                <a:lnTo>
                  <a:pt x="940" y="2156"/>
                </a:lnTo>
                <a:lnTo>
                  <a:pt x="1001" y="2172"/>
                </a:lnTo>
                <a:lnTo>
                  <a:pt x="1063" y="2184"/>
                </a:lnTo>
                <a:lnTo>
                  <a:pt x="1127" y="2194"/>
                </a:lnTo>
                <a:lnTo>
                  <a:pt x="1193" y="2198"/>
                </a:lnTo>
                <a:lnTo>
                  <a:pt x="1260" y="2198"/>
                </a:lnTo>
                <a:lnTo>
                  <a:pt x="1328" y="2194"/>
                </a:lnTo>
                <a:lnTo>
                  <a:pt x="1397" y="2185"/>
                </a:lnTo>
                <a:lnTo>
                  <a:pt x="1466" y="2172"/>
                </a:lnTo>
                <a:lnTo>
                  <a:pt x="1536" y="2154"/>
                </a:lnTo>
                <a:lnTo>
                  <a:pt x="1606" y="2131"/>
                </a:lnTo>
                <a:lnTo>
                  <a:pt x="1676" y="2102"/>
                </a:lnTo>
                <a:lnTo>
                  <a:pt x="1745" y="2069"/>
                </a:lnTo>
                <a:lnTo>
                  <a:pt x="1813" y="2031"/>
                </a:lnTo>
                <a:lnTo>
                  <a:pt x="1882" y="1987"/>
                </a:lnTo>
                <a:lnTo>
                  <a:pt x="1949" y="1938"/>
                </a:lnTo>
                <a:lnTo>
                  <a:pt x="2061" y="1812"/>
                </a:lnTo>
                <a:lnTo>
                  <a:pt x="2179" y="1688"/>
                </a:lnTo>
                <a:lnTo>
                  <a:pt x="2302" y="1565"/>
                </a:lnTo>
                <a:lnTo>
                  <a:pt x="2432" y="1444"/>
                </a:lnTo>
                <a:lnTo>
                  <a:pt x="2566" y="1326"/>
                </a:lnTo>
                <a:lnTo>
                  <a:pt x="2707" y="1210"/>
                </a:lnTo>
                <a:lnTo>
                  <a:pt x="2854" y="1097"/>
                </a:lnTo>
                <a:lnTo>
                  <a:pt x="3007" y="988"/>
                </a:lnTo>
                <a:lnTo>
                  <a:pt x="3164" y="883"/>
                </a:lnTo>
                <a:lnTo>
                  <a:pt x="3328" y="782"/>
                </a:lnTo>
                <a:lnTo>
                  <a:pt x="3496" y="685"/>
                </a:lnTo>
                <a:lnTo>
                  <a:pt x="3671" y="593"/>
                </a:lnTo>
                <a:lnTo>
                  <a:pt x="3851" y="507"/>
                </a:lnTo>
                <a:lnTo>
                  <a:pt x="4036" y="426"/>
                </a:lnTo>
                <a:lnTo>
                  <a:pt x="4227" y="351"/>
                </a:lnTo>
                <a:lnTo>
                  <a:pt x="4422" y="282"/>
                </a:lnTo>
                <a:lnTo>
                  <a:pt x="4624" y="219"/>
                </a:lnTo>
                <a:lnTo>
                  <a:pt x="4829" y="164"/>
                </a:lnTo>
                <a:lnTo>
                  <a:pt x="5040" y="116"/>
                </a:lnTo>
                <a:lnTo>
                  <a:pt x="5257" y="76"/>
                </a:lnTo>
                <a:lnTo>
                  <a:pt x="5478" y="44"/>
                </a:lnTo>
                <a:lnTo>
                  <a:pt x="5705" y="21"/>
                </a:lnTo>
                <a:lnTo>
                  <a:pt x="5936" y="6"/>
                </a:lnTo>
                <a:lnTo>
                  <a:pt x="6173" y="0"/>
                </a:lnTo>
                <a:lnTo>
                  <a:pt x="6413" y="4"/>
                </a:lnTo>
                <a:lnTo>
                  <a:pt x="6659" y="17"/>
                </a:lnTo>
                <a:lnTo>
                  <a:pt x="6910" y="41"/>
                </a:lnTo>
                <a:lnTo>
                  <a:pt x="7165" y="76"/>
                </a:lnTo>
                <a:lnTo>
                  <a:pt x="7426" y="121"/>
                </a:lnTo>
                <a:lnTo>
                  <a:pt x="7690" y="178"/>
                </a:lnTo>
                <a:lnTo>
                  <a:pt x="7959" y="247"/>
                </a:lnTo>
                <a:lnTo>
                  <a:pt x="8233" y="327"/>
                </a:lnTo>
                <a:lnTo>
                  <a:pt x="8281" y="350"/>
                </a:lnTo>
                <a:lnTo>
                  <a:pt x="8330" y="371"/>
                </a:lnTo>
                <a:lnTo>
                  <a:pt x="8377" y="391"/>
                </a:lnTo>
                <a:lnTo>
                  <a:pt x="8423" y="410"/>
                </a:lnTo>
                <a:lnTo>
                  <a:pt x="8513" y="446"/>
                </a:lnTo>
                <a:lnTo>
                  <a:pt x="8597" y="481"/>
                </a:lnTo>
                <a:lnTo>
                  <a:pt x="8637" y="499"/>
                </a:lnTo>
                <a:lnTo>
                  <a:pt x="8676" y="516"/>
                </a:lnTo>
                <a:lnTo>
                  <a:pt x="8713" y="535"/>
                </a:lnTo>
                <a:lnTo>
                  <a:pt x="8748" y="554"/>
                </a:lnTo>
                <a:lnTo>
                  <a:pt x="8782" y="575"/>
                </a:lnTo>
                <a:lnTo>
                  <a:pt x="8814" y="596"/>
                </a:lnTo>
                <a:lnTo>
                  <a:pt x="8843" y="620"/>
                </a:lnTo>
                <a:lnTo>
                  <a:pt x="8870" y="645"/>
                </a:lnTo>
                <a:lnTo>
                  <a:pt x="8894" y="673"/>
                </a:lnTo>
                <a:lnTo>
                  <a:pt x="8917" y="701"/>
                </a:lnTo>
                <a:lnTo>
                  <a:pt x="8937" y="733"/>
                </a:lnTo>
                <a:lnTo>
                  <a:pt x="8954" y="768"/>
                </a:lnTo>
                <a:lnTo>
                  <a:pt x="8968" y="806"/>
                </a:lnTo>
                <a:lnTo>
                  <a:pt x="8980" y="846"/>
                </a:lnTo>
                <a:lnTo>
                  <a:pt x="8988" y="891"/>
                </a:lnTo>
                <a:lnTo>
                  <a:pt x="8993" y="938"/>
                </a:lnTo>
                <a:lnTo>
                  <a:pt x="8995" y="990"/>
                </a:lnTo>
                <a:lnTo>
                  <a:pt x="8993" y="1046"/>
                </a:lnTo>
                <a:lnTo>
                  <a:pt x="8989" y="1106"/>
                </a:lnTo>
                <a:lnTo>
                  <a:pt x="8980" y="1170"/>
                </a:lnTo>
                <a:lnTo>
                  <a:pt x="8967" y="1240"/>
                </a:lnTo>
                <a:lnTo>
                  <a:pt x="8952" y="1314"/>
                </a:lnTo>
                <a:lnTo>
                  <a:pt x="8931" y="1394"/>
                </a:lnTo>
                <a:lnTo>
                  <a:pt x="8908" y="1479"/>
                </a:lnTo>
                <a:lnTo>
                  <a:pt x="8868" y="1628"/>
                </a:lnTo>
                <a:lnTo>
                  <a:pt x="8831" y="1778"/>
                </a:lnTo>
                <a:lnTo>
                  <a:pt x="8796" y="1928"/>
                </a:lnTo>
                <a:lnTo>
                  <a:pt x="8764" y="2078"/>
                </a:lnTo>
                <a:lnTo>
                  <a:pt x="8735" y="2229"/>
                </a:lnTo>
                <a:lnTo>
                  <a:pt x="8708" y="2379"/>
                </a:lnTo>
                <a:lnTo>
                  <a:pt x="8686" y="2530"/>
                </a:lnTo>
                <a:lnTo>
                  <a:pt x="8664" y="2681"/>
                </a:lnTo>
                <a:lnTo>
                  <a:pt x="8646" y="2832"/>
                </a:lnTo>
                <a:lnTo>
                  <a:pt x="8629" y="2985"/>
                </a:lnTo>
                <a:lnTo>
                  <a:pt x="8616" y="3137"/>
                </a:lnTo>
                <a:lnTo>
                  <a:pt x="8604" y="3290"/>
                </a:lnTo>
                <a:lnTo>
                  <a:pt x="8595" y="3443"/>
                </a:lnTo>
                <a:lnTo>
                  <a:pt x="8588" y="3598"/>
                </a:lnTo>
                <a:lnTo>
                  <a:pt x="8584" y="3752"/>
                </a:lnTo>
                <a:lnTo>
                  <a:pt x="8581" y="3907"/>
                </a:lnTo>
                <a:lnTo>
                  <a:pt x="8580" y="4064"/>
                </a:lnTo>
                <a:lnTo>
                  <a:pt x="8582" y="4220"/>
                </a:lnTo>
                <a:lnTo>
                  <a:pt x="8585" y="4378"/>
                </a:lnTo>
                <a:lnTo>
                  <a:pt x="8589" y="4537"/>
                </a:lnTo>
                <a:lnTo>
                  <a:pt x="8596" y="4695"/>
                </a:lnTo>
                <a:lnTo>
                  <a:pt x="8604" y="4855"/>
                </a:lnTo>
                <a:lnTo>
                  <a:pt x="8615" y="5016"/>
                </a:lnTo>
                <a:lnTo>
                  <a:pt x="8626" y="5178"/>
                </a:lnTo>
                <a:lnTo>
                  <a:pt x="8639" y="5341"/>
                </a:lnTo>
                <a:lnTo>
                  <a:pt x="8654" y="5504"/>
                </a:lnTo>
                <a:lnTo>
                  <a:pt x="8670" y="5670"/>
                </a:lnTo>
                <a:lnTo>
                  <a:pt x="8687" y="5836"/>
                </a:lnTo>
                <a:lnTo>
                  <a:pt x="8705" y="6002"/>
                </a:lnTo>
                <a:lnTo>
                  <a:pt x="8726" y="6171"/>
                </a:lnTo>
                <a:lnTo>
                  <a:pt x="8746" y="6341"/>
                </a:lnTo>
                <a:lnTo>
                  <a:pt x="8768" y="6511"/>
                </a:lnTo>
                <a:lnTo>
                  <a:pt x="8777" y="6550"/>
                </a:lnTo>
                <a:lnTo>
                  <a:pt x="8783" y="6587"/>
                </a:lnTo>
                <a:lnTo>
                  <a:pt x="8788" y="6622"/>
                </a:lnTo>
                <a:lnTo>
                  <a:pt x="8792" y="6655"/>
                </a:lnTo>
                <a:lnTo>
                  <a:pt x="8793" y="6686"/>
                </a:lnTo>
                <a:lnTo>
                  <a:pt x="8792" y="6716"/>
                </a:lnTo>
                <a:lnTo>
                  <a:pt x="8790" y="6744"/>
                </a:lnTo>
                <a:lnTo>
                  <a:pt x="8785" y="6770"/>
                </a:lnTo>
                <a:lnTo>
                  <a:pt x="8779" y="6793"/>
                </a:lnTo>
                <a:lnTo>
                  <a:pt x="8772" y="6815"/>
                </a:lnTo>
                <a:lnTo>
                  <a:pt x="8764" y="6835"/>
                </a:lnTo>
                <a:lnTo>
                  <a:pt x="8754" y="6854"/>
                </a:lnTo>
                <a:lnTo>
                  <a:pt x="8741" y="6871"/>
                </a:lnTo>
                <a:lnTo>
                  <a:pt x="8728" y="6887"/>
                </a:lnTo>
                <a:lnTo>
                  <a:pt x="8714" y="6900"/>
                </a:lnTo>
                <a:lnTo>
                  <a:pt x="8698" y="6912"/>
                </a:lnTo>
                <a:lnTo>
                  <a:pt x="8682" y="6924"/>
                </a:lnTo>
                <a:lnTo>
                  <a:pt x="8663" y="6933"/>
                </a:lnTo>
                <a:lnTo>
                  <a:pt x="8644" y="6940"/>
                </a:lnTo>
                <a:lnTo>
                  <a:pt x="8624" y="6947"/>
                </a:lnTo>
                <a:lnTo>
                  <a:pt x="8602" y="6953"/>
                </a:lnTo>
                <a:lnTo>
                  <a:pt x="8581" y="6956"/>
                </a:lnTo>
                <a:lnTo>
                  <a:pt x="8558" y="6959"/>
                </a:lnTo>
                <a:lnTo>
                  <a:pt x="8533" y="6960"/>
                </a:lnTo>
                <a:lnTo>
                  <a:pt x="8509" y="6959"/>
                </a:lnTo>
                <a:lnTo>
                  <a:pt x="8483" y="6958"/>
                </a:lnTo>
                <a:lnTo>
                  <a:pt x="8457" y="6956"/>
                </a:lnTo>
                <a:lnTo>
                  <a:pt x="8431" y="6952"/>
                </a:lnTo>
                <a:lnTo>
                  <a:pt x="8403" y="6946"/>
                </a:lnTo>
                <a:lnTo>
                  <a:pt x="8375" y="6941"/>
                </a:lnTo>
                <a:lnTo>
                  <a:pt x="8346" y="6934"/>
                </a:lnTo>
                <a:lnTo>
                  <a:pt x="8317" y="6926"/>
                </a:lnTo>
                <a:lnTo>
                  <a:pt x="8115" y="6872"/>
                </a:lnTo>
                <a:lnTo>
                  <a:pt x="7911" y="6827"/>
                </a:lnTo>
                <a:lnTo>
                  <a:pt x="7705" y="6792"/>
                </a:lnTo>
                <a:lnTo>
                  <a:pt x="7499" y="6765"/>
                </a:lnTo>
                <a:lnTo>
                  <a:pt x="7292" y="6747"/>
                </a:lnTo>
                <a:lnTo>
                  <a:pt x="7084" y="6737"/>
                </a:lnTo>
                <a:lnTo>
                  <a:pt x="6876" y="6735"/>
                </a:lnTo>
                <a:lnTo>
                  <a:pt x="6670" y="6739"/>
                </a:lnTo>
                <a:lnTo>
                  <a:pt x="6464" y="6751"/>
                </a:lnTo>
                <a:lnTo>
                  <a:pt x="6260" y="6771"/>
                </a:lnTo>
                <a:lnTo>
                  <a:pt x="6058" y="6795"/>
                </a:lnTo>
                <a:lnTo>
                  <a:pt x="5857" y="6827"/>
                </a:lnTo>
                <a:lnTo>
                  <a:pt x="5658" y="6865"/>
                </a:lnTo>
                <a:lnTo>
                  <a:pt x="5464" y="6908"/>
                </a:lnTo>
                <a:lnTo>
                  <a:pt x="5273" y="6957"/>
                </a:lnTo>
                <a:lnTo>
                  <a:pt x="5084" y="7009"/>
                </a:lnTo>
                <a:lnTo>
                  <a:pt x="4901" y="7068"/>
                </a:lnTo>
                <a:lnTo>
                  <a:pt x="4722" y="7131"/>
                </a:lnTo>
                <a:lnTo>
                  <a:pt x="4547" y="7196"/>
                </a:lnTo>
                <a:lnTo>
                  <a:pt x="4379" y="7266"/>
                </a:lnTo>
                <a:lnTo>
                  <a:pt x="4216" y="7340"/>
                </a:lnTo>
                <a:lnTo>
                  <a:pt x="4060" y="7416"/>
                </a:lnTo>
                <a:lnTo>
                  <a:pt x="3910" y="7496"/>
                </a:lnTo>
                <a:lnTo>
                  <a:pt x="3767" y="7578"/>
                </a:lnTo>
                <a:lnTo>
                  <a:pt x="3631" y="7662"/>
                </a:lnTo>
                <a:lnTo>
                  <a:pt x="3502" y="7748"/>
                </a:lnTo>
                <a:lnTo>
                  <a:pt x="3383" y="7835"/>
                </a:lnTo>
                <a:lnTo>
                  <a:pt x="3272" y="7925"/>
                </a:lnTo>
                <a:lnTo>
                  <a:pt x="3170" y="8014"/>
                </a:lnTo>
                <a:lnTo>
                  <a:pt x="3077" y="8105"/>
                </a:lnTo>
                <a:lnTo>
                  <a:pt x="2994" y="8195"/>
                </a:lnTo>
                <a:lnTo>
                  <a:pt x="2921" y="8286"/>
                </a:lnTo>
                <a:lnTo>
                  <a:pt x="2753" y="7948"/>
                </a:lnTo>
                <a:lnTo>
                  <a:pt x="2854" y="7832"/>
                </a:lnTo>
                <a:lnTo>
                  <a:pt x="2969" y="7718"/>
                </a:lnTo>
                <a:lnTo>
                  <a:pt x="3093" y="7607"/>
                </a:lnTo>
                <a:lnTo>
                  <a:pt x="3228" y="7500"/>
                </a:lnTo>
                <a:lnTo>
                  <a:pt x="3373" y="7395"/>
                </a:lnTo>
                <a:lnTo>
                  <a:pt x="3527" y="7294"/>
                </a:lnTo>
                <a:lnTo>
                  <a:pt x="3689" y="7196"/>
                </a:lnTo>
                <a:lnTo>
                  <a:pt x="3858" y="7103"/>
                </a:lnTo>
                <a:lnTo>
                  <a:pt x="4034" y="7013"/>
                </a:lnTo>
                <a:lnTo>
                  <a:pt x="4217" y="6928"/>
                </a:lnTo>
                <a:lnTo>
                  <a:pt x="4405" y="6848"/>
                </a:lnTo>
                <a:lnTo>
                  <a:pt x="4597" y="6772"/>
                </a:lnTo>
                <a:lnTo>
                  <a:pt x="4794" y="6702"/>
                </a:lnTo>
                <a:lnTo>
                  <a:pt x="4994" y="6636"/>
                </a:lnTo>
                <a:lnTo>
                  <a:pt x="5197" y="6576"/>
                </a:lnTo>
                <a:lnTo>
                  <a:pt x="5401" y="6522"/>
                </a:lnTo>
                <a:lnTo>
                  <a:pt x="5607" y="6473"/>
                </a:lnTo>
                <a:lnTo>
                  <a:pt x="5814" y="6430"/>
                </a:lnTo>
                <a:lnTo>
                  <a:pt x="6019" y="6394"/>
                </a:lnTo>
                <a:lnTo>
                  <a:pt x="6225" y="6364"/>
                </a:lnTo>
                <a:lnTo>
                  <a:pt x="6429" y="6342"/>
                </a:lnTo>
                <a:lnTo>
                  <a:pt x="6630" y="6326"/>
                </a:lnTo>
                <a:lnTo>
                  <a:pt x="6830" y="6317"/>
                </a:lnTo>
                <a:lnTo>
                  <a:pt x="7025" y="6316"/>
                </a:lnTo>
                <a:lnTo>
                  <a:pt x="7216" y="6322"/>
                </a:lnTo>
                <a:lnTo>
                  <a:pt x="7402" y="6337"/>
                </a:lnTo>
                <a:lnTo>
                  <a:pt x="7582" y="6358"/>
                </a:lnTo>
                <a:lnTo>
                  <a:pt x="7756" y="6389"/>
                </a:lnTo>
                <a:lnTo>
                  <a:pt x="7922" y="6428"/>
                </a:lnTo>
                <a:lnTo>
                  <a:pt x="8081" y="6475"/>
                </a:lnTo>
                <a:lnTo>
                  <a:pt x="8231" y="6532"/>
                </a:lnTo>
                <a:lnTo>
                  <a:pt x="8373" y="6598"/>
                </a:lnTo>
                <a:lnTo>
                  <a:pt x="8356" y="6432"/>
                </a:lnTo>
                <a:lnTo>
                  <a:pt x="8341" y="6266"/>
                </a:lnTo>
                <a:lnTo>
                  <a:pt x="8327" y="6099"/>
                </a:lnTo>
                <a:lnTo>
                  <a:pt x="8313" y="5933"/>
                </a:lnTo>
                <a:lnTo>
                  <a:pt x="8301" y="5768"/>
                </a:lnTo>
                <a:lnTo>
                  <a:pt x="8290" y="5601"/>
                </a:lnTo>
                <a:lnTo>
                  <a:pt x="8279" y="5436"/>
                </a:lnTo>
                <a:lnTo>
                  <a:pt x="8271" y="5270"/>
                </a:lnTo>
                <a:lnTo>
                  <a:pt x="8263" y="5104"/>
                </a:lnTo>
                <a:lnTo>
                  <a:pt x="8257" y="4940"/>
                </a:lnTo>
                <a:lnTo>
                  <a:pt x="8252" y="4774"/>
                </a:lnTo>
                <a:lnTo>
                  <a:pt x="8247" y="4610"/>
                </a:lnTo>
                <a:lnTo>
                  <a:pt x="8245" y="4444"/>
                </a:lnTo>
                <a:lnTo>
                  <a:pt x="8244" y="4280"/>
                </a:lnTo>
                <a:lnTo>
                  <a:pt x="8244" y="4115"/>
                </a:lnTo>
                <a:lnTo>
                  <a:pt x="8245" y="3950"/>
                </a:lnTo>
                <a:lnTo>
                  <a:pt x="8248" y="3786"/>
                </a:lnTo>
                <a:lnTo>
                  <a:pt x="8254" y="3621"/>
                </a:lnTo>
                <a:lnTo>
                  <a:pt x="8259" y="3457"/>
                </a:lnTo>
                <a:lnTo>
                  <a:pt x="8267" y="3293"/>
                </a:lnTo>
                <a:lnTo>
                  <a:pt x="8276" y="3129"/>
                </a:lnTo>
                <a:lnTo>
                  <a:pt x="8287" y="2965"/>
                </a:lnTo>
                <a:lnTo>
                  <a:pt x="8299" y="2802"/>
                </a:lnTo>
                <a:lnTo>
                  <a:pt x="8313" y="2638"/>
                </a:lnTo>
                <a:lnTo>
                  <a:pt x="8329" y="2475"/>
                </a:lnTo>
                <a:lnTo>
                  <a:pt x="8346" y="2311"/>
                </a:lnTo>
                <a:lnTo>
                  <a:pt x="8366" y="2147"/>
                </a:lnTo>
                <a:lnTo>
                  <a:pt x="8386" y="1985"/>
                </a:lnTo>
                <a:lnTo>
                  <a:pt x="8409" y="1821"/>
                </a:lnTo>
                <a:lnTo>
                  <a:pt x="8434" y="1659"/>
                </a:lnTo>
                <a:lnTo>
                  <a:pt x="8460" y="1496"/>
                </a:lnTo>
                <a:lnTo>
                  <a:pt x="8489" y="1334"/>
                </a:lnTo>
                <a:lnTo>
                  <a:pt x="8499" y="1307"/>
                </a:lnTo>
                <a:lnTo>
                  <a:pt x="8510" y="1282"/>
                </a:lnTo>
                <a:lnTo>
                  <a:pt x="8517" y="1257"/>
                </a:lnTo>
                <a:lnTo>
                  <a:pt x="8524" y="1232"/>
                </a:lnTo>
                <a:lnTo>
                  <a:pt x="8529" y="1208"/>
                </a:lnTo>
                <a:lnTo>
                  <a:pt x="8532" y="1185"/>
                </a:lnTo>
                <a:lnTo>
                  <a:pt x="8534" y="1161"/>
                </a:lnTo>
                <a:lnTo>
                  <a:pt x="8534" y="1138"/>
                </a:lnTo>
                <a:lnTo>
                  <a:pt x="8533" y="1116"/>
                </a:lnTo>
                <a:lnTo>
                  <a:pt x="8531" y="1093"/>
                </a:lnTo>
                <a:lnTo>
                  <a:pt x="8527" y="1072"/>
                </a:lnTo>
                <a:lnTo>
                  <a:pt x="8521" y="1051"/>
                </a:lnTo>
                <a:lnTo>
                  <a:pt x="8515" y="1029"/>
                </a:lnTo>
                <a:lnTo>
                  <a:pt x="8506" y="1010"/>
                </a:lnTo>
                <a:lnTo>
                  <a:pt x="8495" y="989"/>
                </a:lnTo>
                <a:lnTo>
                  <a:pt x="8484" y="970"/>
                </a:lnTo>
                <a:lnTo>
                  <a:pt x="8471" y="951"/>
                </a:lnTo>
                <a:lnTo>
                  <a:pt x="8456" y="933"/>
                </a:lnTo>
                <a:lnTo>
                  <a:pt x="8440" y="914"/>
                </a:lnTo>
                <a:lnTo>
                  <a:pt x="8422" y="897"/>
                </a:lnTo>
                <a:lnTo>
                  <a:pt x="8404" y="879"/>
                </a:lnTo>
                <a:lnTo>
                  <a:pt x="8383" y="862"/>
                </a:lnTo>
                <a:lnTo>
                  <a:pt x="8361" y="845"/>
                </a:lnTo>
                <a:lnTo>
                  <a:pt x="8337" y="830"/>
                </a:lnTo>
                <a:lnTo>
                  <a:pt x="8312" y="815"/>
                </a:lnTo>
                <a:lnTo>
                  <a:pt x="8285" y="799"/>
                </a:lnTo>
                <a:lnTo>
                  <a:pt x="8257" y="785"/>
                </a:lnTo>
                <a:lnTo>
                  <a:pt x="8227" y="770"/>
                </a:lnTo>
                <a:lnTo>
                  <a:pt x="8196" y="756"/>
                </a:lnTo>
                <a:lnTo>
                  <a:pt x="8163" y="743"/>
                </a:lnTo>
                <a:lnTo>
                  <a:pt x="8129" y="729"/>
                </a:lnTo>
                <a:lnTo>
                  <a:pt x="8093" y="717"/>
                </a:lnTo>
                <a:lnTo>
                  <a:pt x="7869" y="663"/>
                </a:lnTo>
                <a:lnTo>
                  <a:pt x="7647" y="615"/>
                </a:lnTo>
                <a:lnTo>
                  <a:pt x="7426" y="573"/>
                </a:lnTo>
                <a:lnTo>
                  <a:pt x="7206" y="537"/>
                </a:lnTo>
                <a:lnTo>
                  <a:pt x="6990" y="507"/>
                </a:lnTo>
                <a:lnTo>
                  <a:pt x="6775" y="482"/>
                </a:lnTo>
                <a:lnTo>
                  <a:pt x="6563" y="465"/>
                </a:lnTo>
                <a:lnTo>
                  <a:pt x="6352" y="454"/>
                </a:lnTo>
                <a:lnTo>
                  <a:pt x="6143" y="449"/>
                </a:lnTo>
                <a:lnTo>
                  <a:pt x="5936" y="451"/>
                </a:lnTo>
                <a:lnTo>
                  <a:pt x="5731" y="461"/>
                </a:lnTo>
                <a:lnTo>
                  <a:pt x="5530" y="477"/>
                </a:lnTo>
                <a:lnTo>
                  <a:pt x="5330" y="500"/>
                </a:lnTo>
                <a:lnTo>
                  <a:pt x="5133" y="531"/>
                </a:lnTo>
                <a:lnTo>
                  <a:pt x="4937" y="569"/>
                </a:lnTo>
                <a:lnTo>
                  <a:pt x="4745" y="615"/>
                </a:lnTo>
                <a:lnTo>
                  <a:pt x="4555" y="668"/>
                </a:lnTo>
                <a:lnTo>
                  <a:pt x="4367" y="730"/>
                </a:lnTo>
                <a:lnTo>
                  <a:pt x="4182" y="799"/>
                </a:lnTo>
                <a:lnTo>
                  <a:pt x="4000" y="877"/>
                </a:lnTo>
                <a:lnTo>
                  <a:pt x="3820" y="963"/>
                </a:lnTo>
                <a:lnTo>
                  <a:pt x="3643" y="1057"/>
                </a:lnTo>
                <a:lnTo>
                  <a:pt x="3468" y="1160"/>
                </a:lnTo>
                <a:lnTo>
                  <a:pt x="3298" y="1272"/>
                </a:lnTo>
                <a:lnTo>
                  <a:pt x="3129" y="1393"/>
                </a:lnTo>
                <a:lnTo>
                  <a:pt x="2962" y="1522"/>
                </a:lnTo>
                <a:lnTo>
                  <a:pt x="2800" y="1661"/>
                </a:lnTo>
                <a:lnTo>
                  <a:pt x="2640" y="1809"/>
                </a:lnTo>
                <a:lnTo>
                  <a:pt x="2483" y="1966"/>
                </a:lnTo>
                <a:lnTo>
                  <a:pt x="2329" y="2134"/>
                </a:lnTo>
                <a:lnTo>
                  <a:pt x="2179" y="2310"/>
                </a:lnTo>
                <a:lnTo>
                  <a:pt x="2030" y="2497"/>
                </a:lnTo>
                <a:lnTo>
                  <a:pt x="1977" y="2527"/>
                </a:lnTo>
                <a:lnTo>
                  <a:pt x="1918" y="2555"/>
                </a:lnTo>
                <a:lnTo>
                  <a:pt x="1855" y="2578"/>
                </a:lnTo>
                <a:lnTo>
                  <a:pt x="1788" y="2599"/>
                </a:lnTo>
                <a:lnTo>
                  <a:pt x="1718" y="2616"/>
                </a:lnTo>
                <a:lnTo>
                  <a:pt x="1645" y="2630"/>
                </a:lnTo>
                <a:lnTo>
                  <a:pt x="1569" y="2640"/>
                </a:lnTo>
                <a:lnTo>
                  <a:pt x="1490" y="2647"/>
                </a:lnTo>
                <a:lnTo>
                  <a:pt x="1410" y="2650"/>
                </a:lnTo>
                <a:lnTo>
                  <a:pt x="1329" y="2650"/>
                </a:lnTo>
                <a:lnTo>
                  <a:pt x="1247" y="2646"/>
                </a:lnTo>
                <a:lnTo>
                  <a:pt x="1163" y="2639"/>
                </a:lnTo>
                <a:lnTo>
                  <a:pt x="1080" y="2628"/>
                </a:lnTo>
                <a:lnTo>
                  <a:pt x="997" y="2613"/>
                </a:lnTo>
                <a:lnTo>
                  <a:pt x="914" y="2595"/>
                </a:lnTo>
                <a:lnTo>
                  <a:pt x="833" y="2572"/>
                </a:lnTo>
                <a:lnTo>
                  <a:pt x="753" y="2545"/>
                </a:lnTo>
                <a:lnTo>
                  <a:pt x="675" y="2515"/>
                </a:lnTo>
                <a:lnTo>
                  <a:pt x="599" y="2481"/>
                </a:lnTo>
                <a:lnTo>
                  <a:pt x="526" y="2443"/>
                </a:lnTo>
                <a:lnTo>
                  <a:pt x="456" y="2399"/>
                </a:lnTo>
                <a:lnTo>
                  <a:pt x="389" y="2353"/>
                </a:lnTo>
                <a:lnTo>
                  <a:pt x="326" y="2302"/>
                </a:lnTo>
                <a:lnTo>
                  <a:pt x="267" y="2247"/>
                </a:lnTo>
                <a:lnTo>
                  <a:pt x="213" y="2188"/>
                </a:lnTo>
                <a:lnTo>
                  <a:pt x="165" y="2124"/>
                </a:lnTo>
                <a:lnTo>
                  <a:pt x="120" y="2056"/>
                </a:lnTo>
                <a:lnTo>
                  <a:pt x="83" y="1983"/>
                </a:lnTo>
                <a:lnTo>
                  <a:pt x="52" y="1906"/>
                </a:lnTo>
                <a:lnTo>
                  <a:pt x="28" y="1824"/>
                </a:lnTo>
                <a:lnTo>
                  <a:pt x="10" y="1738"/>
                </a:lnTo>
                <a:lnTo>
                  <a:pt x="0" y="1648"/>
                </a:lnTo>
                <a:lnTo>
                  <a:pt x="30" y="1113"/>
                </a:lnTo>
                <a:lnTo>
                  <a:pt x="448" y="1054"/>
                </a:lnTo>
                <a:close/>
              </a:path>
            </a:pathLst>
          </a:custGeom>
          <a:solidFill>
            <a:srgbClr val="00336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100080" y="5343480"/>
            <a:ext cx="796680" cy="1941480"/>
          </a:xfrm>
          <a:custGeom>
            <a:avLst/>
            <a:gdLst/>
            <a:ahLst/>
            <a:rect l="l" t="t" r="r" b="b"/>
            <a:pathLst>
              <a:path w="3248" h="8310">
                <a:moveTo>
                  <a:pt x="425" y="444"/>
                </a:moveTo>
                <a:lnTo>
                  <a:pt x="230" y="137"/>
                </a:lnTo>
                <a:lnTo>
                  <a:pt x="30" y="0"/>
                </a:lnTo>
                <a:lnTo>
                  <a:pt x="14" y="228"/>
                </a:lnTo>
                <a:lnTo>
                  <a:pt x="4" y="465"/>
                </a:lnTo>
                <a:lnTo>
                  <a:pt x="0" y="709"/>
                </a:lnTo>
                <a:lnTo>
                  <a:pt x="2" y="961"/>
                </a:lnTo>
                <a:lnTo>
                  <a:pt x="10" y="1221"/>
                </a:lnTo>
                <a:lnTo>
                  <a:pt x="22" y="1484"/>
                </a:lnTo>
                <a:lnTo>
                  <a:pt x="38" y="1752"/>
                </a:lnTo>
                <a:lnTo>
                  <a:pt x="59" y="2025"/>
                </a:lnTo>
                <a:lnTo>
                  <a:pt x="83" y="2299"/>
                </a:lnTo>
                <a:lnTo>
                  <a:pt x="111" y="2576"/>
                </a:lnTo>
                <a:lnTo>
                  <a:pt x="142" y="2854"/>
                </a:lnTo>
                <a:lnTo>
                  <a:pt x="176" y="3132"/>
                </a:lnTo>
                <a:lnTo>
                  <a:pt x="212" y="3408"/>
                </a:lnTo>
                <a:lnTo>
                  <a:pt x="251" y="3684"/>
                </a:lnTo>
                <a:lnTo>
                  <a:pt x="291" y="3956"/>
                </a:lnTo>
                <a:lnTo>
                  <a:pt x="334" y="4226"/>
                </a:lnTo>
                <a:lnTo>
                  <a:pt x="377" y="4490"/>
                </a:lnTo>
                <a:lnTo>
                  <a:pt x="421" y="4749"/>
                </a:lnTo>
                <a:lnTo>
                  <a:pt x="465" y="5003"/>
                </a:lnTo>
                <a:lnTo>
                  <a:pt x="510" y="5249"/>
                </a:lnTo>
                <a:lnTo>
                  <a:pt x="554" y="5488"/>
                </a:lnTo>
                <a:lnTo>
                  <a:pt x="597" y="5717"/>
                </a:lnTo>
                <a:lnTo>
                  <a:pt x="640" y="5937"/>
                </a:lnTo>
                <a:lnTo>
                  <a:pt x="681" y="6146"/>
                </a:lnTo>
                <a:lnTo>
                  <a:pt x="759" y="6529"/>
                </a:lnTo>
                <a:lnTo>
                  <a:pt x="829" y="6859"/>
                </a:lnTo>
                <a:lnTo>
                  <a:pt x="887" y="7128"/>
                </a:lnTo>
                <a:lnTo>
                  <a:pt x="930" y="7330"/>
                </a:lnTo>
                <a:lnTo>
                  <a:pt x="944" y="7438"/>
                </a:lnTo>
                <a:lnTo>
                  <a:pt x="970" y="7540"/>
                </a:lnTo>
                <a:lnTo>
                  <a:pt x="1008" y="7636"/>
                </a:lnTo>
                <a:lnTo>
                  <a:pt x="1056" y="7726"/>
                </a:lnTo>
                <a:lnTo>
                  <a:pt x="1113" y="7810"/>
                </a:lnTo>
                <a:lnTo>
                  <a:pt x="1180" y="7888"/>
                </a:lnTo>
                <a:lnTo>
                  <a:pt x="1254" y="7959"/>
                </a:lnTo>
                <a:lnTo>
                  <a:pt x="1337" y="8024"/>
                </a:lnTo>
                <a:lnTo>
                  <a:pt x="1424" y="8083"/>
                </a:lnTo>
                <a:lnTo>
                  <a:pt x="1518" y="8135"/>
                </a:lnTo>
                <a:lnTo>
                  <a:pt x="1615" y="8180"/>
                </a:lnTo>
                <a:lnTo>
                  <a:pt x="1717" y="8218"/>
                </a:lnTo>
                <a:lnTo>
                  <a:pt x="1822" y="8251"/>
                </a:lnTo>
                <a:lnTo>
                  <a:pt x="1928" y="8276"/>
                </a:lnTo>
                <a:lnTo>
                  <a:pt x="2036" y="8295"/>
                </a:lnTo>
                <a:lnTo>
                  <a:pt x="2145" y="8306"/>
                </a:lnTo>
                <a:lnTo>
                  <a:pt x="2252" y="8310"/>
                </a:lnTo>
                <a:lnTo>
                  <a:pt x="2359" y="8307"/>
                </a:lnTo>
                <a:lnTo>
                  <a:pt x="2464" y="8298"/>
                </a:lnTo>
                <a:lnTo>
                  <a:pt x="2565" y="8280"/>
                </a:lnTo>
                <a:lnTo>
                  <a:pt x="2662" y="8255"/>
                </a:lnTo>
                <a:lnTo>
                  <a:pt x="2756" y="8224"/>
                </a:lnTo>
                <a:lnTo>
                  <a:pt x="2843" y="8185"/>
                </a:lnTo>
                <a:lnTo>
                  <a:pt x="2925" y="8137"/>
                </a:lnTo>
                <a:lnTo>
                  <a:pt x="2999" y="8083"/>
                </a:lnTo>
                <a:lnTo>
                  <a:pt x="3066" y="8020"/>
                </a:lnTo>
                <a:lnTo>
                  <a:pt x="3122" y="7950"/>
                </a:lnTo>
                <a:lnTo>
                  <a:pt x="3171" y="7873"/>
                </a:lnTo>
                <a:lnTo>
                  <a:pt x="3208" y="7786"/>
                </a:lnTo>
                <a:lnTo>
                  <a:pt x="3233" y="7693"/>
                </a:lnTo>
                <a:lnTo>
                  <a:pt x="3247" y="7591"/>
                </a:lnTo>
                <a:lnTo>
                  <a:pt x="3248" y="7481"/>
                </a:lnTo>
                <a:lnTo>
                  <a:pt x="3194" y="7299"/>
                </a:lnTo>
                <a:lnTo>
                  <a:pt x="3142" y="7116"/>
                </a:lnTo>
                <a:lnTo>
                  <a:pt x="3091" y="6934"/>
                </a:lnTo>
                <a:lnTo>
                  <a:pt x="3042" y="6751"/>
                </a:lnTo>
                <a:lnTo>
                  <a:pt x="2995" y="6568"/>
                </a:lnTo>
                <a:lnTo>
                  <a:pt x="2948" y="6384"/>
                </a:lnTo>
                <a:lnTo>
                  <a:pt x="2903" y="6201"/>
                </a:lnTo>
                <a:lnTo>
                  <a:pt x="2860" y="6016"/>
                </a:lnTo>
                <a:lnTo>
                  <a:pt x="2818" y="5832"/>
                </a:lnTo>
                <a:lnTo>
                  <a:pt x="2777" y="5648"/>
                </a:lnTo>
                <a:lnTo>
                  <a:pt x="2737" y="5464"/>
                </a:lnTo>
                <a:lnTo>
                  <a:pt x="2700" y="5279"/>
                </a:lnTo>
                <a:lnTo>
                  <a:pt x="2663" y="5094"/>
                </a:lnTo>
                <a:lnTo>
                  <a:pt x="2629" y="4909"/>
                </a:lnTo>
                <a:lnTo>
                  <a:pt x="2596" y="4724"/>
                </a:lnTo>
                <a:lnTo>
                  <a:pt x="2564" y="4538"/>
                </a:lnTo>
                <a:lnTo>
                  <a:pt x="2534" y="4352"/>
                </a:lnTo>
                <a:lnTo>
                  <a:pt x="2505" y="4166"/>
                </a:lnTo>
                <a:lnTo>
                  <a:pt x="2477" y="3980"/>
                </a:lnTo>
                <a:lnTo>
                  <a:pt x="2452" y="3794"/>
                </a:lnTo>
                <a:lnTo>
                  <a:pt x="2428" y="3608"/>
                </a:lnTo>
                <a:lnTo>
                  <a:pt x="2405" y="3421"/>
                </a:lnTo>
                <a:lnTo>
                  <a:pt x="2385" y="3233"/>
                </a:lnTo>
                <a:lnTo>
                  <a:pt x="2365" y="3046"/>
                </a:lnTo>
                <a:lnTo>
                  <a:pt x="2347" y="2859"/>
                </a:lnTo>
                <a:lnTo>
                  <a:pt x="2330" y="2671"/>
                </a:lnTo>
                <a:lnTo>
                  <a:pt x="2316" y="2484"/>
                </a:lnTo>
                <a:lnTo>
                  <a:pt x="2302" y="2295"/>
                </a:lnTo>
                <a:lnTo>
                  <a:pt x="2291" y="2106"/>
                </a:lnTo>
                <a:lnTo>
                  <a:pt x="2282" y="1918"/>
                </a:lnTo>
                <a:lnTo>
                  <a:pt x="2274" y="1729"/>
                </a:lnTo>
                <a:lnTo>
                  <a:pt x="2266" y="1539"/>
                </a:lnTo>
                <a:lnTo>
                  <a:pt x="1928" y="1906"/>
                </a:lnTo>
                <a:lnTo>
                  <a:pt x="1928" y="2082"/>
                </a:lnTo>
                <a:lnTo>
                  <a:pt x="1930" y="2259"/>
                </a:lnTo>
                <a:lnTo>
                  <a:pt x="1935" y="2436"/>
                </a:lnTo>
                <a:lnTo>
                  <a:pt x="1942" y="2613"/>
                </a:lnTo>
                <a:lnTo>
                  <a:pt x="1953" y="2790"/>
                </a:lnTo>
                <a:lnTo>
                  <a:pt x="1965" y="2967"/>
                </a:lnTo>
                <a:lnTo>
                  <a:pt x="1978" y="3144"/>
                </a:lnTo>
                <a:lnTo>
                  <a:pt x="1995" y="3321"/>
                </a:lnTo>
                <a:lnTo>
                  <a:pt x="2013" y="3498"/>
                </a:lnTo>
                <a:lnTo>
                  <a:pt x="2034" y="3675"/>
                </a:lnTo>
                <a:lnTo>
                  <a:pt x="2057" y="3852"/>
                </a:lnTo>
                <a:lnTo>
                  <a:pt x="2081" y="4029"/>
                </a:lnTo>
                <a:lnTo>
                  <a:pt x="2108" y="4206"/>
                </a:lnTo>
                <a:lnTo>
                  <a:pt x="2136" y="4383"/>
                </a:lnTo>
                <a:lnTo>
                  <a:pt x="2167" y="4560"/>
                </a:lnTo>
                <a:lnTo>
                  <a:pt x="2198" y="4736"/>
                </a:lnTo>
                <a:lnTo>
                  <a:pt x="2232" y="4913"/>
                </a:lnTo>
                <a:lnTo>
                  <a:pt x="2267" y="5090"/>
                </a:lnTo>
                <a:lnTo>
                  <a:pt x="2304" y="5266"/>
                </a:lnTo>
                <a:lnTo>
                  <a:pt x="2343" y="5442"/>
                </a:lnTo>
                <a:lnTo>
                  <a:pt x="2383" y="5618"/>
                </a:lnTo>
                <a:lnTo>
                  <a:pt x="2425" y="5794"/>
                </a:lnTo>
                <a:lnTo>
                  <a:pt x="2468" y="5969"/>
                </a:lnTo>
                <a:lnTo>
                  <a:pt x="2512" y="6145"/>
                </a:lnTo>
                <a:lnTo>
                  <a:pt x="2557" y="6320"/>
                </a:lnTo>
                <a:lnTo>
                  <a:pt x="2605" y="6496"/>
                </a:lnTo>
                <a:lnTo>
                  <a:pt x="2653" y="6670"/>
                </a:lnTo>
                <a:lnTo>
                  <a:pt x="2701" y="6844"/>
                </a:lnTo>
                <a:lnTo>
                  <a:pt x="2752" y="7019"/>
                </a:lnTo>
                <a:lnTo>
                  <a:pt x="2804" y="7193"/>
                </a:lnTo>
                <a:lnTo>
                  <a:pt x="2857" y="7366"/>
                </a:lnTo>
                <a:lnTo>
                  <a:pt x="2910" y="7540"/>
                </a:lnTo>
                <a:lnTo>
                  <a:pt x="2896" y="7592"/>
                </a:lnTo>
                <a:lnTo>
                  <a:pt x="2874" y="7639"/>
                </a:lnTo>
                <a:lnTo>
                  <a:pt x="2847" y="7682"/>
                </a:lnTo>
                <a:lnTo>
                  <a:pt x="2811" y="7720"/>
                </a:lnTo>
                <a:lnTo>
                  <a:pt x="2769" y="7753"/>
                </a:lnTo>
                <a:lnTo>
                  <a:pt x="2723" y="7780"/>
                </a:lnTo>
                <a:lnTo>
                  <a:pt x="2672" y="7804"/>
                </a:lnTo>
                <a:lnTo>
                  <a:pt x="2615" y="7824"/>
                </a:lnTo>
                <a:lnTo>
                  <a:pt x="2555" y="7839"/>
                </a:lnTo>
                <a:lnTo>
                  <a:pt x="2492" y="7850"/>
                </a:lnTo>
                <a:lnTo>
                  <a:pt x="2425" y="7858"/>
                </a:lnTo>
                <a:lnTo>
                  <a:pt x="2356" y="7863"/>
                </a:lnTo>
                <a:lnTo>
                  <a:pt x="2285" y="7863"/>
                </a:lnTo>
                <a:lnTo>
                  <a:pt x="2213" y="7860"/>
                </a:lnTo>
                <a:lnTo>
                  <a:pt x="2140" y="7853"/>
                </a:lnTo>
                <a:lnTo>
                  <a:pt x="2066" y="7843"/>
                </a:lnTo>
                <a:lnTo>
                  <a:pt x="1993" y="7831"/>
                </a:lnTo>
                <a:lnTo>
                  <a:pt x="1920" y="7815"/>
                </a:lnTo>
                <a:lnTo>
                  <a:pt x="1849" y="7798"/>
                </a:lnTo>
                <a:lnTo>
                  <a:pt x="1779" y="7776"/>
                </a:lnTo>
                <a:lnTo>
                  <a:pt x="1712" y="7754"/>
                </a:lnTo>
                <a:lnTo>
                  <a:pt x="1647" y="7728"/>
                </a:lnTo>
                <a:lnTo>
                  <a:pt x="1585" y="7701"/>
                </a:lnTo>
                <a:lnTo>
                  <a:pt x="1528" y="7671"/>
                </a:lnTo>
                <a:lnTo>
                  <a:pt x="1474" y="7639"/>
                </a:lnTo>
                <a:lnTo>
                  <a:pt x="1426" y="7607"/>
                </a:lnTo>
                <a:lnTo>
                  <a:pt x="1383" y="7572"/>
                </a:lnTo>
                <a:lnTo>
                  <a:pt x="1346" y="7536"/>
                </a:lnTo>
                <a:lnTo>
                  <a:pt x="1315" y="7499"/>
                </a:lnTo>
                <a:lnTo>
                  <a:pt x="1290" y="7460"/>
                </a:lnTo>
                <a:lnTo>
                  <a:pt x="1274" y="7420"/>
                </a:lnTo>
                <a:lnTo>
                  <a:pt x="1266" y="7380"/>
                </a:lnTo>
                <a:lnTo>
                  <a:pt x="1236" y="7259"/>
                </a:lnTo>
                <a:lnTo>
                  <a:pt x="1204" y="7125"/>
                </a:lnTo>
                <a:lnTo>
                  <a:pt x="1171" y="6979"/>
                </a:lnTo>
                <a:lnTo>
                  <a:pt x="1137" y="6823"/>
                </a:lnTo>
                <a:lnTo>
                  <a:pt x="1102" y="6655"/>
                </a:lnTo>
                <a:lnTo>
                  <a:pt x="1066" y="6478"/>
                </a:lnTo>
                <a:lnTo>
                  <a:pt x="1029" y="6292"/>
                </a:lnTo>
                <a:lnTo>
                  <a:pt x="992" y="6099"/>
                </a:lnTo>
                <a:lnTo>
                  <a:pt x="954" y="5899"/>
                </a:lnTo>
                <a:lnTo>
                  <a:pt x="916" y="5692"/>
                </a:lnTo>
                <a:lnTo>
                  <a:pt x="878" y="5482"/>
                </a:lnTo>
                <a:lnTo>
                  <a:pt x="840" y="5266"/>
                </a:lnTo>
                <a:lnTo>
                  <a:pt x="802" y="5047"/>
                </a:lnTo>
                <a:lnTo>
                  <a:pt x="765" y="4825"/>
                </a:lnTo>
                <a:lnTo>
                  <a:pt x="728" y="4602"/>
                </a:lnTo>
                <a:lnTo>
                  <a:pt x="691" y="4378"/>
                </a:lnTo>
                <a:lnTo>
                  <a:pt x="656" y="4155"/>
                </a:lnTo>
                <a:lnTo>
                  <a:pt x="621" y="3932"/>
                </a:lnTo>
                <a:lnTo>
                  <a:pt x="588" y="3711"/>
                </a:lnTo>
                <a:lnTo>
                  <a:pt x="556" y="3493"/>
                </a:lnTo>
                <a:lnTo>
                  <a:pt x="525" y="3278"/>
                </a:lnTo>
                <a:lnTo>
                  <a:pt x="496" y="3068"/>
                </a:lnTo>
                <a:lnTo>
                  <a:pt x="469" y="2863"/>
                </a:lnTo>
                <a:lnTo>
                  <a:pt x="444" y="2665"/>
                </a:lnTo>
                <a:lnTo>
                  <a:pt x="421" y="2472"/>
                </a:lnTo>
                <a:lnTo>
                  <a:pt x="400" y="2289"/>
                </a:lnTo>
                <a:lnTo>
                  <a:pt x="382" y="2114"/>
                </a:lnTo>
                <a:lnTo>
                  <a:pt x="367" y="1949"/>
                </a:lnTo>
                <a:lnTo>
                  <a:pt x="353" y="1794"/>
                </a:lnTo>
                <a:lnTo>
                  <a:pt x="343" y="1651"/>
                </a:lnTo>
                <a:lnTo>
                  <a:pt x="336" y="1520"/>
                </a:lnTo>
                <a:lnTo>
                  <a:pt x="332" y="1403"/>
                </a:lnTo>
                <a:lnTo>
                  <a:pt x="356" y="1013"/>
                </a:lnTo>
                <a:lnTo>
                  <a:pt x="379" y="559"/>
                </a:lnTo>
                <a:lnTo>
                  <a:pt x="425" y="444"/>
                </a:lnTo>
                <a:close/>
              </a:path>
            </a:pathLst>
          </a:custGeom>
          <a:solidFill>
            <a:srgbClr val="8fa4e1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7915320" y="228600"/>
            <a:ext cx="1228320" cy="647280"/>
            <a:chOff x="7915320" y="228600"/>
            <a:chExt cx="1228320" cy="647280"/>
          </a:xfrm>
        </p:grpSpPr>
        <p:grpSp>
          <p:nvGrpSpPr>
            <p:cNvPr id="39" name=""/>
            <p:cNvGrpSpPr/>
            <p:nvPr/>
          </p:nvGrpSpPr>
          <p:grpSpPr>
            <a:xfrm>
              <a:off x="8168040" y="340560"/>
              <a:ext cx="745920" cy="137520"/>
              <a:chOff x="8168040" y="340560"/>
              <a:chExt cx="745920" cy="137520"/>
            </a:xfrm>
          </p:grpSpPr>
          <p:sp>
            <p:nvSpPr>
              <p:cNvPr id="40" name=""/>
              <p:cNvSpPr/>
              <p:nvPr/>
            </p:nvSpPr>
            <p:spPr>
              <a:xfrm>
                <a:off x="8168040" y="347400"/>
                <a:ext cx="30240" cy="99360"/>
              </a:xfrm>
              <a:custGeom>
                <a:avLst/>
                <a:gdLst/>
                <a:ahLst/>
                <a:rect l="l" t="t" r="r" b="b"/>
                <a:pathLst>
                  <a:path w="481" h="1309">
                    <a:moveTo>
                      <a:pt x="0" y="1309"/>
                    </a:moveTo>
                    <a:lnTo>
                      <a:pt x="0" y="1244"/>
                    </a:lnTo>
                    <a:lnTo>
                      <a:pt x="0" y="1226"/>
                    </a:lnTo>
                    <a:lnTo>
                      <a:pt x="2" y="1221"/>
                    </a:lnTo>
                    <a:lnTo>
                      <a:pt x="7" y="1217"/>
                    </a:lnTo>
                    <a:lnTo>
                      <a:pt x="13" y="1210"/>
                    </a:lnTo>
                    <a:lnTo>
                      <a:pt x="20" y="1206"/>
                    </a:lnTo>
                    <a:lnTo>
                      <a:pt x="32" y="1196"/>
                    </a:lnTo>
                    <a:lnTo>
                      <a:pt x="41" y="1190"/>
                    </a:lnTo>
                    <a:lnTo>
                      <a:pt x="48" y="1181"/>
                    </a:lnTo>
                    <a:lnTo>
                      <a:pt x="56" y="1171"/>
                    </a:lnTo>
                    <a:lnTo>
                      <a:pt x="63" y="1160"/>
                    </a:lnTo>
                    <a:lnTo>
                      <a:pt x="69" y="1149"/>
                    </a:lnTo>
                    <a:lnTo>
                      <a:pt x="73" y="1137"/>
                    </a:lnTo>
                    <a:lnTo>
                      <a:pt x="75" y="1124"/>
                    </a:lnTo>
                    <a:lnTo>
                      <a:pt x="77" y="1112"/>
                    </a:lnTo>
                    <a:lnTo>
                      <a:pt x="77" y="1094"/>
                    </a:lnTo>
                    <a:lnTo>
                      <a:pt x="77" y="1082"/>
                    </a:lnTo>
                    <a:lnTo>
                      <a:pt x="77" y="937"/>
                    </a:lnTo>
                    <a:lnTo>
                      <a:pt x="77" y="227"/>
                    </a:lnTo>
                    <a:lnTo>
                      <a:pt x="77" y="202"/>
                    </a:lnTo>
                    <a:lnTo>
                      <a:pt x="77" y="180"/>
                    </a:lnTo>
                    <a:lnTo>
                      <a:pt x="72" y="166"/>
                    </a:lnTo>
                    <a:lnTo>
                      <a:pt x="66" y="152"/>
                    </a:lnTo>
                    <a:lnTo>
                      <a:pt x="58" y="139"/>
                    </a:lnTo>
                    <a:lnTo>
                      <a:pt x="50" y="127"/>
                    </a:lnTo>
                    <a:lnTo>
                      <a:pt x="36" y="113"/>
                    </a:lnTo>
                    <a:lnTo>
                      <a:pt x="20" y="105"/>
                    </a:lnTo>
                    <a:lnTo>
                      <a:pt x="13" y="100"/>
                    </a:lnTo>
                    <a:lnTo>
                      <a:pt x="7" y="96"/>
                    </a:lnTo>
                    <a:lnTo>
                      <a:pt x="2" y="91"/>
                    </a:lnTo>
                    <a:lnTo>
                      <a:pt x="0" y="8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1" y="65"/>
                    </a:lnTo>
                    <a:lnTo>
                      <a:pt x="481" y="82"/>
                    </a:lnTo>
                    <a:lnTo>
                      <a:pt x="462" y="104"/>
                    </a:lnTo>
                    <a:lnTo>
                      <a:pt x="452" y="111"/>
                    </a:lnTo>
                    <a:lnTo>
                      <a:pt x="438" y="125"/>
                    </a:lnTo>
                    <a:lnTo>
                      <a:pt x="424" y="141"/>
                    </a:lnTo>
                    <a:lnTo>
                      <a:pt x="419" y="152"/>
                    </a:lnTo>
                    <a:lnTo>
                      <a:pt x="414" y="164"/>
                    </a:lnTo>
                    <a:lnTo>
                      <a:pt x="409" y="179"/>
                    </a:lnTo>
                    <a:lnTo>
                      <a:pt x="406" y="196"/>
                    </a:lnTo>
                    <a:lnTo>
                      <a:pt x="406" y="220"/>
                    </a:lnTo>
                    <a:lnTo>
                      <a:pt x="406" y="227"/>
                    </a:lnTo>
                    <a:lnTo>
                      <a:pt x="406" y="1082"/>
                    </a:lnTo>
                    <a:lnTo>
                      <a:pt x="406" y="1094"/>
                    </a:lnTo>
                    <a:lnTo>
                      <a:pt x="406" y="1112"/>
                    </a:lnTo>
                    <a:lnTo>
                      <a:pt x="408" y="1123"/>
                    </a:lnTo>
                    <a:lnTo>
                      <a:pt x="410" y="1133"/>
                    </a:lnTo>
                    <a:lnTo>
                      <a:pt x="414" y="1143"/>
                    </a:lnTo>
                    <a:lnTo>
                      <a:pt x="417" y="1152"/>
                    </a:lnTo>
                    <a:lnTo>
                      <a:pt x="422" y="1160"/>
                    </a:lnTo>
                    <a:lnTo>
                      <a:pt x="427" y="1169"/>
                    </a:lnTo>
                    <a:lnTo>
                      <a:pt x="433" y="1176"/>
                    </a:lnTo>
                    <a:lnTo>
                      <a:pt x="440" y="1183"/>
                    </a:lnTo>
                    <a:lnTo>
                      <a:pt x="457" y="1196"/>
                    </a:lnTo>
                    <a:lnTo>
                      <a:pt x="463" y="1206"/>
                    </a:lnTo>
                    <a:lnTo>
                      <a:pt x="481" y="1223"/>
                    </a:lnTo>
                    <a:lnTo>
                      <a:pt x="481" y="1244"/>
                    </a:lnTo>
                    <a:lnTo>
                      <a:pt x="481" y="1309"/>
                    </a:lnTo>
                    <a:lnTo>
                      <a:pt x="0" y="1309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199720" y="371520"/>
                <a:ext cx="64440" cy="75240"/>
              </a:xfrm>
              <a:custGeom>
                <a:avLst/>
                <a:gdLst/>
                <a:ahLst/>
                <a:rect l="l" t="t" r="r" b="b"/>
                <a:pathLst>
                  <a:path w="1035" h="978">
                    <a:moveTo>
                      <a:pt x="0" y="978"/>
                    </a:moveTo>
                    <a:lnTo>
                      <a:pt x="0" y="916"/>
                    </a:lnTo>
                    <a:lnTo>
                      <a:pt x="0" y="909"/>
                    </a:lnTo>
                    <a:lnTo>
                      <a:pt x="2" y="903"/>
                    </a:lnTo>
                    <a:lnTo>
                      <a:pt x="4" y="897"/>
                    </a:lnTo>
                    <a:lnTo>
                      <a:pt x="8" y="890"/>
                    </a:lnTo>
                    <a:lnTo>
                      <a:pt x="14" y="886"/>
                    </a:lnTo>
                    <a:lnTo>
                      <a:pt x="20" y="881"/>
                    </a:lnTo>
                    <a:lnTo>
                      <a:pt x="28" y="877"/>
                    </a:lnTo>
                    <a:lnTo>
                      <a:pt x="38" y="873"/>
                    </a:lnTo>
                    <a:lnTo>
                      <a:pt x="61" y="865"/>
                    </a:lnTo>
                    <a:lnTo>
                      <a:pt x="65" y="862"/>
                    </a:lnTo>
                    <a:lnTo>
                      <a:pt x="68" y="859"/>
                    </a:lnTo>
                    <a:lnTo>
                      <a:pt x="71" y="851"/>
                    </a:lnTo>
                    <a:lnTo>
                      <a:pt x="73" y="843"/>
                    </a:lnTo>
                    <a:lnTo>
                      <a:pt x="73" y="835"/>
                    </a:lnTo>
                    <a:lnTo>
                      <a:pt x="73" y="807"/>
                    </a:lnTo>
                    <a:lnTo>
                      <a:pt x="73" y="793"/>
                    </a:lnTo>
                    <a:lnTo>
                      <a:pt x="73" y="246"/>
                    </a:lnTo>
                    <a:lnTo>
                      <a:pt x="73" y="218"/>
                    </a:lnTo>
                    <a:lnTo>
                      <a:pt x="73" y="197"/>
                    </a:lnTo>
                    <a:lnTo>
                      <a:pt x="68" y="172"/>
                    </a:lnTo>
                    <a:lnTo>
                      <a:pt x="61" y="161"/>
                    </a:lnTo>
                    <a:lnTo>
                      <a:pt x="35" y="156"/>
                    </a:lnTo>
                    <a:lnTo>
                      <a:pt x="22" y="151"/>
                    </a:lnTo>
                    <a:lnTo>
                      <a:pt x="17" y="146"/>
                    </a:lnTo>
                    <a:lnTo>
                      <a:pt x="12" y="143"/>
                    </a:lnTo>
                    <a:lnTo>
                      <a:pt x="8" y="139"/>
                    </a:lnTo>
                    <a:lnTo>
                      <a:pt x="4" y="134"/>
                    </a:lnTo>
                    <a:lnTo>
                      <a:pt x="2" y="129"/>
                    </a:lnTo>
                    <a:lnTo>
                      <a:pt x="1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49"/>
                    </a:lnTo>
                    <a:lnTo>
                      <a:pt x="367" y="49"/>
                    </a:lnTo>
                    <a:lnTo>
                      <a:pt x="367" y="102"/>
                    </a:lnTo>
                    <a:lnTo>
                      <a:pt x="380" y="92"/>
                    </a:lnTo>
                    <a:lnTo>
                      <a:pt x="392" y="85"/>
                    </a:lnTo>
                    <a:lnTo>
                      <a:pt x="403" y="76"/>
                    </a:lnTo>
                    <a:lnTo>
                      <a:pt x="415" y="70"/>
                    </a:lnTo>
                    <a:lnTo>
                      <a:pt x="426" y="63"/>
                    </a:lnTo>
                    <a:lnTo>
                      <a:pt x="439" y="57"/>
                    </a:lnTo>
                    <a:lnTo>
                      <a:pt x="451" y="51"/>
                    </a:lnTo>
                    <a:lnTo>
                      <a:pt x="464" y="46"/>
                    </a:lnTo>
                    <a:lnTo>
                      <a:pt x="492" y="35"/>
                    </a:lnTo>
                    <a:lnTo>
                      <a:pt x="517" y="25"/>
                    </a:lnTo>
                    <a:lnTo>
                      <a:pt x="542" y="17"/>
                    </a:lnTo>
                    <a:lnTo>
                      <a:pt x="567" y="11"/>
                    </a:lnTo>
                    <a:lnTo>
                      <a:pt x="590" y="6"/>
                    </a:lnTo>
                    <a:lnTo>
                      <a:pt x="613" y="3"/>
                    </a:lnTo>
                    <a:lnTo>
                      <a:pt x="637" y="0"/>
                    </a:lnTo>
                    <a:lnTo>
                      <a:pt x="659" y="0"/>
                    </a:lnTo>
                    <a:lnTo>
                      <a:pt x="671" y="0"/>
                    </a:lnTo>
                    <a:lnTo>
                      <a:pt x="681" y="0"/>
                    </a:lnTo>
                    <a:lnTo>
                      <a:pt x="690" y="2"/>
                    </a:lnTo>
                    <a:lnTo>
                      <a:pt x="697" y="2"/>
                    </a:lnTo>
                    <a:lnTo>
                      <a:pt x="730" y="6"/>
                    </a:lnTo>
                    <a:lnTo>
                      <a:pt x="761" y="13"/>
                    </a:lnTo>
                    <a:lnTo>
                      <a:pt x="790" y="21"/>
                    </a:lnTo>
                    <a:lnTo>
                      <a:pt x="816" y="31"/>
                    </a:lnTo>
                    <a:lnTo>
                      <a:pt x="829" y="36"/>
                    </a:lnTo>
                    <a:lnTo>
                      <a:pt x="840" y="42"/>
                    </a:lnTo>
                    <a:lnTo>
                      <a:pt x="851" y="49"/>
                    </a:lnTo>
                    <a:lnTo>
                      <a:pt x="862" y="56"/>
                    </a:lnTo>
                    <a:lnTo>
                      <a:pt x="872" y="63"/>
                    </a:lnTo>
                    <a:lnTo>
                      <a:pt x="881" y="71"/>
                    </a:lnTo>
                    <a:lnTo>
                      <a:pt x="890" y="79"/>
                    </a:lnTo>
                    <a:lnTo>
                      <a:pt x="897" y="87"/>
                    </a:lnTo>
                    <a:lnTo>
                      <a:pt x="905" y="97"/>
                    </a:lnTo>
                    <a:lnTo>
                      <a:pt x="912" y="107"/>
                    </a:lnTo>
                    <a:lnTo>
                      <a:pt x="920" y="118"/>
                    </a:lnTo>
                    <a:lnTo>
                      <a:pt x="924" y="129"/>
                    </a:lnTo>
                    <a:lnTo>
                      <a:pt x="931" y="140"/>
                    </a:lnTo>
                    <a:lnTo>
                      <a:pt x="936" y="153"/>
                    </a:lnTo>
                    <a:lnTo>
                      <a:pt x="940" y="165"/>
                    </a:lnTo>
                    <a:lnTo>
                      <a:pt x="944" y="178"/>
                    </a:lnTo>
                    <a:lnTo>
                      <a:pt x="952" y="208"/>
                    </a:lnTo>
                    <a:lnTo>
                      <a:pt x="956" y="238"/>
                    </a:lnTo>
                    <a:lnTo>
                      <a:pt x="959" y="272"/>
                    </a:lnTo>
                    <a:lnTo>
                      <a:pt x="960" y="307"/>
                    </a:lnTo>
                    <a:lnTo>
                      <a:pt x="960" y="792"/>
                    </a:lnTo>
                    <a:lnTo>
                      <a:pt x="960" y="805"/>
                    </a:lnTo>
                    <a:lnTo>
                      <a:pt x="960" y="814"/>
                    </a:lnTo>
                    <a:lnTo>
                      <a:pt x="960" y="834"/>
                    </a:lnTo>
                    <a:lnTo>
                      <a:pt x="961" y="844"/>
                    </a:lnTo>
                    <a:lnTo>
                      <a:pt x="964" y="851"/>
                    </a:lnTo>
                    <a:lnTo>
                      <a:pt x="968" y="856"/>
                    </a:lnTo>
                    <a:lnTo>
                      <a:pt x="971" y="860"/>
                    </a:lnTo>
                    <a:lnTo>
                      <a:pt x="998" y="872"/>
                    </a:lnTo>
                    <a:lnTo>
                      <a:pt x="1007" y="876"/>
                    </a:lnTo>
                    <a:lnTo>
                      <a:pt x="1014" y="881"/>
                    </a:lnTo>
                    <a:lnTo>
                      <a:pt x="1020" y="886"/>
                    </a:lnTo>
                    <a:lnTo>
                      <a:pt x="1025" y="890"/>
                    </a:lnTo>
                    <a:lnTo>
                      <a:pt x="1030" y="897"/>
                    </a:lnTo>
                    <a:lnTo>
                      <a:pt x="1033" y="903"/>
                    </a:lnTo>
                    <a:lnTo>
                      <a:pt x="1034" y="909"/>
                    </a:lnTo>
                    <a:lnTo>
                      <a:pt x="1035" y="916"/>
                    </a:lnTo>
                    <a:lnTo>
                      <a:pt x="1035" y="978"/>
                    </a:lnTo>
                    <a:lnTo>
                      <a:pt x="589" y="978"/>
                    </a:lnTo>
                    <a:lnTo>
                      <a:pt x="589" y="914"/>
                    </a:lnTo>
                    <a:lnTo>
                      <a:pt x="590" y="906"/>
                    </a:lnTo>
                    <a:lnTo>
                      <a:pt x="591" y="900"/>
                    </a:lnTo>
                    <a:lnTo>
                      <a:pt x="595" y="894"/>
                    </a:lnTo>
                    <a:lnTo>
                      <a:pt x="599" y="888"/>
                    </a:lnTo>
                    <a:lnTo>
                      <a:pt x="603" y="883"/>
                    </a:lnTo>
                    <a:lnTo>
                      <a:pt x="611" y="878"/>
                    </a:lnTo>
                    <a:lnTo>
                      <a:pt x="618" y="875"/>
                    </a:lnTo>
                    <a:lnTo>
                      <a:pt x="627" y="871"/>
                    </a:lnTo>
                    <a:lnTo>
                      <a:pt x="640" y="865"/>
                    </a:lnTo>
                    <a:lnTo>
                      <a:pt x="648" y="854"/>
                    </a:lnTo>
                    <a:lnTo>
                      <a:pt x="651" y="843"/>
                    </a:lnTo>
                    <a:lnTo>
                      <a:pt x="651" y="836"/>
                    </a:lnTo>
                    <a:lnTo>
                      <a:pt x="651" y="823"/>
                    </a:lnTo>
                    <a:lnTo>
                      <a:pt x="651" y="807"/>
                    </a:lnTo>
                    <a:lnTo>
                      <a:pt x="651" y="800"/>
                    </a:lnTo>
                    <a:lnTo>
                      <a:pt x="651" y="356"/>
                    </a:lnTo>
                    <a:lnTo>
                      <a:pt x="651" y="327"/>
                    </a:lnTo>
                    <a:lnTo>
                      <a:pt x="651" y="312"/>
                    </a:lnTo>
                    <a:lnTo>
                      <a:pt x="645" y="288"/>
                    </a:lnTo>
                    <a:lnTo>
                      <a:pt x="643" y="277"/>
                    </a:lnTo>
                    <a:lnTo>
                      <a:pt x="639" y="267"/>
                    </a:lnTo>
                    <a:lnTo>
                      <a:pt x="635" y="257"/>
                    </a:lnTo>
                    <a:lnTo>
                      <a:pt x="632" y="250"/>
                    </a:lnTo>
                    <a:lnTo>
                      <a:pt x="627" y="241"/>
                    </a:lnTo>
                    <a:lnTo>
                      <a:pt x="621" y="234"/>
                    </a:lnTo>
                    <a:lnTo>
                      <a:pt x="616" y="227"/>
                    </a:lnTo>
                    <a:lnTo>
                      <a:pt x="608" y="221"/>
                    </a:lnTo>
                    <a:lnTo>
                      <a:pt x="602" y="216"/>
                    </a:lnTo>
                    <a:lnTo>
                      <a:pt x="595" y="213"/>
                    </a:lnTo>
                    <a:lnTo>
                      <a:pt x="586" y="208"/>
                    </a:lnTo>
                    <a:lnTo>
                      <a:pt x="579" y="205"/>
                    </a:lnTo>
                    <a:lnTo>
                      <a:pt x="569" y="203"/>
                    </a:lnTo>
                    <a:lnTo>
                      <a:pt x="560" y="202"/>
                    </a:lnTo>
                    <a:lnTo>
                      <a:pt x="551" y="200"/>
                    </a:lnTo>
                    <a:lnTo>
                      <a:pt x="539" y="200"/>
                    </a:lnTo>
                    <a:lnTo>
                      <a:pt x="526" y="200"/>
                    </a:lnTo>
                    <a:lnTo>
                      <a:pt x="511" y="203"/>
                    </a:lnTo>
                    <a:lnTo>
                      <a:pt x="496" y="207"/>
                    </a:lnTo>
                    <a:lnTo>
                      <a:pt x="480" y="211"/>
                    </a:lnTo>
                    <a:lnTo>
                      <a:pt x="466" y="219"/>
                    </a:lnTo>
                    <a:lnTo>
                      <a:pt x="450" y="226"/>
                    </a:lnTo>
                    <a:lnTo>
                      <a:pt x="434" y="236"/>
                    </a:lnTo>
                    <a:lnTo>
                      <a:pt x="418" y="247"/>
                    </a:lnTo>
                    <a:lnTo>
                      <a:pt x="383" y="277"/>
                    </a:lnTo>
                    <a:lnTo>
                      <a:pt x="383" y="793"/>
                    </a:lnTo>
                    <a:lnTo>
                      <a:pt x="383" y="807"/>
                    </a:lnTo>
                    <a:lnTo>
                      <a:pt x="383" y="827"/>
                    </a:lnTo>
                    <a:lnTo>
                      <a:pt x="383" y="836"/>
                    </a:lnTo>
                    <a:lnTo>
                      <a:pt x="387" y="845"/>
                    </a:lnTo>
                    <a:lnTo>
                      <a:pt x="389" y="851"/>
                    </a:lnTo>
                    <a:lnTo>
                      <a:pt x="393" y="856"/>
                    </a:lnTo>
                    <a:lnTo>
                      <a:pt x="399" y="861"/>
                    </a:lnTo>
                    <a:lnTo>
                      <a:pt x="405" y="865"/>
                    </a:lnTo>
                    <a:lnTo>
                      <a:pt x="419" y="871"/>
                    </a:lnTo>
                    <a:lnTo>
                      <a:pt x="428" y="875"/>
                    </a:lnTo>
                    <a:lnTo>
                      <a:pt x="435" y="878"/>
                    </a:lnTo>
                    <a:lnTo>
                      <a:pt x="441" y="883"/>
                    </a:lnTo>
                    <a:lnTo>
                      <a:pt x="447" y="888"/>
                    </a:lnTo>
                    <a:lnTo>
                      <a:pt x="451" y="894"/>
                    </a:lnTo>
                    <a:lnTo>
                      <a:pt x="453" y="900"/>
                    </a:lnTo>
                    <a:lnTo>
                      <a:pt x="456" y="906"/>
                    </a:lnTo>
                    <a:lnTo>
                      <a:pt x="456" y="914"/>
                    </a:lnTo>
                    <a:lnTo>
                      <a:pt x="456" y="978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268120" y="372960"/>
                <a:ext cx="55080" cy="75240"/>
              </a:xfrm>
              <a:custGeom>
                <a:avLst/>
                <a:gdLst/>
                <a:ahLst/>
                <a:rect l="l" t="t" r="r" b="b"/>
                <a:pathLst>
                  <a:path w="857" h="983">
                    <a:moveTo>
                      <a:pt x="857" y="187"/>
                    </a:moveTo>
                    <a:lnTo>
                      <a:pt x="683" y="412"/>
                    </a:lnTo>
                    <a:lnTo>
                      <a:pt x="661" y="401"/>
                    </a:lnTo>
                    <a:lnTo>
                      <a:pt x="642" y="390"/>
                    </a:lnTo>
                    <a:lnTo>
                      <a:pt x="627" y="380"/>
                    </a:lnTo>
                    <a:lnTo>
                      <a:pt x="615" y="373"/>
                    </a:lnTo>
                    <a:lnTo>
                      <a:pt x="608" y="365"/>
                    </a:lnTo>
                    <a:lnTo>
                      <a:pt x="602" y="361"/>
                    </a:lnTo>
                    <a:lnTo>
                      <a:pt x="597" y="354"/>
                    </a:lnTo>
                    <a:lnTo>
                      <a:pt x="593" y="350"/>
                    </a:lnTo>
                    <a:lnTo>
                      <a:pt x="592" y="345"/>
                    </a:lnTo>
                    <a:lnTo>
                      <a:pt x="595" y="310"/>
                    </a:lnTo>
                    <a:lnTo>
                      <a:pt x="597" y="298"/>
                    </a:lnTo>
                    <a:lnTo>
                      <a:pt x="597" y="283"/>
                    </a:lnTo>
                    <a:lnTo>
                      <a:pt x="595" y="271"/>
                    </a:lnTo>
                    <a:lnTo>
                      <a:pt x="594" y="261"/>
                    </a:lnTo>
                    <a:lnTo>
                      <a:pt x="592" y="254"/>
                    </a:lnTo>
                    <a:lnTo>
                      <a:pt x="588" y="246"/>
                    </a:lnTo>
                    <a:lnTo>
                      <a:pt x="582" y="238"/>
                    </a:lnTo>
                    <a:lnTo>
                      <a:pt x="574" y="228"/>
                    </a:lnTo>
                    <a:lnTo>
                      <a:pt x="565" y="218"/>
                    </a:lnTo>
                    <a:lnTo>
                      <a:pt x="557" y="212"/>
                    </a:lnTo>
                    <a:lnTo>
                      <a:pt x="550" y="206"/>
                    </a:lnTo>
                    <a:lnTo>
                      <a:pt x="541" y="201"/>
                    </a:lnTo>
                    <a:lnTo>
                      <a:pt x="531" y="197"/>
                    </a:lnTo>
                    <a:lnTo>
                      <a:pt x="522" y="195"/>
                    </a:lnTo>
                    <a:lnTo>
                      <a:pt x="511" y="192"/>
                    </a:lnTo>
                    <a:lnTo>
                      <a:pt x="499" y="191"/>
                    </a:lnTo>
                    <a:lnTo>
                      <a:pt x="488" y="190"/>
                    </a:lnTo>
                    <a:lnTo>
                      <a:pt x="475" y="192"/>
                    </a:lnTo>
                    <a:lnTo>
                      <a:pt x="453" y="196"/>
                    </a:lnTo>
                    <a:lnTo>
                      <a:pt x="445" y="197"/>
                    </a:lnTo>
                    <a:lnTo>
                      <a:pt x="439" y="200"/>
                    </a:lnTo>
                    <a:lnTo>
                      <a:pt x="432" y="203"/>
                    </a:lnTo>
                    <a:lnTo>
                      <a:pt x="426" y="207"/>
                    </a:lnTo>
                    <a:lnTo>
                      <a:pt x="411" y="217"/>
                    </a:lnTo>
                    <a:lnTo>
                      <a:pt x="397" y="230"/>
                    </a:lnTo>
                    <a:lnTo>
                      <a:pt x="390" y="238"/>
                    </a:lnTo>
                    <a:lnTo>
                      <a:pt x="383" y="246"/>
                    </a:lnTo>
                    <a:lnTo>
                      <a:pt x="375" y="256"/>
                    </a:lnTo>
                    <a:lnTo>
                      <a:pt x="369" y="267"/>
                    </a:lnTo>
                    <a:lnTo>
                      <a:pt x="356" y="292"/>
                    </a:lnTo>
                    <a:lnTo>
                      <a:pt x="342" y="320"/>
                    </a:lnTo>
                    <a:lnTo>
                      <a:pt x="336" y="338"/>
                    </a:lnTo>
                    <a:lnTo>
                      <a:pt x="331" y="352"/>
                    </a:lnTo>
                    <a:lnTo>
                      <a:pt x="326" y="370"/>
                    </a:lnTo>
                    <a:lnTo>
                      <a:pt x="320" y="386"/>
                    </a:lnTo>
                    <a:lnTo>
                      <a:pt x="316" y="401"/>
                    </a:lnTo>
                    <a:lnTo>
                      <a:pt x="314" y="416"/>
                    </a:lnTo>
                    <a:lnTo>
                      <a:pt x="308" y="444"/>
                    </a:lnTo>
                    <a:lnTo>
                      <a:pt x="304" y="472"/>
                    </a:lnTo>
                    <a:lnTo>
                      <a:pt x="301" y="499"/>
                    </a:lnTo>
                    <a:lnTo>
                      <a:pt x="300" y="526"/>
                    </a:lnTo>
                    <a:lnTo>
                      <a:pt x="301" y="558"/>
                    </a:lnTo>
                    <a:lnTo>
                      <a:pt x="305" y="588"/>
                    </a:lnTo>
                    <a:lnTo>
                      <a:pt x="308" y="601"/>
                    </a:lnTo>
                    <a:lnTo>
                      <a:pt x="310" y="615"/>
                    </a:lnTo>
                    <a:lnTo>
                      <a:pt x="314" y="628"/>
                    </a:lnTo>
                    <a:lnTo>
                      <a:pt x="317" y="641"/>
                    </a:lnTo>
                    <a:lnTo>
                      <a:pt x="322" y="653"/>
                    </a:lnTo>
                    <a:lnTo>
                      <a:pt x="327" y="665"/>
                    </a:lnTo>
                    <a:lnTo>
                      <a:pt x="332" y="676"/>
                    </a:lnTo>
                    <a:lnTo>
                      <a:pt x="338" y="686"/>
                    </a:lnTo>
                    <a:lnTo>
                      <a:pt x="344" y="697"/>
                    </a:lnTo>
                    <a:lnTo>
                      <a:pt x="352" y="707"/>
                    </a:lnTo>
                    <a:lnTo>
                      <a:pt x="359" y="715"/>
                    </a:lnTo>
                    <a:lnTo>
                      <a:pt x="368" y="725"/>
                    </a:lnTo>
                    <a:lnTo>
                      <a:pt x="384" y="740"/>
                    </a:lnTo>
                    <a:lnTo>
                      <a:pt x="401" y="752"/>
                    </a:lnTo>
                    <a:lnTo>
                      <a:pt x="419" y="763"/>
                    </a:lnTo>
                    <a:lnTo>
                      <a:pt x="440" y="772"/>
                    </a:lnTo>
                    <a:lnTo>
                      <a:pt x="461" y="779"/>
                    </a:lnTo>
                    <a:lnTo>
                      <a:pt x="485" y="784"/>
                    </a:lnTo>
                    <a:lnTo>
                      <a:pt x="508" y="788"/>
                    </a:lnTo>
                    <a:lnTo>
                      <a:pt x="534" y="788"/>
                    </a:lnTo>
                    <a:lnTo>
                      <a:pt x="561" y="788"/>
                    </a:lnTo>
                    <a:lnTo>
                      <a:pt x="584" y="785"/>
                    </a:lnTo>
                    <a:lnTo>
                      <a:pt x="595" y="783"/>
                    </a:lnTo>
                    <a:lnTo>
                      <a:pt x="605" y="780"/>
                    </a:lnTo>
                    <a:lnTo>
                      <a:pt x="614" y="778"/>
                    </a:lnTo>
                    <a:lnTo>
                      <a:pt x="621" y="774"/>
                    </a:lnTo>
                    <a:lnTo>
                      <a:pt x="637" y="767"/>
                    </a:lnTo>
                    <a:lnTo>
                      <a:pt x="653" y="755"/>
                    </a:lnTo>
                    <a:lnTo>
                      <a:pt x="670" y="740"/>
                    </a:lnTo>
                    <a:lnTo>
                      <a:pt x="688" y="723"/>
                    </a:lnTo>
                    <a:lnTo>
                      <a:pt x="697" y="714"/>
                    </a:lnTo>
                    <a:lnTo>
                      <a:pt x="721" y="687"/>
                    </a:lnTo>
                    <a:lnTo>
                      <a:pt x="729" y="677"/>
                    </a:lnTo>
                    <a:lnTo>
                      <a:pt x="738" y="671"/>
                    </a:lnTo>
                    <a:lnTo>
                      <a:pt x="745" y="666"/>
                    </a:lnTo>
                    <a:lnTo>
                      <a:pt x="753" y="663"/>
                    </a:lnTo>
                    <a:lnTo>
                      <a:pt x="763" y="661"/>
                    </a:lnTo>
                    <a:lnTo>
                      <a:pt x="776" y="660"/>
                    </a:lnTo>
                    <a:lnTo>
                      <a:pt x="796" y="660"/>
                    </a:lnTo>
                    <a:lnTo>
                      <a:pt x="819" y="659"/>
                    </a:lnTo>
                    <a:lnTo>
                      <a:pt x="838" y="659"/>
                    </a:lnTo>
                    <a:lnTo>
                      <a:pt x="838" y="928"/>
                    </a:lnTo>
                    <a:lnTo>
                      <a:pt x="786" y="946"/>
                    </a:lnTo>
                    <a:lnTo>
                      <a:pt x="755" y="955"/>
                    </a:lnTo>
                    <a:lnTo>
                      <a:pt x="725" y="962"/>
                    </a:lnTo>
                    <a:lnTo>
                      <a:pt x="695" y="968"/>
                    </a:lnTo>
                    <a:lnTo>
                      <a:pt x="665" y="973"/>
                    </a:lnTo>
                    <a:lnTo>
                      <a:pt x="637" y="978"/>
                    </a:lnTo>
                    <a:lnTo>
                      <a:pt x="609" y="981"/>
                    </a:lnTo>
                    <a:lnTo>
                      <a:pt x="582" y="982"/>
                    </a:lnTo>
                    <a:lnTo>
                      <a:pt x="555" y="983"/>
                    </a:lnTo>
                    <a:lnTo>
                      <a:pt x="522" y="982"/>
                    </a:lnTo>
                    <a:lnTo>
                      <a:pt x="490" y="979"/>
                    </a:lnTo>
                    <a:lnTo>
                      <a:pt x="459" y="976"/>
                    </a:lnTo>
                    <a:lnTo>
                      <a:pt x="429" y="970"/>
                    </a:lnTo>
                    <a:lnTo>
                      <a:pt x="385" y="960"/>
                    </a:lnTo>
                    <a:lnTo>
                      <a:pt x="342" y="949"/>
                    </a:lnTo>
                    <a:lnTo>
                      <a:pt x="322" y="941"/>
                    </a:lnTo>
                    <a:lnTo>
                      <a:pt x="303" y="935"/>
                    </a:lnTo>
                    <a:lnTo>
                      <a:pt x="283" y="927"/>
                    </a:lnTo>
                    <a:lnTo>
                      <a:pt x="266" y="919"/>
                    </a:lnTo>
                    <a:lnTo>
                      <a:pt x="247" y="911"/>
                    </a:lnTo>
                    <a:lnTo>
                      <a:pt x="230" y="902"/>
                    </a:lnTo>
                    <a:lnTo>
                      <a:pt x="214" y="892"/>
                    </a:lnTo>
                    <a:lnTo>
                      <a:pt x="199" y="882"/>
                    </a:lnTo>
                    <a:lnTo>
                      <a:pt x="183" y="873"/>
                    </a:lnTo>
                    <a:lnTo>
                      <a:pt x="170" y="862"/>
                    </a:lnTo>
                    <a:lnTo>
                      <a:pt x="156" y="850"/>
                    </a:lnTo>
                    <a:lnTo>
                      <a:pt x="143" y="839"/>
                    </a:lnTo>
                    <a:lnTo>
                      <a:pt x="130" y="827"/>
                    </a:lnTo>
                    <a:lnTo>
                      <a:pt x="118" y="815"/>
                    </a:lnTo>
                    <a:lnTo>
                      <a:pt x="107" y="801"/>
                    </a:lnTo>
                    <a:lnTo>
                      <a:pt x="97" y="788"/>
                    </a:lnTo>
                    <a:lnTo>
                      <a:pt x="86" y="773"/>
                    </a:lnTo>
                    <a:lnTo>
                      <a:pt x="76" y="758"/>
                    </a:lnTo>
                    <a:lnTo>
                      <a:pt x="68" y="742"/>
                    </a:lnTo>
                    <a:lnTo>
                      <a:pt x="59" y="726"/>
                    </a:lnTo>
                    <a:lnTo>
                      <a:pt x="50" y="711"/>
                    </a:lnTo>
                    <a:lnTo>
                      <a:pt x="43" y="693"/>
                    </a:lnTo>
                    <a:lnTo>
                      <a:pt x="36" y="675"/>
                    </a:lnTo>
                    <a:lnTo>
                      <a:pt x="30" y="656"/>
                    </a:lnTo>
                    <a:lnTo>
                      <a:pt x="23" y="638"/>
                    </a:lnTo>
                    <a:lnTo>
                      <a:pt x="19" y="618"/>
                    </a:lnTo>
                    <a:lnTo>
                      <a:pt x="14" y="599"/>
                    </a:lnTo>
                    <a:lnTo>
                      <a:pt x="9" y="578"/>
                    </a:lnTo>
                    <a:lnTo>
                      <a:pt x="6" y="556"/>
                    </a:lnTo>
                    <a:lnTo>
                      <a:pt x="4" y="537"/>
                    </a:lnTo>
                    <a:lnTo>
                      <a:pt x="1" y="523"/>
                    </a:lnTo>
                    <a:lnTo>
                      <a:pt x="1" y="512"/>
                    </a:lnTo>
                    <a:lnTo>
                      <a:pt x="0" y="494"/>
                    </a:lnTo>
                    <a:lnTo>
                      <a:pt x="0" y="481"/>
                    </a:lnTo>
                    <a:lnTo>
                      <a:pt x="1" y="450"/>
                    </a:lnTo>
                    <a:lnTo>
                      <a:pt x="4" y="419"/>
                    </a:lnTo>
                    <a:lnTo>
                      <a:pt x="9" y="388"/>
                    </a:lnTo>
                    <a:lnTo>
                      <a:pt x="16" y="356"/>
                    </a:lnTo>
                    <a:lnTo>
                      <a:pt x="22" y="337"/>
                    </a:lnTo>
                    <a:lnTo>
                      <a:pt x="28" y="320"/>
                    </a:lnTo>
                    <a:lnTo>
                      <a:pt x="35" y="302"/>
                    </a:lnTo>
                    <a:lnTo>
                      <a:pt x="42" y="284"/>
                    </a:lnTo>
                    <a:lnTo>
                      <a:pt x="49" y="268"/>
                    </a:lnTo>
                    <a:lnTo>
                      <a:pt x="58" y="251"/>
                    </a:lnTo>
                    <a:lnTo>
                      <a:pt x="66" y="235"/>
                    </a:lnTo>
                    <a:lnTo>
                      <a:pt x="75" y="221"/>
                    </a:lnTo>
                    <a:lnTo>
                      <a:pt x="85" y="206"/>
                    </a:lnTo>
                    <a:lnTo>
                      <a:pt x="95" y="191"/>
                    </a:lnTo>
                    <a:lnTo>
                      <a:pt x="106" y="176"/>
                    </a:lnTo>
                    <a:lnTo>
                      <a:pt x="117" y="163"/>
                    </a:lnTo>
                    <a:lnTo>
                      <a:pt x="129" y="149"/>
                    </a:lnTo>
                    <a:lnTo>
                      <a:pt x="142" y="137"/>
                    </a:lnTo>
                    <a:lnTo>
                      <a:pt x="154" y="125"/>
                    </a:lnTo>
                    <a:lnTo>
                      <a:pt x="167" y="113"/>
                    </a:lnTo>
                    <a:lnTo>
                      <a:pt x="181" y="100"/>
                    </a:lnTo>
                    <a:lnTo>
                      <a:pt x="196" y="90"/>
                    </a:lnTo>
                    <a:lnTo>
                      <a:pt x="210" y="79"/>
                    </a:lnTo>
                    <a:lnTo>
                      <a:pt x="225" y="70"/>
                    </a:lnTo>
                    <a:lnTo>
                      <a:pt x="240" y="61"/>
                    </a:lnTo>
                    <a:lnTo>
                      <a:pt x="256" y="52"/>
                    </a:lnTo>
                    <a:lnTo>
                      <a:pt x="271" y="45"/>
                    </a:lnTo>
                    <a:lnTo>
                      <a:pt x="287" y="38"/>
                    </a:lnTo>
                    <a:lnTo>
                      <a:pt x="304" y="31"/>
                    </a:lnTo>
                    <a:lnTo>
                      <a:pt x="320" y="25"/>
                    </a:lnTo>
                    <a:lnTo>
                      <a:pt x="337" y="20"/>
                    </a:lnTo>
                    <a:lnTo>
                      <a:pt x="354" y="16"/>
                    </a:lnTo>
                    <a:lnTo>
                      <a:pt x="373" y="12"/>
                    </a:lnTo>
                    <a:lnTo>
                      <a:pt x="391" y="8"/>
                    </a:lnTo>
                    <a:lnTo>
                      <a:pt x="410" y="6"/>
                    </a:lnTo>
                    <a:lnTo>
                      <a:pt x="428" y="3"/>
                    </a:lnTo>
                    <a:lnTo>
                      <a:pt x="442" y="2"/>
                    </a:lnTo>
                    <a:lnTo>
                      <a:pt x="456" y="1"/>
                    </a:lnTo>
                    <a:lnTo>
                      <a:pt x="471" y="0"/>
                    </a:lnTo>
                    <a:lnTo>
                      <a:pt x="488" y="0"/>
                    </a:lnTo>
                    <a:lnTo>
                      <a:pt x="517" y="1"/>
                    </a:lnTo>
                    <a:lnTo>
                      <a:pt x="545" y="3"/>
                    </a:lnTo>
                    <a:lnTo>
                      <a:pt x="572" y="7"/>
                    </a:lnTo>
                    <a:lnTo>
                      <a:pt x="599" y="12"/>
                    </a:lnTo>
                    <a:lnTo>
                      <a:pt x="626" y="19"/>
                    </a:lnTo>
                    <a:lnTo>
                      <a:pt x="652" y="28"/>
                    </a:lnTo>
                    <a:lnTo>
                      <a:pt x="677" y="38"/>
                    </a:lnTo>
                    <a:lnTo>
                      <a:pt x="702" y="50"/>
                    </a:lnTo>
                    <a:lnTo>
                      <a:pt x="726" y="62"/>
                    </a:lnTo>
                    <a:lnTo>
                      <a:pt x="748" y="77"/>
                    </a:lnTo>
                    <a:lnTo>
                      <a:pt x="769" y="93"/>
                    </a:lnTo>
                    <a:lnTo>
                      <a:pt x="790" y="109"/>
                    </a:lnTo>
                    <a:lnTo>
                      <a:pt x="808" y="127"/>
                    </a:lnTo>
                    <a:lnTo>
                      <a:pt x="825" y="146"/>
                    </a:lnTo>
                    <a:lnTo>
                      <a:pt x="843" y="165"/>
                    </a:lnTo>
                    <a:lnTo>
                      <a:pt x="857" y="187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327160" y="371520"/>
                <a:ext cx="65880" cy="78120"/>
              </a:xfrm>
              <a:custGeom>
                <a:avLst/>
                <a:gdLst/>
                <a:ahLst/>
                <a:rect l="l" t="t" r="r" b="b"/>
                <a:pathLst>
                  <a:path w="1043" h="1007">
                    <a:moveTo>
                      <a:pt x="0" y="499"/>
                    </a:moveTo>
                    <a:lnTo>
                      <a:pt x="2" y="474"/>
                    </a:lnTo>
                    <a:lnTo>
                      <a:pt x="3" y="448"/>
                    </a:lnTo>
                    <a:lnTo>
                      <a:pt x="4" y="424"/>
                    </a:lnTo>
                    <a:lnTo>
                      <a:pt x="8" y="400"/>
                    </a:lnTo>
                    <a:lnTo>
                      <a:pt x="11" y="377"/>
                    </a:lnTo>
                    <a:lnTo>
                      <a:pt x="16" y="355"/>
                    </a:lnTo>
                    <a:lnTo>
                      <a:pt x="22" y="332"/>
                    </a:lnTo>
                    <a:lnTo>
                      <a:pt x="30" y="312"/>
                    </a:lnTo>
                    <a:lnTo>
                      <a:pt x="37" y="291"/>
                    </a:lnTo>
                    <a:lnTo>
                      <a:pt x="46" y="270"/>
                    </a:lnTo>
                    <a:lnTo>
                      <a:pt x="56" y="250"/>
                    </a:lnTo>
                    <a:lnTo>
                      <a:pt x="66" y="232"/>
                    </a:lnTo>
                    <a:lnTo>
                      <a:pt x="77" y="213"/>
                    </a:lnTo>
                    <a:lnTo>
                      <a:pt x="89" y="196"/>
                    </a:lnTo>
                    <a:lnTo>
                      <a:pt x="102" y="179"/>
                    </a:lnTo>
                    <a:lnTo>
                      <a:pt x="116" y="162"/>
                    </a:lnTo>
                    <a:lnTo>
                      <a:pt x="131" y="146"/>
                    </a:lnTo>
                    <a:lnTo>
                      <a:pt x="147" y="131"/>
                    </a:lnTo>
                    <a:lnTo>
                      <a:pt x="163" y="116"/>
                    </a:lnTo>
                    <a:lnTo>
                      <a:pt x="180" y="103"/>
                    </a:lnTo>
                    <a:lnTo>
                      <a:pt x="197" y="91"/>
                    </a:lnTo>
                    <a:lnTo>
                      <a:pt x="216" y="79"/>
                    </a:lnTo>
                    <a:lnTo>
                      <a:pt x="235" y="68"/>
                    </a:lnTo>
                    <a:lnTo>
                      <a:pt x="255" y="57"/>
                    </a:lnTo>
                    <a:lnTo>
                      <a:pt x="276" y="49"/>
                    </a:lnTo>
                    <a:lnTo>
                      <a:pt x="297" y="39"/>
                    </a:lnTo>
                    <a:lnTo>
                      <a:pt x="319" y="32"/>
                    </a:lnTo>
                    <a:lnTo>
                      <a:pt x="341" y="24"/>
                    </a:lnTo>
                    <a:lnTo>
                      <a:pt x="364" y="18"/>
                    </a:lnTo>
                    <a:lnTo>
                      <a:pt x="389" y="13"/>
                    </a:lnTo>
                    <a:lnTo>
                      <a:pt x="414" y="8"/>
                    </a:lnTo>
                    <a:lnTo>
                      <a:pt x="439" y="5"/>
                    </a:lnTo>
                    <a:lnTo>
                      <a:pt x="460" y="2"/>
                    </a:lnTo>
                    <a:lnTo>
                      <a:pt x="481" y="1"/>
                    </a:lnTo>
                    <a:lnTo>
                      <a:pt x="502" y="0"/>
                    </a:lnTo>
                    <a:lnTo>
                      <a:pt x="523" y="0"/>
                    </a:lnTo>
                    <a:lnTo>
                      <a:pt x="543" y="0"/>
                    </a:lnTo>
                    <a:lnTo>
                      <a:pt x="564" y="1"/>
                    </a:lnTo>
                    <a:lnTo>
                      <a:pt x="585" y="2"/>
                    </a:lnTo>
                    <a:lnTo>
                      <a:pt x="605" y="5"/>
                    </a:lnTo>
                    <a:lnTo>
                      <a:pt x="630" y="8"/>
                    </a:lnTo>
                    <a:lnTo>
                      <a:pt x="655" y="13"/>
                    </a:lnTo>
                    <a:lnTo>
                      <a:pt x="679" y="18"/>
                    </a:lnTo>
                    <a:lnTo>
                      <a:pt x="703" y="24"/>
                    </a:lnTo>
                    <a:lnTo>
                      <a:pt x="725" y="32"/>
                    </a:lnTo>
                    <a:lnTo>
                      <a:pt x="747" y="39"/>
                    </a:lnTo>
                    <a:lnTo>
                      <a:pt x="768" y="48"/>
                    </a:lnTo>
                    <a:lnTo>
                      <a:pt x="789" y="57"/>
                    </a:lnTo>
                    <a:lnTo>
                      <a:pt x="808" y="67"/>
                    </a:lnTo>
                    <a:lnTo>
                      <a:pt x="827" y="78"/>
                    </a:lnTo>
                    <a:lnTo>
                      <a:pt x="845" y="91"/>
                    </a:lnTo>
                    <a:lnTo>
                      <a:pt x="864" y="103"/>
                    </a:lnTo>
                    <a:lnTo>
                      <a:pt x="880" y="116"/>
                    </a:lnTo>
                    <a:lnTo>
                      <a:pt x="897" y="130"/>
                    </a:lnTo>
                    <a:lnTo>
                      <a:pt x="912" y="146"/>
                    </a:lnTo>
                    <a:lnTo>
                      <a:pt x="928" y="161"/>
                    </a:lnTo>
                    <a:lnTo>
                      <a:pt x="941" y="178"/>
                    </a:lnTo>
                    <a:lnTo>
                      <a:pt x="955" y="195"/>
                    </a:lnTo>
                    <a:lnTo>
                      <a:pt x="967" y="212"/>
                    </a:lnTo>
                    <a:lnTo>
                      <a:pt x="978" y="230"/>
                    </a:lnTo>
                    <a:lnTo>
                      <a:pt x="988" y="249"/>
                    </a:lnTo>
                    <a:lnTo>
                      <a:pt x="998" y="269"/>
                    </a:lnTo>
                    <a:lnTo>
                      <a:pt x="1006" y="289"/>
                    </a:lnTo>
                    <a:lnTo>
                      <a:pt x="1015" y="309"/>
                    </a:lnTo>
                    <a:lnTo>
                      <a:pt x="1021" y="331"/>
                    </a:lnTo>
                    <a:lnTo>
                      <a:pt x="1027" y="353"/>
                    </a:lnTo>
                    <a:lnTo>
                      <a:pt x="1032" y="375"/>
                    </a:lnTo>
                    <a:lnTo>
                      <a:pt x="1036" y="399"/>
                    </a:lnTo>
                    <a:lnTo>
                      <a:pt x="1040" y="422"/>
                    </a:lnTo>
                    <a:lnTo>
                      <a:pt x="1042" y="447"/>
                    </a:lnTo>
                    <a:lnTo>
                      <a:pt x="1043" y="471"/>
                    </a:lnTo>
                    <a:lnTo>
                      <a:pt x="1043" y="497"/>
                    </a:lnTo>
                    <a:lnTo>
                      <a:pt x="1043" y="524"/>
                    </a:lnTo>
                    <a:lnTo>
                      <a:pt x="1042" y="549"/>
                    </a:lnTo>
                    <a:lnTo>
                      <a:pt x="1040" y="574"/>
                    </a:lnTo>
                    <a:lnTo>
                      <a:pt x="1036" y="599"/>
                    </a:lnTo>
                    <a:lnTo>
                      <a:pt x="1032" y="622"/>
                    </a:lnTo>
                    <a:lnTo>
                      <a:pt x="1027" y="646"/>
                    </a:lnTo>
                    <a:lnTo>
                      <a:pt x="1022" y="668"/>
                    </a:lnTo>
                    <a:lnTo>
                      <a:pt x="1015" y="690"/>
                    </a:lnTo>
                    <a:lnTo>
                      <a:pt x="1008" y="711"/>
                    </a:lnTo>
                    <a:lnTo>
                      <a:pt x="999" y="731"/>
                    </a:lnTo>
                    <a:lnTo>
                      <a:pt x="990" y="751"/>
                    </a:lnTo>
                    <a:lnTo>
                      <a:pt x="979" y="771"/>
                    </a:lnTo>
                    <a:lnTo>
                      <a:pt x="968" y="789"/>
                    </a:lnTo>
                    <a:lnTo>
                      <a:pt x="956" y="808"/>
                    </a:lnTo>
                    <a:lnTo>
                      <a:pt x="944" y="825"/>
                    </a:lnTo>
                    <a:lnTo>
                      <a:pt x="930" y="842"/>
                    </a:lnTo>
                    <a:lnTo>
                      <a:pt x="915" y="858"/>
                    </a:lnTo>
                    <a:lnTo>
                      <a:pt x="899" y="873"/>
                    </a:lnTo>
                    <a:lnTo>
                      <a:pt x="883" y="887"/>
                    </a:lnTo>
                    <a:lnTo>
                      <a:pt x="867" y="901"/>
                    </a:lnTo>
                    <a:lnTo>
                      <a:pt x="849" y="913"/>
                    </a:lnTo>
                    <a:lnTo>
                      <a:pt x="831" y="925"/>
                    </a:lnTo>
                    <a:lnTo>
                      <a:pt x="812" y="937"/>
                    </a:lnTo>
                    <a:lnTo>
                      <a:pt x="791" y="948"/>
                    </a:lnTo>
                    <a:lnTo>
                      <a:pt x="772" y="956"/>
                    </a:lnTo>
                    <a:lnTo>
                      <a:pt x="749" y="966"/>
                    </a:lnTo>
                    <a:lnTo>
                      <a:pt x="727" y="973"/>
                    </a:lnTo>
                    <a:lnTo>
                      <a:pt x="704" y="981"/>
                    </a:lnTo>
                    <a:lnTo>
                      <a:pt x="681" y="987"/>
                    </a:lnTo>
                    <a:lnTo>
                      <a:pt x="656" y="992"/>
                    </a:lnTo>
                    <a:lnTo>
                      <a:pt x="631" y="997"/>
                    </a:lnTo>
                    <a:lnTo>
                      <a:pt x="605" y="1000"/>
                    </a:lnTo>
                    <a:lnTo>
                      <a:pt x="585" y="1003"/>
                    </a:lnTo>
                    <a:lnTo>
                      <a:pt x="564" y="1004"/>
                    </a:lnTo>
                    <a:lnTo>
                      <a:pt x="543" y="1005"/>
                    </a:lnTo>
                    <a:lnTo>
                      <a:pt x="523" y="1007"/>
                    </a:lnTo>
                    <a:lnTo>
                      <a:pt x="502" y="1005"/>
                    </a:lnTo>
                    <a:lnTo>
                      <a:pt x="481" y="1004"/>
                    </a:lnTo>
                    <a:lnTo>
                      <a:pt x="460" y="1003"/>
                    </a:lnTo>
                    <a:lnTo>
                      <a:pt x="439" y="1000"/>
                    </a:lnTo>
                    <a:lnTo>
                      <a:pt x="414" y="997"/>
                    </a:lnTo>
                    <a:lnTo>
                      <a:pt x="389" y="992"/>
                    </a:lnTo>
                    <a:lnTo>
                      <a:pt x="366" y="987"/>
                    </a:lnTo>
                    <a:lnTo>
                      <a:pt x="342" y="981"/>
                    </a:lnTo>
                    <a:lnTo>
                      <a:pt x="319" y="973"/>
                    </a:lnTo>
                    <a:lnTo>
                      <a:pt x="298" y="965"/>
                    </a:lnTo>
                    <a:lnTo>
                      <a:pt x="276" y="956"/>
                    </a:lnTo>
                    <a:lnTo>
                      <a:pt x="256" y="946"/>
                    </a:lnTo>
                    <a:lnTo>
                      <a:pt x="236" y="935"/>
                    </a:lnTo>
                    <a:lnTo>
                      <a:pt x="217" y="924"/>
                    </a:lnTo>
                    <a:lnTo>
                      <a:pt x="198" y="912"/>
                    </a:lnTo>
                    <a:lnTo>
                      <a:pt x="181" y="898"/>
                    </a:lnTo>
                    <a:lnTo>
                      <a:pt x="164" y="885"/>
                    </a:lnTo>
                    <a:lnTo>
                      <a:pt x="148" y="869"/>
                    </a:lnTo>
                    <a:lnTo>
                      <a:pt x="132" y="854"/>
                    </a:lnTo>
                    <a:lnTo>
                      <a:pt x="117" y="837"/>
                    </a:lnTo>
                    <a:lnTo>
                      <a:pt x="102" y="820"/>
                    </a:lnTo>
                    <a:lnTo>
                      <a:pt x="90" y="801"/>
                    </a:lnTo>
                    <a:lnTo>
                      <a:pt x="78" y="783"/>
                    </a:lnTo>
                    <a:lnTo>
                      <a:pt x="66" y="765"/>
                    </a:lnTo>
                    <a:lnTo>
                      <a:pt x="56" y="745"/>
                    </a:lnTo>
                    <a:lnTo>
                      <a:pt x="46" y="725"/>
                    </a:lnTo>
                    <a:lnTo>
                      <a:pt x="37" y="706"/>
                    </a:lnTo>
                    <a:lnTo>
                      <a:pt x="30" y="685"/>
                    </a:lnTo>
                    <a:lnTo>
                      <a:pt x="22" y="663"/>
                    </a:lnTo>
                    <a:lnTo>
                      <a:pt x="18" y="641"/>
                    </a:lnTo>
                    <a:lnTo>
                      <a:pt x="11" y="618"/>
                    </a:lnTo>
                    <a:lnTo>
                      <a:pt x="8" y="595"/>
                    </a:lnTo>
                    <a:lnTo>
                      <a:pt x="5" y="572"/>
                    </a:lnTo>
                    <a:lnTo>
                      <a:pt x="3" y="549"/>
                    </a:lnTo>
                    <a:lnTo>
                      <a:pt x="2" y="524"/>
                    </a:lnTo>
                    <a:lnTo>
                      <a:pt x="0" y="499"/>
                    </a:lnTo>
                    <a:close/>
                    <a:moveTo>
                      <a:pt x="523" y="828"/>
                    </a:moveTo>
                    <a:lnTo>
                      <a:pt x="537" y="827"/>
                    </a:lnTo>
                    <a:lnTo>
                      <a:pt x="549" y="827"/>
                    </a:lnTo>
                    <a:lnTo>
                      <a:pt x="561" y="825"/>
                    </a:lnTo>
                    <a:lnTo>
                      <a:pt x="572" y="824"/>
                    </a:lnTo>
                    <a:lnTo>
                      <a:pt x="583" y="820"/>
                    </a:lnTo>
                    <a:lnTo>
                      <a:pt x="594" y="817"/>
                    </a:lnTo>
                    <a:lnTo>
                      <a:pt x="605" y="813"/>
                    </a:lnTo>
                    <a:lnTo>
                      <a:pt x="615" y="809"/>
                    </a:lnTo>
                    <a:lnTo>
                      <a:pt x="625" y="803"/>
                    </a:lnTo>
                    <a:lnTo>
                      <a:pt x="635" y="798"/>
                    </a:lnTo>
                    <a:lnTo>
                      <a:pt x="644" y="790"/>
                    </a:lnTo>
                    <a:lnTo>
                      <a:pt x="652" y="784"/>
                    </a:lnTo>
                    <a:lnTo>
                      <a:pt x="661" y="777"/>
                    </a:lnTo>
                    <a:lnTo>
                      <a:pt x="668" y="768"/>
                    </a:lnTo>
                    <a:lnTo>
                      <a:pt x="676" y="760"/>
                    </a:lnTo>
                    <a:lnTo>
                      <a:pt x="682" y="750"/>
                    </a:lnTo>
                    <a:lnTo>
                      <a:pt x="689" y="740"/>
                    </a:lnTo>
                    <a:lnTo>
                      <a:pt x="695" y="729"/>
                    </a:lnTo>
                    <a:lnTo>
                      <a:pt x="700" y="717"/>
                    </a:lnTo>
                    <a:lnTo>
                      <a:pt x="706" y="704"/>
                    </a:lnTo>
                    <a:lnTo>
                      <a:pt x="715" y="677"/>
                    </a:lnTo>
                    <a:lnTo>
                      <a:pt x="722" y="648"/>
                    </a:lnTo>
                    <a:lnTo>
                      <a:pt x="728" y="615"/>
                    </a:lnTo>
                    <a:lnTo>
                      <a:pt x="732" y="579"/>
                    </a:lnTo>
                    <a:lnTo>
                      <a:pt x="735" y="541"/>
                    </a:lnTo>
                    <a:lnTo>
                      <a:pt x="736" y="499"/>
                    </a:lnTo>
                    <a:lnTo>
                      <a:pt x="735" y="459"/>
                    </a:lnTo>
                    <a:lnTo>
                      <a:pt x="732" y="421"/>
                    </a:lnTo>
                    <a:lnTo>
                      <a:pt x="728" y="386"/>
                    </a:lnTo>
                    <a:lnTo>
                      <a:pt x="722" y="355"/>
                    </a:lnTo>
                    <a:lnTo>
                      <a:pt x="715" y="325"/>
                    </a:lnTo>
                    <a:lnTo>
                      <a:pt x="706" y="299"/>
                    </a:lnTo>
                    <a:lnTo>
                      <a:pt x="700" y="287"/>
                    </a:lnTo>
                    <a:lnTo>
                      <a:pt x="695" y="275"/>
                    </a:lnTo>
                    <a:lnTo>
                      <a:pt x="689" y="265"/>
                    </a:lnTo>
                    <a:lnTo>
                      <a:pt x="682" y="255"/>
                    </a:lnTo>
                    <a:lnTo>
                      <a:pt x="676" y="245"/>
                    </a:lnTo>
                    <a:lnTo>
                      <a:pt x="668" y="237"/>
                    </a:lnTo>
                    <a:lnTo>
                      <a:pt x="661" y="228"/>
                    </a:lnTo>
                    <a:lnTo>
                      <a:pt x="652" y="221"/>
                    </a:lnTo>
                    <a:lnTo>
                      <a:pt x="644" y="213"/>
                    </a:lnTo>
                    <a:lnTo>
                      <a:pt x="635" y="207"/>
                    </a:lnTo>
                    <a:lnTo>
                      <a:pt x="625" y="202"/>
                    </a:lnTo>
                    <a:lnTo>
                      <a:pt x="615" y="196"/>
                    </a:lnTo>
                    <a:lnTo>
                      <a:pt x="605" y="192"/>
                    </a:lnTo>
                    <a:lnTo>
                      <a:pt x="594" y="189"/>
                    </a:lnTo>
                    <a:lnTo>
                      <a:pt x="583" y="185"/>
                    </a:lnTo>
                    <a:lnTo>
                      <a:pt x="572" y="183"/>
                    </a:lnTo>
                    <a:lnTo>
                      <a:pt x="561" y="180"/>
                    </a:lnTo>
                    <a:lnTo>
                      <a:pt x="549" y="179"/>
                    </a:lnTo>
                    <a:lnTo>
                      <a:pt x="537" y="178"/>
                    </a:lnTo>
                    <a:lnTo>
                      <a:pt x="523" y="178"/>
                    </a:lnTo>
                    <a:lnTo>
                      <a:pt x="511" y="178"/>
                    </a:lnTo>
                    <a:lnTo>
                      <a:pt x="498" y="179"/>
                    </a:lnTo>
                    <a:lnTo>
                      <a:pt x="486" y="180"/>
                    </a:lnTo>
                    <a:lnTo>
                      <a:pt x="475" y="183"/>
                    </a:lnTo>
                    <a:lnTo>
                      <a:pt x="464" y="185"/>
                    </a:lnTo>
                    <a:lnTo>
                      <a:pt x="453" y="189"/>
                    </a:lnTo>
                    <a:lnTo>
                      <a:pt x="443" y="192"/>
                    </a:lnTo>
                    <a:lnTo>
                      <a:pt x="433" y="196"/>
                    </a:lnTo>
                    <a:lnTo>
                      <a:pt x="423" y="202"/>
                    </a:lnTo>
                    <a:lnTo>
                      <a:pt x="414" y="207"/>
                    </a:lnTo>
                    <a:lnTo>
                      <a:pt x="405" y="213"/>
                    </a:lnTo>
                    <a:lnTo>
                      <a:pt x="396" y="221"/>
                    </a:lnTo>
                    <a:lnTo>
                      <a:pt x="389" y="228"/>
                    </a:lnTo>
                    <a:lnTo>
                      <a:pt x="380" y="237"/>
                    </a:lnTo>
                    <a:lnTo>
                      <a:pt x="373" y="245"/>
                    </a:lnTo>
                    <a:lnTo>
                      <a:pt x="367" y="255"/>
                    </a:lnTo>
                    <a:lnTo>
                      <a:pt x="359" y="265"/>
                    </a:lnTo>
                    <a:lnTo>
                      <a:pt x="353" y="275"/>
                    </a:lnTo>
                    <a:lnTo>
                      <a:pt x="348" y="287"/>
                    </a:lnTo>
                    <a:lnTo>
                      <a:pt x="342" y="299"/>
                    </a:lnTo>
                    <a:lnTo>
                      <a:pt x="337" y="312"/>
                    </a:lnTo>
                    <a:lnTo>
                      <a:pt x="334" y="325"/>
                    </a:lnTo>
                    <a:lnTo>
                      <a:pt x="329" y="340"/>
                    </a:lnTo>
                    <a:lnTo>
                      <a:pt x="325" y="355"/>
                    </a:lnTo>
                    <a:lnTo>
                      <a:pt x="320" y="386"/>
                    </a:lnTo>
                    <a:lnTo>
                      <a:pt x="315" y="421"/>
                    </a:lnTo>
                    <a:lnTo>
                      <a:pt x="313" y="459"/>
                    </a:lnTo>
                    <a:lnTo>
                      <a:pt x="312" y="499"/>
                    </a:lnTo>
                    <a:lnTo>
                      <a:pt x="313" y="540"/>
                    </a:lnTo>
                    <a:lnTo>
                      <a:pt x="315" y="578"/>
                    </a:lnTo>
                    <a:lnTo>
                      <a:pt x="319" y="614"/>
                    </a:lnTo>
                    <a:lnTo>
                      <a:pt x="325" y="646"/>
                    </a:lnTo>
                    <a:lnTo>
                      <a:pt x="329" y="661"/>
                    </a:lnTo>
                    <a:lnTo>
                      <a:pt x="332" y="675"/>
                    </a:lnTo>
                    <a:lnTo>
                      <a:pt x="337" y="690"/>
                    </a:lnTo>
                    <a:lnTo>
                      <a:pt x="342" y="702"/>
                    </a:lnTo>
                    <a:lnTo>
                      <a:pt x="347" y="714"/>
                    </a:lnTo>
                    <a:lnTo>
                      <a:pt x="353" y="727"/>
                    </a:lnTo>
                    <a:lnTo>
                      <a:pt x="359" y="738"/>
                    </a:lnTo>
                    <a:lnTo>
                      <a:pt x="366" y="747"/>
                    </a:lnTo>
                    <a:lnTo>
                      <a:pt x="373" y="757"/>
                    </a:lnTo>
                    <a:lnTo>
                      <a:pt x="379" y="767"/>
                    </a:lnTo>
                    <a:lnTo>
                      <a:pt x="388" y="776"/>
                    </a:lnTo>
                    <a:lnTo>
                      <a:pt x="395" y="783"/>
                    </a:lnTo>
                    <a:lnTo>
                      <a:pt x="404" y="790"/>
                    </a:lnTo>
                    <a:lnTo>
                      <a:pt x="412" y="797"/>
                    </a:lnTo>
                    <a:lnTo>
                      <a:pt x="422" y="803"/>
                    </a:lnTo>
                    <a:lnTo>
                      <a:pt x="432" y="808"/>
                    </a:lnTo>
                    <a:lnTo>
                      <a:pt x="442" y="813"/>
                    </a:lnTo>
                    <a:lnTo>
                      <a:pt x="452" y="816"/>
                    </a:lnTo>
                    <a:lnTo>
                      <a:pt x="463" y="820"/>
                    </a:lnTo>
                    <a:lnTo>
                      <a:pt x="474" y="822"/>
                    </a:lnTo>
                    <a:lnTo>
                      <a:pt x="486" y="825"/>
                    </a:lnTo>
                    <a:lnTo>
                      <a:pt x="497" y="827"/>
                    </a:lnTo>
                    <a:lnTo>
                      <a:pt x="511" y="827"/>
                    </a:lnTo>
                    <a:lnTo>
                      <a:pt x="523" y="828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95920" y="37044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76" h="992">
                    <a:moveTo>
                      <a:pt x="0" y="992"/>
                    </a:moveTo>
                    <a:lnTo>
                      <a:pt x="0" y="930"/>
                    </a:lnTo>
                    <a:lnTo>
                      <a:pt x="0" y="924"/>
                    </a:lnTo>
                    <a:lnTo>
                      <a:pt x="1" y="918"/>
                    </a:lnTo>
                    <a:lnTo>
                      <a:pt x="2" y="912"/>
                    </a:lnTo>
                    <a:lnTo>
                      <a:pt x="6" y="907"/>
                    </a:lnTo>
                    <a:lnTo>
                      <a:pt x="8" y="902"/>
                    </a:lnTo>
                    <a:lnTo>
                      <a:pt x="13" y="898"/>
                    </a:lnTo>
                    <a:lnTo>
                      <a:pt x="18" y="893"/>
                    </a:lnTo>
                    <a:lnTo>
                      <a:pt x="24" y="890"/>
                    </a:lnTo>
                    <a:lnTo>
                      <a:pt x="39" y="885"/>
                    </a:lnTo>
                    <a:lnTo>
                      <a:pt x="64" y="879"/>
                    </a:lnTo>
                    <a:lnTo>
                      <a:pt x="71" y="873"/>
                    </a:lnTo>
                    <a:lnTo>
                      <a:pt x="75" y="868"/>
                    </a:lnTo>
                    <a:lnTo>
                      <a:pt x="77" y="857"/>
                    </a:lnTo>
                    <a:lnTo>
                      <a:pt x="80" y="850"/>
                    </a:lnTo>
                    <a:lnTo>
                      <a:pt x="80" y="822"/>
                    </a:lnTo>
                    <a:lnTo>
                      <a:pt x="80" y="810"/>
                    </a:lnTo>
                    <a:lnTo>
                      <a:pt x="80" y="249"/>
                    </a:lnTo>
                    <a:lnTo>
                      <a:pt x="80" y="235"/>
                    </a:lnTo>
                    <a:lnTo>
                      <a:pt x="80" y="223"/>
                    </a:lnTo>
                    <a:lnTo>
                      <a:pt x="80" y="207"/>
                    </a:lnTo>
                    <a:lnTo>
                      <a:pt x="80" y="189"/>
                    </a:lnTo>
                    <a:lnTo>
                      <a:pt x="77" y="185"/>
                    </a:lnTo>
                    <a:lnTo>
                      <a:pt x="76" y="181"/>
                    </a:lnTo>
                    <a:lnTo>
                      <a:pt x="74" y="179"/>
                    </a:lnTo>
                    <a:lnTo>
                      <a:pt x="71" y="178"/>
                    </a:lnTo>
                    <a:lnTo>
                      <a:pt x="37" y="169"/>
                    </a:lnTo>
                    <a:lnTo>
                      <a:pt x="28" y="165"/>
                    </a:lnTo>
                    <a:lnTo>
                      <a:pt x="21" y="163"/>
                    </a:lnTo>
                    <a:lnTo>
                      <a:pt x="13" y="158"/>
                    </a:lnTo>
                    <a:lnTo>
                      <a:pt x="8" y="153"/>
                    </a:lnTo>
                    <a:lnTo>
                      <a:pt x="5" y="147"/>
                    </a:lnTo>
                    <a:lnTo>
                      <a:pt x="1" y="141"/>
                    </a:lnTo>
                    <a:lnTo>
                      <a:pt x="0" y="133"/>
                    </a:lnTo>
                    <a:lnTo>
                      <a:pt x="0" y="125"/>
                    </a:lnTo>
                    <a:lnTo>
                      <a:pt x="0" y="63"/>
                    </a:lnTo>
                    <a:lnTo>
                      <a:pt x="360" y="63"/>
                    </a:lnTo>
                    <a:lnTo>
                      <a:pt x="360" y="140"/>
                    </a:lnTo>
                    <a:lnTo>
                      <a:pt x="385" y="106"/>
                    </a:lnTo>
                    <a:lnTo>
                      <a:pt x="397" y="93"/>
                    </a:lnTo>
                    <a:lnTo>
                      <a:pt x="411" y="79"/>
                    </a:lnTo>
                    <a:lnTo>
                      <a:pt x="424" y="68"/>
                    </a:lnTo>
                    <a:lnTo>
                      <a:pt x="438" y="57"/>
                    </a:lnTo>
                    <a:lnTo>
                      <a:pt x="452" y="47"/>
                    </a:lnTo>
                    <a:lnTo>
                      <a:pt x="467" y="39"/>
                    </a:lnTo>
                    <a:lnTo>
                      <a:pt x="482" y="30"/>
                    </a:lnTo>
                    <a:lnTo>
                      <a:pt x="498" y="24"/>
                    </a:lnTo>
                    <a:lnTo>
                      <a:pt x="514" y="18"/>
                    </a:lnTo>
                    <a:lnTo>
                      <a:pt x="531" y="13"/>
                    </a:lnTo>
                    <a:lnTo>
                      <a:pt x="550" y="9"/>
                    </a:lnTo>
                    <a:lnTo>
                      <a:pt x="568" y="6"/>
                    </a:lnTo>
                    <a:lnTo>
                      <a:pt x="586" y="3"/>
                    </a:lnTo>
                    <a:lnTo>
                      <a:pt x="607" y="1"/>
                    </a:lnTo>
                    <a:lnTo>
                      <a:pt x="627" y="0"/>
                    </a:lnTo>
                    <a:lnTo>
                      <a:pt x="649" y="0"/>
                    </a:lnTo>
                    <a:lnTo>
                      <a:pt x="676" y="0"/>
                    </a:lnTo>
                    <a:lnTo>
                      <a:pt x="676" y="311"/>
                    </a:lnTo>
                    <a:lnTo>
                      <a:pt x="643" y="314"/>
                    </a:lnTo>
                    <a:lnTo>
                      <a:pt x="610" y="314"/>
                    </a:lnTo>
                    <a:lnTo>
                      <a:pt x="584" y="313"/>
                    </a:lnTo>
                    <a:lnTo>
                      <a:pt x="566" y="311"/>
                    </a:lnTo>
                    <a:lnTo>
                      <a:pt x="556" y="310"/>
                    </a:lnTo>
                    <a:lnTo>
                      <a:pt x="553" y="309"/>
                    </a:lnTo>
                    <a:lnTo>
                      <a:pt x="550" y="305"/>
                    </a:lnTo>
                    <a:lnTo>
                      <a:pt x="547" y="303"/>
                    </a:lnTo>
                    <a:lnTo>
                      <a:pt x="543" y="298"/>
                    </a:lnTo>
                    <a:lnTo>
                      <a:pt x="539" y="288"/>
                    </a:lnTo>
                    <a:lnTo>
                      <a:pt x="532" y="273"/>
                    </a:lnTo>
                    <a:lnTo>
                      <a:pt x="529" y="265"/>
                    </a:lnTo>
                    <a:lnTo>
                      <a:pt x="525" y="252"/>
                    </a:lnTo>
                    <a:lnTo>
                      <a:pt x="523" y="245"/>
                    </a:lnTo>
                    <a:lnTo>
                      <a:pt x="520" y="239"/>
                    </a:lnTo>
                    <a:lnTo>
                      <a:pt x="516" y="233"/>
                    </a:lnTo>
                    <a:lnTo>
                      <a:pt x="513" y="229"/>
                    </a:lnTo>
                    <a:lnTo>
                      <a:pt x="508" y="225"/>
                    </a:lnTo>
                    <a:lnTo>
                      <a:pt x="503" y="223"/>
                    </a:lnTo>
                    <a:lnTo>
                      <a:pt x="498" y="222"/>
                    </a:lnTo>
                    <a:lnTo>
                      <a:pt x="493" y="221"/>
                    </a:lnTo>
                    <a:lnTo>
                      <a:pt x="484" y="222"/>
                    </a:lnTo>
                    <a:lnTo>
                      <a:pt x="476" y="225"/>
                    </a:lnTo>
                    <a:lnTo>
                      <a:pt x="467" y="230"/>
                    </a:lnTo>
                    <a:lnTo>
                      <a:pt x="456" y="238"/>
                    </a:lnTo>
                    <a:lnTo>
                      <a:pt x="434" y="252"/>
                    </a:lnTo>
                    <a:lnTo>
                      <a:pt x="433" y="254"/>
                    </a:lnTo>
                    <a:lnTo>
                      <a:pt x="418" y="270"/>
                    </a:lnTo>
                    <a:lnTo>
                      <a:pt x="412" y="276"/>
                    </a:lnTo>
                    <a:lnTo>
                      <a:pt x="402" y="284"/>
                    </a:lnTo>
                    <a:lnTo>
                      <a:pt x="395" y="292"/>
                    </a:lnTo>
                    <a:lnTo>
                      <a:pt x="391" y="298"/>
                    </a:lnTo>
                    <a:lnTo>
                      <a:pt x="391" y="299"/>
                    </a:lnTo>
                    <a:lnTo>
                      <a:pt x="391" y="302"/>
                    </a:lnTo>
                    <a:lnTo>
                      <a:pt x="391" y="810"/>
                    </a:lnTo>
                    <a:lnTo>
                      <a:pt x="391" y="822"/>
                    </a:lnTo>
                    <a:lnTo>
                      <a:pt x="391" y="847"/>
                    </a:lnTo>
                    <a:lnTo>
                      <a:pt x="393" y="854"/>
                    </a:lnTo>
                    <a:lnTo>
                      <a:pt x="396" y="860"/>
                    </a:lnTo>
                    <a:lnTo>
                      <a:pt x="400" y="865"/>
                    </a:lnTo>
                    <a:lnTo>
                      <a:pt x="402" y="868"/>
                    </a:lnTo>
                    <a:lnTo>
                      <a:pt x="407" y="874"/>
                    </a:lnTo>
                    <a:lnTo>
                      <a:pt x="411" y="877"/>
                    </a:lnTo>
                    <a:lnTo>
                      <a:pt x="413" y="879"/>
                    </a:lnTo>
                    <a:lnTo>
                      <a:pt x="414" y="879"/>
                    </a:lnTo>
                    <a:lnTo>
                      <a:pt x="440" y="885"/>
                    </a:lnTo>
                    <a:lnTo>
                      <a:pt x="456" y="890"/>
                    </a:lnTo>
                    <a:lnTo>
                      <a:pt x="461" y="893"/>
                    </a:lnTo>
                    <a:lnTo>
                      <a:pt x="466" y="898"/>
                    </a:lnTo>
                    <a:lnTo>
                      <a:pt x="470" y="902"/>
                    </a:lnTo>
                    <a:lnTo>
                      <a:pt x="473" y="907"/>
                    </a:lnTo>
                    <a:lnTo>
                      <a:pt x="476" y="912"/>
                    </a:lnTo>
                    <a:lnTo>
                      <a:pt x="478" y="917"/>
                    </a:lnTo>
                    <a:lnTo>
                      <a:pt x="479" y="923"/>
                    </a:lnTo>
                    <a:lnTo>
                      <a:pt x="479" y="928"/>
                    </a:lnTo>
                    <a:lnTo>
                      <a:pt x="479" y="992"/>
                    </a:lnTo>
                    <a:lnTo>
                      <a:pt x="0" y="992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8760" y="371520"/>
                <a:ext cx="67320" cy="106560"/>
              </a:xfrm>
              <a:custGeom>
                <a:avLst/>
                <a:gdLst/>
                <a:ahLst/>
                <a:rect l="l" t="t" r="r" b="b"/>
                <a:pathLst>
                  <a:path w="1075" h="1370">
                    <a:moveTo>
                      <a:pt x="0" y="1370"/>
                    </a:moveTo>
                    <a:lnTo>
                      <a:pt x="0" y="1306"/>
                    </a:lnTo>
                    <a:lnTo>
                      <a:pt x="0" y="1298"/>
                    </a:lnTo>
                    <a:lnTo>
                      <a:pt x="3" y="1290"/>
                    </a:lnTo>
                    <a:lnTo>
                      <a:pt x="5" y="1284"/>
                    </a:lnTo>
                    <a:lnTo>
                      <a:pt x="9" y="1278"/>
                    </a:lnTo>
                    <a:lnTo>
                      <a:pt x="15" y="1273"/>
                    </a:lnTo>
                    <a:lnTo>
                      <a:pt x="21" y="1268"/>
                    </a:lnTo>
                    <a:lnTo>
                      <a:pt x="29" y="1264"/>
                    </a:lnTo>
                    <a:lnTo>
                      <a:pt x="38" y="1262"/>
                    </a:lnTo>
                    <a:lnTo>
                      <a:pt x="57" y="1257"/>
                    </a:lnTo>
                    <a:lnTo>
                      <a:pt x="61" y="1255"/>
                    </a:lnTo>
                    <a:lnTo>
                      <a:pt x="64" y="1250"/>
                    </a:lnTo>
                    <a:lnTo>
                      <a:pt x="68" y="1243"/>
                    </a:lnTo>
                    <a:lnTo>
                      <a:pt x="70" y="1235"/>
                    </a:lnTo>
                    <a:lnTo>
                      <a:pt x="73" y="1228"/>
                    </a:lnTo>
                    <a:lnTo>
                      <a:pt x="77" y="1213"/>
                    </a:lnTo>
                    <a:lnTo>
                      <a:pt x="77" y="1198"/>
                    </a:lnTo>
                    <a:lnTo>
                      <a:pt x="77" y="1189"/>
                    </a:lnTo>
                    <a:lnTo>
                      <a:pt x="77" y="227"/>
                    </a:lnTo>
                    <a:lnTo>
                      <a:pt x="77" y="213"/>
                    </a:lnTo>
                    <a:lnTo>
                      <a:pt x="77" y="195"/>
                    </a:lnTo>
                    <a:lnTo>
                      <a:pt x="77" y="185"/>
                    </a:lnTo>
                    <a:lnTo>
                      <a:pt x="69" y="167"/>
                    </a:lnTo>
                    <a:lnTo>
                      <a:pt x="64" y="156"/>
                    </a:lnTo>
                    <a:lnTo>
                      <a:pt x="37" y="147"/>
                    </a:lnTo>
                    <a:lnTo>
                      <a:pt x="29" y="143"/>
                    </a:lnTo>
                    <a:lnTo>
                      <a:pt x="21" y="140"/>
                    </a:lnTo>
                    <a:lnTo>
                      <a:pt x="14" y="135"/>
                    </a:lnTo>
                    <a:lnTo>
                      <a:pt x="9" y="130"/>
                    </a:lnTo>
                    <a:lnTo>
                      <a:pt x="5" y="125"/>
                    </a:lnTo>
                    <a:lnTo>
                      <a:pt x="3" y="118"/>
                    </a:lnTo>
                    <a:lnTo>
                      <a:pt x="0" y="110"/>
                    </a:lnTo>
                    <a:lnTo>
                      <a:pt x="0" y="103"/>
                    </a:lnTo>
                    <a:lnTo>
                      <a:pt x="0" y="41"/>
                    </a:lnTo>
                    <a:lnTo>
                      <a:pt x="389" y="41"/>
                    </a:lnTo>
                    <a:lnTo>
                      <a:pt x="389" y="145"/>
                    </a:lnTo>
                    <a:lnTo>
                      <a:pt x="399" y="132"/>
                    </a:lnTo>
                    <a:lnTo>
                      <a:pt x="409" y="120"/>
                    </a:lnTo>
                    <a:lnTo>
                      <a:pt x="419" y="109"/>
                    </a:lnTo>
                    <a:lnTo>
                      <a:pt x="430" y="98"/>
                    </a:lnTo>
                    <a:lnTo>
                      <a:pt x="441" y="88"/>
                    </a:lnTo>
                    <a:lnTo>
                      <a:pt x="453" y="78"/>
                    </a:lnTo>
                    <a:lnTo>
                      <a:pt x="465" y="68"/>
                    </a:lnTo>
                    <a:lnTo>
                      <a:pt x="478" y="60"/>
                    </a:lnTo>
                    <a:lnTo>
                      <a:pt x="491" y="52"/>
                    </a:lnTo>
                    <a:lnTo>
                      <a:pt x="505" y="44"/>
                    </a:lnTo>
                    <a:lnTo>
                      <a:pt x="518" y="38"/>
                    </a:lnTo>
                    <a:lnTo>
                      <a:pt x="533" y="30"/>
                    </a:lnTo>
                    <a:lnTo>
                      <a:pt x="549" y="24"/>
                    </a:lnTo>
                    <a:lnTo>
                      <a:pt x="564" y="19"/>
                    </a:lnTo>
                    <a:lnTo>
                      <a:pt x="580" y="14"/>
                    </a:lnTo>
                    <a:lnTo>
                      <a:pt x="597" y="9"/>
                    </a:lnTo>
                    <a:lnTo>
                      <a:pt x="618" y="6"/>
                    </a:lnTo>
                    <a:lnTo>
                      <a:pt x="639" y="2"/>
                    </a:lnTo>
                    <a:lnTo>
                      <a:pt x="660" y="0"/>
                    </a:lnTo>
                    <a:lnTo>
                      <a:pt x="681" y="0"/>
                    </a:lnTo>
                    <a:lnTo>
                      <a:pt x="695" y="0"/>
                    </a:lnTo>
                    <a:lnTo>
                      <a:pt x="710" y="1"/>
                    </a:lnTo>
                    <a:lnTo>
                      <a:pt x="725" y="2"/>
                    </a:lnTo>
                    <a:lnTo>
                      <a:pt x="741" y="5"/>
                    </a:lnTo>
                    <a:lnTo>
                      <a:pt x="773" y="11"/>
                    </a:lnTo>
                    <a:lnTo>
                      <a:pt x="805" y="18"/>
                    </a:lnTo>
                    <a:lnTo>
                      <a:pt x="833" y="28"/>
                    </a:lnTo>
                    <a:lnTo>
                      <a:pt x="861" y="40"/>
                    </a:lnTo>
                    <a:lnTo>
                      <a:pt x="875" y="46"/>
                    </a:lnTo>
                    <a:lnTo>
                      <a:pt x="887" y="54"/>
                    </a:lnTo>
                    <a:lnTo>
                      <a:pt x="899" y="61"/>
                    </a:lnTo>
                    <a:lnTo>
                      <a:pt x="912" y="70"/>
                    </a:lnTo>
                    <a:lnTo>
                      <a:pt x="923" y="78"/>
                    </a:lnTo>
                    <a:lnTo>
                      <a:pt x="934" y="87"/>
                    </a:lnTo>
                    <a:lnTo>
                      <a:pt x="945" y="97"/>
                    </a:lnTo>
                    <a:lnTo>
                      <a:pt x="955" y="106"/>
                    </a:lnTo>
                    <a:lnTo>
                      <a:pt x="975" y="129"/>
                    </a:lnTo>
                    <a:lnTo>
                      <a:pt x="993" y="152"/>
                    </a:lnTo>
                    <a:lnTo>
                      <a:pt x="1009" y="178"/>
                    </a:lnTo>
                    <a:lnTo>
                      <a:pt x="1024" y="205"/>
                    </a:lnTo>
                    <a:lnTo>
                      <a:pt x="1036" y="234"/>
                    </a:lnTo>
                    <a:lnTo>
                      <a:pt x="1047" y="265"/>
                    </a:lnTo>
                    <a:lnTo>
                      <a:pt x="1057" y="298"/>
                    </a:lnTo>
                    <a:lnTo>
                      <a:pt x="1064" y="334"/>
                    </a:lnTo>
                    <a:lnTo>
                      <a:pt x="1075" y="420"/>
                    </a:lnTo>
                    <a:lnTo>
                      <a:pt x="1075" y="447"/>
                    </a:lnTo>
                    <a:lnTo>
                      <a:pt x="1074" y="474"/>
                    </a:lnTo>
                    <a:lnTo>
                      <a:pt x="1072" y="501"/>
                    </a:lnTo>
                    <a:lnTo>
                      <a:pt x="1068" y="526"/>
                    </a:lnTo>
                    <a:lnTo>
                      <a:pt x="1063" y="552"/>
                    </a:lnTo>
                    <a:lnTo>
                      <a:pt x="1058" y="577"/>
                    </a:lnTo>
                    <a:lnTo>
                      <a:pt x="1052" y="600"/>
                    </a:lnTo>
                    <a:lnTo>
                      <a:pt x="1045" y="623"/>
                    </a:lnTo>
                    <a:lnTo>
                      <a:pt x="1036" y="647"/>
                    </a:lnTo>
                    <a:lnTo>
                      <a:pt x="1027" y="669"/>
                    </a:lnTo>
                    <a:lnTo>
                      <a:pt x="1016" y="690"/>
                    </a:lnTo>
                    <a:lnTo>
                      <a:pt x="1005" y="711"/>
                    </a:lnTo>
                    <a:lnTo>
                      <a:pt x="993" y="730"/>
                    </a:lnTo>
                    <a:lnTo>
                      <a:pt x="981" y="750"/>
                    </a:lnTo>
                    <a:lnTo>
                      <a:pt x="966" y="768"/>
                    </a:lnTo>
                    <a:lnTo>
                      <a:pt x="951" y="787"/>
                    </a:lnTo>
                    <a:lnTo>
                      <a:pt x="935" y="804"/>
                    </a:lnTo>
                    <a:lnTo>
                      <a:pt x="918" y="821"/>
                    </a:lnTo>
                    <a:lnTo>
                      <a:pt x="901" y="837"/>
                    </a:lnTo>
                    <a:lnTo>
                      <a:pt x="881" y="852"/>
                    </a:lnTo>
                    <a:lnTo>
                      <a:pt x="861" y="865"/>
                    </a:lnTo>
                    <a:lnTo>
                      <a:pt x="840" y="879"/>
                    </a:lnTo>
                    <a:lnTo>
                      <a:pt x="820" y="891"/>
                    </a:lnTo>
                    <a:lnTo>
                      <a:pt x="797" y="902"/>
                    </a:lnTo>
                    <a:lnTo>
                      <a:pt x="774" y="913"/>
                    </a:lnTo>
                    <a:lnTo>
                      <a:pt x="749" y="923"/>
                    </a:lnTo>
                    <a:lnTo>
                      <a:pt x="724" y="932"/>
                    </a:lnTo>
                    <a:lnTo>
                      <a:pt x="698" y="940"/>
                    </a:lnTo>
                    <a:lnTo>
                      <a:pt x="671" y="948"/>
                    </a:lnTo>
                    <a:lnTo>
                      <a:pt x="642" y="954"/>
                    </a:lnTo>
                    <a:lnTo>
                      <a:pt x="614" y="960"/>
                    </a:lnTo>
                    <a:lnTo>
                      <a:pt x="585" y="965"/>
                    </a:lnTo>
                    <a:lnTo>
                      <a:pt x="494" y="970"/>
                    </a:lnTo>
                    <a:lnTo>
                      <a:pt x="389" y="970"/>
                    </a:lnTo>
                    <a:lnTo>
                      <a:pt x="389" y="1171"/>
                    </a:lnTo>
                    <a:lnTo>
                      <a:pt x="389" y="1186"/>
                    </a:lnTo>
                    <a:lnTo>
                      <a:pt x="389" y="1197"/>
                    </a:lnTo>
                    <a:lnTo>
                      <a:pt x="389" y="1215"/>
                    </a:lnTo>
                    <a:lnTo>
                      <a:pt x="389" y="1220"/>
                    </a:lnTo>
                    <a:lnTo>
                      <a:pt x="394" y="1231"/>
                    </a:lnTo>
                    <a:lnTo>
                      <a:pt x="398" y="1240"/>
                    </a:lnTo>
                    <a:lnTo>
                      <a:pt x="401" y="1246"/>
                    </a:lnTo>
                    <a:lnTo>
                      <a:pt x="405" y="1247"/>
                    </a:lnTo>
                    <a:lnTo>
                      <a:pt x="432" y="1253"/>
                    </a:lnTo>
                    <a:lnTo>
                      <a:pt x="439" y="1256"/>
                    </a:lnTo>
                    <a:lnTo>
                      <a:pt x="446" y="1258"/>
                    </a:lnTo>
                    <a:lnTo>
                      <a:pt x="452" y="1261"/>
                    </a:lnTo>
                    <a:lnTo>
                      <a:pt x="457" y="1264"/>
                    </a:lnTo>
                    <a:lnTo>
                      <a:pt x="460" y="1269"/>
                    </a:lnTo>
                    <a:lnTo>
                      <a:pt x="464" y="1273"/>
                    </a:lnTo>
                    <a:lnTo>
                      <a:pt x="468" y="1278"/>
                    </a:lnTo>
                    <a:lnTo>
                      <a:pt x="469" y="1284"/>
                    </a:lnTo>
                    <a:lnTo>
                      <a:pt x="469" y="1300"/>
                    </a:lnTo>
                    <a:lnTo>
                      <a:pt x="469" y="1370"/>
                    </a:lnTo>
                    <a:lnTo>
                      <a:pt x="0" y="1370"/>
                    </a:lnTo>
                    <a:close/>
                    <a:moveTo>
                      <a:pt x="430" y="785"/>
                    </a:moveTo>
                    <a:lnTo>
                      <a:pt x="471" y="785"/>
                    </a:lnTo>
                    <a:lnTo>
                      <a:pt x="510" y="782"/>
                    </a:lnTo>
                    <a:lnTo>
                      <a:pt x="528" y="779"/>
                    </a:lnTo>
                    <a:lnTo>
                      <a:pt x="546" y="777"/>
                    </a:lnTo>
                    <a:lnTo>
                      <a:pt x="564" y="773"/>
                    </a:lnTo>
                    <a:lnTo>
                      <a:pt x="580" y="768"/>
                    </a:lnTo>
                    <a:lnTo>
                      <a:pt x="596" y="765"/>
                    </a:lnTo>
                    <a:lnTo>
                      <a:pt x="610" y="758"/>
                    </a:lnTo>
                    <a:lnTo>
                      <a:pt x="625" y="754"/>
                    </a:lnTo>
                    <a:lnTo>
                      <a:pt x="639" y="746"/>
                    </a:lnTo>
                    <a:lnTo>
                      <a:pt x="652" y="740"/>
                    </a:lnTo>
                    <a:lnTo>
                      <a:pt x="665" y="733"/>
                    </a:lnTo>
                    <a:lnTo>
                      <a:pt x="677" y="724"/>
                    </a:lnTo>
                    <a:lnTo>
                      <a:pt x="688" y="717"/>
                    </a:lnTo>
                    <a:lnTo>
                      <a:pt x="698" y="707"/>
                    </a:lnTo>
                    <a:lnTo>
                      <a:pt x="708" y="697"/>
                    </a:lnTo>
                    <a:lnTo>
                      <a:pt x="716" y="687"/>
                    </a:lnTo>
                    <a:lnTo>
                      <a:pt x="725" y="676"/>
                    </a:lnTo>
                    <a:lnTo>
                      <a:pt x="733" y="665"/>
                    </a:lnTo>
                    <a:lnTo>
                      <a:pt x="740" y="654"/>
                    </a:lnTo>
                    <a:lnTo>
                      <a:pt x="747" y="642"/>
                    </a:lnTo>
                    <a:lnTo>
                      <a:pt x="752" y="628"/>
                    </a:lnTo>
                    <a:lnTo>
                      <a:pt x="757" y="615"/>
                    </a:lnTo>
                    <a:lnTo>
                      <a:pt x="762" y="601"/>
                    </a:lnTo>
                    <a:lnTo>
                      <a:pt x="765" y="587"/>
                    </a:lnTo>
                    <a:lnTo>
                      <a:pt x="768" y="572"/>
                    </a:lnTo>
                    <a:lnTo>
                      <a:pt x="770" y="556"/>
                    </a:lnTo>
                    <a:lnTo>
                      <a:pt x="773" y="540"/>
                    </a:lnTo>
                    <a:lnTo>
                      <a:pt x="773" y="524"/>
                    </a:lnTo>
                    <a:lnTo>
                      <a:pt x="774" y="507"/>
                    </a:lnTo>
                    <a:lnTo>
                      <a:pt x="773" y="482"/>
                    </a:lnTo>
                    <a:lnTo>
                      <a:pt x="772" y="456"/>
                    </a:lnTo>
                    <a:lnTo>
                      <a:pt x="768" y="432"/>
                    </a:lnTo>
                    <a:lnTo>
                      <a:pt x="764" y="407"/>
                    </a:lnTo>
                    <a:lnTo>
                      <a:pt x="759" y="383"/>
                    </a:lnTo>
                    <a:lnTo>
                      <a:pt x="754" y="362"/>
                    </a:lnTo>
                    <a:lnTo>
                      <a:pt x="748" y="342"/>
                    </a:lnTo>
                    <a:lnTo>
                      <a:pt x="741" y="325"/>
                    </a:lnTo>
                    <a:lnTo>
                      <a:pt x="735" y="310"/>
                    </a:lnTo>
                    <a:lnTo>
                      <a:pt x="727" y="298"/>
                    </a:lnTo>
                    <a:lnTo>
                      <a:pt x="720" y="286"/>
                    </a:lnTo>
                    <a:lnTo>
                      <a:pt x="713" y="275"/>
                    </a:lnTo>
                    <a:lnTo>
                      <a:pt x="704" y="265"/>
                    </a:lnTo>
                    <a:lnTo>
                      <a:pt x="695" y="256"/>
                    </a:lnTo>
                    <a:lnTo>
                      <a:pt x="687" y="248"/>
                    </a:lnTo>
                    <a:lnTo>
                      <a:pt x="677" y="240"/>
                    </a:lnTo>
                    <a:lnTo>
                      <a:pt x="667" y="233"/>
                    </a:lnTo>
                    <a:lnTo>
                      <a:pt x="657" y="228"/>
                    </a:lnTo>
                    <a:lnTo>
                      <a:pt x="646" y="223"/>
                    </a:lnTo>
                    <a:lnTo>
                      <a:pt x="634" y="219"/>
                    </a:lnTo>
                    <a:lnTo>
                      <a:pt x="623" y="216"/>
                    </a:lnTo>
                    <a:lnTo>
                      <a:pt x="610" y="213"/>
                    </a:lnTo>
                    <a:lnTo>
                      <a:pt x="597" y="212"/>
                    </a:lnTo>
                    <a:lnTo>
                      <a:pt x="585" y="212"/>
                    </a:lnTo>
                    <a:lnTo>
                      <a:pt x="567" y="212"/>
                    </a:lnTo>
                    <a:lnTo>
                      <a:pt x="551" y="216"/>
                    </a:lnTo>
                    <a:lnTo>
                      <a:pt x="535" y="219"/>
                    </a:lnTo>
                    <a:lnTo>
                      <a:pt x="521" y="226"/>
                    </a:lnTo>
                    <a:lnTo>
                      <a:pt x="505" y="233"/>
                    </a:lnTo>
                    <a:lnTo>
                      <a:pt x="490" y="242"/>
                    </a:lnTo>
                    <a:lnTo>
                      <a:pt x="476" y="253"/>
                    </a:lnTo>
                    <a:lnTo>
                      <a:pt x="463" y="265"/>
                    </a:lnTo>
                    <a:lnTo>
                      <a:pt x="435" y="293"/>
                    </a:lnTo>
                    <a:lnTo>
                      <a:pt x="427" y="304"/>
                    </a:lnTo>
                    <a:lnTo>
                      <a:pt x="414" y="325"/>
                    </a:lnTo>
                    <a:lnTo>
                      <a:pt x="407" y="332"/>
                    </a:lnTo>
                    <a:lnTo>
                      <a:pt x="403" y="341"/>
                    </a:lnTo>
                    <a:lnTo>
                      <a:pt x="399" y="351"/>
                    </a:lnTo>
                    <a:lnTo>
                      <a:pt x="395" y="359"/>
                    </a:lnTo>
                    <a:lnTo>
                      <a:pt x="393" y="369"/>
                    </a:lnTo>
                    <a:lnTo>
                      <a:pt x="392" y="379"/>
                    </a:lnTo>
                    <a:lnTo>
                      <a:pt x="390" y="389"/>
                    </a:lnTo>
                    <a:lnTo>
                      <a:pt x="389" y="399"/>
                    </a:lnTo>
                    <a:lnTo>
                      <a:pt x="389" y="784"/>
                    </a:lnTo>
                    <a:lnTo>
                      <a:pt x="430" y="785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512200" y="371520"/>
                <a:ext cx="64800" cy="78120"/>
              </a:xfrm>
              <a:custGeom>
                <a:avLst/>
                <a:gdLst/>
                <a:ahLst/>
                <a:rect l="l" t="t" r="r" b="b"/>
                <a:pathLst>
                  <a:path w="1043" h="1007">
                    <a:moveTo>
                      <a:pt x="0" y="499"/>
                    </a:moveTo>
                    <a:lnTo>
                      <a:pt x="0" y="474"/>
                    </a:lnTo>
                    <a:lnTo>
                      <a:pt x="1" y="448"/>
                    </a:lnTo>
                    <a:lnTo>
                      <a:pt x="4" y="424"/>
                    </a:lnTo>
                    <a:lnTo>
                      <a:pt x="8" y="400"/>
                    </a:lnTo>
                    <a:lnTo>
                      <a:pt x="11" y="377"/>
                    </a:lnTo>
                    <a:lnTo>
                      <a:pt x="16" y="355"/>
                    </a:lnTo>
                    <a:lnTo>
                      <a:pt x="22" y="332"/>
                    </a:lnTo>
                    <a:lnTo>
                      <a:pt x="29" y="312"/>
                    </a:lnTo>
                    <a:lnTo>
                      <a:pt x="36" y="291"/>
                    </a:lnTo>
                    <a:lnTo>
                      <a:pt x="45" y="270"/>
                    </a:lnTo>
                    <a:lnTo>
                      <a:pt x="54" y="250"/>
                    </a:lnTo>
                    <a:lnTo>
                      <a:pt x="65" y="232"/>
                    </a:lnTo>
                    <a:lnTo>
                      <a:pt x="77" y="213"/>
                    </a:lnTo>
                    <a:lnTo>
                      <a:pt x="89" y="196"/>
                    </a:lnTo>
                    <a:lnTo>
                      <a:pt x="101" y="179"/>
                    </a:lnTo>
                    <a:lnTo>
                      <a:pt x="116" y="162"/>
                    </a:lnTo>
                    <a:lnTo>
                      <a:pt x="131" y="146"/>
                    </a:lnTo>
                    <a:lnTo>
                      <a:pt x="145" y="131"/>
                    </a:lnTo>
                    <a:lnTo>
                      <a:pt x="163" y="116"/>
                    </a:lnTo>
                    <a:lnTo>
                      <a:pt x="179" y="103"/>
                    </a:lnTo>
                    <a:lnTo>
                      <a:pt x="197" y="91"/>
                    </a:lnTo>
                    <a:lnTo>
                      <a:pt x="215" y="79"/>
                    </a:lnTo>
                    <a:lnTo>
                      <a:pt x="234" y="68"/>
                    </a:lnTo>
                    <a:lnTo>
                      <a:pt x="254" y="57"/>
                    </a:lnTo>
                    <a:lnTo>
                      <a:pt x="275" y="49"/>
                    </a:lnTo>
                    <a:lnTo>
                      <a:pt x="295" y="39"/>
                    </a:lnTo>
                    <a:lnTo>
                      <a:pt x="318" y="32"/>
                    </a:lnTo>
                    <a:lnTo>
                      <a:pt x="341" y="24"/>
                    </a:lnTo>
                    <a:lnTo>
                      <a:pt x="364" y="18"/>
                    </a:lnTo>
                    <a:lnTo>
                      <a:pt x="388" y="13"/>
                    </a:lnTo>
                    <a:lnTo>
                      <a:pt x="414" y="8"/>
                    </a:lnTo>
                    <a:lnTo>
                      <a:pt x="438" y="5"/>
                    </a:lnTo>
                    <a:lnTo>
                      <a:pt x="459" y="2"/>
                    </a:lnTo>
                    <a:lnTo>
                      <a:pt x="480" y="1"/>
                    </a:lnTo>
                    <a:lnTo>
                      <a:pt x="501" y="0"/>
                    </a:lnTo>
                    <a:lnTo>
                      <a:pt x="523" y="0"/>
                    </a:lnTo>
                    <a:lnTo>
                      <a:pt x="543" y="0"/>
                    </a:lnTo>
                    <a:lnTo>
                      <a:pt x="562" y="1"/>
                    </a:lnTo>
                    <a:lnTo>
                      <a:pt x="583" y="2"/>
                    </a:lnTo>
                    <a:lnTo>
                      <a:pt x="604" y="5"/>
                    </a:lnTo>
                    <a:lnTo>
                      <a:pt x="630" y="8"/>
                    </a:lnTo>
                    <a:lnTo>
                      <a:pt x="655" y="13"/>
                    </a:lnTo>
                    <a:lnTo>
                      <a:pt x="678" y="18"/>
                    </a:lnTo>
                    <a:lnTo>
                      <a:pt x="701" y="24"/>
                    </a:lnTo>
                    <a:lnTo>
                      <a:pt x="725" y="32"/>
                    </a:lnTo>
                    <a:lnTo>
                      <a:pt x="746" y="39"/>
                    </a:lnTo>
                    <a:lnTo>
                      <a:pt x="768" y="48"/>
                    </a:lnTo>
                    <a:lnTo>
                      <a:pt x="787" y="57"/>
                    </a:lnTo>
                    <a:lnTo>
                      <a:pt x="807" y="67"/>
                    </a:lnTo>
                    <a:lnTo>
                      <a:pt x="827" y="78"/>
                    </a:lnTo>
                    <a:lnTo>
                      <a:pt x="845" y="91"/>
                    </a:lnTo>
                    <a:lnTo>
                      <a:pt x="862" y="103"/>
                    </a:lnTo>
                    <a:lnTo>
                      <a:pt x="880" y="116"/>
                    </a:lnTo>
                    <a:lnTo>
                      <a:pt x="896" y="130"/>
                    </a:lnTo>
                    <a:lnTo>
                      <a:pt x="912" y="146"/>
                    </a:lnTo>
                    <a:lnTo>
                      <a:pt x="926" y="161"/>
                    </a:lnTo>
                    <a:lnTo>
                      <a:pt x="940" y="178"/>
                    </a:lnTo>
                    <a:lnTo>
                      <a:pt x="953" y="195"/>
                    </a:lnTo>
                    <a:lnTo>
                      <a:pt x="966" y="212"/>
                    </a:lnTo>
                    <a:lnTo>
                      <a:pt x="977" y="230"/>
                    </a:lnTo>
                    <a:lnTo>
                      <a:pt x="988" y="249"/>
                    </a:lnTo>
                    <a:lnTo>
                      <a:pt x="998" y="269"/>
                    </a:lnTo>
                    <a:lnTo>
                      <a:pt x="1006" y="289"/>
                    </a:lnTo>
                    <a:lnTo>
                      <a:pt x="1014" y="309"/>
                    </a:lnTo>
                    <a:lnTo>
                      <a:pt x="1021" y="331"/>
                    </a:lnTo>
                    <a:lnTo>
                      <a:pt x="1026" y="353"/>
                    </a:lnTo>
                    <a:lnTo>
                      <a:pt x="1031" y="375"/>
                    </a:lnTo>
                    <a:lnTo>
                      <a:pt x="1036" y="399"/>
                    </a:lnTo>
                    <a:lnTo>
                      <a:pt x="1038" y="422"/>
                    </a:lnTo>
                    <a:lnTo>
                      <a:pt x="1041" y="447"/>
                    </a:lnTo>
                    <a:lnTo>
                      <a:pt x="1042" y="471"/>
                    </a:lnTo>
                    <a:lnTo>
                      <a:pt x="1043" y="497"/>
                    </a:lnTo>
                    <a:lnTo>
                      <a:pt x="1042" y="524"/>
                    </a:lnTo>
                    <a:lnTo>
                      <a:pt x="1041" y="549"/>
                    </a:lnTo>
                    <a:lnTo>
                      <a:pt x="1038" y="574"/>
                    </a:lnTo>
                    <a:lnTo>
                      <a:pt x="1036" y="599"/>
                    </a:lnTo>
                    <a:lnTo>
                      <a:pt x="1032" y="622"/>
                    </a:lnTo>
                    <a:lnTo>
                      <a:pt x="1027" y="646"/>
                    </a:lnTo>
                    <a:lnTo>
                      <a:pt x="1021" y="668"/>
                    </a:lnTo>
                    <a:lnTo>
                      <a:pt x="1015" y="690"/>
                    </a:lnTo>
                    <a:lnTo>
                      <a:pt x="1006" y="711"/>
                    </a:lnTo>
                    <a:lnTo>
                      <a:pt x="999" y="731"/>
                    </a:lnTo>
                    <a:lnTo>
                      <a:pt x="989" y="751"/>
                    </a:lnTo>
                    <a:lnTo>
                      <a:pt x="979" y="771"/>
                    </a:lnTo>
                    <a:lnTo>
                      <a:pt x="968" y="789"/>
                    </a:lnTo>
                    <a:lnTo>
                      <a:pt x="956" y="808"/>
                    </a:lnTo>
                    <a:lnTo>
                      <a:pt x="942" y="825"/>
                    </a:lnTo>
                    <a:lnTo>
                      <a:pt x="929" y="842"/>
                    </a:lnTo>
                    <a:lnTo>
                      <a:pt x="914" y="858"/>
                    </a:lnTo>
                    <a:lnTo>
                      <a:pt x="899" y="873"/>
                    </a:lnTo>
                    <a:lnTo>
                      <a:pt x="883" y="887"/>
                    </a:lnTo>
                    <a:lnTo>
                      <a:pt x="866" y="901"/>
                    </a:lnTo>
                    <a:lnTo>
                      <a:pt x="849" y="913"/>
                    </a:lnTo>
                    <a:lnTo>
                      <a:pt x="830" y="925"/>
                    </a:lnTo>
                    <a:lnTo>
                      <a:pt x="811" y="937"/>
                    </a:lnTo>
                    <a:lnTo>
                      <a:pt x="791" y="948"/>
                    </a:lnTo>
                    <a:lnTo>
                      <a:pt x="770" y="956"/>
                    </a:lnTo>
                    <a:lnTo>
                      <a:pt x="749" y="966"/>
                    </a:lnTo>
                    <a:lnTo>
                      <a:pt x="727" y="973"/>
                    </a:lnTo>
                    <a:lnTo>
                      <a:pt x="704" y="981"/>
                    </a:lnTo>
                    <a:lnTo>
                      <a:pt x="680" y="987"/>
                    </a:lnTo>
                    <a:lnTo>
                      <a:pt x="656" y="992"/>
                    </a:lnTo>
                    <a:lnTo>
                      <a:pt x="630" y="997"/>
                    </a:lnTo>
                    <a:lnTo>
                      <a:pt x="604" y="1000"/>
                    </a:lnTo>
                    <a:lnTo>
                      <a:pt x="583" y="1003"/>
                    </a:lnTo>
                    <a:lnTo>
                      <a:pt x="562" y="1004"/>
                    </a:lnTo>
                    <a:lnTo>
                      <a:pt x="543" y="1005"/>
                    </a:lnTo>
                    <a:lnTo>
                      <a:pt x="523" y="1007"/>
                    </a:lnTo>
                    <a:lnTo>
                      <a:pt x="501" y="1005"/>
                    </a:lnTo>
                    <a:lnTo>
                      <a:pt x="480" y="1004"/>
                    </a:lnTo>
                    <a:lnTo>
                      <a:pt x="459" y="1003"/>
                    </a:lnTo>
                    <a:lnTo>
                      <a:pt x="438" y="1000"/>
                    </a:lnTo>
                    <a:lnTo>
                      <a:pt x="414" y="997"/>
                    </a:lnTo>
                    <a:lnTo>
                      <a:pt x="389" y="992"/>
                    </a:lnTo>
                    <a:lnTo>
                      <a:pt x="364" y="987"/>
                    </a:lnTo>
                    <a:lnTo>
                      <a:pt x="341" y="981"/>
                    </a:lnTo>
                    <a:lnTo>
                      <a:pt x="319" y="973"/>
                    </a:lnTo>
                    <a:lnTo>
                      <a:pt x="297" y="965"/>
                    </a:lnTo>
                    <a:lnTo>
                      <a:pt x="276" y="956"/>
                    </a:lnTo>
                    <a:lnTo>
                      <a:pt x="255" y="946"/>
                    </a:lnTo>
                    <a:lnTo>
                      <a:pt x="235" y="935"/>
                    </a:lnTo>
                    <a:lnTo>
                      <a:pt x="217" y="924"/>
                    </a:lnTo>
                    <a:lnTo>
                      <a:pt x="198" y="912"/>
                    </a:lnTo>
                    <a:lnTo>
                      <a:pt x="180" y="898"/>
                    </a:lnTo>
                    <a:lnTo>
                      <a:pt x="163" y="885"/>
                    </a:lnTo>
                    <a:lnTo>
                      <a:pt x="147" y="869"/>
                    </a:lnTo>
                    <a:lnTo>
                      <a:pt x="132" y="854"/>
                    </a:lnTo>
                    <a:lnTo>
                      <a:pt x="116" y="837"/>
                    </a:lnTo>
                    <a:lnTo>
                      <a:pt x="102" y="820"/>
                    </a:lnTo>
                    <a:lnTo>
                      <a:pt x="89" y="801"/>
                    </a:lnTo>
                    <a:lnTo>
                      <a:pt x="77" y="783"/>
                    </a:lnTo>
                    <a:lnTo>
                      <a:pt x="65" y="765"/>
                    </a:lnTo>
                    <a:lnTo>
                      <a:pt x="54" y="745"/>
                    </a:lnTo>
                    <a:lnTo>
                      <a:pt x="46" y="725"/>
                    </a:lnTo>
                    <a:lnTo>
                      <a:pt x="37" y="706"/>
                    </a:lnTo>
                    <a:lnTo>
                      <a:pt x="29" y="685"/>
                    </a:lnTo>
                    <a:lnTo>
                      <a:pt x="22" y="663"/>
                    </a:lnTo>
                    <a:lnTo>
                      <a:pt x="16" y="641"/>
                    </a:lnTo>
                    <a:lnTo>
                      <a:pt x="11" y="618"/>
                    </a:lnTo>
                    <a:lnTo>
                      <a:pt x="8" y="595"/>
                    </a:lnTo>
                    <a:lnTo>
                      <a:pt x="4" y="572"/>
                    </a:lnTo>
                    <a:lnTo>
                      <a:pt x="1" y="549"/>
                    </a:lnTo>
                    <a:lnTo>
                      <a:pt x="0" y="524"/>
                    </a:lnTo>
                    <a:lnTo>
                      <a:pt x="0" y="499"/>
                    </a:lnTo>
                    <a:close/>
                    <a:moveTo>
                      <a:pt x="523" y="828"/>
                    </a:moveTo>
                    <a:lnTo>
                      <a:pt x="535" y="827"/>
                    </a:lnTo>
                    <a:lnTo>
                      <a:pt x="548" y="827"/>
                    </a:lnTo>
                    <a:lnTo>
                      <a:pt x="560" y="825"/>
                    </a:lnTo>
                    <a:lnTo>
                      <a:pt x="572" y="824"/>
                    </a:lnTo>
                    <a:lnTo>
                      <a:pt x="583" y="820"/>
                    </a:lnTo>
                    <a:lnTo>
                      <a:pt x="594" y="817"/>
                    </a:lnTo>
                    <a:lnTo>
                      <a:pt x="605" y="813"/>
                    </a:lnTo>
                    <a:lnTo>
                      <a:pt x="615" y="809"/>
                    </a:lnTo>
                    <a:lnTo>
                      <a:pt x="625" y="803"/>
                    </a:lnTo>
                    <a:lnTo>
                      <a:pt x="634" y="798"/>
                    </a:lnTo>
                    <a:lnTo>
                      <a:pt x="644" y="790"/>
                    </a:lnTo>
                    <a:lnTo>
                      <a:pt x="652" y="784"/>
                    </a:lnTo>
                    <a:lnTo>
                      <a:pt x="660" y="777"/>
                    </a:lnTo>
                    <a:lnTo>
                      <a:pt x="667" y="768"/>
                    </a:lnTo>
                    <a:lnTo>
                      <a:pt x="674" y="760"/>
                    </a:lnTo>
                    <a:lnTo>
                      <a:pt x="682" y="750"/>
                    </a:lnTo>
                    <a:lnTo>
                      <a:pt x="688" y="740"/>
                    </a:lnTo>
                    <a:lnTo>
                      <a:pt x="694" y="729"/>
                    </a:lnTo>
                    <a:lnTo>
                      <a:pt x="700" y="717"/>
                    </a:lnTo>
                    <a:lnTo>
                      <a:pt x="705" y="704"/>
                    </a:lnTo>
                    <a:lnTo>
                      <a:pt x="715" y="677"/>
                    </a:lnTo>
                    <a:lnTo>
                      <a:pt x="722" y="648"/>
                    </a:lnTo>
                    <a:lnTo>
                      <a:pt x="727" y="615"/>
                    </a:lnTo>
                    <a:lnTo>
                      <a:pt x="732" y="579"/>
                    </a:lnTo>
                    <a:lnTo>
                      <a:pt x="735" y="541"/>
                    </a:lnTo>
                    <a:lnTo>
                      <a:pt x="736" y="499"/>
                    </a:lnTo>
                    <a:lnTo>
                      <a:pt x="735" y="459"/>
                    </a:lnTo>
                    <a:lnTo>
                      <a:pt x="732" y="421"/>
                    </a:lnTo>
                    <a:lnTo>
                      <a:pt x="727" y="386"/>
                    </a:lnTo>
                    <a:lnTo>
                      <a:pt x="722" y="355"/>
                    </a:lnTo>
                    <a:lnTo>
                      <a:pt x="715" y="325"/>
                    </a:lnTo>
                    <a:lnTo>
                      <a:pt x="705" y="299"/>
                    </a:lnTo>
                    <a:lnTo>
                      <a:pt x="700" y="287"/>
                    </a:lnTo>
                    <a:lnTo>
                      <a:pt x="694" y="275"/>
                    </a:lnTo>
                    <a:lnTo>
                      <a:pt x="688" y="265"/>
                    </a:lnTo>
                    <a:lnTo>
                      <a:pt x="682" y="255"/>
                    </a:lnTo>
                    <a:lnTo>
                      <a:pt x="674" y="245"/>
                    </a:lnTo>
                    <a:lnTo>
                      <a:pt x="667" y="237"/>
                    </a:lnTo>
                    <a:lnTo>
                      <a:pt x="660" y="228"/>
                    </a:lnTo>
                    <a:lnTo>
                      <a:pt x="652" y="221"/>
                    </a:lnTo>
                    <a:lnTo>
                      <a:pt x="644" y="213"/>
                    </a:lnTo>
                    <a:lnTo>
                      <a:pt x="634" y="207"/>
                    </a:lnTo>
                    <a:lnTo>
                      <a:pt x="625" y="202"/>
                    </a:lnTo>
                    <a:lnTo>
                      <a:pt x="615" y="196"/>
                    </a:lnTo>
                    <a:lnTo>
                      <a:pt x="605" y="192"/>
                    </a:lnTo>
                    <a:lnTo>
                      <a:pt x="594" y="189"/>
                    </a:lnTo>
                    <a:lnTo>
                      <a:pt x="583" y="185"/>
                    </a:lnTo>
                    <a:lnTo>
                      <a:pt x="572" y="183"/>
                    </a:lnTo>
                    <a:lnTo>
                      <a:pt x="560" y="180"/>
                    </a:lnTo>
                    <a:lnTo>
                      <a:pt x="548" y="179"/>
                    </a:lnTo>
                    <a:lnTo>
                      <a:pt x="535" y="178"/>
                    </a:lnTo>
                    <a:lnTo>
                      <a:pt x="523" y="178"/>
                    </a:lnTo>
                    <a:lnTo>
                      <a:pt x="509" y="178"/>
                    </a:lnTo>
                    <a:lnTo>
                      <a:pt x="497" y="179"/>
                    </a:lnTo>
                    <a:lnTo>
                      <a:pt x="486" y="180"/>
                    </a:lnTo>
                    <a:lnTo>
                      <a:pt x="474" y="183"/>
                    </a:lnTo>
                    <a:lnTo>
                      <a:pt x="463" y="185"/>
                    </a:lnTo>
                    <a:lnTo>
                      <a:pt x="453" y="189"/>
                    </a:lnTo>
                    <a:lnTo>
                      <a:pt x="442" y="192"/>
                    </a:lnTo>
                    <a:lnTo>
                      <a:pt x="432" y="196"/>
                    </a:lnTo>
                    <a:lnTo>
                      <a:pt x="422" y="202"/>
                    </a:lnTo>
                    <a:lnTo>
                      <a:pt x="414" y="207"/>
                    </a:lnTo>
                    <a:lnTo>
                      <a:pt x="405" y="213"/>
                    </a:lnTo>
                    <a:lnTo>
                      <a:pt x="396" y="221"/>
                    </a:lnTo>
                    <a:lnTo>
                      <a:pt x="388" y="228"/>
                    </a:lnTo>
                    <a:lnTo>
                      <a:pt x="380" y="237"/>
                    </a:lnTo>
                    <a:lnTo>
                      <a:pt x="373" y="245"/>
                    </a:lnTo>
                    <a:lnTo>
                      <a:pt x="366" y="255"/>
                    </a:lnTo>
                    <a:lnTo>
                      <a:pt x="359" y="265"/>
                    </a:lnTo>
                    <a:lnTo>
                      <a:pt x="353" y="275"/>
                    </a:lnTo>
                    <a:lnTo>
                      <a:pt x="347" y="287"/>
                    </a:lnTo>
                    <a:lnTo>
                      <a:pt x="342" y="299"/>
                    </a:lnTo>
                    <a:lnTo>
                      <a:pt x="337" y="312"/>
                    </a:lnTo>
                    <a:lnTo>
                      <a:pt x="332" y="325"/>
                    </a:lnTo>
                    <a:lnTo>
                      <a:pt x="329" y="340"/>
                    </a:lnTo>
                    <a:lnTo>
                      <a:pt x="325" y="355"/>
                    </a:lnTo>
                    <a:lnTo>
                      <a:pt x="319" y="386"/>
                    </a:lnTo>
                    <a:lnTo>
                      <a:pt x="315" y="421"/>
                    </a:lnTo>
                    <a:lnTo>
                      <a:pt x="311" y="459"/>
                    </a:lnTo>
                    <a:lnTo>
                      <a:pt x="311" y="499"/>
                    </a:lnTo>
                    <a:lnTo>
                      <a:pt x="311" y="540"/>
                    </a:lnTo>
                    <a:lnTo>
                      <a:pt x="315" y="578"/>
                    </a:lnTo>
                    <a:lnTo>
                      <a:pt x="319" y="614"/>
                    </a:lnTo>
                    <a:lnTo>
                      <a:pt x="325" y="646"/>
                    </a:lnTo>
                    <a:lnTo>
                      <a:pt x="329" y="661"/>
                    </a:lnTo>
                    <a:lnTo>
                      <a:pt x="332" y="675"/>
                    </a:lnTo>
                    <a:lnTo>
                      <a:pt x="336" y="690"/>
                    </a:lnTo>
                    <a:lnTo>
                      <a:pt x="341" y="702"/>
                    </a:lnTo>
                    <a:lnTo>
                      <a:pt x="347" y="714"/>
                    </a:lnTo>
                    <a:lnTo>
                      <a:pt x="352" y="727"/>
                    </a:lnTo>
                    <a:lnTo>
                      <a:pt x="358" y="738"/>
                    </a:lnTo>
                    <a:lnTo>
                      <a:pt x="364" y="747"/>
                    </a:lnTo>
                    <a:lnTo>
                      <a:pt x="372" y="757"/>
                    </a:lnTo>
                    <a:lnTo>
                      <a:pt x="379" y="767"/>
                    </a:lnTo>
                    <a:lnTo>
                      <a:pt x="386" y="776"/>
                    </a:lnTo>
                    <a:lnTo>
                      <a:pt x="395" y="783"/>
                    </a:lnTo>
                    <a:lnTo>
                      <a:pt x="404" y="790"/>
                    </a:lnTo>
                    <a:lnTo>
                      <a:pt x="412" y="797"/>
                    </a:lnTo>
                    <a:lnTo>
                      <a:pt x="421" y="803"/>
                    </a:lnTo>
                    <a:lnTo>
                      <a:pt x="431" y="808"/>
                    </a:lnTo>
                    <a:lnTo>
                      <a:pt x="441" y="813"/>
                    </a:lnTo>
                    <a:lnTo>
                      <a:pt x="452" y="816"/>
                    </a:lnTo>
                    <a:lnTo>
                      <a:pt x="463" y="820"/>
                    </a:lnTo>
                    <a:lnTo>
                      <a:pt x="474" y="822"/>
                    </a:lnTo>
                    <a:lnTo>
                      <a:pt x="485" y="825"/>
                    </a:lnTo>
                    <a:lnTo>
                      <a:pt x="497" y="827"/>
                    </a:lnTo>
                    <a:lnTo>
                      <a:pt x="509" y="827"/>
                    </a:lnTo>
                    <a:lnTo>
                      <a:pt x="523" y="828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80960" y="370440"/>
                <a:ext cx="42480" cy="76680"/>
              </a:xfrm>
              <a:custGeom>
                <a:avLst/>
                <a:gdLst/>
                <a:ahLst/>
                <a:rect l="l" t="t" r="r" b="b"/>
                <a:pathLst>
                  <a:path w="678" h="992">
                    <a:moveTo>
                      <a:pt x="0" y="992"/>
                    </a:moveTo>
                    <a:lnTo>
                      <a:pt x="0" y="930"/>
                    </a:lnTo>
                    <a:lnTo>
                      <a:pt x="0" y="924"/>
                    </a:lnTo>
                    <a:lnTo>
                      <a:pt x="2" y="918"/>
                    </a:lnTo>
                    <a:lnTo>
                      <a:pt x="4" y="912"/>
                    </a:lnTo>
                    <a:lnTo>
                      <a:pt x="7" y="907"/>
                    </a:lnTo>
                    <a:lnTo>
                      <a:pt x="10" y="902"/>
                    </a:lnTo>
                    <a:lnTo>
                      <a:pt x="14" y="898"/>
                    </a:lnTo>
                    <a:lnTo>
                      <a:pt x="19" y="893"/>
                    </a:lnTo>
                    <a:lnTo>
                      <a:pt x="25" y="890"/>
                    </a:lnTo>
                    <a:lnTo>
                      <a:pt x="41" y="885"/>
                    </a:lnTo>
                    <a:lnTo>
                      <a:pt x="66" y="879"/>
                    </a:lnTo>
                    <a:lnTo>
                      <a:pt x="73" y="873"/>
                    </a:lnTo>
                    <a:lnTo>
                      <a:pt x="77" y="868"/>
                    </a:lnTo>
                    <a:lnTo>
                      <a:pt x="79" y="857"/>
                    </a:lnTo>
                    <a:lnTo>
                      <a:pt x="80" y="850"/>
                    </a:lnTo>
                    <a:lnTo>
                      <a:pt x="80" y="822"/>
                    </a:lnTo>
                    <a:lnTo>
                      <a:pt x="80" y="810"/>
                    </a:lnTo>
                    <a:lnTo>
                      <a:pt x="80" y="249"/>
                    </a:lnTo>
                    <a:lnTo>
                      <a:pt x="80" y="235"/>
                    </a:lnTo>
                    <a:lnTo>
                      <a:pt x="80" y="223"/>
                    </a:lnTo>
                    <a:lnTo>
                      <a:pt x="80" y="207"/>
                    </a:lnTo>
                    <a:lnTo>
                      <a:pt x="80" y="189"/>
                    </a:lnTo>
                    <a:lnTo>
                      <a:pt x="79" y="185"/>
                    </a:lnTo>
                    <a:lnTo>
                      <a:pt x="77" y="181"/>
                    </a:lnTo>
                    <a:lnTo>
                      <a:pt x="76" y="179"/>
                    </a:lnTo>
                    <a:lnTo>
                      <a:pt x="73" y="178"/>
                    </a:lnTo>
                    <a:lnTo>
                      <a:pt x="37" y="169"/>
                    </a:lnTo>
                    <a:lnTo>
                      <a:pt x="29" y="165"/>
                    </a:lnTo>
                    <a:lnTo>
                      <a:pt x="21" y="163"/>
                    </a:lnTo>
                    <a:lnTo>
                      <a:pt x="15" y="158"/>
                    </a:lnTo>
                    <a:lnTo>
                      <a:pt x="10" y="153"/>
                    </a:lnTo>
                    <a:lnTo>
                      <a:pt x="5" y="147"/>
                    </a:lnTo>
                    <a:lnTo>
                      <a:pt x="3" y="141"/>
                    </a:lnTo>
                    <a:lnTo>
                      <a:pt x="2" y="133"/>
                    </a:lnTo>
                    <a:lnTo>
                      <a:pt x="0" y="125"/>
                    </a:lnTo>
                    <a:lnTo>
                      <a:pt x="0" y="63"/>
                    </a:lnTo>
                    <a:lnTo>
                      <a:pt x="361" y="63"/>
                    </a:lnTo>
                    <a:lnTo>
                      <a:pt x="361" y="140"/>
                    </a:lnTo>
                    <a:lnTo>
                      <a:pt x="387" y="106"/>
                    </a:lnTo>
                    <a:lnTo>
                      <a:pt x="399" y="93"/>
                    </a:lnTo>
                    <a:lnTo>
                      <a:pt x="413" y="79"/>
                    </a:lnTo>
                    <a:lnTo>
                      <a:pt x="425" y="68"/>
                    </a:lnTo>
                    <a:lnTo>
                      <a:pt x="440" y="57"/>
                    </a:lnTo>
                    <a:lnTo>
                      <a:pt x="453" y="47"/>
                    </a:lnTo>
                    <a:lnTo>
                      <a:pt x="468" y="39"/>
                    </a:lnTo>
                    <a:lnTo>
                      <a:pt x="484" y="30"/>
                    </a:lnTo>
                    <a:lnTo>
                      <a:pt x="500" y="24"/>
                    </a:lnTo>
                    <a:lnTo>
                      <a:pt x="516" y="18"/>
                    </a:lnTo>
                    <a:lnTo>
                      <a:pt x="533" y="13"/>
                    </a:lnTo>
                    <a:lnTo>
                      <a:pt x="550" y="9"/>
                    </a:lnTo>
                    <a:lnTo>
                      <a:pt x="569" y="6"/>
                    </a:lnTo>
                    <a:lnTo>
                      <a:pt x="588" y="3"/>
                    </a:lnTo>
                    <a:lnTo>
                      <a:pt x="608" y="1"/>
                    </a:lnTo>
                    <a:lnTo>
                      <a:pt x="629" y="0"/>
                    </a:lnTo>
                    <a:lnTo>
                      <a:pt x="650" y="0"/>
                    </a:lnTo>
                    <a:lnTo>
                      <a:pt x="678" y="0"/>
                    </a:lnTo>
                    <a:lnTo>
                      <a:pt x="678" y="311"/>
                    </a:lnTo>
                    <a:lnTo>
                      <a:pt x="645" y="314"/>
                    </a:lnTo>
                    <a:lnTo>
                      <a:pt x="611" y="314"/>
                    </a:lnTo>
                    <a:lnTo>
                      <a:pt x="585" y="313"/>
                    </a:lnTo>
                    <a:lnTo>
                      <a:pt x="568" y="311"/>
                    </a:lnTo>
                    <a:lnTo>
                      <a:pt x="558" y="310"/>
                    </a:lnTo>
                    <a:lnTo>
                      <a:pt x="554" y="309"/>
                    </a:lnTo>
                    <a:lnTo>
                      <a:pt x="552" y="305"/>
                    </a:lnTo>
                    <a:lnTo>
                      <a:pt x="548" y="303"/>
                    </a:lnTo>
                    <a:lnTo>
                      <a:pt x="545" y="298"/>
                    </a:lnTo>
                    <a:lnTo>
                      <a:pt x="539" y="288"/>
                    </a:lnTo>
                    <a:lnTo>
                      <a:pt x="534" y="273"/>
                    </a:lnTo>
                    <a:lnTo>
                      <a:pt x="531" y="265"/>
                    </a:lnTo>
                    <a:lnTo>
                      <a:pt x="527" y="252"/>
                    </a:lnTo>
                    <a:lnTo>
                      <a:pt x="524" y="245"/>
                    </a:lnTo>
                    <a:lnTo>
                      <a:pt x="521" y="239"/>
                    </a:lnTo>
                    <a:lnTo>
                      <a:pt x="518" y="233"/>
                    </a:lnTo>
                    <a:lnTo>
                      <a:pt x="513" y="229"/>
                    </a:lnTo>
                    <a:lnTo>
                      <a:pt x="510" y="225"/>
                    </a:lnTo>
                    <a:lnTo>
                      <a:pt x="505" y="223"/>
                    </a:lnTo>
                    <a:lnTo>
                      <a:pt x="500" y="222"/>
                    </a:lnTo>
                    <a:lnTo>
                      <a:pt x="494" y="221"/>
                    </a:lnTo>
                    <a:lnTo>
                      <a:pt x="486" y="222"/>
                    </a:lnTo>
                    <a:lnTo>
                      <a:pt x="478" y="225"/>
                    </a:lnTo>
                    <a:lnTo>
                      <a:pt x="468" y="230"/>
                    </a:lnTo>
                    <a:lnTo>
                      <a:pt x="458" y="238"/>
                    </a:lnTo>
                    <a:lnTo>
                      <a:pt x="436" y="252"/>
                    </a:lnTo>
                    <a:lnTo>
                      <a:pt x="433" y="254"/>
                    </a:lnTo>
                    <a:lnTo>
                      <a:pt x="419" y="270"/>
                    </a:lnTo>
                    <a:lnTo>
                      <a:pt x="414" y="276"/>
                    </a:lnTo>
                    <a:lnTo>
                      <a:pt x="403" y="284"/>
                    </a:lnTo>
                    <a:lnTo>
                      <a:pt x="397" y="292"/>
                    </a:lnTo>
                    <a:lnTo>
                      <a:pt x="392" y="298"/>
                    </a:lnTo>
                    <a:lnTo>
                      <a:pt x="392" y="299"/>
                    </a:lnTo>
                    <a:lnTo>
                      <a:pt x="392" y="302"/>
                    </a:lnTo>
                    <a:lnTo>
                      <a:pt x="392" y="810"/>
                    </a:lnTo>
                    <a:lnTo>
                      <a:pt x="392" y="822"/>
                    </a:lnTo>
                    <a:lnTo>
                      <a:pt x="392" y="847"/>
                    </a:lnTo>
                    <a:lnTo>
                      <a:pt x="394" y="854"/>
                    </a:lnTo>
                    <a:lnTo>
                      <a:pt x="398" y="860"/>
                    </a:lnTo>
                    <a:lnTo>
                      <a:pt x="400" y="865"/>
                    </a:lnTo>
                    <a:lnTo>
                      <a:pt x="403" y="868"/>
                    </a:lnTo>
                    <a:lnTo>
                      <a:pt x="408" y="874"/>
                    </a:lnTo>
                    <a:lnTo>
                      <a:pt x="413" y="877"/>
                    </a:lnTo>
                    <a:lnTo>
                      <a:pt x="414" y="879"/>
                    </a:lnTo>
                    <a:lnTo>
                      <a:pt x="416" y="879"/>
                    </a:lnTo>
                    <a:lnTo>
                      <a:pt x="442" y="885"/>
                    </a:lnTo>
                    <a:lnTo>
                      <a:pt x="457" y="890"/>
                    </a:lnTo>
                    <a:lnTo>
                      <a:pt x="463" y="893"/>
                    </a:lnTo>
                    <a:lnTo>
                      <a:pt x="468" y="898"/>
                    </a:lnTo>
                    <a:lnTo>
                      <a:pt x="472" y="902"/>
                    </a:lnTo>
                    <a:lnTo>
                      <a:pt x="475" y="907"/>
                    </a:lnTo>
                    <a:lnTo>
                      <a:pt x="478" y="912"/>
                    </a:lnTo>
                    <a:lnTo>
                      <a:pt x="480" y="917"/>
                    </a:lnTo>
                    <a:lnTo>
                      <a:pt x="480" y="923"/>
                    </a:lnTo>
                    <a:lnTo>
                      <a:pt x="481" y="928"/>
                    </a:lnTo>
                    <a:lnTo>
                      <a:pt x="481" y="992"/>
                    </a:lnTo>
                    <a:lnTo>
                      <a:pt x="0" y="992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623800" y="371520"/>
                <a:ext cx="63720" cy="76680"/>
              </a:xfrm>
              <a:custGeom>
                <a:avLst/>
                <a:gdLst/>
                <a:ahLst/>
                <a:rect l="l" t="t" r="r" b="b"/>
                <a:pathLst>
                  <a:path w="1010" h="996">
                    <a:moveTo>
                      <a:pt x="622" y="311"/>
                    </a:moveTo>
                    <a:lnTo>
                      <a:pt x="622" y="273"/>
                    </a:lnTo>
                    <a:lnTo>
                      <a:pt x="622" y="263"/>
                    </a:lnTo>
                    <a:lnTo>
                      <a:pt x="621" y="252"/>
                    </a:lnTo>
                    <a:lnTo>
                      <a:pt x="619" y="243"/>
                    </a:lnTo>
                    <a:lnTo>
                      <a:pt x="616" y="235"/>
                    </a:lnTo>
                    <a:lnTo>
                      <a:pt x="614" y="226"/>
                    </a:lnTo>
                    <a:lnTo>
                      <a:pt x="609" y="219"/>
                    </a:lnTo>
                    <a:lnTo>
                      <a:pt x="605" y="213"/>
                    </a:lnTo>
                    <a:lnTo>
                      <a:pt x="599" y="206"/>
                    </a:lnTo>
                    <a:lnTo>
                      <a:pt x="593" y="202"/>
                    </a:lnTo>
                    <a:lnTo>
                      <a:pt x="585" y="195"/>
                    </a:lnTo>
                    <a:lnTo>
                      <a:pt x="577" y="192"/>
                    </a:lnTo>
                    <a:lnTo>
                      <a:pt x="567" y="187"/>
                    </a:lnTo>
                    <a:lnTo>
                      <a:pt x="557" y="183"/>
                    </a:lnTo>
                    <a:lnTo>
                      <a:pt x="545" y="179"/>
                    </a:lnTo>
                    <a:lnTo>
                      <a:pt x="532" y="176"/>
                    </a:lnTo>
                    <a:lnTo>
                      <a:pt x="518" y="173"/>
                    </a:lnTo>
                    <a:lnTo>
                      <a:pt x="502" y="171"/>
                    </a:lnTo>
                    <a:lnTo>
                      <a:pt x="487" y="171"/>
                    </a:lnTo>
                    <a:lnTo>
                      <a:pt x="473" y="170"/>
                    </a:lnTo>
                    <a:lnTo>
                      <a:pt x="461" y="170"/>
                    </a:lnTo>
                    <a:lnTo>
                      <a:pt x="446" y="170"/>
                    </a:lnTo>
                    <a:lnTo>
                      <a:pt x="428" y="171"/>
                    </a:lnTo>
                    <a:lnTo>
                      <a:pt x="409" y="172"/>
                    </a:lnTo>
                    <a:lnTo>
                      <a:pt x="389" y="175"/>
                    </a:lnTo>
                    <a:lnTo>
                      <a:pt x="350" y="181"/>
                    </a:lnTo>
                    <a:lnTo>
                      <a:pt x="320" y="188"/>
                    </a:lnTo>
                    <a:lnTo>
                      <a:pt x="296" y="194"/>
                    </a:lnTo>
                    <a:lnTo>
                      <a:pt x="279" y="200"/>
                    </a:lnTo>
                    <a:lnTo>
                      <a:pt x="272" y="204"/>
                    </a:lnTo>
                    <a:lnTo>
                      <a:pt x="264" y="209"/>
                    </a:lnTo>
                    <a:lnTo>
                      <a:pt x="258" y="214"/>
                    </a:lnTo>
                    <a:lnTo>
                      <a:pt x="251" y="220"/>
                    </a:lnTo>
                    <a:lnTo>
                      <a:pt x="236" y="235"/>
                    </a:lnTo>
                    <a:lnTo>
                      <a:pt x="220" y="253"/>
                    </a:lnTo>
                    <a:lnTo>
                      <a:pt x="211" y="264"/>
                    </a:lnTo>
                    <a:lnTo>
                      <a:pt x="205" y="268"/>
                    </a:lnTo>
                    <a:lnTo>
                      <a:pt x="197" y="270"/>
                    </a:lnTo>
                    <a:lnTo>
                      <a:pt x="187" y="273"/>
                    </a:lnTo>
                    <a:lnTo>
                      <a:pt x="176" y="275"/>
                    </a:lnTo>
                    <a:lnTo>
                      <a:pt x="163" y="276"/>
                    </a:lnTo>
                    <a:lnTo>
                      <a:pt x="146" y="278"/>
                    </a:lnTo>
                    <a:lnTo>
                      <a:pt x="128" y="278"/>
                    </a:lnTo>
                    <a:lnTo>
                      <a:pt x="106" y="279"/>
                    </a:lnTo>
                    <a:lnTo>
                      <a:pt x="76" y="276"/>
                    </a:lnTo>
                    <a:lnTo>
                      <a:pt x="76" y="53"/>
                    </a:lnTo>
                    <a:lnTo>
                      <a:pt x="122" y="41"/>
                    </a:lnTo>
                    <a:lnTo>
                      <a:pt x="158" y="32"/>
                    </a:lnTo>
                    <a:lnTo>
                      <a:pt x="193" y="24"/>
                    </a:lnTo>
                    <a:lnTo>
                      <a:pt x="227" y="17"/>
                    </a:lnTo>
                    <a:lnTo>
                      <a:pt x="261" y="11"/>
                    </a:lnTo>
                    <a:lnTo>
                      <a:pt x="293" y="6"/>
                    </a:lnTo>
                    <a:lnTo>
                      <a:pt x="321" y="3"/>
                    </a:lnTo>
                    <a:lnTo>
                      <a:pt x="349" y="1"/>
                    </a:lnTo>
                    <a:lnTo>
                      <a:pt x="375" y="0"/>
                    </a:lnTo>
                    <a:lnTo>
                      <a:pt x="446" y="1"/>
                    </a:lnTo>
                    <a:lnTo>
                      <a:pt x="514" y="5"/>
                    </a:lnTo>
                    <a:lnTo>
                      <a:pt x="545" y="8"/>
                    </a:lnTo>
                    <a:lnTo>
                      <a:pt x="575" y="10"/>
                    </a:lnTo>
                    <a:lnTo>
                      <a:pt x="604" y="14"/>
                    </a:lnTo>
                    <a:lnTo>
                      <a:pt x="632" y="17"/>
                    </a:lnTo>
                    <a:lnTo>
                      <a:pt x="658" y="22"/>
                    </a:lnTo>
                    <a:lnTo>
                      <a:pt x="682" y="27"/>
                    </a:lnTo>
                    <a:lnTo>
                      <a:pt x="706" y="33"/>
                    </a:lnTo>
                    <a:lnTo>
                      <a:pt x="728" y="39"/>
                    </a:lnTo>
                    <a:lnTo>
                      <a:pt x="749" y="47"/>
                    </a:lnTo>
                    <a:lnTo>
                      <a:pt x="769" y="54"/>
                    </a:lnTo>
                    <a:lnTo>
                      <a:pt x="786" y="62"/>
                    </a:lnTo>
                    <a:lnTo>
                      <a:pt x="803" y="70"/>
                    </a:lnTo>
                    <a:lnTo>
                      <a:pt x="819" y="80"/>
                    </a:lnTo>
                    <a:lnTo>
                      <a:pt x="834" y="90"/>
                    </a:lnTo>
                    <a:lnTo>
                      <a:pt x="847" y="100"/>
                    </a:lnTo>
                    <a:lnTo>
                      <a:pt x="860" y="111"/>
                    </a:lnTo>
                    <a:lnTo>
                      <a:pt x="871" y="123"/>
                    </a:lnTo>
                    <a:lnTo>
                      <a:pt x="882" y="135"/>
                    </a:lnTo>
                    <a:lnTo>
                      <a:pt x="890" y="149"/>
                    </a:lnTo>
                    <a:lnTo>
                      <a:pt x="899" y="162"/>
                    </a:lnTo>
                    <a:lnTo>
                      <a:pt x="906" y="177"/>
                    </a:lnTo>
                    <a:lnTo>
                      <a:pt x="914" y="192"/>
                    </a:lnTo>
                    <a:lnTo>
                      <a:pt x="919" y="208"/>
                    </a:lnTo>
                    <a:lnTo>
                      <a:pt x="924" y="225"/>
                    </a:lnTo>
                    <a:lnTo>
                      <a:pt x="927" y="242"/>
                    </a:lnTo>
                    <a:lnTo>
                      <a:pt x="930" y="261"/>
                    </a:lnTo>
                    <a:lnTo>
                      <a:pt x="931" y="279"/>
                    </a:lnTo>
                    <a:lnTo>
                      <a:pt x="931" y="299"/>
                    </a:lnTo>
                    <a:lnTo>
                      <a:pt x="931" y="764"/>
                    </a:lnTo>
                    <a:lnTo>
                      <a:pt x="931" y="792"/>
                    </a:lnTo>
                    <a:lnTo>
                      <a:pt x="931" y="803"/>
                    </a:lnTo>
                    <a:lnTo>
                      <a:pt x="937" y="835"/>
                    </a:lnTo>
                    <a:lnTo>
                      <a:pt x="949" y="856"/>
                    </a:lnTo>
                    <a:lnTo>
                      <a:pt x="973" y="866"/>
                    </a:lnTo>
                    <a:lnTo>
                      <a:pt x="981" y="870"/>
                    </a:lnTo>
                    <a:lnTo>
                      <a:pt x="989" y="873"/>
                    </a:lnTo>
                    <a:lnTo>
                      <a:pt x="996" y="878"/>
                    </a:lnTo>
                    <a:lnTo>
                      <a:pt x="1001" y="883"/>
                    </a:lnTo>
                    <a:lnTo>
                      <a:pt x="1005" y="889"/>
                    </a:lnTo>
                    <a:lnTo>
                      <a:pt x="1007" y="895"/>
                    </a:lnTo>
                    <a:lnTo>
                      <a:pt x="1010" y="901"/>
                    </a:lnTo>
                    <a:lnTo>
                      <a:pt x="1010" y="909"/>
                    </a:lnTo>
                    <a:lnTo>
                      <a:pt x="1010" y="973"/>
                    </a:lnTo>
                    <a:lnTo>
                      <a:pt x="633" y="973"/>
                    </a:lnTo>
                    <a:lnTo>
                      <a:pt x="633" y="920"/>
                    </a:lnTo>
                    <a:lnTo>
                      <a:pt x="605" y="938"/>
                    </a:lnTo>
                    <a:lnTo>
                      <a:pt x="577" y="953"/>
                    </a:lnTo>
                    <a:lnTo>
                      <a:pt x="562" y="960"/>
                    </a:lnTo>
                    <a:lnTo>
                      <a:pt x="547" y="967"/>
                    </a:lnTo>
                    <a:lnTo>
                      <a:pt x="532" y="973"/>
                    </a:lnTo>
                    <a:lnTo>
                      <a:pt x="516" y="978"/>
                    </a:lnTo>
                    <a:lnTo>
                      <a:pt x="502" y="981"/>
                    </a:lnTo>
                    <a:lnTo>
                      <a:pt x="486" y="986"/>
                    </a:lnTo>
                    <a:lnTo>
                      <a:pt x="471" y="989"/>
                    </a:lnTo>
                    <a:lnTo>
                      <a:pt x="455" y="991"/>
                    </a:lnTo>
                    <a:lnTo>
                      <a:pt x="439" y="994"/>
                    </a:lnTo>
                    <a:lnTo>
                      <a:pt x="423" y="995"/>
                    </a:lnTo>
                    <a:lnTo>
                      <a:pt x="407" y="996"/>
                    </a:lnTo>
                    <a:lnTo>
                      <a:pt x="391" y="996"/>
                    </a:lnTo>
                    <a:lnTo>
                      <a:pt x="359" y="996"/>
                    </a:lnTo>
                    <a:lnTo>
                      <a:pt x="328" y="995"/>
                    </a:lnTo>
                    <a:lnTo>
                      <a:pt x="301" y="994"/>
                    </a:lnTo>
                    <a:lnTo>
                      <a:pt x="275" y="991"/>
                    </a:lnTo>
                    <a:lnTo>
                      <a:pt x="251" y="989"/>
                    </a:lnTo>
                    <a:lnTo>
                      <a:pt x="230" y="985"/>
                    </a:lnTo>
                    <a:lnTo>
                      <a:pt x="210" y="980"/>
                    </a:lnTo>
                    <a:lnTo>
                      <a:pt x="193" y="975"/>
                    </a:lnTo>
                    <a:lnTo>
                      <a:pt x="176" y="970"/>
                    </a:lnTo>
                    <a:lnTo>
                      <a:pt x="161" y="963"/>
                    </a:lnTo>
                    <a:lnTo>
                      <a:pt x="145" y="954"/>
                    </a:lnTo>
                    <a:lnTo>
                      <a:pt x="130" y="946"/>
                    </a:lnTo>
                    <a:lnTo>
                      <a:pt x="115" y="935"/>
                    </a:lnTo>
                    <a:lnTo>
                      <a:pt x="101" y="924"/>
                    </a:lnTo>
                    <a:lnTo>
                      <a:pt x="87" y="910"/>
                    </a:lnTo>
                    <a:lnTo>
                      <a:pt x="74" y="897"/>
                    </a:lnTo>
                    <a:lnTo>
                      <a:pt x="56" y="876"/>
                    </a:lnTo>
                    <a:lnTo>
                      <a:pt x="42" y="854"/>
                    </a:lnTo>
                    <a:lnTo>
                      <a:pt x="28" y="831"/>
                    </a:lnTo>
                    <a:lnTo>
                      <a:pt x="18" y="808"/>
                    </a:lnTo>
                    <a:lnTo>
                      <a:pt x="10" y="785"/>
                    </a:lnTo>
                    <a:lnTo>
                      <a:pt x="4" y="760"/>
                    </a:lnTo>
                    <a:lnTo>
                      <a:pt x="1" y="736"/>
                    </a:lnTo>
                    <a:lnTo>
                      <a:pt x="0" y="711"/>
                    </a:lnTo>
                    <a:lnTo>
                      <a:pt x="0" y="691"/>
                    </a:lnTo>
                    <a:lnTo>
                      <a:pt x="4" y="669"/>
                    </a:lnTo>
                    <a:lnTo>
                      <a:pt x="7" y="646"/>
                    </a:lnTo>
                    <a:lnTo>
                      <a:pt x="15" y="620"/>
                    </a:lnTo>
                    <a:lnTo>
                      <a:pt x="18" y="607"/>
                    </a:lnTo>
                    <a:lnTo>
                      <a:pt x="22" y="594"/>
                    </a:lnTo>
                    <a:lnTo>
                      <a:pt x="27" y="582"/>
                    </a:lnTo>
                    <a:lnTo>
                      <a:pt x="33" y="571"/>
                    </a:lnTo>
                    <a:lnTo>
                      <a:pt x="39" y="559"/>
                    </a:lnTo>
                    <a:lnTo>
                      <a:pt x="47" y="548"/>
                    </a:lnTo>
                    <a:lnTo>
                      <a:pt x="54" y="537"/>
                    </a:lnTo>
                    <a:lnTo>
                      <a:pt x="61" y="526"/>
                    </a:lnTo>
                    <a:lnTo>
                      <a:pt x="70" y="515"/>
                    </a:lnTo>
                    <a:lnTo>
                      <a:pt x="79" y="505"/>
                    </a:lnTo>
                    <a:lnTo>
                      <a:pt x="88" y="495"/>
                    </a:lnTo>
                    <a:lnTo>
                      <a:pt x="99" y="485"/>
                    </a:lnTo>
                    <a:lnTo>
                      <a:pt x="122" y="467"/>
                    </a:lnTo>
                    <a:lnTo>
                      <a:pt x="145" y="450"/>
                    </a:lnTo>
                    <a:lnTo>
                      <a:pt x="176" y="431"/>
                    </a:lnTo>
                    <a:lnTo>
                      <a:pt x="210" y="414"/>
                    </a:lnTo>
                    <a:lnTo>
                      <a:pt x="247" y="398"/>
                    </a:lnTo>
                    <a:lnTo>
                      <a:pt x="288" y="382"/>
                    </a:lnTo>
                    <a:lnTo>
                      <a:pt x="331" y="369"/>
                    </a:lnTo>
                    <a:lnTo>
                      <a:pt x="379" y="355"/>
                    </a:lnTo>
                    <a:lnTo>
                      <a:pt x="429" y="343"/>
                    </a:lnTo>
                    <a:lnTo>
                      <a:pt x="483" y="332"/>
                    </a:lnTo>
                    <a:lnTo>
                      <a:pt x="503" y="328"/>
                    </a:lnTo>
                    <a:lnTo>
                      <a:pt x="521" y="326"/>
                    </a:lnTo>
                    <a:lnTo>
                      <a:pt x="541" y="322"/>
                    </a:lnTo>
                    <a:lnTo>
                      <a:pt x="559" y="318"/>
                    </a:lnTo>
                    <a:lnTo>
                      <a:pt x="622" y="311"/>
                    </a:lnTo>
                    <a:close/>
                    <a:moveTo>
                      <a:pt x="603" y="504"/>
                    </a:moveTo>
                    <a:lnTo>
                      <a:pt x="573" y="507"/>
                    </a:lnTo>
                    <a:lnTo>
                      <a:pt x="550" y="511"/>
                    </a:lnTo>
                    <a:lnTo>
                      <a:pt x="527" y="515"/>
                    </a:lnTo>
                    <a:lnTo>
                      <a:pt x="508" y="518"/>
                    </a:lnTo>
                    <a:lnTo>
                      <a:pt x="491" y="523"/>
                    </a:lnTo>
                    <a:lnTo>
                      <a:pt x="464" y="533"/>
                    </a:lnTo>
                    <a:lnTo>
                      <a:pt x="439" y="540"/>
                    </a:lnTo>
                    <a:lnTo>
                      <a:pt x="419" y="548"/>
                    </a:lnTo>
                    <a:lnTo>
                      <a:pt x="404" y="555"/>
                    </a:lnTo>
                    <a:lnTo>
                      <a:pt x="392" y="561"/>
                    </a:lnTo>
                    <a:lnTo>
                      <a:pt x="381" y="569"/>
                    </a:lnTo>
                    <a:lnTo>
                      <a:pt x="370" y="576"/>
                    </a:lnTo>
                    <a:lnTo>
                      <a:pt x="361" y="583"/>
                    </a:lnTo>
                    <a:lnTo>
                      <a:pt x="350" y="596"/>
                    </a:lnTo>
                    <a:lnTo>
                      <a:pt x="341" y="609"/>
                    </a:lnTo>
                    <a:lnTo>
                      <a:pt x="332" y="623"/>
                    </a:lnTo>
                    <a:lnTo>
                      <a:pt x="325" y="637"/>
                    </a:lnTo>
                    <a:lnTo>
                      <a:pt x="318" y="652"/>
                    </a:lnTo>
                    <a:lnTo>
                      <a:pt x="315" y="666"/>
                    </a:lnTo>
                    <a:lnTo>
                      <a:pt x="311" y="680"/>
                    </a:lnTo>
                    <a:lnTo>
                      <a:pt x="311" y="693"/>
                    </a:lnTo>
                    <a:lnTo>
                      <a:pt x="311" y="707"/>
                    </a:lnTo>
                    <a:lnTo>
                      <a:pt x="312" y="721"/>
                    </a:lnTo>
                    <a:lnTo>
                      <a:pt x="315" y="733"/>
                    </a:lnTo>
                    <a:lnTo>
                      <a:pt x="318" y="744"/>
                    </a:lnTo>
                    <a:lnTo>
                      <a:pt x="322" y="755"/>
                    </a:lnTo>
                    <a:lnTo>
                      <a:pt x="327" y="765"/>
                    </a:lnTo>
                    <a:lnTo>
                      <a:pt x="333" y="774"/>
                    </a:lnTo>
                    <a:lnTo>
                      <a:pt x="341" y="781"/>
                    </a:lnTo>
                    <a:lnTo>
                      <a:pt x="348" y="788"/>
                    </a:lnTo>
                    <a:lnTo>
                      <a:pt x="357" y="795"/>
                    </a:lnTo>
                    <a:lnTo>
                      <a:pt x="366" y="800"/>
                    </a:lnTo>
                    <a:lnTo>
                      <a:pt x="377" y="803"/>
                    </a:lnTo>
                    <a:lnTo>
                      <a:pt x="389" y="807"/>
                    </a:lnTo>
                    <a:lnTo>
                      <a:pt x="401" y="809"/>
                    </a:lnTo>
                    <a:lnTo>
                      <a:pt x="414" y="811"/>
                    </a:lnTo>
                    <a:lnTo>
                      <a:pt x="429" y="811"/>
                    </a:lnTo>
                    <a:lnTo>
                      <a:pt x="443" y="811"/>
                    </a:lnTo>
                    <a:lnTo>
                      <a:pt x="452" y="811"/>
                    </a:lnTo>
                    <a:lnTo>
                      <a:pt x="467" y="811"/>
                    </a:lnTo>
                    <a:lnTo>
                      <a:pt x="481" y="808"/>
                    </a:lnTo>
                    <a:lnTo>
                      <a:pt x="496" y="804"/>
                    </a:lnTo>
                    <a:lnTo>
                      <a:pt x="510" y="801"/>
                    </a:lnTo>
                    <a:lnTo>
                      <a:pt x="525" y="795"/>
                    </a:lnTo>
                    <a:lnTo>
                      <a:pt x="540" y="787"/>
                    </a:lnTo>
                    <a:lnTo>
                      <a:pt x="555" y="779"/>
                    </a:lnTo>
                    <a:lnTo>
                      <a:pt x="569" y="769"/>
                    </a:lnTo>
                    <a:lnTo>
                      <a:pt x="585" y="757"/>
                    </a:lnTo>
                    <a:lnTo>
                      <a:pt x="593" y="749"/>
                    </a:lnTo>
                    <a:lnTo>
                      <a:pt x="601" y="741"/>
                    </a:lnTo>
                    <a:lnTo>
                      <a:pt x="609" y="731"/>
                    </a:lnTo>
                    <a:lnTo>
                      <a:pt x="615" y="721"/>
                    </a:lnTo>
                    <a:lnTo>
                      <a:pt x="622" y="709"/>
                    </a:lnTo>
                    <a:lnTo>
                      <a:pt x="622" y="502"/>
                    </a:lnTo>
                    <a:lnTo>
                      <a:pt x="603" y="504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690040" y="372960"/>
                <a:ext cx="53640" cy="75240"/>
              </a:xfrm>
              <a:custGeom>
                <a:avLst/>
                <a:gdLst/>
                <a:ahLst/>
                <a:rect l="l" t="t" r="r" b="b"/>
                <a:pathLst>
                  <a:path w="857" h="983">
                    <a:moveTo>
                      <a:pt x="857" y="187"/>
                    </a:moveTo>
                    <a:lnTo>
                      <a:pt x="682" y="412"/>
                    </a:lnTo>
                    <a:lnTo>
                      <a:pt x="660" y="401"/>
                    </a:lnTo>
                    <a:lnTo>
                      <a:pt x="642" y="390"/>
                    </a:lnTo>
                    <a:lnTo>
                      <a:pt x="627" y="380"/>
                    </a:lnTo>
                    <a:lnTo>
                      <a:pt x="615" y="373"/>
                    </a:lnTo>
                    <a:lnTo>
                      <a:pt x="607" y="365"/>
                    </a:lnTo>
                    <a:lnTo>
                      <a:pt x="601" y="361"/>
                    </a:lnTo>
                    <a:lnTo>
                      <a:pt x="596" y="354"/>
                    </a:lnTo>
                    <a:lnTo>
                      <a:pt x="592" y="350"/>
                    </a:lnTo>
                    <a:lnTo>
                      <a:pt x="591" y="345"/>
                    </a:lnTo>
                    <a:lnTo>
                      <a:pt x="595" y="310"/>
                    </a:lnTo>
                    <a:lnTo>
                      <a:pt x="596" y="298"/>
                    </a:lnTo>
                    <a:lnTo>
                      <a:pt x="596" y="283"/>
                    </a:lnTo>
                    <a:lnTo>
                      <a:pt x="595" y="271"/>
                    </a:lnTo>
                    <a:lnTo>
                      <a:pt x="594" y="261"/>
                    </a:lnTo>
                    <a:lnTo>
                      <a:pt x="591" y="254"/>
                    </a:lnTo>
                    <a:lnTo>
                      <a:pt x="587" y="246"/>
                    </a:lnTo>
                    <a:lnTo>
                      <a:pt x="581" y="238"/>
                    </a:lnTo>
                    <a:lnTo>
                      <a:pt x="574" y="228"/>
                    </a:lnTo>
                    <a:lnTo>
                      <a:pt x="564" y="218"/>
                    </a:lnTo>
                    <a:lnTo>
                      <a:pt x="557" y="212"/>
                    </a:lnTo>
                    <a:lnTo>
                      <a:pt x="549" y="206"/>
                    </a:lnTo>
                    <a:lnTo>
                      <a:pt x="541" y="201"/>
                    </a:lnTo>
                    <a:lnTo>
                      <a:pt x="531" y="197"/>
                    </a:lnTo>
                    <a:lnTo>
                      <a:pt x="521" y="195"/>
                    </a:lnTo>
                    <a:lnTo>
                      <a:pt x="510" y="192"/>
                    </a:lnTo>
                    <a:lnTo>
                      <a:pt x="499" y="191"/>
                    </a:lnTo>
                    <a:lnTo>
                      <a:pt x="488" y="190"/>
                    </a:lnTo>
                    <a:lnTo>
                      <a:pt x="474" y="192"/>
                    </a:lnTo>
                    <a:lnTo>
                      <a:pt x="452" y="196"/>
                    </a:lnTo>
                    <a:lnTo>
                      <a:pt x="445" y="197"/>
                    </a:lnTo>
                    <a:lnTo>
                      <a:pt x="439" y="200"/>
                    </a:lnTo>
                    <a:lnTo>
                      <a:pt x="431" y="203"/>
                    </a:lnTo>
                    <a:lnTo>
                      <a:pt x="425" y="207"/>
                    </a:lnTo>
                    <a:lnTo>
                      <a:pt x="410" y="217"/>
                    </a:lnTo>
                    <a:lnTo>
                      <a:pt x="397" y="230"/>
                    </a:lnTo>
                    <a:lnTo>
                      <a:pt x="389" y="238"/>
                    </a:lnTo>
                    <a:lnTo>
                      <a:pt x="382" y="246"/>
                    </a:lnTo>
                    <a:lnTo>
                      <a:pt x="375" y="256"/>
                    </a:lnTo>
                    <a:lnTo>
                      <a:pt x="369" y="267"/>
                    </a:lnTo>
                    <a:lnTo>
                      <a:pt x="355" y="292"/>
                    </a:lnTo>
                    <a:lnTo>
                      <a:pt x="341" y="320"/>
                    </a:lnTo>
                    <a:lnTo>
                      <a:pt x="335" y="338"/>
                    </a:lnTo>
                    <a:lnTo>
                      <a:pt x="330" y="352"/>
                    </a:lnTo>
                    <a:lnTo>
                      <a:pt x="325" y="370"/>
                    </a:lnTo>
                    <a:lnTo>
                      <a:pt x="319" y="386"/>
                    </a:lnTo>
                    <a:lnTo>
                      <a:pt x="316" y="401"/>
                    </a:lnTo>
                    <a:lnTo>
                      <a:pt x="313" y="416"/>
                    </a:lnTo>
                    <a:lnTo>
                      <a:pt x="307" y="444"/>
                    </a:lnTo>
                    <a:lnTo>
                      <a:pt x="303" y="472"/>
                    </a:lnTo>
                    <a:lnTo>
                      <a:pt x="301" y="499"/>
                    </a:lnTo>
                    <a:lnTo>
                      <a:pt x="300" y="526"/>
                    </a:lnTo>
                    <a:lnTo>
                      <a:pt x="301" y="558"/>
                    </a:lnTo>
                    <a:lnTo>
                      <a:pt x="305" y="588"/>
                    </a:lnTo>
                    <a:lnTo>
                      <a:pt x="307" y="601"/>
                    </a:lnTo>
                    <a:lnTo>
                      <a:pt x="310" y="615"/>
                    </a:lnTo>
                    <a:lnTo>
                      <a:pt x="313" y="628"/>
                    </a:lnTo>
                    <a:lnTo>
                      <a:pt x="317" y="641"/>
                    </a:lnTo>
                    <a:lnTo>
                      <a:pt x="322" y="653"/>
                    </a:lnTo>
                    <a:lnTo>
                      <a:pt x="327" y="665"/>
                    </a:lnTo>
                    <a:lnTo>
                      <a:pt x="332" y="676"/>
                    </a:lnTo>
                    <a:lnTo>
                      <a:pt x="338" y="686"/>
                    </a:lnTo>
                    <a:lnTo>
                      <a:pt x="344" y="697"/>
                    </a:lnTo>
                    <a:lnTo>
                      <a:pt x="351" y="707"/>
                    </a:lnTo>
                    <a:lnTo>
                      <a:pt x="359" y="715"/>
                    </a:lnTo>
                    <a:lnTo>
                      <a:pt x="367" y="725"/>
                    </a:lnTo>
                    <a:lnTo>
                      <a:pt x="383" y="740"/>
                    </a:lnTo>
                    <a:lnTo>
                      <a:pt x="401" y="752"/>
                    </a:lnTo>
                    <a:lnTo>
                      <a:pt x="419" y="763"/>
                    </a:lnTo>
                    <a:lnTo>
                      <a:pt x="440" y="772"/>
                    </a:lnTo>
                    <a:lnTo>
                      <a:pt x="461" y="779"/>
                    </a:lnTo>
                    <a:lnTo>
                      <a:pt x="484" y="784"/>
                    </a:lnTo>
                    <a:lnTo>
                      <a:pt x="508" y="788"/>
                    </a:lnTo>
                    <a:lnTo>
                      <a:pt x="533" y="788"/>
                    </a:lnTo>
                    <a:lnTo>
                      <a:pt x="560" y="788"/>
                    </a:lnTo>
                    <a:lnTo>
                      <a:pt x="584" y="785"/>
                    </a:lnTo>
                    <a:lnTo>
                      <a:pt x="595" y="783"/>
                    </a:lnTo>
                    <a:lnTo>
                      <a:pt x="605" y="780"/>
                    </a:lnTo>
                    <a:lnTo>
                      <a:pt x="613" y="778"/>
                    </a:lnTo>
                    <a:lnTo>
                      <a:pt x="621" y="774"/>
                    </a:lnTo>
                    <a:lnTo>
                      <a:pt x="637" y="767"/>
                    </a:lnTo>
                    <a:lnTo>
                      <a:pt x="653" y="755"/>
                    </a:lnTo>
                    <a:lnTo>
                      <a:pt x="670" y="740"/>
                    </a:lnTo>
                    <a:lnTo>
                      <a:pt x="687" y="723"/>
                    </a:lnTo>
                    <a:lnTo>
                      <a:pt x="697" y="714"/>
                    </a:lnTo>
                    <a:lnTo>
                      <a:pt x="720" y="687"/>
                    </a:lnTo>
                    <a:lnTo>
                      <a:pt x="729" y="677"/>
                    </a:lnTo>
                    <a:lnTo>
                      <a:pt x="738" y="671"/>
                    </a:lnTo>
                    <a:lnTo>
                      <a:pt x="745" y="666"/>
                    </a:lnTo>
                    <a:lnTo>
                      <a:pt x="752" y="663"/>
                    </a:lnTo>
                    <a:lnTo>
                      <a:pt x="762" y="661"/>
                    </a:lnTo>
                    <a:lnTo>
                      <a:pt x="776" y="660"/>
                    </a:lnTo>
                    <a:lnTo>
                      <a:pt x="795" y="660"/>
                    </a:lnTo>
                    <a:lnTo>
                      <a:pt x="819" y="659"/>
                    </a:lnTo>
                    <a:lnTo>
                      <a:pt x="837" y="659"/>
                    </a:lnTo>
                    <a:lnTo>
                      <a:pt x="837" y="928"/>
                    </a:lnTo>
                    <a:lnTo>
                      <a:pt x="786" y="946"/>
                    </a:lnTo>
                    <a:lnTo>
                      <a:pt x="755" y="955"/>
                    </a:lnTo>
                    <a:lnTo>
                      <a:pt x="724" y="962"/>
                    </a:lnTo>
                    <a:lnTo>
                      <a:pt x="694" y="968"/>
                    </a:lnTo>
                    <a:lnTo>
                      <a:pt x="665" y="973"/>
                    </a:lnTo>
                    <a:lnTo>
                      <a:pt x="637" y="978"/>
                    </a:lnTo>
                    <a:lnTo>
                      <a:pt x="608" y="981"/>
                    </a:lnTo>
                    <a:lnTo>
                      <a:pt x="581" y="982"/>
                    </a:lnTo>
                    <a:lnTo>
                      <a:pt x="554" y="983"/>
                    </a:lnTo>
                    <a:lnTo>
                      <a:pt x="521" y="982"/>
                    </a:lnTo>
                    <a:lnTo>
                      <a:pt x="489" y="979"/>
                    </a:lnTo>
                    <a:lnTo>
                      <a:pt x="458" y="976"/>
                    </a:lnTo>
                    <a:lnTo>
                      <a:pt x="429" y="970"/>
                    </a:lnTo>
                    <a:lnTo>
                      <a:pt x="385" y="960"/>
                    </a:lnTo>
                    <a:lnTo>
                      <a:pt x="341" y="949"/>
                    </a:lnTo>
                    <a:lnTo>
                      <a:pt x="322" y="941"/>
                    </a:lnTo>
                    <a:lnTo>
                      <a:pt x="302" y="935"/>
                    </a:lnTo>
                    <a:lnTo>
                      <a:pt x="282" y="927"/>
                    </a:lnTo>
                    <a:lnTo>
                      <a:pt x="265" y="919"/>
                    </a:lnTo>
                    <a:lnTo>
                      <a:pt x="247" y="911"/>
                    </a:lnTo>
                    <a:lnTo>
                      <a:pt x="230" y="902"/>
                    </a:lnTo>
                    <a:lnTo>
                      <a:pt x="214" y="892"/>
                    </a:lnTo>
                    <a:lnTo>
                      <a:pt x="199" y="882"/>
                    </a:lnTo>
                    <a:lnTo>
                      <a:pt x="183" y="873"/>
                    </a:lnTo>
                    <a:lnTo>
                      <a:pt x="169" y="862"/>
                    </a:lnTo>
                    <a:lnTo>
                      <a:pt x="156" y="850"/>
                    </a:lnTo>
                    <a:lnTo>
                      <a:pt x="142" y="839"/>
                    </a:lnTo>
                    <a:lnTo>
                      <a:pt x="130" y="827"/>
                    </a:lnTo>
                    <a:lnTo>
                      <a:pt x="118" y="815"/>
                    </a:lnTo>
                    <a:lnTo>
                      <a:pt x="107" y="801"/>
                    </a:lnTo>
                    <a:lnTo>
                      <a:pt x="97" y="788"/>
                    </a:lnTo>
                    <a:lnTo>
                      <a:pt x="86" y="773"/>
                    </a:lnTo>
                    <a:lnTo>
                      <a:pt x="76" y="758"/>
                    </a:lnTo>
                    <a:lnTo>
                      <a:pt x="67" y="742"/>
                    </a:lnTo>
                    <a:lnTo>
                      <a:pt x="59" y="726"/>
                    </a:lnTo>
                    <a:lnTo>
                      <a:pt x="50" y="711"/>
                    </a:lnTo>
                    <a:lnTo>
                      <a:pt x="43" y="693"/>
                    </a:lnTo>
                    <a:lnTo>
                      <a:pt x="35" y="675"/>
                    </a:lnTo>
                    <a:lnTo>
                      <a:pt x="29" y="656"/>
                    </a:lnTo>
                    <a:lnTo>
                      <a:pt x="23" y="638"/>
                    </a:lnTo>
                    <a:lnTo>
                      <a:pt x="18" y="618"/>
                    </a:lnTo>
                    <a:lnTo>
                      <a:pt x="13" y="599"/>
                    </a:lnTo>
                    <a:lnTo>
                      <a:pt x="8" y="578"/>
                    </a:lnTo>
                    <a:lnTo>
                      <a:pt x="6" y="556"/>
                    </a:lnTo>
                    <a:lnTo>
                      <a:pt x="3" y="537"/>
                    </a:lnTo>
                    <a:lnTo>
                      <a:pt x="1" y="523"/>
                    </a:lnTo>
                    <a:lnTo>
                      <a:pt x="1" y="512"/>
                    </a:lnTo>
                    <a:lnTo>
                      <a:pt x="0" y="494"/>
                    </a:lnTo>
                    <a:lnTo>
                      <a:pt x="0" y="481"/>
                    </a:lnTo>
                    <a:lnTo>
                      <a:pt x="1" y="450"/>
                    </a:lnTo>
                    <a:lnTo>
                      <a:pt x="3" y="419"/>
                    </a:lnTo>
                    <a:lnTo>
                      <a:pt x="8" y="388"/>
                    </a:lnTo>
                    <a:lnTo>
                      <a:pt x="16" y="356"/>
                    </a:lnTo>
                    <a:lnTo>
                      <a:pt x="22" y="337"/>
                    </a:lnTo>
                    <a:lnTo>
                      <a:pt x="28" y="320"/>
                    </a:lnTo>
                    <a:lnTo>
                      <a:pt x="34" y="302"/>
                    </a:lnTo>
                    <a:lnTo>
                      <a:pt x="41" y="284"/>
                    </a:lnTo>
                    <a:lnTo>
                      <a:pt x="49" y="268"/>
                    </a:lnTo>
                    <a:lnTo>
                      <a:pt x="57" y="251"/>
                    </a:lnTo>
                    <a:lnTo>
                      <a:pt x="66" y="235"/>
                    </a:lnTo>
                    <a:lnTo>
                      <a:pt x="75" y="221"/>
                    </a:lnTo>
                    <a:lnTo>
                      <a:pt x="84" y="206"/>
                    </a:lnTo>
                    <a:lnTo>
                      <a:pt x="94" y="191"/>
                    </a:lnTo>
                    <a:lnTo>
                      <a:pt x="105" y="176"/>
                    </a:lnTo>
                    <a:lnTo>
                      <a:pt x="116" y="163"/>
                    </a:lnTo>
                    <a:lnTo>
                      <a:pt x="129" y="149"/>
                    </a:lnTo>
                    <a:lnTo>
                      <a:pt x="141" y="137"/>
                    </a:lnTo>
                    <a:lnTo>
                      <a:pt x="153" y="125"/>
                    </a:lnTo>
                    <a:lnTo>
                      <a:pt x="167" y="113"/>
                    </a:lnTo>
                    <a:lnTo>
                      <a:pt x="180" y="100"/>
                    </a:lnTo>
                    <a:lnTo>
                      <a:pt x="195" y="90"/>
                    </a:lnTo>
                    <a:lnTo>
                      <a:pt x="210" y="79"/>
                    </a:lnTo>
                    <a:lnTo>
                      <a:pt x="225" y="70"/>
                    </a:lnTo>
                    <a:lnTo>
                      <a:pt x="239" y="61"/>
                    </a:lnTo>
                    <a:lnTo>
                      <a:pt x="255" y="52"/>
                    </a:lnTo>
                    <a:lnTo>
                      <a:pt x="270" y="45"/>
                    </a:lnTo>
                    <a:lnTo>
                      <a:pt x="286" y="38"/>
                    </a:lnTo>
                    <a:lnTo>
                      <a:pt x="303" y="31"/>
                    </a:lnTo>
                    <a:lnTo>
                      <a:pt x="319" y="25"/>
                    </a:lnTo>
                    <a:lnTo>
                      <a:pt x="337" y="20"/>
                    </a:lnTo>
                    <a:lnTo>
                      <a:pt x="354" y="16"/>
                    </a:lnTo>
                    <a:lnTo>
                      <a:pt x="372" y="12"/>
                    </a:lnTo>
                    <a:lnTo>
                      <a:pt x="391" y="8"/>
                    </a:lnTo>
                    <a:lnTo>
                      <a:pt x="409" y="6"/>
                    </a:lnTo>
                    <a:lnTo>
                      <a:pt x="428" y="3"/>
                    </a:lnTo>
                    <a:lnTo>
                      <a:pt x="441" y="2"/>
                    </a:lnTo>
                    <a:lnTo>
                      <a:pt x="456" y="1"/>
                    </a:lnTo>
                    <a:lnTo>
                      <a:pt x="471" y="0"/>
                    </a:lnTo>
                    <a:lnTo>
                      <a:pt x="488" y="0"/>
                    </a:lnTo>
                    <a:lnTo>
                      <a:pt x="516" y="1"/>
                    </a:lnTo>
                    <a:lnTo>
                      <a:pt x="544" y="3"/>
                    </a:lnTo>
                    <a:lnTo>
                      <a:pt x="571" y="7"/>
                    </a:lnTo>
                    <a:lnTo>
                      <a:pt x="599" y="12"/>
                    </a:lnTo>
                    <a:lnTo>
                      <a:pt x="626" y="19"/>
                    </a:lnTo>
                    <a:lnTo>
                      <a:pt x="651" y="28"/>
                    </a:lnTo>
                    <a:lnTo>
                      <a:pt x="676" y="38"/>
                    </a:lnTo>
                    <a:lnTo>
                      <a:pt x="702" y="50"/>
                    </a:lnTo>
                    <a:lnTo>
                      <a:pt x="725" y="62"/>
                    </a:lnTo>
                    <a:lnTo>
                      <a:pt x="747" y="77"/>
                    </a:lnTo>
                    <a:lnTo>
                      <a:pt x="768" y="93"/>
                    </a:lnTo>
                    <a:lnTo>
                      <a:pt x="789" y="109"/>
                    </a:lnTo>
                    <a:lnTo>
                      <a:pt x="808" y="127"/>
                    </a:lnTo>
                    <a:lnTo>
                      <a:pt x="825" y="146"/>
                    </a:lnTo>
                    <a:lnTo>
                      <a:pt x="842" y="165"/>
                    </a:lnTo>
                    <a:lnTo>
                      <a:pt x="857" y="187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47640" y="340560"/>
                <a:ext cx="29160" cy="106560"/>
              </a:xfrm>
              <a:custGeom>
                <a:avLst/>
                <a:gdLst/>
                <a:ahLst/>
                <a:rect l="l" t="t" r="r" b="b"/>
                <a:pathLst>
                  <a:path w="480" h="1398">
                    <a:moveTo>
                      <a:pt x="0" y="1398"/>
                    </a:moveTo>
                    <a:lnTo>
                      <a:pt x="0" y="1336"/>
                    </a:lnTo>
                    <a:lnTo>
                      <a:pt x="0" y="1328"/>
                    </a:lnTo>
                    <a:lnTo>
                      <a:pt x="4" y="1319"/>
                    </a:lnTo>
                    <a:lnTo>
                      <a:pt x="10" y="1312"/>
                    </a:lnTo>
                    <a:lnTo>
                      <a:pt x="17" y="1306"/>
                    </a:lnTo>
                    <a:lnTo>
                      <a:pt x="22" y="1302"/>
                    </a:lnTo>
                    <a:lnTo>
                      <a:pt x="45" y="1291"/>
                    </a:lnTo>
                    <a:lnTo>
                      <a:pt x="58" y="1285"/>
                    </a:lnTo>
                    <a:lnTo>
                      <a:pt x="63" y="1282"/>
                    </a:lnTo>
                    <a:lnTo>
                      <a:pt x="67" y="1280"/>
                    </a:lnTo>
                    <a:lnTo>
                      <a:pt x="71" y="1275"/>
                    </a:lnTo>
                    <a:lnTo>
                      <a:pt x="74" y="1270"/>
                    </a:lnTo>
                    <a:lnTo>
                      <a:pt x="76" y="1265"/>
                    </a:lnTo>
                    <a:lnTo>
                      <a:pt x="79" y="1258"/>
                    </a:lnTo>
                    <a:lnTo>
                      <a:pt x="79" y="1250"/>
                    </a:lnTo>
                    <a:lnTo>
                      <a:pt x="80" y="1242"/>
                    </a:lnTo>
                    <a:lnTo>
                      <a:pt x="80" y="1228"/>
                    </a:lnTo>
                    <a:lnTo>
                      <a:pt x="80" y="649"/>
                    </a:lnTo>
                    <a:lnTo>
                      <a:pt x="80" y="636"/>
                    </a:lnTo>
                    <a:lnTo>
                      <a:pt x="80" y="609"/>
                    </a:lnTo>
                    <a:lnTo>
                      <a:pt x="58" y="577"/>
                    </a:lnTo>
                    <a:lnTo>
                      <a:pt x="45" y="575"/>
                    </a:lnTo>
                    <a:lnTo>
                      <a:pt x="33" y="568"/>
                    </a:lnTo>
                    <a:lnTo>
                      <a:pt x="26" y="563"/>
                    </a:lnTo>
                    <a:lnTo>
                      <a:pt x="18" y="559"/>
                    </a:lnTo>
                    <a:lnTo>
                      <a:pt x="12" y="554"/>
                    </a:lnTo>
                    <a:lnTo>
                      <a:pt x="7" y="549"/>
                    </a:lnTo>
                    <a:lnTo>
                      <a:pt x="4" y="544"/>
                    </a:lnTo>
                    <a:lnTo>
                      <a:pt x="1" y="539"/>
                    </a:lnTo>
                    <a:lnTo>
                      <a:pt x="0" y="534"/>
                    </a:lnTo>
                    <a:lnTo>
                      <a:pt x="0" y="528"/>
                    </a:lnTo>
                    <a:lnTo>
                      <a:pt x="0" y="469"/>
                    </a:lnTo>
                    <a:lnTo>
                      <a:pt x="400" y="469"/>
                    </a:lnTo>
                    <a:lnTo>
                      <a:pt x="400" y="1256"/>
                    </a:lnTo>
                    <a:lnTo>
                      <a:pt x="400" y="1263"/>
                    </a:lnTo>
                    <a:lnTo>
                      <a:pt x="401" y="1268"/>
                    </a:lnTo>
                    <a:lnTo>
                      <a:pt x="402" y="1272"/>
                    </a:lnTo>
                    <a:lnTo>
                      <a:pt x="404" y="1277"/>
                    </a:lnTo>
                    <a:lnTo>
                      <a:pt x="406" y="1280"/>
                    </a:lnTo>
                    <a:lnTo>
                      <a:pt x="409" y="1282"/>
                    </a:lnTo>
                    <a:lnTo>
                      <a:pt x="412" y="1285"/>
                    </a:lnTo>
                    <a:lnTo>
                      <a:pt x="416" y="1285"/>
                    </a:lnTo>
                    <a:lnTo>
                      <a:pt x="443" y="1291"/>
                    </a:lnTo>
                    <a:lnTo>
                      <a:pt x="456" y="1295"/>
                    </a:lnTo>
                    <a:lnTo>
                      <a:pt x="461" y="1298"/>
                    </a:lnTo>
                    <a:lnTo>
                      <a:pt x="466" y="1302"/>
                    </a:lnTo>
                    <a:lnTo>
                      <a:pt x="471" y="1307"/>
                    </a:lnTo>
                    <a:lnTo>
                      <a:pt x="473" y="1312"/>
                    </a:lnTo>
                    <a:lnTo>
                      <a:pt x="476" y="1317"/>
                    </a:lnTo>
                    <a:lnTo>
                      <a:pt x="478" y="1322"/>
                    </a:lnTo>
                    <a:lnTo>
                      <a:pt x="480" y="1328"/>
                    </a:lnTo>
                    <a:lnTo>
                      <a:pt x="480" y="1334"/>
                    </a:lnTo>
                    <a:lnTo>
                      <a:pt x="480" y="1398"/>
                    </a:lnTo>
                    <a:lnTo>
                      <a:pt x="0" y="1398"/>
                    </a:lnTo>
                    <a:close/>
                    <a:moveTo>
                      <a:pt x="45" y="186"/>
                    </a:moveTo>
                    <a:lnTo>
                      <a:pt x="45" y="167"/>
                    </a:lnTo>
                    <a:lnTo>
                      <a:pt x="48" y="149"/>
                    </a:lnTo>
                    <a:lnTo>
                      <a:pt x="53" y="132"/>
                    </a:lnTo>
                    <a:lnTo>
                      <a:pt x="58" y="115"/>
                    </a:lnTo>
                    <a:lnTo>
                      <a:pt x="65" y="99"/>
                    </a:lnTo>
                    <a:lnTo>
                      <a:pt x="75" y="84"/>
                    </a:lnTo>
                    <a:lnTo>
                      <a:pt x="85" y="69"/>
                    </a:lnTo>
                    <a:lnTo>
                      <a:pt x="97" y="54"/>
                    </a:lnTo>
                    <a:lnTo>
                      <a:pt x="112" y="42"/>
                    </a:lnTo>
                    <a:lnTo>
                      <a:pt x="125" y="31"/>
                    </a:lnTo>
                    <a:lnTo>
                      <a:pt x="141" y="21"/>
                    </a:lnTo>
                    <a:lnTo>
                      <a:pt x="157" y="14"/>
                    </a:lnTo>
                    <a:lnTo>
                      <a:pt x="173" y="8"/>
                    </a:lnTo>
                    <a:lnTo>
                      <a:pt x="192" y="4"/>
                    </a:lnTo>
                    <a:lnTo>
                      <a:pt x="209" y="0"/>
                    </a:lnTo>
                    <a:lnTo>
                      <a:pt x="229" y="0"/>
                    </a:lnTo>
                    <a:lnTo>
                      <a:pt x="247" y="0"/>
                    </a:lnTo>
                    <a:lnTo>
                      <a:pt x="264" y="4"/>
                    </a:lnTo>
                    <a:lnTo>
                      <a:pt x="281" y="8"/>
                    </a:lnTo>
                    <a:lnTo>
                      <a:pt x="299" y="14"/>
                    </a:lnTo>
                    <a:lnTo>
                      <a:pt x="315" y="21"/>
                    </a:lnTo>
                    <a:lnTo>
                      <a:pt x="331" y="31"/>
                    </a:lnTo>
                    <a:lnTo>
                      <a:pt x="345" y="42"/>
                    </a:lnTo>
                    <a:lnTo>
                      <a:pt x="360" y="54"/>
                    </a:lnTo>
                    <a:lnTo>
                      <a:pt x="373" y="69"/>
                    </a:lnTo>
                    <a:lnTo>
                      <a:pt x="385" y="84"/>
                    </a:lnTo>
                    <a:lnTo>
                      <a:pt x="395" y="99"/>
                    </a:lnTo>
                    <a:lnTo>
                      <a:pt x="402" y="115"/>
                    </a:lnTo>
                    <a:lnTo>
                      <a:pt x="408" y="132"/>
                    </a:lnTo>
                    <a:lnTo>
                      <a:pt x="413" y="150"/>
                    </a:lnTo>
                    <a:lnTo>
                      <a:pt x="416" y="169"/>
                    </a:lnTo>
                    <a:lnTo>
                      <a:pt x="416" y="187"/>
                    </a:lnTo>
                    <a:lnTo>
                      <a:pt x="416" y="205"/>
                    </a:lnTo>
                    <a:lnTo>
                      <a:pt x="413" y="224"/>
                    </a:lnTo>
                    <a:lnTo>
                      <a:pt x="408" y="241"/>
                    </a:lnTo>
                    <a:lnTo>
                      <a:pt x="403" y="257"/>
                    </a:lnTo>
                    <a:lnTo>
                      <a:pt x="396" y="273"/>
                    </a:lnTo>
                    <a:lnTo>
                      <a:pt x="386" y="288"/>
                    </a:lnTo>
                    <a:lnTo>
                      <a:pt x="376" y="302"/>
                    </a:lnTo>
                    <a:lnTo>
                      <a:pt x="364" y="316"/>
                    </a:lnTo>
                    <a:lnTo>
                      <a:pt x="349" y="329"/>
                    </a:lnTo>
                    <a:lnTo>
                      <a:pt x="336" y="340"/>
                    </a:lnTo>
                    <a:lnTo>
                      <a:pt x="320" y="349"/>
                    </a:lnTo>
                    <a:lnTo>
                      <a:pt x="304" y="358"/>
                    </a:lnTo>
                    <a:lnTo>
                      <a:pt x="288" y="364"/>
                    </a:lnTo>
                    <a:lnTo>
                      <a:pt x="270" y="367"/>
                    </a:lnTo>
                    <a:lnTo>
                      <a:pt x="252" y="370"/>
                    </a:lnTo>
                    <a:lnTo>
                      <a:pt x="232" y="371"/>
                    </a:lnTo>
                    <a:lnTo>
                      <a:pt x="213" y="370"/>
                    </a:lnTo>
                    <a:lnTo>
                      <a:pt x="194" y="367"/>
                    </a:lnTo>
                    <a:lnTo>
                      <a:pt x="177" y="364"/>
                    </a:lnTo>
                    <a:lnTo>
                      <a:pt x="160" y="358"/>
                    </a:lnTo>
                    <a:lnTo>
                      <a:pt x="144" y="350"/>
                    </a:lnTo>
                    <a:lnTo>
                      <a:pt x="128" y="342"/>
                    </a:lnTo>
                    <a:lnTo>
                      <a:pt x="113" y="331"/>
                    </a:lnTo>
                    <a:lnTo>
                      <a:pt x="99" y="318"/>
                    </a:lnTo>
                    <a:lnTo>
                      <a:pt x="87" y="305"/>
                    </a:lnTo>
                    <a:lnTo>
                      <a:pt x="76" y="290"/>
                    </a:lnTo>
                    <a:lnTo>
                      <a:pt x="66" y="275"/>
                    </a:lnTo>
                    <a:lnTo>
                      <a:pt x="59" y="258"/>
                    </a:lnTo>
                    <a:lnTo>
                      <a:pt x="53" y="242"/>
                    </a:lnTo>
                    <a:lnTo>
                      <a:pt x="48" y="224"/>
                    </a:lnTo>
                    <a:lnTo>
                      <a:pt x="45" y="205"/>
                    </a:lnTo>
                    <a:lnTo>
                      <a:pt x="45" y="186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780760" y="344520"/>
                <a:ext cx="64440" cy="105120"/>
              </a:xfrm>
              <a:custGeom>
                <a:avLst/>
                <a:gdLst/>
                <a:ahLst/>
                <a:rect l="l" t="t" r="r" b="b"/>
                <a:pathLst>
                  <a:path w="1043" h="1382">
                    <a:moveTo>
                      <a:pt x="0" y="874"/>
                    </a:moveTo>
                    <a:lnTo>
                      <a:pt x="0" y="849"/>
                    </a:lnTo>
                    <a:lnTo>
                      <a:pt x="1" y="823"/>
                    </a:lnTo>
                    <a:lnTo>
                      <a:pt x="4" y="799"/>
                    </a:lnTo>
                    <a:lnTo>
                      <a:pt x="6" y="775"/>
                    </a:lnTo>
                    <a:lnTo>
                      <a:pt x="11" y="752"/>
                    </a:lnTo>
                    <a:lnTo>
                      <a:pt x="16" y="730"/>
                    </a:lnTo>
                    <a:lnTo>
                      <a:pt x="22" y="707"/>
                    </a:lnTo>
                    <a:lnTo>
                      <a:pt x="28" y="687"/>
                    </a:lnTo>
                    <a:lnTo>
                      <a:pt x="36" y="666"/>
                    </a:lnTo>
                    <a:lnTo>
                      <a:pt x="44" y="645"/>
                    </a:lnTo>
                    <a:lnTo>
                      <a:pt x="54" y="625"/>
                    </a:lnTo>
                    <a:lnTo>
                      <a:pt x="64" y="607"/>
                    </a:lnTo>
                    <a:lnTo>
                      <a:pt x="76" y="588"/>
                    </a:lnTo>
                    <a:lnTo>
                      <a:pt x="89" y="571"/>
                    </a:lnTo>
                    <a:lnTo>
                      <a:pt x="101" y="554"/>
                    </a:lnTo>
                    <a:lnTo>
                      <a:pt x="116" y="537"/>
                    </a:lnTo>
                    <a:lnTo>
                      <a:pt x="130" y="521"/>
                    </a:lnTo>
                    <a:lnTo>
                      <a:pt x="145" y="506"/>
                    </a:lnTo>
                    <a:lnTo>
                      <a:pt x="161" y="491"/>
                    </a:lnTo>
                    <a:lnTo>
                      <a:pt x="178" y="478"/>
                    </a:lnTo>
                    <a:lnTo>
                      <a:pt x="197" y="466"/>
                    </a:lnTo>
                    <a:lnTo>
                      <a:pt x="215" y="454"/>
                    </a:lnTo>
                    <a:lnTo>
                      <a:pt x="234" y="443"/>
                    </a:lnTo>
                    <a:lnTo>
                      <a:pt x="253" y="432"/>
                    </a:lnTo>
                    <a:lnTo>
                      <a:pt x="274" y="424"/>
                    </a:lnTo>
                    <a:lnTo>
                      <a:pt x="295" y="414"/>
                    </a:lnTo>
                    <a:lnTo>
                      <a:pt x="317" y="407"/>
                    </a:lnTo>
                    <a:lnTo>
                      <a:pt x="341" y="399"/>
                    </a:lnTo>
                    <a:lnTo>
                      <a:pt x="364" y="393"/>
                    </a:lnTo>
                    <a:lnTo>
                      <a:pt x="387" y="388"/>
                    </a:lnTo>
                    <a:lnTo>
                      <a:pt x="412" y="383"/>
                    </a:lnTo>
                    <a:lnTo>
                      <a:pt x="438" y="380"/>
                    </a:lnTo>
                    <a:lnTo>
                      <a:pt x="459" y="377"/>
                    </a:lnTo>
                    <a:lnTo>
                      <a:pt x="480" y="376"/>
                    </a:lnTo>
                    <a:lnTo>
                      <a:pt x="501" y="375"/>
                    </a:lnTo>
                    <a:lnTo>
                      <a:pt x="521" y="375"/>
                    </a:lnTo>
                    <a:lnTo>
                      <a:pt x="542" y="375"/>
                    </a:lnTo>
                    <a:lnTo>
                      <a:pt x="562" y="376"/>
                    </a:lnTo>
                    <a:lnTo>
                      <a:pt x="583" y="377"/>
                    </a:lnTo>
                    <a:lnTo>
                      <a:pt x="604" y="380"/>
                    </a:lnTo>
                    <a:lnTo>
                      <a:pt x="630" y="383"/>
                    </a:lnTo>
                    <a:lnTo>
                      <a:pt x="654" y="388"/>
                    </a:lnTo>
                    <a:lnTo>
                      <a:pt x="678" y="393"/>
                    </a:lnTo>
                    <a:lnTo>
                      <a:pt x="701" y="399"/>
                    </a:lnTo>
                    <a:lnTo>
                      <a:pt x="723" y="407"/>
                    </a:lnTo>
                    <a:lnTo>
                      <a:pt x="745" y="414"/>
                    </a:lnTo>
                    <a:lnTo>
                      <a:pt x="766" y="423"/>
                    </a:lnTo>
                    <a:lnTo>
                      <a:pt x="787" y="432"/>
                    </a:lnTo>
                    <a:lnTo>
                      <a:pt x="807" y="442"/>
                    </a:lnTo>
                    <a:lnTo>
                      <a:pt x="827" y="453"/>
                    </a:lnTo>
                    <a:lnTo>
                      <a:pt x="845" y="466"/>
                    </a:lnTo>
                    <a:lnTo>
                      <a:pt x="862" y="478"/>
                    </a:lnTo>
                    <a:lnTo>
                      <a:pt x="879" y="491"/>
                    </a:lnTo>
                    <a:lnTo>
                      <a:pt x="895" y="505"/>
                    </a:lnTo>
                    <a:lnTo>
                      <a:pt x="911" y="521"/>
                    </a:lnTo>
                    <a:lnTo>
                      <a:pt x="926" y="536"/>
                    </a:lnTo>
                    <a:lnTo>
                      <a:pt x="940" y="553"/>
                    </a:lnTo>
                    <a:lnTo>
                      <a:pt x="953" y="570"/>
                    </a:lnTo>
                    <a:lnTo>
                      <a:pt x="965" y="587"/>
                    </a:lnTo>
                    <a:lnTo>
                      <a:pt x="977" y="605"/>
                    </a:lnTo>
                    <a:lnTo>
                      <a:pt x="988" y="624"/>
                    </a:lnTo>
                    <a:lnTo>
                      <a:pt x="997" y="644"/>
                    </a:lnTo>
                    <a:lnTo>
                      <a:pt x="1006" y="664"/>
                    </a:lnTo>
                    <a:lnTo>
                      <a:pt x="1013" y="684"/>
                    </a:lnTo>
                    <a:lnTo>
                      <a:pt x="1020" y="706"/>
                    </a:lnTo>
                    <a:lnTo>
                      <a:pt x="1026" y="728"/>
                    </a:lnTo>
                    <a:lnTo>
                      <a:pt x="1031" y="750"/>
                    </a:lnTo>
                    <a:lnTo>
                      <a:pt x="1036" y="774"/>
                    </a:lnTo>
                    <a:lnTo>
                      <a:pt x="1038" y="797"/>
                    </a:lnTo>
                    <a:lnTo>
                      <a:pt x="1041" y="822"/>
                    </a:lnTo>
                    <a:lnTo>
                      <a:pt x="1042" y="846"/>
                    </a:lnTo>
                    <a:lnTo>
                      <a:pt x="1043" y="872"/>
                    </a:lnTo>
                    <a:lnTo>
                      <a:pt x="1042" y="899"/>
                    </a:lnTo>
                    <a:lnTo>
                      <a:pt x="1041" y="924"/>
                    </a:lnTo>
                    <a:lnTo>
                      <a:pt x="1038" y="949"/>
                    </a:lnTo>
                    <a:lnTo>
                      <a:pt x="1036" y="974"/>
                    </a:lnTo>
                    <a:lnTo>
                      <a:pt x="1032" y="997"/>
                    </a:lnTo>
                    <a:lnTo>
                      <a:pt x="1027" y="1021"/>
                    </a:lnTo>
                    <a:lnTo>
                      <a:pt x="1021" y="1043"/>
                    </a:lnTo>
                    <a:lnTo>
                      <a:pt x="1013" y="1065"/>
                    </a:lnTo>
                    <a:lnTo>
                      <a:pt x="1006" y="1086"/>
                    </a:lnTo>
                    <a:lnTo>
                      <a:pt x="997" y="1106"/>
                    </a:lnTo>
                    <a:lnTo>
                      <a:pt x="989" y="1126"/>
                    </a:lnTo>
                    <a:lnTo>
                      <a:pt x="979" y="1146"/>
                    </a:lnTo>
                    <a:lnTo>
                      <a:pt x="968" y="1164"/>
                    </a:lnTo>
                    <a:lnTo>
                      <a:pt x="956" y="1183"/>
                    </a:lnTo>
                    <a:lnTo>
                      <a:pt x="942" y="1200"/>
                    </a:lnTo>
                    <a:lnTo>
                      <a:pt x="929" y="1217"/>
                    </a:lnTo>
                    <a:lnTo>
                      <a:pt x="914" y="1233"/>
                    </a:lnTo>
                    <a:lnTo>
                      <a:pt x="899" y="1248"/>
                    </a:lnTo>
                    <a:lnTo>
                      <a:pt x="883" y="1262"/>
                    </a:lnTo>
                    <a:lnTo>
                      <a:pt x="866" y="1276"/>
                    </a:lnTo>
                    <a:lnTo>
                      <a:pt x="849" y="1288"/>
                    </a:lnTo>
                    <a:lnTo>
                      <a:pt x="830" y="1300"/>
                    </a:lnTo>
                    <a:lnTo>
                      <a:pt x="811" y="1312"/>
                    </a:lnTo>
                    <a:lnTo>
                      <a:pt x="791" y="1323"/>
                    </a:lnTo>
                    <a:lnTo>
                      <a:pt x="770" y="1331"/>
                    </a:lnTo>
                    <a:lnTo>
                      <a:pt x="749" y="1341"/>
                    </a:lnTo>
                    <a:lnTo>
                      <a:pt x="726" y="1348"/>
                    </a:lnTo>
                    <a:lnTo>
                      <a:pt x="704" y="1356"/>
                    </a:lnTo>
                    <a:lnTo>
                      <a:pt x="679" y="1362"/>
                    </a:lnTo>
                    <a:lnTo>
                      <a:pt x="656" y="1367"/>
                    </a:lnTo>
                    <a:lnTo>
                      <a:pt x="630" y="1372"/>
                    </a:lnTo>
                    <a:lnTo>
                      <a:pt x="604" y="1375"/>
                    </a:lnTo>
                    <a:lnTo>
                      <a:pt x="583" y="1378"/>
                    </a:lnTo>
                    <a:lnTo>
                      <a:pt x="562" y="1379"/>
                    </a:lnTo>
                    <a:lnTo>
                      <a:pt x="542" y="1380"/>
                    </a:lnTo>
                    <a:lnTo>
                      <a:pt x="521" y="1382"/>
                    </a:lnTo>
                    <a:lnTo>
                      <a:pt x="501" y="1380"/>
                    </a:lnTo>
                    <a:lnTo>
                      <a:pt x="480" y="1379"/>
                    </a:lnTo>
                    <a:lnTo>
                      <a:pt x="459" y="1378"/>
                    </a:lnTo>
                    <a:lnTo>
                      <a:pt x="438" y="1375"/>
                    </a:lnTo>
                    <a:lnTo>
                      <a:pt x="412" y="1372"/>
                    </a:lnTo>
                    <a:lnTo>
                      <a:pt x="387" y="1367"/>
                    </a:lnTo>
                    <a:lnTo>
                      <a:pt x="363" y="1362"/>
                    </a:lnTo>
                    <a:lnTo>
                      <a:pt x="339" y="1356"/>
                    </a:lnTo>
                    <a:lnTo>
                      <a:pt x="316" y="1348"/>
                    </a:lnTo>
                    <a:lnTo>
                      <a:pt x="294" y="1341"/>
                    </a:lnTo>
                    <a:lnTo>
                      <a:pt x="273" y="1332"/>
                    </a:lnTo>
                    <a:lnTo>
                      <a:pt x="252" y="1323"/>
                    </a:lnTo>
                    <a:lnTo>
                      <a:pt x="232" y="1313"/>
                    </a:lnTo>
                    <a:lnTo>
                      <a:pt x="214" y="1300"/>
                    </a:lnTo>
                    <a:lnTo>
                      <a:pt x="196" y="1289"/>
                    </a:lnTo>
                    <a:lnTo>
                      <a:pt x="177" y="1276"/>
                    </a:lnTo>
                    <a:lnTo>
                      <a:pt x="160" y="1262"/>
                    </a:lnTo>
                    <a:lnTo>
                      <a:pt x="144" y="1249"/>
                    </a:lnTo>
                    <a:lnTo>
                      <a:pt x="129" y="1233"/>
                    </a:lnTo>
                    <a:lnTo>
                      <a:pt x="114" y="1217"/>
                    </a:lnTo>
                    <a:lnTo>
                      <a:pt x="100" y="1201"/>
                    </a:lnTo>
                    <a:lnTo>
                      <a:pt x="87" y="1184"/>
                    </a:lnTo>
                    <a:lnTo>
                      <a:pt x="75" y="1165"/>
                    </a:lnTo>
                    <a:lnTo>
                      <a:pt x="64" y="1147"/>
                    </a:lnTo>
                    <a:lnTo>
                      <a:pt x="54" y="1127"/>
                    </a:lnTo>
                    <a:lnTo>
                      <a:pt x="44" y="1108"/>
                    </a:lnTo>
                    <a:lnTo>
                      <a:pt x="36" y="1087"/>
                    </a:lnTo>
                    <a:lnTo>
                      <a:pt x="28" y="1066"/>
                    </a:lnTo>
                    <a:lnTo>
                      <a:pt x="21" y="1044"/>
                    </a:lnTo>
                    <a:lnTo>
                      <a:pt x="16" y="1022"/>
                    </a:lnTo>
                    <a:lnTo>
                      <a:pt x="11" y="998"/>
                    </a:lnTo>
                    <a:lnTo>
                      <a:pt x="6" y="975"/>
                    </a:lnTo>
                    <a:lnTo>
                      <a:pt x="4" y="951"/>
                    </a:lnTo>
                    <a:lnTo>
                      <a:pt x="1" y="926"/>
                    </a:lnTo>
                    <a:lnTo>
                      <a:pt x="0" y="900"/>
                    </a:lnTo>
                    <a:lnTo>
                      <a:pt x="0" y="874"/>
                    </a:lnTo>
                    <a:close/>
                    <a:moveTo>
                      <a:pt x="391" y="334"/>
                    </a:moveTo>
                    <a:lnTo>
                      <a:pt x="555" y="0"/>
                    </a:lnTo>
                    <a:lnTo>
                      <a:pt x="881" y="0"/>
                    </a:lnTo>
                    <a:lnTo>
                      <a:pt x="544" y="334"/>
                    </a:lnTo>
                    <a:lnTo>
                      <a:pt x="391" y="334"/>
                    </a:lnTo>
                    <a:close/>
                    <a:moveTo>
                      <a:pt x="521" y="1203"/>
                    </a:moveTo>
                    <a:lnTo>
                      <a:pt x="535" y="1202"/>
                    </a:lnTo>
                    <a:lnTo>
                      <a:pt x="547" y="1202"/>
                    </a:lnTo>
                    <a:lnTo>
                      <a:pt x="560" y="1200"/>
                    </a:lnTo>
                    <a:lnTo>
                      <a:pt x="572" y="1199"/>
                    </a:lnTo>
                    <a:lnTo>
                      <a:pt x="583" y="1195"/>
                    </a:lnTo>
                    <a:lnTo>
                      <a:pt x="594" y="1192"/>
                    </a:lnTo>
                    <a:lnTo>
                      <a:pt x="604" y="1188"/>
                    </a:lnTo>
                    <a:lnTo>
                      <a:pt x="615" y="1184"/>
                    </a:lnTo>
                    <a:lnTo>
                      <a:pt x="625" y="1178"/>
                    </a:lnTo>
                    <a:lnTo>
                      <a:pt x="633" y="1173"/>
                    </a:lnTo>
                    <a:lnTo>
                      <a:pt x="642" y="1165"/>
                    </a:lnTo>
                    <a:lnTo>
                      <a:pt x="651" y="1159"/>
                    </a:lnTo>
                    <a:lnTo>
                      <a:pt x="659" y="1152"/>
                    </a:lnTo>
                    <a:lnTo>
                      <a:pt x="667" y="1143"/>
                    </a:lnTo>
                    <a:lnTo>
                      <a:pt x="674" y="1135"/>
                    </a:lnTo>
                    <a:lnTo>
                      <a:pt x="681" y="1125"/>
                    </a:lnTo>
                    <a:lnTo>
                      <a:pt x="688" y="1115"/>
                    </a:lnTo>
                    <a:lnTo>
                      <a:pt x="694" y="1104"/>
                    </a:lnTo>
                    <a:lnTo>
                      <a:pt x="700" y="1092"/>
                    </a:lnTo>
                    <a:lnTo>
                      <a:pt x="705" y="1079"/>
                    </a:lnTo>
                    <a:lnTo>
                      <a:pt x="713" y="1052"/>
                    </a:lnTo>
                    <a:lnTo>
                      <a:pt x="722" y="1023"/>
                    </a:lnTo>
                    <a:lnTo>
                      <a:pt x="727" y="990"/>
                    </a:lnTo>
                    <a:lnTo>
                      <a:pt x="732" y="954"/>
                    </a:lnTo>
                    <a:lnTo>
                      <a:pt x="734" y="916"/>
                    </a:lnTo>
                    <a:lnTo>
                      <a:pt x="735" y="874"/>
                    </a:lnTo>
                    <a:lnTo>
                      <a:pt x="734" y="834"/>
                    </a:lnTo>
                    <a:lnTo>
                      <a:pt x="732" y="796"/>
                    </a:lnTo>
                    <a:lnTo>
                      <a:pt x="727" y="761"/>
                    </a:lnTo>
                    <a:lnTo>
                      <a:pt x="722" y="730"/>
                    </a:lnTo>
                    <a:lnTo>
                      <a:pt x="713" y="700"/>
                    </a:lnTo>
                    <a:lnTo>
                      <a:pt x="705" y="674"/>
                    </a:lnTo>
                    <a:lnTo>
                      <a:pt x="700" y="662"/>
                    </a:lnTo>
                    <a:lnTo>
                      <a:pt x="694" y="650"/>
                    </a:lnTo>
                    <a:lnTo>
                      <a:pt x="688" y="640"/>
                    </a:lnTo>
                    <a:lnTo>
                      <a:pt x="681" y="630"/>
                    </a:lnTo>
                    <a:lnTo>
                      <a:pt x="674" y="620"/>
                    </a:lnTo>
                    <a:lnTo>
                      <a:pt x="667" y="612"/>
                    </a:lnTo>
                    <a:lnTo>
                      <a:pt x="659" y="603"/>
                    </a:lnTo>
                    <a:lnTo>
                      <a:pt x="651" y="596"/>
                    </a:lnTo>
                    <a:lnTo>
                      <a:pt x="642" y="588"/>
                    </a:lnTo>
                    <a:lnTo>
                      <a:pt x="633" y="582"/>
                    </a:lnTo>
                    <a:lnTo>
                      <a:pt x="625" y="577"/>
                    </a:lnTo>
                    <a:lnTo>
                      <a:pt x="615" y="571"/>
                    </a:lnTo>
                    <a:lnTo>
                      <a:pt x="604" y="567"/>
                    </a:lnTo>
                    <a:lnTo>
                      <a:pt x="594" y="564"/>
                    </a:lnTo>
                    <a:lnTo>
                      <a:pt x="583" y="560"/>
                    </a:lnTo>
                    <a:lnTo>
                      <a:pt x="572" y="558"/>
                    </a:lnTo>
                    <a:lnTo>
                      <a:pt x="560" y="555"/>
                    </a:lnTo>
                    <a:lnTo>
                      <a:pt x="547" y="554"/>
                    </a:lnTo>
                    <a:lnTo>
                      <a:pt x="535" y="553"/>
                    </a:lnTo>
                    <a:lnTo>
                      <a:pt x="521" y="553"/>
                    </a:lnTo>
                    <a:lnTo>
                      <a:pt x="509" y="553"/>
                    </a:lnTo>
                    <a:lnTo>
                      <a:pt x="497" y="554"/>
                    </a:lnTo>
                    <a:lnTo>
                      <a:pt x="486" y="555"/>
                    </a:lnTo>
                    <a:lnTo>
                      <a:pt x="473" y="558"/>
                    </a:lnTo>
                    <a:lnTo>
                      <a:pt x="462" y="560"/>
                    </a:lnTo>
                    <a:lnTo>
                      <a:pt x="453" y="564"/>
                    </a:lnTo>
                    <a:lnTo>
                      <a:pt x="442" y="567"/>
                    </a:lnTo>
                    <a:lnTo>
                      <a:pt x="432" y="571"/>
                    </a:lnTo>
                    <a:lnTo>
                      <a:pt x="422" y="577"/>
                    </a:lnTo>
                    <a:lnTo>
                      <a:pt x="413" y="582"/>
                    </a:lnTo>
                    <a:lnTo>
                      <a:pt x="405" y="588"/>
                    </a:lnTo>
                    <a:lnTo>
                      <a:pt x="396" y="596"/>
                    </a:lnTo>
                    <a:lnTo>
                      <a:pt x="387" y="603"/>
                    </a:lnTo>
                    <a:lnTo>
                      <a:pt x="380" y="612"/>
                    </a:lnTo>
                    <a:lnTo>
                      <a:pt x="373" y="620"/>
                    </a:lnTo>
                    <a:lnTo>
                      <a:pt x="365" y="630"/>
                    </a:lnTo>
                    <a:lnTo>
                      <a:pt x="359" y="640"/>
                    </a:lnTo>
                    <a:lnTo>
                      <a:pt x="353" y="650"/>
                    </a:lnTo>
                    <a:lnTo>
                      <a:pt x="347" y="662"/>
                    </a:lnTo>
                    <a:lnTo>
                      <a:pt x="342" y="674"/>
                    </a:lnTo>
                    <a:lnTo>
                      <a:pt x="337" y="687"/>
                    </a:lnTo>
                    <a:lnTo>
                      <a:pt x="332" y="700"/>
                    </a:lnTo>
                    <a:lnTo>
                      <a:pt x="328" y="715"/>
                    </a:lnTo>
                    <a:lnTo>
                      <a:pt x="325" y="730"/>
                    </a:lnTo>
                    <a:lnTo>
                      <a:pt x="319" y="761"/>
                    </a:lnTo>
                    <a:lnTo>
                      <a:pt x="314" y="796"/>
                    </a:lnTo>
                    <a:lnTo>
                      <a:pt x="311" y="834"/>
                    </a:lnTo>
                    <a:lnTo>
                      <a:pt x="311" y="874"/>
                    </a:lnTo>
                    <a:lnTo>
                      <a:pt x="311" y="915"/>
                    </a:lnTo>
                    <a:lnTo>
                      <a:pt x="314" y="953"/>
                    </a:lnTo>
                    <a:lnTo>
                      <a:pt x="319" y="989"/>
                    </a:lnTo>
                    <a:lnTo>
                      <a:pt x="325" y="1021"/>
                    </a:lnTo>
                    <a:lnTo>
                      <a:pt x="327" y="1036"/>
                    </a:lnTo>
                    <a:lnTo>
                      <a:pt x="332" y="1050"/>
                    </a:lnTo>
                    <a:lnTo>
                      <a:pt x="336" y="1065"/>
                    </a:lnTo>
                    <a:lnTo>
                      <a:pt x="341" y="1077"/>
                    </a:lnTo>
                    <a:lnTo>
                      <a:pt x="346" y="1089"/>
                    </a:lnTo>
                    <a:lnTo>
                      <a:pt x="352" y="1102"/>
                    </a:lnTo>
                    <a:lnTo>
                      <a:pt x="358" y="1113"/>
                    </a:lnTo>
                    <a:lnTo>
                      <a:pt x="364" y="1122"/>
                    </a:lnTo>
                    <a:lnTo>
                      <a:pt x="371" y="1132"/>
                    </a:lnTo>
                    <a:lnTo>
                      <a:pt x="379" y="1142"/>
                    </a:lnTo>
                    <a:lnTo>
                      <a:pt x="386" y="1151"/>
                    </a:lnTo>
                    <a:lnTo>
                      <a:pt x="395" y="1158"/>
                    </a:lnTo>
                    <a:lnTo>
                      <a:pt x="403" y="1165"/>
                    </a:lnTo>
                    <a:lnTo>
                      <a:pt x="412" y="1172"/>
                    </a:lnTo>
                    <a:lnTo>
                      <a:pt x="421" y="1178"/>
                    </a:lnTo>
                    <a:lnTo>
                      <a:pt x="430" y="1183"/>
                    </a:lnTo>
                    <a:lnTo>
                      <a:pt x="440" y="1188"/>
                    </a:lnTo>
                    <a:lnTo>
                      <a:pt x="451" y="1191"/>
                    </a:lnTo>
                    <a:lnTo>
                      <a:pt x="462" y="1195"/>
                    </a:lnTo>
                    <a:lnTo>
                      <a:pt x="473" y="1197"/>
                    </a:lnTo>
                    <a:lnTo>
                      <a:pt x="485" y="1200"/>
                    </a:lnTo>
                    <a:lnTo>
                      <a:pt x="497" y="1202"/>
                    </a:lnTo>
                    <a:lnTo>
                      <a:pt x="509" y="1202"/>
                    </a:lnTo>
                    <a:lnTo>
                      <a:pt x="521" y="1203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849520" y="371520"/>
                <a:ext cx="64440" cy="75240"/>
              </a:xfrm>
              <a:custGeom>
                <a:avLst/>
                <a:gdLst/>
                <a:ahLst/>
                <a:rect l="l" t="t" r="r" b="b"/>
                <a:pathLst>
                  <a:path w="1036" h="978">
                    <a:moveTo>
                      <a:pt x="0" y="978"/>
                    </a:moveTo>
                    <a:lnTo>
                      <a:pt x="0" y="916"/>
                    </a:lnTo>
                    <a:lnTo>
                      <a:pt x="0" y="909"/>
                    </a:lnTo>
                    <a:lnTo>
                      <a:pt x="3" y="903"/>
                    </a:lnTo>
                    <a:lnTo>
                      <a:pt x="5" y="897"/>
                    </a:lnTo>
                    <a:lnTo>
                      <a:pt x="10" y="890"/>
                    </a:lnTo>
                    <a:lnTo>
                      <a:pt x="15" y="886"/>
                    </a:lnTo>
                    <a:lnTo>
                      <a:pt x="21" y="881"/>
                    </a:lnTo>
                    <a:lnTo>
                      <a:pt x="30" y="877"/>
                    </a:lnTo>
                    <a:lnTo>
                      <a:pt x="38" y="873"/>
                    </a:lnTo>
                    <a:lnTo>
                      <a:pt x="62" y="865"/>
                    </a:lnTo>
                    <a:lnTo>
                      <a:pt x="65" y="862"/>
                    </a:lnTo>
                    <a:lnTo>
                      <a:pt x="69" y="859"/>
                    </a:lnTo>
                    <a:lnTo>
                      <a:pt x="72" y="851"/>
                    </a:lnTo>
                    <a:lnTo>
                      <a:pt x="75" y="843"/>
                    </a:lnTo>
                    <a:lnTo>
                      <a:pt x="75" y="835"/>
                    </a:lnTo>
                    <a:lnTo>
                      <a:pt x="75" y="807"/>
                    </a:lnTo>
                    <a:lnTo>
                      <a:pt x="75" y="793"/>
                    </a:lnTo>
                    <a:lnTo>
                      <a:pt x="75" y="246"/>
                    </a:lnTo>
                    <a:lnTo>
                      <a:pt x="75" y="218"/>
                    </a:lnTo>
                    <a:lnTo>
                      <a:pt x="75" y="197"/>
                    </a:lnTo>
                    <a:lnTo>
                      <a:pt x="69" y="172"/>
                    </a:lnTo>
                    <a:lnTo>
                      <a:pt x="62" y="161"/>
                    </a:lnTo>
                    <a:lnTo>
                      <a:pt x="36" y="156"/>
                    </a:lnTo>
                    <a:lnTo>
                      <a:pt x="24" y="151"/>
                    </a:lnTo>
                    <a:lnTo>
                      <a:pt x="17" y="146"/>
                    </a:lnTo>
                    <a:lnTo>
                      <a:pt x="12" y="143"/>
                    </a:lnTo>
                    <a:lnTo>
                      <a:pt x="9" y="139"/>
                    </a:lnTo>
                    <a:lnTo>
                      <a:pt x="6" y="134"/>
                    </a:lnTo>
                    <a:lnTo>
                      <a:pt x="3" y="129"/>
                    </a:lnTo>
                    <a:lnTo>
                      <a:pt x="1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49"/>
                    </a:lnTo>
                    <a:lnTo>
                      <a:pt x="368" y="49"/>
                    </a:lnTo>
                    <a:lnTo>
                      <a:pt x="368" y="102"/>
                    </a:lnTo>
                    <a:lnTo>
                      <a:pt x="380" y="92"/>
                    </a:lnTo>
                    <a:lnTo>
                      <a:pt x="393" y="85"/>
                    </a:lnTo>
                    <a:lnTo>
                      <a:pt x="405" y="76"/>
                    </a:lnTo>
                    <a:lnTo>
                      <a:pt x="416" y="70"/>
                    </a:lnTo>
                    <a:lnTo>
                      <a:pt x="427" y="63"/>
                    </a:lnTo>
                    <a:lnTo>
                      <a:pt x="439" y="57"/>
                    </a:lnTo>
                    <a:lnTo>
                      <a:pt x="453" y="51"/>
                    </a:lnTo>
                    <a:lnTo>
                      <a:pt x="466" y="46"/>
                    </a:lnTo>
                    <a:lnTo>
                      <a:pt x="492" y="35"/>
                    </a:lnTo>
                    <a:lnTo>
                      <a:pt x="518" y="25"/>
                    </a:lnTo>
                    <a:lnTo>
                      <a:pt x="544" y="17"/>
                    </a:lnTo>
                    <a:lnTo>
                      <a:pt x="567" y="11"/>
                    </a:lnTo>
                    <a:lnTo>
                      <a:pt x="591" y="6"/>
                    </a:lnTo>
                    <a:lnTo>
                      <a:pt x="614" y="3"/>
                    </a:lnTo>
                    <a:lnTo>
                      <a:pt x="637" y="0"/>
                    </a:lnTo>
                    <a:lnTo>
                      <a:pt x="659" y="0"/>
                    </a:lnTo>
                    <a:lnTo>
                      <a:pt x="672" y="0"/>
                    </a:lnTo>
                    <a:lnTo>
                      <a:pt x="683" y="0"/>
                    </a:lnTo>
                    <a:lnTo>
                      <a:pt x="691" y="2"/>
                    </a:lnTo>
                    <a:lnTo>
                      <a:pt x="698" y="2"/>
                    </a:lnTo>
                    <a:lnTo>
                      <a:pt x="732" y="6"/>
                    </a:lnTo>
                    <a:lnTo>
                      <a:pt x="763" y="13"/>
                    </a:lnTo>
                    <a:lnTo>
                      <a:pt x="791" y="21"/>
                    </a:lnTo>
                    <a:lnTo>
                      <a:pt x="817" y="31"/>
                    </a:lnTo>
                    <a:lnTo>
                      <a:pt x="829" y="36"/>
                    </a:lnTo>
                    <a:lnTo>
                      <a:pt x="841" y="42"/>
                    </a:lnTo>
                    <a:lnTo>
                      <a:pt x="853" y="49"/>
                    </a:lnTo>
                    <a:lnTo>
                      <a:pt x="862" y="56"/>
                    </a:lnTo>
                    <a:lnTo>
                      <a:pt x="872" y="63"/>
                    </a:lnTo>
                    <a:lnTo>
                      <a:pt x="882" y="71"/>
                    </a:lnTo>
                    <a:lnTo>
                      <a:pt x="891" y="79"/>
                    </a:lnTo>
                    <a:lnTo>
                      <a:pt x="899" y="87"/>
                    </a:lnTo>
                    <a:lnTo>
                      <a:pt x="907" y="97"/>
                    </a:lnTo>
                    <a:lnTo>
                      <a:pt x="913" y="107"/>
                    </a:lnTo>
                    <a:lnTo>
                      <a:pt x="920" y="118"/>
                    </a:lnTo>
                    <a:lnTo>
                      <a:pt x="926" y="129"/>
                    </a:lnTo>
                    <a:lnTo>
                      <a:pt x="931" y="140"/>
                    </a:lnTo>
                    <a:lnTo>
                      <a:pt x="936" y="153"/>
                    </a:lnTo>
                    <a:lnTo>
                      <a:pt x="941" y="165"/>
                    </a:lnTo>
                    <a:lnTo>
                      <a:pt x="946" y="178"/>
                    </a:lnTo>
                    <a:lnTo>
                      <a:pt x="952" y="208"/>
                    </a:lnTo>
                    <a:lnTo>
                      <a:pt x="957" y="238"/>
                    </a:lnTo>
                    <a:lnTo>
                      <a:pt x="961" y="272"/>
                    </a:lnTo>
                    <a:lnTo>
                      <a:pt x="961" y="307"/>
                    </a:lnTo>
                    <a:lnTo>
                      <a:pt x="961" y="792"/>
                    </a:lnTo>
                    <a:lnTo>
                      <a:pt x="961" y="805"/>
                    </a:lnTo>
                    <a:lnTo>
                      <a:pt x="961" y="814"/>
                    </a:lnTo>
                    <a:lnTo>
                      <a:pt x="961" y="834"/>
                    </a:lnTo>
                    <a:lnTo>
                      <a:pt x="962" y="844"/>
                    </a:lnTo>
                    <a:lnTo>
                      <a:pt x="964" y="851"/>
                    </a:lnTo>
                    <a:lnTo>
                      <a:pt x="968" y="856"/>
                    </a:lnTo>
                    <a:lnTo>
                      <a:pt x="972" y="860"/>
                    </a:lnTo>
                    <a:lnTo>
                      <a:pt x="999" y="872"/>
                    </a:lnTo>
                    <a:lnTo>
                      <a:pt x="1008" y="876"/>
                    </a:lnTo>
                    <a:lnTo>
                      <a:pt x="1015" y="881"/>
                    </a:lnTo>
                    <a:lnTo>
                      <a:pt x="1021" y="886"/>
                    </a:lnTo>
                    <a:lnTo>
                      <a:pt x="1027" y="890"/>
                    </a:lnTo>
                    <a:lnTo>
                      <a:pt x="1031" y="897"/>
                    </a:lnTo>
                    <a:lnTo>
                      <a:pt x="1033" y="903"/>
                    </a:lnTo>
                    <a:lnTo>
                      <a:pt x="1036" y="909"/>
                    </a:lnTo>
                    <a:lnTo>
                      <a:pt x="1036" y="916"/>
                    </a:lnTo>
                    <a:lnTo>
                      <a:pt x="1036" y="978"/>
                    </a:lnTo>
                    <a:lnTo>
                      <a:pt x="589" y="978"/>
                    </a:lnTo>
                    <a:lnTo>
                      <a:pt x="589" y="914"/>
                    </a:lnTo>
                    <a:lnTo>
                      <a:pt x="591" y="906"/>
                    </a:lnTo>
                    <a:lnTo>
                      <a:pt x="592" y="900"/>
                    </a:lnTo>
                    <a:lnTo>
                      <a:pt x="595" y="894"/>
                    </a:lnTo>
                    <a:lnTo>
                      <a:pt x="599" y="888"/>
                    </a:lnTo>
                    <a:lnTo>
                      <a:pt x="605" y="883"/>
                    </a:lnTo>
                    <a:lnTo>
                      <a:pt x="611" y="878"/>
                    </a:lnTo>
                    <a:lnTo>
                      <a:pt x="619" y="875"/>
                    </a:lnTo>
                    <a:lnTo>
                      <a:pt x="627" y="871"/>
                    </a:lnTo>
                    <a:lnTo>
                      <a:pt x="641" y="865"/>
                    </a:lnTo>
                    <a:lnTo>
                      <a:pt x="648" y="854"/>
                    </a:lnTo>
                    <a:lnTo>
                      <a:pt x="652" y="843"/>
                    </a:lnTo>
                    <a:lnTo>
                      <a:pt x="652" y="836"/>
                    </a:lnTo>
                    <a:lnTo>
                      <a:pt x="652" y="823"/>
                    </a:lnTo>
                    <a:lnTo>
                      <a:pt x="652" y="807"/>
                    </a:lnTo>
                    <a:lnTo>
                      <a:pt x="652" y="800"/>
                    </a:lnTo>
                    <a:lnTo>
                      <a:pt x="652" y="356"/>
                    </a:lnTo>
                    <a:lnTo>
                      <a:pt x="652" y="327"/>
                    </a:lnTo>
                    <a:lnTo>
                      <a:pt x="652" y="312"/>
                    </a:lnTo>
                    <a:lnTo>
                      <a:pt x="646" y="288"/>
                    </a:lnTo>
                    <a:lnTo>
                      <a:pt x="643" y="277"/>
                    </a:lnTo>
                    <a:lnTo>
                      <a:pt x="640" y="267"/>
                    </a:lnTo>
                    <a:lnTo>
                      <a:pt x="636" y="257"/>
                    </a:lnTo>
                    <a:lnTo>
                      <a:pt x="632" y="250"/>
                    </a:lnTo>
                    <a:lnTo>
                      <a:pt x="627" y="241"/>
                    </a:lnTo>
                    <a:lnTo>
                      <a:pt x="623" y="234"/>
                    </a:lnTo>
                    <a:lnTo>
                      <a:pt x="616" y="227"/>
                    </a:lnTo>
                    <a:lnTo>
                      <a:pt x="610" y="221"/>
                    </a:lnTo>
                    <a:lnTo>
                      <a:pt x="603" y="216"/>
                    </a:lnTo>
                    <a:lnTo>
                      <a:pt x="595" y="213"/>
                    </a:lnTo>
                    <a:lnTo>
                      <a:pt x="588" y="208"/>
                    </a:lnTo>
                    <a:lnTo>
                      <a:pt x="580" y="205"/>
                    </a:lnTo>
                    <a:lnTo>
                      <a:pt x="571" y="203"/>
                    </a:lnTo>
                    <a:lnTo>
                      <a:pt x="561" y="202"/>
                    </a:lnTo>
                    <a:lnTo>
                      <a:pt x="551" y="200"/>
                    </a:lnTo>
                    <a:lnTo>
                      <a:pt x="540" y="200"/>
                    </a:lnTo>
                    <a:lnTo>
                      <a:pt x="527" y="200"/>
                    </a:lnTo>
                    <a:lnTo>
                      <a:pt x="512" y="203"/>
                    </a:lnTo>
                    <a:lnTo>
                      <a:pt x="497" y="207"/>
                    </a:lnTo>
                    <a:lnTo>
                      <a:pt x="482" y="211"/>
                    </a:lnTo>
                    <a:lnTo>
                      <a:pt x="466" y="219"/>
                    </a:lnTo>
                    <a:lnTo>
                      <a:pt x="450" y="226"/>
                    </a:lnTo>
                    <a:lnTo>
                      <a:pt x="434" y="236"/>
                    </a:lnTo>
                    <a:lnTo>
                      <a:pt x="418" y="247"/>
                    </a:lnTo>
                    <a:lnTo>
                      <a:pt x="384" y="277"/>
                    </a:lnTo>
                    <a:lnTo>
                      <a:pt x="384" y="793"/>
                    </a:lnTo>
                    <a:lnTo>
                      <a:pt x="384" y="807"/>
                    </a:lnTo>
                    <a:lnTo>
                      <a:pt x="384" y="827"/>
                    </a:lnTo>
                    <a:lnTo>
                      <a:pt x="384" y="836"/>
                    </a:lnTo>
                    <a:lnTo>
                      <a:pt x="388" y="845"/>
                    </a:lnTo>
                    <a:lnTo>
                      <a:pt x="390" y="851"/>
                    </a:lnTo>
                    <a:lnTo>
                      <a:pt x="395" y="856"/>
                    </a:lnTo>
                    <a:lnTo>
                      <a:pt x="400" y="861"/>
                    </a:lnTo>
                    <a:lnTo>
                      <a:pt x="406" y="865"/>
                    </a:lnTo>
                    <a:lnTo>
                      <a:pt x="420" y="871"/>
                    </a:lnTo>
                    <a:lnTo>
                      <a:pt x="428" y="875"/>
                    </a:lnTo>
                    <a:lnTo>
                      <a:pt x="436" y="878"/>
                    </a:lnTo>
                    <a:lnTo>
                      <a:pt x="442" y="883"/>
                    </a:lnTo>
                    <a:lnTo>
                      <a:pt x="448" y="888"/>
                    </a:lnTo>
                    <a:lnTo>
                      <a:pt x="452" y="894"/>
                    </a:lnTo>
                    <a:lnTo>
                      <a:pt x="454" y="900"/>
                    </a:lnTo>
                    <a:lnTo>
                      <a:pt x="457" y="906"/>
                    </a:lnTo>
                    <a:lnTo>
                      <a:pt x="457" y="914"/>
                    </a:lnTo>
                    <a:lnTo>
                      <a:pt x="457" y="978"/>
                    </a:lnTo>
                    <a:lnTo>
                      <a:pt x="0" y="978"/>
                    </a:lnTo>
                    <a:close/>
                  </a:path>
                </a:pathLst>
              </a:custGeom>
              <a:solidFill>
                <a:srgbClr val="8fa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7920000" y="475560"/>
              <a:ext cx="70920" cy="99360"/>
            </a:xfrm>
            <a:custGeom>
              <a:avLst/>
              <a:gdLst/>
              <a:ahLst/>
              <a:rect l="l" t="t" r="r" b="b"/>
              <a:pathLst>
                <a:path w="1128" h="1308">
                  <a:moveTo>
                    <a:pt x="0" y="1308"/>
                  </a:moveTo>
                  <a:lnTo>
                    <a:pt x="0" y="1228"/>
                  </a:lnTo>
                  <a:lnTo>
                    <a:pt x="0" y="1223"/>
                  </a:lnTo>
                  <a:lnTo>
                    <a:pt x="1" y="1216"/>
                  </a:lnTo>
                  <a:lnTo>
                    <a:pt x="5" y="1211"/>
                  </a:lnTo>
                  <a:lnTo>
                    <a:pt x="9" y="1207"/>
                  </a:lnTo>
                  <a:lnTo>
                    <a:pt x="15" y="1205"/>
                  </a:lnTo>
                  <a:lnTo>
                    <a:pt x="27" y="1196"/>
                  </a:lnTo>
                  <a:lnTo>
                    <a:pt x="42" y="1183"/>
                  </a:lnTo>
                  <a:lnTo>
                    <a:pt x="49" y="1174"/>
                  </a:lnTo>
                  <a:lnTo>
                    <a:pt x="57" y="1164"/>
                  </a:lnTo>
                  <a:lnTo>
                    <a:pt x="62" y="1156"/>
                  </a:lnTo>
                  <a:lnTo>
                    <a:pt x="65" y="1147"/>
                  </a:lnTo>
                  <a:lnTo>
                    <a:pt x="66" y="1141"/>
                  </a:lnTo>
                  <a:lnTo>
                    <a:pt x="70" y="1112"/>
                  </a:lnTo>
                  <a:lnTo>
                    <a:pt x="70" y="1083"/>
                  </a:lnTo>
                  <a:lnTo>
                    <a:pt x="70" y="194"/>
                  </a:lnTo>
                  <a:lnTo>
                    <a:pt x="70" y="185"/>
                  </a:lnTo>
                  <a:lnTo>
                    <a:pt x="68" y="175"/>
                  </a:lnTo>
                  <a:lnTo>
                    <a:pt x="65" y="165"/>
                  </a:lnTo>
                  <a:lnTo>
                    <a:pt x="60" y="154"/>
                  </a:lnTo>
                  <a:lnTo>
                    <a:pt x="55" y="145"/>
                  </a:lnTo>
                  <a:lnTo>
                    <a:pt x="52" y="137"/>
                  </a:lnTo>
                  <a:lnTo>
                    <a:pt x="47" y="131"/>
                  </a:lnTo>
                  <a:lnTo>
                    <a:pt x="42" y="126"/>
                  </a:lnTo>
                  <a:lnTo>
                    <a:pt x="38" y="122"/>
                  </a:lnTo>
                  <a:lnTo>
                    <a:pt x="16" y="104"/>
                  </a:lnTo>
                  <a:lnTo>
                    <a:pt x="9" y="97"/>
                  </a:lnTo>
                  <a:lnTo>
                    <a:pt x="1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07" y="2"/>
                  </a:lnTo>
                  <a:lnTo>
                    <a:pt x="742" y="3"/>
                  </a:lnTo>
                  <a:lnTo>
                    <a:pt x="770" y="5"/>
                  </a:lnTo>
                  <a:lnTo>
                    <a:pt x="795" y="9"/>
                  </a:lnTo>
                  <a:lnTo>
                    <a:pt x="819" y="13"/>
                  </a:lnTo>
                  <a:lnTo>
                    <a:pt x="841" y="18"/>
                  </a:lnTo>
                  <a:lnTo>
                    <a:pt x="863" y="24"/>
                  </a:lnTo>
                  <a:lnTo>
                    <a:pt x="895" y="36"/>
                  </a:lnTo>
                  <a:lnTo>
                    <a:pt x="925" y="48"/>
                  </a:lnTo>
                  <a:lnTo>
                    <a:pt x="953" y="63"/>
                  </a:lnTo>
                  <a:lnTo>
                    <a:pt x="979" y="79"/>
                  </a:lnTo>
                  <a:lnTo>
                    <a:pt x="1002" y="96"/>
                  </a:lnTo>
                  <a:lnTo>
                    <a:pt x="1025" y="113"/>
                  </a:lnTo>
                  <a:lnTo>
                    <a:pt x="1044" y="133"/>
                  </a:lnTo>
                  <a:lnTo>
                    <a:pt x="1062" y="154"/>
                  </a:lnTo>
                  <a:lnTo>
                    <a:pt x="1077" y="177"/>
                  </a:lnTo>
                  <a:lnTo>
                    <a:pt x="1091" y="201"/>
                  </a:lnTo>
                  <a:lnTo>
                    <a:pt x="1102" y="225"/>
                  </a:lnTo>
                  <a:lnTo>
                    <a:pt x="1112" y="251"/>
                  </a:lnTo>
                  <a:lnTo>
                    <a:pt x="1119" y="279"/>
                  </a:lnTo>
                  <a:lnTo>
                    <a:pt x="1124" y="307"/>
                  </a:lnTo>
                  <a:lnTo>
                    <a:pt x="1127" y="338"/>
                  </a:lnTo>
                  <a:lnTo>
                    <a:pt x="1128" y="369"/>
                  </a:lnTo>
                  <a:lnTo>
                    <a:pt x="1127" y="401"/>
                  </a:lnTo>
                  <a:lnTo>
                    <a:pt x="1123" y="436"/>
                  </a:lnTo>
                  <a:lnTo>
                    <a:pt x="1117" y="473"/>
                  </a:lnTo>
                  <a:lnTo>
                    <a:pt x="1107" y="512"/>
                  </a:lnTo>
                  <a:lnTo>
                    <a:pt x="1101" y="532"/>
                  </a:lnTo>
                  <a:lnTo>
                    <a:pt x="1095" y="553"/>
                  </a:lnTo>
                  <a:lnTo>
                    <a:pt x="1086" y="571"/>
                  </a:lnTo>
                  <a:lnTo>
                    <a:pt x="1076" y="590"/>
                  </a:lnTo>
                  <a:lnTo>
                    <a:pt x="1064" y="608"/>
                  </a:lnTo>
                  <a:lnTo>
                    <a:pt x="1052" y="625"/>
                  </a:lnTo>
                  <a:lnTo>
                    <a:pt x="1038" y="643"/>
                  </a:lnTo>
                  <a:lnTo>
                    <a:pt x="1022" y="660"/>
                  </a:lnTo>
                  <a:lnTo>
                    <a:pt x="1005" y="676"/>
                  </a:lnTo>
                  <a:lnTo>
                    <a:pt x="985" y="693"/>
                  </a:lnTo>
                  <a:lnTo>
                    <a:pt x="963" y="710"/>
                  </a:lnTo>
                  <a:lnTo>
                    <a:pt x="939" y="727"/>
                  </a:lnTo>
                  <a:lnTo>
                    <a:pt x="911" y="746"/>
                  </a:lnTo>
                  <a:lnTo>
                    <a:pt x="882" y="764"/>
                  </a:lnTo>
                  <a:lnTo>
                    <a:pt x="850" y="783"/>
                  </a:lnTo>
                  <a:lnTo>
                    <a:pt x="816" y="801"/>
                  </a:lnTo>
                  <a:lnTo>
                    <a:pt x="786" y="816"/>
                  </a:lnTo>
                  <a:lnTo>
                    <a:pt x="756" y="829"/>
                  </a:lnTo>
                  <a:lnTo>
                    <a:pt x="726" y="842"/>
                  </a:lnTo>
                  <a:lnTo>
                    <a:pt x="694" y="854"/>
                  </a:lnTo>
                  <a:lnTo>
                    <a:pt x="659" y="866"/>
                  </a:lnTo>
                  <a:lnTo>
                    <a:pt x="621" y="877"/>
                  </a:lnTo>
                  <a:lnTo>
                    <a:pt x="582" y="887"/>
                  </a:lnTo>
                  <a:lnTo>
                    <a:pt x="539" y="898"/>
                  </a:lnTo>
                  <a:lnTo>
                    <a:pt x="399" y="929"/>
                  </a:lnTo>
                  <a:lnTo>
                    <a:pt x="399" y="1114"/>
                  </a:lnTo>
                  <a:lnTo>
                    <a:pt x="399" y="1130"/>
                  </a:lnTo>
                  <a:lnTo>
                    <a:pt x="401" y="1141"/>
                  </a:lnTo>
                  <a:lnTo>
                    <a:pt x="405" y="1150"/>
                  </a:lnTo>
                  <a:lnTo>
                    <a:pt x="408" y="1160"/>
                  </a:lnTo>
                  <a:lnTo>
                    <a:pt x="415" y="1168"/>
                  </a:lnTo>
                  <a:lnTo>
                    <a:pt x="421" y="1177"/>
                  </a:lnTo>
                  <a:lnTo>
                    <a:pt x="427" y="1184"/>
                  </a:lnTo>
                  <a:lnTo>
                    <a:pt x="434" y="1191"/>
                  </a:lnTo>
                  <a:lnTo>
                    <a:pt x="443" y="1198"/>
                  </a:lnTo>
                  <a:lnTo>
                    <a:pt x="458" y="1205"/>
                  </a:lnTo>
                  <a:lnTo>
                    <a:pt x="464" y="1210"/>
                  </a:lnTo>
                  <a:lnTo>
                    <a:pt x="467" y="1215"/>
                  </a:lnTo>
                  <a:lnTo>
                    <a:pt x="471" y="1220"/>
                  </a:lnTo>
                  <a:lnTo>
                    <a:pt x="475" y="1225"/>
                  </a:lnTo>
                  <a:lnTo>
                    <a:pt x="475" y="1308"/>
                  </a:lnTo>
                  <a:lnTo>
                    <a:pt x="0" y="1308"/>
                  </a:lnTo>
                  <a:close/>
                  <a:moveTo>
                    <a:pt x="541" y="660"/>
                  </a:moveTo>
                  <a:lnTo>
                    <a:pt x="560" y="654"/>
                  </a:lnTo>
                  <a:lnTo>
                    <a:pt x="578" y="648"/>
                  </a:lnTo>
                  <a:lnTo>
                    <a:pt x="594" y="640"/>
                  </a:lnTo>
                  <a:lnTo>
                    <a:pt x="610" y="633"/>
                  </a:lnTo>
                  <a:lnTo>
                    <a:pt x="625" y="625"/>
                  </a:lnTo>
                  <a:lnTo>
                    <a:pt x="638" y="618"/>
                  </a:lnTo>
                  <a:lnTo>
                    <a:pt x="651" y="609"/>
                  </a:lnTo>
                  <a:lnTo>
                    <a:pt x="663" y="601"/>
                  </a:lnTo>
                  <a:lnTo>
                    <a:pt x="674" y="592"/>
                  </a:lnTo>
                  <a:lnTo>
                    <a:pt x="685" y="582"/>
                  </a:lnTo>
                  <a:lnTo>
                    <a:pt x="695" y="571"/>
                  </a:lnTo>
                  <a:lnTo>
                    <a:pt x="705" y="560"/>
                  </a:lnTo>
                  <a:lnTo>
                    <a:pt x="713" y="547"/>
                  </a:lnTo>
                  <a:lnTo>
                    <a:pt x="722" y="533"/>
                  </a:lnTo>
                  <a:lnTo>
                    <a:pt x="731" y="520"/>
                  </a:lnTo>
                  <a:lnTo>
                    <a:pt x="738" y="505"/>
                  </a:lnTo>
                  <a:lnTo>
                    <a:pt x="743" y="495"/>
                  </a:lnTo>
                  <a:lnTo>
                    <a:pt x="747" y="485"/>
                  </a:lnTo>
                  <a:lnTo>
                    <a:pt x="752" y="474"/>
                  </a:lnTo>
                  <a:lnTo>
                    <a:pt x="755" y="462"/>
                  </a:lnTo>
                  <a:lnTo>
                    <a:pt x="759" y="450"/>
                  </a:lnTo>
                  <a:lnTo>
                    <a:pt x="761" y="439"/>
                  </a:lnTo>
                  <a:lnTo>
                    <a:pt x="763" y="429"/>
                  </a:lnTo>
                  <a:lnTo>
                    <a:pt x="764" y="420"/>
                  </a:lnTo>
                  <a:lnTo>
                    <a:pt x="766" y="404"/>
                  </a:lnTo>
                  <a:lnTo>
                    <a:pt x="768" y="387"/>
                  </a:lnTo>
                  <a:lnTo>
                    <a:pt x="769" y="374"/>
                  </a:lnTo>
                  <a:lnTo>
                    <a:pt x="770" y="363"/>
                  </a:lnTo>
                  <a:lnTo>
                    <a:pt x="769" y="344"/>
                  </a:lnTo>
                  <a:lnTo>
                    <a:pt x="768" y="328"/>
                  </a:lnTo>
                  <a:lnTo>
                    <a:pt x="764" y="312"/>
                  </a:lnTo>
                  <a:lnTo>
                    <a:pt x="759" y="298"/>
                  </a:lnTo>
                  <a:lnTo>
                    <a:pt x="754" y="284"/>
                  </a:lnTo>
                  <a:lnTo>
                    <a:pt x="747" y="271"/>
                  </a:lnTo>
                  <a:lnTo>
                    <a:pt x="738" y="260"/>
                  </a:lnTo>
                  <a:lnTo>
                    <a:pt x="729" y="248"/>
                  </a:lnTo>
                  <a:lnTo>
                    <a:pt x="718" y="239"/>
                  </a:lnTo>
                  <a:lnTo>
                    <a:pt x="706" y="230"/>
                  </a:lnTo>
                  <a:lnTo>
                    <a:pt x="693" y="223"/>
                  </a:lnTo>
                  <a:lnTo>
                    <a:pt x="679" y="217"/>
                  </a:lnTo>
                  <a:lnTo>
                    <a:pt x="663" y="210"/>
                  </a:lnTo>
                  <a:lnTo>
                    <a:pt x="646" y="205"/>
                  </a:lnTo>
                  <a:lnTo>
                    <a:pt x="627" y="203"/>
                  </a:lnTo>
                  <a:lnTo>
                    <a:pt x="608" y="199"/>
                  </a:lnTo>
                  <a:lnTo>
                    <a:pt x="571" y="199"/>
                  </a:lnTo>
                  <a:lnTo>
                    <a:pt x="399" y="199"/>
                  </a:lnTo>
                  <a:lnTo>
                    <a:pt x="399" y="702"/>
                  </a:lnTo>
                  <a:lnTo>
                    <a:pt x="541" y="660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9840" y="502560"/>
              <a:ext cx="56160" cy="7488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1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18" y="612"/>
                  </a:lnTo>
                  <a:lnTo>
                    <a:pt x="329" y="633"/>
                  </a:lnTo>
                  <a:lnTo>
                    <a:pt x="343" y="655"/>
                  </a:lnTo>
                  <a:lnTo>
                    <a:pt x="358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6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1" y="766"/>
                  </a:lnTo>
                  <a:lnTo>
                    <a:pt x="483" y="771"/>
                  </a:lnTo>
                  <a:lnTo>
                    <a:pt x="495" y="775"/>
                  </a:lnTo>
                  <a:lnTo>
                    <a:pt x="506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5" y="782"/>
                  </a:lnTo>
                  <a:lnTo>
                    <a:pt x="558" y="784"/>
                  </a:lnTo>
                  <a:lnTo>
                    <a:pt x="570" y="782"/>
                  </a:lnTo>
                  <a:lnTo>
                    <a:pt x="584" y="782"/>
                  </a:lnTo>
                  <a:lnTo>
                    <a:pt x="597" y="780"/>
                  </a:lnTo>
                  <a:lnTo>
                    <a:pt x="611" y="777"/>
                  </a:lnTo>
                  <a:lnTo>
                    <a:pt x="624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8" y="763"/>
                  </a:lnTo>
                  <a:lnTo>
                    <a:pt x="668" y="759"/>
                  </a:lnTo>
                  <a:lnTo>
                    <a:pt x="707" y="733"/>
                  </a:lnTo>
                  <a:lnTo>
                    <a:pt x="741" y="710"/>
                  </a:lnTo>
                  <a:lnTo>
                    <a:pt x="747" y="710"/>
                  </a:lnTo>
                  <a:lnTo>
                    <a:pt x="757" y="703"/>
                  </a:lnTo>
                  <a:lnTo>
                    <a:pt x="767" y="694"/>
                  </a:lnTo>
                  <a:lnTo>
                    <a:pt x="775" y="685"/>
                  </a:lnTo>
                  <a:lnTo>
                    <a:pt x="787" y="671"/>
                  </a:lnTo>
                  <a:lnTo>
                    <a:pt x="807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2" y="634"/>
                  </a:lnTo>
                  <a:lnTo>
                    <a:pt x="846" y="633"/>
                  </a:lnTo>
                  <a:lnTo>
                    <a:pt x="862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1" y="633"/>
                  </a:lnTo>
                  <a:lnTo>
                    <a:pt x="900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6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7" y="926"/>
                  </a:lnTo>
                  <a:lnTo>
                    <a:pt x="826" y="936"/>
                  </a:lnTo>
                  <a:lnTo>
                    <a:pt x="805" y="944"/>
                  </a:lnTo>
                  <a:lnTo>
                    <a:pt x="782" y="952"/>
                  </a:lnTo>
                  <a:lnTo>
                    <a:pt x="759" y="958"/>
                  </a:lnTo>
                  <a:lnTo>
                    <a:pt x="735" y="964"/>
                  </a:lnTo>
                  <a:lnTo>
                    <a:pt x="709" y="969"/>
                  </a:lnTo>
                  <a:lnTo>
                    <a:pt x="684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1" y="979"/>
                  </a:lnTo>
                  <a:lnTo>
                    <a:pt x="505" y="978"/>
                  </a:lnTo>
                  <a:lnTo>
                    <a:pt x="479" y="976"/>
                  </a:lnTo>
                  <a:lnTo>
                    <a:pt x="455" y="973"/>
                  </a:lnTo>
                  <a:lnTo>
                    <a:pt x="430" y="970"/>
                  </a:lnTo>
                  <a:lnTo>
                    <a:pt x="407" y="965"/>
                  </a:lnTo>
                  <a:lnTo>
                    <a:pt x="383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7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38" y="904"/>
                  </a:lnTo>
                  <a:lnTo>
                    <a:pt x="221" y="893"/>
                  </a:lnTo>
                  <a:lnTo>
                    <a:pt x="203" y="881"/>
                  </a:lnTo>
                  <a:lnTo>
                    <a:pt x="187" y="867"/>
                  </a:lnTo>
                  <a:lnTo>
                    <a:pt x="169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5" y="811"/>
                  </a:lnTo>
                  <a:lnTo>
                    <a:pt x="112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5" y="684"/>
                  </a:lnTo>
                  <a:lnTo>
                    <a:pt x="37" y="663"/>
                  </a:lnTo>
                  <a:lnTo>
                    <a:pt x="29" y="642"/>
                  </a:lnTo>
                  <a:lnTo>
                    <a:pt x="22" y="620"/>
                  </a:lnTo>
                  <a:lnTo>
                    <a:pt x="16" y="598"/>
                  </a:lnTo>
                  <a:lnTo>
                    <a:pt x="8" y="567"/>
                  </a:lnTo>
                  <a:lnTo>
                    <a:pt x="3" y="537"/>
                  </a:lnTo>
                  <a:lnTo>
                    <a:pt x="0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7" y="389"/>
                  </a:lnTo>
                  <a:lnTo>
                    <a:pt x="11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5" y="323"/>
                  </a:lnTo>
                  <a:lnTo>
                    <a:pt x="32" y="307"/>
                  </a:lnTo>
                  <a:lnTo>
                    <a:pt x="39" y="290"/>
                  </a:lnTo>
                  <a:lnTo>
                    <a:pt x="46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2" y="227"/>
                  </a:lnTo>
                  <a:lnTo>
                    <a:pt x="83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6" y="155"/>
                  </a:lnTo>
                  <a:lnTo>
                    <a:pt x="142" y="138"/>
                  </a:lnTo>
                  <a:lnTo>
                    <a:pt x="158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0" y="79"/>
                  </a:lnTo>
                  <a:lnTo>
                    <a:pt x="228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1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3" y="17"/>
                  </a:lnTo>
                  <a:lnTo>
                    <a:pt x="350" y="14"/>
                  </a:lnTo>
                  <a:lnTo>
                    <a:pt x="383" y="8"/>
                  </a:lnTo>
                  <a:lnTo>
                    <a:pt x="413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8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49" y="8"/>
                  </a:lnTo>
                  <a:lnTo>
                    <a:pt x="569" y="11"/>
                  </a:lnTo>
                  <a:lnTo>
                    <a:pt x="588" y="16"/>
                  </a:lnTo>
                  <a:lnTo>
                    <a:pt x="606" y="22"/>
                  </a:lnTo>
                  <a:lnTo>
                    <a:pt x="624" y="28"/>
                  </a:lnTo>
                  <a:lnTo>
                    <a:pt x="643" y="37"/>
                  </a:lnTo>
                  <a:lnTo>
                    <a:pt x="660" y="46"/>
                  </a:lnTo>
                  <a:lnTo>
                    <a:pt x="677" y="55"/>
                  </a:lnTo>
                  <a:lnTo>
                    <a:pt x="693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1" y="102"/>
                  </a:lnTo>
                  <a:lnTo>
                    <a:pt x="756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799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4" y="221"/>
                  </a:lnTo>
                  <a:lnTo>
                    <a:pt x="843" y="241"/>
                  </a:lnTo>
                  <a:lnTo>
                    <a:pt x="852" y="261"/>
                  </a:lnTo>
                  <a:lnTo>
                    <a:pt x="859" y="281"/>
                  </a:lnTo>
                  <a:lnTo>
                    <a:pt x="866" y="302"/>
                  </a:lnTo>
                  <a:lnTo>
                    <a:pt x="872" y="324"/>
                  </a:lnTo>
                  <a:lnTo>
                    <a:pt x="875" y="348"/>
                  </a:lnTo>
                  <a:lnTo>
                    <a:pt x="879" y="370"/>
                  </a:lnTo>
                  <a:lnTo>
                    <a:pt x="882" y="394"/>
                  </a:lnTo>
                  <a:lnTo>
                    <a:pt x="883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1" y="319"/>
                  </a:lnTo>
                  <a:lnTo>
                    <a:pt x="579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8" y="265"/>
                  </a:lnTo>
                  <a:lnTo>
                    <a:pt x="563" y="253"/>
                  </a:lnTo>
                  <a:lnTo>
                    <a:pt x="557" y="243"/>
                  </a:lnTo>
                  <a:lnTo>
                    <a:pt x="551" y="234"/>
                  </a:lnTo>
                  <a:lnTo>
                    <a:pt x="542" y="226"/>
                  </a:lnTo>
                  <a:lnTo>
                    <a:pt x="535" y="219"/>
                  </a:lnTo>
                  <a:lnTo>
                    <a:pt x="525" y="211"/>
                  </a:lnTo>
                  <a:lnTo>
                    <a:pt x="515" y="206"/>
                  </a:lnTo>
                  <a:lnTo>
                    <a:pt x="504" y="202"/>
                  </a:lnTo>
                  <a:lnTo>
                    <a:pt x="493" y="199"/>
                  </a:lnTo>
                  <a:lnTo>
                    <a:pt x="481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39" y="194"/>
                  </a:lnTo>
                  <a:lnTo>
                    <a:pt x="424" y="197"/>
                  </a:lnTo>
                  <a:lnTo>
                    <a:pt x="410" y="199"/>
                  </a:lnTo>
                  <a:lnTo>
                    <a:pt x="398" y="202"/>
                  </a:lnTo>
                  <a:lnTo>
                    <a:pt x="386" y="206"/>
                  </a:lnTo>
                  <a:lnTo>
                    <a:pt x="375" y="211"/>
                  </a:lnTo>
                  <a:lnTo>
                    <a:pt x="365" y="218"/>
                  </a:lnTo>
                  <a:lnTo>
                    <a:pt x="356" y="225"/>
                  </a:lnTo>
                  <a:lnTo>
                    <a:pt x="348" y="232"/>
                  </a:lnTo>
                  <a:lnTo>
                    <a:pt x="340" y="241"/>
                  </a:lnTo>
                  <a:lnTo>
                    <a:pt x="333" y="251"/>
                  </a:lnTo>
                  <a:lnTo>
                    <a:pt x="327" y="262"/>
                  </a:lnTo>
                  <a:lnTo>
                    <a:pt x="322" y="274"/>
                  </a:lnTo>
                  <a:lnTo>
                    <a:pt x="318" y="286"/>
                  </a:lnTo>
                  <a:lnTo>
                    <a:pt x="315" y="300"/>
                  </a:lnTo>
                  <a:lnTo>
                    <a:pt x="312" y="315"/>
                  </a:lnTo>
                  <a:lnTo>
                    <a:pt x="308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51400" y="499680"/>
              <a:ext cx="41400" cy="75240"/>
            </a:xfrm>
            <a:custGeom>
              <a:avLst/>
              <a:gdLst/>
              <a:ahLst/>
              <a:rect l="l" t="t" r="r" b="b"/>
              <a:pathLst>
                <a:path w="677" h="992">
                  <a:moveTo>
                    <a:pt x="0" y="992"/>
                  </a:moveTo>
                  <a:lnTo>
                    <a:pt x="0" y="931"/>
                  </a:lnTo>
                  <a:lnTo>
                    <a:pt x="0" y="925"/>
                  </a:lnTo>
                  <a:lnTo>
                    <a:pt x="2" y="918"/>
                  </a:lnTo>
                  <a:lnTo>
                    <a:pt x="4" y="914"/>
                  </a:lnTo>
                  <a:lnTo>
                    <a:pt x="7" y="907"/>
                  </a:lnTo>
                  <a:lnTo>
                    <a:pt x="10" y="904"/>
                  </a:lnTo>
                  <a:lnTo>
                    <a:pt x="14" y="899"/>
                  </a:lnTo>
                  <a:lnTo>
                    <a:pt x="19" y="895"/>
                  </a:lnTo>
                  <a:lnTo>
                    <a:pt x="25" y="890"/>
                  </a:lnTo>
                  <a:lnTo>
                    <a:pt x="40" y="885"/>
                  </a:lnTo>
                  <a:lnTo>
                    <a:pt x="66" y="880"/>
                  </a:lnTo>
                  <a:lnTo>
                    <a:pt x="73" y="873"/>
                  </a:lnTo>
                  <a:lnTo>
                    <a:pt x="77" y="869"/>
                  </a:lnTo>
                  <a:lnTo>
                    <a:pt x="78" y="858"/>
                  </a:lnTo>
                  <a:lnTo>
                    <a:pt x="80" y="851"/>
                  </a:lnTo>
                  <a:lnTo>
                    <a:pt x="80" y="824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7"/>
                  </a:lnTo>
                  <a:lnTo>
                    <a:pt x="80" y="223"/>
                  </a:lnTo>
                  <a:lnTo>
                    <a:pt x="80" y="208"/>
                  </a:lnTo>
                  <a:lnTo>
                    <a:pt x="80" y="189"/>
                  </a:lnTo>
                  <a:lnTo>
                    <a:pt x="78" y="185"/>
                  </a:lnTo>
                  <a:lnTo>
                    <a:pt x="77" y="182"/>
                  </a:lnTo>
                  <a:lnTo>
                    <a:pt x="74" y="181"/>
                  </a:lnTo>
                  <a:lnTo>
                    <a:pt x="73" y="178"/>
                  </a:lnTo>
                  <a:lnTo>
                    <a:pt x="37" y="169"/>
                  </a:lnTo>
                  <a:lnTo>
                    <a:pt x="29" y="167"/>
                  </a:lnTo>
                  <a:lnTo>
                    <a:pt x="21" y="163"/>
                  </a:lnTo>
                  <a:lnTo>
                    <a:pt x="15" y="158"/>
                  </a:lnTo>
                  <a:lnTo>
                    <a:pt x="9" y="153"/>
                  </a:lnTo>
                  <a:lnTo>
                    <a:pt x="5" y="147"/>
                  </a:lnTo>
                  <a:lnTo>
                    <a:pt x="3" y="141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64"/>
                  </a:lnTo>
                  <a:lnTo>
                    <a:pt x="361" y="64"/>
                  </a:lnTo>
                  <a:lnTo>
                    <a:pt x="361" y="140"/>
                  </a:lnTo>
                  <a:lnTo>
                    <a:pt x="387" y="108"/>
                  </a:lnTo>
                  <a:lnTo>
                    <a:pt x="399" y="93"/>
                  </a:lnTo>
                  <a:lnTo>
                    <a:pt x="411" y="81"/>
                  </a:lnTo>
                  <a:lnTo>
                    <a:pt x="425" y="69"/>
                  </a:lnTo>
                  <a:lnTo>
                    <a:pt x="438" y="58"/>
                  </a:lnTo>
                  <a:lnTo>
                    <a:pt x="453" y="48"/>
                  </a:lnTo>
                  <a:lnTo>
                    <a:pt x="468" y="39"/>
                  </a:lnTo>
                  <a:lnTo>
                    <a:pt x="484" y="32"/>
                  </a:lnTo>
                  <a:lnTo>
                    <a:pt x="499" y="25"/>
                  </a:lnTo>
                  <a:lnTo>
                    <a:pt x="516" y="18"/>
                  </a:lnTo>
                  <a:lnTo>
                    <a:pt x="532" y="14"/>
                  </a:lnTo>
                  <a:lnTo>
                    <a:pt x="550" y="10"/>
                  </a:lnTo>
                  <a:lnTo>
                    <a:pt x="569" y="6"/>
                  </a:lnTo>
                  <a:lnTo>
                    <a:pt x="588" y="4"/>
                  </a:lnTo>
                  <a:lnTo>
                    <a:pt x="608" y="1"/>
                  </a:lnTo>
                  <a:lnTo>
                    <a:pt x="629" y="1"/>
                  </a:lnTo>
                  <a:lnTo>
                    <a:pt x="650" y="0"/>
                  </a:lnTo>
                  <a:lnTo>
                    <a:pt x="677" y="0"/>
                  </a:lnTo>
                  <a:lnTo>
                    <a:pt x="677" y="313"/>
                  </a:lnTo>
                  <a:lnTo>
                    <a:pt x="645" y="314"/>
                  </a:lnTo>
                  <a:lnTo>
                    <a:pt x="610" y="314"/>
                  </a:lnTo>
                  <a:lnTo>
                    <a:pt x="585" y="314"/>
                  </a:lnTo>
                  <a:lnTo>
                    <a:pt x="566" y="313"/>
                  </a:lnTo>
                  <a:lnTo>
                    <a:pt x="558" y="311"/>
                  </a:lnTo>
                  <a:lnTo>
                    <a:pt x="554" y="309"/>
                  </a:lnTo>
                  <a:lnTo>
                    <a:pt x="551" y="307"/>
                  </a:lnTo>
                  <a:lnTo>
                    <a:pt x="548" y="303"/>
                  </a:lnTo>
                  <a:lnTo>
                    <a:pt x="545" y="300"/>
                  </a:lnTo>
                  <a:lnTo>
                    <a:pt x="539" y="289"/>
                  </a:lnTo>
                  <a:lnTo>
                    <a:pt x="533" y="275"/>
                  </a:lnTo>
                  <a:lnTo>
                    <a:pt x="529" y="265"/>
                  </a:lnTo>
                  <a:lnTo>
                    <a:pt x="527" y="253"/>
                  </a:lnTo>
                  <a:lnTo>
                    <a:pt x="523" y="246"/>
                  </a:lnTo>
                  <a:lnTo>
                    <a:pt x="521" y="239"/>
                  </a:lnTo>
                  <a:lnTo>
                    <a:pt x="517" y="235"/>
                  </a:lnTo>
                  <a:lnTo>
                    <a:pt x="513" y="230"/>
                  </a:lnTo>
                  <a:lnTo>
                    <a:pt x="510" y="226"/>
                  </a:lnTo>
                  <a:lnTo>
                    <a:pt x="505" y="223"/>
                  </a:lnTo>
                  <a:lnTo>
                    <a:pt x="499" y="222"/>
                  </a:lnTo>
                  <a:lnTo>
                    <a:pt x="494" y="222"/>
                  </a:lnTo>
                  <a:lnTo>
                    <a:pt x="486" y="223"/>
                  </a:lnTo>
                  <a:lnTo>
                    <a:pt x="478" y="226"/>
                  </a:lnTo>
                  <a:lnTo>
                    <a:pt x="468" y="231"/>
                  </a:lnTo>
                  <a:lnTo>
                    <a:pt x="457" y="238"/>
                  </a:lnTo>
                  <a:lnTo>
                    <a:pt x="436" y="253"/>
                  </a:lnTo>
                  <a:lnTo>
                    <a:pt x="433" y="254"/>
                  </a:lnTo>
                  <a:lnTo>
                    <a:pt x="419" y="271"/>
                  </a:lnTo>
                  <a:lnTo>
                    <a:pt x="414" y="276"/>
                  </a:lnTo>
                  <a:lnTo>
                    <a:pt x="403" y="286"/>
                  </a:lnTo>
                  <a:lnTo>
                    <a:pt x="396" y="292"/>
                  </a:lnTo>
                  <a:lnTo>
                    <a:pt x="392" y="298"/>
                  </a:lnTo>
                  <a:lnTo>
                    <a:pt x="392" y="300"/>
                  </a:lnTo>
                  <a:lnTo>
                    <a:pt x="392" y="302"/>
                  </a:lnTo>
                  <a:lnTo>
                    <a:pt x="392" y="810"/>
                  </a:lnTo>
                  <a:lnTo>
                    <a:pt x="392" y="824"/>
                  </a:lnTo>
                  <a:lnTo>
                    <a:pt x="392" y="847"/>
                  </a:lnTo>
                  <a:lnTo>
                    <a:pt x="394" y="855"/>
                  </a:lnTo>
                  <a:lnTo>
                    <a:pt x="398" y="861"/>
                  </a:lnTo>
                  <a:lnTo>
                    <a:pt x="400" y="866"/>
                  </a:lnTo>
                  <a:lnTo>
                    <a:pt x="403" y="869"/>
                  </a:lnTo>
                  <a:lnTo>
                    <a:pt x="408" y="874"/>
                  </a:lnTo>
                  <a:lnTo>
                    <a:pt x="412" y="878"/>
                  </a:lnTo>
                  <a:lnTo>
                    <a:pt x="414" y="879"/>
                  </a:lnTo>
                  <a:lnTo>
                    <a:pt x="416" y="880"/>
                  </a:lnTo>
                  <a:lnTo>
                    <a:pt x="442" y="885"/>
                  </a:lnTo>
                  <a:lnTo>
                    <a:pt x="457" y="890"/>
                  </a:lnTo>
                  <a:lnTo>
                    <a:pt x="462" y="895"/>
                  </a:lnTo>
                  <a:lnTo>
                    <a:pt x="467" y="899"/>
                  </a:lnTo>
                  <a:lnTo>
                    <a:pt x="471" y="902"/>
                  </a:lnTo>
                  <a:lnTo>
                    <a:pt x="475" y="907"/>
                  </a:lnTo>
                  <a:lnTo>
                    <a:pt x="478" y="912"/>
                  </a:lnTo>
                  <a:lnTo>
                    <a:pt x="479" y="917"/>
                  </a:lnTo>
                  <a:lnTo>
                    <a:pt x="480" y="923"/>
                  </a:lnTo>
                  <a:lnTo>
                    <a:pt x="481" y="930"/>
                  </a:lnTo>
                  <a:lnTo>
                    <a:pt x="481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94240" y="501120"/>
              <a:ext cx="48960" cy="76680"/>
            </a:xfrm>
            <a:custGeom>
              <a:avLst/>
              <a:gdLst/>
              <a:ahLst/>
              <a:rect l="l" t="t" r="r" b="b"/>
              <a:pathLst>
                <a:path w="804" h="1005">
                  <a:moveTo>
                    <a:pt x="0" y="930"/>
                  </a:moveTo>
                  <a:lnTo>
                    <a:pt x="0" y="681"/>
                  </a:lnTo>
                  <a:lnTo>
                    <a:pt x="60" y="679"/>
                  </a:lnTo>
                  <a:lnTo>
                    <a:pt x="77" y="679"/>
                  </a:lnTo>
                  <a:lnTo>
                    <a:pt x="91" y="679"/>
                  </a:lnTo>
                  <a:lnTo>
                    <a:pt x="101" y="680"/>
                  </a:lnTo>
                  <a:lnTo>
                    <a:pt x="106" y="681"/>
                  </a:lnTo>
                  <a:lnTo>
                    <a:pt x="119" y="711"/>
                  </a:lnTo>
                  <a:lnTo>
                    <a:pt x="147" y="745"/>
                  </a:lnTo>
                  <a:lnTo>
                    <a:pt x="166" y="763"/>
                  </a:lnTo>
                  <a:lnTo>
                    <a:pt x="183" y="779"/>
                  </a:lnTo>
                  <a:lnTo>
                    <a:pt x="199" y="792"/>
                  </a:lnTo>
                  <a:lnTo>
                    <a:pt x="214" y="801"/>
                  </a:lnTo>
                  <a:lnTo>
                    <a:pt x="229" y="809"/>
                  </a:lnTo>
                  <a:lnTo>
                    <a:pt x="245" y="815"/>
                  </a:lnTo>
                  <a:lnTo>
                    <a:pt x="262" y="820"/>
                  </a:lnTo>
                  <a:lnTo>
                    <a:pt x="281" y="824"/>
                  </a:lnTo>
                  <a:lnTo>
                    <a:pt x="305" y="824"/>
                  </a:lnTo>
                  <a:lnTo>
                    <a:pt x="322" y="824"/>
                  </a:lnTo>
                  <a:lnTo>
                    <a:pt x="354" y="824"/>
                  </a:lnTo>
                  <a:lnTo>
                    <a:pt x="371" y="824"/>
                  </a:lnTo>
                  <a:lnTo>
                    <a:pt x="386" y="822"/>
                  </a:lnTo>
                  <a:lnTo>
                    <a:pt x="398" y="821"/>
                  </a:lnTo>
                  <a:lnTo>
                    <a:pt x="408" y="819"/>
                  </a:lnTo>
                  <a:lnTo>
                    <a:pt x="418" y="816"/>
                  </a:lnTo>
                  <a:lnTo>
                    <a:pt x="428" y="813"/>
                  </a:lnTo>
                  <a:lnTo>
                    <a:pt x="441" y="808"/>
                  </a:lnTo>
                  <a:lnTo>
                    <a:pt x="455" y="801"/>
                  </a:lnTo>
                  <a:lnTo>
                    <a:pt x="466" y="795"/>
                  </a:lnTo>
                  <a:lnTo>
                    <a:pt x="476" y="789"/>
                  </a:lnTo>
                  <a:lnTo>
                    <a:pt x="484" y="782"/>
                  </a:lnTo>
                  <a:lnTo>
                    <a:pt x="492" y="773"/>
                  </a:lnTo>
                  <a:lnTo>
                    <a:pt x="497" y="763"/>
                  </a:lnTo>
                  <a:lnTo>
                    <a:pt x="500" y="754"/>
                  </a:lnTo>
                  <a:lnTo>
                    <a:pt x="503" y="743"/>
                  </a:lnTo>
                  <a:lnTo>
                    <a:pt x="504" y="730"/>
                  </a:lnTo>
                  <a:lnTo>
                    <a:pt x="503" y="719"/>
                  </a:lnTo>
                  <a:lnTo>
                    <a:pt x="499" y="708"/>
                  </a:lnTo>
                  <a:lnTo>
                    <a:pt x="494" y="697"/>
                  </a:lnTo>
                  <a:lnTo>
                    <a:pt x="487" y="687"/>
                  </a:lnTo>
                  <a:lnTo>
                    <a:pt x="462" y="665"/>
                  </a:lnTo>
                  <a:lnTo>
                    <a:pt x="436" y="647"/>
                  </a:lnTo>
                  <a:lnTo>
                    <a:pt x="429" y="643"/>
                  </a:lnTo>
                  <a:lnTo>
                    <a:pt x="375" y="618"/>
                  </a:lnTo>
                  <a:lnTo>
                    <a:pt x="364" y="615"/>
                  </a:lnTo>
                  <a:lnTo>
                    <a:pt x="315" y="593"/>
                  </a:lnTo>
                  <a:lnTo>
                    <a:pt x="274" y="577"/>
                  </a:lnTo>
                  <a:lnTo>
                    <a:pt x="197" y="536"/>
                  </a:lnTo>
                  <a:lnTo>
                    <a:pt x="176" y="524"/>
                  </a:lnTo>
                  <a:lnTo>
                    <a:pt x="157" y="510"/>
                  </a:lnTo>
                  <a:lnTo>
                    <a:pt x="139" y="498"/>
                  </a:lnTo>
                  <a:lnTo>
                    <a:pt x="123" y="485"/>
                  </a:lnTo>
                  <a:lnTo>
                    <a:pt x="108" y="471"/>
                  </a:lnTo>
                  <a:lnTo>
                    <a:pt x="94" y="456"/>
                  </a:lnTo>
                  <a:lnTo>
                    <a:pt x="81" y="443"/>
                  </a:lnTo>
                  <a:lnTo>
                    <a:pt x="70" y="428"/>
                  </a:lnTo>
                  <a:lnTo>
                    <a:pt x="60" y="413"/>
                  </a:lnTo>
                  <a:lnTo>
                    <a:pt x="53" y="397"/>
                  </a:lnTo>
                  <a:lnTo>
                    <a:pt x="45" y="383"/>
                  </a:lnTo>
                  <a:lnTo>
                    <a:pt x="39" y="367"/>
                  </a:lnTo>
                  <a:lnTo>
                    <a:pt x="34" y="351"/>
                  </a:lnTo>
                  <a:lnTo>
                    <a:pt x="32" y="335"/>
                  </a:lnTo>
                  <a:lnTo>
                    <a:pt x="29" y="319"/>
                  </a:lnTo>
                  <a:lnTo>
                    <a:pt x="28" y="302"/>
                  </a:lnTo>
                  <a:lnTo>
                    <a:pt x="28" y="293"/>
                  </a:lnTo>
                  <a:lnTo>
                    <a:pt x="28" y="283"/>
                  </a:lnTo>
                  <a:lnTo>
                    <a:pt x="28" y="273"/>
                  </a:lnTo>
                  <a:lnTo>
                    <a:pt x="28" y="264"/>
                  </a:lnTo>
                  <a:lnTo>
                    <a:pt x="33" y="246"/>
                  </a:lnTo>
                  <a:lnTo>
                    <a:pt x="35" y="237"/>
                  </a:lnTo>
                  <a:lnTo>
                    <a:pt x="39" y="223"/>
                  </a:lnTo>
                  <a:lnTo>
                    <a:pt x="43" y="211"/>
                  </a:lnTo>
                  <a:lnTo>
                    <a:pt x="48" y="199"/>
                  </a:lnTo>
                  <a:lnTo>
                    <a:pt x="53" y="186"/>
                  </a:lnTo>
                  <a:lnTo>
                    <a:pt x="59" y="174"/>
                  </a:lnTo>
                  <a:lnTo>
                    <a:pt x="66" y="163"/>
                  </a:lnTo>
                  <a:lnTo>
                    <a:pt x="74" y="152"/>
                  </a:lnTo>
                  <a:lnTo>
                    <a:pt x="82" y="141"/>
                  </a:lnTo>
                  <a:lnTo>
                    <a:pt x="91" y="131"/>
                  </a:lnTo>
                  <a:lnTo>
                    <a:pt x="101" y="120"/>
                  </a:lnTo>
                  <a:lnTo>
                    <a:pt x="112" y="110"/>
                  </a:lnTo>
                  <a:lnTo>
                    <a:pt x="124" y="100"/>
                  </a:lnTo>
                  <a:lnTo>
                    <a:pt x="135" y="92"/>
                  </a:lnTo>
                  <a:lnTo>
                    <a:pt x="149" y="83"/>
                  </a:lnTo>
                  <a:lnTo>
                    <a:pt x="162" y="75"/>
                  </a:lnTo>
                  <a:lnTo>
                    <a:pt x="177" y="66"/>
                  </a:lnTo>
                  <a:lnTo>
                    <a:pt x="192" y="57"/>
                  </a:lnTo>
                  <a:lnTo>
                    <a:pt x="208" y="50"/>
                  </a:lnTo>
                  <a:lnTo>
                    <a:pt x="225" y="44"/>
                  </a:lnTo>
                  <a:lnTo>
                    <a:pt x="242" y="36"/>
                  </a:lnTo>
                  <a:lnTo>
                    <a:pt x="259" y="32"/>
                  </a:lnTo>
                  <a:lnTo>
                    <a:pt x="278" y="25"/>
                  </a:lnTo>
                  <a:lnTo>
                    <a:pt x="296" y="21"/>
                  </a:lnTo>
                  <a:lnTo>
                    <a:pt x="316" y="17"/>
                  </a:lnTo>
                  <a:lnTo>
                    <a:pt x="356" y="9"/>
                  </a:lnTo>
                  <a:lnTo>
                    <a:pt x="401" y="5"/>
                  </a:lnTo>
                  <a:lnTo>
                    <a:pt x="446" y="1"/>
                  </a:lnTo>
                  <a:lnTo>
                    <a:pt x="494" y="0"/>
                  </a:lnTo>
                  <a:lnTo>
                    <a:pt x="521" y="1"/>
                  </a:lnTo>
                  <a:lnTo>
                    <a:pt x="550" y="5"/>
                  </a:lnTo>
                  <a:lnTo>
                    <a:pt x="579" y="9"/>
                  </a:lnTo>
                  <a:lnTo>
                    <a:pt x="610" y="17"/>
                  </a:lnTo>
                  <a:lnTo>
                    <a:pt x="627" y="22"/>
                  </a:lnTo>
                  <a:lnTo>
                    <a:pt x="647" y="28"/>
                  </a:lnTo>
                  <a:lnTo>
                    <a:pt x="668" y="34"/>
                  </a:lnTo>
                  <a:lnTo>
                    <a:pt x="691" y="43"/>
                  </a:lnTo>
                  <a:lnTo>
                    <a:pt x="728" y="55"/>
                  </a:lnTo>
                  <a:lnTo>
                    <a:pt x="728" y="276"/>
                  </a:lnTo>
                  <a:lnTo>
                    <a:pt x="664" y="282"/>
                  </a:lnTo>
                  <a:lnTo>
                    <a:pt x="642" y="282"/>
                  </a:lnTo>
                  <a:lnTo>
                    <a:pt x="634" y="282"/>
                  </a:lnTo>
                  <a:lnTo>
                    <a:pt x="618" y="278"/>
                  </a:lnTo>
                  <a:lnTo>
                    <a:pt x="611" y="273"/>
                  </a:lnTo>
                  <a:lnTo>
                    <a:pt x="604" y="265"/>
                  </a:lnTo>
                  <a:lnTo>
                    <a:pt x="595" y="254"/>
                  </a:lnTo>
                  <a:lnTo>
                    <a:pt x="588" y="240"/>
                  </a:lnTo>
                  <a:lnTo>
                    <a:pt x="564" y="221"/>
                  </a:lnTo>
                  <a:lnTo>
                    <a:pt x="542" y="202"/>
                  </a:lnTo>
                  <a:lnTo>
                    <a:pt x="529" y="192"/>
                  </a:lnTo>
                  <a:lnTo>
                    <a:pt x="509" y="180"/>
                  </a:lnTo>
                  <a:lnTo>
                    <a:pt x="497" y="174"/>
                  </a:lnTo>
                  <a:lnTo>
                    <a:pt x="486" y="169"/>
                  </a:lnTo>
                  <a:lnTo>
                    <a:pt x="473" y="165"/>
                  </a:lnTo>
                  <a:lnTo>
                    <a:pt x="461" y="163"/>
                  </a:lnTo>
                  <a:lnTo>
                    <a:pt x="449" y="161"/>
                  </a:lnTo>
                  <a:lnTo>
                    <a:pt x="438" y="159"/>
                  </a:lnTo>
                  <a:lnTo>
                    <a:pt x="425" y="159"/>
                  </a:lnTo>
                  <a:lnTo>
                    <a:pt x="413" y="161"/>
                  </a:lnTo>
                  <a:lnTo>
                    <a:pt x="404" y="161"/>
                  </a:lnTo>
                  <a:lnTo>
                    <a:pt x="395" y="162"/>
                  </a:lnTo>
                  <a:lnTo>
                    <a:pt x="384" y="164"/>
                  </a:lnTo>
                  <a:lnTo>
                    <a:pt x="371" y="168"/>
                  </a:lnTo>
                  <a:lnTo>
                    <a:pt x="358" y="173"/>
                  </a:lnTo>
                  <a:lnTo>
                    <a:pt x="345" y="178"/>
                  </a:lnTo>
                  <a:lnTo>
                    <a:pt x="336" y="185"/>
                  </a:lnTo>
                  <a:lnTo>
                    <a:pt x="327" y="192"/>
                  </a:lnTo>
                  <a:lnTo>
                    <a:pt x="321" y="200"/>
                  </a:lnTo>
                  <a:lnTo>
                    <a:pt x="316" y="210"/>
                  </a:lnTo>
                  <a:lnTo>
                    <a:pt x="313" y="218"/>
                  </a:lnTo>
                  <a:lnTo>
                    <a:pt x="312" y="229"/>
                  </a:lnTo>
                  <a:lnTo>
                    <a:pt x="313" y="240"/>
                  </a:lnTo>
                  <a:lnTo>
                    <a:pt x="315" y="248"/>
                  </a:lnTo>
                  <a:lnTo>
                    <a:pt x="318" y="258"/>
                  </a:lnTo>
                  <a:lnTo>
                    <a:pt x="322" y="266"/>
                  </a:lnTo>
                  <a:lnTo>
                    <a:pt x="327" y="272"/>
                  </a:lnTo>
                  <a:lnTo>
                    <a:pt x="333" y="278"/>
                  </a:lnTo>
                  <a:lnTo>
                    <a:pt x="342" y="285"/>
                  </a:lnTo>
                  <a:lnTo>
                    <a:pt x="353" y="291"/>
                  </a:lnTo>
                  <a:lnTo>
                    <a:pt x="375" y="305"/>
                  </a:lnTo>
                  <a:lnTo>
                    <a:pt x="388" y="313"/>
                  </a:lnTo>
                  <a:lnTo>
                    <a:pt x="449" y="336"/>
                  </a:lnTo>
                  <a:lnTo>
                    <a:pt x="463" y="342"/>
                  </a:lnTo>
                  <a:lnTo>
                    <a:pt x="529" y="370"/>
                  </a:lnTo>
                  <a:lnTo>
                    <a:pt x="569" y="389"/>
                  </a:lnTo>
                  <a:lnTo>
                    <a:pt x="598" y="404"/>
                  </a:lnTo>
                  <a:lnTo>
                    <a:pt x="623" y="417"/>
                  </a:lnTo>
                  <a:lnTo>
                    <a:pt x="647" y="431"/>
                  </a:lnTo>
                  <a:lnTo>
                    <a:pt x="669" y="444"/>
                  </a:lnTo>
                  <a:lnTo>
                    <a:pt x="689" y="458"/>
                  </a:lnTo>
                  <a:lnTo>
                    <a:pt x="706" y="471"/>
                  </a:lnTo>
                  <a:lnTo>
                    <a:pt x="722" y="485"/>
                  </a:lnTo>
                  <a:lnTo>
                    <a:pt x="735" y="498"/>
                  </a:lnTo>
                  <a:lnTo>
                    <a:pt x="746" y="512"/>
                  </a:lnTo>
                  <a:lnTo>
                    <a:pt x="757" y="526"/>
                  </a:lnTo>
                  <a:lnTo>
                    <a:pt x="767" y="541"/>
                  </a:lnTo>
                  <a:lnTo>
                    <a:pt x="776" y="557"/>
                  </a:lnTo>
                  <a:lnTo>
                    <a:pt x="783" y="574"/>
                  </a:lnTo>
                  <a:lnTo>
                    <a:pt x="789" y="593"/>
                  </a:lnTo>
                  <a:lnTo>
                    <a:pt x="794" y="611"/>
                  </a:lnTo>
                  <a:lnTo>
                    <a:pt x="798" y="631"/>
                  </a:lnTo>
                  <a:lnTo>
                    <a:pt x="800" y="644"/>
                  </a:lnTo>
                  <a:lnTo>
                    <a:pt x="803" y="659"/>
                  </a:lnTo>
                  <a:lnTo>
                    <a:pt x="804" y="673"/>
                  </a:lnTo>
                  <a:lnTo>
                    <a:pt x="804" y="687"/>
                  </a:lnTo>
                  <a:lnTo>
                    <a:pt x="804" y="704"/>
                  </a:lnTo>
                  <a:lnTo>
                    <a:pt x="802" y="720"/>
                  </a:lnTo>
                  <a:lnTo>
                    <a:pt x="800" y="736"/>
                  </a:lnTo>
                  <a:lnTo>
                    <a:pt x="797" y="752"/>
                  </a:lnTo>
                  <a:lnTo>
                    <a:pt x="792" y="767"/>
                  </a:lnTo>
                  <a:lnTo>
                    <a:pt x="787" y="782"/>
                  </a:lnTo>
                  <a:lnTo>
                    <a:pt x="781" y="797"/>
                  </a:lnTo>
                  <a:lnTo>
                    <a:pt x="775" y="811"/>
                  </a:lnTo>
                  <a:lnTo>
                    <a:pt x="766" y="825"/>
                  </a:lnTo>
                  <a:lnTo>
                    <a:pt x="757" y="838"/>
                  </a:lnTo>
                  <a:lnTo>
                    <a:pt x="748" y="852"/>
                  </a:lnTo>
                  <a:lnTo>
                    <a:pt x="738" y="865"/>
                  </a:lnTo>
                  <a:lnTo>
                    <a:pt x="725" y="878"/>
                  </a:lnTo>
                  <a:lnTo>
                    <a:pt x="713" y="890"/>
                  </a:lnTo>
                  <a:lnTo>
                    <a:pt x="700" y="902"/>
                  </a:lnTo>
                  <a:lnTo>
                    <a:pt x="686" y="913"/>
                  </a:lnTo>
                  <a:lnTo>
                    <a:pt x="670" y="924"/>
                  </a:lnTo>
                  <a:lnTo>
                    <a:pt x="655" y="935"/>
                  </a:lnTo>
                  <a:lnTo>
                    <a:pt x="638" y="945"/>
                  </a:lnTo>
                  <a:lnTo>
                    <a:pt x="621" y="954"/>
                  </a:lnTo>
                  <a:lnTo>
                    <a:pt x="602" y="962"/>
                  </a:lnTo>
                  <a:lnTo>
                    <a:pt x="584" y="970"/>
                  </a:lnTo>
                  <a:lnTo>
                    <a:pt x="566" y="976"/>
                  </a:lnTo>
                  <a:lnTo>
                    <a:pt x="545" y="982"/>
                  </a:lnTo>
                  <a:lnTo>
                    <a:pt x="525" y="988"/>
                  </a:lnTo>
                  <a:lnTo>
                    <a:pt x="503" y="992"/>
                  </a:lnTo>
                  <a:lnTo>
                    <a:pt x="481" y="997"/>
                  </a:lnTo>
                  <a:lnTo>
                    <a:pt x="459" y="999"/>
                  </a:lnTo>
                  <a:lnTo>
                    <a:pt x="434" y="1002"/>
                  </a:lnTo>
                  <a:lnTo>
                    <a:pt x="411" y="1004"/>
                  </a:lnTo>
                  <a:lnTo>
                    <a:pt x="386" y="1005"/>
                  </a:lnTo>
                  <a:lnTo>
                    <a:pt x="360" y="1005"/>
                  </a:lnTo>
                  <a:lnTo>
                    <a:pt x="332" y="1004"/>
                  </a:lnTo>
                  <a:lnTo>
                    <a:pt x="301" y="1003"/>
                  </a:lnTo>
                  <a:lnTo>
                    <a:pt x="264" y="999"/>
                  </a:lnTo>
                  <a:lnTo>
                    <a:pt x="225" y="994"/>
                  </a:lnTo>
                  <a:lnTo>
                    <a:pt x="203" y="992"/>
                  </a:lnTo>
                  <a:lnTo>
                    <a:pt x="182" y="987"/>
                  </a:lnTo>
                  <a:lnTo>
                    <a:pt x="160" y="983"/>
                  </a:lnTo>
                  <a:lnTo>
                    <a:pt x="136" y="977"/>
                  </a:lnTo>
                  <a:lnTo>
                    <a:pt x="114" y="971"/>
                  </a:lnTo>
                  <a:lnTo>
                    <a:pt x="91" y="964"/>
                  </a:lnTo>
                  <a:lnTo>
                    <a:pt x="67" y="956"/>
                  </a:lnTo>
                  <a:lnTo>
                    <a:pt x="43" y="948"/>
                  </a:lnTo>
                  <a:lnTo>
                    <a:pt x="22" y="940"/>
                  </a:lnTo>
                  <a:lnTo>
                    <a:pt x="0" y="930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47160" y="501120"/>
              <a:ext cx="66960" cy="105120"/>
            </a:xfrm>
            <a:custGeom>
              <a:avLst/>
              <a:gdLst/>
              <a:ahLst/>
              <a:rect l="l" t="t" r="r" b="b"/>
              <a:pathLst>
                <a:path w="1076" h="1370">
                  <a:moveTo>
                    <a:pt x="0" y="1370"/>
                  </a:moveTo>
                  <a:lnTo>
                    <a:pt x="0" y="1307"/>
                  </a:lnTo>
                  <a:lnTo>
                    <a:pt x="0" y="1298"/>
                  </a:lnTo>
                  <a:lnTo>
                    <a:pt x="2" y="1291"/>
                  </a:lnTo>
                  <a:lnTo>
                    <a:pt x="5" y="1284"/>
                  </a:lnTo>
                  <a:lnTo>
                    <a:pt x="10" y="1278"/>
                  </a:lnTo>
                  <a:lnTo>
                    <a:pt x="15" y="1273"/>
                  </a:lnTo>
                  <a:lnTo>
                    <a:pt x="21" y="1270"/>
                  </a:lnTo>
                  <a:lnTo>
                    <a:pt x="30" y="1266"/>
                  </a:lnTo>
                  <a:lnTo>
                    <a:pt x="38" y="1264"/>
                  </a:lnTo>
                  <a:lnTo>
                    <a:pt x="57" y="1257"/>
                  </a:lnTo>
                  <a:lnTo>
                    <a:pt x="60" y="1255"/>
                  </a:lnTo>
                  <a:lnTo>
                    <a:pt x="65" y="1250"/>
                  </a:lnTo>
                  <a:lnTo>
                    <a:pt x="68" y="1244"/>
                  </a:lnTo>
                  <a:lnTo>
                    <a:pt x="71" y="1235"/>
                  </a:lnTo>
                  <a:lnTo>
                    <a:pt x="73" y="1228"/>
                  </a:lnTo>
                  <a:lnTo>
                    <a:pt x="76" y="1214"/>
                  </a:lnTo>
                  <a:lnTo>
                    <a:pt x="76" y="1200"/>
                  </a:lnTo>
                  <a:lnTo>
                    <a:pt x="76" y="1190"/>
                  </a:lnTo>
                  <a:lnTo>
                    <a:pt x="76" y="227"/>
                  </a:lnTo>
                  <a:lnTo>
                    <a:pt x="76" y="215"/>
                  </a:lnTo>
                  <a:lnTo>
                    <a:pt x="76" y="197"/>
                  </a:lnTo>
                  <a:lnTo>
                    <a:pt x="76" y="186"/>
                  </a:lnTo>
                  <a:lnTo>
                    <a:pt x="69" y="167"/>
                  </a:lnTo>
                  <a:lnTo>
                    <a:pt x="64" y="156"/>
                  </a:lnTo>
                  <a:lnTo>
                    <a:pt x="37" y="147"/>
                  </a:lnTo>
                  <a:lnTo>
                    <a:pt x="28" y="144"/>
                  </a:lnTo>
                  <a:lnTo>
                    <a:pt x="21" y="140"/>
                  </a:lnTo>
                  <a:lnTo>
                    <a:pt x="15" y="136"/>
                  </a:lnTo>
                  <a:lnTo>
                    <a:pt x="10" y="131"/>
                  </a:lnTo>
                  <a:lnTo>
                    <a:pt x="5" y="125"/>
                  </a:lnTo>
                  <a:lnTo>
                    <a:pt x="2" y="119"/>
                  </a:lnTo>
                  <a:lnTo>
                    <a:pt x="0" y="112"/>
                  </a:lnTo>
                  <a:lnTo>
                    <a:pt x="0" y="103"/>
                  </a:lnTo>
                  <a:lnTo>
                    <a:pt x="0" y="42"/>
                  </a:lnTo>
                  <a:lnTo>
                    <a:pt x="390" y="42"/>
                  </a:lnTo>
                  <a:lnTo>
                    <a:pt x="390" y="145"/>
                  </a:lnTo>
                  <a:lnTo>
                    <a:pt x="399" y="133"/>
                  </a:lnTo>
                  <a:lnTo>
                    <a:pt x="408" y="122"/>
                  </a:lnTo>
                  <a:lnTo>
                    <a:pt x="419" y="109"/>
                  </a:lnTo>
                  <a:lnTo>
                    <a:pt x="430" y="98"/>
                  </a:lnTo>
                  <a:lnTo>
                    <a:pt x="442" y="89"/>
                  </a:lnTo>
                  <a:lnTo>
                    <a:pt x="453" y="79"/>
                  </a:lnTo>
                  <a:lnTo>
                    <a:pt x="465" y="70"/>
                  </a:lnTo>
                  <a:lnTo>
                    <a:pt x="477" y="61"/>
                  </a:lnTo>
                  <a:lnTo>
                    <a:pt x="491" y="53"/>
                  </a:lnTo>
                  <a:lnTo>
                    <a:pt x="504" y="46"/>
                  </a:lnTo>
                  <a:lnTo>
                    <a:pt x="519" y="38"/>
                  </a:lnTo>
                  <a:lnTo>
                    <a:pt x="534" y="32"/>
                  </a:lnTo>
                  <a:lnTo>
                    <a:pt x="549" y="26"/>
                  </a:lnTo>
                  <a:lnTo>
                    <a:pt x="563" y="20"/>
                  </a:lnTo>
                  <a:lnTo>
                    <a:pt x="579" y="15"/>
                  </a:lnTo>
                  <a:lnTo>
                    <a:pt x="597" y="11"/>
                  </a:lnTo>
                  <a:lnTo>
                    <a:pt x="617" y="6"/>
                  </a:lnTo>
                  <a:lnTo>
                    <a:pt x="638" y="3"/>
                  </a:lnTo>
                  <a:lnTo>
                    <a:pt x="659" y="1"/>
                  </a:lnTo>
                  <a:lnTo>
                    <a:pt x="680" y="0"/>
                  </a:lnTo>
                  <a:lnTo>
                    <a:pt x="695" y="0"/>
                  </a:lnTo>
                  <a:lnTo>
                    <a:pt x="710" y="1"/>
                  </a:lnTo>
                  <a:lnTo>
                    <a:pt x="726" y="3"/>
                  </a:lnTo>
                  <a:lnTo>
                    <a:pt x="740" y="5"/>
                  </a:lnTo>
                  <a:lnTo>
                    <a:pt x="774" y="11"/>
                  </a:lnTo>
                  <a:lnTo>
                    <a:pt x="804" y="20"/>
                  </a:lnTo>
                  <a:lnTo>
                    <a:pt x="834" y="30"/>
                  </a:lnTo>
                  <a:lnTo>
                    <a:pt x="861" y="41"/>
                  </a:lnTo>
                  <a:lnTo>
                    <a:pt x="875" y="48"/>
                  </a:lnTo>
                  <a:lnTo>
                    <a:pt x="887" y="55"/>
                  </a:lnTo>
                  <a:lnTo>
                    <a:pt x="899" y="63"/>
                  </a:lnTo>
                  <a:lnTo>
                    <a:pt x="911" y="70"/>
                  </a:lnTo>
                  <a:lnTo>
                    <a:pt x="924" y="79"/>
                  </a:lnTo>
                  <a:lnTo>
                    <a:pt x="935" y="89"/>
                  </a:lnTo>
                  <a:lnTo>
                    <a:pt x="945" y="98"/>
                  </a:lnTo>
                  <a:lnTo>
                    <a:pt x="956" y="108"/>
                  </a:lnTo>
                  <a:lnTo>
                    <a:pt x="975" y="129"/>
                  </a:lnTo>
                  <a:lnTo>
                    <a:pt x="993" y="152"/>
                  </a:lnTo>
                  <a:lnTo>
                    <a:pt x="1009" y="178"/>
                  </a:lnTo>
                  <a:lnTo>
                    <a:pt x="1023" y="205"/>
                  </a:lnTo>
                  <a:lnTo>
                    <a:pt x="1036" y="235"/>
                  </a:lnTo>
                  <a:lnTo>
                    <a:pt x="1048" y="267"/>
                  </a:lnTo>
                  <a:lnTo>
                    <a:pt x="1057" y="300"/>
                  </a:lnTo>
                  <a:lnTo>
                    <a:pt x="1065" y="334"/>
                  </a:lnTo>
                  <a:lnTo>
                    <a:pt x="1076" y="420"/>
                  </a:lnTo>
                  <a:lnTo>
                    <a:pt x="1075" y="448"/>
                  </a:lnTo>
                  <a:lnTo>
                    <a:pt x="1074" y="475"/>
                  </a:lnTo>
                  <a:lnTo>
                    <a:pt x="1071" y="501"/>
                  </a:lnTo>
                  <a:lnTo>
                    <a:pt x="1068" y="527"/>
                  </a:lnTo>
                  <a:lnTo>
                    <a:pt x="1064" y="553"/>
                  </a:lnTo>
                  <a:lnTo>
                    <a:pt x="1058" y="577"/>
                  </a:lnTo>
                  <a:lnTo>
                    <a:pt x="1052" y="602"/>
                  </a:lnTo>
                  <a:lnTo>
                    <a:pt x="1044" y="625"/>
                  </a:lnTo>
                  <a:lnTo>
                    <a:pt x="1037" y="647"/>
                  </a:lnTo>
                  <a:lnTo>
                    <a:pt x="1027" y="669"/>
                  </a:lnTo>
                  <a:lnTo>
                    <a:pt x="1017" y="690"/>
                  </a:lnTo>
                  <a:lnTo>
                    <a:pt x="1006" y="711"/>
                  </a:lnTo>
                  <a:lnTo>
                    <a:pt x="994" y="732"/>
                  </a:lnTo>
                  <a:lnTo>
                    <a:pt x="980" y="750"/>
                  </a:lnTo>
                  <a:lnTo>
                    <a:pt x="967" y="770"/>
                  </a:lnTo>
                  <a:lnTo>
                    <a:pt x="951" y="788"/>
                  </a:lnTo>
                  <a:lnTo>
                    <a:pt x="935" y="806"/>
                  </a:lnTo>
                  <a:lnTo>
                    <a:pt x="918" y="822"/>
                  </a:lnTo>
                  <a:lnTo>
                    <a:pt x="900" y="838"/>
                  </a:lnTo>
                  <a:lnTo>
                    <a:pt x="882" y="852"/>
                  </a:lnTo>
                  <a:lnTo>
                    <a:pt x="862" y="867"/>
                  </a:lnTo>
                  <a:lnTo>
                    <a:pt x="841" y="879"/>
                  </a:lnTo>
                  <a:lnTo>
                    <a:pt x="819" y="892"/>
                  </a:lnTo>
                  <a:lnTo>
                    <a:pt x="797" y="904"/>
                  </a:lnTo>
                  <a:lnTo>
                    <a:pt x="774" y="914"/>
                  </a:lnTo>
                  <a:lnTo>
                    <a:pt x="749" y="923"/>
                  </a:lnTo>
                  <a:lnTo>
                    <a:pt x="724" y="933"/>
                  </a:lnTo>
                  <a:lnTo>
                    <a:pt x="697" y="941"/>
                  </a:lnTo>
                  <a:lnTo>
                    <a:pt x="670" y="948"/>
                  </a:lnTo>
                  <a:lnTo>
                    <a:pt x="643" y="955"/>
                  </a:lnTo>
                  <a:lnTo>
                    <a:pt x="614" y="960"/>
                  </a:lnTo>
                  <a:lnTo>
                    <a:pt x="584" y="965"/>
                  </a:lnTo>
                  <a:lnTo>
                    <a:pt x="493" y="970"/>
                  </a:lnTo>
                  <a:lnTo>
                    <a:pt x="390" y="970"/>
                  </a:lnTo>
                  <a:lnTo>
                    <a:pt x="390" y="1173"/>
                  </a:lnTo>
                  <a:lnTo>
                    <a:pt x="390" y="1186"/>
                  </a:lnTo>
                  <a:lnTo>
                    <a:pt x="390" y="1197"/>
                  </a:lnTo>
                  <a:lnTo>
                    <a:pt x="390" y="1216"/>
                  </a:lnTo>
                  <a:lnTo>
                    <a:pt x="390" y="1222"/>
                  </a:lnTo>
                  <a:lnTo>
                    <a:pt x="394" y="1233"/>
                  </a:lnTo>
                  <a:lnTo>
                    <a:pt x="397" y="1241"/>
                  </a:lnTo>
                  <a:lnTo>
                    <a:pt x="401" y="1246"/>
                  </a:lnTo>
                  <a:lnTo>
                    <a:pt x="406" y="1249"/>
                  </a:lnTo>
                  <a:lnTo>
                    <a:pt x="433" y="1254"/>
                  </a:lnTo>
                  <a:lnTo>
                    <a:pt x="439" y="1256"/>
                  </a:lnTo>
                  <a:lnTo>
                    <a:pt x="445" y="1259"/>
                  </a:lnTo>
                  <a:lnTo>
                    <a:pt x="451" y="1262"/>
                  </a:lnTo>
                  <a:lnTo>
                    <a:pt x="456" y="1265"/>
                  </a:lnTo>
                  <a:lnTo>
                    <a:pt x="461" y="1270"/>
                  </a:lnTo>
                  <a:lnTo>
                    <a:pt x="465" y="1275"/>
                  </a:lnTo>
                  <a:lnTo>
                    <a:pt x="467" y="1280"/>
                  </a:lnTo>
                  <a:lnTo>
                    <a:pt x="470" y="1284"/>
                  </a:lnTo>
                  <a:lnTo>
                    <a:pt x="470" y="1302"/>
                  </a:lnTo>
                  <a:lnTo>
                    <a:pt x="470" y="1370"/>
                  </a:lnTo>
                  <a:lnTo>
                    <a:pt x="0" y="1370"/>
                  </a:lnTo>
                  <a:close/>
                  <a:moveTo>
                    <a:pt x="429" y="787"/>
                  </a:moveTo>
                  <a:lnTo>
                    <a:pt x="471" y="786"/>
                  </a:lnTo>
                  <a:lnTo>
                    <a:pt x="510" y="782"/>
                  </a:lnTo>
                  <a:lnTo>
                    <a:pt x="529" y="780"/>
                  </a:lnTo>
                  <a:lnTo>
                    <a:pt x="546" y="777"/>
                  </a:lnTo>
                  <a:lnTo>
                    <a:pt x="563" y="774"/>
                  </a:lnTo>
                  <a:lnTo>
                    <a:pt x="581" y="770"/>
                  </a:lnTo>
                  <a:lnTo>
                    <a:pt x="595" y="765"/>
                  </a:lnTo>
                  <a:lnTo>
                    <a:pt x="611" y="760"/>
                  </a:lnTo>
                  <a:lnTo>
                    <a:pt x="625" y="754"/>
                  </a:lnTo>
                  <a:lnTo>
                    <a:pt x="640" y="748"/>
                  </a:lnTo>
                  <a:lnTo>
                    <a:pt x="652" y="741"/>
                  </a:lnTo>
                  <a:lnTo>
                    <a:pt x="664" y="733"/>
                  </a:lnTo>
                  <a:lnTo>
                    <a:pt x="676" y="726"/>
                  </a:lnTo>
                  <a:lnTo>
                    <a:pt x="688" y="717"/>
                  </a:lnTo>
                  <a:lnTo>
                    <a:pt x="697" y="709"/>
                  </a:lnTo>
                  <a:lnTo>
                    <a:pt x="707" y="699"/>
                  </a:lnTo>
                  <a:lnTo>
                    <a:pt x="717" y="689"/>
                  </a:lnTo>
                  <a:lnTo>
                    <a:pt x="726" y="678"/>
                  </a:lnTo>
                  <a:lnTo>
                    <a:pt x="733" y="667"/>
                  </a:lnTo>
                  <a:lnTo>
                    <a:pt x="740" y="655"/>
                  </a:lnTo>
                  <a:lnTo>
                    <a:pt x="747" y="642"/>
                  </a:lnTo>
                  <a:lnTo>
                    <a:pt x="752" y="630"/>
                  </a:lnTo>
                  <a:lnTo>
                    <a:pt x="758" y="616"/>
                  </a:lnTo>
                  <a:lnTo>
                    <a:pt x="761" y="602"/>
                  </a:lnTo>
                  <a:lnTo>
                    <a:pt x="765" y="588"/>
                  </a:lnTo>
                  <a:lnTo>
                    <a:pt x="769" y="572"/>
                  </a:lnTo>
                  <a:lnTo>
                    <a:pt x="770" y="558"/>
                  </a:lnTo>
                  <a:lnTo>
                    <a:pt x="772" y="542"/>
                  </a:lnTo>
                  <a:lnTo>
                    <a:pt x="774" y="524"/>
                  </a:lnTo>
                  <a:lnTo>
                    <a:pt x="774" y="507"/>
                  </a:lnTo>
                  <a:lnTo>
                    <a:pt x="774" y="483"/>
                  </a:lnTo>
                  <a:lnTo>
                    <a:pt x="771" y="458"/>
                  </a:lnTo>
                  <a:lnTo>
                    <a:pt x="769" y="434"/>
                  </a:lnTo>
                  <a:lnTo>
                    <a:pt x="765" y="408"/>
                  </a:lnTo>
                  <a:lnTo>
                    <a:pt x="760" y="384"/>
                  </a:lnTo>
                  <a:lnTo>
                    <a:pt x="754" y="362"/>
                  </a:lnTo>
                  <a:lnTo>
                    <a:pt x="748" y="343"/>
                  </a:lnTo>
                  <a:lnTo>
                    <a:pt x="740" y="325"/>
                  </a:lnTo>
                  <a:lnTo>
                    <a:pt x="734" y="312"/>
                  </a:lnTo>
                  <a:lnTo>
                    <a:pt x="728" y="298"/>
                  </a:lnTo>
                  <a:lnTo>
                    <a:pt x="721" y="287"/>
                  </a:lnTo>
                  <a:lnTo>
                    <a:pt x="712" y="276"/>
                  </a:lnTo>
                  <a:lnTo>
                    <a:pt x="705" y="267"/>
                  </a:lnTo>
                  <a:lnTo>
                    <a:pt x="696" y="257"/>
                  </a:lnTo>
                  <a:lnTo>
                    <a:pt x="686" y="248"/>
                  </a:lnTo>
                  <a:lnTo>
                    <a:pt x="678" y="241"/>
                  </a:lnTo>
                  <a:lnTo>
                    <a:pt x="667" y="235"/>
                  </a:lnTo>
                  <a:lnTo>
                    <a:pt x="657" y="228"/>
                  </a:lnTo>
                  <a:lnTo>
                    <a:pt x="646" y="224"/>
                  </a:lnTo>
                  <a:lnTo>
                    <a:pt x="635" y="220"/>
                  </a:lnTo>
                  <a:lnTo>
                    <a:pt x="622" y="216"/>
                  </a:lnTo>
                  <a:lnTo>
                    <a:pt x="610" y="215"/>
                  </a:lnTo>
                  <a:lnTo>
                    <a:pt x="598" y="214"/>
                  </a:lnTo>
                  <a:lnTo>
                    <a:pt x="584" y="213"/>
                  </a:lnTo>
                  <a:lnTo>
                    <a:pt x="567" y="214"/>
                  </a:lnTo>
                  <a:lnTo>
                    <a:pt x="551" y="216"/>
                  </a:lnTo>
                  <a:lnTo>
                    <a:pt x="535" y="220"/>
                  </a:lnTo>
                  <a:lnTo>
                    <a:pt x="520" y="226"/>
                  </a:lnTo>
                  <a:lnTo>
                    <a:pt x="506" y="233"/>
                  </a:lnTo>
                  <a:lnTo>
                    <a:pt x="491" y="242"/>
                  </a:lnTo>
                  <a:lnTo>
                    <a:pt x="476" y="253"/>
                  </a:lnTo>
                  <a:lnTo>
                    <a:pt x="462" y="265"/>
                  </a:lnTo>
                  <a:lnTo>
                    <a:pt x="435" y="295"/>
                  </a:lnTo>
                  <a:lnTo>
                    <a:pt x="428" y="306"/>
                  </a:lnTo>
                  <a:lnTo>
                    <a:pt x="413" y="325"/>
                  </a:lnTo>
                  <a:lnTo>
                    <a:pt x="407" y="334"/>
                  </a:lnTo>
                  <a:lnTo>
                    <a:pt x="402" y="343"/>
                  </a:lnTo>
                  <a:lnTo>
                    <a:pt x="399" y="351"/>
                  </a:lnTo>
                  <a:lnTo>
                    <a:pt x="396" y="360"/>
                  </a:lnTo>
                  <a:lnTo>
                    <a:pt x="392" y="370"/>
                  </a:lnTo>
                  <a:lnTo>
                    <a:pt x="391" y="380"/>
                  </a:lnTo>
                  <a:lnTo>
                    <a:pt x="390" y="389"/>
                  </a:lnTo>
                  <a:lnTo>
                    <a:pt x="390" y="400"/>
                  </a:lnTo>
                  <a:lnTo>
                    <a:pt x="390" y="785"/>
                  </a:lnTo>
                  <a:lnTo>
                    <a:pt x="429" y="787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20600" y="502560"/>
              <a:ext cx="56160" cy="7488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2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20" y="612"/>
                  </a:lnTo>
                  <a:lnTo>
                    <a:pt x="330" y="633"/>
                  </a:lnTo>
                  <a:lnTo>
                    <a:pt x="343" y="655"/>
                  </a:lnTo>
                  <a:lnTo>
                    <a:pt x="359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7" y="726"/>
                  </a:lnTo>
                  <a:lnTo>
                    <a:pt x="417" y="734"/>
                  </a:lnTo>
                  <a:lnTo>
                    <a:pt x="428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3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6" y="782"/>
                  </a:lnTo>
                  <a:lnTo>
                    <a:pt x="558" y="784"/>
                  </a:lnTo>
                  <a:lnTo>
                    <a:pt x="572" y="782"/>
                  </a:lnTo>
                  <a:lnTo>
                    <a:pt x="584" y="782"/>
                  </a:lnTo>
                  <a:lnTo>
                    <a:pt x="598" y="780"/>
                  </a:lnTo>
                  <a:lnTo>
                    <a:pt x="611" y="777"/>
                  </a:lnTo>
                  <a:lnTo>
                    <a:pt x="625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9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9" y="694"/>
                  </a:lnTo>
                  <a:lnTo>
                    <a:pt x="776" y="685"/>
                  </a:lnTo>
                  <a:lnTo>
                    <a:pt x="788" y="671"/>
                  </a:lnTo>
                  <a:lnTo>
                    <a:pt x="808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3" y="633"/>
                  </a:lnTo>
                  <a:lnTo>
                    <a:pt x="901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8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9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3" y="952"/>
                  </a:lnTo>
                  <a:lnTo>
                    <a:pt x="760" y="958"/>
                  </a:lnTo>
                  <a:lnTo>
                    <a:pt x="735" y="964"/>
                  </a:lnTo>
                  <a:lnTo>
                    <a:pt x="711" y="969"/>
                  </a:lnTo>
                  <a:lnTo>
                    <a:pt x="685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2" y="979"/>
                  </a:lnTo>
                  <a:lnTo>
                    <a:pt x="505" y="978"/>
                  </a:lnTo>
                  <a:lnTo>
                    <a:pt x="481" y="976"/>
                  </a:lnTo>
                  <a:lnTo>
                    <a:pt x="455" y="973"/>
                  </a:lnTo>
                  <a:lnTo>
                    <a:pt x="432" y="970"/>
                  </a:lnTo>
                  <a:lnTo>
                    <a:pt x="407" y="965"/>
                  </a:lnTo>
                  <a:lnTo>
                    <a:pt x="384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40" y="904"/>
                  </a:lnTo>
                  <a:lnTo>
                    <a:pt x="221" y="893"/>
                  </a:lnTo>
                  <a:lnTo>
                    <a:pt x="204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7" y="811"/>
                  </a:lnTo>
                  <a:lnTo>
                    <a:pt x="113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7" y="684"/>
                  </a:lnTo>
                  <a:lnTo>
                    <a:pt x="38" y="663"/>
                  </a:lnTo>
                  <a:lnTo>
                    <a:pt x="29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10" y="567"/>
                  </a:lnTo>
                  <a:lnTo>
                    <a:pt x="4" y="537"/>
                  </a:lnTo>
                  <a:lnTo>
                    <a:pt x="1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7" y="323"/>
                  </a:lnTo>
                  <a:lnTo>
                    <a:pt x="33" y="307"/>
                  </a:lnTo>
                  <a:lnTo>
                    <a:pt x="39" y="290"/>
                  </a:lnTo>
                  <a:lnTo>
                    <a:pt x="47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4" y="17"/>
                  </a:lnTo>
                  <a:lnTo>
                    <a:pt x="352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9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50" y="8"/>
                  </a:lnTo>
                  <a:lnTo>
                    <a:pt x="569" y="11"/>
                  </a:lnTo>
                  <a:lnTo>
                    <a:pt x="589" y="16"/>
                  </a:lnTo>
                  <a:lnTo>
                    <a:pt x="607" y="22"/>
                  </a:lnTo>
                  <a:lnTo>
                    <a:pt x="626" y="28"/>
                  </a:lnTo>
                  <a:lnTo>
                    <a:pt x="643" y="37"/>
                  </a:lnTo>
                  <a:lnTo>
                    <a:pt x="662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3" y="102"/>
                  </a:lnTo>
                  <a:lnTo>
                    <a:pt x="758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5" y="221"/>
                  </a:lnTo>
                  <a:lnTo>
                    <a:pt x="845" y="241"/>
                  </a:lnTo>
                  <a:lnTo>
                    <a:pt x="852" y="261"/>
                  </a:lnTo>
                  <a:lnTo>
                    <a:pt x="860" y="281"/>
                  </a:lnTo>
                  <a:lnTo>
                    <a:pt x="867" y="302"/>
                  </a:lnTo>
                  <a:lnTo>
                    <a:pt x="872" y="324"/>
                  </a:lnTo>
                  <a:lnTo>
                    <a:pt x="877" y="348"/>
                  </a:lnTo>
                  <a:lnTo>
                    <a:pt x="881" y="370"/>
                  </a:lnTo>
                  <a:lnTo>
                    <a:pt x="883" y="394"/>
                  </a:lnTo>
                  <a:lnTo>
                    <a:pt x="884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3" y="319"/>
                  </a:lnTo>
                  <a:lnTo>
                    <a:pt x="580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9" y="265"/>
                  </a:lnTo>
                  <a:lnTo>
                    <a:pt x="563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5" y="202"/>
                  </a:lnTo>
                  <a:lnTo>
                    <a:pt x="494" y="199"/>
                  </a:lnTo>
                  <a:lnTo>
                    <a:pt x="482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40" y="194"/>
                  </a:lnTo>
                  <a:lnTo>
                    <a:pt x="425" y="197"/>
                  </a:lnTo>
                  <a:lnTo>
                    <a:pt x="412" y="199"/>
                  </a:lnTo>
                  <a:lnTo>
                    <a:pt x="400" y="202"/>
                  </a:lnTo>
                  <a:lnTo>
                    <a:pt x="387" y="206"/>
                  </a:lnTo>
                  <a:lnTo>
                    <a:pt x="376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8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8" y="262"/>
                  </a:lnTo>
                  <a:lnTo>
                    <a:pt x="323" y="274"/>
                  </a:lnTo>
                  <a:lnTo>
                    <a:pt x="318" y="286"/>
                  </a:lnTo>
                  <a:lnTo>
                    <a:pt x="316" y="300"/>
                  </a:lnTo>
                  <a:lnTo>
                    <a:pt x="314" y="315"/>
                  </a:lnTo>
                  <a:lnTo>
                    <a:pt x="310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82880" y="501120"/>
              <a:ext cx="55080" cy="75240"/>
            </a:xfrm>
            <a:custGeom>
              <a:avLst/>
              <a:gdLst/>
              <a:ahLst/>
              <a:rect l="l" t="t" r="r" b="b"/>
              <a:pathLst>
                <a:path w="857" h="984">
                  <a:moveTo>
                    <a:pt x="857" y="188"/>
                  </a:moveTo>
                  <a:lnTo>
                    <a:pt x="682" y="413"/>
                  </a:lnTo>
                  <a:lnTo>
                    <a:pt x="660" y="402"/>
                  </a:lnTo>
                  <a:lnTo>
                    <a:pt x="642" y="390"/>
                  </a:lnTo>
                  <a:lnTo>
                    <a:pt x="627" y="382"/>
                  </a:lnTo>
                  <a:lnTo>
                    <a:pt x="615" y="373"/>
                  </a:lnTo>
                  <a:lnTo>
                    <a:pt x="606" y="367"/>
                  </a:lnTo>
                  <a:lnTo>
                    <a:pt x="601" y="361"/>
                  </a:lnTo>
                  <a:lnTo>
                    <a:pt x="596" y="356"/>
                  </a:lnTo>
                  <a:lnTo>
                    <a:pt x="593" y="350"/>
                  </a:lnTo>
                  <a:lnTo>
                    <a:pt x="591" y="346"/>
                  </a:lnTo>
                  <a:lnTo>
                    <a:pt x="595" y="311"/>
                  </a:lnTo>
                  <a:lnTo>
                    <a:pt x="596" y="298"/>
                  </a:lnTo>
                  <a:lnTo>
                    <a:pt x="596" y="284"/>
                  </a:lnTo>
                  <a:lnTo>
                    <a:pt x="595" y="271"/>
                  </a:lnTo>
                  <a:lnTo>
                    <a:pt x="594" y="262"/>
                  </a:lnTo>
                  <a:lnTo>
                    <a:pt x="591" y="254"/>
                  </a:lnTo>
                  <a:lnTo>
                    <a:pt x="588" y="247"/>
                  </a:lnTo>
                  <a:lnTo>
                    <a:pt x="582" y="238"/>
                  </a:lnTo>
                  <a:lnTo>
                    <a:pt x="574" y="228"/>
                  </a:lnTo>
                  <a:lnTo>
                    <a:pt x="564" y="219"/>
                  </a:lnTo>
                  <a:lnTo>
                    <a:pt x="557" y="212"/>
                  </a:lnTo>
                  <a:lnTo>
                    <a:pt x="548" y="206"/>
                  </a:lnTo>
                  <a:lnTo>
                    <a:pt x="541" y="201"/>
                  </a:lnTo>
                  <a:lnTo>
                    <a:pt x="531" y="198"/>
                  </a:lnTo>
                  <a:lnTo>
                    <a:pt x="521" y="195"/>
                  </a:lnTo>
                  <a:lnTo>
                    <a:pt x="510" y="193"/>
                  </a:lnTo>
                  <a:lnTo>
                    <a:pt x="499" y="192"/>
                  </a:lnTo>
                  <a:lnTo>
                    <a:pt x="488" y="192"/>
                  </a:lnTo>
                  <a:lnTo>
                    <a:pt x="475" y="193"/>
                  </a:lnTo>
                  <a:lnTo>
                    <a:pt x="452" y="196"/>
                  </a:lnTo>
                  <a:lnTo>
                    <a:pt x="445" y="199"/>
                  </a:lnTo>
                  <a:lnTo>
                    <a:pt x="439" y="201"/>
                  </a:lnTo>
                  <a:lnTo>
                    <a:pt x="432" y="204"/>
                  </a:lnTo>
                  <a:lnTo>
                    <a:pt x="425" y="209"/>
                  </a:lnTo>
                  <a:lnTo>
                    <a:pt x="411" y="219"/>
                  </a:lnTo>
                  <a:lnTo>
                    <a:pt x="397" y="231"/>
                  </a:lnTo>
                  <a:lnTo>
                    <a:pt x="390" y="239"/>
                  </a:lnTo>
                  <a:lnTo>
                    <a:pt x="382" y="248"/>
                  </a:lnTo>
                  <a:lnTo>
                    <a:pt x="375" y="258"/>
                  </a:lnTo>
                  <a:lnTo>
                    <a:pt x="369" y="268"/>
                  </a:lnTo>
                  <a:lnTo>
                    <a:pt x="355" y="292"/>
                  </a:lnTo>
                  <a:lnTo>
                    <a:pt x="342" y="320"/>
                  </a:lnTo>
                  <a:lnTo>
                    <a:pt x="336" y="339"/>
                  </a:lnTo>
                  <a:lnTo>
                    <a:pt x="331" y="354"/>
                  </a:lnTo>
                  <a:lnTo>
                    <a:pt x="325" y="371"/>
                  </a:lnTo>
                  <a:lnTo>
                    <a:pt x="320" y="387"/>
                  </a:lnTo>
                  <a:lnTo>
                    <a:pt x="316" y="403"/>
                  </a:lnTo>
                  <a:lnTo>
                    <a:pt x="312" y="416"/>
                  </a:lnTo>
                  <a:lnTo>
                    <a:pt x="307" y="445"/>
                  </a:lnTo>
                  <a:lnTo>
                    <a:pt x="304" y="473"/>
                  </a:lnTo>
                  <a:lnTo>
                    <a:pt x="301" y="500"/>
                  </a:lnTo>
                  <a:lnTo>
                    <a:pt x="300" y="528"/>
                  </a:lnTo>
                  <a:lnTo>
                    <a:pt x="301" y="559"/>
                  </a:lnTo>
                  <a:lnTo>
                    <a:pt x="305" y="588"/>
                  </a:lnTo>
                  <a:lnTo>
                    <a:pt x="306" y="603"/>
                  </a:lnTo>
                  <a:lnTo>
                    <a:pt x="310" y="616"/>
                  </a:lnTo>
                  <a:lnTo>
                    <a:pt x="313" y="629"/>
                  </a:lnTo>
                  <a:lnTo>
                    <a:pt x="317" y="641"/>
                  </a:lnTo>
                  <a:lnTo>
                    <a:pt x="321" y="653"/>
                  </a:lnTo>
                  <a:lnTo>
                    <a:pt x="326" y="666"/>
                  </a:lnTo>
                  <a:lnTo>
                    <a:pt x="332" y="677"/>
                  </a:lnTo>
                  <a:lnTo>
                    <a:pt x="338" y="688"/>
                  </a:lnTo>
                  <a:lnTo>
                    <a:pt x="344" y="697"/>
                  </a:lnTo>
                  <a:lnTo>
                    <a:pt x="352" y="707"/>
                  </a:lnTo>
                  <a:lnTo>
                    <a:pt x="359" y="717"/>
                  </a:lnTo>
                  <a:lnTo>
                    <a:pt x="368" y="726"/>
                  </a:lnTo>
                  <a:lnTo>
                    <a:pt x="384" y="740"/>
                  </a:lnTo>
                  <a:lnTo>
                    <a:pt x="401" y="754"/>
                  </a:lnTo>
                  <a:lnTo>
                    <a:pt x="419" y="765"/>
                  </a:lnTo>
                  <a:lnTo>
                    <a:pt x="440" y="774"/>
                  </a:lnTo>
                  <a:lnTo>
                    <a:pt x="461" y="780"/>
                  </a:lnTo>
                  <a:lnTo>
                    <a:pt x="483" y="786"/>
                  </a:lnTo>
                  <a:lnTo>
                    <a:pt x="508" y="788"/>
                  </a:lnTo>
                  <a:lnTo>
                    <a:pt x="534" y="790"/>
                  </a:lnTo>
                  <a:lnTo>
                    <a:pt x="561" y="788"/>
                  </a:lnTo>
                  <a:lnTo>
                    <a:pt x="584" y="786"/>
                  </a:lnTo>
                  <a:lnTo>
                    <a:pt x="595" y="783"/>
                  </a:lnTo>
                  <a:lnTo>
                    <a:pt x="605" y="782"/>
                  </a:lnTo>
                  <a:lnTo>
                    <a:pt x="614" y="778"/>
                  </a:lnTo>
                  <a:lnTo>
                    <a:pt x="621" y="776"/>
                  </a:lnTo>
                  <a:lnTo>
                    <a:pt x="637" y="767"/>
                  </a:lnTo>
                  <a:lnTo>
                    <a:pt x="653" y="756"/>
                  </a:lnTo>
                  <a:lnTo>
                    <a:pt x="670" y="742"/>
                  </a:lnTo>
                  <a:lnTo>
                    <a:pt x="687" y="723"/>
                  </a:lnTo>
                  <a:lnTo>
                    <a:pt x="697" y="715"/>
                  </a:lnTo>
                  <a:lnTo>
                    <a:pt x="721" y="688"/>
                  </a:lnTo>
                  <a:lnTo>
                    <a:pt x="729" y="679"/>
                  </a:lnTo>
                  <a:lnTo>
                    <a:pt x="738" y="672"/>
                  </a:lnTo>
                  <a:lnTo>
                    <a:pt x="745" y="667"/>
                  </a:lnTo>
                  <a:lnTo>
                    <a:pt x="753" y="664"/>
                  </a:lnTo>
                  <a:lnTo>
                    <a:pt x="761" y="662"/>
                  </a:lnTo>
                  <a:lnTo>
                    <a:pt x="776" y="661"/>
                  </a:lnTo>
                  <a:lnTo>
                    <a:pt x="794" y="661"/>
                  </a:lnTo>
                  <a:lnTo>
                    <a:pt x="819" y="661"/>
                  </a:lnTo>
                  <a:lnTo>
                    <a:pt x="837" y="661"/>
                  </a:lnTo>
                  <a:lnTo>
                    <a:pt x="837" y="930"/>
                  </a:lnTo>
                  <a:lnTo>
                    <a:pt x="786" y="948"/>
                  </a:lnTo>
                  <a:lnTo>
                    <a:pt x="755" y="955"/>
                  </a:lnTo>
                  <a:lnTo>
                    <a:pt x="724" y="963"/>
                  </a:lnTo>
                  <a:lnTo>
                    <a:pt x="695" y="970"/>
                  </a:lnTo>
                  <a:lnTo>
                    <a:pt x="665" y="975"/>
                  </a:lnTo>
                  <a:lnTo>
                    <a:pt x="637" y="979"/>
                  </a:lnTo>
                  <a:lnTo>
                    <a:pt x="609" y="981"/>
                  </a:lnTo>
                  <a:lnTo>
                    <a:pt x="582" y="984"/>
                  </a:lnTo>
                  <a:lnTo>
                    <a:pt x="555" y="984"/>
                  </a:lnTo>
                  <a:lnTo>
                    <a:pt x="521" y="982"/>
                  </a:lnTo>
                  <a:lnTo>
                    <a:pt x="489" y="981"/>
                  </a:lnTo>
                  <a:lnTo>
                    <a:pt x="459" y="976"/>
                  </a:lnTo>
                  <a:lnTo>
                    <a:pt x="429" y="971"/>
                  </a:lnTo>
                  <a:lnTo>
                    <a:pt x="384" y="961"/>
                  </a:lnTo>
                  <a:lnTo>
                    <a:pt x="342" y="949"/>
                  </a:lnTo>
                  <a:lnTo>
                    <a:pt x="321" y="943"/>
                  </a:lnTo>
                  <a:lnTo>
                    <a:pt x="302" y="936"/>
                  </a:lnTo>
                  <a:lnTo>
                    <a:pt x="283" y="928"/>
                  </a:lnTo>
                  <a:lnTo>
                    <a:pt x="264" y="920"/>
                  </a:lnTo>
                  <a:lnTo>
                    <a:pt x="247" y="911"/>
                  </a:lnTo>
                  <a:lnTo>
                    <a:pt x="230" y="903"/>
                  </a:lnTo>
                  <a:lnTo>
                    <a:pt x="214" y="894"/>
                  </a:lnTo>
                  <a:lnTo>
                    <a:pt x="198" y="884"/>
                  </a:lnTo>
                  <a:lnTo>
                    <a:pt x="183" y="873"/>
                  </a:lnTo>
                  <a:lnTo>
                    <a:pt x="170" y="863"/>
                  </a:lnTo>
                  <a:lnTo>
                    <a:pt x="156" y="852"/>
                  </a:lnTo>
                  <a:lnTo>
                    <a:pt x="143" y="840"/>
                  </a:lnTo>
                  <a:lnTo>
                    <a:pt x="130" y="828"/>
                  </a:lnTo>
                  <a:lnTo>
                    <a:pt x="118" y="815"/>
                  </a:lnTo>
                  <a:lnTo>
                    <a:pt x="107" y="802"/>
                  </a:lnTo>
                  <a:lnTo>
                    <a:pt x="96" y="788"/>
                  </a:lnTo>
                  <a:lnTo>
                    <a:pt x="86" y="774"/>
                  </a:lnTo>
                  <a:lnTo>
                    <a:pt x="76" y="759"/>
                  </a:lnTo>
                  <a:lnTo>
                    <a:pt x="67" y="744"/>
                  </a:lnTo>
                  <a:lnTo>
                    <a:pt x="59" y="727"/>
                  </a:lnTo>
                  <a:lnTo>
                    <a:pt x="50" y="711"/>
                  </a:lnTo>
                  <a:lnTo>
                    <a:pt x="43" y="694"/>
                  </a:lnTo>
                  <a:lnTo>
                    <a:pt x="36" y="675"/>
                  </a:lnTo>
                  <a:lnTo>
                    <a:pt x="29" y="657"/>
                  </a:lnTo>
                  <a:lnTo>
                    <a:pt x="23" y="639"/>
                  </a:lnTo>
                  <a:lnTo>
                    <a:pt x="18" y="619"/>
                  </a:lnTo>
                  <a:lnTo>
                    <a:pt x="13" y="599"/>
                  </a:lnTo>
                  <a:lnTo>
                    <a:pt x="8" y="578"/>
                  </a:lnTo>
                  <a:lnTo>
                    <a:pt x="6" y="556"/>
                  </a:lnTo>
                  <a:lnTo>
                    <a:pt x="4" y="538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5"/>
                  </a:lnTo>
                  <a:lnTo>
                    <a:pt x="0" y="483"/>
                  </a:lnTo>
                  <a:lnTo>
                    <a:pt x="1" y="451"/>
                  </a:lnTo>
                  <a:lnTo>
                    <a:pt x="4" y="420"/>
                  </a:lnTo>
                  <a:lnTo>
                    <a:pt x="8" y="388"/>
                  </a:lnTo>
                  <a:lnTo>
                    <a:pt x="16" y="356"/>
                  </a:lnTo>
                  <a:lnTo>
                    <a:pt x="22" y="339"/>
                  </a:lnTo>
                  <a:lnTo>
                    <a:pt x="28" y="320"/>
                  </a:lnTo>
                  <a:lnTo>
                    <a:pt x="34" y="303"/>
                  </a:lnTo>
                  <a:lnTo>
                    <a:pt x="42" y="286"/>
                  </a:lnTo>
                  <a:lnTo>
                    <a:pt x="49" y="269"/>
                  </a:lnTo>
                  <a:lnTo>
                    <a:pt x="56" y="253"/>
                  </a:lnTo>
                  <a:lnTo>
                    <a:pt x="65" y="237"/>
                  </a:lnTo>
                  <a:lnTo>
                    <a:pt x="75" y="221"/>
                  </a:lnTo>
                  <a:lnTo>
                    <a:pt x="85" y="206"/>
                  </a:lnTo>
                  <a:lnTo>
                    <a:pt x="95" y="192"/>
                  </a:lnTo>
                  <a:lnTo>
                    <a:pt x="106" y="178"/>
                  </a:lnTo>
                  <a:lnTo>
                    <a:pt x="117" y="163"/>
                  </a:lnTo>
                  <a:lnTo>
                    <a:pt x="129" y="151"/>
                  </a:lnTo>
                  <a:lnTo>
                    <a:pt x="141" y="138"/>
                  </a:lnTo>
                  <a:lnTo>
                    <a:pt x="154" y="125"/>
                  </a:lnTo>
                  <a:lnTo>
                    <a:pt x="167" y="113"/>
                  </a:lnTo>
                  <a:lnTo>
                    <a:pt x="181" y="102"/>
                  </a:lnTo>
                  <a:lnTo>
                    <a:pt x="195" y="91"/>
                  </a:lnTo>
                  <a:lnTo>
                    <a:pt x="210" y="81"/>
                  </a:lnTo>
                  <a:lnTo>
                    <a:pt x="225" y="71"/>
                  </a:lnTo>
                  <a:lnTo>
                    <a:pt x="240" y="61"/>
                  </a:lnTo>
                  <a:lnTo>
                    <a:pt x="254" y="54"/>
                  </a:lnTo>
                  <a:lnTo>
                    <a:pt x="270" y="45"/>
                  </a:lnTo>
                  <a:lnTo>
                    <a:pt x="286" y="38"/>
                  </a:lnTo>
                  <a:lnTo>
                    <a:pt x="304" y="32"/>
                  </a:lnTo>
                  <a:lnTo>
                    <a:pt x="320" y="26"/>
                  </a:lnTo>
                  <a:lnTo>
                    <a:pt x="337" y="21"/>
                  </a:lnTo>
                  <a:lnTo>
                    <a:pt x="354" y="16"/>
                  </a:lnTo>
                  <a:lnTo>
                    <a:pt x="373" y="12"/>
                  </a:lnTo>
                  <a:lnTo>
                    <a:pt x="390" y="9"/>
                  </a:lnTo>
                  <a:lnTo>
                    <a:pt x="408" y="6"/>
                  </a:lnTo>
                  <a:lnTo>
                    <a:pt x="428" y="4"/>
                  </a:lnTo>
                  <a:lnTo>
                    <a:pt x="441" y="2"/>
                  </a:lnTo>
                  <a:lnTo>
                    <a:pt x="456" y="1"/>
                  </a:lnTo>
                  <a:lnTo>
                    <a:pt x="471" y="1"/>
                  </a:lnTo>
                  <a:lnTo>
                    <a:pt x="488" y="0"/>
                  </a:lnTo>
                  <a:lnTo>
                    <a:pt x="516" y="1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9" y="14"/>
                  </a:lnTo>
                  <a:lnTo>
                    <a:pt x="626" y="20"/>
                  </a:lnTo>
                  <a:lnTo>
                    <a:pt x="652" y="28"/>
                  </a:lnTo>
                  <a:lnTo>
                    <a:pt x="676" y="39"/>
                  </a:lnTo>
                  <a:lnTo>
                    <a:pt x="701" y="50"/>
                  </a:lnTo>
                  <a:lnTo>
                    <a:pt x="726" y="64"/>
                  </a:lnTo>
                  <a:lnTo>
                    <a:pt x="748" y="77"/>
                  </a:lnTo>
                  <a:lnTo>
                    <a:pt x="769" y="93"/>
                  </a:lnTo>
                  <a:lnTo>
                    <a:pt x="790" y="109"/>
                  </a:lnTo>
                  <a:lnTo>
                    <a:pt x="808" y="128"/>
                  </a:lnTo>
                  <a:lnTo>
                    <a:pt x="825" y="146"/>
                  </a:lnTo>
                  <a:lnTo>
                    <a:pt x="842" y="167"/>
                  </a:lnTo>
                  <a:lnTo>
                    <a:pt x="857" y="188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39400" y="474120"/>
              <a:ext cx="40320" cy="103320"/>
            </a:xfrm>
            <a:custGeom>
              <a:avLst/>
              <a:gdLst/>
              <a:ahLst/>
              <a:rect l="l" t="t" r="r" b="b"/>
              <a:pathLst>
                <a:path w="653" h="1349">
                  <a:moveTo>
                    <a:pt x="0" y="579"/>
                  </a:moveTo>
                  <a:lnTo>
                    <a:pt x="0" y="393"/>
                  </a:lnTo>
                  <a:lnTo>
                    <a:pt x="94" y="393"/>
                  </a:lnTo>
                  <a:lnTo>
                    <a:pt x="94" y="101"/>
                  </a:lnTo>
                  <a:lnTo>
                    <a:pt x="393" y="0"/>
                  </a:lnTo>
                  <a:lnTo>
                    <a:pt x="393" y="393"/>
                  </a:lnTo>
                  <a:lnTo>
                    <a:pt x="629" y="393"/>
                  </a:lnTo>
                  <a:lnTo>
                    <a:pt x="629" y="579"/>
                  </a:lnTo>
                  <a:lnTo>
                    <a:pt x="393" y="579"/>
                  </a:lnTo>
                  <a:lnTo>
                    <a:pt x="393" y="1055"/>
                  </a:lnTo>
                  <a:lnTo>
                    <a:pt x="393" y="1067"/>
                  </a:lnTo>
                  <a:lnTo>
                    <a:pt x="398" y="1085"/>
                  </a:lnTo>
                  <a:lnTo>
                    <a:pt x="399" y="1093"/>
                  </a:lnTo>
                  <a:lnTo>
                    <a:pt x="401" y="1100"/>
                  </a:lnTo>
                  <a:lnTo>
                    <a:pt x="402" y="1107"/>
                  </a:lnTo>
                  <a:lnTo>
                    <a:pt x="405" y="1114"/>
                  </a:lnTo>
                  <a:lnTo>
                    <a:pt x="409" y="1120"/>
                  </a:lnTo>
                  <a:lnTo>
                    <a:pt x="414" y="1126"/>
                  </a:lnTo>
                  <a:lnTo>
                    <a:pt x="419" y="1131"/>
                  </a:lnTo>
                  <a:lnTo>
                    <a:pt x="425" y="1136"/>
                  </a:lnTo>
                  <a:lnTo>
                    <a:pt x="434" y="1141"/>
                  </a:lnTo>
                  <a:lnTo>
                    <a:pt x="442" y="1144"/>
                  </a:lnTo>
                  <a:lnTo>
                    <a:pt x="451" y="1147"/>
                  </a:lnTo>
                  <a:lnTo>
                    <a:pt x="461" y="1147"/>
                  </a:lnTo>
                  <a:lnTo>
                    <a:pt x="468" y="1147"/>
                  </a:lnTo>
                  <a:lnTo>
                    <a:pt x="477" y="1144"/>
                  </a:lnTo>
                  <a:lnTo>
                    <a:pt x="485" y="1141"/>
                  </a:lnTo>
                  <a:lnTo>
                    <a:pt x="494" y="1137"/>
                  </a:lnTo>
                  <a:lnTo>
                    <a:pt x="501" y="1131"/>
                  </a:lnTo>
                  <a:lnTo>
                    <a:pt x="509" y="1123"/>
                  </a:lnTo>
                  <a:lnTo>
                    <a:pt x="516" y="1115"/>
                  </a:lnTo>
                  <a:lnTo>
                    <a:pt x="524" y="1105"/>
                  </a:lnTo>
                  <a:lnTo>
                    <a:pt x="531" y="1094"/>
                  </a:lnTo>
                  <a:lnTo>
                    <a:pt x="548" y="1066"/>
                  </a:lnTo>
                  <a:lnTo>
                    <a:pt x="552" y="1058"/>
                  </a:lnTo>
                  <a:lnTo>
                    <a:pt x="553" y="1056"/>
                  </a:lnTo>
                  <a:lnTo>
                    <a:pt x="558" y="1053"/>
                  </a:lnTo>
                  <a:lnTo>
                    <a:pt x="565" y="1051"/>
                  </a:lnTo>
                  <a:lnTo>
                    <a:pt x="575" y="1049"/>
                  </a:lnTo>
                  <a:lnTo>
                    <a:pt x="586" y="1047"/>
                  </a:lnTo>
                  <a:lnTo>
                    <a:pt x="599" y="1046"/>
                  </a:lnTo>
                  <a:lnTo>
                    <a:pt x="611" y="1046"/>
                  </a:lnTo>
                  <a:lnTo>
                    <a:pt x="624" y="1045"/>
                  </a:lnTo>
                  <a:lnTo>
                    <a:pt x="653" y="1047"/>
                  </a:lnTo>
                  <a:lnTo>
                    <a:pt x="653" y="1272"/>
                  </a:lnTo>
                  <a:lnTo>
                    <a:pt x="634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3" y="1313"/>
                  </a:lnTo>
                  <a:lnTo>
                    <a:pt x="549" y="1321"/>
                  </a:lnTo>
                  <a:lnTo>
                    <a:pt x="527" y="1328"/>
                  </a:lnTo>
                  <a:lnTo>
                    <a:pt x="504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7" y="1347"/>
                  </a:lnTo>
                  <a:lnTo>
                    <a:pt x="415" y="1348"/>
                  </a:lnTo>
                  <a:lnTo>
                    <a:pt x="393" y="1349"/>
                  </a:lnTo>
                  <a:lnTo>
                    <a:pt x="372" y="1348"/>
                  </a:lnTo>
                  <a:lnTo>
                    <a:pt x="359" y="1347"/>
                  </a:lnTo>
                  <a:lnTo>
                    <a:pt x="323" y="1343"/>
                  </a:lnTo>
                  <a:lnTo>
                    <a:pt x="291" y="1337"/>
                  </a:lnTo>
                  <a:lnTo>
                    <a:pt x="260" y="1330"/>
                  </a:lnTo>
                  <a:lnTo>
                    <a:pt x="233" y="1320"/>
                  </a:lnTo>
                  <a:lnTo>
                    <a:pt x="221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7" y="1297"/>
                  </a:lnTo>
                  <a:lnTo>
                    <a:pt x="177" y="1289"/>
                  </a:lnTo>
                  <a:lnTo>
                    <a:pt x="168" y="1282"/>
                  </a:lnTo>
                  <a:lnTo>
                    <a:pt x="158" y="1273"/>
                  </a:lnTo>
                  <a:lnTo>
                    <a:pt x="151" y="1265"/>
                  </a:lnTo>
                  <a:lnTo>
                    <a:pt x="144" y="1256"/>
                  </a:lnTo>
                  <a:lnTo>
                    <a:pt x="136" y="1246"/>
                  </a:lnTo>
                  <a:lnTo>
                    <a:pt x="130" y="1236"/>
                  </a:lnTo>
                  <a:lnTo>
                    <a:pt x="124" y="1225"/>
                  </a:lnTo>
                  <a:lnTo>
                    <a:pt x="118" y="1214"/>
                  </a:lnTo>
                  <a:lnTo>
                    <a:pt x="113" y="1203"/>
                  </a:lnTo>
                  <a:lnTo>
                    <a:pt x="109" y="1190"/>
                  </a:lnTo>
                  <a:lnTo>
                    <a:pt x="104" y="1177"/>
                  </a:lnTo>
                  <a:lnTo>
                    <a:pt x="98" y="1149"/>
                  </a:lnTo>
                  <a:lnTo>
                    <a:pt x="93" y="1119"/>
                  </a:lnTo>
                  <a:lnTo>
                    <a:pt x="89" y="1085"/>
                  </a:lnTo>
                  <a:lnTo>
                    <a:pt x="89" y="1051"/>
                  </a:lnTo>
                  <a:lnTo>
                    <a:pt x="89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80080" y="468360"/>
              <a:ext cx="29160" cy="106560"/>
            </a:xfrm>
            <a:custGeom>
              <a:avLst/>
              <a:gdLst/>
              <a:ahLst/>
              <a:rect l="l" t="t" r="r" b="b"/>
              <a:pathLst>
                <a:path w="481" h="1397">
                  <a:moveTo>
                    <a:pt x="0" y="1397"/>
                  </a:moveTo>
                  <a:lnTo>
                    <a:pt x="0" y="1336"/>
                  </a:lnTo>
                  <a:lnTo>
                    <a:pt x="1" y="1327"/>
                  </a:lnTo>
                  <a:lnTo>
                    <a:pt x="3" y="1319"/>
                  </a:lnTo>
                  <a:lnTo>
                    <a:pt x="10" y="1311"/>
                  </a:lnTo>
                  <a:lnTo>
                    <a:pt x="17" y="1305"/>
                  </a:lnTo>
                  <a:lnTo>
                    <a:pt x="22" y="1301"/>
                  </a:lnTo>
                  <a:lnTo>
                    <a:pt x="45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7" y="1279"/>
                  </a:lnTo>
                  <a:lnTo>
                    <a:pt x="71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5" y="574"/>
                  </a:lnTo>
                  <a:lnTo>
                    <a:pt x="33" y="567"/>
                  </a:lnTo>
                  <a:lnTo>
                    <a:pt x="26" y="563"/>
                  </a:lnTo>
                  <a:lnTo>
                    <a:pt x="18" y="558"/>
                  </a:lnTo>
                  <a:lnTo>
                    <a:pt x="13" y="554"/>
                  </a:lnTo>
                  <a:lnTo>
                    <a:pt x="8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1" y="469"/>
                  </a:lnTo>
                  <a:lnTo>
                    <a:pt x="401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2" y="1273"/>
                  </a:lnTo>
                  <a:lnTo>
                    <a:pt x="404" y="1277"/>
                  </a:lnTo>
                  <a:lnTo>
                    <a:pt x="407" y="1280"/>
                  </a:lnTo>
                  <a:lnTo>
                    <a:pt x="409" y="1283"/>
                  </a:lnTo>
                  <a:lnTo>
                    <a:pt x="413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6" y="1294"/>
                  </a:lnTo>
                  <a:lnTo>
                    <a:pt x="462" y="1298"/>
                  </a:lnTo>
                  <a:lnTo>
                    <a:pt x="467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7" y="1316"/>
                  </a:lnTo>
                  <a:lnTo>
                    <a:pt x="478" y="1322"/>
                  </a:lnTo>
                  <a:lnTo>
                    <a:pt x="480" y="1328"/>
                  </a:lnTo>
                  <a:lnTo>
                    <a:pt x="481" y="1335"/>
                  </a:lnTo>
                  <a:lnTo>
                    <a:pt x="481" y="1397"/>
                  </a:lnTo>
                  <a:lnTo>
                    <a:pt x="0" y="1397"/>
                  </a:lnTo>
                  <a:close/>
                  <a:moveTo>
                    <a:pt x="45" y="185"/>
                  </a:moveTo>
                  <a:lnTo>
                    <a:pt x="47" y="167"/>
                  </a:lnTo>
                  <a:lnTo>
                    <a:pt x="49" y="148"/>
                  </a:lnTo>
                  <a:lnTo>
                    <a:pt x="53" y="131"/>
                  </a:lnTo>
                  <a:lnTo>
                    <a:pt x="59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8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1" y="21"/>
                  </a:lnTo>
                  <a:lnTo>
                    <a:pt x="157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0" y="1"/>
                  </a:lnTo>
                  <a:lnTo>
                    <a:pt x="229" y="0"/>
                  </a:lnTo>
                  <a:lnTo>
                    <a:pt x="247" y="1"/>
                  </a:lnTo>
                  <a:lnTo>
                    <a:pt x="265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5" y="42"/>
                  </a:lnTo>
                  <a:lnTo>
                    <a:pt x="360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2" y="115"/>
                  </a:lnTo>
                  <a:lnTo>
                    <a:pt x="408" y="132"/>
                  </a:lnTo>
                  <a:lnTo>
                    <a:pt x="413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3" y="223"/>
                  </a:lnTo>
                  <a:lnTo>
                    <a:pt x="409" y="240"/>
                  </a:lnTo>
                  <a:lnTo>
                    <a:pt x="403" y="256"/>
                  </a:lnTo>
                  <a:lnTo>
                    <a:pt x="396" y="272"/>
                  </a:lnTo>
                  <a:lnTo>
                    <a:pt x="387" y="287"/>
                  </a:lnTo>
                  <a:lnTo>
                    <a:pt x="376" y="302"/>
                  </a:lnTo>
                  <a:lnTo>
                    <a:pt x="364" y="317"/>
                  </a:lnTo>
                  <a:lnTo>
                    <a:pt x="350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0" y="367"/>
                  </a:lnTo>
                  <a:lnTo>
                    <a:pt x="252" y="369"/>
                  </a:lnTo>
                  <a:lnTo>
                    <a:pt x="232" y="371"/>
                  </a:lnTo>
                  <a:lnTo>
                    <a:pt x="214" y="369"/>
                  </a:lnTo>
                  <a:lnTo>
                    <a:pt x="195" y="367"/>
                  </a:lnTo>
                  <a:lnTo>
                    <a:pt x="177" y="363"/>
                  </a:lnTo>
                  <a:lnTo>
                    <a:pt x="161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4" y="330"/>
                  </a:lnTo>
                  <a:lnTo>
                    <a:pt x="99" y="318"/>
                  </a:lnTo>
                  <a:lnTo>
                    <a:pt x="87" y="304"/>
                  </a:lnTo>
                  <a:lnTo>
                    <a:pt x="76" y="290"/>
                  </a:lnTo>
                  <a:lnTo>
                    <a:pt x="66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49" y="223"/>
                  </a:lnTo>
                  <a:lnTo>
                    <a:pt x="47" y="205"/>
                  </a:lnTo>
                  <a:lnTo>
                    <a:pt x="45" y="185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09600" y="504000"/>
              <a:ext cx="63360" cy="70920"/>
            </a:xfrm>
            <a:custGeom>
              <a:avLst/>
              <a:gdLst/>
              <a:ahLst/>
              <a:rect l="l" t="t" r="r" b="b"/>
              <a:pathLst>
                <a:path w="1000" h="928">
                  <a:moveTo>
                    <a:pt x="0" y="64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60"/>
                  </a:lnTo>
                  <a:lnTo>
                    <a:pt x="463" y="67"/>
                  </a:lnTo>
                  <a:lnTo>
                    <a:pt x="462" y="74"/>
                  </a:lnTo>
                  <a:lnTo>
                    <a:pt x="458" y="80"/>
                  </a:lnTo>
                  <a:lnTo>
                    <a:pt x="455" y="86"/>
                  </a:lnTo>
                  <a:lnTo>
                    <a:pt x="449" y="91"/>
                  </a:lnTo>
                  <a:lnTo>
                    <a:pt x="442" y="96"/>
                  </a:lnTo>
                  <a:lnTo>
                    <a:pt x="434" y="101"/>
                  </a:lnTo>
                  <a:lnTo>
                    <a:pt x="425" y="105"/>
                  </a:lnTo>
                  <a:lnTo>
                    <a:pt x="414" y="110"/>
                  </a:lnTo>
                  <a:lnTo>
                    <a:pt x="408" y="113"/>
                  </a:lnTo>
                  <a:lnTo>
                    <a:pt x="403" y="115"/>
                  </a:lnTo>
                  <a:lnTo>
                    <a:pt x="399" y="119"/>
                  </a:lnTo>
                  <a:lnTo>
                    <a:pt x="396" y="123"/>
                  </a:lnTo>
                  <a:lnTo>
                    <a:pt x="393" y="126"/>
                  </a:lnTo>
                  <a:lnTo>
                    <a:pt x="392" y="130"/>
                  </a:lnTo>
                  <a:lnTo>
                    <a:pt x="391" y="135"/>
                  </a:lnTo>
                  <a:lnTo>
                    <a:pt x="391" y="140"/>
                  </a:lnTo>
                  <a:lnTo>
                    <a:pt x="391" y="152"/>
                  </a:lnTo>
                  <a:lnTo>
                    <a:pt x="391" y="167"/>
                  </a:lnTo>
                  <a:lnTo>
                    <a:pt x="401" y="179"/>
                  </a:lnTo>
                  <a:lnTo>
                    <a:pt x="544" y="665"/>
                  </a:lnTo>
                  <a:lnTo>
                    <a:pt x="706" y="182"/>
                  </a:lnTo>
                  <a:lnTo>
                    <a:pt x="708" y="169"/>
                  </a:lnTo>
                  <a:lnTo>
                    <a:pt x="708" y="145"/>
                  </a:lnTo>
                  <a:lnTo>
                    <a:pt x="708" y="131"/>
                  </a:lnTo>
                  <a:lnTo>
                    <a:pt x="704" y="124"/>
                  </a:lnTo>
                  <a:lnTo>
                    <a:pt x="699" y="119"/>
                  </a:lnTo>
                  <a:lnTo>
                    <a:pt x="693" y="114"/>
                  </a:lnTo>
                  <a:lnTo>
                    <a:pt x="685" y="110"/>
                  </a:lnTo>
                  <a:lnTo>
                    <a:pt x="667" y="105"/>
                  </a:lnTo>
                  <a:lnTo>
                    <a:pt x="663" y="103"/>
                  </a:lnTo>
                  <a:lnTo>
                    <a:pt x="658" y="101"/>
                  </a:lnTo>
                  <a:lnTo>
                    <a:pt x="653" y="97"/>
                  </a:lnTo>
                  <a:lnTo>
                    <a:pt x="649" y="92"/>
                  </a:lnTo>
                  <a:lnTo>
                    <a:pt x="644" y="85"/>
                  </a:lnTo>
                  <a:lnTo>
                    <a:pt x="640" y="77"/>
                  </a:lnTo>
                  <a:lnTo>
                    <a:pt x="638" y="70"/>
                  </a:lnTo>
                  <a:lnTo>
                    <a:pt x="637" y="61"/>
                  </a:lnTo>
                  <a:lnTo>
                    <a:pt x="637" y="0"/>
                  </a:lnTo>
                  <a:lnTo>
                    <a:pt x="1000" y="0"/>
                  </a:lnTo>
                  <a:lnTo>
                    <a:pt x="1000" y="64"/>
                  </a:lnTo>
                  <a:lnTo>
                    <a:pt x="998" y="69"/>
                  </a:lnTo>
                  <a:lnTo>
                    <a:pt x="998" y="74"/>
                  </a:lnTo>
                  <a:lnTo>
                    <a:pt x="996" y="80"/>
                  </a:lnTo>
                  <a:lnTo>
                    <a:pt x="993" y="83"/>
                  </a:lnTo>
                  <a:lnTo>
                    <a:pt x="991" y="88"/>
                  </a:lnTo>
                  <a:lnTo>
                    <a:pt x="987" y="93"/>
                  </a:lnTo>
                  <a:lnTo>
                    <a:pt x="982" y="97"/>
                  </a:lnTo>
                  <a:lnTo>
                    <a:pt x="977" y="102"/>
                  </a:lnTo>
                  <a:lnTo>
                    <a:pt x="966" y="107"/>
                  </a:lnTo>
                  <a:lnTo>
                    <a:pt x="955" y="113"/>
                  </a:lnTo>
                  <a:lnTo>
                    <a:pt x="949" y="124"/>
                  </a:lnTo>
                  <a:lnTo>
                    <a:pt x="939" y="141"/>
                  </a:lnTo>
                  <a:lnTo>
                    <a:pt x="931" y="169"/>
                  </a:lnTo>
                  <a:lnTo>
                    <a:pt x="927" y="183"/>
                  </a:lnTo>
                  <a:lnTo>
                    <a:pt x="664" y="928"/>
                  </a:lnTo>
                  <a:lnTo>
                    <a:pt x="342" y="928"/>
                  </a:lnTo>
                  <a:lnTo>
                    <a:pt x="94" y="183"/>
                  </a:lnTo>
                  <a:lnTo>
                    <a:pt x="91" y="171"/>
                  </a:lnTo>
                  <a:lnTo>
                    <a:pt x="87" y="158"/>
                  </a:lnTo>
                  <a:lnTo>
                    <a:pt x="83" y="150"/>
                  </a:lnTo>
                  <a:lnTo>
                    <a:pt x="80" y="141"/>
                  </a:lnTo>
                  <a:lnTo>
                    <a:pt x="75" y="135"/>
                  </a:lnTo>
                  <a:lnTo>
                    <a:pt x="71" y="129"/>
                  </a:lnTo>
                  <a:lnTo>
                    <a:pt x="66" y="123"/>
                  </a:lnTo>
                  <a:lnTo>
                    <a:pt x="60" y="119"/>
                  </a:lnTo>
                  <a:lnTo>
                    <a:pt x="55" y="115"/>
                  </a:lnTo>
                  <a:lnTo>
                    <a:pt x="49" y="113"/>
                  </a:lnTo>
                  <a:lnTo>
                    <a:pt x="38" y="107"/>
                  </a:lnTo>
                  <a:lnTo>
                    <a:pt x="29" y="103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9"/>
                  </a:lnTo>
                  <a:lnTo>
                    <a:pt x="6" y="83"/>
                  </a:lnTo>
                  <a:lnTo>
                    <a:pt x="2" y="77"/>
                  </a:lnTo>
                  <a:lnTo>
                    <a:pt x="1" y="7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69720" y="501120"/>
              <a:ext cx="63360" cy="76680"/>
            </a:xfrm>
            <a:custGeom>
              <a:avLst/>
              <a:gdLst/>
              <a:ahLst/>
              <a:rect l="l" t="t" r="r" b="b"/>
              <a:pathLst>
                <a:path w="1010" h="997">
                  <a:moveTo>
                    <a:pt x="623" y="312"/>
                  </a:moveTo>
                  <a:lnTo>
                    <a:pt x="623" y="272"/>
                  </a:lnTo>
                  <a:lnTo>
                    <a:pt x="623" y="262"/>
                  </a:lnTo>
                  <a:lnTo>
                    <a:pt x="622" y="253"/>
                  </a:lnTo>
                  <a:lnTo>
                    <a:pt x="620" y="243"/>
                  </a:lnTo>
                  <a:lnTo>
                    <a:pt x="618" y="234"/>
                  </a:lnTo>
                  <a:lnTo>
                    <a:pt x="614" y="227"/>
                  </a:lnTo>
                  <a:lnTo>
                    <a:pt x="611" y="219"/>
                  </a:lnTo>
                  <a:lnTo>
                    <a:pt x="606" y="212"/>
                  </a:lnTo>
                  <a:lnTo>
                    <a:pt x="601" y="206"/>
                  </a:lnTo>
                  <a:lnTo>
                    <a:pt x="595" y="201"/>
                  </a:lnTo>
                  <a:lnTo>
                    <a:pt x="587" y="196"/>
                  </a:lnTo>
                  <a:lnTo>
                    <a:pt x="579" y="191"/>
                  </a:lnTo>
                  <a:lnTo>
                    <a:pt x="569" y="186"/>
                  </a:lnTo>
                  <a:lnTo>
                    <a:pt x="558" y="183"/>
                  </a:lnTo>
                  <a:lnTo>
                    <a:pt x="545" y="179"/>
                  </a:lnTo>
                  <a:lnTo>
                    <a:pt x="533" y="175"/>
                  </a:lnTo>
                  <a:lnTo>
                    <a:pt x="519" y="173"/>
                  </a:lnTo>
                  <a:lnTo>
                    <a:pt x="504" y="172"/>
                  </a:lnTo>
                  <a:lnTo>
                    <a:pt x="489" y="170"/>
                  </a:lnTo>
                  <a:lnTo>
                    <a:pt x="475" y="169"/>
                  </a:lnTo>
                  <a:lnTo>
                    <a:pt x="462" y="169"/>
                  </a:lnTo>
                  <a:lnTo>
                    <a:pt x="447" y="169"/>
                  </a:lnTo>
                  <a:lnTo>
                    <a:pt x="430" y="170"/>
                  </a:lnTo>
                  <a:lnTo>
                    <a:pt x="410" y="173"/>
                  </a:lnTo>
                  <a:lnTo>
                    <a:pt x="389" y="175"/>
                  </a:lnTo>
                  <a:lnTo>
                    <a:pt x="351" y="181"/>
                  </a:lnTo>
                  <a:lnTo>
                    <a:pt x="320" y="188"/>
                  </a:lnTo>
                  <a:lnTo>
                    <a:pt x="297" y="194"/>
                  </a:lnTo>
                  <a:lnTo>
                    <a:pt x="280" y="200"/>
                  </a:lnTo>
                  <a:lnTo>
                    <a:pt x="272" y="203"/>
                  </a:lnTo>
                  <a:lnTo>
                    <a:pt x="266" y="208"/>
                  </a:lnTo>
                  <a:lnTo>
                    <a:pt x="259" y="213"/>
                  </a:lnTo>
                  <a:lnTo>
                    <a:pt x="251" y="219"/>
                  </a:lnTo>
                  <a:lnTo>
                    <a:pt x="237" y="234"/>
                  </a:lnTo>
                  <a:lnTo>
                    <a:pt x="222" y="253"/>
                  </a:lnTo>
                  <a:lnTo>
                    <a:pt x="212" y="264"/>
                  </a:lnTo>
                  <a:lnTo>
                    <a:pt x="206" y="267"/>
                  </a:lnTo>
                  <a:lnTo>
                    <a:pt x="197" y="270"/>
                  </a:lnTo>
                  <a:lnTo>
                    <a:pt x="189" y="272"/>
                  </a:lnTo>
                  <a:lnTo>
                    <a:pt x="178" y="275"/>
                  </a:lnTo>
                  <a:lnTo>
                    <a:pt x="164" y="276"/>
                  </a:lnTo>
                  <a:lnTo>
                    <a:pt x="148" y="277"/>
                  </a:lnTo>
                  <a:lnTo>
                    <a:pt x="128" y="278"/>
                  </a:lnTo>
                  <a:lnTo>
                    <a:pt x="106" y="278"/>
                  </a:lnTo>
                  <a:lnTo>
                    <a:pt x="77" y="276"/>
                  </a:lnTo>
                  <a:lnTo>
                    <a:pt x="77" y="52"/>
                  </a:lnTo>
                  <a:lnTo>
                    <a:pt x="122" y="40"/>
                  </a:lnTo>
                  <a:lnTo>
                    <a:pt x="159" y="32"/>
                  </a:lnTo>
                  <a:lnTo>
                    <a:pt x="195" y="24"/>
                  </a:lnTo>
                  <a:lnTo>
                    <a:pt x="229" y="17"/>
                  </a:lnTo>
                  <a:lnTo>
                    <a:pt x="261" y="11"/>
                  </a:lnTo>
                  <a:lnTo>
                    <a:pt x="293" y="6"/>
                  </a:lnTo>
                  <a:lnTo>
                    <a:pt x="323" y="3"/>
                  </a:lnTo>
                  <a:lnTo>
                    <a:pt x="350" y="1"/>
                  </a:lnTo>
                  <a:lnTo>
                    <a:pt x="376" y="0"/>
                  </a:lnTo>
                  <a:lnTo>
                    <a:pt x="448" y="1"/>
                  </a:lnTo>
                  <a:lnTo>
                    <a:pt x="515" y="5"/>
                  </a:lnTo>
                  <a:lnTo>
                    <a:pt x="547" y="7"/>
                  </a:lnTo>
                  <a:lnTo>
                    <a:pt x="576" y="9"/>
                  </a:lnTo>
                  <a:lnTo>
                    <a:pt x="606" y="13"/>
                  </a:lnTo>
                  <a:lnTo>
                    <a:pt x="633" y="18"/>
                  </a:lnTo>
                  <a:lnTo>
                    <a:pt x="658" y="23"/>
                  </a:lnTo>
                  <a:lnTo>
                    <a:pt x="683" y="28"/>
                  </a:lnTo>
                  <a:lnTo>
                    <a:pt x="708" y="33"/>
                  </a:lnTo>
                  <a:lnTo>
                    <a:pt x="729" y="40"/>
                  </a:lnTo>
                  <a:lnTo>
                    <a:pt x="750" y="46"/>
                  </a:lnTo>
                  <a:lnTo>
                    <a:pt x="769" y="54"/>
                  </a:lnTo>
                  <a:lnTo>
                    <a:pt x="788" y="62"/>
                  </a:lnTo>
                  <a:lnTo>
                    <a:pt x="804" y="70"/>
                  </a:lnTo>
                  <a:lnTo>
                    <a:pt x="820" y="79"/>
                  </a:lnTo>
                  <a:lnTo>
                    <a:pt x="834" y="89"/>
                  </a:lnTo>
                  <a:lnTo>
                    <a:pt x="848" y="99"/>
                  </a:lnTo>
                  <a:lnTo>
                    <a:pt x="860" y="110"/>
                  </a:lnTo>
                  <a:lnTo>
                    <a:pt x="871" y="122"/>
                  </a:lnTo>
                  <a:lnTo>
                    <a:pt x="882" y="135"/>
                  </a:lnTo>
                  <a:lnTo>
                    <a:pt x="892" y="148"/>
                  </a:lnTo>
                  <a:lnTo>
                    <a:pt x="901" y="162"/>
                  </a:lnTo>
                  <a:lnTo>
                    <a:pt x="908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4" y="224"/>
                  </a:lnTo>
                  <a:lnTo>
                    <a:pt x="928" y="242"/>
                  </a:lnTo>
                  <a:lnTo>
                    <a:pt x="930" y="260"/>
                  </a:lnTo>
                  <a:lnTo>
                    <a:pt x="932" y="278"/>
                  </a:lnTo>
                  <a:lnTo>
                    <a:pt x="933" y="298"/>
                  </a:lnTo>
                  <a:lnTo>
                    <a:pt x="933" y="763"/>
                  </a:lnTo>
                  <a:lnTo>
                    <a:pt x="933" y="793"/>
                  </a:lnTo>
                  <a:lnTo>
                    <a:pt x="933" y="804"/>
                  </a:lnTo>
                  <a:lnTo>
                    <a:pt x="938" y="835"/>
                  </a:lnTo>
                  <a:lnTo>
                    <a:pt x="951" y="857"/>
                  </a:lnTo>
                  <a:lnTo>
                    <a:pt x="975" y="865"/>
                  </a:lnTo>
                  <a:lnTo>
                    <a:pt x="983" y="869"/>
                  </a:lnTo>
                  <a:lnTo>
                    <a:pt x="991" y="874"/>
                  </a:lnTo>
                  <a:lnTo>
                    <a:pt x="997" y="879"/>
                  </a:lnTo>
                  <a:lnTo>
                    <a:pt x="1002" y="884"/>
                  </a:lnTo>
                  <a:lnTo>
                    <a:pt x="1005" y="889"/>
                  </a:lnTo>
                  <a:lnTo>
                    <a:pt x="1009" y="895"/>
                  </a:lnTo>
                  <a:lnTo>
                    <a:pt x="1010" y="902"/>
                  </a:lnTo>
                  <a:lnTo>
                    <a:pt x="1010" y="910"/>
                  </a:lnTo>
                  <a:lnTo>
                    <a:pt x="1010" y="972"/>
                  </a:lnTo>
                  <a:lnTo>
                    <a:pt x="634" y="972"/>
                  </a:lnTo>
                  <a:lnTo>
                    <a:pt x="634" y="919"/>
                  </a:lnTo>
                  <a:lnTo>
                    <a:pt x="606" y="938"/>
                  </a:lnTo>
                  <a:lnTo>
                    <a:pt x="577" y="954"/>
                  </a:lnTo>
                  <a:lnTo>
                    <a:pt x="563" y="960"/>
                  </a:lnTo>
                  <a:lnTo>
                    <a:pt x="548" y="966"/>
                  </a:lnTo>
                  <a:lnTo>
                    <a:pt x="533" y="972"/>
                  </a:lnTo>
                  <a:lnTo>
                    <a:pt x="518" y="977"/>
                  </a:lnTo>
                  <a:lnTo>
                    <a:pt x="502" y="982"/>
                  </a:lnTo>
                  <a:lnTo>
                    <a:pt x="488" y="986"/>
                  </a:lnTo>
                  <a:lnTo>
                    <a:pt x="472" y="989"/>
                  </a:lnTo>
                  <a:lnTo>
                    <a:pt x="456" y="992"/>
                  </a:lnTo>
                  <a:lnTo>
                    <a:pt x="441" y="993"/>
                  </a:lnTo>
                  <a:lnTo>
                    <a:pt x="425" y="995"/>
                  </a:lnTo>
                  <a:lnTo>
                    <a:pt x="408" y="995"/>
                  </a:lnTo>
                  <a:lnTo>
                    <a:pt x="392" y="997"/>
                  </a:lnTo>
                  <a:lnTo>
                    <a:pt x="360" y="995"/>
                  </a:lnTo>
                  <a:lnTo>
                    <a:pt x="330" y="995"/>
                  </a:lnTo>
                  <a:lnTo>
                    <a:pt x="302" y="993"/>
                  </a:lnTo>
                  <a:lnTo>
                    <a:pt x="276" y="991"/>
                  </a:lnTo>
                  <a:lnTo>
                    <a:pt x="251" y="988"/>
                  </a:lnTo>
                  <a:lnTo>
                    <a:pt x="230" y="984"/>
                  </a:lnTo>
                  <a:lnTo>
                    <a:pt x="211" y="981"/>
                  </a:lnTo>
                  <a:lnTo>
                    <a:pt x="194" y="976"/>
                  </a:lnTo>
                  <a:lnTo>
                    <a:pt x="178" y="970"/>
                  </a:lnTo>
                  <a:lnTo>
                    <a:pt x="162" y="962"/>
                  </a:lnTo>
                  <a:lnTo>
                    <a:pt x="146" y="955"/>
                  </a:lnTo>
                  <a:lnTo>
                    <a:pt x="131" y="945"/>
                  </a:lnTo>
                  <a:lnTo>
                    <a:pt x="116" y="934"/>
                  </a:lnTo>
                  <a:lnTo>
                    <a:pt x="103" y="923"/>
                  </a:lnTo>
                  <a:lnTo>
                    <a:pt x="89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2" y="853"/>
                  </a:lnTo>
                  <a:lnTo>
                    <a:pt x="30" y="831"/>
                  </a:lnTo>
                  <a:lnTo>
                    <a:pt x="19" y="808"/>
                  </a:lnTo>
                  <a:lnTo>
                    <a:pt x="12" y="784"/>
                  </a:lnTo>
                  <a:lnTo>
                    <a:pt x="5" y="761"/>
                  </a:lnTo>
                  <a:lnTo>
                    <a:pt x="2" y="736"/>
                  </a:lnTo>
                  <a:lnTo>
                    <a:pt x="0" y="711"/>
                  </a:lnTo>
                  <a:lnTo>
                    <a:pt x="2" y="691"/>
                  </a:lnTo>
                  <a:lnTo>
                    <a:pt x="4" y="669"/>
                  </a:lnTo>
                  <a:lnTo>
                    <a:pt x="9" y="646"/>
                  </a:lnTo>
                  <a:lnTo>
                    <a:pt x="15" y="620"/>
                  </a:lnTo>
                  <a:lnTo>
                    <a:pt x="19" y="607"/>
                  </a:lnTo>
                  <a:lnTo>
                    <a:pt x="24" y="595"/>
                  </a:lnTo>
                  <a:lnTo>
                    <a:pt x="29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7" y="547"/>
                  </a:lnTo>
                  <a:lnTo>
                    <a:pt x="55" y="536"/>
                  </a:lnTo>
                  <a:lnTo>
                    <a:pt x="62" y="525"/>
                  </a:lnTo>
                  <a:lnTo>
                    <a:pt x="71" y="515"/>
                  </a:lnTo>
                  <a:lnTo>
                    <a:pt x="80" y="504"/>
                  </a:lnTo>
                  <a:lnTo>
                    <a:pt x="90" y="494"/>
                  </a:lnTo>
                  <a:lnTo>
                    <a:pt x="100" y="485"/>
                  </a:lnTo>
                  <a:lnTo>
                    <a:pt x="122" y="466"/>
                  </a:lnTo>
                  <a:lnTo>
                    <a:pt x="147" y="449"/>
                  </a:lnTo>
                  <a:lnTo>
                    <a:pt x="176" y="431"/>
                  </a:lnTo>
                  <a:lnTo>
                    <a:pt x="211" y="413"/>
                  </a:lnTo>
                  <a:lnTo>
                    <a:pt x="248" y="397"/>
                  </a:lnTo>
                  <a:lnTo>
                    <a:pt x="288" y="383"/>
                  </a:lnTo>
                  <a:lnTo>
                    <a:pt x="333" y="368"/>
                  </a:lnTo>
                  <a:lnTo>
                    <a:pt x="379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4" y="329"/>
                  </a:lnTo>
                  <a:lnTo>
                    <a:pt x="522" y="325"/>
                  </a:lnTo>
                  <a:lnTo>
                    <a:pt x="542" y="321"/>
                  </a:lnTo>
                  <a:lnTo>
                    <a:pt x="561" y="318"/>
                  </a:lnTo>
                  <a:lnTo>
                    <a:pt x="623" y="312"/>
                  </a:lnTo>
                  <a:close/>
                  <a:moveTo>
                    <a:pt x="603" y="503"/>
                  </a:moveTo>
                  <a:lnTo>
                    <a:pt x="574" y="507"/>
                  </a:lnTo>
                  <a:lnTo>
                    <a:pt x="550" y="510"/>
                  </a:lnTo>
                  <a:lnTo>
                    <a:pt x="529" y="514"/>
                  </a:lnTo>
                  <a:lnTo>
                    <a:pt x="510" y="519"/>
                  </a:lnTo>
                  <a:lnTo>
                    <a:pt x="492" y="524"/>
                  </a:lnTo>
                  <a:lnTo>
                    <a:pt x="464" y="533"/>
                  </a:lnTo>
                  <a:lnTo>
                    <a:pt x="441" y="540"/>
                  </a:lnTo>
                  <a:lnTo>
                    <a:pt x="421" y="547"/>
                  </a:lnTo>
                  <a:lnTo>
                    <a:pt x="405" y="555"/>
                  </a:lnTo>
                  <a:lnTo>
                    <a:pt x="393" y="561"/>
                  </a:lnTo>
                  <a:lnTo>
                    <a:pt x="382" y="568"/>
                  </a:lnTo>
                  <a:lnTo>
                    <a:pt x="372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1" y="609"/>
                  </a:lnTo>
                  <a:lnTo>
                    <a:pt x="333" y="622"/>
                  </a:lnTo>
                  <a:lnTo>
                    <a:pt x="325" y="637"/>
                  </a:lnTo>
                  <a:lnTo>
                    <a:pt x="319" y="652"/>
                  </a:lnTo>
                  <a:lnTo>
                    <a:pt x="315" y="666"/>
                  </a:lnTo>
                  <a:lnTo>
                    <a:pt x="313" y="680"/>
                  </a:lnTo>
                  <a:lnTo>
                    <a:pt x="312" y="692"/>
                  </a:lnTo>
                  <a:lnTo>
                    <a:pt x="312" y="707"/>
                  </a:lnTo>
                  <a:lnTo>
                    <a:pt x="314" y="720"/>
                  </a:lnTo>
                  <a:lnTo>
                    <a:pt x="315" y="733"/>
                  </a:lnTo>
                  <a:lnTo>
                    <a:pt x="319" y="744"/>
                  </a:lnTo>
                  <a:lnTo>
                    <a:pt x="323" y="755"/>
                  </a:lnTo>
                  <a:lnTo>
                    <a:pt x="329" y="765"/>
                  </a:lnTo>
                  <a:lnTo>
                    <a:pt x="334" y="773"/>
                  </a:lnTo>
                  <a:lnTo>
                    <a:pt x="341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8" y="799"/>
                  </a:lnTo>
                  <a:lnTo>
                    <a:pt x="378" y="804"/>
                  </a:lnTo>
                  <a:lnTo>
                    <a:pt x="390" y="806"/>
                  </a:lnTo>
                  <a:lnTo>
                    <a:pt x="403" y="809"/>
                  </a:lnTo>
                  <a:lnTo>
                    <a:pt x="416" y="810"/>
                  </a:lnTo>
                  <a:lnTo>
                    <a:pt x="430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8" y="810"/>
                  </a:lnTo>
                  <a:lnTo>
                    <a:pt x="483" y="808"/>
                  </a:lnTo>
                  <a:lnTo>
                    <a:pt x="496" y="805"/>
                  </a:lnTo>
                  <a:lnTo>
                    <a:pt x="511" y="800"/>
                  </a:lnTo>
                  <a:lnTo>
                    <a:pt x="526" y="794"/>
                  </a:lnTo>
                  <a:lnTo>
                    <a:pt x="540" y="787"/>
                  </a:lnTo>
                  <a:lnTo>
                    <a:pt x="555" y="779"/>
                  </a:lnTo>
                  <a:lnTo>
                    <a:pt x="570" y="770"/>
                  </a:lnTo>
                  <a:lnTo>
                    <a:pt x="587" y="756"/>
                  </a:lnTo>
                  <a:lnTo>
                    <a:pt x="593" y="749"/>
                  </a:lnTo>
                  <a:lnTo>
                    <a:pt x="602" y="740"/>
                  </a:lnTo>
                  <a:lnTo>
                    <a:pt x="609" y="730"/>
                  </a:lnTo>
                  <a:lnTo>
                    <a:pt x="617" y="720"/>
                  </a:lnTo>
                  <a:lnTo>
                    <a:pt x="623" y="709"/>
                  </a:lnTo>
                  <a:lnTo>
                    <a:pt x="623" y="502"/>
                  </a:lnTo>
                  <a:lnTo>
                    <a:pt x="603" y="503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65120" y="475560"/>
              <a:ext cx="89280" cy="99360"/>
            </a:xfrm>
            <a:custGeom>
              <a:avLst/>
              <a:gdLst/>
              <a:ahLst/>
              <a:rect l="l" t="t" r="r" b="b"/>
              <a:pathLst>
                <a:path w="1425" h="1308">
                  <a:moveTo>
                    <a:pt x="12" y="1209"/>
                  </a:moveTo>
                  <a:lnTo>
                    <a:pt x="32" y="1194"/>
                  </a:lnTo>
                  <a:lnTo>
                    <a:pt x="56" y="1182"/>
                  </a:lnTo>
                  <a:lnTo>
                    <a:pt x="66" y="1176"/>
                  </a:lnTo>
                  <a:lnTo>
                    <a:pt x="75" y="1168"/>
                  </a:lnTo>
                  <a:lnTo>
                    <a:pt x="85" y="1160"/>
                  </a:lnTo>
                  <a:lnTo>
                    <a:pt x="93" y="1149"/>
                  </a:lnTo>
                  <a:lnTo>
                    <a:pt x="102" y="1137"/>
                  </a:lnTo>
                  <a:lnTo>
                    <a:pt x="110" y="1125"/>
                  </a:lnTo>
                  <a:lnTo>
                    <a:pt x="118" y="1112"/>
                  </a:lnTo>
                  <a:lnTo>
                    <a:pt x="125" y="1096"/>
                  </a:lnTo>
                  <a:lnTo>
                    <a:pt x="130" y="1081"/>
                  </a:lnTo>
                  <a:lnTo>
                    <a:pt x="497" y="0"/>
                  </a:lnTo>
                  <a:lnTo>
                    <a:pt x="932" y="0"/>
                  </a:lnTo>
                  <a:lnTo>
                    <a:pt x="1324" y="1083"/>
                  </a:lnTo>
                  <a:lnTo>
                    <a:pt x="1331" y="1096"/>
                  </a:lnTo>
                  <a:lnTo>
                    <a:pt x="1338" y="1112"/>
                  </a:lnTo>
                  <a:lnTo>
                    <a:pt x="1347" y="1130"/>
                  </a:lnTo>
                  <a:lnTo>
                    <a:pt x="1354" y="1147"/>
                  </a:lnTo>
                  <a:lnTo>
                    <a:pt x="1365" y="1163"/>
                  </a:lnTo>
                  <a:lnTo>
                    <a:pt x="1392" y="1196"/>
                  </a:lnTo>
                  <a:lnTo>
                    <a:pt x="1404" y="1205"/>
                  </a:lnTo>
                  <a:lnTo>
                    <a:pt x="1412" y="1210"/>
                  </a:lnTo>
                  <a:lnTo>
                    <a:pt x="1418" y="1214"/>
                  </a:lnTo>
                  <a:lnTo>
                    <a:pt x="1423" y="1218"/>
                  </a:lnTo>
                  <a:lnTo>
                    <a:pt x="1425" y="1223"/>
                  </a:lnTo>
                  <a:lnTo>
                    <a:pt x="1425" y="1243"/>
                  </a:lnTo>
                  <a:lnTo>
                    <a:pt x="1425" y="1308"/>
                  </a:lnTo>
                  <a:lnTo>
                    <a:pt x="899" y="1308"/>
                  </a:lnTo>
                  <a:lnTo>
                    <a:pt x="899" y="1246"/>
                  </a:lnTo>
                  <a:lnTo>
                    <a:pt x="899" y="1225"/>
                  </a:lnTo>
                  <a:lnTo>
                    <a:pt x="907" y="1214"/>
                  </a:lnTo>
                  <a:lnTo>
                    <a:pt x="917" y="1205"/>
                  </a:lnTo>
                  <a:lnTo>
                    <a:pt x="930" y="1198"/>
                  </a:lnTo>
                  <a:lnTo>
                    <a:pt x="938" y="1191"/>
                  </a:lnTo>
                  <a:lnTo>
                    <a:pt x="946" y="1185"/>
                  </a:lnTo>
                  <a:lnTo>
                    <a:pt x="952" y="1178"/>
                  </a:lnTo>
                  <a:lnTo>
                    <a:pt x="957" y="1169"/>
                  </a:lnTo>
                  <a:lnTo>
                    <a:pt x="962" y="1161"/>
                  </a:lnTo>
                  <a:lnTo>
                    <a:pt x="964" y="1152"/>
                  </a:lnTo>
                  <a:lnTo>
                    <a:pt x="965" y="1141"/>
                  </a:lnTo>
                  <a:lnTo>
                    <a:pt x="966" y="1130"/>
                  </a:lnTo>
                  <a:lnTo>
                    <a:pt x="964" y="1114"/>
                  </a:lnTo>
                  <a:lnTo>
                    <a:pt x="963" y="1109"/>
                  </a:lnTo>
                  <a:lnTo>
                    <a:pt x="955" y="1083"/>
                  </a:lnTo>
                  <a:lnTo>
                    <a:pt x="887" y="846"/>
                  </a:lnTo>
                  <a:lnTo>
                    <a:pt x="489" y="846"/>
                  </a:lnTo>
                  <a:lnTo>
                    <a:pt x="418" y="1085"/>
                  </a:lnTo>
                  <a:lnTo>
                    <a:pt x="415" y="1096"/>
                  </a:lnTo>
                  <a:lnTo>
                    <a:pt x="413" y="1107"/>
                  </a:lnTo>
                  <a:lnTo>
                    <a:pt x="412" y="1117"/>
                  </a:lnTo>
                  <a:lnTo>
                    <a:pt x="411" y="1126"/>
                  </a:lnTo>
                  <a:lnTo>
                    <a:pt x="412" y="1136"/>
                  </a:lnTo>
                  <a:lnTo>
                    <a:pt x="413" y="1145"/>
                  </a:lnTo>
                  <a:lnTo>
                    <a:pt x="415" y="1153"/>
                  </a:lnTo>
                  <a:lnTo>
                    <a:pt x="420" y="1161"/>
                  </a:lnTo>
                  <a:lnTo>
                    <a:pt x="425" y="1167"/>
                  </a:lnTo>
                  <a:lnTo>
                    <a:pt x="431" y="1174"/>
                  </a:lnTo>
                  <a:lnTo>
                    <a:pt x="439" y="1179"/>
                  </a:lnTo>
                  <a:lnTo>
                    <a:pt x="447" y="1185"/>
                  </a:lnTo>
                  <a:lnTo>
                    <a:pt x="477" y="1199"/>
                  </a:lnTo>
                  <a:lnTo>
                    <a:pt x="489" y="1206"/>
                  </a:lnTo>
                  <a:lnTo>
                    <a:pt x="494" y="1210"/>
                  </a:lnTo>
                  <a:lnTo>
                    <a:pt x="499" y="1215"/>
                  </a:lnTo>
                  <a:lnTo>
                    <a:pt x="504" y="1220"/>
                  </a:lnTo>
                  <a:lnTo>
                    <a:pt x="509" y="1227"/>
                  </a:lnTo>
                  <a:lnTo>
                    <a:pt x="508" y="1246"/>
                  </a:lnTo>
                  <a:lnTo>
                    <a:pt x="508" y="1308"/>
                  </a:lnTo>
                  <a:lnTo>
                    <a:pt x="0" y="1308"/>
                  </a:lnTo>
                  <a:lnTo>
                    <a:pt x="0" y="1223"/>
                  </a:lnTo>
                  <a:lnTo>
                    <a:pt x="12" y="1209"/>
                  </a:lnTo>
                  <a:close/>
                  <a:moveTo>
                    <a:pt x="823" y="630"/>
                  </a:moveTo>
                  <a:lnTo>
                    <a:pt x="684" y="214"/>
                  </a:lnTo>
                  <a:lnTo>
                    <a:pt x="547" y="630"/>
                  </a:lnTo>
                  <a:lnTo>
                    <a:pt x="823" y="630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53320" y="501120"/>
              <a:ext cx="105120" cy="73800"/>
            </a:xfrm>
            <a:custGeom>
              <a:avLst/>
              <a:gdLst/>
              <a:ahLst/>
              <a:rect l="l" t="t" r="r" b="b"/>
              <a:pathLst>
                <a:path w="1692" h="969">
                  <a:moveTo>
                    <a:pt x="0" y="969"/>
                  </a:moveTo>
                  <a:lnTo>
                    <a:pt x="0" y="908"/>
                  </a:lnTo>
                  <a:lnTo>
                    <a:pt x="0" y="902"/>
                  </a:lnTo>
                  <a:lnTo>
                    <a:pt x="1" y="895"/>
                  </a:lnTo>
                  <a:lnTo>
                    <a:pt x="4" y="889"/>
                  </a:lnTo>
                  <a:lnTo>
                    <a:pt x="6" y="884"/>
                  </a:lnTo>
                  <a:lnTo>
                    <a:pt x="10" y="879"/>
                  </a:lnTo>
                  <a:lnTo>
                    <a:pt x="13" y="875"/>
                  </a:lnTo>
                  <a:lnTo>
                    <a:pt x="18" y="871"/>
                  </a:lnTo>
                  <a:lnTo>
                    <a:pt x="24" y="867"/>
                  </a:lnTo>
                  <a:lnTo>
                    <a:pt x="39" y="862"/>
                  </a:lnTo>
                  <a:lnTo>
                    <a:pt x="66" y="857"/>
                  </a:lnTo>
                  <a:lnTo>
                    <a:pt x="71" y="851"/>
                  </a:lnTo>
                  <a:lnTo>
                    <a:pt x="74" y="846"/>
                  </a:lnTo>
                  <a:lnTo>
                    <a:pt x="76" y="841"/>
                  </a:lnTo>
                  <a:lnTo>
                    <a:pt x="77" y="837"/>
                  </a:lnTo>
                  <a:lnTo>
                    <a:pt x="77" y="828"/>
                  </a:lnTo>
                  <a:lnTo>
                    <a:pt x="77" y="817"/>
                  </a:lnTo>
                  <a:lnTo>
                    <a:pt x="77" y="798"/>
                  </a:lnTo>
                  <a:lnTo>
                    <a:pt x="77" y="787"/>
                  </a:lnTo>
                  <a:lnTo>
                    <a:pt x="77" y="221"/>
                  </a:lnTo>
                  <a:lnTo>
                    <a:pt x="77" y="208"/>
                  </a:lnTo>
                  <a:lnTo>
                    <a:pt x="77" y="196"/>
                  </a:lnTo>
                  <a:lnTo>
                    <a:pt x="77" y="181"/>
                  </a:lnTo>
                  <a:lnTo>
                    <a:pt x="77" y="173"/>
                  </a:lnTo>
                  <a:lnTo>
                    <a:pt x="76" y="169"/>
                  </a:lnTo>
                  <a:lnTo>
                    <a:pt x="74" y="162"/>
                  </a:lnTo>
                  <a:lnTo>
                    <a:pt x="70" y="158"/>
                  </a:lnTo>
                  <a:lnTo>
                    <a:pt x="65" y="151"/>
                  </a:lnTo>
                  <a:lnTo>
                    <a:pt x="38" y="146"/>
                  </a:lnTo>
                  <a:lnTo>
                    <a:pt x="26" y="140"/>
                  </a:lnTo>
                  <a:lnTo>
                    <a:pt x="20" y="137"/>
                  </a:lnTo>
                  <a:lnTo>
                    <a:pt x="13" y="132"/>
                  </a:lnTo>
                  <a:lnTo>
                    <a:pt x="10" y="128"/>
                  </a:lnTo>
                  <a:lnTo>
                    <a:pt x="6" y="123"/>
                  </a:lnTo>
                  <a:lnTo>
                    <a:pt x="4" y="117"/>
                  </a:lnTo>
                  <a:lnTo>
                    <a:pt x="1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41"/>
                  </a:lnTo>
                  <a:lnTo>
                    <a:pt x="387" y="41"/>
                  </a:lnTo>
                  <a:lnTo>
                    <a:pt x="387" y="139"/>
                  </a:lnTo>
                  <a:lnTo>
                    <a:pt x="413" y="116"/>
                  </a:lnTo>
                  <a:lnTo>
                    <a:pt x="436" y="95"/>
                  </a:lnTo>
                  <a:lnTo>
                    <a:pt x="461" y="76"/>
                  </a:lnTo>
                  <a:lnTo>
                    <a:pt x="486" y="59"/>
                  </a:lnTo>
                  <a:lnTo>
                    <a:pt x="510" y="46"/>
                  </a:lnTo>
                  <a:lnTo>
                    <a:pt x="536" y="33"/>
                  </a:lnTo>
                  <a:lnTo>
                    <a:pt x="561" y="24"/>
                  </a:lnTo>
                  <a:lnTo>
                    <a:pt x="587" y="15"/>
                  </a:lnTo>
                  <a:lnTo>
                    <a:pt x="612" y="10"/>
                  </a:lnTo>
                  <a:lnTo>
                    <a:pt x="636" y="6"/>
                  </a:lnTo>
                  <a:lnTo>
                    <a:pt x="658" y="3"/>
                  </a:lnTo>
                  <a:lnTo>
                    <a:pt x="679" y="2"/>
                  </a:lnTo>
                  <a:lnTo>
                    <a:pt x="697" y="0"/>
                  </a:lnTo>
                  <a:lnTo>
                    <a:pt x="721" y="2"/>
                  </a:lnTo>
                  <a:lnTo>
                    <a:pt x="744" y="4"/>
                  </a:lnTo>
                  <a:lnTo>
                    <a:pt x="766" y="6"/>
                  </a:lnTo>
                  <a:lnTo>
                    <a:pt x="787" y="11"/>
                  </a:lnTo>
                  <a:lnTo>
                    <a:pt x="808" y="16"/>
                  </a:lnTo>
                  <a:lnTo>
                    <a:pt x="828" y="24"/>
                  </a:lnTo>
                  <a:lnTo>
                    <a:pt x="847" y="32"/>
                  </a:lnTo>
                  <a:lnTo>
                    <a:pt x="867" y="42"/>
                  </a:lnTo>
                  <a:lnTo>
                    <a:pt x="884" y="52"/>
                  </a:lnTo>
                  <a:lnTo>
                    <a:pt x="901" y="64"/>
                  </a:lnTo>
                  <a:lnTo>
                    <a:pt x="916" y="76"/>
                  </a:lnTo>
                  <a:lnTo>
                    <a:pt x="931" y="89"/>
                  </a:lnTo>
                  <a:lnTo>
                    <a:pt x="943" y="102"/>
                  </a:lnTo>
                  <a:lnTo>
                    <a:pt x="954" y="117"/>
                  </a:lnTo>
                  <a:lnTo>
                    <a:pt x="964" y="132"/>
                  </a:lnTo>
                  <a:lnTo>
                    <a:pt x="974" y="148"/>
                  </a:lnTo>
                  <a:lnTo>
                    <a:pt x="1002" y="123"/>
                  </a:lnTo>
                  <a:lnTo>
                    <a:pt x="1027" y="102"/>
                  </a:lnTo>
                  <a:lnTo>
                    <a:pt x="1051" y="85"/>
                  </a:lnTo>
                  <a:lnTo>
                    <a:pt x="1076" y="69"/>
                  </a:lnTo>
                  <a:lnTo>
                    <a:pt x="1101" y="56"/>
                  </a:lnTo>
                  <a:lnTo>
                    <a:pt x="1125" y="43"/>
                  </a:lnTo>
                  <a:lnTo>
                    <a:pt x="1149" y="35"/>
                  </a:lnTo>
                  <a:lnTo>
                    <a:pt x="1171" y="27"/>
                  </a:lnTo>
                  <a:lnTo>
                    <a:pt x="1192" y="22"/>
                  </a:lnTo>
                  <a:lnTo>
                    <a:pt x="1213" y="19"/>
                  </a:lnTo>
                  <a:lnTo>
                    <a:pt x="1231" y="16"/>
                  </a:lnTo>
                  <a:lnTo>
                    <a:pt x="1248" y="14"/>
                  </a:lnTo>
                  <a:lnTo>
                    <a:pt x="1264" y="11"/>
                  </a:lnTo>
                  <a:lnTo>
                    <a:pt x="1278" y="10"/>
                  </a:lnTo>
                  <a:lnTo>
                    <a:pt x="1293" y="9"/>
                  </a:lnTo>
                  <a:lnTo>
                    <a:pt x="1306" y="9"/>
                  </a:lnTo>
                  <a:lnTo>
                    <a:pt x="1321" y="8"/>
                  </a:lnTo>
                  <a:lnTo>
                    <a:pt x="1338" y="9"/>
                  </a:lnTo>
                  <a:lnTo>
                    <a:pt x="1355" y="9"/>
                  </a:lnTo>
                  <a:lnTo>
                    <a:pt x="1371" y="11"/>
                  </a:lnTo>
                  <a:lnTo>
                    <a:pt x="1387" y="13"/>
                  </a:lnTo>
                  <a:lnTo>
                    <a:pt x="1403" y="16"/>
                  </a:lnTo>
                  <a:lnTo>
                    <a:pt x="1418" y="19"/>
                  </a:lnTo>
                  <a:lnTo>
                    <a:pt x="1433" y="22"/>
                  </a:lnTo>
                  <a:lnTo>
                    <a:pt x="1446" y="27"/>
                  </a:lnTo>
                  <a:lnTo>
                    <a:pt x="1460" y="32"/>
                  </a:lnTo>
                  <a:lnTo>
                    <a:pt x="1473" y="38"/>
                  </a:lnTo>
                  <a:lnTo>
                    <a:pt x="1486" y="45"/>
                  </a:lnTo>
                  <a:lnTo>
                    <a:pt x="1497" y="52"/>
                  </a:lnTo>
                  <a:lnTo>
                    <a:pt x="1508" y="59"/>
                  </a:lnTo>
                  <a:lnTo>
                    <a:pt x="1519" y="68"/>
                  </a:lnTo>
                  <a:lnTo>
                    <a:pt x="1530" y="76"/>
                  </a:lnTo>
                  <a:lnTo>
                    <a:pt x="1539" y="85"/>
                  </a:lnTo>
                  <a:lnTo>
                    <a:pt x="1548" y="95"/>
                  </a:lnTo>
                  <a:lnTo>
                    <a:pt x="1557" y="106"/>
                  </a:lnTo>
                  <a:lnTo>
                    <a:pt x="1564" y="117"/>
                  </a:lnTo>
                  <a:lnTo>
                    <a:pt x="1572" y="128"/>
                  </a:lnTo>
                  <a:lnTo>
                    <a:pt x="1579" y="139"/>
                  </a:lnTo>
                  <a:lnTo>
                    <a:pt x="1585" y="151"/>
                  </a:lnTo>
                  <a:lnTo>
                    <a:pt x="1590" y="165"/>
                  </a:lnTo>
                  <a:lnTo>
                    <a:pt x="1595" y="177"/>
                  </a:lnTo>
                  <a:lnTo>
                    <a:pt x="1600" y="191"/>
                  </a:lnTo>
                  <a:lnTo>
                    <a:pt x="1604" y="205"/>
                  </a:lnTo>
                  <a:lnTo>
                    <a:pt x="1607" y="219"/>
                  </a:lnTo>
                  <a:lnTo>
                    <a:pt x="1610" y="235"/>
                  </a:lnTo>
                  <a:lnTo>
                    <a:pt x="1614" y="266"/>
                  </a:lnTo>
                  <a:lnTo>
                    <a:pt x="1615" y="299"/>
                  </a:lnTo>
                  <a:lnTo>
                    <a:pt x="1615" y="787"/>
                  </a:lnTo>
                  <a:lnTo>
                    <a:pt x="1615" y="798"/>
                  </a:lnTo>
                  <a:lnTo>
                    <a:pt x="1614" y="808"/>
                  </a:lnTo>
                  <a:lnTo>
                    <a:pt x="1615" y="818"/>
                  </a:lnTo>
                  <a:lnTo>
                    <a:pt x="1617" y="828"/>
                  </a:lnTo>
                  <a:lnTo>
                    <a:pt x="1620" y="837"/>
                  </a:lnTo>
                  <a:lnTo>
                    <a:pt x="1623" y="844"/>
                  </a:lnTo>
                  <a:lnTo>
                    <a:pt x="1628" y="850"/>
                  </a:lnTo>
                  <a:lnTo>
                    <a:pt x="1633" y="854"/>
                  </a:lnTo>
                  <a:lnTo>
                    <a:pt x="1638" y="856"/>
                  </a:lnTo>
                  <a:lnTo>
                    <a:pt x="1658" y="861"/>
                  </a:lnTo>
                  <a:lnTo>
                    <a:pt x="1669" y="866"/>
                  </a:lnTo>
                  <a:lnTo>
                    <a:pt x="1674" y="871"/>
                  </a:lnTo>
                  <a:lnTo>
                    <a:pt x="1679" y="875"/>
                  </a:lnTo>
                  <a:lnTo>
                    <a:pt x="1684" y="879"/>
                  </a:lnTo>
                  <a:lnTo>
                    <a:pt x="1686" y="884"/>
                  </a:lnTo>
                  <a:lnTo>
                    <a:pt x="1690" y="889"/>
                  </a:lnTo>
                  <a:lnTo>
                    <a:pt x="1691" y="895"/>
                  </a:lnTo>
                  <a:lnTo>
                    <a:pt x="1692" y="900"/>
                  </a:lnTo>
                  <a:lnTo>
                    <a:pt x="1692" y="908"/>
                  </a:lnTo>
                  <a:lnTo>
                    <a:pt x="1692" y="969"/>
                  </a:lnTo>
                  <a:lnTo>
                    <a:pt x="1245" y="969"/>
                  </a:lnTo>
                  <a:lnTo>
                    <a:pt x="1245" y="908"/>
                  </a:lnTo>
                  <a:lnTo>
                    <a:pt x="1246" y="900"/>
                  </a:lnTo>
                  <a:lnTo>
                    <a:pt x="1247" y="894"/>
                  </a:lnTo>
                  <a:lnTo>
                    <a:pt x="1251" y="888"/>
                  </a:lnTo>
                  <a:lnTo>
                    <a:pt x="1254" y="882"/>
                  </a:lnTo>
                  <a:lnTo>
                    <a:pt x="1261" y="876"/>
                  </a:lnTo>
                  <a:lnTo>
                    <a:pt x="1267" y="871"/>
                  </a:lnTo>
                  <a:lnTo>
                    <a:pt x="1275" y="867"/>
                  </a:lnTo>
                  <a:lnTo>
                    <a:pt x="1284" y="862"/>
                  </a:lnTo>
                  <a:lnTo>
                    <a:pt x="1297" y="857"/>
                  </a:lnTo>
                  <a:lnTo>
                    <a:pt x="1304" y="846"/>
                  </a:lnTo>
                  <a:lnTo>
                    <a:pt x="1304" y="837"/>
                  </a:lnTo>
                  <a:lnTo>
                    <a:pt x="1304" y="828"/>
                  </a:lnTo>
                  <a:lnTo>
                    <a:pt x="1304" y="801"/>
                  </a:lnTo>
                  <a:lnTo>
                    <a:pt x="1304" y="787"/>
                  </a:lnTo>
                  <a:lnTo>
                    <a:pt x="1304" y="312"/>
                  </a:lnTo>
                  <a:lnTo>
                    <a:pt x="1302" y="296"/>
                  </a:lnTo>
                  <a:lnTo>
                    <a:pt x="1302" y="283"/>
                  </a:lnTo>
                  <a:lnTo>
                    <a:pt x="1300" y="269"/>
                  </a:lnTo>
                  <a:lnTo>
                    <a:pt x="1299" y="258"/>
                  </a:lnTo>
                  <a:lnTo>
                    <a:pt x="1296" y="248"/>
                  </a:lnTo>
                  <a:lnTo>
                    <a:pt x="1293" y="240"/>
                  </a:lnTo>
                  <a:lnTo>
                    <a:pt x="1289" y="231"/>
                  </a:lnTo>
                  <a:lnTo>
                    <a:pt x="1285" y="225"/>
                  </a:lnTo>
                  <a:lnTo>
                    <a:pt x="1280" y="220"/>
                  </a:lnTo>
                  <a:lnTo>
                    <a:pt x="1274" y="215"/>
                  </a:lnTo>
                  <a:lnTo>
                    <a:pt x="1267" y="212"/>
                  </a:lnTo>
                  <a:lnTo>
                    <a:pt x="1258" y="208"/>
                  </a:lnTo>
                  <a:lnTo>
                    <a:pt x="1248" y="205"/>
                  </a:lnTo>
                  <a:lnTo>
                    <a:pt x="1238" y="204"/>
                  </a:lnTo>
                  <a:lnTo>
                    <a:pt x="1226" y="203"/>
                  </a:lnTo>
                  <a:lnTo>
                    <a:pt x="1214" y="203"/>
                  </a:lnTo>
                  <a:lnTo>
                    <a:pt x="1202" y="203"/>
                  </a:lnTo>
                  <a:lnTo>
                    <a:pt x="1189" y="204"/>
                  </a:lnTo>
                  <a:lnTo>
                    <a:pt x="1177" y="205"/>
                  </a:lnTo>
                  <a:lnTo>
                    <a:pt x="1165" y="209"/>
                  </a:lnTo>
                  <a:lnTo>
                    <a:pt x="1152" y="212"/>
                  </a:lnTo>
                  <a:lnTo>
                    <a:pt x="1140" y="216"/>
                  </a:lnTo>
                  <a:lnTo>
                    <a:pt x="1128" y="220"/>
                  </a:lnTo>
                  <a:lnTo>
                    <a:pt x="1115" y="226"/>
                  </a:lnTo>
                  <a:lnTo>
                    <a:pt x="1096" y="236"/>
                  </a:lnTo>
                  <a:lnTo>
                    <a:pt x="1079" y="247"/>
                  </a:lnTo>
                  <a:lnTo>
                    <a:pt x="1061" y="259"/>
                  </a:lnTo>
                  <a:lnTo>
                    <a:pt x="1047" y="273"/>
                  </a:lnTo>
                  <a:lnTo>
                    <a:pt x="1033" y="289"/>
                  </a:lnTo>
                  <a:lnTo>
                    <a:pt x="1021" y="305"/>
                  </a:lnTo>
                  <a:lnTo>
                    <a:pt x="1010" y="323"/>
                  </a:lnTo>
                  <a:lnTo>
                    <a:pt x="1001" y="343"/>
                  </a:lnTo>
                  <a:lnTo>
                    <a:pt x="995" y="381"/>
                  </a:lnTo>
                  <a:lnTo>
                    <a:pt x="995" y="423"/>
                  </a:lnTo>
                  <a:lnTo>
                    <a:pt x="995" y="787"/>
                  </a:lnTo>
                  <a:lnTo>
                    <a:pt x="995" y="798"/>
                  </a:lnTo>
                  <a:lnTo>
                    <a:pt x="995" y="817"/>
                  </a:lnTo>
                  <a:lnTo>
                    <a:pt x="995" y="828"/>
                  </a:lnTo>
                  <a:lnTo>
                    <a:pt x="995" y="837"/>
                  </a:lnTo>
                  <a:lnTo>
                    <a:pt x="999" y="844"/>
                  </a:lnTo>
                  <a:lnTo>
                    <a:pt x="1002" y="850"/>
                  </a:lnTo>
                  <a:lnTo>
                    <a:pt x="1006" y="854"/>
                  </a:lnTo>
                  <a:lnTo>
                    <a:pt x="1011" y="857"/>
                  </a:lnTo>
                  <a:lnTo>
                    <a:pt x="1024" y="862"/>
                  </a:lnTo>
                  <a:lnTo>
                    <a:pt x="1033" y="866"/>
                  </a:lnTo>
                  <a:lnTo>
                    <a:pt x="1042" y="871"/>
                  </a:lnTo>
                  <a:lnTo>
                    <a:pt x="1048" y="876"/>
                  </a:lnTo>
                  <a:lnTo>
                    <a:pt x="1053" y="881"/>
                  </a:lnTo>
                  <a:lnTo>
                    <a:pt x="1058" y="886"/>
                  </a:lnTo>
                  <a:lnTo>
                    <a:pt x="1060" y="892"/>
                  </a:lnTo>
                  <a:lnTo>
                    <a:pt x="1063" y="899"/>
                  </a:lnTo>
                  <a:lnTo>
                    <a:pt x="1063" y="907"/>
                  </a:lnTo>
                  <a:lnTo>
                    <a:pt x="1063" y="969"/>
                  </a:lnTo>
                  <a:lnTo>
                    <a:pt x="621" y="969"/>
                  </a:lnTo>
                  <a:lnTo>
                    <a:pt x="621" y="907"/>
                  </a:lnTo>
                  <a:lnTo>
                    <a:pt x="621" y="900"/>
                  </a:lnTo>
                  <a:lnTo>
                    <a:pt x="622" y="893"/>
                  </a:lnTo>
                  <a:lnTo>
                    <a:pt x="626" y="887"/>
                  </a:lnTo>
                  <a:lnTo>
                    <a:pt x="630" y="881"/>
                  </a:lnTo>
                  <a:lnTo>
                    <a:pt x="636" y="876"/>
                  </a:lnTo>
                  <a:lnTo>
                    <a:pt x="643" y="871"/>
                  </a:lnTo>
                  <a:lnTo>
                    <a:pt x="651" y="867"/>
                  </a:lnTo>
                  <a:lnTo>
                    <a:pt x="660" y="862"/>
                  </a:lnTo>
                  <a:lnTo>
                    <a:pt x="671" y="857"/>
                  </a:lnTo>
                  <a:lnTo>
                    <a:pt x="675" y="855"/>
                  </a:lnTo>
                  <a:lnTo>
                    <a:pt x="678" y="851"/>
                  </a:lnTo>
                  <a:lnTo>
                    <a:pt x="681" y="844"/>
                  </a:lnTo>
                  <a:lnTo>
                    <a:pt x="684" y="835"/>
                  </a:lnTo>
                  <a:lnTo>
                    <a:pt x="684" y="828"/>
                  </a:lnTo>
                  <a:lnTo>
                    <a:pt x="684" y="817"/>
                  </a:lnTo>
                  <a:lnTo>
                    <a:pt x="684" y="798"/>
                  </a:lnTo>
                  <a:lnTo>
                    <a:pt x="684" y="787"/>
                  </a:lnTo>
                  <a:lnTo>
                    <a:pt x="684" y="364"/>
                  </a:lnTo>
                  <a:lnTo>
                    <a:pt x="679" y="301"/>
                  </a:lnTo>
                  <a:lnTo>
                    <a:pt x="676" y="290"/>
                  </a:lnTo>
                  <a:lnTo>
                    <a:pt x="673" y="282"/>
                  </a:lnTo>
                  <a:lnTo>
                    <a:pt x="669" y="272"/>
                  </a:lnTo>
                  <a:lnTo>
                    <a:pt x="665" y="263"/>
                  </a:lnTo>
                  <a:lnTo>
                    <a:pt x="660" y="256"/>
                  </a:lnTo>
                  <a:lnTo>
                    <a:pt x="654" y="248"/>
                  </a:lnTo>
                  <a:lnTo>
                    <a:pt x="648" y="241"/>
                  </a:lnTo>
                  <a:lnTo>
                    <a:pt x="642" y="235"/>
                  </a:lnTo>
                  <a:lnTo>
                    <a:pt x="635" y="230"/>
                  </a:lnTo>
                  <a:lnTo>
                    <a:pt x="626" y="225"/>
                  </a:lnTo>
                  <a:lnTo>
                    <a:pt x="619" y="221"/>
                  </a:lnTo>
                  <a:lnTo>
                    <a:pt x="610" y="218"/>
                  </a:lnTo>
                  <a:lnTo>
                    <a:pt x="601" y="215"/>
                  </a:lnTo>
                  <a:lnTo>
                    <a:pt x="591" y="213"/>
                  </a:lnTo>
                  <a:lnTo>
                    <a:pt x="582" y="212"/>
                  </a:lnTo>
                  <a:lnTo>
                    <a:pt x="572" y="212"/>
                  </a:lnTo>
                  <a:lnTo>
                    <a:pt x="555" y="213"/>
                  </a:lnTo>
                  <a:lnTo>
                    <a:pt x="537" y="216"/>
                  </a:lnTo>
                  <a:lnTo>
                    <a:pt x="518" y="223"/>
                  </a:lnTo>
                  <a:lnTo>
                    <a:pt x="497" y="231"/>
                  </a:lnTo>
                  <a:lnTo>
                    <a:pt x="483" y="240"/>
                  </a:lnTo>
                  <a:lnTo>
                    <a:pt x="470" y="247"/>
                  </a:lnTo>
                  <a:lnTo>
                    <a:pt x="457" y="256"/>
                  </a:lnTo>
                  <a:lnTo>
                    <a:pt x="446" y="264"/>
                  </a:lnTo>
                  <a:lnTo>
                    <a:pt x="435" y="274"/>
                  </a:lnTo>
                  <a:lnTo>
                    <a:pt x="425" y="284"/>
                  </a:lnTo>
                  <a:lnTo>
                    <a:pt x="416" y="294"/>
                  </a:lnTo>
                  <a:lnTo>
                    <a:pt x="407" y="305"/>
                  </a:lnTo>
                  <a:lnTo>
                    <a:pt x="387" y="329"/>
                  </a:lnTo>
                  <a:lnTo>
                    <a:pt x="387" y="787"/>
                  </a:lnTo>
                  <a:lnTo>
                    <a:pt x="387" y="798"/>
                  </a:lnTo>
                  <a:lnTo>
                    <a:pt x="393" y="837"/>
                  </a:lnTo>
                  <a:lnTo>
                    <a:pt x="396" y="845"/>
                  </a:lnTo>
                  <a:lnTo>
                    <a:pt x="400" y="851"/>
                  </a:lnTo>
                  <a:lnTo>
                    <a:pt x="405" y="855"/>
                  </a:lnTo>
                  <a:lnTo>
                    <a:pt x="409" y="857"/>
                  </a:lnTo>
                  <a:lnTo>
                    <a:pt x="422" y="862"/>
                  </a:lnTo>
                  <a:lnTo>
                    <a:pt x="430" y="866"/>
                  </a:lnTo>
                  <a:lnTo>
                    <a:pt x="438" y="871"/>
                  </a:lnTo>
                  <a:lnTo>
                    <a:pt x="444" y="876"/>
                  </a:lnTo>
                  <a:lnTo>
                    <a:pt x="449" y="881"/>
                  </a:lnTo>
                  <a:lnTo>
                    <a:pt x="454" y="886"/>
                  </a:lnTo>
                  <a:lnTo>
                    <a:pt x="456" y="892"/>
                  </a:lnTo>
                  <a:lnTo>
                    <a:pt x="457" y="899"/>
                  </a:lnTo>
                  <a:lnTo>
                    <a:pt x="459" y="907"/>
                  </a:lnTo>
                  <a:lnTo>
                    <a:pt x="459" y="969"/>
                  </a:lnTo>
                  <a:lnTo>
                    <a:pt x="0" y="96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62760" y="475560"/>
              <a:ext cx="60840" cy="99360"/>
            </a:xfrm>
            <a:custGeom>
              <a:avLst/>
              <a:gdLst/>
              <a:ahLst/>
              <a:rect l="l" t="t" r="r" b="b"/>
              <a:pathLst>
                <a:path w="993" h="1308">
                  <a:moveTo>
                    <a:pt x="0" y="1308"/>
                  </a:moveTo>
                  <a:lnTo>
                    <a:pt x="0" y="1246"/>
                  </a:lnTo>
                  <a:lnTo>
                    <a:pt x="0" y="1239"/>
                  </a:lnTo>
                  <a:lnTo>
                    <a:pt x="1" y="1234"/>
                  </a:lnTo>
                  <a:lnTo>
                    <a:pt x="3" y="1231"/>
                  </a:lnTo>
                  <a:lnTo>
                    <a:pt x="6" y="1226"/>
                  </a:lnTo>
                  <a:lnTo>
                    <a:pt x="13" y="1216"/>
                  </a:lnTo>
                  <a:lnTo>
                    <a:pt x="23" y="1206"/>
                  </a:lnTo>
                  <a:lnTo>
                    <a:pt x="33" y="1201"/>
                  </a:lnTo>
                  <a:lnTo>
                    <a:pt x="45" y="1196"/>
                  </a:lnTo>
                  <a:lnTo>
                    <a:pt x="52" y="1193"/>
                  </a:lnTo>
                  <a:lnTo>
                    <a:pt x="60" y="1188"/>
                  </a:lnTo>
                  <a:lnTo>
                    <a:pt x="66" y="1182"/>
                  </a:lnTo>
                  <a:lnTo>
                    <a:pt x="71" y="1176"/>
                  </a:lnTo>
                  <a:lnTo>
                    <a:pt x="75" y="1168"/>
                  </a:lnTo>
                  <a:lnTo>
                    <a:pt x="77" y="1160"/>
                  </a:lnTo>
                  <a:lnTo>
                    <a:pt x="79" y="1150"/>
                  </a:lnTo>
                  <a:lnTo>
                    <a:pt x="79" y="1140"/>
                  </a:lnTo>
                  <a:lnTo>
                    <a:pt x="79" y="1126"/>
                  </a:lnTo>
                  <a:lnTo>
                    <a:pt x="79" y="183"/>
                  </a:lnTo>
                  <a:lnTo>
                    <a:pt x="79" y="169"/>
                  </a:lnTo>
                  <a:lnTo>
                    <a:pt x="78" y="158"/>
                  </a:lnTo>
                  <a:lnTo>
                    <a:pt x="76" y="148"/>
                  </a:lnTo>
                  <a:lnTo>
                    <a:pt x="73" y="139"/>
                  </a:lnTo>
                  <a:lnTo>
                    <a:pt x="70" y="133"/>
                  </a:lnTo>
                  <a:lnTo>
                    <a:pt x="63" y="124"/>
                  </a:lnTo>
                  <a:lnTo>
                    <a:pt x="59" y="118"/>
                  </a:lnTo>
                  <a:lnTo>
                    <a:pt x="55" y="115"/>
                  </a:lnTo>
                  <a:lnTo>
                    <a:pt x="51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8"/>
                  </a:lnTo>
                  <a:lnTo>
                    <a:pt x="4" y="83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86" y="0"/>
                  </a:lnTo>
                  <a:lnTo>
                    <a:pt x="386" y="418"/>
                  </a:lnTo>
                  <a:lnTo>
                    <a:pt x="397" y="411"/>
                  </a:lnTo>
                  <a:lnTo>
                    <a:pt x="413" y="399"/>
                  </a:lnTo>
                  <a:lnTo>
                    <a:pt x="444" y="384"/>
                  </a:lnTo>
                  <a:lnTo>
                    <a:pt x="463" y="374"/>
                  </a:lnTo>
                  <a:lnTo>
                    <a:pt x="483" y="366"/>
                  </a:lnTo>
                  <a:lnTo>
                    <a:pt x="503" y="359"/>
                  </a:lnTo>
                  <a:lnTo>
                    <a:pt x="524" y="354"/>
                  </a:lnTo>
                  <a:lnTo>
                    <a:pt x="543" y="349"/>
                  </a:lnTo>
                  <a:lnTo>
                    <a:pt x="564" y="345"/>
                  </a:lnTo>
                  <a:lnTo>
                    <a:pt x="585" y="344"/>
                  </a:lnTo>
                  <a:lnTo>
                    <a:pt x="606" y="343"/>
                  </a:lnTo>
                  <a:lnTo>
                    <a:pt x="622" y="344"/>
                  </a:lnTo>
                  <a:lnTo>
                    <a:pt x="638" y="344"/>
                  </a:lnTo>
                  <a:lnTo>
                    <a:pt x="653" y="347"/>
                  </a:lnTo>
                  <a:lnTo>
                    <a:pt x="669" y="349"/>
                  </a:lnTo>
                  <a:lnTo>
                    <a:pt x="683" y="352"/>
                  </a:lnTo>
                  <a:lnTo>
                    <a:pt x="699" y="355"/>
                  </a:lnTo>
                  <a:lnTo>
                    <a:pt x="714" y="359"/>
                  </a:lnTo>
                  <a:lnTo>
                    <a:pt x="729" y="364"/>
                  </a:lnTo>
                  <a:lnTo>
                    <a:pt x="744" y="370"/>
                  </a:lnTo>
                  <a:lnTo>
                    <a:pt x="757" y="376"/>
                  </a:lnTo>
                  <a:lnTo>
                    <a:pt x="772" y="384"/>
                  </a:lnTo>
                  <a:lnTo>
                    <a:pt x="785" y="391"/>
                  </a:lnTo>
                  <a:lnTo>
                    <a:pt x="799" y="398"/>
                  </a:lnTo>
                  <a:lnTo>
                    <a:pt x="813" y="408"/>
                  </a:lnTo>
                  <a:lnTo>
                    <a:pt x="826" y="417"/>
                  </a:lnTo>
                  <a:lnTo>
                    <a:pt x="840" y="428"/>
                  </a:lnTo>
                  <a:lnTo>
                    <a:pt x="852" y="438"/>
                  </a:lnTo>
                  <a:lnTo>
                    <a:pt x="864" y="450"/>
                  </a:lnTo>
                  <a:lnTo>
                    <a:pt x="877" y="461"/>
                  </a:lnTo>
                  <a:lnTo>
                    <a:pt x="888" y="473"/>
                  </a:lnTo>
                  <a:lnTo>
                    <a:pt x="897" y="485"/>
                  </a:lnTo>
                  <a:lnTo>
                    <a:pt x="907" y="499"/>
                  </a:lnTo>
                  <a:lnTo>
                    <a:pt x="917" y="511"/>
                  </a:lnTo>
                  <a:lnTo>
                    <a:pt x="926" y="526"/>
                  </a:lnTo>
                  <a:lnTo>
                    <a:pt x="934" y="539"/>
                  </a:lnTo>
                  <a:lnTo>
                    <a:pt x="942" y="554"/>
                  </a:lnTo>
                  <a:lnTo>
                    <a:pt x="949" y="570"/>
                  </a:lnTo>
                  <a:lnTo>
                    <a:pt x="956" y="585"/>
                  </a:lnTo>
                  <a:lnTo>
                    <a:pt x="963" y="601"/>
                  </a:lnTo>
                  <a:lnTo>
                    <a:pt x="968" y="618"/>
                  </a:lnTo>
                  <a:lnTo>
                    <a:pt x="972" y="634"/>
                  </a:lnTo>
                  <a:lnTo>
                    <a:pt x="977" y="651"/>
                  </a:lnTo>
                  <a:lnTo>
                    <a:pt x="984" y="687"/>
                  </a:lnTo>
                  <a:lnTo>
                    <a:pt x="990" y="721"/>
                  </a:lnTo>
                  <a:lnTo>
                    <a:pt x="992" y="754"/>
                  </a:lnTo>
                  <a:lnTo>
                    <a:pt x="993" y="789"/>
                  </a:lnTo>
                  <a:lnTo>
                    <a:pt x="992" y="827"/>
                  </a:lnTo>
                  <a:lnTo>
                    <a:pt x="988" y="862"/>
                  </a:lnTo>
                  <a:lnTo>
                    <a:pt x="984" y="898"/>
                  </a:lnTo>
                  <a:lnTo>
                    <a:pt x="975" y="932"/>
                  </a:lnTo>
                  <a:lnTo>
                    <a:pt x="969" y="957"/>
                  </a:lnTo>
                  <a:lnTo>
                    <a:pt x="961" y="980"/>
                  </a:lnTo>
                  <a:lnTo>
                    <a:pt x="954" y="1002"/>
                  </a:lnTo>
                  <a:lnTo>
                    <a:pt x="945" y="1024"/>
                  </a:lnTo>
                  <a:lnTo>
                    <a:pt x="937" y="1045"/>
                  </a:lnTo>
                  <a:lnTo>
                    <a:pt x="927" y="1065"/>
                  </a:lnTo>
                  <a:lnTo>
                    <a:pt x="917" y="1085"/>
                  </a:lnTo>
                  <a:lnTo>
                    <a:pt x="906" y="1103"/>
                  </a:lnTo>
                  <a:lnTo>
                    <a:pt x="895" y="1120"/>
                  </a:lnTo>
                  <a:lnTo>
                    <a:pt x="883" y="1137"/>
                  </a:lnTo>
                  <a:lnTo>
                    <a:pt x="872" y="1152"/>
                  </a:lnTo>
                  <a:lnTo>
                    <a:pt x="858" y="1168"/>
                  </a:lnTo>
                  <a:lnTo>
                    <a:pt x="845" y="1182"/>
                  </a:lnTo>
                  <a:lnTo>
                    <a:pt x="831" y="1195"/>
                  </a:lnTo>
                  <a:lnTo>
                    <a:pt x="816" y="1207"/>
                  </a:lnTo>
                  <a:lnTo>
                    <a:pt x="801" y="1220"/>
                  </a:lnTo>
                  <a:lnTo>
                    <a:pt x="785" y="1230"/>
                  </a:lnTo>
                  <a:lnTo>
                    <a:pt x="768" y="1241"/>
                  </a:lnTo>
                  <a:lnTo>
                    <a:pt x="751" y="1249"/>
                  </a:lnTo>
                  <a:lnTo>
                    <a:pt x="733" y="1258"/>
                  </a:lnTo>
                  <a:lnTo>
                    <a:pt x="713" y="1266"/>
                  </a:lnTo>
                  <a:lnTo>
                    <a:pt x="692" y="1274"/>
                  </a:lnTo>
                  <a:lnTo>
                    <a:pt x="671" y="1280"/>
                  </a:lnTo>
                  <a:lnTo>
                    <a:pt x="648" y="1286"/>
                  </a:lnTo>
                  <a:lnTo>
                    <a:pt x="624" y="1291"/>
                  </a:lnTo>
                  <a:lnTo>
                    <a:pt x="600" y="1296"/>
                  </a:lnTo>
                  <a:lnTo>
                    <a:pt x="575" y="1300"/>
                  </a:lnTo>
                  <a:lnTo>
                    <a:pt x="549" y="1303"/>
                  </a:lnTo>
                  <a:lnTo>
                    <a:pt x="521" y="1306"/>
                  </a:lnTo>
                  <a:lnTo>
                    <a:pt x="494" y="1307"/>
                  </a:lnTo>
                  <a:lnTo>
                    <a:pt x="464" y="1308"/>
                  </a:lnTo>
                  <a:lnTo>
                    <a:pt x="435" y="1308"/>
                  </a:lnTo>
                  <a:lnTo>
                    <a:pt x="330" y="1308"/>
                  </a:lnTo>
                  <a:lnTo>
                    <a:pt x="0" y="1308"/>
                  </a:lnTo>
                  <a:close/>
                  <a:moveTo>
                    <a:pt x="611" y="1081"/>
                  </a:moveTo>
                  <a:lnTo>
                    <a:pt x="622" y="1074"/>
                  </a:lnTo>
                  <a:lnTo>
                    <a:pt x="633" y="1065"/>
                  </a:lnTo>
                  <a:lnTo>
                    <a:pt x="643" y="1055"/>
                  </a:lnTo>
                  <a:lnTo>
                    <a:pt x="651" y="1045"/>
                  </a:lnTo>
                  <a:lnTo>
                    <a:pt x="660" y="1036"/>
                  </a:lnTo>
                  <a:lnTo>
                    <a:pt x="667" y="1024"/>
                  </a:lnTo>
                  <a:lnTo>
                    <a:pt x="675" y="1012"/>
                  </a:lnTo>
                  <a:lnTo>
                    <a:pt x="682" y="1000"/>
                  </a:lnTo>
                  <a:lnTo>
                    <a:pt x="688" y="988"/>
                  </a:lnTo>
                  <a:lnTo>
                    <a:pt x="693" y="974"/>
                  </a:lnTo>
                  <a:lnTo>
                    <a:pt x="697" y="961"/>
                  </a:lnTo>
                  <a:lnTo>
                    <a:pt x="701" y="945"/>
                  </a:lnTo>
                  <a:lnTo>
                    <a:pt x="704" y="930"/>
                  </a:lnTo>
                  <a:lnTo>
                    <a:pt x="706" y="914"/>
                  </a:lnTo>
                  <a:lnTo>
                    <a:pt x="707" y="897"/>
                  </a:lnTo>
                  <a:lnTo>
                    <a:pt x="708" y="880"/>
                  </a:lnTo>
                  <a:lnTo>
                    <a:pt x="707" y="849"/>
                  </a:lnTo>
                  <a:lnTo>
                    <a:pt x="704" y="819"/>
                  </a:lnTo>
                  <a:lnTo>
                    <a:pt x="699" y="791"/>
                  </a:lnTo>
                  <a:lnTo>
                    <a:pt x="693" y="764"/>
                  </a:lnTo>
                  <a:lnTo>
                    <a:pt x="685" y="740"/>
                  </a:lnTo>
                  <a:lnTo>
                    <a:pt x="675" y="716"/>
                  </a:lnTo>
                  <a:lnTo>
                    <a:pt x="662" y="694"/>
                  </a:lnTo>
                  <a:lnTo>
                    <a:pt x="649" y="675"/>
                  </a:lnTo>
                  <a:lnTo>
                    <a:pt x="642" y="665"/>
                  </a:lnTo>
                  <a:lnTo>
                    <a:pt x="634" y="656"/>
                  </a:lnTo>
                  <a:lnTo>
                    <a:pt x="626" y="648"/>
                  </a:lnTo>
                  <a:lnTo>
                    <a:pt x="618" y="640"/>
                  </a:lnTo>
                  <a:lnTo>
                    <a:pt x="608" y="633"/>
                  </a:lnTo>
                  <a:lnTo>
                    <a:pt x="600" y="627"/>
                  </a:lnTo>
                  <a:lnTo>
                    <a:pt x="591" y="621"/>
                  </a:lnTo>
                  <a:lnTo>
                    <a:pt x="581" y="616"/>
                  </a:lnTo>
                  <a:lnTo>
                    <a:pt x="571" y="611"/>
                  </a:lnTo>
                  <a:lnTo>
                    <a:pt x="560" y="607"/>
                  </a:lnTo>
                  <a:lnTo>
                    <a:pt x="551" y="603"/>
                  </a:lnTo>
                  <a:lnTo>
                    <a:pt x="539" y="601"/>
                  </a:lnTo>
                  <a:lnTo>
                    <a:pt x="528" y="598"/>
                  </a:lnTo>
                  <a:lnTo>
                    <a:pt x="516" y="597"/>
                  </a:lnTo>
                  <a:lnTo>
                    <a:pt x="505" y="596"/>
                  </a:lnTo>
                  <a:lnTo>
                    <a:pt x="493" y="596"/>
                  </a:lnTo>
                  <a:lnTo>
                    <a:pt x="479" y="596"/>
                  </a:lnTo>
                  <a:lnTo>
                    <a:pt x="468" y="597"/>
                  </a:lnTo>
                  <a:lnTo>
                    <a:pt x="456" y="600"/>
                  </a:lnTo>
                  <a:lnTo>
                    <a:pt x="446" y="602"/>
                  </a:lnTo>
                  <a:lnTo>
                    <a:pt x="435" y="606"/>
                  </a:lnTo>
                  <a:lnTo>
                    <a:pt x="426" y="609"/>
                  </a:lnTo>
                  <a:lnTo>
                    <a:pt x="418" y="614"/>
                  </a:lnTo>
                  <a:lnTo>
                    <a:pt x="410" y="621"/>
                  </a:lnTo>
                  <a:lnTo>
                    <a:pt x="403" y="627"/>
                  </a:lnTo>
                  <a:lnTo>
                    <a:pt x="397" y="634"/>
                  </a:lnTo>
                  <a:lnTo>
                    <a:pt x="392" y="641"/>
                  </a:lnTo>
                  <a:lnTo>
                    <a:pt x="388" y="649"/>
                  </a:lnTo>
                  <a:lnTo>
                    <a:pt x="386" y="656"/>
                  </a:lnTo>
                  <a:lnTo>
                    <a:pt x="385" y="665"/>
                  </a:lnTo>
                  <a:lnTo>
                    <a:pt x="385" y="675"/>
                  </a:lnTo>
                  <a:lnTo>
                    <a:pt x="386" y="683"/>
                  </a:lnTo>
                  <a:lnTo>
                    <a:pt x="386" y="1107"/>
                  </a:lnTo>
                  <a:lnTo>
                    <a:pt x="397" y="1112"/>
                  </a:lnTo>
                  <a:lnTo>
                    <a:pt x="407" y="1115"/>
                  </a:lnTo>
                  <a:lnTo>
                    <a:pt x="418" y="1119"/>
                  </a:lnTo>
                  <a:lnTo>
                    <a:pt x="430" y="1121"/>
                  </a:lnTo>
                  <a:lnTo>
                    <a:pt x="441" y="1124"/>
                  </a:lnTo>
                  <a:lnTo>
                    <a:pt x="452" y="1125"/>
                  </a:lnTo>
                  <a:lnTo>
                    <a:pt x="463" y="1126"/>
                  </a:lnTo>
                  <a:lnTo>
                    <a:pt x="474" y="1126"/>
                  </a:lnTo>
                  <a:lnTo>
                    <a:pt x="493" y="1126"/>
                  </a:lnTo>
                  <a:lnTo>
                    <a:pt x="510" y="1124"/>
                  </a:lnTo>
                  <a:lnTo>
                    <a:pt x="527" y="1120"/>
                  </a:lnTo>
                  <a:lnTo>
                    <a:pt x="544" y="1115"/>
                  </a:lnTo>
                  <a:lnTo>
                    <a:pt x="562" y="1109"/>
                  </a:lnTo>
                  <a:lnTo>
                    <a:pt x="578" y="1102"/>
                  </a:lnTo>
                  <a:lnTo>
                    <a:pt x="595" y="1092"/>
                  </a:lnTo>
                  <a:lnTo>
                    <a:pt x="611" y="1081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26480" y="468360"/>
              <a:ext cx="30240" cy="106560"/>
            </a:xfrm>
            <a:custGeom>
              <a:avLst/>
              <a:gdLst/>
              <a:ahLst/>
              <a:rect l="l" t="t" r="r" b="b"/>
              <a:pathLst>
                <a:path w="480" h="1397">
                  <a:moveTo>
                    <a:pt x="0" y="1397"/>
                  </a:moveTo>
                  <a:lnTo>
                    <a:pt x="0" y="1336"/>
                  </a:lnTo>
                  <a:lnTo>
                    <a:pt x="2" y="1327"/>
                  </a:lnTo>
                  <a:lnTo>
                    <a:pt x="4" y="1319"/>
                  </a:lnTo>
                  <a:lnTo>
                    <a:pt x="10" y="1311"/>
                  </a:lnTo>
                  <a:lnTo>
                    <a:pt x="18" y="1305"/>
                  </a:lnTo>
                  <a:lnTo>
                    <a:pt x="22" y="1301"/>
                  </a:lnTo>
                  <a:lnTo>
                    <a:pt x="46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8" y="1279"/>
                  </a:lnTo>
                  <a:lnTo>
                    <a:pt x="72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6" y="574"/>
                  </a:lnTo>
                  <a:lnTo>
                    <a:pt x="34" y="567"/>
                  </a:lnTo>
                  <a:lnTo>
                    <a:pt x="26" y="563"/>
                  </a:lnTo>
                  <a:lnTo>
                    <a:pt x="19" y="558"/>
                  </a:lnTo>
                  <a:lnTo>
                    <a:pt x="13" y="554"/>
                  </a:lnTo>
                  <a:lnTo>
                    <a:pt x="9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0" y="469"/>
                  </a:lnTo>
                  <a:lnTo>
                    <a:pt x="400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3" y="1273"/>
                  </a:lnTo>
                  <a:lnTo>
                    <a:pt x="405" y="1277"/>
                  </a:lnTo>
                  <a:lnTo>
                    <a:pt x="407" y="1280"/>
                  </a:lnTo>
                  <a:lnTo>
                    <a:pt x="410" y="1283"/>
                  </a:lnTo>
                  <a:lnTo>
                    <a:pt x="414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7" y="1294"/>
                  </a:lnTo>
                  <a:lnTo>
                    <a:pt x="462" y="1298"/>
                  </a:lnTo>
                  <a:lnTo>
                    <a:pt x="466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8" y="1316"/>
                  </a:lnTo>
                  <a:lnTo>
                    <a:pt x="479" y="1322"/>
                  </a:lnTo>
                  <a:lnTo>
                    <a:pt x="480" y="1328"/>
                  </a:lnTo>
                  <a:lnTo>
                    <a:pt x="480" y="1335"/>
                  </a:lnTo>
                  <a:lnTo>
                    <a:pt x="480" y="1397"/>
                  </a:lnTo>
                  <a:lnTo>
                    <a:pt x="0" y="1397"/>
                  </a:lnTo>
                  <a:close/>
                  <a:moveTo>
                    <a:pt x="46" y="185"/>
                  </a:moveTo>
                  <a:lnTo>
                    <a:pt x="46" y="167"/>
                  </a:lnTo>
                  <a:lnTo>
                    <a:pt x="48" y="148"/>
                  </a:lnTo>
                  <a:lnTo>
                    <a:pt x="53" y="131"/>
                  </a:lnTo>
                  <a:lnTo>
                    <a:pt x="58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9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2" y="21"/>
                  </a:lnTo>
                  <a:lnTo>
                    <a:pt x="158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1" y="1"/>
                  </a:lnTo>
                  <a:lnTo>
                    <a:pt x="229" y="0"/>
                  </a:lnTo>
                  <a:lnTo>
                    <a:pt x="248" y="1"/>
                  </a:lnTo>
                  <a:lnTo>
                    <a:pt x="266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6" y="42"/>
                  </a:lnTo>
                  <a:lnTo>
                    <a:pt x="361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3" y="115"/>
                  </a:lnTo>
                  <a:lnTo>
                    <a:pt x="409" y="132"/>
                  </a:lnTo>
                  <a:lnTo>
                    <a:pt x="414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4" y="223"/>
                  </a:lnTo>
                  <a:lnTo>
                    <a:pt x="410" y="240"/>
                  </a:lnTo>
                  <a:lnTo>
                    <a:pt x="404" y="256"/>
                  </a:lnTo>
                  <a:lnTo>
                    <a:pt x="396" y="272"/>
                  </a:lnTo>
                  <a:lnTo>
                    <a:pt x="388" y="287"/>
                  </a:lnTo>
                  <a:lnTo>
                    <a:pt x="377" y="302"/>
                  </a:lnTo>
                  <a:lnTo>
                    <a:pt x="364" y="317"/>
                  </a:lnTo>
                  <a:lnTo>
                    <a:pt x="351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1" y="367"/>
                  </a:lnTo>
                  <a:lnTo>
                    <a:pt x="252" y="369"/>
                  </a:lnTo>
                  <a:lnTo>
                    <a:pt x="233" y="371"/>
                  </a:lnTo>
                  <a:lnTo>
                    <a:pt x="214" y="369"/>
                  </a:lnTo>
                  <a:lnTo>
                    <a:pt x="196" y="367"/>
                  </a:lnTo>
                  <a:lnTo>
                    <a:pt x="177" y="363"/>
                  </a:lnTo>
                  <a:lnTo>
                    <a:pt x="160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5" y="330"/>
                  </a:lnTo>
                  <a:lnTo>
                    <a:pt x="100" y="318"/>
                  </a:lnTo>
                  <a:lnTo>
                    <a:pt x="88" y="304"/>
                  </a:lnTo>
                  <a:lnTo>
                    <a:pt x="77" y="290"/>
                  </a:lnTo>
                  <a:lnTo>
                    <a:pt x="67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50" y="223"/>
                  </a:lnTo>
                  <a:lnTo>
                    <a:pt x="46" y="205"/>
                  </a:lnTo>
                  <a:lnTo>
                    <a:pt x="46" y="185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62120" y="502560"/>
              <a:ext cx="57240" cy="74880"/>
            </a:xfrm>
            <a:custGeom>
              <a:avLst/>
              <a:gdLst/>
              <a:ahLst/>
              <a:rect l="l" t="t" r="r" b="b"/>
              <a:pathLst>
                <a:path w="923" h="979">
                  <a:moveTo>
                    <a:pt x="885" y="512"/>
                  </a:moveTo>
                  <a:lnTo>
                    <a:pt x="302" y="512"/>
                  </a:lnTo>
                  <a:lnTo>
                    <a:pt x="301" y="523"/>
                  </a:lnTo>
                  <a:lnTo>
                    <a:pt x="301" y="531"/>
                  </a:lnTo>
                  <a:lnTo>
                    <a:pt x="302" y="550"/>
                  </a:lnTo>
                  <a:lnTo>
                    <a:pt x="305" y="571"/>
                  </a:lnTo>
                  <a:lnTo>
                    <a:pt x="312" y="592"/>
                  </a:lnTo>
                  <a:lnTo>
                    <a:pt x="319" y="612"/>
                  </a:lnTo>
                  <a:lnTo>
                    <a:pt x="330" y="633"/>
                  </a:lnTo>
                  <a:lnTo>
                    <a:pt x="344" y="655"/>
                  </a:lnTo>
                  <a:lnTo>
                    <a:pt x="360" y="676"/>
                  </a:lnTo>
                  <a:lnTo>
                    <a:pt x="377" y="696"/>
                  </a:lnTo>
                  <a:lnTo>
                    <a:pt x="387" y="707"/>
                  </a:lnTo>
                  <a:lnTo>
                    <a:pt x="397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7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4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1" y="780"/>
                  </a:lnTo>
                  <a:lnTo>
                    <a:pt x="533" y="782"/>
                  </a:lnTo>
                  <a:lnTo>
                    <a:pt x="545" y="782"/>
                  </a:lnTo>
                  <a:lnTo>
                    <a:pt x="559" y="784"/>
                  </a:lnTo>
                  <a:lnTo>
                    <a:pt x="572" y="782"/>
                  </a:lnTo>
                  <a:lnTo>
                    <a:pt x="585" y="782"/>
                  </a:lnTo>
                  <a:lnTo>
                    <a:pt x="598" y="780"/>
                  </a:lnTo>
                  <a:lnTo>
                    <a:pt x="612" y="777"/>
                  </a:lnTo>
                  <a:lnTo>
                    <a:pt x="625" y="775"/>
                  </a:lnTo>
                  <a:lnTo>
                    <a:pt x="638" y="771"/>
                  </a:lnTo>
                  <a:lnTo>
                    <a:pt x="649" y="768"/>
                  </a:lnTo>
                  <a:lnTo>
                    <a:pt x="660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8" y="694"/>
                  </a:lnTo>
                  <a:lnTo>
                    <a:pt x="777" y="685"/>
                  </a:lnTo>
                  <a:lnTo>
                    <a:pt x="789" y="671"/>
                  </a:lnTo>
                  <a:lnTo>
                    <a:pt x="807" y="649"/>
                  </a:lnTo>
                  <a:lnTo>
                    <a:pt x="816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4" y="633"/>
                  </a:lnTo>
                  <a:lnTo>
                    <a:pt x="884" y="633"/>
                  </a:lnTo>
                  <a:lnTo>
                    <a:pt x="892" y="633"/>
                  </a:lnTo>
                  <a:lnTo>
                    <a:pt x="901" y="633"/>
                  </a:lnTo>
                  <a:lnTo>
                    <a:pt x="923" y="633"/>
                  </a:lnTo>
                  <a:lnTo>
                    <a:pt x="923" y="883"/>
                  </a:lnTo>
                  <a:lnTo>
                    <a:pt x="911" y="892"/>
                  </a:lnTo>
                  <a:lnTo>
                    <a:pt x="897" y="900"/>
                  </a:lnTo>
                  <a:lnTo>
                    <a:pt x="884" y="908"/>
                  </a:lnTo>
                  <a:lnTo>
                    <a:pt x="869" y="915"/>
                  </a:lnTo>
                  <a:lnTo>
                    <a:pt x="848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4" y="952"/>
                  </a:lnTo>
                  <a:lnTo>
                    <a:pt x="759" y="958"/>
                  </a:lnTo>
                  <a:lnTo>
                    <a:pt x="736" y="964"/>
                  </a:lnTo>
                  <a:lnTo>
                    <a:pt x="710" y="969"/>
                  </a:lnTo>
                  <a:lnTo>
                    <a:pt x="684" y="973"/>
                  </a:lnTo>
                  <a:lnTo>
                    <a:pt x="655" y="975"/>
                  </a:lnTo>
                  <a:lnTo>
                    <a:pt x="624" y="978"/>
                  </a:lnTo>
                  <a:lnTo>
                    <a:pt x="592" y="979"/>
                  </a:lnTo>
                  <a:lnTo>
                    <a:pt x="559" y="979"/>
                  </a:lnTo>
                  <a:lnTo>
                    <a:pt x="532" y="979"/>
                  </a:lnTo>
                  <a:lnTo>
                    <a:pt x="506" y="978"/>
                  </a:lnTo>
                  <a:lnTo>
                    <a:pt x="480" y="976"/>
                  </a:lnTo>
                  <a:lnTo>
                    <a:pt x="456" y="973"/>
                  </a:lnTo>
                  <a:lnTo>
                    <a:pt x="431" y="970"/>
                  </a:lnTo>
                  <a:lnTo>
                    <a:pt x="408" y="965"/>
                  </a:lnTo>
                  <a:lnTo>
                    <a:pt x="384" y="960"/>
                  </a:lnTo>
                  <a:lnTo>
                    <a:pt x="362" y="954"/>
                  </a:lnTo>
                  <a:lnTo>
                    <a:pt x="340" y="948"/>
                  </a:lnTo>
                  <a:lnTo>
                    <a:pt x="319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9" y="914"/>
                  </a:lnTo>
                  <a:lnTo>
                    <a:pt x="240" y="904"/>
                  </a:lnTo>
                  <a:lnTo>
                    <a:pt x="222" y="893"/>
                  </a:lnTo>
                  <a:lnTo>
                    <a:pt x="205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1" y="825"/>
                  </a:lnTo>
                  <a:lnTo>
                    <a:pt x="126" y="811"/>
                  </a:lnTo>
                  <a:lnTo>
                    <a:pt x="112" y="795"/>
                  </a:lnTo>
                  <a:lnTo>
                    <a:pt x="100" y="777"/>
                  </a:lnTo>
                  <a:lnTo>
                    <a:pt x="88" y="760"/>
                  </a:lnTo>
                  <a:lnTo>
                    <a:pt x="77" y="742"/>
                  </a:lnTo>
                  <a:lnTo>
                    <a:pt x="66" y="723"/>
                  </a:lnTo>
                  <a:lnTo>
                    <a:pt x="56" y="704"/>
                  </a:lnTo>
                  <a:lnTo>
                    <a:pt x="47" y="684"/>
                  </a:lnTo>
                  <a:lnTo>
                    <a:pt x="39" y="663"/>
                  </a:lnTo>
                  <a:lnTo>
                    <a:pt x="30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9" y="567"/>
                  </a:lnTo>
                  <a:lnTo>
                    <a:pt x="4" y="537"/>
                  </a:lnTo>
                  <a:lnTo>
                    <a:pt x="2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2" y="441"/>
                  </a:lnTo>
                  <a:lnTo>
                    <a:pt x="3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6" y="323"/>
                  </a:lnTo>
                  <a:lnTo>
                    <a:pt x="32" y="307"/>
                  </a:lnTo>
                  <a:lnTo>
                    <a:pt x="40" y="290"/>
                  </a:lnTo>
                  <a:lnTo>
                    <a:pt x="47" y="274"/>
                  </a:lnTo>
                  <a:lnTo>
                    <a:pt x="56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8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4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8" y="55"/>
                  </a:lnTo>
                  <a:lnTo>
                    <a:pt x="265" y="46"/>
                  </a:lnTo>
                  <a:lnTo>
                    <a:pt x="283" y="37"/>
                  </a:lnTo>
                  <a:lnTo>
                    <a:pt x="301" y="30"/>
                  </a:lnTo>
                  <a:lnTo>
                    <a:pt x="318" y="22"/>
                  </a:lnTo>
                  <a:lnTo>
                    <a:pt x="335" y="17"/>
                  </a:lnTo>
                  <a:lnTo>
                    <a:pt x="351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2" y="0"/>
                  </a:lnTo>
                  <a:lnTo>
                    <a:pt x="468" y="0"/>
                  </a:lnTo>
                  <a:lnTo>
                    <a:pt x="489" y="0"/>
                  </a:lnTo>
                  <a:lnTo>
                    <a:pt x="510" y="1"/>
                  </a:lnTo>
                  <a:lnTo>
                    <a:pt x="531" y="4"/>
                  </a:lnTo>
                  <a:lnTo>
                    <a:pt x="550" y="8"/>
                  </a:lnTo>
                  <a:lnTo>
                    <a:pt x="570" y="11"/>
                  </a:lnTo>
                  <a:lnTo>
                    <a:pt x="588" y="16"/>
                  </a:lnTo>
                  <a:lnTo>
                    <a:pt x="608" y="22"/>
                  </a:lnTo>
                  <a:lnTo>
                    <a:pt x="625" y="28"/>
                  </a:lnTo>
                  <a:lnTo>
                    <a:pt x="644" y="37"/>
                  </a:lnTo>
                  <a:lnTo>
                    <a:pt x="661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2" y="102"/>
                  </a:lnTo>
                  <a:lnTo>
                    <a:pt x="757" y="116"/>
                  </a:lnTo>
                  <a:lnTo>
                    <a:pt x="773" y="132"/>
                  </a:lnTo>
                  <a:lnTo>
                    <a:pt x="788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5" y="202"/>
                  </a:lnTo>
                  <a:lnTo>
                    <a:pt x="836" y="221"/>
                  </a:lnTo>
                  <a:lnTo>
                    <a:pt x="844" y="241"/>
                  </a:lnTo>
                  <a:lnTo>
                    <a:pt x="853" y="261"/>
                  </a:lnTo>
                  <a:lnTo>
                    <a:pt x="860" y="281"/>
                  </a:lnTo>
                  <a:lnTo>
                    <a:pt x="866" y="302"/>
                  </a:lnTo>
                  <a:lnTo>
                    <a:pt x="873" y="324"/>
                  </a:lnTo>
                  <a:lnTo>
                    <a:pt x="877" y="348"/>
                  </a:lnTo>
                  <a:lnTo>
                    <a:pt x="880" y="370"/>
                  </a:lnTo>
                  <a:lnTo>
                    <a:pt x="882" y="394"/>
                  </a:lnTo>
                  <a:lnTo>
                    <a:pt x="885" y="419"/>
                  </a:lnTo>
                  <a:lnTo>
                    <a:pt x="885" y="443"/>
                  </a:lnTo>
                  <a:lnTo>
                    <a:pt x="885" y="452"/>
                  </a:lnTo>
                  <a:lnTo>
                    <a:pt x="885" y="462"/>
                  </a:lnTo>
                  <a:lnTo>
                    <a:pt x="885" y="475"/>
                  </a:lnTo>
                  <a:lnTo>
                    <a:pt x="885" y="490"/>
                  </a:lnTo>
                  <a:lnTo>
                    <a:pt x="885" y="504"/>
                  </a:lnTo>
                  <a:lnTo>
                    <a:pt x="885" y="512"/>
                  </a:lnTo>
                  <a:close/>
                  <a:moveTo>
                    <a:pt x="585" y="339"/>
                  </a:moveTo>
                  <a:lnTo>
                    <a:pt x="582" y="319"/>
                  </a:lnTo>
                  <a:lnTo>
                    <a:pt x="581" y="305"/>
                  </a:lnTo>
                  <a:lnTo>
                    <a:pt x="577" y="290"/>
                  </a:lnTo>
                  <a:lnTo>
                    <a:pt x="574" y="278"/>
                  </a:lnTo>
                  <a:lnTo>
                    <a:pt x="569" y="265"/>
                  </a:lnTo>
                  <a:lnTo>
                    <a:pt x="564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6" y="202"/>
                  </a:lnTo>
                  <a:lnTo>
                    <a:pt x="494" y="199"/>
                  </a:lnTo>
                  <a:lnTo>
                    <a:pt x="481" y="197"/>
                  </a:lnTo>
                  <a:lnTo>
                    <a:pt x="469" y="194"/>
                  </a:lnTo>
                  <a:lnTo>
                    <a:pt x="456" y="194"/>
                  </a:lnTo>
                  <a:lnTo>
                    <a:pt x="440" y="194"/>
                  </a:lnTo>
                  <a:lnTo>
                    <a:pt x="426" y="197"/>
                  </a:lnTo>
                  <a:lnTo>
                    <a:pt x="412" y="199"/>
                  </a:lnTo>
                  <a:lnTo>
                    <a:pt x="399" y="202"/>
                  </a:lnTo>
                  <a:lnTo>
                    <a:pt x="388" y="206"/>
                  </a:lnTo>
                  <a:lnTo>
                    <a:pt x="377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9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9" y="262"/>
                  </a:lnTo>
                  <a:lnTo>
                    <a:pt x="323" y="274"/>
                  </a:lnTo>
                  <a:lnTo>
                    <a:pt x="319" y="286"/>
                  </a:lnTo>
                  <a:lnTo>
                    <a:pt x="315" y="300"/>
                  </a:lnTo>
                  <a:lnTo>
                    <a:pt x="313" y="315"/>
                  </a:lnTo>
                  <a:lnTo>
                    <a:pt x="309" y="339"/>
                  </a:lnTo>
                  <a:lnTo>
                    <a:pt x="585" y="33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22960" y="499680"/>
              <a:ext cx="64800" cy="75240"/>
            </a:xfrm>
            <a:custGeom>
              <a:avLst/>
              <a:gdLst/>
              <a:ahLst/>
              <a:rect l="l" t="t" r="r" b="b"/>
              <a:pathLst>
                <a:path w="1036" h="977">
                  <a:moveTo>
                    <a:pt x="0" y="977"/>
                  </a:moveTo>
                  <a:lnTo>
                    <a:pt x="0" y="916"/>
                  </a:lnTo>
                  <a:lnTo>
                    <a:pt x="0" y="910"/>
                  </a:lnTo>
                  <a:lnTo>
                    <a:pt x="3" y="902"/>
                  </a:lnTo>
                  <a:lnTo>
                    <a:pt x="5" y="896"/>
                  </a:lnTo>
                  <a:lnTo>
                    <a:pt x="10" y="890"/>
                  </a:lnTo>
                  <a:lnTo>
                    <a:pt x="15" y="885"/>
                  </a:lnTo>
                  <a:lnTo>
                    <a:pt x="21" y="880"/>
                  </a:lnTo>
                  <a:lnTo>
                    <a:pt x="30" y="876"/>
                  </a:lnTo>
                  <a:lnTo>
                    <a:pt x="38" y="873"/>
                  </a:lnTo>
                  <a:lnTo>
                    <a:pt x="62" y="864"/>
                  </a:lnTo>
                  <a:lnTo>
                    <a:pt x="65" y="862"/>
                  </a:lnTo>
                  <a:lnTo>
                    <a:pt x="69" y="858"/>
                  </a:lnTo>
                  <a:lnTo>
                    <a:pt x="72" y="852"/>
                  </a:lnTo>
                  <a:lnTo>
                    <a:pt x="75" y="843"/>
                  </a:lnTo>
                  <a:lnTo>
                    <a:pt x="75" y="836"/>
                  </a:lnTo>
                  <a:lnTo>
                    <a:pt x="75" y="806"/>
                  </a:lnTo>
                  <a:lnTo>
                    <a:pt x="75" y="794"/>
                  </a:lnTo>
                  <a:lnTo>
                    <a:pt x="75" y="245"/>
                  </a:lnTo>
                  <a:lnTo>
                    <a:pt x="75" y="218"/>
                  </a:lnTo>
                  <a:lnTo>
                    <a:pt x="75" y="196"/>
                  </a:lnTo>
                  <a:lnTo>
                    <a:pt x="69" y="173"/>
                  </a:lnTo>
                  <a:lnTo>
                    <a:pt x="63" y="162"/>
                  </a:lnTo>
                  <a:lnTo>
                    <a:pt x="36" y="156"/>
                  </a:lnTo>
                  <a:lnTo>
                    <a:pt x="24" y="151"/>
                  </a:lnTo>
                  <a:lnTo>
                    <a:pt x="17" y="147"/>
                  </a:lnTo>
                  <a:lnTo>
                    <a:pt x="13" y="142"/>
                  </a:lnTo>
                  <a:lnTo>
                    <a:pt x="9" y="138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49"/>
                  </a:lnTo>
                  <a:lnTo>
                    <a:pt x="368" y="49"/>
                  </a:lnTo>
                  <a:lnTo>
                    <a:pt x="368" y="102"/>
                  </a:lnTo>
                  <a:lnTo>
                    <a:pt x="380" y="93"/>
                  </a:lnTo>
                  <a:lnTo>
                    <a:pt x="393" y="84"/>
                  </a:lnTo>
                  <a:lnTo>
                    <a:pt x="405" y="77"/>
                  </a:lnTo>
                  <a:lnTo>
                    <a:pt x="416" y="70"/>
                  </a:lnTo>
                  <a:lnTo>
                    <a:pt x="427" y="64"/>
                  </a:lnTo>
                  <a:lnTo>
                    <a:pt x="439" y="56"/>
                  </a:lnTo>
                  <a:lnTo>
                    <a:pt x="453" y="51"/>
                  </a:lnTo>
                  <a:lnTo>
                    <a:pt x="466" y="45"/>
                  </a:lnTo>
                  <a:lnTo>
                    <a:pt x="492" y="34"/>
                  </a:lnTo>
                  <a:lnTo>
                    <a:pt x="518" y="24"/>
                  </a:lnTo>
                  <a:lnTo>
                    <a:pt x="544" y="17"/>
                  </a:lnTo>
                  <a:lnTo>
                    <a:pt x="567" y="11"/>
                  </a:lnTo>
                  <a:lnTo>
                    <a:pt x="591" y="6"/>
                  </a:lnTo>
                  <a:lnTo>
                    <a:pt x="614" y="2"/>
                  </a:lnTo>
                  <a:lnTo>
                    <a:pt x="637" y="1"/>
                  </a:lnTo>
                  <a:lnTo>
                    <a:pt x="659" y="0"/>
                  </a:lnTo>
                  <a:lnTo>
                    <a:pt x="672" y="0"/>
                  </a:lnTo>
                  <a:lnTo>
                    <a:pt x="683" y="0"/>
                  </a:lnTo>
                  <a:lnTo>
                    <a:pt x="691" y="1"/>
                  </a:lnTo>
                  <a:lnTo>
                    <a:pt x="699" y="1"/>
                  </a:lnTo>
                  <a:lnTo>
                    <a:pt x="732" y="6"/>
                  </a:lnTo>
                  <a:lnTo>
                    <a:pt x="763" y="12"/>
                  </a:lnTo>
                  <a:lnTo>
                    <a:pt x="791" y="21"/>
                  </a:lnTo>
                  <a:lnTo>
                    <a:pt x="817" y="30"/>
                  </a:lnTo>
                  <a:lnTo>
                    <a:pt x="829" y="37"/>
                  </a:lnTo>
                  <a:lnTo>
                    <a:pt x="842" y="43"/>
                  </a:lnTo>
                  <a:lnTo>
                    <a:pt x="853" y="49"/>
                  </a:lnTo>
                  <a:lnTo>
                    <a:pt x="862" y="56"/>
                  </a:lnTo>
                  <a:lnTo>
                    <a:pt x="872" y="64"/>
                  </a:lnTo>
                  <a:lnTo>
                    <a:pt x="882" y="71"/>
                  </a:lnTo>
                  <a:lnTo>
                    <a:pt x="891" y="80"/>
                  </a:lnTo>
                  <a:lnTo>
                    <a:pt x="899" y="88"/>
                  </a:lnTo>
                  <a:lnTo>
                    <a:pt x="907" y="97"/>
                  </a:lnTo>
                  <a:lnTo>
                    <a:pt x="913" y="107"/>
                  </a:lnTo>
                  <a:lnTo>
                    <a:pt x="920" y="118"/>
                  </a:lnTo>
                  <a:lnTo>
                    <a:pt x="926" y="129"/>
                  </a:lnTo>
                  <a:lnTo>
                    <a:pt x="931" y="140"/>
                  </a:lnTo>
                  <a:lnTo>
                    <a:pt x="936" y="152"/>
                  </a:lnTo>
                  <a:lnTo>
                    <a:pt x="941" y="166"/>
                  </a:lnTo>
                  <a:lnTo>
                    <a:pt x="946" y="179"/>
                  </a:lnTo>
                  <a:lnTo>
                    <a:pt x="952" y="207"/>
                  </a:lnTo>
                  <a:lnTo>
                    <a:pt x="957" y="238"/>
                  </a:lnTo>
                  <a:lnTo>
                    <a:pt x="961" y="271"/>
                  </a:lnTo>
                  <a:lnTo>
                    <a:pt x="961" y="307"/>
                  </a:lnTo>
                  <a:lnTo>
                    <a:pt x="961" y="792"/>
                  </a:lnTo>
                  <a:lnTo>
                    <a:pt x="961" y="805"/>
                  </a:lnTo>
                  <a:lnTo>
                    <a:pt x="961" y="814"/>
                  </a:lnTo>
                  <a:lnTo>
                    <a:pt x="961" y="833"/>
                  </a:lnTo>
                  <a:lnTo>
                    <a:pt x="962" y="843"/>
                  </a:lnTo>
                  <a:lnTo>
                    <a:pt x="965" y="851"/>
                  </a:lnTo>
                  <a:lnTo>
                    <a:pt x="968" y="857"/>
                  </a:lnTo>
                  <a:lnTo>
                    <a:pt x="972" y="859"/>
                  </a:lnTo>
                  <a:lnTo>
                    <a:pt x="999" y="872"/>
                  </a:lnTo>
                  <a:lnTo>
                    <a:pt x="1008" y="876"/>
                  </a:lnTo>
                  <a:lnTo>
                    <a:pt x="1015" y="880"/>
                  </a:lnTo>
                  <a:lnTo>
                    <a:pt x="1021" y="885"/>
                  </a:lnTo>
                  <a:lnTo>
                    <a:pt x="1027" y="890"/>
                  </a:lnTo>
                  <a:lnTo>
                    <a:pt x="1031" y="896"/>
                  </a:lnTo>
                  <a:lnTo>
                    <a:pt x="1033" y="902"/>
                  </a:lnTo>
                  <a:lnTo>
                    <a:pt x="1036" y="908"/>
                  </a:lnTo>
                  <a:lnTo>
                    <a:pt x="1036" y="916"/>
                  </a:lnTo>
                  <a:lnTo>
                    <a:pt x="1036" y="977"/>
                  </a:lnTo>
                  <a:lnTo>
                    <a:pt x="589" y="977"/>
                  </a:lnTo>
                  <a:lnTo>
                    <a:pt x="589" y="915"/>
                  </a:lnTo>
                  <a:lnTo>
                    <a:pt x="591" y="907"/>
                  </a:lnTo>
                  <a:lnTo>
                    <a:pt x="592" y="900"/>
                  </a:lnTo>
                  <a:lnTo>
                    <a:pt x="596" y="894"/>
                  </a:lnTo>
                  <a:lnTo>
                    <a:pt x="599" y="889"/>
                  </a:lnTo>
                  <a:lnTo>
                    <a:pt x="605" y="884"/>
                  </a:lnTo>
                  <a:lnTo>
                    <a:pt x="612" y="879"/>
                  </a:lnTo>
                  <a:lnTo>
                    <a:pt x="619" y="874"/>
                  </a:lnTo>
                  <a:lnTo>
                    <a:pt x="629" y="870"/>
                  </a:lnTo>
                  <a:lnTo>
                    <a:pt x="641" y="865"/>
                  </a:lnTo>
                  <a:lnTo>
                    <a:pt x="648" y="853"/>
                  </a:lnTo>
                  <a:lnTo>
                    <a:pt x="652" y="843"/>
                  </a:lnTo>
                  <a:lnTo>
                    <a:pt x="652" y="836"/>
                  </a:lnTo>
                  <a:lnTo>
                    <a:pt x="652" y="824"/>
                  </a:lnTo>
                  <a:lnTo>
                    <a:pt x="652" y="806"/>
                  </a:lnTo>
                  <a:lnTo>
                    <a:pt x="652" y="799"/>
                  </a:lnTo>
                  <a:lnTo>
                    <a:pt x="652" y="356"/>
                  </a:lnTo>
                  <a:lnTo>
                    <a:pt x="652" y="326"/>
                  </a:lnTo>
                  <a:lnTo>
                    <a:pt x="652" y="313"/>
                  </a:lnTo>
                  <a:lnTo>
                    <a:pt x="646" y="287"/>
                  </a:lnTo>
                  <a:lnTo>
                    <a:pt x="644" y="276"/>
                  </a:lnTo>
                  <a:lnTo>
                    <a:pt x="640" y="266"/>
                  </a:lnTo>
                  <a:lnTo>
                    <a:pt x="636" y="258"/>
                  </a:lnTo>
                  <a:lnTo>
                    <a:pt x="632" y="249"/>
                  </a:lnTo>
                  <a:lnTo>
                    <a:pt x="628" y="240"/>
                  </a:lnTo>
                  <a:lnTo>
                    <a:pt x="623" y="234"/>
                  </a:lnTo>
                  <a:lnTo>
                    <a:pt x="616" y="227"/>
                  </a:lnTo>
                  <a:lnTo>
                    <a:pt x="610" y="222"/>
                  </a:lnTo>
                  <a:lnTo>
                    <a:pt x="603" y="216"/>
                  </a:lnTo>
                  <a:lnTo>
                    <a:pt x="596" y="212"/>
                  </a:lnTo>
                  <a:lnTo>
                    <a:pt x="588" y="208"/>
                  </a:lnTo>
                  <a:lnTo>
                    <a:pt x="580" y="205"/>
                  </a:lnTo>
                  <a:lnTo>
                    <a:pt x="571" y="202"/>
                  </a:lnTo>
                  <a:lnTo>
                    <a:pt x="561" y="201"/>
                  </a:lnTo>
                  <a:lnTo>
                    <a:pt x="551" y="200"/>
                  </a:lnTo>
                  <a:lnTo>
                    <a:pt x="541" y="200"/>
                  </a:lnTo>
                  <a:lnTo>
                    <a:pt x="527" y="200"/>
                  </a:lnTo>
                  <a:lnTo>
                    <a:pt x="512" y="202"/>
                  </a:lnTo>
                  <a:lnTo>
                    <a:pt x="497" y="206"/>
                  </a:lnTo>
                  <a:lnTo>
                    <a:pt x="482" y="211"/>
                  </a:lnTo>
                  <a:lnTo>
                    <a:pt x="466" y="218"/>
                  </a:lnTo>
                  <a:lnTo>
                    <a:pt x="450" y="226"/>
                  </a:lnTo>
                  <a:lnTo>
                    <a:pt x="436" y="235"/>
                  </a:lnTo>
                  <a:lnTo>
                    <a:pt x="418" y="247"/>
                  </a:lnTo>
                  <a:lnTo>
                    <a:pt x="384" y="276"/>
                  </a:lnTo>
                  <a:lnTo>
                    <a:pt x="384" y="794"/>
                  </a:lnTo>
                  <a:lnTo>
                    <a:pt x="384" y="806"/>
                  </a:lnTo>
                  <a:lnTo>
                    <a:pt x="384" y="826"/>
                  </a:lnTo>
                  <a:lnTo>
                    <a:pt x="384" y="836"/>
                  </a:lnTo>
                  <a:lnTo>
                    <a:pt x="388" y="845"/>
                  </a:lnTo>
                  <a:lnTo>
                    <a:pt x="390" y="851"/>
                  </a:lnTo>
                  <a:lnTo>
                    <a:pt x="395" y="857"/>
                  </a:lnTo>
                  <a:lnTo>
                    <a:pt x="400" y="860"/>
                  </a:lnTo>
                  <a:lnTo>
                    <a:pt x="406" y="865"/>
                  </a:lnTo>
                  <a:lnTo>
                    <a:pt x="420" y="870"/>
                  </a:lnTo>
                  <a:lnTo>
                    <a:pt x="428" y="874"/>
                  </a:lnTo>
                  <a:lnTo>
                    <a:pt x="436" y="879"/>
                  </a:lnTo>
                  <a:lnTo>
                    <a:pt x="443" y="884"/>
                  </a:lnTo>
                  <a:lnTo>
                    <a:pt x="448" y="889"/>
                  </a:lnTo>
                  <a:lnTo>
                    <a:pt x="452" y="894"/>
                  </a:lnTo>
                  <a:lnTo>
                    <a:pt x="455" y="900"/>
                  </a:lnTo>
                  <a:lnTo>
                    <a:pt x="457" y="907"/>
                  </a:lnTo>
                  <a:lnTo>
                    <a:pt x="457" y="915"/>
                  </a:lnTo>
                  <a:lnTo>
                    <a:pt x="457" y="977"/>
                  </a:lnTo>
                  <a:lnTo>
                    <a:pt x="0" y="977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89200" y="474120"/>
              <a:ext cx="41400" cy="103320"/>
            </a:xfrm>
            <a:custGeom>
              <a:avLst/>
              <a:gdLst/>
              <a:ahLst/>
              <a:rect l="l" t="t" r="r" b="b"/>
              <a:pathLst>
                <a:path w="655" h="1349">
                  <a:moveTo>
                    <a:pt x="0" y="579"/>
                  </a:moveTo>
                  <a:lnTo>
                    <a:pt x="0" y="393"/>
                  </a:lnTo>
                  <a:lnTo>
                    <a:pt x="95" y="393"/>
                  </a:lnTo>
                  <a:lnTo>
                    <a:pt x="95" y="101"/>
                  </a:lnTo>
                  <a:lnTo>
                    <a:pt x="394" y="0"/>
                  </a:lnTo>
                  <a:lnTo>
                    <a:pt x="394" y="393"/>
                  </a:lnTo>
                  <a:lnTo>
                    <a:pt x="630" y="393"/>
                  </a:lnTo>
                  <a:lnTo>
                    <a:pt x="630" y="579"/>
                  </a:lnTo>
                  <a:lnTo>
                    <a:pt x="394" y="579"/>
                  </a:lnTo>
                  <a:lnTo>
                    <a:pt x="394" y="1055"/>
                  </a:lnTo>
                  <a:lnTo>
                    <a:pt x="394" y="1067"/>
                  </a:lnTo>
                  <a:lnTo>
                    <a:pt x="399" y="1085"/>
                  </a:lnTo>
                  <a:lnTo>
                    <a:pt x="400" y="1093"/>
                  </a:lnTo>
                  <a:lnTo>
                    <a:pt x="401" y="1100"/>
                  </a:lnTo>
                  <a:lnTo>
                    <a:pt x="404" y="1107"/>
                  </a:lnTo>
                  <a:lnTo>
                    <a:pt x="406" y="1114"/>
                  </a:lnTo>
                  <a:lnTo>
                    <a:pt x="410" y="1120"/>
                  </a:lnTo>
                  <a:lnTo>
                    <a:pt x="415" y="1126"/>
                  </a:lnTo>
                  <a:lnTo>
                    <a:pt x="420" y="1131"/>
                  </a:lnTo>
                  <a:lnTo>
                    <a:pt x="427" y="1136"/>
                  </a:lnTo>
                  <a:lnTo>
                    <a:pt x="434" y="1141"/>
                  </a:lnTo>
                  <a:lnTo>
                    <a:pt x="443" y="1144"/>
                  </a:lnTo>
                  <a:lnTo>
                    <a:pt x="452" y="1147"/>
                  </a:lnTo>
                  <a:lnTo>
                    <a:pt x="461" y="1147"/>
                  </a:lnTo>
                  <a:lnTo>
                    <a:pt x="470" y="1147"/>
                  </a:lnTo>
                  <a:lnTo>
                    <a:pt x="479" y="1144"/>
                  </a:lnTo>
                  <a:lnTo>
                    <a:pt x="486" y="1141"/>
                  </a:lnTo>
                  <a:lnTo>
                    <a:pt x="495" y="1137"/>
                  </a:lnTo>
                  <a:lnTo>
                    <a:pt x="502" y="1131"/>
                  </a:lnTo>
                  <a:lnTo>
                    <a:pt x="509" y="1123"/>
                  </a:lnTo>
                  <a:lnTo>
                    <a:pt x="518" y="1115"/>
                  </a:lnTo>
                  <a:lnTo>
                    <a:pt x="525" y="1105"/>
                  </a:lnTo>
                  <a:lnTo>
                    <a:pt x="532" y="1094"/>
                  </a:lnTo>
                  <a:lnTo>
                    <a:pt x="549" y="1066"/>
                  </a:lnTo>
                  <a:lnTo>
                    <a:pt x="553" y="1058"/>
                  </a:lnTo>
                  <a:lnTo>
                    <a:pt x="554" y="1056"/>
                  </a:lnTo>
                  <a:lnTo>
                    <a:pt x="559" y="1053"/>
                  </a:lnTo>
                  <a:lnTo>
                    <a:pt x="566" y="1051"/>
                  </a:lnTo>
                  <a:lnTo>
                    <a:pt x="576" y="1049"/>
                  </a:lnTo>
                  <a:lnTo>
                    <a:pt x="587" y="1047"/>
                  </a:lnTo>
                  <a:lnTo>
                    <a:pt x="599" y="1046"/>
                  </a:lnTo>
                  <a:lnTo>
                    <a:pt x="612" y="1046"/>
                  </a:lnTo>
                  <a:lnTo>
                    <a:pt x="625" y="1045"/>
                  </a:lnTo>
                  <a:lnTo>
                    <a:pt x="655" y="1047"/>
                  </a:lnTo>
                  <a:lnTo>
                    <a:pt x="655" y="1272"/>
                  </a:lnTo>
                  <a:lnTo>
                    <a:pt x="635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5" y="1313"/>
                  </a:lnTo>
                  <a:lnTo>
                    <a:pt x="551" y="1321"/>
                  </a:lnTo>
                  <a:lnTo>
                    <a:pt x="528" y="1328"/>
                  </a:lnTo>
                  <a:lnTo>
                    <a:pt x="506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8" y="1347"/>
                  </a:lnTo>
                  <a:lnTo>
                    <a:pt x="416" y="1348"/>
                  </a:lnTo>
                  <a:lnTo>
                    <a:pt x="394" y="1349"/>
                  </a:lnTo>
                  <a:lnTo>
                    <a:pt x="373" y="1348"/>
                  </a:lnTo>
                  <a:lnTo>
                    <a:pt x="359" y="1347"/>
                  </a:lnTo>
                  <a:lnTo>
                    <a:pt x="324" y="1343"/>
                  </a:lnTo>
                  <a:lnTo>
                    <a:pt x="292" y="1337"/>
                  </a:lnTo>
                  <a:lnTo>
                    <a:pt x="262" y="1330"/>
                  </a:lnTo>
                  <a:lnTo>
                    <a:pt x="234" y="1320"/>
                  </a:lnTo>
                  <a:lnTo>
                    <a:pt x="222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8" y="1297"/>
                  </a:lnTo>
                  <a:lnTo>
                    <a:pt x="177" y="1289"/>
                  </a:lnTo>
                  <a:lnTo>
                    <a:pt x="169" y="1282"/>
                  </a:lnTo>
                  <a:lnTo>
                    <a:pt x="160" y="1273"/>
                  </a:lnTo>
                  <a:lnTo>
                    <a:pt x="152" y="1265"/>
                  </a:lnTo>
                  <a:lnTo>
                    <a:pt x="144" y="1256"/>
                  </a:lnTo>
                  <a:lnTo>
                    <a:pt x="137" y="1246"/>
                  </a:lnTo>
                  <a:lnTo>
                    <a:pt x="131" y="1236"/>
                  </a:lnTo>
                  <a:lnTo>
                    <a:pt x="124" y="1225"/>
                  </a:lnTo>
                  <a:lnTo>
                    <a:pt x="120" y="1214"/>
                  </a:lnTo>
                  <a:lnTo>
                    <a:pt x="113" y="1203"/>
                  </a:lnTo>
                  <a:lnTo>
                    <a:pt x="110" y="1190"/>
                  </a:lnTo>
                  <a:lnTo>
                    <a:pt x="105" y="1177"/>
                  </a:lnTo>
                  <a:lnTo>
                    <a:pt x="99" y="1149"/>
                  </a:lnTo>
                  <a:lnTo>
                    <a:pt x="94" y="1119"/>
                  </a:lnTo>
                  <a:lnTo>
                    <a:pt x="91" y="1085"/>
                  </a:lnTo>
                  <a:lnTo>
                    <a:pt x="90" y="1051"/>
                  </a:lnTo>
                  <a:lnTo>
                    <a:pt x="90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032400" y="501120"/>
              <a:ext cx="62280" cy="76680"/>
            </a:xfrm>
            <a:custGeom>
              <a:avLst/>
              <a:gdLst/>
              <a:ahLst/>
              <a:rect l="l" t="t" r="r" b="b"/>
              <a:pathLst>
                <a:path w="1011" h="997">
                  <a:moveTo>
                    <a:pt x="622" y="312"/>
                  </a:moveTo>
                  <a:lnTo>
                    <a:pt x="622" y="272"/>
                  </a:lnTo>
                  <a:lnTo>
                    <a:pt x="622" y="262"/>
                  </a:lnTo>
                  <a:lnTo>
                    <a:pt x="621" y="253"/>
                  </a:lnTo>
                  <a:lnTo>
                    <a:pt x="620" y="243"/>
                  </a:lnTo>
                  <a:lnTo>
                    <a:pt x="617" y="234"/>
                  </a:lnTo>
                  <a:lnTo>
                    <a:pt x="613" y="227"/>
                  </a:lnTo>
                  <a:lnTo>
                    <a:pt x="610" y="219"/>
                  </a:lnTo>
                  <a:lnTo>
                    <a:pt x="605" y="212"/>
                  </a:lnTo>
                  <a:lnTo>
                    <a:pt x="600" y="206"/>
                  </a:lnTo>
                  <a:lnTo>
                    <a:pt x="594" y="201"/>
                  </a:lnTo>
                  <a:lnTo>
                    <a:pt x="586" y="196"/>
                  </a:lnTo>
                  <a:lnTo>
                    <a:pt x="578" y="191"/>
                  </a:lnTo>
                  <a:lnTo>
                    <a:pt x="568" y="186"/>
                  </a:lnTo>
                  <a:lnTo>
                    <a:pt x="557" y="183"/>
                  </a:lnTo>
                  <a:lnTo>
                    <a:pt x="546" y="179"/>
                  </a:lnTo>
                  <a:lnTo>
                    <a:pt x="532" y="175"/>
                  </a:lnTo>
                  <a:lnTo>
                    <a:pt x="519" y="173"/>
                  </a:lnTo>
                  <a:lnTo>
                    <a:pt x="503" y="172"/>
                  </a:lnTo>
                  <a:lnTo>
                    <a:pt x="488" y="170"/>
                  </a:lnTo>
                  <a:lnTo>
                    <a:pt x="474" y="169"/>
                  </a:lnTo>
                  <a:lnTo>
                    <a:pt x="462" y="169"/>
                  </a:lnTo>
                  <a:lnTo>
                    <a:pt x="446" y="169"/>
                  </a:lnTo>
                  <a:lnTo>
                    <a:pt x="429" y="170"/>
                  </a:lnTo>
                  <a:lnTo>
                    <a:pt x="409" y="173"/>
                  </a:lnTo>
                  <a:lnTo>
                    <a:pt x="388" y="175"/>
                  </a:lnTo>
                  <a:lnTo>
                    <a:pt x="351" y="181"/>
                  </a:lnTo>
                  <a:lnTo>
                    <a:pt x="319" y="188"/>
                  </a:lnTo>
                  <a:lnTo>
                    <a:pt x="296" y="194"/>
                  </a:lnTo>
                  <a:lnTo>
                    <a:pt x="279" y="200"/>
                  </a:lnTo>
                  <a:lnTo>
                    <a:pt x="271" y="203"/>
                  </a:lnTo>
                  <a:lnTo>
                    <a:pt x="265" y="208"/>
                  </a:lnTo>
                  <a:lnTo>
                    <a:pt x="258" y="213"/>
                  </a:lnTo>
                  <a:lnTo>
                    <a:pt x="251" y="219"/>
                  </a:lnTo>
                  <a:lnTo>
                    <a:pt x="236" y="234"/>
                  </a:lnTo>
                  <a:lnTo>
                    <a:pt x="221" y="253"/>
                  </a:lnTo>
                  <a:lnTo>
                    <a:pt x="211" y="264"/>
                  </a:lnTo>
                  <a:lnTo>
                    <a:pt x="205" y="267"/>
                  </a:lnTo>
                  <a:lnTo>
                    <a:pt x="198" y="270"/>
                  </a:lnTo>
                  <a:lnTo>
                    <a:pt x="188" y="272"/>
                  </a:lnTo>
                  <a:lnTo>
                    <a:pt x="177" y="275"/>
                  </a:lnTo>
                  <a:lnTo>
                    <a:pt x="163" y="276"/>
                  </a:lnTo>
                  <a:lnTo>
                    <a:pt x="147" y="277"/>
                  </a:lnTo>
                  <a:lnTo>
                    <a:pt x="128" y="278"/>
                  </a:lnTo>
                  <a:lnTo>
                    <a:pt x="105" y="278"/>
                  </a:lnTo>
                  <a:lnTo>
                    <a:pt x="76" y="276"/>
                  </a:lnTo>
                  <a:lnTo>
                    <a:pt x="76" y="52"/>
                  </a:lnTo>
                  <a:lnTo>
                    <a:pt x="121" y="40"/>
                  </a:lnTo>
                  <a:lnTo>
                    <a:pt x="158" y="32"/>
                  </a:lnTo>
                  <a:lnTo>
                    <a:pt x="194" y="24"/>
                  </a:lnTo>
                  <a:lnTo>
                    <a:pt x="228" y="17"/>
                  </a:lnTo>
                  <a:lnTo>
                    <a:pt x="262" y="11"/>
                  </a:lnTo>
                  <a:lnTo>
                    <a:pt x="292" y="6"/>
                  </a:lnTo>
                  <a:lnTo>
                    <a:pt x="322" y="3"/>
                  </a:lnTo>
                  <a:lnTo>
                    <a:pt x="349" y="1"/>
                  </a:lnTo>
                  <a:lnTo>
                    <a:pt x="375" y="0"/>
                  </a:lnTo>
                  <a:lnTo>
                    <a:pt x="447" y="1"/>
                  </a:lnTo>
                  <a:lnTo>
                    <a:pt x="514" y="5"/>
                  </a:lnTo>
                  <a:lnTo>
                    <a:pt x="546" y="7"/>
                  </a:lnTo>
                  <a:lnTo>
                    <a:pt x="575" y="9"/>
                  </a:lnTo>
                  <a:lnTo>
                    <a:pt x="605" y="13"/>
                  </a:lnTo>
                  <a:lnTo>
                    <a:pt x="632" y="18"/>
                  </a:lnTo>
                  <a:lnTo>
                    <a:pt x="658" y="23"/>
                  </a:lnTo>
                  <a:lnTo>
                    <a:pt x="684" y="28"/>
                  </a:lnTo>
                  <a:lnTo>
                    <a:pt x="707" y="33"/>
                  </a:lnTo>
                  <a:lnTo>
                    <a:pt x="729" y="40"/>
                  </a:lnTo>
                  <a:lnTo>
                    <a:pt x="749" y="46"/>
                  </a:lnTo>
                  <a:lnTo>
                    <a:pt x="768" y="54"/>
                  </a:lnTo>
                  <a:lnTo>
                    <a:pt x="787" y="62"/>
                  </a:lnTo>
                  <a:lnTo>
                    <a:pt x="804" y="70"/>
                  </a:lnTo>
                  <a:lnTo>
                    <a:pt x="819" y="79"/>
                  </a:lnTo>
                  <a:lnTo>
                    <a:pt x="834" y="89"/>
                  </a:lnTo>
                  <a:lnTo>
                    <a:pt x="847" y="99"/>
                  </a:lnTo>
                  <a:lnTo>
                    <a:pt x="859" y="110"/>
                  </a:lnTo>
                  <a:lnTo>
                    <a:pt x="872" y="122"/>
                  </a:lnTo>
                  <a:lnTo>
                    <a:pt x="882" y="135"/>
                  </a:lnTo>
                  <a:lnTo>
                    <a:pt x="891" y="148"/>
                  </a:lnTo>
                  <a:lnTo>
                    <a:pt x="900" y="162"/>
                  </a:lnTo>
                  <a:lnTo>
                    <a:pt x="907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3" y="224"/>
                  </a:lnTo>
                  <a:lnTo>
                    <a:pt x="927" y="242"/>
                  </a:lnTo>
                  <a:lnTo>
                    <a:pt x="930" y="260"/>
                  </a:lnTo>
                  <a:lnTo>
                    <a:pt x="931" y="278"/>
                  </a:lnTo>
                  <a:lnTo>
                    <a:pt x="932" y="298"/>
                  </a:lnTo>
                  <a:lnTo>
                    <a:pt x="932" y="763"/>
                  </a:lnTo>
                  <a:lnTo>
                    <a:pt x="932" y="793"/>
                  </a:lnTo>
                  <a:lnTo>
                    <a:pt x="932" y="804"/>
                  </a:lnTo>
                  <a:lnTo>
                    <a:pt x="937" y="835"/>
                  </a:lnTo>
                  <a:lnTo>
                    <a:pt x="950" y="857"/>
                  </a:lnTo>
                  <a:lnTo>
                    <a:pt x="974" y="865"/>
                  </a:lnTo>
                  <a:lnTo>
                    <a:pt x="982" y="869"/>
                  </a:lnTo>
                  <a:lnTo>
                    <a:pt x="990" y="874"/>
                  </a:lnTo>
                  <a:lnTo>
                    <a:pt x="996" y="879"/>
                  </a:lnTo>
                  <a:lnTo>
                    <a:pt x="1001" y="884"/>
                  </a:lnTo>
                  <a:lnTo>
                    <a:pt x="1005" y="889"/>
                  </a:lnTo>
                  <a:lnTo>
                    <a:pt x="1008" y="895"/>
                  </a:lnTo>
                  <a:lnTo>
                    <a:pt x="1009" y="902"/>
                  </a:lnTo>
                  <a:lnTo>
                    <a:pt x="1011" y="910"/>
                  </a:lnTo>
                  <a:lnTo>
                    <a:pt x="1011" y="972"/>
                  </a:lnTo>
                  <a:lnTo>
                    <a:pt x="633" y="972"/>
                  </a:lnTo>
                  <a:lnTo>
                    <a:pt x="633" y="919"/>
                  </a:lnTo>
                  <a:lnTo>
                    <a:pt x="605" y="938"/>
                  </a:lnTo>
                  <a:lnTo>
                    <a:pt x="577" y="954"/>
                  </a:lnTo>
                  <a:lnTo>
                    <a:pt x="562" y="960"/>
                  </a:lnTo>
                  <a:lnTo>
                    <a:pt x="547" y="966"/>
                  </a:lnTo>
                  <a:lnTo>
                    <a:pt x="532" y="972"/>
                  </a:lnTo>
                  <a:lnTo>
                    <a:pt x="517" y="977"/>
                  </a:lnTo>
                  <a:lnTo>
                    <a:pt x="501" y="982"/>
                  </a:lnTo>
                  <a:lnTo>
                    <a:pt x="487" y="986"/>
                  </a:lnTo>
                  <a:lnTo>
                    <a:pt x="471" y="989"/>
                  </a:lnTo>
                  <a:lnTo>
                    <a:pt x="456" y="992"/>
                  </a:lnTo>
                  <a:lnTo>
                    <a:pt x="440" y="993"/>
                  </a:lnTo>
                  <a:lnTo>
                    <a:pt x="424" y="995"/>
                  </a:lnTo>
                  <a:lnTo>
                    <a:pt x="408" y="995"/>
                  </a:lnTo>
                  <a:lnTo>
                    <a:pt x="391" y="997"/>
                  </a:lnTo>
                  <a:lnTo>
                    <a:pt x="359" y="995"/>
                  </a:lnTo>
                  <a:lnTo>
                    <a:pt x="329" y="995"/>
                  </a:lnTo>
                  <a:lnTo>
                    <a:pt x="301" y="993"/>
                  </a:lnTo>
                  <a:lnTo>
                    <a:pt x="275" y="991"/>
                  </a:lnTo>
                  <a:lnTo>
                    <a:pt x="252" y="988"/>
                  </a:lnTo>
                  <a:lnTo>
                    <a:pt x="230" y="984"/>
                  </a:lnTo>
                  <a:lnTo>
                    <a:pt x="210" y="981"/>
                  </a:lnTo>
                  <a:lnTo>
                    <a:pt x="193" y="976"/>
                  </a:lnTo>
                  <a:lnTo>
                    <a:pt x="177" y="970"/>
                  </a:lnTo>
                  <a:lnTo>
                    <a:pt x="161" y="962"/>
                  </a:lnTo>
                  <a:lnTo>
                    <a:pt x="146" y="955"/>
                  </a:lnTo>
                  <a:lnTo>
                    <a:pt x="130" y="945"/>
                  </a:lnTo>
                  <a:lnTo>
                    <a:pt x="115" y="934"/>
                  </a:lnTo>
                  <a:lnTo>
                    <a:pt x="102" y="923"/>
                  </a:lnTo>
                  <a:lnTo>
                    <a:pt x="88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1" y="853"/>
                  </a:lnTo>
                  <a:lnTo>
                    <a:pt x="29" y="831"/>
                  </a:lnTo>
                  <a:lnTo>
                    <a:pt x="18" y="808"/>
                  </a:lnTo>
                  <a:lnTo>
                    <a:pt x="11" y="784"/>
                  </a:lnTo>
                  <a:lnTo>
                    <a:pt x="5" y="761"/>
                  </a:lnTo>
                  <a:lnTo>
                    <a:pt x="1" y="736"/>
                  </a:lnTo>
                  <a:lnTo>
                    <a:pt x="0" y="711"/>
                  </a:lnTo>
                  <a:lnTo>
                    <a:pt x="1" y="691"/>
                  </a:lnTo>
                  <a:lnTo>
                    <a:pt x="3" y="669"/>
                  </a:lnTo>
                  <a:lnTo>
                    <a:pt x="8" y="646"/>
                  </a:lnTo>
                  <a:lnTo>
                    <a:pt x="14" y="620"/>
                  </a:lnTo>
                  <a:lnTo>
                    <a:pt x="18" y="607"/>
                  </a:lnTo>
                  <a:lnTo>
                    <a:pt x="23" y="595"/>
                  </a:lnTo>
                  <a:lnTo>
                    <a:pt x="28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6" y="547"/>
                  </a:lnTo>
                  <a:lnTo>
                    <a:pt x="54" y="536"/>
                  </a:lnTo>
                  <a:lnTo>
                    <a:pt x="62" y="525"/>
                  </a:lnTo>
                  <a:lnTo>
                    <a:pt x="70" y="515"/>
                  </a:lnTo>
                  <a:lnTo>
                    <a:pt x="80" y="504"/>
                  </a:lnTo>
                  <a:lnTo>
                    <a:pt x="89" y="494"/>
                  </a:lnTo>
                  <a:lnTo>
                    <a:pt x="99" y="485"/>
                  </a:lnTo>
                  <a:lnTo>
                    <a:pt x="121" y="466"/>
                  </a:lnTo>
                  <a:lnTo>
                    <a:pt x="146" y="449"/>
                  </a:lnTo>
                  <a:lnTo>
                    <a:pt x="177" y="431"/>
                  </a:lnTo>
                  <a:lnTo>
                    <a:pt x="210" y="413"/>
                  </a:lnTo>
                  <a:lnTo>
                    <a:pt x="247" y="397"/>
                  </a:lnTo>
                  <a:lnTo>
                    <a:pt x="287" y="383"/>
                  </a:lnTo>
                  <a:lnTo>
                    <a:pt x="332" y="368"/>
                  </a:lnTo>
                  <a:lnTo>
                    <a:pt x="378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3" y="329"/>
                  </a:lnTo>
                  <a:lnTo>
                    <a:pt x="522" y="325"/>
                  </a:lnTo>
                  <a:lnTo>
                    <a:pt x="541" y="321"/>
                  </a:lnTo>
                  <a:lnTo>
                    <a:pt x="561" y="318"/>
                  </a:lnTo>
                  <a:lnTo>
                    <a:pt x="622" y="312"/>
                  </a:lnTo>
                  <a:close/>
                  <a:moveTo>
                    <a:pt x="602" y="503"/>
                  </a:moveTo>
                  <a:lnTo>
                    <a:pt x="573" y="507"/>
                  </a:lnTo>
                  <a:lnTo>
                    <a:pt x="549" y="510"/>
                  </a:lnTo>
                  <a:lnTo>
                    <a:pt x="529" y="514"/>
                  </a:lnTo>
                  <a:lnTo>
                    <a:pt x="509" y="519"/>
                  </a:lnTo>
                  <a:lnTo>
                    <a:pt x="492" y="524"/>
                  </a:lnTo>
                  <a:lnTo>
                    <a:pt x="463" y="533"/>
                  </a:lnTo>
                  <a:lnTo>
                    <a:pt x="440" y="540"/>
                  </a:lnTo>
                  <a:lnTo>
                    <a:pt x="420" y="547"/>
                  </a:lnTo>
                  <a:lnTo>
                    <a:pt x="404" y="555"/>
                  </a:lnTo>
                  <a:lnTo>
                    <a:pt x="392" y="561"/>
                  </a:lnTo>
                  <a:lnTo>
                    <a:pt x="381" y="568"/>
                  </a:lnTo>
                  <a:lnTo>
                    <a:pt x="371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0" y="609"/>
                  </a:lnTo>
                  <a:lnTo>
                    <a:pt x="332" y="622"/>
                  </a:lnTo>
                  <a:lnTo>
                    <a:pt x="324" y="637"/>
                  </a:lnTo>
                  <a:lnTo>
                    <a:pt x="318" y="652"/>
                  </a:lnTo>
                  <a:lnTo>
                    <a:pt x="315" y="666"/>
                  </a:lnTo>
                  <a:lnTo>
                    <a:pt x="312" y="680"/>
                  </a:lnTo>
                  <a:lnTo>
                    <a:pt x="311" y="692"/>
                  </a:lnTo>
                  <a:lnTo>
                    <a:pt x="312" y="707"/>
                  </a:lnTo>
                  <a:lnTo>
                    <a:pt x="313" y="720"/>
                  </a:lnTo>
                  <a:lnTo>
                    <a:pt x="316" y="733"/>
                  </a:lnTo>
                  <a:lnTo>
                    <a:pt x="318" y="744"/>
                  </a:lnTo>
                  <a:lnTo>
                    <a:pt x="323" y="755"/>
                  </a:lnTo>
                  <a:lnTo>
                    <a:pt x="328" y="765"/>
                  </a:lnTo>
                  <a:lnTo>
                    <a:pt x="334" y="773"/>
                  </a:lnTo>
                  <a:lnTo>
                    <a:pt x="340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7" y="799"/>
                  </a:lnTo>
                  <a:lnTo>
                    <a:pt x="377" y="804"/>
                  </a:lnTo>
                  <a:lnTo>
                    <a:pt x="390" y="806"/>
                  </a:lnTo>
                  <a:lnTo>
                    <a:pt x="402" y="809"/>
                  </a:lnTo>
                  <a:lnTo>
                    <a:pt x="415" y="810"/>
                  </a:lnTo>
                  <a:lnTo>
                    <a:pt x="429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7" y="810"/>
                  </a:lnTo>
                  <a:lnTo>
                    <a:pt x="482" y="808"/>
                  </a:lnTo>
                  <a:lnTo>
                    <a:pt x="495" y="805"/>
                  </a:lnTo>
                  <a:lnTo>
                    <a:pt x="510" y="800"/>
                  </a:lnTo>
                  <a:lnTo>
                    <a:pt x="525" y="794"/>
                  </a:lnTo>
                  <a:lnTo>
                    <a:pt x="540" y="787"/>
                  </a:lnTo>
                  <a:lnTo>
                    <a:pt x="554" y="779"/>
                  </a:lnTo>
                  <a:lnTo>
                    <a:pt x="569" y="770"/>
                  </a:lnTo>
                  <a:lnTo>
                    <a:pt x="586" y="756"/>
                  </a:lnTo>
                  <a:lnTo>
                    <a:pt x="594" y="749"/>
                  </a:lnTo>
                  <a:lnTo>
                    <a:pt x="601" y="740"/>
                  </a:lnTo>
                  <a:lnTo>
                    <a:pt x="609" y="730"/>
                  </a:lnTo>
                  <a:lnTo>
                    <a:pt x="616" y="720"/>
                  </a:lnTo>
                  <a:lnTo>
                    <a:pt x="622" y="709"/>
                  </a:lnTo>
                  <a:lnTo>
                    <a:pt x="622" y="502"/>
                  </a:lnTo>
                  <a:lnTo>
                    <a:pt x="602" y="503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098640" y="475560"/>
              <a:ext cx="29160" cy="99360"/>
            </a:xfrm>
            <a:custGeom>
              <a:avLst/>
              <a:gdLst/>
              <a:ahLst/>
              <a:rect l="l" t="t" r="r" b="b"/>
              <a:pathLst>
                <a:path w="468" h="1308">
                  <a:moveTo>
                    <a:pt x="0" y="1308"/>
                  </a:moveTo>
                  <a:lnTo>
                    <a:pt x="0" y="1246"/>
                  </a:lnTo>
                  <a:lnTo>
                    <a:pt x="1" y="1238"/>
                  </a:lnTo>
                  <a:lnTo>
                    <a:pt x="3" y="1230"/>
                  </a:lnTo>
                  <a:lnTo>
                    <a:pt x="8" y="1222"/>
                  </a:lnTo>
                  <a:lnTo>
                    <a:pt x="16" y="1215"/>
                  </a:lnTo>
                  <a:lnTo>
                    <a:pt x="22" y="1209"/>
                  </a:lnTo>
                  <a:lnTo>
                    <a:pt x="29" y="1203"/>
                  </a:lnTo>
                  <a:lnTo>
                    <a:pt x="35" y="1199"/>
                  </a:lnTo>
                  <a:lnTo>
                    <a:pt x="40" y="1198"/>
                  </a:lnTo>
                  <a:lnTo>
                    <a:pt x="49" y="1194"/>
                  </a:lnTo>
                  <a:lnTo>
                    <a:pt x="55" y="1193"/>
                  </a:lnTo>
                  <a:lnTo>
                    <a:pt x="59" y="1191"/>
                  </a:lnTo>
                  <a:lnTo>
                    <a:pt x="64" y="1189"/>
                  </a:lnTo>
                  <a:lnTo>
                    <a:pt x="66" y="1187"/>
                  </a:lnTo>
                  <a:lnTo>
                    <a:pt x="70" y="1183"/>
                  </a:lnTo>
                  <a:lnTo>
                    <a:pt x="72" y="1178"/>
                  </a:lnTo>
                  <a:lnTo>
                    <a:pt x="75" y="1173"/>
                  </a:lnTo>
                  <a:lnTo>
                    <a:pt x="76" y="1167"/>
                  </a:lnTo>
                  <a:lnTo>
                    <a:pt x="80" y="1137"/>
                  </a:lnTo>
                  <a:lnTo>
                    <a:pt x="80" y="1125"/>
                  </a:lnTo>
                  <a:lnTo>
                    <a:pt x="80" y="183"/>
                  </a:lnTo>
                  <a:lnTo>
                    <a:pt x="80" y="171"/>
                  </a:lnTo>
                  <a:lnTo>
                    <a:pt x="77" y="155"/>
                  </a:lnTo>
                  <a:lnTo>
                    <a:pt x="73" y="142"/>
                  </a:lnTo>
                  <a:lnTo>
                    <a:pt x="70" y="137"/>
                  </a:lnTo>
                  <a:lnTo>
                    <a:pt x="67" y="132"/>
                  </a:lnTo>
                  <a:lnTo>
                    <a:pt x="64" y="127"/>
                  </a:lnTo>
                  <a:lnTo>
                    <a:pt x="60" y="123"/>
                  </a:lnTo>
                  <a:lnTo>
                    <a:pt x="35" y="112"/>
                  </a:lnTo>
                  <a:lnTo>
                    <a:pt x="28" y="107"/>
                  </a:lnTo>
                  <a:lnTo>
                    <a:pt x="14" y="95"/>
                  </a:lnTo>
                  <a:lnTo>
                    <a:pt x="8" y="80"/>
                  </a:lnTo>
                  <a:lnTo>
                    <a:pt x="2" y="67"/>
                  </a:lnTo>
                  <a:lnTo>
                    <a:pt x="1" y="66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1" y="1126"/>
                  </a:lnTo>
                  <a:lnTo>
                    <a:pt x="391" y="1140"/>
                  </a:lnTo>
                  <a:lnTo>
                    <a:pt x="391" y="1152"/>
                  </a:lnTo>
                  <a:lnTo>
                    <a:pt x="393" y="1160"/>
                  </a:lnTo>
                  <a:lnTo>
                    <a:pt x="396" y="1167"/>
                  </a:lnTo>
                  <a:lnTo>
                    <a:pt x="399" y="1174"/>
                  </a:lnTo>
                  <a:lnTo>
                    <a:pt x="403" y="1180"/>
                  </a:lnTo>
                  <a:lnTo>
                    <a:pt x="407" y="1185"/>
                  </a:lnTo>
                  <a:lnTo>
                    <a:pt x="412" y="1190"/>
                  </a:lnTo>
                  <a:lnTo>
                    <a:pt x="417" y="1194"/>
                  </a:lnTo>
                  <a:lnTo>
                    <a:pt x="423" y="1198"/>
                  </a:lnTo>
                  <a:lnTo>
                    <a:pt x="431" y="1203"/>
                  </a:lnTo>
                  <a:lnTo>
                    <a:pt x="455" y="1216"/>
                  </a:lnTo>
                  <a:lnTo>
                    <a:pt x="461" y="1222"/>
                  </a:lnTo>
                  <a:lnTo>
                    <a:pt x="465" y="1230"/>
                  </a:lnTo>
                  <a:lnTo>
                    <a:pt x="467" y="1237"/>
                  </a:lnTo>
                  <a:lnTo>
                    <a:pt x="468" y="1247"/>
                  </a:lnTo>
                  <a:lnTo>
                    <a:pt x="468" y="1308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15320" y="228600"/>
              <a:ext cx="33120" cy="91800"/>
            </a:xfrm>
            <a:custGeom>
              <a:avLst/>
              <a:gdLst/>
              <a:ahLst/>
              <a:rect l="l" t="t" r="r" b="b"/>
              <a:pathLst>
                <a:path w="342" h="1097">
                  <a:moveTo>
                    <a:pt x="0" y="1097"/>
                  </a:moveTo>
                  <a:lnTo>
                    <a:pt x="0" y="1030"/>
                  </a:lnTo>
                  <a:lnTo>
                    <a:pt x="16" y="1027"/>
                  </a:lnTo>
                  <a:lnTo>
                    <a:pt x="31" y="1024"/>
                  </a:lnTo>
                  <a:lnTo>
                    <a:pt x="37" y="1021"/>
                  </a:lnTo>
                  <a:lnTo>
                    <a:pt x="42" y="1019"/>
                  </a:lnTo>
                  <a:lnTo>
                    <a:pt x="47" y="1015"/>
                  </a:lnTo>
                  <a:lnTo>
                    <a:pt x="51" y="1011"/>
                  </a:lnTo>
                  <a:lnTo>
                    <a:pt x="53" y="1006"/>
                  </a:lnTo>
                  <a:lnTo>
                    <a:pt x="57" y="1001"/>
                  </a:lnTo>
                  <a:lnTo>
                    <a:pt x="58" y="995"/>
                  </a:lnTo>
                  <a:lnTo>
                    <a:pt x="61" y="989"/>
                  </a:lnTo>
                  <a:lnTo>
                    <a:pt x="63" y="973"/>
                  </a:lnTo>
                  <a:lnTo>
                    <a:pt x="64" y="954"/>
                  </a:lnTo>
                  <a:lnTo>
                    <a:pt x="64" y="144"/>
                  </a:lnTo>
                  <a:lnTo>
                    <a:pt x="63" y="125"/>
                  </a:lnTo>
                  <a:lnTo>
                    <a:pt x="61" y="109"/>
                  </a:lnTo>
                  <a:lnTo>
                    <a:pt x="58" y="101"/>
                  </a:lnTo>
                  <a:lnTo>
                    <a:pt x="57" y="97"/>
                  </a:lnTo>
                  <a:lnTo>
                    <a:pt x="53" y="90"/>
                  </a:lnTo>
                  <a:lnTo>
                    <a:pt x="51" y="87"/>
                  </a:lnTo>
                  <a:lnTo>
                    <a:pt x="47" y="83"/>
                  </a:lnTo>
                  <a:lnTo>
                    <a:pt x="42" y="79"/>
                  </a:lnTo>
                  <a:lnTo>
                    <a:pt x="37" y="77"/>
                  </a:lnTo>
                  <a:lnTo>
                    <a:pt x="31" y="74"/>
                  </a:lnTo>
                  <a:lnTo>
                    <a:pt x="16" y="71"/>
                  </a:lnTo>
                  <a:lnTo>
                    <a:pt x="0" y="68"/>
                  </a:lnTo>
                  <a:lnTo>
                    <a:pt x="0" y="0"/>
                  </a:lnTo>
                  <a:lnTo>
                    <a:pt x="342" y="0"/>
                  </a:lnTo>
                  <a:lnTo>
                    <a:pt x="342" y="67"/>
                  </a:lnTo>
                  <a:lnTo>
                    <a:pt x="326" y="71"/>
                  </a:lnTo>
                  <a:lnTo>
                    <a:pt x="313" y="74"/>
                  </a:lnTo>
                  <a:lnTo>
                    <a:pt x="307" y="77"/>
                  </a:lnTo>
                  <a:lnTo>
                    <a:pt x="302" y="81"/>
                  </a:lnTo>
                  <a:lnTo>
                    <a:pt x="297" y="84"/>
                  </a:lnTo>
                  <a:lnTo>
                    <a:pt x="293" y="88"/>
                  </a:lnTo>
                  <a:lnTo>
                    <a:pt x="290" y="93"/>
                  </a:lnTo>
                  <a:lnTo>
                    <a:pt x="287" y="98"/>
                  </a:lnTo>
                  <a:lnTo>
                    <a:pt x="285" y="103"/>
                  </a:lnTo>
                  <a:lnTo>
                    <a:pt x="283" y="110"/>
                  </a:lnTo>
                  <a:lnTo>
                    <a:pt x="280" y="125"/>
                  </a:lnTo>
                  <a:lnTo>
                    <a:pt x="280" y="142"/>
                  </a:lnTo>
                  <a:lnTo>
                    <a:pt x="280" y="956"/>
                  </a:lnTo>
                  <a:lnTo>
                    <a:pt x="280" y="973"/>
                  </a:lnTo>
                  <a:lnTo>
                    <a:pt x="283" y="988"/>
                  </a:lnTo>
                  <a:lnTo>
                    <a:pt x="285" y="994"/>
                  </a:lnTo>
                  <a:lnTo>
                    <a:pt x="287" y="1000"/>
                  </a:lnTo>
                  <a:lnTo>
                    <a:pt x="290" y="1005"/>
                  </a:lnTo>
                  <a:lnTo>
                    <a:pt x="293" y="1010"/>
                  </a:lnTo>
                  <a:lnTo>
                    <a:pt x="297" y="1014"/>
                  </a:lnTo>
                  <a:lnTo>
                    <a:pt x="302" y="1017"/>
                  </a:lnTo>
                  <a:lnTo>
                    <a:pt x="307" y="1020"/>
                  </a:lnTo>
                  <a:lnTo>
                    <a:pt x="313" y="1022"/>
                  </a:lnTo>
                  <a:lnTo>
                    <a:pt x="326" y="1027"/>
                  </a:lnTo>
                  <a:lnTo>
                    <a:pt x="342" y="1030"/>
                  </a:lnTo>
                  <a:lnTo>
                    <a:pt x="342" y="1097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5040" y="734400"/>
              <a:ext cx="74520" cy="106200"/>
            </a:xfrm>
            <a:custGeom>
              <a:avLst/>
              <a:gdLst/>
              <a:ahLst/>
              <a:rect l="l" t="t" r="r" b="b"/>
              <a:pathLst>
                <a:path w="1180" h="1407">
                  <a:moveTo>
                    <a:pt x="0" y="337"/>
                  </a:moveTo>
                  <a:lnTo>
                    <a:pt x="0" y="0"/>
                  </a:lnTo>
                  <a:lnTo>
                    <a:pt x="1180" y="0"/>
                  </a:lnTo>
                  <a:lnTo>
                    <a:pt x="1180" y="337"/>
                  </a:lnTo>
                  <a:lnTo>
                    <a:pt x="1103" y="337"/>
                  </a:lnTo>
                  <a:lnTo>
                    <a:pt x="1081" y="337"/>
                  </a:lnTo>
                  <a:lnTo>
                    <a:pt x="1070" y="337"/>
                  </a:lnTo>
                  <a:lnTo>
                    <a:pt x="1068" y="336"/>
                  </a:lnTo>
                  <a:lnTo>
                    <a:pt x="1063" y="331"/>
                  </a:lnTo>
                  <a:lnTo>
                    <a:pt x="1058" y="325"/>
                  </a:lnTo>
                  <a:lnTo>
                    <a:pt x="1050" y="318"/>
                  </a:lnTo>
                  <a:lnTo>
                    <a:pt x="1045" y="311"/>
                  </a:lnTo>
                  <a:lnTo>
                    <a:pt x="1026" y="277"/>
                  </a:lnTo>
                  <a:lnTo>
                    <a:pt x="1020" y="268"/>
                  </a:lnTo>
                  <a:lnTo>
                    <a:pt x="1012" y="260"/>
                  </a:lnTo>
                  <a:lnTo>
                    <a:pt x="1005" y="254"/>
                  </a:lnTo>
                  <a:lnTo>
                    <a:pt x="997" y="248"/>
                  </a:lnTo>
                  <a:lnTo>
                    <a:pt x="989" y="243"/>
                  </a:lnTo>
                  <a:lnTo>
                    <a:pt x="979" y="238"/>
                  </a:lnTo>
                  <a:lnTo>
                    <a:pt x="969" y="234"/>
                  </a:lnTo>
                  <a:lnTo>
                    <a:pt x="959" y="232"/>
                  </a:lnTo>
                  <a:lnTo>
                    <a:pt x="940" y="232"/>
                  </a:lnTo>
                  <a:lnTo>
                    <a:pt x="926" y="232"/>
                  </a:lnTo>
                  <a:lnTo>
                    <a:pt x="908" y="232"/>
                  </a:lnTo>
                  <a:lnTo>
                    <a:pt x="887" y="232"/>
                  </a:lnTo>
                  <a:lnTo>
                    <a:pt x="763" y="232"/>
                  </a:lnTo>
                  <a:lnTo>
                    <a:pt x="763" y="1164"/>
                  </a:lnTo>
                  <a:lnTo>
                    <a:pt x="763" y="1173"/>
                  </a:lnTo>
                  <a:lnTo>
                    <a:pt x="763" y="1197"/>
                  </a:lnTo>
                  <a:lnTo>
                    <a:pt x="765" y="1209"/>
                  </a:lnTo>
                  <a:lnTo>
                    <a:pt x="769" y="1221"/>
                  </a:lnTo>
                  <a:lnTo>
                    <a:pt x="772" y="1231"/>
                  </a:lnTo>
                  <a:lnTo>
                    <a:pt x="776" y="1241"/>
                  </a:lnTo>
                  <a:lnTo>
                    <a:pt x="782" y="1251"/>
                  </a:lnTo>
                  <a:lnTo>
                    <a:pt x="787" y="1258"/>
                  </a:lnTo>
                  <a:lnTo>
                    <a:pt x="793" y="1266"/>
                  </a:lnTo>
                  <a:lnTo>
                    <a:pt x="801" y="1272"/>
                  </a:lnTo>
                  <a:lnTo>
                    <a:pt x="822" y="1288"/>
                  </a:lnTo>
                  <a:lnTo>
                    <a:pt x="833" y="1295"/>
                  </a:lnTo>
                  <a:lnTo>
                    <a:pt x="839" y="1300"/>
                  </a:lnTo>
                  <a:lnTo>
                    <a:pt x="844" y="1305"/>
                  </a:lnTo>
                  <a:lnTo>
                    <a:pt x="849" y="1309"/>
                  </a:lnTo>
                  <a:lnTo>
                    <a:pt x="852" y="1315"/>
                  </a:lnTo>
                  <a:lnTo>
                    <a:pt x="855" y="1320"/>
                  </a:lnTo>
                  <a:lnTo>
                    <a:pt x="857" y="1324"/>
                  </a:lnTo>
                  <a:lnTo>
                    <a:pt x="859" y="1331"/>
                  </a:lnTo>
                  <a:lnTo>
                    <a:pt x="859" y="1336"/>
                  </a:lnTo>
                  <a:lnTo>
                    <a:pt x="859" y="1407"/>
                  </a:lnTo>
                  <a:lnTo>
                    <a:pt x="325" y="1407"/>
                  </a:lnTo>
                  <a:lnTo>
                    <a:pt x="325" y="1336"/>
                  </a:lnTo>
                  <a:lnTo>
                    <a:pt x="325" y="1329"/>
                  </a:lnTo>
                  <a:lnTo>
                    <a:pt x="326" y="1324"/>
                  </a:lnTo>
                  <a:lnTo>
                    <a:pt x="328" y="1318"/>
                  </a:lnTo>
                  <a:lnTo>
                    <a:pt x="331" y="1313"/>
                  </a:lnTo>
                  <a:lnTo>
                    <a:pt x="335" y="1309"/>
                  </a:lnTo>
                  <a:lnTo>
                    <a:pt x="338" y="1304"/>
                  </a:lnTo>
                  <a:lnTo>
                    <a:pt x="343" y="1299"/>
                  </a:lnTo>
                  <a:lnTo>
                    <a:pt x="349" y="1295"/>
                  </a:lnTo>
                  <a:lnTo>
                    <a:pt x="364" y="1285"/>
                  </a:lnTo>
                  <a:lnTo>
                    <a:pt x="380" y="1272"/>
                  </a:lnTo>
                  <a:lnTo>
                    <a:pt x="387" y="1264"/>
                  </a:lnTo>
                  <a:lnTo>
                    <a:pt x="392" y="1256"/>
                  </a:lnTo>
                  <a:lnTo>
                    <a:pt x="398" y="1247"/>
                  </a:lnTo>
                  <a:lnTo>
                    <a:pt x="402" y="1239"/>
                  </a:lnTo>
                  <a:lnTo>
                    <a:pt x="406" y="1229"/>
                  </a:lnTo>
                  <a:lnTo>
                    <a:pt x="410" y="1219"/>
                  </a:lnTo>
                  <a:lnTo>
                    <a:pt x="412" y="1208"/>
                  </a:lnTo>
                  <a:lnTo>
                    <a:pt x="413" y="1197"/>
                  </a:lnTo>
                  <a:lnTo>
                    <a:pt x="413" y="1166"/>
                  </a:lnTo>
                  <a:lnTo>
                    <a:pt x="413" y="227"/>
                  </a:lnTo>
                  <a:lnTo>
                    <a:pt x="273" y="227"/>
                  </a:lnTo>
                  <a:lnTo>
                    <a:pt x="228" y="227"/>
                  </a:lnTo>
                  <a:lnTo>
                    <a:pt x="210" y="232"/>
                  </a:lnTo>
                  <a:lnTo>
                    <a:pt x="199" y="235"/>
                  </a:lnTo>
                  <a:lnTo>
                    <a:pt x="189" y="240"/>
                  </a:lnTo>
                  <a:lnTo>
                    <a:pt x="181" y="246"/>
                  </a:lnTo>
                  <a:lnTo>
                    <a:pt x="171" y="255"/>
                  </a:lnTo>
                  <a:lnTo>
                    <a:pt x="162" y="264"/>
                  </a:lnTo>
                  <a:lnTo>
                    <a:pt x="155" y="275"/>
                  </a:lnTo>
                  <a:lnTo>
                    <a:pt x="148" y="288"/>
                  </a:lnTo>
                  <a:lnTo>
                    <a:pt x="140" y="302"/>
                  </a:lnTo>
                  <a:lnTo>
                    <a:pt x="130" y="320"/>
                  </a:lnTo>
                  <a:lnTo>
                    <a:pt x="123" y="325"/>
                  </a:lnTo>
                  <a:lnTo>
                    <a:pt x="113" y="330"/>
                  </a:lnTo>
                  <a:lnTo>
                    <a:pt x="100" y="335"/>
                  </a:lnTo>
                  <a:lnTo>
                    <a:pt x="86" y="337"/>
                  </a:lnTo>
                  <a:lnTo>
                    <a:pt x="63" y="337"/>
                  </a:lnTo>
                  <a:lnTo>
                    <a:pt x="54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86240" y="731520"/>
              <a:ext cx="62280" cy="113400"/>
            </a:xfrm>
            <a:custGeom>
              <a:avLst/>
              <a:gdLst/>
              <a:ahLst/>
              <a:rect l="l" t="t" r="r" b="b"/>
              <a:pathLst>
                <a:path w="992" h="1480">
                  <a:moveTo>
                    <a:pt x="951" y="978"/>
                  </a:moveTo>
                  <a:lnTo>
                    <a:pt x="325" y="978"/>
                  </a:lnTo>
                  <a:lnTo>
                    <a:pt x="322" y="989"/>
                  </a:lnTo>
                  <a:lnTo>
                    <a:pt x="322" y="997"/>
                  </a:lnTo>
                  <a:lnTo>
                    <a:pt x="322" y="1007"/>
                  </a:lnTo>
                  <a:lnTo>
                    <a:pt x="324" y="1018"/>
                  </a:lnTo>
                  <a:lnTo>
                    <a:pt x="326" y="1029"/>
                  </a:lnTo>
                  <a:lnTo>
                    <a:pt x="327" y="1040"/>
                  </a:lnTo>
                  <a:lnTo>
                    <a:pt x="335" y="1062"/>
                  </a:lnTo>
                  <a:lnTo>
                    <a:pt x="343" y="1085"/>
                  </a:lnTo>
                  <a:lnTo>
                    <a:pt x="354" y="1107"/>
                  </a:lnTo>
                  <a:lnTo>
                    <a:pt x="369" y="1130"/>
                  </a:lnTo>
                  <a:lnTo>
                    <a:pt x="385" y="1153"/>
                  </a:lnTo>
                  <a:lnTo>
                    <a:pt x="405" y="1175"/>
                  </a:lnTo>
                  <a:lnTo>
                    <a:pt x="415" y="1186"/>
                  </a:lnTo>
                  <a:lnTo>
                    <a:pt x="426" y="1197"/>
                  </a:lnTo>
                  <a:lnTo>
                    <a:pt x="437" y="1207"/>
                  </a:lnTo>
                  <a:lnTo>
                    <a:pt x="448" y="1216"/>
                  </a:lnTo>
                  <a:lnTo>
                    <a:pt x="459" y="1224"/>
                  </a:lnTo>
                  <a:lnTo>
                    <a:pt x="471" y="1232"/>
                  </a:lnTo>
                  <a:lnTo>
                    <a:pt x="482" y="1239"/>
                  </a:lnTo>
                  <a:lnTo>
                    <a:pt x="495" y="1245"/>
                  </a:lnTo>
                  <a:lnTo>
                    <a:pt x="507" y="1250"/>
                  </a:lnTo>
                  <a:lnTo>
                    <a:pt x="519" y="1255"/>
                  </a:lnTo>
                  <a:lnTo>
                    <a:pt x="533" y="1260"/>
                  </a:lnTo>
                  <a:lnTo>
                    <a:pt x="546" y="1263"/>
                  </a:lnTo>
                  <a:lnTo>
                    <a:pt x="559" y="1265"/>
                  </a:lnTo>
                  <a:lnTo>
                    <a:pt x="572" y="1267"/>
                  </a:lnTo>
                  <a:lnTo>
                    <a:pt x="587" y="1269"/>
                  </a:lnTo>
                  <a:lnTo>
                    <a:pt x="600" y="1269"/>
                  </a:lnTo>
                  <a:lnTo>
                    <a:pt x="614" y="1269"/>
                  </a:lnTo>
                  <a:lnTo>
                    <a:pt x="629" y="1267"/>
                  </a:lnTo>
                  <a:lnTo>
                    <a:pt x="642" y="1265"/>
                  </a:lnTo>
                  <a:lnTo>
                    <a:pt x="657" y="1263"/>
                  </a:lnTo>
                  <a:lnTo>
                    <a:pt x="672" y="1259"/>
                  </a:lnTo>
                  <a:lnTo>
                    <a:pt x="685" y="1255"/>
                  </a:lnTo>
                  <a:lnTo>
                    <a:pt x="696" y="1252"/>
                  </a:lnTo>
                  <a:lnTo>
                    <a:pt x="709" y="1247"/>
                  </a:lnTo>
                  <a:lnTo>
                    <a:pt x="719" y="1243"/>
                  </a:lnTo>
                  <a:lnTo>
                    <a:pt x="762" y="1215"/>
                  </a:lnTo>
                  <a:lnTo>
                    <a:pt x="798" y="1190"/>
                  </a:lnTo>
                  <a:lnTo>
                    <a:pt x="805" y="1190"/>
                  </a:lnTo>
                  <a:lnTo>
                    <a:pt x="814" y="1183"/>
                  </a:lnTo>
                  <a:lnTo>
                    <a:pt x="826" y="1173"/>
                  </a:lnTo>
                  <a:lnTo>
                    <a:pt x="834" y="1163"/>
                  </a:lnTo>
                  <a:lnTo>
                    <a:pt x="848" y="1147"/>
                  </a:lnTo>
                  <a:lnTo>
                    <a:pt x="869" y="1124"/>
                  </a:lnTo>
                  <a:lnTo>
                    <a:pt x="877" y="1114"/>
                  </a:lnTo>
                  <a:lnTo>
                    <a:pt x="885" y="1110"/>
                  </a:lnTo>
                  <a:lnTo>
                    <a:pt x="896" y="1108"/>
                  </a:lnTo>
                  <a:lnTo>
                    <a:pt x="910" y="1107"/>
                  </a:lnTo>
                  <a:lnTo>
                    <a:pt x="928" y="1107"/>
                  </a:lnTo>
                  <a:lnTo>
                    <a:pt x="939" y="1107"/>
                  </a:lnTo>
                  <a:lnTo>
                    <a:pt x="950" y="1107"/>
                  </a:lnTo>
                  <a:lnTo>
                    <a:pt x="960" y="1107"/>
                  </a:lnTo>
                  <a:lnTo>
                    <a:pt x="968" y="1107"/>
                  </a:lnTo>
                  <a:lnTo>
                    <a:pt x="992" y="1107"/>
                  </a:lnTo>
                  <a:lnTo>
                    <a:pt x="992" y="1376"/>
                  </a:lnTo>
                  <a:lnTo>
                    <a:pt x="979" y="1385"/>
                  </a:lnTo>
                  <a:lnTo>
                    <a:pt x="965" y="1394"/>
                  </a:lnTo>
                  <a:lnTo>
                    <a:pt x="950" y="1403"/>
                  </a:lnTo>
                  <a:lnTo>
                    <a:pt x="934" y="1411"/>
                  </a:lnTo>
                  <a:lnTo>
                    <a:pt x="912" y="1422"/>
                  </a:lnTo>
                  <a:lnTo>
                    <a:pt x="889" y="1432"/>
                  </a:lnTo>
                  <a:lnTo>
                    <a:pt x="866" y="1442"/>
                  </a:lnTo>
                  <a:lnTo>
                    <a:pt x="842" y="1449"/>
                  </a:lnTo>
                  <a:lnTo>
                    <a:pt x="817" y="1457"/>
                  </a:lnTo>
                  <a:lnTo>
                    <a:pt x="791" y="1463"/>
                  </a:lnTo>
                  <a:lnTo>
                    <a:pt x="764" y="1468"/>
                  </a:lnTo>
                  <a:lnTo>
                    <a:pt x="736" y="1471"/>
                  </a:lnTo>
                  <a:lnTo>
                    <a:pt x="704" y="1475"/>
                  </a:lnTo>
                  <a:lnTo>
                    <a:pt x="671" y="1477"/>
                  </a:lnTo>
                  <a:lnTo>
                    <a:pt x="636" y="1479"/>
                  </a:lnTo>
                  <a:lnTo>
                    <a:pt x="600" y="1480"/>
                  </a:lnTo>
                  <a:lnTo>
                    <a:pt x="572" y="1479"/>
                  </a:lnTo>
                  <a:lnTo>
                    <a:pt x="544" y="1477"/>
                  </a:lnTo>
                  <a:lnTo>
                    <a:pt x="516" y="1476"/>
                  </a:lnTo>
                  <a:lnTo>
                    <a:pt x="490" y="1473"/>
                  </a:lnTo>
                  <a:lnTo>
                    <a:pt x="463" y="1469"/>
                  </a:lnTo>
                  <a:lnTo>
                    <a:pt x="438" y="1465"/>
                  </a:lnTo>
                  <a:lnTo>
                    <a:pt x="412" y="1459"/>
                  </a:lnTo>
                  <a:lnTo>
                    <a:pt x="389" y="1453"/>
                  </a:lnTo>
                  <a:lnTo>
                    <a:pt x="366" y="1446"/>
                  </a:lnTo>
                  <a:lnTo>
                    <a:pt x="342" y="1438"/>
                  </a:lnTo>
                  <a:lnTo>
                    <a:pt x="320" y="1430"/>
                  </a:lnTo>
                  <a:lnTo>
                    <a:pt x="299" y="1420"/>
                  </a:lnTo>
                  <a:lnTo>
                    <a:pt x="278" y="1410"/>
                  </a:lnTo>
                  <a:lnTo>
                    <a:pt x="257" y="1398"/>
                  </a:lnTo>
                  <a:lnTo>
                    <a:pt x="238" y="1387"/>
                  </a:lnTo>
                  <a:lnTo>
                    <a:pt x="219" y="1373"/>
                  </a:lnTo>
                  <a:lnTo>
                    <a:pt x="201" y="1360"/>
                  </a:lnTo>
                  <a:lnTo>
                    <a:pt x="183" y="1345"/>
                  </a:lnTo>
                  <a:lnTo>
                    <a:pt x="166" y="1330"/>
                  </a:lnTo>
                  <a:lnTo>
                    <a:pt x="150" y="1314"/>
                  </a:lnTo>
                  <a:lnTo>
                    <a:pt x="136" y="1298"/>
                  </a:lnTo>
                  <a:lnTo>
                    <a:pt x="121" y="1281"/>
                  </a:lnTo>
                  <a:lnTo>
                    <a:pt x="107" y="1263"/>
                  </a:lnTo>
                  <a:lnTo>
                    <a:pt x="94" y="1244"/>
                  </a:lnTo>
                  <a:lnTo>
                    <a:pt x="81" y="1224"/>
                  </a:lnTo>
                  <a:lnTo>
                    <a:pt x="70" y="1205"/>
                  </a:lnTo>
                  <a:lnTo>
                    <a:pt x="59" y="1184"/>
                  </a:lnTo>
                  <a:lnTo>
                    <a:pt x="49" y="1162"/>
                  </a:lnTo>
                  <a:lnTo>
                    <a:pt x="41" y="1140"/>
                  </a:lnTo>
                  <a:lnTo>
                    <a:pt x="32" y="1118"/>
                  </a:lnTo>
                  <a:lnTo>
                    <a:pt x="25" y="1093"/>
                  </a:lnTo>
                  <a:lnTo>
                    <a:pt x="17" y="1070"/>
                  </a:lnTo>
                  <a:lnTo>
                    <a:pt x="10" y="1037"/>
                  </a:lnTo>
                  <a:lnTo>
                    <a:pt x="4" y="1005"/>
                  </a:lnTo>
                  <a:lnTo>
                    <a:pt x="0" y="972"/>
                  </a:lnTo>
                  <a:lnTo>
                    <a:pt x="0" y="938"/>
                  </a:lnTo>
                  <a:lnTo>
                    <a:pt x="0" y="920"/>
                  </a:lnTo>
                  <a:lnTo>
                    <a:pt x="1" y="900"/>
                  </a:lnTo>
                  <a:lnTo>
                    <a:pt x="3" y="882"/>
                  </a:lnTo>
                  <a:lnTo>
                    <a:pt x="5" y="863"/>
                  </a:lnTo>
                  <a:lnTo>
                    <a:pt x="9" y="845"/>
                  </a:lnTo>
                  <a:lnTo>
                    <a:pt x="13" y="827"/>
                  </a:lnTo>
                  <a:lnTo>
                    <a:pt x="17" y="809"/>
                  </a:lnTo>
                  <a:lnTo>
                    <a:pt x="22" y="791"/>
                  </a:lnTo>
                  <a:lnTo>
                    <a:pt x="28" y="774"/>
                  </a:lnTo>
                  <a:lnTo>
                    <a:pt x="35" y="757"/>
                  </a:lnTo>
                  <a:lnTo>
                    <a:pt x="42" y="739"/>
                  </a:lnTo>
                  <a:lnTo>
                    <a:pt x="51" y="722"/>
                  </a:lnTo>
                  <a:lnTo>
                    <a:pt x="59" y="705"/>
                  </a:lnTo>
                  <a:lnTo>
                    <a:pt x="69" y="688"/>
                  </a:lnTo>
                  <a:lnTo>
                    <a:pt x="79" y="672"/>
                  </a:lnTo>
                  <a:lnTo>
                    <a:pt x="90" y="655"/>
                  </a:lnTo>
                  <a:lnTo>
                    <a:pt x="105" y="634"/>
                  </a:lnTo>
                  <a:lnTo>
                    <a:pt x="121" y="613"/>
                  </a:lnTo>
                  <a:lnTo>
                    <a:pt x="137" y="593"/>
                  </a:lnTo>
                  <a:lnTo>
                    <a:pt x="153" y="575"/>
                  </a:lnTo>
                  <a:lnTo>
                    <a:pt x="171" y="558"/>
                  </a:lnTo>
                  <a:lnTo>
                    <a:pt x="188" y="542"/>
                  </a:lnTo>
                  <a:lnTo>
                    <a:pt x="208" y="526"/>
                  </a:lnTo>
                  <a:lnTo>
                    <a:pt x="227" y="511"/>
                  </a:lnTo>
                  <a:lnTo>
                    <a:pt x="246" y="498"/>
                  </a:lnTo>
                  <a:lnTo>
                    <a:pt x="266" y="487"/>
                  </a:lnTo>
                  <a:lnTo>
                    <a:pt x="284" y="475"/>
                  </a:lnTo>
                  <a:lnTo>
                    <a:pt x="304" y="466"/>
                  </a:lnTo>
                  <a:lnTo>
                    <a:pt x="322" y="458"/>
                  </a:lnTo>
                  <a:lnTo>
                    <a:pt x="341" y="451"/>
                  </a:lnTo>
                  <a:lnTo>
                    <a:pt x="359" y="445"/>
                  </a:lnTo>
                  <a:lnTo>
                    <a:pt x="378" y="441"/>
                  </a:lnTo>
                  <a:lnTo>
                    <a:pt x="412" y="435"/>
                  </a:lnTo>
                  <a:lnTo>
                    <a:pt x="445" y="430"/>
                  </a:lnTo>
                  <a:lnTo>
                    <a:pt x="475" y="428"/>
                  </a:lnTo>
                  <a:lnTo>
                    <a:pt x="503" y="426"/>
                  </a:lnTo>
                  <a:lnTo>
                    <a:pt x="525" y="426"/>
                  </a:lnTo>
                  <a:lnTo>
                    <a:pt x="546" y="429"/>
                  </a:lnTo>
                  <a:lnTo>
                    <a:pt x="568" y="431"/>
                  </a:lnTo>
                  <a:lnTo>
                    <a:pt x="589" y="434"/>
                  </a:lnTo>
                  <a:lnTo>
                    <a:pt x="610" y="439"/>
                  </a:lnTo>
                  <a:lnTo>
                    <a:pt x="630" y="444"/>
                  </a:lnTo>
                  <a:lnTo>
                    <a:pt x="650" y="451"/>
                  </a:lnTo>
                  <a:lnTo>
                    <a:pt x="669" y="457"/>
                  </a:lnTo>
                  <a:lnTo>
                    <a:pt x="688" y="466"/>
                  </a:lnTo>
                  <a:lnTo>
                    <a:pt x="706" y="475"/>
                  </a:lnTo>
                  <a:lnTo>
                    <a:pt x="723" y="485"/>
                  </a:lnTo>
                  <a:lnTo>
                    <a:pt x="742" y="496"/>
                  </a:lnTo>
                  <a:lnTo>
                    <a:pt x="758" y="509"/>
                  </a:lnTo>
                  <a:lnTo>
                    <a:pt x="775" y="522"/>
                  </a:lnTo>
                  <a:lnTo>
                    <a:pt x="791" y="537"/>
                  </a:lnTo>
                  <a:lnTo>
                    <a:pt x="807" y="552"/>
                  </a:lnTo>
                  <a:lnTo>
                    <a:pt x="822" y="568"/>
                  </a:lnTo>
                  <a:lnTo>
                    <a:pt x="837" y="584"/>
                  </a:lnTo>
                  <a:lnTo>
                    <a:pt x="850" y="602"/>
                  </a:lnTo>
                  <a:lnTo>
                    <a:pt x="862" y="619"/>
                  </a:lnTo>
                  <a:lnTo>
                    <a:pt x="875" y="639"/>
                  </a:lnTo>
                  <a:lnTo>
                    <a:pt x="886" y="658"/>
                  </a:lnTo>
                  <a:lnTo>
                    <a:pt x="896" y="678"/>
                  </a:lnTo>
                  <a:lnTo>
                    <a:pt x="905" y="699"/>
                  </a:lnTo>
                  <a:lnTo>
                    <a:pt x="914" y="721"/>
                  </a:lnTo>
                  <a:lnTo>
                    <a:pt x="921" y="743"/>
                  </a:lnTo>
                  <a:lnTo>
                    <a:pt x="929" y="766"/>
                  </a:lnTo>
                  <a:lnTo>
                    <a:pt x="935" y="790"/>
                  </a:lnTo>
                  <a:lnTo>
                    <a:pt x="940" y="814"/>
                  </a:lnTo>
                  <a:lnTo>
                    <a:pt x="945" y="839"/>
                  </a:lnTo>
                  <a:lnTo>
                    <a:pt x="949" y="865"/>
                  </a:lnTo>
                  <a:lnTo>
                    <a:pt x="951" y="892"/>
                  </a:lnTo>
                  <a:lnTo>
                    <a:pt x="951" y="978"/>
                  </a:lnTo>
                  <a:close/>
                  <a:moveTo>
                    <a:pt x="354" y="360"/>
                  </a:moveTo>
                  <a:lnTo>
                    <a:pt x="530" y="0"/>
                  </a:lnTo>
                  <a:lnTo>
                    <a:pt x="881" y="0"/>
                  </a:lnTo>
                  <a:lnTo>
                    <a:pt x="518" y="360"/>
                  </a:lnTo>
                  <a:lnTo>
                    <a:pt x="354" y="360"/>
                  </a:lnTo>
                  <a:close/>
                  <a:moveTo>
                    <a:pt x="628" y="792"/>
                  </a:moveTo>
                  <a:lnTo>
                    <a:pt x="626" y="770"/>
                  </a:lnTo>
                  <a:lnTo>
                    <a:pt x="624" y="754"/>
                  </a:lnTo>
                  <a:lnTo>
                    <a:pt x="620" y="738"/>
                  </a:lnTo>
                  <a:lnTo>
                    <a:pt x="616" y="725"/>
                  </a:lnTo>
                  <a:lnTo>
                    <a:pt x="612" y="711"/>
                  </a:lnTo>
                  <a:lnTo>
                    <a:pt x="605" y="699"/>
                  </a:lnTo>
                  <a:lnTo>
                    <a:pt x="599" y="688"/>
                  </a:lnTo>
                  <a:lnTo>
                    <a:pt x="592" y="678"/>
                  </a:lnTo>
                  <a:lnTo>
                    <a:pt x="584" y="669"/>
                  </a:lnTo>
                  <a:lnTo>
                    <a:pt x="575" y="661"/>
                  </a:lnTo>
                  <a:lnTo>
                    <a:pt x="565" y="655"/>
                  </a:lnTo>
                  <a:lnTo>
                    <a:pt x="555" y="649"/>
                  </a:lnTo>
                  <a:lnTo>
                    <a:pt x="543" y="644"/>
                  </a:lnTo>
                  <a:lnTo>
                    <a:pt x="530" y="640"/>
                  </a:lnTo>
                  <a:lnTo>
                    <a:pt x="518" y="638"/>
                  </a:lnTo>
                  <a:lnTo>
                    <a:pt x="503" y="636"/>
                  </a:lnTo>
                  <a:lnTo>
                    <a:pt x="489" y="635"/>
                  </a:lnTo>
                  <a:lnTo>
                    <a:pt x="473" y="636"/>
                  </a:lnTo>
                  <a:lnTo>
                    <a:pt x="457" y="638"/>
                  </a:lnTo>
                  <a:lnTo>
                    <a:pt x="443" y="640"/>
                  </a:lnTo>
                  <a:lnTo>
                    <a:pt x="428" y="644"/>
                  </a:lnTo>
                  <a:lnTo>
                    <a:pt x="416" y="649"/>
                  </a:lnTo>
                  <a:lnTo>
                    <a:pt x="404" y="654"/>
                  </a:lnTo>
                  <a:lnTo>
                    <a:pt x="394" y="660"/>
                  </a:lnTo>
                  <a:lnTo>
                    <a:pt x="383" y="668"/>
                  </a:lnTo>
                  <a:lnTo>
                    <a:pt x="374" y="677"/>
                  </a:lnTo>
                  <a:lnTo>
                    <a:pt x="366" y="685"/>
                  </a:lnTo>
                  <a:lnTo>
                    <a:pt x="359" y="697"/>
                  </a:lnTo>
                  <a:lnTo>
                    <a:pt x="352" y="708"/>
                  </a:lnTo>
                  <a:lnTo>
                    <a:pt x="347" y="721"/>
                  </a:lnTo>
                  <a:lnTo>
                    <a:pt x="342" y="735"/>
                  </a:lnTo>
                  <a:lnTo>
                    <a:pt x="338" y="749"/>
                  </a:lnTo>
                  <a:lnTo>
                    <a:pt x="336" y="764"/>
                  </a:lnTo>
                  <a:lnTo>
                    <a:pt x="332" y="792"/>
                  </a:lnTo>
                  <a:lnTo>
                    <a:pt x="628" y="792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53920" y="762840"/>
              <a:ext cx="57240" cy="7956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0" y="431"/>
                  </a:lnTo>
                  <a:lnTo>
                    <a:pt x="690" y="420"/>
                  </a:lnTo>
                  <a:lnTo>
                    <a:pt x="674" y="409"/>
                  </a:lnTo>
                  <a:lnTo>
                    <a:pt x="662" y="400"/>
                  </a:lnTo>
                  <a:lnTo>
                    <a:pt x="652" y="393"/>
                  </a:lnTo>
                  <a:lnTo>
                    <a:pt x="646" y="387"/>
                  </a:lnTo>
                  <a:lnTo>
                    <a:pt x="641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1" y="321"/>
                  </a:lnTo>
                  <a:lnTo>
                    <a:pt x="641" y="305"/>
                  </a:lnTo>
                  <a:lnTo>
                    <a:pt x="640" y="291"/>
                  </a:lnTo>
                  <a:lnTo>
                    <a:pt x="639" y="281"/>
                  </a:lnTo>
                  <a:lnTo>
                    <a:pt x="636" y="273"/>
                  </a:lnTo>
                  <a:lnTo>
                    <a:pt x="631" y="264"/>
                  </a:lnTo>
                  <a:lnTo>
                    <a:pt x="625" y="256"/>
                  </a:lnTo>
                  <a:lnTo>
                    <a:pt x="618" y="246"/>
                  </a:lnTo>
                  <a:lnTo>
                    <a:pt x="607" y="235"/>
                  </a:lnTo>
                  <a:lnTo>
                    <a:pt x="599" y="227"/>
                  </a:lnTo>
                  <a:lnTo>
                    <a:pt x="591" y="221"/>
                  </a:lnTo>
                  <a:lnTo>
                    <a:pt x="581" y="216"/>
                  </a:lnTo>
                  <a:lnTo>
                    <a:pt x="571" y="213"/>
                  </a:lnTo>
                  <a:lnTo>
                    <a:pt x="561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4" y="205"/>
                  </a:lnTo>
                  <a:lnTo>
                    <a:pt x="518" y="205"/>
                  </a:lnTo>
                  <a:lnTo>
                    <a:pt x="510" y="206"/>
                  </a:lnTo>
                  <a:lnTo>
                    <a:pt x="500" y="208"/>
                  </a:lnTo>
                  <a:lnTo>
                    <a:pt x="486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4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1" y="265"/>
                  </a:lnTo>
                  <a:lnTo>
                    <a:pt x="404" y="276"/>
                  </a:lnTo>
                  <a:lnTo>
                    <a:pt x="397" y="288"/>
                  </a:lnTo>
                  <a:lnTo>
                    <a:pt x="382" y="313"/>
                  </a:lnTo>
                  <a:lnTo>
                    <a:pt x="368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5" y="415"/>
                  </a:lnTo>
                  <a:lnTo>
                    <a:pt x="340" y="432"/>
                  </a:lnTo>
                  <a:lnTo>
                    <a:pt x="336" y="447"/>
                  </a:lnTo>
                  <a:lnTo>
                    <a:pt x="330" y="478"/>
                  </a:lnTo>
                  <a:lnTo>
                    <a:pt x="326" y="507"/>
                  </a:lnTo>
                  <a:lnTo>
                    <a:pt x="324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8" y="631"/>
                  </a:lnTo>
                  <a:lnTo>
                    <a:pt x="330" y="647"/>
                  </a:lnTo>
                  <a:lnTo>
                    <a:pt x="333" y="662"/>
                  </a:lnTo>
                  <a:lnTo>
                    <a:pt x="336" y="676"/>
                  </a:lnTo>
                  <a:lnTo>
                    <a:pt x="341" y="689"/>
                  </a:lnTo>
                  <a:lnTo>
                    <a:pt x="346" y="703"/>
                  </a:lnTo>
                  <a:lnTo>
                    <a:pt x="351" y="715"/>
                  </a:lnTo>
                  <a:lnTo>
                    <a:pt x="357" y="727"/>
                  </a:lnTo>
                  <a:lnTo>
                    <a:pt x="363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7" y="770"/>
                  </a:lnTo>
                  <a:lnTo>
                    <a:pt x="395" y="780"/>
                  </a:lnTo>
                  <a:lnTo>
                    <a:pt x="404" y="787"/>
                  </a:lnTo>
                  <a:lnTo>
                    <a:pt x="412" y="796"/>
                  </a:lnTo>
                  <a:lnTo>
                    <a:pt x="422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2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6" y="839"/>
                  </a:lnTo>
                  <a:lnTo>
                    <a:pt x="521" y="844"/>
                  </a:lnTo>
                  <a:lnTo>
                    <a:pt x="547" y="846"/>
                  </a:lnTo>
                  <a:lnTo>
                    <a:pt x="574" y="847"/>
                  </a:lnTo>
                  <a:lnTo>
                    <a:pt x="603" y="847"/>
                  </a:lnTo>
                  <a:lnTo>
                    <a:pt x="629" y="844"/>
                  </a:lnTo>
                  <a:lnTo>
                    <a:pt x="640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8" y="833"/>
                  </a:lnTo>
                  <a:lnTo>
                    <a:pt x="684" y="824"/>
                  </a:lnTo>
                  <a:lnTo>
                    <a:pt x="703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5" y="738"/>
                  </a:lnTo>
                  <a:lnTo>
                    <a:pt x="784" y="728"/>
                  </a:lnTo>
                  <a:lnTo>
                    <a:pt x="794" y="721"/>
                  </a:lnTo>
                  <a:lnTo>
                    <a:pt x="801" y="716"/>
                  </a:lnTo>
                  <a:lnTo>
                    <a:pt x="810" y="714"/>
                  </a:lnTo>
                  <a:lnTo>
                    <a:pt x="820" y="711"/>
                  </a:lnTo>
                  <a:lnTo>
                    <a:pt x="834" y="710"/>
                  </a:lnTo>
                  <a:lnTo>
                    <a:pt x="855" y="710"/>
                  </a:lnTo>
                  <a:lnTo>
                    <a:pt x="881" y="709"/>
                  </a:lnTo>
                  <a:lnTo>
                    <a:pt x="901" y="709"/>
                  </a:lnTo>
                  <a:lnTo>
                    <a:pt x="901" y="998"/>
                  </a:lnTo>
                  <a:lnTo>
                    <a:pt x="845" y="1018"/>
                  </a:lnTo>
                  <a:lnTo>
                    <a:pt x="812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6" y="1048"/>
                  </a:lnTo>
                  <a:lnTo>
                    <a:pt x="686" y="1051"/>
                  </a:lnTo>
                  <a:lnTo>
                    <a:pt x="655" y="1055"/>
                  </a:lnTo>
                  <a:lnTo>
                    <a:pt x="625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2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4" y="1033"/>
                  </a:lnTo>
                  <a:lnTo>
                    <a:pt x="390" y="1027"/>
                  </a:lnTo>
                  <a:lnTo>
                    <a:pt x="368" y="1019"/>
                  </a:lnTo>
                  <a:lnTo>
                    <a:pt x="346" y="1013"/>
                  </a:lnTo>
                  <a:lnTo>
                    <a:pt x="325" y="1006"/>
                  </a:lnTo>
                  <a:lnTo>
                    <a:pt x="304" y="997"/>
                  </a:lnTo>
                  <a:lnTo>
                    <a:pt x="285" y="989"/>
                  </a:lnTo>
                  <a:lnTo>
                    <a:pt x="266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3" y="949"/>
                  </a:lnTo>
                  <a:lnTo>
                    <a:pt x="197" y="938"/>
                  </a:lnTo>
                  <a:lnTo>
                    <a:pt x="182" y="927"/>
                  </a:lnTo>
                  <a:lnTo>
                    <a:pt x="168" y="915"/>
                  </a:lnTo>
                  <a:lnTo>
                    <a:pt x="153" y="903"/>
                  </a:lnTo>
                  <a:lnTo>
                    <a:pt x="141" y="889"/>
                  </a:lnTo>
                  <a:lnTo>
                    <a:pt x="127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3" y="815"/>
                  </a:lnTo>
                  <a:lnTo>
                    <a:pt x="73" y="798"/>
                  </a:lnTo>
                  <a:lnTo>
                    <a:pt x="63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20" y="664"/>
                  </a:lnTo>
                  <a:lnTo>
                    <a:pt x="14" y="644"/>
                  </a:lnTo>
                  <a:lnTo>
                    <a:pt x="10" y="621"/>
                  </a:lnTo>
                  <a:lnTo>
                    <a:pt x="7" y="598"/>
                  </a:lnTo>
                  <a:lnTo>
                    <a:pt x="4" y="579"/>
                  </a:lnTo>
                  <a:lnTo>
                    <a:pt x="2" y="563"/>
                  </a:lnTo>
                  <a:lnTo>
                    <a:pt x="0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0" y="484"/>
                  </a:lnTo>
                  <a:lnTo>
                    <a:pt x="4" y="451"/>
                  </a:lnTo>
                  <a:lnTo>
                    <a:pt x="10" y="416"/>
                  </a:lnTo>
                  <a:lnTo>
                    <a:pt x="18" y="383"/>
                  </a:lnTo>
                  <a:lnTo>
                    <a:pt x="24" y="364"/>
                  </a:lnTo>
                  <a:lnTo>
                    <a:pt x="30" y="344"/>
                  </a:lnTo>
                  <a:lnTo>
                    <a:pt x="37" y="324"/>
                  </a:lnTo>
                  <a:lnTo>
                    <a:pt x="45" y="306"/>
                  </a:lnTo>
                  <a:lnTo>
                    <a:pt x="52" y="289"/>
                  </a:lnTo>
                  <a:lnTo>
                    <a:pt x="62" y="270"/>
                  </a:lnTo>
                  <a:lnTo>
                    <a:pt x="71" y="254"/>
                  </a:lnTo>
                  <a:lnTo>
                    <a:pt x="80" y="237"/>
                  </a:lnTo>
                  <a:lnTo>
                    <a:pt x="91" y="221"/>
                  </a:lnTo>
                  <a:lnTo>
                    <a:pt x="103" y="205"/>
                  </a:lnTo>
                  <a:lnTo>
                    <a:pt x="114" y="191"/>
                  </a:lnTo>
                  <a:lnTo>
                    <a:pt x="126" y="176"/>
                  </a:lnTo>
                  <a:lnTo>
                    <a:pt x="138" y="161"/>
                  </a:lnTo>
                  <a:lnTo>
                    <a:pt x="152" y="148"/>
                  </a:lnTo>
                  <a:lnTo>
                    <a:pt x="165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5" y="57"/>
                  </a:lnTo>
                  <a:lnTo>
                    <a:pt x="291" y="48"/>
                  </a:lnTo>
                  <a:lnTo>
                    <a:pt x="309" y="41"/>
                  </a:lnTo>
                  <a:lnTo>
                    <a:pt x="326" y="33"/>
                  </a:lnTo>
                  <a:lnTo>
                    <a:pt x="345" y="27"/>
                  </a:lnTo>
                  <a:lnTo>
                    <a:pt x="362" y="22"/>
                  </a:lnTo>
                  <a:lnTo>
                    <a:pt x="382" y="17"/>
                  </a:lnTo>
                  <a:lnTo>
                    <a:pt x="400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5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4" y="0"/>
                  </a:lnTo>
                  <a:lnTo>
                    <a:pt x="555" y="0"/>
                  </a:lnTo>
                  <a:lnTo>
                    <a:pt x="586" y="3"/>
                  </a:lnTo>
                  <a:lnTo>
                    <a:pt x="615" y="8"/>
                  </a:lnTo>
                  <a:lnTo>
                    <a:pt x="645" y="14"/>
                  </a:lnTo>
                  <a:lnTo>
                    <a:pt x="673" y="21"/>
                  </a:lnTo>
                  <a:lnTo>
                    <a:pt x="700" y="30"/>
                  </a:lnTo>
                  <a:lnTo>
                    <a:pt x="727" y="41"/>
                  </a:lnTo>
                  <a:lnTo>
                    <a:pt x="754" y="53"/>
                  </a:lnTo>
                  <a:lnTo>
                    <a:pt x="780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9" y="117"/>
                  </a:lnTo>
                  <a:lnTo>
                    <a:pt x="869" y="136"/>
                  </a:lnTo>
                  <a:lnTo>
                    <a:pt x="887" y="156"/>
                  </a:lnTo>
                  <a:lnTo>
                    <a:pt x="906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16560" y="761040"/>
              <a:ext cx="68400" cy="7956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1" y="977"/>
                  </a:lnTo>
                  <a:lnTo>
                    <a:pt x="4" y="970"/>
                  </a:lnTo>
                  <a:lnTo>
                    <a:pt x="6" y="962"/>
                  </a:lnTo>
                  <a:lnTo>
                    <a:pt x="11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2" y="938"/>
                  </a:lnTo>
                  <a:lnTo>
                    <a:pt x="68" y="929"/>
                  </a:lnTo>
                  <a:lnTo>
                    <a:pt x="71" y="927"/>
                  </a:lnTo>
                  <a:lnTo>
                    <a:pt x="75" y="922"/>
                  </a:lnTo>
                  <a:lnTo>
                    <a:pt x="78" y="914"/>
                  </a:lnTo>
                  <a:lnTo>
                    <a:pt x="81" y="906"/>
                  </a:lnTo>
                  <a:lnTo>
                    <a:pt x="81" y="897"/>
                  </a:lnTo>
                  <a:lnTo>
                    <a:pt x="81" y="867"/>
                  </a:lnTo>
                  <a:lnTo>
                    <a:pt x="81" y="853"/>
                  </a:lnTo>
                  <a:lnTo>
                    <a:pt x="81" y="262"/>
                  </a:lnTo>
                  <a:lnTo>
                    <a:pt x="81" y="234"/>
                  </a:lnTo>
                  <a:lnTo>
                    <a:pt x="81" y="210"/>
                  </a:lnTo>
                  <a:lnTo>
                    <a:pt x="75" y="185"/>
                  </a:lnTo>
                  <a:lnTo>
                    <a:pt x="68" y="173"/>
                  </a:lnTo>
                  <a:lnTo>
                    <a:pt x="38" y="167"/>
                  </a:lnTo>
                  <a:lnTo>
                    <a:pt x="26" y="162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3" y="132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10" y="99"/>
                  </a:lnTo>
                  <a:lnTo>
                    <a:pt x="423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4" y="60"/>
                  </a:lnTo>
                  <a:lnTo>
                    <a:pt x="487" y="54"/>
                  </a:lnTo>
                  <a:lnTo>
                    <a:pt x="502" y="48"/>
                  </a:lnTo>
                  <a:lnTo>
                    <a:pt x="530" y="37"/>
                  </a:lnTo>
                  <a:lnTo>
                    <a:pt x="559" y="25"/>
                  </a:lnTo>
                  <a:lnTo>
                    <a:pt x="584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3" y="0"/>
                  </a:lnTo>
                  <a:lnTo>
                    <a:pt x="734" y="0"/>
                  </a:lnTo>
                  <a:lnTo>
                    <a:pt x="743" y="0"/>
                  </a:lnTo>
                  <a:lnTo>
                    <a:pt x="752" y="1"/>
                  </a:lnTo>
                  <a:lnTo>
                    <a:pt x="787" y="6"/>
                  </a:lnTo>
                  <a:lnTo>
                    <a:pt x="821" y="13"/>
                  </a:lnTo>
                  <a:lnTo>
                    <a:pt x="837" y="17"/>
                  </a:lnTo>
                  <a:lnTo>
                    <a:pt x="851" y="22"/>
                  </a:lnTo>
                  <a:lnTo>
                    <a:pt x="866" y="27"/>
                  </a:lnTo>
                  <a:lnTo>
                    <a:pt x="880" y="32"/>
                  </a:lnTo>
                  <a:lnTo>
                    <a:pt x="892" y="38"/>
                  </a:lnTo>
                  <a:lnTo>
                    <a:pt x="905" y="45"/>
                  </a:lnTo>
                  <a:lnTo>
                    <a:pt x="916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8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6" y="104"/>
                  </a:lnTo>
                  <a:lnTo>
                    <a:pt x="983" y="114"/>
                  </a:lnTo>
                  <a:lnTo>
                    <a:pt x="990" y="126"/>
                  </a:lnTo>
                  <a:lnTo>
                    <a:pt x="996" y="137"/>
                  </a:lnTo>
                  <a:lnTo>
                    <a:pt x="1003" y="149"/>
                  </a:lnTo>
                  <a:lnTo>
                    <a:pt x="1008" y="163"/>
                  </a:lnTo>
                  <a:lnTo>
                    <a:pt x="1012" y="176"/>
                  </a:lnTo>
                  <a:lnTo>
                    <a:pt x="1017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3" y="291"/>
                  </a:lnTo>
                  <a:lnTo>
                    <a:pt x="1035" y="329"/>
                  </a:lnTo>
                  <a:lnTo>
                    <a:pt x="1035" y="851"/>
                  </a:lnTo>
                  <a:lnTo>
                    <a:pt x="1035" y="865"/>
                  </a:lnTo>
                  <a:lnTo>
                    <a:pt x="1035" y="874"/>
                  </a:lnTo>
                  <a:lnTo>
                    <a:pt x="1035" y="896"/>
                  </a:lnTo>
                  <a:lnTo>
                    <a:pt x="1036" y="907"/>
                  </a:lnTo>
                  <a:lnTo>
                    <a:pt x="1038" y="914"/>
                  </a:lnTo>
                  <a:lnTo>
                    <a:pt x="1042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5" y="941"/>
                  </a:lnTo>
                  <a:lnTo>
                    <a:pt x="1092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8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6" y="975"/>
                  </a:lnTo>
                  <a:lnTo>
                    <a:pt x="637" y="967"/>
                  </a:lnTo>
                  <a:lnTo>
                    <a:pt x="641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8" y="944"/>
                  </a:lnTo>
                  <a:lnTo>
                    <a:pt x="667" y="939"/>
                  </a:lnTo>
                  <a:lnTo>
                    <a:pt x="675" y="935"/>
                  </a:lnTo>
                  <a:lnTo>
                    <a:pt x="690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5" y="276"/>
                  </a:lnTo>
                  <a:lnTo>
                    <a:pt x="680" y="267"/>
                  </a:lnTo>
                  <a:lnTo>
                    <a:pt x="675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7" y="238"/>
                  </a:lnTo>
                  <a:lnTo>
                    <a:pt x="650" y="232"/>
                  </a:lnTo>
                  <a:lnTo>
                    <a:pt x="641" y="227"/>
                  </a:lnTo>
                  <a:lnTo>
                    <a:pt x="632" y="223"/>
                  </a:lnTo>
                  <a:lnTo>
                    <a:pt x="624" y="219"/>
                  </a:lnTo>
                  <a:lnTo>
                    <a:pt x="614" y="217"/>
                  </a:lnTo>
                  <a:lnTo>
                    <a:pt x="604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7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9" y="227"/>
                  </a:lnTo>
                  <a:lnTo>
                    <a:pt x="502" y="234"/>
                  </a:lnTo>
                  <a:lnTo>
                    <a:pt x="486" y="243"/>
                  </a:lnTo>
                  <a:lnTo>
                    <a:pt x="469" y="253"/>
                  </a:lnTo>
                  <a:lnTo>
                    <a:pt x="450" y="265"/>
                  </a:lnTo>
                  <a:lnTo>
                    <a:pt x="413" y="296"/>
                  </a:lnTo>
                  <a:lnTo>
                    <a:pt x="413" y="853"/>
                  </a:lnTo>
                  <a:lnTo>
                    <a:pt x="413" y="867"/>
                  </a:lnTo>
                  <a:lnTo>
                    <a:pt x="413" y="889"/>
                  </a:lnTo>
                  <a:lnTo>
                    <a:pt x="413" y="898"/>
                  </a:lnTo>
                  <a:lnTo>
                    <a:pt x="417" y="908"/>
                  </a:lnTo>
                  <a:lnTo>
                    <a:pt x="421" y="914"/>
                  </a:lnTo>
                  <a:lnTo>
                    <a:pt x="424" y="921"/>
                  </a:lnTo>
                  <a:lnTo>
                    <a:pt x="431" y="925"/>
                  </a:lnTo>
                  <a:lnTo>
                    <a:pt x="438" y="929"/>
                  </a:lnTo>
                  <a:lnTo>
                    <a:pt x="452" y="935"/>
                  </a:lnTo>
                  <a:lnTo>
                    <a:pt x="461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2" y="955"/>
                  </a:lnTo>
                  <a:lnTo>
                    <a:pt x="486" y="961"/>
                  </a:lnTo>
                  <a:lnTo>
                    <a:pt x="490" y="967"/>
                  </a:lnTo>
                  <a:lnTo>
                    <a:pt x="491" y="975"/>
                  </a:lnTo>
                  <a:lnTo>
                    <a:pt x="492" y="982"/>
                  </a:lnTo>
                  <a:lnTo>
                    <a:pt x="492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87480" y="726840"/>
              <a:ext cx="32760" cy="11340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1" y="1427"/>
                  </a:lnTo>
                  <a:lnTo>
                    <a:pt x="2" y="1422"/>
                  </a:lnTo>
                  <a:lnTo>
                    <a:pt x="5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4" y="1398"/>
                  </a:lnTo>
                  <a:lnTo>
                    <a:pt x="49" y="1387"/>
                  </a:lnTo>
                  <a:lnTo>
                    <a:pt x="63" y="1381"/>
                  </a:lnTo>
                  <a:lnTo>
                    <a:pt x="69" y="1379"/>
                  </a:lnTo>
                  <a:lnTo>
                    <a:pt x="72" y="1375"/>
                  </a:lnTo>
                  <a:lnTo>
                    <a:pt x="77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5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3" y="621"/>
                  </a:lnTo>
                  <a:lnTo>
                    <a:pt x="49" y="617"/>
                  </a:lnTo>
                  <a:lnTo>
                    <a:pt x="36" y="609"/>
                  </a:lnTo>
                  <a:lnTo>
                    <a:pt x="27" y="605"/>
                  </a:lnTo>
                  <a:lnTo>
                    <a:pt x="20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2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2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7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8" y="1381"/>
                  </a:lnTo>
                  <a:lnTo>
                    <a:pt x="476" y="1387"/>
                  </a:lnTo>
                  <a:lnTo>
                    <a:pt x="491" y="1391"/>
                  </a:lnTo>
                  <a:lnTo>
                    <a:pt x="497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10" y="1409"/>
                  </a:lnTo>
                  <a:lnTo>
                    <a:pt x="513" y="1416"/>
                  </a:lnTo>
                  <a:lnTo>
                    <a:pt x="515" y="1422"/>
                  </a:lnTo>
                  <a:lnTo>
                    <a:pt x="516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9" y="199"/>
                  </a:moveTo>
                  <a:lnTo>
                    <a:pt x="49" y="179"/>
                  </a:lnTo>
                  <a:lnTo>
                    <a:pt x="52" y="159"/>
                  </a:lnTo>
                  <a:lnTo>
                    <a:pt x="56" y="141"/>
                  </a:lnTo>
                  <a:lnTo>
                    <a:pt x="63" y="123"/>
                  </a:lnTo>
                  <a:lnTo>
                    <a:pt x="71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6" y="59"/>
                  </a:lnTo>
                  <a:lnTo>
                    <a:pt x="120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6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2" y="15"/>
                  </a:lnTo>
                  <a:lnTo>
                    <a:pt x="339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8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40" y="258"/>
                  </a:lnTo>
                  <a:lnTo>
                    <a:pt x="434" y="276"/>
                  </a:lnTo>
                  <a:lnTo>
                    <a:pt x="425" y="293"/>
                  </a:lnTo>
                  <a:lnTo>
                    <a:pt x="416" y="309"/>
                  </a:lnTo>
                  <a:lnTo>
                    <a:pt x="405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10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50" y="399"/>
                  </a:lnTo>
                  <a:lnTo>
                    <a:pt x="230" y="398"/>
                  </a:lnTo>
                  <a:lnTo>
                    <a:pt x="209" y="395"/>
                  </a:lnTo>
                  <a:lnTo>
                    <a:pt x="191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8" y="367"/>
                  </a:lnTo>
                  <a:lnTo>
                    <a:pt x="122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3" y="277"/>
                  </a:lnTo>
                  <a:lnTo>
                    <a:pt x="56" y="259"/>
                  </a:lnTo>
                  <a:lnTo>
                    <a:pt x="52" y="240"/>
                  </a:lnTo>
                  <a:lnTo>
                    <a:pt x="49" y="220"/>
                  </a:lnTo>
                  <a:lnTo>
                    <a:pt x="49" y="199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24200" y="762840"/>
              <a:ext cx="57240" cy="7956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1" y="431"/>
                  </a:lnTo>
                  <a:lnTo>
                    <a:pt x="691" y="420"/>
                  </a:lnTo>
                  <a:lnTo>
                    <a:pt x="675" y="409"/>
                  </a:lnTo>
                  <a:lnTo>
                    <a:pt x="661" y="400"/>
                  </a:lnTo>
                  <a:lnTo>
                    <a:pt x="653" y="393"/>
                  </a:lnTo>
                  <a:lnTo>
                    <a:pt x="647" y="387"/>
                  </a:lnTo>
                  <a:lnTo>
                    <a:pt x="640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2" y="321"/>
                  </a:lnTo>
                  <a:lnTo>
                    <a:pt x="642" y="305"/>
                  </a:lnTo>
                  <a:lnTo>
                    <a:pt x="640" y="291"/>
                  </a:lnTo>
                  <a:lnTo>
                    <a:pt x="638" y="281"/>
                  </a:lnTo>
                  <a:lnTo>
                    <a:pt x="636" y="273"/>
                  </a:lnTo>
                  <a:lnTo>
                    <a:pt x="632" y="264"/>
                  </a:lnTo>
                  <a:lnTo>
                    <a:pt x="626" y="256"/>
                  </a:lnTo>
                  <a:lnTo>
                    <a:pt x="617" y="246"/>
                  </a:lnTo>
                  <a:lnTo>
                    <a:pt x="606" y="235"/>
                  </a:lnTo>
                  <a:lnTo>
                    <a:pt x="599" y="227"/>
                  </a:lnTo>
                  <a:lnTo>
                    <a:pt x="590" y="221"/>
                  </a:lnTo>
                  <a:lnTo>
                    <a:pt x="581" y="216"/>
                  </a:lnTo>
                  <a:lnTo>
                    <a:pt x="572" y="213"/>
                  </a:lnTo>
                  <a:lnTo>
                    <a:pt x="560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5" y="205"/>
                  </a:lnTo>
                  <a:lnTo>
                    <a:pt x="519" y="205"/>
                  </a:lnTo>
                  <a:lnTo>
                    <a:pt x="510" y="206"/>
                  </a:lnTo>
                  <a:lnTo>
                    <a:pt x="499" y="208"/>
                  </a:lnTo>
                  <a:lnTo>
                    <a:pt x="487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5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2" y="265"/>
                  </a:lnTo>
                  <a:lnTo>
                    <a:pt x="403" y="276"/>
                  </a:lnTo>
                  <a:lnTo>
                    <a:pt x="396" y="288"/>
                  </a:lnTo>
                  <a:lnTo>
                    <a:pt x="382" y="313"/>
                  </a:lnTo>
                  <a:lnTo>
                    <a:pt x="367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4" y="415"/>
                  </a:lnTo>
                  <a:lnTo>
                    <a:pt x="340" y="432"/>
                  </a:lnTo>
                  <a:lnTo>
                    <a:pt x="337" y="447"/>
                  </a:lnTo>
                  <a:lnTo>
                    <a:pt x="330" y="478"/>
                  </a:lnTo>
                  <a:lnTo>
                    <a:pt x="327" y="507"/>
                  </a:lnTo>
                  <a:lnTo>
                    <a:pt x="323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7" y="631"/>
                  </a:lnTo>
                  <a:lnTo>
                    <a:pt x="329" y="647"/>
                  </a:lnTo>
                  <a:lnTo>
                    <a:pt x="333" y="662"/>
                  </a:lnTo>
                  <a:lnTo>
                    <a:pt x="337" y="676"/>
                  </a:lnTo>
                  <a:lnTo>
                    <a:pt x="340" y="689"/>
                  </a:lnTo>
                  <a:lnTo>
                    <a:pt x="345" y="703"/>
                  </a:lnTo>
                  <a:lnTo>
                    <a:pt x="351" y="715"/>
                  </a:lnTo>
                  <a:lnTo>
                    <a:pt x="356" y="727"/>
                  </a:lnTo>
                  <a:lnTo>
                    <a:pt x="364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6" y="770"/>
                  </a:lnTo>
                  <a:lnTo>
                    <a:pt x="396" y="780"/>
                  </a:lnTo>
                  <a:lnTo>
                    <a:pt x="403" y="787"/>
                  </a:lnTo>
                  <a:lnTo>
                    <a:pt x="413" y="796"/>
                  </a:lnTo>
                  <a:lnTo>
                    <a:pt x="421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1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5" y="839"/>
                  </a:lnTo>
                  <a:lnTo>
                    <a:pt x="520" y="844"/>
                  </a:lnTo>
                  <a:lnTo>
                    <a:pt x="546" y="846"/>
                  </a:lnTo>
                  <a:lnTo>
                    <a:pt x="573" y="847"/>
                  </a:lnTo>
                  <a:lnTo>
                    <a:pt x="602" y="847"/>
                  </a:lnTo>
                  <a:lnTo>
                    <a:pt x="628" y="844"/>
                  </a:lnTo>
                  <a:lnTo>
                    <a:pt x="639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9" y="833"/>
                  </a:lnTo>
                  <a:lnTo>
                    <a:pt x="685" y="824"/>
                  </a:lnTo>
                  <a:lnTo>
                    <a:pt x="702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4" y="738"/>
                  </a:lnTo>
                  <a:lnTo>
                    <a:pt x="784" y="728"/>
                  </a:lnTo>
                  <a:lnTo>
                    <a:pt x="793" y="721"/>
                  </a:lnTo>
                  <a:lnTo>
                    <a:pt x="802" y="716"/>
                  </a:lnTo>
                  <a:lnTo>
                    <a:pt x="809" y="714"/>
                  </a:lnTo>
                  <a:lnTo>
                    <a:pt x="819" y="711"/>
                  </a:lnTo>
                  <a:lnTo>
                    <a:pt x="835" y="710"/>
                  </a:lnTo>
                  <a:lnTo>
                    <a:pt x="854" y="710"/>
                  </a:lnTo>
                  <a:lnTo>
                    <a:pt x="880" y="709"/>
                  </a:lnTo>
                  <a:lnTo>
                    <a:pt x="900" y="709"/>
                  </a:lnTo>
                  <a:lnTo>
                    <a:pt x="900" y="998"/>
                  </a:lnTo>
                  <a:lnTo>
                    <a:pt x="846" y="1018"/>
                  </a:lnTo>
                  <a:lnTo>
                    <a:pt x="811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5" y="1048"/>
                  </a:lnTo>
                  <a:lnTo>
                    <a:pt x="685" y="1051"/>
                  </a:lnTo>
                  <a:lnTo>
                    <a:pt x="655" y="1055"/>
                  </a:lnTo>
                  <a:lnTo>
                    <a:pt x="626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3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3" y="1033"/>
                  </a:lnTo>
                  <a:lnTo>
                    <a:pt x="390" y="1027"/>
                  </a:lnTo>
                  <a:lnTo>
                    <a:pt x="367" y="1019"/>
                  </a:lnTo>
                  <a:lnTo>
                    <a:pt x="345" y="1013"/>
                  </a:lnTo>
                  <a:lnTo>
                    <a:pt x="324" y="1006"/>
                  </a:lnTo>
                  <a:lnTo>
                    <a:pt x="305" y="997"/>
                  </a:lnTo>
                  <a:lnTo>
                    <a:pt x="285" y="989"/>
                  </a:lnTo>
                  <a:lnTo>
                    <a:pt x="265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4" y="949"/>
                  </a:lnTo>
                  <a:lnTo>
                    <a:pt x="198" y="938"/>
                  </a:lnTo>
                  <a:lnTo>
                    <a:pt x="182" y="927"/>
                  </a:lnTo>
                  <a:lnTo>
                    <a:pt x="167" y="915"/>
                  </a:lnTo>
                  <a:lnTo>
                    <a:pt x="153" y="903"/>
                  </a:lnTo>
                  <a:lnTo>
                    <a:pt x="140" y="889"/>
                  </a:lnTo>
                  <a:lnTo>
                    <a:pt x="128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2" y="815"/>
                  </a:lnTo>
                  <a:lnTo>
                    <a:pt x="72" y="798"/>
                  </a:lnTo>
                  <a:lnTo>
                    <a:pt x="64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19" y="664"/>
                  </a:lnTo>
                  <a:lnTo>
                    <a:pt x="14" y="644"/>
                  </a:lnTo>
                  <a:lnTo>
                    <a:pt x="9" y="621"/>
                  </a:lnTo>
                  <a:lnTo>
                    <a:pt x="6" y="598"/>
                  </a:lnTo>
                  <a:lnTo>
                    <a:pt x="3" y="579"/>
                  </a:lnTo>
                  <a:lnTo>
                    <a:pt x="2" y="563"/>
                  </a:lnTo>
                  <a:lnTo>
                    <a:pt x="1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1" y="484"/>
                  </a:lnTo>
                  <a:lnTo>
                    <a:pt x="5" y="451"/>
                  </a:lnTo>
                  <a:lnTo>
                    <a:pt x="9" y="416"/>
                  </a:lnTo>
                  <a:lnTo>
                    <a:pt x="17" y="383"/>
                  </a:lnTo>
                  <a:lnTo>
                    <a:pt x="23" y="364"/>
                  </a:lnTo>
                  <a:lnTo>
                    <a:pt x="29" y="344"/>
                  </a:lnTo>
                  <a:lnTo>
                    <a:pt x="36" y="324"/>
                  </a:lnTo>
                  <a:lnTo>
                    <a:pt x="44" y="306"/>
                  </a:lnTo>
                  <a:lnTo>
                    <a:pt x="52" y="289"/>
                  </a:lnTo>
                  <a:lnTo>
                    <a:pt x="61" y="270"/>
                  </a:lnTo>
                  <a:lnTo>
                    <a:pt x="71" y="254"/>
                  </a:lnTo>
                  <a:lnTo>
                    <a:pt x="81" y="237"/>
                  </a:lnTo>
                  <a:lnTo>
                    <a:pt x="91" y="221"/>
                  </a:lnTo>
                  <a:lnTo>
                    <a:pt x="102" y="205"/>
                  </a:lnTo>
                  <a:lnTo>
                    <a:pt x="114" y="191"/>
                  </a:lnTo>
                  <a:lnTo>
                    <a:pt x="125" y="176"/>
                  </a:lnTo>
                  <a:lnTo>
                    <a:pt x="139" y="161"/>
                  </a:lnTo>
                  <a:lnTo>
                    <a:pt x="152" y="148"/>
                  </a:lnTo>
                  <a:lnTo>
                    <a:pt x="166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4" y="57"/>
                  </a:lnTo>
                  <a:lnTo>
                    <a:pt x="291" y="48"/>
                  </a:lnTo>
                  <a:lnTo>
                    <a:pt x="308" y="41"/>
                  </a:lnTo>
                  <a:lnTo>
                    <a:pt x="327" y="33"/>
                  </a:lnTo>
                  <a:lnTo>
                    <a:pt x="344" y="27"/>
                  </a:lnTo>
                  <a:lnTo>
                    <a:pt x="362" y="22"/>
                  </a:lnTo>
                  <a:lnTo>
                    <a:pt x="381" y="17"/>
                  </a:lnTo>
                  <a:lnTo>
                    <a:pt x="401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6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5" y="0"/>
                  </a:lnTo>
                  <a:lnTo>
                    <a:pt x="556" y="0"/>
                  </a:lnTo>
                  <a:lnTo>
                    <a:pt x="585" y="3"/>
                  </a:lnTo>
                  <a:lnTo>
                    <a:pt x="616" y="8"/>
                  </a:lnTo>
                  <a:lnTo>
                    <a:pt x="644" y="14"/>
                  </a:lnTo>
                  <a:lnTo>
                    <a:pt x="672" y="21"/>
                  </a:lnTo>
                  <a:lnTo>
                    <a:pt x="701" y="30"/>
                  </a:lnTo>
                  <a:lnTo>
                    <a:pt x="728" y="41"/>
                  </a:lnTo>
                  <a:lnTo>
                    <a:pt x="755" y="53"/>
                  </a:lnTo>
                  <a:lnTo>
                    <a:pt x="779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8" y="117"/>
                  </a:lnTo>
                  <a:lnTo>
                    <a:pt x="869" y="136"/>
                  </a:lnTo>
                  <a:lnTo>
                    <a:pt x="888" y="156"/>
                  </a:lnTo>
                  <a:lnTo>
                    <a:pt x="905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87920" y="761040"/>
              <a:ext cx="67320" cy="8352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5" y="261"/>
                  </a:lnTo>
                  <a:lnTo>
                    <a:pt x="663" y="251"/>
                  </a:lnTo>
                  <a:lnTo>
                    <a:pt x="659" y="243"/>
                  </a:lnTo>
                  <a:lnTo>
                    <a:pt x="655" y="235"/>
                  </a:lnTo>
                  <a:lnTo>
                    <a:pt x="651" y="228"/>
                  </a:lnTo>
                  <a:lnTo>
                    <a:pt x="644" y="222"/>
                  </a:lnTo>
                  <a:lnTo>
                    <a:pt x="638" y="216"/>
                  </a:lnTo>
                  <a:lnTo>
                    <a:pt x="630" y="211"/>
                  </a:lnTo>
                  <a:lnTo>
                    <a:pt x="621" y="205"/>
                  </a:lnTo>
                  <a:lnTo>
                    <a:pt x="610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2" y="189"/>
                  </a:lnTo>
                  <a:lnTo>
                    <a:pt x="557" y="185"/>
                  </a:lnTo>
                  <a:lnTo>
                    <a:pt x="540" y="184"/>
                  </a:lnTo>
                  <a:lnTo>
                    <a:pt x="524" y="183"/>
                  </a:lnTo>
                  <a:lnTo>
                    <a:pt x="509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0" y="185"/>
                  </a:lnTo>
                  <a:lnTo>
                    <a:pt x="418" y="187"/>
                  </a:lnTo>
                  <a:lnTo>
                    <a:pt x="377" y="195"/>
                  </a:lnTo>
                  <a:lnTo>
                    <a:pt x="344" y="201"/>
                  </a:lnTo>
                  <a:lnTo>
                    <a:pt x="318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5" y="223"/>
                  </a:lnTo>
                  <a:lnTo>
                    <a:pt x="277" y="229"/>
                  </a:lnTo>
                  <a:lnTo>
                    <a:pt x="269" y="235"/>
                  </a:lnTo>
                  <a:lnTo>
                    <a:pt x="253" y="253"/>
                  </a:lnTo>
                  <a:lnTo>
                    <a:pt x="237" y="272"/>
                  </a:lnTo>
                  <a:lnTo>
                    <a:pt x="227" y="283"/>
                  </a:lnTo>
                  <a:lnTo>
                    <a:pt x="220" y="287"/>
                  </a:lnTo>
                  <a:lnTo>
                    <a:pt x="211" y="291"/>
                  </a:lnTo>
                  <a:lnTo>
                    <a:pt x="202" y="293"/>
                  </a:lnTo>
                  <a:lnTo>
                    <a:pt x="189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2" y="297"/>
                  </a:lnTo>
                  <a:lnTo>
                    <a:pt x="82" y="56"/>
                  </a:lnTo>
                  <a:lnTo>
                    <a:pt x="130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5" y="18"/>
                  </a:lnTo>
                  <a:lnTo>
                    <a:pt x="280" y="12"/>
                  </a:lnTo>
                  <a:lnTo>
                    <a:pt x="315" y="7"/>
                  </a:lnTo>
                  <a:lnTo>
                    <a:pt x="346" y="3"/>
                  </a:lnTo>
                  <a:lnTo>
                    <a:pt x="375" y="1"/>
                  </a:lnTo>
                  <a:lnTo>
                    <a:pt x="403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3" y="4"/>
                  </a:lnTo>
                  <a:lnTo>
                    <a:pt x="587" y="7"/>
                  </a:lnTo>
                  <a:lnTo>
                    <a:pt x="619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7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3" y="43"/>
                  </a:lnTo>
                  <a:lnTo>
                    <a:pt x="806" y="50"/>
                  </a:lnTo>
                  <a:lnTo>
                    <a:pt x="826" y="57"/>
                  </a:lnTo>
                  <a:lnTo>
                    <a:pt x="846" y="66"/>
                  </a:lnTo>
                  <a:lnTo>
                    <a:pt x="863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1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8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5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7" y="260"/>
                  </a:lnTo>
                  <a:lnTo>
                    <a:pt x="1000" y="280"/>
                  </a:lnTo>
                  <a:lnTo>
                    <a:pt x="1001" y="299"/>
                  </a:lnTo>
                  <a:lnTo>
                    <a:pt x="1002" y="320"/>
                  </a:lnTo>
                  <a:lnTo>
                    <a:pt x="1002" y="821"/>
                  </a:lnTo>
                  <a:lnTo>
                    <a:pt x="1002" y="852"/>
                  </a:lnTo>
                  <a:lnTo>
                    <a:pt x="1002" y="864"/>
                  </a:lnTo>
                  <a:lnTo>
                    <a:pt x="1007" y="897"/>
                  </a:lnTo>
                  <a:lnTo>
                    <a:pt x="1022" y="920"/>
                  </a:lnTo>
                  <a:lnTo>
                    <a:pt x="1047" y="930"/>
                  </a:lnTo>
                  <a:lnTo>
                    <a:pt x="1056" y="934"/>
                  </a:lnTo>
                  <a:lnTo>
                    <a:pt x="1064" y="939"/>
                  </a:lnTo>
                  <a:lnTo>
                    <a:pt x="1071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1" y="1046"/>
                  </a:lnTo>
                  <a:lnTo>
                    <a:pt x="681" y="989"/>
                  </a:lnTo>
                  <a:lnTo>
                    <a:pt x="665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4" y="1032"/>
                  </a:lnTo>
                  <a:lnTo>
                    <a:pt x="588" y="1038"/>
                  </a:lnTo>
                  <a:lnTo>
                    <a:pt x="572" y="1045"/>
                  </a:lnTo>
                  <a:lnTo>
                    <a:pt x="556" y="1051"/>
                  </a:lnTo>
                  <a:lnTo>
                    <a:pt x="540" y="1056"/>
                  </a:lnTo>
                  <a:lnTo>
                    <a:pt x="523" y="1059"/>
                  </a:lnTo>
                  <a:lnTo>
                    <a:pt x="507" y="1063"/>
                  </a:lnTo>
                  <a:lnTo>
                    <a:pt x="489" y="1065"/>
                  </a:lnTo>
                  <a:lnTo>
                    <a:pt x="472" y="1068"/>
                  </a:lnTo>
                  <a:lnTo>
                    <a:pt x="455" y="1069"/>
                  </a:lnTo>
                  <a:lnTo>
                    <a:pt x="438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3" y="1068"/>
                  </a:lnTo>
                  <a:lnTo>
                    <a:pt x="296" y="1065"/>
                  </a:lnTo>
                  <a:lnTo>
                    <a:pt x="270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89" y="1042"/>
                  </a:lnTo>
                  <a:lnTo>
                    <a:pt x="173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4" y="1005"/>
                  </a:lnTo>
                  <a:lnTo>
                    <a:pt x="109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1" y="940"/>
                  </a:lnTo>
                  <a:lnTo>
                    <a:pt x="45" y="917"/>
                  </a:lnTo>
                  <a:lnTo>
                    <a:pt x="38" y="906"/>
                  </a:lnTo>
                  <a:lnTo>
                    <a:pt x="31" y="893"/>
                  </a:lnTo>
                  <a:lnTo>
                    <a:pt x="24" y="881"/>
                  </a:lnTo>
                  <a:lnTo>
                    <a:pt x="20" y="869"/>
                  </a:lnTo>
                  <a:lnTo>
                    <a:pt x="15" y="857"/>
                  </a:lnTo>
                  <a:lnTo>
                    <a:pt x="11" y="843"/>
                  </a:lnTo>
                  <a:lnTo>
                    <a:pt x="7" y="831"/>
                  </a:lnTo>
                  <a:lnTo>
                    <a:pt x="5" y="817"/>
                  </a:lnTo>
                  <a:lnTo>
                    <a:pt x="2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8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4" y="639"/>
                  </a:lnTo>
                  <a:lnTo>
                    <a:pt x="29" y="626"/>
                  </a:lnTo>
                  <a:lnTo>
                    <a:pt x="36" y="614"/>
                  </a:lnTo>
                  <a:lnTo>
                    <a:pt x="43" y="600"/>
                  </a:lnTo>
                  <a:lnTo>
                    <a:pt x="50" y="588"/>
                  </a:lnTo>
                  <a:lnTo>
                    <a:pt x="58" y="577"/>
                  </a:lnTo>
                  <a:lnTo>
                    <a:pt x="66" y="564"/>
                  </a:lnTo>
                  <a:lnTo>
                    <a:pt x="75" y="553"/>
                  </a:lnTo>
                  <a:lnTo>
                    <a:pt x="85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0" y="502"/>
                  </a:lnTo>
                  <a:lnTo>
                    <a:pt x="156" y="482"/>
                  </a:lnTo>
                  <a:lnTo>
                    <a:pt x="172" y="472"/>
                  </a:lnTo>
                  <a:lnTo>
                    <a:pt x="189" y="464"/>
                  </a:lnTo>
                  <a:lnTo>
                    <a:pt x="207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7" y="381"/>
                  </a:lnTo>
                  <a:lnTo>
                    <a:pt x="462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1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7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2" y="580"/>
                  </a:lnTo>
                  <a:lnTo>
                    <a:pt x="451" y="589"/>
                  </a:lnTo>
                  <a:lnTo>
                    <a:pt x="435" y="596"/>
                  </a:lnTo>
                  <a:lnTo>
                    <a:pt x="422" y="602"/>
                  </a:lnTo>
                  <a:lnTo>
                    <a:pt x="409" y="611"/>
                  </a:lnTo>
                  <a:lnTo>
                    <a:pt x="398" y="618"/>
                  </a:lnTo>
                  <a:lnTo>
                    <a:pt x="390" y="627"/>
                  </a:lnTo>
                  <a:lnTo>
                    <a:pt x="377" y="641"/>
                  </a:lnTo>
                  <a:lnTo>
                    <a:pt x="366" y="654"/>
                  </a:lnTo>
                  <a:lnTo>
                    <a:pt x="357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4" y="745"/>
                  </a:lnTo>
                  <a:lnTo>
                    <a:pt x="334" y="760"/>
                  </a:lnTo>
                  <a:lnTo>
                    <a:pt x="337" y="774"/>
                  </a:lnTo>
                  <a:lnTo>
                    <a:pt x="339" y="788"/>
                  </a:lnTo>
                  <a:lnTo>
                    <a:pt x="342" y="800"/>
                  </a:lnTo>
                  <a:lnTo>
                    <a:pt x="347" y="811"/>
                  </a:lnTo>
                  <a:lnTo>
                    <a:pt x="352" y="822"/>
                  </a:lnTo>
                  <a:lnTo>
                    <a:pt x="359" y="831"/>
                  </a:lnTo>
                  <a:lnTo>
                    <a:pt x="366" y="839"/>
                  </a:lnTo>
                  <a:lnTo>
                    <a:pt x="375" y="847"/>
                  </a:lnTo>
                  <a:lnTo>
                    <a:pt x="384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18" y="866"/>
                  </a:lnTo>
                  <a:lnTo>
                    <a:pt x="432" y="870"/>
                  </a:lnTo>
                  <a:lnTo>
                    <a:pt x="446" y="871"/>
                  </a:lnTo>
                  <a:lnTo>
                    <a:pt x="461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2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48" y="860"/>
                  </a:lnTo>
                  <a:lnTo>
                    <a:pt x="564" y="854"/>
                  </a:lnTo>
                  <a:lnTo>
                    <a:pt x="580" y="847"/>
                  </a:lnTo>
                  <a:lnTo>
                    <a:pt x="596" y="837"/>
                  </a:lnTo>
                  <a:lnTo>
                    <a:pt x="612" y="826"/>
                  </a:lnTo>
                  <a:lnTo>
                    <a:pt x="630" y="812"/>
                  </a:lnTo>
                  <a:lnTo>
                    <a:pt x="638" y="805"/>
                  </a:lnTo>
                  <a:lnTo>
                    <a:pt x="647" y="795"/>
                  </a:lnTo>
                  <a:lnTo>
                    <a:pt x="654" y="785"/>
                  </a:lnTo>
                  <a:lnTo>
                    <a:pt x="662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90880" y="763920"/>
              <a:ext cx="69840" cy="111960"/>
            </a:xfrm>
            <a:custGeom>
              <a:avLst/>
              <a:gdLst/>
              <a:ahLst/>
              <a:rect l="l" t="t" r="r" b="b"/>
              <a:pathLst>
                <a:path w="1108" h="1443">
                  <a:moveTo>
                    <a:pt x="0" y="1396"/>
                  </a:moveTo>
                  <a:lnTo>
                    <a:pt x="2" y="1072"/>
                  </a:lnTo>
                  <a:lnTo>
                    <a:pt x="19" y="1067"/>
                  </a:lnTo>
                  <a:lnTo>
                    <a:pt x="33" y="1067"/>
                  </a:lnTo>
                  <a:lnTo>
                    <a:pt x="40" y="1067"/>
                  </a:lnTo>
                  <a:lnTo>
                    <a:pt x="50" y="1068"/>
                  </a:lnTo>
                  <a:lnTo>
                    <a:pt x="60" y="1070"/>
                  </a:lnTo>
                  <a:lnTo>
                    <a:pt x="68" y="1071"/>
                  </a:lnTo>
                  <a:lnTo>
                    <a:pt x="78" y="1073"/>
                  </a:lnTo>
                  <a:lnTo>
                    <a:pt x="87" y="1077"/>
                  </a:lnTo>
                  <a:lnTo>
                    <a:pt x="96" y="1081"/>
                  </a:lnTo>
                  <a:lnTo>
                    <a:pt x="104" y="1086"/>
                  </a:lnTo>
                  <a:lnTo>
                    <a:pt x="113" y="1092"/>
                  </a:lnTo>
                  <a:lnTo>
                    <a:pt x="129" y="1103"/>
                  </a:lnTo>
                  <a:lnTo>
                    <a:pt x="142" y="1115"/>
                  </a:lnTo>
                  <a:lnTo>
                    <a:pt x="176" y="1148"/>
                  </a:lnTo>
                  <a:lnTo>
                    <a:pt x="185" y="1158"/>
                  </a:lnTo>
                  <a:lnTo>
                    <a:pt x="191" y="1163"/>
                  </a:lnTo>
                  <a:lnTo>
                    <a:pt x="200" y="1168"/>
                  </a:lnTo>
                  <a:lnTo>
                    <a:pt x="212" y="1174"/>
                  </a:lnTo>
                  <a:lnTo>
                    <a:pt x="226" y="1180"/>
                  </a:lnTo>
                  <a:lnTo>
                    <a:pt x="242" y="1185"/>
                  </a:lnTo>
                  <a:lnTo>
                    <a:pt x="257" y="1189"/>
                  </a:lnTo>
                  <a:lnTo>
                    <a:pt x="270" y="1191"/>
                  </a:lnTo>
                  <a:lnTo>
                    <a:pt x="284" y="1191"/>
                  </a:lnTo>
                  <a:lnTo>
                    <a:pt x="295" y="1190"/>
                  </a:lnTo>
                  <a:lnTo>
                    <a:pt x="307" y="1188"/>
                  </a:lnTo>
                  <a:lnTo>
                    <a:pt x="319" y="1183"/>
                  </a:lnTo>
                  <a:lnTo>
                    <a:pt x="330" y="1177"/>
                  </a:lnTo>
                  <a:lnTo>
                    <a:pt x="342" y="1168"/>
                  </a:lnTo>
                  <a:lnTo>
                    <a:pt x="353" y="1158"/>
                  </a:lnTo>
                  <a:lnTo>
                    <a:pt x="362" y="1146"/>
                  </a:lnTo>
                  <a:lnTo>
                    <a:pt x="374" y="1132"/>
                  </a:lnTo>
                  <a:lnTo>
                    <a:pt x="397" y="1093"/>
                  </a:lnTo>
                  <a:lnTo>
                    <a:pt x="99" y="197"/>
                  </a:lnTo>
                  <a:lnTo>
                    <a:pt x="97" y="187"/>
                  </a:lnTo>
                  <a:lnTo>
                    <a:pt x="86" y="154"/>
                  </a:lnTo>
                  <a:lnTo>
                    <a:pt x="82" y="144"/>
                  </a:lnTo>
                  <a:lnTo>
                    <a:pt x="77" y="135"/>
                  </a:lnTo>
                  <a:lnTo>
                    <a:pt x="72" y="129"/>
                  </a:lnTo>
                  <a:lnTo>
                    <a:pt x="67" y="124"/>
                  </a:lnTo>
                  <a:lnTo>
                    <a:pt x="62" y="121"/>
                  </a:lnTo>
                  <a:lnTo>
                    <a:pt x="49" y="116"/>
                  </a:lnTo>
                  <a:lnTo>
                    <a:pt x="39" y="112"/>
                  </a:lnTo>
                  <a:lnTo>
                    <a:pt x="32" y="107"/>
                  </a:lnTo>
                  <a:lnTo>
                    <a:pt x="24" y="101"/>
                  </a:lnTo>
                  <a:lnTo>
                    <a:pt x="19" y="95"/>
                  </a:lnTo>
                  <a:lnTo>
                    <a:pt x="14" y="89"/>
                  </a:lnTo>
                  <a:lnTo>
                    <a:pt x="12" y="83"/>
                  </a:lnTo>
                  <a:lnTo>
                    <a:pt x="9" y="75"/>
                  </a:lnTo>
                  <a:lnTo>
                    <a:pt x="9" y="68"/>
                  </a:lnTo>
                  <a:lnTo>
                    <a:pt x="9" y="0"/>
                  </a:lnTo>
                  <a:lnTo>
                    <a:pt x="499" y="0"/>
                  </a:lnTo>
                  <a:lnTo>
                    <a:pt x="499" y="68"/>
                  </a:lnTo>
                  <a:lnTo>
                    <a:pt x="498" y="75"/>
                  </a:lnTo>
                  <a:lnTo>
                    <a:pt x="497" y="83"/>
                  </a:lnTo>
                  <a:lnTo>
                    <a:pt x="493" y="89"/>
                  </a:lnTo>
                  <a:lnTo>
                    <a:pt x="489" y="95"/>
                  </a:lnTo>
                  <a:lnTo>
                    <a:pt x="483" y="101"/>
                  </a:lnTo>
                  <a:lnTo>
                    <a:pt x="477" y="107"/>
                  </a:lnTo>
                  <a:lnTo>
                    <a:pt x="468" y="112"/>
                  </a:lnTo>
                  <a:lnTo>
                    <a:pt x="460" y="116"/>
                  </a:lnTo>
                  <a:lnTo>
                    <a:pt x="446" y="122"/>
                  </a:lnTo>
                  <a:lnTo>
                    <a:pt x="437" y="127"/>
                  </a:lnTo>
                  <a:lnTo>
                    <a:pt x="433" y="133"/>
                  </a:lnTo>
                  <a:lnTo>
                    <a:pt x="429" y="140"/>
                  </a:lnTo>
                  <a:lnTo>
                    <a:pt x="428" y="148"/>
                  </a:lnTo>
                  <a:lnTo>
                    <a:pt x="430" y="164"/>
                  </a:lnTo>
                  <a:lnTo>
                    <a:pt x="434" y="183"/>
                  </a:lnTo>
                  <a:lnTo>
                    <a:pt x="437" y="197"/>
                  </a:lnTo>
                  <a:lnTo>
                    <a:pt x="579" y="689"/>
                  </a:lnTo>
                  <a:lnTo>
                    <a:pt x="757" y="197"/>
                  </a:lnTo>
                  <a:lnTo>
                    <a:pt x="759" y="183"/>
                  </a:lnTo>
                  <a:lnTo>
                    <a:pt x="760" y="175"/>
                  </a:lnTo>
                  <a:lnTo>
                    <a:pt x="760" y="167"/>
                  </a:lnTo>
                  <a:lnTo>
                    <a:pt x="760" y="160"/>
                  </a:lnTo>
                  <a:lnTo>
                    <a:pt x="757" y="154"/>
                  </a:lnTo>
                  <a:lnTo>
                    <a:pt x="755" y="148"/>
                  </a:lnTo>
                  <a:lnTo>
                    <a:pt x="751" y="141"/>
                  </a:lnTo>
                  <a:lnTo>
                    <a:pt x="746" y="137"/>
                  </a:lnTo>
                  <a:lnTo>
                    <a:pt x="741" y="132"/>
                  </a:lnTo>
                  <a:lnTo>
                    <a:pt x="711" y="121"/>
                  </a:lnTo>
                  <a:lnTo>
                    <a:pt x="696" y="114"/>
                  </a:lnTo>
                  <a:lnTo>
                    <a:pt x="687" y="110"/>
                  </a:lnTo>
                  <a:lnTo>
                    <a:pt x="679" y="105"/>
                  </a:lnTo>
                  <a:lnTo>
                    <a:pt x="671" y="100"/>
                  </a:lnTo>
                  <a:lnTo>
                    <a:pt x="665" y="94"/>
                  </a:lnTo>
                  <a:lnTo>
                    <a:pt x="661" y="87"/>
                  </a:lnTo>
                  <a:lnTo>
                    <a:pt x="658" y="81"/>
                  </a:lnTo>
                  <a:lnTo>
                    <a:pt x="656" y="74"/>
                  </a:lnTo>
                  <a:lnTo>
                    <a:pt x="655" y="68"/>
                  </a:lnTo>
                  <a:lnTo>
                    <a:pt x="655" y="0"/>
                  </a:lnTo>
                  <a:lnTo>
                    <a:pt x="1108" y="0"/>
                  </a:lnTo>
                  <a:lnTo>
                    <a:pt x="1108" y="69"/>
                  </a:lnTo>
                  <a:lnTo>
                    <a:pt x="1107" y="76"/>
                  </a:lnTo>
                  <a:lnTo>
                    <a:pt x="1104" y="84"/>
                  </a:lnTo>
                  <a:lnTo>
                    <a:pt x="1102" y="90"/>
                  </a:lnTo>
                  <a:lnTo>
                    <a:pt x="1097" y="96"/>
                  </a:lnTo>
                  <a:lnTo>
                    <a:pt x="1092" y="101"/>
                  </a:lnTo>
                  <a:lnTo>
                    <a:pt x="1084" y="107"/>
                  </a:lnTo>
                  <a:lnTo>
                    <a:pt x="1076" y="112"/>
                  </a:lnTo>
                  <a:lnTo>
                    <a:pt x="1066" y="116"/>
                  </a:lnTo>
                  <a:lnTo>
                    <a:pt x="1052" y="122"/>
                  </a:lnTo>
                  <a:lnTo>
                    <a:pt x="1041" y="134"/>
                  </a:lnTo>
                  <a:lnTo>
                    <a:pt x="1035" y="144"/>
                  </a:lnTo>
                  <a:lnTo>
                    <a:pt x="1029" y="154"/>
                  </a:lnTo>
                  <a:lnTo>
                    <a:pt x="1016" y="184"/>
                  </a:lnTo>
                  <a:lnTo>
                    <a:pt x="1012" y="198"/>
                  </a:lnTo>
                  <a:lnTo>
                    <a:pt x="675" y="1077"/>
                  </a:lnTo>
                  <a:lnTo>
                    <a:pt x="656" y="1124"/>
                  </a:lnTo>
                  <a:lnTo>
                    <a:pt x="637" y="1166"/>
                  </a:lnTo>
                  <a:lnTo>
                    <a:pt x="616" y="1206"/>
                  </a:lnTo>
                  <a:lnTo>
                    <a:pt x="595" y="1242"/>
                  </a:lnTo>
                  <a:lnTo>
                    <a:pt x="584" y="1259"/>
                  </a:lnTo>
                  <a:lnTo>
                    <a:pt x="573" y="1275"/>
                  </a:lnTo>
                  <a:lnTo>
                    <a:pt x="562" y="1291"/>
                  </a:lnTo>
                  <a:lnTo>
                    <a:pt x="549" y="1304"/>
                  </a:lnTo>
                  <a:lnTo>
                    <a:pt x="537" y="1319"/>
                  </a:lnTo>
                  <a:lnTo>
                    <a:pt x="526" y="1331"/>
                  </a:lnTo>
                  <a:lnTo>
                    <a:pt x="514" y="1344"/>
                  </a:lnTo>
                  <a:lnTo>
                    <a:pt x="500" y="1355"/>
                  </a:lnTo>
                  <a:lnTo>
                    <a:pt x="488" y="1366"/>
                  </a:lnTo>
                  <a:lnTo>
                    <a:pt x="474" y="1375"/>
                  </a:lnTo>
                  <a:lnTo>
                    <a:pt x="461" y="1385"/>
                  </a:lnTo>
                  <a:lnTo>
                    <a:pt x="447" y="1394"/>
                  </a:lnTo>
                  <a:lnTo>
                    <a:pt x="433" y="1401"/>
                  </a:lnTo>
                  <a:lnTo>
                    <a:pt x="419" y="1409"/>
                  </a:lnTo>
                  <a:lnTo>
                    <a:pt x="403" y="1415"/>
                  </a:lnTo>
                  <a:lnTo>
                    <a:pt x="388" y="1421"/>
                  </a:lnTo>
                  <a:lnTo>
                    <a:pt x="374" y="1426"/>
                  </a:lnTo>
                  <a:lnTo>
                    <a:pt x="358" y="1431"/>
                  </a:lnTo>
                  <a:lnTo>
                    <a:pt x="342" y="1434"/>
                  </a:lnTo>
                  <a:lnTo>
                    <a:pt x="324" y="1438"/>
                  </a:lnTo>
                  <a:lnTo>
                    <a:pt x="308" y="1441"/>
                  </a:lnTo>
                  <a:lnTo>
                    <a:pt x="291" y="1442"/>
                  </a:lnTo>
                  <a:lnTo>
                    <a:pt x="274" y="1443"/>
                  </a:lnTo>
                  <a:lnTo>
                    <a:pt x="255" y="1443"/>
                  </a:lnTo>
                  <a:lnTo>
                    <a:pt x="227" y="1442"/>
                  </a:lnTo>
                  <a:lnTo>
                    <a:pt x="198" y="1441"/>
                  </a:lnTo>
                  <a:lnTo>
                    <a:pt x="167" y="1437"/>
                  </a:lnTo>
                  <a:lnTo>
                    <a:pt x="136" y="1431"/>
                  </a:lnTo>
                  <a:lnTo>
                    <a:pt x="99" y="1421"/>
                  </a:lnTo>
                  <a:lnTo>
                    <a:pt x="0" y="1396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95280" y="734400"/>
              <a:ext cx="75960" cy="106200"/>
            </a:xfrm>
            <a:custGeom>
              <a:avLst/>
              <a:gdLst/>
              <a:ahLst/>
              <a:rect l="l" t="t" r="r" b="b"/>
              <a:pathLst>
                <a:path w="1214" h="1407">
                  <a:moveTo>
                    <a:pt x="0" y="1407"/>
                  </a:moveTo>
                  <a:lnTo>
                    <a:pt x="0" y="1321"/>
                  </a:lnTo>
                  <a:lnTo>
                    <a:pt x="0" y="1315"/>
                  </a:lnTo>
                  <a:lnTo>
                    <a:pt x="3" y="1307"/>
                  </a:lnTo>
                  <a:lnTo>
                    <a:pt x="6" y="1302"/>
                  </a:lnTo>
                  <a:lnTo>
                    <a:pt x="10" y="1297"/>
                  </a:lnTo>
                  <a:lnTo>
                    <a:pt x="16" y="1295"/>
                  </a:lnTo>
                  <a:lnTo>
                    <a:pt x="30" y="1285"/>
                  </a:lnTo>
                  <a:lnTo>
                    <a:pt x="46" y="1272"/>
                  </a:lnTo>
                  <a:lnTo>
                    <a:pt x="54" y="1262"/>
                  </a:lnTo>
                  <a:lnTo>
                    <a:pt x="62" y="1252"/>
                  </a:lnTo>
                  <a:lnTo>
                    <a:pt x="67" y="1242"/>
                  </a:lnTo>
                  <a:lnTo>
                    <a:pt x="70" y="1232"/>
                  </a:lnTo>
                  <a:lnTo>
                    <a:pt x="73" y="1226"/>
                  </a:lnTo>
                  <a:lnTo>
                    <a:pt x="77" y="1196"/>
                  </a:lnTo>
                  <a:lnTo>
                    <a:pt x="77" y="1164"/>
                  </a:lnTo>
                  <a:lnTo>
                    <a:pt x="77" y="208"/>
                  </a:lnTo>
                  <a:lnTo>
                    <a:pt x="75" y="197"/>
                  </a:lnTo>
                  <a:lnTo>
                    <a:pt x="74" y="187"/>
                  </a:lnTo>
                  <a:lnTo>
                    <a:pt x="70" y="176"/>
                  </a:lnTo>
                  <a:lnTo>
                    <a:pt x="67" y="165"/>
                  </a:lnTo>
                  <a:lnTo>
                    <a:pt x="61" y="156"/>
                  </a:lnTo>
                  <a:lnTo>
                    <a:pt x="56" y="147"/>
                  </a:lnTo>
                  <a:lnTo>
                    <a:pt x="51" y="140"/>
                  </a:lnTo>
                  <a:lnTo>
                    <a:pt x="46" y="135"/>
                  </a:lnTo>
                  <a:lnTo>
                    <a:pt x="42" y="131"/>
                  </a:lnTo>
                  <a:lnTo>
                    <a:pt x="18" y="111"/>
                  </a:lnTo>
                  <a:lnTo>
                    <a:pt x="10" y="104"/>
                  </a:lnTo>
                  <a:lnTo>
                    <a:pt x="3" y="97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0"/>
                  </a:lnTo>
                  <a:lnTo>
                    <a:pt x="669" y="0"/>
                  </a:lnTo>
                  <a:lnTo>
                    <a:pt x="719" y="0"/>
                  </a:lnTo>
                  <a:lnTo>
                    <a:pt x="760" y="1"/>
                  </a:lnTo>
                  <a:lnTo>
                    <a:pt x="797" y="3"/>
                  </a:lnTo>
                  <a:lnTo>
                    <a:pt x="828" y="6"/>
                  </a:lnTo>
                  <a:lnTo>
                    <a:pt x="855" y="8"/>
                  </a:lnTo>
                  <a:lnTo>
                    <a:pt x="881" y="13"/>
                  </a:lnTo>
                  <a:lnTo>
                    <a:pt x="906" y="18"/>
                  </a:lnTo>
                  <a:lnTo>
                    <a:pt x="929" y="25"/>
                  </a:lnTo>
                  <a:lnTo>
                    <a:pt x="963" y="38"/>
                  </a:lnTo>
                  <a:lnTo>
                    <a:pt x="995" y="51"/>
                  </a:lnTo>
                  <a:lnTo>
                    <a:pt x="1026" y="67"/>
                  </a:lnTo>
                  <a:lnTo>
                    <a:pt x="1053" y="84"/>
                  </a:lnTo>
                  <a:lnTo>
                    <a:pt x="1079" y="103"/>
                  </a:lnTo>
                  <a:lnTo>
                    <a:pt x="1102" y="122"/>
                  </a:lnTo>
                  <a:lnTo>
                    <a:pt x="1113" y="132"/>
                  </a:lnTo>
                  <a:lnTo>
                    <a:pt x="1123" y="143"/>
                  </a:lnTo>
                  <a:lnTo>
                    <a:pt x="1133" y="154"/>
                  </a:lnTo>
                  <a:lnTo>
                    <a:pt x="1143" y="165"/>
                  </a:lnTo>
                  <a:lnTo>
                    <a:pt x="1152" y="178"/>
                  </a:lnTo>
                  <a:lnTo>
                    <a:pt x="1159" y="190"/>
                  </a:lnTo>
                  <a:lnTo>
                    <a:pt x="1166" y="202"/>
                  </a:lnTo>
                  <a:lnTo>
                    <a:pt x="1174" y="214"/>
                  </a:lnTo>
                  <a:lnTo>
                    <a:pt x="1180" y="228"/>
                  </a:lnTo>
                  <a:lnTo>
                    <a:pt x="1186" y="241"/>
                  </a:lnTo>
                  <a:lnTo>
                    <a:pt x="1191" y="255"/>
                  </a:lnTo>
                  <a:lnTo>
                    <a:pt x="1196" y="270"/>
                  </a:lnTo>
                  <a:lnTo>
                    <a:pt x="1203" y="299"/>
                  </a:lnTo>
                  <a:lnTo>
                    <a:pt x="1209" y="330"/>
                  </a:lnTo>
                  <a:lnTo>
                    <a:pt x="1213" y="362"/>
                  </a:lnTo>
                  <a:lnTo>
                    <a:pt x="1214" y="396"/>
                  </a:lnTo>
                  <a:lnTo>
                    <a:pt x="1213" y="413"/>
                  </a:lnTo>
                  <a:lnTo>
                    <a:pt x="1212" y="431"/>
                  </a:lnTo>
                  <a:lnTo>
                    <a:pt x="1211" y="449"/>
                  </a:lnTo>
                  <a:lnTo>
                    <a:pt x="1208" y="467"/>
                  </a:lnTo>
                  <a:lnTo>
                    <a:pt x="1201" y="508"/>
                  </a:lnTo>
                  <a:lnTo>
                    <a:pt x="1191" y="551"/>
                  </a:lnTo>
                  <a:lnTo>
                    <a:pt x="1185" y="572"/>
                  </a:lnTo>
                  <a:lnTo>
                    <a:pt x="1177" y="594"/>
                  </a:lnTo>
                  <a:lnTo>
                    <a:pt x="1168" y="614"/>
                  </a:lnTo>
                  <a:lnTo>
                    <a:pt x="1158" y="634"/>
                  </a:lnTo>
                  <a:lnTo>
                    <a:pt x="1145" y="654"/>
                  </a:lnTo>
                  <a:lnTo>
                    <a:pt x="1132" y="672"/>
                  </a:lnTo>
                  <a:lnTo>
                    <a:pt x="1117" y="691"/>
                  </a:lnTo>
                  <a:lnTo>
                    <a:pt x="1100" y="709"/>
                  </a:lnTo>
                  <a:lnTo>
                    <a:pt x="1082" y="726"/>
                  </a:lnTo>
                  <a:lnTo>
                    <a:pt x="1061" y="745"/>
                  </a:lnTo>
                  <a:lnTo>
                    <a:pt x="1037" y="763"/>
                  </a:lnTo>
                  <a:lnTo>
                    <a:pt x="1010" y="782"/>
                  </a:lnTo>
                  <a:lnTo>
                    <a:pt x="981" y="801"/>
                  </a:lnTo>
                  <a:lnTo>
                    <a:pt x="949" y="821"/>
                  </a:lnTo>
                  <a:lnTo>
                    <a:pt x="914" y="841"/>
                  </a:lnTo>
                  <a:lnTo>
                    <a:pt x="877" y="862"/>
                  </a:lnTo>
                  <a:lnTo>
                    <a:pt x="847" y="876"/>
                  </a:lnTo>
                  <a:lnTo>
                    <a:pt x="815" y="891"/>
                  </a:lnTo>
                  <a:lnTo>
                    <a:pt x="780" y="905"/>
                  </a:lnTo>
                  <a:lnTo>
                    <a:pt x="746" y="918"/>
                  </a:lnTo>
                  <a:lnTo>
                    <a:pt x="709" y="930"/>
                  </a:lnTo>
                  <a:lnTo>
                    <a:pt x="669" y="943"/>
                  </a:lnTo>
                  <a:lnTo>
                    <a:pt x="626" y="954"/>
                  </a:lnTo>
                  <a:lnTo>
                    <a:pt x="580" y="965"/>
                  </a:lnTo>
                  <a:lnTo>
                    <a:pt x="428" y="998"/>
                  </a:lnTo>
                  <a:lnTo>
                    <a:pt x="428" y="1197"/>
                  </a:lnTo>
                  <a:lnTo>
                    <a:pt x="428" y="1215"/>
                  </a:lnTo>
                  <a:lnTo>
                    <a:pt x="432" y="1226"/>
                  </a:lnTo>
                  <a:lnTo>
                    <a:pt x="436" y="1236"/>
                  </a:lnTo>
                  <a:lnTo>
                    <a:pt x="441" y="1246"/>
                  </a:lnTo>
                  <a:lnTo>
                    <a:pt x="446" y="1256"/>
                  </a:lnTo>
                  <a:lnTo>
                    <a:pt x="453" y="1264"/>
                  </a:lnTo>
                  <a:lnTo>
                    <a:pt x="460" y="1273"/>
                  </a:lnTo>
                  <a:lnTo>
                    <a:pt x="468" y="1280"/>
                  </a:lnTo>
                  <a:lnTo>
                    <a:pt x="478" y="1288"/>
                  </a:lnTo>
                  <a:lnTo>
                    <a:pt x="494" y="1295"/>
                  </a:lnTo>
                  <a:lnTo>
                    <a:pt x="498" y="1300"/>
                  </a:lnTo>
                  <a:lnTo>
                    <a:pt x="503" y="1305"/>
                  </a:lnTo>
                  <a:lnTo>
                    <a:pt x="508" y="1311"/>
                  </a:lnTo>
                  <a:lnTo>
                    <a:pt x="511" y="1317"/>
                  </a:lnTo>
                  <a:lnTo>
                    <a:pt x="511" y="1407"/>
                  </a:lnTo>
                  <a:lnTo>
                    <a:pt x="0" y="1407"/>
                  </a:lnTo>
                  <a:close/>
                  <a:moveTo>
                    <a:pt x="583" y="708"/>
                  </a:moveTo>
                  <a:lnTo>
                    <a:pt x="603" y="702"/>
                  </a:lnTo>
                  <a:lnTo>
                    <a:pt x="621" y="695"/>
                  </a:lnTo>
                  <a:lnTo>
                    <a:pt x="640" y="687"/>
                  </a:lnTo>
                  <a:lnTo>
                    <a:pt x="656" y="680"/>
                  </a:lnTo>
                  <a:lnTo>
                    <a:pt x="672" y="672"/>
                  </a:lnTo>
                  <a:lnTo>
                    <a:pt x="687" y="664"/>
                  </a:lnTo>
                  <a:lnTo>
                    <a:pt x="701" y="655"/>
                  </a:lnTo>
                  <a:lnTo>
                    <a:pt x="714" y="645"/>
                  </a:lnTo>
                  <a:lnTo>
                    <a:pt x="726" y="636"/>
                  </a:lnTo>
                  <a:lnTo>
                    <a:pt x="737" y="626"/>
                  </a:lnTo>
                  <a:lnTo>
                    <a:pt x="748" y="614"/>
                  </a:lnTo>
                  <a:lnTo>
                    <a:pt x="758" y="601"/>
                  </a:lnTo>
                  <a:lnTo>
                    <a:pt x="768" y="588"/>
                  </a:lnTo>
                  <a:lnTo>
                    <a:pt x="778" y="573"/>
                  </a:lnTo>
                  <a:lnTo>
                    <a:pt x="786" y="558"/>
                  </a:lnTo>
                  <a:lnTo>
                    <a:pt x="795" y="542"/>
                  </a:lnTo>
                  <a:lnTo>
                    <a:pt x="800" y="532"/>
                  </a:lnTo>
                  <a:lnTo>
                    <a:pt x="804" y="521"/>
                  </a:lnTo>
                  <a:lnTo>
                    <a:pt x="808" y="510"/>
                  </a:lnTo>
                  <a:lnTo>
                    <a:pt x="812" y="497"/>
                  </a:lnTo>
                  <a:lnTo>
                    <a:pt x="816" y="483"/>
                  </a:lnTo>
                  <a:lnTo>
                    <a:pt x="820" y="472"/>
                  </a:lnTo>
                  <a:lnTo>
                    <a:pt x="821" y="461"/>
                  </a:lnTo>
                  <a:lnTo>
                    <a:pt x="822" y="451"/>
                  </a:lnTo>
                  <a:lnTo>
                    <a:pt x="824" y="434"/>
                  </a:lnTo>
                  <a:lnTo>
                    <a:pt x="826" y="416"/>
                  </a:lnTo>
                  <a:lnTo>
                    <a:pt x="828" y="401"/>
                  </a:lnTo>
                  <a:lnTo>
                    <a:pt x="828" y="389"/>
                  </a:lnTo>
                  <a:lnTo>
                    <a:pt x="828" y="370"/>
                  </a:lnTo>
                  <a:lnTo>
                    <a:pt x="826" y="352"/>
                  </a:lnTo>
                  <a:lnTo>
                    <a:pt x="822" y="335"/>
                  </a:lnTo>
                  <a:lnTo>
                    <a:pt x="817" y="319"/>
                  </a:lnTo>
                  <a:lnTo>
                    <a:pt x="811" y="304"/>
                  </a:lnTo>
                  <a:lnTo>
                    <a:pt x="804" y="291"/>
                  </a:lnTo>
                  <a:lnTo>
                    <a:pt x="795" y="278"/>
                  </a:lnTo>
                  <a:lnTo>
                    <a:pt x="785" y="267"/>
                  </a:lnTo>
                  <a:lnTo>
                    <a:pt x="773" y="256"/>
                  </a:lnTo>
                  <a:lnTo>
                    <a:pt x="760" y="248"/>
                  </a:lnTo>
                  <a:lnTo>
                    <a:pt x="746" y="239"/>
                  </a:lnTo>
                  <a:lnTo>
                    <a:pt x="730" y="232"/>
                  </a:lnTo>
                  <a:lnTo>
                    <a:pt x="714" y="226"/>
                  </a:lnTo>
                  <a:lnTo>
                    <a:pt x="695" y="221"/>
                  </a:lnTo>
                  <a:lnTo>
                    <a:pt x="676" y="217"/>
                  </a:lnTo>
                  <a:lnTo>
                    <a:pt x="655" y="214"/>
                  </a:lnTo>
                  <a:lnTo>
                    <a:pt x="615" y="214"/>
                  </a:lnTo>
                  <a:lnTo>
                    <a:pt x="428" y="214"/>
                  </a:lnTo>
                  <a:lnTo>
                    <a:pt x="428" y="754"/>
                  </a:lnTo>
                  <a:lnTo>
                    <a:pt x="583" y="708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72320" y="759600"/>
              <a:ext cx="45000" cy="80640"/>
            </a:xfrm>
            <a:custGeom>
              <a:avLst/>
              <a:gdLst/>
              <a:ahLst/>
              <a:rect l="l" t="t" r="r" b="b"/>
              <a:pathLst>
                <a:path w="728" h="1067">
                  <a:moveTo>
                    <a:pt x="0" y="1067"/>
                  </a:moveTo>
                  <a:lnTo>
                    <a:pt x="0" y="1000"/>
                  </a:lnTo>
                  <a:lnTo>
                    <a:pt x="0" y="993"/>
                  </a:lnTo>
                  <a:lnTo>
                    <a:pt x="1" y="987"/>
                  </a:lnTo>
                  <a:lnTo>
                    <a:pt x="4" y="981"/>
                  </a:lnTo>
                  <a:lnTo>
                    <a:pt x="6" y="976"/>
                  </a:lnTo>
                  <a:lnTo>
                    <a:pt x="10" y="971"/>
                  </a:lnTo>
                  <a:lnTo>
                    <a:pt x="15" y="966"/>
                  </a:lnTo>
                  <a:lnTo>
                    <a:pt x="21" y="961"/>
                  </a:lnTo>
                  <a:lnTo>
                    <a:pt x="27" y="957"/>
                  </a:lnTo>
                  <a:lnTo>
                    <a:pt x="43" y="951"/>
                  </a:lnTo>
                  <a:lnTo>
                    <a:pt x="70" y="945"/>
                  </a:lnTo>
                  <a:lnTo>
                    <a:pt x="78" y="939"/>
                  </a:lnTo>
                  <a:lnTo>
                    <a:pt x="83" y="934"/>
                  </a:lnTo>
                  <a:lnTo>
                    <a:pt x="84" y="922"/>
                  </a:lnTo>
                  <a:lnTo>
                    <a:pt x="86" y="914"/>
                  </a:lnTo>
                  <a:lnTo>
                    <a:pt x="86" y="885"/>
                  </a:lnTo>
                  <a:lnTo>
                    <a:pt x="86" y="872"/>
                  </a:lnTo>
                  <a:lnTo>
                    <a:pt x="86" y="267"/>
                  </a:lnTo>
                  <a:lnTo>
                    <a:pt x="86" y="254"/>
                  </a:lnTo>
                  <a:lnTo>
                    <a:pt x="86" y="240"/>
                  </a:lnTo>
                  <a:lnTo>
                    <a:pt x="86" y="222"/>
                  </a:lnTo>
                  <a:lnTo>
                    <a:pt x="86" y="202"/>
                  </a:lnTo>
                  <a:lnTo>
                    <a:pt x="84" y="199"/>
                  </a:lnTo>
                  <a:lnTo>
                    <a:pt x="83" y="195"/>
                  </a:lnTo>
                  <a:lnTo>
                    <a:pt x="80" y="192"/>
                  </a:lnTo>
                  <a:lnTo>
                    <a:pt x="78" y="191"/>
                  </a:lnTo>
                  <a:lnTo>
                    <a:pt x="41" y="181"/>
                  </a:lnTo>
                  <a:lnTo>
                    <a:pt x="31" y="178"/>
                  </a:lnTo>
                  <a:lnTo>
                    <a:pt x="22" y="174"/>
                  </a:lnTo>
                  <a:lnTo>
                    <a:pt x="16" y="170"/>
                  </a:lnTo>
                  <a:lnTo>
                    <a:pt x="10" y="164"/>
                  </a:lnTo>
                  <a:lnTo>
                    <a:pt x="6" y="158"/>
                  </a:lnTo>
                  <a:lnTo>
                    <a:pt x="3" y="151"/>
                  </a:lnTo>
                  <a:lnTo>
                    <a:pt x="1" y="143"/>
                  </a:lnTo>
                  <a:lnTo>
                    <a:pt x="0" y="135"/>
                  </a:lnTo>
                  <a:lnTo>
                    <a:pt x="0" y="67"/>
                  </a:lnTo>
                  <a:lnTo>
                    <a:pt x="388" y="67"/>
                  </a:lnTo>
                  <a:lnTo>
                    <a:pt x="388" y="150"/>
                  </a:lnTo>
                  <a:lnTo>
                    <a:pt x="415" y="115"/>
                  </a:lnTo>
                  <a:lnTo>
                    <a:pt x="428" y="99"/>
                  </a:lnTo>
                  <a:lnTo>
                    <a:pt x="443" y="86"/>
                  </a:lnTo>
                  <a:lnTo>
                    <a:pt x="456" y="73"/>
                  </a:lnTo>
                  <a:lnTo>
                    <a:pt x="472" y="61"/>
                  </a:lnTo>
                  <a:lnTo>
                    <a:pt x="487" y="51"/>
                  </a:lnTo>
                  <a:lnTo>
                    <a:pt x="503" y="41"/>
                  </a:lnTo>
                  <a:lnTo>
                    <a:pt x="519" y="33"/>
                  </a:lnTo>
                  <a:lnTo>
                    <a:pt x="536" y="25"/>
                  </a:lnTo>
                  <a:lnTo>
                    <a:pt x="554" y="19"/>
                  </a:lnTo>
                  <a:lnTo>
                    <a:pt x="572" y="14"/>
                  </a:lnTo>
                  <a:lnTo>
                    <a:pt x="592" y="10"/>
                  </a:lnTo>
                  <a:lnTo>
                    <a:pt x="611" y="6"/>
                  </a:lnTo>
                  <a:lnTo>
                    <a:pt x="632" y="3"/>
                  </a:lnTo>
                  <a:lnTo>
                    <a:pt x="653" y="1"/>
                  </a:lnTo>
                  <a:lnTo>
                    <a:pt x="675" y="0"/>
                  </a:lnTo>
                  <a:lnTo>
                    <a:pt x="699" y="0"/>
                  </a:lnTo>
                  <a:lnTo>
                    <a:pt x="728" y="0"/>
                  </a:lnTo>
                  <a:lnTo>
                    <a:pt x="728" y="336"/>
                  </a:lnTo>
                  <a:lnTo>
                    <a:pt x="693" y="337"/>
                  </a:lnTo>
                  <a:lnTo>
                    <a:pt x="657" y="337"/>
                  </a:lnTo>
                  <a:lnTo>
                    <a:pt x="629" y="336"/>
                  </a:lnTo>
                  <a:lnTo>
                    <a:pt x="609" y="335"/>
                  </a:lnTo>
                  <a:lnTo>
                    <a:pt x="599" y="334"/>
                  </a:lnTo>
                  <a:lnTo>
                    <a:pt x="595" y="331"/>
                  </a:lnTo>
                  <a:lnTo>
                    <a:pt x="592" y="329"/>
                  </a:lnTo>
                  <a:lnTo>
                    <a:pt x="589" y="325"/>
                  </a:lnTo>
                  <a:lnTo>
                    <a:pt x="586" y="321"/>
                  </a:lnTo>
                  <a:lnTo>
                    <a:pt x="579" y="309"/>
                  </a:lnTo>
                  <a:lnTo>
                    <a:pt x="573" y="294"/>
                  </a:lnTo>
                  <a:lnTo>
                    <a:pt x="570" y="285"/>
                  </a:lnTo>
                  <a:lnTo>
                    <a:pt x="566" y="271"/>
                  </a:lnTo>
                  <a:lnTo>
                    <a:pt x="563" y="264"/>
                  </a:lnTo>
                  <a:lnTo>
                    <a:pt x="560" y="256"/>
                  </a:lnTo>
                  <a:lnTo>
                    <a:pt x="556" y="251"/>
                  </a:lnTo>
                  <a:lnTo>
                    <a:pt x="552" y="247"/>
                  </a:lnTo>
                  <a:lnTo>
                    <a:pt x="547" y="243"/>
                  </a:lnTo>
                  <a:lnTo>
                    <a:pt x="543" y="240"/>
                  </a:lnTo>
                  <a:lnTo>
                    <a:pt x="536" y="238"/>
                  </a:lnTo>
                  <a:lnTo>
                    <a:pt x="530" y="238"/>
                  </a:lnTo>
                  <a:lnTo>
                    <a:pt x="523" y="239"/>
                  </a:lnTo>
                  <a:lnTo>
                    <a:pt x="513" y="243"/>
                  </a:lnTo>
                  <a:lnTo>
                    <a:pt x="503" y="248"/>
                  </a:lnTo>
                  <a:lnTo>
                    <a:pt x="491" y="255"/>
                  </a:lnTo>
                  <a:lnTo>
                    <a:pt x="468" y="271"/>
                  </a:lnTo>
                  <a:lnTo>
                    <a:pt x="466" y="274"/>
                  </a:lnTo>
                  <a:lnTo>
                    <a:pt x="450" y="291"/>
                  </a:lnTo>
                  <a:lnTo>
                    <a:pt x="444" y="297"/>
                  </a:lnTo>
                  <a:lnTo>
                    <a:pt x="433" y="307"/>
                  </a:lnTo>
                  <a:lnTo>
                    <a:pt x="426" y="314"/>
                  </a:lnTo>
                  <a:lnTo>
                    <a:pt x="421" y="320"/>
                  </a:lnTo>
                  <a:lnTo>
                    <a:pt x="421" y="321"/>
                  </a:lnTo>
                  <a:lnTo>
                    <a:pt x="421" y="324"/>
                  </a:lnTo>
                  <a:lnTo>
                    <a:pt x="421" y="872"/>
                  </a:lnTo>
                  <a:lnTo>
                    <a:pt x="421" y="885"/>
                  </a:lnTo>
                  <a:lnTo>
                    <a:pt x="421" y="910"/>
                  </a:lnTo>
                  <a:lnTo>
                    <a:pt x="424" y="918"/>
                  </a:lnTo>
                  <a:lnTo>
                    <a:pt x="427" y="924"/>
                  </a:lnTo>
                  <a:lnTo>
                    <a:pt x="431" y="930"/>
                  </a:lnTo>
                  <a:lnTo>
                    <a:pt x="433" y="934"/>
                  </a:lnTo>
                  <a:lnTo>
                    <a:pt x="438" y="940"/>
                  </a:lnTo>
                  <a:lnTo>
                    <a:pt x="443" y="943"/>
                  </a:lnTo>
                  <a:lnTo>
                    <a:pt x="445" y="945"/>
                  </a:lnTo>
                  <a:lnTo>
                    <a:pt x="447" y="945"/>
                  </a:lnTo>
                  <a:lnTo>
                    <a:pt x="475" y="951"/>
                  </a:lnTo>
                  <a:lnTo>
                    <a:pt x="491" y="957"/>
                  </a:lnTo>
                  <a:lnTo>
                    <a:pt x="497" y="961"/>
                  </a:lnTo>
                  <a:lnTo>
                    <a:pt x="502" y="965"/>
                  </a:lnTo>
                  <a:lnTo>
                    <a:pt x="507" y="970"/>
                  </a:lnTo>
                  <a:lnTo>
                    <a:pt x="511" y="975"/>
                  </a:lnTo>
                  <a:lnTo>
                    <a:pt x="513" y="981"/>
                  </a:lnTo>
                  <a:lnTo>
                    <a:pt x="515" y="986"/>
                  </a:lnTo>
                  <a:lnTo>
                    <a:pt x="517" y="992"/>
                  </a:lnTo>
                  <a:lnTo>
                    <a:pt x="517" y="998"/>
                  </a:lnTo>
                  <a:lnTo>
                    <a:pt x="517" y="1067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17680" y="761040"/>
              <a:ext cx="70920" cy="85320"/>
            </a:xfrm>
            <a:custGeom>
              <a:avLst/>
              <a:gdLst/>
              <a:ahLst/>
              <a:rect l="l" t="t" r="r" b="b"/>
              <a:pathLst>
                <a:path w="1120" h="1083">
                  <a:moveTo>
                    <a:pt x="0" y="538"/>
                  </a:moveTo>
                  <a:lnTo>
                    <a:pt x="0" y="510"/>
                  </a:lnTo>
                  <a:lnTo>
                    <a:pt x="1" y="483"/>
                  </a:lnTo>
                  <a:lnTo>
                    <a:pt x="3" y="457"/>
                  </a:lnTo>
                  <a:lnTo>
                    <a:pt x="7" y="431"/>
                  </a:lnTo>
                  <a:lnTo>
                    <a:pt x="11" y="406"/>
                  </a:lnTo>
                  <a:lnTo>
                    <a:pt x="17" y="382"/>
                  </a:lnTo>
                  <a:lnTo>
                    <a:pt x="23" y="359"/>
                  </a:lnTo>
                  <a:lnTo>
                    <a:pt x="30" y="335"/>
                  </a:lnTo>
                  <a:lnTo>
                    <a:pt x="39" y="313"/>
                  </a:lnTo>
                  <a:lnTo>
                    <a:pt x="48" y="291"/>
                  </a:lnTo>
                  <a:lnTo>
                    <a:pt x="58" y="270"/>
                  </a:lnTo>
                  <a:lnTo>
                    <a:pt x="69" y="249"/>
                  </a:lnTo>
                  <a:lnTo>
                    <a:pt x="81" y="230"/>
                  </a:lnTo>
                  <a:lnTo>
                    <a:pt x="94" y="211"/>
                  </a:lnTo>
                  <a:lnTo>
                    <a:pt x="108" y="193"/>
                  </a:lnTo>
                  <a:lnTo>
                    <a:pt x="124" y="174"/>
                  </a:lnTo>
                  <a:lnTo>
                    <a:pt x="140" y="157"/>
                  </a:lnTo>
                  <a:lnTo>
                    <a:pt x="156" y="141"/>
                  </a:lnTo>
                  <a:lnTo>
                    <a:pt x="173" y="127"/>
                  </a:lnTo>
                  <a:lnTo>
                    <a:pt x="192" y="112"/>
                  </a:lnTo>
                  <a:lnTo>
                    <a:pt x="211" y="98"/>
                  </a:lnTo>
                  <a:lnTo>
                    <a:pt x="231" y="86"/>
                  </a:lnTo>
                  <a:lnTo>
                    <a:pt x="251" y="74"/>
                  </a:lnTo>
                  <a:lnTo>
                    <a:pt x="273" y="63"/>
                  </a:lnTo>
                  <a:lnTo>
                    <a:pt x="295" y="53"/>
                  </a:lnTo>
                  <a:lnTo>
                    <a:pt x="317" y="43"/>
                  </a:lnTo>
                  <a:lnTo>
                    <a:pt x="342" y="34"/>
                  </a:lnTo>
                  <a:lnTo>
                    <a:pt x="365" y="27"/>
                  </a:lnTo>
                  <a:lnTo>
                    <a:pt x="391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1" y="6"/>
                  </a:lnTo>
                  <a:lnTo>
                    <a:pt x="493" y="4"/>
                  </a:lnTo>
                  <a:lnTo>
                    <a:pt x="516" y="1"/>
                  </a:lnTo>
                  <a:lnTo>
                    <a:pt x="538" y="0"/>
                  </a:lnTo>
                  <a:lnTo>
                    <a:pt x="561" y="0"/>
                  </a:lnTo>
                  <a:lnTo>
                    <a:pt x="583" y="0"/>
                  </a:lnTo>
                  <a:lnTo>
                    <a:pt x="605" y="1"/>
                  </a:lnTo>
                  <a:lnTo>
                    <a:pt x="627" y="4"/>
                  </a:lnTo>
                  <a:lnTo>
                    <a:pt x="649" y="6"/>
                  </a:lnTo>
                  <a:lnTo>
                    <a:pt x="676" y="10"/>
                  </a:lnTo>
                  <a:lnTo>
                    <a:pt x="703" y="15"/>
                  </a:lnTo>
                  <a:lnTo>
                    <a:pt x="729" y="21"/>
                  </a:lnTo>
                  <a:lnTo>
                    <a:pt x="754" y="27"/>
                  </a:lnTo>
                  <a:lnTo>
                    <a:pt x="778" y="34"/>
                  </a:lnTo>
                  <a:lnTo>
                    <a:pt x="802" y="43"/>
                  </a:lnTo>
                  <a:lnTo>
                    <a:pt x="824" y="53"/>
                  </a:lnTo>
                  <a:lnTo>
                    <a:pt x="846" y="63"/>
                  </a:lnTo>
                  <a:lnTo>
                    <a:pt x="868" y="74"/>
                  </a:lnTo>
                  <a:lnTo>
                    <a:pt x="888" y="85"/>
                  </a:lnTo>
                  <a:lnTo>
                    <a:pt x="907" y="98"/>
                  </a:lnTo>
                  <a:lnTo>
                    <a:pt x="927" y="112"/>
                  </a:lnTo>
                  <a:lnTo>
                    <a:pt x="946" y="125"/>
                  </a:lnTo>
                  <a:lnTo>
                    <a:pt x="963" y="141"/>
                  </a:lnTo>
                  <a:lnTo>
                    <a:pt x="980" y="157"/>
                  </a:lnTo>
                  <a:lnTo>
                    <a:pt x="996" y="174"/>
                  </a:lnTo>
                  <a:lnTo>
                    <a:pt x="1011" y="192"/>
                  </a:lnTo>
                  <a:lnTo>
                    <a:pt x="1024" y="210"/>
                  </a:lnTo>
                  <a:lnTo>
                    <a:pt x="1038" y="228"/>
                  </a:lnTo>
                  <a:lnTo>
                    <a:pt x="1050" y="248"/>
                  </a:lnTo>
                  <a:lnTo>
                    <a:pt x="1061" y="269"/>
                  </a:lnTo>
                  <a:lnTo>
                    <a:pt x="1072" y="290"/>
                  </a:lnTo>
                  <a:lnTo>
                    <a:pt x="1081" y="312"/>
                  </a:lnTo>
                  <a:lnTo>
                    <a:pt x="1090" y="334"/>
                  </a:lnTo>
                  <a:lnTo>
                    <a:pt x="1097" y="356"/>
                  </a:lnTo>
                  <a:lnTo>
                    <a:pt x="1103" y="381"/>
                  </a:lnTo>
                  <a:lnTo>
                    <a:pt x="1108" y="404"/>
                  </a:lnTo>
                  <a:lnTo>
                    <a:pt x="1113" y="430"/>
                  </a:lnTo>
                  <a:lnTo>
                    <a:pt x="1117" y="454"/>
                  </a:lnTo>
                  <a:lnTo>
                    <a:pt x="1119" y="481"/>
                  </a:lnTo>
                  <a:lnTo>
                    <a:pt x="1120" y="508"/>
                  </a:lnTo>
                  <a:lnTo>
                    <a:pt x="1120" y="535"/>
                  </a:lnTo>
                  <a:lnTo>
                    <a:pt x="1120" y="564"/>
                  </a:lnTo>
                  <a:lnTo>
                    <a:pt x="1119" y="591"/>
                  </a:lnTo>
                  <a:lnTo>
                    <a:pt x="1117" y="618"/>
                  </a:lnTo>
                  <a:lnTo>
                    <a:pt x="1113" y="645"/>
                  </a:lnTo>
                  <a:lnTo>
                    <a:pt x="1109" y="669"/>
                  </a:lnTo>
                  <a:lnTo>
                    <a:pt x="1103" y="695"/>
                  </a:lnTo>
                  <a:lnTo>
                    <a:pt x="1097" y="718"/>
                  </a:lnTo>
                  <a:lnTo>
                    <a:pt x="1091" y="742"/>
                  </a:lnTo>
                  <a:lnTo>
                    <a:pt x="1082" y="765"/>
                  </a:lnTo>
                  <a:lnTo>
                    <a:pt x="1074" y="787"/>
                  </a:lnTo>
                  <a:lnTo>
                    <a:pt x="1062" y="809"/>
                  </a:lnTo>
                  <a:lnTo>
                    <a:pt x="1051" y="829"/>
                  </a:lnTo>
                  <a:lnTo>
                    <a:pt x="1040" y="850"/>
                  </a:lnTo>
                  <a:lnTo>
                    <a:pt x="1027" y="869"/>
                  </a:lnTo>
                  <a:lnTo>
                    <a:pt x="1013" y="888"/>
                  </a:lnTo>
                  <a:lnTo>
                    <a:pt x="998" y="906"/>
                  </a:lnTo>
                  <a:lnTo>
                    <a:pt x="982" y="923"/>
                  </a:lnTo>
                  <a:lnTo>
                    <a:pt x="967" y="939"/>
                  </a:lnTo>
                  <a:lnTo>
                    <a:pt x="949" y="955"/>
                  </a:lnTo>
                  <a:lnTo>
                    <a:pt x="931" y="970"/>
                  </a:lnTo>
                  <a:lnTo>
                    <a:pt x="911" y="984"/>
                  </a:lnTo>
                  <a:lnTo>
                    <a:pt x="891" y="996"/>
                  </a:lnTo>
                  <a:lnTo>
                    <a:pt x="872" y="1008"/>
                  </a:lnTo>
                  <a:lnTo>
                    <a:pt x="850" y="1019"/>
                  </a:lnTo>
                  <a:lnTo>
                    <a:pt x="828" y="1029"/>
                  </a:lnTo>
                  <a:lnTo>
                    <a:pt x="804" y="1039"/>
                  </a:lnTo>
                  <a:lnTo>
                    <a:pt x="781" y="1047"/>
                  </a:lnTo>
                  <a:lnTo>
                    <a:pt x="756" y="1055"/>
                  </a:lnTo>
                  <a:lnTo>
                    <a:pt x="730" y="1062"/>
                  </a:lnTo>
                  <a:lnTo>
                    <a:pt x="705" y="1067"/>
                  </a:lnTo>
                  <a:lnTo>
                    <a:pt x="677" y="1072"/>
                  </a:lnTo>
                  <a:lnTo>
                    <a:pt x="649" y="1077"/>
                  </a:lnTo>
                  <a:lnTo>
                    <a:pt x="627" y="1079"/>
                  </a:lnTo>
                  <a:lnTo>
                    <a:pt x="605" y="1081"/>
                  </a:lnTo>
                  <a:lnTo>
                    <a:pt x="583" y="1082"/>
                  </a:lnTo>
                  <a:lnTo>
                    <a:pt x="561" y="1083"/>
                  </a:lnTo>
                  <a:lnTo>
                    <a:pt x="538" y="1082"/>
                  </a:lnTo>
                  <a:lnTo>
                    <a:pt x="516" y="1081"/>
                  </a:lnTo>
                  <a:lnTo>
                    <a:pt x="493" y="1079"/>
                  </a:lnTo>
                  <a:lnTo>
                    <a:pt x="471" y="1077"/>
                  </a:lnTo>
                  <a:lnTo>
                    <a:pt x="444" y="1072"/>
                  </a:lnTo>
                  <a:lnTo>
                    <a:pt x="417" y="1067"/>
                  </a:lnTo>
                  <a:lnTo>
                    <a:pt x="391" y="1062"/>
                  </a:lnTo>
                  <a:lnTo>
                    <a:pt x="366" y="1055"/>
                  </a:lnTo>
                  <a:lnTo>
                    <a:pt x="342" y="1047"/>
                  </a:lnTo>
                  <a:lnTo>
                    <a:pt x="318" y="1039"/>
                  </a:lnTo>
                  <a:lnTo>
                    <a:pt x="296" y="1029"/>
                  </a:lnTo>
                  <a:lnTo>
                    <a:pt x="274" y="1018"/>
                  </a:lnTo>
                  <a:lnTo>
                    <a:pt x="252" y="1007"/>
                  </a:lnTo>
                  <a:lnTo>
                    <a:pt x="232" y="995"/>
                  </a:lnTo>
                  <a:lnTo>
                    <a:pt x="213" y="981"/>
                  </a:lnTo>
                  <a:lnTo>
                    <a:pt x="193" y="966"/>
                  </a:lnTo>
                  <a:lnTo>
                    <a:pt x="174" y="952"/>
                  </a:lnTo>
                  <a:lnTo>
                    <a:pt x="157" y="936"/>
                  </a:lnTo>
                  <a:lnTo>
                    <a:pt x="140" y="918"/>
                  </a:lnTo>
                  <a:lnTo>
                    <a:pt x="124" y="901"/>
                  </a:lnTo>
                  <a:lnTo>
                    <a:pt x="109" y="882"/>
                  </a:lnTo>
                  <a:lnTo>
                    <a:pt x="96" y="863"/>
                  </a:lnTo>
                  <a:lnTo>
                    <a:pt x="82" y="844"/>
                  </a:lnTo>
                  <a:lnTo>
                    <a:pt x="70" y="823"/>
                  </a:lnTo>
                  <a:lnTo>
                    <a:pt x="59" y="802"/>
                  </a:lnTo>
                  <a:lnTo>
                    <a:pt x="48" y="781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23" y="713"/>
                  </a:lnTo>
                  <a:lnTo>
                    <a:pt x="17" y="690"/>
                  </a:lnTo>
                  <a:lnTo>
                    <a:pt x="12" y="666"/>
                  </a:lnTo>
                  <a:lnTo>
                    <a:pt x="7" y="641"/>
                  </a:lnTo>
                  <a:lnTo>
                    <a:pt x="3" y="616"/>
                  </a:lnTo>
                  <a:lnTo>
                    <a:pt x="1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1" y="891"/>
                  </a:moveTo>
                  <a:lnTo>
                    <a:pt x="575" y="890"/>
                  </a:lnTo>
                  <a:lnTo>
                    <a:pt x="589" y="890"/>
                  </a:lnTo>
                  <a:lnTo>
                    <a:pt x="601" y="888"/>
                  </a:lnTo>
                  <a:lnTo>
                    <a:pt x="615" y="885"/>
                  </a:lnTo>
                  <a:lnTo>
                    <a:pt x="627" y="883"/>
                  </a:lnTo>
                  <a:lnTo>
                    <a:pt x="638" y="879"/>
                  </a:lnTo>
                  <a:lnTo>
                    <a:pt x="649" y="876"/>
                  </a:lnTo>
                  <a:lnTo>
                    <a:pt x="660" y="871"/>
                  </a:lnTo>
                  <a:lnTo>
                    <a:pt x="671" y="864"/>
                  </a:lnTo>
                  <a:lnTo>
                    <a:pt x="681" y="858"/>
                  </a:lnTo>
                  <a:lnTo>
                    <a:pt x="691" y="851"/>
                  </a:lnTo>
                  <a:lnTo>
                    <a:pt x="700" y="844"/>
                  </a:lnTo>
                  <a:lnTo>
                    <a:pt x="708" y="835"/>
                  </a:lnTo>
                  <a:lnTo>
                    <a:pt x="717" y="826"/>
                  </a:lnTo>
                  <a:lnTo>
                    <a:pt x="724" y="817"/>
                  </a:lnTo>
                  <a:lnTo>
                    <a:pt x="733" y="807"/>
                  </a:lnTo>
                  <a:lnTo>
                    <a:pt x="739" y="796"/>
                  </a:lnTo>
                  <a:lnTo>
                    <a:pt x="746" y="785"/>
                  </a:lnTo>
                  <a:lnTo>
                    <a:pt x="752" y="772"/>
                  </a:lnTo>
                  <a:lnTo>
                    <a:pt x="757" y="759"/>
                  </a:lnTo>
                  <a:lnTo>
                    <a:pt x="762" y="744"/>
                  </a:lnTo>
                  <a:lnTo>
                    <a:pt x="767" y="729"/>
                  </a:lnTo>
                  <a:lnTo>
                    <a:pt x="772" y="713"/>
                  </a:lnTo>
                  <a:lnTo>
                    <a:pt x="776" y="697"/>
                  </a:lnTo>
                  <a:lnTo>
                    <a:pt x="782" y="662"/>
                  </a:lnTo>
                  <a:lnTo>
                    <a:pt x="787" y="624"/>
                  </a:lnTo>
                  <a:lnTo>
                    <a:pt x="789" y="582"/>
                  </a:lnTo>
                  <a:lnTo>
                    <a:pt x="791" y="538"/>
                  </a:lnTo>
                  <a:lnTo>
                    <a:pt x="789" y="494"/>
                  </a:lnTo>
                  <a:lnTo>
                    <a:pt x="787" y="453"/>
                  </a:lnTo>
                  <a:lnTo>
                    <a:pt x="782" y="416"/>
                  </a:lnTo>
                  <a:lnTo>
                    <a:pt x="776" y="382"/>
                  </a:lnTo>
                  <a:lnTo>
                    <a:pt x="772" y="366"/>
                  </a:lnTo>
                  <a:lnTo>
                    <a:pt x="767" y="350"/>
                  </a:lnTo>
                  <a:lnTo>
                    <a:pt x="762" y="336"/>
                  </a:lnTo>
                  <a:lnTo>
                    <a:pt x="757" y="322"/>
                  </a:lnTo>
                  <a:lnTo>
                    <a:pt x="752" y="309"/>
                  </a:lnTo>
                  <a:lnTo>
                    <a:pt x="746" y="297"/>
                  </a:lnTo>
                  <a:lnTo>
                    <a:pt x="739" y="285"/>
                  </a:lnTo>
                  <a:lnTo>
                    <a:pt x="733" y="274"/>
                  </a:lnTo>
                  <a:lnTo>
                    <a:pt x="724" y="264"/>
                  </a:lnTo>
                  <a:lnTo>
                    <a:pt x="717" y="255"/>
                  </a:lnTo>
                  <a:lnTo>
                    <a:pt x="708" y="247"/>
                  </a:lnTo>
                  <a:lnTo>
                    <a:pt x="700" y="238"/>
                  </a:lnTo>
                  <a:lnTo>
                    <a:pt x="691" y="231"/>
                  </a:lnTo>
                  <a:lnTo>
                    <a:pt x="681" y="224"/>
                  </a:lnTo>
                  <a:lnTo>
                    <a:pt x="671" y="217"/>
                  </a:lnTo>
                  <a:lnTo>
                    <a:pt x="660" y="212"/>
                  </a:lnTo>
                  <a:lnTo>
                    <a:pt x="649" y="208"/>
                  </a:lnTo>
                  <a:lnTo>
                    <a:pt x="638" y="203"/>
                  </a:lnTo>
                  <a:lnTo>
                    <a:pt x="627" y="199"/>
                  </a:lnTo>
                  <a:lnTo>
                    <a:pt x="615" y="197"/>
                  </a:lnTo>
                  <a:lnTo>
                    <a:pt x="601" y="194"/>
                  </a:lnTo>
                  <a:lnTo>
                    <a:pt x="589" y="193"/>
                  </a:lnTo>
                  <a:lnTo>
                    <a:pt x="575" y="192"/>
                  </a:lnTo>
                  <a:lnTo>
                    <a:pt x="561" y="192"/>
                  </a:lnTo>
                  <a:lnTo>
                    <a:pt x="547" y="192"/>
                  </a:lnTo>
                  <a:lnTo>
                    <a:pt x="535" y="193"/>
                  </a:lnTo>
                  <a:lnTo>
                    <a:pt x="521" y="194"/>
                  </a:lnTo>
                  <a:lnTo>
                    <a:pt x="509" y="197"/>
                  </a:lnTo>
                  <a:lnTo>
                    <a:pt x="498" y="199"/>
                  </a:lnTo>
                  <a:lnTo>
                    <a:pt x="486" y="203"/>
                  </a:lnTo>
                  <a:lnTo>
                    <a:pt x="475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4" y="231"/>
                  </a:lnTo>
                  <a:lnTo>
                    <a:pt x="425" y="238"/>
                  </a:lnTo>
                  <a:lnTo>
                    <a:pt x="417" y="247"/>
                  </a:lnTo>
                  <a:lnTo>
                    <a:pt x="408" y="255"/>
                  </a:lnTo>
                  <a:lnTo>
                    <a:pt x="401" y="264"/>
                  </a:lnTo>
                  <a:lnTo>
                    <a:pt x="392" y="274"/>
                  </a:lnTo>
                  <a:lnTo>
                    <a:pt x="386" y="285"/>
                  </a:lnTo>
                  <a:lnTo>
                    <a:pt x="379" y="297"/>
                  </a:lnTo>
                  <a:lnTo>
                    <a:pt x="372" y="309"/>
                  </a:lnTo>
                  <a:lnTo>
                    <a:pt x="367" y="322"/>
                  </a:lnTo>
                  <a:lnTo>
                    <a:pt x="361" y="336"/>
                  </a:lnTo>
                  <a:lnTo>
                    <a:pt x="356" y="350"/>
                  </a:lnTo>
                  <a:lnTo>
                    <a:pt x="353" y="366"/>
                  </a:lnTo>
                  <a:lnTo>
                    <a:pt x="349" y="382"/>
                  </a:lnTo>
                  <a:lnTo>
                    <a:pt x="342" y="416"/>
                  </a:lnTo>
                  <a:lnTo>
                    <a:pt x="338" y="453"/>
                  </a:lnTo>
                  <a:lnTo>
                    <a:pt x="334" y="494"/>
                  </a:lnTo>
                  <a:lnTo>
                    <a:pt x="334" y="538"/>
                  </a:lnTo>
                  <a:lnTo>
                    <a:pt x="334" y="581"/>
                  </a:lnTo>
                  <a:lnTo>
                    <a:pt x="338" y="623"/>
                  </a:lnTo>
                  <a:lnTo>
                    <a:pt x="342" y="661"/>
                  </a:lnTo>
                  <a:lnTo>
                    <a:pt x="348" y="695"/>
                  </a:lnTo>
                  <a:lnTo>
                    <a:pt x="353" y="711"/>
                  </a:lnTo>
                  <a:lnTo>
                    <a:pt x="356" y="727"/>
                  </a:lnTo>
                  <a:lnTo>
                    <a:pt x="361" y="742"/>
                  </a:lnTo>
                  <a:lnTo>
                    <a:pt x="366" y="756"/>
                  </a:lnTo>
                  <a:lnTo>
                    <a:pt x="372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2" y="806"/>
                  </a:lnTo>
                  <a:lnTo>
                    <a:pt x="399" y="815"/>
                  </a:lnTo>
                  <a:lnTo>
                    <a:pt x="407" y="825"/>
                  </a:lnTo>
                  <a:lnTo>
                    <a:pt x="415" y="834"/>
                  </a:lnTo>
                  <a:lnTo>
                    <a:pt x="424" y="842"/>
                  </a:lnTo>
                  <a:lnTo>
                    <a:pt x="433" y="851"/>
                  </a:lnTo>
                  <a:lnTo>
                    <a:pt x="443" y="857"/>
                  </a:lnTo>
                  <a:lnTo>
                    <a:pt x="452" y="863"/>
                  </a:lnTo>
                  <a:lnTo>
                    <a:pt x="463" y="869"/>
                  </a:lnTo>
                  <a:lnTo>
                    <a:pt x="473" y="874"/>
                  </a:lnTo>
                  <a:lnTo>
                    <a:pt x="484" y="879"/>
                  </a:lnTo>
                  <a:lnTo>
                    <a:pt x="497" y="883"/>
                  </a:lnTo>
                  <a:lnTo>
                    <a:pt x="509" y="885"/>
                  </a:lnTo>
                  <a:lnTo>
                    <a:pt x="521" y="888"/>
                  </a:lnTo>
                  <a:lnTo>
                    <a:pt x="534" y="890"/>
                  </a:lnTo>
                  <a:lnTo>
                    <a:pt x="547" y="890"/>
                  </a:lnTo>
                  <a:lnTo>
                    <a:pt x="561" y="891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92560" y="731520"/>
              <a:ext cx="45000" cy="109080"/>
            </a:xfrm>
            <a:custGeom>
              <a:avLst/>
              <a:gdLst/>
              <a:ahLst/>
              <a:rect l="l" t="t" r="r" b="b"/>
              <a:pathLst>
                <a:path w="715" h="1444">
                  <a:moveTo>
                    <a:pt x="0" y="646"/>
                  </a:moveTo>
                  <a:lnTo>
                    <a:pt x="0" y="444"/>
                  </a:lnTo>
                  <a:lnTo>
                    <a:pt x="98" y="444"/>
                  </a:lnTo>
                  <a:lnTo>
                    <a:pt x="98" y="308"/>
                  </a:lnTo>
                  <a:lnTo>
                    <a:pt x="98" y="291"/>
                  </a:lnTo>
                  <a:lnTo>
                    <a:pt x="100" y="275"/>
                  </a:lnTo>
                  <a:lnTo>
                    <a:pt x="102" y="259"/>
                  </a:lnTo>
                  <a:lnTo>
                    <a:pt x="105" y="243"/>
                  </a:lnTo>
                  <a:lnTo>
                    <a:pt x="108" y="228"/>
                  </a:lnTo>
                  <a:lnTo>
                    <a:pt x="113" y="212"/>
                  </a:lnTo>
                  <a:lnTo>
                    <a:pt x="119" y="199"/>
                  </a:lnTo>
                  <a:lnTo>
                    <a:pt x="125" y="184"/>
                  </a:lnTo>
                  <a:lnTo>
                    <a:pt x="133" y="170"/>
                  </a:lnTo>
                  <a:lnTo>
                    <a:pt x="140" y="157"/>
                  </a:lnTo>
                  <a:lnTo>
                    <a:pt x="149" y="145"/>
                  </a:lnTo>
                  <a:lnTo>
                    <a:pt x="159" y="131"/>
                  </a:lnTo>
                  <a:lnTo>
                    <a:pt x="170" y="119"/>
                  </a:lnTo>
                  <a:lnTo>
                    <a:pt x="181" y="108"/>
                  </a:lnTo>
                  <a:lnTo>
                    <a:pt x="193" y="97"/>
                  </a:lnTo>
                  <a:lnTo>
                    <a:pt x="207" y="86"/>
                  </a:lnTo>
                  <a:lnTo>
                    <a:pt x="221" y="75"/>
                  </a:lnTo>
                  <a:lnTo>
                    <a:pt x="235" y="65"/>
                  </a:lnTo>
                  <a:lnTo>
                    <a:pt x="251" y="56"/>
                  </a:lnTo>
                  <a:lnTo>
                    <a:pt x="266" y="48"/>
                  </a:lnTo>
                  <a:lnTo>
                    <a:pt x="282" y="40"/>
                  </a:lnTo>
                  <a:lnTo>
                    <a:pt x="299" y="33"/>
                  </a:lnTo>
                  <a:lnTo>
                    <a:pt x="316" y="27"/>
                  </a:lnTo>
                  <a:lnTo>
                    <a:pt x="335" y="21"/>
                  </a:lnTo>
                  <a:lnTo>
                    <a:pt x="352" y="16"/>
                  </a:lnTo>
                  <a:lnTo>
                    <a:pt x="371" y="12"/>
                  </a:lnTo>
                  <a:lnTo>
                    <a:pt x="391" y="8"/>
                  </a:lnTo>
                  <a:lnTo>
                    <a:pt x="411" y="5"/>
                  </a:lnTo>
                  <a:lnTo>
                    <a:pt x="432" y="2"/>
                  </a:lnTo>
                  <a:lnTo>
                    <a:pt x="453" y="1"/>
                  </a:lnTo>
                  <a:lnTo>
                    <a:pt x="475" y="0"/>
                  </a:lnTo>
                  <a:lnTo>
                    <a:pt x="497" y="0"/>
                  </a:lnTo>
                  <a:lnTo>
                    <a:pt x="529" y="1"/>
                  </a:lnTo>
                  <a:lnTo>
                    <a:pt x="560" y="3"/>
                  </a:lnTo>
                  <a:lnTo>
                    <a:pt x="588" y="8"/>
                  </a:lnTo>
                  <a:lnTo>
                    <a:pt x="615" y="16"/>
                  </a:lnTo>
                  <a:lnTo>
                    <a:pt x="640" y="26"/>
                  </a:lnTo>
                  <a:lnTo>
                    <a:pt x="665" y="37"/>
                  </a:lnTo>
                  <a:lnTo>
                    <a:pt x="690" y="49"/>
                  </a:lnTo>
                  <a:lnTo>
                    <a:pt x="715" y="64"/>
                  </a:lnTo>
                  <a:lnTo>
                    <a:pt x="715" y="344"/>
                  </a:lnTo>
                  <a:lnTo>
                    <a:pt x="705" y="345"/>
                  </a:lnTo>
                  <a:lnTo>
                    <a:pt x="695" y="346"/>
                  </a:lnTo>
                  <a:lnTo>
                    <a:pt x="688" y="346"/>
                  </a:lnTo>
                  <a:lnTo>
                    <a:pt x="681" y="345"/>
                  </a:lnTo>
                  <a:lnTo>
                    <a:pt x="651" y="345"/>
                  </a:lnTo>
                  <a:lnTo>
                    <a:pt x="627" y="344"/>
                  </a:lnTo>
                  <a:lnTo>
                    <a:pt x="610" y="341"/>
                  </a:lnTo>
                  <a:lnTo>
                    <a:pt x="600" y="339"/>
                  </a:lnTo>
                  <a:lnTo>
                    <a:pt x="593" y="334"/>
                  </a:lnTo>
                  <a:lnTo>
                    <a:pt x="584" y="324"/>
                  </a:lnTo>
                  <a:lnTo>
                    <a:pt x="577" y="312"/>
                  </a:lnTo>
                  <a:lnTo>
                    <a:pt x="568" y="297"/>
                  </a:lnTo>
                  <a:lnTo>
                    <a:pt x="560" y="278"/>
                  </a:lnTo>
                  <a:lnTo>
                    <a:pt x="553" y="269"/>
                  </a:lnTo>
                  <a:lnTo>
                    <a:pt x="553" y="264"/>
                  </a:lnTo>
                  <a:lnTo>
                    <a:pt x="540" y="245"/>
                  </a:lnTo>
                  <a:lnTo>
                    <a:pt x="535" y="239"/>
                  </a:lnTo>
                  <a:lnTo>
                    <a:pt x="530" y="234"/>
                  </a:lnTo>
                  <a:lnTo>
                    <a:pt x="525" y="231"/>
                  </a:lnTo>
                  <a:lnTo>
                    <a:pt x="520" y="227"/>
                  </a:lnTo>
                  <a:lnTo>
                    <a:pt x="515" y="223"/>
                  </a:lnTo>
                  <a:lnTo>
                    <a:pt x="509" y="222"/>
                  </a:lnTo>
                  <a:lnTo>
                    <a:pt x="504" y="221"/>
                  </a:lnTo>
                  <a:lnTo>
                    <a:pt x="498" y="220"/>
                  </a:lnTo>
                  <a:lnTo>
                    <a:pt x="491" y="221"/>
                  </a:lnTo>
                  <a:lnTo>
                    <a:pt x="474" y="223"/>
                  </a:lnTo>
                  <a:lnTo>
                    <a:pt x="464" y="226"/>
                  </a:lnTo>
                  <a:lnTo>
                    <a:pt x="456" y="229"/>
                  </a:lnTo>
                  <a:lnTo>
                    <a:pt x="449" y="234"/>
                  </a:lnTo>
                  <a:lnTo>
                    <a:pt x="443" y="240"/>
                  </a:lnTo>
                  <a:lnTo>
                    <a:pt x="439" y="249"/>
                  </a:lnTo>
                  <a:lnTo>
                    <a:pt x="435" y="260"/>
                  </a:lnTo>
                  <a:lnTo>
                    <a:pt x="432" y="274"/>
                  </a:lnTo>
                  <a:lnTo>
                    <a:pt x="430" y="288"/>
                  </a:lnTo>
                  <a:lnTo>
                    <a:pt x="430" y="340"/>
                  </a:lnTo>
                  <a:lnTo>
                    <a:pt x="430" y="444"/>
                  </a:lnTo>
                  <a:lnTo>
                    <a:pt x="705" y="444"/>
                  </a:lnTo>
                  <a:lnTo>
                    <a:pt x="705" y="646"/>
                  </a:lnTo>
                  <a:lnTo>
                    <a:pt x="430" y="646"/>
                  </a:lnTo>
                  <a:lnTo>
                    <a:pt x="430" y="1249"/>
                  </a:lnTo>
                  <a:lnTo>
                    <a:pt x="430" y="1262"/>
                  </a:lnTo>
                  <a:lnTo>
                    <a:pt x="430" y="1277"/>
                  </a:lnTo>
                  <a:lnTo>
                    <a:pt x="430" y="1293"/>
                  </a:lnTo>
                  <a:lnTo>
                    <a:pt x="432" y="1299"/>
                  </a:lnTo>
                  <a:lnTo>
                    <a:pt x="433" y="1305"/>
                  </a:lnTo>
                  <a:lnTo>
                    <a:pt x="434" y="1310"/>
                  </a:lnTo>
                  <a:lnTo>
                    <a:pt x="437" y="1315"/>
                  </a:lnTo>
                  <a:lnTo>
                    <a:pt x="439" y="1318"/>
                  </a:lnTo>
                  <a:lnTo>
                    <a:pt x="442" y="1321"/>
                  </a:lnTo>
                  <a:lnTo>
                    <a:pt x="445" y="1323"/>
                  </a:lnTo>
                  <a:lnTo>
                    <a:pt x="449" y="1325"/>
                  </a:lnTo>
                  <a:lnTo>
                    <a:pt x="480" y="1330"/>
                  </a:lnTo>
                  <a:lnTo>
                    <a:pt x="492" y="1334"/>
                  </a:lnTo>
                  <a:lnTo>
                    <a:pt x="498" y="1338"/>
                  </a:lnTo>
                  <a:lnTo>
                    <a:pt x="503" y="1343"/>
                  </a:lnTo>
                  <a:lnTo>
                    <a:pt x="507" y="1348"/>
                  </a:lnTo>
                  <a:lnTo>
                    <a:pt x="510" y="1353"/>
                  </a:lnTo>
                  <a:lnTo>
                    <a:pt x="513" y="1358"/>
                  </a:lnTo>
                  <a:lnTo>
                    <a:pt x="515" y="1364"/>
                  </a:lnTo>
                  <a:lnTo>
                    <a:pt x="517" y="1370"/>
                  </a:lnTo>
                  <a:lnTo>
                    <a:pt x="517" y="1377"/>
                  </a:lnTo>
                  <a:lnTo>
                    <a:pt x="517" y="1444"/>
                  </a:lnTo>
                  <a:lnTo>
                    <a:pt x="7" y="1444"/>
                  </a:lnTo>
                  <a:lnTo>
                    <a:pt x="7" y="1376"/>
                  </a:lnTo>
                  <a:lnTo>
                    <a:pt x="9" y="1369"/>
                  </a:lnTo>
                  <a:lnTo>
                    <a:pt x="10" y="1363"/>
                  </a:lnTo>
                  <a:lnTo>
                    <a:pt x="12" y="1358"/>
                  </a:lnTo>
                  <a:lnTo>
                    <a:pt x="15" y="1352"/>
                  </a:lnTo>
                  <a:lnTo>
                    <a:pt x="18" y="1347"/>
                  </a:lnTo>
                  <a:lnTo>
                    <a:pt x="23" y="1343"/>
                  </a:lnTo>
                  <a:lnTo>
                    <a:pt x="28" y="1338"/>
                  </a:lnTo>
                  <a:lnTo>
                    <a:pt x="34" y="1334"/>
                  </a:lnTo>
                  <a:lnTo>
                    <a:pt x="49" y="1330"/>
                  </a:lnTo>
                  <a:lnTo>
                    <a:pt x="79" y="1323"/>
                  </a:lnTo>
                  <a:lnTo>
                    <a:pt x="85" y="1321"/>
                  </a:lnTo>
                  <a:lnTo>
                    <a:pt x="90" y="1316"/>
                  </a:lnTo>
                  <a:lnTo>
                    <a:pt x="95" y="1309"/>
                  </a:lnTo>
                  <a:lnTo>
                    <a:pt x="98" y="1300"/>
                  </a:lnTo>
                  <a:lnTo>
                    <a:pt x="98" y="1293"/>
                  </a:lnTo>
                  <a:lnTo>
                    <a:pt x="98" y="1279"/>
                  </a:lnTo>
                  <a:lnTo>
                    <a:pt x="98" y="1262"/>
                  </a:lnTo>
                  <a:lnTo>
                    <a:pt x="98" y="1249"/>
                  </a:lnTo>
                  <a:lnTo>
                    <a:pt x="98" y="646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33240" y="762840"/>
              <a:ext cx="60840" cy="82080"/>
            </a:xfrm>
            <a:custGeom>
              <a:avLst/>
              <a:gdLst/>
              <a:ahLst/>
              <a:rect l="l" t="t" r="r" b="b"/>
              <a:pathLst>
                <a:path w="991" h="1054">
                  <a:moveTo>
                    <a:pt x="951" y="552"/>
                  </a:moveTo>
                  <a:lnTo>
                    <a:pt x="325" y="552"/>
                  </a:lnTo>
                  <a:lnTo>
                    <a:pt x="322" y="563"/>
                  </a:lnTo>
                  <a:lnTo>
                    <a:pt x="322" y="571"/>
                  </a:lnTo>
                  <a:lnTo>
                    <a:pt x="322" y="581"/>
                  </a:lnTo>
                  <a:lnTo>
                    <a:pt x="323" y="592"/>
                  </a:lnTo>
                  <a:lnTo>
                    <a:pt x="325" y="603"/>
                  </a:lnTo>
                  <a:lnTo>
                    <a:pt x="327" y="614"/>
                  </a:lnTo>
                  <a:lnTo>
                    <a:pt x="333" y="636"/>
                  </a:lnTo>
                  <a:lnTo>
                    <a:pt x="343" y="659"/>
                  </a:lnTo>
                  <a:lnTo>
                    <a:pt x="354" y="681"/>
                  </a:lnTo>
                  <a:lnTo>
                    <a:pt x="369" y="704"/>
                  </a:lnTo>
                  <a:lnTo>
                    <a:pt x="385" y="727"/>
                  </a:lnTo>
                  <a:lnTo>
                    <a:pt x="405" y="749"/>
                  </a:lnTo>
                  <a:lnTo>
                    <a:pt x="414" y="760"/>
                  </a:lnTo>
                  <a:lnTo>
                    <a:pt x="426" y="771"/>
                  </a:lnTo>
                  <a:lnTo>
                    <a:pt x="437" y="781"/>
                  </a:lnTo>
                  <a:lnTo>
                    <a:pt x="448" y="790"/>
                  </a:lnTo>
                  <a:lnTo>
                    <a:pt x="459" y="798"/>
                  </a:lnTo>
                  <a:lnTo>
                    <a:pt x="471" y="806"/>
                  </a:lnTo>
                  <a:lnTo>
                    <a:pt x="482" y="813"/>
                  </a:lnTo>
                  <a:lnTo>
                    <a:pt x="494" y="819"/>
                  </a:lnTo>
                  <a:lnTo>
                    <a:pt x="507" y="824"/>
                  </a:lnTo>
                  <a:lnTo>
                    <a:pt x="519" y="829"/>
                  </a:lnTo>
                  <a:lnTo>
                    <a:pt x="533" y="834"/>
                  </a:lnTo>
                  <a:lnTo>
                    <a:pt x="545" y="837"/>
                  </a:lnTo>
                  <a:lnTo>
                    <a:pt x="558" y="839"/>
                  </a:lnTo>
                  <a:lnTo>
                    <a:pt x="572" y="841"/>
                  </a:lnTo>
                  <a:lnTo>
                    <a:pt x="587" y="843"/>
                  </a:lnTo>
                  <a:lnTo>
                    <a:pt x="600" y="843"/>
                  </a:lnTo>
                  <a:lnTo>
                    <a:pt x="614" y="843"/>
                  </a:lnTo>
                  <a:lnTo>
                    <a:pt x="628" y="841"/>
                  </a:lnTo>
                  <a:lnTo>
                    <a:pt x="642" y="839"/>
                  </a:lnTo>
                  <a:lnTo>
                    <a:pt x="657" y="837"/>
                  </a:lnTo>
                  <a:lnTo>
                    <a:pt x="672" y="833"/>
                  </a:lnTo>
                  <a:lnTo>
                    <a:pt x="684" y="829"/>
                  </a:lnTo>
                  <a:lnTo>
                    <a:pt x="696" y="826"/>
                  </a:lnTo>
                  <a:lnTo>
                    <a:pt x="708" y="821"/>
                  </a:lnTo>
                  <a:lnTo>
                    <a:pt x="718" y="817"/>
                  </a:lnTo>
                  <a:lnTo>
                    <a:pt x="761" y="789"/>
                  </a:lnTo>
                  <a:lnTo>
                    <a:pt x="798" y="764"/>
                  </a:lnTo>
                  <a:lnTo>
                    <a:pt x="804" y="764"/>
                  </a:lnTo>
                  <a:lnTo>
                    <a:pt x="814" y="757"/>
                  </a:lnTo>
                  <a:lnTo>
                    <a:pt x="825" y="747"/>
                  </a:lnTo>
                  <a:lnTo>
                    <a:pt x="834" y="737"/>
                  </a:lnTo>
                  <a:lnTo>
                    <a:pt x="847" y="721"/>
                  </a:lnTo>
                  <a:lnTo>
                    <a:pt x="868" y="698"/>
                  </a:lnTo>
                  <a:lnTo>
                    <a:pt x="876" y="688"/>
                  </a:lnTo>
                  <a:lnTo>
                    <a:pt x="884" y="684"/>
                  </a:lnTo>
                  <a:lnTo>
                    <a:pt x="895" y="682"/>
                  </a:lnTo>
                  <a:lnTo>
                    <a:pt x="910" y="681"/>
                  </a:lnTo>
                  <a:lnTo>
                    <a:pt x="927" y="681"/>
                  </a:lnTo>
                  <a:lnTo>
                    <a:pt x="938" y="681"/>
                  </a:lnTo>
                  <a:lnTo>
                    <a:pt x="950" y="681"/>
                  </a:lnTo>
                  <a:lnTo>
                    <a:pt x="959" y="681"/>
                  </a:lnTo>
                  <a:lnTo>
                    <a:pt x="968" y="681"/>
                  </a:lnTo>
                  <a:lnTo>
                    <a:pt x="991" y="681"/>
                  </a:lnTo>
                  <a:lnTo>
                    <a:pt x="991" y="950"/>
                  </a:lnTo>
                  <a:lnTo>
                    <a:pt x="979" y="959"/>
                  </a:lnTo>
                  <a:lnTo>
                    <a:pt x="964" y="968"/>
                  </a:lnTo>
                  <a:lnTo>
                    <a:pt x="950" y="977"/>
                  </a:lnTo>
                  <a:lnTo>
                    <a:pt x="934" y="985"/>
                  </a:lnTo>
                  <a:lnTo>
                    <a:pt x="911" y="996"/>
                  </a:lnTo>
                  <a:lnTo>
                    <a:pt x="889" y="1006"/>
                  </a:lnTo>
                  <a:lnTo>
                    <a:pt x="866" y="1016"/>
                  </a:lnTo>
                  <a:lnTo>
                    <a:pt x="841" y="1023"/>
                  </a:lnTo>
                  <a:lnTo>
                    <a:pt x="817" y="1031"/>
                  </a:lnTo>
                  <a:lnTo>
                    <a:pt x="791" y="1037"/>
                  </a:lnTo>
                  <a:lnTo>
                    <a:pt x="764" y="1042"/>
                  </a:lnTo>
                  <a:lnTo>
                    <a:pt x="736" y="1045"/>
                  </a:lnTo>
                  <a:lnTo>
                    <a:pt x="704" y="1049"/>
                  </a:lnTo>
                  <a:lnTo>
                    <a:pt x="670" y="1051"/>
                  </a:lnTo>
                  <a:lnTo>
                    <a:pt x="636" y="1053"/>
                  </a:lnTo>
                  <a:lnTo>
                    <a:pt x="600" y="1054"/>
                  </a:lnTo>
                  <a:lnTo>
                    <a:pt x="572" y="1053"/>
                  </a:lnTo>
                  <a:lnTo>
                    <a:pt x="544" y="1051"/>
                  </a:lnTo>
                  <a:lnTo>
                    <a:pt x="515" y="1050"/>
                  </a:lnTo>
                  <a:lnTo>
                    <a:pt x="490" y="1047"/>
                  </a:lnTo>
                  <a:lnTo>
                    <a:pt x="462" y="1043"/>
                  </a:lnTo>
                  <a:lnTo>
                    <a:pt x="438" y="1039"/>
                  </a:lnTo>
                  <a:lnTo>
                    <a:pt x="412" y="1033"/>
                  </a:lnTo>
                  <a:lnTo>
                    <a:pt x="389" y="1027"/>
                  </a:lnTo>
                  <a:lnTo>
                    <a:pt x="365" y="1020"/>
                  </a:lnTo>
                  <a:lnTo>
                    <a:pt x="342" y="1012"/>
                  </a:lnTo>
                  <a:lnTo>
                    <a:pt x="320" y="1004"/>
                  </a:lnTo>
                  <a:lnTo>
                    <a:pt x="298" y="994"/>
                  </a:lnTo>
                  <a:lnTo>
                    <a:pt x="277" y="984"/>
                  </a:lnTo>
                  <a:lnTo>
                    <a:pt x="257" y="972"/>
                  </a:lnTo>
                  <a:lnTo>
                    <a:pt x="237" y="961"/>
                  </a:lnTo>
                  <a:lnTo>
                    <a:pt x="219" y="947"/>
                  </a:lnTo>
                  <a:lnTo>
                    <a:pt x="200" y="934"/>
                  </a:lnTo>
                  <a:lnTo>
                    <a:pt x="183" y="919"/>
                  </a:lnTo>
                  <a:lnTo>
                    <a:pt x="166" y="904"/>
                  </a:lnTo>
                  <a:lnTo>
                    <a:pt x="150" y="888"/>
                  </a:lnTo>
                  <a:lnTo>
                    <a:pt x="135" y="872"/>
                  </a:lnTo>
                  <a:lnTo>
                    <a:pt x="121" y="855"/>
                  </a:lnTo>
                  <a:lnTo>
                    <a:pt x="107" y="837"/>
                  </a:lnTo>
                  <a:lnTo>
                    <a:pt x="93" y="818"/>
                  </a:lnTo>
                  <a:lnTo>
                    <a:pt x="81" y="798"/>
                  </a:lnTo>
                  <a:lnTo>
                    <a:pt x="70" y="779"/>
                  </a:lnTo>
                  <a:lnTo>
                    <a:pt x="59" y="758"/>
                  </a:lnTo>
                  <a:lnTo>
                    <a:pt x="49" y="736"/>
                  </a:lnTo>
                  <a:lnTo>
                    <a:pt x="41" y="714"/>
                  </a:lnTo>
                  <a:lnTo>
                    <a:pt x="32" y="692"/>
                  </a:lnTo>
                  <a:lnTo>
                    <a:pt x="25" y="667"/>
                  </a:lnTo>
                  <a:lnTo>
                    <a:pt x="17" y="644"/>
                  </a:lnTo>
                  <a:lnTo>
                    <a:pt x="10" y="611"/>
                  </a:lnTo>
                  <a:lnTo>
                    <a:pt x="4" y="579"/>
                  </a:lnTo>
                  <a:lnTo>
                    <a:pt x="0" y="546"/>
                  </a:lnTo>
                  <a:lnTo>
                    <a:pt x="0" y="512"/>
                  </a:lnTo>
                  <a:lnTo>
                    <a:pt x="0" y="494"/>
                  </a:lnTo>
                  <a:lnTo>
                    <a:pt x="1" y="474"/>
                  </a:lnTo>
                  <a:lnTo>
                    <a:pt x="2" y="456"/>
                  </a:lnTo>
                  <a:lnTo>
                    <a:pt x="5" y="437"/>
                  </a:lnTo>
                  <a:lnTo>
                    <a:pt x="9" y="419"/>
                  </a:lnTo>
                  <a:lnTo>
                    <a:pt x="12" y="401"/>
                  </a:lnTo>
                  <a:lnTo>
                    <a:pt x="16" y="383"/>
                  </a:lnTo>
                  <a:lnTo>
                    <a:pt x="22" y="365"/>
                  </a:lnTo>
                  <a:lnTo>
                    <a:pt x="28" y="348"/>
                  </a:lnTo>
                  <a:lnTo>
                    <a:pt x="34" y="331"/>
                  </a:lnTo>
                  <a:lnTo>
                    <a:pt x="42" y="313"/>
                  </a:lnTo>
                  <a:lnTo>
                    <a:pt x="50" y="296"/>
                  </a:lnTo>
                  <a:lnTo>
                    <a:pt x="59" y="279"/>
                  </a:lnTo>
                  <a:lnTo>
                    <a:pt x="69" y="262"/>
                  </a:lnTo>
                  <a:lnTo>
                    <a:pt x="79" y="246"/>
                  </a:lnTo>
                  <a:lnTo>
                    <a:pt x="90" y="229"/>
                  </a:lnTo>
                  <a:lnTo>
                    <a:pt x="105" y="208"/>
                  </a:lnTo>
                  <a:lnTo>
                    <a:pt x="121" y="187"/>
                  </a:lnTo>
                  <a:lnTo>
                    <a:pt x="136" y="167"/>
                  </a:lnTo>
                  <a:lnTo>
                    <a:pt x="152" y="149"/>
                  </a:lnTo>
                  <a:lnTo>
                    <a:pt x="171" y="132"/>
                  </a:lnTo>
                  <a:lnTo>
                    <a:pt x="188" y="116"/>
                  </a:lnTo>
                  <a:lnTo>
                    <a:pt x="207" y="100"/>
                  </a:lnTo>
                  <a:lnTo>
                    <a:pt x="226" y="85"/>
                  </a:lnTo>
                  <a:lnTo>
                    <a:pt x="246" y="72"/>
                  </a:lnTo>
                  <a:lnTo>
                    <a:pt x="266" y="61"/>
                  </a:lnTo>
                  <a:lnTo>
                    <a:pt x="284" y="49"/>
                  </a:lnTo>
                  <a:lnTo>
                    <a:pt x="304" y="40"/>
                  </a:lnTo>
                  <a:lnTo>
                    <a:pt x="322" y="32"/>
                  </a:lnTo>
                  <a:lnTo>
                    <a:pt x="341" y="25"/>
                  </a:lnTo>
                  <a:lnTo>
                    <a:pt x="359" y="19"/>
                  </a:lnTo>
                  <a:lnTo>
                    <a:pt x="378" y="15"/>
                  </a:lnTo>
                  <a:lnTo>
                    <a:pt x="412" y="9"/>
                  </a:lnTo>
                  <a:lnTo>
                    <a:pt x="445" y="4"/>
                  </a:lnTo>
                  <a:lnTo>
                    <a:pt x="475" y="2"/>
                  </a:lnTo>
                  <a:lnTo>
                    <a:pt x="503" y="0"/>
                  </a:lnTo>
                  <a:lnTo>
                    <a:pt x="525" y="0"/>
                  </a:lnTo>
                  <a:lnTo>
                    <a:pt x="547" y="3"/>
                  </a:lnTo>
                  <a:lnTo>
                    <a:pt x="569" y="5"/>
                  </a:lnTo>
                  <a:lnTo>
                    <a:pt x="590" y="8"/>
                  </a:lnTo>
                  <a:lnTo>
                    <a:pt x="611" y="13"/>
                  </a:lnTo>
                  <a:lnTo>
                    <a:pt x="632" y="18"/>
                  </a:lnTo>
                  <a:lnTo>
                    <a:pt x="653" y="25"/>
                  </a:lnTo>
                  <a:lnTo>
                    <a:pt x="673" y="31"/>
                  </a:lnTo>
                  <a:lnTo>
                    <a:pt x="691" y="40"/>
                  </a:lnTo>
                  <a:lnTo>
                    <a:pt x="710" y="49"/>
                  </a:lnTo>
                  <a:lnTo>
                    <a:pt x="728" y="59"/>
                  </a:lnTo>
                  <a:lnTo>
                    <a:pt x="747" y="70"/>
                  </a:lnTo>
                  <a:lnTo>
                    <a:pt x="764" y="83"/>
                  </a:lnTo>
                  <a:lnTo>
                    <a:pt x="781" y="96"/>
                  </a:lnTo>
                  <a:lnTo>
                    <a:pt x="797" y="111"/>
                  </a:lnTo>
                  <a:lnTo>
                    <a:pt x="814" y="126"/>
                  </a:lnTo>
                  <a:lnTo>
                    <a:pt x="830" y="143"/>
                  </a:lnTo>
                  <a:lnTo>
                    <a:pt x="846" y="160"/>
                  </a:lnTo>
                  <a:lnTo>
                    <a:pt x="860" y="178"/>
                  </a:lnTo>
                  <a:lnTo>
                    <a:pt x="873" y="198"/>
                  </a:lnTo>
                  <a:lnTo>
                    <a:pt x="886" y="218"/>
                  </a:lnTo>
                  <a:lnTo>
                    <a:pt x="897" y="239"/>
                  </a:lnTo>
                  <a:lnTo>
                    <a:pt x="908" y="259"/>
                  </a:lnTo>
                  <a:lnTo>
                    <a:pt x="916" y="280"/>
                  </a:lnTo>
                  <a:lnTo>
                    <a:pt x="925" y="304"/>
                  </a:lnTo>
                  <a:lnTo>
                    <a:pt x="931" y="326"/>
                  </a:lnTo>
                  <a:lnTo>
                    <a:pt x="937" y="349"/>
                  </a:lnTo>
                  <a:lnTo>
                    <a:pt x="942" y="374"/>
                  </a:lnTo>
                  <a:lnTo>
                    <a:pt x="946" y="398"/>
                  </a:lnTo>
                  <a:lnTo>
                    <a:pt x="948" y="424"/>
                  </a:lnTo>
                  <a:lnTo>
                    <a:pt x="950" y="451"/>
                  </a:lnTo>
                  <a:lnTo>
                    <a:pt x="951" y="477"/>
                  </a:lnTo>
                  <a:lnTo>
                    <a:pt x="951" y="487"/>
                  </a:lnTo>
                  <a:lnTo>
                    <a:pt x="951" y="496"/>
                  </a:lnTo>
                  <a:lnTo>
                    <a:pt x="951" y="512"/>
                  </a:lnTo>
                  <a:lnTo>
                    <a:pt x="951" y="528"/>
                  </a:lnTo>
                  <a:lnTo>
                    <a:pt x="951" y="542"/>
                  </a:lnTo>
                  <a:lnTo>
                    <a:pt x="951" y="552"/>
                  </a:lnTo>
                  <a:close/>
                  <a:moveTo>
                    <a:pt x="627" y="366"/>
                  </a:moveTo>
                  <a:lnTo>
                    <a:pt x="626" y="344"/>
                  </a:lnTo>
                  <a:lnTo>
                    <a:pt x="624" y="328"/>
                  </a:lnTo>
                  <a:lnTo>
                    <a:pt x="620" y="312"/>
                  </a:lnTo>
                  <a:lnTo>
                    <a:pt x="616" y="299"/>
                  </a:lnTo>
                  <a:lnTo>
                    <a:pt x="611" y="285"/>
                  </a:lnTo>
                  <a:lnTo>
                    <a:pt x="605" y="273"/>
                  </a:lnTo>
                  <a:lnTo>
                    <a:pt x="599" y="262"/>
                  </a:lnTo>
                  <a:lnTo>
                    <a:pt x="592" y="252"/>
                  </a:lnTo>
                  <a:lnTo>
                    <a:pt x="584" y="243"/>
                  </a:lnTo>
                  <a:lnTo>
                    <a:pt x="574" y="235"/>
                  </a:lnTo>
                  <a:lnTo>
                    <a:pt x="565" y="229"/>
                  </a:lnTo>
                  <a:lnTo>
                    <a:pt x="555" y="223"/>
                  </a:lnTo>
                  <a:lnTo>
                    <a:pt x="542" y="218"/>
                  </a:lnTo>
                  <a:lnTo>
                    <a:pt x="530" y="214"/>
                  </a:lnTo>
                  <a:lnTo>
                    <a:pt x="518" y="212"/>
                  </a:lnTo>
                  <a:lnTo>
                    <a:pt x="503" y="210"/>
                  </a:lnTo>
                  <a:lnTo>
                    <a:pt x="488" y="209"/>
                  </a:lnTo>
                  <a:lnTo>
                    <a:pt x="472" y="210"/>
                  </a:lnTo>
                  <a:lnTo>
                    <a:pt x="456" y="212"/>
                  </a:lnTo>
                  <a:lnTo>
                    <a:pt x="442" y="214"/>
                  </a:lnTo>
                  <a:lnTo>
                    <a:pt x="428" y="218"/>
                  </a:lnTo>
                  <a:lnTo>
                    <a:pt x="416" y="223"/>
                  </a:lnTo>
                  <a:lnTo>
                    <a:pt x="403" y="228"/>
                  </a:lnTo>
                  <a:lnTo>
                    <a:pt x="394" y="234"/>
                  </a:lnTo>
                  <a:lnTo>
                    <a:pt x="382" y="242"/>
                  </a:lnTo>
                  <a:lnTo>
                    <a:pt x="374" y="251"/>
                  </a:lnTo>
                  <a:lnTo>
                    <a:pt x="365" y="259"/>
                  </a:lnTo>
                  <a:lnTo>
                    <a:pt x="358" y="271"/>
                  </a:lnTo>
                  <a:lnTo>
                    <a:pt x="352" y="282"/>
                  </a:lnTo>
                  <a:lnTo>
                    <a:pt x="347" y="295"/>
                  </a:lnTo>
                  <a:lnTo>
                    <a:pt x="342" y="309"/>
                  </a:lnTo>
                  <a:lnTo>
                    <a:pt x="338" y="323"/>
                  </a:lnTo>
                  <a:lnTo>
                    <a:pt x="336" y="338"/>
                  </a:lnTo>
                  <a:lnTo>
                    <a:pt x="332" y="366"/>
                  </a:lnTo>
                  <a:lnTo>
                    <a:pt x="627" y="366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800560" y="761040"/>
              <a:ext cx="53640" cy="83520"/>
            </a:xfrm>
            <a:custGeom>
              <a:avLst/>
              <a:gdLst/>
              <a:ahLst/>
              <a:rect l="l" t="t" r="r" b="b"/>
              <a:pathLst>
                <a:path w="864" h="1080">
                  <a:moveTo>
                    <a:pt x="0" y="1000"/>
                  </a:moveTo>
                  <a:lnTo>
                    <a:pt x="0" y="733"/>
                  </a:lnTo>
                  <a:lnTo>
                    <a:pt x="63" y="729"/>
                  </a:lnTo>
                  <a:lnTo>
                    <a:pt x="83" y="729"/>
                  </a:lnTo>
                  <a:lnTo>
                    <a:pt x="98" y="730"/>
                  </a:lnTo>
                  <a:lnTo>
                    <a:pt x="108" y="731"/>
                  </a:lnTo>
                  <a:lnTo>
                    <a:pt x="113" y="733"/>
                  </a:lnTo>
                  <a:lnTo>
                    <a:pt x="129" y="765"/>
                  </a:lnTo>
                  <a:lnTo>
                    <a:pt x="157" y="800"/>
                  </a:lnTo>
                  <a:lnTo>
                    <a:pt x="178" y="820"/>
                  </a:lnTo>
                  <a:lnTo>
                    <a:pt x="196" y="837"/>
                  </a:lnTo>
                  <a:lnTo>
                    <a:pt x="214" y="851"/>
                  </a:lnTo>
                  <a:lnTo>
                    <a:pt x="230" y="862"/>
                  </a:lnTo>
                  <a:lnTo>
                    <a:pt x="246" y="870"/>
                  </a:lnTo>
                  <a:lnTo>
                    <a:pt x="263" y="876"/>
                  </a:lnTo>
                  <a:lnTo>
                    <a:pt x="281" y="881"/>
                  </a:lnTo>
                  <a:lnTo>
                    <a:pt x="302" y="885"/>
                  </a:lnTo>
                  <a:lnTo>
                    <a:pt x="328" y="885"/>
                  </a:lnTo>
                  <a:lnTo>
                    <a:pt x="345" y="885"/>
                  </a:lnTo>
                  <a:lnTo>
                    <a:pt x="381" y="885"/>
                  </a:lnTo>
                  <a:lnTo>
                    <a:pt x="399" y="885"/>
                  </a:lnTo>
                  <a:lnTo>
                    <a:pt x="415" y="884"/>
                  </a:lnTo>
                  <a:lnTo>
                    <a:pt x="428" y="882"/>
                  </a:lnTo>
                  <a:lnTo>
                    <a:pt x="439" y="880"/>
                  </a:lnTo>
                  <a:lnTo>
                    <a:pt x="448" y="878"/>
                  </a:lnTo>
                  <a:lnTo>
                    <a:pt x="461" y="874"/>
                  </a:lnTo>
                  <a:lnTo>
                    <a:pt x="473" y="868"/>
                  </a:lnTo>
                  <a:lnTo>
                    <a:pt x="488" y="862"/>
                  </a:lnTo>
                  <a:lnTo>
                    <a:pt x="500" y="855"/>
                  </a:lnTo>
                  <a:lnTo>
                    <a:pt x="511" y="848"/>
                  </a:lnTo>
                  <a:lnTo>
                    <a:pt x="521" y="839"/>
                  </a:lnTo>
                  <a:lnTo>
                    <a:pt x="528" y="831"/>
                  </a:lnTo>
                  <a:lnTo>
                    <a:pt x="533" y="821"/>
                  </a:lnTo>
                  <a:lnTo>
                    <a:pt x="538" y="810"/>
                  </a:lnTo>
                  <a:lnTo>
                    <a:pt x="541" y="798"/>
                  </a:lnTo>
                  <a:lnTo>
                    <a:pt x="541" y="785"/>
                  </a:lnTo>
                  <a:lnTo>
                    <a:pt x="539" y="773"/>
                  </a:lnTo>
                  <a:lnTo>
                    <a:pt x="537" y="761"/>
                  </a:lnTo>
                  <a:lnTo>
                    <a:pt x="531" y="750"/>
                  </a:lnTo>
                  <a:lnTo>
                    <a:pt x="524" y="739"/>
                  </a:lnTo>
                  <a:lnTo>
                    <a:pt x="496" y="715"/>
                  </a:lnTo>
                  <a:lnTo>
                    <a:pt x="469" y="696"/>
                  </a:lnTo>
                  <a:lnTo>
                    <a:pt x="461" y="692"/>
                  </a:lnTo>
                  <a:lnTo>
                    <a:pt x="402" y="664"/>
                  </a:lnTo>
                  <a:lnTo>
                    <a:pt x="391" y="660"/>
                  </a:lnTo>
                  <a:lnTo>
                    <a:pt x="338" y="637"/>
                  </a:lnTo>
                  <a:lnTo>
                    <a:pt x="295" y="620"/>
                  </a:lnTo>
                  <a:lnTo>
                    <a:pt x="210" y="577"/>
                  </a:lnTo>
                  <a:lnTo>
                    <a:pt x="189" y="563"/>
                  </a:lnTo>
                  <a:lnTo>
                    <a:pt x="168" y="548"/>
                  </a:lnTo>
                  <a:lnTo>
                    <a:pt x="150" y="535"/>
                  </a:lnTo>
                  <a:lnTo>
                    <a:pt x="131" y="520"/>
                  </a:lnTo>
                  <a:lnTo>
                    <a:pt x="115" y="505"/>
                  </a:lnTo>
                  <a:lnTo>
                    <a:pt x="100" y="491"/>
                  </a:lnTo>
                  <a:lnTo>
                    <a:pt x="87" y="475"/>
                  </a:lnTo>
                  <a:lnTo>
                    <a:pt x="76" y="460"/>
                  </a:lnTo>
                  <a:lnTo>
                    <a:pt x="65" y="444"/>
                  </a:lnTo>
                  <a:lnTo>
                    <a:pt x="56" y="428"/>
                  </a:lnTo>
                  <a:lnTo>
                    <a:pt x="47" y="411"/>
                  </a:lnTo>
                  <a:lnTo>
                    <a:pt x="41" y="394"/>
                  </a:lnTo>
                  <a:lnTo>
                    <a:pt x="36" y="378"/>
                  </a:lnTo>
                  <a:lnTo>
                    <a:pt x="33" y="359"/>
                  </a:lnTo>
                  <a:lnTo>
                    <a:pt x="32" y="342"/>
                  </a:lnTo>
                  <a:lnTo>
                    <a:pt x="30" y="324"/>
                  </a:lnTo>
                  <a:lnTo>
                    <a:pt x="30" y="314"/>
                  </a:lnTo>
                  <a:lnTo>
                    <a:pt x="30" y="304"/>
                  </a:lnTo>
                  <a:lnTo>
                    <a:pt x="30" y="294"/>
                  </a:lnTo>
                  <a:lnTo>
                    <a:pt x="30" y="283"/>
                  </a:lnTo>
                  <a:lnTo>
                    <a:pt x="35" y="265"/>
                  </a:lnTo>
                  <a:lnTo>
                    <a:pt x="38" y="254"/>
                  </a:lnTo>
                  <a:lnTo>
                    <a:pt x="41" y="240"/>
                  </a:lnTo>
                  <a:lnTo>
                    <a:pt x="45" y="227"/>
                  </a:lnTo>
                  <a:lnTo>
                    <a:pt x="51" y="213"/>
                  </a:lnTo>
                  <a:lnTo>
                    <a:pt x="56" y="200"/>
                  </a:lnTo>
                  <a:lnTo>
                    <a:pt x="63" y="187"/>
                  </a:lnTo>
                  <a:lnTo>
                    <a:pt x="71" y="175"/>
                  </a:lnTo>
                  <a:lnTo>
                    <a:pt x="78" y="163"/>
                  </a:lnTo>
                  <a:lnTo>
                    <a:pt x="88" y="152"/>
                  </a:lnTo>
                  <a:lnTo>
                    <a:pt x="98" y="140"/>
                  </a:lnTo>
                  <a:lnTo>
                    <a:pt x="108" y="130"/>
                  </a:lnTo>
                  <a:lnTo>
                    <a:pt x="120" y="119"/>
                  </a:lnTo>
                  <a:lnTo>
                    <a:pt x="132" y="108"/>
                  </a:lnTo>
                  <a:lnTo>
                    <a:pt x="146" y="98"/>
                  </a:lnTo>
                  <a:lnTo>
                    <a:pt x="159" y="88"/>
                  </a:lnTo>
                  <a:lnTo>
                    <a:pt x="174" y="79"/>
                  </a:lnTo>
                  <a:lnTo>
                    <a:pt x="190" y="71"/>
                  </a:lnTo>
                  <a:lnTo>
                    <a:pt x="206" y="62"/>
                  </a:lnTo>
                  <a:lnTo>
                    <a:pt x="223" y="54"/>
                  </a:lnTo>
                  <a:lnTo>
                    <a:pt x="241" y="46"/>
                  </a:lnTo>
                  <a:lnTo>
                    <a:pt x="259" y="40"/>
                  </a:lnTo>
                  <a:lnTo>
                    <a:pt x="279" y="33"/>
                  </a:lnTo>
                  <a:lnTo>
                    <a:pt x="298" y="28"/>
                  </a:lnTo>
                  <a:lnTo>
                    <a:pt x="318" y="22"/>
                  </a:lnTo>
                  <a:lnTo>
                    <a:pt x="339" y="18"/>
                  </a:lnTo>
                  <a:lnTo>
                    <a:pt x="361" y="13"/>
                  </a:lnTo>
                  <a:lnTo>
                    <a:pt x="383" y="9"/>
                  </a:lnTo>
                  <a:lnTo>
                    <a:pt x="407" y="7"/>
                  </a:lnTo>
                  <a:lnTo>
                    <a:pt x="430" y="4"/>
                  </a:lnTo>
                  <a:lnTo>
                    <a:pt x="479" y="1"/>
                  </a:lnTo>
                  <a:lnTo>
                    <a:pt x="531" y="0"/>
                  </a:lnTo>
                  <a:lnTo>
                    <a:pt x="560" y="1"/>
                  </a:lnTo>
                  <a:lnTo>
                    <a:pt x="591" y="4"/>
                  </a:lnTo>
                  <a:lnTo>
                    <a:pt x="622" y="9"/>
                  </a:lnTo>
                  <a:lnTo>
                    <a:pt x="655" y="18"/>
                  </a:lnTo>
                  <a:lnTo>
                    <a:pt x="674" y="23"/>
                  </a:lnTo>
                  <a:lnTo>
                    <a:pt x="694" y="29"/>
                  </a:lnTo>
                  <a:lnTo>
                    <a:pt x="718" y="36"/>
                  </a:lnTo>
                  <a:lnTo>
                    <a:pt x="742" y="45"/>
                  </a:lnTo>
                  <a:lnTo>
                    <a:pt x="782" y="59"/>
                  </a:lnTo>
                  <a:lnTo>
                    <a:pt x="782" y="297"/>
                  </a:lnTo>
                  <a:lnTo>
                    <a:pt x="713" y="303"/>
                  </a:lnTo>
                  <a:lnTo>
                    <a:pt x="690" y="303"/>
                  </a:lnTo>
                  <a:lnTo>
                    <a:pt x="682" y="303"/>
                  </a:lnTo>
                  <a:lnTo>
                    <a:pt x="665" y="299"/>
                  </a:lnTo>
                  <a:lnTo>
                    <a:pt x="656" y="293"/>
                  </a:lnTo>
                  <a:lnTo>
                    <a:pt x="648" y="284"/>
                  </a:lnTo>
                  <a:lnTo>
                    <a:pt x="640" y="273"/>
                  </a:lnTo>
                  <a:lnTo>
                    <a:pt x="632" y="257"/>
                  </a:lnTo>
                  <a:lnTo>
                    <a:pt x="606" y="237"/>
                  </a:lnTo>
                  <a:lnTo>
                    <a:pt x="583" y="217"/>
                  </a:lnTo>
                  <a:lnTo>
                    <a:pt x="569" y="207"/>
                  </a:lnTo>
                  <a:lnTo>
                    <a:pt x="547" y="194"/>
                  </a:lnTo>
                  <a:lnTo>
                    <a:pt x="535" y="187"/>
                  </a:lnTo>
                  <a:lnTo>
                    <a:pt x="521" y="181"/>
                  </a:lnTo>
                  <a:lnTo>
                    <a:pt x="509" y="178"/>
                  </a:lnTo>
                  <a:lnTo>
                    <a:pt x="495" y="174"/>
                  </a:lnTo>
                  <a:lnTo>
                    <a:pt x="483" y="173"/>
                  </a:lnTo>
                  <a:lnTo>
                    <a:pt x="469" y="171"/>
                  </a:lnTo>
                  <a:lnTo>
                    <a:pt x="456" y="171"/>
                  </a:lnTo>
                  <a:lnTo>
                    <a:pt x="444" y="171"/>
                  </a:lnTo>
                  <a:lnTo>
                    <a:pt x="434" y="173"/>
                  </a:lnTo>
                  <a:lnTo>
                    <a:pt x="423" y="174"/>
                  </a:lnTo>
                  <a:lnTo>
                    <a:pt x="412" y="176"/>
                  </a:lnTo>
                  <a:lnTo>
                    <a:pt x="398" y="180"/>
                  </a:lnTo>
                  <a:lnTo>
                    <a:pt x="383" y="185"/>
                  </a:lnTo>
                  <a:lnTo>
                    <a:pt x="371" y="191"/>
                  </a:lnTo>
                  <a:lnTo>
                    <a:pt x="360" y="199"/>
                  </a:lnTo>
                  <a:lnTo>
                    <a:pt x="351" y="206"/>
                  </a:lnTo>
                  <a:lnTo>
                    <a:pt x="344" y="214"/>
                  </a:lnTo>
                  <a:lnTo>
                    <a:pt x="339" y="224"/>
                  </a:lnTo>
                  <a:lnTo>
                    <a:pt x="337" y="235"/>
                  </a:lnTo>
                  <a:lnTo>
                    <a:pt x="335" y="246"/>
                  </a:lnTo>
                  <a:lnTo>
                    <a:pt x="337" y="257"/>
                  </a:lnTo>
                  <a:lnTo>
                    <a:pt x="338" y="266"/>
                  </a:lnTo>
                  <a:lnTo>
                    <a:pt x="341" y="277"/>
                  </a:lnTo>
                  <a:lnTo>
                    <a:pt x="345" y="286"/>
                  </a:lnTo>
                  <a:lnTo>
                    <a:pt x="350" y="292"/>
                  </a:lnTo>
                  <a:lnTo>
                    <a:pt x="357" y="299"/>
                  </a:lnTo>
                  <a:lnTo>
                    <a:pt x="367" y="305"/>
                  </a:lnTo>
                  <a:lnTo>
                    <a:pt x="378" y="313"/>
                  </a:lnTo>
                  <a:lnTo>
                    <a:pt x="402" y="329"/>
                  </a:lnTo>
                  <a:lnTo>
                    <a:pt x="418" y="336"/>
                  </a:lnTo>
                  <a:lnTo>
                    <a:pt x="483" y="362"/>
                  </a:lnTo>
                  <a:lnTo>
                    <a:pt x="498" y="368"/>
                  </a:lnTo>
                  <a:lnTo>
                    <a:pt x="569" y="399"/>
                  </a:lnTo>
                  <a:lnTo>
                    <a:pt x="612" y="418"/>
                  </a:lnTo>
                  <a:lnTo>
                    <a:pt x="642" y="433"/>
                  </a:lnTo>
                  <a:lnTo>
                    <a:pt x="670" y="448"/>
                  </a:lnTo>
                  <a:lnTo>
                    <a:pt x="696" y="462"/>
                  </a:lnTo>
                  <a:lnTo>
                    <a:pt x="719" y="477"/>
                  </a:lnTo>
                  <a:lnTo>
                    <a:pt x="740" y="492"/>
                  </a:lnTo>
                  <a:lnTo>
                    <a:pt x="758" y="507"/>
                  </a:lnTo>
                  <a:lnTo>
                    <a:pt x="776" y="521"/>
                  </a:lnTo>
                  <a:lnTo>
                    <a:pt x="789" y="535"/>
                  </a:lnTo>
                  <a:lnTo>
                    <a:pt x="803" y="550"/>
                  </a:lnTo>
                  <a:lnTo>
                    <a:pt x="814" y="566"/>
                  </a:lnTo>
                  <a:lnTo>
                    <a:pt x="824" y="582"/>
                  </a:lnTo>
                  <a:lnTo>
                    <a:pt x="833" y="599"/>
                  </a:lnTo>
                  <a:lnTo>
                    <a:pt x="841" y="617"/>
                  </a:lnTo>
                  <a:lnTo>
                    <a:pt x="848" y="637"/>
                  </a:lnTo>
                  <a:lnTo>
                    <a:pt x="853" y="657"/>
                  </a:lnTo>
                  <a:lnTo>
                    <a:pt x="858" y="679"/>
                  </a:lnTo>
                  <a:lnTo>
                    <a:pt x="861" y="693"/>
                  </a:lnTo>
                  <a:lnTo>
                    <a:pt x="863" y="708"/>
                  </a:lnTo>
                  <a:lnTo>
                    <a:pt x="864" y="723"/>
                  </a:lnTo>
                  <a:lnTo>
                    <a:pt x="864" y="739"/>
                  </a:lnTo>
                  <a:lnTo>
                    <a:pt x="864" y="756"/>
                  </a:lnTo>
                  <a:lnTo>
                    <a:pt x="862" y="774"/>
                  </a:lnTo>
                  <a:lnTo>
                    <a:pt x="859" y="792"/>
                  </a:lnTo>
                  <a:lnTo>
                    <a:pt x="856" y="808"/>
                  </a:lnTo>
                  <a:lnTo>
                    <a:pt x="852" y="825"/>
                  </a:lnTo>
                  <a:lnTo>
                    <a:pt x="846" y="841"/>
                  </a:lnTo>
                  <a:lnTo>
                    <a:pt x="840" y="857"/>
                  </a:lnTo>
                  <a:lnTo>
                    <a:pt x="832" y="871"/>
                  </a:lnTo>
                  <a:lnTo>
                    <a:pt x="824" y="887"/>
                  </a:lnTo>
                  <a:lnTo>
                    <a:pt x="815" y="901"/>
                  </a:lnTo>
                  <a:lnTo>
                    <a:pt x="804" y="916"/>
                  </a:lnTo>
                  <a:lnTo>
                    <a:pt x="793" y="930"/>
                  </a:lnTo>
                  <a:lnTo>
                    <a:pt x="781" y="944"/>
                  </a:lnTo>
                  <a:lnTo>
                    <a:pt x="767" y="956"/>
                  </a:lnTo>
                  <a:lnTo>
                    <a:pt x="752" y="970"/>
                  </a:lnTo>
                  <a:lnTo>
                    <a:pt x="738" y="982"/>
                  </a:lnTo>
                  <a:lnTo>
                    <a:pt x="720" y="994"/>
                  </a:lnTo>
                  <a:lnTo>
                    <a:pt x="703" y="1005"/>
                  </a:lnTo>
                  <a:lnTo>
                    <a:pt x="686" y="1015"/>
                  </a:lnTo>
                  <a:lnTo>
                    <a:pt x="667" y="1025"/>
                  </a:lnTo>
                  <a:lnTo>
                    <a:pt x="648" y="1033"/>
                  </a:lnTo>
                  <a:lnTo>
                    <a:pt x="628" y="1042"/>
                  </a:lnTo>
                  <a:lnTo>
                    <a:pt x="607" y="1049"/>
                  </a:lnTo>
                  <a:lnTo>
                    <a:pt x="586" y="1056"/>
                  </a:lnTo>
                  <a:lnTo>
                    <a:pt x="563" y="1062"/>
                  </a:lnTo>
                  <a:lnTo>
                    <a:pt x="541" y="1067"/>
                  </a:lnTo>
                  <a:lnTo>
                    <a:pt x="516" y="1072"/>
                  </a:lnTo>
                  <a:lnTo>
                    <a:pt x="492" y="1074"/>
                  </a:lnTo>
                  <a:lnTo>
                    <a:pt x="467" y="1078"/>
                  </a:lnTo>
                  <a:lnTo>
                    <a:pt x="441" y="1079"/>
                  </a:lnTo>
                  <a:lnTo>
                    <a:pt x="414" y="1080"/>
                  </a:lnTo>
                  <a:lnTo>
                    <a:pt x="387" y="1080"/>
                  </a:lnTo>
                  <a:lnTo>
                    <a:pt x="357" y="1080"/>
                  </a:lnTo>
                  <a:lnTo>
                    <a:pt x="323" y="1078"/>
                  </a:lnTo>
                  <a:lnTo>
                    <a:pt x="284" y="1074"/>
                  </a:lnTo>
                  <a:lnTo>
                    <a:pt x="241" y="1069"/>
                  </a:lnTo>
                  <a:lnTo>
                    <a:pt x="217" y="1065"/>
                  </a:lnTo>
                  <a:lnTo>
                    <a:pt x="194" y="1062"/>
                  </a:lnTo>
                  <a:lnTo>
                    <a:pt x="170" y="1057"/>
                  </a:lnTo>
                  <a:lnTo>
                    <a:pt x="147" y="1051"/>
                  </a:lnTo>
                  <a:lnTo>
                    <a:pt x="123" y="1043"/>
                  </a:lnTo>
                  <a:lnTo>
                    <a:pt x="97" y="1036"/>
                  </a:lnTo>
                  <a:lnTo>
                    <a:pt x="72" y="1027"/>
                  </a:lnTo>
                  <a:lnTo>
                    <a:pt x="46" y="1017"/>
                  </a:lnTo>
                  <a:lnTo>
                    <a:pt x="23" y="1010"/>
                  </a:lnTo>
                  <a:lnTo>
                    <a:pt x="0" y="1000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56000" y="726840"/>
              <a:ext cx="32760" cy="11340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0" y="1427"/>
                  </a:lnTo>
                  <a:lnTo>
                    <a:pt x="2" y="1422"/>
                  </a:lnTo>
                  <a:lnTo>
                    <a:pt x="3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3" y="1398"/>
                  </a:lnTo>
                  <a:lnTo>
                    <a:pt x="48" y="1387"/>
                  </a:lnTo>
                  <a:lnTo>
                    <a:pt x="62" y="1381"/>
                  </a:lnTo>
                  <a:lnTo>
                    <a:pt x="67" y="1379"/>
                  </a:lnTo>
                  <a:lnTo>
                    <a:pt x="72" y="1375"/>
                  </a:lnTo>
                  <a:lnTo>
                    <a:pt x="76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3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1" y="621"/>
                  </a:lnTo>
                  <a:lnTo>
                    <a:pt x="48" y="617"/>
                  </a:lnTo>
                  <a:lnTo>
                    <a:pt x="35" y="609"/>
                  </a:lnTo>
                  <a:lnTo>
                    <a:pt x="27" y="605"/>
                  </a:lnTo>
                  <a:lnTo>
                    <a:pt x="19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1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1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6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7" y="1381"/>
                  </a:lnTo>
                  <a:lnTo>
                    <a:pt x="476" y="1387"/>
                  </a:lnTo>
                  <a:lnTo>
                    <a:pt x="489" y="1391"/>
                  </a:lnTo>
                  <a:lnTo>
                    <a:pt x="495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09" y="1409"/>
                  </a:lnTo>
                  <a:lnTo>
                    <a:pt x="513" y="1416"/>
                  </a:lnTo>
                  <a:lnTo>
                    <a:pt x="514" y="1422"/>
                  </a:lnTo>
                  <a:lnTo>
                    <a:pt x="515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8" y="199"/>
                  </a:moveTo>
                  <a:lnTo>
                    <a:pt x="49" y="179"/>
                  </a:lnTo>
                  <a:lnTo>
                    <a:pt x="51" y="159"/>
                  </a:lnTo>
                  <a:lnTo>
                    <a:pt x="56" y="141"/>
                  </a:lnTo>
                  <a:lnTo>
                    <a:pt x="62" y="123"/>
                  </a:lnTo>
                  <a:lnTo>
                    <a:pt x="70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4" y="59"/>
                  </a:lnTo>
                  <a:lnTo>
                    <a:pt x="119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5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1" y="15"/>
                  </a:lnTo>
                  <a:lnTo>
                    <a:pt x="338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7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39" y="258"/>
                  </a:lnTo>
                  <a:lnTo>
                    <a:pt x="433" y="276"/>
                  </a:lnTo>
                  <a:lnTo>
                    <a:pt x="425" y="293"/>
                  </a:lnTo>
                  <a:lnTo>
                    <a:pt x="415" y="309"/>
                  </a:lnTo>
                  <a:lnTo>
                    <a:pt x="404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08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49" y="399"/>
                  </a:lnTo>
                  <a:lnTo>
                    <a:pt x="229" y="398"/>
                  </a:lnTo>
                  <a:lnTo>
                    <a:pt x="209" y="395"/>
                  </a:lnTo>
                  <a:lnTo>
                    <a:pt x="190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7" y="367"/>
                  </a:lnTo>
                  <a:lnTo>
                    <a:pt x="121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2" y="277"/>
                  </a:lnTo>
                  <a:lnTo>
                    <a:pt x="56" y="259"/>
                  </a:lnTo>
                  <a:lnTo>
                    <a:pt x="51" y="240"/>
                  </a:lnTo>
                  <a:lnTo>
                    <a:pt x="49" y="220"/>
                  </a:lnTo>
                  <a:lnTo>
                    <a:pt x="48" y="199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892360" y="761040"/>
              <a:ext cx="70920" cy="85320"/>
            </a:xfrm>
            <a:custGeom>
              <a:avLst/>
              <a:gdLst/>
              <a:ahLst/>
              <a:rect l="l" t="t" r="r" b="b"/>
              <a:pathLst>
                <a:path w="1122" h="1083">
                  <a:moveTo>
                    <a:pt x="0" y="538"/>
                  </a:moveTo>
                  <a:lnTo>
                    <a:pt x="0" y="510"/>
                  </a:lnTo>
                  <a:lnTo>
                    <a:pt x="3" y="483"/>
                  </a:lnTo>
                  <a:lnTo>
                    <a:pt x="4" y="457"/>
                  </a:lnTo>
                  <a:lnTo>
                    <a:pt x="8" y="431"/>
                  </a:lnTo>
                  <a:lnTo>
                    <a:pt x="13" y="406"/>
                  </a:lnTo>
                  <a:lnTo>
                    <a:pt x="18" y="382"/>
                  </a:lnTo>
                  <a:lnTo>
                    <a:pt x="24" y="359"/>
                  </a:lnTo>
                  <a:lnTo>
                    <a:pt x="31" y="335"/>
                  </a:lnTo>
                  <a:lnTo>
                    <a:pt x="40" y="313"/>
                  </a:lnTo>
                  <a:lnTo>
                    <a:pt x="48" y="291"/>
                  </a:lnTo>
                  <a:lnTo>
                    <a:pt x="59" y="270"/>
                  </a:lnTo>
                  <a:lnTo>
                    <a:pt x="71" y="249"/>
                  </a:lnTo>
                  <a:lnTo>
                    <a:pt x="83" y="230"/>
                  </a:lnTo>
                  <a:lnTo>
                    <a:pt x="95" y="211"/>
                  </a:lnTo>
                  <a:lnTo>
                    <a:pt x="110" y="193"/>
                  </a:lnTo>
                  <a:lnTo>
                    <a:pt x="125" y="174"/>
                  </a:lnTo>
                  <a:lnTo>
                    <a:pt x="141" y="157"/>
                  </a:lnTo>
                  <a:lnTo>
                    <a:pt x="157" y="141"/>
                  </a:lnTo>
                  <a:lnTo>
                    <a:pt x="175" y="127"/>
                  </a:lnTo>
                  <a:lnTo>
                    <a:pt x="194" y="112"/>
                  </a:lnTo>
                  <a:lnTo>
                    <a:pt x="212" y="98"/>
                  </a:lnTo>
                  <a:lnTo>
                    <a:pt x="232" y="86"/>
                  </a:lnTo>
                  <a:lnTo>
                    <a:pt x="253" y="74"/>
                  </a:lnTo>
                  <a:lnTo>
                    <a:pt x="273" y="63"/>
                  </a:lnTo>
                  <a:lnTo>
                    <a:pt x="296" y="53"/>
                  </a:lnTo>
                  <a:lnTo>
                    <a:pt x="319" y="43"/>
                  </a:lnTo>
                  <a:lnTo>
                    <a:pt x="342" y="34"/>
                  </a:lnTo>
                  <a:lnTo>
                    <a:pt x="367" y="27"/>
                  </a:lnTo>
                  <a:lnTo>
                    <a:pt x="392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2" y="6"/>
                  </a:lnTo>
                  <a:lnTo>
                    <a:pt x="495" y="4"/>
                  </a:lnTo>
                  <a:lnTo>
                    <a:pt x="517" y="1"/>
                  </a:lnTo>
                  <a:lnTo>
                    <a:pt x="539" y="0"/>
                  </a:lnTo>
                  <a:lnTo>
                    <a:pt x="563" y="0"/>
                  </a:lnTo>
                  <a:lnTo>
                    <a:pt x="583" y="0"/>
                  </a:lnTo>
                  <a:lnTo>
                    <a:pt x="606" y="1"/>
                  </a:lnTo>
                  <a:lnTo>
                    <a:pt x="628" y="4"/>
                  </a:lnTo>
                  <a:lnTo>
                    <a:pt x="650" y="6"/>
                  </a:lnTo>
                  <a:lnTo>
                    <a:pt x="677" y="10"/>
                  </a:lnTo>
                  <a:lnTo>
                    <a:pt x="704" y="15"/>
                  </a:lnTo>
                  <a:lnTo>
                    <a:pt x="730" y="21"/>
                  </a:lnTo>
                  <a:lnTo>
                    <a:pt x="754" y="27"/>
                  </a:lnTo>
                  <a:lnTo>
                    <a:pt x="779" y="34"/>
                  </a:lnTo>
                  <a:lnTo>
                    <a:pt x="802" y="43"/>
                  </a:lnTo>
                  <a:lnTo>
                    <a:pt x="826" y="53"/>
                  </a:lnTo>
                  <a:lnTo>
                    <a:pt x="848" y="63"/>
                  </a:lnTo>
                  <a:lnTo>
                    <a:pt x="869" y="74"/>
                  </a:lnTo>
                  <a:lnTo>
                    <a:pt x="890" y="85"/>
                  </a:lnTo>
                  <a:lnTo>
                    <a:pt x="909" y="98"/>
                  </a:lnTo>
                  <a:lnTo>
                    <a:pt x="928" y="112"/>
                  </a:lnTo>
                  <a:lnTo>
                    <a:pt x="946" y="125"/>
                  </a:lnTo>
                  <a:lnTo>
                    <a:pt x="964" y="141"/>
                  </a:lnTo>
                  <a:lnTo>
                    <a:pt x="981" y="157"/>
                  </a:lnTo>
                  <a:lnTo>
                    <a:pt x="997" y="174"/>
                  </a:lnTo>
                  <a:lnTo>
                    <a:pt x="1011" y="192"/>
                  </a:lnTo>
                  <a:lnTo>
                    <a:pt x="1026" y="210"/>
                  </a:lnTo>
                  <a:lnTo>
                    <a:pt x="1040" y="228"/>
                  </a:lnTo>
                  <a:lnTo>
                    <a:pt x="1051" y="248"/>
                  </a:lnTo>
                  <a:lnTo>
                    <a:pt x="1063" y="269"/>
                  </a:lnTo>
                  <a:lnTo>
                    <a:pt x="1073" y="290"/>
                  </a:lnTo>
                  <a:lnTo>
                    <a:pt x="1083" y="312"/>
                  </a:lnTo>
                  <a:lnTo>
                    <a:pt x="1090" y="334"/>
                  </a:lnTo>
                  <a:lnTo>
                    <a:pt x="1098" y="356"/>
                  </a:lnTo>
                  <a:lnTo>
                    <a:pt x="1104" y="381"/>
                  </a:lnTo>
                  <a:lnTo>
                    <a:pt x="1110" y="404"/>
                  </a:lnTo>
                  <a:lnTo>
                    <a:pt x="1114" y="430"/>
                  </a:lnTo>
                  <a:lnTo>
                    <a:pt x="1117" y="454"/>
                  </a:lnTo>
                  <a:lnTo>
                    <a:pt x="1120" y="481"/>
                  </a:lnTo>
                  <a:lnTo>
                    <a:pt x="1121" y="508"/>
                  </a:lnTo>
                  <a:lnTo>
                    <a:pt x="1122" y="535"/>
                  </a:lnTo>
                  <a:lnTo>
                    <a:pt x="1121" y="564"/>
                  </a:lnTo>
                  <a:lnTo>
                    <a:pt x="1120" y="591"/>
                  </a:lnTo>
                  <a:lnTo>
                    <a:pt x="1117" y="618"/>
                  </a:lnTo>
                  <a:lnTo>
                    <a:pt x="1115" y="645"/>
                  </a:lnTo>
                  <a:lnTo>
                    <a:pt x="1110" y="669"/>
                  </a:lnTo>
                  <a:lnTo>
                    <a:pt x="1105" y="695"/>
                  </a:lnTo>
                  <a:lnTo>
                    <a:pt x="1099" y="718"/>
                  </a:lnTo>
                  <a:lnTo>
                    <a:pt x="1091" y="742"/>
                  </a:lnTo>
                  <a:lnTo>
                    <a:pt x="1083" y="765"/>
                  </a:lnTo>
                  <a:lnTo>
                    <a:pt x="1074" y="787"/>
                  </a:lnTo>
                  <a:lnTo>
                    <a:pt x="1064" y="809"/>
                  </a:lnTo>
                  <a:lnTo>
                    <a:pt x="1053" y="829"/>
                  </a:lnTo>
                  <a:lnTo>
                    <a:pt x="1041" y="850"/>
                  </a:lnTo>
                  <a:lnTo>
                    <a:pt x="1029" y="869"/>
                  </a:lnTo>
                  <a:lnTo>
                    <a:pt x="1014" y="888"/>
                  </a:lnTo>
                  <a:lnTo>
                    <a:pt x="999" y="906"/>
                  </a:lnTo>
                  <a:lnTo>
                    <a:pt x="984" y="923"/>
                  </a:lnTo>
                  <a:lnTo>
                    <a:pt x="967" y="939"/>
                  </a:lnTo>
                  <a:lnTo>
                    <a:pt x="950" y="955"/>
                  </a:lnTo>
                  <a:lnTo>
                    <a:pt x="932" y="970"/>
                  </a:lnTo>
                  <a:lnTo>
                    <a:pt x="913" y="984"/>
                  </a:lnTo>
                  <a:lnTo>
                    <a:pt x="893" y="996"/>
                  </a:lnTo>
                  <a:lnTo>
                    <a:pt x="873" y="1008"/>
                  </a:lnTo>
                  <a:lnTo>
                    <a:pt x="852" y="1019"/>
                  </a:lnTo>
                  <a:lnTo>
                    <a:pt x="828" y="1029"/>
                  </a:lnTo>
                  <a:lnTo>
                    <a:pt x="806" y="1039"/>
                  </a:lnTo>
                  <a:lnTo>
                    <a:pt x="781" y="1047"/>
                  </a:lnTo>
                  <a:lnTo>
                    <a:pt x="757" y="1055"/>
                  </a:lnTo>
                  <a:lnTo>
                    <a:pt x="731" y="1062"/>
                  </a:lnTo>
                  <a:lnTo>
                    <a:pt x="705" y="1067"/>
                  </a:lnTo>
                  <a:lnTo>
                    <a:pt x="678" y="1072"/>
                  </a:lnTo>
                  <a:lnTo>
                    <a:pt x="650" y="1077"/>
                  </a:lnTo>
                  <a:lnTo>
                    <a:pt x="628" y="1079"/>
                  </a:lnTo>
                  <a:lnTo>
                    <a:pt x="606" y="1081"/>
                  </a:lnTo>
                  <a:lnTo>
                    <a:pt x="583" y="1082"/>
                  </a:lnTo>
                  <a:lnTo>
                    <a:pt x="563" y="1083"/>
                  </a:lnTo>
                  <a:lnTo>
                    <a:pt x="539" y="1082"/>
                  </a:lnTo>
                  <a:lnTo>
                    <a:pt x="517" y="1081"/>
                  </a:lnTo>
                  <a:lnTo>
                    <a:pt x="495" y="1079"/>
                  </a:lnTo>
                  <a:lnTo>
                    <a:pt x="472" y="1077"/>
                  </a:lnTo>
                  <a:lnTo>
                    <a:pt x="444" y="1072"/>
                  </a:lnTo>
                  <a:lnTo>
                    <a:pt x="419" y="1067"/>
                  </a:lnTo>
                  <a:lnTo>
                    <a:pt x="393" y="1062"/>
                  </a:lnTo>
                  <a:lnTo>
                    <a:pt x="367" y="1055"/>
                  </a:lnTo>
                  <a:lnTo>
                    <a:pt x="344" y="1047"/>
                  </a:lnTo>
                  <a:lnTo>
                    <a:pt x="320" y="1039"/>
                  </a:lnTo>
                  <a:lnTo>
                    <a:pt x="297" y="1029"/>
                  </a:lnTo>
                  <a:lnTo>
                    <a:pt x="275" y="1018"/>
                  </a:lnTo>
                  <a:lnTo>
                    <a:pt x="254" y="1007"/>
                  </a:lnTo>
                  <a:lnTo>
                    <a:pt x="233" y="995"/>
                  </a:lnTo>
                  <a:lnTo>
                    <a:pt x="213" y="981"/>
                  </a:lnTo>
                  <a:lnTo>
                    <a:pt x="195" y="966"/>
                  </a:lnTo>
                  <a:lnTo>
                    <a:pt x="176" y="952"/>
                  </a:lnTo>
                  <a:lnTo>
                    <a:pt x="158" y="936"/>
                  </a:lnTo>
                  <a:lnTo>
                    <a:pt x="142" y="918"/>
                  </a:lnTo>
                  <a:lnTo>
                    <a:pt x="126" y="901"/>
                  </a:lnTo>
                  <a:lnTo>
                    <a:pt x="110" y="882"/>
                  </a:lnTo>
                  <a:lnTo>
                    <a:pt x="96" y="863"/>
                  </a:lnTo>
                  <a:lnTo>
                    <a:pt x="83" y="844"/>
                  </a:lnTo>
                  <a:lnTo>
                    <a:pt x="71" y="823"/>
                  </a:lnTo>
                  <a:lnTo>
                    <a:pt x="59" y="802"/>
                  </a:lnTo>
                  <a:lnTo>
                    <a:pt x="50" y="781"/>
                  </a:lnTo>
                  <a:lnTo>
                    <a:pt x="40" y="759"/>
                  </a:lnTo>
                  <a:lnTo>
                    <a:pt x="31" y="737"/>
                  </a:lnTo>
                  <a:lnTo>
                    <a:pt x="24" y="713"/>
                  </a:lnTo>
                  <a:lnTo>
                    <a:pt x="18" y="690"/>
                  </a:lnTo>
                  <a:lnTo>
                    <a:pt x="13" y="666"/>
                  </a:lnTo>
                  <a:lnTo>
                    <a:pt x="8" y="641"/>
                  </a:lnTo>
                  <a:lnTo>
                    <a:pt x="4" y="616"/>
                  </a:lnTo>
                  <a:lnTo>
                    <a:pt x="3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3" y="891"/>
                  </a:moveTo>
                  <a:lnTo>
                    <a:pt x="576" y="890"/>
                  </a:lnTo>
                  <a:lnTo>
                    <a:pt x="590" y="890"/>
                  </a:lnTo>
                  <a:lnTo>
                    <a:pt x="603" y="888"/>
                  </a:lnTo>
                  <a:lnTo>
                    <a:pt x="615" y="885"/>
                  </a:lnTo>
                  <a:lnTo>
                    <a:pt x="628" y="883"/>
                  </a:lnTo>
                  <a:lnTo>
                    <a:pt x="639" y="879"/>
                  </a:lnTo>
                  <a:lnTo>
                    <a:pt x="651" y="876"/>
                  </a:lnTo>
                  <a:lnTo>
                    <a:pt x="662" y="871"/>
                  </a:lnTo>
                  <a:lnTo>
                    <a:pt x="672" y="864"/>
                  </a:lnTo>
                  <a:lnTo>
                    <a:pt x="682" y="858"/>
                  </a:lnTo>
                  <a:lnTo>
                    <a:pt x="692" y="851"/>
                  </a:lnTo>
                  <a:lnTo>
                    <a:pt x="702" y="844"/>
                  </a:lnTo>
                  <a:lnTo>
                    <a:pt x="710" y="835"/>
                  </a:lnTo>
                  <a:lnTo>
                    <a:pt x="718" y="826"/>
                  </a:lnTo>
                  <a:lnTo>
                    <a:pt x="726" y="817"/>
                  </a:lnTo>
                  <a:lnTo>
                    <a:pt x="734" y="807"/>
                  </a:lnTo>
                  <a:lnTo>
                    <a:pt x="741" y="796"/>
                  </a:lnTo>
                  <a:lnTo>
                    <a:pt x="747" y="785"/>
                  </a:lnTo>
                  <a:lnTo>
                    <a:pt x="753" y="772"/>
                  </a:lnTo>
                  <a:lnTo>
                    <a:pt x="758" y="759"/>
                  </a:lnTo>
                  <a:lnTo>
                    <a:pt x="764" y="744"/>
                  </a:lnTo>
                  <a:lnTo>
                    <a:pt x="768" y="729"/>
                  </a:lnTo>
                  <a:lnTo>
                    <a:pt x="773" y="713"/>
                  </a:lnTo>
                  <a:lnTo>
                    <a:pt x="777" y="697"/>
                  </a:lnTo>
                  <a:lnTo>
                    <a:pt x="783" y="662"/>
                  </a:lnTo>
                  <a:lnTo>
                    <a:pt x="788" y="624"/>
                  </a:lnTo>
                  <a:lnTo>
                    <a:pt x="790" y="582"/>
                  </a:lnTo>
                  <a:lnTo>
                    <a:pt x="791" y="538"/>
                  </a:lnTo>
                  <a:lnTo>
                    <a:pt x="790" y="494"/>
                  </a:lnTo>
                  <a:lnTo>
                    <a:pt x="788" y="453"/>
                  </a:lnTo>
                  <a:lnTo>
                    <a:pt x="783" y="416"/>
                  </a:lnTo>
                  <a:lnTo>
                    <a:pt x="777" y="382"/>
                  </a:lnTo>
                  <a:lnTo>
                    <a:pt x="773" y="366"/>
                  </a:lnTo>
                  <a:lnTo>
                    <a:pt x="768" y="350"/>
                  </a:lnTo>
                  <a:lnTo>
                    <a:pt x="764" y="336"/>
                  </a:lnTo>
                  <a:lnTo>
                    <a:pt x="758" y="322"/>
                  </a:lnTo>
                  <a:lnTo>
                    <a:pt x="753" y="309"/>
                  </a:lnTo>
                  <a:lnTo>
                    <a:pt x="747" y="297"/>
                  </a:lnTo>
                  <a:lnTo>
                    <a:pt x="741" y="285"/>
                  </a:lnTo>
                  <a:lnTo>
                    <a:pt x="734" y="274"/>
                  </a:lnTo>
                  <a:lnTo>
                    <a:pt x="726" y="264"/>
                  </a:lnTo>
                  <a:lnTo>
                    <a:pt x="718" y="255"/>
                  </a:lnTo>
                  <a:lnTo>
                    <a:pt x="710" y="247"/>
                  </a:lnTo>
                  <a:lnTo>
                    <a:pt x="702" y="238"/>
                  </a:lnTo>
                  <a:lnTo>
                    <a:pt x="692" y="231"/>
                  </a:lnTo>
                  <a:lnTo>
                    <a:pt x="682" y="224"/>
                  </a:lnTo>
                  <a:lnTo>
                    <a:pt x="672" y="217"/>
                  </a:lnTo>
                  <a:lnTo>
                    <a:pt x="662" y="212"/>
                  </a:lnTo>
                  <a:lnTo>
                    <a:pt x="651" y="208"/>
                  </a:lnTo>
                  <a:lnTo>
                    <a:pt x="639" y="203"/>
                  </a:lnTo>
                  <a:lnTo>
                    <a:pt x="628" y="199"/>
                  </a:lnTo>
                  <a:lnTo>
                    <a:pt x="615" y="197"/>
                  </a:lnTo>
                  <a:lnTo>
                    <a:pt x="603" y="194"/>
                  </a:lnTo>
                  <a:lnTo>
                    <a:pt x="590" y="193"/>
                  </a:lnTo>
                  <a:lnTo>
                    <a:pt x="576" y="192"/>
                  </a:lnTo>
                  <a:lnTo>
                    <a:pt x="563" y="192"/>
                  </a:lnTo>
                  <a:lnTo>
                    <a:pt x="549" y="192"/>
                  </a:lnTo>
                  <a:lnTo>
                    <a:pt x="535" y="193"/>
                  </a:lnTo>
                  <a:lnTo>
                    <a:pt x="523" y="194"/>
                  </a:lnTo>
                  <a:lnTo>
                    <a:pt x="511" y="197"/>
                  </a:lnTo>
                  <a:lnTo>
                    <a:pt x="499" y="199"/>
                  </a:lnTo>
                  <a:lnTo>
                    <a:pt x="488" y="203"/>
                  </a:lnTo>
                  <a:lnTo>
                    <a:pt x="476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6" y="231"/>
                  </a:lnTo>
                  <a:lnTo>
                    <a:pt x="426" y="238"/>
                  </a:lnTo>
                  <a:lnTo>
                    <a:pt x="417" y="247"/>
                  </a:lnTo>
                  <a:lnTo>
                    <a:pt x="409" y="255"/>
                  </a:lnTo>
                  <a:lnTo>
                    <a:pt x="401" y="264"/>
                  </a:lnTo>
                  <a:lnTo>
                    <a:pt x="394" y="274"/>
                  </a:lnTo>
                  <a:lnTo>
                    <a:pt x="387" y="285"/>
                  </a:lnTo>
                  <a:lnTo>
                    <a:pt x="381" y="297"/>
                  </a:lnTo>
                  <a:lnTo>
                    <a:pt x="374" y="309"/>
                  </a:lnTo>
                  <a:lnTo>
                    <a:pt x="368" y="322"/>
                  </a:lnTo>
                  <a:lnTo>
                    <a:pt x="363" y="336"/>
                  </a:lnTo>
                  <a:lnTo>
                    <a:pt x="358" y="350"/>
                  </a:lnTo>
                  <a:lnTo>
                    <a:pt x="353" y="366"/>
                  </a:lnTo>
                  <a:lnTo>
                    <a:pt x="350" y="382"/>
                  </a:lnTo>
                  <a:lnTo>
                    <a:pt x="344" y="416"/>
                  </a:lnTo>
                  <a:lnTo>
                    <a:pt x="339" y="453"/>
                  </a:lnTo>
                  <a:lnTo>
                    <a:pt x="336" y="494"/>
                  </a:lnTo>
                  <a:lnTo>
                    <a:pt x="335" y="538"/>
                  </a:lnTo>
                  <a:lnTo>
                    <a:pt x="336" y="581"/>
                  </a:lnTo>
                  <a:lnTo>
                    <a:pt x="339" y="623"/>
                  </a:lnTo>
                  <a:lnTo>
                    <a:pt x="344" y="661"/>
                  </a:lnTo>
                  <a:lnTo>
                    <a:pt x="350" y="695"/>
                  </a:lnTo>
                  <a:lnTo>
                    <a:pt x="353" y="711"/>
                  </a:lnTo>
                  <a:lnTo>
                    <a:pt x="357" y="727"/>
                  </a:lnTo>
                  <a:lnTo>
                    <a:pt x="362" y="742"/>
                  </a:lnTo>
                  <a:lnTo>
                    <a:pt x="367" y="756"/>
                  </a:lnTo>
                  <a:lnTo>
                    <a:pt x="373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3" y="806"/>
                  </a:lnTo>
                  <a:lnTo>
                    <a:pt x="400" y="815"/>
                  </a:lnTo>
                  <a:lnTo>
                    <a:pt x="408" y="825"/>
                  </a:lnTo>
                  <a:lnTo>
                    <a:pt x="416" y="834"/>
                  </a:lnTo>
                  <a:lnTo>
                    <a:pt x="425" y="842"/>
                  </a:lnTo>
                  <a:lnTo>
                    <a:pt x="435" y="851"/>
                  </a:lnTo>
                  <a:lnTo>
                    <a:pt x="443" y="857"/>
                  </a:lnTo>
                  <a:lnTo>
                    <a:pt x="453" y="863"/>
                  </a:lnTo>
                  <a:lnTo>
                    <a:pt x="464" y="869"/>
                  </a:lnTo>
                  <a:lnTo>
                    <a:pt x="475" y="874"/>
                  </a:lnTo>
                  <a:lnTo>
                    <a:pt x="486" y="879"/>
                  </a:lnTo>
                  <a:lnTo>
                    <a:pt x="497" y="883"/>
                  </a:lnTo>
                  <a:lnTo>
                    <a:pt x="510" y="885"/>
                  </a:lnTo>
                  <a:lnTo>
                    <a:pt x="522" y="888"/>
                  </a:lnTo>
                  <a:lnTo>
                    <a:pt x="535" y="890"/>
                  </a:lnTo>
                  <a:lnTo>
                    <a:pt x="548" y="890"/>
                  </a:lnTo>
                  <a:lnTo>
                    <a:pt x="563" y="891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67240" y="761040"/>
              <a:ext cx="70920" cy="7956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2" y="977"/>
                  </a:lnTo>
                  <a:lnTo>
                    <a:pt x="3" y="970"/>
                  </a:lnTo>
                  <a:lnTo>
                    <a:pt x="6" y="962"/>
                  </a:lnTo>
                  <a:lnTo>
                    <a:pt x="10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1" y="938"/>
                  </a:lnTo>
                  <a:lnTo>
                    <a:pt x="67" y="929"/>
                  </a:lnTo>
                  <a:lnTo>
                    <a:pt x="70" y="927"/>
                  </a:lnTo>
                  <a:lnTo>
                    <a:pt x="74" y="922"/>
                  </a:lnTo>
                  <a:lnTo>
                    <a:pt x="78" y="914"/>
                  </a:lnTo>
                  <a:lnTo>
                    <a:pt x="80" y="906"/>
                  </a:lnTo>
                  <a:lnTo>
                    <a:pt x="80" y="897"/>
                  </a:lnTo>
                  <a:lnTo>
                    <a:pt x="80" y="867"/>
                  </a:lnTo>
                  <a:lnTo>
                    <a:pt x="80" y="853"/>
                  </a:lnTo>
                  <a:lnTo>
                    <a:pt x="80" y="262"/>
                  </a:lnTo>
                  <a:lnTo>
                    <a:pt x="80" y="234"/>
                  </a:lnTo>
                  <a:lnTo>
                    <a:pt x="80" y="210"/>
                  </a:lnTo>
                  <a:lnTo>
                    <a:pt x="75" y="185"/>
                  </a:lnTo>
                  <a:lnTo>
                    <a:pt x="67" y="173"/>
                  </a:lnTo>
                  <a:lnTo>
                    <a:pt x="38" y="167"/>
                  </a:lnTo>
                  <a:lnTo>
                    <a:pt x="25" y="162"/>
                  </a:lnTo>
                  <a:lnTo>
                    <a:pt x="19" y="157"/>
                  </a:lnTo>
                  <a:lnTo>
                    <a:pt x="14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09" y="99"/>
                  </a:lnTo>
                  <a:lnTo>
                    <a:pt x="422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3" y="60"/>
                  </a:lnTo>
                  <a:lnTo>
                    <a:pt x="486" y="54"/>
                  </a:lnTo>
                  <a:lnTo>
                    <a:pt x="501" y="48"/>
                  </a:lnTo>
                  <a:lnTo>
                    <a:pt x="530" y="37"/>
                  </a:lnTo>
                  <a:lnTo>
                    <a:pt x="557" y="25"/>
                  </a:lnTo>
                  <a:lnTo>
                    <a:pt x="585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3" y="0"/>
                  </a:lnTo>
                  <a:lnTo>
                    <a:pt x="743" y="0"/>
                  </a:lnTo>
                  <a:lnTo>
                    <a:pt x="751" y="1"/>
                  </a:lnTo>
                  <a:lnTo>
                    <a:pt x="786" y="6"/>
                  </a:lnTo>
                  <a:lnTo>
                    <a:pt x="819" y="13"/>
                  </a:lnTo>
                  <a:lnTo>
                    <a:pt x="835" y="17"/>
                  </a:lnTo>
                  <a:lnTo>
                    <a:pt x="850" y="22"/>
                  </a:lnTo>
                  <a:lnTo>
                    <a:pt x="865" y="27"/>
                  </a:lnTo>
                  <a:lnTo>
                    <a:pt x="879" y="32"/>
                  </a:lnTo>
                  <a:lnTo>
                    <a:pt x="892" y="38"/>
                  </a:lnTo>
                  <a:lnTo>
                    <a:pt x="904" y="45"/>
                  </a:lnTo>
                  <a:lnTo>
                    <a:pt x="917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9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4" y="104"/>
                  </a:lnTo>
                  <a:lnTo>
                    <a:pt x="982" y="114"/>
                  </a:lnTo>
                  <a:lnTo>
                    <a:pt x="989" y="126"/>
                  </a:lnTo>
                  <a:lnTo>
                    <a:pt x="995" y="137"/>
                  </a:lnTo>
                  <a:lnTo>
                    <a:pt x="1002" y="149"/>
                  </a:lnTo>
                  <a:lnTo>
                    <a:pt x="1008" y="163"/>
                  </a:lnTo>
                  <a:lnTo>
                    <a:pt x="1013" y="176"/>
                  </a:lnTo>
                  <a:lnTo>
                    <a:pt x="1018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2" y="291"/>
                  </a:lnTo>
                  <a:lnTo>
                    <a:pt x="1034" y="329"/>
                  </a:lnTo>
                  <a:lnTo>
                    <a:pt x="1034" y="851"/>
                  </a:lnTo>
                  <a:lnTo>
                    <a:pt x="1034" y="865"/>
                  </a:lnTo>
                  <a:lnTo>
                    <a:pt x="1034" y="874"/>
                  </a:lnTo>
                  <a:lnTo>
                    <a:pt x="1034" y="896"/>
                  </a:lnTo>
                  <a:lnTo>
                    <a:pt x="1035" y="907"/>
                  </a:lnTo>
                  <a:lnTo>
                    <a:pt x="1037" y="914"/>
                  </a:lnTo>
                  <a:lnTo>
                    <a:pt x="1041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4" y="941"/>
                  </a:lnTo>
                  <a:lnTo>
                    <a:pt x="1093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9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5" y="975"/>
                  </a:lnTo>
                  <a:lnTo>
                    <a:pt x="637" y="967"/>
                  </a:lnTo>
                  <a:lnTo>
                    <a:pt x="640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7" y="944"/>
                  </a:lnTo>
                  <a:lnTo>
                    <a:pt x="666" y="939"/>
                  </a:lnTo>
                  <a:lnTo>
                    <a:pt x="676" y="935"/>
                  </a:lnTo>
                  <a:lnTo>
                    <a:pt x="689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4" y="276"/>
                  </a:lnTo>
                  <a:lnTo>
                    <a:pt x="680" y="267"/>
                  </a:lnTo>
                  <a:lnTo>
                    <a:pt x="674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6" y="238"/>
                  </a:lnTo>
                  <a:lnTo>
                    <a:pt x="649" y="232"/>
                  </a:lnTo>
                  <a:lnTo>
                    <a:pt x="641" y="227"/>
                  </a:lnTo>
                  <a:lnTo>
                    <a:pt x="633" y="223"/>
                  </a:lnTo>
                  <a:lnTo>
                    <a:pt x="623" y="219"/>
                  </a:lnTo>
                  <a:lnTo>
                    <a:pt x="614" y="217"/>
                  </a:lnTo>
                  <a:lnTo>
                    <a:pt x="603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6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8" y="227"/>
                  </a:lnTo>
                  <a:lnTo>
                    <a:pt x="502" y="234"/>
                  </a:lnTo>
                  <a:lnTo>
                    <a:pt x="485" y="243"/>
                  </a:lnTo>
                  <a:lnTo>
                    <a:pt x="468" y="253"/>
                  </a:lnTo>
                  <a:lnTo>
                    <a:pt x="450" y="265"/>
                  </a:lnTo>
                  <a:lnTo>
                    <a:pt x="414" y="296"/>
                  </a:lnTo>
                  <a:lnTo>
                    <a:pt x="414" y="853"/>
                  </a:lnTo>
                  <a:lnTo>
                    <a:pt x="414" y="867"/>
                  </a:lnTo>
                  <a:lnTo>
                    <a:pt x="414" y="889"/>
                  </a:lnTo>
                  <a:lnTo>
                    <a:pt x="414" y="898"/>
                  </a:lnTo>
                  <a:lnTo>
                    <a:pt x="417" y="908"/>
                  </a:lnTo>
                  <a:lnTo>
                    <a:pt x="420" y="914"/>
                  </a:lnTo>
                  <a:lnTo>
                    <a:pt x="425" y="921"/>
                  </a:lnTo>
                  <a:lnTo>
                    <a:pt x="431" y="925"/>
                  </a:lnTo>
                  <a:lnTo>
                    <a:pt x="437" y="929"/>
                  </a:lnTo>
                  <a:lnTo>
                    <a:pt x="452" y="935"/>
                  </a:lnTo>
                  <a:lnTo>
                    <a:pt x="460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1" y="955"/>
                  </a:lnTo>
                  <a:lnTo>
                    <a:pt x="486" y="961"/>
                  </a:lnTo>
                  <a:lnTo>
                    <a:pt x="489" y="967"/>
                  </a:lnTo>
                  <a:lnTo>
                    <a:pt x="491" y="975"/>
                  </a:lnTo>
                  <a:lnTo>
                    <a:pt x="491" y="982"/>
                  </a:lnTo>
                  <a:lnTo>
                    <a:pt x="491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42120" y="761040"/>
              <a:ext cx="67320" cy="8352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7" y="261"/>
                  </a:lnTo>
                  <a:lnTo>
                    <a:pt x="663" y="251"/>
                  </a:lnTo>
                  <a:lnTo>
                    <a:pt x="661" y="243"/>
                  </a:lnTo>
                  <a:lnTo>
                    <a:pt x="656" y="235"/>
                  </a:lnTo>
                  <a:lnTo>
                    <a:pt x="651" y="228"/>
                  </a:lnTo>
                  <a:lnTo>
                    <a:pt x="646" y="222"/>
                  </a:lnTo>
                  <a:lnTo>
                    <a:pt x="639" y="216"/>
                  </a:lnTo>
                  <a:lnTo>
                    <a:pt x="631" y="211"/>
                  </a:lnTo>
                  <a:lnTo>
                    <a:pt x="621" y="205"/>
                  </a:lnTo>
                  <a:lnTo>
                    <a:pt x="611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3" y="189"/>
                  </a:lnTo>
                  <a:lnTo>
                    <a:pt x="557" y="185"/>
                  </a:lnTo>
                  <a:lnTo>
                    <a:pt x="541" y="184"/>
                  </a:lnTo>
                  <a:lnTo>
                    <a:pt x="525" y="183"/>
                  </a:lnTo>
                  <a:lnTo>
                    <a:pt x="511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1" y="185"/>
                  </a:lnTo>
                  <a:lnTo>
                    <a:pt x="418" y="187"/>
                  </a:lnTo>
                  <a:lnTo>
                    <a:pt x="378" y="195"/>
                  </a:lnTo>
                  <a:lnTo>
                    <a:pt x="345" y="201"/>
                  </a:lnTo>
                  <a:lnTo>
                    <a:pt x="319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6" y="223"/>
                  </a:lnTo>
                  <a:lnTo>
                    <a:pt x="278" y="229"/>
                  </a:lnTo>
                  <a:lnTo>
                    <a:pt x="271" y="235"/>
                  </a:lnTo>
                  <a:lnTo>
                    <a:pt x="255" y="253"/>
                  </a:lnTo>
                  <a:lnTo>
                    <a:pt x="238" y="272"/>
                  </a:lnTo>
                  <a:lnTo>
                    <a:pt x="228" y="283"/>
                  </a:lnTo>
                  <a:lnTo>
                    <a:pt x="222" y="287"/>
                  </a:lnTo>
                  <a:lnTo>
                    <a:pt x="213" y="291"/>
                  </a:lnTo>
                  <a:lnTo>
                    <a:pt x="202" y="293"/>
                  </a:lnTo>
                  <a:lnTo>
                    <a:pt x="191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3" y="297"/>
                  </a:lnTo>
                  <a:lnTo>
                    <a:pt x="83" y="56"/>
                  </a:lnTo>
                  <a:lnTo>
                    <a:pt x="132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6" y="18"/>
                  </a:lnTo>
                  <a:lnTo>
                    <a:pt x="282" y="12"/>
                  </a:lnTo>
                  <a:lnTo>
                    <a:pt x="315" y="7"/>
                  </a:lnTo>
                  <a:lnTo>
                    <a:pt x="347" y="3"/>
                  </a:lnTo>
                  <a:lnTo>
                    <a:pt x="377" y="1"/>
                  </a:lnTo>
                  <a:lnTo>
                    <a:pt x="404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4" y="4"/>
                  </a:lnTo>
                  <a:lnTo>
                    <a:pt x="587" y="7"/>
                  </a:lnTo>
                  <a:lnTo>
                    <a:pt x="620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9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4" y="43"/>
                  </a:lnTo>
                  <a:lnTo>
                    <a:pt x="806" y="50"/>
                  </a:lnTo>
                  <a:lnTo>
                    <a:pt x="827" y="57"/>
                  </a:lnTo>
                  <a:lnTo>
                    <a:pt x="846" y="66"/>
                  </a:lnTo>
                  <a:lnTo>
                    <a:pt x="865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2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9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6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8" y="260"/>
                  </a:lnTo>
                  <a:lnTo>
                    <a:pt x="1000" y="280"/>
                  </a:lnTo>
                  <a:lnTo>
                    <a:pt x="1003" y="299"/>
                  </a:lnTo>
                  <a:lnTo>
                    <a:pt x="1003" y="320"/>
                  </a:lnTo>
                  <a:lnTo>
                    <a:pt x="1003" y="821"/>
                  </a:lnTo>
                  <a:lnTo>
                    <a:pt x="1003" y="852"/>
                  </a:lnTo>
                  <a:lnTo>
                    <a:pt x="1003" y="864"/>
                  </a:lnTo>
                  <a:lnTo>
                    <a:pt x="1009" y="897"/>
                  </a:lnTo>
                  <a:lnTo>
                    <a:pt x="1022" y="920"/>
                  </a:lnTo>
                  <a:lnTo>
                    <a:pt x="1048" y="930"/>
                  </a:lnTo>
                  <a:lnTo>
                    <a:pt x="1057" y="934"/>
                  </a:lnTo>
                  <a:lnTo>
                    <a:pt x="1064" y="939"/>
                  </a:lnTo>
                  <a:lnTo>
                    <a:pt x="1072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2" y="1046"/>
                  </a:lnTo>
                  <a:lnTo>
                    <a:pt x="682" y="989"/>
                  </a:lnTo>
                  <a:lnTo>
                    <a:pt x="667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5" y="1032"/>
                  </a:lnTo>
                  <a:lnTo>
                    <a:pt x="589" y="1038"/>
                  </a:lnTo>
                  <a:lnTo>
                    <a:pt x="573" y="1045"/>
                  </a:lnTo>
                  <a:lnTo>
                    <a:pt x="557" y="1051"/>
                  </a:lnTo>
                  <a:lnTo>
                    <a:pt x="540" y="1056"/>
                  </a:lnTo>
                  <a:lnTo>
                    <a:pt x="524" y="1059"/>
                  </a:lnTo>
                  <a:lnTo>
                    <a:pt x="507" y="1063"/>
                  </a:lnTo>
                  <a:lnTo>
                    <a:pt x="491" y="1065"/>
                  </a:lnTo>
                  <a:lnTo>
                    <a:pt x="474" y="1068"/>
                  </a:lnTo>
                  <a:lnTo>
                    <a:pt x="457" y="1069"/>
                  </a:lnTo>
                  <a:lnTo>
                    <a:pt x="439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4" y="1068"/>
                  </a:lnTo>
                  <a:lnTo>
                    <a:pt x="297" y="1065"/>
                  </a:lnTo>
                  <a:lnTo>
                    <a:pt x="271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91" y="1042"/>
                  </a:lnTo>
                  <a:lnTo>
                    <a:pt x="174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6" y="1005"/>
                  </a:lnTo>
                  <a:lnTo>
                    <a:pt x="110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2" y="940"/>
                  </a:lnTo>
                  <a:lnTo>
                    <a:pt x="46" y="917"/>
                  </a:lnTo>
                  <a:lnTo>
                    <a:pt x="38" y="906"/>
                  </a:lnTo>
                  <a:lnTo>
                    <a:pt x="32" y="893"/>
                  </a:lnTo>
                  <a:lnTo>
                    <a:pt x="26" y="881"/>
                  </a:lnTo>
                  <a:lnTo>
                    <a:pt x="21" y="869"/>
                  </a:lnTo>
                  <a:lnTo>
                    <a:pt x="16" y="857"/>
                  </a:lnTo>
                  <a:lnTo>
                    <a:pt x="11" y="843"/>
                  </a:lnTo>
                  <a:lnTo>
                    <a:pt x="9" y="831"/>
                  </a:lnTo>
                  <a:lnTo>
                    <a:pt x="5" y="817"/>
                  </a:lnTo>
                  <a:lnTo>
                    <a:pt x="3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9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5" y="639"/>
                  </a:lnTo>
                  <a:lnTo>
                    <a:pt x="31" y="626"/>
                  </a:lnTo>
                  <a:lnTo>
                    <a:pt x="37" y="614"/>
                  </a:lnTo>
                  <a:lnTo>
                    <a:pt x="43" y="600"/>
                  </a:lnTo>
                  <a:lnTo>
                    <a:pt x="51" y="588"/>
                  </a:lnTo>
                  <a:lnTo>
                    <a:pt x="58" y="577"/>
                  </a:lnTo>
                  <a:lnTo>
                    <a:pt x="67" y="564"/>
                  </a:lnTo>
                  <a:lnTo>
                    <a:pt x="76" y="553"/>
                  </a:lnTo>
                  <a:lnTo>
                    <a:pt x="86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1" y="502"/>
                  </a:lnTo>
                  <a:lnTo>
                    <a:pt x="158" y="482"/>
                  </a:lnTo>
                  <a:lnTo>
                    <a:pt x="174" y="472"/>
                  </a:lnTo>
                  <a:lnTo>
                    <a:pt x="190" y="464"/>
                  </a:lnTo>
                  <a:lnTo>
                    <a:pt x="208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9" y="381"/>
                  </a:lnTo>
                  <a:lnTo>
                    <a:pt x="463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2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8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4" y="580"/>
                  </a:lnTo>
                  <a:lnTo>
                    <a:pt x="453" y="589"/>
                  </a:lnTo>
                  <a:lnTo>
                    <a:pt x="436" y="596"/>
                  </a:lnTo>
                  <a:lnTo>
                    <a:pt x="422" y="602"/>
                  </a:lnTo>
                  <a:lnTo>
                    <a:pt x="410" y="611"/>
                  </a:lnTo>
                  <a:lnTo>
                    <a:pt x="400" y="618"/>
                  </a:lnTo>
                  <a:lnTo>
                    <a:pt x="390" y="627"/>
                  </a:lnTo>
                  <a:lnTo>
                    <a:pt x="378" y="641"/>
                  </a:lnTo>
                  <a:lnTo>
                    <a:pt x="367" y="654"/>
                  </a:lnTo>
                  <a:lnTo>
                    <a:pt x="358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5" y="745"/>
                  </a:lnTo>
                  <a:lnTo>
                    <a:pt x="336" y="760"/>
                  </a:lnTo>
                  <a:lnTo>
                    <a:pt x="337" y="774"/>
                  </a:lnTo>
                  <a:lnTo>
                    <a:pt x="340" y="788"/>
                  </a:lnTo>
                  <a:lnTo>
                    <a:pt x="343" y="800"/>
                  </a:lnTo>
                  <a:lnTo>
                    <a:pt x="347" y="811"/>
                  </a:lnTo>
                  <a:lnTo>
                    <a:pt x="353" y="822"/>
                  </a:lnTo>
                  <a:lnTo>
                    <a:pt x="359" y="831"/>
                  </a:lnTo>
                  <a:lnTo>
                    <a:pt x="367" y="839"/>
                  </a:lnTo>
                  <a:lnTo>
                    <a:pt x="375" y="847"/>
                  </a:lnTo>
                  <a:lnTo>
                    <a:pt x="385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20" y="866"/>
                  </a:lnTo>
                  <a:lnTo>
                    <a:pt x="432" y="870"/>
                  </a:lnTo>
                  <a:lnTo>
                    <a:pt x="447" y="871"/>
                  </a:lnTo>
                  <a:lnTo>
                    <a:pt x="463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3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50" y="860"/>
                  </a:lnTo>
                  <a:lnTo>
                    <a:pt x="565" y="854"/>
                  </a:lnTo>
                  <a:lnTo>
                    <a:pt x="581" y="847"/>
                  </a:lnTo>
                  <a:lnTo>
                    <a:pt x="597" y="837"/>
                  </a:lnTo>
                  <a:lnTo>
                    <a:pt x="613" y="826"/>
                  </a:lnTo>
                  <a:lnTo>
                    <a:pt x="631" y="812"/>
                  </a:lnTo>
                  <a:lnTo>
                    <a:pt x="639" y="805"/>
                  </a:lnTo>
                  <a:lnTo>
                    <a:pt x="647" y="795"/>
                  </a:lnTo>
                  <a:lnTo>
                    <a:pt x="655" y="785"/>
                  </a:lnTo>
                  <a:lnTo>
                    <a:pt x="663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13400" y="734400"/>
              <a:ext cx="30240" cy="106200"/>
            </a:xfrm>
            <a:custGeom>
              <a:avLst/>
              <a:gdLst/>
              <a:ahLst/>
              <a:rect l="l" t="t" r="r" b="b"/>
              <a:pathLst>
                <a:path w="503" h="1407">
                  <a:moveTo>
                    <a:pt x="0" y="1407"/>
                  </a:moveTo>
                  <a:lnTo>
                    <a:pt x="0" y="1338"/>
                  </a:lnTo>
                  <a:lnTo>
                    <a:pt x="1" y="1331"/>
                  </a:lnTo>
                  <a:lnTo>
                    <a:pt x="4" y="1322"/>
                  </a:lnTo>
                  <a:lnTo>
                    <a:pt x="9" y="1315"/>
                  </a:lnTo>
                  <a:lnTo>
                    <a:pt x="16" y="1306"/>
                  </a:lnTo>
                  <a:lnTo>
                    <a:pt x="25" y="1299"/>
                  </a:lnTo>
                  <a:lnTo>
                    <a:pt x="31" y="1293"/>
                  </a:lnTo>
                  <a:lnTo>
                    <a:pt x="38" y="1289"/>
                  </a:lnTo>
                  <a:lnTo>
                    <a:pt x="43" y="1288"/>
                  </a:lnTo>
                  <a:lnTo>
                    <a:pt x="53" y="1283"/>
                  </a:lnTo>
                  <a:lnTo>
                    <a:pt x="59" y="1283"/>
                  </a:lnTo>
                  <a:lnTo>
                    <a:pt x="64" y="1280"/>
                  </a:lnTo>
                  <a:lnTo>
                    <a:pt x="68" y="1278"/>
                  </a:lnTo>
                  <a:lnTo>
                    <a:pt x="71" y="1275"/>
                  </a:lnTo>
                  <a:lnTo>
                    <a:pt x="75" y="1270"/>
                  </a:lnTo>
                  <a:lnTo>
                    <a:pt x="77" y="1266"/>
                  </a:lnTo>
                  <a:lnTo>
                    <a:pt x="80" y="1261"/>
                  </a:lnTo>
                  <a:lnTo>
                    <a:pt x="82" y="1254"/>
                  </a:lnTo>
                  <a:lnTo>
                    <a:pt x="86" y="1223"/>
                  </a:lnTo>
                  <a:lnTo>
                    <a:pt x="86" y="1209"/>
                  </a:lnTo>
                  <a:lnTo>
                    <a:pt x="86" y="197"/>
                  </a:lnTo>
                  <a:lnTo>
                    <a:pt x="86" y="183"/>
                  </a:lnTo>
                  <a:lnTo>
                    <a:pt x="84" y="167"/>
                  </a:lnTo>
                  <a:lnTo>
                    <a:pt x="79" y="152"/>
                  </a:lnTo>
                  <a:lnTo>
                    <a:pt x="75" y="146"/>
                  </a:lnTo>
                  <a:lnTo>
                    <a:pt x="73" y="141"/>
                  </a:lnTo>
                  <a:lnTo>
                    <a:pt x="68" y="136"/>
                  </a:lnTo>
                  <a:lnTo>
                    <a:pt x="64" y="132"/>
                  </a:lnTo>
                  <a:lnTo>
                    <a:pt x="38" y="121"/>
                  </a:lnTo>
                  <a:lnTo>
                    <a:pt x="29" y="115"/>
                  </a:lnTo>
                  <a:lnTo>
                    <a:pt x="16" y="102"/>
                  </a:lnTo>
                  <a:lnTo>
                    <a:pt x="9" y="86"/>
                  </a:lnTo>
                  <a:lnTo>
                    <a:pt x="2" y="72"/>
                  </a:lnTo>
                  <a:lnTo>
                    <a:pt x="1" y="70"/>
                  </a:lnTo>
                  <a:lnTo>
                    <a:pt x="0" y="68"/>
                  </a:lnTo>
                  <a:lnTo>
                    <a:pt x="0" y="0"/>
                  </a:lnTo>
                  <a:lnTo>
                    <a:pt x="421" y="0"/>
                  </a:lnTo>
                  <a:lnTo>
                    <a:pt x="421" y="1212"/>
                  </a:lnTo>
                  <a:lnTo>
                    <a:pt x="421" y="1225"/>
                  </a:lnTo>
                  <a:lnTo>
                    <a:pt x="421" y="1239"/>
                  </a:lnTo>
                  <a:lnTo>
                    <a:pt x="423" y="1247"/>
                  </a:lnTo>
                  <a:lnTo>
                    <a:pt x="426" y="1254"/>
                  </a:lnTo>
                  <a:lnTo>
                    <a:pt x="429" y="1262"/>
                  </a:lnTo>
                  <a:lnTo>
                    <a:pt x="433" y="1268"/>
                  </a:lnTo>
                  <a:lnTo>
                    <a:pt x="438" y="1274"/>
                  </a:lnTo>
                  <a:lnTo>
                    <a:pt x="443" y="1279"/>
                  </a:lnTo>
                  <a:lnTo>
                    <a:pt x="448" y="1284"/>
                  </a:lnTo>
                  <a:lnTo>
                    <a:pt x="454" y="1288"/>
                  </a:lnTo>
                  <a:lnTo>
                    <a:pt x="464" y="1293"/>
                  </a:lnTo>
                  <a:lnTo>
                    <a:pt x="489" y="1307"/>
                  </a:lnTo>
                  <a:lnTo>
                    <a:pt x="496" y="1313"/>
                  </a:lnTo>
                  <a:lnTo>
                    <a:pt x="499" y="1321"/>
                  </a:lnTo>
                  <a:lnTo>
                    <a:pt x="502" y="1329"/>
                  </a:lnTo>
                  <a:lnTo>
                    <a:pt x="503" y="1340"/>
                  </a:lnTo>
                  <a:lnTo>
                    <a:pt x="503" y="1407"/>
                  </a:lnTo>
                  <a:lnTo>
                    <a:pt x="0" y="1407"/>
                  </a:lnTo>
                  <a:close/>
                </a:path>
              </a:pathLst>
            </a:custGeom>
            <a:solidFill>
              <a:srgbClr val="8fa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917480" y="620640"/>
              <a:ext cx="707040" cy="87840"/>
              <a:chOff x="7917480" y="620640"/>
              <a:chExt cx="707040" cy="87840"/>
            </a:xfrm>
          </p:grpSpPr>
          <p:sp>
            <p:nvSpPr>
              <p:cNvPr id="94" name=""/>
              <p:cNvSpPr/>
              <p:nvPr/>
            </p:nvSpPr>
            <p:spPr>
              <a:xfrm>
                <a:off x="7917480" y="648360"/>
                <a:ext cx="45000" cy="6012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8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0" y="741"/>
                    </a:lnTo>
                    <a:lnTo>
                      <a:pt x="636" y="753"/>
                    </a:lnTo>
                    <a:lnTo>
                      <a:pt x="601" y="764"/>
                    </a:lnTo>
                    <a:lnTo>
                      <a:pt x="568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0" y="786"/>
                    </a:lnTo>
                    <a:lnTo>
                      <a:pt x="406" y="786"/>
                    </a:lnTo>
                    <a:lnTo>
                      <a:pt x="381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4" y="776"/>
                    </a:lnTo>
                    <a:lnTo>
                      <a:pt x="291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1" y="752"/>
                    </a:lnTo>
                    <a:lnTo>
                      <a:pt x="213" y="745"/>
                    </a:lnTo>
                    <a:lnTo>
                      <a:pt x="194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4" y="678"/>
                    </a:lnTo>
                    <a:lnTo>
                      <a:pt x="101" y="665"/>
                    </a:lnTo>
                    <a:lnTo>
                      <a:pt x="87" y="650"/>
                    </a:lnTo>
                    <a:lnTo>
                      <a:pt x="76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5" y="586"/>
                    </a:lnTo>
                    <a:lnTo>
                      <a:pt x="37" y="569"/>
                    </a:lnTo>
                    <a:lnTo>
                      <a:pt x="29" y="551"/>
                    </a:lnTo>
                    <a:lnTo>
                      <a:pt x="22" y="532"/>
                    </a:lnTo>
                    <a:lnTo>
                      <a:pt x="16" y="512"/>
                    </a:lnTo>
                    <a:lnTo>
                      <a:pt x="11" y="493"/>
                    </a:lnTo>
                    <a:lnTo>
                      <a:pt x="7" y="472"/>
                    </a:lnTo>
                    <a:lnTo>
                      <a:pt x="5" y="450"/>
                    </a:lnTo>
                    <a:lnTo>
                      <a:pt x="2" y="428"/>
                    </a:lnTo>
                    <a:lnTo>
                      <a:pt x="1" y="406"/>
                    </a:lnTo>
                    <a:lnTo>
                      <a:pt x="0" y="382"/>
                    </a:lnTo>
                    <a:lnTo>
                      <a:pt x="1" y="363"/>
                    </a:lnTo>
                    <a:lnTo>
                      <a:pt x="2" y="342"/>
                    </a:lnTo>
                    <a:lnTo>
                      <a:pt x="4" y="322"/>
                    </a:lnTo>
                    <a:lnTo>
                      <a:pt x="7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8"/>
                    </a:lnTo>
                    <a:lnTo>
                      <a:pt x="27" y="231"/>
                    </a:lnTo>
                    <a:lnTo>
                      <a:pt x="33" y="214"/>
                    </a:lnTo>
                    <a:lnTo>
                      <a:pt x="42" y="198"/>
                    </a:lnTo>
                    <a:lnTo>
                      <a:pt x="50" y="182"/>
                    </a:lnTo>
                    <a:lnTo>
                      <a:pt x="59" y="166"/>
                    </a:lnTo>
                    <a:lnTo>
                      <a:pt x="70" y="151"/>
                    </a:lnTo>
                    <a:lnTo>
                      <a:pt x="81" y="137"/>
                    </a:lnTo>
                    <a:lnTo>
                      <a:pt x="92" y="122"/>
                    </a:lnTo>
                    <a:lnTo>
                      <a:pt x="106" y="109"/>
                    </a:lnTo>
                    <a:lnTo>
                      <a:pt x="119" y="95"/>
                    </a:lnTo>
                    <a:lnTo>
                      <a:pt x="133" y="83"/>
                    </a:lnTo>
                    <a:lnTo>
                      <a:pt x="146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5" y="27"/>
                    </a:lnTo>
                    <a:lnTo>
                      <a:pt x="241" y="21"/>
                    </a:lnTo>
                    <a:lnTo>
                      <a:pt x="258" y="15"/>
                    </a:lnTo>
                    <a:lnTo>
                      <a:pt x="275" y="10"/>
                    </a:lnTo>
                    <a:lnTo>
                      <a:pt x="294" y="7"/>
                    </a:lnTo>
                    <a:lnTo>
                      <a:pt x="312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0" y="0"/>
                    </a:lnTo>
                    <a:lnTo>
                      <a:pt x="390" y="0"/>
                    </a:lnTo>
                    <a:lnTo>
                      <a:pt x="408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8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6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1" y="57"/>
                    </a:lnTo>
                    <a:lnTo>
                      <a:pt x="584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3" y="115"/>
                    </a:lnTo>
                    <a:lnTo>
                      <a:pt x="644" y="128"/>
                    </a:lnTo>
                    <a:lnTo>
                      <a:pt x="654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1" y="188"/>
                    </a:lnTo>
                    <a:lnTo>
                      <a:pt x="689" y="206"/>
                    </a:lnTo>
                    <a:lnTo>
                      <a:pt x="696" y="223"/>
                    </a:lnTo>
                    <a:lnTo>
                      <a:pt x="702" y="240"/>
                    </a:lnTo>
                    <a:lnTo>
                      <a:pt x="707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3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2"/>
                    </a:lnTo>
                    <a:lnTo>
                      <a:pt x="218" y="470"/>
                    </a:lnTo>
                    <a:lnTo>
                      <a:pt x="226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7" y="542"/>
                    </a:lnTo>
                    <a:lnTo>
                      <a:pt x="253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7" y="582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2" y="614"/>
                    </a:lnTo>
                    <a:lnTo>
                      <a:pt x="322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6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90" y="655"/>
                    </a:lnTo>
                    <a:lnTo>
                      <a:pt x="506" y="652"/>
                    </a:lnTo>
                    <a:lnTo>
                      <a:pt x="521" y="649"/>
                    </a:lnTo>
                    <a:lnTo>
                      <a:pt x="536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0" y="611"/>
                    </a:lnTo>
                    <a:lnTo>
                      <a:pt x="610" y="601"/>
                    </a:lnTo>
                    <a:lnTo>
                      <a:pt x="620" y="591"/>
                    </a:lnTo>
                    <a:lnTo>
                      <a:pt x="627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8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7"/>
                    </a:lnTo>
                    <a:lnTo>
                      <a:pt x="478" y="177"/>
                    </a:lnTo>
                    <a:lnTo>
                      <a:pt x="471" y="167"/>
                    </a:lnTo>
                    <a:lnTo>
                      <a:pt x="461" y="159"/>
                    </a:lnTo>
                    <a:lnTo>
                      <a:pt x="451" y="151"/>
                    </a:lnTo>
                    <a:lnTo>
                      <a:pt x="440" y="145"/>
                    </a:lnTo>
                    <a:lnTo>
                      <a:pt x="429" y="139"/>
                    </a:lnTo>
                    <a:lnTo>
                      <a:pt x="417" y="136"/>
                    </a:lnTo>
                    <a:lnTo>
                      <a:pt x="403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1"/>
                    </a:lnTo>
                    <a:lnTo>
                      <a:pt x="275" y="160"/>
                    </a:lnTo>
                    <a:lnTo>
                      <a:pt x="266" y="169"/>
                    </a:lnTo>
                    <a:lnTo>
                      <a:pt x="256" y="178"/>
                    </a:lnTo>
                    <a:lnTo>
                      <a:pt x="247" y="190"/>
                    </a:lnTo>
                    <a:lnTo>
                      <a:pt x="240" y="202"/>
                    </a:lnTo>
                    <a:lnTo>
                      <a:pt x="234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1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68960" y="648360"/>
                <a:ext cx="49680" cy="5796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1" y="705"/>
                    </a:lnTo>
                    <a:lnTo>
                      <a:pt x="29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5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9" y="86"/>
                    </a:lnTo>
                    <a:lnTo>
                      <a:pt x="32" y="81"/>
                    </a:lnTo>
                    <a:lnTo>
                      <a:pt x="24" y="79"/>
                    </a:lnTo>
                    <a:lnTo>
                      <a:pt x="13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1"/>
                    </a:lnTo>
                    <a:lnTo>
                      <a:pt x="256" y="70"/>
                    </a:lnTo>
                    <a:lnTo>
                      <a:pt x="269" y="61"/>
                    </a:lnTo>
                    <a:lnTo>
                      <a:pt x="282" y="52"/>
                    </a:lnTo>
                    <a:lnTo>
                      <a:pt x="296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8" y="7"/>
                    </a:lnTo>
                    <a:lnTo>
                      <a:pt x="425" y="3"/>
                    </a:lnTo>
                    <a:lnTo>
                      <a:pt x="443" y="2"/>
                    </a:lnTo>
                    <a:lnTo>
                      <a:pt x="462" y="0"/>
                    </a:lnTo>
                    <a:lnTo>
                      <a:pt x="480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3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1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7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50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6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5" y="226"/>
                    </a:lnTo>
                    <a:lnTo>
                      <a:pt x="553" y="214"/>
                    </a:lnTo>
                    <a:lnTo>
                      <a:pt x="549" y="203"/>
                    </a:lnTo>
                    <a:lnTo>
                      <a:pt x="543" y="191"/>
                    </a:lnTo>
                    <a:lnTo>
                      <a:pt x="537" y="181"/>
                    </a:lnTo>
                    <a:lnTo>
                      <a:pt x="529" y="171"/>
                    </a:lnTo>
                    <a:lnTo>
                      <a:pt x="521" y="163"/>
                    </a:lnTo>
                    <a:lnTo>
                      <a:pt x="511" y="154"/>
                    </a:lnTo>
                    <a:lnTo>
                      <a:pt x="500" y="147"/>
                    </a:lnTo>
                    <a:lnTo>
                      <a:pt x="489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1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8" y="128"/>
                    </a:lnTo>
                    <a:lnTo>
                      <a:pt x="394" y="128"/>
                    </a:lnTo>
                    <a:lnTo>
                      <a:pt x="382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80" y="178"/>
                    </a:lnTo>
                    <a:lnTo>
                      <a:pt x="270" y="187"/>
                    </a:lnTo>
                    <a:lnTo>
                      <a:pt x="261" y="196"/>
                    </a:lnTo>
                    <a:lnTo>
                      <a:pt x="254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8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3" y="688"/>
                    </a:lnTo>
                    <a:lnTo>
                      <a:pt x="254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054280" y="622800"/>
                <a:ext cx="18360" cy="83880"/>
              </a:xfrm>
              <a:custGeom>
                <a:avLst/>
                <a:gdLst/>
                <a:ahLst/>
                <a:rect l="l" t="t" r="r" b="b"/>
                <a:pathLst>
                  <a:path w="295" h="1098">
                    <a:moveTo>
                      <a:pt x="0" y="1098"/>
                    </a:moveTo>
                    <a:lnTo>
                      <a:pt x="0" y="1043"/>
                    </a:lnTo>
                    <a:lnTo>
                      <a:pt x="12" y="1040"/>
                    </a:lnTo>
                    <a:lnTo>
                      <a:pt x="23" y="1036"/>
                    </a:lnTo>
                    <a:lnTo>
                      <a:pt x="32" y="1031"/>
                    </a:lnTo>
                    <a:lnTo>
                      <a:pt x="38" y="1025"/>
                    </a:lnTo>
                    <a:lnTo>
                      <a:pt x="40" y="1020"/>
                    </a:lnTo>
                    <a:lnTo>
                      <a:pt x="43" y="1015"/>
                    </a:lnTo>
                    <a:lnTo>
                      <a:pt x="45" y="1009"/>
                    </a:lnTo>
                    <a:lnTo>
                      <a:pt x="47" y="1001"/>
                    </a:lnTo>
                    <a:lnTo>
                      <a:pt x="49" y="984"/>
                    </a:lnTo>
                    <a:lnTo>
                      <a:pt x="49" y="962"/>
                    </a:lnTo>
                    <a:lnTo>
                      <a:pt x="49" y="952"/>
                    </a:lnTo>
                    <a:lnTo>
                      <a:pt x="49" y="110"/>
                    </a:lnTo>
                    <a:lnTo>
                      <a:pt x="49" y="95"/>
                    </a:lnTo>
                    <a:lnTo>
                      <a:pt x="47" y="84"/>
                    </a:lnTo>
                    <a:lnTo>
                      <a:pt x="43" y="74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3" y="59"/>
                    </a:lnTo>
                    <a:lnTo>
                      <a:pt x="12" y="57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3"/>
                    </a:lnTo>
                    <a:lnTo>
                      <a:pt x="246" y="988"/>
                    </a:lnTo>
                    <a:lnTo>
                      <a:pt x="248" y="1006"/>
                    </a:lnTo>
                    <a:lnTo>
                      <a:pt x="250" y="1013"/>
                    </a:lnTo>
                    <a:lnTo>
                      <a:pt x="252" y="1020"/>
                    </a:lnTo>
                    <a:lnTo>
                      <a:pt x="253" y="1025"/>
                    </a:lnTo>
                    <a:lnTo>
                      <a:pt x="256" y="1028"/>
                    </a:lnTo>
                    <a:lnTo>
                      <a:pt x="263" y="1034"/>
                    </a:lnTo>
                    <a:lnTo>
                      <a:pt x="270" y="1038"/>
                    </a:lnTo>
                    <a:lnTo>
                      <a:pt x="282" y="1042"/>
                    </a:lnTo>
                    <a:lnTo>
                      <a:pt x="294" y="1043"/>
                    </a:lnTo>
                    <a:lnTo>
                      <a:pt x="295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078040" y="648000"/>
                <a:ext cx="46080" cy="597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59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5"/>
                    </a:lnTo>
                    <a:lnTo>
                      <a:pt x="422" y="130"/>
                    </a:lnTo>
                    <a:lnTo>
                      <a:pt x="407" y="126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29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0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159400" y="622800"/>
                <a:ext cx="56520" cy="83880"/>
              </a:xfrm>
              <a:custGeom>
                <a:avLst/>
                <a:gdLst/>
                <a:ahLst/>
                <a:rect l="l" t="t" r="r" b="b"/>
                <a:pathLst>
                  <a:path w="908" h="1098">
                    <a:moveTo>
                      <a:pt x="0" y="1098"/>
                    </a:moveTo>
                    <a:lnTo>
                      <a:pt x="0" y="1031"/>
                    </a:lnTo>
                    <a:lnTo>
                      <a:pt x="16" y="1028"/>
                    </a:lnTo>
                    <a:lnTo>
                      <a:pt x="31" y="1025"/>
                    </a:lnTo>
                    <a:lnTo>
                      <a:pt x="37" y="1022"/>
                    </a:lnTo>
                    <a:lnTo>
                      <a:pt x="42" y="1020"/>
                    </a:lnTo>
                    <a:lnTo>
                      <a:pt x="47" y="1016"/>
                    </a:lnTo>
                    <a:lnTo>
                      <a:pt x="51" y="1012"/>
                    </a:lnTo>
                    <a:lnTo>
                      <a:pt x="53" y="1007"/>
                    </a:lnTo>
                    <a:lnTo>
                      <a:pt x="57" y="1002"/>
                    </a:lnTo>
                    <a:lnTo>
                      <a:pt x="59" y="996"/>
                    </a:lnTo>
                    <a:lnTo>
                      <a:pt x="60" y="990"/>
                    </a:lnTo>
                    <a:lnTo>
                      <a:pt x="63" y="973"/>
                    </a:lnTo>
                    <a:lnTo>
                      <a:pt x="64" y="955"/>
                    </a:lnTo>
                    <a:lnTo>
                      <a:pt x="64" y="145"/>
                    </a:lnTo>
                    <a:lnTo>
                      <a:pt x="63" y="126"/>
                    </a:lnTo>
                    <a:lnTo>
                      <a:pt x="60" y="110"/>
                    </a:lnTo>
                    <a:lnTo>
                      <a:pt x="59" y="102"/>
                    </a:lnTo>
                    <a:lnTo>
                      <a:pt x="57" y="96"/>
                    </a:lnTo>
                    <a:lnTo>
                      <a:pt x="53" y="91"/>
                    </a:lnTo>
                    <a:lnTo>
                      <a:pt x="51" y="88"/>
                    </a:lnTo>
                    <a:lnTo>
                      <a:pt x="47" y="84"/>
                    </a:lnTo>
                    <a:lnTo>
                      <a:pt x="42" y="80"/>
                    </a:lnTo>
                    <a:lnTo>
                      <a:pt x="37" y="78"/>
                    </a:lnTo>
                    <a:lnTo>
                      <a:pt x="31" y="75"/>
                    </a:lnTo>
                    <a:lnTo>
                      <a:pt x="16" y="72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8"/>
                    </a:lnTo>
                    <a:lnTo>
                      <a:pt x="840" y="218"/>
                    </a:lnTo>
                    <a:lnTo>
                      <a:pt x="837" y="207"/>
                    </a:lnTo>
                    <a:lnTo>
                      <a:pt x="833" y="197"/>
                    </a:lnTo>
                    <a:lnTo>
                      <a:pt x="828" y="187"/>
                    </a:lnTo>
                    <a:lnTo>
                      <a:pt x="824" y="179"/>
                    </a:lnTo>
                    <a:lnTo>
                      <a:pt x="819" y="171"/>
                    </a:lnTo>
                    <a:lnTo>
                      <a:pt x="813" y="164"/>
                    </a:lnTo>
                    <a:lnTo>
                      <a:pt x="808" y="159"/>
                    </a:lnTo>
                    <a:lnTo>
                      <a:pt x="802" y="154"/>
                    </a:lnTo>
                    <a:lnTo>
                      <a:pt x="795" y="150"/>
                    </a:lnTo>
                    <a:lnTo>
                      <a:pt x="786" y="147"/>
                    </a:lnTo>
                    <a:lnTo>
                      <a:pt x="776" y="143"/>
                    </a:lnTo>
                    <a:lnTo>
                      <a:pt x="764" y="140"/>
                    </a:lnTo>
                    <a:lnTo>
                      <a:pt x="749" y="139"/>
                    </a:lnTo>
                    <a:lnTo>
                      <a:pt x="734" y="138"/>
                    </a:lnTo>
                    <a:lnTo>
                      <a:pt x="717" y="137"/>
                    </a:lnTo>
                    <a:lnTo>
                      <a:pt x="698" y="137"/>
                    </a:lnTo>
                    <a:lnTo>
                      <a:pt x="276" y="137"/>
                    </a:lnTo>
                    <a:lnTo>
                      <a:pt x="276" y="429"/>
                    </a:lnTo>
                    <a:lnTo>
                      <a:pt x="548" y="429"/>
                    </a:lnTo>
                    <a:lnTo>
                      <a:pt x="587" y="428"/>
                    </a:lnTo>
                    <a:lnTo>
                      <a:pt x="619" y="424"/>
                    </a:lnTo>
                    <a:lnTo>
                      <a:pt x="631" y="423"/>
                    </a:lnTo>
                    <a:lnTo>
                      <a:pt x="642" y="419"/>
                    </a:lnTo>
                    <a:lnTo>
                      <a:pt x="651" y="417"/>
                    </a:lnTo>
                    <a:lnTo>
                      <a:pt x="658" y="413"/>
                    </a:lnTo>
                    <a:lnTo>
                      <a:pt x="664" y="408"/>
                    </a:lnTo>
                    <a:lnTo>
                      <a:pt x="671" y="403"/>
                    </a:lnTo>
                    <a:lnTo>
                      <a:pt x="675" y="397"/>
                    </a:lnTo>
                    <a:lnTo>
                      <a:pt x="680" y="391"/>
                    </a:lnTo>
                    <a:lnTo>
                      <a:pt x="684" y="384"/>
                    </a:lnTo>
                    <a:lnTo>
                      <a:pt x="688" y="375"/>
                    </a:lnTo>
                    <a:lnTo>
                      <a:pt x="690" y="366"/>
                    </a:lnTo>
                    <a:lnTo>
                      <a:pt x="693" y="355"/>
                    </a:lnTo>
                    <a:lnTo>
                      <a:pt x="757" y="355"/>
                    </a:lnTo>
                    <a:lnTo>
                      <a:pt x="757" y="629"/>
                    </a:lnTo>
                    <a:lnTo>
                      <a:pt x="693" y="629"/>
                    </a:lnTo>
                    <a:lnTo>
                      <a:pt x="691" y="619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4"/>
                    </a:lnTo>
                    <a:lnTo>
                      <a:pt x="680" y="587"/>
                    </a:lnTo>
                    <a:lnTo>
                      <a:pt x="675" y="581"/>
                    </a:lnTo>
                    <a:lnTo>
                      <a:pt x="672" y="576"/>
                    </a:lnTo>
                    <a:lnTo>
                      <a:pt x="667" y="571"/>
                    </a:lnTo>
                    <a:lnTo>
                      <a:pt x="661" y="568"/>
                    </a:lnTo>
                    <a:lnTo>
                      <a:pt x="655" y="565"/>
                    </a:lnTo>
                    <a:lnTo>
                      <a:pt x="646" y="563"/>
                    </a:lnTo>
                    <a:lnTo>
                      <a:pt x="637" y="560"/>
                    </a:lnTo>
                    <a:lnTo>
                      <a:pt x="615" y="558"/>
                    </a:lnTo>
                    <a:lnTo>
                      <a:pt x="588" y="557"/>
                    </a:lnTo>
                    <a:lnTo>
                      <a:pt x="276" y="557"/>
                    </a:lnTo>
                    <a:lnTo>
                      <a:pt x="276" y="955"/>
                    </a:lnTo>
                    <a:lnTo>
                      <a:pt x="277" y="973"/>
                    </a:lnTo>
                    <a:lnTo>
                      <a:pt x="279" y="990"/>
                    </a:lnTo>
                    <a:lnTo>
                      <a:pt x="282" y="996"/>
                    </a:lnTo>
                    <a:lnTo>
                      <a:pt x="284" y="1002"/>
                    </a:lnTo>
                    <a:lnTo>
                      <a:pt x="287" y="1007"/>
                    </a:lnTo>
                    <a:lnTo>
                      <a:pt x="290" y="1012"/>
                    </a:lnTo>
                    <a:lnTo>
                      <a:pt x="294" y="1016"/>
                    </a:lnTo>
                    <a:lnTo>
                      <a:pt x="298" y="1020"/>
                    </a:lnTo>
                    <a:lnTo>
                      <a:pt x="304" y="1022"/>
                    </a:lnTo>
                    <a:lnTo>
                      <a:pt x="310" y="1025"/>
                    </a:lnTo>
                    <a:lnTo>
                      <a:pt x="324" y="1028"/>
                    </a:lnTo>
                    <a:lnTo>
                      <a:pt x="341" y="1031"/>
                    </a:lnTo>
                    <a:lnTo>
                      <a:pt x="341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213400" y="648360"/>
                <a:ext cx="50040" cy="601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2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5" y="501"/>
                    </a:lnTo>
                    <a:lnTo>
                      <a:pt x="231" y="526"/>
                    </a:lnTo>
                    <a:lnTo>
                      <a:pt x="241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5"/>
                    </a:lnTo>
                    <a:lnTo>
                      <a:pt x="276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300" y="623"/>
                    </a:lnTo>
                    <a:lnTo>
                      <a:pt x="307" y="629"/>
                    </a:lnTo>
                    <a:lnTo>
                      <a:pt x="317" y="634"/>
                    </a:lnTo>
                    <a:lnTo>
                      <a:pt x="326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0" y="656"/>
                    </a:lnTo>
                    <a:lnTo>
                      <a:pt x="433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0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1" y="565"/>
                    </a:lnTo>
                    <a:lnTo>
                      <a:pt x="570" y="543"/>
                    </a:lnTo>
                    <a:lnTo>
                      <a:pt x="578" y="520"/>
                    </a:lnTo>
                    <a:lnTo>
                      <a:pt x="585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5"/>
                    </a:lnTo>
                    <a:lnTo>
                      <a:pt x="594" y="318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6" y="248"/>
                    </a:lnTo>
                    <a:lnTo>
                      <a:pt x="568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1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6" y="178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1" y="233"/>
                    </a:lnTo>
                    <a:lnTo>
                      <a:pt x="231" y="253"/>
                    </a:lnTo>
                    <a:lnTo>
                      <a:pt x="225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2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7" y="780"/>
                    </a:lnTo>
                    <a:lnTo>
                      <a:pt x="296" y="775"/>
                    </a:lnTo>
                    <a:lnTo>
                      <a:pt x="278" y="770"/>
                    </a:lnTo>
                    <a:lnTo>
                      <a:pt x="258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5" y="743"/>
                    </a:lnTo>
                    <a:lnTo>
                      <a:pt x="188" y="733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3" y="632"/>
                    </a:lnTo>
                    <a:lnTo>
                      <a:pt x="62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0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5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5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2" y="166"/>
                    </a:lnTo>
                    <a:lnTo>
                      <a:pt x="73" y="151"/>
                    </a:lnTo>
                    <a:lnTo>
                      <a:pt x="84" y="137"/>
                    </a:lnTo>
                    <a:lnTo>
                      <a:pt x="98" y="122"/>
                    </a:lnTo>
                    <a:lnTo>
                      <a:pt x="112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7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6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1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4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1"/>
                    </a:lnTo>
                    <a:lnTo>
                      <a:pt x="682" y="94"/>
                    </a:lnTo>
                    <a:lnTo>
                      <a:pt x="697" y="106"/>
                    </a:lnTo>
                    <a:lnTo>
                      <a:pt x="709" y="121"/>
                    </a:lnTo>
                    <a:lnTo>
                      <a:pt x="723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3" y="197"/>
                    </a:lnTo>
                    <a:lnTo>
                      <a:pt x="772" y="213"/>
                    </a:lnTo>
                    <a:lnTo>
                      <a:pt x="779" y="230"/>
                    </a:lnTo>
                    <a:lnTo>
                      <a:pt x="786" y="248"/>
                    </a:lnTo>
                    <a:lnTo>
                      <a:pt x="792" y="267"/>
                    </a:lnTo>
                    <a:lnTo>
                      <a:pt x="797" y="287"/>
                    </a:lnTo>
                    <a:lnTo>
                      <a:pt x="800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0" y="473"/>
                    </a:lnTo>
                    <a:lnTo>
                      <a:pt x="795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2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0" y="646"/>
                    </a:lnTo>
                    <a:lnTo>
                      <a:pt x="708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5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7" y="733"/>
                    </a:lnTo>
                    <a:lnTo>
                      <a:pt x="600" y="743"/>
                    </a:lnTo>
                    <a:lnTo>
                      <a:pt x="583" y="751"/>
                    </a:lnTo>
                    <a:lnTo>
                      <a:pt x="564" y="758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8" y="775"/>
                    </a:lnTo>
                    <a:lnTo>
                      <a:pt x="487" y="780"/>
                    </a:lnTo>
                    <a:lnTo>
                      <a:pt x="467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70280" y="648000"/>
                <a:ext cx="29880" cy="5832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3" y="710"/>
                    </a:lnTo>
                    <a:lnTo>
                      <a:pt x="24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4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3"/>
                    </a:lnTo>
                    <a:lnTo>
                      <a:pt x="13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0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1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0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8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3"/>
                    </a:lnTo>
                    <a:lnTo>
                      <a:pt x="302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0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4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0" y="707"/>
                    </a:lnTo>
                    <a:lnTo>
                      <a:pt x="281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04840" y="648360"/>
                <a:ext cx="81720" cy="57960"/>
              </a:xfrm>
              <a:custGeom>
                <a:avLst/>
                <a:gdLst/>
                <a:ahLst/>
                <a:rect l="l" t="t" r="r" b="b"/>
                <a:pathLst>
                  <a:path w="1306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8"/>
                    </a:lnTo>
                    <a:lnTo>
                      <a:pt x="23" y="704"/>
                    </a:lnTo>
                    <a:lnTo>
                      <a:pt x="32" y="699"/>
                    </a:lnTo>
                    <a:lnTo>
                      <a:pt x="38" y="692"/>
                    </a:lnTo>
                    <a:lnTo>
                      <a:pt x="41" y="688"/>
                    </a:lnTo>
                    <a:lnTo>
                      <a:pt x="43" y="683"/>
                    </a:lnTo>
                    <a:lnTo>
                      <a:pt x="46" y="677"/>
                    </a:lnTo>
                    <a:lnTo>
                      <a:pt x="47" y="670"/>
                    </a:lnTo>
                    <a:lnTo>
                      <a:pt x="49" y="652"/>
                    </a:lnTo>
                    <a:lnTo>
                      <a:pt x="49" y="630"/>
                    </a:lnTo>
                    <a:lnTo>
                      <a:pt x="49" y="622"/>
                    </a:lnTo>
                    <a:lnTo>
                      <a:pt x="49" y="132"/>
                    </a:lnTo>
                    <a:lnTo>
                      <a:pt x="49" y="118"/>
                    </a:lnTo>
                    <a:lnTo>
                      <a:pt x="47" y="106"/>
                    </a:lnTo>
                    <a:lnTo>
                      <a:pt x="43" y="96"/>
                    </a:lnTo>
                    <a:lnTo>
                      <a:pt x="38" y="90"/>
                    </a:lnTo>
                    <a:lnTo>
                      <a:pt x="32" y="85"/>
                    </a:lnTo>
                    <a:lnTo>
                      <a:pt x="23" y="81"/>
                    </a:lnTo>
                    <a:lnTo>
                      <a:pt x="12" y="79"/>
                    </a:lnTo>
                    <a:lnTo>
                      <a:pt x="0" y="78"/>
                    </a:lnTo>
                    <a:lnTo>
                      <a:pt x="0" y="20"/>
                    </a:lnTo>
                    <a:lnTo>
                      <a:pt x="234" y="20"/>
                    </a:lnTo>
                    <a:lnTo>
                      <a:pt x="234" y="96"/>
                    </a:lnTo>
                    <a:lnTo>
                      <a:pt x="245" y="84"/>
                    </a:lnTo>
                    <a:lnTo>
                      <a:pt x="256" y="74"/>
                    </a:lnTo>
                    <a:lnTo>
                      <a:pt x="268" y="63"/>
                    </a:lnTo>
                    <a:lnTo>
                      <a:pt x="280" y="54"/>
                    </a:lnTo>
                    <a:lnTo>
                      <a:pt x="294" y="46"/>
                    </a:lnTo>
                    <a:lnTo>
                      <a:pt x="308" y="37"/>
                    </a:lnTo>
                    <a:lnTo>
                      <a:pt x="322" y="31"/>
                    </a:lnTo>
                    <a:lnTo>
                      <a:pt x="338" y="24"/>
                    </a:lnTo>
                    <a:lnTo>
                      <a:pt x="354" y="19"/>
                    </a:lnTo>
                    <a:lnTo>
                      <a:pt x="370" y="14"/>
                    </a:lnTo>
                    <a:lnTo>
                      <a:pt x="387" y="9"/>
                    </a:lnTo>
                    <a:lnTo>
                      <a:pt x="406" y="7"/>
                    </a:lnTo>
                    <a:lnTo>
                      <a:pt x="423" y="4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2" y="0"/>
                    </a:lnTo>
                    <a:lnTo>
                      <a:pt x="499" y="0"/>
                    </a:lnTo>
                    <a:lnTo>
                      <a:pt x="518" y="2"/>
                    </a:lnTo>
                    <a:lnTo>
                      <a:pt x="534" y="3"/>
                    </a:lnTo>
                    <a:lnTo>
                      <a:pt x="551" y="7"/>
                    </a:lnTo>
                    <a:lnTo>
                      <a:pt x="567" y="9"/>
                    </a:lnTo>
                    <a:lnTo>
                      <a:pt x="582" y="14"/>
                    </a:lnTo>
                    <a:lnTo>
                      <a:pt x="597" y="19"/>
                    </a:lnTo>
                    <a:lnTo>
                      <a:pt x="611" y="24"/>
                    </a:lnTo>
                    <a:lnTo>
                      <a:pt x="625" y="30"/>
                    </a:lnTo>
                    <a:lnTo>
                      <a:pt x="638" y="37"/>
                    </a:lnTo>
                    <a:lnTo>
                      <a:pt x="651" y="46"/>
                    </a:lnTo>
                    <a:lnTo>
                      <a:pt x="664" y="54"/>
                    </a:lnTo>
                    <a:lnTo>
                      <a:pt x="677" y="64"/>
                    </a:lnTo>
                    <a:lnTo>
                      <a:pt x="689" y="75"/>
                    </a:lnTo>
                    <a:lnTo>
                      <a:pt x="701" y="86"/>
                    </a:lnTo>
                    <a:lnTo>
                      <a:pt x="713" y="99"/>
                    </a:lnTo>
                    <a:lnTo>
                      <a:pt x="732" y="86"/>
                    </a:lnTo>
                    <a:lnTo>
                      <a:pt x="749" y="74"/>
                    </a:lnTo>
                    <a:lnTo>
                      <a:pt x="768" y="63"/>
                    </a:lnTo>
                    <a:lnTo>
                      <a:pt x="785" y="53"/>
                    </a:lnTo>
                    <a:lnTo>
                      <a:pt x="801" y="43"/>
                    </a:lnTo>
                    <a:lnTo>
                      <a:pt x="818" y="36"/>
                    </a:lnTo>
                    <a:lnTo>
                      <a:pt x="834" y="29"/>
                    </a:lnTo>
                    <a:lnTo>
                      <a:pt x="850" y="23"/>
                    </a:lnTo>
                    <a:lnTo>
                      <a:pt x="865" y="18"/>
                    </a:lnTo>
                    <a:lnTo>
                      <a:pt x="881" y="13"/>
                    </a:lnTo>
                    <a:lnTo>
                      <a:pt x="898" y="9"/>
                    </a:lnTo>
                    <a:lnTo>
                      <a:pt x="914" y="5"/>
                    </a:lnTo>
                    <a:lnTo>
                      <a:pt x="931" y="3"/>
                    </a:lnTo>
                    <a:lnTo>
                      <a:pt x="948" y="2"/>
                    </a:lnTo>
                    <a:lnTo>
                      <a:pt x="966" y="0"/>
                    </a:lnTo>
                    <a:lnTo>
                      <a:pt x="984" y="0"/>
                    </a:lnTo>
                    <a:lnTo>
                      <a:pt x="1006" y="0"/>
                    </a:lnTo>
                    <a:lnTo>
                      <a:pt x="1028" y="2"/>
                    </a:lnTo>
                    <a:lnTo>
                      <a:pt x="1048" y="5"/>
                    </a:lnTo>
                    <a:lnTo>
                      <a:pt x="1069" y="9"/>
                    </a:lnTo>
                    <a:lnTo>
                      <a:pt x="1087" y="14"/>
                    </a:lnTo>
                    <a:lnTo>
                      <a:pt x="1106" y="20"/>
                    </a:lnTo>
                    <a:lnTo>
                      <a:pt x="1123" y="26"/>
                    </a:lnTo>
                    <a:lnTo>
                      <a:pt x="1139" y="35"/>
                    </a:lnTo>
                    <a:lnTo>
                      <a:pt x="1154" y="43"/>
                    </a:lnTo>
                    <a:lnTo>
                      <a:pt x="1169" y="54"/>
                    </a:lnTo>
                    <a:lnTo>
                      <a:pt x="1182" y="66"/>
                    </a:lnTo>
                    <a:lnTo>
                      <a:pt x="1194" y="77"/>
                    </a:lnTo>
                    <a:lnTo>
                      <a:pt x="1205" y="90"/>
                    </a:lnTo>
                    <a:lnTo>
                      <a:pt x="1215" y="104"/>
                    </a:lnTo>
                    <a:lnTo>
                      <a:pt x="1224" y="120"/>
                    </a:lnTo>
                    <a:lnTo>
                      <a:pt x="1231" y="136"/>
                    </a:lnTo>
                    <a:lnTo>
                      <a:pt x="1237" y="150"/>
                    </a:lnTo>
                    <a:lnTo>
                      <a:pt x="1242" y="169"/>
                    </a:lnTo>
                    <a:lnTo>
                      <a:pt x="1247" y="188"/>
                    </a:lnTo>
                    <a:lnTo>
                      <a:pt x="1250" y="209"/>
                    </a:lnTo>
                    <a:lnTo>
                      <a:pt x="1252" y="236"/>
                    </a:lnTo>
                    <a:lnTo>
                      <a:pt x="1255" y="269"/>
                    </a:lnTo>
                    <a:lnTo>
                      <a:pt x="1256" y="310"/>
                    </a:lnTo>
                    <a:lnTo>
                      <a:pt x="1256" y="358"/>
                    </a:lnTo>
                    <a:lnTo>
                      <a:pt x="1256" y="397"/>
                    </a:lnTo>
                    <a:lnTo>
                      <a:pt x="1256" y="635"/>
                    </a:lnTo>
                    <a:lnTo>
                      <a:pt x="1256" y="656"/>
                    </a:lnTo>
                    <a:lnTo>
                      <a:pt x="1258" y="672"/>
                    </a:lnTo>
                    <a:lnTo>
                      <a:pt x="1260" y="679"/>
                    </a:lnTo>
                    <a:lnTo>
                      <a:pt x="1261" y="684"/>
                    </a:lnTo>
                    <a:lnTo>
                      <a:pt x="1263" y="689"/>
                    </a:lnTo>
                    <a:lnTo>
                      <a:pt x="1266" y="693"/>
                    </a:lnTo>
                    <a:lnTo>
                      <a:pt x="1272" y="699"/>
                    </a:lnTo>
                    <a:lnTo>
                      <a:pt x="1280" y="704"/>
                    </a:lnTo>
                    <a:lnTo>
                      <a:pt x="1292" y="708"/>
                    </a:lnTo>
                    <a:lnTo>
                      <a:pt x="1305" y="710"/>
                    </a:lnTo>
                    <a:lnTo>
                      <a:pt x="1306" y="764"/>
                    </a:lnTo>
                    <a:lnTo>
                      <a:pt x="1012" y="764"/>
                    </a:lnTo>
                    <a:lnTo>
                      <a:pt x="1012" y="710"/>
                    </a:lnTo>
                    <a:lnTo>
                      <a:pt x="1025" y="709"/>
                    </a:lnTo>
                    <a:lnTo>
                      <a:pt x="1034" y="706"/>
                    </a:lnTo>
                    <a:lnTo>
                      <a:pt x="1039" y="704"/>
                    </a:lnTo>
                    <a:lnTo>
                      <a:pt x="1043" y="702"/>
                    </a:lnTo>
                    <a:lnTo>
                      <a:pt x="1047" y="699"/>
                    </a:lnTo>
                    <a:lnTo>
                      <a:pt x="1050" y="695"/>
                    </a:lnTo>
                    <a:lnTo>
                      <a:pt x="1053" y="691"/>
                    </a:lnTo>
                    <a:lnTo>
                      <a:pt x="1054" y="686"/>
                    </a:lnTo>
                    <a:lnTo>
                      <a:pt x="1057" y="678"/>
                    </a:lnTo>
                    <a:lnTo>
                      <a:pt x="1058" y="671"/>
                    </a:lnTo>
                    <a:lnTo>
                      <a:pt x="1060" y="650"/>
                    </a:lnTo>
                    <a:lnTo>
                      <a:pt x="1060" y="625"/>
                    </a:lnTo>
                    <a:lnTo>
                      <a:pt x="1060" y="613"/>
                    </a:lnTo>
                    <a:lnTo>
                      <a:pt x="1060" y="257"/>
                    </a:lnTo>
                    <a:lnTo>
                      <a:pt x="1060" y="242"/>
                    </a:lnTo>
                    <a:lnTo>
                      <a:pt x="1058" y="228"/>
                    </a:lnTo>
                    <a:lnTo>
                      <a:pt x="1055" y="215"/>
                    </a:lnTo>
                    <a:lnTo>
                      <a:pt x="1052" y="203"/>
                    </a:lnTo>
                    <a:lnTo>
                      <a:pt x="1046" y="191"/>
                    </a:lnTo>
                    <a:lnTo>
                      <a:pt x="1039" y="181"/>
                    </a:lnTo>
                    <a:lnTo>
                      <a:pt x="1032" y="171"/>
                    </a:lnTo>
                    <a:lnTo>
                      <a:pt x="1023" y="161"/>
                    </a:lnTo>
                    <a:lnTo>
                      <a:pt x="1014" y="154"/>
                    </a:lnTo>
                    <a:lnTo>
                      <a:pt x="1002" y="147"/>
                    </a:lnTo>
                    <a:lnTo>
                      <a:pt x="991" y="140"/>
                    </a:lnTo>
                    <a:lnTo>
                      <a:pt x="978" y="136"/>
                    </a:lnTo>
                    <a:lnTo>
                      <a:pt x="964" y="132"/>
                    </a:lnTo>
                    <a:lnTo>
                      <a:pt x="951" y="129"/>
                    </a:lnTo>
                    <a:lnTo>
                      <a:pt x="936" y="128"/>
                    </a:lnTo>
                    <a:lnTo>
                      <a:pt x="919" y="127"/>
                    </a:lnTo>
                    <a:lnTo>
                      <a:pt x="908" y="128"/>
                    </a:lnTo>
                    <a:lnTo>
                      <a:pt x="897" y="128"/>
                    </a:lnTo>
                    <a:lnTo>
                      <a:pt x="886" y="131"/>
                    </a:lnTo>
                    <a:lnTo>
                      <a:pt x="873" y="133"/>
                    </a:lnTo>
                    <a:lnTo>
                      <a:pt x="862" y="136"/>
                    </a:lnTo>
                    <a:lnTo>
                      <a:pt x="851" y="139"/>
                    </a:lnTo>
                    <a:lnTo>
                      <a:pt x="840" y="144"/>
                    </a:lnTo>
                    <a:lnTo>
                      <a:pt x="829" y="149"/>
                    </a:lnTo>
                    <a:lnTo>
                      <a:pt x="818" y="154"/>
                    </a:lnTo>
                    <a:lnTo>
                      <a:pt x="808" y="160"/>
                    </a:lnTo>
                    <a:lnTo>
                      <a:pt x="797" y="167"/>
                    </a:lnTo>
                    <a:lnTo>
                      <a:pt x="787" y="175"/>
                    </a:lnTo>
                    <a:lnTo>
                      <a:pt x="777" y="182"/>
                    </a:lnTo>
                    <a:lnTo>
                      <a:pt x="769" y="191"/>
                    </a:lnTo>
                    <a:lnTo>
                      <a:pt x="760" y="201"/>
                    </a:lnTo>
                    <a:lnTo>
                      <a:pt x="752" y="210"/>
                    </a:lnTo>
                    <a:lnTo>
                      <a:pt x="752" y="635"/>
                    </a:lnTo>
                    <a:lnTo>
                      <a:pt x="752" y="656"/>
                    </a:lnTo>
                    <a:lnTo>
                      <a:pt x="754" y="672"/>
                    </a:lnTo>
                    <a:lnTo>
                      <a:pt x="755" y="679"/>
                    </a:lnTo>
                    <a:lnTo>
                      <a:pt x="756" y="684"/>
                    </a:lnTo>
                    <a:lnTo>
                      <a:pt x="759" y="689"/>
                    </a:lnTo>
                    <a:lnTo>
                      <a:pt x="761" y="693"/>
                    </a:lnTo>
                    <a:lnTo>
                      <a:pt x="766" y="698"/>
                    </a:lnTo>
                    <a:lnTo>
                      <a:pt x="776" y="703"/>
                    </a:lnTo>
                    <a:lnTo>
                      <a:pt x="787" y="708"/>
                    </a:lnTo>
                    <a:lnTo>
                      <a:pt x="801" y="711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1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6" y="704"/>
                    </a:lnTo>
                    <a:lnTo>
                      <a:pt x="540" y="702"/>
                    </a:lnTo>
                    <a:lnTo>
                      <a:pt x="544" y="699"/>
                    </a:lnTo>
                    <a:lnTo>
                      <a:pt x="547" y="695"/>
                    </a:lnTo>
                    <a:lnTo>
                      <a:pt x="550" y="691"/>
                    </a:lnTo>
                    <a:lnTo>
                      <a:pt x="551" y="686"/>
                    </a:lnTo>
                    <a:lnTo>
                      <a:pt x="554" y="678"/>
                    </a:lnTo>
                    <a:lnTo>
                      <a:pt x="555" y="671"/>
                    </a:lnTo>
                    <a:lnTo>
                      <a:pt x="557" y="650"/>
                    </a:lnTo>
                    <a:lnTo>
                      <a:pt x="557" y="625"/>
                    </a:lnTo>
                    <a:lnTo>
                      <a:pt x="557" y="613"/>
                    </a:lnTo>
                    <a:lnTo>
                      <a:pt x="557" y="257"/>
                    </a:lnTo>
                    <a:lnTo>
                      <a:pt x="557" y="242"/>
                    </a:lnTo>
                    <a:lnTo>
                      <a:pt x="555" y="228"/>
                    </a:lnTo>
                    <a:lnTo>
                      <a:pt x="552" y="215"/>
                    </a:lnTo>
                    <a:lnTo>
                      <a:pt x="549" y="203"/>
                    </a:lnTo>
                    <a:lnTo>
                      <a:pt x="542" y="191"/>
                    </a:lnTo>
                    <a:lnTo>
                      <a:pt x="536" y="181"/>
                    </a:lnTo>
                    <a:lnTo>
                      <a:pt x="528" y="171"/>
                    </a:lnTo>
                    <a:lnTo>
                      <a:pt x="519" y="161"/>
                    </a:lnTo>
                    <a:lnTo>
                      <a:pt x="509" y="154"/>
                    </a:lnTo>
                    <a:lnTo>
                      <a:pt x="498" y="147"/>
                    </a:lnTo>
                    <a:lnTo>
                      <a:pt x="487" y="140"/>
                    </a:lnTo>
                    <a:lnTo>
                      <a:pt x="474" y="136"/>
                    </a:lnTo>
                    <a:lnTo>
                      <a:pt x="460" y="132"/>
                    </a:lnTo>
                    <a:lnTo>
                      <a:pt x="445" y="129"/>
                    </a:lnTo>
                    <a:lnTo>
                      <a:pt x="431" y="128"/>
                    </a:lnTo>
                    <a:lnTo>
                      <a:pt x="415" y="127"/>
                    </a:lnTo>
                    <a:lnTo>
                      <a:pt x="402" y="128"/>
                    </a:lnTo>
                    <a:lnTo>
                      <a:pt x="390" y="128"/>
                    </a:lnTo>
                    <a:lnTo>
                      <a:pt x="378" y="131"/>
                    </a:lnTo>
                    <a:lnTo>
                      <a:pt x="365" y="133"/>
                    </a:lnTo>
                    <a:lnTo>
                      <a:pt x="354" y="137"/>
                    </a:lnTo>
                    <a:lnTo>
                      <a:pt x="342" y="140"/>
                    </a:lnTo>
                    <a:lnTo>
                      <a:pt x="331" y="145"/>
                    </a:lnTo>
                    <a:lnTo>
                      <a:pt x="320" y="151"/>
                    </a:lnTo>
                    <a:lnTo>
                      <a:pt x="309" y="158"/>
                    </a:lnTo>
                    <a:lnTo>
                      <a:pt x="298" y="164"/>
                    </a:lnTo>
                    <a:lnTo>
                      <a:pt x="288" y="171"/>
                    </a:lnTo>
                    <a:lnTo>
                      <a:pt x="278" y="180"/>
                    </a:lnTo>
                    <a:lnTo>
                      <a:pt x="269" y="187"/>
                    </a:lnTo>
                    <a:lnTo>
                      <a:pt x="261" y="197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30"/>
                    </a:lnTo>
                    <a:lnTo>
                      <a:pt x="246" y="655"/>
                    </a:lnTo>
                    <a:lnTo>
                      <a:pt x="248" y="673"/>
                    </a:lnTo>
                    <a:lnTo>
                      <a:pt x="250" y="681"/>
                    </a:lnTo>
                    <a:lnTo>
                      <a:pt x="251" y="687"/>
                    </a:lnTo>
                    <a:lnTo>
                      <a:pt x="253" y="692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0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91960" y="648000"/>
                <a:ext cx="45720" cy="597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5" y="535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60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9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9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4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4" y="433"/>
                    </a:lnTo>
                    <a:lnTo>
                      <a:pt x="41" y="422"/>
                    </a:lnTo>
                    <a:lnTo>
                      <a:pt x="50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2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5" y="135"/>
                    </a:lnTo>
                    <a:lnTo>
                      <a:pt x="422" y="130"/>
                    </a:lnTo>
                    <a:lnTo>
                      <a:pt x="408" y="126"/>
                    </a:lnTo>
                    <a:lnTo>
                      <a:pt x="393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2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30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9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7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4520" y="648000"/>
                <a:ext cx="45720" cy="60480"/>
              </a:xfrm>
              <a:custGeom>
                <a:avLst/>
                <a:gdLst/>
                <a:ahLst/>
                <a:rect l="l" t="t" r="r" b="b"/>
                <a:pathLst>
                  <a:path w="735" h="790">
                    <a:moveTo>
                      <a:pt x="671" y="567"/>
                    </a:moveTo>
                    <a:lnTo>
                      <a:pt x="671" y="766"/>
                    </a:lnTo>
                    <a:lnTo>
                      <a:pt x="644" y="772"/>
                    </a:lnTo>
                    <a:lnTo>
                      <a:pt x="616" y="777"/>
                    </a:lnTo>
                    <a:lnTo>
                      <a:pt x="592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4" y="788"/>
                    </a:lnTo>
                    <a:lnTo>
                      <a:pt x="503" y="790"/>
                    </a:lnTo>
                    <a:lnTo>
                      <a:pt x="481" y="790"/>
                    </a:lnTo>
                    <a:lnTo>
                      <a:pt x="455" y="790"/>
                    </a:lnTo>
                    <a:lnTo>
                      <a:pt x="430" y="788"/>
                    </a:lnTo>
                    <a:lnTo>
                      <a:pt x="404" y="786"/>
                    </a:lnTo>
                    <a:lnTo>
                      <a:pt x="379" y="782"/>
                    </a:lnTo>
                    <a:lnTo>
                      <a:pt x="356" y="778"/>
                    </a:lnTo>
                    <a:lnTo>
                      <a:pt x="332" y="774"/>
                    </a:lnTo>
                    <a:lnTo>
                      <a:pt x="309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0" y="686"/>
                    </a:lnTo>
                    <a:lnTo>
                      <a:pt x="134" y="672"/>
                    </a:lnTo>
                    <a:lnTo>
                      <a:pt x="117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2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0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1" y="330"/>
                    </a:lnTo>
                    <a:lnTo>
                      <a:pt x="4" y="311"/>
                    </a:lnTo>
                    <a:lnTo>
                      <a:pt x="8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9" y="221"/>
                    </a:lnTo>
                    <a:lnTo>
                      <a:pt x="36" y="205"/>
                    </a:lnTo>
                    <a:lnTo>
                      <a:pt x="45" y="189"/>
                    </a:lnTo>
                    <a:lnTo>
                      <a:pt x="53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7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2" y="15"/>
                    </a:lnTo>
                    <a:lnTo>
                      <a:pt x="303" y="11"/>
                    </a:lnTo>
                    <a:lnTo>
                      <a:pt x="322" y="7"/>
                    </a:lnTo>
                    <a:lnTo>
                      <a:pt x="345" y="4"/>
                    </a:lnTo>
                    <a:lnTo>
                      <a:pt x="366" y="2"/>
                    </a:lnTo>
                    <a:lnTo>
                      <a:pt x="388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59" y="2"/>
                    </a:lnTo>
                    <a:lnTo>
                      <a:pt x="482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9" y="113"/>
                    </a:lnTo>
                    <a:lnTo>
                      <a:pt x="735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0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9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1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8" y="225"/>
                    </a:lnTo>
                    <a:lnTo>
                      <a:pt x="228" y="246"/>
                    </a:lnTo>
                    <a:lnTo>
                      <a:pt x="219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6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2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4" y="584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8" y="632"/>
                    </a:lnTo>
                    <a:lnTo>
                      <a:pt x="370" y="637"/>
                    </a:lnTo>
                    <a:lnTo>
                      <a:pt x="383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59" y="631"/>
                    </a:lnTo>
                    <a:lnTo>
                      <a:pt x="567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2" y="567"/>
                    </a:lnTo>
                    <a:lnTo>
                      <a:pt x="671" y="56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493120" y="621720"/>
                <a:ext cx="18360" cy="84960"/>
              </a:xfrm>
              <a:custGeom>
                <a:avLst/>
                <a:gdLst/>
                <a:ahLst/>
                <a:rect l="l" t="t" r="r" b="b"/>
                <a:pathLst>
                  <a:path w="296" h="1111">
                    <a:moveTo>
                      <a:pt x="18" y="124"/>
                    </a:moveTo>
                    <a:lnTo>
                      <a:pt x="19" y="110"/>
                    </a:lnTo>
                    <a:lnTo>
                      <a:pt x="21" y="97"/>
                    </a:lnTo>
                    <a:lnTo>
                      <a:pt x="23" y="85"/>
                    </a:lnTo>
                    <a:lnTo>
                      <a:pt x="27" y="72"/>
                    </a:lnTo>
                    <a:lnTo>
                      <a:pt x="32" y="61"/>
                    </a:lnTo>
                    <a:lnTo>
                      <a:pt x="37" y="52"/>
                    </a:lnTo>
                    <a:lnTo>
                      <a:pt x="44" y="42"/>
                    </a:lnTo>
                    <a:lnTo>
                      <a:pt x="51" y="33"/>
                    </a:lnTo>
                    <a:lnTo>
                      <a:pt x="60" y="26"/>
                    </a:lnTo>
                    <a:lnTo>
                      <a:pt x="70" y="18"/>
                    </a:lnTo>
                    <a:lnTo>
                      <a:pt x="80" y="13"/>
                    </a:lnTo>
                    <a:lnTo>
                      <a:pt x="91" y="9"/>
                    </a:lnTo>
                    <a:lnTo>
                      <a:pt x="103" y="5"/>
                    </a:lnTo>
                    <a:lnTo>
                      <a:pt x="115" y="2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69" y="2"/>
                    </a:lnTo>
                    <a:lnTo>
                      <a:pt x="182" y="5"/>
                    </a:lnTo>
                    <a:lnTo>
                      <a:pt x="193" y="9"/>
                    </a:lnTo>
                    <a:lnTo>
                      <a:pt x="204" y="13"/>
                    </a:lnTo>
                    <a:lnTo>
                      <a:pt x="214" y="20"/>
                    </a:lnTo>
                    <a:lnTo>
                      <a:pt x="224" y="27"/>
                    </a:lnTo>
                    <a:lnTo>
                      <a:pt x="232" y="36"/>
                    </a:lnTo>
                    <a:lnTo>
                      <a:pt x="241" y="44"/>
                    </a:lnTo>
                    <a:lnTo>
                      <a:pt x="248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3" y="87"/>
                    </a:lnTo>
                    <a:lnTo>
                      <a:pt x="265" y="101"/>
                    </a:lnTo>
                    <a:lnTo>
                      <a:pt x="267" y="113"/>
                    </a:lnTo>
                    <a:lnTo>
                      <a:pt x="268" y="128"/>
                    </a:lnTo>
                    <a:lnTo>
                      <a:pt x="267" y="140"/>
                    </a:lnTo>
                    <a:lnTo>
                      <a:pt x="265" y="153"/>
                    </a:lnTo>
                    <a:lnTo>
                      <a:pt x="262" y="166"/>
                    </a:lnTo>
                    <a:lnTo>
                      <a:pt x="258" y="177"/>
                    </a:lnTo>
                    <a:lnTo>
                      <a:pt x="253" y="188"/>
                    </a:lnTo>
                    <a:lnTo>
                      <a:pt x="247" y="199"/>
                    </a:lnTo>
                    <a:lnTo>
                      <a:pt x="240" y="210"/>
                    </a:lnTo>
                    <a:lnTo>
                      <a:pt x="231" y="220"/>
                    </a:lnTo>
                    <a:lnTo>
                      <a:pt x="222" y="228"/>
                    </a:lnTo>
                    <a:lnTo>
                      <a:pt x="213" y="236"/>
                    </a:lnTo>
                    <a:lnTo>
                      <a:pt x="201" y="242"/>
                    </a:lnTo>
                    <a:lnTo>
                      <a:pt x="192" y="248"/>
                    </a:lnTo>
                    <a:lnTo>
                      <a:pt x="179" y="252"/>
                    </a:lnTo>
                    <a:lnTo>
                      <a:pt x="168" y="255"/>
                    </a:lnTo>
                    <a:lnTo>
                      <a:pt x="156" y="257"/>
                    </a:lnTo>
                    <a:lnTo>
                      <a:pt x="144" y="258"/>
                    </a:lnTo>
                    <a:lnTo>
                      <a:pt x="129" y="257"/>
                    </a:lnTo>
                    <a:lnTo>
                      <a:pt x="117" y="255"/>
                    </a:lnTo>
                    <a:lnTo>
                      <a:pt x="104" y="252"/>
                    </a:lnTo>
                    <a:lnTo>
                      <a:pt x="93" y="248"/>
                    </a:lnTo>
                    <a:lnTo>
                      <a:pt x="82" y="243"/>
                    </a:lnTo>
                    <a:lnTo>
                      <a:pt x="72" y="236"/>
                    </a:lnTo>
                    <a:lnTo>
                      <a:pt x="62" y="228"/>
                    </a:lnTo>
                    <a:lnTo>
                      <a:pt x="53" y="220"/>
                    </a:lnTo>
                    <a:lnTo>
                      <a:pt x="45" y="210"/>
                    </a:lnTo>
                    <a:lnTo>
                      <a:pt x="38" y="200"/>
                    </a:lnTo>
                    <a:lnTo>
                      <a:pt x="32" y="189"/>
                    </a:lnTo>
                    <a:lnTo>
                      <a:pt x="27" y="177"/>
                    </a:lnTo>
                    <a:lnTo>
                      <a:pt x="23" y="164"/>
                    </a:lnTo>
                    <a:lnTo>
                      <a:pt x="21" y="152"/>
                    </a:lnTo>
                    <a:lnTo>
                      <a:pt x="19" y="139"/>
                    </a:lnTo>
                    <a:lnTo>
                      <a:pt x="18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3" y="1053"/>
                    </a:lnTo>
                    <a:lnTo>
                      <a:pt x="24" y="1049"/>
                    </a:lnTo>
                    <a:lnTo>
                      <a:pt x="33" y="1044"/>
                    </a:lnTo>
                    <a:lnTo>
                      <a:pt x="39" y="1038"/>
                    </a:lnTo>
                    <a:lnTo>
                      <a:pt x="42" y="1033"/>
                    </a:lnTo>
                    <a:lnTo>
                      <a:pt x="44" y="1028"/>
                    </a:lnTo>
                    <a:lnTo>
                      <a:pt x="45" y="1022"/>
                    </a:lnTo>
                    <a:lnTo>
                      <a:pt x="48" y="1014"/>
                    </a:lnTo>
                    <a:lnTo>
                      <a:pt x="49" y="997"/>
                    </a:lnTo>
                    <a:lnTo>
                      <a:pt x="50" y="975"/>
                    </a:lnTo>
                    <a:lnTo>
                      <a:pt x="50" y="965"/>
                    </a:lnTo>
                    <a:lnTo>
                      <a:pt x="50" y="479"/>
                    </a:lnTo>
                    <a:lnTo>
                      <a:pt x="49" y="464"/>
                    </a:lnTo>
                    <a:lnTo>
                      <a:pt x="48" y="453"/>
                    </a:lnTo>
                    <a:lnTo>
                      <a:pt x="44" y="443"/>
                    </a:lnTo>
                    <a:lnTo>
                      <a:pt x="39" y="436"/>
                    </a:lnTo>
                    <a:lnTo>
                      <a:pt x="32" y="431"/>
                    </a:lnTo>
                    <a:lnTo>
                      <a:pt x="23" y="428"/>
                    </a:lnTo>
                    <a:lnTo>
                      <a:pt x="13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7" y="366"/>
                    </a:lnTo>
                    <a:lnTo>
                      <a:pt x="247" y="976"/>
                    </a:lnTo>
                    <a:lnTo>
                      <a:pt x="247" y="1001"/>
                    </a:lnTo>
                    <a:lnTo>
                      <a:pt x="249" y="1019"/>
                    </a:lnTo>
                    <a:lnTo>
                      <a:pt x="251" y="1026"/>
                    </a:lnTo>
                    <a:lnTo>
                      <a:pt x="252" y="1033"/>
                    </a:lnTo>
                    <a:lnTo>
                      <a:pt x="254" y="1038"/>
                    </a:lnTo>
                    <a:lnTo>
                      <a:pt x="257" y="1041"/>
                    </a:lnTo>
                    <a:lnTo>
                      <a:pt x="263" y="1047"/>
                    </a:lnTo>
                    <a:lnTo>
                      <a:pt x="272" y="1051"/>
                    </a:lnTo>
                    <a:lnTo>
                      <a:pt x="283" y="1055"/>
                    </a:lnTo>
                    <a:lnTo>
                      <a:pt x="295" y="1056"/>
                    </a:lnTo>
                    <a:lnTo>
                      <a:pt x="296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17960" y="620640"/>
                <a:ext cx="50040" cy="87840"/>
              </a:xfrm>
              <a:custGeom>
                <a:avLst/>
                <a:gdLst/>
                <a:ahLst/>
                <a:rect l="l" t="t" r="r" b="b"/>
                <a:pathLst>
                  <a:path w="807" h="1150">
                    <a:moveTo>
                      <a:pt x="212" y="750"/>
                    </a:moveTo>
                    <a:lnTo>
                      <a:pt x="212" y="782"/>
                    </a:lnTo>
                    <a:lnTo>
                      <a:pt x="214" y="811"/>
                    </a:lnTo>
                    <a:lnTo>
                      <a:pt x="219" y="840"/>
                    </a:lnTo>
                    <a:lnTo>
                      <a:pt x="224" y="865"/>
                    </a:lnTo>
                    <a:lnTo>
                      <a:pt x="231" y="890"/>
                    </a:lnTo>
                    <a:lnTo>
                      <a:pt x="240" y="912"/>
                    </a:lnTo>
                    <a:lnTo>
                      <a:pt x="251" y="933"/>
                    </a:lnTo>
                    <a:lnTo>
                      <a:pt x="262" y="951"/>
                    </a:lnTo>
                    <a:lnTo>
                      <a:pt x="269" y="959"/>
                    </a:lnTo>
                    <a:lnTo>
                      <a:pt x="276" y="967"/>
                    </a:lnTo>
                    <a:lnTo>
                      <a:pt x="283" y="975"/>
                    </a:lnTo>
                    <a:lnTo>
                      <a:pt x="292" y="981"/>
                    </a:lnTo>
                    <a:lnTo>
                      <a:pt x="299" y="987"/>
                    </a:lnTo>
                    <a:lnTo>
                      <a:pt x="308" y="993"/>
                    </a:lnTo>
                    <a:lnTo>
                      <a:pt x="316" y="998"/>
                    </a:lnTo>
                    <a:lnTo>
                      <a:pt x="325" y="1003"/>
                    </a:lnTo>
                    <a:lnTo>
                      <a:pt x="335" y="1007"/>
                    </a:lnTo>
                    <a:lnTo>
                      <a:pt x="344" y="1010"/>
                    </a:lnTo>
                    <a:lnTo>
                      <a:pt x="354" y="1014"/>
                    </a:lnTo>
                    <a:lnTo>
                      <a:pt x="365" y="1016"/>
                    </a:lnTo>
                    <a:lnTo>
                      <a:pt x="387" y="1019"/>
                    </a:lnTo>
                    <a:lnTo>
                      <a:pt x="411" y="1020"/>
                    </a:lnTo>
                    <a:lnTo>
                      <a:pt x="433" y="1019"/>
                    </a:lnTo>
                    <a:lnTo>
                      <a:pt x="453" y="1015"/>
                    </a:lnTo>
                    <a:lnTo>
                      <a:pt x="463" y="1013"/>
                    </a:lnTo>
                    <a:lnTo>
                      <a:pt x="472" y="1010"/>
                    </a:lnTo>
                    <a:lnTo>
                      <a:pt x="482" y="1007"/>
                    </a:lnTo>
                    <a:lnTo>
                      <a:pt x="491" y="1002"/>
                    </a:lnTo>
                    <a:lnTo>
                      <a:pt x="499" y="997"/>
                    </a:lnTo>
                    <a:lnTo>
                      <a:pt x="507" y="992"/>
                    </a:lnTo>
                    <a:lnTo>
                      <a:pt x="515" y="986"/>
                    </a:lnTo>
                    <a:lnTo>
                      <a:pt x="523" y="980"/>
                    </a:lnTo>
                    <a:lnTo>
                      <a:pt x="536" y="965"/>
                    </a:lnTo>
                    <a:lnTo>
                      <a:pt x="549" y="948"/>
                    </a:lnTo>
                    <a:lnTo>
                      <a:pt x="560" y="929"/>
                    </a:lnTo>
                    <a:lnTo>
                      <a:pt x="570" y="907"/>
                    </a:lnTo>
                    <a:lnTo>
                      <a:pt x="578" y="884"/>
                    </a:lnTo>
                    <a:lnTo>
                      <a:pt x="584" y="859"/>
                    </a:lnTo>
                    <a:lnTo>
                      <a:pt x="589" y="832"/>
                    </a:lnTo>
                    <a:lnTo>
                      <a:pt x="593" y="803"/>
                    </a:lnTo>
                    <a:lnTo>
                      <a:pt x="595" y="771"/>
                    </a:lnTo>
                    <a:lnTo>
                      <a:pt x="597" y="738"/>
                    </a:lnTo>
                    <a:lnTo>
                      <a:pt x="595" y="709"/>
                    </a:lnTo>
                    <a:lnTo>
                      <a:pt x="593" y="682"/>
                    </a:lnTo>
                    <a:lnTo>
                      <a:pt x="589" y="658"/>
                    </a:lnTo>
                    <a:lnTo>
                      <a:pt x="583" y="635"/>
                    </a:lnTo>
                    <a:lnTo>
                      <a:pt x="576" y="612"/>
                    </a:lnTo>
                    <a:lnTo>
                      <a:pt x="567" y="593"/>
                    </a:lnTo>
                    <a:lnTo>
                      <a:pt x="557" y="573"/>
                    </a:lnTo>
                    <a:lnTo>
                      <a:pt x="545" y="556"/>
                    </a:lnTo>
                    <a:lnTo>
                      <a:pt x="531" y="540"/>
                    </a:lnTo>
                    <a:lnTo>
                      <a:pt x="517" y="527"/>
                    </a:lnTo>
                    <a:lnTo>
                      <a:pt x="501" y="515"/>
                    </a:lnTo>
                    <a:lnTo>
                      <a:pt x="483" y="506"/>
                    </a:lnTo>
                    <a:lnTo>
                      <a:pt x="465" y="498"/>
                    </a:lnTo>
                    <a:lnTo>
                      <a:pt x="445" y="493"/>
                    </a:lnTo>
                    <a:lnTo>
                      <a:pt x="424" y="490"/>
                    </a:lnTo>
                    <a:lnTo>
                      <a:pt x="403" y="490"/>
                    </a:lnTo>
                    <a:lnTo>
                      <a:pt x="381" y="490"/>
                    </a:lnTo>
                    <a:lnTo>
                      <a:pt x="360" y="493"/>
                    </a:lnTo>
                    <a:lnTo>
                      <a:pt x="341" y="500"/>
                    </a:lnTo>
                    <a:lnTo>
                      <a:pt x="324" y="507"/>
                    </a:lnTo>
                    <a:lnTo>
                      <a:pt x="315" y="511"/>
                    </a:lnTo>
                    <a:lnTo>
                      <a:pt x="306" y="517"/>
                    </a:lnTo>
                    <a:lnTo>
                      <a:pt x="298" y="522"/>
                    </a:lnTo>
                    <a:lnTo>
                      <a:pt x="290" y="528"/>
                    </a:lnTo>
                    <a:lnTo>
                      <a:pt x="276" y="542"/>
                    </a:lnTo>
                    <a:lnTo>
                      <a:pt x="262" y="558"/>
                    </a:lnTo>
                    <a:lnTo>
                      <a:pt x="250" y="577"/>
                    </a:lnTo>
                    <a:lnTo>
                      <a:pt x="240" y="597"/>
                    </a:lnTo>
                    <a:lnTo>
                      <a:pt x="231" y="617"/>
                    </a:lnTo>
                    <a:lnTo>
                      <a:pt x="224" y="641"/>
                    </a:lnTo>
                    <a:lnTo>
                      <a:pt x="219" y="665"/>
                    </a:lnTo>
                    <a:lnTo>
                      <a:pt x="214" y="692"/>
                    </a:lnTo>
                    <a:lnTo>
                      <a:pt x="212" y="721"/>
                    </a:lnTo>
                    <a:lnTo>
                      <a:pt x="212" y="750"/>
                    </a:lnTo>
                    <a:close/>
                    <a:moveTo>
                      <a:pt x="401" y="1150"/>
                    </a:moveTo>
                    <a:lnTo>
                      <a:pt x="379" y="1150"/>
                    </a:lnTo>
                    <a:lnTo>
                      <a:pt x="358" y="1149"/>
                    </a:lnTo>
                    <a:lnTo>
                      <a:pt x="337" y="1147"/>
                    </a:lnTo>
                    <a:lnTo>
                      <a:pt x="316" y="1144"/>
                    </a:lnTo>
                    <a:lnTo>
                      <a:pt x="296" y="1139"/>
                    </a:lnTo>
                    <a:lnTo>
                      <a:pt x="277" y="1134"/>
                    </a:lnTo>
                    <a:lnTo>
                      <a:pt x="258" y="1129"/>
                    </a:lnTo>
                    <a:lnTo>
                      <a:pt x="240" y="1123"/>
                    </a:lnTo>
                    <a:lnTo>
                      <a:pt x="221" y="1116"/>
                    </a:lnTo>
                    <a:lnTo>
                      <a:pt x="204" y="1107"/>
                    </a:lnTo>
                    <a:lnTo>
                      <a:pt x="187" y="1097"/>
                    </a:lnTo>
                    <a:lnTo>
                      <a:pt x="171" y="1088"/>
                    </a:lnTo>
                    <a:lnTo>
                      <a:pt x="155" y="1077"/>
                    </a:lnTo>
                    <a:lnTo>
                      <a:pt x="140" y="1066"/>
                    </a:lnTo>
                    <a:lnTo>
                      <a:pt x="125" y="1053"/>
                    </a:lnTo>
                    <a:lnTo>
                      <a:pt x="112" y="1040"/>
                    </a:lnTo>
                    <a:lnTo>
                      <a:pt x="98" y="1025"/>
                    </a:lnTo>
                    <a:lnTo>
                      <a:pt x="85" y="1010"/>
                    </a:lnTo>
                    <a:lnTo>
                      <a:pt x="74" y="996"/>
                    </a:lnTo>
                    <a:lnTo>
                      <a:pt x="63" y="980"/>
                    </a:lnTo>
                    <a:lnTo>
                      <a:pt x="53" y="964"/>
                    </a:lnTo>
                    <a:lnTo>
                      <a:pt x="43" y="948"/>
                    </a:lnTo>
                    <a:lnTo>
                      <a:pt x="36" y="931"/>
                    </a:lnTo>
                    <a:lnTo>
                      <a:pt x="28" y="912"/>
                    </a:lnTo>
                    <a:lnTo>
                      <a:pt x="21" y="894"/>
                    </a:lnTo>
                    <a:lnTo>
                      <a:pt x="16" y="875"/>
                    </a:lnTo>
                    <a:lnTo>
                      <a:pt x="11" y="857"/>
                    </a:lnTo>
                    <a:lnTo>
                      <a:pt x="7" y="837"/>
                    </a:lnTo>
                    <a:lnTo>
                      <a:pt x="4" y="816"/>
                    </a:lnTo>
                    <a:lnTo>
                      <a:pt x="1" y="797"/>
                    </a:lnTo>
                    <a:lnTo>
                      <a:pt x="0" y="775"/>
                    </a:lnTo>
                    <a:lnTo>
                      <a:pt x="0" y="754"/>
                    </a:lnTo>
                    <a:lnTo>
                      <a:pt x="0" y="732"/>
                    </a:lnTo>
                    <a:lnTo>
                      <a:pt x="1" y="711"/>
                    </a:lnTo>
                    <a:lnTo>
                      <a:pt x="4" y="691"/>
                    </a:lnTo>
                    <a:lnTo>
                      <a:pt x="7" y="671"/>
                    </a:lnTo>
                    <a:lnTo>
                      <a:pt x="11" y="652"/>
                    </a:lnTo>
                    <a:lnTo>
                      <a:pt x="16" y="633"/>
                    </a:lnTo>
                    <a:lnTo>
                      <a:pt x="21" y="615"/>
                    </a:lnTo>
                    <a:lnTo>
                      <a:pt x="27" y="597"/>
                    </a:lnTo>
                    <a:lnTo>
                      <a:pt x="34" y="579"/>
                    </a:lnTo>
                    <a:lnTo>
                      <a:pt x="43" y="562"/>
                    </a:lnTo>
                    <a:lnTo>
                      <a:pt x="53" y="546"/>
                    </a:lnTo>
                    <a:lnTo>
                      <a:pt x="63" y="530"/>
                    </a:lnTo>
                    <a:lnTo>
                      <a:pt x="73" y="515"/>
                    </a:lnTo>
                    <a:lnTo>
                      <a:pt x="85" y="501"/>
                    </a:lnTo>
                    <a:lnTo>
                      <a:pt x="97" y="486"/>
                    </a:lnTo>
                    <a:lnTo>
                      <a:pt x="111" y="473"/>
                    </a:lnTo>
                    <a:lnTo>
                      <a:pt x="125" y="459"/>
                    </a:lnTo>
                    <a:lnTo>
                      <a:pt x="140" y="447"/>
                    </a:lnTo>
                    <a:lnTo>
                      <a:pt x="155" y="436"/>
                    </a:lnTo>
                    <a:lnTo>
                      <a:pt x="171" y="425"/>
                    </a:lnTo>
                    <a:lnTo>
                      <a:pt x="187" y="415"/>
                    </a:lnTo>
                    <a:lnTo>
                      <a:pt x="203" y="406"/>
                    </a:lnTo>
                    <a:lnTo>
                      <a:pt x="220" y="399"/>
                    </a:lnTo>
                    <a:lnTo>
                      <a:pt x="239" y="391"/>
                    </a:lnTo>
                    <a:lnTo>
                      <a:pt x="257" y="385"/>
                    </a:lnTo>
                    <a:lnTo>
                      <a:pt x="276" y="379"/>
                    </a:lnTo>
                    <a:lnTo>
                      <a:pt x="295" y="374"/>
                    </a:lnTo>
                    <a:lnTo>
                      <a:pt x="315" y="371"/>
                    </a:lnTo>
                    <a:lnTo>
                      <a:pt x="336" y="368"/>
                    </a:lnTo>
                    <a:lnTo>
                      <a:pt x="357" y="366"/>
                    </a:lnTo>
                    <a:lnTo>
                      <a:pt x="378" y="364"/>
                    </a:lnTo>
                    <a:lnTo>
                      <a:pt x="400" y="364"/>
                    </a:lnTo>
                    <a:lnTo>
                      <a:pt x="423" y="364"/>
                    </a:lnTo>
                    <a:lnTo>
                      <a:pt x="445" y="366"/>
                    </a:lnTo>
                    <a:lnTo>
                      <a:pt x="467" y="368"/>
                    </a:lnTo>
                    <a:lnTo>
                      <a:pt x="488" y="371"/>
                    </a:lnTo>
                    <a:lnTo>
                      <a:pt x="508" y="374"/>
                    </a:lnTo>
                    <a:lnTo>
                      <a:pt x="529" y="379"/>
                    </a:lnTo>
                    <a:lnTo>
                      <a:pt x="549" y="384"/>
                    </a:lnTo>
                    <a:lnTo>
                      <a:pt x="567" y="390"/>
                    </a:lnTo>
                    <a:lnTo>
                      <a:pt x="586" y="398"/>
                    </a:lnTo>
                    <a:lnTo>
                      <a:pt x="603" y="406"/>
                    </a:lnTo>
                    <a:lnTo>
                      <a:pt x="620" y="415"/>
                    </a:lnTo>
                    <a:lnTo>
                      <a:pt x="636" y="425"/>
                    </a:lnTo>
                    <a:lnTo>
                      <a:pt x="652" y="434"/>
                    </a:lnTo>
                    <a:lnTo>
                      <a:pt x="668" y="445"/>
                    </a:lnTo>
                    <a:lnTo>
                      <a:pt x="683" y="458"/>
                    </a:lnTo>
                    <a:lnTo>
                      <a:pt x="696" y="470"/>
                    </a:lnTo>
                    <a:lnTo>
                      <a:pt x="710" y="485"/>
                    </a:lnTo>
                    <a:lnTo>
                      <a:pt x="722" y="498"/>
                    </a:lnTo>
                    <a:lnTo>
                      <a:pt x="733" y="513"/>
                    </a:lnTo>
                    <a:lnTo>
                      <a:pt x="744" y="528"/>
                    </a:lnTo>
                    <a:lnTo>
                      <a:pt x="754" y="544"/>
                    </a:lnTo>
                    <a:lnTo>
                      <a:pt x="764" y="561"/>
                    </a:lnTo>
                    <a:lnTo>
                      <a:pt x="771" y="577"/>
                    </a:lnTo>
                    <a:lnTo>
                      <a:pt x="779" y="594"/>
                    </a:lnTo>
                    <a:lnTo>
                      <a:pt x="786" y="612"/>
                    </a:lnTo>
                    <a:lnTo>
                      <a:pt x="791" y="631"/>
                    </a:lnTo>
                    <a:lnTo>
                      <a:pt x="796" y="651"/>
                    </a:lnTo>
                    <a:lnTo>
                      <a:pt x="800" y="670"/>
                    </a:lnTo>
                    <a:lnTo>
                      <a:pt x="803" y="690"/>
                    </a:lnTo>
                    <a:lnTo>
                      <a:pt x="804" y="711"/>
                    </a:lnTo>
                    <a:lnTo>
                      <a:pt x="807" y="732"/>
                    </a:lnTo>
                    <a:lnTo>
                      <a:pt x="807" y="754"/>
                    </a:lnTo>
                    <a:lnTo>
                      <a:pt x="807" y="775"/>
                    </a:lnTo>
                    <a:lnTo>
                      <a:pt x="804" y="795"/>
                    </a:lnTo>
                    <a:lnTo>
                      <a:pt x="803" y="816"/>
                    </a:lnTo>
                    <a:lnTo>
                      <a:pt x="800" y="837"/>
                    </a:lnTo>
                    <a:lnTo>
                      <a:pt x="796" y="856"/>
                    </a:lnTo>
                    <a:lnTo>
                      <a:pt x="791" y="875"/>
                    </a:lnTo>
                    <a:lnTo>
                      <a:pt x="785" y="894"/>
                    </a:lnTo>
                    <a:lnTo>
                      <a:pt x="779" y="912"/>
                    </a:lnTo>
                    <a:lnTo>
                      <a:pt x="771" y="929"/>
                    </a:lnTo>
                    <a:lnTo>
                      <a:pt x="763" y="946"/>
                    </a:lnTo>
                    <a:lnTo>
                      <a:pt x="753" y="964"/>
                    </a:lnTo>
                    <a:lnTo>
                      <a:pt x="743" y="980"/>
                    </a:lnTo>
                    <a:lnTo>
                      <a:pt x="732" y="996"/>
                    </a:lnTo>
                    <a:lnTo>
                      <a:pt x="720" y="1010"/>
                    </a:lnTo>
                    <a:lnTo>
                      <a:pt x="707" y="1025"/>
                    </a:lnTo>
                    <a:lnTo>
                      <a:pt x="694" y="1039"/>
                    </a:lnTo>
                    <a:lnTo>
                      <a:pt x="679" y="1052"/>
                    </a:lnTo>
                    <a:lnTo>
                      <a:pt x="664" y="1066"/>
                    </a:lnTo>
                    <a:lnTo>
                      <a:pt x="648" y="1077"/>
                    </a:lnTo>
                    <a:lnTo>
                      <a:pt x="633" y="1088"/>
                    </a:lnTo>
                    <a:lnTo>
                      <a:pt x="616" y="1097"/>
                    </a:lnTo>
                    <a:lnTo>
                      <a:pt x="599" y="1107"/>
                    </a:lnTo>
                    <a:lnTo>
                      <a:pt x="582" y="1115"/>
                    </a:lnTo>
                    <a:lnTo>
                      <a:pt x="563" y="1122"/>
                    </a:lnTo>
                    <a:lnTo>
                      <a:pt x="545" y="1129"/>
                    </a:lnTo>
                    <a:lnTo>
                      <a:pt x="526" y="1134"/>
                    </a:lnTo>
                    <a:lnTo>
                      <a:pt x="507" y="1139"/>
                    </a:lnTo>
                    <a:lnTo>
                      <a:pt x="487" y="1144"/>
                    </a:lnTo>
                    <a:lnTo>
                      <a:pt x="466" y="1147"/>
                    </a:lnTo>
                    <a:lnTo>
                      <a:pt x="445" y="1149"/>
                    </a:lnTo>
                    <a:lnTo>
                      <a:pt x="423" y="1150"/>
                    </a:lnTo>
                    <a:lnTo>
                      <a:pt x="401" y="1150"/>
                    </a:lnTo>
                    <a:close/>
                    <a:moveTo>
                      <a:pt x="269" y="277"/>
                    </a:moveTo>
                    <a:lnTo>
                      <a:pt x="481" y="46"/>
                    </a:lnTo>
                    <a:lnTo>
                      <a:pt x="492" y="37"/>
                    </a:lnTo>
                    <a:lnTo>
                      <a:pt x="502" y="27"/>
                    </a:lnTo>
                    <a:lnTo>
                      <a:pt x="513" y="19"/>
                    </a:lnTo>
                    <a:lnTo>
                      <a:pt x="524" y="12"/>
                    </a:lnTo>
                    <a:lnTo>
                      <a:pt x="534" y="6"/>
                    </a:lnTo>
                    <a:lnTo>
                      <a:pt x="544" y="2"/>
                    </a:lnTo>
                    <a:lnTo>
                      <a:pt x="554" y="0"/>
                    </a:lnTo>
                    <a:lnTo>
                      <a:pt x="563" y="0"/>
                    </a:lnTo>
                    <a:lnTo>
                      <a:pt x="574" y="1"/>
                    </a:lnTo>
                    <a:lnTo>
                      <a:pt x="586" y="3"/>
                    </a:lnTo>
                    <a:lnTo>
                      <a:pt x="595" y="10"/>
                    </a:lnTo>
                    <a:lnTo>
                      <a:pt x="604" y="17"/>
                    </a:lnTo>
                    <a:lnTo>
                      <a:pt x="613" y="27"/>
                    </a:lnTo>
                    <a:lnTo>
                      <a:pt x="617" y="37"/>
                    </a:lnTo>
                    <a:lnTo>
                      <a:pt x="621" y="48"/>
                    </a:lnTo>
                    <a:lnTo>
                      <a:pt x="622" y="59"/>
                    </a:lnTo>
                    <a:lnTo>
                      <a:pt x="621" y="70"/>
                    </a:lnTo>
                    <a:lnTo>
                      <a:pt x="619" y="80"/>
                    </a:lnTo>
                    <a:lnTo>
                      <a:pt x="614" y="88"/>
                    </a:lnTo>
                    <a:lnTo>
                      <a:pt x="608" y="97"/>
                    </a:lnTo>
                    <a:lnTo>
                      <a:pt x="599" y="105"/>
                    </a:lnTo>
                    <a:lnTo>
                      <a:pt x="588" y="115"/>
                    </a:lnTo>
                    <a:lnTo>
                      <a:pt x="574" y="125"/>
                    </a:lnTo>
                    <a:lnTo>
                      <a:pt x="557" y="136"/>
                    </a:lnTo>
                    <a:lnTo>
                      <a:pt x="326" y="277"/>
                    </a:lnTo>
                    <a:lnTo>
                      <a:pt x="269" y="27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574840" y="648360"/>
                <a:ext cx="49680" cy="57960"/>
              </a:xfrm>
              <a:custGeom>
                <a:avLst/>
                <a:gdLst/>
                <a:ahLst/>
                <a:rect l="l" t="t" r="r" b="b"/>
                <a:pathLst>
                  <a:path w="802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2" y="705"/>
                    </a:lnTo>
                    <a:lnTo>
                      <a:pt x="30" y="700"/>
                    </a:lnTo>
                    <a:lnTo>
                      <a:pt x="37" y="694"/>
                    </a:lnTo>
                    <a:lnTo>
                      <a:pt x="42" y="687"/>
                    </a:lnTo>
                    <a:lnTo>
                      <a:pt x="46" y="678"/>
                    </a:lnTo>
                    <a:lnTo>
                      <a:pt x="48" y="668"/>
                    </a:lnTo>
                    <a:lnTo>
                      <a:pt x="49" y="657"/>
                    </a:lnTo>
                    <a:lnTo>
                      <a:pt x="49" y="127"/>
                    </a:lnTo>
                    <a:lnTo>
                      <a:pt x="48" y="113"/>
                    </a:lnTo>
                    <a:lnTo>
                      <a:pt x="47" y="101"/>
                    </a:lnTo>
                    <a:lnTo>
                      <a:pt x="43" y="93"/>
                    </a:lnTo>
                    <a:lnTo>
                      <a:pt x="39" y="86"/>
                    </a:lnTo>
                    <a:lnTo>
                      <a:pt x="33" y="81"/>
                    </a:lnTo>
                    <a:lnTo>
                      <a:pt x="25" y="79"/>
                    </a:lnTo>
                    <a:lnTo>
                      <a:pt x="14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4" y="19"/>
                    </a:lnTo>
                    <a:lnTo>
                      <a:pt x="234" y="93"/>
                    </a:lnTo>
                    <a:lnTo>
                      <a:pt x="245" y="81"/>
                    </a:lnTo>
                    <a:lnTo>
                      <a:pt x="257" y="70"/>
                    </a:lnTo>
                    <a:lnTo>
                      <a:pt x="269" y="61"/>
                    </a:lnTo>
                    <a:lnTo>
                      <a:pt x="283" y="52"/>
                    </a:lnTo>
                    <a:lnTo>
                      <a:pt x="296" y="45"/>
                    </a:lnTo>
                    <a:lnTo>
                      <a:pt x="311" y="36"/>
                    </a:lnTo>
                    <a:lnTo>
                      <a:pt x="326" y="30"/>
                    </a:lnTo>
                    <a:lnTo>
                      <a:pt x="342" y="24"/>
                    </a:lnTo>
                    <a:lnTo>
                      <a:pt x="358" y="18"/>
                    </a:lnTo>
                    <a:lnTo>
                      <a:pt x="374" y="13"/>
                    </a:lnTo>
                    <a:lnTo>
                      <a:pt x="391" y="9"/>
                    </a:lnTo>
                    <a:lnTo>
                      <a:pt x="408" y="7"/>
                    </a:lnTo>
                    <a:lnTo>
                      <a:pt x="426" y="3"/>
                    </a:lnTo>
                    <a:lnTo>
                      <a:pt x="444" y="2"/>
                    </a:lnTo>
                    <a:lnTo>
                      <a:pt x="462" y="0"/>
                    </a:lnTo>
                    <a:lnTo>
                      <a:pt x="481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2" y="8"/>
                    </a:lnTo>
                    <a:lnTo>
                      <a:pt x="577" y="10"/>
                    </a:lnTo>
                    <a:lnTo>
                      <a:pt x="592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30" y="29"/>
                    </a:lnTo>
                    <a:lnTo>
                      <a:pt x="641" y="35"/>
                    </a:lnTo>
                    <a:lnTo>
                      <a:pt x="652" y="41"/>
                    </a:lnTo>
                    <a:lnTo>
                      <a:pt x="662" y="48"/>
                    </a:lnTo>
                    <a:lnTo>
                      <a:pt x="672" y="57"/>
                    </a:lnTo>
                    <a:lnTo>
                      <a:pt x="680" y="64"/>
                    </a:lnTo>
                    <a:lnTo>
                      <a:pt x="689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1" y="105"/>
                    </a:lnTo>
                    <a:lnTo>
                      <a:pt x="717" y="116"/>
                    </a:lnTo>
                    <a:lnTo>
                      <a:pt x="723" y="129"/>
                    </a:lnTo>
                    <a:lnTo>
                      <a:pt x="728" y="142"/>
                    </a:lnTo>
                    <a:lnTo>
                      <a:pt x="733" y="156"/>
                    </a:lnTo>
                    <a:lnTo>
                      <a:pt x="738" y="170"/>
                    </a:lnTo>
                    <a:lnTo>
                      <a:pt x="742" y="186"/>
                    </a:lnTo>
                    <a:lnTo>
                      <a:pt x="744" y="202"/>
                    </a:lnTo>
                    <a:lnTo>
                      <a:pt x="748" y="219"/>
                    </a:lnTo>
                    <a:lnTo>
                      <a:pt x="749" y="236"/>
                    </a:lnTo>
                    <a:lnTo>
                      <a:pt x="753" y="273"/>
                    </a:lnTo>
                    <a:lnTo>
                      <a:pt x="754" y="314"/>
                    </a:lnTo>
                    <a:lnTo>
                      <a:pt x="754" y="664"/>
                    </a:lnTo>
                    <a:lnTo>
                      <a:pt x="754" y="673"/>
                    </a:lnTo>
                    <a:lnTo>
                      <a:pt x="756" y="682"/>
                    </a:lnTo>
                    <a:lnTo>
                      <a:pt x="760" y="689"/>
                    </a:lnTo>
                    <a:lnTo>
                      <a:pt x="765" y="695"/>
                    </a:lnTo>
                    <a:lnTo>
                      <a:pt x="771" y="700"/>
                    </a:lnTo>
                    <a:lnTo>
                      <a:pt x="780" y="704"/>
                    </a:lnTo>
                    <a:lnTo>
                      <a:pt x="790" y="708"/>
                    </a:lnTo>
                    <a:lnTo>
                      <a:pt x="802" y="710"/>
                    </a:lnTo>
                    <a:lnTo>
                      <a:pt x="802" y="764"/>
                    </a:lnTo>
                    <a:lnTo>
                      <a:pt x="509" y="764"/>
                    </a:lnTo>
                    <a:lnTo>
                      <a:pt x="509" y="710"/>
                    </a:lnTo>
                    <a:lnTo>
                      <a:pt x="513" y="710"/>
                    </a:lnTo>
                    <a:lnTo>
                      <a:pt x="523" y="710"/>
                    </a:lnTo>
                    <a:lnTo>
                      <a:pt x="531" y="706"/>
                    </a:lnTo>
                    <a:lnTo>
                      <a:pt x="540" y="703"/>
                    </a:lnTo>
                    <a:lnTo>
                      <a:pt x="546" y="695"/>
                    </a:lnTo>
                    <a:lnTo>
                      <a:pt x="552" y="688"/>
                    </a:lnTo>
                    <a:lnTo>
                      <a:pt x="556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6" y="226"/>
                    </a:lnTo>
                    <a:lnTo>
                      <a:pt x="554" y="214"/>
                    </a:lnTo>
                    <a:lnTo>
                      <a:pt x="550" y="203"/>
                    </a:lnTo>
                    <a:lnTo>
                      <a:pt x="544" y="191"/>
                    </a:lnTo>
                    <a:lnTo>
                      <a:pt x="538" y="181"/>
                    </a:lnTo>
                    <a:lnTo>
                      <a:pt x="530" y="171"/>
                    </a:lnTo>
                    <a:lnTo>
                      <a:pt x="522" y="163"/>
                    </a:lnTo>
                    <a:lnTo>
                      <a:pt x="512" y="154"/>
                    </a:lnTo>
                    <a:lnTo>
                      <a:pt x="501" y="147"/>
                    </a:lnTo>
                    <a:lnTo>
                      <a:pt x="490" y="140"/>
                    </a:lnTo>
                    <a:lnTo>
                      <a:pt x="477" y="136"/>
                    </a:lnTo>
                    <a:lnTo>
                      <a:pt x="465" y="132"/>
                    </a:lnTo>
                    <a:lnTo>
                      <a:pt x="451" y="129"/>
                    </a:lnTo>
                    <a:lnTo>
                      <a:pt x="437" y="128"/>
                    </a:lnTo>
                    <a:lnTo>
                      <a:pt x="422" y="127"/>
                    </a:lnTo>
                    <a:lnTo>
                      <a:pt x="408" y="128"/>
                    </a:lnTo>
                    <a:lnTo>
                      <a:pt x="395" y="128"/>
                    </a:lnTo>
                    <a:lnTo>
                      <a:pt x="383" y="131"/>
                    </a:lnTo>
                    <a:lnTo>
                      <a:pt x="369" y="133"/>
                    </a:lnTo>
                    <a:lnTo>
                      <a:pt x="357" y="137"/>
                    </a:lnTo>
                    <a:lnTo>
                      <a:pt x="344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10" y="156"/>
                    </a:lnTo>
                    <a:lnTo>
                      <a:pt x="300" y="164"/>
                    </a:lnTo>
                    <a:lnTo>
                      <a:pt x="289" y="171"/>
                    </a:lnTo>
                    <a:lnTo>
                      <a:pt x="280" y="178"/>
                    </a:lnTo>
                    <a:lnTo>
                      <a:pt x="271" y="187"/>
                    </a:lnTo>
                    <a:lnTo>
                      <a:pt x="262" y="196"/>
                    </a:lnTo>
                    <a:lnTo>
                      <a:pt x="255" y="206"/>
                    </a:lnTo>
                    <a:lnTo>
                      <a:pt x="247" y="217"/>
                    </a:lnTo>
                    <a:lnTo>
                      <a:pt x="247" y="640"/>
                    </a:lnTo>
                    <a:lnTo>
                      <a:pt x="247" y="660"/>
                    </a:lnTo>
                    <a:lnTo>
                      <a:pt x="250" y="676"/>
                    </a:lnTo>
                    <a:lnTo>
                      <a:pt x="251" y="683"/>
                    </a:lnTo>
                    <a:lnTo>
                      <a:pt x="252" y="688"/>
                    </a:lnTo>
                    <a:lnTo>
                      <a:pt x="255" y="693"/>
                    </a:lnTo>
                    <a:lnTo>
                      <a:pt x="257" y="695"/>
                    </a:lnTo>
                    <a:lnTo>
                      <a:pt x="263" y="702"/>
                    </a:lnTo>
                    <a:lnTo>
                      <a:pt x="272" y="705"/>
                    </a:lnTo>
                    <a:lnTo>
                      <a:pt x="283" y="709"/>
                    </a:lnTo>
                    <a:lnTo>
                      <a:pt x="295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7983720" y="235440"/>
              <a:ext cx="989280" cy="86400"/>
              <a:chOff x="7983720" y="235440"/>
              <a:chExt cx="989280" cy="86400"/>
            </a:xfrm>
          </p:grpSpPr>
          <p:sp>
            <p:nvSpPr>
              <p:cNvPr id="108" name=""/>
              <p:cNvSpPr/>
              <p:nvPr/>
            </p:nvSpPr>
            <p:spPr>
              <a:xfrm>
                <a:off x="7983720" y="236520"/>
                <a:ext cx="56160" cy="83520"/>
              </a:xfrm>
              <a:custGeom>
                <a:avLst/>
                <a:gdLst/>
                <a:ahLst/>
                <a:rect l="l" t="t" r="r" b="b"/>
                <a:pathLst>
                  <a:path w="908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16" y="1027"/>
                    </a:lnTo>
                    <a:lnTo>
                      <a:pt x="31" y="1024"/>
                    </a:lnTo>
                    <a:lnTo>
                      <a:pt x="37" y="1021"/>
                    </a:lnTo>
                    <a:lnTo>
                      <a:pt x="42" y="1019"/>
                    </a:lnTo>
                    <a:lnTo>
                      <a:pt x="46" y="1015"/>
                    </a:lnTo>
                    <a:lnTo>
                      <a:pt x="51" y="1011"/>
                    </a:lnTo>
                    <a:lnTo>
                      <a:pt x="53" y="1006"/>
                    </a:lnTo>
                    <a:lnTo>
                      <a:pt x="57" y="1001"/>
                    </a:lnTo>
                    <a:lnTo>
                      <a:pt x="58" y="995"/>
                    </a:lnTo>
                    <a:lnTo>
                      <a:pt x="61" y="989"/>
                    </a:lnTo>
                    <a:lnTo>
                      <a:pt x="63" y="973"/>
                    </a:lnTo>
                    <a:lnTo>
                      <a:pt x="64" y="954"/>
                    </a:lnTo>
                    <a:lnTo>
                      <a:pt x="64" y="144"/>
                    </a:lnTo>
                    <a:lnTo>
                      <a:pt x="63" y="125"/>
                    </a:lnTo>
                    <a:lnTo>
                      <a:pt x="61" y="109"/>
                    </a:lnTo>
                    <a:lnTo>
                      <a:pt x="58" y="101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51" y="87"/>
                    </a:lnTo>
                    <a:lnTo>
                      <a:pt x="46" y="83"/>
                    </a:lnTo>
                    <a:lnTo>
                      <a:pt x="42" y="79"/>
                    </a:lnTo>
                    <a:lnTo>
                      <a:pt x="37" y="77"/>
                    </a:lnTo>
                    <a:lnTo>
                      <a:pt x="31" y="74"/>
                    </a:lnTo>
                    <a:lnTo>
                      <a:pt x="16" y="71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7"/>
                    </a:lnTo>
                    <a:lnTo>
                      <a:pt x="840" y="217"/>
                    </a:lnTo>
                    <a:lnTo>
                      <a:pt x="837" y="206"/>
                    </a:lnTo>
                    <a:lnTo>
                      <a:pt x="833" y="196"/>
                    </a:lnTo>
                    <a:lnTo>
                      <a:pt x="828" y="186"/>
                    </a:lnTo>
                    <a:lnTo>
                      <a:pt x="824" y="178"/>
                    </a:lnTo>
                    <a:lnTo>
                      <a:pt x="818" y="170"/>
                    </a:lnTo>
                    <a:lnTo>
                      <a:pt x="813" y="164"/>
                    </a:lnTo>
                    <a:lnTo>
                      <a:pt x="808" y="158"/>
                    </a:lnTo>
                    <a:lnTo>
                      <a:pt x="802" y="153"/>
                    </a:lnTo>
                    <a:lnTo>
                      <a:pt x="795" y="149"/>
                    </a:lnTo>
                    <a:lnTo>
                      <a:pt x="786" y="146"/>
                    </a:lnTo>
                    <a:lnTo>
                      <a:pt x="775" y="142"/>
                    </a:lnTo>
                    <a:lnTo>
                      <a:pt x="764" y="139"/>
                    </a:lnTo>
                    <a:lnTo>
                      <a:pt x="749" y="138"/>
                    </a:lnTo>
                    <a:lnTo>
                      <a:pt x="735" y="137"/>
                    </a:lnTo>
                    <a:lnTo>
                      <a:pt x="717" y="136"/>
                    </a:lnTo>
                    <a:lnTo>
                      <a:pt x="698" y="136"/>
                    </a:lnTo>
                    <a:lnTo>
                      <a:pt x="276" y="136"/>
                    </a:lnTo>
                    <a:lnTo>
                      <a:pt x="276" y="428"/>
                    </a:lnTo>
                    <a:lnTo>
                      <a:pt x="548" y="428"/>
                    </a:lnTo>
                    <a:lnTo>
                      <a:pt x="587" y="427"/>
                    </a:lnTo>
                    <a:lnTo>
                      <a:pt x="618" y="423"/>
                    </a:lnTo>
                    <a:lnTo>
                      <a:pt x="631" y="422"/>
                    </a:lnTo>
                    <a:lnTo>
                      <a:pt x="642" y="418"/>
                    </a:lnTo>
                    <a:lnTo>
                      <a:pt x="651" y="416"/>
                    </a:lnTo>
                    <a:lnTo>
                      <a:pt x="658" y="412"/>
                    </a:lnTo>
                    <a:lnTo>
                      <a:pt x="665" y="407"/>
                    </a:lnTo>
                    <a:lnTo>
                      <a:pt x="671" y="402"/>
                    </a:lnTo>
                    <a:lnTo>
                      <a:pt x="676" y="396"/>
                    </a:lnTo>
                    <a:lnTo>
                      <a:pt x="679" y="390"/>
                    </a:lnTo>
                    <a:lnTo>
                      <a:pt x="684" y="383"/>
                    </a:lnTo>
                    <a:lnTo>
                      <a:pt x="688" y="374"/>
                    </a:lnTo>
                    <a:lnTo>
                      <a:pt x="690" y="365"/>
                    </a:lnTo>
                    <a:lnTo>
                      <a:pt x="693" y="354"/>
                    </a:lnTo>
                    <a:lnTo>
                      <a:pt x="756" y="354"/>
                    </a:lnTo>
                    <a:lnTo>
                      <a:pt x="756" y="628"/>
                    </a:lnTo>
                    <a:lnTo>
                      <a:pt x="693" y="628"/>
                    </a:lnTo>
                    <a:lnTo>
                      <a:pt x="692" y="618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3"/>
                    </a:lnTo>
                    <a:lnTo>
                      <a:pt x="679" y="586"/>
                    </a:lnTo>
                    <a:lnTo>
                      <a:pt x="676" y="580"/>
                    </a:lnTo>
                    <a:lnTo>
                      <a:pt x="672" y="575"/>
                    </a:lnTo>
                    <a:lnTo>
                      <a:pt x="667" y="570"/>
                    </a:lnTo>
                    <a:lnTo>
                      <a:pt x="661" y="568"/>
                    </a:lnTo>
                    <a:lnTo>
                      <a:pt x="653" y="564"/>
                    </a:lnTo>
                    <a:lnTo>
                      <a:pt x="646" y="562"/>
                    </a:lnTo>
                    <a:lnTo>
                      <a:pt x="636" y="559"/>
                    </a:lnTo>
                    <a:lnTo>
                      <a:pt x="614" y="557"/>
                    </a:lnTo>
                    <a:lnTo>
                      <a:pt x="588" y="556"/>
                    </a:lnTo>
                    <a:lnTo>
                      <a:pt x="276" y="556"/>
                    </a:lnTo>
                    <a:lnTo>
                      <a:pt x="276" y="954"/>
                    </a:lnTo>
                    <a:lnTo>
                      <a:pt x="277" y="973"/>
                    </a:lnTo>
                    <a:lnTo>
                      <a:pt x="280" y="989"/>
                    </a:lnTo>
                    <a:lnTo>
                      <a:pt x="282" y="995"/>
                    </a:lnTo>
                    <a:lnTo>
                      <a:pt x="284" y="1001"/>
                    </a:lnTo>
                    <a:lnTo>
                      <a:pt x="287" y="1006"/>
                    </a:lnTo>
                    <a:lnTo>
                      <a:pt x="291" y="1011"/>
                    </a:lnTo>
                    <a:lnTo>
                      <a:pt x="294" y="1015"/>
                    </a:lnTo>
                    <a:lnTo>
                      <a:pt x="298" y="1019"/>
                    </a:lnTo>
                    <a:lnTo>
                      <a:pt x="304" y="1021"/>
                    </a:lnTo>
                    <a:lnTo>
                      <a:pt x="309" y="1024"/>
                    </a:lnTo>
                    <a:lnTo>
                      <a:pt x="324" y="1027"/>
                    </a:lnTo>
                    <a:lnTo>
                      <a:pt x="341" y="1030"/>
                    </a:lnTo>
                    <a:lnTo>
                      <a:pt x="341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37360" y="261720"/>
                <a:ext cx="50400" cy="601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3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1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6"/>
                    </a:lnTo>
                    <a:lnTo>
                      <a:pt x="594" y="319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3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3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8" y="122"/>
                    </a:lnTo>
                    <a:lnTo>
                      <a:pt x="110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7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6" y="2"/>
                    </a:lnTo>
                    <a:lnTo>
                      <a:pt x="379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2" y="267"/>
                    </a:lnTo>
                    <a:lnTo>
                      <a:pt x="796" y="287"/>
                    </a:lnTo>
                    <a:lnTo>
                      <a:pt x="801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1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600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93880" y="261720"/>
                <a:ext cx="29880" cy="58320"/>
              </a:xfrm>
              <a:custGeom>
                <a:avLst/>
                <a:gdLst/>
                <a:ahLst/>
                <a:rect l="l" t="t" r="r" b="b"/>
                <a:pathLst>
                  <a:path w="478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3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3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4"/>
                    </a:lnTo>
                    <a:lnTo>
                      <a:pt x="12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0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78" y="4"/>
                    </a:lnTo>
                    <a:lnTo>
                      <a:pt x="478" y="215"/>
                    </a:lnTo>
                    <a:lnTo>
                      <a:pt x="430" y="215"/>
                    </a:lnTo>
                    <a:lnTo>
                      <a:pt x="427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7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4"/>
                    </a:lnTo>
                    <a:lnTo>
                      <a:pt x="303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28440" y="261720"/>
                <a:ext cx="50400" cy="601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7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49" y="569"/>
                    </a:lnTo>
                    <a:lnTo>
                      <a:pt x="262" y="587"/>
                    </a:lnTo>
                    <a:lnTo>
                      <a:pt x="269" y="596"/>
                    </a:lnTo>
                    <a:lnTo>
                      <a:pt x="275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2" y="651"/>
                    </a:lnTo>
                    <a:lnTo>
                      <a:pt x="462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1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1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59" y="565"/>
                    </a:lnTo>
                    <a:lnTo>
                      <a:pt x="569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5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3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4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0" y="136"/>
                    </a:lnTo>
                    <a:lnTo>
                      <a:pt x="322" y="143"/>
                    </a:lnTo>
                    <a:lnTo>
                      <a:pt x="313" y="147"/>
                    </a:lnTo>
                    <a:lnTo>
                      <a:pt x="306" y="153"/>
                    </a:lnTo>
                    <a:lnTo>
                      <a:pt x="297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49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7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8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0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4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3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3" y="327"/>
                    </a:lnTo>
                    <a:lnTo>
                      <a:pt x="6" y="307"/>
                    </a:lnTo>
                    <a:lnTo>
                      <a:pt x="11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4" y="215"/>
                    </a:lnTo>
                    <a:lnTo>
                      <a:pt x="43" y="198"/>
                    </a:lnTo>
                    <a:lnTo>
                      <a:pt x="51" y="182"/>
                    </a:lnTo>
                    <a:lnTo>
                      <a:pt x="61" y="166"/>
                    </a:lnTo>
                    <a:lnTo>
                      <a:pt x="72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0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4" y="4"/>
                    </a:lnTo>
                    <a:lnTo>
                      <a:pt x="356" y="2"/>
                    </a:lnTo>
                    <a:lnTo>
                      <a:pt x="377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7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6" y="82"/>
                    </a:lnTo>
                    <a:lnTo>
                      <a:pt x="681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4" y="197"/>
                    </a:lnTo>
                    <a:lnTo>
                      <a:pt x="771" y="213"/>
                    </a:lnTo>
                    <a:lnTo>
                      <a:pt x="778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4" y="347"/>
                    </a:lnTo>
                    <a:lnTo>
                      <a:pt x="805" y="368"/>
                    </a:lnTo>
                    <a:lnTo>
                      <a:pt x="807" y="390"/>
                    </a:lnTo>
                    <a:lnTo>
                      <a:pt x="805" y="411"/>
                    </a:lnTo>
                    <a:lnTo>
                      <a:pt x="804" y="431"/>
                    </a:lnTo>
                    <a:lnTo>
                      <a:pt x="802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19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13760" y="236520"/>
                <a:ext cx="62280" cy="83520"/>
              </a:xfrm>
              <a:custGeom>
                <a:avLst/>
                <a:gdLst/>
                <a:ahLst/>
                <a:rect l="l" t="t" r="r" b="b"/>
                <a:pathLst>
                  <a:path w="999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5" y="1030"/>
                    </a:lnTo>
                    <a:lnTo>
                      <a:pt x="21" y="1028"/>
                    </a:lnTo>
                    <a:lnTo>
                      <a:pt x="36" y="1026"/>
                    </a:lnTo>
                    <a:lnTo>
                      <a:pt x="42" y="1024"/>
                    </a:lnTo>
                    <a:lnTo>
                      <a:pt x="47" y="1021"/>
                    </a:lnTo>
                    <a:lnTo>
                      <a:pt x="52" y="1017"/>
                    </a:lnTo>
                    <a:lnTo>
                      <a:pt x="55" y="1014"/>
                    </a:lnTo>
                    <a:lnTo>
                      <a:pt x="58" y="1009"/>
                    </a:lnTo>
                    <a:lnTo>
                      <a:pt x="61" y="1003"/>
                    </a:lnTo>
                    <a:lnTo>
                      <a:pt x="63" y="997"/>
                    </a:lnTo>
                    <a:lnTo>
                      <a:pt x="65" y="989"/>
                    </a:lnTo>
                    <a:lnTo>
                      <a:pt x="68" y="971"/>
                    </a:lnTo>
                    <a:lnTo>
                      <a:pt x="69" y="947"/>
                    </a:lnTo>
                    <a:lnTo>
                      <a:pt x="69" y="110"/>
                    </a:lnTo>
                    <a:lnTo>
                      <a:pt x="68" y="103"/>
                    </a:lnTo>
                    <a:lnTo>
                      <a:pt x="65" y="94"/>
                    </a:lnTo>
                    <a:lnTo>
                      <a:pt x="59" y="88"/>
                    </a:lnTo>
                    <a:lnTo>
                      <a:pt x="52" y="82"/>
                    </a:lnTo>
                    <a:lnTo>
                      <a:pt x="43" y="76"/>
                    </a:lnTo>
                    <a:lnTo>
                      <a:pt x="33" y="72"/>
                    </a:lnTo>
                    <a:lnTo>
                      <a:pt x="21" y="68"/>
                    </a:lnTo>
                    <a:lnTo>
                      <a:pt x="7" y="66"/>
                    </a:lnTo>
                    <a:lnTo>
                      <a:pt x="7" y="0"/>
                    </a:lnTo>
                    <a:lnTo>
                      <a:pt x="315" y="0"/>
                    </a:lnTo>
                    <a:lnTo>
                      <a:pt x="788" y="476"/>
                    </a:lnTo>
                    <a:lnTo>
                      <a:pt x="788" y="135"/>
                    </a:lnTo>
                    <a:lnTo>
                      <a:pt x="788" y="117"/>
                    </a:lnTo>
                    <a:lnTo>
                      <a:pt x="786" y="103"/>
                    </a:lnTo>
                    <a:lnTo>
                      <a:pt x="783" y="97"/>
                    </a:lnTo>
                    <a:lnTo>
                      <a:pt x="781" y="92"/>
                    </a:lnTo>
                    <a:lnTo>
                      <a:pt x="778" y="87"/>
                    </a:lnTo>
                    <a:lnTo>
                      <a:pt x="776" y="83"/>
                    </a:lnTo>
                    <a:lnTo>
                      <a:pt x="767" y="77"/>
                    </a:lnTo>
                    <a:lnTo>
                      <a:pt x="756" y="72"/>
                    </a:lnTo>
                    <a:lnTo>
                      <a:pt x="743" y="68"/>
                    </a:lnTo>
                    <a:lnTo>
                      <a:pt x="726" y="66"/>
                    </a:lnTo>
                    <a:lnTo>
                      <a:pt x="726" y="0"/>
                    </a:lnTo>
                    <a:lnTo>
                      <a:pt x="999" y="0"/>
                    </a:lnTo>
                    <a:lnTo>
                      <a:pt x="999" y="66"/>
                    </a:lnTo>
                    <a:lnTo>
                      <a:pt x="984" y="67"/>
                    </a:lnTo>
                    <a:lnTo>
                      <a:pt x="972" y="71"/>
                    </a:lnTo>
                    <a:lnTo>
                      <a:pt x="965" y="74"/>
                    </a:lnTo>
                    <a:lnTo>
                      <a:pt x="960" y="77"/>
                    </a:lnTo>
                    <a:lnTo>
                      <a:pt x="957" y="81"/>
                    </a:lnTo>
                    <a:lnTo>
                      <a:pt x="953" y="85"/>
                    </a:lnTo>
                    <a:lnTo>
                      <a:pt x="949" y="89"/>
                    </a:lnTo>
                    <a:lnTo>
                      <a:pt x="947" y="95"/>
                    </a:lnTo>
                    <a:lnTo>
                      <a:pt x="944" y="101"/>
                    </a:lnTo>
                    <a:lnTo>
                      <a:pt x="943" y="109"/>
                    </a:lnTo>
                    <a:lnTo>
                      <a:pt x="940" y="125"/>
                    </a:lnTo>
                    <a:lnTo>
                      <a:pt x="940" y="144"/>
                    </a:lnTo>
                    <a:lnTo>
                      <a:pt x="940" y="946"/>
                    </a:lnTo>
                    <a:lnTo>
                      <a:pt x="940" y="971"/>
                    </a:lnTo>
                    <a:lnTo>
                      <a:pt x="942" y="990"/>
                    </a:lnTo>
                    <a:lnTo>
                      <a:pt x="944" y="998"/>
                    </a:lnTo>
                    <a:lnTo>
                      <a:pt x="946" y="1004"/>
                    </a:lnTo>
                    <a:lnTo>
                      <a:pt x="948" y="1010"/>
                    </a:lnTo>
                    <a:lnTo>
                      <a:pt x="952" y="1014"/>
                    </a:lnTo>
                    <a:lnTo>
                      <a:pt x="956" y="1016"/>
                    </a:lnTo>
                    <a:lnTo>
                      <a:pt x="959" y="1020"/>
                    </a:lnTo>
                    <a:lnTo>
                      <a:pt x="964" y="1022"/>
                    </a:lnTo>
                    <a:lnTo>
                      <a:pt x="970" y="1025"/>
                    </a:lnTo>
                    <a:lnTo>
                      <a:pt x="983" y="1027"/>
                    </a:lnTo>
                    <a:lnTo>
                      <a:pt x="999" y="1030"/>
                    </a:lnTo>
                    <a:lnTo>
                      <a:pt x="999" y="1097"/>
                    </a:lnTo>
                    <a:lnTo>
                      <a:pt x="721" y="1097"/>
                    </a:lnTo>
                    <a:lnTo>
                      <a:pt x="721" y="1030"/>
                    </a:lnTo>
                    <a:lnTo>
                      <a:pt x="738" y="1028"/>
                    </a:lnTo>
                    <a:lnTo>
                      <a:pt x="753" y="1025"/>
                    </a:lnTo>
                    <a:lnTo>
                      <a:pt x="758" y="1022"/>
                    </a:lnTo>
                    <a:lnTo>
                      <a:pt x="764" y="1019"/>
                    </a:lnTo>
                    <a:lnTo>
                      <a:pt x="767" y="1016"/>
                    </a:lnTo>
                    <a:lnTo>
                      <a:pt x="772" y="1013"/>
                    </a:lnTo>
                    <a:lnTo>
                      <a:pt x="775" y="1008"/>
                    </a:lnTo>
                    <a:lnTo>
                      <a:pt x="777" y="1003"/>
                    </a:lnTo>
                    <a:lnTo>
                      <a:pt x="780" y="997"/>
                    </a:lnTo>
                    <a:lnTo>
                      <a:pt x="782" y="990"/>
                    </a:lnTo>
                    <a:lnTo>
                      <a:pt x="785" y="974"/>
                    </a:lnTo>
                    <a:lnTo>
                      <a:pt x="786" y="955"/>
                    </a:lnTo>
                    <a:lnTo>
                      <a:pt x="786" y="764"/>
                    </a:lnTo>
                    <a:lnTo>
                      <a:pt x="227" y="211"/>
                    </a:lnTo>
                    <a:lnTo>
                      <a:pt x="227" y="940"/>
                    </a:lnTo>
                    <a:lnTo>
                      <a:pt x="229" y="963"/>
                    </a:lnTo>
                    <a:lnTo>
                      <a:pt x="231" y="983"/>
                    </a:lnTo>
                    <a:lnTo>
                      <a:pt x="232" y="990"/>
                    </a:lnTo>
                    <a:lnTo>
                      <a:pt x="235" y="998"/>
                    </a:lnTo>
                    <a:lnTo>
                      <a:pt x="237" y="1004"/>
                    </a:lnTo>
                    <a:lnTo>
                      <a:pt x="241" y="1010"/>
                    </a:lnTo>
                    <a:lnTo>
                      <a:pt x="245" y="1014"/>
                    </a:lnTo>
                    <a:lnTo>
                      <a:pt x="248" y="1017"/>
                    </a:lnTo>
                    <a:lnTo>
                      <a:pt x="253" y="1021"/>
                    </a:lnTo>
                    <a:lnTo>
                      <a:pt x="259" y="1024"/>
                    </a:lnTo>
                    <a:lnTo>
                      <a:pt x="266" y="1026"/>
                    </a:lnTo>
                    <a:lnTo>
                      <a:pt x="272" y="1028"/>
                    </a:lnTo>
                    <a:lnTo>
                      <a:pt x="279" y="1030"/>
                    </a:lnTo>
                    <a:lnTo>
                      <a:pt x="288" y="1030"/>
                    </a:lnTo>
                    <a:lnTo>
                      <a:pt x="288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282160" y="261720"/>
                <a:ext cx="45720" cy="594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1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4" y="738"/>
                    </a:lnTo>
                    <a:lnTo>
                      <a:pt x="92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2" y="375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7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2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10"/>
                    </a:lnTo>
                    <a:lnTo>
                      <a:pt x="517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2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2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34720" y="261720"/>
                <a:ext cx="45720" cy="60120"/>
              </a:xfrm>
              <a:custGeom>
                <a:avLst/>
                <a:gdLst/>
                <a:ahLst/>
                <a:rect l="l" t="t" r="r" b="b"/>
                <a:pathLst>
                  <a:path w="736" h="790">
                    <a:moveTo>
                      <a:pt x="670" y="567"/>
                    </a:moveTo>
                    <a:lnTo>
                      <a:pt x="670" y="766"/>
                    </a:lnTo>
                    <a:lnTo>
                      <a:pt x="643" y="772"/>
                    </a:lnTo>
                    <a:lnTo>
                      <a:pt x="618" y="777"/>
                    </a:lnTo>
                    <a:lnTo>
                      <a:pt x="593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5" y="788"/>
                    </a:lnTo>
                    <a:lnTo>
                      <a:pt x="503" y="790"/>
                    </a:lnTo>
                    <a:lnTo>
                      <a:pt x="482" y="790"/>
                    </a:lnTo>
                    <a:lnTo>
                      <a:pt x="455" y="790"/>
                    </a:lnTo>
                    <a:lnTo>
                      <a:pt x="429" y="788"/>
                    </a:lnTo>
                    <a:lnTo>
                      <a:pt x="404" y="786"/>
                    </a:lnTo>
                    <a:lnTo>
                      <a:pt x="380" y="782"/>
                    </a:lnTo>
                    <a:lnTo>
                      <a:pt x="356" y="779"/>
                    </a:lnTo>
                    <a:lnTo>
                      <a:pt x="332" y="774"/>
                    </a:lnTo>
                    <a:lnTo>
                      <a:pt x="310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1" y="686"/>
                    </a:lnTo>
                    <a:lnTo>
                      <a:pt x="134" y="672"/>
                    </a:lnTo>
                    <a:lnTo>
                      <a:pt x="118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3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1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3" y="330"/>
                    </a:lnTo>
                    <a:lnTo>
                      <a:pt x="4" y="311"/>
                    </a:lnTo>
                    <a:lnTo>
                      <a:pt x="7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8" y="221"/>
                    </a:lnTo>
                    <a:lnTo>
                      <a:pt x="36" y="205"/>
                    </a:lnTo>
                    <a:lnTo>
                      <a:pt x="44" y="189"/>
                    </a:lnTo>
                    <a:lnTo>
                      <a:pt x="54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8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3" y="15"/>
                    </a:lnTo>
                    <a:lnTo>
                      <a:pt x="303" y="11"/>
                    </a:lnTo>
                    <a:lnTo>
                      <a:pt x="324" y="7"/>
                    </a:lnTo>
                    <a:lnTo>
                      <a:pt x="345" y="4"/>
                    </a:lnTo>
                    <a:lnTo>
                      <a:pt x="365" y="2"/>
                    </a:lnTo>
                    <a:lnTo>
                      <a:pt x="389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8" y="113"/>
                    </a:lnTo>
                    <a:lnTo>
                      <a:pt x="736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1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8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2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7" y="225"/>
                    </a:lnTo>
                    <a:lnTo>
                      <a:pt x="228" y="246"/>
                    </a:lnTo>
                    <a:lnTo>
                      <a:pt x="220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7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3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5" y="585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9" y="632"/>
                    </a:lnTo>
                    <a:lnTo>
                      <a:pt x="370" y="637"/>
                    </a:lnTo>
                    <a:lnTo>
                      <a:pt x="384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60" y="631"/>
                    </a:lnTo>
                    <a:lnTo>
                      <a:pt x="568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3" y="567"/>
                    </a:lnTo>
                    <a:lnTo>
                      <a:pt x="670" y="56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83680" y="235440"/>
                <a:ext cx="18360" cy="84600"/>
              </a:xfrm>
              <a:custGeom>
                <a:avLst/>
                <a:gdLst/>
                <a:ahLst/>
                <a:rect l="l" t="t" r="r" b="b"/>
                <a:pathLst>
                  <a:path w="295" h="1111">
                    <a:moveTo>
                      <a:pt x="17" y="124"/>
                    </a:moveTo>
                    <a:lnTo>
                      <a:pt x="18" y="111"/>
                    </a:lnTo>
                    <a:lnTo>
                      <a:pt x="20" y="97"/>
                    </a:lnTo>
                    <a:lnTo>
                      <a:pt x="22" y="85"/>
                    </a:lnTo>
                    <a:lnTo>
                      <a:pt x="26" y="72"/>
                    </a:lnTo>
                    <a:lnTo>
                      <a:pt x="31" y="61"/>
                    </a:lnTo>
                    <a:lnTo>
                      <a:pt x="37" y="52"/>
                    </a:lnTo>
                    <a:lnTo>
                      <a:pt x="43" y="42"/>
                    </a:lnTo>
                    <a:lnTo>
                      <a:pt x="50" y="33"/>
                    </a:lnTo>
                    <a:lnTo>
                      <a:pt x="59" y="26"/>
                    </a:lnTo>
                    <a:lnTo>
                      <a:pt x="69" y="18"/>
                    </a:lnTo>
                    <a:lnTo>
                      <a:pt x="79" y="14"/>
                    </a:lnTo>
                    <a:lnTo>
                      <a:pt x="90" y="9"/>
                    </a:lnTo>
                    <a:lnTo>
                      <a:pt x="102" y="5"/>
                    </a:lnTo>
                    <a:lnTo>
                      <a:pt x="114" y="2"/>
                    </a:lnTo>
                    <a:lnTo>
                      <a:pt x="128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8" y="2"/>
                    </a:lnTo>
                    <a:lnTo>
                      <a:pt x="181" y="5"/>
                    </a:lnTo>
                    <a:lnTo>
                      <a:pt x="192" y="9"/>
                    </a:lnTo>
                    <a:lnTo>
                      <a:pt x="203" y="14"/>
                    </a:lnTo>
                    <a:lnTo>
                      <a:pt x="213" y="20"/>
                    </a:lnTo>
                    <a:lnTo>
                      <a:pt x="222" y="27"/>
                    </a:lnTo>
                    <a:lnTo>
                      <a:pt x="232" y="36"/>
                    </a:lnTo>
                    <a:lnTo>
                      <a:pt x="240" y="44"/>
                    </a:lnTo>
                    <a:lnTo>
                      <a:pt x="247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2" y="88"/>
                    </a:lnTo>
                    <a:lnTo>
                      <a:pt x="264" y="101"/>
                    </a:lnTo>
                    <a:lnTo>
                      <a:pt x="266" y="113"/>
                    </a:lnTo>
                    <a:lnTo>
                      <a:pt x="267" y="128"/>
                    </a:lnTo>
                    <a:lnTo>
                      <a:pt x="266" y="140"/>
                    </a:lnTo>
                    <a:lnTo>
                      <a:pt x="264" y="153"/>
                    </a:lnTo>
                    <a:lnTo>
                      <a:pt x="261" y="166"/>
                    </a:lnTo>
                    <a:lnTo>
                      <a:pt x="257" y="177"/>
                    </a:lnTo>
                    <a:lnTo>
                      <a:pt x="252" y="188"/>
                    </a:lnTo>
                    <a:lnTo>
                      <a:pt x="246" y="199"/>
                    </a:lnTo>
                    <a:lnTo>
                      <a:pt x="238" y="210"/>
                    </a:lnTo>
                    <a:lnTo>
                      <a:pt x="230" y="220"/>
                    </a:lnTo>
                    <a:lnTo>
                      <a:pt x="221" y="228"/>
                    </a:lnTo>
                    <a:lnTo>
                      <a:pt x="211" y="236"/>
                    </a:lnTo>
                    <a:lnTo>
                      <a:pt x="200" y="243"/>
                    </a:lnTo>
                    <a:lnTo>
                      <a:pt x="190" y="248"/>
                    </a:lnTo>
                    <a:lnTo>
                      <a:pt x="179" y="252"/>
                    </a:lnTo>
                    <a:lnTo>
                      <a:pt x="167" y="255"/>
                    </a:lnTo>
                    <a:lnTo>
                      <a:pt x="155" y="257"/>
                    </a:lnTo>
                    <a:lnTo>
                      <a:pt x="143" y="258"/>
                    </a:lnTo>
                    <a:lnTo>
                      <a:pt x="129" y="257"/>
                    </a:lnTo>
                    <a:lnTo>
                      <a:pt x="115" y="255"/>
                    </a:lnTo>
                    <a:lnTo>
                      <a:pt x="103" y="252"/>
                    </a:lnTo>
                    <a:lnTo>
                      <a:pt x="92" y="248"/>
                    </a:lnTo>
                    <a:lnTo>
                      <a:pt x="81" y="243"/>
                    </a:lnTo>
                    <a:lnTo>
                      <a:pt x="71" y="236"/>
                    </a:lnTo>
                    <a:lnTo>
                      <a:pt x="61" y="228"/>
                    </a:lnTo>
                    <a:lnTo>
                      <a:pt x="53" y="220"/>
                    </a:lnTo>
                    <a:lnTo>
                      <a:pt x="44" y="210"/>
                    </a:lnTo>
                    <a:lnTo>
                      <a:pt x="37" y="200"/>
                    </a:lnTo>
                    <a:lnTo>
                      <a:pt x="31" y="189"/>
                    </a:lnTo>
                    <a:lnTo>
                      <a:pt x="27" y="177"/>
                    </a:lnTo>
                    <a:lnTo>
                      <a:pt x="22" y="165"/>
                    </a:lnTo>
                    <a:lnTo>
                      <a:pt x="20" y="152"/>
                    </a:lnTo>
                    <a:lnTo>
                      <a:pt x="18" y="139"/>
                    </a:lnTo>
                    <a:lnTo>
                      <a:pt x="17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2" y="1054"/>
                    </a:lnTo>
                    <a:lnTo>
                      <a:pt x="23" y="1049"/>
                    </a:lnTo>
                    <a:lnTo>
                      <a:pt x="32" y="1044"/>
                    </a:lnTo>
                    <a:lnTo>
                      <a:pt x="38" y="1038"/>
                    </a:lnTo>
                    <a:lnTo>
                      <a:pt x="40" y="1034"/>
                    </a:lnTo>
                    <a:lnTo>
                      <a:pt x="43" y="1028"/>
                    </a:lnTo>
                    <a:lnTo>
                      <a:pt x="45" y="1022"/>
                    </a:lnTo>
                    <a:lnTo>
                      <a:pt x="47" y="1014"/>
                    </a:lnTo>
                    <a:lnTo>
                      <a:pt x="48" y="997"/>
                    </a:lnTo>
                    <a:lnTo>
                      <a:pt x="49" y="975"/>
                    </a:lnTo>
                    <a:lnTo>
                      <a:pt x="49" y="965"/>
                    </a:lnTo>
                    <a:lnTo>
                      <a:pt x="49" y="479"/>
                    </a:lnTo>
                    <a:lnTo>
                      <a:pt x="48" y="464"/>
                    </a:lnTo>
                    <a:lnTo>
                      <a:pt x="47" y="453"/>
                    </a:lnTo>
                    <a:lnTo>
                      <a:pt x="43" y="443"/>
                    </a:lnTo>
                    <a:lnTo>
                      <a:pt x="38" y="436"/>
                    </a:lnTo>
                    <a:lnTo>
                      <a:pt x="32" y="431"/>
                    </a:lnTo>
                    <a:lnTo>
                      <a:pt x="23" y="429"/>
                    </a:lnTo>
                    <a:lnTo>
                      <a:pt x="12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6" y="366"/>
                    </a:lnTo>
                    <a:lnTo>
                      <a:pt x="246" y="976"/>
                    </a:lnTo>
                    <a:lnTo>
                      <a:pt x="246" y="1001"/>
                    </a:lnTo>
                    <a:lnTo>
                      <a:pt x="248" y="1019"/>
                    </a:lnTo>
                    <a:lnTo>
                      <a:pt x="250" y="1027"/>
                    </a:lnTo>
                    <a:lnTo>
                      <a:pt x="252" y="1033"/>
                    </a:lnTo>
                    <a:lnTo>
                      <a:pt x="253" y="1038"/>
                    </a:lnTo>
                    <a:lnTo>
                      <a:pt x="256" y="1041"/>
                    </a:lnTo>
                    <a:lnTo>
                      <a:pt x="262" y="1047"/>
                    </a:lnTo>
                    <a:lnTo>
                      <a:pt x="270" y="1051"/>
                    </a:lnTo>
                    <a:lnTo>
                      <a:pt x="282" y="1055"/>
                    </a:lnTo>
                    <a:lnTo>
                      <a:pt x="294" y="1056"/>
                    </a:lnTo>
                    <a:lnTo>
                      <a:pt x="295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408520" y="261720"/>
                <a:ext cx="50040" cy="601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4" y="649"/>
                    </a:lnTo>
                    <a:lnTo>
                      <a:pt x="472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7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0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7" y="163"/>
                    </a:lnTo>
                    <a:lnTo>
                      <a:pt x="501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6" y="567"/>
                    </a:lnTo>
                    <a:lnTo>
                      <a:pt x="28" y="548"/>
                    </a:lnTo>
                    <a:lnTo>
                      <a:pt x="21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4" y="452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2" y="347"/>
                    </a:lnTo>
                    <a:lnTo>
                      <a:pt x="4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1" y="251"/>
                    </a:lnTo>
                    <a:lnTo>
                      <a:pt x="28" y="233"/>
                    </a:lnTo>
                    <a:lnTo>
                      <a:pt x="36" y="215"/>
                    </a:lnTo>
                    <a:lnTo>
                      <a:pt x="43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7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8" y="82"/>
                    </a:lnTo>
                    <a:lnTo>
                      <a:pt x="683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4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6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6" y="431"/>
                    </a:lnTo>
                    <a:lnTo>
                      <a:pt x="803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4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65400" y="261720"/>
                <a:ext cx="49680" cy="5832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1" y="709"/>
                    </a:lnTo>
                    <a:lnTo>
                      <a:pt x="21" y="705"/>
                    </a:lnTo>
                    <a:lnTo>
                      <a:pt x="28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4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8" y="86"/>
                    </a:lnTo>
                    <a:lnTo>
                      <a:pt x="32" y="82"/>
                    </a:lnTo>
                    <a:lnTo>
                      <a:pt x="23" y="79"/>
                    </a:lnTo>
                    <a:lnTo>
                      <a:pt x="12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2"/>
                    </a:lnTo>
                    <a:lnTo>
                      <a:pt x="256" y="70"/>
                    </a:lnTo>
                    <a:lnTo>
                      <a:pt x="268" y="61"/>
                    </a:lnTo>
                    <a:lnTo>
                      <a:pt x="282" y="52"/>
                    </a:lnTo>
                    <a:lnTo>
                      <a:pt x="295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7" y="7"/>
                    </a:lnTo>
                    <a:lnTo>
                      <a:pt x="424" y="3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0" y="0"/>
                    </a:lnTo>
                    <a:lnTo>
                      <a:pt x="514" y="2"/>
                    </a:lnTo>
                    <a:lnTo>
                      <a:pt x="546" y="4"/>
                    </a:lnTo>
                    <a:lnTo>
                      <a:pt x="562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6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0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49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5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7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7" y="668"/>
                    </a:lnTo>
                    <a:lnTo>
                      <a:pt x="557" y="656"/>
                    </a:lnTo>
                    <a:lnTo>
                      <a:pt x="557" y="253"/>
                    </a:lnTo>
                    <a:lnTo>
                      <a:pt x="557" y="240"/>
                    </a:lnTo>
                    <a:lnTo>
                      <a:pt x="555" y="226"/>
                    </a:lnTo>
                    <a:lnTo>
                      <a:pt x="552" y="214"/>
                    </a:lnTo>
                    <a:lnTo>
                      <a:pt x="549" y="203"/>
                    </a:lnTo>
                    <a:lnTo>
                      <a:pt x="543" y="192"/>
                    </a:lnTo>
                    <a:lnTo>
                      <a:pt x="536" y="181"/>
                    </a:lnTo>
                    <a:lnTo>
                      <a:pt x="529" y="171"/>
                    </a:lnTo>
                    <a:lnTo>
                      <a:pt x="520" y="163"/>
                    </a:lnTo>
                    <a:lnTo>
                      <a:pt x="511" y="154"/>
                    </a:lnTo>
                    <a:lnTo>
                      <a:pt x="499" y="147"/>
                    </a:lnTo>
                    <a:lnTo>
                      <a:pt x="488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0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7" y="128"/>
                    </a:lnTo>
                    <a:lnTo>
                      <a:pt x="394" y="129"/>
                    </a:lnTo>
                    <a:lnTo>
                      <a:pt x="381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2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79" y="179"/>
                    </a:lnTo>
                    <a:lnTo>
                      <a:pt x="269" y="187"/>
                    </a:lnTo>
                    <a:lnTo>
                      <a:pt x="261" y="196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7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2" y="688"/>
                    </a:lnTo>
                    <a:lnTo>
                      <a:pt x="253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520480" y="261720"/>
                <a:ext cx="46080" cy="594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6" y="350"/>
                    </a:moveTo>
                    <a:lnTo>
                      <a:pt x="457" y="359"/>
                    </a:lnTo>
                    <a:lnTo>
                      <a:pt x="422" y="367"/>
                    </a:lnTo>
                    <a:lnTo>
                      <a:pt x="389" y="377"/>
                    </a:lnTo>
                    <a:lnTo>
                      <a:pt x="359" y="386"/>
                    </a:lnTo>
                    <a:lnTo>
                      <a:pt x="332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69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29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4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5" y="559"/>
                    </a:lnTo>
                    <a:lnTo>
                      <a:pt x="208" y="570"/>
                    </a:lnTo>
                    <a:lnTo>
                      <a:pt x="211" y="581"/>
                    </a:lnTo>
                    <a:lnTo>
                      <a:pt x="215" y="591"/>
                    </a:lnTo>
                    <a:lnTo>
                      <a:pt x="221" y="599"/>
                    </a:lnTo>
                    <a:lnTo>
                      <a:pt x="227" y="608"/>
                    </a:lnTo>
                    <a:lnTo>
                      <a:pt x="235" y="615"/>
                    </a:lnTo>
                    <a:lnTo>
                      <a:pt x="243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6" y="645"/>
                    </a:lnTo>
                    <a:lnTo>
                      <a:pt x="319" y="645"/>
                    </a:lnTo>
                    <a:lnTo>
                      <a:pt x="338" y="645"/>
                    </a:lnTo>
                    <a:lnTo>
                      <a:pt x="358" y="641"/>
                    </a:lnTo>
                    <a:lnTo>
                      <a:pt x="379" y="636"/>
                    </a:lnTo>
                    <a:lnTo>
                      <a:pt x="398" y="629"/>
                    </a:lnTo>
                    <a:lnTo>
                      <a:pt x="418" y="619"/>
                    </a:lnTo>
                    <a:lnTo>
                      <a:pt x="442" y="604"/>
                    </a:lnTo>
                    <a:lnTo>
                      <a:pt x="467" y="587"/>
                    </a:lnTo>
                    <a:lnTo>
                      <a:pt x="496" y="567"/>
                    </a:lnTo>
                    <a:lnTo>
                      <a:pt x="496" y="350"/>
                    </a:lnTo>
                    <a:close/>
                    <a:moveTo>
                      <a:pt x="509" y="766"/>
                    </a:moveTo>
                    <a:lnTo>
                      <a:pt x="509" y="682"/>
                    </a:lnTo>
                    <a:lnTo>
                      <a:pt x="497" y="694"/>
                    </a:lnTo>
                    <a:lnTo>
                      <a:pt x="485" y="705"/>
                    </a:lnTo>
                    <a:lnTo>
                      <a:pt x="472" y="716"/>
                    </a:lnTo>
                    <a:lnTo>
                      <a:pt x="460" y="726"/>
                    </a:lnTo>
                    <a:lnTo>
                      <a:pt x="446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3" y="756"/>
                    </a:lnTo>
                    <a:lnTo>
                      <a:pt x="389" y="763"/>
                    </a:lnTo>
                    <a:lnTo>
                      <a:pt x="373" y="767"/>
                    </a:lnTo>
                    <a:lnTo>
                      <a:pt x="357" y="771"/>
                    </a:lnTo>
                    <a:lnTo>
                      <a:pt x="339" y="775"/>
                    </a:lnTo>
                    <a:lnTo>
                      <a:pt x="322" y="777"/>
                    </a:lnTo>
                    <a:lnTo>
                      <a:pt x="305" y="779"/>
                    </a:lnTo>
                    <a:lnTo>
                      <a:pt x="285" y="780"/>
                    </a:lnTo>
                    <a:lnTo>
                      <a:pt x="267" y="780"/>
                    </a:lnTo>
                    <a:lnTo>
                      <a:pt x="237" y="780"/>
                    </a:lnTo>
                    <a:lnTo>
                      <a:pt x="209" y="776"/>
                    </a:lnTo>
                    <a:lnTo>
                      <a:pt x="183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2" y="731"/>
                    </a:lnTo>
                    <a:lnTo>
                      <a:pt x="82" y="723"/>
                    </a:lnTo>
                    <a:lnTo>
                      <a:pt x="73" y="716"/>
                    </a:lnTo>
                    <a:lnTo>
                      <a:pt x="64" y="707"/>
                    </a:lnTo>
                    <a:lnTo>
                      <a:pt x="55" y="699"/>
                    </a:lnTo>
                    <a:lnTo>
                      <a:pt x="48" y="690"/>
                    </a:lnTo>
                    <a:lnTo>
                      <a:pt x="41" y="682"/>
                    </a:lnTo>
                    <a:lnTo>
                      <a:pt x="34" y="672"/>
                    </a:lnTo>
                    <a:lnTo>
                      <a:pt x="28" y="662"/>
                    </a:lnTo>
                    <a:lnTo>
                      <a:pt x="22" y="652"/>
                    </a:lnTo>
                    <a:lnTo>
                      <a:pt x="18" y="642"/>
                    </a:lnTo>
                    <a:lnTo>
                      <a:pt x="13" y="631"/>
                    </a:lnTo>
                    <a:lnTo>
                      <a:pt x="10" y="620"/>
                    </a:lnTo>
                    <a:lnTo>
                      <a:pt x="6" y="609"/>
                    </a:lnTo>
                    <a:lnTo>
                      <a:pt x="4" y="597"/>
                    </a:lnTo>
                    <a:lnTo>
                      <a:pt x="0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2" y="375"/>
                    </a:lnTo>
                    <a:lnTo>
                      <a:pt x="104" y="366"/>
                    </a:lnTo>
                    <a:lnTo>
                      <a:pt x="119" y="357"/>
                    </a:lnTo>
                    <a:lnTo>
                      <a:pt x="134" y="349"/>
                    </a:lnTo>
                    <a:lnTo>
                      <a:pt x="151" y="341"/>
                    </a:lnTo>
                    <a:lnTo>
                      <a:pt x="170" y="333"/>
                    </a:lnTo>
                    <a:lnTo>
                      <a:pt x="211" y="317"/>
                    </a:lnTo>
                    <a:lnTo>
                      <a:pt x="259" y="301"/>
                    </a:lnTo>
                    <a:lnTo>
                      <a:pt x="312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09" y="239"/>
                    </a:lnTo>
                    <a:lnTo>
                      <a:pt x="505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3" y="174"/>
                    </a:lnTo>
                    <a:lnTo>
                      <a:pt x="476" y="165"/>
                    </a:lnTo>
                    <a:lnTo>
                      <a:pt x="467" y="156"/>
                    </a:lnTo>
                    <a:lnTo>
                      <a:pt x="457" y="149"/>
                    </a:lnTo>
                    <a:lnTo>
                      <a:pt x="446" y="141"/>
                    </a:lnTo>
                    <a:lnTo>
                      <a:pt x="434" y="136"/>
                    </a:lnTo>
                    <a:lnTo>
                      <a:pt x="421" y="130"/>
                    </a:lnTo>
                    <a:lnTo>
                      <a:pt x="407" y="127"/>
                    </a:lnTo>
                    <a:lnTo>
                      <a:pt x="391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38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4" y="125"/>
                    </a:lnTo>
                    <a:lnTo>
                      <a:pt x="248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5" y="142"/>
                    </a:lnTo>
                    <a:lnTo>
                      <a:pt x="193" y="149"/>
                    </a:lnTo>
                    <a:lnTo>
                      <a:pt x="181" y="155"/>
                    </a:lnTo>
                    <a:lnTo>
                      <a:pt x="171" y="162"/>
                    </a:lnTo>
                    <a:lnTo>
                      <a:pt x="160" y="171"/>
                    </a:lnTo>
                    <a:lnTo>
                      <a:pt x="151" y="179"/>
                    </a:lnTo>
                    <a:lnTo>
                      <a:pt x="143" y="189"/>
                    </a:lnTo>
                    <a:lnTo>
                      <a:pt x="135" y="200"/>
                    </a:lnTo>
                    <a:lnTo>
                      <a:pt x="128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08" y="33"/>
                    </a:lnTo>
                    <a:lnTo>
                      <a:pt x="150" y="25"/>
                    </a:lnTo>
                    <a:lnTo>
                      <a:pt x="189" y="17"/>
                    </a:lnTo>
                    <a:lnTo>
                      <a:pt x="227" y="11"/>
                    </a:lnTo>
                    <a:lnTo>
                      <a:pt x="263" y="6"/>
                    </a:lnTo>
                    <a:lnTo>
                      <a:pt x="299" y="4"/>
                    </a:lnTo>
                    <a:lnTo>
                      <a:pt x="333" y="1"/>
                    </a:lnTo>
                    <a:lnTo>
                      <a:pt x="366" y="0"/>
                    </a:lnTo>
                    <a:lnTo>
                      <a:pt x="408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5" y="16"/>
                    </a:lnTo>
                    <a:lnTo>
                      <a:pt x="530" y="20"/>
                    </a:lnTo>
                    <a:lnTo>
                      <a:pt x="545" y="25"/>
                    </a:lnTo>
                    <a:lnTo>
                      <a:pt x="558" y="30"/>
                    </a:lnTo>
                    <a:lnTo>
                      <a:pt x="571" y="36"/>
                    </a:lnTo>
                    <a:lnTo>
                      <a:pt x="583" y="41"/>
                    </a:lnTo>
                    <a:lnTo>
                      <a:pt x="594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2" y="79"/>
                    </a:lnTo>
                    <a:lnTo>
                      <a:pt x="640" y="88"/>
                    </a:lnTo>
                    <a:lnTo>
                      <a:pt x="647" y="98"/>
                    </a:lnTo>
                    <a:lnTo>
                      <a:pt x="654" y="108"/>
                    </a:lnTo>
                    <a:lnTo>
                      <a:pt x="660" y="119"/>
                    </a:lnTo>
                    <a:lnTo>
                      <a:pt x="665" y="131"/>
                    </a:lnTo>
                    <a:lnTo>
                      <a:pt x="670" y="144"/>
                    </a:lnTo>
                    <a:lnTo>
                      <a:pt x="675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89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2" y="673"/>
                    </a:lnTo>
                    <a:lnTo>
                      <a:pt x="695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3" y="702"/>
                    </a:lnTo>
                    <a:lnTo>
                      <a:pt x="724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09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573400" y="236520"/>
                <a:ext cx="18360" cy="83520"/>
              </a:xfrm>
              <a:custGeom>
                <a:avLst/>
                <a:gdLst/>
                <a:ahLst/>
                <a:rect l="l" t="t" r="r" b="b"/>
                <a:pathLst>
                  <a:path w="296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3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9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6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625240" y="261720"/>
                <a:ext cx="42480" cy="60120"/>
              </a:xfrm>
              <a:custGeom>
                <a:avLst/>
                <a:gdLst/>
                <a:ahLst/>
                <a:rect l="l" t="t" r="r" b="b"/>
                <a:pathLst>
                  <a:path w="683" h="786">
                    <a:moveTo>
                      <a:pt x="120" y="506"/>
                    </a:moveTo>
                    <a:lnTo>
                      <a:pt x="173" y="553"/>
                    </a:lnTo>
                    <a:lnTo>
                      <a:pt x="169" y="565"/>
                    </a:lnTo>
                    <a:lnTo>
                      <a:pt x="168" y="574"/>
                    </a:lnTo>
                    <a:lnTo>
                      <a:pt x="166" y="581"/>
                    </a:lnTo>
                    <a:lnTo>
                      <a:pt x="165" y="589"/>
                    </a:lnTo>
                    <a:lnTo>
                      <a:pt x="166" y="597"/>
                    </a:lnTo>
                    <a:lnTo>
                      <a:pt x="169" y="606"/>
                    </a:lnTo>
                    <a:lnTo>
                      <a:pt x="171" y="614"/>
                    </a:lnTo>
                    <a:lnTo>
                      <a:pt x="176" y="622"/>
                    </a:lnTo>
                    <a:lnTo>
                      <a:pt x="182" y="629"/>
                    </a:lnTo>
                    <a:lnTo>
                      <a:pt x="191" y="635"/>
                    </a:lnTo>
                    <a:lnTo>
                      <a:pt x="200" y="643"/>
                    </a:lnTo>
                    <a:lnTo>
                      <a:pt x="211" y="648"/>
                    </a:lnTo>
                    <a:lnTo>
                      <a:pt x="222" y="654"/>
                    </a:lnTo>
                    <a:lnTo>
                      <a:pt x="235" y="657"/>
                    </a:lnTo>
                    <a:lnTo>
                      <a:pt x="249" y="661"/>
                    </a:lnTo>
                    <a:lnTo>
                      <a:pt x="264" y="665"/>
                    </a:lnTo>
                    <a:lnTo>
                      <a:pt x="280" y="667"/>
                    </a:lnTo>
                    <a:lnTo>
                      <a:pt x="297" y="668"/>
                    </a:lnTo>
                    <a:lnTo>
                      <a:pt x="315" y="670"/>
                    </a:lnTo>
                    <a:lnTo>
                      <a:pt x="334" y="670"/>
                    </a:lnTo>
                    <a:lnTo>
                      <a:pt x="351" y="670"/>
                    </a:lnTo>
                    <a:lnTo>
                      <a:pt x="368" y="668"/>
                    </a:lnTo>
                    <a:lnTo>
                      <a:pt x="383" y="666"/>
                    </a:lnTo>
                    <a:lnTo>
                      <a:pt x="398" y="664"/>
                    </a:lnTo>
                    <a:lnTo>
                      <a:pt x="411" y="660"/>
                    </a:lnTo>
                    <a:lnTo>
                      <a:pt x="424" y="656"/>
                    </a:lnTo>
                    <a:lnTo>
                      <a:pt x="436" y="650"/>
                    </a:lnTo>
                    <a:lnTo>
                      <a:pt x="446" y="645"/>
                    </a:lnTo>
                    <a:lnTo>
                      <a:pt x="456" y="638"/>
                    </a:lnTo>
                    <a:lnTo>
                      <a:pt x="464" y="630"/>
                    </a:lnTo>
                    <a:lnTo>
                      <a:pt x="470" y="623"/>
                    </a:lnTo>
                    <a:lnTo>
                      <a:pt x="476" y="614"/>
                    </a:lnTo>
                    <a:lnTo>
                      <a:pt x="481" y="605"/>
                    </a:lnTo>
                    <a:lnTo>
                      <a:pt x="484" y="596"/>
                    </a:lnTo>
                    <a:lnTo>
                      <a:pt x="486" y="585"/>
                    </a:lnTo>
                    <a:lnTo>
                      <a:pt x="486" y="574"/>
                    </a:lnTo>
                    <a:lnTo>
                      <a:pt x="486" y="567"/>
                    </a:lnTo>
                    <a:lnTo>
                      <a:pt x="484" y="558"/>
                    </a:lnTo>
                    <a:lnTo>
                      <a:pt x="481" y="551"/>
                    </a:lnTo>
                    <a:lnTo>
                      <a:pt x="478" y="543"/>
                    </a:lnTo>
                    <a:lnTo>
                      <a:pt x="473" y="536"/>
                    </a:lnTo>
                    <a:lnTo>
                      <a:pt x="467" y="528"/>
                    </a:lnTo>
                    <a:lnTo>
                      <a:pt x="458" y="521"/>
                    </a:lnTo>
                    <a:lnTo>
                      <a:pt x="451" y="515"/>
                    </a:lnTo>
                    <a:lnTo>
                      <a:pt x="441" y="508"/>
                    </a:lnTo>
                    <a:lnTo>
                      <a:pt x="430" y="501"/>
                    </a:lnTo>
                    <a:lnTo>
                      <a:pt x="417" y="494"/>
                    </a:lnTo>
                    <a:lnTo>
                      <a:pt x="404" y="488"/>
                    </a:lnTo>
                    <a:lnTo>
                      <a:pt x="374" y="476"/>
                    </a:lnTo>
                    <a:lnTo>
                      <a:pt x="341" y="465"/>
                    </a:lnTo>
                    <a:lnTo>
                      <a:pt x="323" y="460"/>
                    </a:lnTo>
                    <a:lnTo>
                      <a:pt x="307" y="455"/>
                    </a:lnTo>
                    <a:lnTo>
                      <a:pt x="292" y="450"/>
                    </a:lnTo>
                    <a:lnTo>
                      <a:pt x="280" y="446"/>
                    </a:lnTo>
                    <a:lnTo>
                      <a:pt x="249" y="435"/>
                    </a:lnTo>
                    <a:lnTo>
                      <a:pt x="221" y="424"/>
                    </a:lnTo>
                    <a:lnTo>
                      <a:pt x="195" y="413"/>
                    </a:lnTo>
                    <a:lnTo>
                      <a:pt x="171" y="401"/>
                    </a:lnTo>
                    <a:lnTo>
                      <a:pt x="150" y="390"/>
                    </a:lnTo>
                    <a:lnTo>
                      <a:pt x="131" y="377"/>
                    </a:lnTo>
                    <a:lnTo>
                      <a:pt x="115" y="365"/>
                    </a:lnTo>
                    <a:lnTo>
                      <a:pt x="100" y="353"/>
                    </a:lnTo>
                    <a:lnTo>
                      <a:pt x="88" y="339"/>
                    </a:lnTo>
                    <a:lnTo>
                      <a:pt x="77" y="326"/>
                    </a:lnTo>
                    <a:lnTo>
                      <a:pt x="68" y="310"/>
                    </a:lnTo>
                    <a:lnTo>
                      <a:pt x="61" y="294"/>
                    </a:lnTo>
                    <a:lnTo>
                      <a:pt x="55" y="278"/>
                    </a:lnTo>
                    <a:lnTo>
                      <a:pt x="51" y="261"/>
                    </a:lnTo>
                    <a:lnTo>
                      <a:pt x="48" y="242"/>
                    </a:lnTo>
                    <a:lnTo>
                      <a:pt x="47" y="223"/>
                    </a:lnTo>
                    <a:lnTo>
                      <a:pt x="47" y="209"/>
                    </a:lnTo>
                    <a:lnTo>
                      <a:pt x="48" y="197"/>
                    </a:lnTo>
                    <a:lnTo>
                      <a:pt x="51" y="185"/>
                    </a:lnTo>
                    <a:lnTo>
                      <a:pt x="53" y="174"/>
                    </a:lnTo>
                    <a:lnTo>
                      <a:pt x="56" y="161"/>
                    </a:lnTo>
                    <a:lnTo>
                      <a:pt x="59" y="150"/>
                    </a:lnTo>
                    <a:lnTo>
                      <a:pt x="63" y="140"/>
                    </a:lnTo>
                    <a:lnTo>
                      <a:pt x="69" y="129"/>
                    </a:lnTo>
                    <a:lnTo>
                      <a:pt x="74" y="120"/>
                    </a:lnTo>
                    <a:lnTo>
                      <a:pt x="80" y="110"/>
                    </a:lnTo>
                    <a:lnTo>
                      <a:pt x="88" y="101"/>
                    </a:lnTo>
                    <a:lnTo>
                      <a:pt x="95" y="91"/>
                    </a:lnTo>
                    <a:lnTo>
                      <a:pt x="104" y="83"/>
                    </a:lnTo>
                    <a:lnTo>
                      <a:pt x="114" y="74"/>
                    </a:lnTo>
                    <a:lnTo>
                      <a:pt x="122" y="67"/>
                    </a:lnTo>
                    <a:lnTo>
                      <a:pt x="133" y="59"/>
                    </a:lnTo>
                    <a:lnTo>
                      <a:pt x="144" y="52"/>
                    </a:lnTo>
                    <a:lnTo>
                      <a:pt x="155" y="46"/>
                    </a:lnTo>
                    <a:lnTo>
                      <a:pt x="168" y="40"/>
                    </a:lnTo>
                    <a:lnTo>
                      <a:pt x="180" y="34"/>
                    </a:lnTo>
                    <a:lnTo>
                      <a:pt x="207" y="24"/>
                    </a:lnTo>
                    <a:lnTo>
                      <a:pt x="235" y="15"/>
                    </a:lnTo>
                    <a:lnTo>
                      <a:pt x="266" y="9"/>
                    </a:lnTo>
                    <a:lnTo>
                      <a:pt x="299" y="4"/>
                    </a:lnTo>
                    <a:lnTo>
                      <a:pt x="334" y="0"/>
                    </a:lnTo>
                    <a:lnTo>
                      <a:pt x="372" y="0"/>
                    </a:lnTo>
                    <a:lnTo>
                      <a:pt x="390" y="0"/>
                    </a:lnTo>
                    <a:lnTo>
                      <a:pt x="410" y="2"/>
                    </a:lnTo>
                    <a:lnTo>
                      <a:pt x="428" y="3"/>
                    </a:lnTo>
                    <a:lnTo>
                      <a:pt x="448" y="5"/>
                    </a:lnTo>
                    <a:lnTo>
                      <a:pt x="467" y="8"/>
                    </a:lnTo>
                    <a:lnTo>
                      <a:pt x="485" y="12"/>
                    </a:lnTo>
                    <a:lnTo>
                      <a:pt x="503" y="15"/>
                    </a:lnTo>
                    <a:lnTo>
                      <a:pt x="522" y="20"/>
                    </a:lnTo>
                    <a:lnTo>
                      <a:pt x="540" y="26"/>
                    </a:lnTo>
                    <a:lnTo>
                      <a:pt x="558" y="32"/>
                    </a:lnTo>
                    <a:lnTo>
                      <a:pt x="576" y="39"/>
                    </a:lnTo>
                    <a:lnTo>
                      <a:pt x="593" y="46"/>
                    </a:lnTo>
                    <a:lnTo>
                      <a:pt x="611" y="53"/>
                    </a:lnTo>
                    <a:lnTo>
                      <a:pt x="628" y="62"/>
                    </a:lnTo>
                    <a:lnTo>
                      <a:pt x="644" y="72"/>
                    </a:lnTo>
                    <a:lnTo>
                      <a:pt x="661" y="82"/>
                    </a:lnTo>
                    <a:lnTo>
                      <a:pt x="560" y="245"/>
                    </a:lnTo>
                    <a:lnTo>
                      <a:pt x="505" y="223"/>
                    </a:lnTo>
                    <a:lnTo>
                      <a:pt x="506" y="218"/>
                    </a:lnTo>
                    <a:lnTo>
                      <a:pt x="507" y="212"/>
                    </a:lnTo>
                    <a:lnTo>
                      <a:pt x="508" y="206"/>
                    </a:lnTo>
                    <a:lnTo>
                      <a:pt x="508" y="194"/>
                    </a:lnTo>
                    <a:lnTo>
                      <a:pt x="507" y="186"/>
                    </a:lnTo>
                    <a:lnTo>
                      <a:pt x="506" y="177"/>
                    </a:lnTo>
                    <a:lnTo>
                      <a:pt x="502" y="170"/>
                    </a:lnTo>
                    <a:lnTo>
                      <a:pt x="499" y="163"/>
                    </a:lnTo>
                    <a:lnTo>
                      <a:pt x="494" y="155"/>
                    </a:lnTo>
                    <a:lnTo>
                      <a:pt x="486" y="149"/>
                    </a:lnTo>
                    <a:lnTo>
                      <a:pt x="479" y="143"/>
                    </a:lnTo>
                    <a:lnTo>
                      <a:pt x="470" y="137"/>
                    </a:lnTo>
                    <a:lnTo>
                      <a:pt x="459" y="132"/>
                    </a:lnTo>
                    <a:lnTo>
                      <a:pt x="448" y="128"/>
                    </a:lnTo>
                    <a:lnTo>
                      <a:pt x="437" y="125"/>
                    </a:lnTo>
                    <a:lnTo>
                      <a:pt x="424" y="121"/>
                    </a:lnTo>
                    <a:lnTo>
                      <a:pt x="410" y="118"/>
                    </a:lnTo>
                    <a:lnTo>
                      <a:pt x="395" y="117"/>
                    </a:lnTo>
                    <a:lnTo>
                      <a:pt x="380" y="116"/>
                    </a:lnTo>
                    <a:lnTo>
                      <a:pt x="363" y="116"/>
                    </a:lnTo>
                    <a:lnTo>
                      <a:pt x="349" y="116"/>
                    </a:lnTo>
                    <a:lnTo>
                      <a:pt x="335" y="117"/>
                    </a:lnTo>
                    <a:lnTo>
                      <a:pt x="321" y="118"/>
                    </a:lnTo>
                    <a:lnTo>
                      <a:pt x="309" y="121"/>
                    </a:lnTo>
                    <a:lnTo>
                      <a:pt x="298" y="123"/>
                    </a:lnTo>
                    <a:lnTo>
                      <a:pt x="287" y="126"/>
                    </a:lnTo>
                    <a:lnTo>
                      <a:pt x="278" y="129"/>
                    </a:lnTo>
                    <a:lnTo>
                      <a:pt x="270" y="134"/>
                    </a:lnTo>
                    <a:lnTo>
                      <a:pt x="262" y="139"/>
                    </a:lnTo>
                    <a:lnTo>
                      <a:pt x="256" y="144"/>
                    </a:lnTo>
                    <a:lnTo>
                      <a:pt x="250" y="150"/>
                    </a:lnTo>
                    <a:lnTo>
                      <a:pt x="246" y="156"/>
                    </a:lnTo>
                    <a:lnTo>
                      <a:pt x="243" y="163"/>
                    </a:lnTo>
                    <a:lnTo>
                      <a:pt x="240" y="170"/>
                    </a:lnTo>
                    <a:lnTo>
                      <a:pt x="238" y="179"/>
                    </a:lnTo>
                    <a:lnTo>
                      <a:pt x="238" y="186"/>
                    </a:lnTo>
                    <a:lnTo>
                      <a:pt x="238" y="192"/>
                    </a:lnTo>
                    <a:lnTo>
                      <a:pt x="240" y="197"/>
                    </a:lnTo>
                    <a:lnTo>
                      <a:pt x="243" y="203"/>
                    </a:lnTo>
                    <a:lnTo>
                      <a:pt x="245" y="208"/>
                    </a:lnTo>
                    <a:lnTo>
                      <a:pt x="250" y="213"/>
                    </a:lnTo>
                    <a:lnTo>
                      <a:pt x="255" y="219"/>
                    </a:lnTo>
                    <a:lnTo>
                      <a:pt x="261" y="224"/>
                    </a:lnTo>
                    <a:lnTo>
                      <a:pt x="269" y="229"/>
                    </a:lnTo>
                    <a:lnTo>
                      <a:pt x="286" y="239"/>
                    </a:lnTo>
                    <a:lnTo>
                      <a:pt x="307" y="249"/>
                    </a:lnTo>
                    <a:lnTo>
                      <a:pt x="333" y="258"/>
                    </a:lnTo>
                    <a:lnTo>
                      <a:pt x="361" y="268"/>
                    </a:lnTo>
                    <a:lnTo>
                      <a:pt x="385" y="276"/>
                    </a:lnTo>
                    <a:lnTo>
                      <a:pt x="408" y="282"/>
                    </a:lnTo>
                    <a:lnTo>
                      <a:pt x="427" y="288"/>
                    </a:lnTo>
                    <a:lnTo>
                      <a:pt x="443" y="294"/>
                    </a:lnTo>
                    <a:lnTo>
                      <a:pt x="475" y="305"/>
                    </a:lnTo>
                    <a:lnTo>
                      <a:pt x="505" y="316"/>
                    </a:lnTo>
                    <a:lnTo>
                      <a:pt x="532" y="328"/>
                    </a:lnTo>
                    <a:lnTo>
                      <a:pt x="556" y="341"/>
                    </a:lnTo>
                    <a:lnTo>
                      <a:pt x="579" y="353"/>
                    </a:lnTo>
                    <a:lnTo>
                      <a:pt x="597" y="365"/>
                    </a:lnTo>
                    <a:lnTo>
                      <a:pt x="614" y="379"/>
                    </a:lnTo>
                    <a:lnTo>
                      <a:pt x="629" y="392"/>
                    </a:lnTo>
                    <a:lnTo>
                      <a:pt x="642" y="407"/>
                    </a:lnTo>
                    <a:lnTo>
                      <a:pt x="652" y="422"/>
                    </a:lnTo>
                    <a:lnTo>
                      <a:pt x="662" y="438"/>
                    </a:lnTo>
                    <a:lnTo>
                      <a:pt x="670" y="455"/>
                    </a:lnTo>
                    <a:lnTo>
                      <a:pt x="676" y="473"/>
                    </a:lnTo>
                    <a:lnTo>
                      <a:pt x="679" y="492"/>
                    </a:lnTo>
                    <a:lnTo>
                      <a:pt x="682" y="511"/>
                    </a:lnTo>
                    <a:lnTo>
                      <a:pt x="683" y="532"/>
                    </a:lnTo>
                    <a:lnTo>
                      <a:pt x="683" y="546"/>
                    </a:lnTo>
                    <a:lnTo>
                      <a:pt x="682" y="559"/>
                    </a:lnTo>
                    <a:lnTo>
                      <a:pt x="679" y="573"/>
                    </a:lnTo>
                    <a:lnTo>
                      <a:pt x="677" y="586"/>
                    </a:lnTo>
                    <a:lnTo>
                      <a:pt x="673" y="598"/>
                    </a:lnTo>
                    <a:lnTo>
                      <a:pt x="670" y="611"/>
                    </a:lnTo>
                    <a:lnTo>
                      <a:pt x="665" y="623"/>
                    </a:lnTo>
                    <a:lnTo>
                      <a:pt x="660" y="634"/>
                    </a:lnTo>
                    <a:lnTo>
                      <a:pt x="654" y="645"/>
                    </a:lnTo>
                    <a:lnTo>
                      <a:pt x="646" y="656"/>
                    </a:lnTo>
                    <a:lnTo>
                      <a:pt x="639" y="667"/>
                    </a:lnTo>
                    <a:lnTo>
                      <a:pt x="630" y="677"/>
                    </a:lnTo>
                    <a:lnTo>
                      <a:pt x="620" y="688"/>
                    </a:lnTo>
                    <a:lnTo>
                      <a:pt x="611" y="698"/>
                    </a:lnTo>
                    <a:lnTo>
                      <a:pt x="599" y="707"/>
                    </a:lnTo>
                    <a:lnTo>
                      <a:pt x="588" y="715"/>
                    </a:lnTo>
                    <a:lnTo>
                      <a:pt x="576" y="724"/>
                    </a:lnTo>
                    <a:lnTo>
                      <a:pt x="564" y="732"/>
                    </a:lnTo>
                    <a:lnTo>
                      <a:pt x="550" y="740"/>
                    </a:lnTo>
                    <a:lnTo>
                      <a:pt x="537" y="747"/>
                    </a:lnTo>
                    <a:lnTo>
                      <a:pt x="523" y="753"/>
                    </a:lnTo>
                    <a:lnTo>
                      <a:pt x="508" y="759"/>
                    </a:lnTo>
                    <a:lnTo>
                      <a:pt x="494" y="764"/>
                    </a:lnTo>
                    <a:lnTo>
                      <a:pt x="478" y="769"/>
                    </a:lnTo>
                    <a:lnTo>
                      <a:pt x="462" y="773"/>
                    </a:lnTo>
                    <a:lnTo>
                      <a:pt x="446" y="777"/>
                    </a:lnTo>
                    <a:lnTo>
                      <a:pt x="428" y="780"/>
                    </a:lnTo>
                    <a:lnTo>
                      <a:pt x="411" y="783"/>
                    </a:lnTo>
                    <a:lnTo>
                      <a:pt x="374" y="785"/>
                    </a:lnTo>
                    <a:lnTo>
                      <a:pt x="336" y="786"/>
                    </a:lnTo>
                    <a:lnTo>
                      <a:pt x="312" y="786"/>
                    </a:lnTo>
                    <a:lnTo>
                      <a:pt x="287" y="785"/>
                    </a:lnTo>
                    <a:lnTo>
                      <a:pt x="262" y="783"/>
                    </a:lnTo>
                    <a:lnTo>
                      <a:pt x="239" y="779"/>
                    </a:lnTo>
                    <a:lnTo>
                      <a:pt x="217" y="775"/>
                    </a:lnTo>
                    <a:lnTo>
                      <a:pt x="195" y="770"/>
                    </a:lnTo>
                    <a:lnTo>
                      <a:pt x="173" y="765"/>
                    </a:lnTo>
                    <a:lnTo>
                      <a:pt x="152" y="758"/>
                    </a:lnTo>
                    <a:lnTo>
                      <a:pt x="132" y="751"/>
                    </a:lnTo>
                    <a:lnTo>
                      <a:pt x="112" y="742"/>
                    </a:lnTo>
                    <a:lnTo>
                      <a:pt x="93" y="732"/>
                    </a:lnTo>
                    <a:lnTo>
                      <a:pt x="73" y="722"/>
                    </a:lnTo>
                    <a:lnTo>
                      <a:pt x="55" y="711"/>
                    </a:lnTo>
                    <a:lnTo>
                      <a:pt x="36" y="699"/>
                    </a:lnTo>
                    <a:lnTo>
                      <a:pt x="18" y="686"/>
                    </a:lnTo>
                    <a:lnTo>
                      <a:pt x="0" y="672"/>
                    </a:lnTo>
                    <a:lnTo>
                      <a:pt x="120" y="50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75280" y="261720"/>
                <a:ext cx="50040" cy="601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2" y="418"/>
                    </a:lnTo>
                    <a:lnTo>
                      <a:pt x="214" y="447"/>
                    </a:lnTo>
                    <a:lnTo>
                      <a:pt x="218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0" y="569"/>
                    </a:lnTo>
                    <a:lnTo>
                      <a:pt x="262" y="587"/>
                    </a:lnTo>
                    <a:lnTo>
                      <a:pt x="270" y="596"/>
                    </a:lnTo>
                    <a:lnTo>
                      <a:pt x="276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8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4" y="650"/>
                    </a:lnTo>
                    <a:lnTo>
                      <a:pt x="364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0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0" y="565"/>
                    </a:lnTo>
                    <a:lnTo>
                      <a:pt x="570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7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6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4" y="192"/>
                    </a:lnTo>
                    <a:lnTo>
                      <a:pt x="530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4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1" y="136"/>
                    </a:lnTo>
                    <a:lnTo>
                      <a:pt x="322" y="143"/>
                    </a:lnTo>
                    <a:lnTo>
                      <a:pt x="314" y="147"/>
                    </a:lnTo>
                    <a:lnTo>
                      <a:pt x="305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6" y="179"/>
                    </a:lnTo>
                    <a:lnTo>
                      <a:pt x="262" y="194"/>
                    </a:lnTo>
                    <a:lnTo>
                      <a:pt x="250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8" y="301"/>
                    </a:lnTo>
                    <a:lnTo>
                      <a:pt x="214" y="328"/>
                    </a:lnTo>
                    <a:lnTo>
                      <a:pt x="212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6" y="783"/>
                    </a:lnTo>
                    <a:lnTo>
                      <a:pt x="316" y="780"/>
                    </a:lnTo>
                    <a:lnTo>
                      <a:pt x="297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1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3" y="632"/>
                    </a:lnTo>
                    <a:lnTo>
                      <a:pt x="63" y="616"/>
                    </a:lnTo>
                    <a:lnTo>
                      <a:pt x="52" y="600"/>
                    </a:lnTo>
                    <a:lnTo>
                      <a:pt x="43" y="584"/>
                    </a:lnTo>
                    <a:lnTo>
                      <a:pt x="35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4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4" y="327"/>
                    </a:lnTo>
                    <a:lnTo>
                      <a:pt x="6" y="307"/>
                    </a:lnTo>
                    <a:lnTo>
                      <a:pt x="10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5" y="215"/>
                    </a:lnTo>
                    <a:lnTo>
                      <a:pt x="43" y="198"/>
                    </a:lnTo>
                    <a:lnTo>
                      <a:pt x="52" y="182"/>
                    </a:lnTo>
                    <a:lnTo>
                      <a:pt x="62" y="166"/>
                    </a:lnTo>
                    <a:lnTo>
                      <a:pt x="73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2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7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3" y="197"/>
                    </a:lnTo>
                    <a:lnTo>
                      <a:pt x="771" y="213"/>
                    </a:lnTo>
                    <a:lnTo>
                      <a:pt x="779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800" y="306"/>
                    </a:lnTo>
                    <a:lnTo>
                      <a:pt x="802" y="326"/>
                    </a:lnTo>
                    <a:lnTo>
                      <a:pt x="805" y="347"/>
                    </a:lnTo>
                    <a:lnTo>
                      <a:pt x="806" y="368"/>
                    </a:lnTo>
                    <a:lnTo>
                      <a:pt x="807" y="390"/>
                    </a:lnTo>
                    <a:lnTo>
                      <a:pt x="806" y="411"/>
                    </a:lnTo>
                    <a:lnTo>
                      <a:pt x="805" y="431"/>
                    </a:lnTo>
                    <a:lnTo>
                      <a:pt x="802" y="452"/>
                    </a:lnTo>
                    <a:lnTo>
                      <a:pt x="800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9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0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7" y="770"/>
                    </a:lnTo>
                    <a:lnTo>
                      <a:pt x="507" y="775"/>
                    </a:lnTo>
                    <a:lnTo>
                      <a:pt x="486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31800" y="236520"/>
                <a:ext cx="49680" cy="83520"/>
              </a:xfrm>
              <a:custGeom>
                <a:avLst/>
                <a:gdLst/>
                <a:ahLst/>
                <a:rect l="l" t="t" r="r" b="b"/>
                <a:pathLst>
                  <a:path w="798" h="1097">
                    <a:moveTo>
                      <a:pt x="245" y="978"/>
                    </a:moveTo>
                    <a:lnTo>
                      <a:pt x="254" y="978"/>
                    </a:lnTo>
                    <a:lnTo>
                      <a:pt x="265" y="978"/>
                    </a:lnTo>
                    <a:lnTo>
                      <a:pt x="276" y="979"/>
                    </a:lnTo>
                    <a:lnTo>
                      <a:pt x="283" y="979"/>
                    </a:lnTo>
                    <a:lnTo>
                      <a:pt x="320" y="978"/>
                    </a:lnTo>
                    <a:lnTo>
                      <a:pt x="353" y="974"/>
                    </a:lnTo>
                    <a:lnTo>
                      <a:pt x="370" y="972"/>
                    </a:lnTo>
                    <a:lnTo>
                      <a:pt x="385" y="970"/>
                    </a:lnTo>
                    <a:lnTo>
                      <a:pt x="401" y="966"/>
                    </a:lnTo>
                    <a:lnTo>
                      <a:pt x="416" y="962"/>
                    </a:lnTo>
                    <a:lnTo>
                      <a:pt x="429" y="957"/>
                    </a:lnTo>
                    <a:lnTo>
                      <a:pt x="443" y="952"/>
                    </a:lnTo>
                    <a:lnTo>
                      <a:pt x="456" y="946"/>
                    </a:lnTo>
                    <a:lnTo>
                      <a:pt x="469" y="940"/>
                    </a:lnTo>
                    <a:lnTo>
                      <a:pt x="481" y="933"/>
                    </a:lnTo>
                    <a:lnTo>
                      <a:pt x="492" y="925"/>
                    </a:lnTo>
                    <a:lnTo>
                      <a:pt x="503" y="918"/>
                    </a:lnTo>
                    <a:lnTo>
                      <a:pt x="514" y="909"/>
                    </a:lnTo>
                    <a:lnTo>
                      <a:pt x="523" y="901"/>
                    </a:lnTo>
                    <a:lnTo>
                      <a:pt x="533" y="891"/>
                    </a:lnTo>
                    <a:lnTo>
                      <a:pt x="541" y="881"/>
                    </a:lnTo>
                    <a:lnTo>
                      <a:pt x="549" y="870"/>
                    </a:lnTo>
                    <a:lnTo>
                      <a:pt x="556" y="860"/>
                    </a:lnTo>
                    <a:lnTo>
                      <a:pt x="563" y="848"/>
                    </a:lnTo>
                    <a:lnTo>
                      <a:pt x="570" y="837"/>
                    </a:lnTo>
                    <a:lnTo>
                      <a:pt x="575" y="825"/>
                    </a:lnTo>
                    <a:lnTo>
                      <a:pt x="579" y="811"/>
                    </a:lnTo>
                    <a:lnTo>
                      <a:pt x="583" y="799"/>
                    </a:lnTo>
                    <a:lnTo>
                      <a:pt x="587" y="785"/>
                    </a:lnTo>
                    <a:lnTo>
                      <a:pt x="589" y="771"/>
                    </a:lnTo>
                    <a:lnTo>
                      <a:pt x="592" y="756"/>
                    </a:lnTo>
                    <a:lnTo>
                      <a:pt x="593" y="741"/>
                    </a:lnTo>
                    <a:lnTo>
                      <a:pt x="594" y="725"/>
                    </a:lnTo>
                    <a:lnTo>
                      <a:pt x="594" y="709"/>
                    </a:lnTo>
                    <a:lnTo>
                      <a:pt x="594" y="682"/>
                    </a:lnTo>
                    <a:lnTo>
                      <a:pt x="592" y="655"/>
                    </a:lnTo>
                    <a:lnTo>
                      <a:pt x="588" y="631"/>
                    </a:lnTo>
                    <a:lnTo>
                      <a:pt x="583" y="607"/>
                    </a:lnTo>
                    <a:lnTo>
                      <a:pt x="576" y="585"/>
                    </a:lnTo>
                    <a:lnTo>
                      <a:pt x="568" y="566"/>
                    </a:lnTo>
                    <a:lnTo>
                      <a:pt x="559" y="547"/>
                    </a:lnTo>
                    <a:lnTo>
                      <a:pt x="547" y="530"/>
                    </a:lnTo>
                    <a:lnTo>
                      <a:pt x="535" y="514"/>
                    </a:lnTo>
                    <a:lnTo>
                      <a:pt x="522" y="500"/>
                    </a:lnTo>
                    <a:lnTo>
                      <a:pt x="507" y="489"/>
                    </a:lnTo>
                    <a:lnTo>
                      <a:pt x="492" y="480"/>
                    </a:lnTo>
                    <a:lnTo>
                      <a:pt x="475" y="472"/>
                    </a:lnTo>
                    <a:lnTo>
                      <a:pt x="458" y="467"/>
                    </a:lnTo>
                    <a:lnTo>
                      <a:pt x="439" y="465"/>
                    </a:lnTo>
                    <a:lnTo>
                      <a:pt x="420" y="464"/>
                    </a:lnTo>
                    <a:lnTo>
                      <a:pt x="396" y="465"/>
                    </a:lnTo>
                    <a:lnTo>
                      <a:pt x="373" y="467"/>
                    </a:lnTo>
                    <a:lnTo>
                      <a:pt x="351" y="471"/>
                    </a:lnTo>
                    <a:lnTo>
                      <a:pt x="330" y="477"/>
                    </a:lnTo>
                    <a:lnTo>
                      <a:pt x="309" y="485"/>
                    </a:lnTo>
                    <a:lnTo>
                      <a:pt x="288" y="493"/>
                    </a:lnTo>
                    <a:lnTo>
                      <a:pt x="266" y="504"/>
                    </a:lnTo>
                    <a:lnTo>
                      <a:pt x="245" y="516"/>
                    </a:lnTo>
                    <a:lnTo>
                      <a:pt x="245" y="978"/>
                    </a:lnTo>
                    <a:close/>
                    <a:moveTo>
                      <a:pt x="235" y="396"/>
                    </a:moveTo>
                    <a:lnTo>
                      <a:pt x="262" y="380"/>
                    </a:lnTo>
                    <a:lnTo>
                      <a:pt x="290" y="367"/>
                    </a:lnTo>
                    <a:lnTo>
                      <a:pt x="321" y="356"/>
                    </a:lnTo>
                    <a:lnTo>
                      <a:pt x="351" y="347"/>
                    </a:lnTo>
                    <a:lnTo>
                      <a:pt x="383" y="340"/>
                    </a:lnTo>
                    <a:lnTo>
                      <a:pt x="415" y="335"/>
                    </a:lnTo>
                    <a:lnTo>
                      <a:pt x="447" y="331"/>
                    </a:lnTo>
                    <a:lnTo>
                      <a:pt x="480" y="330"/>
                    </a:lnTo>
                    <a:lnTo>
                      <a:pt x="498" y="331"/>
                    </a:lnTo>
                    <a:lnTo>
                      <a:pt x="515" y="331"/>
                    </a:lnTo>
                    <a:lnTo>
                      <a:pt x="533" y="333"/>
                    </a:lnTo>
                    <a:lnTo>
                      <a:pt x="550" y="336"/>
                    </a:lnTo>
                    <a:lnTo>
                      <a:pt x="566" y="340"/>
                    </a:lnTo>
                    <a:lnTo>
                      <a:pt x="582" y="343"/>
                    </a:lnTo>
                    <a:lnTo>
                      <a:pt x="598" y="348"/>
                    </a:lnTo>
                    <a:lnTo>
                      <a:pt x="613" y="354"/>
                    </a:lnTo>
                    <a:lnTo>
                      <a:pt x="626" y="361"/>
                    </a:lnTo>
                    <a:lnTo>
                      <a:pt x="641" y="368"/>
                    </a:lnTo>
                    <a:lnTo>
                      <a:pt x="654" y="375"/>
                    </a:lnTo>
                    <a:lnTo>
                      <a:pt x="667" y="384"/>
                    </a:lnTo>
                    <a:lnTo>
                      <a:pt x="679" y="394"/>
                    </a:lnTo>
                    <a:lnTo>
                      <a:pt x="691" y="403"/>
                    </a:lnTo>
                    <a:lnTo>
                      <a:pt x="702" y="415"/>
                    </a:lnTo>
                    <a:lnTo>
                      <a:pt x="714" y="427"/>
                    </a:lnTo>
                    <a:lnTo>
                      <a:pt x="723" y="439"/>
                    </a:lnTo>
                    <a:lnTo>
                      <a:pt x="733" y="451"/>
                    </a:lnTo>
                    <a:lnTo>
                      <a:pt x="743" y="465"/>
                    </a:lnTo>
                    <a:lnTo>
                      <a:pt x="750" y="480"/>
                    </a:lnTo>
                    <a:lnTo>
                      <a:pt x="759" y="494"/>
                    </a:lnTo>
                    <a:lnTo>
                      <a:pt x="765" y="509"/>
                    </a:lnTo>
                    <a:lnTo>
                      <a:pt x="771" y="525"/>
                    </a:lnTo>
                    <a:lnTo>
                      <a:pt x="777" y="541"/>
                    </a:lnTo>
                    <a:lnTo>
                      <a:pt x="782" y="558"/>
                    </a:lnTo>
                    <a:lnTo>
                      <a:pt x="787" y="575"/>
                    </a:lnTo>
                    <a:lnTo>
                      <a:pt x="791" y="593"/>
                    </a:lnTo>
                    <a:lnTo>
                      <a:pt x="793" y="611"/>
                    </a:lnTo>
                    <a:lnTo>
                      <a:pt x="796" y="631"/>
                    </a:lnTo>
                    <a:lnTo>
                      <a:pt x="797" y="650"/>
                    </a:lnTo>
                    <a:lnTo>
                      <a:pt x="798" y="670"/>
                    </a:lnTo>
                    <a:lnTo>
                      <a:pt x="798" y="691"/>
                    </a:lnTo>
                    <a:lnTo>
                      <a:pt x="798" y="713"/>
                    </a:lnTo>
                    <a:lnTo>
                      <a:pt x="797" y="735"/>
                    </a:lnTo>
                    <a:lnTo>
                      <a:pt x="795" y="757"/>
                    </a:lnTo>
                    <a:lnTo>
                      <a:pt x="791" y="777"/>
                    </a:lnTo>
                    <a:lnTo>
                      <a:pt x="786" y="798"/>
                    </a:lnTo>
                    <a:lnTo>
                      <a:pt x="781" y="817"/>
                    </a:lnTo>
                    <a:lnTo>
                      <a:pt x="775" y="837"/>
                    </a:lnTo>
                    <a:lnTo>
                      <a:pt x="768" y="855"/>
                    </a:lnTo>
                    <a:lnTo>
                      <a:pt x="759" y="873"/>
                    </a:lnTo>
                    <a:lnTo>
                      <a:pt x="750" y="891"/>
                    </a:lnTo>
                    <a:lnTo>
                      <a:pt x="739" y="908"/>
                    </a:lnTo>
                    <a:lnTo>
                      <a:pt x="728" y="924"/>
                    </a:lnTo>
                    <a:lnTo>
                      <a:pt x="716" y="940"/>
                    </a:lnTo>
                    <a:lnTo>
                      <a:pt x="702" y="955"/>
                    </a:lnTo>
                    <a:lnTo>
                      <a:pt x="689" y="971"/>
                    </a:lnTo>
                    <a:lnTo>
                      <a:pt x="674" y="984"/>
                    </a:lnTo>
                    <a:lnTo>
                      <a:pt x="658" y="998"/>
                    </a:lnTo>
                    <a:lnTo>
                      <a:pt x="641" y="1011"/>
                    </a:lnTo>
                    <a:lnTo>
                      <a:pt x="624" y="1022"/>
                    </a:lnTo>
                    <a:lnTo>
                      <a:pt x="607" y="1033"/>
                    </a:lnTo>
                    <a:lnTo>
                      <a:pt x="587" y="1044"/>
                    </a:lnTo>
                    <a:lnTo>
                      <a:pt x="568" y="1053"/>
                    </a:lnTo>
                    <a:lnTo>
                      <a:pt x="549" y="1062"/>
                    </a:lnTo>
                    <a:lnTo>
                      <a:pt x="528" y="1069"/>
                    </a:lnTo>
                    <a:lnTo>
                      <a:pt x="507" y="1076"/>
                    </a:lnTo>
                    <a:lnTo>
                      <a:pt x="485" y="1081"/>
                    </a:lnTo>
                    <a:lnTo>
                      <a:pt x="463" y="1086"/>
                    </a:lnTo>
                    <a:lnTo>
                      <a:pt x="439" y="1090"/>
                    </a:lnTo>
                    <a:lnTo>
                      <a:pt x="416" y="1094"/>
                    </a:lnTo>
                    <a:lnTo>
                      <a:pt x="391" y="1096"/>
                    </a:lnTo>
                    <a:lnTo>
                      <a:pt x="367" y="1097"/>
                    </a:lnTo>
                    <a:lnTo>
                      <a:pt x="341" y="1097"/>
                    </a:lnTo>
                    <a:lnTo>
                      <a:pt x="0" y="1097"/>
                    </a:ln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6" y="1008"/>
                    </a:lnTo>
                    <a:lnTo>
                      <a:pt x="48" y="1000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9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87960" y="261720"/>
                <a:ext cx="29880" cy="5832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5" y="706"/>
                    </a:lnTo>
                    <a:lnTo>
                      <a:pt x="33" y="700"/>
                    </a:lnTo>
                    <a:lnTo>
                      <a:pt x="40" y="694"/>
                    </a:lnTo>
                    <a:lnTo>
                      <a:pt x="42" y="690"/>
                    </a:lnTo>
                    <a:lnTo>
                      <a:pt x="45" y="685"/>
                    </a:lnTo>
                    <a:lnTo>
                      <a:pt x="46" y="679"/>
                    </a:lnTo>
                    <a:lnTo>
                      <a:pt x="48" y="672"/>
                    </a:lnTo>
                    <a:lnTo>
                      <a:pt x="49" y="653"/>
                    </a:lnTo>
                    <a:lnTo>
                      <a:pt x="51" y="631"/>
                    </a:lnTo>
                    <a:lnTo>
                      <a:pt x="51" y="623"/>
                    </a:lnTo>
                    <a:lnTo>
                      <a:pt x="51" y="133"/>
                    </a:lnTo>
                    <a:lnTo>
                      <a:pt x="49" y="119"/>
                    </a:lnTo>
                    <a:lnTo>
                      <a:pt x="48" y="107"/>
                    </a:lnTo>
                    <a:lnTo>
                      <a:pt x="45" y="98"/>
                    </a:lnTo>
                    <a:lnTo>
                      <a:pt x="40" y="91"/>
                    </a:lnTo>
                    <a:lnTo>
                      <a:pt x="32" y="86"/>
                    </a:lnTo>
                    <a:lnTo>
                      <a:pt x="24" y="84"/>
                    </a:lnTo>
                    <a:lnTo>
                      <a:pt x="14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5" y="21"/>
                    </a:lnTo>
                    <a:lnTo>
                      <a:pt x="235" y="106"/>
                    </a:lnTo>
                    <a:lnTo>
                      <a:pt x="243" y="93"/>
                    </a:lnTo>
                    <a:lnTo>
                      <a:pt x="252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1" y="50"/>
                    </a:lnTo>
                    <a:lnTo>
                      <a:pt x="291" y="42"/>
                    </a:lnTo>
                    <a:lnTo>
                      <a:pt x="302" y="33"/>
                    </a:lnTo>
                    <a:lnTo>
                      <a:pt x="313" y="27"/>
                    </a:lnTo>
                    <a:lnTo>
                      <a:pt x="325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2" y="7"/>
                    </a:lnTo>
                    <a:lnTo>
                      <a:pt x="374" y="4"/>
                    </a:lnTo>
                    <a:lnTo>
                      <a:pt x="388" y="2"/>
                    </a:lnTo>
                    <a:lnTo>
                      <a:pt x="402" y="1"/>
                    </a:lnTo>
                    <a:lnTo>
                      <a:pt x="417" y="0"/>
                    </a:lnTo>
                    <a:lnTo>
                      <a:pt x="436" y="1"/>
                    </a:lnTo>
                    <a:lnTo>
                      <a:pt x="452" y="1"/>
                    </a:lnTo>
                    <a:lnTo>
                      <a:pt x="466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1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20" y="176"/>
                    </a:lnTo>
                    <a:lnTo>
                      <a:pt x="417" y="169"/>
                    </a:lnTo>
                    <a:lnTo>
                      <a:pt x="412" y="165"/>
                    </a:lnTo>
                    <a:lnTo>
                      <a:pt x="409" y="160"/>
                    </a:lnTo>
                    <a:lnTo>
                      <a:pt x="404" y="156"/>
                    </a:lnTo>
                    <a:lnTo>
                      <a:pt x="399" y="152"/>
                    </a:lnTo>
                    <a:lnTo>
                      <a:pt x="393" y="150"/>
                    </a:lnTo>
                    <a:lnTo>
                      <a:pt x="386" y="147"/>
                    </a:lnTo>
                    <a:lnTo>
                      <a:pt x="372" y="144"/>
                    </a:lnTo>
                    <a:lnTo>
                      <a:pt x="356" y="144"/>
                    </a:lnTo>
                    <a:lnTo>
                      <a:pt x="343" y="144"/>
                    </a:lnTo>
                    <a:lnTo>
                      <a:pt x="334" y="146"/>
                    </a:lnTo>
                    <a:lnTo>
                      <a:pt x="323" y="149"/>
                    </a:lnTo>
                    <a:lnTo>
                      <a:pt x="313" y="154"/>
                    </a:lnTo>
                    <a:lnTo>
                      <a:pt x="304" y="158"/>
                    </a:lnTo>
                    <a:lnTo>
                      <a:pt x="294" y="165"/>
                    </a:lnTo>
                    <a:lnTo>
                      <a:pt x="286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5" y="203"/>
                    </a:lnTo>
                    <a:lnTo>
                      <a:pt x="259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9" y="253"/>
                    </a:lnTo>
                    <a:lnTo>
                      <a:pt x="247" y="268"/>
                    </a:lnTo>
                    <a:lnTo>
                      <a:pt x="247" y="282"/>
                    </a:lnTo>
                    <a:lnTo>
                      <a:pt x="247" y="632"/>
                    </a:lnTo>
                    <a:lnTo>
                      <a:pt x="247" y="657"/>
                    </a:lnTo>
                    <a:lnTo>
                      <a:pt x="250" y="675"/>
                    </a:lnTo>
                    <a:lnTo>
                      <a:pt x="251" y="683"/>
                    </a:lnTo>
                    <a:lnTo>
                      <a:pt x="252" y="689"/>
                    </a:lnTo>
                    <a:lnTo>
                      <a:pt x="255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7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822160" y="261720"/>
                <a:ext cx="45360" cy="6012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9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1" y="741"/>
                    </a:lnTo>
                    <a:lnTo>
                      <a:pt x="636" y="753"/>
                    </a:lnTo>
                    <a:lnTo>
                      <a:pt x="602" y="764"/>
                    </a:lnTo>
                    <a:lnTo>
                      <a:pt x="569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1" y="786"/>
                    </a:lnTo>
                    <a:lnTo>
                      <a:pt x="406" y="786"/>
                    </a:lnTo>
                    <a:lnTo>
                      <a:pt x="382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3" y="777"/>
                    </a:lnTo>
                    <a:lnTo>
                      <a:pt x="292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2" y="752"/>
                    </a:lnTo>
                    <a:lnTo>
                      <a:pt x="213" y="745"/>
                    </a:lnTo>
                    <a:lnTo>
                      <a:pt x="195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5" y="678"/>
                    </a:lnTo>
                    <a:lnTo>
                      <a:pt x="101" y="665"/>
                    </a:lnTo>
                    <a:lnTo>
                      <a:pt x="88" y="650"/>
                    </a:lnTo>
                    <a:lnTo>
                      <a:pt x="77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6" y="586"/>
                    </a:lnTo>
                    <a:lnTo>
                      <a:pt x="37" y="569"/>
                    </a:lnTo>
                    <a:lnTo>
                      <a:pt x="30" y="551"/>
                    </a:lnTo>
                    <a:lnTo>
                      <a:pt x="22" y="532"/>
                    </a:lnTo>
                    <a:lnTo>
                      <a:pt x="16" y="513"/>
                    </a:lnTo>
                    <a:lnTo>
                      <a:pt x="11" y="493"/>
                    </a:lnTo>
                    <a:lnTo>
                      <a:pt x="8" y="472"/>
                    </a:lnTo>
                    <a:lnTo>
                      <a:pt x="5" y="450"/>
                    </a:lnTo>
                    <a:lnTo>
                      <a:pt x="3" y="428"/>
                    </a:lnTo>
                    <a:lnTo>
                      <a:pt x="2" y="406"/>
                    </a:lnTo>
                    <a:lnTo>
                      <a:pt x="0" y="382"/>
                    </a:lnTo>
                    <a:lnTo>
                      <a:pt x="2" y="363"/>
                    </a:lnTo>
                    <a:lnTo>
                      <a:pt x="3" y="342"/>
                    </a:lnTo>
                    <a:lnTo>
                      <a:pt x="4" y="322"/>
                    </a:lnTo>
                    <a:lnTo>
                      <a:pt x="8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9"/>
                    </a:lnTo>
                    <a:lnTo>
                      <a:pt x="27" y="231"/>
                    </a:lnTo>
                    <a:lnTo>
                      <a:pt x="34" y="214"/>
                    </a:lnTo>
                    <a:lnTo>
                      <a:pt x="42" y="198"/>
                    </a:lnTo>
                    <a:lnTo>
                      <a:pt x="51" y="182"/>
                    </a:lnTo>
                    <a:lnTo>
                      <a:pt x="59" y="166"/>
                    </a:lnTo>
                    <a:lnTo>
                      <a:pt x="70" y="152"/>
                    </a:lnTo>
                    <a:lnTo>
                      <a:pt x="81" y="137"/>
                    </a:lnTo>
                    <a:lnTo>
                      <a:pt x="93" y="122"/>
                    </a:lnTo>
                    <a:lnTo>
                      <a:pt x="106" y="109"/>
                    </a:lnTo>
                    <a:lnTo>
                      <a:pt x="120" y="95"/>
                    </a:lnTo>
                    <a:lnTo>
                      <a:pt x="133" y="83"/>
                    </a:lnTo>
                    <a:lnTo>
                      <a:pt x="147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4" y="28"/>
                    </a:lnTo>
                    <a:lnTo>
                      <a:pt x="241" y="21"/>
                    </a:lnTo>
                    <a:lnTo>
                      <a:pt x="259" y="15"/>
                    </a:lnTo>
                    <a:lnTo>
                      <a:pt x="276" y="10"/>
                    </a:lnTo>
                    <a:lnTo>
                      <a:pt x="294" y="7"/>
                    </a:lnTo>
                    <a:lnTo>
                      <a:pt x="313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1" y="0"/>
                    </a:lnTo>
                    <a:lnTo>
                      <a:pt x="390" y="0"/>
                    </a:lnTo>
                    <a:lnTo>
                      <a:pt x="409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9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7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0" y="57"/>
                    </a:lnTo>
                    <a:lnTo>
                      <a:pt x="583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4" y="115"/>
                    </a:lnTo>
                    <a:lnTo>
                      <a:pt x="645" y="128"/>
                    </a:lnTo>
                    <a:lnTo>
                      <a:pt x="655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2" y="188"/>
                    </a:lnTo>
                    <a:lnTo>
                      <a:pt x="689" y="206"/>
                    </a:lnTo>
                    <a:lnTo>
                      <a:pt x="695" y="223"/>
                    </a:lnTo>
                    <a:lnTo>
                      <a:pt x="703" y="240"/>
                    </a:lnTo>
                    <a:lnTo>
                      <a:pt x="708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4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3"/>
                    </a:lnTo>
                    <a:lnTo>
                      <a:pt x="218" y="470"/>
                    </a:lnTo>
                    <a:lnTo>
                      <a:pt x="227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8" y="542"/>
                    </a:lnTo>
                    <a:lnTo>
                      <a:pt x="254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6" y="583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1" y="614"/>
                    </a:lnTo>
                    <a:lnTo>
                      <a:pt x="321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7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89" y="655"/>
                    </a:lnTo>
                    <a:lnTo>
                      <a:pt x="506" y="652"/>
                    </a:lnTo>
                    <a:lnTo>
                      <a:pt x="522" y="649"/>
                    </a:lnTo>
                    <a:lnTo>
                      <a:pt x="537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1" y="611"/>
                    </a:lnTo>
                    <a:lnTo>
                      <a:pt x="610" y="601"/>
                    </a:lnTo>
                    <a:lnTo>
                      <a:pt x="619" y="591"/>
                    </a:lnTo>
                    <a:lnTo>
                      <a:pt x="628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9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8"/>
                    </a:lnTo>
                    <a:lnTo>
                      <a:pt x="479" y="177"/>
                    </a:lnTo>
                    <a:lnTo>
                      <a:pt x="471" y="167"/>
                    </a:lnTo>
                    <a:lnTo>
                      <a:pt x="462" y="159"/>
                    </a:lnTo>
                    <a:lnTo>
                      <a:pt x="452" y="152"/>
                    </a:lnTo>
                    <a:lnTo>
                      <a:pt x="441" y="145"/>
                    </a:lnTo>
                    <a:lnTo>
                      <a:pt x="430" y="139"/>
                    </a:lnTo>
                    <a:lnTo>
                      <a:pt x="417" y="136"/>
                    </a:lnTo>
                    <a:lnTo>
                      <a:pt x="404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2"/>
                    </a:lnTo>
                    <a:lnTo>
                      <a:pt x="276" y="160"/>
                    </a:lnTo>
                    <a:lnTo>
                      <a:pt x="266" y="169"/>
                    </a:lnTo>
                    <a:lnTo>
                      <a:pt x="256" y="179"/>
                    </a:lnTo>
                    <a:lnTo>
                      <a:pt x="248" y="190"/>
                    </a:lnTo>
                    <a:lnTo>
                      <a:pt x="240" y="202"/>
                    </a:lnTo>
                    <a:lnTo>
                      <a:pt x="233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2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902800" y="236520"/>
                <a:ext cx="18360" cy="83520"/>
              </a:xfrm>
              <a:custGeom>
                <a:avLst/>
                <a:gdLst/>
                <a:ahLst/>
                <a:rect l="l" t="t" r="r" b="b"/>
                <a:pathLst>
                  <a:path w="295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1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2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8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1" y="1037"/>
                    </a:lnTo>
                    <a:lnTo>
                      <a:pt x="281" y="1041"/>
                    </a:lnTo>
                    <a:lnTo>
                      <a:pt x="295" y="1042"/>
                    </a:lnTo>
                    <a:lnTo>
                      <a:pt x="295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26920" y="261720"/>
                <a:ext cx="46080" cy="594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9" y="359"/>
                    </a:lnTo>
                    <a:lnTo>
                      <a:pt x="423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5"/>
                    </a:lnTo>
                    <a:lnTo>
                      <a:pt x="310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4" y="489"/>
                    </a:lnTo>
                    <a:lnTo>
                      <a:pt x="209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6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3" y="581"/>
                    </a:lnTo>
                    <a:lnTo>
                      <a:pt x="217" y="591"/>
                    </a:lnTo>
                    <a:lnTo>
                      <a:pt x="223" y="599"/>
                    </a:lnTo>
                    <a:lnTo>
                      <a:pt x="229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3" y="637"/>
                    </a:lnTo>
                    <a:lnTo>
                      <a:pt x="283" y="641"/>
                    </a:lnTo>
                    <a:lnTo>
                      <a:pt x="295" y="643"/>
                    </a:lnTo>
                    <a:lnTo>
                      <a:pt x="308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20" y="750"/>
                    </a:lnTo>
                    <a:lnTo>
                      <a:pt x="405" y="756"/>
                    </a:lnTo>
                    <a:lnTo>
                      <a:pt x="390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8" y="780"/>
                    </a:lnTo>
                    <a:lnTo>
                      <a:pt x="239" y="780"/>
                    </a:lnTo>
                    <a:lnTo>
                      <a:pt x="210" y="776"/>
                    </a:lnTo>
                    <a:lnTo>
                      <a:pt x="185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3" y="738"/>
                    </a:lnTo>
                    <a:lnTo>
                      <a:pt x="94" y="731"/>
                    </a:lnTo>
                    <a:lnTo>
                      <a:pt x="84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6" y="672"/>
                    </a:lnTo>
                    <a:lnTo>
                      <a:pt x="30" y="662"/>
                    </a:lnTo>
                    <a:lnTo>
                      <a:pt x="23" y="652"/>
                    </a:lnTo>
                    <a:lnTo>
                      <a:pt x="19" y="642"/>
                    </a:lnTo>
                    <a:lnTo>
                      <a:pt x="15" y="631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1" y="534"/>
                    </a:lnTo>
                    <a:lnTo>
                      <a:pt x="3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5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3" y="433"/>
                    </a:lnTo>
                    <a:lnTo>
                      <a:pt x="42" y="422"/>
                    </a:lnTo>
                    <a:lnTo>
                      <a:pt x="51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4" y="375"/>
                    </a:lnTo>
                    <a:lnTo>
                      <a:pt x="106" y="366"/>
                    </a:lnTo>
                    <a:lnTo>
                      <a:pt x="119" y="357"/>
                    </a:lnTo>
                    <a:lnTo>
                      <a:pt x="135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3" y="317"/>
                    </a:lnTo>
                    <a:lnTo>
                      <a:pt x="260" y="301"/>
                    </a:lnTo>
                    <a:lnTo>
                      <a:pt x="314" y="285"/>
                    </a:lnTo>
                    <a:lnTo>
                      <a:pt x="373" y="269"/>
                    </a:lnTo>
                    <a:lnTo>
                      <a:pt x="439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5"/>
                    </a:lnTo>
                    <a:lnTo>
                      <a:pt x="485" y="174"/>
                    </a:lnTo>
                    <a:lnTo>
                      <a:pt x="477" y="165"/>
                    </a:lnTo>
                    <a:lnTo>
                      <a:pt x="467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6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2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1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50" y="128"/>
                    </a:lnTo>
                    <a:lnTo>
                      <a:pt x="234" y="133"/>
                    </a:lnTo>
                    <a:lnTo>
                      <a:pt x="220" y="136"/>
                    </a:lnTo>
                    <a:lnTo>
                      <a:pt x="207" y="142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1" y="179"/>
                    </a:lnTo>
                    <a:lnTo>
                      <a:pt x="144" y="189"/>
                    </a:lnTo>
                    <a:lnTo>
                      <a:pt x="135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1" y="25"/>
                    </a:lnTo>
                    <a:lnTo>
                      <a:pt x="191" y="17"/>
                    </a:lnTo>
                    <a:lnTo>
                      <a:pt x="229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7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60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4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6" y="108"/>
                    </a:lnTo>
                    <a:lnTo>
                      <a:pt x="662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7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6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1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8929080" y="330480"/>
              <a:ext cx="207360" cy="88200"/>
              <a:chOff x="8929080" y="330480"/>
              <a:chExt cx="207360" cy="88200"/>
            </a:xfrm>
          </p:grpSpPr>
          <p:sp>
            <p:nvSpPr>
              <p:cNvPr id="128" name=""/>
              <p:cNvSpPr/>
              <p:nvPr/>
            </p:nvSpPr>
            <p:spPr>
              <a:xfrm>
                <a:off x="8929080" y="330480"/>
                <a:ext cx="50760" cy="88200"/>
              </a:xfrm>
              <a:custGeom>
                <a:avLst/>
                <a:gdLst/>
                <a:ahLst/>
                <a:rect l="l" t="t" r="r" b="b"/>
                <a:pathLst>
                  <a:path w="812" h="1120">
                    <a:moveTo>
                      <a:pt x="572" y="452"/>
                    </a:moveTo>
                    <a:lnTo>
                      <a:pt x="551" y="452"/>
                    </a:lnTo>
                    <a:lnTo>
                      <a:pt x="530" y="453"/>
                    </a:lnTo>
                    <a:lnTo>
                      <a:pt x="509" y="453"/>
                    </a:lnTo>
                    <a:lnTo>
                      <a:pt x="489" y="455"/>
                    </a:lnTo>
                    <a:lnTo>
                      <a:pt x="471" y="457"/>
                    </a:lnTo>
                    <a:lnTo>
                      <a:pt x="453" y="460"/>
                    </a:lnTo>
                    <a:lnTo>
                      <a:pt x="434" y="463"/>
                    </a:lnTo>
                    <a:lnTo>
                      <a:pt x="417" y="468"/>
                    </a:lnTo>
                    <a:lnTo>
                      <a:pt x="401" y="471"/>
                    </a:lnTo>
                    <a:lnTo>
                      <a:pt x="385" y="478"/>
                    </a:lnTo>
                    <a:lnTo>
                      <a:pt x="369" y="482"/>
                    </a:lnTo>
                    <a:lnTo>
                      <a:pt x="355" y="490"/>
                    </a:lnTo>
                    <a:lnTo>
                      <a:pt x="341" y="496"/>
                    </a:lnTo>
                    <a:lnTo>
                      <a:pt x="327" y="505"/>
                    </a:lnTo>
                    <a:lnTo>
                      <a:pt x="315" y="512"/>
                    </a:lnTo>
                    <a:lnTo>
                      <a:pt x="303" y="522"/>
                    </a:lnTo>
                    <a:lnTo>
                      <a:pt x="291" y="530"/>
                    </a:lnTo>
                    <a:lnTo>
                      <a:pt x="280" y="541"/>
                    </a:lnTo>
                    <a:lnTo>
                      <a:pt x="269" y="551"/>
                    </a:lnTo>
                    <a:lnTo>
                      <a:pt x="261" y="562"/>
                    </a:lnTo>
                    <a:lnTo>
                      <a:pt x="252" y="575"/>
                    </a:lnTo>
                    <a:lnTo>
                      <a:pt x="243" y="587"/>
                    </a:lnTo>
                    <a:lnTo>
                      <a:pt x="236" y="600"/>
                    </a:lnTo>
                    <a:lnTo>
                      <a:pt x="230" y="613"/>
                    </a:lnTo>
                    <a:lnTo>
                      <a:pt x="224" y="627"/>
                    </a:lnTo>
                    <a:lnTo>
                      <a:pt x="218" y="642"/>
                    </a:lnTo>
                    <a:lnTo>
                      <a:pt x="214" y="657"/>
                    </a:lnTo>
                    <a:lnTo>
                      <a:pt x="210" y="673"/>
                    </a:lnTo>
                    <a:lnTo>
                      <a:pt x="207" y="689"/>
                    </a:lnTo>
                    <a:lnTo>
                      <a:pt x="204" y="705"/>
                    </a:lnTo>
                    <a:lnTo>
                      <a:pt x="203" y="723"/>
                    </a:lnTo>
                    <a:lnTo>
                      <a:pt x="202" y="740"/>
                    </a:lnTo>
                    <a:lnTo>
                      <a:pt x="202" y="759"/>
                    </a:lnTo>
                    <a:lnTo>
                      <a:pt x="202" y="786"/>
                    </a:lnTo>
                    <a:lnTo>
                      <a:pt x="204" y="812"/>
                    </a:lnTo>
                    <a:lnTo>
                      <a:pt x="208" y="836"/>
                    </a:lnTo>
                    <a:lnTo>
                      <a:pt x="214" y="858"/>
                    </a:lnTo>
                    <a:lnTo>
                      <a:pt x="221" y="880"/>
                    </a:lnTo>
                    <a:lnTo>
                      <a:pt x="230" y="900"/>
                    </a:lnTo>
                    <a:lnTo>
                      <a:pt x="240" y="918"/>
                    </a:lnTo>
                    <a:lnTo>
                      <a:pt x="252" y="936"/>
                    </a:lnTo>
                    <a:lnTo>
                      <a:pt x="264" y="950"/>
                    </a:lnTo>
                    <a:lnTo>
                      <a:pt x="279" y="964"/>
                    </a:lnTo>
                    <a:lnTo>
                      <a:pt x="294" y="975"/>
                    </a:lnTo>
                    <a:lnTo>
                      <a:pt x="311" y="983"/>
                    </a:lnTo>
                    <a:lnTo>
                      <a:pt x="328" y="991"/>
                    </a:lnTo>
                    <a:lnTo>
                      <a:pt x="347" y="996"/>
                    </a:lnTo>
                    <a:lnTo>
                      <a:pt x="366" y="999"/>
                    </a:lnTo>
                    <a:lnTo>
                      <a:pt x="387" y="1001"/>
                    </a:lnTo>
                    <a:lnTo>
                      <a:pt x="401" y="999"/>
                    </a:lnTo>
                    <a:lnTo>
                      <a:pt x="414" y="998"/>
                    </a:lnTo>
                    <a:lnTo>
                      <a:pt x="428" y="996"/>
                    </a:lnTo>
                    <a:lnTo>
                      <a:pt x="441" y="993"/>
                    </a:lnTo>
                    <a:lnTo>
                      <a:pt x="455" y="988"/>
                    </a:lnTo>
                    <a:lnTo>
                      <a:pt x="467" y="983"/>
                    </a:lnTo>
                    <a:lnTo>
                      <a:pt x="480" y="977"/>
                    </a:lnTo>
                    <a:lnTo>
                      <a:pt x="492" y="970"/>
                    </a:lnTo>
                    <a:lnTo>
                      <a:pt x="504" y="963"/>
                    </a:lnTo>
                    <a:lnTo>
                      <a:pt x="515" y="954"/>
                    </a:lnTo>
                    <a:lnTo>
                      <a:pt x="526" y="944"/>
                    </a:lnTo>
                    <a:lnTo>
                      <a:pt x="537" y="934"/>
                    </a:lnTo>
                    <a:lnTo>
                      <a:pt x="546" y="923"/>
                    </a:lnTo>
                    <a:lnTo>
                      <a:pt x="556" y="912"/>
                    </a:lnTo>
                    <a:lnTo>
                      <a:pt x="563" y="900"/>
                    </a:lnTo>
                    <a:lnTo>
                      <a:pt x="572" y="888"/>
                    </a:lnTo>
                    <a:lnTo>
                      <a:pt x="572" y="452"/>
                    </a:lnTo>
                    <a:close/>
                    <a:moveTo>
                      <a:pt x="812" y="1098"/>
                    </a:moveTo>
                    <a:lnTo>
                      <a:pt x="579" y="1098"/>
                    </a:lnTo>
                    <a:lnTo>
                      <a:pt x="579" y="1025"/>
                    </a:lnTo>
                    <a:lnTo>
                      <a:pt x="568" y="1037"/>
                    </a:lnTo>
                    <a:lnTo>
                      <a:pt x="556" y="1047"/>
                    </a:lnTo>
                    <a:lnTo>
                      <a:pt x="544" y="1058"/>
                    </a:lnTo>
                    <a:lnTo>
                      <a:pt x="530" y="1067"/>
                    </a:lnTo>
                    <a:lnTo>
                      <a:pt x="518" y="1076"/>
                    </a:lnTo>
                    <a:lnTo>
                      <a:pt x="503" y="1083"/>
                    </a:lnTo>
                    <a:lnTo>
                      <a:pt x="488" y="1090"/>
                    </a:lnTo>
                    <a:lnTo>
                      <a:pt x="473" y="1096"/>
                    </a:lnTo>
                    <a:lnTo>
                      <a:pt x="459" y="1103"/>
                    </a:lnTo>
                    <a:lnTo>
                      <a:pt x="441" y="1106"/>
                    </a:lnTo>
                    <a:lnTo>
                      <a:pt x="426" y="1111"/>
                    </a:lnTo>
                    <a:lnTo>
                      <a:pt x="407" y="1114"/>
                    </a:lnTo>
                    <a:lnTo>
                      <a:pt x="390" y="1116"/>
                    </a:lnTo>
                    <a:lnTo>
                      <a:pt x="370" y="1118"/>
                    </a:lnTo>
                    <a:lnTo>
                      <a:pt x="352" y="1120"/>
                    </a:lnTo>
                    <a:lnTo>
                      <a:pt x="331" y="1120"/>
                    </a:lnTo>
                    <a:lnTo>
                      <a:pt x="312" y="1120"/>
                    </a:lnTo>
                    <a:lnTo>
                      <a:pt x="294" y="1118"/>
                    </a:lnTo>
                    <a:lnTo>
                      <a:pt x="277" y="1116"/>
                    </a:lnTo>
                    <a:lnTo>
                      <a:pt x="259" y="1114"/>
                    </a:lnTo>
                    <a:lnTo>
                      <a:pt x="242" y="1111"/>
                    </a:lnTo>
                    <a:lnTo>
                      <a:pt x="226" y="1106"/>
                    </a:lnTo>
                    <a:lnTo>
                      <a:pt x="210" y="1101"/>
                    </a:lnTo>
                    <a:lnTo>
                      <a:pt x="194" y="1096"/>
                    </a:lnTo>
                    <a:lnTo>
                      <a:pt x="180" y="1090"/>
                    </a:lnTo>
                    <a:lnTo>
                      <a:pt x="165" y="1083"/>
                    </a:lnTo>
                    <a:lnTo>
                      <a:pt x="151" y="1076"/>
                    </a:lnTo>
                    <a:lnTo>
                      <a:pt x="138" y="1067"/>
                    </a:lnTo>
                    <a:lnTo>
                      <a:pt x="125" y="1058"/>
                    </a:lnTo>
                    <a:lnTo>
                      <a:pt x="113" y="1048"/>
                    </a:lnTo>
                    <a:lnTo>
                      <a:pt x="101" y="1037"/>
                    </a:lnTo>
                    <a:lnTo>
                      <a:pt x="90" y="1026"/>
                    </a:lnTo>
                    <a:lnTo>
                      <a:pt x="79" y="1014"/>
                    </a:lnTo>
                    <a:lnTo>
                      <a:pt x="69" y="1002"/>
                    </a:lnTo>
                    <a:lnTo>
                      <a:pt x="59" y="988"/>
                    </a:lnTo>
                    <a:lnTo>
                      <a:pt x="50" y="975"/>
                    </a:lnTo>
                    <a:lnTo>
                      <a:pt x="42" y="961"/>
                    </a:lnTo>
                    <a:lnTo>
                      <a:pt x="34" y="947"/>
                    </a:lnTo>
                    <a:lnTo>
                      <a:pt x="28" y="932"/>
                    </a:lnTo>
                    <a:lnTo>
                      <a:pt x="22" y="916"/>
                    </a:lnTo>
                    <a:lnTo>
                      <a:pt x="17" y="900"/>
                    </a:lnTo>
                    <a:lnTo>
                      <a:pt x="12" y="884"/>
                    </a:lnTo>
                    <a:lnTo>
                      <a:pt x="9" y="867"/>
                    </a:lnTo>
                    <a:lnTo>
                      <a:pt x="5" y="850"/>
                    </a:lnTo>
                    <a:lnTo>
                      <a:pt x="2" y="831"/>
                    </a:lnTo>
                    <a:lnTo>
                      <a:pt x="1" y="813"/>
                    </a:lnTo>
                    <a:lnTo>
                      <a:pt x="0" y="794"/>
                    </a:lnTo>
                    <a:lnTo>
                      <a:pt x="0" y="775"/>
                    </a:lnTo>
                    <a:lnTo>
                      <a:pt x="0" y="748"/>
                    </a:lnTo>
                    <a:lnTo>
                      <a:pt x="2" y="722"/>
                    </a:lnTo>
                    <a:lnTo>
                      <a:pt x="5" y="697"/>
                    </a:lnTo>
                    <a:lnTo>
                      <a:pt x="9" y="674"/>
                    </a:lnTo>
                    <a:lnTo>
                      <a:pt x="13" y="651"/>
                    </a:lnTo>
                    <a:lnTo>
                      <a:pt x="20" y="629"/>
                    </a:lnTo>
                    <a:lnTo>
                      <a:pt x="26" y="606"/>
                    </a:lnTo>
                    <a:lnTo>
                      <a:pt x="34" y="586"/>
                    </a:lnTo>
                    <a:lnTo>
                      <a:pt x="43" y="566"/>
                    </a:lnTo>
                    <a:lnTo>
                      <a:pt x="53" y="546"/>
                    </a:lnTo>
                    <a:lnTo>
                      <a:pt x="64" y="528"/>
                    </a:lnTo>
                    <a:lnTo>
                      <a:pt x="77" y="509"/>
                    </a:lnTo>
                    <a:lnTo>
                      <a:pt x="90" y="493"/>
                    </a:lnTo>
                    <a:lnTo>
                      <a:pt x="104" y="476"/>
                    </a:lnTo>
                    <a:lnTo>
                      <a:pt x="120" y="462"/>
                    </a:lnTo>
                    <a:lnTo>
                      <a:pt x="136" y="447"/>
                    </a:lnTo>
                    <a:lnTo>
                      <a:pt x="155" y="433"/>
                    </a:lnTo>
                    <a:lnTo>
                      <a:pt x="173" y="420"/>
                    </a:lnTo>
                    <a:lnTo>
                      <a:pt x="192" y="409"/>
                    </a:lnTo>
                    <a:lnTo>
                      <a:pt x="213" y="398"/>
                    </a:lnTo>
                    <a:lnTo>
                      <a:pt x="235" y="387"/>
                    </a:lnTo>
                    <a:lnTo>
                      <a:pt x="257" y="378"/>
                    </a:lnTo>
                    <a:lnTo>
                      <a:pt x="280" y="369"/>
                    </a:lnTo>
                    <a:lnTo>
                      <a:pt x="304" y="362"/>
                    </a:lnTo>
                    <a:lnTo>
                      <a:pt x="330" y="355"/>
                    </a:lnTo>
                    <a:lnTo>
                      <a:pt x="355" y="350"/>
                    </a:lnTo>
                    <a:lnTo>
                      <a:pt x="382" y="345"/>
                    </a:lnTo>
                    <a:lnTo>
                      <a:pt x="411" y="340"/>
                    </a:lnTo>
                    <a:lnTo>
                      <a:pt x="440" y="338"/>
                    </a:lnTo>
                    <a:lnTo>
                      <a:pt x="470" y="335"/>
                    </a:lnTo>
                    <a:lnTo>
                      <a:pt x="501" y="334"/>
                    </a:lnTo>
                    <a:lnTo>
                      <a:pt x="533" y="334"/>
                    </a:lnTo>
                    <a:lnTo>
                      <a:pt x="573" y="334"/>
                    </a:lnTo>
                    <a:lnTo>
                      <a:pt x="573" y="136"/>
                    </a:lnTo>
                    <a:lnTo>
                      <a:pt x="572" y="112"/>
                    </a:lnTo>
                    <a:lnTo>
                      <a:pt x="571" y="93"/>
                    </a:lnTo>
                    <a:lnTo>
                      <a:pt x="569" y="86"/>
                    </a:lnTo>
                    <a:lnTo>
                      <a:pt x="567" y="80"/>
                    </a:lnTo>
                    <a:lnTo>
                      <a:pt x="564" y="75"/>
                    </a:lnTo>
                    <a:lnTo>
                      <a:pt x="562" y="71"/>
                    </a:lnTo>
                    <a:lnTo>
                      <a:pt x="556" y="65"/>
                    </a:lnTo>
                    <a:lnTo>
                      <a:pt x="547" y="61"/>
                    </a:lnTo>
                    <a:lnTo>
                      <a:pt x="535" y="58"/>
                    </a:lnTo>
                    <a:lnTo>
                      <a:pt x="521" y="55"/>
                    </a:lnTo>
                    <a:lnTo>
                      <a:pt x="521" y="0"/>
                    </a:lnTo>
                    <a:lnTo>
                      <a:pt x="763" y="0"/>
                    </a:lnTo>
                    <a:lnTo>
                      <a:pt x="763" y="986"/>
                    </a:lnTo>
                    <a:lnTo>
                      <a:pt x="763" y="1001"/>
                    </a:lnTo>
                    <a:lnTo>
                      <a:pt x="765" y="1012"/>
                    </a:lnTo>
                    <a:lnTo>
                      <a:pt x="769" y="1021"/>
                    </a:lnTo>
                    <a:lnTo>
                      <a:pt x="774" y="1029"/>
                    </a:lnTo>
                    <a:lnTo>
                      <a:pt x="781" y="1035"/>
                    </a:lnTo>
                    <a:lnTo>
                      <a:pt x="790" y="1039"/>
                    </a:lnTo>
                    <a:lnTo>
                      <a:pt x="799" y="1041"/>
                    </a:lnTo>
                    <a:lnTo>
                      <a:pt x="812" y="1042"/>
                    </a:lnTo>
                    <a:lnTo>
                      <a:pt x="812" y="1098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985600" y="356760"/>
                <a:ext cx="45360" cy="6192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7" y="540"/>
                    </a:moveTo>
                    <a:lnTo>
                      <a:pt x="704" y="540"/>
                    </a:lnTo>
                    <a:lnTo>
                      <a:pt x="704" y="726"/>
                    </a:lnTo>
                    <a:lnTo>
                      <a:pt x="669" y="740"/>
                    </a:lnTo>
                    <a:lnTo>
                      <a:pt x="635" y="753"/>
                    </a:lnTo>
                    <a:lnTo>
                      <a:pt x="602" y="762"/>
                    </a:lnTo>
                    <a:lnTo>
                      <a:pt x="567" y="771"/>
                    </a:lnTo>
                    <a:lnTo>
                      <a:pt x="534" y="777"/>
                    </a:lnTo>
                    <a:lnTo>
                      <a:pt x="500" y="782"/>
                    </a:lnTo>
                    <a:lnTo>
                      <a:pt x="465" y="784"/>
                    </a:lnTo>
                    <a:lnTo>
                      <a:pt x="429" y="786"/>
                    </a:lnTo>
                    <a:lnTo>
                      <a:pt x="405" y="786"/>
                    </a:lnTo>
                    <a:lnTo>
                      <a:pt x="380" y="784"/>
                    </a:lnTo>
                    <a:lnTo>
                      <a:pt x="357" y="782"/>
                    </a:lnTo>
                    <a:lnTo>
                      <a:pt x="335" y="780"/>
                    </a:lnTo>
                    <a:lnTo>
                      <a:pt x="313" y="776"/>
                    </a:lnTo>
                    <a:lnTo>
                      <a:pt x="290" y="771"/>
                    </a:lnTo>
                    <a:lnTo>
                      <a:pt x="269" y="765"/>
                    </a:lnTo>
                    <a:lnTo>
                      <a:pt x="250" y="759"/>
                    </a:lnTo>
                    <a:lnTo>
                      <a:pt x="230" y="751"/>
                    </a:lnTo>
                    <a:lnTo>
                      <a:pt x="212" y="744"/>
                    </a:lnTo>
                    <a:lnTo>
                      <a:pt x="193" y="735"/>
                    </a:lnTo>
                    <a:lnTo>
                      <a:pt x="176" y="726"/>
                    </a:lnTo>
                    <a:lnTo>
                      <a:pt x="160" y="714"/>
                    </a:lnTo>
                    <a:lnTo>
                      <a:pt x="144" y="703"/>
                    </a:lnTo>
                    <a:lnTo>
                      <a:pt x="128" y="691"/>
                    </a:lnTo>
                    <a:lnTo>
                      <a:pt x="113" y="678"/>
                    </a:lnTo>
                    <a:lnTo>
                      <a:pt x="100" y="664"/>
                    </a:lnTo>
                    <a:lnTo>
                      <a:pt x="87" y="649"/>
                    </a:lnTo>
                    <a:lnTo>
                      <a:pt x="75" y="635"/>
                    </a:lnTo>
                    <a:lnTo>
                      <a:pt x="64" y="619"/>
                    </a:lnTo>
                    <a:lnTo>
                      <a:pt x="53" y="603"/>
                    </a:lnTo>
                    <a:lnTo>
                      <a:pt x="44" y="586"/>
                    </a:lnTo>
                    <a:lnTo>
                      <a:pt x="36" y="568"/>
                    </a:lnTo>
                    <a:lnTo>
                      <a:pt x="28" y="550"/>
                    </a:lnTo>
                    <a:lnTo>
                      <a:pt x="21" y="532"/>
                    </a:lnTo>
                    <a:lnTo>
                      <a:pt x="16" y="512"/>
                    </a:lnTo>
                    <a:lnTo>
                      <a:pt x="11" y="491"/>
                    </a:lnTo>
                    <a:lnTo>
                      <a:pt x="6" y="471"/>
                    </a:lnTo>
                    <a:lnTo>
                      <a:pt x="4" y="449"/>
                    </a:lnTo>
                    <a:lnTo>
                      <a:pt x="1" y="427"/>
                    </a:lnTo>
                    <a:lnTo>
                      <a:pt x="0" y="405"/>
                    </a:lnTo>
                    <a:lnTo>
                      <a:pt x="0" y="382"/>
                    </a:lnTo>
                    <a:lnTo>
                      <a:pt x="0" y="361"/>
                    </a:lnTo>
                    <a:lnTo>
                      <a:pt x="1" y="341"/>
                    </a:lnTo>
                    <a:lnTo>
                      <a:pt x="4" y="322"/>
                    </a:lnTo>
                    <a:lnTo>
                      <a:pt x="6" y="303"/>
                    </a:lnTo>
                    <a:lnTo>
                      <a:pt x="10" y="284"/>
                    </a:lnTo>
                    <a:lnTo>
                      <a:pt x="15" y="266"/>
                    </a:lnTo>
                    <a:lnTo>
                      <a:pt x="20" y="248"/>
                    </a:lnTo>
                    <a:lnTo>
                      <a:pt x="26" y="231"/>
                    </a:lnTo>
                    <a:lnTo>
                      <a:pt x="33" y="214"/>
                    </a:lnTo>
                    <a:lnTo>
                      <a:pt x="41" y="198"/>
                    </a:lnTo>
                    <a:lnTo>
                      <a:pt x="49" y="182"/>
                    </a:lnTo>
                    <a:lnTo>
                      <a:pt x="59" y="166"/>
                    </a:lnTo>
                    <a:lnTo>
                      <a:pt x="69" y="151"/>
                    </a:lnTo>
                    <a:lnTo>
                      <a:pt x="80" y="136"/>
                    </a:lnTo>
                    <a:lnTo>
                      <a:pt x="92" y="121"/>
                    </a:lnTo>
                    <a:lnTo>
                      <a:pt x="105" y="108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0"/>
                    </a:lnTo>
                    <a:lnTo>
                      <a:pt x="176" y="50"/>
                    </a:lnTo>
                    <a:lnTo>
                      <a:pt x="191" y="42"/>
                    </a:lnTo>
                    <a:lnTo>
                      <a:pt x="207" y="34"/>
                    </a:lnTo>
                    <a:lnTo>
                      <a:pt x="224" y="27"/>
                    </a:lnTo>
                    <a:lnTo>
                      <a:pt x="240" y="21"/>
                    </a:lnTo>
                    <a:lnTo>
                      <a:pt x="257" y="15"/>
                    </a:lnTo>
                    <a:lnTo>
                      <a:pt x="276" y="10"/>
                    </a:lnTo>
                    <a:lnTo>
                      <a:pt x="293" y="6"/>
                    </a:lnTo>
                    <a:lnTo>
                      <a:pt x="311" y="4"/>
                    </a:lnTo>
                    <a:lnTo>
                      <a:pt x="331" y="1"/>
                    </a:lnTo>
                    <a:lnTo>
                      <a:pt x="349" y="0"/>
                    </a:lnTo>
                    <a:lnTo>
                      <a:pt x="369" y="0"/>
                    </a:lnTo>
                    <a:lnTo>
                      <a:pt x="389" y="0"/>
                    </a:lnTo>
                    <a:lnTo>
                      <a:pt x="407" y="1"/>
                    </a:lnTo>
                    <a:lnTo>
                      <a:pt x="426" y="4"/>
                    </a:lnTo>
                    <a:lnTo>
                      <a:pt x="444" y="6"/>
                    </a:lnTo>
                    <a:lnTo>
                      <a:pt x="461" y="10"/>
                    </a:lnTo>
                    <a:lnTo>
                      <a:pt x="477" y="13"/>
                    </a:lnTo>
                    <a:lnTo>
                      <a:pt x="495" y="18"/>
                    </a:lnTo>
                    <a:lnTo>
                      <a:pt x="511" y="24"/>
                    </a:lnTo>
                    <a:lnTo>
                      <a:pt x="525" y="32"/>
                    </a:lnTo>
                    <a:lnTo>
                      <a:pt x="541" y="39"/>
                    </a:lnTo>
                    <a:lnTo>
                      <a:pt x="555" y="48"/>
                    </a:lnTo>
                    <a:lnTo>
                      <a:pt x="570" y="56"/>
                    </a:lnTo>
                    <a:lnTo>
                      <a:pt x="583" y="66"/>
                    </a:lnTo>
                    <a:lnTo>
                      <a:pt x="595" y="77"/>
                    </a:lnTo>
                    <a:lnTo>
                      <a:pt x="609" y="88"/>
                    </a:lnTo>
                    <a:lnTo>
                      <a:pt x="621" y="101"/>
                    </a:lnTo>
                    <a:lnTo>
                      <a:pt x="632" y="114"/>
                    </a:lnTo>
                    <a:lnTo>
                      <a:pt x="643" y="128"/>
                    </a:lnTo>
                    <a:lnTo>
                      <a:pt x="653" y="142"/>
                    </a:lnTo>
                    <a:lnTo>
                      <a:pt x="663" y="157"/>
                    </a:lnTo>
                    <a:lnTo>
                      <a:pt x="672" y="172"/>
                    </a:lnTo>
                    <a:lnTo>
                      <a:pt x="680" y="188"/>
                    </a:lnTo>
                    <a:lnTo>
                      <a:pt x="688" y="205"/>
                    </a:lnTo>
                    <a:lnTo>
                      <a:pt x="695" y="222"/>
                    </a:lnTo>
                    <a:lnTo>
                      <a:pt x="701" y="239"/>
                    </a:lnTo>
                    <a:lnTo>
                      <a:pt x="706" y="258"/>
                    </a:lnTo>
                    <a:lnTo>
                      <a:pt x="711" y="276"/>
                    </a:lnTo>
                    <a:lnTo>
                      <a:pt x="716" y="296"/>
                    </a:lnTo>
                    <a:lnTo>
                      <a:pt x="720" y="317"/>
                    </a:lnTo>
                    <a:lnTo>
                      <a:pt x="722" y="338"/>
                    </a:lnTo>
                    <a:lnTo>
                      <a:pt x="725" y="358"/>
                    </a:lnTo>
                    <a:lnTo>
                      <a:pt x="727" y="381"/>
                    </a:lnTo>
                    <a:lnTo>
                      <a:pt x="206" y="381"/>
                    </a:lnTo>
                    <a:lnTo>
                      <a:pt x="208" y="412"/>
                    </a:lnTo>
                    <a:lnTo>
                      <a:pt x="212" y="442"/>
                    </a:lnTo>
                    <a:lnTo>
                      <a:pt x="218" y="469"/>
                    </a:lnTo>
                    <a:lnTo>
                      <a:pt x="225" y="495"/>
                    </a:lnTo>
                    <a:lnTo>
                      <a:pt x="229" y="507"/>
                    </a:lnTo>
                    <a:lnTo>
                      <a:pt x="235" y="519"/>
                    </a:lnTo>
                    <a:lnTo>
                      <a:pt x="240" y="530"/>
                    </a:lnTo>
                    <a:lnTo>
                      <a:pt x="246" y="541"/>
                    </a:lnTo>
                    <a:lnTo>
                      <a:pt x="252" y="552"/>
                    </a:lnTo>
                    <a:lnTo>
                      <a:pt x="260" y="562"/>
                    </a:lnTo>
                    <a:lnTo>
                      <a:pt x="267" y="572"/>
                    </a:lnTo>
                    <a:lnTo>
                      <a:pt x="276" y="582"/>
                    </a:lnTo>
                    <a:lnTo>
                      <a:pt x="284" y="590"/>
                    </a:lnTo>
                    <a:lnTo>
                      <a:pt x="293" y="599"/>
                    </a:lnTo>
                    <a:lnTo>
                      <a:pt x="301" y="606"/>
                    </a:lnTo>
                    <a:lnTo>
                      <a:pt x="311" y="614"/>
                    </a:lnTo>
                    <a:lnTo>
                      <a:pt x="321" y="621"/>
                    </a:lnTo>
                    <a:lnTo>
                      <a:pt x="331" y="627"/>
                    </a:lnTo>
                    <a:lnTo>
                      <a:pt x="342" y="632"/>
                    </a:lnTo>
                    <a:lnTo>
                      <a:pt x="352" y="637"/>
                    </a:lnTo>
                    <a:lnTo>
                      <a:pt x="364" y="642"/>
                    </a:lnTo>
                    <a:lnTo>
                      <a:pt x="375" y="646"/>
                    </a:lnTo>
                    <a:lnTo>
                      <a:pt x="388" y="648"/>
                    </a:lnTo>
                    <a:lnTo>
                      <a:pt x="400" y="651"/>
                    </a:lnTo>
                    <a:lnTo>
                      <a:pt x="426" y="654"/>
                    </a:lnTo>
                    <a:lnTo>
                      <a:pt x="453" y="656"/>
                    </a:lnTo>
                    <a:lnTo>
                      <a:pt x="471" y="656"/>
                    </a:lnTo>
                    <a:lnTo>
                      <a:pt x="488" y="654"/>
                    </a:lnTo>
                    <a:lnTo>
                      <a:pt x="504" y="652"/>
                    </a:lnTo>
                    <a:lnTo>
                      <a:pt x="520" y="648"/>
                    </a:lnTo>
                    <a:lnTo>
                      <a:pt x="535" y="645"/>
                    </a:lnTo>
                    <a:lnTo>
                      <a:pt x="550" y="640"/>
                    </a:lnTo>
                    <a:lnTo>
                      <a:pt x="563" y="633"/>
                    </a:lnTo>
                    <a:lnTo>
                      <a:pt x="576" y="626"/>
                    </a:lnTo>
                    <a:lnTo>
                      <a:pt x="588" y="619"/>
                    </a:lnTo>
                    <a:lnTo>
                      <a:pt x="599" y="610"/>
                    </a:lnTo>
                    <a:lnTo>
                      <a:pt x="609" y="600"/>
                    </a:lnTo>
                    <a:lnTo>
                      <a:pt x="619" y="590"/>
                    </a:lnTo>
                    <a:lnTo>
                      <a:pt x="627" y="579"/>
                    </a:lnTo>
                    <a:lnTo>
                      <a:pt x="635" y="567"/>
                    </a:lnTo>
                    <a:lnTo>
                      <a:pt x="641" y="554"/>
                    </a:lnTo>
                    <a:lnTo>
                      <a:pt x="647" y="540"/>
                    </a:lnTo>
                    <a:close/>
                    <a:moveTo>
                      <a:pt x="219" y="274"/>
                    </a:moveTo>
                    <a:lnTo>
                      <a:pt x="506" y="274"/>
                    </a:lnTo>
                    <a:lnTo>
                      <a:pt x="504" y="256"/>
                    </a:lnTo>
                    <a:lnTo>
                      <a:pt x="502" y="241"/>
                    </a:lnTo>
                    <a:lnTo>
                      <a:pt x="500" y="226"/>
                    </a:lnTo>
                    <a:lnTo>
                      <a:pt x="496" y="212"/>
                    </a:lnTo>
                    <a:lnTo>
                      <a:pt x="491" y="199"/>
                    </a:lnTo>
                    <a:lnTo>
                      <a:pt x="485" y="187"/>
                    </a:lnTo>
                    <a:lnTo>
                      <a:pt x="477" y="177"/>
                    </a:lnTo>
                    <a:lnTo>
                      <a:pt x="470" y="167"/>
                    </a:lnTo>
                    <a:lnTo>
                      <a:pt x="460" y="158"/>
                    </a:lnTo>
                    <a:lnTo>
                      <a:pt x="450" y="151"/>
                    </a:lnTo>
                    <a:lnTo>
                      <a:pt x="440" y="144"/>
                    </a:lnTo>
                    <a:lnTo>
                      <a:pt x="428" y="139"/>
                    </a:lnTo>
                    <a:lnTo>
                      <a:pt x="416" y="135"/>
                    </a:lnTo>
                    <a:lnTo>
                      <a:pt x="402" y="132"/>
                    </a:lnTo>
                    <a:lnTo>
                      <a:pt x="388" y="130"/>
                    </a:lnTo>
                    <a:lnTo>
                      <a:pt x="373" y="130"/>
                    </a:lnTo>
                    <a:lnTo>
                      <a:pt x="357" y="130"/>
                    </a:lnTo>
                    <a:lnTo>
                      <a:pt x="341" y="132"/>
                    </a:lnTo>
                    <a:lnTo>
                      <a:pt x="326" y="135"/>
                    </a:lnTo>
                    <a:lnTo>
                      <a:pt x="313" y="140"/>
                    </a:lnTo>
                    <a:lnTo>
                      <a:pt x="299" y="145"/>
                    </a:lnTo>
                    <a:lnTo>
                      <a:pt x="287" y="151"/>
                    </a:lnTo>
                    <a:lnTo>
                      <a:pt x="276" y="159"/>
                    </a:lnTo>
                    <a:lnTo>
                      <a:pt x="265" y="168"/>
                    </a:lnTo>
                    <a:lnTo>
                      <a:pt x="255" y="178"/>
                    </a:lnTo>
                    <a:lnTo>
                      <a:pt x="246" y="189"/>
                    </a:lnTo>
                    <a:lnTo>
                      <a:pt x="239" y="201"/>
                    </a:lnTo>
                    <a:lnTo>
                      <a:pt x="233" y="214"/>
                    </a:lnTo>
                    <a:lnTo>
                      <a:pt x="228" y="227"/>
                    </a:lnTo>
                    <a:lnTo>
                      <a:pt x="223" y="242"/>
                    </a:lnTo>
                    <a:lnTo>
                      <a:pt x="220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066240" y="330480"/>
                <a:ext cx="18360" cy="86760"/>
              </a:xfrm>
              <a:custGeom>
                <a:avLst/>
                <a:gdLst/>
                <a:ahLst/>
                <a:rect l="l" t="t" r="r" b="b"/>
                <a:pathLst>
                  <a:path w="297" h="1098">
                    <a:moveTo>
                      <a:pt x="0" y="1098"/>
                    </a:move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40" y="1024"/>
                    </a:lnTo>
                    <a:lnTo>
                      <a:pt x="42" y="1019"/>
                    </a:lnTo>
                    <a:lnTo>
                      <a:pt x="45" y="1014"/>
                    </a:lnTo>
                    <a:lnTo>
                      <a:pt x="46" y="1008"/>
                    </a:lnTo>
                    <a:lnTo>
                      <a:pt x="48" y="1001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5" y="74"/>
                    </a:lnTo>
                    <a:lnTo>
                      <a:pt x="40" y="67"/>
                    </a:lnTo>
                    <a:lnTo>
                      <a:pt x="32" y="61"/>
                    </a:lnTo>
                    <a:lnTo>
                      <a:pt x="24" y="59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7" y="0"/>
                    </a:lnTo>
                    <a:lnTo>
                      <a:pt x="247" y="963"/>
                    </a:lnTo>
                    <a:lnTo>
                      <a:pt x="247" y="987"/>
                    </a:lnTo>
                    <a:lnTo>
                      <a:pt x="250" y="1006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5" y="1024"/>
                    </a:lnTo>
                    <a:lnTo>
                      <a:pt x="257" y="1028"/>
                    </a:lnTo>
                    <a:lnTo>
                      <a:pt x="263" y="1034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7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090720" y="356400"/>
                <a:ext cx="45720" cy="615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3" y="368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6"/>
                    </a:lnTo>
                    <a:lnTo>
                      <a:pt x="310" y="406"/>
                    </a:lnTo>
                    <a:lnTo>
                      <a:pt x="289" y="417"/>
                    </a:lnTo>
                    <a:lnTo>
                      <a:pt x="270" y="426"/>
                    </a:lnTo>
                    <a:lnTo>
                      <a:pt x="256" y="438"/>
                    </a:lnTo>
                    <a:lnTo>
                      <a:pt x="242" y="450"/>
                    </a:lnTo>
                    <a:lnTo>
                      <a:pt x="230" y="462"/>
                    </a:lnTo>
                    <a:lnTo>
                      <a:pt x="221" y="476"/>
                    </a:lnTo>
                    <a:lnTo>
                      <a:pt x="214" y="489"/>
                    </a:lnTo>
                    <a:lnTo>
                      <a:pt x="209" y="504"/>
                    </a:lnTo>
                    <a:lnTo>
                      <a:pt x="205" y="520"/>
                    </a:lnTo>
                    <a:lnTo>
                      <a:pt x="204" y="536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6" y="591"/>
                    </a:lnTo>
                    <a:lnTo>
                      <a:pt x="222" y="600"/>
                    </a:lnTo>
                    <a:lnTo>
                      <a:pt x="228" y="608"/>
                    </a:lnTo>
                    <a:lnTo>
                      <a:pt x="236" y="616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3" y="634"/>
                    </a:lnTo>
                    <a:lnTo>
                      <a:pt x="273" y="638"/>
                    </a:lnTo>
                    <a:lnTo>
                      <a:pt x="284" y="641"/>
                    </a:lnTo>
                    <a:lnTo>
                      <a:pt x="295" y="644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39" y="644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19" y="618"/>
                    </a:lnTo>
                    <a:lnTo>
                      <a:pt x="442" y="605"/>
                    </a:lnTo>
                    <a:lnTo>
                      <a:pt x="468" y="587"/>
                    </a:lnTo>
                    <a:lnTo>
                      <a:pt x="497" y="568"/>
                    </a:lnTo>
                    <a:lnTo>
                      <a:pt x="497" y="350"/>
                    </a:lnTo>
                    <a:close/>
                    <a:moveTo>
                      <a:pt x="510" y="767"/>
                    </a:moveTo>
                    <a:lnTo>
                      <a:pt x="510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1" y="726"/>
                    </a:lnTo>
                    <a:lnTo>
                      <a:pt x="447" y="735"/>
                    </a:lnTo>
                    <a:lnTo>
                      <a:pt x="433" y="743"/>
                    </a:lnTo>
                    <a:lnTo>
                      <a:pt x="419" y="751"/>
                    </a:lnTo>
                    <a:lnTo>
                      <a:pt x="404" y="757"/>
                    </a:lnTo>
                    <a:lnTo>
                      <a:pt x="390" y="762"/>
                    </a:lnTo>
                    <a:lnTo>
                      <a:pt x="374" y="767"/>
                    </a:lnTo>
                    <a:lnTo>
                      <a:pt x="358" y="772"/>
                    </a:lnTo>
                    <a:lnTo>
                      <a:pt x="340" y="774"/>
                    </a:lnTo>
                    <a:lnTo>
                      <a:pt x="323" y="778"/>
                    </a:lnTo>
                    <a:lnTo>
                      <a:pt x="306" y="779"/>
                    </a:lnTo>
                    <a:lnTo>
                      <a:pt x="286" y="780"/>
                    </a:lnTo>
                    <a:lnTo>
                      <a:pt x="268" y="780"/>
                    </a:lnTo>
                    <a:lnTo>
                      <a:pt x="238" y="779"/>
                    </a:lnTo>
                    <a:lnTo>
                      <a:pt x="210" y="776"/>
                    </a:lnTo>
                    <a:lnTo>
                      <a:pt x="184" y="772"/>
                    </a:lnTo>
                    <a:lnTo>
                      <a:pt x="160" y="764"/>
                    </a:lnTo>
                    <a:lnTo>
                      <a:pt x="136" y="756"/>
                    </a:lnTo>
                    <a:lnTo>
                      <a:pt x="114" y="745"/>
                    </a:lnTo>
                    <a:lnTo>
                      <a:pt x="103" y="738"/>
                    </a:lnTo>
                    <a:lnTo>
                      <a:pt x="93" y="731"/>
                    </a:lnTo>
                    <a:lnTo>
                      <a:pt x="83" y="724"/>
                    </a:lnTo>
                    <a:lnTo>
                      <a:pt x="73" y="716"/>
                    </a:lnTo>
                    <a:lnTo>
                      <a:pt x="65" y="708"/>
                    </a:lnTo>
                    <a:lnTo>
                      <a:pt x="56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3" y="652"/>
                    </a:lnTo>
                    <a:lnTo>
                      <a:pt x="18" y="641"/>
                    </a:lnTo>
                    <a:lnTo>
                      <a:pt x="14" y="632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4"/>
                    </a:lnTo>
                    <a:lnTo>
                      <a:pt x="0" y="548"/>
                    </a:lnTo>
                    <a:lnTo>
                      <a:pt x="1" y="535"/>
                    </a:lnTo>
                    <a:lnTo>
                      <a:pt x="2" y="520"/>
                    </a:lnTo>
                    <a:lnTo>
                      <a:pt x="3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6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4" y="434"/>
                    </a:lnTo>
                    <a:lnTo>
                      <a:pt x="42" y="423"/>
                    </a:lnTo>
                    <a:lnTo>
                      <a:pt x="50" y="413"/>
                    </a:lnTo>
                    <a:lnTo>
                      <a:pt x="60" y="403"/>
                    </a:lnTo>
                    <a:lnTo>
                      <a:pt x="70" y="393"/>
                    </a:lnTo>
                    <a:lnTo>
                      <a:pt x="81" y="384"/>
                    </a:lnTo>
                    <a:lnTo>
                      <a:pt x="93" y="375"/>
                    </a:lnTo>
                    <a:lnTo>
                      <a:pt x="105" y="366"/>
                    </a:lnTo>
                    <a:lnTo>
                      <a:pt x="120" y="358"/>
                    </a:lnTo>
                    <a:lnTo>
                      <a:pt x="135" y="349"/>
                    </a:lnTo>
                    <a:lnTo>
                      <a:pt x="152" y="342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59" y="301"/>
                    </a:lnTo>
                    <a:lnTo>
                      <a:pt x="313" y="285"/>
                    </a:lnTo>
                    <a:lnTo>
                      <a:pt x="372" y="269"/>
                    </a:lnTo>
                    <a:lnTo>
                      <a:pt x="439" y="255"/>
                    </a:lnTo>
                    <a:lnTo>
                      <a:pt x="510" y="239"/>
                    </a:lnTo>
                    <a:lnTo>
                      <a:pt x="506" y="224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6"/>
                    </a:lnTo>
                    <a:lnTo>
                      <a:pt x="484" y="175"/>
                    </a:lnTo>
                    <a:lnTo>
                      <a:pt x="477" y="165"/>
                    </a:lnTo>
                    <a:lnTo>
                      <a:pt x="468" y="156"/>
                    </a:lnTo>
                    <a:lnTo>
                      <a:pt x="457" y="149"/>
                    </a:lnTo>
                    <a:lnTo>
                      <a:pt x="447" y="142"/>
                    </a:lnTo>
                    <a:lnTo>
                      <a:pt x="435" y="135"/>
                    </a:lnTo>
                    <a:lnTo>
                      <a:pt x="422" y="131"/>
                    </a:lnTo>
                    <a:lnTo>
                      <a:pt x="408" y="127"/>
                    </a:lnTo>
                    <a:lnTo>
                      <a:pt x="392" y="123"/>
                    </a:lnTo>
                    <a:lnTo>
                      <a:pt x="376" y="122"/>
                    </a:lnTo>
                    <a:lnTo>
                      <a:pt x="359" y="120"/>
                    </a:lnTo>
                    <a:lnTo>
                      <a:pt x="339" y="120"/>
                    </a:lnTo>
                    <a:lnTo>
                      <a:pt x="319" y="120"/>
                    </a:lnTo>
                    <a:lnTo>
                      <a:pt x="301" y="121"/>
                    </a:lnTo>
                    <a:lnTo>
                      <a:pt x="283" y="123"/>
                    </a:lnTo>
                    <a:lnTo>
                      <a:pt x="265" y="126"/>
                    </a:lnTo>
                    <a:lnTo>
                      <a:pt x="249" y="128"/>
                    </a:lnTo>
                    <a:lnTo>
                      <a:pt x="235" y="133"/>
                    </a:lnTo>
                    <a:lnTo>
                      <a:pt x="220" y="137"/>
                    </a:lnTo>
                    <a:lnTo>
                      <a:pt x="206" y="143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80"/>
                    </a:lnTo>
                    <a:lnTo>
                      <a:pt x="144" y="190"/>
                    </a:lnTo>
                    <a:lnTo>
                      <a:pt x="136" y="199"/>
                    </a:lnTo>
                    <a:lnTo>
                      <a:pt x="129" y="210"/>
                    </a:lnTo>
                    <a:lnTo>
                      <a:pt x="66" y="210"/>
                    </a:lnTo>
                    <a:lnTo>
                      <a:pt x="66" y="43"/>
                    </a:lnTo>
                    <a:lnTo>
                      <a:pt x="109" y="32"/>
                    </a:lnTo>
                    <a:lnTo>
                      <a:pt x="151" y="24"/>
                    </a:lnTo>
                    <a:lnTo>
                      <a:pt x="190" y="18"/>
                    </a:lnTo>
                    <a:lnTo>
                      <a:pt x="228" y="11"/>
                    </a:lnTo>
                    <a:lnTo>
                      <a:pt x="264" y="7"/>
                    </a:lnTo>
                    <a:lnTo>
                      <a:pt x="300" y="3"/>
                    </a:lnTo>
                    <a:lnTo>
                      <a:pt x="334" y="2"/>
                    </a:lnTo>
                    <a:lnTo>
                      <a:pt x="367" y="0"/>
                    </a:lnTo>
                    <a:lnTo>
                      <a:pt x="409" y="2"/>
                    </a:lnTo>
                    <a:lnTo>
                      <a:pt x="449" y="4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59" y="30"/>
                    </a:lnTo>
                    <a:lnTo>
                      <a:pt x="572" y="35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6" y="62"/>
                    </a:lnTo>
                    <a:lnTo>
                      <a:pt x="625" y="70"/>
                    </a:lnTo>
                    <a:lnTo>
                      <a:pt x="633" y="79"/>
                    </a:lnTo>
                    <a:lnTo>
                      <a:pt x="641" y="88"/>
                    </a:lnTo>
                    <a:lnTo>
                      <a:pt x="648" y="97"/>
                    </a:lnTo>
                    <a:lnTo>
                      <a:pt x="655" y="108"/>
                    </a:lnTo>
                    <a:lnTo>
                      <a:pt x="661" y="120"/>
                    </a:lnTo>
                    <a:lnTo>
                      <a:pt x="666" y="132"/>
                    </a:lnTo>
                    <a:lnTo>
                      <a:pt x="671" y="144"/>
                    </a:lnTo>
                    <a:lnTo>
                      <a:pt x="676" y="158"/>
                    </a:lnTo>
                    <a:lnTo>
                      <a:pt x="680" y="171"/>
                    </a:lnTo>
                    <a:lnTo>
                      <a:pt x="684" y="186"/>
                    </a:lnTo>
                    <a:lnTo>
                      <a:pt x="686" y="201"/>
                    </a:lnTo>
                    <a:lnTo>
                      <a:pt x="687" y="217"/>
                    </a:lnTo>
                    <a:lnTo>
                      <a:pt x="690" y="232"/>
                    </a:lnTo>
                    <a:lnTo>
                      <a:pt x="690" y="250"/>
                    </a:lnTo>
                    <a:lnTo>
                      <a:pt x="691" y="267"/>
                    </a:lnTo>
                    <a:lnTo>
                      <a:pt x="691" y="644"/>
                    </a:lnTo>
                    <a:lnTo>
                      <a:pt x="691" y="660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2"/>
                    </a:lnTo>
                    <a:lnTo>
                      <a:pt x="707" y="698"/>
                    </a:lnTo>
                    <a:lnTo>
                      <a:pt x="714" y="703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7"/>
                    </a:lnTo>
                    <a:lnTo>
                      <a:pt x="510" y="76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3240" y="20520"/>
            <a:ext cx="1282320" cy="1974960"/>
            <a:chOff x="3240" y="20520"/>
            <a:chExt cx="1282320" cy="1974960"/>
          </a:xfrm>
        </p:grpSpPr>
        <p:sp>
          <p:nvSpPr>
            <p:cNvPr id="133" name=""/>
            <p:cNvSpPr/>
            <p:nvPr/>
          </p:nvSpPr>
          <p:spPr>
            <a:xfrm rot="5400000">
              <a:off x="-144000" y="630720"/>
              <a:ext cx="1270080" cy="91620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-206280" y="1482840"/>
              <a:ext cx="722160" cy="30312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658440" y="-176040"/>
              <a:ext cx="358920" cy="76176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77040" y="626040"/>
              <a:ext cx="1270080" cy="91584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-139680" y="1477800"/>
              <a:ext cx="722520" cy="30312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725040" y="-181080"/>
              <a:ext cx="358920" cy="76212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219600" y="734040"/>
              <a:ext cx="908280" cy="528480"/>
            </a:xfrm>
            <a:custGeom>
              <a:avLst/>
              <a:gdLst/>
              <a:ahLst/>
              <a:rect l="l" t="t" r="r" b="b"/>
              <a:pathLst>
                <a:path w="3736" h="2244">
                  <a:moveTo>
                    <a:pt x="3736" y="0"/>
                  </a:moveTo>
                  <a:lnTo>
                    <a:pt x="3603" y="8"/>
                  </a:lnTo>
                  <a:lnTo>
                    <a:pt x="3408" y="11"/>
                  </a:lnTo>
                  <a:lnTo>
                    <a:pt x="3218" y="15"/>
                  </a:lnTo>
                  <a:lnTo>
                    <a:pt x="3032" y="22"/>
                  </a:lnTo>
                  <a:lnTo>
                    <a:pt x="2850" y="32"/>
                  </a:lnTo>
                  <a:lnTo>
                    <a:pt x="2673" y="44"/>
                  </a:lnTo>
                  <a:lnTo>
                    <a:pt x="2501" y="60"/>
                  </a:lnTo>
                  <a:lnTo>
                    <a:pt x="2333" y="78"/>
                  </a:lnTo>
                  <a:lnTo>
                    <a:pt x="2170" y="100"/>
                  </a:lnTo>
                  <a:lnTo>
                    <a:pt x="2012" y="126"/>
                  </a:lnTo>
                  <a:lnTo>
                    <a:pt x="1860" y="156"/>
                  </a:lnTo>
                  <a:lnTo>
                    <a:pt x="1712" y="190"/>
                  </a:lnTo>
                  <a:lnTo>
                    <a:pt x="1570" y="228"/>
                  </a:lnTo>
                  <a:lnTo>
                    <a:pt x="1433" y="271"/>
                  </a:lnTo>
                  <a:lnTo>
                    <a:pt x="1303" y="318"/>
                  </a:lnTo>
                  <a:lnTo>
                    <a:pt x="1176" y="371"/>
                  </a:lnTo>
                  <a:lnTo>
                    <a:pt x="1057" y="429"/>
                  </a:lnTo>
                  <a:lnTo>
                    <a:pt x="943" y="492"/>
                  </a:lnTo>
                  <a:lnTo>
                    <a:pt x="835" y="561"/>
                  </a:lnTo>
                  <a:lnTo>
                    <a:pt x="732" y="636"/>
                  </a:lnTo>
                  <a:lnTo>
                    <a:pt x="636" y="717"/>
                  </a:lnTo>
                  <a:lnTo>
                    <a:pt x="547" y="805"/>
                  </a:lnTo>
                  <a:lnTo>
                    <a:pt x="463" y="898"/>
                  </a:lnTo>
                  <a:lnTo>
                    <a:pt x="386" y="999"/>
                  </a:lnTo>
                  <a:lnTo>
                    <a:pt x="315" y="1106"/>
                  </a:lnTo>
                  <a:lnTo>
                    <a:pt x="251" y="1221"/>
                  </a:lnTo>
                  <a:lnTo>
                    <a:pt x="195" y="1343"/>
                  </a:lnTo>
                  <a:lnTo>
                    <a:pt x="144" y="1473"/>
                  </a:lnTo>
                  <a:lnTo>
                    <a:pt x="101" y="1611"/>
                  </a:lnTo>
                  <a:lnTo>
                    <a:pt x="65" y="1757"/>
                  </a:lnTo>
                  <a:lnTo>
                    <a:pt x="36" y="1910"/>
                  </a:lnTo>
                  <a:lnTo>
                    <a:pt x="15" y="2074"/>
                  </a:lnTo>
                  <a:lnTo>
                    <a:pt x="0" y="2244"/>
                  </a:lnTo>
                  <a:lnTo>
                    <a:pt x="109" y="2092"/>
                  </a:lnTo>
                  <a:lnTo>
                    <a:pt x="226" y="1945"/>
                  </a:lnTo>
                  <a:lnTo>
                    <a:pt x="349" y="1805"/>
                  </a:lnTo>
                  <a:lnTo>
                    <a:pt x="479" y="1671"/>
                  </a:lnTo>
                  <a:lnTo>
                    <a:pt x="615" y="1542"/>
                  </a:lnTo>
                  <a:lnTo>
                    <a:pt x="754" y="1420"/>
                  </a:lnTo>
                  <a:lnTo>
                    <a:pt x="899" y="1303"/>
                  </a:lnTo>
                  <a:lnTo>
                    <a:pt x="1047" y="1192"/>
                  </a:lnTo>
                  <a:lnTo>
                    <a:pt x="1198" y="1087"/>
                  </a:lnTo>
                  <a:lnTo>
                    <a:pt x="1350" y="988"/>
                  </a:lnTo>
                  <a:lnTo>
                    <a:pt x="1503" y="893"/>
                  </a:lnTo>
                  <a:lnTo>
                    <a:pt x="1658" y="805"/>
                  </a:lnTo>
                  <a:lnTo>
                    <a:pt x="1812" y="720"/>
                  </a:lnTo>
                  <a:lnTo>
                    <a:pt x="1965" y="642"/>
                  </a:lnTo>
                  <a:lnTo>
                    <a:pt x="2116" y="568"/>
                  </a:lnTo>
                  <a:lnTo>
                    <a:pt x="2265" y="500"/>
                  </a:lnTo>
                  <a:lnTo>
                    <a:pt x="2411" y="436"/>
                  </a:lnTo>
                  <a:lnTo>
                    <a:pt x="2552" y="377"/>
                  </a:lnTo>
                  <a:lnTo>
                    <a:pt x="2690" y="323"/>
                  </a:lnTo>
                  <a:lnTo>
                    <a:pt x="2823" y="273"/>
                  </a:lnTo>
                  <a:lnTo>
                    <a:pt x="2948" y="228"/>
                  </a:lnTo>
                  <a:lnTo>
                    <a:pt x="3069" y="187"/>
                  </a:lnTo>
                  <a:lnTo>
                    <a:pt x="3181" y="150"/>
                  </a:lnTo>
                  <a:lnTo>
                    <a:pt x="3285" y="119"/>
                  </a:lnTo>
                  <a:lnTo>
                    <a:pt x="3379" y="90"/>
                  </a:lnTo>
                  <a:lnTo>
                    <a:pt x="3465" y="66"/>
                  </a:lnTo>
                  <a:lnTo>
                    <a:pt x="3540" y="46"/>
                  </a:lnTo>
                  <a:lnTo>
                    <a:pt x="3605" y="29"/>
                  </a:lnTo>
                  <a:lnTo>
                    <a:pt x="3657" y="17"/>
                  </a:lnTo>
                  <a:lnTo>
                    <a:pt x="3696" y="7"/>
                  </a:lnTo>
                  <a:lnTo>
                    <a:pt x="3723" y="2"/>
                  </a:lnTo>
                  <a:lnTo>
                    <a:pt x="373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102960" y="696600"/>
              <a:ext cx="951120" cy="636480"/>
            </a:xfrm>
            <a:custGeom>
              <a:avLst/>
              <a:gdLst/>
              <a:ahLst/>
              <a:rect l="l" t="t" r="r" b="b"/>
              <a:pathLst>
                <a:path w="3911" h="2822">
                  <a:moveTo>
                    <a:pt x="0" y="2822"/>
                  </a:moveTo>
                  <a:lnTo>
                    <a:pt x="66" y="2682"/>
                  </a:lnTo>
                  <a:lnTo>
                    <a:pt x="139" y="2545"/>
                  </a:lnTo>
                  <a:lnTo>
                    <a:pt x="217" y="2412"/>
                  </a:lnTo>
                  <a:lnTo>
                    <a:pt x="299" y="2281"/>
                  </a:lnTo>
                  <a:lnTo>
                    <a:pt x="386" y="2154"/>
                  </a:lnTo>
                  <a:lnTo>
                    <a:pt x="478" y="2031"/>
                  </a:lnTo>
                  <a:lnTo>
                    <a:pt x="575" y="1912"/>
                  </a:lnTo>
                  <a:lnTo>
                    <a:pt x="674" y="1794"/>
                  </a:lnTo>
                  <a:lnTo>
                    <a:pt x="779" y="1681"/>
                  </a:lnTo>
                  <a:lnTo>
                    <a:pt x="887" y="1572"/>
                  </a:lnTo>
                  <a:lnTo>
                    <a:pt x="999" y="1465"/>
                  </a:lnTo>
                  <a:lnTo>
                    <a:pt x="1115" y="1363"/>
                  </a:lnTo>
                  <a:lnTo>
                    <a:pt x="1233" y="1263"/>
                  </a:lnTo>
                  <a:lnTo>
                    <a:pt x="1355" y="1166"/>
                  </a:lnTo>
                  <a:lnTo>
                    <a:pt x="1481" y="1074"/>
                  </a:lnTo>
                  <a:lnTo>
                    <a:pt x="1608" y="984"/>
                  </a:lnTo>
                  <a:lnTo>
                    <a:pt x="1739" y="898"/>
                  </a:lnTo>
                  <a:lnTo>
                    <a:pt x="1873" y="814"/>
                  </a:lnTo>
                  <a:lnTo>
                    <a:pt x="2008" y="735"/>
                  </a:lnTo>
                  <a:lnTo>
                    <a:pt x="2146" y="659"/>
                  </a:lnTo>
                  <a:lnTo>
                    <a:pt x="2286" y="586"/>
                  </a:lnTo>
                  <a:lnTo>
                    <a:pt x="2427" y="516"/>
                  </a:lnTo>
                  <a:lnTo>
                    <a:pt x="2571" y="450"/>
                  </a:lnTo>
                  <a:lnTo>
                    <a:pt x="2716" y="386"/>
                  </a:lnTo>
                  <a:lnTo>
                    <a:pt x="2862" y="327"/>
                  </a:lnTo>
                  <a:lnTo>
                    <a:pt x="3010" y="270"/>
                  </a:lnTo>
                  <a:lnTo>
                    <a:pt x="3158" y="217"/>
                  </a:lnTo>
                  <a:lnTo>
                    <a:pt x="3308" y="167"/>
                  </a:lnTo>
                  <a:lnTo>
                    <a:pt x="3458" y="121"/>
                  </a:lnTo>
                  <a:lnTo>
                    <a:pt x="3609" y="77"/>
                  </a:lnTo>
                  <a:lnTo>
                    <a:pt x="3760" y="37"/>
                  </a:lnTo>
                  <a:lnTo>
                    <a:pt x="3911" y="0"/>
                  </a:lnTo>
                  <a:lnTo>
                    <a:pt x="3862" y="115"/>
                  </a:lnTo>
                  <a:lnTo>
                    <a:pt x="3813" y="227"/>
                  </a:lnTo>
                  <a:lnTo>
                    <a:pt x="3762" y="334"/>
                  </a:lnTo>
                  <a:lnTo>
                    <a:pt x="3713" y="438"/>
                  </a:lnTo>
                  <a:lnTo>
                    <a:pt x="3662" y="538"/>
                  </a:lnTo>
                  <a:lnTo>
                    <a:pt x="3612" y="634"/>
                  </a:lnTo>
                  <a:lnTo>
                    <a:pt x="3561" y="727"/>
                  </a:lnTo>
                  <a:lnTo>
                    <a:pt x="3509" y="816"/>
                  </a:lnTo>
                  <a:lnTo>
                    <a:pt x="3456" y="903"/>
                  </a:lnTo>
                  <a:lnTo>
                    <a:pt x="3402" y="987"/>
                  </a:lnTo>
                  <a:lnTo>
                    <a:pt x="3347" y="1067"/>
                  </a:lnTo>
                  <a:lnTo>
                    <a:pt x="3291" y="1144"/>
                  </a:lnTo>
                  <a:lnTo>
                    <a:pt x="3234" y="1220"/>
                  </a:lnTo>
                  <a:lnTo>
                    <a:pt x="3175" y="1292"/>
                  </a:lnTo>
                  <a:lnTo>
                    <a:pt x="3114" y="1361"/>
                  </a:lnTo>
                  <a:lnTo>
                    <a:pt x="3051" y="1428"/>
                  </a:lnTo>
                  <a:lnTo>
                    <a:pt x="2988" y="1494"/>
                  </a:lnTo>
                  <a:lnTo>
                    <a:pt x="2922" y="1557"/>
                  </a:lnTo>
                  <a:lnTo>
                    <a:pt x="2854" y="1618"/>
                  </a:lnTo>
                  <a:lnTo>
                    <a:pt x="2783" y="1676"/>
                  </a:lnTo>
                  <a:lnTo>
                    <a:pt x="2711" y="1733"/>
                  </a:lnTo>
                  <a:lnTo>
                    <a:pt x="2636" y="1788"/>
                  </a:lnTo>
                  <a:lnTo>
                    <a:pt x="2558" y="1842"/>
                  </a:lnTo>
                  <a:lnTo>
                    <a:pt x="2477" y="1893"/>
                  </a:lnTo>
                  <a:lnTo>
                    <a:pt x="2395" y="1945"/>
                  </a:lnTo>
                  <a:lnTo>
                    <a:pt x="2309" y="1994"/>
                  </a:lnTo>
                  <a:lnTo>
                    <a:pt x="2219" y="2042"/>
                  </a:lnTo>
                  <a:lnTo>
                    <a:pt x="2128" y="2089"/>
                  </a:lnTo>
                  <a:lnTo>
                    <a:pt x="2032" y="2135"/>
                  </a:lnTo>
                  <a:lnTo>
                    <a:pt x="1933" y="2180"/>
                  </a:lnTo>
                  <a:lnTo>
                    <a:pt x="1830" y="2225"/>
                  </a:lnTo>
                  <a:lnTo>
                    <a:pt x="1725" y="2269"/>
                  </a:lnTo>
                  <a:lnTo>
                    <a:pt x="1681" y="2286"/>
                  </a:lnTo>
                  <a:lnTo>
                    <a:pt x="1637" y="2302"/>
                  </a:lnTo>
                  <a:lnTo>
                    <a:pt x="1593" y="2315"/>
                  </a:lnTo>
                  <a:lnTo>
                    <a:pt x="1548" y="2328"/>
                  </a:lnTo>
                  <a:lnTo>
                    <a:pt x="1502" y="2342"/>
                  </a:lnTo>
                  <a:lnTo>
                    <a:pt x="1456" y="2353"/>
                  </a:lnTo>
                  <a:lnTo>
                    <a:pt x="1409" y="2364"/>
                  </a:lnTo>
                  <a:lnTo>
                    <a:pt x="1361" y="2375"/>
                  </a:lnTo>
                  <a:lnTo>
                    <a:pt x="1265" y="2395"/>
                  </a:lnTo>
                  <a:lnTo>
                    <a:pt x="1165" y="2415"/>
                  </a:lnTo>
                  <a:lnTo>
                    <a:pt x="1063" y="2435"/>
                  </a:lnTo>
                  <a:lnTo>
                    <a:pt x="957" y="2458"/>
                  </a:lnTo>
                  <a:lnTo>
                    <a:pt x="904" y="2470"/>
                  </a:lnTo>
                  <a:lnTo>
                    <a:pt x="849" y="2483"/>
                  </a:lnTo>
                  <a:lnTo>
                    <a:pt x="794" y="2497"/>
                  </a:lnTo>
                  <a:lnTo>
                    <a:pt x="738" y="2511"/>
                  </a:lnTo>
                  <a:lnTo>
                    <a:pt x="680" y="2528"/>
                  </a:lnTo>
                  <a:lnTo>
                    <a:pt x="623" y="2545"/>
                  </a:lnTo>
                  <a:lnTo>
                    <a:pt x="564" y="2564"/>
                  </a:lnTo>
                  <a:lnTo>
                    <a:pt x="506" y="2584"/>
                  </a:lnTo>
                  <a:lnTo>
                    <a:pt x="445" y="2607"/>
                  </a:lnTo>
                  <a:lnTo>
                    <a:pt x="384" y="2632"/>
                  </a:lnTo>
                  <a:lnTo>
                    <a:pt x="323" y="2657"/>
                  </a:lnTo>
                  <a:lnTo>
                    <a:pt x="260" y="2685"/>
                  </a:lnTo>
                  <a:lnTo>
                    <a:pt x="196" y="2716"/>
                  </a:lnTo>
                  <a:lnTo>
                    <a:pt x="131" y="2749"/>
                  </a:lnTo>
                  <a:lnTo>
                    <a:pt x="66" y="2784"/>
                  </a:lnTo>
                  <a:lnTo>
                    <a:pt x="0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25560" y="1556280"/>
              <a:ext cx="449280" cy="174600"/>
            </a:xfrm>
            <a:custGeom>
              <a:avLst/>
              <a:gdLst/>
              <a:ahLst/>
              <a:rect l="l" t="t" r="r" b="b"/>
              <a:pathLst>
                <a:path w="1973" h="778">
                  <a:moveTo>
                    <a:pt x="1973" y="778"/>
                  </a:moveTo>
                  <a:lnTo>
                    <a:pt x="1925" y="737"/>
                  </a:lnTo>
                  <a:lnTo>
                    <a:pt x="1861" y="674"/>
                  </a:lnTo>
                  <a:lnTo>
                    <a:pt x="1796" y="613"/>
                  </a:lnTo>
                  <a:lnTo>
                    <a:pt x="1732" y="554"/>
                  </a:lnTo>
                  <a:lnTo>
                    <a:pt x="1668" y="499"/>
                  </a:lnTo>
                  <a:lnTo>
                    <a:pt x="1606" y="444"/>
                  </a:lnTo>
                  <a:lnTo>
                    <a:pt x="1544" y="393"/>
                  </a:lnTo>
                  <a:lnTo>
                    <a:pt x="1482" y="344"/>
                  </a:lnTo>
                  <a:lnTo>
                    <a:pt x="1421" y="298"/>
                  </a:lnTo>
                  <a:lnTo>
                    <a:pt x="1361" y="255"/>
                  </a:lnTo>
                  <a:lnTo>
                    <a:pt x="1300" y="215"/>
                  </a:lnTo>
                  <a:lnTo>
                    <a:pt x="1240" y="178"/>
                  </a:lnTo>
                  <a:lnTo>
                    <a:pt x="1181" y="144"/>
                  </a:lnTo>
                  <a:lnTo>
                    <a:pt x="1121" y="114"/>
                  </a:lnTo>
                  <a:lnTo>
                    <a:pt x="1062" y="86"/>
                  </a:lnTo>
                  <a:lnTo>
                    <a:pt x="1004" y="62"/>
                  </a:lnTo>
                  <a:lnTo>
                    <a:pt x="945" y="42"/>
                  </a:lnTo>
                  <a:lnTo>
                    <a:pt x="887" y="25"/>
                  </a:lnTo>
                  <a:lnTo>
                    <a:pt x="828" y="13"/>
                  </a:lnTo>
                  <a:lnTo>
                    <a:pt x="769" y="5"/>
                  </a:lnTo>
                  <a:lnTo>
                    <a:pt x="712" y="0"/>
                  </a:lnTo>
                  <a:lnTo>
                    <a:pt x="653" y="0"/>
                  </a:lnTo>
                  <a:lnTo>
                    <a:pt x="594" y="3"/>
                  </a:lnTo>
                  <a:lnTo>
                    <a:pt x="536" y="11"/>
                  </a:lnTo>
                  <a:lnTo>
                    <a:pt x="477" y="23"/>
                  </a:lnTo>
                  <a:lnTo>
                    <a:pt x="419" y="41"/>
                  </a:lnTo>
                  <a:lnTo>
                    <a:pt x="360" y="62"/>
                  </a:lnTo>
                  <a:lnTo>
                    <a:pt x="300" y="89"/>
                  </a:lnTo>
                  <a:lnTo>
                    <a:pt x="242" y="121"/>
                  </a:lnTo>
                  <a:lnTo>
                    <a:pt x="182" y="157"/>
                  </a:lnTo>
                  <a:lnTo>
                    <a:pt x="121" y="198"/>
                  </a:lnTo>
                  <a:lnTo>
                    <a:pt x="61" y="246"/>
                  </a:lnTo>
                  <a:lnTo>
                    <a:pt x="0" y="297"/>
                  </a:lnTo>
                  <a:lnTo>
                    <a:pt x="86" y="283"/>
                  </a:lnTo>
                  <a:lnTo>
                    <a:pt x="173" y="272"/>
                  </a:lnTo>
                  <a:lnTo>
                    <a:pt x="260" y="266"/>
                  </a:lnTo>
                  <a:lnTo>
                    <a:pt x="347" y="264"/>
                  </a:lnTo>
                  <a:lnTo>
                    <a:pt x="434" y="266"/>
                  </a:lnTo>
                  <a:lnTo>
                    <a:pt x="520" y="271"/>
                  </a:lnTo>
                  <a:lnTo>
                    <a:pt x="606" y="281"/>
                  </a:lnTo>
                  <a:lnTo>
                    <a:pt x="691" y="292"/>
                  </a:lnTo>
                  <a:lnTo>
                    <a:pt x="775" y="306"/>
                  </a:lnTo>
                  <a:lnTo>
                    <a:pt x="859" y="324"/>
                  </a:lnTo>
                  <a:lnTo>
                    <a:pt x="941" y="342"/>
                  </a:lnTo>
                  <a:lnTo>
                    <a:pt x="1021" y="364"/>
                  </a:lnTo>
                  <a:lnTo>
                    <a:pt x="1099" y="386"/>
                  </a:lnTo>
                  <a:lnTo>
                    <a:pt x="1176" y="410"/>
                  </a:lnTo>
                  <a:lnTo>
                    <a:pt x="1250" y="436"/>
                  </a:lnTo>
                  <a:lnTo>
                    <a:pt x="1322" y="462"/>
                  </a:lnTo>
                  <a:lnTo>
                    <a:pt x="1391" y="488"/>
                  </a:lnTo>
                  <a:lnTo>
                    <a:pt x="1457" y="515"/>
                  </a:lnTo>
                  <a:lnTo>
                    <a:pt x="1520" y="543"/>
                  </a:lnTo>
                  <a:lnTo>
                    <a:pt x="1581" y="570"/>
                  </a:lnTo>
                  <a:lnTo>
                    <a:pt x="1637" y="595"/>
                  </a:lnTo>
                  <a:lnTo>
                    <a:pt x="1690" y="621"/>
                  </a:lnTo>
                  <a:lnTo>
                    <a:pt x="1739" y="646"/>
                  </a:lnTo>
                  <a:lnTo>
                    <a:pt x="1785" y="669"/>
                  </a:lnTo>
                  <a:lnTo>
                    <a:pt x="1861" y="711"/>
                  </a:lnTo>
                  <a:lnTo>
                    <a:pt x="1919" y="744"/>
                  </a:lnTo>
                  <a:lnTo>
                    <a:pt x="1956" y="768"/>
                  </a:lnTo>
                  <a:lnTo>
                    <a:pt x="1973" y="77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-65880" y="1553040"/>
              <a:ext cx="492120" cy="138240"/>
            </a:xfrm>
            <a:custGeom>
              <a:avLst/>
              <a:gdLst/>
              <a:ahLst/>
              <a:rect l="l" t="t" r="r" b="b"/>
              <a:pathLst>
                <a:path w="2220" h="663">
                  <a:moveTo>
                    <a:pt x="0" y="124"/>
                  </a:moveTo>
                  <a:lnTo>
                    <a:pt x="68" y="99"/>
                  </a:lnTo>
                  <a:lnTo>
                    <a:pt x="137" y="78"/>
                  </a:lnTo>
                  <a:lnTo>
                    <a:pt x="207" y="59"/>
                  </a:lnTo>
                  <a:lnTo>
                    <a:pt x="277" y="43"/>
                  </a:lnTo>
                  <a:lnTo>
                    <a:pt x="347" y="29"/>
                  </a:lnTo>
                  <a:lnTo>
                    <a:pt x="418" y="19"/>
                  </a:lnTo>
                  <a:lnTo>
                    <a:pt x="489" y="11"/>
                  </a:lnTo>
                  <a:lnTo>
                    <a:pt x="561" y="5"/>
                  </a:lnTo>
                  <a:lnTo>
                    <a:pt x="632" y="1"/>
                  </a:lnTo>
                  <a:lnTo>
                    <a:pt x="704" y="0"/>
                  </a:lnTo>
                  <a:lnTo>
                    <a:pt x="776" y="2"/>
                  </a:lnTo>
                  <a:lnTo>
                    <a:pt x="848" y="6"/>
                  </a:lnTo>
                  <a:lnTo>
                    <a:pt x="920" y="12"/>
                  </a:lnTo>
                  <a:lnTo>
                    <a:pt x="992" y="20"/>
                  </a:lnTo>
                  <a:lnTo>
                    <a:pt x="1064" y="30"/>
                  </a:lnTo>
                  <a:lnTo>
                    <a:pt x="1135" y="43"/>
                  </a:lnTo>
                  <a:lnTo>
                    <a:pt x="1207" y="56"/>
                  </a:lnTo>
                  <a:lnTo>
                    <a:pt x="1278" y="72"/>
                  </a:lnTo>
                  <a:lnTo>
                    <a:pt x="1349" y="91"/>
                  </a:lnTo>
                  <a:lnTo>
                    <a:pt x="1420" y="110"/>
                  </a:lnTo>
                  <a:lnTo>
                    <a:pt x="1490" y="132"/>
                  </a:lnTo>
                  <a:lnTo>
                    <a:pt x="1560" y="156"/>
                  </a:lnTo>
                  <a:lnTo>
                    <a:pt x="1629" y="180"/>
                  </a:lnTo>
                  <a:lnTo>
                    <a:pt x="1698" y="207"/>
                  </a:lnTo>
                  <a:lnTo>
                    <a:pt x="1766" y="235"/>
                  </a:lnTo>
                  <a:lnTo>
                    <a:pt x="1833" y="265"/>
                  </a:lnTo>
                  <a:lnTo>
                    <a:pt x="1899" y="296"/>
                  </a:lnTo>
                  <a:lnTo>
                    <a:pt x="1966" y="328"/>
                  </a:lnTo>
                  <a:lnTo>
                    <a:pt x="2031" y="362"/>
                  </a:lnTo>
                  <a:lnTo>
                    <a:pt x="2095" y="397"/>
                  </a:lnTo>
                  <a:lnTo>
                    <a:pt x="2157" y="433"/>
                  </a:lnTo>
                  <a:lnTo>
                    <a:pt x="2220" y="470"/>
                  </a:lnTo>
                  <a:lnTo>
                    <a:pt x="2166" y="493"/>
                  </a:lnTo>
                  <a:lnTo>
                    <a:pt x="2113" y="514"/>
                  </a:lnTo>
                  <a:lnTo>
                    <a:pt x="2062" y="533"/>
                  </a:lnTo>
                  <a:lnTo>
                    <a:pt x="2011" y="551"/>
                  </a:lnTo>
                  <a:lnTo>
                    <a:pt x="1962" y="567"/>
                  </a:lnTo>
                  <a:lnTo>
                    <a:pt x="1914" y="583"/>
                  </a:lnTo>
                  <a:lnTo>
                    <a:pt x="1866" y="597"/>
                  </a:lnTo>
                  <a:lnTo>
                    <a:pt x="1819" y="609"/>
                  </a:lnTo>
                  <a:lnTo>
                    <a:pt x="1774" y="621"/>
                  </a:lnTo>
                  <a:lnTo>
                    <a:pt x="1729" y="631"/>
                  </a:lnTo>
                  <a:lnTo>
                    <a:pt x="1683" y="639"/>
                  </a:lnTo>
                  <a:lnTo>
                    <a:pt x="1640" y="646"/>
                  </a:lnTo>
                  <a:lnTo>
                    <a:pt x="1596" y="652"/>
                  </a:lnTo>
                  <a:lnTo>
                    <a:pt x="1553" y="657"/>
                  </a:lnTo>
                  <a:lnTo>
                    <a:pt x="1510" y="661"/>
                  </a:lnTo>
                  <a:lnTo>
                    <a:pt x="1467" y="662"/>
                  </a:lnTo>
                  <a:lnTo>
                    <a:pt x="1425" y="663"/>
                  </a:lnTo>
                  <a:lnTo>
                    <a:pt x="1383" y="662"/>
                  </a:lnTo>
                  <a:lnTo>
                    <a:pt x="1340" y="660"/>
                  </a:lnTo>
                  <a:lnTo>
                    <a:pt x="1298" y="657"/>
                  </a:lnTo>
                  <a:lnTo>
                    <a:pt x="1255" y="651"/>
                  </a:lnTo>
                  <a:lnTo>
                    <a:pt x="1212" y="645"/>
                  </a:lnTo>
                  <a:lnTo>
                    <a:pt x="1169" y="637"/>
                  </a:lnTo>
                  <a:lnTo>
                    <a:pt x="1125" y="628"/>
                  </a:lnTo>
                  <a:lnTo>
                    <a:pt x="1082" y="618"/>
                  </a:lnTo>
                  <a:lnTo>
                    <a:pt x="1036" y="606"/>
                  </a:lnTo>
                  <a:lnTo>
                    <a:pt x="991" y="593"/>
                  </a:lnTo>
                  <a:lnTo>
                    <a:pt x="945" y="578"/>
                  </a:lnTo>
                  <a:lnTo>
                    <a:pt x="898" y="562"/>
                  </a:lnTo>
                  <a:lnTo>
                    <a:pt x="851" y="544"/>
                  </a:lnTo>
                  <a:lnTo>
                    <a:pt x="803" y="526"/>
                  </a:lnTo>
                  <a:lnTo>
                    <a:pt x="752" y="505"/>
                  </a:lnTo>
                  <a:lnTo>
                    <a:pt x="733" y="497"/>
                  </a:lnTo>
                  <a:lnTo>
                    <a:pt x="713" y="488"/>
                  </a:lnTo>
                  <a:lnTo>
                    <a:pt x="694" y="478"/>
                  </a:lnTo>
                  <a:lnTo>
                    <a:pt x="675" y="467"/>
                  </a:lnTo>
                  <a:lnTo>
                    <a:pt x="636" y="446"/>
                  </a:lnTo>
                  <a:lnTo>
                    <a:pt x="598" y="422"/>
                  </a:lnTo>
                  <a:lnTo>
                    <a:pt x="559" y="396"/>
                  </a:lnTo>
                  <a:lnTo>
                    <a:pt x="520" y="371"/>
                  </a:lnTo>
                  <a:lnTo>
                    <a:pt x="479" y="344"/>
                  </a:lnTo>
                  <a:lnTo>
                    <a:pt x="437" y="317"/>
                  </a:lnTo>
                  <a:lnTo>
                    <a:pt x="393" y="289"/>
                  </a:lnTo>
                  <a:lnTo>
                    <a:pt x="347" y="263"/>
                  </a:lnTo>
                  <a:lnTo>
                    <a:pt x="322" y="249"/>
                  </a:lnTo>
                  <a:lnTo>
                    <a:pt x="298" y="236"/>
                  </a:lnTo>
                  <a:lnTo>
                    <a:pt x="272" y="224"/>
                  </a:lnTo>
                  <a:lnTo>
                    <a:pt x="246" y="210"/>
                  </a:lnTo>
                  <a:lnTo>
                    <a:pt x="219" y="198"/>
                  </a:lnTo>
                  <a:lnTo>
                    <a:pt x="191" y="187"/>
                  </a:lnTo>
                  <a:lnTo>
                    <a:pt x="161" y="175"/>
                  </a:lnTo>
                  <a:lnTo>
                    <a:pt x="131" y="164"/>
                  </a:lnTo>
                  <a:lnTo>
                    <a:pt x="100" y="153"/>
                  </a:lnTo>
                  <a:lnTo>
                    <a:pt x="68" y="142"/>
                  </a:lnTo>
                  <a:lnTo>
                    <a:pt x="34" y="133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808200" y="-88200"/>
              <a:ext cx="195480" cy="49860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830160" y="-1440"/>
              <a:ext cx="146160" cy="51408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  <a:effectLst>
              <a:outerShdw dist="36147" dir="2700000" blurRad="0" rotWithShape="0">
                <a:srgbClr val="2a4ca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991280" y="5710680"/>
            <a:ext cx="1103760" cy="1261800"/>
            <a:chOff x="7991280" y="5710680"/>
            <a:chExt cx="1103760" cy="1261800"/>
          </a:xfrm>
        </p:grpSpPr>
        <p:sp>
          <p:nvSpPr>
            <p:cNvPr id="146" name=""/>
            <p:cNvSpPr/>
            <p:nvPr/>
          </p:nvSpPr>
          <p:spPr>
            <a:xfrm flipH="1" rot="20027400">
              <a:off x="8178120" y="5882040"/>
              <a:ext cx="738720" cy="97740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20027400">
              <a:off x="8168760" y="5823360"/>
              <a:ext cx="738720" cy="97812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20027400">
              <a:off x="8303760" y="5883480"/>
              <a:ext cx="527040" cy="563040"/>
            </a:xfrm>
            <a:custGeom>
              <a:avLst/>
              <a:gdLst/>
              <a:ahLst/>
              <a:rect l="l" t="t" r="r" b="b"/>
              <a:pathLst>
                <a:path w="3736" h="2244">
                  <a:moveTo>
                    <a:pt x="3736" y="0"/>
                  </a:moveTo>
                  <a:lnTo>
                    <a:pt x="3603" y="8"/>
                  </a:lnTo>
                  <a:lnTo>
                    <a:pt x="3408" y="11"/>
                  </a:lnTo>
                  <a:lnTo>
                    <a:pt x="3218" y="15"/>
                  </a:lnTo>
                  <a:lnTo>
                    <a:pt x="3032" y="22"/>
                  </a:lnTo>
                  <a:lnTo>
                    <a:pt x="2850" y="32"/>
                  </a:lnTo>
                  <a:lnTo>
                    <a:pt x="2673" y="44"/>
                  </a:lnTo>
                  <a:lnTo>
                    <a:pt x="2501" y="60"/>
                  </a:lnTo>
                  <a:lnTo>
                    <a:pt x="2333" y="78"/>
                  </a:lnTo>
                  <a:lnTo>
                    <a:pt x="2170" y="100"/>
                  </a:lnTo>
                  <a:lnTo>
                    <a:pt x="2012" y="126"/>
                  </a:lnTo>
                  <a:lnTo>
                    <a:pt x="1860" y="156"/>
                  </a:lnTo>
                  <a:lnTo>
                    <a:pt x="1712" y="190"/>
                  </a:lnTo>
                  <a:lnTo>
                    <a:pt x="1570" y="228"/>
                  </a:lnTo>
                  <a:lnTo>
                    <a:pt x="1433" y="271"/>
                  </a:lnTo>
                  <a:lnTo>
                    <a:pt x="1303" y="318"/>
                  </a:lnTo>
                  <a:lnTo>
                    <a:pt x="1176" y="371"/>
                  </a:lnTo>
                  <a:lnTo>
                    <a:pt x="1057" y="429"/>
                  </a:lnTo>
                  <a:lnTo>
                    <a:pt x="943" y="492"/>
                  </a:lnTo>
                  <a:lnTo>
                    <a:pt x="835" y="561"/>
                  </a:lnTo>
                  <a:lnTo>
                    <a:pt x="732" y="636"/>
                  </a:lnTo>
                  <a:lnTo>
                    <a:pt x="636" y="717"/>
                  </a:lnTo>
                  <a:lnTo>
                    <a:pt x="547" y="805"/>
                  </a:lnTo>
                  <a:lnTo>
                    <a:pt x="463" y="898"/>
                  </a:lnTo>
                  <a:lnTo>
                    <a:pt x="386" y="999"/>
                  </a:lnTo>
                  <a:lnTo>
                    <a:pt x="315" y="1106"/>
                  </a:lnTo>
                  <a:lnTo>
                    <a:pt x="251" y="1221"/>
                  </a:lnTo>
                  <a:lnTo>
                    <a:pt x="195" y="1343"/>
                  </a:lnTo>
                  <a:lnTo>
                    <a:pt x="144" y="1473"/>
                  </a:lnTo>
                  <a:lnTo>
                    <a:pt x="101" y="1611"/>
                  </a:lnTo>
                  <a:lnTo>
                    <a:pt x="65" y="1757"/>
                  </a:lnTo>
                  <a:lnTo>
                    <a:pt x="36" y="1910"/>
                  </a:lnTo>
                  <a:lnTo>
                    <a:pt x="15" y="2074"/>
                  </a:lnTo>
                  <a:lnTo>
                    <a:pt x="0" y="2244"/>
                  </a:lnTo>
                  <a:lnTo>
                    <a:pt x="109" y="2092"/>
                  </a:lnTo>
                  <a:lnTo>
                    <a:pt x="226" y="1945"/>
                  </a:lnTo>
                  <a:lnTo>
                    <a:pt x="349" y="1805"/>
                  </a:lnTo>
                  <a:lnTo>
                    <a:pt x="479" y="1671"/>
                  </a:lnTo>
                  <a:lnTo>
                    <a:pt x="615" y="1542"/>
                  </a:lnTo>
                  <a:lnTo>
                    <a:pt x="754" y="1420"/>
                  </a:lnTo>
                  <a:lnTo>
                    <a:pt x="899" y="1303"/>
                  </a:lnTo>
                  <a:lnTo>
                    <a:pt x="1047" y="1192"/>
                  </a:lnTo>
                  <a:lnTo>
                    <a:pt x="1198" y="1087"/>
                  </a:lnTo>
                  <a:lnTo>
                    <a:pt x="1350" y="988"/>
                  </a:lnTo>
                  <a:lnTo>
                    <a:pt x="1503" y="893"/>
                  </a:lnTo>
                  <a:lnTo>
                    <a:pt x="1658" y="805"/>
                  </a:lnTo>
                  <a:lnTo>
                    <a:pt x="1812" y="720"/>
                  </a:lnTo>
                  <a:lnTo>
                    <a:pt x="1965" y="642"/>
                  </a:lnTo>
                  <a:lnTo>
                    <a:pt x="2116" y="568"/>
                  </a:lnTo>
                  <a:lnTo>
                    <a:pt x="2265" y="500"/>
                  </a:lnTo>
                  <a:lnTo>
                    <a:pt x="2411" y="436"/>
                  </a:lnTo>
                  <a:lnTo>
                    <a:pt x="2552" y="377"/>
                  </a:lnTo>
                  <a:lnTo>
                    <a:pt x="2690" y="323"/>
                  </a:lnTo>
                  <a:lnTo>
                    <a:pt x="2823" y="273"/>
                  </a:lnTo>
                  <a:lnTo>
                    <a:pt x="2948" y="228"/>
                  </a:lnTo>
                  <a:lnTo>
                    <a:pt x="3069" y="187"/>
                  </a:lnTo>
                  <a:lnTo>
                    <a:pt x="3181" y="150"/>
                  </a:lnTo>
                  <a:lnTo>
                    <a:pt x="3285" y="119"/>
                  </a:lnTo>
                  <a:lnTo>
                    <a:pt x="3379" y="90"/>
                  </a:lnTo>
                  <a:lnTo>
                    <a:pt x="3465" y="66"/>
                  </a:lnTo>
                  <a:lnTo>
                    <a:pt x="3540" y="46"/>
                  </a:lnTo>
                  <a:lnTo>
                    <a:pt x="3605" y="29"/>
                  </a:lnTo>
                  <a:lnTo>
                    <a:pt x="3657" y="17"/>
                  </a:lnTo>
                  <a:lnTo>
                    <a:pt x="3696" y="7"/>
                  </a:lnTo>
                  <a:lnTo>
                    <a:pt x="3723" y="2"/>
                  </a:lnTo>
                  <a:lnTo>
                    <a:pt x="373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rot="20027400">
              <a:off x="8298000" y="5918400"/>
              <a:ext cx="553320" cy="680760"/>
            </a:xfrm>
            <a:custGeom>
              <a:avLst/>
              <a:gdLst/>
              <a:ahLst/>
              <a:rect l="l" t="t" r="r" b="b"/>
              <a:pathLst>
                <a:path w="3911" h="2822">
                  <a:moveTo>
                    <a:pt x="0" y="2822"/>
                  </a:moveTo>
                  <a:lnTo>
                    <a:pt x="66" y="2682"/>
                  </a:lnTo>
                  <a:lnTo>
                    <a:pt x="139" y="2545"/>
                  </a:lnTo>
                  <a:lnTo>
                    <a:pt x="217" y="2412"/>
                  </a:lnTo>
                  <a:lnTo>
                    <a:pt x="299" y="2281"/>
                  </a:lnTo>
                  <a:lnTo>
                    <a:pt x="386" y="2154"/>
                  </a:lnTo>
                  <a:lnTo>
                    <a:pt x="478" y="2031"/>
                  </a:lnTo>
                  <a:lnTo>
                    <a:pt x="575" y="1912"/>
                  </a:lnTo>
                  <a:lnTo>
                    <a:pt x="674" y="1794"/>
                  </a:lnTo>
                  <a:lnTo>
                    <a:pt x="779" y="1681"/>
                  </a:lnTo>
                  <a:lnTo>
                    <a:pt x="887" y="1572"/>
                  </a:lnTo>
                  <a:lnTo>
                    <a:pt x="999" y="1465"/>
                  </a:lnTo>
                  <a:lnTo>
                    <a:pt x="1115" y="1363"/>
                  </a:lnTo>
                  <a:lnTo>
                    <a:pt x="1233" y="1263"/>
                  </a:lnTo>
                  <a:lnTo>
                    <a:pt x="1355" y="1166"/>
                  </a:lnTo>
                  <a:lnTo>
                    <a:pt x="1481" y="1074"/>
                  </a:lnTo>
                  <a:lnTo>
                    <a:pt x="1608" y="984"/>
                  </a:lnTo>
                  <a:lnTo>
                    <a:pt x="1739" y="898"/>
                  </a:lnTo>
                  <a:lnTo>
                    <a:pt x="1873" y="814"/>
                  </a:lnTo>
                  <a:lnTo>
                    <a:pt x="2008" y="735"/>
                  </a:lnTo>
                  <a:lnTo>
                    <a:pt x="2146" y="659"/>
                  </a:lnTo>
                  <a:lnTo>
                    <a:pt x="2286" y="586"/>
                  </a:lnTo>
                  <a:lnTo>
                    <a:pt x="2427" y="516"/>
                  </a:lnTo>
                  <a:lnTo>
                    <a:pt x="2571" y="450"/>
                  </a:lnTo>
                  <a:lnTo>
                    <a:pt x="2716" y="386"/>
                  </a:lnTo>
                  <a:lnTo>
                    <a:pt x="2862" y="327"/>
                  </a:lnTo>
                  <a:lnTo>
                    <a:pt x="3010" y="270"/>
                  </a:lnTo>
                  <a:lnTo>
                    <a:pt x="3158" y="217"/>
                  </a:lnTo>
                  <a:lnTo>
                    <a:pt x="3308" y="167"/>
                  </a:lnTo>
                  <a:lnTo>
                    <a:pt x="3458" y="121"/>
                  </a:lnTo>
                  <a:lnTo>
                    <a:pt x="3609" y="77"/>
                  </a:lnTo>
                  <a:lnTo>
                    <a:pt x="3760" y="37"/>
                  </a:lnTo>
                  <a:lnTo>
                    <a:pt x="3911" y="0"/>
                  </a:lnTo>
                  <a:lnTo>
                    <a:pt x="3862" y="115"/>
                  </a:lnTo>
                  <a:lnTo>
                    <a:pt x="3813" y="227"/>
                  </a:lnTo>
                  <a:lnTo>
                    <a:pt x="3762" y="334"/>
                  </a:lnTo>
                  <a:lnTo>
                    <a:pt x="3713" y="438"/>
                  </a:lnTo>
                  <a:lnTo>
                    <a:pt x="3662" y="538"/>
                  </a:lnTo>
                  <a:lnTo>
                    <a:pt x="3612" y="634"/>
                  </a:lnTo>
                  <a:lnTo>
                    <a:pt x="3561" y="727"/>
                  </a:lnTo>
                  <a:lnTo>
                    <a:pt x="3509" y="816"/>
                  </a:lnTo>
                  <a:lnTo>
                    <a:pt x="3456" y="903"/>
                  </a:lnTo>
                  <a:lnTo>
                    <a:pt x="3402" y="987"/>
                  </a:lnTo>
                  <a:lnTo>
                    <a:pt x="3347" y="1067"/>
                  </a:lnTo>
                  <a:lnTo>
                    <a:pt x="3291" y="1144"/>
                  </a:lnTo>
                  <a:lnTo>
                    <a:pt x="3234" y="1220"/>
                  </a:lnTo>
                  <a:lnTo>
                    <a:pt x="3175" y="1292"/>
                  </a:lnTo>
                  <a:lnTo>
                    <a:pt x="3114" y="1361"/>
                  </a:lnTo>
                  <a:lnTo>
                    <a:pt x="3051" y="1428"/>
                  </a:lnTo>
                  <a:lnTo>
                    <a:pt x="2988" y="1494"/>
                  </a:lnTo>
                  <a:lnTo>
                    <a:pt x="2922" y="1557"/>
                  </a:lnTo>
                  <a:lnTo>
                    <a:pt x="2854" y="1618"/>
                  </a:lnTo>
                  <a:lnTo>
                    <a:pt x="2783" y="1676"/>
                  </a:lnTo>
                  <a:lnTo>
                    <a:pt x="2711" y="1733"/>
                  </a:lnTo>
                  <a:lnTo>
                    <a:pt x="2636" y="1788"/>
                  </a:lnTo>
                  <a:lnTo>
                    <a:pt x="2558" y="1842"/>
                  </a:lnTo>
                  <a:lnTo>
                    <a:pt x="2477" y="1893"/>
                  </a:lnTo>
                  <a:lnTo>
                    <a:pt x="2395" y="1945"/>
                  </a:lnTo>
                  <a:lnTo>
                    <a:pt x="2309" y="1994"/>
                  </a:lnTo>
                  <a:lnTo>
                    <a:pt x="2219" y="2042"/>
                  </a:lnTo>
                  <a:lnTo>
                    <a:pt x="2128" y="2089"/>
                  </a:lnTo>
                  <a:lnTo>
                    <a:pt x="2032" y="2135"/>
                  </a:lnTo>
                  <a:lnTo>
                    <a:pt x="1933" y="2180"/>
                  </a:lnTo>
                  <a:lnTo>
                    <a:pt x="1830" y="2225"/>
                  </a:lnTo>
                  <a:lnTo>
                    <a:pt x="1725" y="2269"/>
                  </a:lnTo>
                  <a:lnTo>
                    <a:pt x="1681" y="2286"/>
                  </a:lnTo>
                  <a:lnTo>
                    <a:pt x="1637" y="2302"/>
                  </a:lnTo>
                  <a:lnTo>
                    <a:pt x="1593" y="2315"/>
                  </a:lnTo>
                  <a:lnTo>
                    <a:pt x="1548" y="2328"/>
                  </a:lnTo>
                  <a:lnTo>
                    <a:pt x="1502" y="2342"/>
                  </a:lnTo>
                  <a:lnTo>
                    <a:pt x="1456" y="2353"/>
                  </a:lnTo>
                  <a:lnTo>
                    <a:pt x="1409" y="2364"/>
                  </a:lnTo>
                  <a:lnTo>
                    <a:pt x="1361" y="2375"/>
                  </a:lnTo>
                  <a:lnTo>
                    <a:pt x="1265" y="2395"/>
                  </a:lnTo>
                  <a:lnTo>
                    <a:pt x="1165" y="2415"/>
                  </a:lnTo>
                  <a:lnTo>
                    <a:pt x="1063" y="2435"/>
                  </a:lnTo>
                  <a:lnTo>
                    <a:pt x="957" y="2458"/>
                  </a:lnTo>
                  <a:lnTo>
                    <a:pt x="904" y="2470"/>
                  </a:lnTo>
                  <a:lnTo>
                    <a:pt x="849" y="2483"/>
                  </a:lnTo>
                  <a:lnTo>
                    <a:pt x="794" y="2497"/>
                  </a:lnTo>
                  <a:lnTo>
                    <a:pt x="738" y="2511"/>
                  </a:lnTo>
                  <a:lnTo>
                    <a:pt x="680" y="2528"/>
                  </a:lnTo>
                  <a:lnTo>
                    <a:pt x="623" y="2545"/>
                  </a:lnTo>
                  <a:lnTo>
                    <a:pt x="564" y="2564"/>
                  </a:lnTo>
                  <a:lnTo>
                    <a:pt x="506" y="2584"/>
                  </a:lnTo>
                  <a:lnTo>
                    <a:pt x="445" y="2607"/>
                  </a:lnTo>
                  <a:lnTo>
                    <a:pt x="384" y="2632"/>
                  </a:lnTo>
                  <a:lnTo>
                    <a:pt x="323" y="2657"/>
                  </a:lnTo>
                  <a:lnTo>
                    <a:pt x="260" y="2685"/>
                  </a:lnTo>
                  <a:lnTo>
                    <a:pt x="196" y="2716"/>
                  </a:lnTo>
                  <a:lnTo>
                    <a:pt x="131" y="2749"/>
                  </a:lnTo>
                  <a:lnTo>
                    <a:pt x="66" y="2784"/>
                  </a:lnTo>
                  <a:lnTo>
                    <a:pt x="0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604000" y="4735440"/>
            <a:ext cx="622080" cy="660600"/>
            <a:chOff x="8604000" y="4735440"/>
            <a:chExt cx="622080" cy="660600"/>
          </a:xfrm>
        </p:grpSpPr>
        <p:sp>
          <p:nvSpPr>
            <p:cNvPr id="151" name=""/>
            <p:cNvSpPr/>
            <p:nvPr/>
          </p:nvSpPr>
          <p:spPr>
            <a:xfrm flipH="1" rot="18975000">
              <a:off x="8714880" y="4894560"/>
              <a:ext cx="428400" cy="41004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8975000">
              <a:off x="8686440" y="4825800"/>
              <a:ext cx="426960" cy="41076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18975000">
              <a:off x="8748360" y="4894200"/>
              <a:ext cx="266760" cy="236880"/>
            </a:xfrm>
            <a:custGeom>
              <a:avLst/>
              <a:gdLst/>
              <a:ahLst/>
              <a:rect l="l" t="t" r="r" b="b"/>
              <a:pathLst>
                <a:path w="1973" h="778">
                  <a:moveTo>
                    <a:pt x="1973" y="778"/>
                  </a:moveTo>
                  <a:lnTo>
                    <a:pt x="1925" y="737"/>
                  </a:lnTo>
                  <a:lnTo>
                    <a:pt x="1861" y="674"/>
                  </a:lnTo>
                  <a:lnTo>
                    <a:pt x="1796" y="613"/>
                  </a:lnTo>
                  <a:lnTo>
                    <a:pt x="1732" y="554"/>
                  </a:lnTo>
                  <a:lnTo>
                    <a:pt x="1668" y="499"/>
                  </a:lnTo>
                  <a:lnTo>
                    <a:pt x="1606" y="444"/>
                  </a:lnTo>
                  <a:lnTo>
                    <a:pt x="1544" y="393"/>
                  </a:lnTo>
                  <a:lnTo>
                    <a:pt x="1482" y="344"/>
                  </a:lnTo>
                  <a:lnTo>
                    <a:pt x="1421" y="298"/>
                  </a:lnTo>
                  <a:lnTo>
                    <a:pt x="1361" y="255"/>
                  </a:lnTo>
                  <a:lnTo>
                    <a:pt x="1300" y="215"/>
                  </a:lnTo>
                  <a:lnTo>
                    <a:pt x="1240" y="178"/>
                  </a:lnTo>
                  <a:lnTo>
                    <a:pt x="1181" y="144"/>
                  </a:lnTo>
                  <a:lnTo>
                    <a:pt x="1121" y="114"/>
                  </a:lnTo>
                  <a:lnTo>
                    <a:pt x="1062" y="86"/>
                  </a:lnTo>
                  <a:lnTo>
                    <a:pt x="1004" y="62"/>
                  </a:lnTo>
                  <a:lnTo>
                    <a:pt x="945" y="42"/>
                  </a:lnTo>
                  <a:lnTo>
                    <a:pt x="887" y="25"/>
                  </a:lnTo>
                  <a:lnTo>
                    <a:pt x="828" y="13"/>
                  </a:lnTo>
                  <a:lnTo>
                    <a:pt x="769" y="5"/>
                  </a:lnTo>
                  <a:lnTo>
                    <a:pt x="712" y="0"/>
                  </a:lnTo>
                  <a:lnTo>
                    <a:pt x="653" y="0"/>
                  </a:lnTo>
                  <a:lnTo>
                    <a:pt x="594" y="3"/>
                  </a:lnTo>
                  <a:lnTo>
                    <a:pt x="536" y="11"/>
                  </a:lnTo>
                  <a:lnTo>
                    <a:pt x="477" y="23"/>
                  </a:lnTo>
                  <a:lnTo>
                    <a:pt x="419" y="41"/>
                  </a:lnTo>
                  <a:lnTo>
                    <a:pt x="360" y="62"/>
                  </a:lnTo>
                  <a:lnTo>
                    <a:pt x="300" y="89"/>
                  </a:lnTo>
                  <a:lnTo>
                    <a:pt x="242" y="121"/>
                  </a:lnTo>
                  <a:lnTo>
                    <a:pt x="182" y="157"/>
                  </a:lnTo>
                  <a:lnTo>
                    <a:pt x="121" y="198"/>
                  </a:lnTo>
                  <a:lnTo>
                    <a:pt x="61" y="246"/>
                  </a:lnTo>
                  <a:lnTo>
                    <a:pt x="0" y="297"/>
                  </a:lnTo>
                  <a:lnTo>
                    <a:pt x="86" y="283"/>
                  </a:lnTo>
                  <a:lnTo>
                    <a:pt x="173" y="272"/>
                  </a:lnTo>
                  <a:lnTo>
                    <a:pt x="260" y="266"/>
                  </a:lnTo>
                  <a:lnTo>
                    <a:pt x="347" y="264"/>
                  </a:lnTo>
                  <a:lnTo>
                    <a:pt x="434" y="266"/>
                  </a:lnTo>
                  <a:lnTo>
                    <a:pt x="520" y="271"/>
                  </a:lnTo>
                  <a:lnTo>
                    <a:pt x="606" y="281"/>
                  </a:lnTo>
                  <a:lnTo>
                    <a:pt x="691" y="292"/>
                  </a:lnTo>
                  <a:lnTo>
                    <a:pt x="775" y="306"/>
                  </a:lnTo>
                  <a:lnTo>
                    <a:pt x="859" y="324"/>
                  </a:lnTo>
                  <a:lnTo>
                    <a:pt x="941" y="342"/>
                  </a:lnTo>
                  <a:lnTo>
                    <a:pt x="1021" y="364"/>
                  </a:lnTo>
                  <a:lnTo>
                    <a:pt x="1099" y="386"/>
                  </a:lnTo>
                  <a:lnTo>
                    <a:pt x="1176" y="410"/>
                  </a:lnTo>
                  <a:lnTo>
                    <a:pt x="1250" y="436"/>
                  </a:lnTo>
                  <a:lnTo>
                    <a:pt x="1322" y="462"/>
                  </a:lnTo>
                  <a:lnTo>
                    <a:pt x="1391" y="488"/>
                  </a:lnTo>
                  <a:lnTo>
                    <a:pt x="1457" y="515"/>
                  </a:lnTo>
                  <a:lnTo>
                    <a:pt x="1520" y="543"/>
                  </a:lnTo>
                  <a:lnTo>
                    <a:pt x="1581" y="570"/>
                  </a:lnTo>
                  <a:lnTo>
                    <a:pt x="1637" y="595"/>
                  </a:lnTo>
                  <a:lnTo>
                    <a:pt x="1690" y="621"/>
                  </a:lnTo>
                  <a:lnTo>
                    <a:pt x="1739" y="646"/>
                  </a:lnTo>
                  <a:lnTo>
                    <a:pt x="1785" y="669"/>
                  </a:lnTo>
                  <a:lnTo>
                    <a:pt x="1861" y="711"/>
                  </a:lnTo>
                  <a:lnTo>
                    <a:pt x="1919" y="744"/>
                  </a:lnTo>
                  <a:lnTo>
                    <a:pt x="1956" y="768"/>
                  </a:lnTo>
                  <a:lnTo>
                    <a:pt x="1973" y="77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8975000">
              <a:off x="8776440" y="4969440"/>
              <a:ext cx="291960" cy="189000"/>
            </a:xfrm>
            <a:custGeom>
              <a:avLst/>
              <a:gdLst/>
              <a:ahLst/>
              <a:rect l="l" t="t" r="r" b="b"/>
              <a:pathLst>
                <a:path w="2220" h="663">
                  <a:moveTo>
                    <a:pt x="0" y="124"/>
                  </a:moveTo>
                  <a:lnTo>
                    <a:pt x="68" y="99"/>
                  </a:lnTo>
                  <a:lnTo>
                    <a:pt x="137" y="78"/>
                  </a:lnTo>
                  <a:lnTo>
                    <a:pt x="207" y="59"/>
                  </a:lnTo>
                  <a:lnTo>
                    <a:pt x="277" y="43"/>
                  </a:lnTo>
                  <a:lnTo>
                    <a:pt x="347" y="29"/>
                  </a:lnTo>
                  <a:lnTo>
                    <a:pt x="418" y="19"/>
                  </a:lnTo>
                  <a:lnTo>
                    <a:pt x="489" y="11"/>
                  </a:lnTo>
                  <a:lnTo>
                    <a:pt x="561" y="5"/>
                  </a:lnTo>
                  <a:lnTo>
                    <a:pt x="632" y="1"/>
                  </a:lnTo>
                  <a:lnTo>
                    <a:pt x="704" y="0"/>
                  </a:lnTo>
                  <a:lnTo>
                    <a:pt x="776" y="2"/>
                  </a:lnTo>
                  <a:lnTo>
                    <a:pt x="848" y="6"/>
                  </a:lnTo>
                  <a:lnTo>
                    <a:pt x="920" y="12"/>
                  </a:lnTo>
                  <a:lnTo>
                    <a:pt x="992" y="20"/>
                  </a:lnTo>
                  <a:lnTo>
                    <a:pt x="1064" y="30"/>
                  </a:lnTo>
                  <a:lnTo>
                    <a:pt x="1135" y="43"/>
                  </a:lnTo>
                  <a:lnTo>
                    <a:pt x="1207" y="56"/>
                  </a:lnTo>
                  <a:lnTo>
                    <a:pt x="1278" y="72"/>
                  </a:lnTo>
                  <a:lnTo>
                    <a:pt x="1349" y="91"/>
                  </a:lnTo>
                  <a:lnTo>
                    <a:pt x="1420" y="110"/>
                  </a:lnTo>
                  <a:lnTo>
                    <a:pt x="1490" y="132"/>
                  </a:lnTo>
                  <a:lnTo>
                    <a:pt x="1560" y="156"/>
                  </a:lnTo>
                  <a:lnTo>
                    <a:pt x="1629" y="180"/>
                  </a:lnTo>
                  <a:lnTo>
                    <a:pt x="1698" y="207"/>
                  </a:lnTo>
                  <a:lnTo>
                    <a:pt x="1766" y="235"/>
                  </a:lnTo>
                  <a:lnTo>
                    <a:pt x="1833" y="265"/>
                  </a:lnTo>
                  <a:lnTo>
                    <a:pt x="1899" y="296"/>
                  </a:lnTo>
                  <a:lnTo>
                    <a:pt x="1966" y="328"/>
                  </a:lnTo>
                  <a:lnTo>
                    <a:pt x="2031" y="362"/>
                  </a:lnTo>
                  <a:lnTo>
                    <a:pt x="2095" y="397"/>
                  </a:lnTo>
                  <a:lnTo>
                    <a:pt x="2157" y="433"/>
                  </a:lnTo>
                  <a:lnTo>
                    <a:pt x="2220" y="470"/>
                  </a:lnTo>
                  <a:lnTo>
                    <a:pt x="2166" y="493"/>
                  </a:lnTo>
                  <a:lnTo>
                    <a:pt x="2113" y="514"/>
                  </a:lnTo>
                  <a:lnTo>
                    <a:pt x="2062" y="533"/>
                  </a:lnTo>
                  <a:lnTo>
                    <a:pt x="2011" y="551"/>
                  </a:lnTo>
                  <a:lnTo>
                    <a:pt x="1962" y="567"/>
                  </a:lnTo>
                  <a:lnTo>
                    <a:pt x="1914" y="583"/>
                  </a:lnTo>
                  <a:lnTo>
                    <a:pt x="1866" y="597"/>
                  </a:lnTo>
                  <a:lnTo>
                    <a:pt x="1819" y="609"/>
                  </a:lnTo>
                  <a:lnTo>
                    <a:pt x="1774" y="621"/>
                  </a:lnTo>
                  <a:lnTo>
                    <a:pt x="1729" y="631"/>
                  </a:lnTo>
                  <a:lnTo>
                    <a:pt x="1683" y="639"/>
                  </a:lnTo>
                  <a:lnTo>
                    <a:pt x="1640" y="646"/>
                  </a:lnTo>
                  <a:lnTo>
                    <a:pt x="1596" y="652"/>
                  </a:lnTo>
                  <a:lnTo>
                    <a:pt x="1553" y="657"/>
                  </a:lnTo>
                  <a:lnTo>
                    <a:pt x="1510" y="661"/>
                  </a:lnTo>
                  <a:lnTo>
                    <a:pt x="1467" y="662"/>
                  </a:lnTo>
                  <a:lnTo>
                    <a:pt x="1425" y="663"/>
                  </a:lnTo>
                  <a:lnTo>
                    <a:pt x="1383" y="662"/>
                  </a:lnTo>
                  <a:lnTo>
                    <a:pt x="1340" y="660"/>
                  </a:lnTo>
                  <a:lnTo>
                    <a:pt x="1298" y="657"/>
                  </a:lnTo>
                  <a:lnTo>
                    <a:pt x="1255" y="651"/>
                  </a:lnTo>
                  <a:lnTo>
                    <a:pt x="1212" y="645"/>
                  </a:lnTo>
                  <a:lnTo>
                    <a:pt x="1169" y="637"/>
                  </a:lnTo>
                  <a:lnTo>
                    <a:pt x="1125" y="628"/>
                  </a:lnTo>
                  <a:lnTo>
                    <a:pt x="1082" y="618"/>
                  </a:lnTo>
                  <a:lnTo>
                    <a:pt x="1036" y="606"/>
                  </a:lnTo>
                  <a:lnTo>
                    <a:pt x="991" y="593"/>
                  </a:lnTo>
                  <a:lnTo>
                    <a:pt x="945" y="578"/>
                  </a:lnTo>
                  <a:lnTo>
                    <a:pt x="898" y="562"/>
                  </a:lnTo>
                  <a:lnTo>
                    <a:pt x="851" y="544"/>
                  </a:lnTo>
                  <a:lnTo>
                    <a:pt x="803" y="526"/>
                  </a:lnTo>
                  <a:lnTo>
                    <a:pt x="752" y="505"/>
                  </a:lnTo>
                  <a:lnTo>
                    <a:pt x="733" y="497"/>
                  </a:lnTo>
                  <a:lnTo>
                    <a:pt x="713" y="488"/>
                  </a:lnTo>
                  <a:lnTo>
                    <a:pt x="694" y="478"/>
                  </a:lnTo>
                  <a:lnTo>
                    <a:pt x="675" y="467"/>
                  </a:lnTo>
                  <a:lnTo>
                    <a:pt x="636" y="446"/>
                  </a:lnTo>
                  <a:lnTo>
                    <a:pt x="598" y="422"/>
                  </a:lnTo>
                  <a:lnTo>
                    <a:pt x="559" y="396"/>
                  </a:lnTo>
                  <a:lnTo>
                    <a:pt x="520" y="371"/>
                  </a:lnTo>
                  <a:lnTo>
                    <a:pt x="479" y="344"/>
                  </a:lnTo>
                  <a:lnTo>
                    <a:pt x="437" y="317"/>
                  </a:lnTo>
                  <a:lnTo>
                    <a:pt x="393" y="289"/>
                  </a:lnTo>
                  <a:lnTo>
                    <a:pt x="347" y="263"/>
                  </a:lnTo>
                  <a:lnTo>
                    <a:pt x="322" y="249"/>
                  </a:lnTo>
                  <a:lnTo>
                    <a:pt x="298" y="236"/>
                  </a:lnTo>
                  <a:lnTo>
                    <a:pt x="272" y="224"/>
                  </a:lnTo>
                  <a:lnTo>
                    <a:pt x="246" y="210"/>
                  </a:lnTo>
                  <a:lnTo>
                    <a:pt x="219" y="198"/>
                  </a:lnTo>
                  <a:lnTo>
                    <a:pt x="191" y="187"/>
                  </a:lnTo>
                  <a:lnTo>
                    <a:pt x="161" y="175"/>
                  </a:lnTo>
                  <a:lnTo>
                    <a:pt x="131" y="164"/>
                  </a:lnTo>
                  <a:lnTo>
                    <a:pt x="100" y="153"/>
                  </a:lnTo>
                  <a:lnTo>
                    <a:pt x="68" y="142"/>
                  </a:lnTo>
                  <a:lnTo>
                    <a:pt x="34" y="133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632320" y="5151600"/>
            <a:ext cx="580680" cy="572040"/>
            <a:chOff x="2632320" y="5151600"/>
            <a:chExt cx="580680" cy="572040"/>
          </a:xfrm>
        </p:grpSpPr>
        <p:sp>
          <p:nvSpPr>
            <p:cNvPr id="156" name=""/>
            <p:cNvSpPr/>
            <p:nvPr/>
          </p:nvSpPr>
          <p:spPr>
            <a:xfrm flipH="1" rot="2775000">
              <a:off x="2775240" y="5200920"/>
              <a:ext cx="25812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2775000">
              <a:off x="2810520" y="516636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2775000">
              <a:off x="2887200" y="5272560"/>
              <a:ext cx="140400" cy="33192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2775000">
              <a:off x="2863800" y="5220360"/>
              <a:ext cx="106200" cy="34308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655000" y="6130440"/>
            <a:ext cx="572400" cy="293400"/>
            <a:chOff x="2655000" y="6130440"/>
            <a:chExt cx="572400" cy="293400"/>
          </a:xfrm>
        </p:grpSpPr>
        <p:sp>
          <p:nvSpPr>
            <p:cNvPr id="161" name=""/>
            <p:cNvSpPr/>
            <p:nvPr/>
          </p:nvSpPr>
          <p:spPr>
            <a:xfrm flipH="1" rot="5621400">
              <a:off x="2786400" y="602208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5621400">
              <a:off x="2835720" y="602424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621400">
              <a:off x="2893680" y="6136920"/>
              <a:ext cx="140400" cy="33192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5621400">
              <a:off x="2917800" y="6069960"/>
              <a:ext cx="106200" cy="34308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 flipV="1" rot="8588400">
            <a:off x="672480" y="2498400"/>
            <a:ext cx="258840" cy="50796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2a4caa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 rot="8588400">
            <a:off x="642240" y="2458800"/>
            <a:ext cx="258840" cy="50796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c3c08d">
              <a:alpha val="29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 rot="8588400">
            <a:off x="680040" y="2561040"/>
            <a:ext cx="141120" cy="331920"/>
          </a:xfrm>
          <a:custGeom>
            <a:avLst/>
            <a:gdLst/>
            <a:ahLst/>
            <a:rect l="l" t="t" r="r" b="b"/>
            <a:pathLst>
              <a:path w="792" h="2198">
                <a:moveTo>
                  <a:pt x="792" y="0"/>
                </a:moveTo>
                <a:lnTo>
                  <a:pt x="750" y="53"/>
                </a:lnTo>
                <a:lnTo>
                  <a:pt x="683" y="128"/>
                </a:lnTo>
                <a:lnTo>
                  <a:pt x="619" y="202"/>
                </a:lnTo>
                <a:lnTo>
                  <a:pt x="559" y="276"/>
                </a:lnTo>
                <a:lnTo>
                  <a:pt x="500" y="348"/>
                </a:lnTo>
                <a:lnTo>
                  <a:pt x="443" y="420"/>
                </a:lnTo>
                <a:lnTo>
                  <a:pt x="390" y="491"/>
                </a:lnTo>
                <a:lnTo>
                  <a:pt x="339" y="562"/>
                </a:lnTo>
                <a:lnTo>
                  <a:pt x="292" y="632"/>
                </a:lnTo>
                <a:lnTo>
                  <a:pt x="248" y="701"/>
                </a:lnTo>
                <a:lnTo>
                  <a:pt x="207" y="770"/>
                </a:lnTo>
                <a:lnTo>
                  <a:pt x="169" y="838"/>
                </a:lnTo>
                <a:lnTo>
                  <a:pt x="135" y="905"/>
                </a:lnTo>
                <a:lnTo>
                  <a:pt x="104" y="972"/>
                </a:lnTo>
                <a:lnTo>
                  <a:pt x="77" y="1039"/>
                </a:lnTo>
                <a:lnTo>
                  <a:pt x="54" y="1104"/>
                </a:lnTo>
                <a:lnTo>
                  <a:pt x="35" y="1170"/>
                </a:lnTo>
                <a:lnTo>
                  <a:pt x="20" y="1236"/>
                </a:lnTo>
                <a:lnTo>
                  <a:pt x="9" y="1301"/>
                </a:lnTo>
                <a:lnTo>
                  <a:pt x="2" y="1366"/>
                </a:lnTo>
                <a:lnTo>
                  <a:pt x="0" y="1430"/>
                </a:lnTo>
                <a:lnTo>
                  <a:pt x="3" y="1494"/>
                </a:lnTo>
                <a:lnTo>
                  <a:pt x="10" y="1558"/>
                </a:lnTo>
                <a:lnTo>
                  <a:pt x="22" y="1623"/>
                </a:lnTo>
                <a:lnTo>
                  <a:pt x="39" y="1686"/>
                </a:lnTo>
                <a:lnTo>
                  <a:pt x="61" y="1750"/>
                </a:lnTo>
                <a:lnTo>
                  <a:pt x="87" y="1814"/>
                </a:lnTo>
                <a:lnTo>
                  <a:pt x="120" y="1878"/>
                </a:lnTo>
                <a:lnTo>
                  <a:pt x="157" y="1942"/>
                </a:lnTo>
                <a:lnTo>
                  <a:pt x="201" y="2005"/>
                </a:lnTo>
                <a:lnTo>
                  <a:pt x="250" y="2069"/>
                </a:lnTo>
                <a:lnTo>
                  <a:pt x="305" y="2134"/>
                </a:lnTo>
                <a:lnTo>
                  <a:pt x="365" y="2198"/>
                </a:lnTo>
                <a:lnTo>
                  <a:pt x="345" y="2104"/>
                </a:lnTo>
                <a:lnTo>
                  <a:pt x="328" y="2009"/>
                </a:lnTo>
                <a:lnTo>
                  <a:pt x="317" y="1914"/>
                </a:lnTo>
                <a:lnTo>
                  <a:pt x="311" y="1818"/>
                </a:lnTo>
                <a:lnTo>
                  <a:pt x="309" y="1722"/>
                </a:lnTo>
                <a:lnTo>
                  <a:pt x="310" y="1627"/>
                </a:lnTo>
                <a:lnTo>
                  <a:pt x="315" y="1531"/>
                </a:lnTo>
                <a:lnTo>
                  <a:pt x="323" y="1437"/>
                </a:lnTo>
                <a:lnTo>
                  <a:pt x="334" y="1343"/>
                </a:lnTo>
                <a:lnTo>
                  <a:pt x="349" y="1250"/>
                </a:lnTo>
                <a:lnTo>
                  <a:pt x="366" y="1159"/>
                </a:lnTo>
                <a:lnTo>
                  <a:pt x="385" y="1069"/>
                </a:lnTo>
                <a:lnTo>
                  <a:pt x="405" y="982"/>
                </a:lnTo>
                <a:lnTo>
                  <a:pt x="428" y="897"/>
                </a:lnTo>
                <a:lnTo>
                  <a:pt x="453" y="813"/>
                </a:lnTo>
                <a:lnTo>
                  <a:pt x="477" y="733"/>
                </a:lnTo>
                <a:lnTo>
                  <a:pt x="503" y="656"/>
                </a:lnTo>
                <a:lnTo>
                  <a:pt x="530" y="581"/>
                </a:lnTo>
                <a:lnTo>
                  <a:pt x="556" y="510"/>
                </a:lnTo>
                <a:lnTo>
                  <a:pt x="582" y="442"/>
                </a:lnTo>
                <a:lnTo>
                  <a:pt x="609" y="378"/>
                </a:lnTo>
                <a:lnTo>
                  <a:pt x="634" y="319"/>
                </a:lnTo>
                <a:lnTo>
                  <a:pt x="658" y="263"/>
                </a:lnTo>
                <a:lnTo>
                  <a:pt x="682" y="213"/>
                </a:lnTo>
                <a:lnTo>
                  <a:pt x="704" y="166"/>
                </a:lnTo>
                <a:lnTo>
                  <a:pt x="724" y="125"/>
                </a:lnTo>
                <a:lnTo>
                  <a:pt x="743" y="90"/>
                </a:lnTo>
                <a:lnTo>
                  <a:pt x="758" y="59"/>
                </a:lnTo>
                <a:lnTo>
                  <a:pt x="782" y="17"/>
                </a:lnTo>
                <a:lnTo>
                  <a:pt x="792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21114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 rot="8588400">
            <a:off x="745560" y="2513520"/>
            <a:ext cx="106200" cy="344520"/>
          </a:xfrm>
          <a:custGeom>
            <a:avLst/>
            <a:gdLst/>
            <a:ahLst/>
            <a:rect l="l" t="t" r="r" b="b"/>
            <a:pathLst>
              <a:path w="697" h="2464">
                <a:moveTo>
                  <a:pt x="175" y="2464"/>
                </a:moveTo>
                <a:lnTo>
                  <a:pt x="144" y="2390"/>
                </a:lnTo>
                <a:lnTo>
                  <a:pt x="117" y="2315"/>
                </a:lnTo>
                <a:lnTo>
                  <a:pt x="93" y="2240"/>
                </a:lnTo>
                <a:lnTo>
                  <a:pt x="71" y="2164"/>
                </a:lnTo>
                <a:lnTo>
                  <a:pt x="53" y="2087"/>
                </a:lnTo>
                <a:lnTo>
                  <a:pt x="37" y="2010"/>
                </a:lnTo>
                <a:lnTo>
                  <a:pt x="25" y="1932"/>
                </a:lnTo>
                <a:lnTo>
                  <a:pt x="15" y="1853"/>
                </a:lnTo>
                <a:lnTo>
                  <a:pt x="7" y="1774"/>
                </a:lnTo>
                <a:lnTo>
                  <a:pt x="2" y="1695"/>
                </a:lnTo>
                <a:lnTo>
                  <a:pt x="0" y="1616"/>
                </a:lnTo>
                <a:lnTo>
                  <a:pt x="1" y="1537"/>
                </a:lnTo>
                <a:lnTo>
                  <a:pt x="3" y="1456"/>
                </a:lnTo>
                <a:lnTo>
                  <a:pt x="8" y="1377"/>
                </a:lnTo>
                <a:lnTo>
                  <a:pt x="17" y="1297"/>
                </a:lnTo>
                <a:lnTo>
                  <a:pt x="26" y="1218"/>
                </a:lnTo>
                <a:lnTo>
                  <a:pt x="38" y="1138"/>
                </a:lnTo>
                <a:lnTo>
                  <a:pt x="52" y="1058"/>
                </a:lnTo>
                <a:lnTo>
                  <a:pt x="68" y="979"/>
                </a:lnTo>
                <a:lnTo>
                  <a:pt x="87" y="900"/>
                </a:lnTo>
                <a:lnTo>
                  <a:pt x="107" y="822"/>
                </a:lnTo>
                <a:lnTo>
                  <a:pt x="129" y="744"/>
                </a:lnTo>
                <a:lnTo>
                  <a:pt x="152" y="667"/>
                </a:lnTo>
                <a:lnTo>
                  <a:pt x="178" y="589"/>
                </a:lnTo>
                <a:lnTo>
                  <a:pt x="206" y="513"/>
                </a:lnTo>
                <a:lnTo>
                  <a:pt x="236" y="437"/>
                </a:lnTo>
                <a:lnTo>
                  <a:pt x="266" y="362"/>
                </a:lnTo>
                <a:lnTo>
                  <a:pt x="298" y="288"/>
                </a:lnTo>
                <a:lnTo>
                  <a:pt x="332" y="214"/>
                </a:lnTo>
                <a:lnTo>
                  <a:pt x="367" y="142"/>
                </a:lnTo>
                <a:lnTo>
                  <a:pt x="404" y="70"/>
                </a:lnTo>
                <a:lnTo>
                  <a:pt x="441" y="0"/>
                </a:lnTo>
                <a:lnTo>
                  <a:pt x="469" y="59"/>
                </a:lnTo>
                <a:lnTo>
                  <a:pt x="494" y="115"/>
                </a:lnTo>
                <a:lnTo>
                  <a:pt x="519" y="172"/>
                </a:lnTo>
                <a:lnTo>
                  <a:pt x="541" y="226"/>
                </a:lnTo>
                <a:lnTo>
                  <a:pt x="562" y="280"/>
                </a:lnTo>
                <a:lnTo>
                  <a:pt x="581" y="332"/>
                </a:lnTo>
                <a:lnTo>
                  <a:pt x="599" y="384"/>
                </a:lnTo>
                <a:lnTo>
                  <a:pt x="615" y="434"/>
                </a:lnTo>
                <a:lnTo>
                  <a:pt x="631" y="485"/>
                </a:lnTo>
                <a:lnTo>
                  <a:pt x="644" y="534"/>
                </a:lnTo>
                <a:lnTo>
                  <a:pt x="655" y="582"/>
                </a:lnTo>
                <a:lnTo>
                  <a:pt x="666" y="631"/>
                </a:lnTo>
                <a:lnTo>
                  <a:pt x="675" y="678"/>
                </a:lnTo>
                <a:lnTo>
                  <a:pt x="682" y="725"/>
                </a:lnTo>
                <a:lnTo>
                  <a:pt x="688" y="772"/>
                </a:lnTo>
                <a:lnTo>
                  <a:pt x="692" y="819"/>
                </a:lnTo>
                <a:lnTo>
                  <a:pt x="694" y="866"/>
                </a:lnTo>
                <a:lnTo>
                  <a:pt x="697" y="912"/>
                </a:lnTo>
                <a:lnTo>
                  <a:pt x="697" y="960"/>
                </a:lnTo>
                <a:lnTo>
                  <a:pt x="694" y="1007"/>
                </a:lnTo>
                <a:lnTo>
                  <a:pt x="691" y="1054"/>
                </a:lnTo>
                <a:lnTo>
                  <a:pt x="686" y="1102"/>
                </a:lnTo>
                <a:lnTo>
                  <a:pt x="680" y="1150"/>
                </a:lnTo>
                <a:lnTo>
                  <a:pt x="673" y="1198"/>
                </a:lnTo>
                <a:lnTo>
                  <a:pt x="664" y="1248"/>
                </a:lnTo>
                <a:lnTo>
                  <a:pt x="652" y="1297"/>
                </a:lnTo>
                <a:lnTo>
                  <a:pt x="640" y="1347"/>
                </a:lnTo>
                <a:lnTo>
                  <a:pt x="627" y="1399"/>
                </a:lnTo>
                <a:lnTo>
                  <a:pt x="611" y="1451"/>
                </a:lnTo>
                <a:lnTo>
                  <a:pt x="595" y="1505"/>
                </a:lnTo>
                <a:lnTo>
                  <a:pt x="576" y="1559"/>
                </a:lnTo>
                <a:lnTo>
                  <a:pt x="557" y="1615"/>
                </a:lnTo>
                <a:lnTo>
                  <a:pt x="548" y="1637"/>
                </a:lnTo>
                <a:lnTo>
                  <a:pt x="539" y="1659"/>
                </a:lnTo>
                <a:lnTo>
                  <a:pt x="529" y="1682"/>
                </a:lnTo>
                <a:lnTo>
                  <a:pt x="519" y="1703"/>
                </a:lnTo>
                <a:lnTo>
                  <a:pt x="497" y="1746"/>
                </a:lnTo>
                <a:lnTo>
                  <a:pt x="472" y="1790"/>
                </a:lnTo>
                <a:lnTo>
                  <a:pt x="447" y="1834"/>
                </a:lnTo>
                <a:lnTo>
                  <a:pt x="420" y="1879"/>
                </a:lnTo>
                <a:lnTo>
                  <a:pt x="393" y="1925"/>
                </a:lnTo>
                <a:lnTo>
                  <a:pt x="365" y="1973"/>
                </a:lnTo>
                <a:lnTo>
                  <a:pt x="338" y="2023"/>
                </a:lnTo>
                <a:lnTo>
                  <a:pt x="310" y="2076"/>
                </a:lnTo>
                <a:lnTo>
                  <a:pt x="296" y="2102"/>
                </a:lnTo>
                <a:lnTo>
                  <a:pt x="284" y="2131"/>
                </a:lnTo>
                <a:lnTo>
                  <a:pt x="271" y="2160"/>
                </a:lnTo>
                <a:lnTo>
                  <a:pt x="258" y="2189"/>
                </a:lnTo>
                <a:lnTo>
                  <a:pt x="246" y="2220"/>
                </a:lnTo>
                <a:lnTo>
                  <a:pt x="235" y="2251"/>
                </a:lnTo>
                <a:lnTo>
                  <a:pt x="223" y="2284"/>
                </a:lnTo>
                <a:lnTo>
                  <a:pt x="212" y="2318"/>
                </a:lnTo>
                <a:lnTo>
                  <a:pt x="202" y="2352"/>
                </a:lnTo>
                <a:lnTo>
                  <a:pt x="192" y="2388"/>
                </a:lnTo>
                <a:lnTo>
                  <a:pt x="183" y="2425"/>
                </a:lnTo>
                <a:lnTo>
                  <a:pt x="175" y="246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21114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121440" y="4344120"/>
            <a:ext cx="3022560" cy="2513160"/>
          </a:xfrm>
          <a:custGeom>
            <a:avLst/>
            <a:gdLst/>
            <a:ahLst/>
            <a:rect l="l" t="t" r="r" b="b"/>
            <a:pathLst>
              <a:path w="1908" h="1692">
                <a:moveTo>
                  <a:pt x="0" y="0"/>
                </a:moveTo>
                <a:lnTo>
                  <a:pt x="0" y="1692"/>
                </a:lnTo>
                <a:lnTo>
                  <a:pt x="190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66">
                  <a:alpha val="58039"/>
                </a:srgbClr>
              </a:gs>
              <a:gs pos="100000">
                <a:srgbClr val="00002f">
                  <a:alpha val="6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ftr" idx="1"/>
          </p:nvPr>
        </p:nvSpPr>
        <p:spPr>
          <a:xfrm>
            <a:off x="5268960" y="6589800"/>
            <a:ext cx="387504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586b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586b1"/>
                </a:solidFill>
                <a:latin typeface="Arial"/>
              </a:rPr>
              <a:t>9 al 13 de junio de 2003 – UASLP - San Luis Potosí, SLP, Mé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080"/>
            <a:ext cx="6124680" cy="6838920"/>
          </a:xfrm>
          <a:prstGeom prst="rect">
            <a:avLst/>
          </a:prstGeom>
          <a:gradFill rotWithShape="0">
            <a:gsLst>
              <a:gs pos="0">
                <a:srgbClr val="003366">
                  <a:alpha val="0"/>
                </a:srgbClr>
              </a:gs>
              <a:gs pos="100000">
                <a:srgbClr val="001933">
                  <a:alpha val="4705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0" y="90000"/>
            <a:ext cx="752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067440" y="4338360"/>
            <a:ext cx="3076560" cy="2547720"/>
          </a:xfrm>
          <a:prstGeom prst="line">
            <a:avLst/>
          </a:prstGeom>
          <a:ln w="9360">
            <a:solidFill>
              <a:srgbClr val="7586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body"/>
          </p:nvPr>
        </p:nvSpPr>
        <p:spPr>
          <a:xfrm>
            <a:off x="939600" y="1197000"/>
            <a:ext cx="7624440" cy="5316480"/>
          </a:xfrm>
          <a:prstGeom prst="rect">
            <a:avLst/>
          </a:prstGeom>
          <a:blipFill rotWithShape="0">
            <a:blip r:embed="rId2">
              <a:alphaModFix amt="5000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2a4c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73160" y="4695840"/>
            <a:ext cx="2301840" cy="2055960"/>
          </a:xfrm>
          <a:custGeom>
            <a:avLst/>
            <a:gdLst/>
            <a:ahLst/>
            <a:rect l="l" t="t" r="r" b="b"/>
            <a:pathLst>
              <a:path w="8995" h="8286">
                <a:moveTo>
                  <a:pt x="448" y="1054"/>
                </a:moveTo>
                <a:lnTo>
                  <a:pt x="425" y="1391"/>
                </a:lnTo>
                <a:lnTo>
                  <a:pt x="419" y="1456"/>
                </a:lnTo>
                <a:lnTo>
                  <a:pt x="418" y="1519"/>
                </a:lnTo>
                <a:lnTo>
                  <a:pt x="422" y="1580"/>
                </a:lnTo>
                <a:lnTo>
                  <a:pt x="432" y="1638"/>
                </a:lnTo>
                <a:lnTo>
                  <a:pt x="446" y="1695"/>
                </a:lnTo>
                <a:lnTo>
                  <a:pt x="466" y="1749"/>
                </a:lnTo>
                <a:lnTo>
                  <a:pt x="491" y="1801"/>
                </a:lnTo>
                <a:lnTo>
                  <a:pt x="519" y="1850"/>
                </a:lnTo>
                <a:lnTo>
                  <a:pt x="552" y="1896"/>
                </a:lnTo>
                <a:lnTo>
                  <a:pt x="589" y="1940"/>
                </a:lnTo>
                <a:lnTo>
                  <a:pt x="631" y="1981"/>
                </a:lnTo>
                <a:lnTo>
                  <a:pt x="675" y="2018"/>
                </a:lnTo>
                <a:lnTo>
                  <a:pt x="722" y="2053"/>
                </a:lnTo>
                <a:lnTo>
                  <a:pt x="772" y="2084"/>
                </a:lnTo>
                <a:lnTo>
                  <a:pt x="826" y="2111"/>
                </a:lnTo>
                <a:lnTo>
                  <a:pt x="882" y="2135"/>
                </a:lnTo>
                <a:lnTo>
                  <a:pt x="940" y="2156"/>
                </a:lnTo>
                <a:lnTo>
                  <a:pt x="1001" y="2172"/>
                </a:lnTo>
                <a:lnTo>
                  <a:pt x="1063" y="2184"/>
                </a:lnTo>
                <a:lnTo>
                  <a:pt x="1127" y="2194"/>
                </a:lnTo>
                <a:lnTo>
                  <a:pt x="1193" y="2198"/>
                </a:lnTo>
                <a:lnTo>
                  <a:pt x="1260" y="2198"/>
                </a:lnTo>
                <a:lnTo>
                  <a:pt x="1328" y="2194"/>
                </a:lnTo>
                <a:lnTo>
                  <a:pt x="1397" y="2185"/>
                </a:lnTo>
                <a:lnTo>
                  <a:pt x="1466" y="2172"/>
                </a:lnTo>
                <a:lnTo>
                  <a:pt x="1536" y="2154"/>
                </a:lnTo>
                <a:lnTo>
                  <a:pt x="1606" y="2131"/>
                </a:lnTo>
                <a:lnTo>
                  <a:pt x="1676" y="2102"/>
                </a:lnTo>
                <a:lnTo>
                  <a:pt x="1745" y="2069"/>
                </a:lnTo>
                <a:lnTo>
                  <a:pt x="1813" y="2031"/>
                </a:lnTo>
                <a:lnTo>
                  <a:pt x="1882" y="1987"/>
                </a:lnTo>
                <a:lnTo>
                  <a:pt x="1949" y="1938"/>
                </a:lnTo>
                <a:lnTo>
                  <a:pt x="2061" y="1812"/>
                </a:lnTo>
                <a:lnTo>
                  <a:pt x="2179" y="1688"/>
                </a:lnTo>
                <a:lnTo>
                  <a:pt x="2302" y="1565"/>
                </a:lnTo>
                <a:lnTo>
                  <a:pt x="2432" y="1444"/>
                </a:lnTo>
                <a:lnTo>
                  <a:pt x="2566" y="1326"/>
                </a:lnTo>
                <a:lnTo>
                  <a:pt x="2707" y="1210"/>
                </a:lnTo>
                <a:lnTo>
                  <a:pt x="2854" y="1097"/>
                </a:lnTo>
                <a:lnTo>
                  <a:pt x="3007" y="988"/>
                </a:lnTo>
                <a:lnTo>
                  <a:pt x="3164" y="883"/>
                </a:lnTo>
                <a:lnTo>
                  <a:pt x="3328" y="782"/>
                </a:lnTo>
                <a:lnTo>
                  <a:pt x="3496" y="685"/>
                </a:lnTo>
                <a:lnTo>
                  <a:pt x="3671" y="593"/>
                </a:lnTo>
                <a:lnTo>
                  <a:pt x="3851" y="507"/>
                </a:lnTo>
                <a:lnTo>
                  <a:pt x="4036" y="426"/>
                </a:lnTo>
                <a:lnTo>
                  <a:pt x="4227" y="351"/>
                </a:lnTo>
                <a:lnTo>
                  <a:pt x="4422" y="282"/>
                </a:lnTo>
                <a:lnTo>
                  <a:pt x="4624" y="219"/>
                </a:lnTo>
                <a:lnTo>
                  <a:pt x="4829" y="164"/>
                </a:lnTo>
                <a:lnTo>
                  <a:pt x="5040" y="116"/>
                </a:lnTo>
                <a:lnTo>
                  <a:pt x="5257" y="76"/>
                </a:lnTo>
                <a:lnTo>
                  <a:pt x="5478" y="44"/>
                </a:lnTo>
                <a:lnTo>
                  <a:pt x="5705" y="21"/>
                </a:lnTo>
                <a:lnTo>
                  <a:pt x="5936" y="6"/>
                </a:lnTo>
                <a:lnTo>
                  <a:pt x="6173" y="0"/>
                </a:lnTo>
                <a:lnTo>
                  <a:pt x="6413" y="4"/>
                </a:lnTo>
                <a:lnTo>
                  <a:pt x="6659" y="17"/>
                </a:lnTo>
                <a:lnTo>
                  <a:pt x="6910" y="41"/>
                </a:lnTo>
                <a:lnTo>
                  <a:pt x="7165" y="76"/>
                </a:lnTo>
                <a:lnTo>
                  <a:pt x="7426" y="121"/>
                </a:lnTo>
                <a:lnTo>
                  <a:pt x="7690" y="178"/>
                </a:lnTo>
                <a:lnTo>
                  <a:pt x="7959" y="247"/>
                </a:lnTo>
                <a:lnTo>
                  <a:pt x="8233" y="327"/>
                </a:lnTo>
                <a:lnTo>
                  <a:pt x="8281" y="350"/>
                </a:lnTo>
                <a:lnTo>
                  <a:pt x="8330" y="371"/>
                </a:lnTo>
                <a:lnTo>
                  <a:pt x="8377" y="391"/>
                </a:lnTo>
                <a:lnTo>
                  <a:pt x="8423" y="410"/>
                </a:lnTo>
                <a:lnTo>
                  <a:pt x="8513" y="446"/>
                </a:lnTo>
                <a:lnTo>
                  <a:pt x="8597" y="481"/>
                </a:lnTo>
                <a:lnTo>
                  <a:pt x="8637" y="499"/>
                </a:lnTo>
                <a:lnTo>
                  <a:pt x="8676" y="516"/>
                </a:lnTo>
                <a:lnTo>
                  <a:pt x="8713" y="535"/>
                </a:lnTo>
                <a:lnTo>
                  <a:pt x="8748" y="554"/>
                </a:lnTo>
                <a:lnTo>
                  <a:pt x="8782" y="575"/>
                </a:lnTo>
                <a:lnTo>
                  <a:pt x="8814" y="596"/>
                </a:lnTo>
                <a:lnTo>
                  <a:pt x="8843" y="620"/>
                </a:lnTo>
                <a:lnTo>
                  <a:pt x="8870" y="645"/>
                </a:lnTo>
                <a:lnTo>
                  <a:pt x="8894" y="673"/>
                </a:lnTo>
                <a:lnTo>
                  <a:pt x="8917" y="701"/>
                </a:lnTo>
                <a:lnTo>
                  <a:pt x="8937" y="733"/>
                </a:lnTo>
                <a:lnTo>
                  <a:pt x="8954" y="768"/>
                </a:lnTo>
                <a:lnTo>
                  <a:pt x="8968" y="806"/>
                </a:lnTo>
                <a:lnTo>
                  <a:pt x="8980" y="846"/>
                </a:lnTo>
                <a:lnTo>
                  <a:pt x="8988" y="891"/>
                </a:lnTo>
                <a:lnTo>
                  <a:pt x="8993" y="938"/>
                </a:lnTo>
                <a:lnTo>
                  <a:pt x="8995" y="990"/>
                </a:lnTo>
                <a:lnTo>
                  <a:pt x="8993" y="1046"/>
                </a:lnTo>
                <a:lnTo>
                  <a:pt x="8989" y="1106"/>
                </a:lnTo>
                <a:lnTo>
                  <a:pt x="8980" y="1170"/>
                </a:lnTo>
                <a:lnTo>
                  <a:pt x="8967" y="1240"/>
                </a:lnTo>
                <a:lnTo>
                  <a:pt x="8952" y="1314"/>
                </a:lnTo>
                <a:lnTo>
                  <a:pt x="8931" y="1394"/>
                </a:lnTo>
                <a:lnTo>
                  <a:pt x="8908" y="1479"/>
                </a:lnTo>
                <a:lnTo>
                  <a:pt x="8868" y="1628"/>
                </a:lnTo>
                <a:lnTo>
                  <a:pt x="8831" y="1778"/>
                </a:lnTo>
                <a:lnTo>
                  <a:pt x="8796" y="1928"/>
                </a:lnTo>
                <a:lnTo>
                  <a:pt x="8764" y="2078"/>
                </a:lnTo>
                <a:lnTo>
                  <a:pt x="8735" y="2229"/>
                </a:lnTo>
                <a:lnTo>
                  <a:pt x="8708" y="2379"/>
                </a:lnTo>
                <a:lnTo>
                  <a:pt x="8686" y="2530"/>
                </a:lnTo>
                <a:lnTo>
                  <a:pt x="8664" y="2681"/>
                </a:lnTo>
                <a:lnTo>
                  <a:pt x="8646" y="2832"/>
                </a:lnTo>
                <a:lnTo>
                  <a:pt x="8629" y="2985"/>
                </a:lnTo>
                <a:lnTo>
                  <a:pt x="8616" y="3137"/>
                </a:lnTo>
                <a:lnTo>
                  <a:pt x="8604" y="3290"/>
                </a:lnTo>
                <a:lnTo>
                  <a:pt x="8595" y="3443"/>
                </a:lnTo>
                <a:lnTo>
                  <a:pt x="8588" y="3598"/>
                </a:lnTo>
                <a:lnTo>
                  <a:pt x="8584" y="3752"/>
                </a:lnTo>
                <a:lnTo>
                  <a:pt x="8581" y="3907"/>
                </a:lnTo>
                <a:lnTo>
                  <a:pt x="8580" y="4064"/>
                </a:lnTo>
                <a:lnTo>
                  <a:pt x="8582" y="4220"/>
                </a:lnTo>
                <a:lnTo>
                  <a:pt x="8585" y="4378"/>
                </a:lnTo>
                <a:lnTo>
                  <a:pt x="8589" y="4537"/>
                </a:lnTo>
                <a:lnTo>
                  <a:pt x="8596" y="4695"/>
                </a:lnTo>
                <a:lnTo>
                  <a:pt x="8604" y="4855"/>
                </a:lnTo>
                <a:lnTo>
                  <a:pt x="8615" y="5016"/>
                </a:lnTo>
                <a:lnTo>
                  <a:pt x="8626" y="5178"/>
                </a:lnTo>
                <a:lnTo>
                  <a:pt x="8639" y="5341"/>
                </a:lnTo>
                <a:lnTo>
                  <a:pt x="8654" y="5504"/>
                </a:lnTo>
                <a:lnTo>
                  <a:pt x="8670" y="5670"/>
                </a:lnTo>
                <a:lnTo>
                  <a:pt x="8687" y="5836"/>
                </a:lnTo>
                <a:lnTo>
                  <a:pt x="8705" y="6002"/>
                </a:lnTo>
                <a:lnTo>
                  <a:pt x="8726" y="6171"/>
                </a:lnTo>
                <a:lnTo>
                  <a:pt x="8746" y="6341"/>
                </a:lnTo>
                <a:lnTo>
                  <a:pt x="8768" y="6511"/>
                </a:lnTo>
                <a:lnTo>
                  <a:pt x="8777" y="6550"/>
                </a:lnTo>
                <a:lnTo>
                  <a:pt x="8783" y="6587"/>
                </a:lnTo>
                <a:lnTo>
                  <a:pt x="8788" y="6622"/>
                </a:lnTo>
                <a:lnTo>
                  <a:pt x="8792" y="6655"/>
                </a:lnTo>
                <a:lnTo>
                  <a:pt x="8793" y="6686"/>
                </a:lnTo>
                <a:lnTo>
                  <a:pt x="8792" y="6716"/>
                </a:lnTo>
                <a:lnTo>
                  <a:pt x="8790" y="6744"/>
                </a:lnTo>
                <a:lnTo>
                  <a:pt x="8785" y="6770"/>
                </a:lnTo>
                <a:lnTo>
                  <a:pt x="8779" y="6793"/>
                </a:lnTo>
                <a:lnTo>
                  <a:pt x="8772" y="6815"/>
                </a:lnTo>
                <a:lnTo>
                  <a:pt x="8764" y="6835"/>
                </a:lnTo>
                <a:lnTo>
                  <a:pt x="8754" y="6854"/>
                </a:lnTo>
                <a:lnTo>
                  <a:pt x="8741" y="6871"/>
                </a:lnTo>
                <a:lnTo>
                  <a:pt x="8728" y="6887"/>
                </a:lnTo>
                <a:lnTo>
                  <a:pt x="8714" y="6900"/>
                </a:lnTo>
                <a:lnTo>
                  <a:pt x="8698" y="6912"/>
                </a:lnTo>
                <a:lnTo>
                  <a:pt x="8682" y="6924"/>
                </a:lnTo>
                <a:lnTo>
                  <a:pt x="8663" y="6933"/>
                </a:lnTo>
                <a:lnTo>
                  <a:pt x="8644" y="6940"/>
                </a:lnTo>
                <a:lnTo>
                  <a:pt x="8624" y="6947"/>
                </a:lnTo>
                <a:lnTo>
                  <a:pt x="8602" y="6953"/>
                </a:lnTo>
                <a:lnTo>
                  <a:pt x="8581" y="6956"/>
                </a:lnTo>
                <a:lnTo>
                  <a:pt x="8558" y="6959"/>
                </a:lnTo>
                <a:lnTo>
                  <a:pt x="8533" y="6960"/>
                </a:lnTo>
                <a:lnTo>
                  <a:pt x="8509" y="6959"/>
                </a:lnTo>
                <a:lnTo>
                  <a:pt x="8483" y="6958"/>
                </a:lnTo>
                <a:lnTo>
                  <a:pt x="8457" y="6956"/>
                </a:lnTo>
                <a:lnTo>
                  <a:pt x="8431" y="6952"/>
                </a:lnTo>
                <a:lnTo>
                  <a:pt x="8403" y="6946"/>
                </a:lnTo>
                <a:lnTo>
                  <a:pt x="8375" y="6941"/>
                </a:lnTo>
                <a:lnTo>
                  <a:pt x="8346" y="6934"/>
                </a:lnTo>
                <a:lnTo>
                  <a:pt x="8317" y="6926"/>
                </a:lnTo>
                <a:lnTo>
                  <a:pt x="8115" y="6872"/>
                </a:lnTo>
                <a:lnTo>
                  <a:pt x="7911" y="6827"/>
                </a:lnTo>
                <a:lnTo>
                  <a:pt x="7705" y="6792"/>
                </a:lnTo>
                <a:lnTo>
                  <a:pt x="7499" y="6765"/>
                </a:lnTo>
                <a:lnTo>
                  <a:pt x="7292" y="6747"/>
                </a:lnTo>
                <a:lnTo>
                  <a:pt x="7084" y="6737"/>
                </a:lnTo>
                <a:lnTo>
                  <a:pt x="6876" y="6735"/>
                </a:lnTo>
                <a:lnTo>
                  <a:pt x="6670" y="6739"/>
                </a:lnTo>
                <a:lnTo>
                  <a:pt x="6464" y="6751"/>
                </a:lnTo>
                <a:lnTo>
                  <a:pt x="6260" y="6771"/>
                </a:lnTo>
                <a:lnTo>
                  <a:pt x="6058" y="6795"/>
                </a:lnTo>
                <a:lnTo>
                  <a:pt x="5857" y="6827"/>
                </a:lnTo>
                <a:lnTo>
                  <a:pt x="5658" y="6865"/>
                </a:lnTo>
                <a:lnTo>
                  <a:pt x="5464" y="6908"/>
                </a:lnTo>
                <a:lnTo>
                  <a:pt x="5273" y="6957"/>
                </a:lnTo>
                <a:lnTo>
                  <a:pt x="5084" y="7009"/>
                </a:lnTo>
                <a:lnTo>
                  <a:pt x="4901" y="7068"/>
                </a:lnTo>
                <a:lnTo>
                  <a:pt x="4722" y="7131"/>
                </a:lnTo>
                <a:lnTo>
                  <a:pt x="4547" y="7196"/>
                </a:lnTo>
                <a:lnTo>
                  <a:pt x="4379" y="7266"/>
                </a:lnTo>
                <a:lnTo>
                  <a:pt x="4216" y="7340"/>
                </a:lnTo>
                <a:lnTo>
                  <a:pt x="4060" y="7416"/>
                </a:lnTo>
                <a:lnTo>
                  <a:pt x="3910" y="7496"/>
                </a:lnTo>
                <a:lnTo>
                  <a:pt x="3767" y="7578"/>
                </a:lnTo>
                <a:lnTo>
                  <a:pt x="3631" y="7662"/>
                </a:lnTo>
                <a:lnTo>
                  <a:pt x="3502" y="7748"/>
                </a:lnTo>
                <a:lnTo>
                  <a:pt x="3383" y="7835"/>
                </a:lnTo>
                <a:lnTo>
                  <a:pt x="3272" y="7925"/>
                </a:lnTo>
                <a:lnTo>
                  <a:pt x="3170" y="8014"/>
                </a:lnTo>
                <a:lnTo>
                  <a:pt x="3077" y="8105"/>
                </a:lnTo>
                <a:lnTo>
                  <a:pt x="2994" y="8195"/>
                </a:lnTo>
                <a:lnTo>
                  <a:pt x="2921" y="8286"/>
                </a:lnTo>
                <a:lnTo>
                  <a:pt x="2753" y="7948"/>
                </a:lnTo>
                <a:lnTo>
                  <a:pt x="2854" y="7832"/>
                </a:lnTo>
                <a:lnTo>
                  <a:pt x="2969" y="7718"/>
                </a:lnTo>
                <a:lnTo>
                  <a:pt x="3093" y="7607"/>
                </a:lnTo>
                <a:lnTo>
                  <a:pt x="3228" y="7500"/>
                </a:lnTo>
                <a:lnTo>
                  <a:pt x="3373" y="7395"/>
                </a:lnTo>
                <a:lnTo>
                  <a:pt x="3527" y="7294"/>
                </a:lnTo>
                <a:lnTo>
                  <a:pt x="3689" y="7196"/>
                </a:lnTo>
                <a:lnTo>
                  <a:pt x="3858" y="7103"/>
                </a:lnTo>
                <a:lnTo>
                  <a:pt x="4034" y="7013"/>
                </a:lnTo>
                <a:lnTo>
                  <a:pt x="4217" y="6928"/>
                </a:lnTo>
                <a:lnTo>
                  <a:pt x="4405" y="6848"/>
                </a:lnTo>
                <a:lnTo>
                  <a:pt x="4597" y="6772"/>
                </a:lnTo>
                <a:lnTo>
                  <a:pt x="4794" y="6702"/>
                </a:lnTo>
                <a:lnTo>
                  <a:pt x="4994" y="6636"/>
                </a:lnTo>
                <a:lnTo>
                  <a:pt x="5197" y="6576"/>
                </a:lnTo>
                <a:lnTo>
                  <a:pt x="5401" y="6522"/>
                </a:lnTo>
                <a:lnTo>
                  <a:pt x="5607" y="6473"/>
                </a:lnTo>
                <a:lnTo>
                  <a:pt x="5814" y="6430"/>
                </a:lnTo>
                <a:lnTo>
                  <a:pt x="6019" y="6394"/>
                </a:lnTo>
                <a:lnTo>
                  <a:pt x="6225" y="6364"/>
                </a:lnTo>
                <a:lnTo>
                  <a:pt x="6429" y="6342"/>
                </a:lnTo>
                <a:lnTo>
                  <a:pt x="6630" y="6326"/>
                </a:lnTo>
                <a:lnTo>
                  <a:pt x="6830" y="6317"/>
                </a:lnTo>
                <a:lnTo>
                  <a:pt x="7025" y="6316"/>
                </a:lnTo>
                <a:lnTo>
                  <a:pt x="7216" y="6322"/>
                </a:lnTo>
                <a:lnTo>
                  <a:pt x="7402" y="6337"/>
                </a:lnTo>
                <a:lnTo>
                  <a:pt x="7582" y="6358"/>
                </a:lnTo>
                <a:lnTo>
                  <a:pt x="7756" y="6389"/>
                </a:lnTo>
                <a:lnTo>
                  <a:pt x="7922" y="6428"/>
                </a:lnTo>
                <a:lnTo>
                  <a:pt x="8081" y="6475"/>
                </a:lnTo>
                <a:lnTo>
                  <a:pt x="8231" y="6532"/>
                </a:lnTo>
                <a:lnTo>
                  <a:pt x="8373" y="6598"/>
                </a:lnTo>
                <a:lnTo>
                  <a:pt x="8356" y="6432"/>
                </a:lnTo>
                <a:lnTo>
                  <a:pt x="8341" y="6266"/>
                </a:lnTo>
                <a:lnTo>
                  <a:pt x="8327" y="6099"/>
                </a:lnTo>
                <a:lnTo>
                  <a:pt x="8313" y="5933"/>
                </a:lnTo>
                <a:lnTo>
                  <a:pt x="8301" y="5768"/>
                </a:lnTo>
                <a:lnTo>
                  <a:pt x="8290" y="5601"/>
                </a:lnTo>
                <a:lnTo>
                  <a:pt x="8279" y="5436"/>
                </a:lnTo>
                <a:lnTo>
                  <a:pt x="8271" y="5270"/>
                </a:lnTo>
                <a:lnTo>
                  <a:pt x="8263" y="5104"/>
                </a:lnTo>
                <a:lnTo>
                  <a:pt x="8257" y="4940"/>
                </a:lnTo>
                <a:lnTo>
                  <a:pt x="8252" y="4774"/>
                </a:lnTo>
                <a:lnTo>
                  <a:pt x="8247" y="4610"/>
                </a:lnTo>
                <a:lnTo>
                  <a:pt x="8245" y="4444"/>
                </a:lnTo>
                <a:lnTo>
                  <a:pt x="8244" y="4280"/>
                </a:lnTo>
                <a:lnTo>
                  <a:pt x="8244" y="4115"/>
                </a:lnTo>
                <a:lnTo>
                  <a:pt x="8245" y="3950"/>
                </a:lnTo>
                <a:lnTo>
                  <a:pt x="8248" y="3786"/>
                </a:lnTo>
                <a:lnTo>
                  <a:pt x="8254" y="3621"/>
                </a:lnTo>
                <a:lnTo>
                  <a:pt x="8259" y="3457"/>
                </a:lnTo>
                <a:lnTo>
                  <a:pt x="8267" y="3293"/>
                </a:lnTo>
                <a:lnTo>
                  <a:pt x="8276" y="3129"/>
                </a:lnTo>
                <a:lnTo>
                  <a:pt x="8287" y="2965"/>
                </a:lnTo>
                <a:lnTo>
                  <a:pt x="8299" y="2802"/>
                </a:lnTo>
                <a:lnTo>
                  <a:pt x="8313" y="2638"/>
                </a:lnTo>
                <a:lnTo>
                  <a:pt x="8329" y="2475"/>
                </a:lnTo>
                <a:lnTo>
                  <a:pt x="8346" y="2311"/>
                </a:lnTo>
                <a:lnTo>
                  <a:pt x="8366" y="2147"/>
                </a:lnTo>
                <a:lnTo>
                  <a:pt x="8386" y="1985"/>
                </a:lnTo>
                <a:lnTo>
                  <a:pt x="8409" y="1821"/>
                </a:lnTo>
                <a:lnTo>
                  <a:pt x="8434" y="1659"/>
                </a:lnTo>
                <a:lnTo>
                  <a:pt x="8460" y="1496"/>
                </a:lnTo>
                <a:lnTo>
                  <a:pt x="8489" y="1334"/>
                </a:lnTo>
                <a:lnTo>
                  <a:pt x="8499" y="1307"/>
                </a:lnTo>
                <a:lnTo>
                  <a:pt x="8510" y="1282"/>
                </a:lnTo>
                <a:lnTo>
                  <a:pt x="8517" y="1257"/>
                </a:lnTo>
                <a:lnTo>
                  <a:pt x="8524" y="1232"/>
                </a:lnTo>
                <a:lnTo>
                  <a:pt x="8529" y="1208"/>
                </a:lnTo>
                <a:lnTo>
                  <a:pt x="8532" y="1185"/>
                </a:lnTo>
                <a:lnTo>
                  <a:pt x="8534" y="1161"/>
                </a:lnTo>
                <a:lnTo>
                  <a:pt x="8534" y="1138"/>
                </a:lnTo>
                <a:lnTo>
                  <a:pt x="8533" y="1116"/>
                </a:lnTo>
                <a:lnTo>
                  <a:pt x="8531" y="1093"/>
                </a:lnTo>
                <a:lnTo>
                  <a:pt x="8527" y="1072"/>
                </a:lnTo>
                <a:lnTo>
                  <a:pt x="8521" y="1051"/>
                </a:lnTo>
                <a:lnTo>
                  <a:pt x="8515" y="1029"/>
                </a:lnTo>
                <a:lnTo>
                  <a:pt x="8506" y="1010"/>
                </a:lnTo>
                <a:lnTo>
                  <a:pt x="8495" y="989"/>
                </a:lnTo>
                <a:lnTo>
                  <a:pt x="8484" y="970"/>
                </a:lnTo>
                <a:lnTo>
                  <a:pt x="8471" y="951"/>
                </a:lnTo>
                <a:lnTo>
                  <a:pt x="8456" y="933"/>
                </a:lnTo>
                <a:lnTo>
                  <a:pt x="8440" y="914"/>
                </a:lnTo>
                <a:lnTo>
                  <a:pt x="8422" y="897"/>
                </a:lnTo>
                <a:lnTo>
                  <a:pt x="8404" y="879"/>
                </a:lnTo>
                <a:lnTo>
                  <a:pt x="8383" y="862"/>
                </a:lnTo>
                <a:lnTo>
                  <a:pt x="8361" y="845"/>
                </a:lnTo>
                <a:lnTo>
                  <a:pt x="8337" y="830"/>
                </a:lnTo>
                <a:lnTo>
                  <a:pt x="8312" y="815"/>
                </a:lnTo>
                <a:lnTo>
                  <a:pt x="8285" y="799"/>
                </a:lnTo>
                <a:lnTo>
                  <a:pt x="8257" y="785"/>
                </a:lnTo>
                <a:lnTo>
                  <a:pt x="8227" y="770"/>
                </a:lnTo>
                <a:lnTo>
                  <a:pt x="8196" y="756"/>
                </a:lnTo>
                <a:lnTo>
                  <a:pt x="8163" y="743"/>
                </a:lnTo>
                <a:lnTo>
                  <a:pt x="8129" y="729"/>
                </a:lnTo>
                <a:lnTo>
                  <a:pt x="8093" y="717"/>
                </a:lnTo>
                <a:lnTo>
                  <a:pt x="7869" y="663"/>
                </a:lnTo>
                <a:lnTo>
                  <a:pt x="7647" y="615"/>
                </a:lnTo>
                <a:lnTo>
                  <a:pt x="7426" y="573"/>
                </a:lnTo>
                <a:lnTo>
                  <a:pt x="7206" y="537"/>
                </a:lnTo>
                <a:lnTo>
                  <a:pt x="6990" y="507"/>
                </a:lnTo>
                <a:lnTo>
                  <a:pt x="6775" y="482"/>
                </a:lnTo>
                <a:lnTo>
                  <a:pt x="6563" y="465"/>
                </a:lnTo>
                <a:lnTo>
                  <a:pt x="6352" y="454"/>
                </a:lnTo>
                <a:lnTo>
                  <a:pt x="6143" y="449"/>
                </a:lnTo>
                <a:lnTo>
                  <a:pt x="5936" y="451"/>
                </a:lnTo>
                <a:lnTo>
                  <a:pt x="5731" y="461"/>
                </a:lnTo>
                <a:lnTo>
                  <a:pt x="5530" y="477"/>
                </a:lnTo>
                <a:lnTo>
                  <a:pt x="5330" y="500"/>
                </a:lnTo>
                <a:lnTo>
                  <a:pt x="5133" y="531"/>
                </a:lnTo>
                <a:lnTo>
                  <a:pt x="4937" y="569"/>
                </a:lnTo>
                <a:lnTo>
                  <a:pt x="4745" y="615"/>
                </a:lnTo>
                <a:lnTo>
                  <a:pt x="4555" y="668"/>
                </a:lnTo>
                <a:lnTo>
                  <a:pt x="4367" y="730"/>
                </a:lnTo>
                <a:lnTo>
                  <a:pt x="4182" y="799"/>
                </a:lnTo>
                <a:lnTo>
                  <a:pt x="4000" y="877"/>
                </a:lnTo>
                <a:lnTo>
                  <a:pt x="3820" y="963"/>
                </a:lnTo>
                <a:lnTo>
                  <a:pt x="3643" y="1057"/>
                </a:lnTo>
                <a:lnTo>
                  <a:pt x="3468" y="1160"/>
                </a:lnTo>
                <a:lnTo>
                  <a:pt x="3298" y="1272"/>
                </a:lnTo>
                <a:lnTo>
                  <a:pt x="3129" y="1393"/>
                </a:lnTo>
                <a:lnTo>
                  <a:pt x="2962" y="1522"/>
                </a:lnTo>
                <a:lnTo>
                  <a:pt x="2800" y="1661"/>
                </a:lnTo>
                <a:lnTo>
                  <a:pt x="2640" y="1809"/>
                </a:lnTo>
                <a:lnTo>
                  <a:pt x="2483" y="1966"/>
                </a:lnTo>
                <a:lnTo>
                  <a:pt x="2329" y="2134"/>
                </a:lnTo>
                <a:lnTo>
                  <a:pt x="2179" y="2310"/>
                </a:lnTo>
                <a:lnTo>
                  <a:pt x="2030" y="2497"/>
                </a:lnTo>
                <a:lnTo>
                  <a:pt x="1977" y="2527"/>
                </a:lnTo>
                <a:lnTo>
                  <a:pt x="1918" y="2555"/>
                </a:lnTo>
                <a:lnTo>
                  <a:pt x="1855" y="2578"/>
                </a:lnTo>
                <a:lnTo>
                  <a:pt x="1788" y="2599"/>
                </a:lnTo>
                <a:lnTo>
                  <a:pt x="1718" y="2616"/>
                </a:lnTo>
                <a:lnTo>
                  <a:pt x="1645" y="2630"/>
                </a:lnTo>
                <a:lnTo>
                  <a:pt x="1569" y="2640"/>
                </a:lnTo>
                <a:lnTo>
                  <a:pt x="1490" y="2647"/>
                </a:lnTo>
                <a:lnTo>
                  <a:pt x="1410" y="2650"/>
                </a:lnTo>
                <a:lnTo>
                  <a:pt x="1329" y="2650"/>
                </a:lnTo>
                <a:lnTo>
                  <a:pt x="1247" y="2646"/>
                </a:lnTo>
                <a:lnTo>
                  <a:pt x="1163" y="2639"/>
                </a:lnTo>
                <a:lnTo>
                  <a:pt x="1080" y="2628"/>
                </a:lnTo>
                <a:lnTo>
                  <a:pt x="997" y="2613"/>
                </a:lnTo>
                <a:lnTo>
                  <a:pt x="914" y="2595"/>
                </a:lnTo>
                <a:lnTo>
                  <a:pt x="833" y="2572"/>
                </a:lnTo>
                <a:lnTo>
                  <a:pt x="753" y="2545"/>
                </a:lnTo>
                <a:lnTo>
                  <a:pt x="675" y="2515"/>
                </a:lnTo>
                <a:lnTo>
                  <a:pt x="599" y="2481"/>
                </a:lnTo>
                <a:lnTo>
                  <a:pt x="526" y="2443"/>
                </a:lnTo>
                <a:lnTo>
                  <a:pt x="456" y="2399"/>
                </a:lnTo>
                <a:lnTo>
                  <a:pt x="389" y="2353"/>
                </a:lnTo>
                <a:lnTo>
                  <a:pt x="326" y="2302"/>
                </a:lnTo>
                <a:lnTo>
                  <a:pt x="267" y="2247"/>
                </a:lnTo>
                <a:lnTo>
                  <a:pt x="213" y="2188"/>
                </a:lnTo>
                <a:lnTo>
                  <a:pt x="165" y="2124"/>
                </a:lnTo>
                <a:lnTo>
                  <a:pt x="120" y="2056"/>
                </a:lnTo>
                <a:lnTo>
                  <a:pt x="83" y="1983"/>
                </a:lnTo>
                <a:lnTo>
                  <a:pt x="52" y="1906"/>
                </a:lnTo>
                <a:lnTo>
                  <a:pt x="28" y="1824"/>
                </a:lnTo>
                <a:lnTo>
                  <a:pt x="10" y="1738"/>
                </a:lnTo>
                <a:lnTo>
                  <a:pt x="0" y="1648"/>
                </a:lnTo>
                <a:lnTo>
                  <a:pt x="30" y="1113"/>
                </a:lnTo>
                <a:lnTo>
                  <a:pt x="448" y="1054"/>
                </a:lnTo>
                <a:close/>
              </a:path>
            </a:pathLst>
          </a:custGeom>
          <a:solidFill>
            <a:srgbClr val="2a4caa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9920" y="1739520"/>
            <a:ext cx="560556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2"/>
          </p:nvPr>
        </p:nvSpPr>
        <p:spPr>
          <a:xfrm>
            <a:off x="6275520" y="6165720"/>
            <a:ext cx="2830320" cy="2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9 al 13 de junio de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"/>
          </p:nvPr>
        </p:nvSpPr>
        <p:spPr>
          <a:xfrm>
            <a:off x="5673600" y="6481800"/>
            <a:ext cx="34322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UASLP, San Luis Potosí, SLP, Méx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41240" y="4172040"/>
            <a:ext cx="106704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57200" y="3478320"/>
            <a:ext cx="462240" cy="1368360"/>
          </a:xfrm>
          <a:custGeom>
            <a:avLst/>
            <a:gdLst/>
            <a:ahLst/>
            <a:rect l="l" t="t" r="r" b="b"/>
            <a:pathLst>
              <a:path w="1816" h="5514">
                <a:moveTo>
                  <a:pt x="174" y="1546"/>
                </a:moveTo>
                <a:lnTo>
                  <a:pt x="0" y="1377"/>
                </a:lnTo>
                <a:lnTo>
                  <a:pt x="50" y="1305"/>
                </a:lnTo>
                <a:lnTo>
                  <a:pt x="100" y="1236"/>
                </a:lnTo>
                <a:lnTo>
                  <a:pt x="147" y="1170"/>
                </a:lnTo>
                <a:lnTo>
                  <a:pt x="193" y="1108"/>
                </a:lnTo>
                <a:lnTo>
                  <a:pt x="236" y="1046"/>
                </a:lnTo>
                <a:lnTo>
                  <a:pt x="277" y="984"/>
                </a:lnTo>
                <a:lnTo>
                  <a:pt x="297" y="952"/>
                </a:lnTo>
                <a:lnTo>
                  <a:pt x="316" y="921"/>
                </a:lnTo>
                <a:lnTo>
                  <a:pt x="333" y="890"/>
                </a:lnTo>
                <a:lnTo>
                  <a:pt x="350" y="857"/>
                </a:lnTo>
                <a:lnTo>
                  <a:pt x="367" y="824"/>
                </a:lnTo>
                <a:lnTo>
                  <a:pt x="382" y="789"/>
                </a:lnTo>
                <a:lnTo>
                  <a:pt x="397" y="754"/>
                </a:lnTo>
                <a:lnTo>
                  <a:pt x="410" y="718"/>
                </a:lnTo>
                <a:lnTo>
                  <a:pt x="423" y="680"/>
                </a:lnTo>
                <a:lnTo>
                  <a:pt x="434" y="641"/>
                </a:lnTo>
                <a:lnTo>
                  <a:pt x="444" y="601"/>
                </a:lnTo>
                <a:lnTo>
                  <a:pt x="453" y="557"/>
                </a:lnTo>
                <a:lnTo>
                  <a:pt x="462" y="514"/>
                </a:lnTo>
                <a:lnTo>
                  <a:pt x="468" y="468"/>
                </a:lnTo>
                <a:lnTo>
                  <a:pt x="474" y="420"/>
                </a:lnTo>
                <a:lnTo>
                  <a:pt x="478" y="369"/>
                </a:lnTo>
                <a:lnTo>
                  <a:pt x="481" y="317"/>
                </a:lnTo>
                <a:lnTo>
                  <a:pt x="483" y="262"/>
                </a:lnTo>
                <a:lnTo>
                  <a:pt x="483" y="205"/>
                </a:lnTo>
                <a:lnTo>
                  <a:pt x="482" y="144"/>
                </a:lnTo>
                <a:lnTo>
                  <a:pt x="482" y="134"/>
                </a:lnTo>
                <a:lnTo>
                  <a:pt x="483" y="123"/>
                </a:lnTo>
                <a:lnTo>
                  <a:pt x="483" y="113"/>
                </a:lnTo>
                <a:lnTo>
                  <a:pt x="485" y="102"/>
                </a:lnTo>
                <a:lnTo>
                  <a:pt x="487" y="92"/>
                </a:lnTo>
                <a:lnTo>
                  <a:pt x="489" y="82"/>
                </a:lnTo>
                <a:lnTo>
                  <a:pt x="492" y="73"/>
                </a:lnTo>
                <a:lnTo>
                  <a:pt x="497" y="64"/>
                </a:lnTo>
                <a:lnTo>
                  <a:pt x="501" y="54"/>
                </a:lnTo>
                <a:lnTo>
                  <a:pt x="506" y="46"/>
                </a:lnTo>
                <a:lnTo>
                  <a:pt x="511" y="38"/>
                </a:lnTo>
                <a:lnTo>
                  <a:pt x="517" y="31"/>
                </a:lnTo>
                <a:lnTo>
                  <a:pt x="523" y="25"/>
                </a:lnTo>
                <a:lnTo>
                  <a:pt x="532" y="18"/>
                </a:lnTo>
                <a:lnTo>
                  <a:pt x="540" y="13"/>
                </a:lnTo>
                <a:lnTo>
                  <a:pt x="548" y="9"/>
                </a:lnTo>
                <a:lnTo>
                  <a:pt x="557" y="5"/>
                </a:lnTo>
                <a:lnTo>
                  <a:pt x="568" y="3"/>
                </a:lnTo>
                <a:lnTo>
                  <a:pt x="579" y="1"/>
                </a:lnTo>
                <a:lnTo>
                  <a:pt x="590" y="0"/>
                </a:lnTo>
                <a:lnTo>
                  <a:pt x="603" y="0"/>
                </a:lnTo>
                <a:lnTo>
                  <a:pt x="616" y="2"/>
                </a:lnTo>
                <a:lnTo>
                  <a:pt x="629" y="4"/>
                </a:lnTo>
                <a:lnTo>
                  <a:pt x="644" y="8"/>
                </a:lnTo>
                <a:lnTo>
                  <a:pt x="659" y="12"/>
                </a:lnTo>
                <a:lnTo>
                  <a:pt x="676" y="18"/>
                </a:lnTo>
                <a:lnTo>
                  <a:pt x="693" y="27"/>
                </a:lnTo>
                <a:lnTo>
                  <a:pt x="711" y="35"/>
                </a:lnTo>
                <a:lnTo>
                  <a:pt x="729" y="45"/>
                </a:lnTo>
                <a:lnTo>
                  <a:pt x="749" y="57"/>
                </a:lnTo>
                <a:lnTo>
                  <a:pt x="769" y="71"/>
                </a:lnTo>
                <a:lnTo>
                  <a:pt x="791" y="86"/>
                </a:lnTo>
                <a:lnTo>
                  <a:pt x="949" y="265"/>
                </a:lnTo>
                <a:lnTo>
                  <a:pt x="1091" y="439"/>
                </a:lnTo>
                <a:lnTo>
                  <a:pt x="1219" y="609"/>
                </a:lnTo>
                <a:lnTo>
                  <a:pt x="1332" y="773"/>
                </a:lnTo>
                <a:lnTo>
                  <a:pt x="1432" y="935"/>
                </a:lnTo>
                <a:lnTo>
                  <a:pt x="1518" y="1092"/>
                </a:lnTo>
                <a:lnTo>
                  <a:pt x="1591" y="1246"/>
                </a:lnTo>
                <a:lnTo>
                  <a:pt x="1654" y="1397"/>
                </a:lnTo>
                <a:lnTo>
                  <a:pt x="1705" y="1546"/>
                </a:lnTo>
                <a:lnTo>
                  <a:pt x="1745" y="1692"/>
                </a:lnTo>
                <a:lnTo>
                  <a:pt x="1776" y="1836"/>
                </a:lnTo>
                <a:lnTo>
                  <a:pt x="1798" y="1978"/>
                </a:lnTo>
                <a:lnTo>
                  <a:pt x="1811" y="2120"/>
                </a:lnTo>
                <a:lnTo>
                  <a:pt x="1816" y="2260"/>
                </a:lnTo>
                <a:lnTo>
                  <a:pt x="1814" y="2399"/>
                </a:lnTo>
                <a:lnTo>
                  <a:pt x="1806" y="2539"/>
                </a:lnTo>
                <a:lnTo>
                  <a:pt x="1793" y="2679"/>
                </a:lnTo>
                <a:lnTo>
                  <a:pt x="1773" y="2820"/>
                </a:lnTo>
                <a:lnTo>
                  <a:pt x="1748" y="2961"/>
                </a:lnTo>
                <a:lnTo>
                  <a:pt x="1721" y="3104"/>
                </a:lnTo>
                <a:lnTo>
                  <a:pt x="1690" y="3248"/>
                </a:lnTo>
                <a:lnTo>
                  <a:pt x="1656" y="3394"/>
                </a:lnTo>
                <a:lnTo>
                  <a:pt x="1621" y="3542"/>
                </a:lnTo>
                <a:lnTo>
                  <a:pt x="1584" y="3693"/>
                </a:lnTo>
                <a:lnTo>
                  <a:pt x="1546" y="3846"/>
                </a:lnTo>
                <a:lnTo>
                  <a:pt x="1509" y="4004"/>
                </a:lnTo>
                <a:lnTo>
                  <a:pt x="1472" y="4165"/>
                </a:lnTo>
                <a:lnTo>
                  <a:pt x="1436" y="4330"/>
                </a:lnTo>
                <a:lnTo>
                  <a:pt x="1403" y="4499"/>
                </a:lnTo>
                <a:lnTo>
                  <a:pt x="1372" y="4673"/>
                </a:lnTo>
                <a:lnTo>
                  <a:pt x="1344" y="4852"/>
                </a:lnTo>
                <a:lnTo>
                  <a:pt x="1320" y="5036"/>
                </a:lnTo>
                <a:lnTo>
                  <a:pt x="1181" y="5514"/>
                </a:lnTo>
                <a:lnTo>
                  <a:pt x="1169" y="5338"/>
                </a:lnTo>
                <a:lnTo>
                  <a:pt x="1163" y="5165"/>
                </a:lnTo>
                <a:lnTo>
                  <a:pt x="1163" y="4996"/>
                </a:lnTo>
                <a:lnTo>
                  <a:pt x="1166" y="4831"/>
                </a:lnTo>
                <a:lnTo>
                  <a:pt x="1174" y="4669"/>
                </a:lnTo>
                <a:lnTo>
                  <a:pt x="1186" y="4510"/>
                </a:lnTo>
                <a:lnTo>
                  <a:pt x="1199" y="4354"/>
                </a:lnTo>
                <a:lnTo>
                  <a:pt x="1215" y="4199"/>
                </a:lnTo>
                <a:lnTo>
                  <a:pt x="1232" y="4047"/>
                </a:lnTo>
                <a:lnTo>
                  <a:pt x="1251" y="3898"/>
                </a:lnTo>
                <a:lnTo>
                  <a:pt x="1269" y="3749"/>
                </a:lnTo>
                <a:lnTo>
                  <a:pt x="1289" y="3603"/>
                </a:lnTo>
                <a:lnTo>
                  <a:pt x="1306" y="3457"/>
                </a:lnTo>
                <a:lnTo>
                  <a:pt x="1323" y="3312"/>
                </a:lnTo>
                <a:lnTo>
                  <a:pt x="1337" y="3168"/>
                </a:lnTo>
                <a:lnTo>
                  <a:pt x="1349" y="3025"/>
                </a:lnTo>
                <a:lnTo>
                  <a:pt x="1359" y="2882"/>
                </a:lnTo>
                <a:lnTo>
                  <a:pt x="1364" y="2738"/>
                </a:lnTo>
                <a:lnTo>
                  <a:pt x="1366" y="2595"/>
                </a:lnTo>
                <a:lnTo>
                  <a:pt x="1362" y="2451"/>
                </a:lnTo>
                <a:lnTo>
                  <a:pt x="1352" y="2306"/>
                </a:lnTo>
                <a:lnTo>
                  <a:pt x="1338" y="2160"/>
                </a:lnTo>
                <a:lnTo>
                  <a:pt x="1316" y="2013"/>
                </a:lnTo>
                <a:lnTo>
                  <a:pt x="1288" y="1865"/>
                </a:lnTo>
                <a:lnTo>
                  <a:pt x="1252" y="1713"/>
                </a:lnTo>
                <a:lnTo>
                  <a:pt x="1206" y="1561"/>
                </a:lnTo>
                <a:lnTo>
                  <a:pt x="1153" y="1407"/>
                </a:lnTo>
                <a:lnTo>
                  <a:pt x="1090" y="1250"/>
                </a:lnTo>
                <a:lnTo>
                  <a:pt x="1017" y="1090"/>
                </a:lnTo>
                <a:lnTo>
                  <a:pt x="934" y="928"/>
                </a:lnTo>
                <a:lnTo>
                  <a:pt x="839" y="762"/>
                </a:lnTo>
                <a:lnTo>
                  <a:pt x="732" y="592"/>
                </a:lnTo>
                <a:lnTo>
                  <a:pt x="723" y="632"/>
                </a:lnTo>
                <a:lnTo>
                  <a:pt x="714" y="671"/>
                </a:lnTo>
                <a:lnTo>
                  <a:pt x="702" y="710"/>
                </a:lnTo>
                <a:lnTo>
                  <a:pt x="691" y="747"/>
                </a:lnTo>
                <a:lnTo>
                  <a:pt x="680" y="783"/>
                </a:lnTo>
                <a:lnTo>
                  <a:pt x="667" y="819"/>
                </a:lnTo>
                <a:lnTo>
                  <a:pt x="655" y="853"/>
                </a:lnTo>
                <a:lnTo>
                  <a:pt x="642" y="886"/>
                </a:lnTo>
                <a:lnTo>
                  <a:pt x="627" y="919"/>
                </a:lnTo>
                <a:lnTo>
                  <a:pt x="613" y="951"/>
                </a:lnTo>
                <a:lnTo>
                  <a:pt x="598" y="983"/>
                </a:lnTo>
                <a:lnTo>
                  <a:pt x="583" y="1013"/>
                </a:lnTo>
                <a:lnTo>
                  <a:pt x="567" y="1044"/>
                </a:lnTo>
                <a:lnTo>
                  <a:pt x="550" y="1073"/>
                </a:lnTo>
                <a:lnTo>
                  <a:pt x="533" y="1102"/>
                </a:lnTo>
                <a:lnTo>
                  <a:pt x="515" y="1130"/>
                </a:lnTo>
                <a:lnTo>
                  <a:pt x="498" y="1158"/>
                </a:lnTo>
                <a:lnTo>
                  <a:pt x="479" y="1186"/>
                </a:lnTo>
                <a:lnTo>
                  <a:pt x="461" y="1212"/>
                </a:lnTo>
                <a:lnTo>
                  <a:pt x="441" y="1239"/>
                </a:lnTo>
                <a:lnTo>
                  <a:pt x="401" y="1293"/>
                </a:lnTo>
                <a:lnTo>
                  <a:pt x="359" y="1344"/>
                </a:lnTo>
                <a:lnTo>
                  <a:pt x="314" y="1395"/>
                </a:lnTo>
                <a:lnTo>
                  <a:pt x="269" y="1445"/>
                </a:lnTo>
                <a:lnTo>
                  <a:pt x="223" y="1495"/>
                </a:lnTo>
                <a:lnTo>
                  <a:pt x="174" y="1546"/>
                </a:lnTo>
                <a:close/>
              </a:path>
            </a:pathLst>
          </a:custGeom>
          <a:solidFill>
            <a:srgbClr val="2a4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3652920"/>
            <a:ext cx="552240" cy="1216080"/>
          </a:xfrm>
          <a:custGeom>
            <a:avLst/>
            <a:gdLst/>
            <a:ahLst/>
            <a:rect l="l" t="t" r="r" b="b"/>
            <a:pathLst>
              <a:path w="2158" h="4894">
                <a:moveTo>
                  <a:pt x="2135" y="3852"/>
                </a:moveTo>
                <a:lnTo>
                  <a:pt x="2139" y="3714"/>
                </a:lnTo>
                <a:lnTo>
                  <a:pt x="2144" y="3578"/>
                </a:lnTo>
                <a:lnTo>
                  <a:pt x="2147" y="3441"/>
                </a:lnTo>
                <a:lnTo>
                  <a:pt x="2149" y="3306"/>
                </a:lnTo>
                <a:lnTo>
                  <a:pt x="2150" y="3173"/>
                </a:lnTo>
                <a:lnTo>
                  <a:pt x="2149" y="3041"/>
                </a:lnTo>
                <a:lnTo>
                  <a:pt x="2147" y="2910"/>
                </a:lnTo>
                <a:lnTo>
                  <a:pt x="2143" y="2781"/>
                </a:lnTo>
                <a:lnTo>
                  <a:pt x="2135" y="2652"/>
                </a:lnTo>
                <a:lnTo>
                  <a:pt x="2127" y="2524"/>
                </a:lnTo>
                <a:lnTo>
                  <a:pt x="2115" y="2398"/>
                </a:lnTo>
                <a:lnTo>
                  <a:pt x="2100" y="2273"/>
                </a:lnTo>
                <a:lnTo>
                  <a:pt x="2083" y="2150"/>
                </a:lnTo>
                <a:lnTo>
                  <a:pt x="2062" y="2028"/>
                </a:lnTo>
                <a:lnTo>
                  <a:pt x="2038" y="1907"/>
                </a:lnTo>
                <a:lnTo>
                  <a:pt x="2009" y="1788"/>
                </a:lnTo>
                <a:lnTo>
                  <a:pt x="1977" y="1670"/>
                </a:lnTo>
                <a:lnTo>
                  <a:pt x="1940" y="1553"/>
                </a:lnTo>
                <a:lnTo>
                  <a:pt x="1899" y="1436"/>
                </a:lnTo>
                <a:lnTo>
                  <a:pt x="1853" y="1322"/>
                </a:lnTo>
                <a:lnTo>
                  <a:pt x="1801" y="1209"/>
                </a:lnTo>
                <a:lnTo>
                  <a:pt x="1745" y="1098"/>
                </a:lnTo>
                <a:lnTo>
                  <a:pt x="1683" y="987"/>
                </a:lnTo>
                <a:lnTo>
                  <a:pt x="1615" y="878"/>
                </a:lnTo>
                <a:lnTo>
                  <a:pt x="1541" y="770"/>
                </a:lnTo>
                <a:lnTo>
                  <a:pt x="1461" y="664"/>
                </a:lnTo>
                <a:lnTo>
                  <a:pt x="1374" y="559"/>
                </a:lnTo>
                <a:lnTo>
                  <a:pt x="1282" y="455"/>
                </a:lnTo>
                <a:lnTo>
                  <a:pt x="1182" y="352"/>
                </a:lnTo>
                <a:lnTo>
                  <a:pt x="1074" y="251"/>
                </a:lnTo>
                <a:lnTo>
                  <a:pt x="960" y="152"/>
                </a:lnTo>
                <a:lnTo>
                  <a:pt x="837" y="54"/>
                </a:lnTo>
                <a:lnTo>
                  <a:pt x="823" y="45"/>
                </a:lnTo>
                <a:lnTo>
                  <a:pt x="808" y="36"/>
                </a:lnTo>
                <a:lnTo>
                  <a:pt x="794" y="28"/>
                </a:lnTo>
                <a:lnTo>
                  <a:pt x="781" y="22"/>
                </a:lnTo>
                <a:lnTo>
                  <a:pt x="767" y="16"/>
                </a:lnTo>
                <a:lnTo>
                  <a:pt x="755" y="12"/>
                </a:lnTo>
                <a:lnTo>
                  <a:pt x="743" y="8"/>
                </a:lnTo>
                <a:lnTo>
                  <a:pt x="730" y="5"/>
                </a:lnTo>
                <a:lnTo>
                  <a:pt x="719" y="3"/>
                </a:lnTo>
                <a:lnTo>
                  <a:pt x="708" y="0"/>
                </a:lnTo>
                <a:lnTo>
                  <a:pt x="696" y="0"/>
                </a:lnTo>
                <a:lnTo>
                  <a:pt x="685" y="0"/>
                </a:lnTo>
                <a:lnTo>
                  <a:pt x="675" y="0"/>
                </a:lnTo>
                <a:lnTo>
                  <a:pt x="665" y="3"/>
                </a:lnTo>
                <a:lnTo>
                  <a:pt x="655" y="5"/>
                </a:lnTo>
                <a:lnTo>
                  <a:pt x="646" y="8"/>
                </a:lnTo>
                <a:lnTo>
                  <a:pt x="637" y="12"/>
                </a:lnTo>
                <a:lnTo>
                  <a:pt x="627" y="16"/>
                </a:lnTo>
                <a:lnTo>
                  <a:pt x="619" y="21"/>
                </a:lnTo>
                <a:lnTo>
                  <a:pt x="611" y="27"/>
                </a:lnTo>
                <a:lnTo>
                  <a:pt x="603" y="33"/>
                </a:lnTo>
                <a:lnTo>
                  <a:pt x="595" y="41"/>
                </a:lnTo>
                <a:lnTo>
                  <a:pt x="587" y="48"/>
                </a:lnTo>
                <a:lnTo>
                  <a:pt x="580" y="56"/>
                </a:lnTo>
                <a:lnTo>
                  <a:pt x="566" y="75"/>
                </a:lnTo>
                <a:lnTo>
                  <a:pt x="552" y="95"/>
                </a:lnTo>
                <a:lnTo>
                  <a:pt x="541" y="117"/>
                </a:lnTo>
                <a:lnTo>
                  <a:pt x="529" y="141"/>
                </a:lnTo>
                <a:lnTo>
                  <a:pt x="525" y="200"/>
                </a:lnTo>
                <a:lnTo>
                  <a:pt x="519" y="258"/>
                </a:lnTo>
                <a:lnTo>
                  <a:pt x="513" y="315"/>
                </a:lnTo>
                <a:lnTo>
                  <a:pt x="507" y="373"/>
                </a:lnTo>
                <a:lnTo>
                  <a:pt x="499" y="429"/>
                </a:lnTo>
                <a:lnTo>
                  <a:pt x="491" y="486"/>
                </a:lnTo>
                <a:lnTo>
                  <a:pt x="481" y="541"/>
                </a:lnTo>
                <a:lnTo>
                  <a:pt x="471" y="597"/>
                </a:lnTo>
                <a:lnTo>
                  <a:pt x="460" y="653"/>
                </a:lnTo>
                <a:lnTo>
                  <a:pt x="448" y="707"/>
                </a:lnTo>
                <a:lnTo>
                  <a:pt x="436" y="762"/>
                </a:lnTo>
                <a:lnTo>
                  <a:pt x="423" y="815"/>
                </a:lnTo>
                <a:lnTo>
                  <a:pt x="408" y="869"/>
                </a:lnTo>
                <a:lnTo>
                  <a:pt x="394" y="921"/>
                </a:lnTo>
                <a:lnTo>
                  <a:pt x="377" y="973"/>
                </a:lnTo>
                <a:lnTo>
                  <a:pt x="362" y="1025"/>
                </a:lnTo>
                <a:lnTo>
                  <a:pt x="345" y="1076"/>
                </a:lnTo>
                <a:lnTo>
                  <a:pt x="327" y="1127"/>
                </a:lnTo>
                <a:lnTo>
                  <a:pt x="308" y="1177"/>
                </a:lnTo>
                <a:lnTo>
                  <a:pt x="289" y="1226"/>
                </a:lnTo>
                <a:lnTo>
                  <a:pt x="268" y="1275"/>
                </a:lnTo>
                <a:lnTo>
                  <a:pt x="248" y="1323"/>
                </a:lnTo>
                <a:lnTo>
                  <a:pt x="226" y="1371"/>
                </a:lnTo>
                <a:lnTo>
                  <a:pt x="204" y="1418"/>
                </a:lnTo>
                <a:lnTo>
                  <a:pt x="181" y="1464"/>
                </a:lnTo>
                <a:lnTo>
                  <a:pt x="157" y="1510"/>
                </a:lnTo>
                <a:lnTo>
                  <a:pt x="133" y="1556"/>
                </a:lnTo>
                <a:lnTo>
                  <a:pt x="107" y="1600"/>
                </a:lnTo>
                <a:lnTo>
                  <a:pt x="81" y="1643"/>
                </a:lnTo>
                <a:lnTo>
                  <a:pt x="54" y="1686"/>
                </a:lnTo>
                <a:lnTo>
                  <a:pt x="28" y="1728"/>
                </a:lnTo>
                <a:lnTo>
                  <a:pt x="0" y="1770"/>
                </a:lnTo>
                <a:lnTo>
                  <a:pt x="191" y="2165"/>
                </a:lnTo>
                <a:lnTo>
                  <a:pt x="246" y="2057"/>
                </a:lnTo>
                <a:lnTo>
                  <a:pt x="298" y="1954"/>
                </a:lnTo>
                <a:lnTo>
                  <a:pt x="347" y="1852"/>
                </a:lnTo>
                <a:lnTo>
                  <a:pt x="393" y="1752"/>
                </a:lnTo>
                <a:lnTo>
                  <a:pt x="437" y="1654"/>
                </a:lnTo>
                <a:lnTo>
                  <a:pt x="478" y="1558"/>
                </a:lnTo>
                <a:lnTo>
                  <a:pt x="498" y="1508"/>
                </a:lnTo>
                <a:lnTo>
                  <a:pt x="517" y="1460"/>
                </a:lnTo>
                <a:lnTo>
                  <a:pt x="536" y="1412"/>
                </a:lnTo>
                <a:lnTo>
                  <a:pt x="554" y="1363"/>
                </a:lnTo>
                <a:lnTo>
                  <a:pt x="572" y="1314"/>
                </a:lnTo>
                <a:lnTo>
                  <a:pt x="589" y="1266"/>
                </a:lnTo>
                <a:lnTo>
                  <a:pt x="606" y="1215"/>
                </a:lnTo>
                <a:lnTo>
                  <a:pt x="622" y="1166"/>
                </a:lnTo>
                <a:lnTo>
                  <a:pt x="638" y="1115"/>
                </a:lnTo>
                <a:lnTo>
                  <a:pt x="653" y="1064"/>
                </a:lnTo>
                <a:lnTo>
                  <a:pt x="669" y="1013"/>
                </a:lnTo>
                <a:lnTo>
                  <a:pt x="683" y="959"/>
                </a:lnTo>
                <a:lnTo>
                  <a:pt x="696" y="906"/>
                </a:lnTo>
                <a:lnTo>
                  <a:pt x="711" y="852"/>
                </a:lnTo>
                <a:lnTo>
                  <a:pt x="724" y="797"/>
                </a:lnTo>
                <a:lnTo>
                  <a:pt x="736" y="740"/>
                </a:lnTo>
                <a:lnTo>
                  <a:pt x="749" y="682"/>
                </a:lnTo>
                <a:lnTo>
                  <a:pt x="761" y="624"/>
                </a:lnTo>
                <a:lnTo>
                  <a:pt x="773" y="563"/>
                </a:lnTo>
                <a:lnTo>
                  <a:pt x="785" y="501"/>
                </a:lnTo>
                <a:lnTo>
                  <a:pt x="901" y="604"/>
                </a:lnTo>
                <a:lnTo>
                  <a:pt x="1008" y="711"/>
                </a:lnTo>
                <a:lnTo>
                  <a:pt x="1108" y="821"/>
                </a:lnTo>
                <a:lnTo>
                  <a:pt x="1199" y="934"/>
                </a:lnTo>
                <a:lnTo>
                  <a:pt x="1285" y="1051"/>
                </a:lnTo>
                <a:lnTo>
                  <a:pt x="1363" y="1170"/>
                </a:lnTo>
                <a:lnTo>
                  <a:pt x="1434" y="1291"/>
                </a:lnTo>
                <a:lnTo>
                  <a:pt x="1500" y="1417"/>
                </a:lnTo>
                <a:lnTo>
                  <a:pt x="1559" y="1544"/>
                </a:lnTo>
                <a:lnTo>
                  <a:pt x="1614" y="1674"/>
                </a:lnTo>
                <a:lnTo>
                  <a:pt x="1663" y="1807"/>
                </a:lnTo>
                <a:lnTo>
                  <a:pt x="1707" y="1941"/>
                </a:lnTo>
                <a:lnTo>
                  <a:pt x="1748" y="2077"/>
                </a:lnTo>
                <a:lnTo>
                  <a:pt x="1784" y="2216"/>
                </a:lnTo>
                <a:lnTo>
                  <a:pt x="1817" y="2356"/>
                </a:lnTo>
                <a:lnTo>
                  <a:pt x="1846" y="2499"/>
                </a:lnTo>
                <a:lnTo>
                  <a:pt x="1873" y="2642"/>
                </a:lnTo>
                <a:lnTo>
                  <a:pt x="1897" y="2787"/>
                </a:lnTo>
                <a:lnTo>
                  <a:pt x="1918" y="2934"/>
                </a:lnTo>
                <a:lnTo>
                  <a:pt x="1938" y="3081"/>
                </a:lnTo>
                <a:lnTo>
                  <a:pt x="1956" y="3229"/>
                </a:lnTo>
                <a:lnTo>
                  <a:pt x="1973" y="3379"/>
                </a:lnTo>
                <a:lnTo>
                  <a:pt x="1989" y="3529"/>
                </a:lnTo>
                <a:lnTo>
                  <a:pt x="2006" y="3679"/>
                </a:lnTo>
                <a:lnTo>
                  <a:pt x="2021" y="3832"/>
                </a:lnTo>
                <a:lnTo>
                  <a:pt x="2038" y="3983"/>
                </a:lnTo>
                <a:lnTo>
                  <a:pt x="2054" y="4135"/>
                </a:lnTo>
                <a:lnTo>
                  <a:pt x="2072" y="4287"/>
                </a:lnTo>
                <a:lnTo>
                  <a:pt x="2090" y="4439"/>
                </a:lnTo>
                <a:lnTo>
                  <a:pt x="2111" y="4591"/>
                </a:lnTo>
                <a:lnTo>
                  <a:pt x="2133" y="4743"/>
                </a:lnTo>
                <a:lnTo>
                  <a:pt x="2158" y="4894"/>
                </a:lnTo>
                <a:lnTo>
                  <a:pt x="2135" y="3852"/>
                </a:lnTo>
                <a:close/>
              </a:path>
            </a:pathLst>
          </a:custGeom>
          <a:solidFill>
            <a:srgbClr val="2a4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0200" y="3914640"/>
            <a:ext cx="2490840" cy="1128960"/>
          </a:xfrm>
          <a:custGeom>
            <a:avLst/>
            <a:gdLst/>
            <a:ahLst/>
            <a:rect l="l" t="t" r="r" b="b"/>
            <a:pathLst>
              <a:path w="9738" h="4549">
                <a:moveTo>
                  <a:pt x="9664" y="948"/>
                </a:moveTo>
                <a:lnTo>
                  <a:pt x="9677" y="959"/>
                </a:lnTo>
                <a:lnTo>
                  <a:pt x="9690" y="971"/>
                </a:lnTo>
                <a:lnTo>
                  <a:pt x="9702" y="984"/>
                </a:lnTo>
                <a:lnTo>
                  <a:pt x="9712" y="997"/>
                </a:lnTo>
                <a:lnTo>
                  <a:pt x="9720" y="1011"/>
                </a:lnTo>
                <a:lnTo>
                  <a:pt x="9727" y="1024"/>
                </a:lnTo>
                <a:lnTo>
                  <a:pt x="9732" y="1038"/>
                </a:lnTo>
                <a:lnTo>
                  <a:pt x="9736" y="1054"/>
                </a:lnTo>
                <a:lnTo>
                  <a:pt x="9738" y="1069"/>
                </a:lnTo>
                <a:lnTo>
                  <a:pt x="9738" y="1086"/>
                </a:lnTo>
                <a:lnTo>
                  <a:pt x="9736" y="1102"/>
                </a:lnTo>
                <a:lnTo>
                  <a:pt x="9731" y="1120"/>
                </a:lnTo>
                <a:lnTo>
                  <a:pt x="9725" y="1138"/>
                </a:lnTo>
                <a:lnTo>
                  <a:pt x="9716" y="1158"/>
                </a:lnTo>
                <a:lnTo>
                  <a:pt x="9706" y="1177"/>
                </a:lnTo>
                <a:lnTo>
                  <a:pt x="9692" y="1198"/>
                </a:lnTo>
                <a:lnTo>
                  <a:pt x="9384" y="1704"/>
                </a:lnTo>
                <a:lnTo>
                  <a:pt x="9186" y="1681"/>
                </a:lnTo>
                <a:lnTo>
                  <a:pt x="9387" y="1280"/>
                </a:lnTo>
                <a:lnTo>
                  <a:pt x="9390" y="1274"/>
                </a:lnTo>
                <a:lnTo>
                  <a:pt x="9392" y="1265"/>
                </a:lnTo>
                <a:lnTo>
                  <a:pt x="9392" y="1254"/>
                </a:lnTo>
                <a:lnTo>
                  <a:pt x="9391" y="1243"/>
                </a:lnTo>
                <a:lnTo>
                  <a:pt x="9390" y="1237"/>
                </a:lnTo>
                <a:lnTo>
                  <a:pt x="9388" y="1231"/>
                </a:lnTo>
                <a:lnTo>
                  <a:pt x="9386" y="1226"/>
                </a:lnTo>
                <a:lnTo>
                  <a:pt x="9383" y="1220"/>
                </a:lnTo>
                <a:lnTo>
                  <a:pt x="9380" y="1215"/>
                </a:lnTo>
                <a:lnTo>
                  <a:pt x="9374" y="1210"/>
                </a:lnTo>
                <a:lnTo>
                  <a:pt x="9369" y="1207"/>
                </a:lnTo>
                <a:lnTo>
                  <a:pt x="9364" y="1204"/>
                </a:lnTo>
                <a:lnTo>
                  <a:pt x="9148" y="1120"/>
                </a:lnTo>
                <a:lnTo>
                  <a:pt x="8930" y="1057"/>
                </a:lnTo>
                <a:lnTo>
                  <a:pt x="8710" y="1013"/>
                </a:lnTo>
                <a:lnTo>
                  <a:pt x="8489" y="988"/>
                </a:lnTo>
                <a:lnTo>
                  <a:pt x="8268" y="981"/>
                </a:lnTo>
                <a:lnTo>
                  <a:pt x="8046" y="990"/>
                </a:lnTo>
                <a:lnTo>
                  <a:pt x="7822" y="1017"/>
                </a:lnTo>
                <a:lnTo>
                  <a:pt x="7600" y="1058"/>
                </a:lnTo>
                <a:lnTo>
                  <a:pt x="7379" y="1113"/>
                </a:lnTo>
                <a:lnTo>
                  <a:pt x="7158" y="1183"/>
                </a:lnTo>
                <a:lnTo>
                  <a:pt x="6939" y="1266"/>
                </a:lnTo>
                <a:lnTo>
                  <a:pt x="6721" y="1361"/>
                </a:lnTo>
                <a:lnTo>
                  <a:pt x="6506" y="1467"/>
                </a:lnTo>
                <a:lnTo>
                  <a:pt x="6292" y="1583"/>
                </a:lnTo>
                <a:lnTo>
                  <a:pt x="6082" y="1710"/>
                </a:lnTo>
                <a:lnTo>
                  <a:pt x="5874" y="1845"/>
                </a:lnTo>
                <a:lnTo>
                  <a:pt x="5670" y="1989"/>
                </a:lnTo>
                <a:lnTo>
                  <a:pt x="5471" y="2139"/>
                </a:lnTo>
                <a:lnTo>
                  <a:pt x="5275" y="2296"/>
                </a:lnTo>
                <a:lnTo>
                  <a:pt x="5084" y="2459"/>
                </a:lnTo>
                <a:lnTo>
                  <a:pt x="4898" y="2625"/>
                </a:lnTo>
                <a:lnTo>
                  <a:pt x="4717" y="2797"/>
                </a:lnTo>
                <a:lnTo>
                  <a:pt x="4542" y="2971"/>
                </a:lnTo>
                <a:lnTo>
                  <a:pt x="4373" y="3148"/>
                </a:lnTo>
                <a:lnTo>
                  <a:pt x="4211" y="3327"/>
                </a:lnTo>
                <a:lnTo>
                  <a:pt x="4056" y="3506"/>
                </a:lnTo>
                <a:lnTo>
                  <a:pt x="3907" y="3685"/>
                </a:lnTo>
                <a:lnTo>
                  <a:pt x="3766" y="3863"/>
                </a:lnTo>
                <a:lnTo>
                  <a:pt x="3634" y="4038"/>
                </a:lnTo>
                <a:lnTo>
                  <a:pt x="3509" y="4212"/>
                </a:lnTo>
                <a:lnTo>
                  <a:pt x="3393" y="4383"/>
                </a:lnTo>
                <a:lnTo>
                  <a:pt x="3286" y="4549"/>
                </a:lnTo>
                <a:lnTo>
                  <a:pt x="3036" y="4409"/>
                </a:lnTo>
                <a:lnTo>
                  <a:pt x="2933" y="4107"/>
                </a:lnTo>
                <a:lnTo>
                  <a:pt x="2831" y="3806"/>
                </a:lnTo>
                <a:lnTo>
                  <a:pt x="2779" y="3657"/>
                </a:lnTo>
                <a:lnTo>
                  <a:pt x="2728" y="3507"/>
                </a:lnTo>
                <a:lnTo>
                  <a:pt x="2674" y="3359"/>
                </a:lnTo>
                <a:lnTo>
                  <a:pt x="2620" y="3211"/>
                </a:lnTo>
                <a:lnTo>
                  <a:pt x="2565" y="3064"/>
                </a:lnTo>
                <a:lnTo>
                  <a:pt x="2508" y="2919"/>
                </a:lnTo>
                <a:lnTo>
                  <a:pt x="2450" y="2775"/>
                </a:lnTo>
                <a:lnTo>
                  <a:pt x="2389" y="2635"/>
                </a:lnTo>
                <a:lnTo>
                  <a:pt x="2326" y="2495"/>
                </a:lnTo>
                <a:lnTo>
                  <a:pt x="2263" y="2357"/>
                </a:lnTo>
                <a:lnTo>
                  <a:pt x="2195" y="2221"/>
                </a:lnTo>
                <a:lnTo>
                  <a:pt x="2125" y="2088"/>
                </a:lnTo>
                <a:lnTo>
                  <a:pt x="2052" y="1959"/>
                </a:lnTo>
                <a:lnTo>
                  <a:pt x="1976" y="1831"/>
                </a:lnTo>
                <a:lnTo>
                  <a:pt x="1895" y="1708"/>
                </a:lnTo>
                <a:lnTo>
                  <a:pt x="1812" y="1587"/>
                </a:lnTo>
                <a:lnTo>
                  <a:pt x="1725" y="1469"/>
                </a:lnTo>
                <a:lnTo>
                  <a:pt x="1633" y="1356"/>
                </a:lnTo>
                <a:lnTo>
                  <a:pt x="1537" y="1246"/>
                </a:lnTo>
                <a:lnTo>
                  <a:pt x="1437" y="1140"/>
                </a:lnTo>
                <a:lnTo>
                  <a:pt x="1332" y="1039"/>
                </a:lnTo>
                <a:lnTo>
                  <a:pt x="1222" y="942"/>
                </a:lnTo>
                <a:lnTo>
                  <a:pt x="1106" y="849"/>
                </a:lnTo>
                <a:lnTo>
                  <a:pt x="985" y="762"/>
                </a:lnTo>
                <a:lnTo>
                  <a:pt x="859" y="679"/>
                </a:lnTo>
                <a:lnTo>
                  <a:pt x="726" y="601"/>
                </a:lnTo>
                <a:lnTo>
                  <a:pt x="588" y="529"/>
                </a:lnTo>
                <a:lnTo>
                  <a:pt x="443" y="462"/>
                </a:lnTo>
                <a:lnTo>
                  <a:pt x="435" y="459"/>
                </a:lnTo>
                <a:lnTo>
                  <a:pt x="427" y="457"/>
                </a:lnTo>
                <a:lnTo>
                  <a:pt x="420" y="455"/>
                </a:lnTo>
                <a:lnTo>
                  <a:pt x="414" y="454"/>
                </a:lnTo>
                <a:lnTo>
                  <a:pt x="408" y="454"/>
                </a:lnTo>
                <a:lnTo>
                  <a:pt x="404" y="454"/>
                </a:lnTo>
                <a:lnTo>
                  <a:pt x="400" y="455"/>
                </a:lnTo>
                <a:lnTo>
                  <a:pt x="396" y="457"/>
                </a:lnTo>
                <a:lnTo>
                  <a:pt x="390" y="460"/>
                </a:lnTo>
                <a:lnTo>
                  <a:pt x="385" y="465"/>
                </a:lnTo>
                <a:lnTo>
                  <a:pt x="381" y="472"/>
                </a:lnTo>
                <a:lnTo>
                  <a:pt x="378" y="477"/>
                </a:lnTo>
                <a:lnTo>
                  <a:pt x="168" y="919"/>
                </a:lnTo>
                <a:lnTo>
                  <a:pt x="0" y="692"/>
                </a:lnTo>
                <a:lnTo>
                  <a:pt x="168" y="214"/>
                </a:lnTo>
                <a:lnTo>
                  <a:pt x="172" y="198"/>
                </a:lnTo>
                <a:lnTo>
                  <a:pt x="179" y="182"/>
                </a:lnTo>
                <a:lnTo>
                  <a:pt x="184" y="166"/>
                </a:lnTo>
                <a:lnTo>
                  <a:pt x="190" y="152"/>
                </a:lnTo>
                <a:lnTo>
                  <a:pt x="196" y="137"/>
                </a:lnTo>
                <a:lnTo>
                  <a:pt x="203" y="124"/>
                </a:lnTo>
                <a:lnTo>
                  <a:pt x="210" y="111"/>
                </a:lnTo>
                <a:lnTo>
                  <a:pt x="218" y="99"/>
                </a:lnTo>
                <a:lnTo>
                  <a:pt x="225" y="88"/>
                </a:lnTo>
                <a:lnTo>
                  <a:pt x="233" y="77"/>
                </a:lnTo>
                <a:lnTo>
                  <a:pt x="241" y="67"/>
                </a:lnTo>
                <a:lnTo>
                  <a:pt x="251" y="58"/>
                </a:lnTo>
                <a:lnTo>
                  <a:pt x="260" y="49"/>
                </a:lnTo>
                <a:lnTo>
                  <a:pt x="269" y="41"/>
                </a:lnTo>
                <a:lnTo>
                  <a:pt x="279" y="33"/>
                </a:lnTo>
                <a:lnTo>
                  <a:pt x="290" y="27"/>
                </a:lnTo>
                <a:lnTo>
                  <a:pt x="301" y="21"/>
                </a:lnTo>
                <a:lnTo>
                  <a:pt x="312" y="16"/>
                </a:lnTo>
                <a:lnTo>
                  <a:pt x="324" y="12"/>
                </a:lnTo>
                <a:lnTo>
                  <a:pt x="335" y="8"/>
                </a:lnTo>
                <a:lnTo>
                  <a:pt x="347" y="5"/>
                </a:lnTo>
                <a:lnTo>
                  <a:pt x="360" y="3"/>
                </a:lnTo>
                <a:lnTo>
                  <a:pt x="373" y="2"/>
                </a:lnTo>
                <a:lnTo>
                  <a:pt x="386" y="1"/>
                </a:lnTo>
                <a:lnTo>
                  <a:pt x="400" y="0"/>
                </a:lnTo>
                <a:lnTo>
                  <a:pt x="414" y="1"/>
                </a:lnTo>
                <a:lnTo>
                  <a:pt x="429" y="2"/>
                </a:lnTo>
                <a:lnTo>
                  <a:pt x="443" y="3"/>
                </a:lnTo>
                <a:lnTo>
                  <a:pt x="458" y="6"/>
                </a:lnTo>
                <a:lnTo>
                  <a:pt x="474" y="9"/>
                </a:lnTo>
                <a:lnTo>
                  <a:pt x="489" y="13"/>
                </a:lnTo>
                <a:lnTo>
                  <a:pt x="506" y="17"/>
                </a:lnTo>
                <a:lnTo>
                  <a:pt x="634" y="84"/>
                </a:lnTo>
                <a:lnTo>
                  <a:pt x="760" y="158"/>
                </a:lnTo>
                <a:lnTo>
                  <a:pt x="882" y="239"/>
                </a:lnTo>
                <a:lnTo>
                  <a:pt x="1003" y="327"/>
                </a:lnTo>
                <a:lnTo>
                  <a:pt x="1120" y="420"/>
                </a:lnTo>
                <a:lnTo>
                  <a:pt x="1235" y="520"/>
                </a:lnTo>
                <a:lnTo>
                  <a:pt x="1347" y="624"/>
                </a:lnTo>
                <a:lnTo>
                  <a:pt x="1456" y="734"/>
                </a:lnTo>
                <a:lnTo>
                  <a:pt x="1562" y="849"/>
                </a:lnTo>
                <a:lnTo>
                  <a:pt x="1666" y="967"/>
                </a:lnTo>
                <a:lnTo>
                  <a:pt x="1767" y="1091"/>
                </a:lnTo>
                <a:lnTo>
                  <a:pt x="1865" y="1217"/>
                </a:lnTo>
                <a:lnTo>
                  <a:pt x="1960" y="1348"/>
                </a:lnTo>
                <a:lnTo>
                  <a:pt x="2053" y="1481"/>
                </a:lnTo>
                <a:lnTo>
                  <a:pt x="2142" y="1616"/>
                </a:lnTo>
                <a:lnTo>
                  <a:pt x="2229" y="1755"/>
                </a:lnTo>
                <a:lnTo>
                  <a:pt x="2313" y="1895"/>
                </a:lnTo>
                <a:lnTo>
                  <a:pt x="2394" y="2037"/>
                </a:lnTo>
                <a:lnTo>
                  <a:pt x="2472" y="2181"/>
                </a:lnTo>
                <a:lnTo>
                  <a:pt x="2549" y="2325"/>
                </a:lnTo>
                <a:lnTo>
                  <a:pt x="2621" y="2470"/>
                </a:lnTo>
                <a:lnTo>
                  <a:pt x="2691" y="2616"/>
                </a:lnTo>
                <a:lnTo>
                  <a:pt x="2757" y="2761"/>
                </a:lnTo>
                <a:lnTo>
                  <a:pt x="2822" y="2906"/>
                </a:lnTo>
                <a:lnTo>
                  <a:pt x="2884" y="3050"/>
                </a:lnTo>
                <a:lnTo>
                  <a:pt x="2943" y="3194"/>
                </a:lnTo>
                <a:lnTo>
                  <a:pt x="2998" y="3336"/>
                </a:lnTo>
                <a:lnTo>
                  <a:pt x="3051" y="3476"/>
                </a:lnTo>
                <a:lnTo>
                  <a:pt x="3101" y="3615"/>
                </a:lnTo>
                <a:lnTo>
                  <a:pt x="3148" y="3750"/>
                </a:lnTo>
                <a:lnTo>
                  <a:pt x="3193" y="3883"/>
                </a:lnTo>
                <a:lnTo>
                  <a:pt x="3235" y="4014"/>
                </a:lnTo>
                <a:lnTo>
                  <a:pt x="3464" y="3739"/>
                </a:lnTo>
                <a:lnTo>
                  <a:pt x="3719" y="3434"/>
                </a:lnTo>
                <a:lnTo>
                  <a:pt x="3856" y="3273"/>
                </a:lnTo>
                <a:lnTo>
                  <a:pt x="3999" y="3108"/>
                </a:lnTo>
                <a:lnTo>
                  <a:pt x="4149" y="2939"/>
                </a:lnTo>
                <a:lnTo>
                  <a:pt x="4304" y="2768"/>
                </a:lnTo>
                <a:lnTo>
                  <a:pt x="4465" y="2598"/>
                </a:lnTo>
                <a:lnTo>
                  <a:pt x="4633" y="2426"/>
                </a:lnTo>
                <a:lnTo>
                  <a:pt x="4805" y="2256"/>
                </a:lnTo>
                <a:lnTo>
                  <a:pt x="4984" y="2088"/>
                </a:lnTo>
                <a:lnTo>
                  <a:pt x="5168" y="1925"/>
                </a:lnTo>
                <a:lnTo>
                  <a:pt x="5359" y="1765"/>
                </a:lnTo>
                <a:lnTo>
                  <a:pt x="5554" y="1611"/>
                </a:lnTo>
                <a:lnTo>
                  <a:pt x="5755" y="1465"/>
                </a:lnTo>
                <a:lnTo>
                  <a:pt x="5962" y="1325"/>
                </a:lnTo>
                <a:lnTo>
                  <a:pt x="6173" y="1196"/>
                </a:lnTo>
                <a:lnTo>
                  <a:pt x="6390" y="1076"/>
                </a:lnTo>
                <a:lnTo>
                  <a:pt x="6613" y="967"/>
                </a:lnTo>
                <a:lnTo>
                  <a:pt x="6841" y="872"/>
                </a:lnTo>
                <a:lnTo>
                  <a:pt x="7073" y="789"/>
                </a:lnTo>
                <a:lnTo>
                  <a:pt x="7311" y="722"/>
                </a:lnTo>
                <a:lnTo>
                  <a:pt x="7553" y="669"/>
                </a:lnTo>
                <a:lnTo>
                  <a:pt x="7801" y="633"/>
                </a:lnTo>
                <a:lnTo>
                  <a:pt x="8053" y="616"/>
                </a:lnTo>
                <a:lnTo>
                  <a:pt x="8310" y="617"/>
                </a:lnTo>
                <a:lnTo>
                  <a:pt x="8571" y="638"/>
                </a:lnTo>
                <a:lnTo>
                  <a:pt x="8838" y="681"/>
                </a:lnTo>
                <a:lnTo>
                  <a:pt x="9108" y="746"/>
                </a:lnTo>
                <a:lnTo>
                  <a:pt x="9384" y="835"/>
                </a:lnTo>
                <a:lnTo>
                  <a:pt x="9664" y="948"/>
                </a:lnTo>
                <a:close/>
              </a:path>
            </a:pathLst>
          </a:custGeom>
          <a:solidFill>
            <a:srgbClr val="2a4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0240" y="4295880"/>
            <a:ext cx="1462320" cy="476280"/>
          </a:xfrm>
          <a:custGeom>
            <a:avLst/>
            <a:gdLst/>
            <a:ahLst/>
            <a:rect l="l" t="t" r="r" b="b"/>
            <a:pathLst>
              <a:path w="5726" h="1900">
                <a:moveTo>
                  <a:pt x="0" y="1900"/>
                </a:moveTo>
                <a:lnTo>
                  <a:pt x="169" y="1737"/>
                </a:lnTo>
                <a:lnTo>
                  <a:pt x="335" y="1581"/>
                </a:lnTo>
                <a:lnTo>
                  <a:pt x="496" y="1433"/>
                </a:lnTo>
                <a:lnTo>
                  <a:pt x="655" y="1293"/>
                </a:lnTo>
                <a:lnTo>
                  <a:pt x="811" y="1162"/>
                </a:lnTo>
                <a:lnTo>
                  <a:pt x="965" y="1037"/>
                </a:lnTo>
                <a:lnTo>
                  <a:pt x="1117" y="921"/>
                </a:lnTo>
                <a:lnTo>
                  <a:pt x="1269" y="811"/>
                </a:lnTo>
                <a:lnTo>
                  <a:pt x="1419" y="709"/>
                </a:lnTo>
                <a:lnTo>
                  <a:pt x="1568" y="614"/>
                </a:lnTo>
                <a:lnTo>
                  <a:pt x="1717" y="527"/>
                </a:lnTo>
                <a:lnTo>
                  <a:pt x="1866" y="447"/>
                </a:lnTo>
                <a:lnTo>
                  <a:pt x="2015" y="373"/>
                </a:lnTo>
                <a:lnTo>
                  <a:pt x="2166" y="307"/>
                </a:lnTo>
                <a:lnTo>
                  <a:pt x="2317" y="246"/>
                </a:lnTo>
                <a:lnTo>
                  <a:pt x="2470" y="194"/>
                </a:lnTo>
                <a:lnTo>
                  <a:pt x="2624" y="148"/>
                </a:lnTo>
                <a:lnTo>
                  <a:pt x="2782" y="107"/>
                </a:lnTo>
                <a:lnTo>
                  <a:pt x="2941" y="75"/>
                </a:lnTo>
                <a:lnTo>
                  <a:pt x="3104" y="47"/>
                </a:lnTo>
                <a:lnTo>
                  <a:pt x="3269" y="26"/>
                </a:lnTo>
                <a:lnTo>
                  <a:pt x="3439" y="12"/>
                </a:lnTo>
                <a:lnTo>
                  <a:pt x="3613" y="4"/>
                </a:lnTo>
                <a:lnTo>
                  <a:pt x="3792" y="0"/>
                </a:lnTo>
                <a:lnTo>
                  <a:pt x="3975" y="4"/>
                </a:lnTo>
                <a:lnTo>
                  <a:pt x="4163" y="13"/>
                </a:lnTo>
                <a:lnTo>
                  <a:pt x="4357" y="28"/>
                </a:lnTo>
                <a:lnTo>
                  <a:pt x="4556" y="48"/>
                </a:lnTo>
                <a:lnTo>
                  <a:pt x="4763" y="75"/>
                </a:lnTo>
                <a:lnTo>
                  <a:pt x="4976" y="105"/>
                </a:lnTo>
                <a:lnTo>
                  <a:pt x="5196" y="142"/>
                </a:lnTo>
                <a:lnTo>
                  <a:pt x="5423" y="185"/>
                </a:lnTo>
                <a:lnTo>
                  <a:pt x="5470" y="198"/>
                </a:lnTo>
                <a:lnTo>
                  <a:pt x="5513" y="212"/>
                </a:lnTo>
                <a:lnTo>
                  <a:pt x="5533" y="221"/>
                </a:lnTo>
                <a:lnTo>
                  <a:pt x="5553" y="228"/>
                </a:lnTo>
                <a:lnTo>
                  <a:pt x="5570" y="236"/>
                </a:lnTo>
                <a:lnTo>
                  <a:pt x="5588" y="244"/>
                </a:lnTo>
                <a:lnTo>
                  <a:pt x="5604" y="253"/>
                </a:lnTo>
                <a:lnTo>
                  <a:pt x="5620" y="262"/>
                </a:lnTo>
                <a:lnTo>
                  <a:pt x="5634" y="271"/>
                </a:lnTo>
                <a:lnTo>
                  <a:pt x="5647" y="280"/>
                </a:lnTo>
                <a:lnTo>
                  <a:pt x="5660" y="291"/>
                </a:lnTo>
                <a:lnTo>
                  <a:pt x="5671" y="300"/>
                </a:lnTo>
                <a:lnTo>
                  <a:pt x="5681" y="310"/>
                </a:lnTo>
                <a:lnTo>
                  <a:pt x="5691" y="320"/>
                </a:lnTo>
                <a:lnTo>
                  <a:pt x="5699" y="332"/>
                </a:lnTo>
                <a:lnTo>
                  <a:pt x="5706" y="343"/>
                </a:lnTo>
                <a:lnTo>
                  <a:pt x="5711" y="354"/>
                </a:lnTo>
                <a:lnTo>
                  <a:pt x="5716" y="367"/>
                </a:lnTo>
                <a:lnTo>
                  <a:pt x="5721" y="379"/>
                </a:lnTo>
                <a:lnTo>
                  <a:pt x="5724" y="391"/>
                </a:lnTo>
                <a:lnTo>
                  <a:pt x="5726" y="405"/>
                </a:lnTo>
                <a:lnTo>
                  <a:pt x="5726" y="417"/>
                </a:lnTo>
                <a:lnTo>
                  <a:pt x="5726" y="431"/>
                </a:lnTo>
                <a:lnTo>
                  <a:pt x="5725" y="445"/>
                </a:lnTo>
                <a:lnTo>
                  <a:pt x="5722" y="460"/>
                </a:lnTo>
                <a:lnTo>
                  <a:pt x="5717" y="475"/>
                </a:lnTo>
                <a:lnTo>
                  <a:pt x="5713" y="490"/>
                </a:lnTo>
                <a:lnTo>
                  <a:pt x="5707" y="505"/>
                </a:lnTo>
                <a:lnTo>
                  <a:pt x="5700" y="522"/>
                </a:lnTo>
                <a:lnTo>
                  <a:pt x="5692" y="538"/>
                </a:lnTo>
                <a:lnTo>
                  <a:pt x="5033" y="1679"/>
                </a:lnTo>
                <a:lnTo>
                  <a:pt x="4828" y="1580"/>
                </a:lnTo>
                <a:lnTo>
                  <a:pt x="5213" y="630"/>
                </a:lnTo>
                <a:lnTo>
                  <a:pt x="5219" y="618"/>
                </a:lnTo>
                <a:lnTo>
                  <a:pt x="5222" y="606"/>
                </a:lnTo>
                <a:lnTo>
                  <a:pt x="5222" y="594"/>
                </a:lnTo>
                <a:lnTo>
                  <a:pt x="5221" y="583"/>
                </a:lnTo>
                <a:lnTo>
                  <a:pt x="5218" y="571"/>
                </a:lnTo>
                <a:lnTo>
                  <a:pt x="5213" y="560"/>
                </a:lnTo>
                <a:lnTo>
                  <a:pt x="5207" y="550"/>
                </a:lnTo>
                <a:lnTo>
                  <a:pt x="5199" y="539"/>
                </a:lnTo>
                <a:lnTo>
                  <a:pt x="5190" y="530"/>
                </a:lnTo>
                <a:lnTo>
                  <a:pt x="5179" y="521"/>
                </a:lnTo>
                <a:lnTo>
                  <a:pt x="5167" y="513"/>
                </a:lnTo>
                <a:lnTo>
                  <a:pt x="5154" y="505"/>
                </a:lnTo>
                <a:lnTo>
                  <a:pt x="5140" y="498"/>
                </a:lnTo>
                <a:lnTo>
                  <a:pt x="5125" y="492"/>
                </a:lnTo>
                <a:lnTo>
                  <a:pt x="5110" y="487"/>
                </a:lnTo>
                <a:lnTo>
                  <a:pt x="5093" y="483"/>
                </a:lnTo>
                <a:lnTo>
                  <a:pt x="4882" y="439"/>
                </a:lnTo>
                <a:lnTo>
                  <a:pt x="4680" y="402"/>
                </a:lnTo>
                <a:lnTo>
                  <a:pt x="4482" y="372"/>
                </a:lnTo>
                <a:lnTo>
                  <a:pt x="4292" y="348"/>
                </a:lnTo>
                <a:lnTo>
                  <a:pt x="4108" y="332"/>
                </a:lnTo>
                <a:lnTo>
                  <a:pt x="3929" y="321"/>
                </a:lnTo>
                <a:lnTo>
                  <a:pt x="3755" y="317"/>
                </a:lnTo>
                <a:lnTo>
                  <a:pt x="3586" y="320"/>
                </a:lnTo>
                <a:lnTo>
                  <a:pt x="3422" y="329"/>
                </a:lnTo>
                <a:lnTo>
                  <a:pt x="3261" y="343"/>
                </a:lnTo>
                <a:lnTo>
                  <a:pt x="3104" y="364"/>
                </a:lnTo>
                <a:lnTo>
                  <a:pt x="2950" y="389"/>
                </a:lnTo>
                <a:lnTo>
                  <a:pt x="2800" y="421"/>
                </a:lnTo>
                <a:lnTo>
                  <a:pt x="2652" y="458"/>
                </a:lnTo>
                <a:lnTo>
                  <a:pt x="2506" y="501"/>
                </a:lnTo>
                <a:lnTo>
                  <a:pt x="2362" y="549"/>
                </a:lnTo>
                <a:lnTo>
                  <a:pt x="2220" y="601"/>
                </a:lnTo>
                <a:lnTo>
                  <a:pt x="2078" y="659"/>
                </a:lnTo>
                <a:lnTo>
                  <a:pt x="1937" y="720"/>
                </a:lnTo>
                <a:lnTo>
                  <a:pt x="1797" y="787"/>
                </a:lnTo>
                <a:lnTo>
                  <a:pt x="1656" y="859"/>
                </a:lnTo>
                <a:lnTo>
                  <a:pt x="1516" y="934"/>
                </a:lnTo>
                <a:lnTo>
                  <a:pt x="1374" y="1015"/>
                </a:lnTo>
                <a:lnTo>
                  <a:pt x="1232" y="1099"/>
                </a:lnTo>
                <a:lnTo>
                  <a:pt x="1087" y="1186"/>
                </a:lnTo>
                <a:lnTo>
                  <a:pt x="941" y="1278"/>
                </a:lnTo>
                <a:lnTo>
                  <a:pt x="791" y="1374"/>
                </a:lnTo>
                <a:lnTo>
                  <a:pt x="640" y="1472"/>
                </a:lnTo>
                <a:lnTo>
                  <a:pt x="327" y="1680"/>
                </a:lnTo>
                <a:lnTo>
                  <a:pt x="0" y="1900"/>
                </a:lnTo>
                <a:close/>
              </a:path>
            </a:pathLst>
          </a:custGeom>
          <a:solidFill>
            <a:srgbClr val="2a4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9880" y="4002120"/>
            <a:ext cx="770040" cy="468360"/>
          </a:xfrm>
          <a:custGeom>
            <a:avLst/>
            <a:gdLst/>
            <a:ahLst/>
            <a:rect l="l" t="t" r="r" b="b"/>
            <a:pathLst>
              <a:path w="3009" h="1880">
                <a:moveTo>
                  <a:pt x="3009" y="1880"/>
                </a:moveTo>
                <a:lnTo>
                  <a:pt x="2900" y="1685"/>
                </a:lnTo>
                <a:lnTo>
                  <a:pt x="2798" y="1503"/>
                </a:lnTo>
                <a:lnTo>
                  <a:pt x="2748" y="1417"/>
                </a:lnTo>
                <a:lnTo>
                  <a:pt x="2699" y="1332"/>
                </a:lnTo>
                <a:lnTo>
                  <a:pt x="2652" y="1251"/>
                </a:lnTo>
                <a:lnTo>
                  <a:pt x="2604" y="1172"/>
                </a:lnTo>
                <a:lnTo>
                  <a:pt x="2557" y="1096"/>
                </a:lnTo>
                <a:lnTo>
                  <a:pt x="2510" y="1023"/>
                </a:lnTo>
                <a:lnTo>
                  <a:pt x="2462" y="952"/>
                </a:lnTo>
                <a:lnTo>
                  <a:pt x="2414" y="884"/>
                </a:lnTo>
                <a:lnTo>
                  <a:pt x="2366" y="818"/>
                </a:lnTo>
                <a:lnTo>
                  <a:pt x="2317" y="754"/>
                </a:lnTo>
                <a:lnTo>
                  <a:pt x="2267" y="694"/>
                </a:lnTo>
                <a:lnTo>
                  <a:pt x="2216" y="636"/>
                </a:lnTo>
                <a:lnTo>
                  <a:pt x="2163" y="580"/>
                </a:lnTo>
                <a:lnTo>
                  <a:pt x="2109" y="526"/>
                </a:lnTo>
                <a:lnTo>
                  <a:pt x="2053" y="476"/>
                </a:lnTo>
                <a:lnTo>
                  <a:pt x="1995" y="426"/>
                </a:lnTo>
                <a:lnTo>
                  <a:pt x="1935" y="380"/>
                </a:lnTo>
                <a:lnTo>
                  <a:pt x="1872" y="336"/>
                </a:lnTo>
                <a:lnTo>
                  <a:pt x="1807" y="294"/>
                </a:lnTo>
                <a:lnTo>
                  <a:pt x="1739" y="254"/>
                </a:lnTo>
                <a:lnTo>
                  <a:pt x="1668" y="217"/>
                </a:lnTo>
                <a:lnTo>
                  <a:pt x="1593" y="181"/>
                </a:lnTo>
                <a:lnTo>
                  <a:pt x="1516" y="148"/>
                </a:lnTo>
                <a:lnTo>
                  <a:pt x="1435" y="117"/>
                </a:lnTo>
                <a:lnTo>
                  <a:pt x="1350" y="87"/>
                </a:lnTo>
                <a:lnTo>
                  <a:pt x="1260" y="60"/>
                </a:lnTo>
                <a:lnTo>
                  <a:pt x="1166" y="34"/>
                </a:lnTo>
                <a:lnTo>
                  <a:pt x="1069" y="12"/>
                </a:lnTo>
                <a:lnTo>
                  <a:pt x="1049" y="8"/>
                </a:lnTo>
                <a:lnTo>
                  <a:pt x="1030" y="5"/>
                </a:lnTo>
                <a:lnTo>
                  <a:pt x="1010" y="3"/>
                </a:lnTo>
                <a:lnTo>
                  <a:pt x="991" y="1"/>
                </a:lnTo>
                <a:lnTo>
                  <a:pt x="971" y="0"/>
                </a:lnTo>
                <a:lnTo>
                  <a:pt x="951" y="0"/>
                </a:lnTo>
                <a:lnTo>
                  <a:pt x="933" y="0"/>
                </a:lnTo>
                <a:lnTo>
                  <a:pt x="913" y="1"/>
                </a:lnTo>
                <a:lnTo>
                  <a:pt x="895" y="2"/>
                </a:lnTo>
                <a:lnTo>
                  <a:pt x="875" y="4"/>
                </a:lnTo>
                <a:lnTo>
                  <a:pt x="857" y="6"/>
                </a:lnTo>
                <a:lnTo>
                  <a:pt x="839" y="9"/>
                </a:lnTo>
                <a:lnTo>
                  <a:pt x="821" y="13"/>
                </a:lnTo>
                <a:lnTo>
                  <a:pt x="803" y="17"/>
                </a:lnTo>
                <a:lnTo>
                  <a:pt x="786" y="21"/>
                </a:lnTo>
                <a:lnTo>
                  <a:pt x="768" y="26"/>
                </a:lnTo>
                <a:lnTo>
                  <a:pt x="752" y="31"/>
                </a:lnTo>
                <a:lnTo>
                  <a:pt x="735" y="38"/>
                </a:lnTo>
                <a:lnTo>
                  <a:pt x="720" y="44"/>
                </a:lnTo>
                <a:lnTo>
                  <a:pt x="705" y="51"/>
                </a:lnTo>
                <a:lnTo>
                  <a:pt x="689" y="58"/>
                </a:lnTo>
                <a:lnTo>
                  <a:pt x="675" y="66"/>
                </a:lnTo>
                <a:lnTo>
                  <a:pt x="660" y="74"/>
                </a:lnTo>
                <a:lnTo>
                  <a:pt x="647" y="83"/>
                </a:lnTo>
                <a:lnTo>
                  <a:pt x="634" y="91"/>
                </a:lnTo>
                <a:lnTo>
                  <a:pt x="621" y="100"/>
                </a:lnTo>
                <a:lnTo>
                  <a:pt x="609" y="111"/>
                </a:lnTo>
                <a:lnTo>
                  <a:pt x="598" y="120"/>
                </a:lnTo>
                <a:lnTo>
                  <a:pt x="587" y="130"/>
                </a:lnTo>
                <a:lnTo>
                  <a:pt x="577" y="141"/>
                </a:lnTo>
                <a:lnTo>
                  <a:pt x="568" y="152"/>
                </a:lnTo>
                <a:lnTo>
                  <a:pt x="558" y="163"/>
                </a:lnTo>
                <a:lnTo>
                  <a:pt x="0" y="896"/>
                </a:lnTo>
                <a:lnTo>
                  <a:pt x="309" y="978"/>
                </a:lnTo>
                <a:lnTo>
                  <a:pt x="477" y="669"/>
                </a:lnTo>
                <a:lnTo>
                  <a:pt x="484" y="659"/>
                </a:lnTo>
                <a:lnTo>
                  <a:pt x="495" y="651"/>
                </a:lnTo>
                <a:lnTo>
                  <a:pt x="507" y="644"/>
                </a:lnTo>
                <a:lnTo>
                  <a:pt x="521" y="639"/>
                </a:lnTo>
                <a:lnTo>
                  <a:pt x="539" y="637"/>
                </a:lnTo>
                <a:lnTo>
                  <a:pt x="557" y="636"/>
                </a:lnTo>
                <a:lnTo>
                  <a:pt x="579" y="637"/>
                </a:lnTo>
                <a:lnTo>
                  <a:pt x="602" y="639"/>
                </a:lnTo>
                <a:lnTo>
                  <a:pt x="626" y="644"/>
                </a:lnTo>
                <a:lnTo>
                  <a:pt x="653" y="650"/>
                </a:lnTo>
                <a:lnTo>
                  <a:pt x="680" y="657"/>
                </a:lnTo>
                <a:lnTo>
                  <a:pt x="709" y="666"/>
                </a:lnTo>
                <a:lnTo>
                  <a:pt x="740" y="676"/>
                </a:lnTo>
                <a:lnTo>
                  <a:pt x="770" y="688"/>
                </a:lnTo>
                <a:lnTo>
                  <a:pt x="802" y="700"/>
                </a:lnTo>
                <a:lnTo>
                  <a:pt x="834" y="713"/>
                </a:lnTo>
                <a:lnTo>
                  <a:pt x="868" y="729"/>
                </a:lnTo>
                <a:lnTo>
                  <a:pt x="901" y="744"/>
                </a:lnTo>
                <a:lnTo>
                  <a:pt x="935" y="761"/>
                </a:lnTo>
                <a:lnTo>
                  <a:pt x="970" y="779"/>
                </a:lnTo>
                <a:lnTo>
                  <a:pt x="1004" y="798"/>
                </a:lnTo>
                <a:lnTo>
                  <a:pt x="1038" y="816"/>
                </a:lnTo>
                <a:lnTo>
                  <a:pt x="1072" y="837"/>
                </a:lnTo>
                <a:lnTo>
                  <a:pt x="1106" y="857"/>
                </a:lnTo>
                <a:lnTo>
                  <a:pt x="1139" y="878"/>
                </a:lnTo>
                <a:lnTo>
                  <a:pt x="1171" y="899"/>
                </a:lnTo>
                <a:lnTo>
                  <a:pt x="1202" y="922"/>
                </a:lnTo>
                <a:lnTo>
                  <a:pt x="1233" y="944"/>
                </a:lnTo>
                <a:lnTo>
                  <a:pt x="1263" y="966"/>
                </a:lnTo>
                <a:lnTo>
                  <a:pt x="1292" y="990"/>
                </a:lnTo>
                <a:lnTo>
                  <a:pt x="1319" y="1013"/>
                </a:lnTo>
                <a:lnTo>
                  <a:pt x="1344" y="1036"/>
                </a:lnTo>
                <a:lnTo>
                  <a:pt x="1326" y="999"/>
                </a:lnTo>
                <a:lnTo>
                  <a:pt x="1305" y="962"/>
                </a:lnTo>
                <a:lnTo>
                  <a:pt x="1284" y="926"/>
                </a:lnTo>
                <a:lnTo>
                  <a:pt x="1260" y="891"/>
                </a:lnTo>
                <a:lnTo>
                  <a:pt x="1235" y="856"/>
                </a:lnTo>
                <a:lnTo>
                  <a:pt x="1208" y="822"/>
                </a:lnTo>
                <a:lnTo>
                  <a:pt x="1179" y="789"/>
                </a:lnTo>
                <a:lnTo>
                  <a:pt x="1148" y="758"/>
                </a:lnTo>
                <a:lnTo>
                  <a:pt x="1131" y="741"/>
                </a:lnTo>
                <a:lnTo>
                  <a:pt x="1115" y="726"/>
                </a:lnTo>
                <a:lnTo>
                  <a:pt x="1097" y="710"/>
                </a:lnTo>
                <a:lnTo>
                  <a:pt x="1080" y="695"/>
                </a:lnTo>
                <a:lnTo>
                  <a:pt x="1060" y="679"/>
                </a:lnTo>
                <a:lnTo>
                  <a:pt x="1042" y="665"/>
                </a:lnTo>
                <a:lnTo>
                  <a:pt x="1022" y="651"/>
                </a:lnTo>
                <a:lnTo>
                  <a:pt x="1002" y="636"/>
                </a:lnTo>
                <a:lnTo>
                  <a:pt x="980" y="622"/>
                </a:lnTo>
                <a:lnTo>
                  <a:pt x="959" y="607"/>
                </a:lnTo>
                <a:lnTo>
                  <a:pt x="937" y="594"/>
                </a:lnTo>
                <a:lnTo>
                  <a:pt x="913" y="581"/>
                </a:lnTo>
                <a:lnTo>
                  <a:pt x="890" y="567"/>
                </a:lnTo>
                <a:lnTo>
                  <a:pt x="866" y="555"/>
                </a:lnTo>
                <a:lnTo>
                  <a:pt x="840" y="543"/>
                </a:lnTo>
                <a:lnTo>
                  <a:pt x="815" y="529"/>
                </a:lnTo>
                <a:lnTo>
                  <a:pt x="806" y="519"/>
                </a:lnTo>
                <a:lnTo>
                  <a:pt x="798" y="508"/>
                </a:lnTo>
                <a:lnTo>
                  <a:pt x="791" y="496"/>
                </a:lnTo>
                <a:lnTo>
                  <a:pt x="786" y="484"/>
                </a:lnTo>
                <a:lnTo>
                  <a:pt x="782" y="472"/>
                </a:lnTo>
                <a:lnTo>
                  <a:pt x="779" y="459"/>
                </a:lnTo>
                <a:lnTo>
                  <a:pt x="776" y="446"/>
                </a:lnTo>
                <a:lnTo>
                  <a:pt x="776" y="434"/>
                </a:lnTo>
                <a:lnTo>
                  <a:pt x="776" y="420"/>
                </a:lnTo>
                <a:lnTo>
                  <a:pt x="777" y="408"/>
                </a:lnTo>
                <a:lnTo>
                  <a:pt x="780" y="395"/>
                </a:lnTo>
                <a:lnTo>
                  <a:pt x="784" y="383"/>
                </a:lnTo>
                <a:lnTo>
                  <a:pt x="789" y="372"/>
                </a:lnTo>
                <a:lnTo>
                  <a:pt x="796" y="361"/>
                </a:lnTo>
                <a:lnTo>
                  <a:pt x="804" y="349"/>
                </a:lnTo>
                <a:lnTo>
                  <a:pt x="814" y="340"/>
                </a:lnTo>
                <a:lnTo>
                  <a:pt x="824" y="330"/>
                </a:lnTo>
                <a:lnTo>
                  <a:pt x="836" y="321"/>
                </a:lnTo>
                <a:lnTo>
                  <a:pt x="850" y="314"/>
                </a:lnTo>
                <a:lnTo>
                  <a:pt x="865" y="307"/>
                </a:lnTo>
                <a:lnTo>
                  <a:pt x="881" y="301"/>
                </a:lnTo>
                <a:lnTo>
                  <a:pt x="899" y="297"/>
                </a:lnTo>
                <a:lnTo>
                  <a:pt x="919" y="294"/>
                </a:lnTo>
                <a:lnTo>
                  <a:pt x="939" y="292"/>
                </a:lnTo>
                <a:lnTo>
                  <a:pt x="962" y="291"/>
                </a:lnTo>
                <a:lnTo>
                  <a:pt x="985" y="292"/>
                </a:lnTo>
                <a:lnTo>
                  <a:pt x="1011" y="294"/>
                </a:lnTo>
                <a:lnTo>
                  <a:pt x="1038" y="298"/>
                </a:lnTo>
                <a:lnTo>
                  <a:pt x="1067" y="304"/>
                </a:lnTo>
                <a:lnTo>
                  <a:pt x="1097" y="311"/>
                </a:lnTo>
                <a:lnTo>
                  <a:pt x="1129" y="320"/>
                </a:lnTo>
                <a:lnTo>
                  <a:pt x="1162" y="332"/>
                </a:lnTo>
                <a:lnTo>
                  <a:pt x="1260" y="373"/>
                </a:lnTo>
                <a:lnTo>
                  <a:pt x="1353" y="414"/>
                </a:lnTo>
                <a:lnTo>
                  <a:pt x="1441" y="455"/>
                </a:lnTo>
                <a:lnTo>
                  <a:pt x="1526" y="497"/>
                </a:lnTo>
                <a:lnTo>
                  <a:pt x="1608" y="541"/>
                </a:lnTo>
                <a:lnTo>
                  <a:pt x="1686" y="584"/>
                </a:lnTo>
                <a:lnTo>
                  <a:pt x="1761" y="628"/>
                </a:lnTo>
                <a:lnTo>
                  <a:pt x="1832" y="672"/>
                </a:lnTo>
                <a:lnTo>
                  <a:pt x="1900" y="717"/>
                </a:lnTo>
                <a:lnTo>
                  <a:pt x="1966" y="763"/>
                </a:lnTo>
                <a:lnTo>
                  <a:pt x="2028" y="809"/>
                </a:lnTo>
                <a:lnTo>
                  <a:pt x="2089" y="855"/>
                </a:lnTo>
                <a:lnTo>
                  <a:pt x="2147" y="902"/>
                </a:lnTo>
                <a:lnTo>
                  <a:pt x="2202" y="949"/>
                </a:lnTo>
                <a:lnTo>
                  <a:pt x="2256" y="997"/>
                </a:lnTo>
                <a:lnTo>
                  <a:pt x="2308" y="1045"/>
                </a:lnTo>
                <a:lnTo>
                  <a:pt x="2358" y="1094"/>
                </a:lnTo>
                <a:lnTo>
                  <a:pt x="2406" y="1143"/>
                </a:lnTo>
                <a:lnTo>
                  <a:pt x="2453" y="1194"/>
                </a:lnTo>
                <a:lnTo>
                  <a:pt x="2498" y="1244"/>
                </a:lnTo>
                <a:lnTo>
                  <a:pt x="2544" y="1294"/>
                </a:lnTo>
                <a:lnTo>
                  <a:pt x="2587" y="1346"/>
                </a:lnTo>
                <a:lnTo>
                  <a:pt x="2630" y="1397"/>
                </a:lnTo>
                <a:lnTo>
                  <a:pt x="2672" y="1449"/>
                </a:lnTo>
                <a:lnTo>
                  <a:pt x="2756" y="1554"/>
                </a:lnTo>
                <a:lnTo>
                  <a:pt x="2839" y="1661"/>
                </a:lnTo>
                <a:lnTo>
                  <a:pt x="2922" y="1770"/>
                </a:lnTo>
                <a:lnTo>
                  <a:pt x="3009" y="1880"/>
                </a:lnTo>
                <a:close/>
              </a:path>
            </a:pathLst>
          </a:custGeom>
          <a:solidFill>
            <a:srgbClr val="2a4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000" y="4168800"/>
            <a:ext cx="1238400" cy="2236680"/>
          </a:xfrm>
          <a:custGeom>
            <a:avLst/>
            <a:gdLst/>
            <a:ahLst/>
            <a:rect l="l" t="t" r="r" b="b"/>
            <a:pathLst>
              <a:path w="4845" h="8988">
                <a:moveTo>
                  <a:pt x="4306" y="2475"/>
                </a:moveTo>
                <a:lnTo>
                  <a:pt x="4215" y="2369"/>
                </a:lnTo>
                <a:lnTo>
                  <a:pt x="4124" y="2265"/>
                </a:lnTo>
                <a:lnTo>
                  <a:pt x="4031" y="2162"/>
                </a:lnTo>
                <a:lnTo>
                  <a:pt x="3937" y="2062"/>
                </a:lnTo>
                <a:lnTo>
                  <a:pt x="3841" y="1963"/>
                </a:lnTo>
                <a:lnTo>
                  <a:pt x="3744" y="1865"/>
                </a:lnTo>
                <a:lnTo>
                  <a:pt x="3646" y="1770"/>
                </a:lnTo>
                <a:lnTo>
                  <a:pt x="3547" y="1676"/>
                </a:lnTo>
                <a:lnTo>
                  <a:pt x="3446" y="1584"/>
                </a:lnTo>
                <a:lnTo>
                  <a:pt x="3343" y="1495"/>
                </a:lnTo>
                <a:lnTo>
                  <a:pt x="3239" y="1407"/>
                </a:lnTo>
                <a:lnTo>
                  <a:pt x="3133" y="1320"/>
                </a:lnTo>
                <a:lnTo>
                  <a:pt x="3026" y="1236"/>
                </a:lnTo>
                <a:lnTo>
                  <a:pt x="2918" y="1155"/>
                </a:lnTo>
                <a:lnTo>
                  <a:pt x="2807" y="1074"/>
                </a:lnTo>
                <a:lnTo>
                  <a:pt x="2696" y="996"/>
                </a:lnTo>
                <a:lnTo>
                  <a:pt x="2582" y="920"/>
                </a:lnTo>
                <a:lnTo>
                  <a:pt x="2467" y="846"/>
                </a:lnTo>
                <a:lnTo>
                  <a:pt x="2349" y="774"/>
                </a:lnTo>
                <a:lnTo>
                  <a:pt x="2231" y="704"/>
                </a:lnTo>
                <a:lnTo>
                  <a:pt x="2110" y="636"/>
                </a:lnTo>
                <a:lnTo>
                  <a:pt x="1987" y="570"/>
                </a:lnTo>
                <a:lnTo>
                  <a:pt x="1863" y="508"/>
                </a:lnTo>
                <a:lnTo>
                  <a:pt x="1737" y="446"/>
                </a:lnTo>
                <a:lnTo>
                  <a:pt x="1609" y="387"/>
                </a:lnTo>
                <a:lnTo>
                  <a:pt x="1479" y="331"/>
                </a:lnTo>
                <a:lnTo>
                  <a:pt x="1346" y="276"/>
                </a:lnTo>
                <a:lnTo>
                  <a:pt x="1213" y="225"/>
                </a:lnTo>
                <a:lnTo>
                  <a:pt x="1076" y="175"/>
                </a:lnTo>
                <a:lnTo>
                  <a:pt x="938" y="128"/>
                </a:lnTo>
                <a:lnTo>
                  <a:pt x="798" y="83"/>
                </a:lnTo>
                <a:lnTo>
                  <a:pt x="655" y="41"/>
                </a:lnTo>
                <a:lnTo>
                  <a:pt x="627" y="29"/>
                </a:lnTo>
                <a:lnTo>
                  <a:pt x="599" y="20"/>
                </a:lnTo>
                <a:lnTo>
                  <a:pt x="569" y="13"/>
                </a:lnTo>
                <a:lnTo>
                  <a:pt x="538" y="7"/>
                </a:lnTo>
                <a:lnTo>
                  <a:pt x="507" y="3"/>
                </a:lnTo>
                <a:lnTo>
                  <a:pt x="475" y="1"/>
                </a:lnTo>
                <a:lnTo>
                  <a:pt x="442" y="0"/>
                </a:lnTo>
                <a:lnTo>
                  <a:pt x="410" y="2"/>
                </a:lnTo>
                <a:lnTo>
                  <a:pt x="378" y="4"/>
                </a:lnTo>
                <a:lnTo>
                  <a:pt x="346" y="9"/>
                </a:lnTo>
                <a:lnTo>
                  <a:pt x="314" y="15"/>
                </a:lnTo>
                <a:lnTo>
                  <a:pt x="283" y="22"/>
                </a:lnTo>
                <a:lnTo>
                  <a:pt x="252" y="32"/>
                </a:lnTo>
                <a:lnTo>
                  <a:pt x="222" y="43"/>
                </a:lnTo>
                <a:lnTo>
                  <a:pt x="194" y="56"/>
                </a:lnTo>
                <a:lnTo>
                  <a:pt x="167" y="69"/>
                </a:lnTo>
                <a:lnTo>
                  <a:pt x="141" y="85"/>
                </a:lnTo>
                <a:lnTo>
                  <a:pt x="117" y="102"/>
                </a:lnTo>
                <a:lnTo>
                  <a:pt x="95" y="121"/>
                </a:lnTo>
                <a:lnTo>
                  <a:pt x="74" y="141"/>
                </a:lnTo>
                <a:lnTo>
                  <a:pt x="56" y="163"/>
                </a:lnTo>
                <a:lnTo>
                  <a:pt x="39" y="186"/>
                </a:lnTo>
                <a:lnTo>
                  <a:pt x="26" y="210"/>
                </a:lnTo>
                <a:lnTo>
                  <a:pt x="15" y="236"/>
                </a:lnTo>
                <a:lnTo>
                  <a:pt x="7" y="263"/>
                </a:lnTo>
                <a:lnTo>
                  <a:pt x="2" y="292"/>
                </a:lnTo>
                <a:lnTo>
                  <a:pt x="0" y="320"/>
                </a:lnTo>
                <a:lnTo>
                  <a:pt x="1" y="352"/>
                </a:lnTo>
                <a:lnTo>
                  <a:pt x="6" y="384"/>
                </a:lnTo>
                <a:lnTo>
                  <a:pt x="15" y="418"/>
                </a:lnTo>
                <a:lnTo>
                  <a:pt x="28" y="452"/>
                </a:lnTo>
                <a:lnTo>
                  <a:pt x="44" y="488"/>
                </a:lnTo>
                <a:lnTo>
                  <a:pt x="146" y="677"/>
                </a:lnTo>
                <a:lnTo>
                  <a:pt x="245" y="868"/>
                </a:lnTo>
                <a:lnTo>
                  <a:pt x="339" y="1060"/>
                </a:lnTo>
                <a:lnTo>
                  <a:pt x="431" y="1254"/>
                </a:lnTo>
                <a:lnTo>
                  <a:pt x="519" y="1450"/>
                </a:lnTo>
                <a:lnTo>
                  <a:pt x="604" y="1647"/>
                </a:lnTo>
                <a:lnTo>
                  <a:pt x="685" y="1847"/>
                </a:lnTo>
                <a:lnTo>
                  <a:pt x="763" y="2047"/>
                </a:lnTo>
                <a:lnTo>
                  <a:pt x="838" y="2250"/>
                </a:lnTo>
                <a:lnTo>
                  <a:pt x="911" y="2454"/>
                </a:lnTo>
                <a:lnTo>
                  <a:pt x="981" y="2658"/>
                </a:lnTo>
                <a:lnTo>
                  <a:pt x="1048" y="2864"/>
                </a:lnTo>
                <a:lnTo>
                  <a:pt x="1112" y="3072"/>
                </a:lnTo>
                <a:lnTo>
                  <a:pt x="1174" y="3279"/>
                </a:lnTo>
                <a:lnTo>
                  <a:pt x="1233" y="3488"/>
                </a:lnTo>
                <a:lnTo>
                  <a:pt x="1291" y="3698"/>
                </a:lnTo>
                <a:lnTo>
                  <a:pt x="1345" y="3909"/>
                </a:lnTo>
                <a:lnTo>
                  <a:pt x="1399" y="4120"/>
                </a:lnTo>
                <a:lnTo>
                  <a:pt x="1450" y="4333"/>
                </a:lnTo>
                <a:lnTo>
                  <a:pt x="1499" y="4544"/>
                </a:lnTo>
                <a:lnTo>
                  <a:pt x="1547" y="4757"/>
                </a:lnTo>
                <a:lnTo>
                  <a:pt x="1592" y="4970"/>
                </a:lnTo>
                <a:lnTo>
                  <a:pt x="1637" y="5184"/>
                </a:lnTo>
                <a:lnTo>
                  <a:pt x="1680" y="5397"/>
                </a:lnTo>
                <a:lnTo>
                  <a:pt x="1721" y="5611"/>
                </a:lnTo>
                <a:lnTo>
                  <a:pt x="1761" y="5825"/>
                </a:lnTo>
                <a:lnTo>
                  <a:pt x="1801" y="6039"/>
                </a:lnTo>
                <a:lnTo>
                  <a:pt x="1839" y="6252"/>
                </a:lnTo>
                <a:lnTo>
                  <a:pt x="1876" y="6465"/>
                </a:lnTo>
                <a:lnTo>
                  <a:pt x="1912" y="6678"/>
                </a:lnTo>
                <a:lnTo>
                  <a:pt x="1948" y="6890"/>
                </a:lnTo>
                <a:lnTo>
                  <a:pt x="1983" y="7102"/>
                </a:lnTo>
                <a:lnTo>
                  <a:pt x="1987" y="7124"/>
                </a:lnTo>
                <a:lnTo>
                  <a:pt x="1991" y="7145"/>
                </a:lnTo>
                <a:lnTo>
                  <a:pt x="1997" y="7164"/>
                </a:lnTo>
                <a:lnTo>
                  <a:pt x="2002" y="7184"/>
                </a:lnTo>
                <a:lnTo>
                  <a:pt x="2008" y="7202"/>
                </a:lnTo>
                <a:lnTo>
                  <a:pt x="2014" y="7221"/>
                </a:lnTo>
                <a:lnTo>
                  <a:pt x="2020" y="7238"/>
                </a:lnTo>
                <a:lnTo>
                  <a:pt x="2027" y="7255"/>
                </a:lnTo>
                <a:lnTo>
                  <a:pt x="2035" y="7271"/>
                </a:lnTo>
                <a:lnTo>
                  <a:pt x="2043" y="7286"/>
                </a:lnTo>
                <a:lnTo>
                  <a:pt x="2051" y="7301"/>
                </a:lnTo>
                <a:lnTo>
                  <a:pt x="2059" y="7315"/>
                </a:lnTo>
                <a:lnTo>
                  <a:pt x="2069" y="7329"/>
                </a:lnTo>
                <a:lnTo>
                  <a:pt x="2078" y="7342"/>
                </a:lnTo>
                <a:lnTo>
                  <a:pt x="2088" y="7354"/>
                </a:lnTo>
                <a:lnTo>
                  <a:pt x="2098" y="7367"/>
                </a:lnTo>
                <a:lnTo>
                  <a:pt x="2109" y="7378"/>
                </a:lnTo>
                <a:lnTo>
                  <a:pt x="2119" y="7388"/>
                </a:lnTo>
                <a:lnTo>
                  <a:pt x="2130" y="7399"/>
                </a:lnTo>
                <a:lnTo>
                  <a:pt x="2142" y="7408"/>
                </a:lnTo>
                <a:lnTo>
                  <a:pt x="2153" y="7417"/>
                </a:lnTo>
                <a:lnTo>
                  <a:pt x="2164" y="7425"/>
                </a:lnTo>
                <a:lnTo>
                  <a:pt x="2177" y="7434"/>
                </a:lnTo>
                <a:lnTo>
                  <a:pt x="2189" y="7441"/>
                </a:lnTo>
                <a:lnTo>
                  <a:pt x="2201" y="7448"/>
                </a:lnTo>
                <a:lnTo>
                  <a:pt x="2215" y="7454"/>
                </a:lnTo>
                <a:lnTo>
                  <a:pt x="2228" y="7460"/>
                </a:lnTo>
                <a:lnTo>
                  <a:pt x="2240" y="7465"/>
                </a:lnTo>
                <a:lnTo>
                  <a:pt x="2255" y="7470"/>
                </a:lnTo>
                <a:lnTo>
                  <a:pt x="2268" y="7474"/>
                </a:lnTo>
                <a:lnTo>
                  <a:pt x="2281" y="7478"/>
                </a:lnTo>
                <a:lnTo>
                  <a:pt x="2296" y="7481"/>
                </a:lnTo>
                <a:lnTo>
                  <a:pt x="2389" y="7501"/>
                </a:lnTo>
                <a:lnTo>
                  <a:pt x="2481" y="7524"/>
                </a:lnTo>
                <a:lnTo>
                  <a:pt x="2573" y="7549"/>
                </a:lnTo>
                <a:lnTo>
                  <a:pt x="2662" y="7575"/>
                </a:lnTo>
                <a:lnTo>
                  <a:pt x="2751" y="7604"/>
                </a:lnTo>
                <a:lnTo>
                  <a:pt x="2838" y="7635"/>
                </a:lnTo>
                <a:lnTo>
                  <a:pt x="2924" y="7668"/>
                </a:lnTo>
                <a:lnTo>
                  <a:pt x="3009" y="7703"/>
                </a:lnTo>
                <a:lnTo>
                  <a:pt x="3093" y="7739"/>
                </a:lnTo>
                <a:lnTo>
                  <a:pt x="3175" y="7778"/>
                </a:lnTo>
                <a:lnTo>
                  <a:pt x="3258" y="7818"/>
                </a:lnTo>
                <a:lnTo>
                  <a:pt x="3339" y="7859"/>
                </a:lnTo>
                <a:lnTo>
                  <a:pt x="3419" y="7903"/>
                </a:lnTo>
                <a:lnTo>
                  <a:pt x="3498" y="7948"/>
                </a:lnTo>
                <a:lnTo>
                  <a:pt x="3578" y="7994"/>
                </a:lnTo>
                <a:lnTo>
                  <a:pt x="3655" y="8042"/>
                </a:lnTo>
                <a:lnTo>
                  <a:pt x="3733" y="8092"/>
                </a:lnTo>
                <a:lnTo>
                  <a:pt x="3809" y="8143"/>
                </a:lnTo>
                <a:lnTo>
                  <a:pt x="3885" y="8196"/>
                </a:lnTo>
                <a:lnTo>
                  <a:pt x="3961" y="8250"/>
                </a:lnTo>
                <a:lnTo>
                  <a:pt x="4036" y="8305"/>
                </a:lnTo>
                <a:lnTo>
                  <a:pt x="4110" y="8361"/>
                </a:lnTo>
                <a:lnTo>
                  <a:pt x="4184" y="8419"/>
                </a:lnTo>
                <a:lnTo>
                  <a:pt x="4258" y="8477"/>
                </a:lnTo>
                <a:lnTo>
                  <a:pt x="4333" y="8538"/>
                </a:lnTo>
                <a:lnTo>
                  <a:pt x="4406" y="8599"/>
                </a:lnTo>
                <a:lnTo>
                  <a:pt x="4479" y="8662"/>
                </a:lnTo>
                <a:lnTo>
                  <a:pt x="4553" y="8724"/>
                </a:lnTo>
                <a:lnTo>
                  <a:pt x="4626" y="8789"/>
                </a:lnTo>
                <a:lnTo>
                  <a:pt x="4699" y="8854"/>
                </a:lnTo>
                <a:lnTo>
                  <a:pt x="4771" y="8921"/>
                </a:lnTo>
                <a:lnTo>
                  <a:pt x="4845" y="8988"/>
                </a:lnTo>
                <a:lnTo>
                  <a:pt x="4780" y="8463"/>
                </a:lnTo>
                <a:lnTo>
                  <a:pt x="4674" y="8368"/>
                </a:lnTo>
                <a:lnTo>
                  <a:pt x="4562" y="8270"/>
                </a:lnTo>
                <a:lnTo>
                  <a:pt x="4502" y="8219"/>
                </a:lnTo>
                <a:lnTo>
                  <a:pt x="4442" y="8168"/>
                </a:lnTo>
                <a:lnTo>
                  <a:pt x="4380" y="8116"/>
                </a:lnTo>
                <a:lnTo>
                  <a:pt x="4316" y="8064"/>
                </a:lnTo>
                <a:lnTo>
                  <a:pt x="4250" y="8012"/>
                </a:lnTo>
                <a:lnTo>
                  <a:pt x="4183" y="7960"/>
                </a:lnTo>
                <a:lnTo>
                  <a:pt x="4114" y="7908"/>
                </a:lnTo>
                <a:lnTo>
                  <a:pt x="4046" y="7856"/>
                </a:lnTo>
                <a:lnTo>
                  <a:pt x="3975" y="7805"/>
                </a:lnTo>
                <a:lnTo>
                  <a:pt x="3903" y="7753"/>
                </a:lnTo>
                <a:lnTo>
                  <a:pt x="3829" y="7703"/>
                </a:lnTo>
                <a:lnTo>
                  <a:pt x="3754" y="7654"/>
                </a:lnTo>
                <a:lnTo>
                  <a:pt x="3679" y="7605"/>
                </a:lnTo>
                <a:lnTo>
                  <a:pt x="3603" y="7558"/>
                </a:lnTo>
                <a:lnTo>
                  <a:pt x="3525" y="7513"/>
                </a:lnTo>
                <a:lnTo>
                  <a:pt x="3447" y="7467"/>
                </a:lnTo>
                <a:lnTo>
                  <a:pt x="3369" y="7425"/>
                </a:lnTo>
                <a:lnTo>
                  <a:pt x="3288" y="7384"/>
                </a:lnTo>
                <a:lnTo>
                  <a:pt x="3208" y="7344"/>
                </a:lnTo>
                <a:lnTo>
                  <a:pt x="3127" y="7307"/>
                </a:lnTo>
                <a:lnTo>
                  <a:pt x="3046" y="7272"/>
                </a:lnTo>
                <a:lnTo>
                  <a:pt x="2963" y="7239"/>
                </a:lnTo>
                <a:lnTo>
                  <a:pt x="2881" y="7208"/>
                </a:lnTo>
                <a:lnTo>
                  <a:pt x="2798" y="7181"/>
                </a:lnTo>
                <a:lnTo>
                  <a:pt x="2715" y="7155"/>
                </a:lnTo>
                <a:lnTo>
                  <a:pt x="2631" y="7133"/>
                </a:lnTo>
                <a:lnTo>
                  <a:pt x="2548" y="7114"/>
                </a:lnTo>
                <a:lnTo>
                  <a:pt x="2464" y="7097"/>
                </a:lnTo>
                <a:lnTo>
                  <a:pt x="2444" y="7093"/>
                </a:lnTo>
                <a:lnTo>
                  <a:pt x="2427" y="7089"/>
                </a:lnTo>
                <a:lnTo>
                  <a:pt x="2412" y="7083"/>
                </a:lnTo>
                <a:lnTo>
                  <a:pt x="2399" y="7076"/>
                </a:lnTo>
                <a:lnTo>
                  <a:pt x="2387" y="7068"/>
                </a:lnTo>
                <a:lnTo>
                  <a:pt x="2377" y="7060"/>
                </a:lnTo>
                <a:lnTo>
                  <a:pt x="2369" y="7051"/>
                </a:lnTo>
                <a:lnTo>
                  <a:pt x="2362" y="7041"/>
                </a:lnTo>
                <a:lnTo>
                  <a:pt x="2356" y="7029"/>
                </a:lnTo>
                <a:lnTo>
                  <a:pt x="2350" y="7018"/>
                </a:lnTo>
                <a:lnTo>
                  <a:pt x="2346" y="7007"/>
                </a:lnTo>
                <a:lnTo>
                  <a:pt x="2343" y="6993"/>
                </a:lnTo>
                <a:lnTo>
                  <a:pt x="2337" y="6967"/>
                </a:lnTo>
                <a:lnTo>
                  <a:pt x="2333" y="6937"/>
                </a:lnTo>
                <a:lnTo>
                  <a:pt x="2302" y="6726"/>
                </a:lnTo>
                <a:lnTo>
                  <a:pt x="2270" y="6516"/>
                </a:lnTo>
                <a:lnTo>
                  <a:pt x="2237" y="6308"/>
                </a:lnTo>
                <a:lnTo>
                  <a:pt x="2203" y="6101"/>
                </a:lnTo>
                <a:lnTo>
                  <a:pt x="2169" y="5894"/>
                </a:lnTo>
                <a:lnTo>
                  <a:pt x="2133" y="5688"/>
                </a:lnTo>
                <a:lnTo>
                  <a:pt x="2097" y="5484"/>
                </a:lnTo>
                <a:lnTo>
                  <a:pt x="2059" y="5280"/>
                </a:lnTo>
                <a:lnTo>
                  <a:pt x="2020" y="5076"/>
                </a:lnTo>
                <a:lnTo>
                  <a:pt x="1979" y="4875"/>
                </a:lnTo>
                <a:lnTo>
                  <a:pt x="1937" y="4673"/>
                </a:lnTo>
                <a:lnTo>
                  <a:pt x="1893" y="4472"/>
                </a:lnTo>
                <a:lnTo>
                  <a:pt x="1847" y="4273"/>
                </a:lnTo>
                <a:lnTo>
                  <a:pt x="1800" y="4073"/>
                </a:lnTo>
                <a:lnTo>
                  <a:pt x="1750" y="3875"/>
                </a:lnTo>
                <a:lnTo>
                  <a:pt x="1698" y="3677"/>
                </a:lnTo>
                <a:lnTo>
                  <a:pt x="1645" y="3480"/>
                </a:lnTo>
                <a:lnTo>
                  <a:pt x="1588" y="3284"/>
                </a:lnTo>
                <a:lnTo>
                  <a:pt x="1530" y="3088"/>
                </a:lnTo>
                <a:lnTo>
                  <a:pt x="1469" y="2893"/>
                </a:lnTo>
                <a:lnTo>
                  <a:pt x="1405" y="2698"/>
                </a:lnTo>
                <a:lnTo>
                  <a:pt x="1338" y="2504"/>
                </a:lnTo>
                <a:lnTo>
                  <a:pt x="1269" y="2311"/>
                </a:lnTo>
                <a:lnTo>
                  <a:pt x="1197" y="2117"/>
                </a:lnTo>
                <a:lnTo>
                  <a:pt x="1122" y="1925"/>
                </a:lnTo>
                <a:lnTo>
                  <a:pt x="1044" y="1733"/>
                </a:lnTo>
                <a:lnTo>
                  <a:pt x="962" y="1541"/>
                </a:lnTo>
                <a:lnTo>
                  <a:pt x="877" y="1350"/>
                </a:lnTo>
                <a:lnTo>
                  <a:pt x="789" y="1159"/>
                </a:lnTo>
                <a:lnTo>
                  <a:pt x="696" y="968"/>
                </a:lnTo>
                <a:lnTo>
                  <a:pt x="601" y="778"/>
                </a:lnTo>
                <a:lnTo>
                  <a:pt x="502" y="588"/>
                </a:lnTo>
                <a:lnTo>
                  <a:pt x="498" y="583"/>
                </a:lnTo>
                <a:lnTo>
                  <a:pt x="496" y="578"/>
                </a:lnTo>
                <a:lnTo>
                  <a:pt x="493" y="572"/>
                </a:lnTo>
                <a:lnTo>
                  <a:pt x="492" y="567"/>
                </a:lnTo>
                <a:lnTo>
                  <a:pt x="491" y="561"/>
                </a:lnTo>
                <a:lnTo>
                  <a:pt x="491" y="556"/>
                </a:lnTo>
                <a:lnTo>
                  <a:pt x="491" y="551"/>
                </a:lnTo>
                <a:lnTo>
                  <a:pt x="493" y="545"/>
                </a:lnTo>
                <a:lnTo>
                  <a:pt x="494" y="540"/>
                </a:lnTo>
                <a:lnTo>
                  <a:pt x="496" y="533"/>
                </a:lnTo>
                <a:lnTo>
                  <a:pt x="499" y="528"/>
                </a:lnTo>
                <a:lnTo>
                  <a:pt x="502" y="523"/>
                </a:lnTo>
                <a:lnTo>
                  <a:pt x="511" y="512"/>
                </a:lnTo>
                <a:lnTo>
                  <a:pt x="522" y="502"/>
                </a:lnTo>
                <a:lnTo>
                  <a:pt x="534" y="493"/>
                </a:lnTo>
                <a:lnTo>
                  <a:pt x="548" y="485"/>
                </a:lnTo>
                <a:lnTo>
                  <a:pt x="564" y="478"/>
                </a:lnTo>
                <a:lnTo>
                  <a:pt x="581" y="473"/>
                </a:lnTo>
                <a:lnTo>
                  <a:pt x="600" y="468"/>
                </a:lnTo>
                <a:lnTo>
                  <a:pt x="620" y="465"/>
                </a:lnTo>
                <a:lnTo>
                  <a:pt x="642" y="464"/>
                </a:lnTo>
                <a:lnTo>
                  <a:pt x="664" y="466"/>
                </a:lnTo>
                <a:lnTo>
                  <a:pt x="759" y="479"/>
                </a:lnTo>
                <a:lnTo>
                  <a:pt x="857" y="497"/>
                </a:lnTo>
                <a:lnTo>
                  <a:pt x="957" y="521"/>
                </a:lnTo>
                <a:lnTo>
                  <a:pt x="1058" y="550"/>
                </a:lnTo>
                <a:lnTo>
                  <a:pt x="1162" y="583"/>
                </a:lnTo>
                <a:lnTo>
                  <a:pt x="1268" y="622"/>
                </a:lnTo>
                <a:lnTo>
                  <a:pt x="1377" y="665"/>
                </a:lnTo>
                <a:lnTo>
                  <a:pt x="1487" y="713"/>
                </a:lnTo>
                <a:lnTo>
                  <a:pt x="1598" y="767"/>
                </a:lnTo>
                <a:lnTo>
                  <a:pt x="1712" y="824"/>
                </a:lnTo>
                <a:lnTo>
                  <a:pt x="1826" y="886"/>
                </a:lnTo>
                <a:lnTo>
                  <a:pt x="1942" y="952"/>
                </a:lnTo>
                <a:lnTo>
                  <a:pt x="2058" y="1022"/>
                </a:lnTo>
                <a:lnTo>
                  <a:pt x="2177" y="1097"/>
                </a:lnTo>
                <a:lnTo>
                  <a:pt x="2295" y="1175"/>
                </a:lnTo>
                <a:lnTo>
                  <a:pt x="2414" y="1257"/>
                </a:lnTo>
                <a:lnTo>
                  <a:pt x="2535" y="1344"/>
                </a:lnTo>
                <a:lnTo>
                  <a:pt x="2655" y="1433"/>
                </a:lnTo>
                <a:lnTo>
                  <a:pt x="2775" y="1527"/>
                </a:lnTo>
                <a:lnTo>
                  <a:pt x="2896" y="1625"/>
                </a:lnTo>
                <a:lnTo>
                  <a:pt x="3017" y="1724"/>
                </a:lnTo>
                <a:lnTo>
                  <a:pt x="3138" y="1828"/>
                </a:lnTo>
                <a:lnTo>
                  <a:pt x="3259" y="1934"/>
                </a:lnTo>
                <a:lnTo>
                  <a:pt x="3379" y="2044"/>
                </a:lnTo>
                <a:lnTo>
                  <a:pt x="3498" y="2157"/>
                </a:lnTo>
                <a:lnTo>
                  <a:pt x="3618" y="2273"/>
                </a:lnTo>
                <a:lnTo>
                  <a:pt x="3737" y="2391"/>
                </a:lnTo>
                <a:lnTo>
                  <a:pt x="3854" y="2511"/>
                </a:lnTo>
                <a:lnTo>
                  <a:pt x="3970" y="2635"/>
                </a:lnTo>
                <a:lnTo>
                  <a:pt x="4087" y="2761"/>
                </a:lnTo>
                <a:lnTo>
                  <a:pt x="4201" y="2889"/>
                </a:lnTo>
                <a:lnTo>
                  <a:pt x="4314" y="3019"/>
                </a:lnTo>
                <a:lnTo>
                  <a:pt x="4358" y="3019"/>
                </a:lnTo>
                <a:lnTo>
                  <a:pt x="4398" y="3019"/>
                </a:lnTo>
                <a:lnTo>
                  <a:pt x="4435" y="3017"/>
                </a:lnTo>
                <a:lnTo>
                  <a:pt x="4468" y="3015"/>
                </a:lnTo>
                <a:lnTo>
                  <a:pt x="4497" y="3011"/>
                </a:lnTo>
                <a:lnTo>
                  <a:pt x="4524" y="3006"/>
                </a:lnTo>
                <a:lnTo>
                  <a:pt x="4546" y="3000"/>
                </a:lnTo>
                <a:lnTo>
                  <a:pt x="4565" y="2992"/>
                </a:lnTo>
                <a:lnTo>
                  <a:pt x="4581" y="2984"/>
                </a:lnTo>
                <a:lnTo>
                  <a:pt x="4595" y="2975"/>
                </a:lnTo>
                <a:lnTo>
                  <a:pt x="4605" y="2965"/>
                </a:lnTo>
                <a:lnTo>
                  <a:pt x="4612" y="2952"/>
                </a:lnTo>
                <a:lnTo>
                  <a:pt x="4616" y="2940"/>
                </a:lnTo>
                <a:lnTo>
                  <a:pt x="4618" y="2926"/>
                </a:lnTo>
                <a:lnTo>
                  <a:pt x="4617" y="2910"/>
                </a:lnTo>
                <a:lnTo>
                  <a:pt x="4614" y="2894"/>
                </a:lnTo>
                <a:lnTo>
                  <a:pt x="4608" y="2876"/>
                </a:lnTo>
                <a:lnTo>
                  <a:pt x="4600" y="2858"/>
                </a:lnTo>
                <a:lnTo>
                  <a:pt x="4590" y="2838"/>
                </a:lnTo>
                <a:lnTo>
                  <a:pt x="4578" y="2817"/>
                </a:lnTo>
                <a:lnTo>
                  <a:pt x="4564" y="2795"/>
                </a:lnTo>
                <a:lnTo>
                  <a:pt x="4548" y="2771"/>
                </a:lnTo>
                <a:lnTo>
                  <a:pt x="4530" y="2748"/>
                </a:lnTo>
                <a:lnTo>
                  <a:pt x="4510" y="2722"/>
                </a:lnTo>
                <a:lnTo>
                  <a:pt x="4466" y="2667"/>
                </a:lnTo>
                <a:lnTo>
                  <a:pt x="4418" y="2608"/>
                </a:lnTo>
                <a:lnTo>
                  <a:pt x="4363" y="2544"/>
                </a:lnTo>
                <a:lnTo>
                  <a:pt x="4306" y="2475"/>
                </a:lnTo>
                <a:close/>
              </a:path>
            </a:pathLst>
          </a:custGeom>
          <a:solidFill>
            <a:srgbClr val="7586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7440" y="4632480"/>
            <a:ext cx="2302200" cy="2057400"/>
          </a:xfrm>
          <a:custGeom>
            <a:avLst/>
            <a:gdLst/>
            <a:ahLst/>
            <a:rect l="l" t="t" r="r" b="b"/>
            <a:pathLst>
              <a:path w="8995" h="8286">
                <a:moveTo>
                  <a:pt x="448" y="1054"/>
                </a:moveTo>
                <a:lnTo>
                  <a:pt x="425" y="1391"/>
                </a:lnTo>
                <a:lnTo>
                  <a:pt x="419" y="1456"/>
                </a:lnTo>
                <a:lnTo>
                  <a:pt x="418" y="1519"/>
                </a:lnTo>
                <a:lnTo>
                  <a:pt x="422" y="1580"/>
                </a:lnTo>
                <a:lnTo>
                  <a:pt x="432" y="1638"/>
                </a:lnTo>
                <a:lnTo>
                  <a:pt x="446" y="1695"/>
                </a:lnTo>
                <a:lnTo>
                  <a:pt x="466" y="1749"/>
                </a:lnTo>
                <a:lnTo>
                  <a:pt x="491" y="1801"/>
                </a:lnTo>
                <a:lnTo>
                  <a:pt x="519" y="1850"/>
                </a:lnTo>
                <a:lnTo>
                  <a:pt x="552" y="1896"/>
                </a:lnTo>
                <a:lnTo>
                  <a:pt x="589" y="1940"/>
                </a:lnTo>
                <a:lnTo>
                  <a:pt x="631" y="1981"/>
                </a:lnTo>
                <a:lnTo>
                  <a:pt x="675" y="2018"/>
                </a:lnTo>
                <a:lnTo>
                  <a:pt x="722" y="2053"/>
                </a:lnTo>
                <a:lnTo>
                  <a:pt x="772" y="2084"/>
                </a:lnTo>
                <a:lnTo>
                  <a:pt x="826" y="2111"/>
                </a:lnTo>
                <a:lnTo>
                  <a:pt x="882" y="2135"/>
                </a:lnTo>
                <a:lnTo>
                  <a:pt x="940" y="2156"/>
                </a:lnTo>
                <a:lnTo>
                  <a:pt x="1001" y="2172"/>
                </a:lnTo>
                <a:lnTo>
                  <a:pt x="1063" y="2184"/>
                </a:lnTo>
                <a:lnTo>
                  <a:pt x="1127" y="2194"/>
                </a:lnTo>
                <a:lnTo>
                  <a:pt x="1193" y="2198"/>
                </a:lnTo>
                <a:lnTo>
                  <a:pt x="1260" y="2198"/>
                </a:lnTo>
                <a:lnTo>
                  <a:pt x="1328" y="2194"/>
                </a:lnTo>
                <a:lnTo>
                  <a:pt x="1397" y="2185"/>
                </a:lnTo>
                <a:lnTo>
                  <a:pt x="1466" y="2172"/>
                </a:lnTo>
                <a:lnTo>
                  <a:pt x="1536" y="2154"/>
                </a:lnTo>
                <a:lnTo>
                  <a:pt x="1606" y="2131"/>
                </a:lnTo>
                <a:lnTo>
                  <a:pt x="1676" y="2102"/>
                </a:lnTo>
                <a:lnTo>
                  <a:pt x="1745" y="2069"/>
                </a:lnTo>
                <a:lnTo>
                  <a:pt x="1813" y="2031"/>
                </a:lnTo>
                <a:lnTo>
                  <a:pt x="1882" y="1987"/>
                </a:lnTo>
                <a:lnTo>
                  <a:pt x="1949" y="1938"/>
                </a:lnTo>
                <a:lnTo>
                  <a:pt x="2061" y="1812"/>
                </a:lnTo>
                <a:lnTo>
                  <a:pt x="2179" y="1688"/>
                </a:lnTo>
                <a:lnTo>
                  <a:pt x="2302" y="1565"/>
                </a:lnTo>
                <a:lnTo>
                  <a:pt x="2432" y="1444"/>
                </a:lnTo>
                <a:lnTo>
                  <a:pt x="2566" y="1326"/>
                </a:lnTo>
                <a:lnTo>
                  <a:pt x="2707" y="1210"/>
                </a:lnTo>
                <a:lnTo>
                  <a:pt x="2854" y="1097"/>
                </a:lnTo>
                <a:lnTo>
                  <a:pt x="3007" y="988"/>
                </a:lnTo>
                <a:lnTo>
                  <a:pt x="3164" y="883"/>
                </a:lnTo>
                <a:lnTo>
                  <a:pt x="3328" y="782"/>
                </a:lnTo>
                <a:lnTo>
                  <a:pt x="3496" y="685"/>
                </a:lnTo>
                <a:lnTo>
                  <a:pt x="3671" y="593"/>
                </a:lnTo>
                <a:lnTo>
                  <a:pt x="3851" y="507"/>
                </a:lnTo>
                <a:lnTo>
                  <a:pt x="4036" y="426"/>
                </a:lnTo>
                <a:lnTo>
                  <a:pt x="4227" y="351"/>
                </a:lnTo>
                <a:lnTo>
                  <a:pt x="4422" y="282"/>
                </a:lnTo>
                <a:lnTo>
                  <a:pt x="4624" y="219"/>
                </a:lnTo>
                <a:lnTo>
                  <a:pt x="4829" y="164"/>
                </a:lnTo>
                <a:lnTo>
                  <a:pt x="5040" y="116"/>
                </a:lnTo>
                <a:lnTo>
                  <a:pt x="5257" y="76"/>
                </a:lnTo>
                <a:lnTo>
                  <a:pt x="5478" y="44"/>
                </a:lnTo>
                <a:lnTo>
                  <a:pt x="5705" y="21"/>
                </a:lnTo>
                <a:lnTo>
                  <a:pt x="5936" y="6"/>
                </a:lnTo>
                <a:lnTo>
                  <a:pt x="6173" y="0"/>
                </a:lnTo>
                <a:lnTo>
                  <a:pt x="6413" y="4"/>
                </a:lnTo>
                <a:lnTo>
                  <a:pt x="6659" y="17"/>
                </a:lnTo>
                <a:lnTo>
                  <a:pt x="6910" y="41"/>
                </a:lnTo>
                <a:lnTo>
                  <a:pt x="7165" y="76"/>
                </a:lnTo>
                <a:lnTo>
                  <a:pt x="7426" y="121"/>
                </a:lnTo>
                <a:lnTo>
                  <a:pt x="7690" y="178"/>
                </a:lnTo>
                <a:lnTo>
                  <a:pt x="7959" y="247"/>
                </a:lnTo>
                <a:lnTo>
                  <a:pt x="8233" y="327"/>
                </a:lnTo>
                <a:lnTo>
                  <a:pt x="8281" y="350"/>
                </a:lnTo>
                <a:lnTo>
                  <a:pt x="8330" y="371"/>
                </a:lnTo>
                <a:lnTo>
                  <a:pt x="8377" y="391"/>
                </a:lnTo>
                <a:lnTo>
                  <a:pt x="8423" y="410"/>
                </a:lnTo>
                <a:lnTo>
                  <a:pt x="8513" y="446"/>
                </a:lnTo>
                <a:lnTo>
                  <a:pt x="8597" y="481"/>
                </a:lnTo>
                <a:lnTo>
                  <a:pt x="8637" y="499"/>
                </a:lnTo>
                <a:lnTo>
                  <a:pt x="8676" y="516"/>
                </a:lnTo>
                <a:lnTo>
                  <a:pt x="8713" y="535"/>
                </a:lnTo>
                <a:lnTo>
                  <a:pt x="8748" y="554"/>
                </a:lnTo>
                <a:lnTo>
                  <a:pt x="8782" y="575"/>
                </a:lnTo>
                <a:lnTo>
                  <a:pt x="8814" y="596"/>
                </a:lnTo>
                <a:lnTo>
                  <a:pt x="8843" y="620"/>
                </a:lnTo>
                <a:lnTo>
                  <a:pt x="8870" y="645"/>
                </a:lnTo>
                <a:lnTo>
                  <a:pt x="8894" y="673"/>
                </a:lnTo>
                <a:lnTo>
                  <a:pt x="8917" y="701"/>
                </a:lnTo>
                <a:lnTo>
                  <a:pt x="8937" y="733"/>
                </a:lnTo>
                <a:lnTo>
                  <a:pt x="8954" y="768"/>
                </a:lnTo>
                <a:lnTo>
                  <a:pt x="8968" y="806"/>
                </a:lnTo>
                <a:lnTo>
                  <a:pt x="8980" y="846"/>
                </a:lnTo>
                <a:lnTo>
                  <a:pt x="8988" y="891"/>
                </a:lnTo>
                <a:lnTo>
                  <a:pt x="8993" y="938"/>
                </a:lnTo>
                <a:lnTo>
                  <a:pt x="8995" y="990"/>
                </a:lnTo>
                <a:lnTo>
                  <a:pt x="8993" y="1046"/>
                </a:lnTo>
                <a:lnTo>
                  <a:pt x="8989" y="1106"/>
                </a:lnTo>
                <a:lnTo>
                  <a:pt x="8980" y="1170"/>
                </a:lnTo>
                <a:lnTo>
                  <a:pt x="8967" y="1240"/>
                </a:lnTo>
                <a:lnTo>
                  <a:pt x="8952" y="1314"/>
                </a:lnTo>
                <a:lnTo>
                  <a:pt x="8931" y="1394"/>
                </a:lnTo>
                <a:lnTo>
                  <a:pt x="8908" y="1479"/>
                </a:lnTo>
                <a:lnTo>
                  <a:pt x="8868" y="1628"/>
                </a:lnTo>
                <a:lnTo>
                  <a:pt x="8831" y="1778"/>
                </a:lnTo>
                <a:lnTo>
                  <a:pt x="8796" y="1928"/>
                </a:lnTo>
                <a:lnTo>
                  <a:pt x="8764" y="2078"/>
                </a:lnTo>
                <a:lnTo>
                  <a:pt x="8735" y="2229"/>
                </a:lnTo>
                <a:lnTo>
                  <a:pt x="8708" y="2379"/>
                </a:lnTo>
                <a:lnTo>
                  <a:pt x="8686" y="2530"/>
                </a:lnTo>
                <a:lnTo>
                  <a:pt x="8664" y="2681"/>
                </a:lnTo>
                <a:lnTo>
                  <a:pt x="8646" y="2832"/>
                </a:lnTo>
                <a:lnTo>
                  <a:pt x="8629" y="2985"/>
                </a:lnTo>
                <a:lnTo>
                  <a:pt x="8616" y="3137"/>
                </a:lnTo>
                <a:lnTo>
                  <a:pt x="8604" y="3290"/>
                </a:lnTo>
                <a:lnTo>
                  <a:pt x="8595" y="3443"/>
                </a:lnTo>
                <a:lnTo>
                  <a:pt x="8588" y="3598"/>
                </a:lnTo>
                <a:lnTo>
                  <a:pt x="8584" y="3752"/>
                </a:lnTo>
                <a:lnTo>
                  <a:pt x="8581" y="3907"/>
                </a:lnTo>
                <a:lnTo>
                  <a:pt x="8580" y="4064"/>
                </a:lnTo>
                <a:lnTo>
                  <a:pt x="8582" y="4220"/>
                </a:lnTo>
                <a:lnTo>
                  <a:pt x="8585" y="4378"/>
                </a:lnTo>
                <a:lnTo>
                  <a:pt x="8589" y="4537"/>
                </a:lnTo>
                <a:lnTo>
                  <a:pt x="8596" y="4695"/>
                </a:lnTo>
                <a:lnTo>
                  <a:pt x="8604" y="4855"/>
                </a:lnTo>
                <a:lnTo>
                  <a:pt x="8615" y="5016"/>
                </a:lnTo>
                <a:lnTo>
                  <a:pt x="8626" y="5178"/>
                </a:lnTo>
                <a:lnTo>
                  <a:pt x="8639" y="5341"/>
                </a:lnTo>
                <a:lnTo>
                  <a:pt x="8654" y="5504"/>
                </a:lnTo>
                <a:lnTo>
                  <a:pt x="8670" y="5670"/>
                </a:lnTo>
                <a:lnTo>
                  <a:pt x="8687" y="5836"/>
                </a:lnTo>
                <a:lnTo>
                  <a:pt x="8705" y="6002"/>
                </a:lnTo>
                <a:lnTo>
                  <a:pt x="8726" y="6171"/>
                </a:lnTo>
                <a:lnTo>
                  <a:pt x="8746" y="6341"/>
                </a:lnTo>
                <a:lnTo>
                  <a:pt x="8768" y="6511"/>
                </a:lnTo>
                <a:lnTo>
                  <a:pt x="8777" y="6550"/>
                </a:lnTo>
                <a:lnTo>
                  <a:pt x="8783" y="6587"/>
                </a:lnTo>
                <a:lnTo>
                  <a:pt x="8788" y="6622"/>
                </a:lnTo>
                <a:lnTo>
                  <a:pt x="8792" y="6655"/>
                </a:lnTo>
                <a:lnTo>
                  <a:pt x="8793" y="6686"/>
                </a:lnTo>
                <a:lnTo>
                  <a:pt x="8792" y="6716"/>
                </a:lnTo>
                <a:lnTo>
                  <a:pt x="8790" y="6744"/>
                </a:lnTo>
                <a:lnTo>
                  <a:pt x="8785" y="6770"/>
                </a:lnTo>
                <a:lnTo>
                  <a:pt x="8779" y="6793"/>
                </a:lnTo>
                <a:lnTo>
                  <a:pt x="8772" y="6815"/>
                </a:lnTo>
                <a:lnTo>
                  <a:pt x="8764" y="6835"/>
                </a:lnTo>
                <a:lnTo>
                  <a:pt x="8754" y="6854"/>
                </a:lnTo>
                <a:lnTo>
                  <a:pt x="8741" y="6871"/>
                </a:lnTo>
                <a:lnTo>
                  <a:pt x="8728" y="6887"/>
                </a:lnTo>
                <a:lnTo>
                  <a:pt x="8714" y="6900"/>
                </a:lnTo>
                <a:lnTo>
                  <a:pt x="8698" y="6912"/>
                </a:lnTo>
                <a:lnTo>
                  <a:pt x="8682" y="6924"/>
                </a:lnTo>
                <a:lnTo>
                  <a:pt x="8663" y="6933"/>
                </a:lnTo>
                <a:lnTo>
                  <a:pt x="8644" y="6940"/>
                </a:lnTo>
                <a:lnTo>
                  <a:pt x="8624" y="6947"/>
                </a:lnTo>
                <a:lnTo>
                  <a:pt x="8602" y="6953"/>
                </a:lnTo>
                <a:lnTo>
                  <a:pt x="8581" y="6956"/>
                </a:lnTo>
                <a:lnTo>
                  <a:pt x="8558" y="6959"/>
                </a:lnTo>
                <a:lnTo>
                  <a:pt x="8533" y="6960"/>
                </a:lnTo>
                <a:lnTo>
                  <a:pt x="8509" y="6959"/>
                </a:lnTo>
                <a:lnTo>
                  <a:pt x="8483" y="6958"/>
                </a:lnTo>
                <a:lnTo>
                  <a:pt x="8457" y="6956"/>
                </a:lnTo>
                <a:lnTo>
                  <a:pt x="8431" y="6952"/>
                </a:lnTo>
                <a:lnTo>
                  <a:pt x="8403" y="6946"/>
                </a:lnTo>
                <a:lnTo>
                  <a:pt x="8375" y="6941"/>
                </a:lnTo>
                <a:lnTo>
                  <a:pt x="8346" y="6934"/>
                </a:lnTo>
                <a:lnTo>
                  <a:pt x="8317" y="6926"/>
                </a:lnTo>
                <a:lnTo>
                  <a:pt x="8115" y="6872"/>
                </a:lnTo>
                <a:lnTo>
                  <a:pt x="7911" y="6827"/>
                </a:lnTo>
                <a:lnTo>
                  <a:pt x="7705" y="6792"/>
                </a:lnTo>
                <a:lnTo>
                  <a:pt x="7499" y="6765"/>
                </a:lnTo>
                <a:lnTo>
                  <a:pt x="7292" y="6747"/>
                </a:lnTo>
                <a:lnTo>
                  <a:pt x="7084" y="6737"/>
                </a:lnTo>
                <a:lnTo>
                  <a:pt x="6876" y="6735"/>
                </a:lnTo>
                <a:lnTo>
                  <a:pt x="6670" y="6739"/>
                </a:lnTo>
                <a:lnTo>
                  <a:pt x="6464" y="6751"/>
                </a:lnTo>
                <a:lnTo>
                  <a:pt x="6260" y="6771"/>
                </a:lnTo>
                <a:lnTo>
                  <a:pt x="6058" y="6795"/>
                </a:lnTo>
                <a:lnTo>
                  <a:pt x="5857" y="6827"/>
                </a:lnTo>
                <a:lnTo>
                  <a:pt x="5658" y="6865"/>
                </a:lnTo>
                <a:lnTo>
                  <a:pt x="5464" y="6908"/>
                </a:lnTo>
                <a:lnTo>
                  <a:pt x="5273" y="6957"/>
                </a:lnTo>
                <a:lnTo>
                  <a:pt x="5084" y="7009"/>
                </a:lnTo>
                <a:lnTo>
                  <a:pt x="4901" y="7068"/>
                </a:lnTo>
                <a:lnTo>
                  <a:pt x="4722" y="7131"/>
                </a:lnTo>
                <a:lnTo>
                  <a:pt x="4547" y="7196"/>
                </a:lnTo>
                <a:lnTo>
                  <a:pt x="4379" y="7266"/>
                </a:lnTo>
                <a:lnTo>
                  <a:pt x="4216" y="7340"/>
                </a:lnTo>
                <a:lnTo>
                  <a:pt x="4060" y="7416"/>
                </a:lnTo>
                <a:lnTo>
                  <a:pt x="3910" y="7496"/>
                </a:lnTo>
                <a:lnTo>
                  <a:pt x="3767" y="7578"/>
                </a:lnTo>
                <a:lnTo>
                  <a:pt x="3631" y="7662"/>
                </a:lnTo>
                <a:lnTo>
                  <a:pt x="3502" y="7748"/>
                </a:lnTo>
                <a:lnTo>
                  <a:pt x="3383" y="7835"/>
                </a:lnTo>
                <a:lnTo>
                  <a:pt x="3272" y="7925"/>
                </a:lnTo>
                <a:lnTo>
                  <a:pt x="3170" y="8014"/>
                </a:lnTo>
                <a:lnTo>
                  <a:pt x="3077" y="8105"/>
                </a:lnTo>
                <a:lnTo>
                  <a:pt x="2994" y="8195"/>
                </a:lnTo>
                <a:lnTo>
                  <a:pt x="2921" y="8286"/>
                </a:lnTo>
                <a:lnTo>
                  <a:pt x="2753" y="7948"/>
                </a:lnTo>
                <a:lnTo>
                  <a:pt x="2854" y="7832"/>
                </a:lnTo>
                <a:lnTo>
                  <a:pt x="2969" y="7718"/>
                </a:lnTo>
                <a:lnTo>
                  <a:pt x="3093" y="7607"/>
                </a:lnTo>
                <a:lnTo>
                  <a:pt x="3228" y="7500"/>
                </a:lnTo>
                <a:lnTo>
                  <a:pt x="3373" y="7395"/>
                </a:lnTo>
                <a:lnTo>
                  <a:pt x="3527" y="7294"/>
                </a:lnTo>
                <a:lnTo>
                  <a:pt x="3689" y="7196"/>
                </a:lnTo>
                <a:lnTo>
                  <a:pt x="3858" y="7103"/>
                </a:lnTo>
                <a:lnTo>
                  <a:pt x="4034" y="7013"/>
                </a:lnTo>
                <a:lnTo>
                  <a:pt x="4217" y="6928"/>
                </a:lnTo>
                <a:lnTo>
                  <a:pt x="4405" y="6848"/>
                </a:lnTo>
                <a:lnTo>
                  <a:pt x="4597" y="6772"/>
                </a:lnTo>
                <a:lnTo>
                  <a:pt x="4794" y="6702"/>
                </a:lnTo>
                <a:lnTo>
                  <a:pt x="4994" y="6636"/>
                </a:lnTo>
                <a:lnTo>
                  <a:pt x="5197" y="6576"/>
                </a:lnTo>
                <a:lnTo>
                  <a:pt x="5401" y="6522"/>
                </a:lnTo>
                <a:lnTo>
                  <a:pt x="5607" y="6473"/>
                </a:lnTo>
                <a:lnTo>
                  <a:pt x="5814" y="6430"/>
                </a:lnTo>
                <a:lnTo>
                  <a:pt x="6019" y="6394"/>
                </a:lnTo>
                <a:lnTo>
                  <a:pt x="6225" y="6364"/>
                </a:lnTo>
                <a:lnTo>
                  <a:pt x="6429" y="6342"/>
                </a:lnTo>
                <a:lnTo>
                  <a:pt x="6630" y="6326"/>
                </a:lnTo>
                <a:lnTo>
                  <a:pt x="6830" y="6317"/>
                </a:lnTo>
                <a:lnTo>
                  <a:pt x="7025" y="6316"/>
                </a:lnTo>
                <a:lnTo>
                  <a:pt x="7216" y="6322"/>
                </a:lnTo>
                <a:lnTo>
                  <a:pt x="7402" y="6337"/>
                </a:lnTo>
                <a:lnTo>
                  <a:pt x="7582" y="6358"/>
                </a:lnTo>
                <a:lnTo>
                  <a:pt x="7756" y="6389"/>
                </a:lnTo>
                <a:lnTo>
                  <a:pt x="7922" y="6428"/>
                </a:lnTo>
                <a:lnTo>
                  <a:pt x="8081" y="6475"/>
                </a:lnTo>
                <a:lnTo>
                  <a:pt x="8231" y="6532"/>
                </a:lnTo>
                <a:lnTo>
                  <a:pt x="8373" y="6598"/>
                </a:lnTo>
                <a:lnTo>
                  <a:pt x="8356" y="6432"/>
                </a:lnTo>
                <a:lnTo>
                  <a:pt x="8341" y="6266"/>
                </a:lnTo>
                <a:lnTo>
                  <a:pt x="8327" y="6099"/>
                </a:lnTo>
                <a:lnTo>
                  <a:pt x="8313" y="5933"/>
                </a:lnTo>
                <a:lnTo>
                  <a:pt x="8301" y="5768"/>
                </a:lnTo>
                <a:lnTo>
                  <a:pt x="8290" y="5601"/>
                </a:lnTo>
                <a:lnTo>
                  <a:pt x="8279" y="5436"/>
                </a:lnTo>
                <a:lnTo>
                  <a:pt x="8271" y="5270"/>
                </a:lnTo>
                <a:lnTo>
                  <a:pt x="8263" y="5104"/>
                </a:lnTo>
                <a:lnTo>
                  <a:pt x="8257" y="4940"/>
                </a:lnTo>
                <a:lnTo>
                  <a:pt x="8252" y="4774"/>
                </a:lnTo>
                <a:lnTo>
                  <a:pt x="8247" y="4610"/>
                </a:lnTo>
                <a:lnTo>
                  <a:pt x="8245" y="4444"/>
                </a:lnTo>
                <a:lnTo>
                  <a:pt x="8244" y="4280"/>
                </a:lnTo>
                <a:lnTo>
                  <a:pt x="8244" y="4115"/>
                </a:lnTo>
                <a:lnTo>
                  <a:pt x="8245" y="3950"/>
                </a:lnTo>
                <a:lnTo>
                  <a:pt x="8248" y="3786"/>
                </a:lnTo>
                <a:lnTo>
                  <a:pt x="8254" y="3621"/>
                </a:lnTo>
                <a:lnTo>
                  <a:pt x="8259" y="3457"/>
                </a:lnTo>
                <a:lnTo>
                  <a:pt x="8267" y="3293"/>
                </a:lnTo>
                <a:lnTo>
                  <a:pt x="8276" y="3129"/>
                </a:lnTo>
                <a:lnTo>
                  <a:pt x="8287" y="2965"/>
                </a:lnTo>
                <a:lnTo>
                  <a:pt x="8299" y="2802"/>
                </a:lnTo>
                <a:lnTo>
                  <a:pt x="8313" y="2638"/>
                </a:lnTo>
                <a:lnTo>
                  <a:pt x="8329" y="2475"/>
                </a:lnTo>
                <a:lnTo>
                  <a:pt x="8346" y="2311"/>
                </a:lnTo>
                <a:lnTo>
                  <a:pt x="8366" y="2147"/>
                </a:lnTo>
                <a:lnTo>
                  <a:pt x="8386" y="1985"/>
                </a:lnTo>
                <a:lnTo>
                  <a:pt x="8409" y="1821"/>
                </a:lnTo>
                <a:lnTo>
                  <a:pt x="8434" y="1659"/>
                </a:lnTo>
                <a:lnTo>
                  <a:pt x="8460" y="1496"/>
                </a:lnTo>
                <a:lnTo>
                  <a:pt x="8489" y="1334"/>
                </a:lnTo>
                <a:lnTo>
                  <a:pt x="8499" y="1307"/>
                </a:lnTo>
                <a:lnTo>
                  <a:pt x="8510" y="1282"/>
                </a:lnTo>
                <a:lnTo>
                  <a:pt x="8517" y="1257"/>
                </a:lnTo>
                <a:lnTo>
                  <a:pt x="8524" y="1232"/>
                </a:lnTo>
                <a:lnTo>
                  <a:pt x="8529" y="1208"/>
                </a:lnTo>
                <a:lnTo>
                  <a:pt x="8532" y="1185"/>
                </a:lnTo>
                <a:lnTo>
                  <a:pt x="8534" y="1161"/>
                </a:lnTo>
                <a:lnTo>
                  <a:pt x="8534" y="1138"/>
                </a:lnTo>
                <a:lnTo>
                  <a:pt x="8533" y="1116"/>
                </a:lnTo>
                <a:lnTo>
                  <a:pt x="8531" y="1093"/>
                </a:lnTo>
                <a:lnTo>
                  <a:pt x="8527" y="1072"/>
                </a:lnTo>
                <a:lnTo>
                  <a:pt x="8521" y="1051"/>
                </a:lnTo>
                <a:lnTo>
                  <a:pt x="8515" y="1029"/>
                </a:lnTo>
                <a:lnTo>
                  <a:pt x="8506" y="1010"/>
                </a:lnTo>
                <a:lnTo>
                  <a:pt x="8495" y="989"/>
                </a:lnTo>
                <a:lnTo>
                  <a:pt x="8484" y="970"/>
                </a:lnTo>
                <a:lnTo>
                  <a:pt x="8471" y="951"/>
                </a:lnTo>
                <a:lnTo>
                  <a:pt x="8456" y="933"/>
                </a:lnTo>
                <a:lnTo>
                  <a:pt x="8440" y="914"/>
                </a:lnTo>
                <a:lnTo>
                  <a:pt x="8422" y="897"/>
                </a:lnTo>
                <a:lnTo>
                  <a:pt x="8404" y="879"/>
                </a:lnTo>
                <a:lnTo>
                  <a:pt x="8383" y="862"/>
                </a:lnTo>
                <a:lnTo>
                  <a:pt x="8361" y="845"/>
                </a:lnTo>
                <a:lnTo>
                  <a:pt x="8337" y="830"/>
                </a:lnTo>
                <a:lnTo>
                  <a:pt x="8312" y="815"/>
                </a:lnTo>
                <a:lnTo>
                  <a:pt x="8285" y="799"/>
                </a:lnTo>
                <a:lnTo>
                  <a:pt x="8257" y="785"/>
                </a:lnTo>
                <a:lnTo>
                  <a:pt x="8227" y="770"/>
                </a:lnTo>
                <a:lnTo>
                  <a:pt x="8196" y="756"/>
                </a:lnTo>
                <a:lnTo>
                  <a:pt x="8163" y="743"/>
                </a:lnTo>
                <a:lnTo>
                  <a:pt x="8129" y="729"/>
                </a:lnTo>
                <a:lnTo>
                  <a:pt x="8093" y="717"/>
                </a:lnTo>
                <a:lnTo>
                  <a:pt x="7869" y="663"/>
                </a:lnTo>
                <a:lnTo>
                  <a:pt x="7647" y="615"/>
                </a:lnTo>
                <a:lnTo>
                  <a:pt x="7426" y="573"/>
                </a:lnTo>
                <a:lnTo>
                  <a:pt x="7206" y="537"/>
                </a:lnTo>
                <a:lnTo>
                  <a:pt x="6990" y="507"/>
                </a:lnTo>
                <a:lnTo>
                  <a:pt x="6775" y="482"/>
                </a:lnTo>
                <a:lnTo>
                  <a:pt x="6563" y="465"/>
                </a:lnTo>
                <a:lnTo>
                  <a:pt x="6352" y="454"/>
                </a:lnTo>
                <a:lnTo>
                  <a:pt x="6143" y="449"/>
                </a:lnTo>
                <a:lnTo>
                  <a:pt x="5936" y="451"/>
                </a:lnTo>
                <a:lnTo>
                  <a:pt x="5731" y="461"/>
                </a:lnTo>
                <a:lnTo>
                  <a:pt x="5530" y="477"/>
                </a:lnTo>
                <a:lnTo>
                  <a:pt x="5330" y="500"/>
                </a:lnTo>
                <a:lnTo>
                  <a:pt x="5133" y="531"/>
                </a:lnTo>
                <a:lnTo>
                  <a:pt x="4937" y="569"/>
                </a:lnTo>
                <a:lnTo>
                  <a:pt x="4745" y="615"/>
                </a:lnTo>
                <a:lnTo>
                  <a:pt x="4555" y="668"/>
                </a:lnTo>
                <a:lnTo>
                  <a:pt x="4367" y="730"/>
                </a:lnTo>
                <a:lnTo>
                  <a:pt x="4182" y="799"/>
                </a:lnTo>
                <a:lnTo>
                  <a:pt x="4000" y="877"/>
                </a:lnTo>
                <a:lnTo>
                  <a:pt x="3820" y="963"/>
                </a:lnTo>
                <a:lnTo>
                  <a:pt x="3643" y="1057"/>
                </a:lnTo>
                <a:lnTo>
                  <a:pt x="3468" y="1160"/>
                </a:lnTo>
                <a:lnTo>
                  <a:pt x="3298" y="1272"/>
                </a:lnTo>
                <a:lnTo>
                  <a:pt x="3129" y="1393"/>
                </a:lnTo>
                <a:lnTo>
                  <a:pt x="2962" y="1522"/>
                </a:lnTo>
                <a:lnTo>
                  <a:pt x="2800" y="1661"/>
                </a:lnTo>
                <a:lnTo>
                  <a:pt x="2640" y="1809"/>
                </a:lnTo>
                <a:lnTo>
                  <a:pt x="2483" y="1966"/>
                </a:lnTo>
                <a:lnTo>
                  <a:pt x="2329" y="2134"/>
                </a:lnTo>
                <a:lnTo>
                  <a:pt x="2179" y="2310"/>
                </a:lnTo>
                <a:lnTo>
                  <a:pt x="2030" y="2497"/>
                </a:lnTo>
                <a:lnTo>
                  <a:pt x="1977" y="2527"/>
                </a:lnTo>
                <a:lnTo>
                  <a:pt x="1918" y="2555"/>
                </a:lnTo>
                <a:lnTo>
                  <a:pt x="1855" y="2578"/>
                </a:lnTo>
                <a:lnTo>
                  <a:pt x="1788" y="2599"/>
                </a:lnTo>
                <a:lnTo>
                  <a:pt x="1718" y="2616"/>
                </a:lnTo>
                <a:lnTo>
                  <a:pt x="1645" y="2630"/>
                </a:lnTo>
                <a:lnTo>
                  <a:pt x="1569" y="2640"/>
                </a:lnTo>
                <a:lnTo>
                  <a:pt x="1490" y="2647"/>
                </a:lnTo>
                <a:lnTo>
                  <a:pt x="1410" y="2650"/>
                </a:lnTo>
                <a:lnTo>
                  <a:pt x="1329" y="2650"/>
                </a:lnTo>
                <a:lnTo>
                  <a:pt x="1247" y="2646"/>
                </a:lnTo>
                <a:lnTo>
                  <a:pt x="1163" y="2639"/>
                </a:lnTo>
                <a:lnTo>
                  <a:pt x="1080" y="2628"/>
                </a:lnTo>
                <a:lnTo>
                  <a:pt x="997" y="2613"/>
                </a:lnTo>
                <a:lnTo>
                  <a:pt x="914" y="2595"/>
                </a:lnTo>
                <a:lnTo>
                  <a:pt x="833" y="2572"/>
                </a:lnTo>
                <a:lnTo>
                  <a:pt x="753" y="2545"/>
                </a:lnTo>
                <a:lnTo>
                  <a:pt x="675" y="2515"/>
                </a:lnTo>
                <a:lnTo>
                  <a:pt x="599" y="2481"/>
                </a:lnTo>
                <a:lnTo>
                  <a:pt x="526" y="2443"/>
                </a:lnTo>
                <a:lnTo>
                  <a:pt x="456" y="2399"/>
                </a:lnTo>
                <a:lnTo>
                  <a:pt x="389" y="2353"/>
                </a:lnTo>
                <a:lnTo>
                  <a:pt x="326" y="2302"/>
                </a:lnTo>
                <a:lnTo>
                  <a:pt x="267" y="2247"/>
                </a:lnTo>
                <a:lnTo>
                  <a:pt x="213" y="2188"/>
                </a:lnTo>
                <a:lnTo>
                  <a:pt x="165" y="2124"/>
                </a:lnTo>
                <a:lnTo>
                  <a:pt x="120" y="2056"/>
                </a:lnTo>
                <a:lnTo>
                  <a:pt x="83" y="1983"/>
                </a:lnTo>
                <a:lnTo>
                  <a:pt x="52" y="1906"/>
                </a:lnTo>
                <a:lnTo>
                  <a:pt x="28" y="1824"/>
                </a:lnTo>
                <a:lnTo>
                  <a:pt x="10" y="1738"/>
                </a:lnTo>
                <a:lnTo>
                  <a:pt x="0" y="1648"/>
                </a:lnTo>
                <a:lnTo>
                  <a:pt x="30" y="1113"/>
                </a:lnTo>
                <a:lnTo>
                  <a:pt x="448" y="1054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2000" y="4781520"/>
            <a:ext cx="827280" cy="2067120"/>
          </a:xfrm>
          <a:custGeom>
            <a:avLst/>
            <a:gdLst/>
            <a:ahLst/>
            <a:rect l="l" t="t" r="r" b="b"/>
            <a:pathLst>
              <a:path w="3248" h="8310">
                <a:moveTo>
                  <a:pt x="425" y="444"/>
                </a:moveTo>
                <a:lnTo>
                  <a:pt x="230" y="137"/>
                </a:lnTo>
                <a:lnTo>
                  <a:pt x="30" y="0"/>
                </a:lnTo>
                <a:lnTo>
                  <a:pt x="14" y="228"/>
                </a:lnTo>
                <a:lnTo>
                  <a:pt x="4" y="465"/>
                </a:lnTo>
                <a:lnTo>
                  <a:pt x="0" y="709"/>
                </a:lnTo>
                <a:lnTo>
                  <a:pt x="2" y="961"/>
                </a:lnTo>
                <a:lnTo>
                  <a:pt x="10" y="1221"/>
                </a:lnTo>
                <a:lnTo>
                  <a:pt x="22" y="1484"/>
                </a:lnTo>
                <a:lnTo>
                  <a:pt x="38" y="1752"/>
                </a:lnTo>
                <a:lnTo>
                  <a:pt x="59" y="2025"/>
                </a:lnTo>
                <a:lnTo>
                  <a:pt x="83" y="2299"/>
                </a:lnTo>
                <a:lnTo>
                  <a:pt x="111" y="2576"/>
                </a:lnTo>
                <a:lnTo>
                  <a:pt x="142" y="2854"/>
                </a:lnTo>
                <a:lnTo>
                  <a:pt x="176" y="3132"/>
                </a:lnTo>
                <a:lnTo>
                  <a:pt x="212" y="3408"/>
                </a:lnTo>
                <a:lnTo>
                  <a:pt x="251" y="3684"/>
                </a:lnTo>
                <a:lnTo>
                  <a:pt x="291" y="3956"/>
                </a:lnTo>
                <a:lnTo>
                  <a:pt x="334" y="4226"/>
                </a:lnTo>
                <a:lnTo>
                  <a:pt x="377" y="4490"/>
                </a:lnTo>
                <a:lnTo>
                  <a:pt x="421" y="4749"/>
                </a:lnTo>
                <a:lnTo>
                  <a:pt x="465" y="5003"/>
                </a:lnTo>
                <a:lnTo>
                  <a:pt x="510" y="5249"/>
                </a:lnTo>
                <a:lnTo>
                  <a:pt x="554" y="5488"/>
                </a:lnTo>
                <a:lnTo>
                  <a:pt x="597" y="5717"/>
                </a:lnTo>
                <a:lnTo>
                  <a:pt x="640" y="5937"/>
                </a:lnTo>
                <a:lnTo>
                  <a:pt x="681" y="6146"/>
                </a:lnTo>
                <a:lnTo>
                  <a:pt x="759" y="6529"/>
                </a:lnTo>
                <a:lnTo>
                  <a:pt x="829" y="6859"/>
                </a:lnTo>
                <a:lnTo>
                  <a:pt x="887" y="7128"/>
                </a:lnTo>
                <a:lnTo>
                  <a:pt x="930" y="7330"/>
                </a:lnTo>
                <a:lnTo>
                  <a:pt x="944" y="7438"/>
                </a:lnTo>
                <a:lnTo>
                  <a:pt x="970" y="7540"/>
                </a:lnTo>
                <a:lnTo>
                  <a:pt x="1008" y="7636"/>
                </a:lnTo>
                <a:lnTo>
                  <a:pt x="1056" y="7726"/>
                </a:lnTo>
                <a:lnTo>
                  <a:pt x="1113" y="7810"/>
                </a:lnTo>
                <a:lnTo>
                  <a:pt x="1180" y="7888"/>
                </a:lnTo>
                <a:lnTo>
                  <a:pt x="1254" y="7959"/>
                </a:lnTo>
                <a:lnTo>
                  <a:pt x="1337" y="8024"/>
                </a:lnTo>
                <a:lnTo>
                  <a:pt x="1424" y="8083"/>
                </a:lnTo>
                <a:lnTo>
                  <a:pt x="1518" y="8135"/>
                </a:lnTo>
                <a:lnTo>
                  <a:pt x="1615" y="8180"/>
                </a:lnTo>
                <a:lnTo>
                  <a:pt x="1717" y="8218"/>
                </a:lnTo>
                <a:lnTo>
                  <a:pt x="1822" y="8251"/>
                </a:lnTo>
                <a:lnTo>
                  <a:pt x="1928" y="8276"/>
                </a:lnTo>
                <a:lnTo>
                  <a:pt x="2036" y="8295"/>
                </a:lnTo>
                <a:lnTo>
                  <a:pt x="2145" y="8306"/>
                </a:lnTo>
                <a:lnTo>
                  <a:pt x="2252" y="8310"/>
                </a:lnTo>
                <a:lnTo>
                  <a:pt x="2359" y="8307"/>
                </a:lnTo>
                <a:lnTo>
                  <a:pt x="2464" y="8298"/>
                </a:lnTo>
                <a:lnTo>
                  <a:pt x="2565" y="8280"/>
                </a:lnTo>
                <a:lnTo>
                  <a:pt x="2662" y="8255"/>
                </a:lnTo>
                <a:lnTo>
                  <a:pt x="2756" y="8224"/>
                </a:lnTo>
                <a:lnTo>
                  <a:pt x="2843" y="8185"/>
                </a:lnTo>
                <a:lnTo>
                  <a:pt x="2925" y="8137"/>
                </a:lnTo>
                <a:lnTo>
                  <a:pt x="2999" y="8083"/>
                </a:lnTo>
                <a:lnTo>
                  <a:pt x="3066" y="8020"/>
                </a:lnTo>
                <a:lnTo>
                  <a:pt x="3122" y="7950"/>
                </a:lnTo>
                <a:lnTo>
                  <a:pt x="3171" y="7873"/>
                </a:lnTo>
                <a:lnTo>
                  <a:pt x="3208" y="7786"/>
                </a:lnTo>
                <a:lnTo>
                  <a:pt x="3233" y="7693"/>
                </a:lnTo>
                <a:lnTo>
                  <a:pt x="3247" y="7591"/>
                </a:lnTo>
                <a:lnTo>
                  <a:pt x="3248" y="7481"/>
                </a:lnTo>
                <a:lnTo>
                  <a:pt x="3194" y="7299"/>
                </a:lnTo>
                <a:lnTo>
                  <a:pt x="3142" y="7116"/>
                </a:lnTo>
                <a:lnTo>
                  <a:pt x="3091" y="6934"/>
                </a:lnTo>
                <a:lnTo>
                  <a:pt x="3042" y="6751"/>
                </a:lnTo>
                <a:lnTo>
                  <a:pt x="2995" y="6568"/>
                </a:lnTo>
                <a:lnTo>
                  <a:pt x="2948" y="6384"/>
                </a:lnTo>
                <a:lnTo>
                  <a:pt x="2903" y="6201"/>
                </a:lnTo>
                <a:lnTo>
                  <a:pt x="2860" y="6016"/>
                </a:lnTo>
                <a:lnTo>
                  <a:pt x="2818" y="5832"/>
                </a:lnTo>
                <a:lnTo>
                  <a:pt x="2777" y="5648"/>
                </a:lnTo>
                <a:lnTo>
                  <a:pt x="2737" y="5464"/>
                </a:lnTo>
                <a:lnTo>
                  <a:pt x="2700" y="5279"/>
                </a:lnTo>
                <a:lnTo>
                  <a:pt x="2663" y="5094"/>
                </a:lnTo>
                <a:lnTo>
                  <a:pt x="2629" y="4909"/>
                </a:lnTo>
                <a:lnTo>
                  <a:pt x="2596" y="4724"/>
                </a:lnTo>
                <a:lnTo>
                  <a:pt x="2564" y="4538"/>
                </a:lnTo>
                <a:lnTo>
                  <a:pt x="2534" y="4352"/>
                </a:lnTo>
                <a:lnTo>
                  <a:pt x="2505" y="4166"/>
                </a:lnTo>
                <a:lnTo>
                  <a:pt x="2477" y="3980"/>
                </a:lnTo>
                <a:lnTo>
                  <a:pt x="2452" y="3794"/>
                </a:lnTo>
                <a:lnTo>
                  <a:pt x="2428" y="3608"/>
                </a:lnTo>
                <a:lnTo>
                  <a:pt x="2405" y="3421"/>
                </a:lnTo>
                <a:lnTo>
                  <a:pt x="2385" y="3233"/>
                </a:lnTo>
                <a:lnTo>
                  <a:pt x="2365" y="3046"/>
                </a:lnTo>
                <a:lnTo>
                  <a:pt x="2347" y="2859"/>
                </a:lnTo>
                <a:lnTo>
                  <a:pt x="2330" y="2671"/>
                </a:lnTo>
                <a:lnTo>
                  <a:pt x="2316" y="2484"/>
                </a:lnTo>
                <a:lnTo>
                  <a:pt x="2302" y="2295"/>
                </a:lnTo>
                <a:lnTo>
                  <a:pt x="2291" y="2106"/>
                </a:lnTo>
                <a:lnTo>
                  <a:pt x="2282" y="1918"/>
                </a:lnTo>
                <a:lnTo>
                  <a:pt x="2274" y="1729"/>
                </a:lnTo>
                <a:lnTo>
                  <a:pt x="2266" y="1539"/>
                </a:lnTo>
                <a:lnTo>
                  <a:pt x="1928" y="1906"/>
                </a:lnTo>
                <a:lnTo>
                  <a:pt x="1928" y="2082"/>
                </a:lnTo>
                <a:lnTo>
                  <a:pt x="1930" y="2259"/>
                </a:lnTo>
                <a:lnTo>
                  <a:pt x="1935" y="2436"/>
                </a:lnTo>
                <a:lnTo>
                  <a:pt x="1942" y="2613"/>
                </a:lnTo>
                <a:lnTo>
                  <a:pt x="1953" y="2790"/>
                </a:lnTo>
                <a:lnTo>
                  <a:pt x="1965" y="2967"/>
                </a:lnTo>
                <a:lnTo>
                  <a:pt x="1978" y="3144"/>
                </a:lnTo>
                <a:lnTo>
                  <a:pt x="1995" y="3321"/>
                </a:lnTo>
                <a:lnTo>
                  <a:pt x="2013" y="3498"/>
                </a:lnTo>
                <a:lnTo>
                  <a:pt x="2034" y="3675"/>
                </a:lnTo>
                <a:lnTo>
                  <a:pt x="2057" y="3852"/>
                </a:lnTo>
                <a:lnTo>
                  <a:pt x="2081" y="4029"/>
                </a:lnTo>
                <a:lnTo>
                  <a:pt x="2108" y="4206"/>
                </a:lnTo>
                <a:lnTo>
                  <a:pt x="2136" y="4383"/>
                </a:lnTo>
                <a:lnTo>
                  <a:pt x="2167" y="4560"/>
                </a:lnTo>
                <a:lnTo>
                  <a:pt x="2198" y="4736"/>
                </a:lnTo>
                <a:lnTo>
                  <a:pt x="2232" y="4913"/>
                </a:lnTo>
                <a:lnTo>
                  <a:pt x="2267" y="5090"/>
                </a:lnTo>
                <a:lnTo>
                  <a:pt x="2304" y="5266"/>
                </a:lnTo>
                <a:lnTo>
                  <a:pt x="2343" y="5442"/>
                </a:lnTo>
                <a:lnTo>
                  <a:pt x="2383" y="5618"/>
                </a:lnTo>
                <a:lnTo>
                  <a:pt x="2425" y="5794"/>
                </a:lnTo>
                <a:lnTo>
                  <a:pt x="2468" y="5969"/>
                </a:lnTo>
                <a:lnTo>
                  <a:pt x="2512" y="6145"/>
                </a:lnTo>
                <a:lnTo>
                  <a:pt x="2557" y="6320"/>
                </a:lnTo>
                <a:lnTo>
                  <a:pt x="2605" y="6496"/>
                </a:lnTo>
                <a:lnTo>
                  <a:pt x="2653" y="6670"/>
                </a:lnTo>
                <a:lnTo>
                  <a:pt x="2701" y="6844"/>
                </a:lnTo>
                <a:lnTo>
                  <a:pt x="2752" y="7019"/>
                </a:lnTo>
                <a:lnTo>
                  <a:pt x="2804" y="7193"/>
                </a:lnTo>
                <a:lnTo>
                  <a:pt x="2857" y="7366"/>
                </a:lnTo>
                <a:lnTo>
                  <a:pt x="2910" y="7540"/>
                </a:lnTo>
                <a:lnTo>
                  <a:pt x="2896" y="7592"/>
                </a:lnTo>
                <a:lnTo>
                  <a:pt x="2874" y="7639"/>
                </a:lnTo>
                <a:lnTo>
                  <a:pt x="2847" y="7682"/>
                </a:lnTo>
                <a:lnTo>
                  <a:pt x="2811" y="7720"/>
                </a:lnTo>
                <a:lnTo>
                  <a:pt x="2769" y="7753"/>
                </a:lnTo>
                <a:lnTo>
                  <a:pt x="2723" y="7780"/>
                </a:lnTo>
                <a:lnTo>
                  <a:pt x="2672" y="7804"/>
                </a:lnTo>
                <a:lnTo>
                  <a:pt x="2615" y="7824"/>
                </a:lnTo>
                <a:lnTo>
                  <a:pt x="2555" y="7839"/>
                </a:lnTo>
                <a:lnTo>
                  <a:pt x="2492" y="7850"/>
                </a:lnTo>
                <a:lnTo>
                  <a:pt x="2425" y="7858"/>
                </a:lnTo>
                <a:lnTo>
                  <a:pt x="2356" y="7863"/>
                </a:lnTo>
                <a:lnTo>
                  <a:pt x="2285" y="7863"/>
                </a:lnTo>
                <a:lnTo>
                  <a:pt x="2213" y="7860"/>
                </a:lnTo>
                <a:lnTo>
                  <a:pt x="2140" y="7853"/>
                </a:lnTo>
                <a:lnTo>
                  <a:pt x="2066" y="7843"/>
                </a:lnTo>
                <a:lnTo>
                  <a:pt x="1993" y="7831"/>
                </a:lnTo>
                <a:lnTo>
                  <a:pt x="1920" y="7815"/>
                </a:lnTo>
                <a:lnTo>
                  <a:pt x="1849" y="7798"/>
                </a:lnTo>
                <a:lnTo>
                  <a:pt x="1779" y="7776"/>
                </a:lnTo>
                <a:lnTo>
                  <a:pt x="1712" y="7754"/>
                </a:lnTo>
                <a:lnTo>
                  <a:pt x="1647" y="7728"/>
                </a:lnTo>
                <a:lnTo>
                  <a:pt x="1585" y="7701"/>
                </a:lnTo>
                <a:lnTo>
                  <a:pt x="1528" y="7671"/>
                </a:lnTo>
                <a:lnTo>
                  <a:pt x="1474" y="7639"/>
                </a:lnTo>
                <a:lnTo>
                  <a:pt x="1426" y="7607"/>
                </a:lnTo>
                <a:lnTo>
                  <a:pt x="1383" y="7572"/>
                </a:lnTo>
                <a:lnTo>
                  <a:pt x="1346" y="7536"/>
                </a:lnTo>
                <a:lnTo>
                  <a:pt x="1315" y="7499"/>
                </a:lnTo>
                <a:lnTo>
                  <a:pt x="1290" y="7460"/>
                </a:lnTo>
                <a:lnTo>
                  <a:pt x="1274" y="7420"/>
                </a:lnTo>
                <a:lnTo>
                  <a:pt x="1266" y="7380"/>
                </a:lnTo>
                <a:lnTo>
                  <a:pt x="1236" y="7259"/>
                </a:lnTo>
                <a:lnTo>
                  <a:pt x="1204" y="7125"/>
                </a:lnTo>
                <a:lnTo>
                  <a:pt x="1171" y="6979"/>
                </a:lnTo>
                <a:lnTo>
                  <a:pt x="1137" y="6823"/>
                </a:lnTo>
                <a:lnTo>
                  <a:pt x="1102" y="6655"/>
                </a:lnTo>
                <a:lnTo>
                  <a:pt x="1066" y="6478"/>
                </a:lnTo>
                <a:lnTo>
                  <a:pt x="1029" y="6292"/>
                </a:lnTo>
                <a:lnTo>
                  <a:pt x="992" y="6099"/>
                </a:lnTo>
                <a:lnTo>
                  <a:pt x="954" y="5899"/>
                </a:lnTo>
                <a:lnTo>
                  <a:pt x="916" y="5692"/>
                </a:lnTo>
                <a:lnTo>
                  <a:pt x="878" y="5482"/>
                </a:lnTo>
                <a:lnTo>
                  <a:pt x="840" y="5266"/>
                </a:lnTo>
                <a:lnTo>
                  <a:pt x="802" y="5047"/>
                </a:lnTo>
                <a:lnTo>
                  <a:pt x="765" y="4825"/>
                </a:lnTo>
                <a:lnTo>
                  <a:pt x="728" y="4602"/>
                </a:lnTo>
                <a:lnTo>
                  <a:pt x="691" y="4378"/>
                </a:lnTo>
                <a:lnTo>
                  <a:pt x="656" y="4155"/>
                </a:lnTo>
                <a:lnTo>
                  <a:pt x="621" y="3932"/>
                </a:lnTo>
                <a:lnTo>
                  <a:pt x="588" y="3711"/>
                </a:lnTo>
                <a:lnTo>
                  <a:pt x="556" y="3493"/>
                </a:lnTo>
                <a:lnTo>
                  <a:pt x="525" y="3278"/>
                </a:lnTo>
                <a:lnTo>
                  <a:pt x="496" y="3068"/>
                </a:lnTo>
                <a:lnTo>
                  <a:pt x="469" y="2863"/>
                </a:lnTo>
                <a:lnTo>
                  <a:pt x="444" y="2665"/>
                </a:lnTo>
                <a:lnTo>
                  <a:pt x="421" y="2472"/>
                </a:lnTo>
                <a:lnTo>
                  <a:pt x="400" y="2289"/>
                </a:lnTo>
                <a:lnTo>
                  <a:pt x="382" y="2114"/>
                </a:lnTo>
                <a:lnTo>
                  <a:pt x="367" y="1949"/>
                </a:lnTo>
                <a:lnTo>
                  <a:pt x="353" y="1794"/>
                </a:lnTo>
                <a:lnTo>
                  <a:pt x="343" y="1651"/>
                </a:lnTo>
                <a:lnTo>
                  <a:pt x="336" y="1520"/>
                </a:lnTo>
                <a:lnTo>
                  <a:pt x="332" y="1403"/>
                </a:lnTo>
                <a:lnTo>
                  <a:pt x="356" y="1013"/>
                </a:lnTo>
                <a:lnTo>
                  <a:pt x="379" y="559"/>
                </a:lnTo>
                <a:lnTo>
                  <a:pt x="425" y="444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66800" y="2762280"/>
            <a:ext cx="2047680" cy="1363320"/>
            <a:chOff x="1666800" y="2762280"/>
            <a:chExt cx="2047680" cy="1363320"/>
          </a:xfrm>
        </p:grpSpPr>
        <p:sp>
          <p:nvSpPr>
            <p:cNvPr id="225" name=""/>
            <p:cNvSpPr/>
            <p:nvPr/>
          </p:nvSpPr>
          <p:spPr>
            <a:xfrm>
              <a:off x="2116080" y="3118680"/>
              <a:ext cx="1316880" cy="97452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65320" y="3802680"/>
              <a:ext cx="749160" cy="32292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71480" y="2832840"/>
              <a:ext cx="371880" cy="81108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11040" y="3047400"/>
              <a:ext cx="1316880" cy="97488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0640" y="3731760"/>
              <a:ext cx="748800" cy="32256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66800" y="2762280"/>
              <a:ext cx="371520" cy="81108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9680" y="3130200"/>
              <a:ext cx="941400" cy="562680"/>
            </a:xfrm>
            <a:custGeom>
              <a:avLst/>
              <a:gdLst/>
              <a:ahLst/>
              <a:rect l="l" t="t" r="r" b="b"/>
              <a:pathLst>
                <a:path w="3736" h="2244">
                  <a:moveTo>
                    <a:pt x="3736" y="0"/>
                  </a:moveTo>
                  <a:lnTo>
                    <a:pt x="3603" y="8"/>
                  </a:lnTo>
                  <a:lnTo>
                    <a:pt x="3408" y="11"/>
                  </a:lnTo>
                  <a:lnTo>
                    <a:pt x="3218" y="15"/>
                  </a:lnTo>
                  <a:lnTo>
                    <a:pt x="3032" y="22"/>
                  </a:lnTo>
                  <a:lnTo>
                    <a:pt x="2850" y="32"/>
                  </a:lnTo>
                  <a:lnTo>
                    <a:pt x="2673" y="44"/>
                  </a:lnTo>
                  <a:lnTo>
                    <a:pt x="2501" y="60"/>
                  </a:lnTo>
                  <a:lnTo>
                    <a:pt x="2333" y="78"/>
                  </a:lnTo>
                  <a:lnTo>
                    <a:pt x="2170" y="100"/>
                  </a:lnTo>
                  <a:lnTo>
                    <a:pt x="2012" y="126"/>
                  </a:lnTo>
                  <a:lnTo>
                    <a:pt x="1860" y="156"/>
                  </a:lnTo>
                  <a:lnTo>
                    <a:pt x="1712" y="190"/>
                  </a:lnTo>
                  <a:lnTo>
                    <a:pt x="1570" y="228"/>
                  </a:lnTo>
                  <a:lnTo>
                    <a:pt x="1433" y="271"/>
                  </a:lnTo>
                  <a:lnTo>
                    <a:pt x="1303" y="318"/>
                  </a:lnTo>
                  <a:lnTo>
                    <a:pt x="1176" y="371"/>
                  </a:lnTo>
                  <a:lnTo>
                    <a:pt x="1057" y="429"/>
                  </a:lnTo>
                  <a:lnTo>
                    <a:pt x="943" y="492"/>
                  </a:lnTo>
                  <a:lnTo>
                    <a:pt x="835" y="561"/>
                  </a:lnTo>
                  <a:lnTo>
                    <a:pt x="732" y="636"/>
                  </a:lnTo>
                  <a:lnTo>
                    <a:pt x="636" y="717"/>
                  </a:lnTo>
                  <a:lnTo>
                    <a:pt x="547" y="805"/>
                  </a:lnTo>
                  <a:lnTo>
                    <a:pt x="463" y="898"/>
                  </a:lnTo>
                  <a:lnTo>
                    <a:pt x="386" y="999"/>
                  </a:lnTo>
                  <a:lnTo>
                    <a:pt x="315" y="1106"/>
                  </a:lnTo>
                  <a:lnTo>
                    <a:pt x="251" y="1221"/>
                  </a:lnTo>
                  <a:lnTo>
                    <a:pt x="195" y="1343"/>
                  </a:lnTo>
                  <a:lnTo>
                    <a:pt x="144" y="1473"/>
                  </a:lnTo>
                  <a:lnTo>
                    <a:pt x="101" y="1611"/>
                  </a:lnTo>
                  <a:lnTo>
                    <a:pt x="65" y="1757"/>
                  </a:lnTo>
                  <a:lnTo>
                    <a:pt x="36" y="1910"/>
                  </a:lnTo>
                  <a:lnTo>
                    <a:pt x="15" y="2074"/>
                  </a:lnTo>
                  <a:lnTo>
                    <a:pt x="0" y="2244"/>
                  </a:lnTo>
                  <a:lnTo>
                    <a:pt x="109" y="2092"/>
                  </a:lnTo>
                  <a:lnTo>
                    <a:pt x="226" y="1945"/>
                  </a:lnTo>
                  <a:lnTo>
                    <a:pt x="349" y="1805"/>
                  </a:lnTo>
                  <a:lnTo>
                    <a:pt x="479" y="1671"/>
                  </a:lnTo>
                  <a:lnTo>
                    <a:pt x="615" y="1542"/>
                  </a:lnTo>
                  <a:lnTo>
                    <a:pt x="754" y="1420"/>
                  </a:lnTo>
                  <a:lnTo>
                    <a:pt x="899" y="1303"/>
                  </a:lnTo>
                  <a:lnTo>
                    <a:pt x="1047" y="1192"/>
                  </a:lnTo>
                  <a:lnTo>
                    <a:pt x="1198" y="1087"/>
                  </a:lnTo>
                  <a:lnTo>
                    <a:pt x="1350" y="988"/>
                  </a:lnTo>
                  <a:lnTo>
                    <a:pt x="1503" y="893"/>
                  </a:lnTo>
                  <a:lnTo>
                    <a:pt x="1658" y="805"/>
                  </a:lnTo>
                  <a:lnTo>
                    <a:pt x="1812" y="720"/>
                  </a:lnTo>
                  <a:lnTo>
                    <a:pt x="1965" y="642"/>
                  </a:lnTo>
                  <a:lnTo>
                    <a:pt x="2116" y="568"/>
                  </a:lnTo>
                  <a:lnTo>
                    <a:pt x="2265" y="500"/>
                  </a:lnTo>
                  <a:lnTo>
                    <a:pt x="2411" y="436"/>
                  </a:lnTo>
                  <a:lnTo>
                    <a:pt x="2552" y="377"/>
                  </a:lnTo>
                  <a:lnTo>
                    <a:pt x="2690" y="323"/>
                  </a:lnTo>
                  <a:lnTo>
                    <a:pt x="2823" y="273"/>
                  </a:lnTo>
                  <a:lnTo>
                    <a:pt x="2948" y="228"/>
                  </a:lnTo>
                  <a:lnTo>
                    <a:pt x="3069" y="187"/>
                  </a:lnTo>
                  <a:lnTo>
                    <a:pt x="3181" y="150"/>
                  </a:lnTo>
                  <a:lnTo>
                    <a:pt x="3285" y="119"/>
                  </a:lnTo>
                  <a:lnTo>
                    <a:pt x="3379" y="90"/>
                  </a:lnTo>
                  <a:lnTo>
                    <a:pt x="3465" y="66"/>
                  </a:lnTo>
                  <a:lnTo>
                    <a:pt x="3540" y="46"/>
                  </a:lnTo>
                  <a:lnTo>
                    <a:pt x="3605" y="29"/>
                  </a:lnTo>
                  <a:lnTo>
                    <a:pt x="3657" y="17"/>
                  </a:lnTo>
                  <a:lnTo>
                    <a:pt x="3696" y="7"/>
                  </a:lnTo>
                  <a:lnTo>
                    <a:pt x="3723" y="2"/>
                  </a:lnTo>
                  <a:lnTo>
                    <a:pt x="3736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05000" y="3174480"/>
              <a:ext cx="985680" cy="677160"/>
            </a:xfrm>
            <a:custGeom>
              <a:avLst/>
              <a:gdLst/>
              <a:ahLst/>
              <a:rect l="l" t="t" r="r" b="b"/>
              <a:pathLst>
                <a:path w="3911" h="2822">
                  <a:moveTo>
                    <a:pt x="0" y="2822"/>
                  </a:moveTo>
                  <a:lnTo>
                    <a:pt x="66" y="2682"/>
                  </a:lnTo>
                  <a:lnTo>
                    <a:pt x="139" y="2545"/>
                  </a:lnTo>
                  <a:lnTo>
                    <a:pt x="217" y="2412"/>
                  </a:lnTo>
                  <a:lnTo>
                    <a:pt x="299" y="2281"/>
                  </a:lnTo>
                  <a:lnTo>
                    <a:pt x="386" y="2154"/>
                  </a:lnTo>
                  <a:lnTo>
                    <a:pt x="478" y="2031"/>
                  </a:lnTo>
                  <a:lnTo>
                    <a:pt x="575" y="1912"/>
                  </a:lnTo>
                  <a:lnTo>
                    <a:pt x="674" y="1794"/>
                  </a:lnTo>
                  <a:lnTo>
                    <a:pt x="779" y="1681"/>
                  </a:lnTo>
                  <a:lnTo>
                    <a:pt x="887" y="1572"/>
                  </a:lnTo>
                  <a:lnTo>
                    <a:pt x="999" y="1465"/>
                  </a:lnTo>
                  <a:lnTo>
                    <a:pt x="1115" y="1363"/>
                  </a:lnTo>
                  <a:lnTo>
                    <a:pt x="1233" y="1263"/>
                  </a:lnTo>
                  <a:lnTo>
                    <a:pt x="1355" y="1166"/>
                  </a:lnTo>
                  <a:lnTo>
                    <a:pt x="1481" y="1074"/>
                  </a:lnTo>
                  <a:lnTo>
                    <a:pt x="1608" y="984"/>
                  </a:lnTo>
                  <a:lnTo>
                    <a:pt x="1739" y="898"/>
                  </a:lnTo>
                  <a:lnTo>
                    <a:pt x="1873" y="814"/>
                  </a:lnTo>
                  <a:lnTo>
                    <a:pt x="2008" y="735"/>
                  </a:lnTo>
                  <a:lnTo>
                    <a:pt x="2146" y="659"/>
                  </a:lnTo>
                  <a:lnTo>
                    <a:pt x="2286" y="586"/>
                  </a:lnTo>
                  <a:lnTo>
                    <a:pt x="2427" y="516"/>
                  </a:lnTo>
                  <a:lnTo>
                    <a:pt x="2571" y="450"/>
                  </a:lnTo>
                  <a:lnTo>
                    <a:pt x="2716" y="386"/>
                  </a:lnTo>
                  <a:lnTo>
                    <a:pt x="2862" y="327"/>
                  </a:lnTo>
                  <a:lnTo>
                    <a:pt x="3010" y="270"/>
                  </a:lnTo>
                  <a:lnTo>
                    <a:pt x="3158" y="217"/>
                  </a:lnTo>
                  <a:lnTo>
                    <a:pt x="3308" y="167"/>
                  </a:lnTo>
                  <a:lnTo>
                    <a:pt x="3458" y="121"/>
                  </a:lnTo>
                  <a:lnTo>
                    <a:pt x="3609" y="77"/>
                  </a:lnTo>
                  <a:lnTo>
                    <a:pt x="3760" y="37"/>
                  </a:lnTo>
                  <a:lnTo>
                    <a:pt x="3911" y="0"/>
                  </a:lnTo>
                  <a:lnTo>
                    <a:pt x="3862" y="115"/>
                  </a:lnTo>
                  <a:lnTo>
                    <a:pt x="3813" y="227"/>
                  </a:lnTo>
                  <a:lnTo>
                    <a:pt x="3762" y="334"/>
                  </a:lnTo>
                  <a:lnTo>
                    <a:pt x="3713" y="438"/>
                  </a:lnTo>
                  <a:lnTo>
                    <a:pt x="3662" y="538"/>
                  </a:lnTo>
                  <a:lnTo>
                    <a:pt x="3612" y="634"/>
                  </a:lnTo>
                  <a:lnTo>
                    <a:pt x="3561" y="727"/>
                  </a:lnTo>
                  <a:lnTo>
                    <a:pt x="3509" y="816"/>
                  </a:lnTo>
                  <a:lnTo>
                    <a:pt x="3456" y="903"/>
                  </a:lnTo>
                  <a:lnTo>
                    <a:pt x="3402" y="987"/>
                  </a:lnTo>
                  <a:lnTo>
                    <a:pt x="3347" y="1067"/>
                  </a:lnTo>
                  <a:lnTo>
                    <a:pt x="3291" y="1144"/>
                  </a:lnTo>
                  <a:lnTo>
                    <a:pt x="3234" y="1220"/>
                  </a:lnTo>
                  <a:lnTo>
                    <a:pt x="3175" y="1292"/>
                  </a:lnTo>
                  <a:lnTo>
                    <a:pt x="3114" y="1361"/>
                  </a:lnTo>
                  <a:lnTo>
                    <a:pt x="3051" y="1428"/>
                  </a:lnTo>
                  <a:lnTo>
                    <a:pt x="2988" y="1494"/>
                  </a:lnTo>
                  <a:lnTo>
                    <a:pt x="2922" y="1557"/>
                  </a:lnTo>
                  <a:lnTo>
                    <a:pt x="2854" y="1618"/>
                  </a:lnTo>
                  <a:lnTo>
                    <a:pt x="2783" y="1676"/>
                  </a:lnTo>
                  <a:lnTo>
                    <a:pt x="2711" y="1733"/>
                  </a:lnTo>
                  <a:lnTo>
                    <a:pt x="2636" y="1788"/>
                  </a:lnTo>
                  <a:lnTo>
                    <a:pt x="2558" y="1842"/>
                  </a:lnTo>
                  <a:lnTo>
                    <a:pt x="2477" y="1893"/>
                  </a:lnTo>
                  <a:lnTo>
                    <a:pt x="2395" y="1945"/>
                  </a:lnTo>
                  <a:lnTo>
                    <a:pt x="2309" y="1994"/>
                  </a:lnTo>
                  <a:lnTo>
                    <a:pt x="2219" y="2042"/>
                  </a:lnTo>
                  <a:lnTo>
                    <a:pt x="2128" y="2089"/>
                  </a:lnTo>
                  <a:lnTo>
                    <a:pt x="2032" y="2135"/>
                  </a:lnTo>
                  <a:lnTo>
                    <a:pt x="1933" y="2180"/>
                  </a:lnTo>
                  <a:lnTo>
                    <a:pt x="1830" y="2225"/>
                  </a:lnTo>
                  <a:lnTo>
                    <a:pt x="1725" y="2269"/>
                  </a:lnTo>
                  <a:lnTo>
                    <a:pt x="1681" y="2286"/>
                  </a:lnTo>
                  <a:lnTo>
                    <a:pt x="1637" y="2302"/>
                  </a:lnTo>
                  <a:lnTo>
                    <a:pt x="1593" y="2315"/>
                  </a:lnTo>
                  <a:lnTo>
                    <a:pt x="1548" y="2328"/>
                  </a:lnTo>
                  <a:lnTo>
                    <a:pt x="1502" y="2342"/>
                  </a:lnTo>
                  <a:lnTo>
                    <a:pt x="1456" y="2353"/>
                  </a:lnTo>
                  <a:lnTo>
                    <a:pt x="1409" y="2364"/>
                  </a:lnTo>
                  <a:lnTo>
                    <a:pt x="1361" y="2375"/>
                  </a:lnTo>
                  <a:lnTo>
                    <a:pt x="1265" y="2395"/>
                  </a:lnTo>
                  <a:lnTo>
                    <a:pt x="1165" y="2415"/>
                  </a:lnTo>
                  <a:lnTo>
                    <a:pt x="1063" y="2435"/>
                  </a:lnTo>
                  <a:lnTo>
                    <a:pt x="957" y="2458"/>
                  </a:lnTo>
                  <a:lnTo>
                    <a:pt x="904" y="2470"/>
                  </a:lnTo>
                  <a:lnTo>
                    <a:pt x="849" y="2483"/>
                  </a:lnTo>
                  <a:lnTo>
                    <a:pt x="794" y="2497"/>
                  </a:lnTo>
                  <a:lnTo>
                    <a:pt x="738" y="2511"/>
                  </a:lnTo>
                  <a:lnTo>
                    <a:pt x="680" y="2528"/>
                  </a:lnTo>
                  <a:lnTo>
                    <a:pt x="623" y="2545"/>
                  </a:lnTo>
                  <a:lnTo>
                    <a:pt x="564" y="2564"/>
                  </a:lnTo>
                  <a:lnTo>
                    <a:pt x="506" y="2584"/>
                  </a:lnTo>
                  <a:lnTo>
                    <a:pt x="445" y="2607"/>
                  </a:lnTo>
                  <a:lnTo>
                    <a:pt x="384" y="2632"/>
                  </a:lnTo>
                  <a:lnTo>
                    <a:pt x="323" y="2657"/>
                  </a:lnTo>
                  <a:lnTo>
                    <a:pt x="260" y="2685"/>
                  </a:lnTo>
                  <a:lnTo>
                    <a:pt x="196" y="2716"/>
                  </a:lnTo>
                  <a:lnTo>
                    <a:pt x="131" y="2749"/>
                  </a:lnTo>
                  <a:lnTo>
                    <a:pt x="66" y="2784"/>
                  </a:lnTo>
                  <a:lnTo>
                    <a:pt x="0" y="2822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16880" y="3771000"/>
              <a:ext cx="465840" cy="185760"/>
            </a:xfrm>
            <a:custGeom>
              <a:avLst/>
              <a:gdLst/>
              <a:ahLst/>
              <a:rect l="l" t="t" r="r" b="b"/>
              <a:pathLst>
                <a:path w="1973" h="778">
                  <a:moveTo>
                    <a:pt x="1973" y="778"/>
                  </a:moveTo>
                  <a:lnTo>
                    <a:pt x="1925" y="737"/>
                  </a:lnTo>
                  <a:lnTo>
                    <a:pt x="1861" y="674"/>
                  </a:lnTo>
                  <a:lnTo>
                    <a:pt x="1796" y="613"/>
                  </a:lnTo>
                  <a:lnTo>
                    <a:pt x="1732" y="554"/>
                  </a:lnTo>
                  <a:lnTo>
                    <a:pt x="1668" y="499"/>
                  </a:lnTo>
                  <a:lnTo>
                    <a:pt x="1606" y="444"/>
                  </a:lnTo>
                  <a:lnTo>
                    <a:pt x="1544" y="393"/>
                  </a:lnTo>
                  <a:lnTo>
                    <a:pt x="1482" y="344"/>
                  </a:lnTo>
                  <a:lnTo>
                    <a:pt x="1421" y="298"/>
                  </a:lnTo>
                  <a:lnTo>
                    <a:pt x="1361" y="255"/>
                  </a:lnTo>
                  <a:lnTo>
                    <a:pt x="1300" y="215"/>
                  </a:lnTo>
                  <a:lnTo>
                    <a:pt x="1240" y="178"/>
                  </a:lnTo>
                  <a:lnTo>
                    <a:pt x="1181" y="144"/>
                  </a:lnTo>
                  <a:lnTo>
                    <a:pt x="1121" y="114"/>
                  </a:lnTo>
                  <a:lnTo>
                    <a:pt x="1062" y="86"/>
                  </a:lnTo>
                  <a:lnTo>
                    <a:pt x="1004" y="62"/>
                  </a:lnTo>
                  <a:lnTo>
                    <a:pt x="945" y="42"/>
                  </a:lnTo>
                  <a:lnTo>
                    <a:pt x="887" y="25"/>
                  </a:lnTo>
                  <a:lnTo>
                    <a:pt x="828" y="13"/>
                  </a:lnTo>
                  <a:lnTo>
                    <a:pt x="769" y="5"/>
                  </a:lnTo>
                  <a:lnTo>
                    <a:pt x="712" y="0"/>
                  </a:lnTo>
                  <a:lnTo>
                    <a:pt x="653" y="0"/>
                  </a:lnTo>
                  <a:lnTo>
                    <a:pt x="594" y="3"/>
                  </a:lnTo>
                  <a:lnTo>
                    <a:pt x="536" y="11"/>
                  </a:lnTo>
                  <a:lnTo>
                    <a:pt x="477" y="23"/>
                  </a:lnTo>
                  <a:lnTo>
                    <a:pt x="419" y="41"/>
                  </a:lnTo>
                  <a:lnTo>
                    <a:pt x="360" y="62"/>
                  </a:lnTo>
                  <a:lnTo>
                    <a:pt x="300" y="89"/>
                  </a:lnTo>
                  <a:lnTo>
                    <a:pt x="242" y="121"/>
                  </a:lnTo>
                  <a:lnTo>
                    <a:pt x="182" y="157"/>
                  </a:lnTo>
                  <a:lnTo>
                    <a:pt x="121" y="198"/>
                  </a:lnTo>
                  <a:lnTo>
                    <a:pt x="61" y="246"/>
                  </a:lnTo>
                  <a:lnTo>
                    <a:pt x="0" y="297"/>
                  </a:lnTo>
                  <a:lnTo>
                    <a:pt x="86" y="283"/>
                  </a:lnTo>
                  <a:lnTo>
                    <a:pt x="173" y="272"/>
                  </a:lnTo>
                  <a:lnTo>
                    <a:pt x="260" y="266"/>
                  </a:lnTo>
                  <a:lnTo>
                    <a:pt x="347" y="264"/>
                  </a:lnTo>
                  <a:lnTo>
                    <a:pt x="434" y="266"/>
                  </a:lnTo>
                  <a:lnTo>
                    <a:pt x="520" y="271"/>
                  </a:lnTo>
                  <a:lnTo>
                    <a:pt x="606" y="281"/>
                  </a:lnTo>
                  <a:lnTo>
                    <a:pt x="691" y="292"/>
                  </a:lnTo>
                  <a:lnTo>
                    <a:pt x="775" y="306"/>
                  </a:lnTo>
                  <a:lnTo>
                    <a:pt x="859" y="324"/>
                  </a:lnTo>
                  <a:lnTo>
                    <a:pt x="941" y="342"/>
                  </a:lnTo>
                  <a:lnTo>
                    <a:pt x="1021" y="364"/>
                  </a:lnTo>
                  <a:lnTo>
                    <a:pt x="1099" y="386"/>
                  </a:lnTo>
                  <a:lnTo>
                    <a:pt x="1176" y="410"/>
                  </a:lnTo>
                  <a:lnTo>
                    <a:pt x="1250" y="436"/>
                  </a:lnTo>
                  <a:lnTo>
                    <a:pt x="1322" y="462"/>
                  </a:lnTo>
                  <a:lnTo>
                    <a:pt x="1391" y="488"/>
                  </a:lnTo>
                  <a:lnTo>
                    <a:pt x="1457" y="515"/>
                  </a:lnTo>
                  <a:lnTo>
                    <a:pt x="1520" y="543"/>
                  </a:lnTo>
                  <a:lnTo>
                    <a:pt x="1581" y="570"/>
                  </a:lnTo>
                  <a:lnTo>
                    <a:pt x="1637" y="595"/>
                  </a:lnTo>
                  <a:lnTo>
                    <a:pt x="1690" y="621"/>
                  </a:lnTo>
                  <a:lnTo>
                    <a:pt x="1739" y="646"/>
                  </a:lnTo>
                  <a:lnTo>
                    <a:pt x="1785" y="669"/>
                  </a:lnTo>
                  <a:lnTo>
                    <a:pt x="1861" y="711"/>
                  </a:lnTo>
                  <a:lnTo>
                    <a:pt x="1919" y="744"/>
                  </a:lnTo>
                  <a:lnTo>
                    <a:pt x="1956" y="768"/>
                  </a:lnTo>
                  <a:lnTo>
                    <a:pt x="1973" y="778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72600" y="3863520"/>
              <a:ext cx="510120" cy="146880"/>
            </a:xfrm>
            <a:custGeom>
              <a:avLst/>
              <a:gdLst/>
              <a:ahLst/>
              <a:rect l="l" t="t" r="r" b="b"/>
              <a:pathLst>
                <a:path w="2220" h="663">
                  <a:moveTo>
                    <a:pt x="0" y="124"/>
                  </a:moveTo>
                  <a:lnTo>
                    <a:pt x="68" y="99"/>
                  </a:lnTo>
                  <a:lnTo>
                    <a:pt x="137" y="78"/>
                  </a:lnTo>
                  <a:lnTo>
                    <a:pt x="207" y="59"/>
                  </a:lnTo>
                  <a:lnTo>
                    <a:pt x="277" y="43"/>
                  </a:lnTo>
                  <a:lnTo>
                    <a:pt x="347" y="29"/>
                  </a:lnTo>
                  <a:lnTo>
                    <a:pt x="418" y="19"/>
                  </a:lnTo>
                  <a:lnTo>
                    <a:pt x="489" y="11"/>
                  </a:lnTo>
                  <a:lnTo>
                    <a:pt x="561" y="5"/>
                  </a:lnTo>
                  <a:lnTo>
                    <a:pt x="632" y="1"/>
                  </a:lnTo>
                  <a:lnTo>
                    <a:pt x="704" y="0"/>
                  </a:lnTo>
                  <a:lnTo>
                    <a:pt x="776" y="2"/>
                  </a:lnTo>
                  <a:lnTo>
                    <a:pt x="848" y="6"/>
                  </a:lnTo>
                  <a:lnTo>
                    <a:pt x="920" y="12"/>
                  </a:lnTo>
                  <a:lnTo>
                    <a:pt x="992" y="20"/>
                  </a:lnTo>
                  <a:lnTo>
                    <a:pt x="1064" y="30"/>
                  </a:lnTo>
                  <a:lnTo>
                    <a:pt x="1135" y="43"/>
                  </a:lnTo>
                  <a:lnTo>
                    <a:pt x="1207" y="56"/>
                  </a:lnTo>
                  <a:lnTo>
                    <a:pt x="1278" y="72"/>
                  </a:lnTo>
                  <a:lnTo>
                    <a:pt x="1349" y="91"/>
                  </a:lnTo>
                  <a:lnTo>
                    <a:pt x="1420" y="110"/>
                  </a:lnTo>
                  <a:lnTo>
                    <a:pt x="1490" y="132"/>
                  </a:lnTo>
                  <a:lnTo>
                    <a:pt x="1560" y="156"/>
                  </a:lnTo>
                  <a:lnTo>
                    <a:pt x="1629" y="180"/>
                  </a:lnTo>
                  <a:lnTo>
                    <a:pt x="1698" y="207"/>
                  </a:lnTo>
                  <a:lnTo>
                    <a:pt x="1766" y="235"/>
                  </a:lnTo>
                  <a:lnTo>
                    <a:pt x="1833" y="265"/>
                  </a:lnTo>
                  <a:lnTo>
                    <a:pt x="1899" y="296"/>
                  </a:lnTo>
                  <a:lnTo>
                    <a:pt x="1966" y="328"/>
                  </a:lnTo>
                  <a:lnTo>
                    <a:pt x="2031" y="362"/>
                  </a:lnTo>
                  <a:lnTo>
                    <a:pt x="2095" y="397"/>
                  </a:lnTo>
                  <a:lnTo>
                    <a:pt x="2157" y="433"/>
                  </a:lnTo>
                  <a:lnTo>
                    <a:pt x="2220" y="470"/>
                  </a:lnTo>
                  <a:lnTo>
                    <a:pt x="2166" y="493"/>
                  </a:lnTo>
                  <a:lnTo>
                    <a:pt x="2113" y="514"/>
                  </a:lnTo>
                  <a:lnTo>
                    <a:pt x="2062" y="533"/>
                  </a:lnTo>
                  <a:lnTo>
                    <a:pt x="2011" y="551"/>
                  </a:lnTo>
                  <a:lnTo>
                    <a:pt x="1962" y="567"/>
                  </a:lnTo>
                  <a:lnTo>
                    <a:pt x="1914" y="583"/>
                  </a:lnTo>
                  <a:lnTo>
                    <a:pt x="1866" y="597"/>
                  </a:lnTo>
                  <a:lnTo>
                    <a:pt x="1819" y="609"/>
                  </a:lnTo>
                  <a:lnTo>
                    <a:pt x="1774" y="621"/>
                  </a:lnTo>
                  <a:lnTo>
                    <a:pt x="1729" y="631"/>
                  </a:lnTo>
                  <a:lnTo>
                    <a:pt x="1683" y="639"/>
                  </a:lnTo>
                  <a:lnTo>
                    <a:pt x="1640" y="646"/>
                  </a:lnTo>
                  <a:lnTo>
                    <a:pt x="1596" y="652"/>
                  </a:lnTo>
                  <a:lnTo>
                    <a:pt x="1553" y="657"/>
                  </a:lnTo>
                  <a:lnTo>
                    <a:pt x="1510" y="661"/>
                  </a:lnTo>
                  <a:lnTo>
                    <a:pt x="1467" y="662"/>
                  </a:lnTo>
                  <a:lnTo>
                    <a:pt x="1425" y="663"/>
                  </a:lnTo>
                  <a:lnTo>
                    <a:pt x="1383" y="662"/>
                  </a:lnTo>
                  <a:lnTo>
                    <a:pt x="1340" y="660"/>
                  </a:lnTo>
                  <a:lnTo>
                    <a:pt x="1298" y="657"/>
                  </a:lnTo>
                  <a:lnTo>
                    <a:pt x="1255" y="651"/>
                  </a:lnTo>
                  <a:lnTo>
                    <a:pt x="1212" y="645"/>
                  </a:lnTo>
                  <a:lnTo>
                    <a:pt x="1169" y="637"/>
                  </a:lnTo>
                  <a:lnTo>
                    <a:pt x="1125" y="628"/>
                  </a:lnTo>
                  <a:lnTo>
                    <a:pt x="1082" y="618"/>
                  </a:lnTo>
                  <a:lnTo>
                    <a:pt x="1036" y="606"/>
                  </a:lnTo>
                  <a:lnTo>
                    <a:pt x="991" y="593"/>
                  </a:lnTo>
                  <a:lnTo>
                    <a:pt x="945" y="578"/>
                  </a:lnTo>
                  <a:lnTo>
                    <a:pt x="898" y="562"/>
                  </a:lnTo>
                  <a:lnTo>
                    <a:pt x="851" y="544"/>
                  </a:lnTo>
                  <a:lnTo>
                    <a:pt x="803" y="526"/>
                  </a:lnTo>
                  <a:lnTo>
                    <a:pt x="752" y="505"/>
                  </a:lnTo>
                  <a:lnTo>
                    <a:pt x="733" y="497"/>
                  </a:lnTo>
                  <a:lnTo>
                    <a:pt x="713" y="488"/>
                  </a:lnTo>
                  <a:lnTo>
                    <a:pt x="694" y="478"/>
                  </a:lnTo>
                  <a:lnTo>
                    <a:pt x="675" y="467"/>
                  </a:lnTo>
                  <a:lnTo>
                    <a:pt x="636" y="446"/>
                  </a:lnTo>
                  <a:lnTo>
                    <a:pt x="598" y="422"/>
                  </a:lnTo>
                  <a:lnTo>
                    <a:pt x="559" y="396"/>
                  </a:lnTo>
                  <a:lnTo>
                    <a:pt x="520" y="371"/>
                  </a:lnTo>
                  <a:lnTo>
                    <a:pt x="479" y="344"/>
                  </a:lnTo>
                  <a:lnTo>
                    <a:pt x="437" y="317"/>
                  </a:lnTo>
                  <a:lnTo>
                    <a:pt x="393" y="289"/>
                  </a:lnTo>
                  <a:lnTo>
                    <a:pt x="347" y="263"/>
                  </a:lnTo>
                  <a:lnTo>
                    <a:pt x="322" y="249"/>
                  </a:lnTo>
                  <a:lnTo>
                    <a:pt x="298" y="236"/>
                  </a:lnTo>
                  <a:lnTo>
                    <a:pt x="272" y="224"/>
                  </a:lnTo>
                  <a:lnTo>
                    <a:pt x="246" y="210"/>
                  </a:lnTo>
                  <a:lnTo>
                    <a:pt x="219" y="198"/>
                  </a:lnTo>
                  <a:lnTo>
                    <a:pt x="191" y="187"/>
                  </a:lnTo>
                  <a:lnTo>
                    <a:pt x="161" y="175"/>
                  </a:lnTo>
                  <a:lnTo>
                    <a:pt x="131" y="164"/>
                  </a:lnTo>
                  <a:lnTo>
                    <a:pt x="100" y="153"/>
                  </a:lnTo>
                  <a:lnTo>
                    <a:pt x="68" y="142"/>
                  </a:lnTo>
                  <a:lnTo>
                    <a:pt x="34" y="13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11080" y="2900880"/>
              <a:ext cx="202320" cy="53028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34560" y="2895480"/>
              <a:ext cx="150840" cy="54720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362240" y="3565440"/>
            <a:ext cx="461880" cy="1368360"/>
          </a:xfrm>
          <a:custGeom>
            <a:avLst/>
            <a:gdLst/>
            <a:ahLst/>
            <a:rect l="l" t="t" r="r" b="b"/>
            <a:pathLst>
              <a:path w="1816" h="5514">
                <a:moveTo>
                  <a:pt x="174" y="1546"/>
                </a:moveTo>
                <a:lnTo>
                  <a:pt x="0" y="1377"/>
                </a:lnTo>
                <a:lnTo>
                  <a:pt x="50" y="1305"/>
                </a:lnTo>
                <a:lnTo>
                  <a:pt x="100" y="1236"/>
                </a:lnTo>
                <a:lnTo>
                  <a:pt x="147" y="1170"/>
                </a:lnTo>
                <a:lnTo>
                  <a:pt x="193" y="1108"/>
                </a:lnTo>
                <a:lnTo>
                  <a:pt x="236" y="1046"/>
                </a:lnTo>
                <a:lnTo>
                  <a:pt x="277" y="984"/>
                </a:lnTo>
                <a:lnTo>
                  <a:pt x="297" y="952"/>
                </a:lnTo>
                <a:lnTo>
                  <a:pt x="316" y="921"/>
                </a:lnTo>
                <a:lnTo>
                  <a:pt x="333" y="890"/>
                </a:lnTo>
                <a:lnTo>
                  <a:pt x="350" y="857"/>
                </a:lnTo>
                <a:lnTo>
                  <a:pt x="367" y="824"/>
                </a:lnTo>
                <a:lnTo>
                  <a:pt x="382" y="789"/>
                </a:lnTo>
                <a:lnTo>
                  <a:pt x="397" y="754"/>
                </a:lnTo>
                <a:lnTo>
                  <a:pt x="410" y="718"/>
                </a:lnTo>
                <a:lnTo>
                  <a:pt x="423" y="680"/>
                </a:lnTo>
                <a:lnTo>
                  <a:pt x="434" y="641"/>
                </a:lnTo>
                <a:lnTo>
                  <a:pt x="444" y="601"/>
                </a:lnTo>
                <a:lnTo>
                  <a:pt x="453" y="557"/>
                </a:lnTo>
                <a:lnTo>
                  <a:pt x="462" y="514"/>
                </a:lnTo>
                <a:lnTo>
                  <a:pt x="468" y="468"/>
                </a:lnTo>
                <a:lnTo>
                  <a:pt x="474" y="420"/>
                </a:lnTo>
                <a:lnTo>
                  <a:pt x="478" y="369"/>
                </a:lnTo>
                <a:lnTo>
                  <a:pt x="481" y="317"/>
                </a:lnTo>
                <a:lnTo>
                  <a:pt x="483" y="262"/>
                </a:lnTo>
                <a:lnTo>
                  <a:pt x="483" y="205"/>
                </a:lnTo>
                <a:lnTo>
                  <a:pt x="482" y="144"/>
                </a:lnTo>
                <a:lnTo>
                  <a:pt x="482" y="134"/>
                </a:lnTo>
                <a:lnTo>
                  <a:pt x="483" y="123"/>
                </a:lnTo>
                <a:lnTo>
                  <a:pt x="483" y="113"/>
                </a:lnTo>
                <a:lnTo>
                  <a:pt x="485" y="102"/>
                </a:lnTo>
                <a:lnTo>
                  <a:pt x="487" y="92"/>
                </a:lnTo>
                <a:lnTo>
                  <a:pt x="489" y="82"/>
                </a:lnTo>
                <a:lnTo>
                  <a:pt x="492" y="73"/>
                </a:lnTo>
                <a:lnTo>
                  <a:pt x="497" y="64"/>
                </a:lnTo>
                <a:lnTo>
                  <a:pt x="501" y="54"/>
                </a:lnTo>
                <a:lnTo>
                  <a:pt x="506" y="46"/>
                </a:lnTo>
                <a:lnTo>
                  <a:pt x="511" y="38"/>
                </a:lnTo>
                <a:lnTo>
                  <a:pt x="517" y="31"/>
                </a:lnTo>
                <a:lnTo>
                  <a:pt x="523" y="25"/>
                </a:lnTo>
                <a:lnTo>
                  <a:pt x="532" y="18"/>
                </a:lnTo>
                <a:lnTo>
                  <a:pt x="540" y="13"/>
                </a:lnTo>
                <a:lnTo>
                  <a:pt x="548" y="9"/>
                </a:lnTo>
                <a:lnTo>
                  <a:pt x="557" y="5"/>
                </a:lnTo>
                <a:lnTo>
                  <a:pt x="568" y="3"/>
                </a:lnTo>
                <a:lnTo>
                  <a:pt x="579" y="1"/>
                </a:lnTo>
                <a:lnTo>
                  <a:pt x="590" y="0"/>
                </a:lnTo>
                <a:lnTo>
                  <a:pt x="603" y="0"/>
                </a:lnTo>
                <a:lnTo>
                  <a:pt x="616" y="2"/>
                </a:lnTo>
                <a:lnTo>
                  <a:pt x="629" y="4"/>
                </a:lnTo>
                <a:lnTo>
                  <a:pt x="644" y="8"/>
                </a:lnTo>
                <a:lnTo>
                  <a:pt x="659" y="12"/>
                </a:lnTo>
                <a:lnTo>
                  <a:pt x="676" y="18"/>
                </a:lnTo>
                <a:lnTo>
                  <a:pt x="693" y="27"/>
                </a:lnTo>
                <a:lnTo>
                  <a:pt x="711" y="35"/>
                </a:lnTo>
                <a:lnTo>
                  <a:pt x="729" y="45"/>
                </a:lnTo>
                <a:lnTo>
                  <a:pt x="749" y="57"/>
                </a:lnTo>
                <a:lnTo>
                  <a:pt x="769" y="71"/>
                </a:lnTo>
                <a:lnTo>
                  <a:pt x="791" y="86"/>
                </a:lnTo>
                <a:lnTo>
                  <a:pt x="949" y="265"/>
                </a:lnTo>
                <a:lnTo>
                  <a:pt x="1091" y="439"/>
                </a:lnTo>
                <a:lnTo>
                  <a:pt x="1219" y="609"/>
                </a:lnTo>
                <a:lnTo>
                  <a:pt x="1332" y="773"/>
                </a:lnTo>
                <a:lnTo>
                  <a:pt x="1432" y="935"/>
                </a:lnTo>
                <a:lnTo>
                  <a:pt x="1518" y="1092"/>
                </a:lnTo>
                <a:lnTo>
                  <a:pt x="1591" y="1246"/>
                </a:lnTo>
                <a:lnTo>
                  <a:pt x="1654" y="1397"/>
                </a:lnTo>
                <a:lnTo>
                  <a:pt x="1705" y="1546"/>
                </a:lnTo>
                <a:lnTo>
                  <a:pt x="1745" y="1692"/>
                </a:lnTo>
                <a:lnTo>
                  <a:pt x="1776" y="1836"/>
                </a:lnTo>
                <a:lnTo>
                  <a:pt x="1798" y="1978"/>
                </a:lnTo>
                <a:lnTo>
                  <a:pt x="1811" y="2120"/>
                </a:lnTo>
                <a:lnTo>
                  <a:pt x="1816" y="2260"/>
                </a:lnTo>
                <a:lnTo>
                  <a:pt x="1814" y="2399"/>
                </a:lnTo>
                <a:lnTo>
                  <a:pt x="1806" y="2539"/>
                </a:lnTo>
                <a:lnTo>
                  <a:pt x="1793" y="2679"/>
                </a:lnTo>
                <a:lnTo>
                  <a:pt x="1773" y="2820"/>
                </a:lnTo>
                <a:lnTo>
                  <a:pt x="1748" y="2961"/>
                </a:lnTo>
                <a:lnTo>
                  <a:pt x="1721" y="3104"/>
                </a:lnTo>
                <a:lnTo>
                  <a:pt x="1690" y="3248"/>
                </a:lnTo>
                <a:lnTo>
                  <a:pt x="1656" y="3394"/>
                </a:lnTo>
                <a:lnTo>
                  <a:pt x="1621" y="3542"/>
                </a:lnTo>
                <a:lnTo>
                  <a:pt x="1584" y="3693"/>
                </a:lnTo>
                <a:lnTo>
                  <a:pt x="1546" y="3846"/>
                </a:lnTo>
                <a:lnTo>
                  <a:pt x="1509" y="4004"/>
                </a:lnTo>
                <a:lnTo>
                  <a:pt x="1472" y="4165"/>
                </a:lnTo>
                <a:lnTo>
                  <a:pt x="1436" y="4330"/>
                </a:lnTo>
                <a:lnTo>
                  <a:pt x="1403" y="4499"/>
                </a:lnTo>
                <a:lnTo>
                  <a:pt x="1372" y="4673"/>
                </a:lnTo>
                <a:lnTo>
                  <a:pt x="1344" y="4852"/>
                </a:lnTo>
                <a:lnTo>
                  <a:pt x="1320" y="5036"/>
                </a:lnTo>
                <a:lnTo>
                  <a:pt x="1181" y="5514"/>
                </a:lnTo>
                <a:lnTo>
                  <a:pt x="1169" y="5338"/>
                </a:lnTo>
                <a:lnTo>
                  <a:pt x="1163" y="5165"/>
                </a:lnTo>
                <a:lnTo>
                  <a:pt x="1163" y="4996"/>
                </a:lnTo>
                <a:lnTo>
                  <a:pt x="1166" y="4831"/>
                </a:lnTo>
                <a:lnTo>
                  <a:pt x="1174" y="4669"/>
                </a:lnTo>
                <a:lnTo>
                  <a:pt x="1186" y="4510"/>
                </a:lnTo>
                <a:lnTo>
                  <a:pt x="1199" y="4354"/>
                </a:lnTo>
                <a:lnTo>
                  <a:pt x="1215" y="4199"/>
                </a:lnTo>
                <a:lnTo>
                  <a:pt x="1232" y="4047"/>
                </a:lnTo>
                <a:lnTo>
                  <a:pt x="1251" y="3898"/>
                </a:lnTo>
                <a:lnTo>
                  <a:pt x="1269" y="3749"/>
                </a:lnTo>
                <a:lnTo>
                  <a:pt x="1289" y="3603"/>
                </a:lnTo>
                <a:lnTo>
                  <a:pt x="1306" y="3457"/>
                </a:lnTo>
                <a:lnTo>
                  <a:pt x="1323" y="3312"/>
                </a:lnTo>
                <a:lnTo>
                  <a:pt x="1337" y="3168"/>
                </a:lnTo>
                <a:lnTo>
                  <a:pt x="1349" y="3025"/>
                </a:lnTo>
                <a:lnTo>
                  <a:pt x="1359" y="2882"/>
                </a:lnTo>
                <a:lnTo>
                  <a:pt x="1364" y="2738"/>
                </a:lnTo>
                <a:lnTo>
                  <a:pt x="1366" y="2595"/>
                </a:lnTo>
                <a:lnTo>
                  <a:pt x="1362" y="2451"/>
                </a:lnTo>
                <a:lnTo>
                  <a:pt x="1352" y="2306"/>
                </a:lnTo>
                <a:lnTo>
                  <a:pt x="1338" y="2160"/>
                </a:lnTo>
                <a:lnTo>
                  <a:pt x="1316" y="2013"/>
                </a:lnTo>
                <a:lnTo>
                  <a:pt x="1288" y="1865"/>
                </a:lnTo>
                <a:lnTo>
                  <a:pt x="1252" y="1713"/>
                </a:lnTo>
                <a:lnTo>
                  <a:pt x="1206" y="1561"/>
                </a:lnTo>
                <a:lnTo>
                  <a:pt x="1153" y="1407"/>
                </a:lnTo>
                <a:lnTo>
                  <a:pt x="1090" y="1250"/>
                </a:lnTo>
                <a:lnTo>
                  <a:pt x="1017" y="1090"/>
                </a:lnTo>
                <a:lnTo>
                  <a:pt x="934" y="928"/>
                </a:lnTo>
                <a:lnTo>
                  <a:pt x="839" y="762"/>
                </a:lnTo>
                <a:lnTo>
                  <a:pt x="732" y="592"/>
                </a:lnTo>
                <a:lnTo>
                  <a:pt x="723" y="632"/>
                </a:lnTo>
                <a:lnTo>
                  <a:pt x="714" y="671"/>
                </a:lnTo>
                <a:lnTo>
                  <a:pt x="702" y="710"/>
                </a:lnTo>
                <a:lnTo>
                  <a:pt x="691" y="747"/>
                </a:lnTo>
                <a:lnTo>
                  <a:pt x="680" y="783"/>
                </a:lnTo>
                <a:lnTo>
                  <a:pt x="667" y="819"/>
                </a:lnTo>
                <a:lnTo>
                  <a:pt x="655" y="853"/>
                </a:lnTo>
                <a:lnTo>
                  <a:pt x="642" y="886"/>
                </a:lnTo>
                <a:lnTo>
                  <a:pt x="627" y="919"/>
                </a:lnTo>
                <a:lnTo>
                  <a:pt x="613" y="951"/>
                </a:lnTo>
                <a:lnTo>
                  <a:pt x="598" y="983"/>
                </a:lnTo>
                <a:lnTo>
                  <a:pt x="583" y="1013"/>
                </a:lnTo>
                <a:lnTo>
                  <a:pt x="567" y="1044"/>
                </a:lnTo>
                <a:lnTo>
                  <a:pt x="550" y="1073"/>
                </a:lnTo>
                <a:lnTo>
                  <a:pt x="533" y="1102"/>
                </a:lnTo>
                <a:lnTo>
                  <a:pt x="515" y="1130"/>
                </a:lnTo>
                <a:lnTo>
                  <a:pt x="498" y="1158"/>
                </a:lnTo>
                <a:lnTo>
                  <a:pt x="479" y="1186"/>
                </a:lnTo>
                <a:lnTo>
                  <a:pt x="461" y="1212"/>
                </a:lnTo>
                <a:lnTo>
                  <a:pt x="441" y="1239"/>
                </a:lnTo>
                <a:lnTo>
                  <a:pt x="401" y="1293"/>
                </a:lnTo>
                <a:lnTo>
                  <a:pt x="359" y="1344"/>
                </a:lnTo>
                <a:lnTo>
                  <a:pt x="314" y="1395"/>
                </a:lnTo>
                <a:lnTo>
                  <a:pt x="269" y="1445"/>
                </a:lnTo>
                <a:lnTo>
                  <a:pt x="223" y="1495"/>
                </a:lnTo>
                <a:lnTo>
                  <a:pt x="174" y="1546"/>
                </a:lnTo>
                <a:close/>
              </a:path>
            </a:pathLst>
          </a:custGeom>
          <a:solidFill>
            <a:srgbClr val="8fa4e1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30320" y="3738600"/>
            <a:ext cx="552240" cy="1217520"/>
          </a:xfrm>
          <a:custGeom>
            <a:avLst/>
            <a:gdLst/>
            <a:ahLst/>
            <a:rect l="l" t="t" r="r" b="b"/>
            <a:pathLst>
              <a:path w="2158" h="4894">
                <a:moveTo>
                  <a:pt x="2135" y="3852"/>
                </a:moveTo>
                <a:lnTo>
                  <a:pt x="2139" y="3714"/>
                </a:lnTo>
                <a:lnTo>
                  <a:pt x="2144" y="3578"/>
                </a:lnTo>
                <a:lnTo>
                  <a:pt x="2147" y="3441"/>
                </a:lnTo>
                <a:lnTo>
                  <a:pt x="2149" y="3306"/>
                </a:lnTo>
                <a:lnTo>
                  <a:pt x="2150" y="3173"/>
                </a:lnTo>
                <a:lnTo>
                  <a:pt x="2149" y="3041"/>
                </a:lnTo>
                <a:lnTo>
                  <a:pt x="2147" y="2910"/>
                </a:lnTo>
                <a:lnTo>
                  <a:pt x="2143" y="2781"/>
                </a:lnTo>
                <a:lnTo>
                  <a:pt x="2135" y="2652"/>
                </a:lnTo>
                <a:lnTo>
                  <a:pt x="2127" y="2524"/>
                </a:lnTo>
                <a:lnTo>
                  <a:pt x="2115" y="2398"/>
                </a:lnTo>
                <a:lnTo>
                  <a:pt x="2100" y="2273"/>
                </a:lnTo>
                <a:lnTo>
                  <a:pt x="2083" y="2150"/>
                </a:lnTo>
                <a:lnTo>
                  <a:pt x="2062" y="2028"/>
                </a:lnTo>
                <a:lnTo>
                  <a:pt x="2038" y="1907"/>
                </a:lnTo>
                <a:lnTo>
                  <a:pt x="2009" y="1788"/>
                </a:lnTo>
                <a:lnTo>
                  <a:pt x="1977" y="1670"/>
                </a:lnTo>
                <a:lnTo>
                  <a:pt x="1940" y="1553"/>
                </a:lnTo>
                <a:lnTo>
                  <a:pt x="1899" y="1436"/>
                </a:lnTo>
                <a:lnTo>
                  <a:pt x="1853" y="1322"/>
                </a:lnTo>
                <a:lnTo>
                  <a:pt x="1801" y="1209"/>
                </a:lnTo>
                <a:lnTo>
                  <a:pt x="1745" y="1098"/>
                </a:lnTo>
                <a:lnTo>
                  <a:pt x="1683" y="987"/>
                </a:lnTo>
                <a:lnTo>
                  <a:pt x="1615" y="878"/>
                </a:lnTo>
                <a:lnTo>
                  <a:pt x="1541" y="770"/>
                </a:lnTo>
                <a:lnTo>
                  <a:pt x="1461" y="664"/>
                </a:lnTo>
                <a:lnTo>
                  <a:pt x="1374" y="559"/>
                </a:lnTo>
                <a:lnTo>
                  <a:pt x="1282" y="455"/>
                </a:lnTo>
                <a:lnTo>
                  <a:pt x="1182" y="352"/>
                </a:lnTo>
                <a:lnTo>
                  <a:pt x="1074" y="251"/>
                </a:lnTo>
                <a:lnTo>
                  <a:pt x="960" y="152"/>
                </a:lnTo>
                <a:lnTo>
                  <a:pt x="837" y="54"/>
                </a:lnTo>
                <a:lnTo>
                  <a:pt x="823" y="45"/>
                </a:lnTo>
                <a:lnTo>
                  <a:pt x="808" y="36"/>
                </a:lnTo>
                <a:lnTo>
                  <a:pt x="794" y="28"/>
                </a:lnTo>
                <a:lnTo>
                  <a:pt x="781" y="22"/>
                </a:lnTo>
                <a:lnTo>
                  <a:pt x="767" y="16"/>
                </a:lnTo>
                <a:lnTo>
                  <a:pt x="755" y="12"/>
                </a:lnTo>
                <a:lnTo>
                  <a:pt x="743" y="8"/>
                </a:lnTo>
                <a:lnTo>
                  <a:pt x="730" y="5"/>
                </a:lnTo>
                <a:lnTo>
                  <a:pt x="719" y="3"/>
                </a:lnTo>
                <a:lnTo>
                  <a:pt x="708" y="0"/>
                </a:lnTo>
                <a:lnTo>
                  <a:pt x="696" y="0"/>
                </a:lnTo>
                <a:lnTo>
                  <a:pt x="685" y="0"/>
                </a:lnTo>
                <a:lnTo>
                  <a:pt x="675" y="0"/>
                </a:lnTo>
                <a:lnTo>
                  <a:pt x="665" y="3"/>
                </a:lnTo>
                <a:lnTo>
                  <a:pt x="655" y="5"/>
                </a:lnTo>
                <a:lnTo>
                  <a:pt x="646" y="8"/>
                </a:lnTo>
                <a:lnTo>
                  <a:pt x="637" y="12"/>
                </a:lnTo>
                <a:lnTo>
                  <a:pt x="627" y="16"/>
                </a:lnTo>
                <a:lnTo>
                  <a:pt x="619" y="21"/>
                </a:lnTo>
                <a:lnTo>
                  <a:pt x="611" y="27"/>
                </a:lnTo>
                <a:lnTo>
                  <a:pt x="603" y="33"/>
                </a:lnTo>
                <a:lnTo>
                  <a:pt x="595" y="41"/>
                </a:lnTo>
                <a:lnTo>
                  <a:pt x="587" y="48"/>
                </a:lnTo>
                <a:lnTo>
                  <a:pt x="580" y="56"/>
                </a:lnTo>
                <a:lnTo>
                  <a:pt x="566" y="75"/>
                </a:lnTo>
                <a:lnTo>
                  <a:pt x="552" y="95"/>
                </a:lnTo>
                <a:lnTo>
                  <a:pt x="541" y="117"/>
                </a:lnTo>
                <a:lnTo>
                  <a:pt x="529" y="141"/>
                </a:lnTo>
                <a:lnTo>
                  <a:pt x="525" y="200"/>
                </a:lnTo>
                <a:lnTo>
                  <a:pt x="519" y="258"/>
                </a:lnTo>
                <a:lnTo>
                  <a:pt x="513" y="315"/>
                </a:lnTo>
                <a:lnTo>
                  <a:pt x="507" y="373"/>
                </a:lnTo>
                <a:lnTo>
                  <a:pt x="499" y="429"/>
                </a:lnTo>
                <a:lnTo>
                  <a:pt x="491" y="486"/>
                </a:lnTo>
                <a:lnTo>
                  <a:pt x="481" y="541"/>
                </a:lnTo>
                <a:lnTo>
                  <a:pt x="471" y="597"/>
                </a:lnTo>
                <a:lnTo>
                  <a:pt x="460" y="653"/>
                </a:lnTo>
                <a:lnTo>
                  <a:pt x="448" y="707"/>
                </a:lnTo>
                <a:lnTo>
                  <a:pt x="436" y="762"/>
                </a:lnTo>
                <a:lnTo>
                  <a:pt x="423" y="815"/>
                </a:lnTo>
                <a:lnTo>
                  <a:pt x="408" y="869"/>
                </a:lnTo>
                <a:lnTo>
                  <a:pt x="394" y="921"/>
                </a:lnTo>
                <a:lnTo>
                  <a:pt x="377" y="973"/>
                </a:lnTo>
                <a:lnTo>
                  <a:pt x="362" y="1025"/>
                </a:lnTo>
                <a:lnTo>
                  <a:pt x="345" y="1076"/>
                </a:lnTo>
                <a:lnTo>
                  <a:pt x="327" y="1127"/>
                </a:lnTo>
                <a:lnTo>
                  <a:pt x="308" y="1177"/>
                </a:lnTo>
                <a:lnTo>
                  <a:pt x="289" y="1226"/>
                </a:lnTo>
                <a:lnTo>
                  <a:pt x="268" y="1275"/>
                </a:lnTo>
                <a:lnTo>
                  <a:pt x="248" y="1323"/>
                </a:lnTo>
                <a:lnTo>
                  <a:pt x="226" y="1371"/>
                </a:lnTo>
                <a:lnTo>
                  <a:pt x="204" y="1418"/>
                </a:lnTo>
                <a:lnTo>
                  <a:pt x="181" y="1464"/>
                </a:lnTo>
                <a:lnTo>
                  <a:pt x="157" y="1510"/>
                </a:lnTo>
                <a:lnTo>
                  <a:pt x="133" y="1556"/>
                </a:lnTo>
                <a:lnTo>
                  <a:pt x="107" y="1600"/>
                </a:lnTo>
                <a:lnTo>
                  <a:pt x="81" y="1643"/>
                </a:lnTo>
                <a:lnTo>
                  <a:pt x="54" y="1686"/>
                </a:lnTo>
                <a:lnTo>
                  <a:pt x="28" y="1728"/>
                </a:lnTo>
                <a:lnTo>
                  <a:pt x="0" y="1770"/>
                </a:lnTo>
                <a:lnTo>
                  <a:pt x="191" y="2165"/>
                </a:lnTo>
                <a:lnTo>
                  <a:pt x="246" y="2057"/>
                </a:lnTo>
                <a:lnTo>
                  <a:pt x="298" y="1954"/>
                </a:lnTo>
                <a:lnTo>
                  <a:pt x="347" y="1852"/>
                </a:lnTo>
                <a:lnTo>
                  <a:pt x="393" y="1752"/>
                </a:lnTo>
                <a:lnTo>
                  <a:pt x="437" y="1654"/>
                </a:lnTo>
                <a:lnTo>
                  <a:pt x="478" y="1558"/>
                </a:lnTo>
                <a:lnTo>
                  <a:pt x="498" y="1508"/>
                </a:lnTo>
                <a:lnTo>
                  <a:pt x="517" y="1460"/>
                </a:lnTo>
                <a:lnTo>
                  <a:pt x="536" y="1412"/>
                </a:lnTo>
                <a:lnTo>
                  <a:pt x="554" y="1363"/>
                </a:lnTo>
                <a:lnTo>
                  <a:pt x="572" y="1314"/>
                </a:lnTo>
                <a:lnTo>
                  <a:pt x="589" y="1266"/>
                </a:lnTo>
                <a:lnTo>
                  <a:pt x="606" y="1215"/>
                </a:lnTo>
                <a:lnTo>
                  <a:pt x="622" y="1166"/>
                </a:lnTo>
                <a:lnTo>
                  <a:pt x="638" y="1115"/>
                </a:lnTo>
                <a:lnTo>
                  <a:pt x="653" y="1064"/>
                </a:lnTo>
                <a:lnTo>
                  <a:pt x="669" y="1013"/>
                </a:lnTo>
                <a:lnTo>
                  <a:pt x="683" y="959"/>
                </a:lnTo>
                <a:lnTo>
                  <a:pt x="696" y="906"/>
                </a:lnTo>
                <a:lnTo>
                  <a:pt x="711" y="852"/>
                </a:lnTo>
                <a:lnTo>
                  <a:pt x="724" y="797"/>
                </a:lnTo>
                <a:lnTo>
                  <a:pt x="736" y="740"/>
                </a:lnTo>
                <a:lnTo>
                  <a:pt x="749" y="682"/>
                </a:lnTo>
                <a:lnTo>
                  <a:pt x="761" y="624"/>
                </a:lnTo>
                <a:lnTo>
                  <a:pt x="773" y="563"/>
                </a:lnTo>
                <a:lnTo>
                  <a:pt x="785" y="501"/>
                </a:lnTo>
                <a:lnTo>
                  <a:pt x="901" y="604"/>
                </a:lnTo>
                <a:lnTo>
                  <a:pt x="1008" y="711"/>
                </a:lnTo>
                <a:lnTo>
                  <a:pt x="1108" y="821"/>
                </a:lnTo>
                <a:lnTo>
                  <a:pt x="1199" y="934"/>
                </a:lnTo>
                <a:lnTo>
                  <a:pt x="1285" y="1051"/>
                </a:lnTo>
                <a:lnTo>
                  <a:pt x="1363" y="1170"/>
                </a:lnTo>
                <a:lnTo>
                  <a:pt x="1434" y="1291"/>
                </a:lnTo>
                <a:lnTo>
                  <a:pt x="1500" y="1417"/>
                </a:lnTo>
                <a:lnTo>
                  <a:pt x="1559" y="1544"/>
                </a:lnTo>
                <a:lnTo>
                  <a:pt x="1614" y="1674"/>
                </a:lnTo>
                <a:lnTo>
                  <a:pt x="1663" y="1807"/>
                </a:lnTo>
                <a:lnTo>
                  <a:pt x="1707" y="1941"/>
                </a:lnTo>
                <a:lnTo>
                  <a:pt x="1748" y="2077"/>
                </a:lnTo>
                <a:lnTo>
                  <a:pt x="1784" y="2216"/>
                </a:lnTo>
                <a:lnTo>
                  <a:pt x="1817" y="2356"/>
                </a:lnTo>
                <a:lnTo>
                  <a:pt x="1846" y="2499"/>
                </a:lnTo>
                <a:lnTo>
                  <a:pt x="1873" y="2642"/>
                </a:lnTo>
                <a:lnTo>
                  <a:pt x="1897" y="2787"/>
                </a:lnTo>
                <a:lnTo>
                  <a:pt x="1918" y="2934"/>
                </a:lnTo>
                <a:lnTo>
                  <a:pt x="1938" y="3081"/>
                </a:lnTo>
                <a:lnTo>
                  <a:pt x="1956" y="3229"/>
                </a:lnTo>
                <a:lnTo>
                  <a:pt x="1973" y="3379"/>
                </a:lnTo>
                <a:lnTo>
                  <a:pt x="1989" y="3529"/>
                </a:lnTo>
                <a:lnTo>
                  <a:pt x="2006" y="3679"/>
                </a:lnTo>
                <a:lnTo>
                  <a:pt x="2021" y="3832"/>
                </a:lnTo>
                <a:lnTo>
                  <a:pt x="2038" y="3983"/>
                </a:lnTo>
                <a:lnTo>
                  <a:pt x="2054" y="4135"/>
                </a:lnTo>
                <a:lnTo>
                  <a:pt x="2072" y="4287"/>
                </a:lnTo>
                <a:lnTo>
                  <a:pt x="2090" y="4439"/>
                </a:lnTo>
                <a:lnTo>
                  <a:pt x="2111" y="4591"/>
                </a:lnTo>
                <a:lnTo>
                  <a:pt x="2133" y="4743"/>
                </a:lnTo>
                <a:lnTo>
                  <a:pt x="2158" y="4894"/>
                </a:lnTo>
                <a:lnTo>
                  <a:pt x="2135" y="3852"/>
                </a:lnTo>
                <a:close/>
              </a:path>
            </a:pathLst>
          </a:custGeom>
          <a:solidFill>
            <a:srgbClr val="8fa4e1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" y="4000680"/>
            <a:ext cx="2490840" cy="1128600"/>
          </a:xfrm>
          <a:custGeom>
            <a:avLst/>
            <a:gdLst/>
            <a:ahLst/>
            <a:rect l="l" t="t" r="r" b="b"/>
            <a:pathLst>
              <a:path w="9738" h="4549">
                <a:moveTo>
                  <a:pt x="9664" y="948"/>
                </a:moveTo>
                <a:lnTo>
                  <a:pt x="9677" y="959"/>
                </a:lnTo>
                <a:lnTo>
                  <a:pt x="9690" y="971"/>
                </a:lnTo>
                <a:lnTo>
                  <a:pt x="9702" y="984"/>
                </a:lnTo>
                <a:lnTo>
                  <a:pt x="9712" y="997"/>
                </a:lnTo>
                <a:lnTo>
                  <a:pt x="9720" y="1011"/>
                </a:lnTo>
                <a:lnTo>
                  <a:pt x="9727" y="1024"/>
                </a:lnTo>
                <a:lnTo>
                  <a:pt x="9732" y="1038"/>
                </a:lnTo>
                <a:lnTo>
                  <a:pt x="9736" y="1054"/>
                </a:lnTo>
                <a:lnTo>
                  <a:pt x="9738" y="1069"/>
                </a:lnTo>
                <a:lnTo>
                  <a:pt x="9738" y="1086"/>
                </a:lnTo>
                <a:lnTo>
                  <a:pt x="9736" y="1102"/>
                </a:lnTo>
                <a:lnTo>
                  <a:pt x="9731" y="1120"/>
                </a:lnTo>
                <a:lnTo>
                  <a:pt x="9725" y="1138"/>
                </a:lnTo>
                <a:lnTo>
                  <a:pt x="9716" y="1158"/>
                </a:lnTo>
                <a:lnTo>
                  <a:pt x="9706" y="1177"/>
                </a:lnTo>
                <a:lnTo>
                  <a:pt x="9692" y="1198"/>
                </a:lnTo>
                <a:lnTo>
                  <a:pt x="9384" y="1704"/>
                </a:lnTo>
                <a:lnTo>
                  <a:pt x="9186" y="1681"/>
                </a:lnTo>
                <a:lnTo>
                  <a:pt x="9387" y="1280"/>
                </a:lnTo>
                <a:lnTo>
                  <a:pt x="9390" y="1274"/>
                </a:lnTo>
                <a:lnTo>
                  <a:pt x="9392" y="1265"/>
                </a:lnTo>
                <a:lnTo>
                  <a:pt x="9392" y="1254"/>
                </a:lnTo>
                <a:lnTo>
                  <a:pt x="9391" y="1243"/>
                </a:lnTo>
                <a:lnTo>
                  <a:pt x="9390" y="1237"/>
                </a:lnTo>
                <a:lnTo>
                  <a:pt x="9388" y="1231"/>
                </a:lnTo>
                <a:lnTo>
                  <a:pt x="9386" y="1226"/>
                </a:lnTo>
                <a:lnTo>
                  <a:pt x="9383" y="1220"/>
                </a:lnTo>
                <a:lnTo>
                  <a:pt x="9380" y="1215"/>
                </a:lnTo>
                <a:lnTo>
                  <a:pt x="9374" y="1210"/>
                </a:lnTo>
                <a:lnTo>
                  <a:pt x="9369" y="1207"/>
                </a:lnTo>
                <a:lnTo>
                  <a:pt x="9364" y="1204"/>
                </a:lnTo>
                <a:lnTo>
                  <a:pt x="9148" y="1120"/>
                </a:lnTo>
                <a:lnTo>
                  <a:pt x="8930" y="1057"/>
                </a:lnTo>
                <a:lnTo>
                  <a:pt x="8710" y="1013"/>
                </a:lnTo>
                <a:lnTo>
                  <a:pt x="8489" y="988"/>
                </a:lnTo>
                <a:lnTo>
                  <a:pt x="8268" y="981"/>
                </a:lnTo>
                <a:lnTo>
                  <a:pt x="8046" y="990"/>
                </a:lnTo>
                <a:lnTo>
                  <a:pt x="7822" y="1017"/>
                </a:lnTo>
                <a:lnTo>
                  <a:pt x="7600" y="1058"/>
                </a:lnTo>
                <a:lnTo>
                  <a:pt x="7379" y="1113"/>
                </a:lnTo>
                <a:lnTo>
                  <a:pt x="7158" y="1183"/>
                </a:lnTo>
                <a:lnTo>
                  <a:pt x="6939" y="1266"/>
                </a:lnTo>
                <a:lnTo>
                  <a:pt x="6721" y="1361"/>
                </a:lnTo>
                <a:lnTo>
                  <a:pt x="6506" y="1467"/>
                </a:lnTo>
                <a:lnTo>
                  <a:pt x="6292" y="1583"/>
                </a:lnTo>
                <a:lnTo>
                  <a:pt x="6082" y="1710"/>
                </a:lnTo>
                <a:lnTo>
                  <a:pt x="5874" y="1845"/>
                </a:lnTo>
                <a:lnTo>
                  <a:pt x="5670" y="1989"/>
                </a:lnTo>
                <a:lnTo>
                  <a:pt x="5471" y="2139"/>
                </a:lnTo>
                <a:lnTo>
                  <a:pt x="5275" y="2296"/>
                </a:lnTo>
                <a:lnTo>
                  <a:pt x="5084" y="2459"/>
                </a:lnTo>
                <a:lnTo>
                  <a:pt x="4898" y="2625"/>
                </a:lnTo>
                <a:lnTo>
                  <a:pt x="4717" y="2797"/>
                </a:lnTo>
                <a:lnTo>
                  <a:pt x="4542" y="2971"/>
                </a:lnTo>
                <a:lnTo>
                  <a:pt x="4373" y="3148"/>
                </a:lnTo>
                <a:lnTo>
                  <a:pt x="4211" y="3327"/>
                </a:lnTo>
                <a:lnTo>
                  <a:pt x="4056" y="3506"/>
                </a:lnTo>
                <a:lnTo>
                  <a:pt x="3907" y="3685"/>
                </a:lnTo>
                <a:lnTo>
                  <a:pt x="3766" y="3863"/>
                </a:lnTo>
                <a:lnTo>
                  <a:pt x="3634" y="4038"/>
                </a:lnTo>
                <a:lnTo>
                  <a:pt x="3509" y="4212"/>
                </a:lnTo>
                <a:lnTo>
                  <a:pt x="3393" y="4383"/>
                </a:lnTo>
                <a:lnTo>
                  <a:pt x="3286" y="4549"/>
                </a:lnTo>
                <a:lnTo>
                  <a:pt x="3036" y="4409"/>
                </a:lnTo>
                <a:lnTo>
                  <a:pt x="2933" y="4107"/>
                </a:lnTo>
                <a:lnTo>
                  <a:pt x="2831" y="3806"/>
                </a:lnTo>
                <a:lnTo>
                  <a:pt x="2779" y="3657"/>
                </a:lnTo>
                <a:lnTo>
                  <a:pt x="2728" y="3507"/>
                </a:lnTo>
                <a:lnTo>
                  <a:pt x="2674" y="3359"/>
                </a:lnTo>
                <a:lnTo>
                  <a:pt x="2620" y="3211"/>
                </a:lnTo>
                <a:lnTo>
                  <a:pt x="2565" y="3064"/>
                </a:lnTo>
                <a:lnTo>
                  <a:pt x="2508" y="2919"/>
                </a:lnTo>
                <a:lnTo>
                  <a:pt x="2450" y="2775"/>
                </a:lnTo>
                <a:lnTo>
                  <a:pt x="2389" y="2635"/>
                </a:lnTo>
                <a:lnTo>
                  <a:pt x="2326" y="2495"/>
                </a:lnTo>
                <a:lnTo>
                  <a:pt x="2263" y="2357"/>
                </a:lnTo>
                <a:lnTo>
                  <a:pt x="2195" y="2221"/>
                </a:lnTo>
                <a:lnTo>
                  <a:pt x="2125" y="2088"/>
                </a:lnTo>
                <a:lnTo>
                  <a:pt x="2052" y="1959"/>
                </a:lnTo>
                <a:lnTo>
                  <a:pt x="1976" y="1831"/>
                </a:lnTo>
                <a:lnTo>
                  <a:pt x="1895" y="1708"/>
                </a:lnTo>
                <a:lnTo>
                  <a:pt x="1812" y="1587"/>
                </a:lnTo>
                <a:lnTo>
                  <a:pt x="1725" y="1469"/>
                </a:lnTo>
                <a:lnTo>
                  <a:pt x="1633" y="1356"/>
                </a:lnTo>
                <a:lnTo>
                  <a:pt x="1537" y="1246"/>
                </a:lnTo>
                <a:lnTo>
                  <a:pt x="1437" y="1140"/>
                </a:lnTo>
                <a:lnTo>
                  <a:pt x="1332" y="1039"/>
                </a:lnTo>
                <a:lnTo>
                  <a:pt x="1222" y="942"/>
                </a:lnTo>
                <a:lnTo>
                  <a:pt x="1106" y="849"/>
                </a:lnTo>
                <a:lnTo>
                  <a:pt x="985" y="762"/>
                </a:lnTo>
                <a:lnTo>
                  <a:pt x="859" y="679"/>
                </a:lnTo>
                <a:lnTo>
                  <a:pt x="726" y="601"/>
                </a:lnTo>
                <a:lnTo>
                  <a:pt x="588" y="529"/>
                </a:lnTo>
                <a:lnTo>
                  <a:pt x="443" y="462"/>
                </a:lnTo>
                <a:lnTo>
                  <a:pt x="435" y="459"/>
                </a:lnTo>
                <a:lnTo>
                  <a:pt x="427" y="457"/>
                </a:lnTo>
                <a:lnTo>
                  <a:pt x="420" y="455"/>
                </a:lnTo>
                <a:lnTo>
                  <a:pt x="414" y="454"/>
                </a:lnTo>
                <a:lnTo>
                  <a:pt x="408" y="454"/>
                </a:lnTo>
                <a:lnTo>
                  <a:pt x="404" y="454"/>
                </a:lnTo>
                <a:lnTo>
                  <a:pt x="400" y="455"/>
                </a:lnTo>
                <a:lnTo>
                  <a:pt x="396" y="457"/>
                </a:lnTo>
                <a:lnTo>
                  <a:pt x="390" y="460"/>
                </a:lnTo>
                <a:lnTo>
                  <a:pt x="385" y="465"/>
                </a:lnTo>
                <a:lnTo>
                  <a:pt x="381" y="472"/>
                </a:lnTo>
                <a:lnTo>
                  <a:pt x="378" y="477"/>
                </a:lnTo>
                <a:lnTo>
                  <a:pt x="168" y="919"/>
                </a:lnTo>
                <a:lnTo>
                  <a:pt x="0" y="692"/>
                </a:lnTo>
                <a:lnTo>
                  <a:pt x="168" y="214"/>
                </a:lnTo>
                <a:lnTo>
                  <a:pt x="172" y="198"/>
                </a:lnTo>
                <a:lnTo>
                  <a:pt x="179" y="182"/>
                </a:lnTo>
                <a:lnTo>
                  <a:pt x="184" y="166"/>
                </a:lnTo>
                <a:lnTo>
                  <a:pt x="190" y="152"/>
                </a:lnTo>
                <a:lnTo>
                  <a:pt x="196" y="137"/>
                </a:lnTo>
                <a:lnTo>
                  <a:pt x="203" y="124"/>
                </a:lnTo>
                <a:lnTo>
                  <a:pt x="210" y="111"/>
                </a:lnTo>
                <a:lnTo>
                  <a:pt x="218" y="99"/>
                </a:lnTo>
                <a:lnTo>
                  <a:pt x="225" y="88"/>
                </a:lnTo>
                <a:lnTo>
                  <a:pt x="233" y="77"/>
                </a:lnTo>
                <a:lnTo>
                  <a:pt x="241" y="67"/>
                </a:lnTo>
                <a:lnTo>
                  <a:pt x="251" y="58"/>
                </a:lnTo>
                <a:lnTo>
                  <a:pt x="260" y="49"/>
                </a:lnTo>
                <a:lnTo>
                  <a:pt x="269" y="41"/>
                </a:lnTo>
                <a:lnTo>
                  <a:pt x="279" y="33"/>
                </a:lnTo>
                <a:lnTo>
                  <a:pt x="290" y="27"/>
                </a:lnTo>
                <a:lnTo>
                  <a:pt x="301" y="21"/>
                </a:lnTo>
                <a:lnTo>
                  <a:pt x="312" y="16"/>
                </a:lnTo>
                <a:lnTo>
                  <a:pt x="324" y="12"/>
                </a:lnTo>
                <a:lnTo>
                  <a:pt x="335" y="8"/>
                </a:lnTo>
                <a:lnTo>
                  <a:pt x="347" y="5"/>
                </a:lnTo>
                <a:lnTo>
                  <a:pt x="360" y="3"/>
                </a:lnTo>
                <a:lnTo>
                  <a:pt x="373" y="2"/>
                </a:lnTo>
                <a:lnTo>
                  <a:pt x="386" y="1"/>
                </a:lnTo>
                <a:lnTo>
                  <a:pt x="400" y="0"/>
                </a:lnTo>
                <a:lnTo>
                  <a:pt x="414" y="1"/>
                </a:lnTo>
                <a:lnTo>
                  <a:pt x="429" y="2"/>
                </a:lnTo>
                <a:lnTo>
                  <a:pt x="443" y="3"/>
                </a:lnTo>
                <a:lnTo>
                  <a:pt x="458" y="6"/>
                </a:lnTo>
                <a:lnTo>
                  <a:pt x="474" y="9"/>
                </a:lnTo>
                <a:lnTo>
                  <a:pt x="489" y="13"/>
                </a:lnTo>
                <a:lnTo>
                  <a:pt x="506" y="17"/>
                </a:lnTo>
                <a:lnTo>
                  <a:pt x="634" y="84"/>
                </a:lnTo>
                <a:lnTo>
                  <a:pt x="760" y="158"/>
                </a:lnTo>
                <a:lnTo>
                  <a:pt x="882" y="239"/>
                </a:lnTo>
                <a:lnTo>
                  <a:pt x="1003" y="327"/>
                </a:lnTo>
                <a:lnTo>
                  <a:pt x="1120" y="420"/>
                </a:lnTo>
                <a:lnTo>
                  <a:pt x="1235" y="520"/>
                </a:lnTo>
                <a:lnTo>
                  <a:pt x="1347" y="624"/>
                </a:lnTo>
                <a:lnTo>
                  <a:pt x="1456" y="734"/>
                </a:lnTo>
                <a:lnTo>
                  <a:pt x="1562" y="849"/>
                </a:lnTo>
                <a:lnTo>
                  <a:pt x="1666" y="967"/>
                </a:lnTo>
                <a:lnTo>
                  <a:pt x="1767" y="1091"/>
                </a:lnTo>
                <a:lnTo>
                  <a:pt x="1865" y="1217"/>
                </a:lnTo>
                <a:lnTo>
                  <a:pt x="1960" y="1348"/>
                </a:lnTo>
                <a:lnTo>
                  <a:pt x="2053" y="1481"/>
                </a:lnTo>
                <a:lnTo>
                  <a:pt x="2142" y="1616"/>
                </a:lnTo>
                <a:lnTo>
                  <a:pt x="2229" y="1755"/>
                </a:lnTo>
                <a:lnTo>
                  <a:pt x="2313" y="1895"/>
                </a:lnTo>
                <a:lnTo>
                  <a:pt x="2394" y="2037"/>
                </a:lnTo>
                <a:lnTo>
                  <a:pt x="2472" y="2181"/>
                </a:lnTo>
                <a:lnTo>
                  <a:pt x="2549" y="2325"/>
                </a:lnTo>
                <a:lnTo>
                  <a:pt x="2621" y="2470"/>
                </a:lnTo>
                <a:lnTo>
                  <a:pt x="2691" y="2616"/>
                </a:lnTo>
                <a:lnTo>
                  <a:pt x="2757" y="2761"/>
                </a:lnTo>
                <a:lnTo>
                  <a:pt x="2822" y="2906"/>
                </a:lnTo>
                <a:lnTo>
                  <a:pt x="2884" y="3050"/>
                </a:lnTo>
                <a:lnTo>
                  <a:pt x="2943" y="3194"/>
                </a:lnTo>
                <a:lnTo>
                  <a:pt x="2998" y="3336"/>
                </a:lnTo>
                <a:lnTo>
                  <a:pt x="3051" y="3476"/>
                </a:lnTo>
                <a:lnTo>
                  <a:pt x="3101" y="3615"/>
                </a:lnTo>
                <a:lnTo>
                  <a:pt x="3148" y="3750"/>
                </a:lnTo>
                <a:lnTo>
                  <a:pt x="3193" y="3883"/>
                </a:lnTo>
                <a:lnTo>
                  <a:pt x="3235" y="4014"/>
                </a:lnTo>
                <a:lnTo>
                  <a:pt x="3464" y="3739"/>
                </a:lnTo>
                <a:lnTo>
                  <a:pt x="3719" y="3434"/>
                </a:lnTo>
                <a:lnTo>
                  <a:pt x="3856" y="3273"/>
                </a:lnTo>
                <a:lnTo>
                  <a:pt x="3999" y="3108"/>
                </a:lnTo>
                <a:lnTo>
                  <a:pt x="4149" y="2939"/>
                </a:lnTo>
                <a:lnTo>
                  <a:pt x="4304" y="2768"/>
                </a:lnTo>
                <a:lnTo>
                  <a:pt x="4465" y="2598"/>
                </a:lnTo>
                <a:lnTo>
                  <a:pt x="4633" y="2426"/>
                </a:lnTo>
                <a:lnTo>
                  <a:pt x="4805" y="2256"/>
                </a:lnTo>
                <a:lnTo>
                  <a:pt x="4984" y="2088"/>
                </a:lnTo>
                <a:lnTo>
                  <a:pt x="5168" y="1925"/>
                </a:lnTo>
                <a:lnTo>
                  <a:pt x="5359" y="1765"/>
                </a:lnTo>
                <a:lnTo>
                  <a:pt x="5554" y="1611"/>
                </a:lnTo>
                <a:lnTo>
                  <a:pt x="5755" y="1465"/>
                </a:lnTo>
                <a:lnTo>
                  <a:pt x="5962" y="1325"/>
                </a:lnTo>
                <a:lnTo>
                  <a:pt x="6173" y="1196"/>
                </a:lnTo>
                <a:lnTo>
                  <a:pt x="6390" y="1076"/>
                </a:lnTo>
                <a:lnTo>
                  <a:pt x="6613" y="967"/>
                </a:lnTo>
                <a:lnTo>
                  <a:pt x="6841" y="872"/>
                </a:lnTo>
                <a:lnTo>
                  <a:pt x="7073" y="789"/>
                </a:lnTo>
                <a:lnTo>
                  <a:pt x="7311" y="722"/>
                </a:lnTo>
                <a:lnTo>
                  <a:pt x="7553" y="669"/>
                </a:lnTo>
                <a:lnTo>
                  <a:pt x="7801" y="633"/>
                </a:lnTo>
                <a:lnTo>
                  <a:pt x="8053" y="616"/>
                </a:lnTo>
                <a:lnTo>
                  <a:pt x="8310" y="617"/>
                </a:lnTo>
                <a:lnTo>
                  <a:pt x="8571" y="638"/>
                </a:lnTo>
                <a:lnTo>
                  <a:pt x="8838" y="681"/>
                </a:lnTo>
                <a:lnTo>
                  <a:pt x="9108" y="746"/>
                </a:lnTo>
                <a:lnTo>
                  <a:pt x="9384" y="835"/>
                </a:lnTo>
                <a:lnTo>
                  <a:pt x="9664" y="948"/>
                </a:lnTo>
                <a:close/>
              </a:path>
            </a:pathLst>
          </a:custGeom>
          <a:solidFill>
            <a:srgbClr val="8fa4e1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6720" y="4383000"/>
            <a:ext cx="1461960" cy="474840"/>
          </a:xfrm>
          <a:custGeom>
            <a:avLst/>
            <a:gdLst/>
            <a:ahLst/>
            <a:rect l="l" t="t" r="r" b="b"/>
            <a:pathLst>
              <a:path w="5726" h="1900">
                <a:moveTo>
                  <a:pt x="0" y="1900"/>
                </a:moveTo>
                <a:lnTo>
                  <a:pt x="169" y="1737"/>
                </a:lnTo>
                <a:lnTo>
                  <a:pt x="335" y="1581"/>
                </a:lnTo>
                <a:lnTo>
                  <a:pt x="496" y="1433"/>
                </a:lnTo>
                <a:lnTo>
                  <a:pt x="655" y="1293"/>
                </a:lnTo>
                <a:lnTo>
                  <a:pt x="811" y="1162"/>
                </a:lnTo>
                <a:lnTo>
                  <a:pt x="965" y="1037"/>
                </a:lnTo>
                <a:lnTo>
                  <a:pt x="1117" y="921"/>
                </a:lnTo>
                <a:lnTo>
                  <a:pt x="1269" y="811"/>
                </a:lnTo>
                <a:lnTo>
                  <a:pt x="1419" y="709"/>
                </a:lnTo>
                <a:lnTo>
                  <a:pt x="1568" y="614"/>
                </a:lnTo>
                <a:lnTo>
                  <a:pt x="1717" y="527"/>
                </a:lnTo>
                <a:lnTo>
                  <a:pt x="1866" y="447"/>
                </a:lnTo>
                <a:lnTo>
                  <a:pt x="2015" y="373"/>
                </a:lnTo>
                <a:lnTo>
                  <a:pt x="2166" y="307"/>
                </a:lnTo>
                <a:lnTo>
                  <a:pt x="2317" y="246"/>
                </a:lnTo>
                <a:lnTo>
                  <a:pt x="2470" y="194"/>
                </a:lnTo>
                <a:lnTo>
                  <a:pt x="2624" y="148"/>
                </a:lnTo>
                <a:lnTo>
                  <a:pt x="2782" y="107"/>
                </a:lnTo>
                <a:lnTo>
                  <a:pt x="2941" y="75"/>
                </a:lnTo>
                <a:lnTo>
                  <a:pt x="3104" y="47"/>
                </a:lnTo>
                <a:lnTo>
                  <a:pt x="3269" y="26"/>
                </a:lnTo>
                <a:lnTo>
                  <a:pt x="3439" y="12"/>
                </a:lnTo>
                <a:lnTo>
                  <a:pt x="3613" y="4"/>
                </a:lnTo>
                <a:lnTo>
                  <a:pt x="3792" y="0"/>
                </a:lnTo>
                <a:lnTo>
                  <a:pt x="3975" y="4"/>
                </a:lnTo>
                <a:lnTo>
                  <a:pt x="4163" y="13"/>
                </a:lnTo>
                <a:lnTo>
                  <a:pt x="4357" y="28"/>
                </a:lnTo>
                <a:lnTo>
                  <a:pt x="4556" y="48"/>
                </a:lnTo>
                <a:lnTo>
                  <a:pt x="4763" y="75"/>
                </a:lnTo>
                <a:lnTo>
                  <a:pt x="4976" y="105"/>
                </a:lnTo>
                <a:lnTo>
                  <a:pt x="5196" y="142"/>
                </a:lnTo>
                <a:lnTo>
                  <a:pt x="5423" y="185"/>
                </a:lnTo>
                <a:lnTo>
                  <a:pt x="5470" y="198"/>
                </a:lnTo>
                <a:lnTo>
                  <a:pt x="5513" y="212"/>
                </a:lnTo>
                <a:lnTo>
                  <a:pt x="5533" y="221"/>
                </a:lnTo>
                <a:lnTo>
                  <a:pt x="5553" y="228"/>
                </a:lnTo>
                <a:lnTo>
                  <a:pt x="5570" y="236"/>
                </a:lnTo>
                <a:lnTo>
                  <a:pt x="5588" y="244"/>
                </a:lnTo>
                <a:lnTo>
                  <a:pt x="5604" y="253"/>
                </a:lnTo>
                <a:lnTo>
                  <a:pt x="5620" y="262"/>
                </a:lnTo>
                <a:lnTo>
                  <a:pt x="5634" y="271"/>
                </a:lnTo>
                <a:lnTo>
                  <a:pt x="5647" y="280"/>
                </a:lnTo>
                <a:lnTo>
                  <a:pt x="5660" y="291"/>
                </a:lnTo>
                <a:lnTo>
                  <a:pt x="5671" y="300"/>
                </a:lnTo>
                <a:lnTo>
                  <a:pt x="5681" y="310"/>
                </a:lnTo>
                <a:lnTo>
                  <a:pt x="5691" y="320"/>
                </a:lnTo>
                <a:lnTo>
                  <a:pt x="5699" y="332"/>
                </a:lnTo>
                <a:lnTo>
                  <a:pt x="5706" y="343"/>
                </a:lnTo>
                <a:lnTo>
                  <a:pt x="5711" y="354"/>
                </a:lnTo>
                <a:lnTo>
                  <a:pt x="5716" y="367"/>
                </a:lnTo>
                <a:lnTo>
                  <a:pt x="5721" y="379"/>
                </a:lnTo>
                <a:lnTo>
                  <a:pt x="5724" y="391"/>
                </a:lnTo>
                <a:lnTo>
                  <a:pt x="5726" y="405"/>
                </a:lnTo>
                <a:lnTo>
                  <a:pt x="5726" y="417"/>
                </a:lnTo>
                <a:lnTo>
                  <a:pt x="5726" y="431"/>
                </a:lnTo>
                <a:lnTo>
                  <a:pt x="5725" y="445"/>
                </a:lnTo>
                <a:lnTo>
                  <a:pt x="5722" y="460"/>
                </a:lnTo>
                <a:lnTo>
                  <a:pt x="5717" y="475"/>
                </a:lnTo>
                <a:lnTo>
                  <a:pt x="5713" y="490"/>
                </a:lnTo>
                <a:lnTo>
                  <a:pt x="5707" y="505"/>
                </a:lnTo>
                <a:lnTo>
                  <a:pt x="5700" y="522"/>
                </a:lnTo>
                <a:lnTo>
                  <a:pt x="5692" y="538"/>
                </a:lnTo>
                <a:lnTo>
                  <a:pt x="5033" y="1679"/>
                </a:lnTo>
                <a:lnTo>
                  <a:pt x="4828" y="1580"/>
                </a:lnTo>
                <a:lnTo>
                  <a:pt x="5213" y="630"/>
                </a:lnTo>
                <a:lnTo>
                  <a:pt x="5219" y="618"/>
                </a:lnTo>
                <a:lnTo>
                  <a:pt x="5222" y="606"/>
                </a:lnTo>
                <a:lnTo>
                  <a:pt x="5222" y="594"/>
                </a:lnTo>
                <a:lnTo>
                  <a:pt x="5221" y="583"/>
                </a:lnTo>
                <a:lnTo>
                  <a:pt x="5218" y="571"/>
                </a:lnTo>
                <a:lnTo>
                  <a:pt x="5213" y="560"/>
                </a:lnTo>
                <a:lnTo>
                  <a:pt x="5207" y="550"/>
                </a:lnTo>
                <a:lnTo>
                  <a:pt x="5199" y="539"/>
                </a:lnTo>
                <a:lnTo>
                  <a:pt x="5190" y="530"/>
                </a:lnTo>
                <a:lnTo>
                  <a:pt x="5179" y="521"/>
                </a:lnTo>
                <a:lnTo>
                  <a:pt x="5167" y="513"/>
                </a:lnTo>
                <a:lnTo>
                  <a:pt x="5154" y="505"/>
                </a:lnTo>
                <a:lnTo>
                  <a:pt x="5140" y="498"/>
                </a:lnTo>
                <a:lnTo>
                  <a:pt x="5125" y="492"/>
                </a:lnTo>
                <a:lnTo>
                  <a:pt x="5110" y="487"/>
                </a:lnTo>
                <a:lnTo>
                  <a:pt x="5093" y="483"/>
                </a:lnTo>
                <a:lnTo>
                  <a:pt x="4882" y="439"/>
                </a:lnTo>
                <a:lnTo>
                  <a:pt x="4680" y="402"/>
                </a:lnTo>
                <a:lnTo>
                  <a:pt x="4482" y="372"/>
                </a:lnTo>
                <a:lnTo>
                  <a:pt x="4292" y="348"/>
                </a:lnTo>
                <a:lnTo>
                  <a:pt x="4108" y="332"/>
                </a:lnTo>
                <a:lnTo>
                  <a:pt x="3929" y="321"/>
                </a:lnTo>
                <a:lnTo>
                  <a:pt x="3755" y="317"/>
                </a:lnTo>
                <a:lnTo>
                  <a:pt x="3586" y="320"/>
                </a:lnTo>
                <a:lnTo>
                  <a:pt x="3422" y="329"/>
                </a:lnTo>
                <a:lnTo>
                  <a:pt x="3261" y="343"/>
                </a:lnTo>
                <a:lnTo>
                  <a:pt x="3104" y="364"/>
                </a:lnTo>
                <a:lnTo>
                  <a:pt x="2950" y="389"/>
                </a:lnTo>
                <a:lnTo>
                  <a:pt x="2800" y="421"/>
                </a:lnTo>
                <a:lnTo>
                  <a:pt x="2652" y="458"/>
                </a:lnTo>
                <a:lnTo>
                  <a:pt x="2506" y="501"/>
                </a:lnTo>
                <a:lnTo>
                  <a:pt x="2362" y="549"/>
                </a:lnTo>
                <a:lnTo>
                  <a:pt x="2220" y="601"/>
                </a:lnTo>
                <a:lnTo>
                  <a:pt x="2078" y="659"/>
                </a:lnTo>
                <a:lnTo>
                  <a:pt x="1937" y="720"/>
                </a:lnTo>
                <a:lnTo>
                  <a:pt x="1797" y="787"/>
                </a:lnTo>
                <a:lnTo>
                  <a:pt x="1656" y="859"/>
                </a:lnTo>
                <a:lnTo>
                  <a:pt x="1516" y="934"/>
                </a:lnTo>
                <a:lnTo>
                  <a:pt x="1374" y="1015"/>
                </a:lnTo>
                <a:lnTo>
                  <a:pt x="1232" y="1099"/>
                </a:lnTo>
                <a:lnTo>
                  <a:pt x="1087" y="1186"/>
                </a:lnTo>
                <a:lnTo>
                  <a:pt x="941" y="1278"/>
                </a:lnTo>
                <a:lnTo>
                  <a:pt x="791" y="1374"/>
                </a:lnTo>
                <a:lnTo>
                  <a:pt x="640" y="1472"/>
                </a:lnTo>
                <a:lnTo>
                  <a:pt x="327" y="1680"/>
                </a:lnTo>
                <a:lnTo>
                  <a:pt x="0" y="1900"/>
                </a:lnTo>
                <a:close/>
              </a:path>
            </a:pathLst>
          </a:custGeom>
          <a:solidFill>
            <a:srgbClr val="8fa4e1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4089240"/>
            <a:ext cx="769680" cy="466920"/>
          </a:xfrm>
          <a:custGeom>
            <a:avLst/>
            <a:gdLst/>
            <a:ahLst/>
            <a:rect l="l" t="t" r="r" b="b"/>
            <a:pathLst>
              <a:path w="3009" h="1880">
                <a:moveTo>
                  <a:pt x="3009" y="1880"/>
                </a:moveTo>
                <a:lnTo>
                  <a:pt x="2900" y="1685"/>
                </a:lnTo>
                <a:lnTo>
                  <a:pt x="2798" y="1503"/>
                </a:lnTo>
                <a:lnTo>
                  <a:pt x="2748" y="1417"/>
                </a:lnTo>
                <a:lnTo>
                  <a:pt x="2699" y="1332"/>
                </a:lnTo>
                <a:lnTo>
                  <a:pt x="2652" y="1251"/>
                </a:lnTo>
                <a:lnTo>
                  <a:pt x="2604" y="1172"/>
                </a:lnTo>
                <a:lnTo>
                  <a:pt x="2557" y="1096"/>
                </a:lnTo>
                <a:lnTo>
                  <a:pt x="2510" y="1023"/>
                </a:lnTo>
                <a:lnTo>
                  <a:pt x="2462" y="952"/>
                </a:lnTo>
                <a:lnTo>
                  <a:pt x="2414" y="884"/>
                </a:lnTo>
                <a:lnTo>
                  <a:pt x="2366" y="818"/>
                </a:lnTo>
                <a:lnTo>
                  <a:pt x="2317" y="754"/>
                </a:lnTo>
                <a:lnTo>
                  <a:pt x="2267" y="694"/>
                </a:lnTo>
                <a:lnTo>
                  <a:pt x="2216" y="636"/>
                </a:lnTo>
                <a:lnTo>
                  <a:pt x="2163" y="580"/>
                </a:lnTo>
                <a:lnTo>
                  <a:pt x="2109" y="526"/>
                </a:lnTo>
                <a:lnTo>
                  <a:pt x="2053" y="476"/>
                </a:lnTo>
                <a:lnTo>
                  <a:pt x="1995" y="426"/>
                </a:lnTo>
                <a:lnTo>
                  <a:pt x="1935" y="380"/>
                </a:lnTo>
                <a:lnTo>
                  <a:pt x="1872" y="336"/>
                </a:lnTo>
                <a:lnTo>
                  <a:pt x="1807" y="294"/>
                </a:lnTo>
                <a:lnTo>
                  <a:pt x="1739" y="254"/>
                </a:lnTo>
                <a:lnTo>
                  <a:pt x="1668" y="217"/>
                </a:lnTo>
                <a:lnTo>
                  <a:pt x="1593" y="181"/>
                </a:lnTo>
                <a:lnTo>
                  <a:pt x="1516" y="148"/>
                </a:lnTo>
                <a:lnTo>
                  <a:pt x="1435" y="117"/>
                </a:lnTo>
                <a:lnTo>
                  <a:pt x="1350" y="87"/>
                </a:lnTo>
                <a:lnTo>
                  <a:pt x="1260" y="60"/>
                </a:lnTo>
                <a:lnTo>
                  <a:pt x="1166" y="34"/>
                </a:lnTo>
                <a:lnTo>
                  <a:pt x="1069" y="12"/>
                </a:lnTo>
                <a:lnTo>
                  <a:pt x="1049" y="8"/>
                </a:lnTo>
                <a:lnTo>
                  <a:pt x="1030" y="5"/>
                </a:lnTo>
                <a:lnTo>
                  <a:pt x="1010" y="3"/>
                </a:lnTo>
                <a:lnTo>
                  <a:pt x="991" y="1"/>
                </a:lnTo>
                <a:lnTo>
                  <a:pt x="971" y="0"/>
                </a:lnTo>
                <a:lnTo>
                  <a:pt x="951" y="0"/>
                </a:lnTo>
                <a:lnTo>
                  <a:pt x="933" y="0"/>
                </a:lnTo>
                <a:lnTo>
                  <a:pt x="913" y="1"/>
                </a:lnTo>
                <a:lnTo>
                  <a:pt x="895" y="2"/>
                </a:lnTo>
                <a:lnTo>
                  <a:pt x="875" y="4"/>
                </a:lnTo>
                <a:lnTo>
                  <a:pt x="857" y="6"/>
                </a:lnTo>
                <a:lnTo>
                  <a:pt x="839" y="9"/>
                </a:lnTo>
                <a:lnTo>
                  <a:pt x="821" y="13"/>
                </a:lnTo>
                <a:lnTo>
                  <a:pt x="803" y="17"/>
                </a:lnTo>
                <a:lnTo>
                  <a:pt x="786" y="21"/>
                </a:lnTo>
                <a:lnTo>
                  <a:pt x="768" y="26"/>
                </a:lnTo>
                <a:lnTo>
                  <a:pt x="752" y="31"/>
                </a:lnTo>
                <a:lnTo>
                  <a:pt x="735" y="38"/>
                </a:lnTo>
                <a:lnTo>
                  <a:pt x="720" y="44"/>
                </a:lnTo>
                <a:lnTo>
                  <a:pt x="705" y="51"/>
                </a:lnTo>
                <a:lnTo>
                  <a:pt x="689" y="58"/>
                </a:lnTo>
                <a:lnTo>
                  <a:pt x="675" y="66"/>
                </a:lnTo>
                <a:lnTo>
                  <a:pt x="660" y="74"/>
                </a:lnTo>
                <a:lnTo>
                  <a:pt x="647" y="83"/>
                </a:lnTo>
                <a:lnTo>
                  <a:pt x="634" y="91"/>
                </a:lnTo>
                <a:lnTo>
                  <a:pt x="621" y="100"/>
                </a:lnTo>
                <a:lnTo>
                  <a:pt x="609" y="111"/>
                </a:lnTo>
                <a:lnTo>
                  <a:pt x="598" y="120"/>
                </a:lnTo>
                <a:lnTo>
                  <a:pt x="587" y="130"/>
                </a:lnTo>
                <a:lnTo>
                  <a:pt x="577" y="141"/>
                </a:lnTo>
                <a:lnTo>
                  <a:pt x="568" y="152"/>
                </a:lnTo>
                <a:lnTo>
                  <a:pt x="558" y="163"/>
                </a:lnTo>
                <a:lnTo>
                  <a:pt x="0" y="896"/>
                </a:lnTo>
                <a:lnTo>
                  <a:pt x="309" y="978"/>
                </a:lnTo>
                <a:lnTo>
                  <a:pt x="477" y="669"/>
                </a:lnTo>
                <a:lnTo>
                  <a:pt x="484" y="659"/>
                </a:lnTo>
                <a:lnTo>
                  <a:pt x="495" y="651"/>
                </a:lnTo>
                <a:lnTo>
                  <a:pt x="507" y="644"/>
                </a:lnTo>
                <a:lnTo>
                  <a:pt x="521" y="639"/>
                </a:lnTo>
                <a:lnTo>
                  <a:pt x="539" y="637"/>
                </a:lnTo>
                <a:lnTo>
                  <a:pt x="557" y="636"/>
                </a:lnTo>
                <a:lnTo>
                  <a:pt x="579" y="637"/>
                </a:lnTo>
                <a:lnTo>
                  <a:pt x="602" y="639"/>
                </a:lnTo>
                <a:lnTo>
                  <a:pt x="626" y="644"/>
                </a:lnTo>
                <a:lnTo>
                  <a:pt x="653" y="650"/>
                </a:lnTo>
                <a:lnTo>
                  <a:pt x="680" y="657"/>
                </a:lnTo>
                <a:lnTo>
                  <a:pt x="709" y="666"/>
                </a:lnTo>
                <a:lnTo>
                  <a:pt x="740" y="676"/>
                </a:lnTo>
                <a:lnTo>
                  <a:pt x="770" y="688"/>
                </a:lnTo>
                <a:lnTo>
                  <a:pt x="802" y="700"/>
                </a:lnTo>
                <a:lnTo>
                  <a:pt x="834" y="713"/>
                </a:lnTo>
                <a:lnTo>
                  <a:pt x="868" y="729"/>
                </a:lnTo>
                <a:lnTo>
                  <a:pt x="901" y="744"/>
                </a:lnTo>
                <a:lnTo>
                  <a:pt x="935" y="761"/>
                </a:lnTo>
                <a:lnTo>
                  <a:pt x="970" y="779"/>
                </a:lnTo>
                <a:lnTo>
                  <a:pt x="1004" y="798"/>
                </a:lnTo>
                <a:lnTo>
                  <a:pt x="1038" y="816"/>
                </a:lnTo>
                <a:lnTo>
                  <a:pt x="1072" y="837"/>
                </a:lnTo>
                <a:lnTo>
                  <a:pt x="1106" y="857"/>
                </a:lnTo>
                <a:lnTo>
                  <a:pt x="1139" y="878"/>
                </a:lnTo>
                <a:lnTo>
                  <a:pt x="1171" y="899"/>
                </a:lnTo>
                <a:lnTo>
                  <a:pt x="1202" y="922"/>
                </a:lnTo>
                <a:lnTo>
                  <a:pt x="1233" y="944"/>
                </a:lnTo>
                <a:lnTo>
                  <a:pt x="1263" y="966"/>
                </a:lnTo>
                <a:lnTo>
                  <a:pt x="1292" y="990"/>
                </a:lnTo>
                <a:lnTo>
                  <a:pt x="1319" y="1013"/>
                </a:lnTo>
                <a:lnTo>
                  <a:pt x="1344" y="1036"/>
                </a:lnTo>
                <a:lnTo>
                  <a:pt x="1326" y="999"/>
                </a:lnTo>
                <a:lnTo>
                  <a:pt x="1305" y="962"/>
                </a:lnTo>
                <a:lnTo>
                  <a:pt x="1284" y="926"/>
                </a:lnTo>
                <a:lnTo>
                  <a:pt x="1260" y="891"/>
                </a:lnTo>
                <a:lnTo>
                  <a:pt x="1235" y="856"/>
                </a:lnTo>
                <a:lnTo>
                  <a:pt x="1208" y="822"/>
                </a:lnTo>
                <a:lnTo>
                  <a:pt x="1179" y="789"/>
                </a:lnTo>
                <a:lnTo>
                  <a:pt x="1148" y="758"/>
                </a:lnTo>
                <a:lnTo>
                  <a:pt x="1131" y="741"/>
                </a:lnTo>
                <a:lnTo>
                  <a:pt x="1115" y="726"/>
                </a:lnTo>
                <a:lnTo>
                  <a:pt x="1097" y="710"/>
                </a:lnTo>
                <a:lnTo>
                  <a:pt x="1080" y="695"/>
                </a:lnTo>
                <a:lnTo>
                  <a:pt x="1060" y="679"/>
                </a:lnTo>
                <a:lnTo>
                  <a:pt x="1042" y="665"/>
                </a:lnTo>
                <a:lnTo>
                  <a:pt x="1022" y="651"/>
                </a:lnTo>
                <a:lnTo>
                  <a:pt x="1002" y="636"/>
                </a:lnTo>
                <a:lnTo>
                  <a:pt x="980" y="622"/>
                </a:lnTo>
                <a:lnTo>
                  <a:pt x="959" y="607"/>
                </a:lnTo>
                <a:lnTo>
                  <a:pt x="937" y="594"/>
                </a:lnTo>
                <a:lnTo>
                  <a:pt x="913" y="581"/>
                </a:lnTo>
                <a:lnTo>
                  <a:pt x="890" y="567"/>
                </a:lnTo>
                <a:lnTo>
                  <a:pt x="866" y="555"/>
                </a:lnTo>
                <a:lnTo>
                  <a:pt x="840" y="543"/>
                </a:lnTo>
                <a:lnTo>
                  <a:pt x="815" y="529"/>
                </a:lnTo>
                <a:lnTo>
                  <a:pt x="806" y="519"/>
                </a:lnTo>
                <a:lnTo>
                  <a:pt x="798" y="508"/>
                </a:lnTo>
                <a:lnTo>
                  <a:pt x="791" y="496"/>
                </a:lnTo>
                <a:lnTo>
                  <a:pt x="786" y="484"/>
                </a:lnTo>
                <a:lnTo>
                  <a:pt x="782" y="472"/>
                </a:lnTo>
                <a:lnTo>
                  <a:pt x="779" y="459"/>
                </a:lnTo>
                <a:lnTo>
                  <a:pt x="776" y="446"/>
                </a:lnTo>
                <a:lnTo>
                  <a:pt x="776" y="434"/>
                </a:lnTo>
                <a:lnTo>
                  <a:pt x="776" y="420"/>
                </a:lnTo>
                <a:lnTo>
                  <a:pt x="777" y="408"/>
                </a:lnTo>
                <a:lnTo>
                  <a:pt x="780" y="395"/>
                </a:lnTo>
                <a:lnTo>
                  <a:pt x="784" y="383"/>
                </a:lnTo>
                <a:lnTo>
                  <a:pt x="789" y="372"/>
                </a:lnTo>
                <a:lnTo>
                  <a:pt x="796" y="361"/>
                </a:lnTo>
                <a:lnTo>
                  <a:pt x="804" y="349"/>
                </a:lnTo>
                <a:lnTo>
                  <a:pt x="814" y="340"/>
                </a:lnTo>
                <a:lnTo>
                  <a:pt x="824" y="330"/>
                </a:lnTo>
                <a:lnTo>
                  <a:pt x="836" y="321"/>
                </a:lnTo>
                <a:lnTo>
                  <a:pt x="850" y="314"/>
                </a:lnTo>
                <a:lnTo>
                  <a:pt x="865" y="307"/>
                </a:lnTo>
                <a:lnTo>
                  <a:pt x="881" y="301"/>
                </a:lnTo>
                <a:lnTo>
                  <a:pt x="899" y="297"/>
                </a:lnTo>
                <a:lnTo>
                  <a:pt x="919" y="294"/>
                </a:lnTo>
                <a:lnTo>
                  <a:pt x="939" y="292"/>
                </a:lnTo>
                <a:lnTo>
                  <a:pt x="962" y="291"/>
                </a:lnTo>
                <a:lnTo>
                  <a:pt x="985" y="292"/>
                </a:lnTo>
                <a:lnTo>
                  <a:pt x="1011" y="294"/>
                </a:lnTo>
                <a:lnTo>
                  <a:pt x="1038" y="298"/>
                </a:lnTo>
                <a:lnTo>
                  <a:pt x="1067" y="304"/>
                </a:lnTo>
                <a:lnTo>
                  <a:pt x="1097" y="311"/>
                </a:lnTo>
                <a:lnTo>
                  <a:pt x="1129" y="320"/>
                </a:lnTo>
                <a:lnTo>
                  <a:pt x="1162" y="332"/>
                </a:lnTo>
                <a:lnTo>
                  <a:pt x="1260" y="373"/>
                </a:lnTo>
                <a:lnTo>
                  <a:pt x="1353" y="414"/>
                </a:lnTo>
                <a:lnTo>
                  <a:pt x="1441" y="455"/>
                </a:lnTo>
                <a:lnTo>
                  <a:pt x="1526" y="497"/>
                </a:lnTo>
                <a:lnTo>
                  <a:pt x="1608" y="541"/>
                </a:lnTo>
                <a:lnTo>
                  <a:pt x="1686" y="584"/>
                </a:lnTo>
                <a:lnTo>
                  <a:pt x="1761" y="628"/>
                </a:lnTo>
                <a:lnTo>
                  <a:pt x="1832" y="672"/>
                </a:lnTo>
                <a:lnTo>
                  <a:pt x="1900" y="717"/>
                </a:lnTo>
                <a:lnTo>
                  <a:pt x="1966" y="763"/>
                </a:lnTo>
                <a:lnTo>
                  <a:pt x="2028" y="809"/>
                </a:lnTo>
                <a:lnTo>
                  <a:pt x="2089" y="855"/>
                </a:lnTo>
                <a:lnTo>
                  <a:pt x="2147" y="902"/>
                </a:lnTo>
                <a:lnTo>
                  <a:pt x="2202" y="949"/>
                </a:lnTo>
                <a:lnTo>
                  <a:pt x="2256" y="997"/>
                </a:lnTo>
                <a:lnTo>
                  <a:pt x="2308" y="1045"/>
                </a:lnTo>
                <a:lnTo>
                  <a:pt x="2358" y="1094"/>
                </a:lnTo>
                <a:lnTo>
                  <a:pt x="2406" y="1143"/>
                </a:lnTo>
                <a:lnTo>
                  <a:pt x="2453" y="1194"/>
                </a:lnTo>
                <a:lnTo>
                  <a:pt x="2498" y="1244"/>
                </a:lnTo>
                <a:lnTo>
                  <a:pt x="2544" y="1294"/>
                </a:lnTo>
                <a:lnTo>
                  <a:pt x="2587" y="1346"/>
                </a:lnTo>
                <a:lnTo>
                  <a:pt x="2630" y="1397"/>
                </a:lnTo>
                <a:lnTo>
                  <a:pt x="2672" y="1449"/>
                </a:lnTo>
                <a:lnTo>
                  <a:pt x="2756" y="1554"/>
                </a:lnTo>
                <a:lnTo>
                  <a:pt x="2839" y="1661"/>
                </a:lnTo>
                <a:lnTo>
                  <a:pt x="2922" y="1770"/>
                </a:lnTo>
                <a:lnTo>
                  <a:pt x="3009" y="1880"/>
                </a:lnTo>
                <a:close/>
              </a:path>
            </a:pathLst>
          </a:custGeom>
          <a:solidFill>
            <a:srgbClr val="7586b1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178160"/>
            <a:ext cx="1238400" cy="2237040"/>
          </a:xfrm>
          <a:custGeom>
            <a:avLst/>
            <a:gdLst/>
            <a:ahLst/>
            <a:rect l="l" t="t" r="r" b="b"/>
            <a:pathLst>
              <a:path w="4845" h="8988">
                <a:moveTo>
                  <a:pt x="4306" y="2475"/>
                </a:moveTo>
                <a:lnTo>
                  <a:pt x="4215" y="2369"/>
                </a:lnTo>
                <a:lnTo>
                  <a:pt x="4124" y="2265"/>
                </a:lnTo>
                <a:lnTo>
                  <a:pt x="4031" y="2162"/>
                </a:lnTo>
                <a:lnTo>
                  <a:pt x="3937" y="2062"/>
                </a:lnTo>
                <a:lnTo>
                  <a:pt x="3841" y="1963"/>
                </a:lnTo>
                <a:lnTo>
                  <a:pt x="3744" y="1865"/>
                </a:lnTo>
                <a:lnTo>
                  <a:pt x="3646" y="1770"/>
                </a:lnTo>
                <a:lnTo>
                  <a:pt x="3547" y="1676"/>
                </a:lnTo>
                <a:lnTo>
                  <a:pt x="3446" y="1584"/>
                </a:lnTo>
                <a:lnTo>
                  <a:pt x="3343" y="1495"/>
                </a:lnTo>
                <a:lnTo>
                  <a:pt x="3239" y="1407"/>
                </a:lnTo>
                <a:lnTo>
                  <a:pt x="3133" y="1320"/>
                </a:lnTo>
                <a:lnTo>
                  <a:pt x="3026" y="1236"/>
                </a:lnTo>
                <a:lnTo>
                  <a:pt x="2918" y="1155"/>
                </a:lnTo>
                <a:lnTo>
                  <a:pt x="2807" y="1074"/>
                </a:lnTo>
                <a:lnTo>
                  <a:pt x="2696" y="996"/>
                </a:lnTo>
                <a:lnTo>
                  <a:pt x="2582" y="920"/>
                </a:lnTo>
                <a:lnTo>
                  <a:pt x="2467" y="846"/>
                </a:lnTo>
                <a:lnTo>
                  <a:pt x="2349" y="774"/>
                </a:lnTo>
                <a:lnTo>
                  <a:pt x="2231" y="704"/>
                </a:lnTo>
                <a:lnTo>
                  <a:pt x="2110" y="636"/>
                </a:lnTo>
                <a:lnTo>
                  <a:pt x="1987" y="570"/>
                </a:lnTo>
                <a:lnTo>
                  <a:pt x="1863" y="508"/>
                </a:lnTo>
                <a:lnTo>
                  <a:pt x="1737" y="446"/>
                </a:lnTo>
                <a:lnTo>
                  <a:pt x="1609" y="387"/>
                </a:lnTo>
                <a:lnTo>
                  <a:pt x="1479" y="331"/>
                </a:lnTo>
                <a:lnTo>
                  <a:pt x="1346" y="276"/>
                </a:lnTo>
                <a:lnTo>
                  <a:pt x="1213" y="225"/>
                </a:lnTo>
                <a:lnTo>
                  <a:pt x="1076" y="175"/>
                </a:lnTo>
                <a:lnTo>
                  <a:pt x="938" y="128"/>
                </a:lnTo>
                <a:lnTo>
                  <a:pt x="798" y="83"/>
                </a:lnTo>
                <a:lnTo>
                  <a:pt x="655" y="41"/>
                </a:lnTo>
                <a:lnTo>
                  <a:pt x="627" y="29"/>
                </a:lnTo>
                <a:lnTo>
                  <a:pt x="599" y="20"/>
                </a:lnTo>
                <a:lnTo>
                  <a:pt x="569" y="13"/>
                </a:lnTo>
                <a:lnTo>
                  <a:pt x="538" y="7"/>
                </a:lnTo>
                <a:lnTo>
                  <a:pt x="507" y="3"/>
                </a:lnTo>
                <a:lnTo>
                  <a:pt x="475" y="1"/>
                </a:lnTo>
                <a:lnTo>
                  <a:pt x="442" y="0"/>
                </a:lnTo>
                <a:lnTo>
                  <a:pt x="410" y="2"/>
                </a:lnTo>
                <a:lnTo>
                  <a:pt x="378" y="4"/>
                </a:lnTo>
                <a:lnTo>
                  <a:pt x="346" y="9"/>
                </a:lnTo>
                <a:lnTo>
                  <a:pt x="314" y="15"/>
                </a:lnTo>
                <a:lnTo>
                  <a:pt x="283" y="22"/>
                </a:lnTo>
                <a:lnTo>
                  <a:pt x="252" y="32"/>
                </a:lnTo>
                <a:lnTo>
                  <a:pt x="222" y="43"/>
                </a:lnTo>
                <a:lnTo>
                  <a:pt x="194" y="56"/>
                </a:lnTo>
                <a:lnTo>
                  <a:pt x="167" y="69"/>
                </a:lnTo>
                <a:lnTo>
                  <a:pt x="141" y="85"/>
                </a:lnTo>
                <a:lnTo>
                  <a:pt x="117" y="102"/>
                </a:lnTo>
                <a:lnTo>
                  <a:pt x="95" y="121"/>
                </a:lnTo>
                <a:lnTo>
                  <a:pt x="74" y="141"/>
                </a:lnTo>
                <a:lnTo>
                  <a:pt x="56" y="163"/>
                </a:lnTo>
                <a:lnTo>
                  <a:pt x="39" y="186"/>
                </a:lnTo>
                <a:lnTo>
                  <a:pt x="26" y="210"/>
                </a:lnTo>
                <a:lnTo>
                  <a:pt x="15" y="236"/>
                </a:lnTo>
                <a:lnTo>
                  <a:pt x="7" y="263"/>
                </a:lnTo>
                <a:lnTo>
                  <a:pt x="2" y="292"/>
                </a:lnTo>
                <a:lnTo>
                  <a:pt x="0" y="320"/>
                </a:lnTo>
                <a:lnTo>
                  <a:pt x="1" y="352"/>
                </a:lnTo>
                <a:lnTo>
                  <a:pt x="6" y="384"/>
                </a:lnTo>
                <a:lnTo>
                  <a:pt x="15" y="418"/>
                </a:lnTo>
                <a:lnTo>
                  <a:pt x="28" y="452"/>
                </a:lnTo>
                <a:lnTo>
                  <a:pt x="44" y="488"/>
                </a:lnTo>
                <a:lnTo>
                  <a:pt x="146" y="677"/>
                </a:lnTo>
                <a:lnTo>
                  <a:pt x="245" y="868"/>
                </a:lnTo>
                <a:lnTo>
                  <a:pt x="339" y="1060"/>
                </a:lnTo>
                <a:lnTo>
                  <a:pt x="431" y="1254"/>
                </a:lnTo>
                <a:lnTo>
                  <a:pt x="519" y="1450"/>
                </a:lnTo>
                <a:lnTo>
                  <a:pt x="604" y="1647"/>
                </a:lnTo>
                <a:lnTo>
                  <a:pt x="685" y="1847"/>
                </a:lnTo>
                <a:lnTo>
                  <a:pt x="763" y="2047"/>
                </a:lnTo>
                <a:lnTo>
                  <a:pt x="838" y="2250"/>
                </a:lnTo>
                <a:lnTo>
                  <a:pt x="911" y="2454"/>
                </a:lnTo>
                <a:lnTo>
                  <a:pt x="981" y="2658"/>
                </a:lnTo>
                <a:lnTo>
                  <a:pt x="1048" y="2864"/>
                </a:lnTo>
                <a:lnTo>
                  <a:pt x="1112" y="3072"/>
                </a:lnTo>
                <a:lnTo>
                  <a:pt x="1174" y="3279"/>
                </a:lnTo>
                <a:lnTo>
                  <a:pt x="1233" y="3488"/>
                </a:lnTo>
                <a:lnTo>
                  <a:pt x="1291" y="3698"/>
                </a:lnTo>
                <a:lnTo>
                  <a:pt x="1345" y="3909"/>
                </a:lnTo>
                <a:lnTo>
                  <a:pt x="1399" y="4120"/>
                </a:lnTo>
                <a:lnTo>
                  <a:pt x="1450" y="4333"/>
                </a:lnTo>
                <a:lnTo>
                  <a:pt x="1499" y="4544"/>
                </a:lnTo>
                <a:lnTo>
                  <a:pt x="1547" y="4757"/>
                </a:lnTo>
                <a:lnTo>
                  <a:pt x="1592" y="4970"/>
                </a:lnTo>
                <a:lnTo>
                  <a:pt x="1637" y="5184"/>
                </a:lnTo>
                <a:lnTo>
                  <a:pt x="1680" y="5397"/>
                </a:lnTo>
                <a:lnTo>
                  <a:pt x="1721" y="5611"/>
                </a:lnTo>
                <a:lnTo>
                  <a:pt x="1761" y="5825"/>
                </a:lnTo>
                <a:lnTo>
                  <a:pt x="1801" y="6039"/>
                </a:lnTo>
                <a:lnTo>
                  <a:pt x="1839" y="6252"/>
                </a:lnTo>
                <a:lnTo>
                  <a:pt x="1876" y="6465"/>
                </a:lnTo>
                <a:lnTo>
                  <a:pt x="1912" y="6678"/>
                </a:lnTo>
                <a:lnTo>
                  <a:pt x="1948" y="6890"/>
                </a:lnTo>
                <a:lnTo>
                  <a:pt x="1983" y="7102"/>
                </a:lnTo>
                <a:lnTo>
                  <a:pt x="1987" y="7124"/>
                </a:lnTo>
                <a:lnTo>
                  <a:pt x="1991" y="7145"/>
                </a:lnTo>
                <a:lnTo>
                  <a:pt x="1997" y="7164"/>
                </a:lnTo>
                <a:lnTo>
                  <a:pt x="2002" y="7184"/>
                </a:lnTo>
                <a:lnTo>
                  <a:pt x="2008" y="7202"/>
                </a:lnTo>
                <a:lnTo>
                  <a:pt x="2014" y="7221"/>
                </a:lnTo>
                <a:lnTo>
                  <a:pt x="2020" y="7238"/>
                </a:lnTo>
                <a:lnTo>
                  <a:pt x="2027" y="7255"/>
                </a:lnTo>
                <a:lnTo>
                  <a:pt x="2035" y="7271"/>
                </a:lnTo>
                <a:lnTo>
                  <a:pt x="2043" y="7286"/>
                </a:lnTo>
                <a:lnTo>
                  <a:pt x="2051" y="7301"/>
                </a:lnTo>
                <a:lnTo>
                  <a:pt x="2059" y="7315"/>
                </a:lnTo>
                <a:lnTo>
                  <a:pt x="2069" y="7329"/>
                </a:lnTo>
                <a:lnTo>
                  <a:pt x="2078" y="7342"/>
                </a:lnTo>
                <a:lnTo>
                  <a:pt x="2088" y="7354"/>
                </a:lnTo>
                <a:lnTo>
                  <a:pt x="2098" y="7367"/>
                </a:lnTo>
                <a:lnTo>
                  <a:pt x="2109" y="7378"/>
                </a:lnTo>
                <a:lnTo>
                  <a:pt x="2119" y="7388"/>
                </a:lnTo>
                <a:lnTo>
                  <a:pt x="2130" y="7399"/>
                </a:lnTo>
                <a:lnTo>
                  <a:pt x="2142" y="7408"/>
                </a:lnTo>
                <a:lnTo>
                  <a:pt x="2153" y="7417"/>
                </a:lnTo>
                <a:lnTo>
                  <a:pt x="2164" y="7425"/>
                </a:lnTo>
                <a:lnTo>
                  <a:pt x="2177" y="7434"/>
                </a:lnTo>
                <a:lnTo>
                  <a:pt x="2189" y="7441"/>
                </a:lnTo>
                <a:lnTo>
                  <a:pt x="2201" y="7448"/>
                </a:lnTo>
                <a:lnTo>
                  <a:pt x="2215" y="7454"/>
                </a:lnTo>
                <a:lnTo>
                  <a:pt x="2228" y="7460"/>
                </a:lnTo>
                <a:lnTo>
                  <a:pt x="2240" y="7465"/>
                </a:lnTo>
                <a:lnTo>
                  <a:pt x="2255" y="7470"/>
                </a:lnTo>
                <a:lnTo>
                  <a:pt x="2268" y="7474"/>
                </a:lnTo>
                <a:lnTo>
                  <a:pt x="2281" y="7478"/>
                </a:lnTo>
                <a:lnTo>
                  <a:pt x="2296" y="7481"/>
                </a:lnTo>
                <a:lnTo>
                  <a:pt x="2389" y="7501"/>
                </a:lnTo>
                <a:lnTo>
                  <a:pt x="2481" y="7524"/>
                </a:lnTo>
                <a:lnTo>
                  <a:pt x="2573" y="7549"/>
                </a:lnTo>
                <a:lnTo>
                  <a:pt x="2662" y="7575"/>
                </a:lnTo>
                <a:lnTo>
                  <a:pt x="2751" y="7604"/>
                </a:lnTo>
                <a:lnTo>
                  <a:pt x="2838" y="7635"/>
                </a:lnTo>
                <a:lnTo>
                  <a:pt x="2924" y="7668"/>
                </a:lnTo>
                <a:lnTo>
                  <a:pt x="3009" y="7703"/>
                </a:lnTo>
                <a:lnTo>
                  <a:pt x="3093" y="7739"/>
                </a:lnTo>
                <a:lnTo>
                  <a:pt x="3175" y="7778"/>
                </a:lnTo>
                <a:lnTo>
                  <a:pt x="3258" y="7818"/>
                </a:lnTo>
                <a:lnTo>
                  <a:pt x="3339" y="7859"/>
                </a:lnTo>
                <a:lnTo>
                  <a:pt x="3419" y="7903"/>
                </a:lnTo>
                <a:lnTo>
                  <a:pt x="3498" y="7948"/>
                </a:lnTo>
                <a:lnTo>
                  <a:pt x="3578" y="7994"/>
                </a:lnTo>
                <a:lnTo>
                  <a:pt x="3655" y="8042"/>
                </a:lnTo>
                <a:lnTo>
                  <a:pt x="3733" y="8092"/>
                </a:lnTo>
                <a:lnTo>
                  <a:pt x="3809" y="8143"/>
                </a:lnTo>
                <a:lnTo>
                  <a:pt x="3885" y="8196"/>
                </a:lnTo>
                <a:lnTo>
                  <a:pt x="3961" y="8250"/>
                </a:lnTo>
                <a:lnTo>
                  <a:pt x="4036" y="8305"/>
                </a:lnTo>
                <a:lnTo>
                  <a:pt x="4110" y="8361"/>
                </a:lnTo>
                <a:lnTo>
                  <a:pt x="4184" y="8419"/>
                </a:lnTo>
                <a:lnTo>
                  <a:pt x="4258" y="8477"/>
                </a:lnTo>
                <a:lnTo>
                  <a:pt x="4333" y="8538"/>
                </a:lnTo>
                <a:lnTo>
                  <a:pt x="4406" y="8599"/>
                </a:lnTo>
                <a:lnTo>
                  <a:pt x="4479" y="8662"/>
                </a:lnTo>
                <a:lnTo>
                  <a:pt x="4553" y="8724"/>
                </a:lnTo>
                <a:lnTo>
                  <a:pt x="4626" y="8789"/>
                </a:lnTo>
                <a:lnTo>
                  <a:pt x="4699" y="8854"/>
                </a:lnTo>
                <a:lnTo>
                  <a:pt x="4771" y="8921"/>
                </a:lnTo>
                <a:lnTo>
                  <a:pt x="4845" y="8988"/>
                </a:lnTo>
                <a:lnTo>
                  <a:pt x="4780" y="8463"/>
                </a:lnTo>
                <a:lnTo>
                  <a:pt x="4674" y="8368"/>
                </a:lnTo>
                <a:lnTo>
                  <a:pt x="4562" y="8270"/>
                </a:lnTo>
                <a:lnTo>
                  <a:pt x="4502" y="8219"/>
                </a:lnTo>
                <a:lnTo>
                  <a:pt x="4442" y="8168"/>
                </a:lnTo>
                <a:lnTo>
                  <a:pt x="4380" y="8116"/>
                </a:lnTo>
                <a:lnTo>
                  <a:pt x="4316" y="8064"/>
                </a:lnTo>
                <a:lnTo>
                  <a:pt x="4250" y="8012"/>
                </a:lnTo>
                <a:lnTo>
                  <a:pt x="4183" y="7960"/>
                </a:lnTo>
                <a:lnTo>
                  <a:pt x="4114" y="7908"/>
                </a:lnTo>
                <a:lnTo>
                  <a:pt x="4046" y="7856"/>
                </a:lnTo>
                <a:lnTo>
                  <a:pt x="3975" y="7805"/>
                </a:lnTo>
                <a:lnTo>
                  <a:pt x="3903" y="7753"/>
                </a:lnTo>
                <a:lnTo>
                  <a:pt x="3829" y="7703"/>
                </a:lnTo>
                <a:lnTo>
                  <a:pt x="3754" y="7654"/>
                </a:lnTo>
                <a:lnTo>
                  <a:pt x="3679" y="7605"/>
                </a:lnTo>
                <a:lnTo>
                  <a:pt x="3603" y="7558"/>
                </a:lnTo>
                <a:lnTo>
                  <a:pt x="3525" y="7513"/>
                </a:lnTo>
                <a:lnTo>
                  <a:pt x="3447" y="7467"/>
                </a:lnTo>
                <a:lnTo>
                  <a:pt x="3369" y="7425"/>
                </a:lnTo>
                <a:lnTo>
                  <a:pt x="3288" y="7384"/>
                </a:lnTo>
                <a:lnTo>
                  <a:pt x="3208" y="7344"/>
                </a:lnTo>
                <a:lnTo>
                  <a:pt x="3127" y="7307"/>
                </a:lnTo>
                <a:lnTo>
                  <a:pt x="3046" y="7272"/>
                </a:lnTo>
                <a:lnTo>
                  <a:pt x="2963" y="7239"/>
                </a:lnTo>
                <a:lnTo>
                  <a:pt x="2881" y="7208"/>
                </a:lnTo>
                <a:lnTo>
                  <a:pt x="2798" y="7181"/>
                </a:lnTo>
                <a:lnTo>
                  <a:pt x="2715" y="7155"/>
                </a:lnTo>
                <a:lnTo>
                  <a:pt x="2631" y="7133"/>
                </a:lnTo>
                <a:lnTo>
                  <a:pt x="2548" y="7114"/>
                </a:lnTo>
                <a:lnTo>
                  <a:pt x="2464" y="7097"/>
                </a:lnTo>
                <a:lnTo>
                  <a:pt x="2444" y="7093"/>
                </a:lnTo>
                <a:lnTo>
                  <a:pt x="2427" y="7089"/>
                </a:lnTo>
                <a:lnTo>
                  <a:pt x="2412" y="7083"/>
                </a:lnTo>
                <a:lnTo>
                  <a:pt x="2399" y="7076"/>
                </a:lnTo>
                <a:lnTo>
                  <a:pt x="2387" y="7068"/>
                </a:lnTo>
                <a:lnTo>
                  <a:pt x="2377" y="7060"/>
                </a:lnTo>
                <a:lnTo>
                  <a:pt x="2369" y="7051"/>
                </a:lnTo>
                <a:lnTo>
                  <a:pt x="2362" y="7041"/>
                </a:lnTo>
                <a:lnTo>
                  <a:pt x="2356" y="7029"/>
                </a:lnTo>
                <a:lnTo>
                  <a:pt x="2350" y="7018"/>
                </a:lnTo>
                <a:lnTo>
                  <a:pt x="2346" y="7007"/>
                </a:lnTo>
                <a:lnTo>
                  <a:pt x="2343" y="6993"/>
                </a:lnTo>
                <a:lnTo>
                  <a:pt x="2337" y="6967"/>
                </a:lnTo>
                <a:lnTo>
                  <a:pt x="2333" y="6937"/>
                </a:lnTo>
                <a:lnTo>
                  <a:pt x="2302" y="6726"/>
                </a:lnTo>
                <a:lnTo>
                  <a:pt x="2270" y="6516"/>
                </a:lnTo>
                <a:lnTo>
                  <a:pt x="2237" y="6308"/>
                </a:lnTo>
                <a:lnTo>
                  <a:pt x="2203" y="6101"/>
                </a:lnTo>
                <a:lnTo>
                  <a:pt x="2169" y="5894"/>
                </a:lnTo>
                <a:lnTo>
                  <a:pt x="2133" y="5688"/>
                </a:lnTo>
                <a:lnTo>
                  <a:pt x="2097" y="5484"/>
                </a:lnTo>
                <a:lnTo>
                  <a:pt x="2059" y="5280"/>
                </a:lnTo>
                <a:lnTo>
                  <a:pt x="2020" y="5076"/>
                </a:lnTo>
                <a:lnTo>
                  <a:pt x="1979" y="4875"/>
                </a:lnTo>
                <a:lnTo>
                  <a:pt x="1937" y="4673"/>
                </a:lnTo>
                <a:lnTo>
                  <a:pt x="1893" y="4472"/>
                </a:lnTo>
                <a:lnTo>
                  <a:pt x="1847" y="4273"/>
                </a:lnTo>
                <a:lnTo>
                  <a:pt x="1800" y="4073"/>
                </a:lnTo>
                <a:lnTo>
                  <a:pt x="1750" y="3875"/>
                </a:lnTo>
                <a:lnTo>
                  <a:pt x="1698" y="3677"/>
                </a:lnTo>
                <a:lnTo>
                  <a:pt x="1645" y="3480"/>
                </a:lnTo>
                <a:lnTo>
                  <a:pt x="1588" y="3284"/>
                </a:lnTo>
                <a:lnTo>
                  <a:pt x="1530" y="3088"/>
                </a:lnTo>
                <a:lnTo>
                  <a:pt x="1469" y="2893"/>
                </a:lnTo>
                <a:lnTo>
                  <a:pt x="1405" y="2698"/>
                </a:lnTo>
                <a:lnTo>
                  <a:pt x="1338" y="2504"/>
                </a:lnTo>
                <a:lnTo>
                  <a:pt x="1269" y="2311"/>
                </a:lnTo>
                <a:lnTo>
                  <a:pt x="1197" y="2117"/>
                </a:lnTo>
                <a:lnTo>
                  <a:pt x="1122" y="1925"/>
                </a:lnTo>
                <a:lnTo>
                  <a:pt x="1044" y="1733"/>
                </a:lnTo>
                <a:lnTo>
                  <a:pt x="962" y="1541"/>
                </a:lnTo>
                <a:lnTo>
                  <a:pt x="877" y="1350"/>
                </a:lnTo>
                <a:lnTo>
                  <a:pt x="789" y="1159"/>
                </a:lnTo>
                <a:lnTo>
                  <a:pt x="696" y="968"/>
                </a:lnTo>
                <a:lnTo>
                  <a:pt x="601" y="778"/>
                </a:lnTo>
                <a:lnTo>
                  <a:pt x="502" y="588"/>
                </a:lnTo>
                <a:lnTo>
                  <a:pt x="498" y="583"/>
                </a:lnTo>
                <a:lnTo>
                  <a:pt x="496" y="578"/>
                </a:lnTo>
                <a:lnTo>
                  <a:pt x="493" y="572"/>
                </a:lnTo>
                <a:lnTo>
                  <a:pt x="492" y="567"/>
                </a:lnTo>
                <a:lnTo>
                  <a:pt x="491" y="561"/>
                </a:lnTo>
                <a:lnTo>
                  <a:pt x="491" y="556"/>
                </a:lnTo>
                <a:lnTo>
                  <a:pt x="491" y="551"/>
                </a:lnTo>
                <a:lnTo>
                  <a:pt x="493" y="545"/>
                </a:lnTo>
                <a:lnTo>
                  <a:pt x="494" y="540"/>
                </a:lnTo>
                <a:lnTo>
                  <a:pt x="496" y="533"/>
                </a:lnTo>
                <a:lnTo>
                  <a:pt x="499" y="528"/>
                </a:lnTo>
                <a:lnTo>
                  <a:pt x="502" y="523"/>
                </a:lnTo>
                <a:lnTo>
                  <a:pt x="511" y="512"/>
                </a:lnTo>
                <a:lnTo>
                  <a:pt x="522" y="502"/>
                </a:lnTo>
                <a:lnTo>
                  <a:pt x="534" y="493"/>
                </a:lnTo>
                <a:lnTo>
                  <a:pt x="548" y="485"/>
                </a:lnTo>
                <a:lnTo>
                  <a:pt x="564" y="478"/>
                </a:lnTo>
                <a:lnTo>
                  <a:pt x="581" y="473"/>
                </a:lnTo>
                <a:lnTo>
                  <a:pt x="600" y="468"/>
                </a:lnTo>
                <a:lnTo>
                  <a:pt x="620" y="465"/>
                </a:lnTo>
                <a:lnTo>
                  <a:pt x="642" y="464"/>
                </a:lnTo>
                <a:lnTo>
                  <a:pt x="664" y="466"/>
                </a:lnTo>
                <a:lnTo>
                  <a:pt x="759" y="479"/>
                </a:lnTo>
                <a:lnTo>
                  <a:pt x="857" y="497"/>
                </a:lnTo>
                <a:lnTo>
                  <a:pt x="957" y="521"/>
                </a:lnTo>
                <a:lnTo>
                  <a:pt x="1058" y="550"/>
                </a:lnTo>
                <a:lnTo>
                  <a:pt x="1162" y="583"/>
                </a:lnTo>
                <a:lnTo>
                  <a:pt x="1268" y="622"/>
                </a:lnTo>
                <a:lnTo>
                  <a:pt x="1377" y="665"/>
                </a:lnTo>
                <a:lnTo>
                  <a:pt x="1487" y="713"/>
                </a:lnTo>
                <a:lnTo>
                  <a:pt x="1598" y="767"/>
                </a:lnTo>
                <a:lnTo>
                  <a:pt x="1712" y="824"/>
                </a:lnTo>
                <a:lnTo>
                  <a:pt x="1826" y="886"/>
                </a:lnTo>
                <a:lnTo>
                  <a:pt x="1942" y="952"/>
                </a:lnTo>
                <a:lnTo>
                  <a:pt x="2058" y="1022"/>
                </a:lnTo>
                <a:lnTo>
                  <a:pt x="2177" y="1097"/>
                </a:lnTo>
                <a:lnTo>
                  <a:pt x="2295" y="1175"/>
                </a:lnTo>
                <a:lnTo>
                  <a:pt x="2414" y="1257"/>
                </a:lnTo>
                <a:lnTo>
                  <a:pt x="2535" y="1344"/>
                </a:lnTo>
                <a:lnTo>
                  <a:pt x="2655" y="1433"/>
                </a:lnTo>
                <a:lnTo>
                  <a:pt x="2775" y="1527"/>
                </a:lnTo>
                <a:lnTo>
                  <a:pt x="2896" y="1625"/>
                </a:lnTo>
                <a:lnTo>
                  <a:pt x="3017" y="1724"/>
                </a:lnTo>
                <a:lnTo>
                  <a:pt x="3138" y="1828"/>
                </a:lnTo>
                <a:lnTo>
                  <a:pt x="3259" y="1934"/>
                </a:lnTo>
                <a:lnTo>
                  <a:pt x="3379" y="2044"/>
                </a:lnTo>
                <a:lnTo>
                  <a:pt x="3498" y="2157"/>
                </a:lnTo>
                <a:lnTo>
                  <a:pt x="3618" y="2273"/>
                </a:lnTo>
                <a:lnTo>
                  <a:pt x="3737" y="2391"/>
                </a:lnTo>
                <a:lnTo>
                  <a:pt x="3854" y="2511"/>
                </a:lnTo>
                <a:lnTo>
                  <a:pt x="3970" y="2635"/>
                </a:lnTo>
                <a:lnTo>
                  <a:pt x="4087" y="2761"/>
                </a:lnTo>
                <a:lnTo>
                  <a:pt x="4201" y="2889"/>
                </a:lnTo>
                <a:lnTo>
                  <a:pt x="4314" y="3019"/>
                </a:lnTo>
                <a:lnTo>
                  <a:pt x="4358" y="3019"/>
                </a:lnTo>
                <a:lnTo>
                  <a:pt x="4398" y="3019"/>
                </a:lnTo>
                <a:lnTo>
                  <a:pt x="4435" y="3017"/>
                </a:lnTo>
                <a:lnTo>
                  <a:pt x="4468" y="3015"/>
                </a:lnTo>
                <a:lnTo>
                  <a:pt x="4497" y="3011"/>
                </a:lnTo>
                <a:lnTo>
                  <a:pt x="4524" y="3006"/>
                </a:lnTo>
                <a:lnTo>
                  <a:pt x="4546" y="3000"/>
                </a:lnTo>
                <a:lnTo>
                  <a:pt x="4565" y="2992"/>
                </a:lnTo>
                <a:lnTo>
                  <a:pt x="4581" y="2984"/>
                </a:lnTo>
                <a:lnTo>
                  <a:pt x="4595" y="2975"/>
                </a:lnTo>
                <a:lnTo>
                  <a:pt x="4605" y="2965"/>
                </a:lnTo>
                <a:lnTo>
                  <a:pt x="4612" y="2952"/>
                </a:lnTo>
                <a:lnTo>
                  <a:pt x="4616" y="2940"/>
                </a:lnTo>
                <a:lnTo>
                  <a:pt x="4618" y="2926"/>
                </a:lnTo>
                <a:lnTo>
                  <a:pt x="4617" y="2910"/>
                </a:lnTo>
                <a:lnTo>
                  <a:pt x="4614" y="2894"/>
                </a:lnTo>
                <a:lnTo>
                  <a:pt x="4608" y="2876"/>
                </a:lnTo>
                <a:lnTo>
                  <a:pt x="4600" y="2858"/>
                </a:lnTo>
                <a:lnTo>
                  <a:pt x="4590" y="2838"/>
                </a:lnTo>
                <a:lnTo>
                  <a:pt x="4578" y="2817"/>
                </a:lnTo>
                <a:lnTo>
                  <a:pt x="4564" y="2795"/>
                </a:lnTo>
                <a:lnTo>
                  <a:pt x="4548" y="2771"/>
                </a:lnTo>
                <a:lnTo>
                  <a:pt x="4530" y="2748"/>
                </a:lnTo>
                <a:lnTo>
                  <a:pt x="4510" y="2722"/>
                </a:lnTo>
                <a:lnTo>
                  <a:pt x="4466" y="2667"/>
                </a:lnTo>
                <a:lnTo>
                  <a:pt x="4418" y="2608"/>
                </a:lnTo>
                <a:lnTo>
                  <a:pt x="4363" y="2544"/>
                </a:lnTo>
                <a:lnTo>
                  <a:pt x="4306" y="2475"/>
                </a:lnTo>
                <a:close/>
              </a:path>
            </a:pathLst>
          </a:custGeom>
          <a:solidFill>
            <a:srgbClr val="00336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3800" y="4643280"/>
            <a:ext cx="2301840" cy="2055960"/>
          </a:xfrm>
          <a:custGeom>
            <a:avLst/>
            <a:gdLst/>
            <a:ahLst/>
            <a:rect l="l" t="t" r="r" b="b"/>
            <a:pathLst>
              <a:path w="8995" h="8286">
                <a:moveTo>
                  <a:pt x="448" y="1054"/>
                </a:moveTo>
                <a:lnTo>
                  <a:pt x="425" y="1391"/>
                </a:lnTo>
                <a:lnTo>
                  <a:pt x="419" y="1456"/>
                </a:lnTo>
                <a:lnTo>
                  <a:pt x="418" y="1519"/>
                </a:lnTo>
                <a:lnTo>
                  <a:pt x="422" y="1580"/>
                </a:lnTo>
                <a:lnTo>
                  <a:pt x="432" y="1638"/>
                </a:lnTo>
                <a:lnTo>
                  <a:pt x="446" y="1695"/>
                </a:lnTo>
                <a:lnTo>
                  <a:pt x="466" y="1749"/>
                </a:lnTo>
                <a:lnTo>
                  <a:pt x="491" y="1801"/>
                </a:lnTo>
                <a:lnTo>
                  <a:pt x="519" y="1850"/>
                </a:lnTo>
                <a:lnTo>
                  <a:pt x="552" y="1896"/>
                </a:lnTo>
                <a:lnTo>
                  <a:pt x="589" y="1940"/>
                </a:lnTo>
                <a:lnTo>
                  <a:pt x="631" y="1981"/>
                </a:lnTo>
                <a:lnTo>
                  <a:pt x="675" y="2018"/>
                </a:lnTo>
                <a:lnTo>
                  <a:pt x="722" y="2053"/>
                </a:lnTo>
                <a:lnTo>
                  <a:pt x="772" y="2084"/>
                </a:lnTo>
                <a:lnTo>
                  <a:pt x="826" y="2111"/>
                </a:lnTo>
                <a:lnTo>
                  <a:pt x="882" y="2135"/>
                </a:lnTo>
                <a:lnTo>
                  <a:pt x="940" y="2156"/>
                </a:lnTo>
                <a:lnTo>
                  <a:pt x="1001" y="2172"/>
                </a:lnTo>
                <a:lnTo>
                  <a:pt x="1063" y="2184"/>
                </a:lnTo>
                <a:lnTo>
                  <a:pt x="1127" y="2194"/>
                </a:lnTo>
                <a:lnTo>
                  <a:pt x="1193" y="2198"/>
                </a:lnTo>
                <a:lnTo>
                  <a:pt x="1260" y="2198"/>
                </a:lnTo>
                <a:lnTo>
                  <a:pt x="1328" y="2194"/>
                </a:lnTo>
                <a:lnTo>
                  <a:pt x="1397" y="2185"/>
                </a:lnTo>
                <a:lnTo>
                  <a:pt x="1466" y="2172"/>
                </a:lnTo>
                <a:lnTo>
                  <a:pt x="1536" y="2154"/>
                </a:lnTo>
                <a:lnTo>
                  <a:pt x="1606" y="2131"/>
                </a:lnTo>
                <a:lnTo>
                  <a:pt x="1676" y="2102"/>
                </a:lnTo>
                <a:lnTo>
                  <a:pt x="1745" y="2069"/>
                </a:lnTo>
                <a:lnTo>
                  <a:pt x="1813" y="2031"/>
                </a:lnTo>
                <a:lnTo>
                  <a:pt x="1882" y="1987"/>
                </a:lnTo>
                <a:lnTo>
                  <a:pt x="1949" y="1938"/>
                </a:lnTo>
                <a:lnTo>
                  <a:pt x="2061" y="1812"/>
                </a:lnTo>
                <a:lnTo>
                  <a:pt x="2179" y="1688"/>
                </a:lnTo>
                <a:lnTo>
                  <a:pt x="2302" y="1565"/>
                </a:lnTo>
                <a:lnTo>
                  <a:pt x="2432" y="1444"/>
                </a:lnTo>
                <a:lnTo>
                  <a:pt x="2566" y="1326"/>
                </a:lnTo>
                <a:lnTo>
                  <a:pt x="2707" y="1210"/>
                </a:lnTo>
                <a:lnTo>
                  <a:pt x="2854" y="1097"/>
                </a:lnTo>
                <a:lnTo>
                  <a:pt x="3007" y="988"/>
                </a:lnTo>
                <a:lnTo>
                  <a:pt x="3164" y="883"/>
                </a:lnTo>
                <a:lnTo>
                  <a:pt x="3328" y="782"/>
                </a:lnTo>
                <a:lnTo>
                  <a:pt x="3496" y="685"/>
                </a:lnTo>
                <a:lnTo>
                  <a:pt x="3671" y="593"/>
                </a:lnTo>
                <a:lnTo>
                  <a:pt x="3851" y="507"/>
                </a:lnTo>
                <a:lnTo>
                  <a:pt x="4036" y="426"/>
                </a:lnTo>
                <a:lnTo>
                  <a:pt x="4227" y="351"/>
                </a:lnTo>
                <a:lnTo>
                  <a:pt x="4422" y="282"/>
                </a:lnTo>
                <a:lnTo>
                  <a:pt x="4624" y="219"/>
                </a:lnTo>
                <a:lnTo>
                  <a:pt x="4829" y="164"/>
                </a:lnTo>
                <a:lnTo>
                  <a:pt x="5040" y="116"/>
                </a:lnTo>
                <a:lnTo>
                  <a:pt x="5257" y="76"/>
                </a:lnTo>
                <a:lnTo>
                  <a:pt x="5478" y="44"/>
                </a:lnTo>
                <a:lnTo>
                  <a:pt x="5705" y="21"/>
                </a:lnTo>
                <a:lnTo>
                  <a:pt x="5936" y="6"/>
                </a:lnTo>
                <a:lnTo>
                  <a:pt x="6173" y="0"/>
                </a:lnTo>
                <a:lnTo>
                  <a:pt x="6413" y="4"/>
                </a:lnTo>
                <a:lnTo>
                  <a:pt x="6659" y="17"/>
                </a:lnTo>
                <a:lnTo>
                  <a:pt x="6910" y="41"/>
                </a:lnTo>
                <a:lnTo>
                  <a:pt x="7165" y="76"/>
                </a:lnTo>
                <a:lnTo>
                  <a:pt x="7426" y="121"/>
                </a:lnTo>
                <a:lnTo>
                  <a:pt x="7690" y="178"/>
                </a:lnTo>
                <a:lnTo>
                  <a:pt x="7959" y="247"/>
                </a:lnTo>
                <a:lnTo>
                  <a:pt x="8233" y="327"/>
                </a:lnTo>
                <a:lnTo>
                  <a:pt x="8281" y="350"/>
                </a:lnTo>
                <a:lnTo>
                  <a:pt x="8330" y="371"/>
                </a:lnTo>
                <a:lnTo>
                  <a:pt x="8377" y="391"/>
                </a:lnTo>
                <a:lnTo>
                  <a:pt x="8423" y="410"/>
                </a:lnTo>
                <a:lnTo>
                  <a:pt x="8513" y="446"/>
                </a:lnTo>
                <a:lnTo>
                  <a:pt x="8597" y="481"/>
                </a:lnTo>
                <a:lnTo>
                  <a:pt x="8637" y="499"/>
                </a:lnTo>
                <a:lnTo>
                  <a:pt x="8676" y="516"/>
                </a:lnTo>
                <a:lnTo>
                  <a:pt x="8713" y="535"/>
                </a:lnTo>
                <a:lnTo>
                  <a:pt x="8748" y="554"/>
                </a:lnTo>
                <a:lnTo>
                  <a:pt x="8782" y="575"/>
                </a:lnTo>
                <a:lnTo>
                  <a:pt x="8814" y="596"/>
                </a:lnTo>
                <a:lnTo>
                  <a:pt x="8843" y="620"/>
                </a:lnTo>
                <a:lnTo>
                  <a:pt x="8870" y="645"/>
                </a:lnTo>
                <a:lnTo>
                  <a:pt x="8894" y="673"/>
                </a:lnTo>
                <a:lnTo>
                  <a:pt x="8917" y="701"/>
                </a:lnTo>
                <a:lnTo>
                  <a:pt x="8937" y="733"/>
                </a:lnTo>
                <a:lnTo>
                  <a:pt x="8954" y="768"/>
                </a:lnTo>
                <a:lnTo>
                  <a:pt x="8968" y="806"/>
                </a:lnTo>
                <a:lnTo>
                  <a:pt x="8980" y="846"/>
                </a:lnTo>
                <a:lnTo>
                  <a:pt x="8988" y="891"/>
                </a:lnTo>
                <a:lnTo>
                  <a:pt x="8993" y="938"/>
                </a:lnTo>
                <a:lnTo>
                  <a:pt x="8995" y="990"/>
                </a:lnTo>
                <a:lnTo>
                  <a:pt x="8993" y="1046"/>
                </a:lnTo>
                <a:lnTo>
                  <a:pt x="8989" y="1106"/>
                </a:lnTo>
                <a:lnTo>
                  <a:pt x="8980" y="1170"/>
                </a:lnTo>
                <a:lnTo>
                  <a:pt x="8967" y="1240"/>
                </a:lnTo>
                <a:lnTo>
                  <a:pt x="8952" y="1314"/>
                </a:lnTo>
                <a:lnTo>
                  <a:pt x="8931" y="1394"/>
                </a:lnTo>
                <a:lnTo>
                  <a:pt x="8908" y="1479"/>
                </a:lnTo>
                <a:lnTo>
                  <a:pt x="8868" y="1628"/>
                </a:lnTo>
                <a:lnTo>
                  <a:pt x="8831" y="1778"/>
                </a:lnTo>
                <a:lnTo>
                  <a:pt x="8796" y="1928"/>
                </a:lnTo>
                <a:lnTo>
                  <a:pt x="8764" y="2078"/>
                </a:lnTo>
                <a:lnTo>
                  <a:pt x="8735" y="2229"/>
                </a:lnTo>
                <a:lnTo>
                  <a:pt x="8708" y="2379"/>
                </a:lnTo>
                <a:lnTo>
                  <a:pt x="8686" y="2530"/>
                </a:lnTo>
                <a:lnTo>
                  <a:pt x="8664" y="2681"/>
                </a:lnTo>
                <a:lnTo>
                  <a:pt x="8646" y="2832"/>
                </a:lnTo>
                <a:lnTo>
                  <a:pt x="8629" y="2985"/>
                </a:lnTo>
                <a:lnTo>
                  <a:pt x="8616" y="3137"/>
                </a:lnTo>
                <a:lnTo>
                  <a:pt x="8604" y="3290"/>
                </a:lnTo>
                <a:lnTo>
                  <a:pt x="8595" y="3443"/>
                </a:lnTo>
                <a:lnTo>
                  <a:pt x="8588" y="3598"/>
                </a:lnTo>
                <a:lnTo>
                  <a:pt x="8584" y="3752"/>
                </a:lnTo>
                <a:lnTo>
                  <a:pt x="8581" y="3907"/>
                </a:lnTo>
                <a:lnTo>
                  <a:pt x="8580" y="4064"/>
                </a:lnTo>
                <a:lnTo>
                  <a:pt x="8582" y="4220"/>
                </a:lnTo>
                <a:lnTo>
                  <a:pt x="8585" y="4378"/>
                </a:lnTo>
                <a:lnTo>
                  <a:pt x="8589" y="4537"/>
                </a:lnTo>
                <a:lnTo>
                  <a:pt x="8596" y="4695"/>
                </a:lnTo>
                <a:lnTo>
                  <a:pt x="8604" y="4855"/>
                </a:lnTo>
                <a:lnTo>
                  <a:pt x="8615" y="5016"/>
                </a:lnTo>
                <a:lnTo>
                  <a:pt x="8626" y="5178"/>
                </a:lnTo>
                <a:lnTo>
                  <a:pt x="8639" y="5341"/>
                </a:lnTo>
                <a:lnTo>
                  <a:pt x="8654" y="5504"/>
                </a:lnTo>
                <a:lnTo>
                  <a:pt x="8670" y="5670"/>
                </a:lnTo>
                <a:lnTo>
                  <a:pt x="8687" y="5836"/>
                </a:lnTo>
                <a:lnTo>
                  <a:pt x="8705" y="6002"/>
                </a:lnTo>
                <a:lnTo>
                  <a:pt x="8726" y="6171"/>
                </a:lnTo>
                <a:lnTo>
                  <a:pt x="8746" y="6341"/>
                </a:lnTo>
                <a:lnTo>
                  <a:pt x="8768" y="6511"/>
                </a:lnTo>
                <a:lnTo>
                  <a:pt x="8777" y="6550"/>
                </a:lnTo>
                <a:lnTo>
                  <a:pt x="8783" y="6587"/>
                </a:lnTo>
                <a:lnTo>
                  <a:pt x="8788" y="6622"/>
                </a:lnTo>
                <a:lnTo>
                  <a:pt x="8792" y="6655"/>
                </a:lnTo>
                <a:lnTo>
                  <a:pt x="8793" y="6686"/>
                </a:lnTo>
                <a:lnTo>
                  <a:pt x="8792" y="6716"/>
                </a:lnTo>
                <a:lnTo>
                  <a:pt x="8790" y="6744"/>
                </a:lnTo>
                <a:lnTo>
                  <a:pt x="8785" y="6770"/>
                </a:lnTo>
                <a:lnTo>
                  <a:pt x="8779" y="6793"/>
                </a:lnTo>
                <a:lnTo>
                  <a:pt x="8772" y="6815"/>
                </a:lnTo>
                <a:lnTo>
                  <a:pt x="8764" y="6835"/>
                </a:lnTo>
                <a:lnTo>
                  <a:pt x="8754" y="6854"/>
                </a:lnTo>
                <a:lnTo>
                  <a:pt x="8741" y="6871"/>
                </a:lnTo>
                <a:lnTo>
                  <a:pt x="8728" y="6887"/>
                </a:lnTo>
                <a:lnTo>
                  <a:pt x="8714" y="6900"/>
                </a:lnTo>
                <a:lnTo>
                  <a:pt x="8698" y="6912"/>
                </a:lnTo>
                <a:lnTo>
                  <a:pt x="8682" y="6924"/>
                </a:lnTo>
                <a:lnTo>
                  <a:pt x="8663" y="6933"/>
                </a:lnTo>
                <a:lnTo>
                  <a:pt x="8644" y="6940"/>
                </a:lnTo>
                <a:lnTo>
                  <a:pt x="8624" y="6947"/>
                </a:lnTo>
                <a:lnTo>
                  <a:pt x="8602" y="6953"/>
                </a:lnTo>
                <a:lnTo>
                  <a:pt x="8581" y="6956"/>
                </a:lnTo>
                <a:lnTo>
                  <a:pt x="8558" y="6959"/>
                </a:lnTo>
                <a:lnTo>
                  <a:pt x="8533" y="6960"/>
                </a:lnTo>
                <a:lnTo>
                  <a:pt x="8509" y="6959"/>
                </a:lnTo>
                <a:lnTo>
                  <a:pt x="8483" y="6958"/>
                </a:lnTo>
                <a:lnTo>
                  <a:pt x="8457" y="6956"/>
                </a:lnTo>
                <a:lnTo>
                  <a:pt x="8431" y="6952"/>
                </a:lnTo>
                <a:lnTo>
                  <a:pt x="8403" y="6946"/>
                </a:lnTo>
                <a:lnTo>
                  <a:pt x="8375" y="6941"/>
                </a:lnTo>
                <a:lnTo>
                  <a:pt x="8346" y="6934"/>
                </a:lnTo>
                <a:lnTo>
                  <a:pt x="8317" y="6926"/>
                </a:lnTo>
                <a:lnTo>
                  <a:pt x="8115" y="6872"/>
                </a:lnTo>
                <a:lnTo>
                  <a:pt x="7911" y="6827"/>
                </a:lnTo>
                <a:lnTo>
                  <a:pt x="7705" y="6792"/>
                </a:lnTo>
                <a:lnTo>
                  <a:pt x="7499" y="6765"/>
                </a:lnTo>
                <a:lnTo>
                  <a:pt x="7292" y="6747"/>
                </a:lnTo>
                <a:lnTo>
                  <a:pt x="7084" y="6737"/>
                </a:lnTo>
                <a:lnTo>
                  <a:pt x="6876" y="6735"/>
                </a:lnTo>
                <a:lnTo>
                  <a:pt x="6670" y="6739"/>
                </a:lnTo>
                <a:lnTo>
                  <a:pt x="6464" y="6751"/>
                </a:lnTo>
                <a:lnTo>
                  <a:pt x="6260" y="6771"/>
                </a:lnTo>
                <a:lnTo>
                  <a:pt x="6058" y="6795"/>
                </a:lnTo>
                <a:lnTo>
                  <a:pt x="5857" y="6827"/>
                </a:lnTo>
                <a:lnTo>
                  <a:pt x="5658" y="6865"/>
                </a:lnTo>
                <a:lnTo>
                  <a:pt x="5464" y="6908"/>
                </a:lnTo>
                <a:lnTo>
                  <a:pt x="5273" y="6957"/>
                </a:lnTo>
                <a:lnTo>
                  <a:pt x="5084" y="7009"/>
                </a:lnTo>
                <a:lnTo>
                  <a:pt x="4901" y="7068"/>
                </a:lnTo>
                <a:lnTo>
                  <a:pt x="4722" y="7131"/>
                </a:lnTo>
                <a:lnTo>
                  <a:pt x="4547" y="7196"/>
                </a:lnTo>
                <a:lnTo>
                  <a:pt x="4379" y="7266"/>
                </a:lnTo>
                <a:lnTo>
                  <a:pt x="4216" y="7340"/>
                </a:lnTo>
                <a:lnTo>
                  <a:pt x="4060" y="7416"/>
                </a:lnTo>
                <a:lnTo>
                  <a:pt x="3910" y="7496"/>
                </a:lnTo>
                <a:lnTo>
                  <a:pt x="3767" y="7578"/>
                </a:lnTo>
                <a:lnTo>
                  <a:pt x="3631" y="7662"/>
                </a:lnTo>
                <a:lnTo>
                  <a:pt x="3502" y="7748"/>
                </a:lnTo>
                <a:lnTo>
                  <a:pt x="3383" y="7835"/>
                </a:lnTo>
                <a:lnTo>
                  <a:pt x="3272" y="7925"/>
                </a:lnTo>
                <a:lnTo>
                  <a:pt x="3170" y="8014"/>
                </a:lnTo>
                <a:lnTo>
                  <a:pt x="3077" y="8105"/>
                </a:lnTo>
                <a:lnTo>
                  <a:pt x="2994" y="8195"/>
                </a:lnTo>
                <a:lnTo>
                  <a:pt x="2921" y="8286"/>
                </a:lnTo>
                <a:lnTo>
                  <a:pt x="2753" y="7948"/>
                </a:lnTo>
                <a:lnTo>
                  <a:pt x="2854" y="7832"/>
                </a:lnTo>
                <a:lnTo>
                  <a:pt x="2969" y="7718"/>
                </a:lnTo>
                <a:lnTo>
                  <a:pt x="3093" y="7607"/>
                </a:lnTo>
                <a:lnTo>
                  <a:pt x="3228" y="7500"/>
                </a:lnTo>
                <a:lnTo>
                  <a:pt x="3373" y="7395"/>
                </a:lnTo>
                <a:lnTo>
                  <a:pt x="3527" y="7294"/>
                </a:lnTo>
                <a:lnTo>
                  <a:pt x="3689" y="7196"/>
                </a:lnTo>
                <a:lnTo>
                  <a:pt x="3858" y="7103"/>
                </a:lnTo>
                <a:lnTo>
                  <a:pt x="4034" y="7013"/>
                </a:lnTo>
                <a:lnTo>
                  <a:pt x="4217" y="6928"/>
                </a:lnTo>
                <a:lnTo>
                  <a:pt x="4405" y="6848"/>
                </a:lnTo>
                <a:lnTo>
                  <a:pt x="4597" y="6772"/>
                </a:lnTo>
                <a:lnTo>
                  <a:pt x="4794" y="6702"/>
                </a:lnTo>
                <a:lnTo>
                  <a:pt x="4994" y="6636"/>
                </a:lnTo>
                <a:lnTo>
                  <a:pt x="5197" y="6576"/>
                </a:lnTo>
                <a:lnTo>
                  <a:pt x="5401" y="6522"/>
                </a:lnTo>
                <a:lnTo>
                  <a:pt x="5607" y="6473"/>
                </a:lnTo>
                <a:lnTo>
                  <a:pt x="5814" y="6430"/>
                </a:lnTo>
                <a:lnTo>
                  <a:pt x="6019" y="6394"/>
                </a:lnTo>
                <a:lnTo>
                  <a:pt x="6225" y="6364"/>
                </a:lnTo>
                <a:lnTo>
                  <a:pt x="6429" y="6342"/>
                </a:lnTo>
                <a:lnTo>
                  <a:pt x="6630" y="6326"/>
                </a:lnTo>
                <a:lnTo>
                  <a:pt x="6830" y="6317"/>
                </a:lnTo>
                <a:lnTo>
                  <a:pt x="7025" y="6316"/>
                </a:lnTo>
                <a:lnTo>
                  <a:pt x="7216" y="6322"/>
                </a:lnTo>
                <a:lnTo>
                  <a:pt x="7402" y="6337"/>
                </a:lnTo>
                <a:lnTo>
                  <a:pt x="7582" y="6358"/>
                </a:lnTo>
                <a:lnTo>
                  <a:pt x="7756" y="6389"/>
                </a:lnTo>
                <a:lnTo>
                  <a:pt x="7922" y="6428"/>
                </a:lnTo>
                <a:lnTo>
                  <a:pt x="8081" y="6475"/>
                </a:lnTo>
                <a:lnTo>
                  <a:pt x="8231" y="6532"/>
                </a:lnTo>
                <a:lnTo>
                  <a:pt x="8373" y="6598"/>
                </a:lnTo>
                <a:lnTo>
                  <a:pt x="8356" y="6432"/>
                </a:lnTo>
                <a:lnTo>
                  <a:pt x="8341" y="6266"/>
                </a:lnTo>
                <a:lnTo>
                  <a:pt x="8327" y="6099"/>
                </a:lnTo>
                <a:lnTo>
                  <a:pt x="8313" y="5933"/>
                </a:lnTo>
                <a:lnTo>
                  <a:pt x="8301" y="5768"/>
                </a:lnTo>
                <a:lnTo>
                  <a:pt x="8290" y="5601"/>
                </a:lnTo>
                <a:lnTo>
                  <a:pt x="8279" y="5436"/>
                </a:lnTo>
                <a:lnTo>
                  <a:pt x="8271" y="5270"/>
                </a:lnTo>
                <a:lnTo>
                  <a:pt x="8263" y="5104"/>
                </a:lnTo>
                <a:lnTo>
                  <a:pt x="8257" y="4940"/>
                </a:lnTo>
                <a:lnTo>
                  <a:pt x="8252" y="4774"/>
                </a:lnTo>
                <a:lnTo>
                  <a:pt x="8247" y="4610"/>
                </a:lnTo>
                <a:lnTo>
                  <a:pt x="8245" y="4444"/>
                </a:lnTo>
                <a:lnTo>
                  <a:pt x="8244" y="4280"/>
                </a:lnTo>
                <a:lnTo>
                  <a:pt x="8244" y="4115"/>
                </a:lnTo>
                <a:lnTo>
                  <a:pt x="8245" y="3950"/>
                </a:lnTo>
                <a:lnTo>
                  <a:pt x="8248" y="3786"/>
                </a:lnTo>
                <a:lnTo>
                  <a:pt x="8254" y="3621"/>
                </a:lnTo>
                <a:lnTo>
                  <a:pt x="8259" y="3457"/>
                </a:lnTo>
                <a:lnTo>
                  <a:pt x="8267" y="3293"/>
                </a:lnTo>
                <a:lnTo>
                  <a:pt x="8276" y="3129"/>
                </a:lnTo>
                <a:lnTo>
                  <a:pt x="8287" y="2965"/>
                </a:lnTo>
                <a:lnTo>
                  <a:pt x="8299" y="2802"/>
                </a:lnTo>
                <a:lnTo>
                  <a:pt x="8313" y="2638"/>
                </a:lnTo>
                <a:lnTo>
                  <a:pt x="8329" y="2475"/>
                </a:lnTo>
                <a:lnTo>
                  <a:pt x="8346" y="2311"/>
                </a:lnTo>
                <a:lnTo>
                  <a:pt x="8366" y="2147"/>
                </a:lnTo>
                <a:lnTo>
                  <a:pt x="8386" y="1985"/>
                </a:lnTo>
                <a:lnTo>
                  <a:pt x="8409" y="1821"/>
                </a:lnTo>
                <a:lnTo>
                  <a:pt x="8434" y="1659"/>
                </a:lnTo>
                <a:lnTo>
                  <a:pt x="8460" y="1496"/>
                </a:lnTo>
                <a:lnTo>
                  <a:pt x="8489" y="1334"/>
                </a:lnTo>
                <a:lnTo>
                  <a:pt x="8499" y="1307"/>
                </a:lnTo>
                <a:lnTo>
                  <a:pt x="8510" y="1282"/>
                </a:lnTo>
                <a:lnTo>
                  <a:pt x="8517" y="1257"/>
                </a:lnTo>
                <a:lnTo>
                  <a:pt x="8524" y="1232"/>
                </a:lnTo>
                <a:lnTo>
                  <a:pt x="8529" y="1208"/>
                </a:lnTo>
                <a:lnTo>
                  <a:pt x="8532" y="1185"/>
                </a:lnTo>
                <a:lnTo>
                  <a:pt x="8534" y="1161"/>
                </a:lnTo>
                <a:lnTo>
                  <a:pt x="8534" y="1138"/>
                </a:lnTo>
                <a:lnTo>
                  <a:pt x="8533" y="1116"/>
                </a:lnTo>
                <a:lnTo>
                  <a:pt x="8531" y="1093"/>
                </a:lnTo>
                <a:lnTo>
                  <a:pt x="8527" y="1072"/>
                </a:lnTo>
                <a:lnTo>
                  <a:pt x="8521" y="1051"/>
                </a:lnTo>
                <a:lnTo>
                  <a:pt x="8515" y="1029"/>
                </a:lnTo>
                <a:lnTo>
                  <a:pt x="8506" y="1010"/>
                </a:lnTo>
                <a:lnTo>
                  <a:pt x="8495" y="989"/>
                </a:lnTo>
                <a:lnTo>
                  <a:pt x="8484" y="970"/>
                </a:lnTo>
                <a:lnTo>
                  <a:pt x="8471" y="951"/>
                </a:lnTo>
                <a:lnTo>
                  <a:pt x="8456" y="933"/>
                </a:lnTo>
                <a:lnTo>
                  <a:pt x="8440" y="914"/>
                </a:lnTo>
                <a:lnTo>
                  <a:pt x="8422" y="897"/>
                </a:lnTo>
                <a:lnTo>
                  <a:pt x="8404" y="879"/>
                </a:lnTo>
                <a:lnTo>
                  <a:pt x="8383" y="862"/>
                </a:lnTo>
                <a:lnTo>
                  <a:pt x="8361" y="845"/>
                </a:lnTo>
                <a:lnTo>
                  <a:pt x="8337" y="830"/>
                </a:lnTo>
                <a:lnTo>
                  <a:pt x="8312" y="815"/>
                </a:lnTo>
                <a:lnTo>
                  <a:pt x="8285" y="799"/>
                </a:lnTo>
                <a:lnTo>
                  <a:pt x="8257" y="785"/>
                </a:lnTo>
                <a:lnTo>
                  <a:pt x="8227" y="770"/>
                </a:lnTo>
                <a:lnTo>
                  <a:pt x="8196" y="756"/>
                </a:lnTo>
                <a:lnTo>
                  <a:pt x="8163" y="743"/>
                </a:lnTo>
                <a:lnTo>
                  <a:pt x="8129" y="729"/>
                </a:lnTo>
                <a:lnTo>
                  <a:pt x="8093" y="717"/>
                </a:lnTo>
                <a:lnTo>
                  <a:pt x="7869" y="663"/>
                </a:lnTo>
                <a:lnTo>
                  <a:pt x="7647" y="615"/>
                </a:lnTo>
                <a:lnTo>
                  <a:pt x="7426" y="573"/>
                </a:lnTo>
                <a:lnTo>
                  <a:pt x="7206" y="537"/>
                </a:lnTo>
                <a:lnTo>
                  <a:pt x="6990" y="507"/>
                </a:lnTo>
                <a:lnTo>
                  <a:pt x="6775" y="482"/>
                </a:lnTo>
                <a:lnTo>
                  <a:pt x="6563" y="465"/>
                </a:lnTo>
                <a:lnTo>
                  <a:pt x="6352" y="454"/>
                </a:lnTo>
                <a:lnTo>
                  <a:pt x="6143" y="449"/>
                </a:lnTo>
                <a:lnTo>
                  <a:pt x="5936" y="451"/>
                </a:lnTo>
                <a:lnTo>
                  <a:pt x="5731" y="461"/>
                </a:lnTo>
                <a:lnTo>
                  <a:pt x="5530" y="477"/>
                </a:lnTo>
                <a:lnTo>
                  <a:pt x="5330" y="500"/>
                </a:lnTo>
                <a:lnTo>
                  <a:pt x="5133" y="531"/>
                </a:lnTo>
                <a:lnTo>
                  <a:pt x="4937" y="569"/>
                </a:lnTo>
                <a:lnTo>
                  <a:pt x="4745" y="615"/>
                </a:lnTo>
                <a:lnTo>
                  <a:pt x="4555" y="668"/>
                </a:lnTo>
                <a:lnTo>
                  <a:pt x="4367" y="730"/>
                </a:lnTo>
                <a:lnTo>
                  <a:pt x="4182" y="799"/>
                </a:lnTo>
                <a:lnTo>
                  <a:pt x="4000" y="877"/>
                </a:lnTo>
                <a:lnTo>
                  <a:pt x="3820" y="963"/>
                </a:lnTo>
                <a:lnTo>
                  <a:pt x="3643" y="1057"/>
                </a:lnTo>
                <a:lnTo>
                  <a:pt x="3468" y="1160"/>
                </a:lnTo>
                <a:lnTo>
                  <a:pt x="3298" y="1272"/>
                </a:lnTo>
                <a:lnTo>
                  <a:pt x="3129" y="1393"/>
                </a:lnTo>
                <a:lnTo>
                  <a:pt x="2962" y="1522"/>
                </a:lnTo>
                <a:lnTo>
                  <a:pt x="2800" y="1661"/>
                </a:lnTo>
                <a:lnTo>
                  <a:pt x="2640" y="1809"/>
                </a:lnTo>
                <a:lnTo>
                  <a:pt x="2483" y="1966"/>
                </a:lnTo>
                <a:lnTo>
                  <a:pt x="2329" y="2134"/>
                </a:lnTo>
                <a:lnTo>
                  <a:pt x="2179" y="2310"/>
                </a:lnTo>
                <a:lnTo>
                  <a:pt x="2030" y="2497"/>
                </a:lnTo>
                <a:lnTo>
                  <a:pt x="1977" y="2527"/>
                </a:lnTo>
                <a:lnTo>
                  <a:pt x="1918" y="2555"/>
                </a:lnTo>
                <a:lnTo>
                  <a:pt x="1855" y="2578"/>
                </a:lnTo>
                <a:lnTo>
                  <a:pt x="1788" y="2599"/>
                </a:lnTo>
                <a:lnTo>
                  <a:pt x="1718" y="2616"/>
                </a:lnTo>
                <a:lnTo>
                  <a:pt x="1645" y="2630"/>
                </a:lnTo>
                <a:lnTo>
                  <a:pt x="1569" y="2640"/>
                </a:lnTo>
                <a:lnTo>
                  <a:pt x="1490" y="2647"/>
                </a:lnTo>
                <a:lnTo>
                  <a:pt x="1410" y="2650"/>
                </a:lnTo>
                <a:lnTo>
                  <a:pt x="1329" y="2650"/>
                </a:lnTo>
                <a:lnTo>
                  <a:pt x="1247" y="2646"/>
                </a:lnTo>
                <a:lnTo>
                  <a:pt x="1163" y="2639"/>
                </a:lnTo>
                <a:lnTo>
                  <a:pt x="1080" y="2628"/>
                </a:lnTo>
                <a:lnTo>
                  <a:pt x="997" y="2613"/>
                </a:lnTo>
                <a:lnTo>
                  <a:pt x="914" y="2595"/>
                </a:lnTo>
                <a:lnTo>
                  <a:pt x="833" y="2572"/>
                </a:lnTo>
                <a:lnTo>
                  <a:pt x="753" y="2545"/>
                </a:lnTo>
                <a:lnTo>
                  <a:pt x="675" y="2515"/>
                </a:lnTo>
                <a:lnTo>
                  <a:pt x="599" y="2481"/>
                </a:lnTo>
                <a:lnTo>
                  <a:pt x="526" y="2443"/>
                </a:lnTo>
                <a:lnTo>
                  <a:pt x="456" y="2399"/>
                </a:lnTo>
                <a:lnTo>
                  <a:pt x="389" y="2353"/>
                </a:lnTo>
                <a:lnTo>
                  <a:pt x="326" y="2302"/>
                </a:lnTo>
                <a:lnTo>
                  <a:pt x="267" y="2247"/>
                </a:lnTo>
                <a:lnTo>
                  <a:pt x="213" y="2188"/>
                </a:lnTo>
                <a:lnTo>
                  <a:pt x="165" y="2124"/>
                </a:lnTo>
                <a:lnTo>
                  <a:pt x="120" y="2056"/>
                </a:lnTo>
                <a:lnTo>
                  <a:pt x="83" y="1983"/>
                </a:lnTo>
                <a:lnTo>
                  <a:pt x="52" y="1906"/>
                </a:lnTo>
                <a:lnTo>
                  <a:pt x="28" y="1824"/>
                </a:lnTo>
                <a:lnTo>
                  <a:pt x="10" y="1738"/>
                </a:lnTo>
                <a:lnTo>
                  <a:pt x="0" y="1648"/>
                </a:lnTo>
                <a:lnTo>
                  <a:pt x="30" y="1113"/>
                </a:lnTo>
                <a:lnTo>
                  <a:pt x="448" y="1054"/>
                </a:lnTo>
                <a:close/>
              </a:path>
            </a:pathLst>
          </a:custGeom>
          <a:solidFill>
            <a:srgbClr val="c3c08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08000" y="4791240"/>
            <a:ext cx="825480" cy="2066760"/>
          </a:xfrm>
          <a:custGeom>
            <a:avLst/>
            <a:gdLst/>
            <a:ahLst/>
            <a:rect l="l" t="t" r="r" b="b"/>
            <a:pathLst>
              <a:path w="3248" h="8310">
                <a:moveTo>
                  <a:pt x="425" y="444"/>
                </a:moveTo>
                <a:lnTo>
                  <a:pt x="230" y="137"/>
                </a:lnTo>
                <a:lnTo>
                  <a:pt x="30" y="0"/>
                </a:lnTo>
                <a:lnTo>
                  <a:pt x="14" y="228"/>
                </a:lnTo>
                <a:lnTo>
                  <a:pt x="4" y="465"/>
                </a:lnTo>
                <a:lnTo>
                  <a:pt x="0" y="709"/>
                </a:lnTo>
                <a:lnTo>
                  <a:pt x="2" y="961"/>
                </a:lnTo>
                <a:lnTo>
                  <a:pt x="10" y="1221"/>
                </a:lnTo>
                <a:lnTo>
                  <a:pt x="22" y="1484"/>
                </a:lnTo>
                <a:lnTo>
                  <a:pt x="38" y="1752"/>
                </a:lnTo>
                <a:lnTo>
                  <a:pt x="59" y="2025"/>
                </a:lnTo>
                <a:lnTo>
                  <a:pt x="83" y="2299"/>
                </a:lnTo>
                <a:lnTo>
                  <a:pt x="111" y="2576"/>
                </a:lnTo>
                <a:lnTo>
                  <a:pt x="142" y="2854"/>
                </a:lnTo>
                <a:lnTo>
                  <a:pt x="176" y="3132"/>
                </a:lnTo>
                <a:lnTo>
                  <a:pt x="212" y="3408"/>
                </a:lnTo>
                <a:lnTo>
                  <a:pt x="251" y="3684"/>
                </a:lnTo>
                <a:lnTo>
                  <a:pt x="291" y="3956"/>
                </a:lnTo>
                <a:lnTo>
                  <a:pt x="334" y="4226"/>
                </a:lnTo>
                <a:lnTo>
                  <a:pt x="377" y="4490"/>
                </a:lnTo>
                <a:lnTo>
                  <a:pt x="421" y="4749"/>
                </a:lnTo>
                <a:lnTo>
                  <a:pt x="465" y="5003"/>
                </a:lnTo>
                <a:lnTo>
                  <a:pt x="510" y="5249"/>
                </a:lnTo>
                <a:lnTo>
                  <a:pt x="554" y="5488"/>
                </a:lnTo>
                <a:lnTo>
                  <a:pt x="597" y="5717"/>
                </a:lnTo>
                <a:lnTo>
                  <a:pt x="640" y="5937"/>
                </a:lnTo>
                <a:lnTo>
                  <a:pt x="681" y="6146"/>
                </a:lnTo>
                <a:lnTo>
                  <a:pt x="759" y="6529"/>
                </a:lnTo>
                <a:lnTo>
                  <a:pt x="829" y="6859"/>
                </a:lnTo>
                <a:lnTo>
                  <a:pt x="887" y="7128"/>
                </a:lnTo>
                <a:lnTo>
                  <a:pt x="930" y="7330"/>
                </a:lnTo>
                <a:lnTo>
                  <a:pt x="944" y="7438"/>
                </a:lnTo>
                <a:lnTo>
                  <a:pt x="970" y="7540"/>
                </a:lnTo>
                <a:lnTo>
                  <a:pt x="1008" y="7636"/>
                </a:lnTo>
                <a:lnTo>
                  <a:pt x="1056" y="7726"/>
                </a:lnTo>
                <a:lnTo>
                  <a:pt x="1113" y="7810"/>
                </a:lnTo>
                <a:lnTo>
                  <a:pt x="1180" y="7888"/>
                </a:lnTo>
                <a:lnTo>
                  <a:pt x="1254" y="7959"/>
                </a:lnTo>
                <a:lnTo>
                  <a:pt x="1337" y="8024"/>
                </a:lnTo>
                <a:lnTo>
                  <a:pt x="1424" y="8083"/>
                </a:lnTo>
                <a:lnTo>
                  <a:pt x="1518" y="8135"/>
                </a:lnTo>
                <a:lnTo>
                  <a:pt x="1615" y="8180"/>
                </a:lnTo>
                <a:lnTo>
                  <a:pt x="1717" y="8218"/>
                </a:lnTo>
                <a:lnTo>
                  <a:pt x="1822" y="8251"/>
                </a:lnTo>
                <a:lnTo>
                  <a:pt x="1928" y="8276"/>
                </a:lnTo>
                <a:lnTo>
                  <a:pt x="2036" y="8295"/>
                </a:lnTo>
                <a:lnTo>
                  <a:pt x="2145" y="8306"/>
                </a:lnTo>
                <a:lnTo>
                  <a:pt x="2252" y="8310"/>
                </a:lnTo>
                <a:lnTo>
                  <a:pt x="2359" y="8307"/>
                </a:lnTo>
                <a:lnTo>
                  <a:pt x="2464" y="8298"/>
                </a:lnTo>
                <a:lnTo>
                  <a:pt x="2565" y="8280"/>
                </a:lnTo>
                <a:lnTo>
                  <a:pt x="2662" y="8255"/>
                </a:lnTo>
                <a:lnTo>
                  <a:pt x="2756" y="8224"/>
                </a:lnTo>
                <a:lnTo>
                  <a:pt x="2843" y="8185"/>
                </a:lnTo>
                <a:lnTo>
                  <a:pt x="2925" y="8137"/>
                </a:lnTo>
                <a:lnTo>
                  <a:pt x="2999" y="8083"/>
                </a:lnTo>
                <a:lnTo>
                  <a:pt x="3066" y="8020"/>
                </a:lnTo>
                <a:lnTo>
                  <a:pt x="3122" y="7950"/>
                </a:lnTo>
                <a:lnTo>
                  <a:pt x="3171" y="7873"/>
                </a:lnTo>
                <a:lnTo>
                  <a:pt x="3208" y="7786"/>
                </a:lnTo>
                <a:lnTo>
                  <a:pt x="3233" y="7693"/>
                </a:lnTo>
                <a:lnTo>
                  <a:pt x="3247" y="7591"/>
                </a:lnTo>
                <a:lnTo>
                  <a:pt x="3248" y="7481"/>
                </a:lnTo>
                <a:lnTo>
                  <a:pt x="3194" y="7299"/>
                </a:lnTo>
                <a:lnTo>
                  <a:pt x="3142" y="7116"/>
                </a:lnTo>
                <a:lnTo>
                  <a:pt x="3091" y="6934"/>
                </a:lnTo>
                <a:lnTo>
                  <a:pt x="3042" y="6751"/>
                </a:lnTo>
                <a:lnTo>
                  <a:pt x="2995" y="6568"/>
                </a:lnTo>
                <a:lnTo>
                  <a:pt x="2948" y="6384"/>
                </a:lnTo>
                <a:lnTo>
                  <a:pt x="2903" y="6201"/>
                </a:lnTo>
                <a:lnTo>
                  <a:pt x="2860" y="6016"/>
                </a:lnTo>
                <a:lnTo>
                  <a:pt x="2818" y="5832"/>
                </a:lnTo>
                <a:lnTo>
                  <a:pt x="2777" y="5648"/>
                </a:lnTo>
                <a:lnTo>
                  <a:pt x="2737" y="5464"/>
                </a:lnTo>
                <a:lnTo>
                  <a:pt x="2700" y="5279"/>
                </a:lnTo>
                <a:lnTo>
                  <a:pt x="2663" y="5094"/>
                </a:lnTo>
                <a:lnTo>
                  <a:pt x="2629" y="4909"/>
                </a:lnTo>
                <a:lnTo>
                  <a:pt x="2596" y="4724"/>
                </a:lnTo>
                <a:lnTo>
                  <a:pt x="2564" y="4538"/>
                </a:lnTo>
                <a:lnTo>
                  <a:pt x="2534" y="4352"/>
                </a:lnTo>
                <a:lnTo>
                  <a:pt x="2505" y="4166"/>
                </a:lnTo>
                <a:lnTo>
                  <a:pt x="2477" y="3980"/>
                </a:lnTo>
                <a:lnTo>
                  <a:pt x="2452" y="3794"/>
                </a:lnTo>
                <a:lnTo>
                  <a:pt x="2428" y="3608"/>
                </a:lnTo>
                <a:lnTo>
                  <a:pt x="2405" y="3421"/>
                </a:lnTo>
                <a:lnTo>
                  <a:pt x="2385" y="3233"/>
                </a:lnTo>
                <a:lnTo>
                  <a:pt x="2365" y="3046"/>
                </a:lnTo>
                <a:lnTo>
                  <a:pt x="2347" y="2859"/>
                </a:lnTo>
                <a:lnTo>
                  <a:pt x="2330" y="2671"/>
                </a:lnTo>
                <a:lnTo>
                  <a:pt x="2316" y="2484"/>
                </a:lnTo>
                <a:lnTo>
                  <a:pt x="2302" y="2295"/>
                </a:lnTo>
                <a:lnTo>
                  <a:pt x="2291" y="2106"/>
                </a:lnTo>
                <a:lnTo>
                  <a:pt x="2282" y="1918"/>
                </a:lnTo>
                <a:lnTo>
                  <a:pt x="2274" y="1729"/>
                </a:lnTo>
                <a:lnTo>
                  <a:pt x="2266" y="1539"/>
                </a:lnTo>
                <a:lnTo>
                  <a:pt x="1928" y="1906"/>
                </a:lnTo>
                <a:lnTo>
                  <a:pt x="1928" y="2082"/>
                </a:lnTo>
                <a:lnTo>
                  <a:pt x="1930" y="2259"/>
                </a:lnTo>
                <a:lnTo>
                  <a:pt x="1935" y="2436"/>
                </a:lnTo>
                <a:lnTo>
                  <a:pt x="1942" y="2613"/>
                </a:lnTo>
                <a:lnTo>
                  <a:pt x="1953" y="2790"/>
                </a:lnTo>
                <a:lnTo>
                  <a:pt x="1965" y="2967"/>
                </a:lnTo>
                <a:lnTo>
                  <a:pt x="1978" y="3144"/>
                </a:lnTo>
                <a:lnTo>
                  <a:pt x="1995" y="3321"/>
                </a:lnTo>
                <a:lnTo>
                  <a:pt x="2013" y="3498"/>
                </a:lnTo>
                <a:lnTo>
                  <a:pt x="2034" y="3675"/>
                </a:lnTo>
                <a:lnTo>
                  <a:pt x="2057" y="3852"/>
                </a:lnTo>
                <a:lnTo>
                  <a:pt x="2081" y="4029"/>
                </a:lnTo>
                <a:lnTo>
                  <a:pt x="2108" y="4206"/>
                </a:lnTo>
                <a:lnTo>
                  <a:pt x="2136" y="4383"/>
                </a:lnTo>
                <a:lnTo>
                  <a:pt x="2167" y="4560"/>
                </a:lnTo>
                <a:lnTo>
                  <a:pt x="2198" y="4736"/>
                </a:lnTo>
                <a:lnTo>
                  <a:pt x="2232" y="4913"/>
                </a:lnTo>
                <a:lnTo>
                  <a:pt x="2267" y="5090"/>
                </a:lnTo>
                <a:lnTo>
                  <a:pt x="2304" y="5266"/>
                </a:lnTo>
                <a:lnTo>
                  <a:pt x="2343" y="5442"/>
                </a:lnTo>
                <a:lnTo>
                  <a:pt x="2383" y="5618"/>
                </a:lnTo>
                <a:lnTo>
                  <a:pt x="2425" y="5794"/>
                </a:lnTo>
                <a:lnTo>
                  <a:pt x="2468" y="5969"/>
                </a:lnTo>
                <a:lnTo>
                  <a:pt x="2512" y="6145"/>
                </a:lnTo>
                <a:lnTo>
                  <a:pt x="2557" y="6320"/>
                </a:lnTo>
                <a:lnTo>
                  <a:pt x="2605" y="6496"/>
                </a:lnTo>
                <a:lnTo>
                  <a:pt x="2653" y="6670"/>
                </a:lnTo>
                <a:lnTo>
                  <a:pt x="2701" y="6844"/>
                </a:lnTo>
                <a:lnTo>
                  <a:pt x="2752" y="7019"/>
                </a:lnTo>
                <a:lnTo>
                  <a:pt x="2804" y="7193"/>
                </a:lnTo>
                <a:lnTo>
                  <a:pt x="2857" y="7366"/>
                </a:lnTo>
                <a:lnTo>
                  <a:pt x="2910" y="7540"/>
                </a:lnTo>
                <a:lnTo>
                  <a:pt x="2896" y="7592"/>
                </a:lnTo>
                <a:lnTo>
                  <a:pt x="2874" y="7639"/>
                </a:lnTo>
                <a:lnTo>
                  <a:pt x="2847" y="7682"/>
                </a:lnTo>
                <a:lnTo>
                  <a:pt x="2811" y="7720"/>
                </a:lnTo>
                <a:lnTo>
                  <a:pt x="2769" y="7753"/>
                </a:lnTo>
                <a:lnTo>
                  <a:pt x="2723" y="7780"/>
                </a:lnTo>
                <a:lnTo>
                  <a:pt x="2672" y="7804"/>
                </a:lnTo>
                <a:lnTo>
                  <a:pt x="2615" y="7824"/>
                </a:lnTo>
                <a:lnTo>
                  <a:pt x="2555" y="7839"/>
                </a:lnTo>
                <a:lnTo>
                  <a:pt x="2492" y="7850"/>
                </a:lnTo>
                <a:lnTo>
                  <a:pt x="2425" y="7858"/>
                </a:lnTo>
                <a:lnTo>
                  <a:pt x="2356" y="7863"/>
                </a:lnTo>
                <a:lnTo>
                  <a:pt x="2285" y="7863"/>
                </a:lnTo>
                <a:lnTo>
                  <a:pt x="2213" y="7860"/>
                </a:lnTo>
                <a:lnTo>
                  <a:pt x="2140" y="7853"/>
                </a:lnTo>
                <a:lnTo>
                  <a:pt x="2066" y="7843"/>
                </a:lnTo>
                <a:lnTo>
                  <a:pt x="1993" y="7831"/>
                </a:lnTo>
                <a:lnTo>
                  <a:pt x="1920" y="7815"/>
                </a:lnTo>
                <a:lnTo>
                  <a:pt x="1849" y="7798"/>
                </a:lnTo>
                <a:lnTo>
                  <a:pt x="1779" y="7776"/>
                </a:lnTo>
                <a:lnTo>
                  <a:pt x="1712" y="7754"/>
                </a:lnTo>
                <a:lnTo>
                  <a:pt x="1647" y="7728"/>
                </a:lnTo>
                <a:lnTo>
                  <a:pt x="1585" y="7701"/>
                </a:lnTo>
                <a:lnTo>
                  <a:pt x="1528" y="7671"/>
                </a:lnTo>
                <a:lnTo>
                  <a:pt x="1474" y="7639"/>
                </a:lnTo>
                <a:lnTo>
                  <a:pt x="1426" y="7607"/>
                </a:lnTo>
                <a:lnTo>
                  <a:pt x="1383" y="7572"/>
                </a:lnTo>
                <a:lnTo>
                  <a:pt x="1346" y="7536"/>
                </a:lnTo>
                <a:lnTo>
                  <a:pt x="1315" y="7499"/>
                </a:lnTo>
                <a:lnTo>
                  <a:pt x="1290" y="7460"/>
                </a:lnTo>
                <a:lnTo>
                  <a:pt x="1274" y="7420"/>
                </a:lnTo>
                <a:lnTo>
                  <a:pt x="1266" y="7380"/>
                </a:lnTo>
                <a:lnTo>
                  <a:pt x="1236" y="7259"/>
                </a:lnTo>
                <a:lnTo>
                  <a:pt x="1204" y="7125"/>
                </a:lnTo>
                <a:lnTo>
                  <a:pt x="1171" y="6979"/>
                </a:lnTo>
                <a:lnTo>
                  <a:pt x="1137" y="6823"/>
                </a:lnTo>
                <a:lnTo>
                  <a:pt x="1102" y="6655"/>
                </a:lnTo>
                <a:lnTo>
                  <a:pt x="1066" y="6478"/>
                </a:lnTo>
                <a:lnTo>
                  <a:pt x="1029" y="6292"/>
                </a:lnTo>
                <a:lnTo>
                  <a:pt x="992" y="6099"/>
                </a:lnTo>
                <a:lnTo>
                  <a:pt x="954" y="5899"/>
                </a:lnTo>
                <a:lnTo>
                  <a:pt x="916" y="5692"/>
                </a:lnTo>
                <a:lnTo>
                  <a:pt x="878" y="5482"/>
                </a:lnTo>
                <a:lnTo>
                  <a:pt x="840" y="5266"/>
                </a:lnTo>
                <a:lnTo>
                  <a:pt x="802" y="5047"/>
                </a:lnTo>
                <a:lnTo>
                  <a:pt x="765" y="4825"/>
                </a:lnTo>
                <a:lnTo>
                  <a:pt x="728" y="4602"/>
                </a:lnTo>
                <a:lnTo>
                  <a:pt x="691" y="4378"/>
                </a:lnTo>
                <a:lnTo>
                  <a:pt x="656" y="4155"/>
                </a:lnTo>
                <a:lnTo>
                  <a:pt x="621" y="3932"/>
                </a:lnTo>
                <a:lnTo>
                  <a:pt x="588" y="3711"/>
                </a:lnTo>
                <a:lnTo>
                  <a:pt x="556" y="3493"/>
                </a:lnTo>
                <a:lnTo>
                  <a:pt x="525" y="3278"/>
                </a:lnTo>
                <a:lnTo>
                  <a:pt x="496" y="3068"/>
                </a:lnTo>
                <a:lnTo>
                  <a:pt x="469" y="2863"/>
                </a:lnTo>
                <a:lnTo>
                  <a:pt x="444" y="2665"/>
                </a:lnTo>
                <a:lnTo>
                  <a:pt x="421" y="2472"/>
                </a:lnTo>
                <a:lnTo>
                  <a:pt x="400" y="2289"/>
                </a:lnTo>
                <a:lnTo>
                  <a:pt x="382" y="2114"/>
                </a:lnTo>
                <a:lnTo>
                  <a:pt x="367" y="1949"/>
                </a:lnTo>
                <a:lnTo>
                  <a:pt x="353" y="1794"/>
                </a:lnTo>
                <a:lnTo>
                  <a:pt x="343" y="1651"/>
                </a:lnTo>
                <a:lnTo>
                  <a:pt x="336" y="1520"/>
                </a:lnTo>
                <a:lnTo>
                  <a:pt x="332" y="1403"/>
                </a:lnTo>
                <a:lnTo>
                  <a:pt x="356" y="1013"/>
                </a:lnTo>
                <a:lnTo>
                  <a:pt x="379" y="559"/>
                </a:lnTo>
                <a:lnTo>
                  <a:pt x="425" y="444"/>
                </a:lnTo>
                <a:close/>
              </a:path>
            </a:pathLst>
          </a:custGeom>
          <a:solidFill>
            <a:srgbClr val="7586b1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556400" y="181080"/>
            <a:ext cx="1587600" cy="715680"/>
            <a:chOff x="7556400" y="181080"/>
            <a:chExt cx="1587600" cy="715680"/>
          </a:xfrm>
        </p:grpSpPr>
        <p:sp>
          <p:nvSpPr>
            <p:cNvPr id="246" name=""/>
            <p:cNvSpPr/>
            <p:nvPr/>
          </p:nvSpPr>
          <p:spPr>
            <a:xfrm>
              <a:off x="7880400" y="306360"/>
              <a:ext cx="39600" cy="111240"/>
            </a:xfrm>
            <a:custGeom>
              <a:avLst/>
              <a:gdLst/>
              <a:ahLst/>
              <a:rect l="l" t="t" r="r" b="b"/>
              <a:pathLst>
                <a:path w="481" h="1309">
                  <a:moveTo>
                    <a:pt x="0" y="1309"/>
                  </a:moveTo>
                  <a:lnTo>
                    <a:pt x="0" y="1244"/>
                  </a:lnTo>
                  <a:lnTo>
                    <a:pt x="0" y="1226"/>
                  </a:lnTo>
                  <a:lnTo>
                    <a:pt x="2" y="1221"/>
                  </a:lnTo>
                  <a:lnTo>
                    <a:pt x="7" y="1217"/>
                  </a:lnTo>
                  <a:lnTo>
                    <a:pt x="13" y="1210"/>
                  </a:lnTo>
                  <a:lnTo>
                    <a:pt x="20" y="1206"/>
                  </a:lnTo>
                  <a:lnTo>
                    <a:pt x="32" y="1196"/>
                  </a:lnTo>
                  <a:lnTo>
                    <a:pt x="41" y="1190"/>
                  </a:lnTo>
                  <a:lnTo>
                    <a:pt x="48" y="1181"/>
                  </a:lnTo>
                  <a:lnTo>
                    <a:pt x="56" y="1171"/>
                  </a:lnTo>
                  <a:lnTo>
                    <a:pt x="63" y="1160"/>
                  </a:lnTo>
                  <a:lnTo>
                    <a:pt x="69" y="1149"/>
                  </a:lnTo>
                  <a:lnTo>
                    <a:pt x="73" y="1137"/>
                  </a:lnTo>
                  <a:lnTo>
                    <a:pt x="75" y="1124"/>
                  </a:lnTo>
                  <a:lnTo>
                    <a:pt x="77" y="1112"/>
                  </a:lnTo>
                  <a:lnTo>
                    <a:pt x="77" y="1094"/>
                  </a:lnTo>
                  <a:lnTo>
                    <a:pt x="77" y="1082"/>
                  </a:lnTo>
                  <a:lnTo>
                    <a:pt x="77" y="937"/>
                  </a:lnTo>
                  <a:lnTo>
                    <a:pt x="77" y="227"/>
                  </a:lnTo>
                  <a:lnTo>
                    <a:pt x="77" y="202"/>
                  </a:lnTo>
                  <a:lnTo>
                    <a:pt x="77" y="180"/>
                  </a:lnTo>
                  <a:lnTo>
                    <a:pt x="72" y="166"/>
                  </a:lnTo>
                  <a:lnTo>
                    <a:pt x="66" y="152"/>
                  </a:lnTo>
                  <a:lnTo>
                    <a:pt x="58" y="139"/>
                  </a:lnTo>
                  <a:lnTo>
                    <a:pt x="50" y="127"/>
                  </a:lnTo>
                  <a:lnTo>
                    <a:pt x="36" y="113"/>
                  </a:lnTo>
                  <a:lnTo>
                    <a:pt x="20" y="105"/>
                  </a:lnTo>
                  <a:lnTo>
                    <a:pt x="13" y="100"/>
                  </a:lnTo>
                  <a:lnTo>
                    <a:pt x="7" y="96"/>
                  </a:lnTo>
                  <a:lnTo>
                    <a:pt x="2" y="91"/>
                  </a:lnTo>
                  <a:lnTo>
                    <a:pt x="0" y="86"/>
                  </a:lnTo>
                  <a:lnTo>
                    <a:pt x="0" y="67"/>
                  </a:lnTo>
                  <a:lnTo>
                    <a:pt x="0" y="0"/>
                  </a:lnTo>
                  <a:lnTo>
                    <a:pt x="481" y="0"/>
                  </a:lnTo>
                  <a:lnTo>
                    <a:pt x="481" y="65"/>
                  </a:lnTo>
                  <a:lnTo>
                    <a:pt x="481" y="82"/>
                  </a:lnTo>
                  <a:lnTo>
                    <a:pt x="462" y="104"/>
                  </a:lnTo>
                  <a:lnTo>
                    <a:pt x="452" y="111"/>
                  </a:lnTo>
                  <a:lnTo>
                    <a:pt x="438" y="125"/>
                  </a:lnTo>
                  <a:lnTo>
                    <a:pt x="424" y="141"/>
                  </a:lnTo>
                  <a:lnTo>
                    <a:pt x="419" y="152"/>
                  </a:lnTo>
                  <a:lnTo>
                    <a:pt x="414" y="164"/>
                  </a:lnTo>
                  <a:lnTo>
                    <a:pt x="409" y="179"/>
                  </a:lnTo>
                  <a:lnTo>
                    <a:pt x="406" y="196"/>
                  </a:lnTo>
                  <a:lnTo>
                    <a:pt x="406" y="220"/>
                  </a:lnTo>
                  <a:lnTo>
                    <a:pt x="406" y="227"/>
                  </a:lnTo>
                  <a:lnTo>
                    <a:pt x="406" y="1082"/>
                  </a:lnTo>
                  <a:lnTo>
                    <a:pt x="406" y="1094"/>
                  </a:lnTo>
                  <a:lnTo>
                    <a:pt x="406" y="1112"/>
                  </a:lnTo>
                  <a:lnTo>
                    <a:pt x="408" y="1123"/>
                  </a:lnTo>
                  <a:lnTo>
                    <a:pt x="410" y="1133"/>
                  </a:lnTo>
                  <a:lnTo>
                    <a:pt x="414" y="1143"/>
                  </a:lnTo>
                  <a:lnTo>
                    <a:pt x="417" y="1152"/>
                  </a:lnTo>
                  <a:lnTo>
                    <a:pt x="422" y="1160"/>
                  </a:lnTo>
                  <a:lnTo>
                    <a:pt x="427" y="1169"/>
                  </a:lnTo>
                  <a:lnTo>
                    <a:pt x="433" y="1176"/>
                  </a:lnTo>
                  <a:lnTo>
                    <a:pt x="440" y="1183"/>
                  </a:lnTo>
                  <a:lnTo>
                    <a:pt x="457" y="1196"/>
                  </a:lnTo>
                  <a:lnTo>
                    <a:pt x="463" y="1206"/>
                  </a:lnTo>
                  <a:lnTo>
                    <a:pt x="481" y="1223"/>
                  </a:lnTo>
                  <a:lnTo>
                    <a:pt x="481" y="1244"/>
                  </a:lnTo>
                  <a:lnTo>
                    <a:pt x="481" y="1309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1800" y="333360"/>
              <a:ext cx="83880" cy="84240"/>
            </a:xfrm>
            <a:custGeom>
              <a:avLst/>
              <a:gdLst/>
              <a:ahLst/>
              <a:rect l="l" t="t" r="r" b="b"/>
              <a:pathLst>
                <a:path w="1035" h="978">
                  <a:moveTo>
                    <a:pt x="0" y="978"/>
                  </a:moveTo>
                  <a:lnTo>
                    <a:pt x="0" y="916"/>
                  </a:lnTo>
                  <a:lnTo>
                    <a:pt x="0" y="909"/>
                  </a:lnTo>
                  <a:lnTo>
                    <a:pt x="2" y="903"/>
                  </a:lnTo>
                  <a:lnTo>
                    <a:pt x="4" y="897"/>
                  </a:lnTo>
                  <a:lnTo>
                    <a:pt x="8" y="890"/>
                  </a:lnTo>
                  <a:lnTo>
                    <a:pt x="14" y="886"/>
                  </a:lnTo>
                  <a:lnTo>
                    <a:pt x="20" y="881"/>
                  </a:lnTo>
                  <a:lnTo>
                    <a:pt x="28" y="877"/>
                  </a:lnTo>
                  <a:lnTo>
                    <a:pt x="38" y="873"/>
                  </a:lnTo>
                  <a:lnTo>
                    <a:pt x="61" y="865"/>
                  </a:lnTo>
                  <a:lnTo>
                    <a:pt x="65" y="862"/>
                  </a:lnTo>
                  <a:lnTo>
                    <a:pt x="68" y="859"/>
                  </a:lnTo>
                  <a:lnTo>
                    <a:pt x="71" y="851"/>
                  </a:lnTo>
                  <a:lnTo>
                    <a:pt x="73" y="843"/>
                  </a:lnTo>
                  <a:lnTo>
                    <a:pt x="73" y="835"/>
                  </a:lnTo>
                  <a:lnTo>
                    <a:pt x="73" y="807"/>
                  </a:lnTo>
                  <a:lnTo>
                    <a:pt x="73" y="793"/>
                  </a:lnTo>
                  <a:lnTo>
                    <a:pt x="73" y="246"/>
                  </a:lnTo>
                  <a:lnTo>
                    <a:pt x="73" y="218"/>
                  </a:lnTo>
                  <a:lnTo>
                    <a:pt x="73" y="197"/>
                  </a:lnTo>
                  <a:lnTo>
                    <a:pt x="68" y="172"/>
                  </a:lnTo>
                  <a:lnTo>
                    <a:pt x="61" y="161"/>
                  </a:lnTo>
                  <a:lnTo>
                    <a:pt x="35" y="156"/>
                  </a:lnTo>
                  <a:lnTo>
                    <a:pt x="22" y="151"/>
                  </a:lnTo>
                  <a:lnTo>
                    <a:pt x="17" y="146"/>
                  </a:lnTo>
                  <a:lnTo>
                    <a:pt x="12" y="143"/>
                  </a:lnTo>
                  <a:lnTo>
                    <a:pt x="8" y="139"/>
                  </a:lnTo>
                  <a:lnTo>
                    <a:pt x="4" y="134"/>
                  </a:lnTo>
                  <a:lnTo>
                    <a:pt x="2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49"/>
                  </a:lnTo>
                  <a:lnTo>
                    <a:pt x="367" y="49"/>
                  </a:lnTo>
                  <a:lnTo>
                    <a:pt x="367" y="102"/>
                  </a:lnTo>
                  <a:lnTo>
                    <a:pt x="380" y="92"/>
                  </a:lnTo>
                  <a:lnTo>
                    <a:pt x="392" y="85"/>
                  </a:lnTo>
                  <a:lnTo>
                    <a:pt x="403" y="76"/>
                  </a:lnTo>
                  <a:lnTo>
                    <a:pt x="415" y="70"/>
                  </a:lnTo>
                  <a:lnTo>
                    <a:pt x="426" y="63"/>
                  </a:lnTo>
                  <a:lnTo>
                    <a:pt x="439" y="57"/>
                  </a:lnTo>
                  <a:lnTo>
                    <a:pt x="451" y="51"/>
                  </a:lnTo>
                  <a:lnTo>
                    <a:pt x="464" y="46"/>
                  </a:lnTo>
                  <a:lnTo>
                    <a:pt x="492" y="35"/>
                  </a:lnTo>
                  <a:lnTo>
                    <a:pt x="517" y="25"/>
                  </a:lnTo>
                  <a:lnTo>
                    <a:pt x="542" y="17"/>
                  </a:lnTo>
                  <a:lnTo>
                    <a:pt x="567" y="11"/>
                  </a:lnTo>
                  <a:lnTo>
                    <a:pt x="590" y="6"/>
                  </a:lnTo>
                  <a:lnTo>
                    <a:pt x="613" y="3"/>
                  </a:lnTo>
                  <a:lnTo>
                    <a:pt x="637" y="0"/>
                  </a:lnTo>
                  <a:lnTo>
                    <a:pt x="659" y="0"/>
                  </a:lnTo>
                  <a:lnTo>
                    <a:pt x="671" y="0"/>
                  </a:lnTo>
                  <a:lnTo>
                    <a:pt x="681" y="0"/>
                  </a:lnTo>
                  <a:lnTo>
                    <a:pt x="690" y="2"/>
                  </a:lnTo>
                  <a:lnTo>
                    <a:pt x="697" y="2"/>
                  </a:lnTo>
                  <a:lnTo>
                    <a:pt x="730" y="6"/>
                  </a:lnTo>
                  <a:lnTo>
                    <a:pt x="761" y="13"/>
                  </a:lnTo>
                  <a:lnTo>
                    <a:pt x="790" y="21"/>
                  </a:lnTo>
                  <a:lnTo>
                    <a:pt x="816" y="31"/>
                  </a:lnTo>
                  <a:lnTo>
                    <a:pt x="829" y="36"/>
                  </a:lnTo>
                  <a:lnTo>
                    <a:pt x="840" y="42"/>
                  </a:lnTo>
                  <a:lnTo>
                    <a:pt x="851" y="49"/>
                  </a:lnTo>
                  <a:lnTo>
                    <a:pt x="862" y="56"/>
                  </a:lnTo>
                  <a:lnTo>
                    <a:pt x="872" y="63"/>
                  </a:lnTo>
                  <a:lnTo>
                    <a:pt x="881" y="71"/>
                  </a:lnTo>
                  <a:lnTo>
                    <a:pt x="890" y="79"/>
                  </a:lnTo>
                  <a:lnTo>
                    <a:pt x="897" y="87"/>
                  </a:lnTo>
                  <a:lnTo>
                    <a:pt x="905" y="97"/>
                  </a:lnTo>
                  <a:lnTo>
                    <a:pt x="912" y="107"/>
                  </a:lnTo>
                  <a:lnTo>
                    <a:pt x="920" y="118"/>
                  </a:lnTo>
                  <a:lnTo>
                    <a:pt x="924" y="129"/>
                  </a:lnTo>
                  <a:lnTo>
                    <a:pt x="931" y="140"/>
                  </a:lnTo>
                  <a:lnTo>
                    <a:pt x="936" y="153"/>
                  </a:lnTo>
                  <a:lnTo>
                    <a:pt x="940" y="165"/>
                  </a:lnTo>
                  <a:lnTo>
                    <a:pt x="944" y="178"/>
                  </a:lnTo>
                  <a:lnTo>
                    <a:pt x="952" y="208"/>
                  </a:lnTo>
                  <a:lnTo>
                    <a:pt x="956" y="238"/>
                  </a:lnTo>
                  <a:lnTo>
                    <a:pt x="959" y="272"/>
                  </a:lnTo>
                  <a:lnTo>
                    <a:pt x="960" y="307"/>
                  </a:lnTo>
                  <a:lnTo>
                    <a:pt x="960" y="792"/>
                  </a:lnTo>
                  <a:lnTo>
                    <a:pt x="960" y="805"/>
                  </a:lnTo>
                  <a:lnTo>
                    <a:pt x="960" y="814"/>
                  </a:lnTo>
                  <a:lnTo>
                    <a:pt x="960" y="834"/>
                  </a:lnTo>
                  <a:lnTo>
                    <a:pt x="961" y="844"/>
                  </a:lnTo>
                  <a:lnTo>
                    <a:pt x="964" y="851"/>
                  </a:lnTo>
                  <a:lnTo>
                    <a:pt x="968" y="856"/>
                  </a:lnTo>
                  <a:lnTo>
                    <a:pt x="971" y="860"/>
                  </a:lnTo>
                  <a:lnTo>
                    <a:pt x="998" y="872"/>
                  </a:lnTo>
                  <a:lnTo>
                    <a:pt x="1007" y="876"/>
                  </a:lnTo>
                  <a:lnTo>
                    <a:pt x="1014" y="881"/>
                  </a:lnTo>
                  <a:lnTo>
                    <a:pt x="1020" y="886"/>
                  </a:lnTo>
                  <a:lnTo>
                    <a:pt x="1025" y="890"/>
                  </a:lnTo>
                  <a:lnTo>
                    <a:pt x="1030" y="897"/>
                  </a:lnTo>
                  <a:lnTo>
                    <a:pt x="1033" y="903"/>
                  </a:lnTo>
                  <a:lnTo>
                    <a:pt x="1034" y="909"/>
                  </a:lnTo>
                  <a:lnTo>
                    <a:pt x="1035" y="916"/>
                  </a:lnTo>
                  <a:lnTo>
                    <a:pt x="1035" y="978"/>
                  </a:lnTo>
                  <a:lnTo>
                    <a:pt x="589" y="978"/>
                  </a:lnTo>
                  <a:lnTo>
                    <a:pt x="589" y="914"/>
                  </a:lnTo>
                  <a:lnTo>
                    <a:pt x="590" y="906"/>
                  </a:lnTo>
                  <a:lnTo>
                    <a:pt x="591" y="900"/>
                  </a:lnTo>
                  <a:lnTo>
                    <a:pt x="595" y="894"/>
                  </a:lnTo>
                  <a:lnTo>
                    <a:pt x="599" y="888"/>
                  </a:lnTo>
                  <a:lnTo>
                    <a:pt x="603" y="883"/>
                  </a:lnTo>
                  <a:lnTo>
                    <a:pt x="611" y="878"/>
                  </a:lnTo>
                  <a:lnTo>
                    <a:pt x="618" y="875"/>
                  </a:lnTo>
                  <a:lnTo>
                    <a:pt x="627" y="871"/>
                  </a:lnTo>
                  <a:lnTo>
                    <a:pt x="640" y="865"/>
                  </a:lnTo>
                  <a:lnTo>
                    <a:pt x="648" y="854"/>
                  </a:lnTo>
                  <a:lnTo>
                    <a:pt x="651" y="843"/>
                  </a:lnTo>
                  <a:lnTo>
                    <a:pt x="651" y="836"/>
                  </a:lnTo>
                  <a:lnTo>
                    <a:pt x="651" y="823"/>
                  </a:lnTo>
                  <a:lnTo>
                    <a:pt x="651" y="807"/>
                  </a:lnTo>
                  <a:lnTo>
                    <a:pt x="651" y="800"/>
                  </a:lnTo>
                  <a:lnTo>
                    <a:pt x="651" y="356"/>
                  </a:lnTo>
                  <a:lnTo>
                    <a:pt x="651" y="327"/>
                  </a:lnTo>
                  <a:lnTo>
                    <a:pt x="651" y="312"/>
                  </a:lnTo>
                  <a:lnTo>
                    <a:pt x="645" y="288"/>
                  </a:lnTo>
                  <a:lnTo>
                    <a:pt x="643" y="277"/>
                  </a:lnTo>
                  <a:lnTo>
                    <a:pt x="639" y="267"/>
                  </a:lnTo>
                  <a:lnTo>
                    <a:pt x="635" y="257"/>
                  </a:lnTo>
                  <a:lnTo>
                    <a:pt x="632" y="250"/>
                  </a:lnTo>
                  <a:lnTo>
                    <a:pt x="627" y="241"/>
                  </a:lnTo>
                  <a:lnTo>
                    <a:pt x="621" y="234"/>
                  </a:lnTo>
                  <a:lnTo>
                    <a:pt x="616" y="227"/>
                  </a:lnTo>
                  <a:lnTo>
                    <a:pt x="608" y="221"/>
                  </a:lnTo>
                  <a:lnTo>
                    <a:pt x="602" y="216"/>
                  </a:lnTo>
                  <a:lnTo>
                    <a:pt x="595" y="213"/>
                  </a:lnTo>
                  <a:lnTo>
                    <a:pt x="586" y="208"/>
                  </a:lnTo>
                  <a:lnTo>
                    <a:pt x="579" y="205"/>
                  </a:lnTo>
                  <a:lnTo>
                    <a:pt x="569" y="203"/>
                  </a:lnTo>
                  <a:lnTo>
                    <a:pt x="560" y="202"/>
                  </a:lnTo>
                  <a:lnTo>
                    <a:pt x="551" y="200"/>
                  </a:lnTo>
                  <a:lnTo>
                    <a:pt x="539" y="200"/>
                  </a:lnTo>
                  <a:lnTo>
                    <a:pt x="526" y="200"/>
                  </a:lnTo>
                  <a:lnTo>
                    <a:pt x="511" y="203"/>
                  </a:lnTo>
                  <a:lnTo>
                    <a:pt x="496" y="207"/>
                  </a:lnTo>
                  <a:lnTo>
                    <a:pt x="480" y="211"/>
                  </a:lnTo>
                  <a:lnTo>
                    <a:pt x="466" y="219"/>
                  </a:lnTo>
                  <a:lnTo>
                    <a:pt x="450" y="226"/>
                  </a:lnTo>
                  <a:lnTo>
                    <a:pt x="434" y="236"/>
                  </a:lnTo>
                  <a:lnTo>
                    <a:pt x="418" y="247"/>
                  </a:lnTo>
                  <a:lnTo>
                    <a:pt x="383" y="277"/>
                  </a:lnTo>
                  <a:lnTo>
                    <a:pt x="383" y="793"/>
                  </a:lnTo>
                  <a:lnTo>
                    <a:pt x="383" y="807"/>
                  </a:lnTo>
                  <a:lnTo>
                    <a:pt x="383" y="827"/>
                  </a:lnTo>
                  <a:lnTo>
                    <a:pt x="383" y="836"/>
                  </a:lnTo>
                  <a:lnTo>
                    <a:pt x="387" y="845"/>
                  </a:lnTo>
                  <a:lnTo>
                    <a:pt x="389" y="851"/>
                  </a:lnTo>
                  <a:lnTo>
                    <a:pt x="393" y="856"/>
                  </a:lnTo>
                  <a:lnTo>
                    <a:pt x="399" y="861"/>
                  </a:lnTo>
                  <a:lnTo>
                    <a:pt x="405" y="865"/>
                  </a:lnTo>
                  <a:lnTo>
                    <a:pt x="419" y="871"/>
                  </a:lnTo>
                  <a:lnTo>
                    <a:pt x="428" y="875"/>
                  </a:lnTo>
                  <a:lnTo>
                    <a:pt x="435" y="878"/>
                  </a:lnTo>
                  <a:lnTo>
                    <a:pt x="441" y="883"/>
                  </a:lnTo>
                  <a:lnTo>
                    <a:pt x="447" y="888"/>
                  </a:lnTo>
                  <a:lnTo>
                    <a:pt x="451" y="894"/>
                  </a:lnTo>
                  <a:lnTo>
                    <a:pt x="453" y="900"/>
                  </a:lnTo>
                  <a:lnTo>
                    <a:pt x="456" y="906"/>
                  </a:lnTo>
                  <a:lnTo>
                    <a:pt x="456" y="914"/>
                  </a:lnTo>
                  <a:lnTo>
                    <a:pt x="456" y="978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10360" y="334800"/>
              <a:ext cx="71640" cy="84240"/>
            </a:xfrm>
            <a:custGeom>
              <a:avLst/>
              <a:gdLst/>
              <a:ahLst/>
              <a:rect l="l" t="t" r="r" b="b"/>
              <a:pathLst>
                <a:path w="857" h="983">
                  <a:moveTo>
                    <a:pt x="857" y="187"/>
                  </a:moveTo>
                  <a:lnTo>
                    <a:pt x="683" y="412"/>
                  </a:lnTo>
                  <a:lnTo>
                    <a:pt x="661" y="401"/>
                  </a:lnTo>
                  <a:lnTo>
                    <a:pt x="642" y="390"/>
                  </a:lnTo>
                  <a:lnTo>
                    <a:pt x="627" y="380"/>
                  </a:lnTo>
                  <a:lnTo>
                    <a:pt x="615" y="373"/>
                  </a:lnTo>
                  <a:lnTo>
                    <a:pt x="608" y="365"/>
                  </a:lnTo>
                  <a:lnTo>
                    <a:pt x="602" y="361"/>
                  </a:lnTo>
                  <a:lnTo>
                    <a:pt x="597" y="354"/>
                  </a:lnTo>
                  <a:lnTo>
                    <a:pt x="593" y="350"/>
                  </a:lnTo>
                  <a:lnTo>
                    <a:pt x="592" y="345"/>
                  </a:lnTo>
                  <a:lnTo>
                    <a:pt x="595" y="310"/>
                  </a:lnTo>
                  <a:lnTo>
                    <a:pt x="597" y="298"/>
                  </a:lnTo>
                  <a:lnTo>
                    <a:pt x="597" y="283"/>
                  </a:lnTo>
                  <a:lnTo>
                    <a:pt x="595" y="271"/>
                  </a:lnTo>
                  <a:lnTo>
                    <a:pt x="594" y="261"/>
                  </a:lnTo>
                  <a:lnTo>
                    <a:pt x="592" y="254"/>
                  </a:lnTo>
                  <a:lnTo>
                    <a:pt x="588" y="246"/>
                  </a:lnTo>
                  <a:lnTo>
                    <a:pt x="582" y="238"/>
                  </a:lnTo>
                  <a:lnTo>
                    <a:pt x="574" y="228"/>
                  </a:lnTo>
                  <a:lnTo>
                    <a:pt x="565" y="218"/>
                  </a:lnTo>
                  <a:lnTo>
                    <a:pt x="557" y="212"/>
                  </a:lnTo>
                  <a:lnTo>
                    <a:pt x="550" y="206"/>
                  </a:lnTo>
                  <a:lnTo>
                    <a:pt x="541" y="201"/>
                  </a:lnTo>
                  <a:lnTo>
                    <a:pt x="531" y="197"/>
                  </a:lnTo>
                  <a:lnTo>
                    <a:pt x="522" y="195"/>
                  </a:lnTo>
                  <a:lnTo>
                    <a:pt x="511" y="192"/>
                  </a:lnTo>
                  <a:lnTo>
                    <a:pt x="499" y="191"/>
                  </a:lnTo>
                  <a:lnTo>
                    <a:pt x="488" y="190"/>
                  </a:lnTo>
                  <a:lnTo>
                    <a:pt x="475" y="192"/>
                  </a:lnTo>
                  <a:lnTo>
                    <a:pt x="453" y="196"/>
                  </a:lnTo>
                  <a:lnTo>
                    <a:pt x="445" y="197"/>
                  </a:lnTo>
                  <a:lnTo>
                    <a:pt x="439" y="200"/>
                  </a:lnTo>
                  <a:lnTo>
                    <a:pt x="432" y="203"/>
                  </a:lnTo>
                  <a:lnTo>
                    <a:pt x="426" y="207"/>
                  </a:lnTo>
                  <a:lnTo>
                    <a:pt x="411" y="217"/>
                  </a:lnTo>
                  <a:lnTo>
                    <a:pt x="397" y="230"/>
                  </a:lnTo>
                  <a:lnTo>
                    <a:pt x="390" y="238"/>
                  </a:lnTo>
                  <a:lnTo>
                    <a:pt x="383" y="246"/>
                  </a:lnTo>
                  <a:lnTo>
                    <a:pt x="375" y="256"/>
                  </a:lnTo>
                  <a:lnTo>
                    <a:pt x="369" y="267"/>
                  </a:lnTo>
                  <a:lnTo>
                    <a:pt x="356" y="292"/>
                  </a:lnTo>
                  <a:lnTo>
                    <a:pt x="342" y="320"/>
                  </a:lnTo>
                  <a:lnTo>
                    <a:pt x="336" y="338"/>
                  </a:lnTo>
                  <a:lnTo>
                    <a:pt x="331" y="352"/>
                  </a:lnTo>
                  <a:lnTo>
                    <a:pt x="326" y="370"/>
                  </a:lnTo>
                  <a:lnTo>
                    <a:pt x="320" y="386"/>
                  </a:lnTo>
                  <a:lnTo>
                    <a:pt x="316" y="401"/>
                  </a:lnTo>
                  <a:lnTo>
                    <a:pt x="314" y="416"/>
                  </a:lnTo>
                  <a:lnTo>
                    <a:pt x="308" y="444"/>
                  </a:lnTo>
                  <a:lnTo>
                    <a:pt x="304" y="472"/>
                  </a:lnTo>
                  <a:lnTo>
                    <a:pt x="301" y="499"/>
                  </a:lnTo>
                  <a:lnTo>
                    <a:pt x="300" y="526"/>
                  </a:lnTo>
                  <a:lnTo>
                    <a:pt x="301" y="558"/>
                  </a:lnTo>
                  <a:lnTo>
                    <a:pt x="305" y="588"/>
                  </a:lnTo>
                  <a:lnTo>
                    <a:pt x="308" y="601"/>
                  </a:lnTo>
                  <a:lnTo>
                    <a:pt x="310" y="615"/>
                  </a:lnTo>
                  <a:lnTo>
                    <a:pt x="314" y="628"/>
                  </a:lnTo>
                  <a:lnTo>
                    <a:pt x="317" y="641"/>
                  </a:lnTo>
                  <a:lnTo>
                    <a:pt x="322" y="653"/>
                  </a:lnTo>
                  <a:lnTo>
                    <a:pt x="327" y="665"/>
                  </a:lnTo>
                  <a:lnTo>
                    <a:pt x="332" y="676"/>
                  </a:lnTo>
                  <a:lnTo>
                    <a:pt x="338" y="686"/>
                  </a:lnTo>
                  <a:lnTo>
                    <a:pt x="344" y="697"/>
                  </a:lnTo>
                  <a:lnTo>
                    <a:pt x="352" y="707"/>
                  </a:lnTo>
                  <a:lnTo>
                    <a:pt x="359" y="715"/>
                  </a:lnTo>
                  <a:lnTo>
                    <a:pt x="368" y="725"/>
                  </a:lnTo>
                  <a:lnTo>
                    <a:pt x="384" y="740"/>
                  </a:lnTo>
                  <a:lnTo>
                    <a:pt x="401" y="752"/>
                  </a:lnTo>
                  <a:lnTo>
                    <a:pt x="419" y="763"/>
                  </a:lnTo>
                  <a:lnTo>
                    <a:pt x="440" y="772"/>
                  </a:lnTo>
                  <a:lnTo>
                    <a:pt x="461" y="779"/>
                  </a:lnTo>
                  <a:lnTo>
                    <a:pt x="485" y="784"/>
                  </a:lnTo>
                  <a:lnTo>
                    <a:pt x="508" y="788"/>
                  </a:lnTo>
                  <a:lnTo>
                    <a:pt x="534" y="788"/>
                  </a:lnTo>
                  <a:lnTo>
                    <a:pt x="561" y="788"/>
                  </a:lnTo>
                  <a:lnTo>
                    <a:pt x="584" y="785"/>
                  </a:lnTo>
                  <a:lnTo>
                    <a:pt x="595" y="783"/>
                  </a:lnTo>
                  <a:lnTo>
                    <a:pt x="605" y="780"/>
                  </a:lnTo>
                  <a:lnTo>
                    <a:pt x="614" y="778"/>
                  </a:lnTo>
                  <a:lnTo>
                    <a:pt x="621" y="774"/>
                  </a:lnTo>
                  <a:lnTo>
                    <a:pt x="637" y="767"/>
                  </a:lnTo>
                  <a:lnTo>
                    <a:pt x="653" y="755"/>
                  </a:lnTo>
                  <a:lnTo>
                    <a:pt x="670" y="740"/>
                  </a:lnTo>
                  <a:lnTo>
                    <a:pt x="688" y="723"/>
                  </a:lnTo>
                  <a:lnTo>
                    <a:pt x="697" y="714"/>
                  </a:lnTo>
                  <a:lnTo>
                    <a:pt x="721" y="687"/>
                  </a:lnTo>
                  <a:lnTo>
                    <a:pt x="729" y="677"/>
                  </a:lnTo>
                  <a:lnTo>
                    <a:pt x="738" y="671"/>
                  </a:lnTo>
                  <a:lnTo>
                    <a:pt x="745" y="666"/>
                  </a:lnTo>
                  <a:lnTo>
                    <a:pt x="753" y="663"/>
                  </a:lnTo>
                  <a:lnTo>
                    <a:pt x="763" y="661"/>
                  </a:lnTo>
                  <a:lnTo>
                    <a:pt x="776" y="660"/>
                  </a:lnTo>
                  <a:lnTo>
                    <a:pt x="796" y="660"/>
                  </a:lnTo>
                  <a:lnTo>
                    <a:pt x="819" y="659"/>
                  </a:lnTo>
                  <a:lnTo>
                    <a:pt x="838" y="659"/>
                  </a:lnTo>
                  <a:lnTo>
                    <a:pt x="838" y="928"/>
                  </a:lnTo>
                  <a:lnTo>
                    <a:pt x="786" y="946"/>
                  </a:lnTo>
                  <a:lnTo>
                    <a:pt x="755" y="955"/>
                  </a:lnTo>
                  <a:lnTo>
                    <a:pt x="725" y="962"/>
                  </a:lnTo>
                  <a:lnTo>
                    <a:pt x="695" y="968"/>
                  </a:lnTo>
                  <a:lnTo>
                    <a:pt x="665" y="973"/>
                  </a:lnTo>
                  <a:lnTo>
                    <a:pt x="637" y="978"/>
                  </a:lnTo>
                  <a:lnTo>
                    <a:pt x="609" y="981"/>
                  </a:lnTo>
                  <a:lnTo>
                    <a:pt x="582" y="982"/>
                  </a:lnTo>
                  <a:lnTo>
                    <a:pt x="555" y="983"/>
                  </a:lnTo>
                  <a:lnTo>
                    <a:pt x="522" y="982"/>
                  </a:lnTo>
                  <a:lnTo>
                    <a:pt x="490" y="979"/>
                  </a:lnTo>
                  <a:lnTo>
                    <a:pt x="459" y="976"/>
                  </a:lnTo>
                  <a:lnTo>
                    <a:pt x="429" y="970"/>
                  </a:lnTo>
                  <a:lnTo>
                    <a:pt x="385" y="960"/>
                  </a:lnTo>
                  <a:lnTo>
                    <a:pt x="342" y="949"/>
                  </a:lnTo>
                  <a:lnTo>
                    <a:pt x="322" y="941"/>
                  </a:lnTo>
                  <a:lnTo>
                    <a:pt x="303" y="935"/>
                  </a:lnTo>
                  <a:lnTo>
                    <a:pt x="283" y="927"/>
                  </a:lnTo>
                  <a:lnTo>
                    <a:pt x="266" y="919"/>
                  </a:lnTo>
                  <a:lnTo>
                    <a:pt x="247" y="911"/>
                  </a:lnTo>
                  <a:lnTo>
                    <a:pt x="230" y="902"/>
                  </a:lnTo>
                  <a:lnTo>
                    <a:pt x="214" y="892"/>
                  </a:lnTo>
                  <a:lnTo>
                    <a:pt x="199" y="882"/>
                  </a:lnTo>
                  <a:lnTo>
                    <a:pt x="183" y="873"/>
                  </a:lnTo>
                  <a:lnTo>
                    <a:pt x="170" y="862"/>
                  </a:lnTo>
                  <a:lnTo>
                    <a:pt x="156" y="850"/>
                  </a:lnTo>
                  <a:lnTo>
                    <a:pt x="143" y="839"/>
                  </a:lnTo>
                  <a:lnTo>
                    <a:pt x="130" y="827"/>
                  </a:lnTo>
                  <a:lnTo>
                    <a:pt x="118" y="815"/>
                  </a:lnTo>
                  <a:lnTo>
                    <a:pt x="107" y="801"/>
                  </a:lnTo>
                  <a:lnTo>
                    <a:pt x="97" y="788"/>
                  </a:lnTo>
                  <a:lnTo>
                    <a:pt x="86" y="773"/>
                  </a:lnTo>
                  <a:lnTo>
                    <a:pt x="76" y="758"/>
                  </a:lnTo>
                  <a:lnTo>
                    <a:pt x="68" y="742"/>
                  </a:lnTo>
                  <a:lnTo>
                    <a:pt x="59" y="726"/>
                  </a:lnTo>
                  <a:lnTo>
                    <a:pt x="50" y="711"/>
                  </a:lnTo>
                  <a:lnTo>
                    <a:pt x="43" y="693"/>
                  </a:lnTo>
                  <a:lnTo>
                    <a:pt x="36" y="675"/>
                  </a:lnTo>
                  <a:lnTo>
                    <a:pt x="30" y="656"/>
                  </a:lnTo>
                  <a:lnTo>
                    <a:pt x="23" y="638"/>
                  </a:lnTo>
                  <a:lnTo>
                    <a:pt x="19" y="618"/>
                  </a:lnTo>
                  <a:lnTo>
                    <a:pt x="14" y="599"/>
                  </a:lnTo>
                  <a:lnTo>
                    <a:pt x="9" y="578"/>
                  </a:lnTo>
                  <a:lnTo>
                    <a:pt x="6" y="556"/>
                  </a:lnTo>
                  <a:lnTo>
                    <a:pt x="4" y="537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4"/>
                  </a:lnTo>
                  <a:lnTo>
                    <a:pt x="0" y="481"/>
                  </a:lnTo>
                  <a:lnTo>
                    <a:pt x="1" y="450"/>
                  </a:lnTo>
                  <a:lnTo>
                    <a:pt x="4" y="419"/>
                  </a:lnTo>
                  <a:lnTo>
                    <a:pt x="9" y="388"/>
                  </a:lnTo>
                  <a:lnTo>
                    <a:pt x="16" y="356"/>
                  </a:lnTo>
                  <a:lnTo>
                    <a:pt x="22" y="337"/>
                  </a:lnTo>
                  <a:lnTo>
                    <a:pt x="28" y="320"/>
                  </a:lnTo>
                  <a:lnTo>
                    <a:pt x="35" y="302"/>
                  </a:lnTo>
                  <a:lnTo>
                    <a:pt x="42" y="284"/>
                  </a:lnTo>
                  <a:lnTo>
                    <a:pt x="49" y="268"/>
                  </a:lnTo>
                  <a:lnTo>
                    <a:pt x="58" y="251"/>
                  </a:lnTo>
                  <a:lnTo>
                    <a:pt x="66" y="235"/>
                  </a:lnTo>
                  <a:lnTo>
                    <a:pt x="75" y="221"/>
                  </a:lnTo>
                  <a:lnTo>
                    <a:pt x="85" y="206"/>
                  </a:lnTo>
                  <a:lnTo>
                    <a:pt x="95" y="191"/>
                  </a:lnTo>
                  <a:lnTo>
                    <a:pt x="106" y="176"/>
                  </a:lnTo>
                  <a:lnTo>
                    <a:pt x="117" y="163"/>
                  </a:lnTo>
                  <a:lnTo>
                    <a:pt x="129" y="149"/>
                  </a:lnTo>
                  <a:lnTo>
                    <a:pt x="142" y="137"/>
                  </a:lnTo>
                  <a:lnTo>
                    <a:pt x="154" y="125"/>
                  </a:lnTo>
                  <a:lnTo>
                    <a:pt x="167" y="113"/>
                  </a:lnTo>
                  <a:lnTo>
                    <a:pt x="181" y="100"/>
                  </a:lnTo>
                  <a:lnTo>
                    <a:pt x="196" y="90"/>
                  </a:lnTo>
                  <a:lnTo>
                    <a:pt x="210" y="79"/>
                  </a:lnTo>
                  <a:lnTo>
                    <a:pt x="225" y="70"/>
                  </a:lnTo>
                  <a:lnTo>
                    <a:pt x="240" y="61"/>
                  </a:lnTo>
                  <a:lnTo>
                    <a:pt x="256" y="52"/>
                  </a:lnTo>
                  <a:lnTo>
                    <a:pt x="271" y="45"/>
                  </a:lnTo>
                  <a:lnTo>
                    <a:pt x="287" y="38"/>
                  </a:lnTo>
                  <a:lnTo>
                    <a:pt x="304" y="31"/>
                  </a:lnTo>
                  <a:lnTo>
                    <a:pt x="320" y="25"/>
                  </a:lnTo>
                  <a:lnTo>
                    <a:pt x="337" y="20"/>
                  </a:lnTo>
                  <a:lnTo>
                    <a:pt x="354" y="16"/>
                  </a:lnTo>
                  <a:lnTo>
                    <a:pt x="373" y="12"/>
                  </a:lnTo>
                  <a:lnTo>
                    <a:pt x="391" y="8"/>
                  </a:lnTo>
                  <a:lnTo>
                    <a:pt x="410" y="6"/>
                  </a:lnTo>
                  <a:lnTo>
                    <a:pt x="428" y="3"/>
                  </a:lnTo>
                  <a:lnTo>
                    <a:pt x="442" y="2"/>
                  </a:lnTo>
                  <a:lnTo>
                    <a:pt x="456" y="1"/>
                  </a:lnTo>
                  <a:lnTo>
                    <a:pt x="471" y="0"/>
                  </a:lnTo>
                  <a:lnTo>
                    <a:pt x="488" y="0"/>
                  </a:lnTo>
                  <a:lnTo>
                    <a:pt x="517" y="1"/>
                  </a:lnTo>
                  <a:lnTo>
                    <a:pt x="545" y="3"/>
                  </a:lnTo>
                  <a:lnTo>
                    <a:pt x="572" y="7"/>
                  </a:lnTo>
                  <a:lnTo>
                    <a:pt x="599" y="12"/>
                  </a:lnTo>
                  <a:lnTo>
                    <a:pt x="626" y="19"/>
                  </a:lnTo>
                  <a:lnTo>
                    <a:pt x="652" y="28"/>
                  </a:lnTo>
                  <a:lnTo>
                    <a:pt x="677" y="38"/>
                  </a:lnTo>
                  <a:lnTo>
                    <a:pt x="702" y="50"/>
                  </a:lnTo>
                  <a:lnTo>
                    <a:pt x="726" y="62"/>
                  </a:lnTo>
                  <a:lnTo>
                    <a:pt x="748" y="77"/>
                  </a:lnTo>
                  <a:lnTo>
                    <a:pt x="769" y="93"/>
                  </a:lnTo>
                  <a:lnTo>
                    <a:pt x="790" y="109"/>
                  </a:lnTo>
                  <a:lnTo>
                    <a:pt x="808" y="127"/>
                  </a:lnTo>
                  <a:lnTo>
                    <a:pt x="825" y="146"/>
                  </a:lnTo>
                  <a:lnTo>
                    <a:pt x="843" y="165"/>
                  </a:lnTo>
                  <a:lnTo>
                    <a:pt x="857" y="187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6680" y="333360"/>
              <a:ext cx="85680" cy="87480"/>
            </a:xfrm>
            <a:custGeom>
              <a:avLst/>
              <a:gdLst/>
              <a:ahLst/>
              <a:rect l="l" t="t" r="r" b="b"/>
              <a:pathLst>
                <a:path w="1043" h="1007">
                  <a:moveTo>
                    <a:pt x="0" y="499"/>
                  </a:moveTo>
                  <a:lnTo>
                    <a:pt x="2" y="474"/>
                  </a:lnTo>
                  <a:lnTo>
                    <a:pt x="3" y="448"/>
                  </a:lnTo>
                  <a:lnTo>
                    <a:pt x="4" y="424"/>
                  </a:lnTo>
                  <a:lnTo>
                    <a:pt x="8" y="400"/>
                  </a:lnTo>
                  <a:lnTo>
                    <a:pt x="11" y="377"/>
                  </a:lnTo>
                  <a:lnTo>
                    <a:pt x="16" y="355"/>
                  </a:lnTo>
                  <a:lnTo>
                    <a:pt x="22" y="332"/>
                  </a:lnTo>
                  <a:lnTo>
                    <a:pt x="30" y="312"/>
                  </a:lnTo>
                  <a:lnTo>
                    <a:pt x="37" y="291"/>
                  </a:lnTo>
                  <a:lnTo>
                    <a:pt x="46" y="270"/>
                  </a:lnTo>
                  <a:lnTo>
                    <a:pt x="56" y="250"/>
                  </a:lnTo>
                  <a:lnTo>
                    <a:pt x="66" y="232"/>
                  </a:lnTo>
                  <a:lnTo>
                    <a:pt x="77" y="213"/>
                  </a:lnTo>
                  <a:lnTo>
                    <a:pt x="89" y="196"/>
                  </a:lnTo>
                  <a:lnTo>
                    <a:pt x="102" y="179"/>
                  </a:lnTo>
                  <a:lnTo>
                    <a:pt x="116" y="162"/>
                  </a:lnTo>
                  <a:lnTo>
                    <a:pt x="131" y="146"/>
                  </a:lnTo>
                  <a:lnTo>
                    <a:pt x="147" y="131"/>
                  </a:lnTo>
                  <a:lnTo>
                    <a:pt x="163" y="116"/>
                  </a:lnTo>
                  <a:lnTo>
                    <a:pt x="180" y="103"/>
                  </a:lnTo>
                  <a:lnTo>
                    <a:pt x="197" y="91"/>
                  </a:lnTo>
                  <a:lnTo>
                    <a:pt x="216" y="79"/>
                  </a:lnTo>
                  <a:lnTo>
                    <a:pt x="235" y="68"/>
                  </a:lnTo>
                  <a:lnTo>
                    <a:pt x="255" y="57"/>
                  </a:lnTo>
                  <a:lnTo>
                    <a:pt x="276" y="49"/>
                  </a:lnTo>
                  <a:lnTo>
                    <a:pt x="297" y="39"/>
                  </a:lnTo>
                  <a:lnTo>
                    <a:pt x="319" y="32"/>
                  </a:lnTo>
                  <a:lnTo>
                    <a:pt x="341" y="24"/>
                  </a:lnTo>
                  <a:lnTo>
                    <a:pt x="364" y="18"/>
                  </a:lnTo>
                  <a:lnTo>
                    <a:pt x="389" y="13"/>
                  </a:lnTo>
                  <a:lnTo>
                    <a:pt x="414" y="8"/>
                  </a:lnTo>
                  <a:lnTo>
                    <a:pt x="439" y="5"/>
                  </a:lnTo>
                  <a:lnTo>
                    <a:pt x="460" y="2"/>
                  </a:lnTo>
                  <a:lnTo>
                    <a:pt x="481" y="1"/>
                  </a:lnTo>
                  <a:lnTo>
                    <a:pt x="502" y="0"/>
                  </a:lnTo>
                  <a:lnTo>
                    <a:pt x="523" y="0"/>
                  </a:lnTo>
                  <a:lnTo>
                    <a:pt x="543" y="0"/>
                  </a:lnTo>
                  <a:lnTo>
                    <a:pt x="564" y="1"/>
                  </a:lnTo>
                  <a:lnTo>
                    <a:pt x="585" y="2"/>
                  </a:lnTo>
                  <a:lnTo>
                    <a:pt x="605" y="5"/>
                  </a:lnTo>
                  <a:lnTo>
                    <a:pt x="630" y="8"/>
                  </a:lnTo>
                  <a:lnTo>
                    <a:pt x="655" y="13"/>
                  </a:lnTo>
                  <a:lnTo>
                    <a:pt x="679" y="18"/>
                  </a:lnTo>
                  <a:lnTo>
                    <a:pt x="703" y="24"/>
                  </a:lnTo>
                  <a:lnTo>
                    <a:pt x="725" y="32"/>
                  </a:lnTo>
                  <a:lnTo>
                    <a:pt x="747" y="39"/>
                  </a:lnTo>
                  <a:lnTo>
                    <a:pt x="768" y="48"/>
                  </a:lnTo>
                  <a:lnTo>
                    <a:pt x="789" y="57"/>
                  </a:lnTo>
                  <a:lnTo>
                    <a:pt x="808" y="67"/>
                  </a:lnTo>
                  <a:lnTo>
                    <a:pt x="827" y="78"/>
                  </a:lnTo>
                  <a:lnTo>
                    <a:pt x="845" y="91"/>
                  </a:lnTo>
                  <a:lnTo>
                    <a:pt x="864" y="103"/>
                  </a:lnTo>
                  <a:lnTo>
                    <a:pt x="880" y="116"/>
                  </a:lnTo>
                  <a:lnTo>
                    <a:pt x="897" y="130"/>
                  </a:lnTo>
                  <a:lnTo>
                    <a:pt x="912" y="146"/>
                  </a:lnTo>
                  <a:lnTo>
                    <a:pt x="928" y="161"/>
                  </a:lnTo>
                  <a:lnTo>
                    <a:pt x="941" y="178"/>
                  </a:lnTo>
                  <a:lnTo>
                    <a:pt x="955" y="195"/>
                  </a:lnTo>
                  <a:lnTo>
                    <a:pt x="967" y="212"/>
                  </a:lnTo>
                  <a:lnTo>
                    <a:pt x="978" y="230"/>
                  </a:lnTo>
                  <a:lnTo>
                    <a:pt x="988" y="249"/>
                  </a:lnTo>
                  <a:lnTo>
                    <a:pt x="998" y="269"/>
                  </a:lnTo>
                  <a:lnTo>
                    <a:pt x="1006" y="289"/>
                  </a:lnTo>
                  <a:lnTo>
                    <a:pt x="1015" y="309"/>
                  </a:lnTo>
                  <a:lnTo>
                    <a:pt x="1021" y="331"/>
                  </a:lnTo>
                  <a:lnTo>
                    <a:pt x="1027" y="353"/>
                  </a:lnTo>
                  <a:lnTo>
                    <a:pt x="1032" y="375"/>
                  </a:lnTo>
                  <a:lnTo>
                    <a:pt x="1036" y="399"/>
                  </a:lnTo>
                  <a:lnTo>
                    <a:pt x="1040" y="422"/>
                  </a:lnTo>
                  <a:lnTo>
                    <a:pt x="1042" y="447"/>
                  </a:lnTo>
                  <a:lnTo>
                    <a:pt x="1043" y="471"/>
                  </a:lnTo>
                  <a:lnTo>
                    <a:pt x="1043" y="497"/>
                  </a:lnTo>
                  <a:lnTo>
                    <a:pt x="1043" y="524"/>
                  </a:lnTo>
                  <a:lnTo>
                    <a:pt x="1042" y="549"/>
                  </a:lnTo>
                  <a:lnTo>
                    <a:pt x="1040" y="574"/>
                  </a:lnTo>
                  <a:lnTo>
                    <a:pt x="1036" y="599"/>
                  </a:lnTo>
                  <a:lnTo>
                    <a:pt x="1032" y="622"/>
                  </a:lnTo>
                  <a:lnTo>
                    <a:pt x="1027" y="646"/>
                  </a:lnTo>
                  <a:lnTo>
                    <a:pt x="1022" y="668"/>
                  </a:lnTo>
                  <a:lnTo>
                    <a:pt x="1015" y="690"/>
                  </a:lnTo>
                  <a:lnTo>
                    <a:pt x="1008" y="711"/>
                  </a:lnTo>
                  <a:lnTo>
                    <a:pt x="999" y="731"/>
                  </a:lnTo>
                  <a:lnTo>
                    <a:pt x="990" y="751"/>
                  </a:lnTo>
                  <a:lnTo>
                    <a:pt x="979" y="771"/>
                  </a:lnTo>
                  <a:lnTo>
                    <a:pt x="968" y="789"/>
                  </a:lnTo>
                  <a:lnTo>
                    <a:pt x="956" y="808"/>
                  </a:lnTo>
                  <a:lnTo>
                    <a:pt x="944" y="825"/>
                  </a:lnTo>
                  <a:lnTo>
                    <a:pt x="930" y="842"/>
                  </a:lnTo>
                  <a:lnTo>
                    <a:pt x="915" y="858"/>
                  </a:lnTo>
                  <a:lnTo>
                    <a:pt x="899" y="873"/>
                  </a:lnTo>
                  <a:lnTo>
                    <a:pt x="883" y="887"/>
                  </a:lnTo>
                  <a:lnTo>
                    <a:pt x="867" y="901"/>
                  </a:lnTo>
                  <a:lnTo>
                    <a:pt x="849" y="913"/>
                  </a:lnTo>
                  <a:lnTo>
                    <a:pt x="831" y="925"/>
                  </a:lnTo>
                  <a:lnTo>
                    <a:pt x="812" y="937"/>
                  </a:lnTo>
                  <a:lnTo>
                    <a:pt x="791" y="948"/>
                  </a:lnTo>
                  <a:lnTo>
                    <a:pt x="772" y="956"/>
                  </a:lnTo>
                  <a:lnTo>
                    <a:pt x="749" y="966"/>
                  </a:lnTo>
                  <a:lnTo>
                    <a:pt x="727" y="973"/>
                  </a:lnTo>
                  <a:lnTo>
                    <a:pt x="704" y="981"/>
                  </a:lnTo>
                  <a:lnTo>
                    <a:pt x="681" y="987"/>
                  </a:lnTo>
                  <a:lnTo>
                    <a:pt x="656" y="992"/>
                  </a:lnTo>
                  <a:lnTo>
                    <a:pt x="631" y="997"/>
                  </a:lnTo>
                  <a:lnTo>
                    <a:pt x="605" y="1000"/>
                  </a:lnTo>
                  <a:lnTo>
                    <a:pt x="585" y="1003"/>
                  </a:lnTo>
                  <a:lnTo>
                    <a:pt x="564" y="1004"/>
                  </a:lnTo>
                  <a:lnTo>
                    <a:pt x="543" y="1005"/>
                  </a:lnTo>
                  <a:lnTo>
                    <a:pt x="523" y="1007"/>
                  </a:lnTo>
                  <a:lnTo>
                    <a:pt x="502" y="1005"/>
                  </a:lnTo>
                  <a:lnTo>
                    <a:pt x="481" y="1004"/>
                  </a:lnTo>
                  <a:lnTo>
                    <a:pt x="460" y="1003"/>
                  </a:lnTo>
                  <a:lnTo>
                    <a:pt x="439" y="1000"/>
                  </a:lnTo>
                  <a:lnTo>
                    <a:pt x="414" y="997"/>
                  </a:lnTo>
                  <a:lnTo>
                    <a:pt x="389" y="992"/>
                  </a:lnTo>
                  <a:lnTo>
                    <a:pt x="366" y="987"/>
                  </a:lnTo>
                  <a:lnTo>
                    <a:pt x="342" y="981"/>
                  </a:lnTo>
                  <a:lnTo>
                    <a:pt x="319" y="973"/>
                  </a:lnTo>
                  <a:lnTo>
                    <a:pt x="298" y="965"/>
                  </a:lnTo>
                  <a:lnTo>
                    <a:pt x="276" y="956"/>
                  </a:lnTo>
                  <a:lnTo>
                    <a:pt x="256" y="946"/>
                  </a:lnTo>
                  <a:lnTo>
                    <a:pt x="236" y="935"/>
                  </a:lnTo>
                  <a:lnTo>
                    <a:pt x="217" y="924"/>
                  </a:lnTo>
                  <a:lnTo>
                    <a:pt x="198" y="912"/>
                  </a:lnTo>
                  <a:lnTo>
                    <a:pt x="181" y="898"/>
                  </a:lnTo>
                  <a:lnTo>
                    <a:pt x="164" y="885"/>
                  </a:lnTo>
                  <a:lnTo>
                    <a:pt x="148" y="869"/>
                  </a:lnTo>
                  <a:lnTo>
                    <a:pt x="132" y="854"/>
                  </a:lnTo>
                  <a:lnTo>
                    <a:pt x="117" y="837"/>
                  </a:lnTo>
                  <a:lnTo>
                    <a:pt x="102" y="820"/>
                  </a:lnTo>
                  <a:lnTo>
                    <a:pt x="90" y="801"/>
                  </a:lnTo>
                  <a:lnTo>
                    <a:pt x="78" y="783"/>
                  </a:lnTo>
                  <a:lnTo>
                    <a:pt x="66" y="765"/>
                  </a:lnTo>
                  <a:lnTo>
                    <a:pt x="56" y="745"/>
                  </a:lnTo>
                  <a:lnTo>
                    <a:pt x="46" y="725"/>
                  </a:lnTo>
                  <a:lnTo>
                    <a:pt x="37" y="706"/>
                  </a:lnTo>
                  <a:lnTo>
                    <a:pt x="30" y="685"/>
                  </a:lnTo>
                  <a:lnTo>
                    <a:pt x="22" y="663"/>
                  </a:lnTo>
                  <a:lnTo>
                    <a:pt x="18" y="641"/>
                  </a:lnTo>
                  <a:lnTo>
                    <a:pt x="11" y="618"/>
                  </a:lnTo>
                  <a:lnTo>
                    <a:pt x="8" y="595"/>
                  </a:lnTo>
                  <a:lnTo>
                    <a:pt x="5" y="572"/>
                  </a:lnTo>
                  <a:lnTo>
                    <a:pt x="3" y="549"/>
                  </a:lnTo>
                  <a:lnTo>
                    <a:pt x="2" y="524"/>
                  </a:lnTo>
                  <a:lnTo>
                    <a:pt x="0" y="499"/>
                  </a:lnTo>
                  <a:close/>
                  <a:moveTo>
                    <a:pt x="523" y="828"/>
                  </a:moveTo>
                  <a:lnTo>
                    <a:pt x="537" y="827"/>
                  </a:lnTo>
                  <a:lnTo>
                    <a:pt x="549" y="827"/>
                  </a:lnTo>
                  <a:lnTo>
                    <a:pt x="561" y="825"/>
                  </a:lnTo>
                  <a:lnTo>
                    <a:pt x="572" y="824"/>
                  </a:lnTo>
                  <a:lnTo>
                    <a:pt x="583" y="820"/>
                  </a:lnTo>
                  <a:lnTo>
                    <a:pt x="594" y="817"/>
                  </a:lnTo>
                  <a:lnTo>
                    <a:pt x="605" y="813"/>
                  </a:lnTo>
                  <a:lnTo>
                    <a:pt x="615" y="809"/>
                  </a:lnTo>
                  <a:lnTo>
                    <a:pt x="625" y="803"/>
                  </a:lnTo>
                  <a:lnTo>
                    <a:pt x="635" y="798"/>
                  </a:lnTo>
                  <a:lnTo>
                    <a:pt x="644" y="790"/>
                  </a:lnTo>
                  <a:lnTo>
                    <a:pt x="652" y="784"/>
                  </a:lnTo>
                  <a:lnTo>
                    <a:pt x="661" y="777"/>
                  </a:lnTo>
                  <a:lnTo>
                    <a:pt x="668" y="768"/>
                  </a:lnTo>
                  <a:lnTo>
                    <a:pt x="676" y="760"/>
                  </a:lnTo>
                  <a:lnTo>
                    <a:pt x="682" y="750"/>
                  </a:lnTo>
                  <a:lnTo>
                    <a:pt x="689" y="740"/>
                  </a:lnTo>
                  <a:lnTo>
                    <a:pt x="695" y="729"/>
                  </a:lnTo>
                  <a:lnTo>
                    <a:pt x="700" y="717"/>
                  </a:lnTo>
                  <a:lnTo>
                    <a:pt x="706" y="704"/>
                  </a:lnTo>
                  <a:lnTo>
                    <a:pt x="715" y="677"/>
                  </a:lnTo>
                  <a:lnTo>
                    <a:pt x="722" y="648"/>
                  </a:lnTo>
                  <a:lnTo>
                    <a:pt x="728" y="615"/>
                  </a:lnTo>
                  <a:lnTo>
                    <a:pt x="732" y="579"/>
                  </a:lnTo>
                  <a:lnTo>
                    <a:pt x="735" y="541"/>
                  </a:lnTo>
                  <a:lnTo>
                    <a:pt x="736" y="499"/>
                  </a:lnTo>
                  <a:lnTo>
                    <a:pt x="735" y="459"/>
                  </a:lnTo>
                  <a:lnTo>
                    <a:pt x="732" y="421"/>
                  </a:lnTo>
                  <a:lnTo>
                    <a:pt x="728" y="386"/>
                  </a:lnTo>
                  <a:lnTo>
                    <a:pt x="722" y="355"/>
                  </a:lnTo>
                  <a:lnTo>
                    <a:pt x="715" y="325"/>
                  </a:lnTo>
                  <a:lnTo>
                    <a:pt x="706" y="299"/>
                  </a:lnTo>
                  <a:lnTo>
                    <a:pt x="700" y="287"/>
                  </a:lnTo>
                  <a:lnTo>
                    <a:pt x="695" y="275"/>
                  </a:lnTo>
                  <a:lnTo>
                    <a:pt x="689" y="265"/>
                  </a:lnTo>
                  <a:lnTo>
                    <a:pt x="682" y="255"/>
                  </a:lnTo>
                  <a:lnTo>
                    <a:pt x="676" y="245"/>
                  </a:lnTo>
                  <a:lnTo>
                    <a:pt x="668" y="237"/>
                  </a:lnTo>
                  <a:lnTo>
                    <a:pt x="661" y="228"/>
                  </a:lnTo>
                  <a:lnTo>
                    <a:pt x="652" y="221"/>
                  </a:lnTo>
                  <a:lnTo>
                    <a:pt x="644" y="213"/>
                  </a:lnTo>
                  <a:lnTo>
                    <a:pt x="635" y="207"/>
                  </a:lnTo>
                  <a:lnTo>
                    <a:pt x="625" y="202"/>
                  </a:lnTo>
                  <a:lnTo>
                    <a:pt x="615" y="196"/>
                  </a:lnTo>
                  <a:lnTo>
                    <a:pt x="605" y="192"/>
                  </a:lnTo>
                  <a:lnTo>
                    <a:pt x="594" y="189"/>
                  </a:lnTo>
                  <a:lnTo>
                    <a:pt x="583" y="185"/>
                  </a:lnTo>
                  <a:lnTo>
                    <a:pt x="572" y="183"/>
                  </a:lnTo>
                  <a:lnTo>
                    <a:pt x="561" y="180"/>
                  </a:lnTo>
                  <a:lnTo>
                    <a:pt x="549" y="179"/>
                  </a:lnTo>
                  <a:lnTo>
                    <a:pt x="537" y="178"/>
                  </a:lnTo>
                  <a:lnTo>
                    <a:pt x="523" y="178"/>
                  </a:lnTo>
                  <a:lnTo>
                    <a:pt x="511" y="178"/>
                  </a:lnTo>
                  <a:lnTo>
                    <a:pt x="498" y="179"/>
                  </a:lnTo>
                  <a:lnTo>
                    <a:pt x="486" y="180"/>
                  </a:lnTo>
                  <a:lnTo>
                    <a:pt x="475" y="183"/>
                  </a:lnTo>
                  <a:lnTo>
                    <a:pt x="464" y="185"/>
                  </a:lnTo>
                  <a:lnTo>
                    <a:pt x="453" y="189"/>
                  </a:lnTo>
                  <a:lnTo>
                    <a:pt x="443" y="192"/>
                  </a:lnTo>
                  <a:lnTo>
                    <a:pt x="433" y="196"/>
                  </a:lnTo>
                  <a:lnTo>
                    <a:pt x="423" y="202"/>
                  </a:lnTo>
                  <a:lnTo>
                    <a:pt x="414" y="207"/>
                  </a:lnTo>
                  <a:lnTo>
                    <a:pt x="405" y="213"/>
                  </a:lnTo>
                  <a:lnTo>
                    <a:pt x="396" y="221"/>
                  </a:lnTo>
                  <a:lnTo>
                    <a:pt x="389" y="228"/>
                  </a:lnTo>
                  <a:lnTo>
                    <a:pt x="380" y="237"/>
                  </a:lnTo>
                  <a:lnTo>
                    <a:pt x="373" y="245"/>
                  </a:lnTo>
                  <a:lnTo>
                    <a:pt x="367" y="255"/>
                  </a:lnTo>
                  <a:lnTo>
                    <a:pt x="359" y="265"/>
                  </a:lnTo>
                  <a:lnTo>
                    <a:pt x="353" y="275"/>
                  </a:lnTo>
                  <a:lnTo>
                    <a:pt x="348" y="287"/>
                  </a:lnTo>
                  <a:lnTo>
                    <a:pt x="342" y="299"/>
                  </a:lnTo>
                  <a:lnTo>
                    <a:pt x="337" y="312"/>
                  </a:lnTo>
                  <a:lnTo>
                    <a:pt x="334" y="325"/>
                  </a:lnTo>
                  <a:lnTo>
                    <a:pt x="329" y="340"/>
                  </a:lnTo>
                  <a:lnTo>
                    <a:pt x="325" y="355"/>
                  </a:lnTo>
                  <a:lnTo>
                    <a:pt x="320" y="386"/>
                  </a:lnTo>
                  <a:lnTo>
                    <a:pt x="315" y="421"/>
                  </a:lnTo>
                  <a:lnTo>
                    <a:pt x="313" y="459"/>
                  </a:lnTo>
                  <a:lnTo>
                    <a:pt x="312" y="499"/>
                  </a:lnTo>
                  <a:lnTo>
                    <a:pt x="313" y="540"/>
                  </a:lnTo>
                  <a:lnTo>
                    <a:pt x="315" y="578"/>
                  </a:lnTo>
                  <a:lnTo>
                    <a:pt x="319" y="614"/>
                  </a:lnTo>
                  <a:lnTo>
                    <a:pt x="325" y="646"/>
                  </a:lnTo>
                  <a:lnTo>
                    <a:pt x="329" y="661"/>
                  </a:lnTo>
                  <a:lnTo>
                    <a:pt x="332" y="675"/>
                  </a:lnTo>
                  <a:lnTo>
                    <a:pt x="337" y="690"/>
                  </a:lnTo>
                  <a:lnTo>
                    <a:pt x="342" y="702"/>
                  </a:lnTo>
                  <a:lnTo>
                    <a:pt x="347" y="714"/>
                  </a:lnTo>
                  <a:lnTo>
                    <a:pt x="353" y="727"/>
                  </a:lnTo>
                  <a:lnTo>
                    <a:pt x="359" y="738"/>
                  </a:lnTo>
                  <a:lnTo>
                    <a:pt x="366" y="747"/>
                  </a:lnTo>
                  <a:lnTo>
                    <a:pt x="373" y="757"/>
                  </a:lnTo>
                  <a:lnTo>
                    <a:pt x="379" y="767"/>
                  </a:lnTo>
                  <a:lnTo>
                    <a:pt x="388" y="776"/>
                  </a:lnTo>
                  <a:lnTo>
                    <a:pt x="395" y="783"/>
                  </a:lnTo>
                  <a:lnTo>
                    <a:pt x="404" y="790"/>
                  </a:lnTo>
                  <a:lnTo>
                    <a:pt x="412" y="797"/>
                  </a:lnTo>
                  <a:lnTo>
                    <a:pt x="422" y="803"/>
                  </a:lnTo>
                  <a:lnTo>
                    <a:pt x="432" y="808"/>
                  </a:lnTo>
                  <a:lnTo>
                    <a:pt x="442" y="813"/>
                  </a:lnTo>
                  <a:lnTo>
                    <a:pt x="452" y="816"/>
                  </a:lnTo>
                  <a:lnTo>
                    <a:pt x="463" y="820"/>
                  </a:lnTo>
                  <a:lnTo>
                    <a:pt x="474" y="822"/>
                  </a:lnTo>
                  <a:lnTo>
                    <a:pt x="486" y="825"/>
                  </a:lnTo>
                  <a:lnTo>
                    <a:pt x="497" y="827"/>
                  </a:lnTo>
                  <a:lnTo>
                    <a:pt x="511" y="827"/>
                  </a:lnTo>
                  <a:lnTo>
                    <a:pt x="523" y="828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5600" y="331920"/>
              <a:ext cx="55440" cy="85680"/>
            </a:xfrm>
            <a:custGeom>
              <a:avLst/>
              <a:gdLst/>
              <a:ahLst/>
              <a:rect l="l" t="t" r="r" b="b"/>
              <a:pathLst>
                <a:path w="676" h="992">
                  <a:moveTo>
                    <a:pt x="0" y="992"/>
                  </a:moveTo>
                  <a:lnTo>
                    <a:pt x="0" y="930"/>
                  </a:lnTo>
                  <a:lnTo>
                    <a:pt x="0" y="924"/>
                  </a:lnTo>
                  <a:lnTo>
                    <a:pt x="1" y="918"/>
                  </a:lnTo>
                  <a:lnTo>
                    <a:pt x="2" y="912"/>
                  </a:lnTo>
                  <a:lnTo>
                    <a:pt x="6" y="907"/>
                  </a:lnTo>
                  <a:lnTo>
                    <a:pt x="8" y="902"/>
                  </a:lnTo>
                  <a:lnTo>
                    <a:pt x="13" y="898"/>
                  </a:lnTo>
                  <a:lnTo>
                    <a:pt x="18" y="893"/>
                  </a:lnTo>
                  <a:lnTo>
                    <a:pt x="24" y="890"/>
                  </a:lnTo>
                  <a:lnTo>
                    <a:pt x="39" y="885"/>
                  </a:lnTo>
                  <a:lnTo>
                    <a:pt x="64" y="879"/>
                  </a:lnTo>
                  <a:lnTo>
                    <a:pt x="71" y="873"/>
                  </a:lnTo>
                  <a:lnTo>
                    <a:pt x="75" y="868"/>
                  </a:lnTo>
                  <a:lnTo>
                    <a:pt x="77" y="857"/>
                  </a:lnTo>
                  <a:lnTo>
                    <a:pt x="80" y="850"/>
                  </a:lnTo>
                  <a:lnTo>
                    <a:pt x="80" y="822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5"/>
                  </a:lnTo>
                  <a:lnTo>
                    <a:pt x="80" y="223"/>
                  </a:lnTo>
                  <a:lnTo>
                    <a:pt x="80" y="207"/>
                  </a:lnTo>
                  <a:lnTo>
                    <a:pt x="80" y="189"/>
                  </a:lnTo>
                  <a:lnTo>
                    <a:pt x="77" y="185"/>
                  </a:lnTo>
                  <a:lnTo>
                    <a:pt x="76" y="181"/>
                  </a:lnTo>
                  <a:lnTo>
                    <a:pt x="74" y="179"/>
                  </a:lnTo>
                  <a:lnTo>
                    <a:pt x="71" y="178"/>
                  </a:lnTo>
                  <a:lnTo>
                    <a:pt x="37" y="169"/>
                  </a:lnTo>
                  <a:lnTo>
                    <a:pt x="28" y="165"/>
                  </a:lnTo>
                  <a:lnTo>
                    <a:pt x="21" y="163"/>
                  </a:lnTo>
                  <a:lnTo>
                    <a:pt x="13" y="158"/>
                  </a:lnTo>
                  <a:lnTo>
                    <a:pt x="8" y="153"/>
                  </a:lnTo>
                  <a:lnTo>
                    <a:pt x="5" y="147"/>
                  </a:lnTo>
                  <a:lnTo>
                    <a:pt x="1" y="141"/>
                  </a:lnTo>
                  <a:lnTo>
                    <a:pt x="0" y="13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360" y="63"/>
                  </a:lnTo>
                  <a:lnTo>
                    <a:pt x="360" y="140"/>
                  </a:lnTo>
                  <a:lnTo>
                    <a:pt x="385" y="106"/>
                  </a:lnTo>
                  <a:lnTo>
                    <a:pt x="397" y="93"/>
                  </a:lnTo>
                  <a:lnTo>
                    <a:pt x="411" y="79"/>
                  </a:lnTo>
                  <a:lnTo>
                    <a:pt x="424" y="68"/>
                  </a:lnTo>
                  <a:lnTo>
                    <a:pt x="438" y="57"/>
                  </a:lnTo>
                  <a:lnTo>
                    <a:pt x="452" y="47"/>
                  </a:lnTo>
                  <a:lnTo>
                    <a:pt x="467" y="39"/>
                  </a:lnTo>
                  <a:lnTo>
                    <a:pt x="482" y="30"/>
                  </a:lnTo>
                  <a:lnTo>
                    <a:pt x="498" y="24"/>
                  </a:lnTo>
                  <a:lnTo>
                    <a:pt x="514" y="18"/>
                  </a:lnTo>
                  <a:lnTo>
                    <a:pt x="531" y="13"/>
                  </a:lnTo>
                  <a:lnTo>
                    <a:pt x="550" y="9"/>
                  </a:lnTo>
                  <a:lnTo>
                    <a:pt x="568" y="6"/>
                  </a:lnTo>
                  <a:lnTo>
                    <a:pt x="586" y="3"/>
                  </a:lnTo>
                  <a:lnTo>
                    <a:pt x="607" y="1"/>
                  </a:lnTo>
                  <a:lnTo>
                    <a:pt x="627" y="0"/>
                  </a:lnTo>
                  <a:lnTo>
                    <a:pt x="649" y="0"/>
                  </a:lnTo>
                  <a:lnTo>
                    <a:pt x="676" y="0"/>
                  </a:lnTo>
                  <a:lnTo>
                    <a:pt x="676" y="311"/>
                  </a:lnTo>
                  <a:lnTo>
                    <a:pt x="643" y="314"/>
                  </a:lnTo>
                  <a:lnTo>
                    <a:pt x="610" y="314"/>
                  </a:lnTo>
                  <a:lnTo>
                    <a:pt x="584" y="313"/>
                  </a:lnTo>
                  <a:lnTo>
                    <a:pt x="566" y="311"/>
                  </a:lnTo>
                  <a:lnTo>
                    <a:pt x="556" y="310"/>
                  </a:lnTo>
                  <a:lnTo>
                    <a:pt x="553" y="309"/>
                  </a:lnTo>
                  <a:lnTo>
                    <a:pt x="550" y="305"/>
                  </a:lnTo>
                  <a:lnTo>
                    <a:pt x="547" y="303"/>
                  </a:lnTo>
                  <a:lnTo>
                    <a:pt x="543" y="298"/>
                  </a:lnTo>
                  <a:lnTo>
                    <a:pt x="539" y="288"/>
                  </a:lnTo>
                  <a:lnTo>
                    <a:pt x="532" y="273"/>
                  </a:lnTo>
                  <a:lnTo>
                    <a:pt x="529" y="265"/>
                  </a:lnTo>
                  <a:lnTo>
                    <a:pt x="525" y="252"/>
                  </a:lnTo>
                  <a:lnTo>
                    <a:pt x="523" y="245"/>
                  </a:lnTo>
                  <a:lnTo>
                    <a:pt x="520" y="239"/>
                  </a:lnTo>
                  <a:lnTo>
                    <a:pt x="516" y="233"/>
                  </a:lnTo>
                  <a:lnTo>
                    <a:pt x="513" y="229"/>
                  </a:lnTo>
                  <a:lnTo>
                    <a:pt x="508" y="225"/>
                  </a:lnTo>
                  <a:lnTo>
                    <a:pt x="503" y="223"/>
                  </a:lnTo>
                  <a:lnTo>
                    <a:pt x="498" y="222"/>
                  </a:lnTo>
                  <a:lnTo>
                    <a:pt x="493" y="221"/>
                  </a:lnTo>
                  <a:lnTo>
                    <a:pt x="484" y="222"/>
                  </a:lnTo>
                  <a:lnTo>
                    <a:pt x="476" y="225"/>
                  </a:lnTo>
                  <a:lnTo>
                    <a:pt x="467" y="230"/>
                  </a:lnTo>
                  <a:lnTo>
                    <a:pt x="456" y="238"/>
                  </a:lnTo>
                  <a:lnTo>
                    <a:pt x="434" y="252"/>
                  </a:lnTo>
                  <a:lnTo>
                    <a:pt x="433" y="254"/>
                  </a:lnTo>
                  <a:lnTo>
                    <a:pt x="418" y="270"/>
                  </a:lnTo>
                  <a:lnTo>
                    <a:pt x="412" y="276"/>
                  </a:lnTo>
                  <a:lnTo>
                    <a:pt x="402" y="284"/>
                  </a:lnTo>
                  <a:lnTo>
                    <a:pt x="395" y="292"/>
                  </a:lnTo>
                  <a:lnTo>
                    <a:pt x="391" y="298"/>
                  </a:lnTo>
                  <a:lnTo>
                    <a:pt x="391" y="299"/>
                  </a:lnTo>
                  <a:lnTo>
                    <a:pt x="391" y="302"/>
                  </a:lnTo>
                  <a:lnTo>
                    <a:pt x="391" y="810"/>
                  </a:lnTo>
                  <a:lnTo>
                    <a:pt x="391" y="822"/>
                  </a:lnTo>
                  <a:lnTo>
                    <a:pt x="391" y="847"/>
                  </a:lnTo>
                  <a:lnTo>
                    <a:pt x="393" y="854"/>
                  </a:lnTo>
                  <a:lnTo>
                    <a:pt x="396" y="860"/>
                  </a:lnTo>
                  <a:lnTo>
                    <a:pt x="400" y="865"/>
                  </a:lnTo>
                  <a:lnTo>
                    <a:pt x="402" y="868"/>
                  </a:lnTo>
                  <a:lnTo>
                    <a:pt x="407" y="874"/>
                  </a:lnTo>
                  <a:lnTo>
                    <a:pt x="411" y="877"/>
                  </a:lnTo>
                  <a:lnTo>
                    <a:pt x="413" y="879"/>
                  </a:lnTo>
                  <a:lnTo>
                    <a:pt x="414" y="879"/>
                  </a:lnTo>
                  <a:lnTo>
                    <a:pt x="440" y="885"/>
                  </a:lnTo>
                  <a:lnTo>
                    <a:pt x="456" y="890"/>
                  </a:lnTo>
                  <a:lnTo>
                    <a:pt x="461" y="893"/>
                  </a:lnTo>
                  <a:lnTo>
                    <a:pt x="466" y="898"/>
                  </a:lnTo>
                  <a:lnTo>
                    <a:pt x="470" y="902"/>
                  </a:lnTo>
                  <a:lnTo>
                    <a:pt x="473" y="907"/>
                  </a:lnTo>
                  <a:lnTo>
                    <a:pt x="476" y="912"/>
                  </a:lnTo>
                  <a:lnTo>
                    <a:pt x="478" y="917"/>
                  </a:lnTo>
                  <a:lnTo>
                    <a:pt x="479" y="923"/>
                  </a:lnTo>
                  <a:lnTo>
                    <a:pt x="479" y="928"/>
                  </a:lnTo>
                  <a:lnTo>
                    <a:pt x="479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31040" y="333360"/>
              <a:ext cx="87480" cy="119160"/>
            </a:xfrm>
            <a:custGeom>
              <a:avLst/>
              <a:gdLst/>
              <a:ahLst/>
              <a:rect l="l" t="t" r="r" b="b"/>
              <a:pathLst>
                <a:path w="1075" h="1370">
                  <a:moveTo>
                    <a:pt x="0" y="1370"/>
                  </a:moveTo>
                  <a:lnTo>
                    <a:pt x="0" y="1306"/>
                  </a:lnTo>
                  <a:lnTo>
                    <a:pt x="0" y="1298"/>
                  </a:lnTo>
                  <a:lnTo>
                    <a:pt x="3" y="1290"/>
                  </a:lnTo>
                  <a:lnTo>
                    <a:pt x="5" y="1284"/>
                  </a:lnTo>
                  <a:lnTo>
                    <a:pt x="9" y="1278"/>
                  </a:lnTo>
                  <a:lnTo>
                    <a:pt x="15" y="1273"/>
                  </a:lnTo>
                  <a:lnTo>
                    <a:pt x="21" y="1268"/>
                  </a:lnTo>
                  <a:lnTo>
                    <a:pt x="29" y="1264"/>
                  </a:lnTo>
                  <a:lnTo>
                    <a:pt x="38" y="1262"/>
                  </a:lnTo>
                  <a:lnTo>
                    <a:pt x="57" y="1257"/>
                  </a:lnTo>
                  <a:lnTo>
                    <a:pt x="61" y="1255"/>
                  </a:lnTo>
                  <a:lnTo>
                    <a:pt x="64" y="1250"/>
                  </a:lnTo>
                  <a:lnTo>
                    <a:pt x="68" y="1243"/>
                  </a:lnTo>
                  <a:lnTo>
                    <a:pt x="70" y="1235"/>
                  </a:lnTo>
                  <a:lnTo>
                    <a:pt x="73" y="1228"/>
                  </a:lnTo>
                  <a:lnTo>
                    <a:pt x="77" y="1213"/>
                  </a:lnTo>
                  <a:lnTo>
                    <a:pt x="77" y="1198"/>
                  </a:lnTo>
                  <a:lnTo>
                    <a:pt x="77" y="1189"/>
                  </a:lnTo>
                  <a:lnTo>
                    <a:pt x="77" y="227"/>
                  </a:lnTo>
                  <a:lnTo>
                    <a:pt x="77" y="213"/>
                  </a:lnTo>
                  <a:lnTo>
                    <a:pt x="77" y="195"/>
                  </a:lnTo>
                  <a:lnTo>
                    <a:pt x="77" y="185"/>
                  </a:lnTo>
                  <a:lnTo>
                    <a:pt x="69" y="167"/>
                  </a:lnTo>
                  <a:lnTo>
                    <a:pt x="64" y="156"/>
                  </a:lnTo>
                  <a:lnTo>
                    <a:pt x="37" y="147"/>
                  </a:lnTo>
                  <a:lnTo>
                    <a:pt x="29" y="143"/>
                  </a:lnTo>
                  <a:lnTo>
                    <a:pt x="21" y="140"/>
                  </a:lnTo>
                  <a:lnTo>
                    <a:pt x="14" y="135"/>
                  </a:lnTo>
                  <a:lnTo>
                    <a:pt x="9" y="130"/>
                  </a:lnTo>
                  <a:lnTo>
                    <a:pt x="5" y="125"/>
                  </a:lnTo>
                  <a:lnTo>
                    <a:pt x="3" y="118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41"/>
                  </a:lnTo>
                  <a:lnTo>
                    <a:pt x="389" y="41"/>
                  </a:lnTo>
                  <a:lnTo>
                    <a:pt x="389" y="145"/>
                  </a:lnTo>
                  <a:lnTo>
                    <a:pt x="399" y="132"/>
                  </a:lnTo>
                  <a:lnTo>
                    <a:pt x="409" y="120"/>
                  </a:lnTo>
                  <a:lnTo>
                    <a:pt x="419" y="109"/>
                  </a:lnTo>
                  <a:lnTo>
                    <a:pt x="430" y="98"/>
                  </a:lnTo>
                  <a:lnTo>
                    <a:pt x="441" y="88"/>
                  </a:lnTo>
                  <a:lnTo>
                    <a:pt x="453" y="78"/>
                  </a:lnTo>
                  <a:lnTo>
                    <a:pt x="465" y="68"/>
                  </a:lnTo>
                  <a:lnTo>
                    <a:pt x="478" y="60"/>
                  </a:lnTo>
                  <a:lnTo>
                    <a:pt x="491" y="52"/>
                  </a:lnTo>
                  <a:lnTo>
                    <a:pt x="505" y="44"/>
                  </a:lnTo>
                  <a:lnTo>
                    <a:pt x="518" y="38"/>
                  </a:lnTo>
                  <a:lnTo>
                    <a:pt x="533" y="30"/>
                  </a:lnTo>
                  <a:lnTo>
                    <a:pt x="549" y="24"/>
                  </a:lnTo>
                  <a:lnTo>
                    <a:pt x="564" y="19"/>
                  </a:lnTo>
                  <a:lnTo>
                    <a:pt x="580" y="14"/>
                  </a:lnTo>
                  <a:lnTo>
                    <a:pt x="597" y="9"/>
                  </a:lnTo>
                  <a:lnTo>
                    <a:pt x="618" y="6"/>
                  </a:lnTo>
                  <a:lnTo>
                    <a:pt x="639" y="2"/>
                  </a:lnTo>
                  <a:lnTo>
                    <a:pt x="660" y="0"/>
                  </a:lnTo>
                  <a:lnTo>
                    <a:pt x="681" y="0"/>
                  </a:lnTo>
                  <a:lnTo>
                    <a:pt x="695" y="0"/>
                  </a:lnTo>
                  <a:lnTo>
                    <a:pt x="710" y="1"/>
                  </a:lnTo>
                  <a:lnTo>
                    <a:pt x="725" y="2"/>
                  </a:lnTo>
                  <a:lnTo>
                    <a:pt x="741" y="5"/>
                  </a:lnTo>
                  <a:lnTo>
                    <a:pt x="773" y="11"/>
                  </a:lnTo>
                  <a:lnTo>
                    <a:pt x="805" y="18"/>
                  </a:lnTo>
                  <a:lnTo>
                    <a:pt x="833" y="28"/>
                  </a:lnTo>
                  <a:lnTo>
                    <a:pt x="861" y="40"/>
                  </a:lnTo>
                  <a:lnTo>
                    <a:pt x="875" y="46"/>
                  </a:lnTo>
                  <a:lnTo>
                    <a:pt x="887" y="54"/>
                  </a:lnTo>
                  <a:lnTo>
                    <a:pt x="899" y="61"/>
                  </a:lnTo>
                  <a:lnTo>
                    <a:pt x="912" y="70"/>
                  </a:lnTo>
                  <a:lnTo>
                    <a:pt x="923" y="78"/>
                  </a:lnTo>
                  <a:lnTo>
                    <a:pt x="934" y="87"/>
                  </a:lnTo>
                  <a:lnTo>
                    <a:pt x="945" y="97"/>
                  </a:lnTo>
                  <a:lnTo>
                    <a:pt x="955" y="106"/>
                  </a:lnTo>
                  <a:lnTo>
                    <a:pt x="975" y="129"/>
                  </a:lnTo>
                  <a:lnTo>
                    <a:pt x="993" y="152"/>
                  </a:lnTo>
                  <a:lnTo>
                    <a:pt x="1009" y="178"/>
                  </a:lnTo>
                  <a:lnTo>
                    <a:pt x="1024" y="205"/>
                  </a:lnTo>
                  <a:lnTo>
                    <a:pt x="1036" y="234"/>
                  </a:lnTo>
                  <a:lnTo>
                    <a:pt x="1047" y="265"/>
                  </a:lnTo>
                  <a:lnTo>
                    <a:pt x="1057" y="298"/>
                  </a:lnTo>
                  <a:lnTo>
                    <a:pt x="1064" y="334"/>
                  </a:lnTo>
                  <a:lnTo>
                    <a:pt x="1075" y="420"/>
                  </a:lnTo>
                  <a:lnTo>
                    <a:pt x="1075" y="447"/>
                  </a:lnTo>
                  <a:lnTo>
                    <a:pt x="1074" y="474"/>
                  </a:lnTo>
                  <a:lnTo>
                    <a:pt x="1072" y="501"/>
                  </a:lnTo>
                  <a:lnTo>
                    <a:pt x="1068" y="526"/>
                  </a:lnTo>
                  <a:lnTo>
                    <a:pt x="1063" y="552"/>
                  </a:lnTo>
                  <a:lnTo>
                    <a:pt x="1058" y="577"/>
                  </a:lnTo>
                  <a:lnTo>
                    <a:pt x="1052" y="600"/>
                  </a:lnTo>
                  <a:lnTo>
                    <a:pt x="1045" y="623"/>
                  </a:lnTo>
                  <a:lnTo>
                    <a:pt x="1036" y="647"/>
                  </a:lnTo>
                  <a:lnTo>
                    <a:pt x="1027" y="669"/>
                  </a:lnTo>
                  <a:lnTo>
                    <a:pt x="1016" y="690"/>
                  </a:lnTo>
                  <a:lnTo>
                    <a:pt x="1005" y="711"/>
                  </a:lnTo>
                  <a:lnTo>
                    <a:pt x="993" y="730"/>
                  </a:lnTo>
                  <a:lnTo>
                    <a:pt x="981" y="750"/>
                  </a:lnTo>
                  <a:lnTo>
                    <a:pt x="966" y="768"/>
                  </a:lnTo>
                  <a:lnTo>
                    <a:pt x="951" y="787"/>
                  </a:lnTo>
                  <a:lnTo>
                    <a:pt x="935" y="804"/>
                  </a:lnTo>
                  <a:lnTo>
                    <a:pt x="918" y="821"/>
                  </a:lnTo>
                  <a:lnTo>
                    <a:pt x="901" y="837"/>
                  </a:lnTo>
                  <a:lnTo>
                    <a:pt x="881" y="852"/>
                  </a:lnTo>
                  <a:lnTo>
                    <a:pt x="861" y="865"/>
                  </a:lnTo>
                  <a:lnTo>
                    <a:pt x="840" y="879"/>
                  </a:lnTo>
                  <a:lnTo>
                    <a:pt x="820" y="891"/>
                  </a:lnTo>
                  <a:lnTo>
                    <a:pt x="797" y="902"/>
                  </a:lnTo>
                  <a:lnTo>
                    <a:pt x="774" y="913"/>
                  </a:lnTo>
                  <a:lnTo>
                    <a:pt x="749" y="923"/>
                  </a:lnTo>
                  <a:lnTo>
                    <a:pt x="724" y="932"/>
                  </a:lnTo>
                  <a:lnTo>
                    <a:pt x="698" y="940"/>
                  </a:lnTo>
                  <a:lnTo>
                    <a:pt x="671" y="948"/>
                  </a:lnTo>
                  <a:lnTo>
                    <a:pt x="642" y="954"/>
                  </a:lnTo>
                  <a:lnTo>
                    <a:pt x="614" y="960"/>
                  </a:lnTo>
                  <a:lnTo>
                    <a:pt x="585" y="965"/>
                  </a:lnTo>
                  <a:lnTo>
                    <a:pt x="494" y="970"/>
                  </a:lnTo>
                  <a:lnTo>
                    <a:pt x="389" y="970"/>
                  </a:lnTo>
                  <a:lnTo>
                    <a:pt x="389" y="1171"/>
                  </a:lnTo>
                  <a:lnTo>
                    <a:pt x="389" y="1186"/>
                  </a:lnTo>
                  <a:lnTo>
                    <a:pt x="389" y="1197"/>
                  </a:lnTo>
                  <a:lnTo>
                    <a:pt x="389" y="1215"/>
                  </a:lnTo>
                  <a:lnTo>
                    <a:pt x="389" y="1220"/>
                  </a:lnTo>
                  <a:lnTo>
                    <a:pt x="394" y="1231"/>
                  </a:lnTo>
                  <a:lnTo>
                    <a:pt x="398" y="1240"/>
                  </a:lnTo>
                  <a:lnTo>
                    <a:pt x="401" y="1246"/>
                  </a:lnTo>
                  <a:lnTo>
                    <a:pt x="405" y="1247"/>
                  </a:lnTo>
                  <a:lnTo>
                    <a:pt x="432" y="1253"/>
                  </a:lnTo>
                  <a:lnTo>
                    <a:pt x="439" y="1256"/>
                  </a:lnTo>
                  <a:lnTo>
                    <a:pt x="446" y="1258"/>
                  </a:lnTo>
                  <a:lnTo>
                    <a:pt x="452" y="1261"/>
                  </a:lnTo>
                  <a:lnTo>
                    <a:pt x="457" y="1264"/>
                  </a:lnTo>
                  <a:lnTo>
                    <a:pt x="460" y="1269"/>
                  </a:lnTo>
                  <a:lnTo>
                    <a:pt x="464" y="1273"/>
                  </a:lnTo>
                  <a:lnTo>
                    <a:pt x="468" y="1278"/>
                  </a:lnTo>
                  <a:lnTo>
                    <a:pt x="469" y="1284"/>
                  </a:lnTo>
                  <a:lnTo>
                    <a:pt x="469" y="1300"/>
                  </a:lnTo>
                  <a:lnTo>
                    <a:pt x="469" y="1370"/>
                  </a:lnTo>
                  <a:lnTo>
                    <a:pt x="0" y="1370"/>
                  </a:lnTo>
                  <a:close/>
                  <a:moveTo>
                    <a:pt x="430" y="785"/>
                  </a:moveTo>
                  <a:lnTo>
                    <a:pt x="471" y="785"/>
                  </a:lnTo>
                  <a:lnTo>
                    <a:pt x="510" y="782"/>
                  </a:lnTo>
                  <a:lnTo>
                    <a:pt x="528" y="779"/>
                  </a:lnTo>
                  <a:lnTo>
                    <a:pt x="546" y="777"/>
                  </a:lnTo>
                  <a:lnTo>
                    <a:pt x="564" y="773"/>
                  </a:lnTo>
                  <a:lnTo>
                    <a:pt x="580" y="768"/>
                  </a:lnTo>
                  <a:lnTo>
                    <a:pt x="596" y="765"/>
                  </a:lnTo>
                  <a:lnTo>
                    <a:pt x="610" y="758"/>
                  </a:lnTo>
                  <a:lnTo>
                    <a:pt x="625" y="754"/>
                  </a:lnTo>
                  <a:lnTo>
                    <a:pt x="639" y="746"/>
                  </a:lnTo>
                  <a:lnTo>
                    <a:pt x="652" y="740"/>
                  </a:lnTo>
                  <a:lnTo>
                    <a:pt x="665" y="733"/>
                  </a:lnTo>
                  <a:lnTo>
                    <a:pt x="677" y="724"/>
                  </a:lnTo>
                  <a:lnTo>
                    <a:pt x="688" y="717"/>
                  </a:lnTo>
                  <a:lnTo>
                    <a:pt x="698" y="707"/>
                  </a:lnTo>
                  <a:lnTo>
                    <a:pt x="708" y="697"/>
                  </a:lnTo>
                  <a:lnTo>
                    <a:pt x="716" y="687"/>
                  </a:lnTo>
                  <a:lnTo>
                    <a:pt x="725" y="676"/>
                  </a:lnTo>
                  <a:lnTo>
                    <a:pt x="733" y="665"/>
                  </a:lnTo>
                  <a:lnTo>
                    <a:pt x="740" y="654"/>
                  </a:lnTo>
                  <a:lnTo>
                    <a:pt x="747" y="642"/>
                  </a:lnTo>
                  <a:lnTo>
                    <a:pt x="752" y="628"/>
                  </a:lnTo>
                  <a:lnTo>
                    <a:pt x="757" y="615"/>
                  </a:lnTo>
                  <a:lnTo>
                    <a:pt x="762" y="601"/>
                  </a:lnTo>
                  <a:lnTo>
                    <a:pt x="765" y="587"/>
                  </a:lnTo>
                  <a:lnTo>
                    <a:pt x="768" y="572"/>
                  </a:lnTo>
                  <a:lnTo>
                    <a:pt x="770" y="556"/>
                  </a:lnTo>
                  <a:lnTo>
                    <a:pt x="773" y="540"/>
                  </a:lnTo>
                  <a:lnTo>
                    <a:pt x="773" y="524"/>
                  </a:lnTo>
                  <a:lnTo>
                    <a:pt x="774" y="507"/>
                  </a:lnTo>
                  <a:lnTo>
                    <a:pt x="773" y="482"/>
                  </a:lnTo>
                  <a:lnTo>
                    <a:pt x="772" y="456"/>
                  </a:lnTo>
                  <a:lnTo>
                    <a:pt x="768" y="432"/>
                  </a:lnTo>
                  <a:lnTo>
                    <a:pt x="764" y="407"/>
                  </a:lnTo>
                  <a:lnTo>
                    <a:pt x="759" y="383"/>
                  </a:lnTo>
                  <a:lnTo>
                    <a:pt x="754" y="362"/>
                  </a:lnTo>
                  <a:lnTo>
                    <a:pt x="748" y="342"/>
                  </a:lnTo>
                  <a:lnTo>
                    <a:pt x="741" y="325"/>
                  </a:lnTo>
                  <a:lnTo>
                    <a:pt x="735" y="310"/>
                  </a:lnTo>
                  <a:lnTo>
                    <a:pt x="727" y="298"/>
                  </a:lnTo>
                  <a:lnTo>
                    <a:pt x="720" y="286"/>
                  </a:lnTo>
                  <a:lnTo>
                    <a:pt x="713" y="275"/>
                  </a:lnTo>
                  <a:lnTo>
                    <a:pt x="704" y="265"/>
                  </a:lnTo>
                  <a:lnTo>
                    <a:pt x="695" y="256"/>
                  </a:lnTo>
                  <a:lnTo>
                    <a:pt x="687" y="248"/>
                  </a:lnTo>
                  <a:lnTo>
                    <a:pt x="677" y="240"/>
                  </a:lnTo>
                  <a:lnTo>
                    <a:pt x="667" y="233"/>
                  </a:lnTo>
                  <a:lnTo>
                    <a:pt x="657" y="228"/>
                  </a:lnTo>
                  <a:lnTo>
                    <a:pt x="646" y="223"/>
                  </a:lnTo>
                  <a:lnTo>
                    <a:pt x="634" y="219"/>
                  </a:lnTo>
                  <a:lnTo>
                    <a:pt x="623" y="216"/>
                  </a:lnTo>
                  <a:lnTo>
                    <a:pt x="610" y="213"/>
                  </a:lnTo>
                  <a:lnTo>
                    <a:pt x="597" y="212"/>
                  </a:lnTo>
                  <a:lnTo>
                    <a:pt x="585" y="212"/>
                  </a:lnTo>
                  <a:lnTo>
                    <a:pt x="567" y="212"/>
                  </a:lnTo>
                  <a:lnTo>
                    <a:pt x="551" y="216"/>
                  </a:lnTo>
                  <a:lnTo>
                    <a:pt x="535" y="219"/>
                  </a:lnTo>
                  <a:lnTo>
                    <a:pt x="521" y="226"/>
                  </a:lnTo>
                  <a:lnTo>
                    <a:pt x="505" y="233"/>
                  </a:lnTo>
                  <a:lnTo>
                    <a:pt x="490" y="242"/>
                  </a:lnTo>
                  <a:lnTo>
                    <a:pt x="476" y="253"/>
                  </a:lnTo>
                  <a:lnTo>
                    <a:pt x="463" y="265"/>
                  </a:lnTo>
                  <a:lnTo>
                    <a:pt x="435" y="293"/>
                  </a:lnTo>
                  <a:lnTo>
                    <a:pt x="427" y="304"/>
                  </a:lnTo>
                  <a:lnTo>
                    <a:pt x="414" y="325"/>
                  </a:lnTo>
                  <a:lnTo>
                    <a:pt x="407" y="332"/>
                  </a:lnTo>
                  <a:lnTo>
                    <a:pt x="403" y="341"/>
                  </a:lnTo>
                  <a:lnTo>
                    <a:pt x="399" y="351"/>
                  </a:lnTo>
                  <a:lnTo>
                    <a:pt x="395" y="359"/>
                  </a:lnTo>
                  <a:lnTo>
                    <a:pt x="393" y="369"/>
                  </a:lnTo>
                  <a:lnTo>
                    <a:pt x="392" y="379"/>
                  </a:lnTo>
                  <a:lnTo>
                    <a:pt x="390" y="389"/>
                  </a:lnTo>
                  <a:lnTo>
                    <a:pt x="389" y="399"/>
                  </a:lnTo>
                  <a:lnTo>
                    <a:pt x="389" y="784"/>
                  </a:lnTo>
                  <a:lnTo>
                    <a:pt x="430" y="785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26440" y="333360"/>
              <a:ext cx="84240" cy="87480"/>
            </a:xfrm>
            <a:custGeom>
              <a:avLst/>
              <a:gdLst/>
              <a:ahLst/>
              <a:rect l="l" t="t" r="r" b="b"/>
              <a:pathLst>
                <a:path w="1043" h="1007">
                  <a:moveTo>
                    <a:pt x="0" y="499"/>
                  </a:moveTo>
                  <a:lnTo>
                    <a:pt x="0" y="474"/>
                  </a:lnTo>
                  <a:lnTo>
                    <a:pt x="1" y="448"/>
                  </a:lnTo>
                  <a:lnTo>
                    <a:pt x="4" y="424"/>
                  </a:lnTo>
                  <a:lnTo>
                    <a:pt x="8" y="400"/>
                  </a:lnTo>
                  <a:lnTo>
                    <a:pt x="11" y="377"/>
                  </a:lnTo>
                  <a:lnTo>
                    <a:pt x="16" y="355"/>
                  </a:lnTo>
                  <a:lnTo>
                    <a:pt x="22" y="332"/>
                  </a:lnTo>
                  <a:lnTo>
                    <a:pt x="29" y="312"/>
                  </a:lnTo>
                  <a:lnTo>
                    <a:pt x="36" y="291"/>
                  </a:lnTo>
                  <a:lnTo>
                    <a:pt x="45" y="270"/>
                  </a:lnTo>
                  <a:lnTo>
                    <a:pt x="54" y="250"/>
                  </a:lnTo>
                  <a:lnTo>
                    <a:pt x="65" y="232"/>
                  </a:lnTo>
                  <a:lnTo>
                    <a:pt x="77" y="213"/>
                  </a:lnTo>
                  <a:lnTo>
                    <a:pt x="89" y="196"/>
                  </a:lnTo>
                  <a:lnTo>
                    <a:pt x="101" y="179"/>
                  </a:lnTo>
                  <a:lnTo>
                    <a:pt x="116" y="162"/>
                  </a:lnTo>
                  <a:lnTo>
                    <a:pt x="131" y="146"/>
                  </a:lnTo>
                  <a:lnTo>
                    <a:pt x="145" y="131"/>
                  </a:lnTo>
                  <a:lnTo>
                    <a:pt x="163" y="116"/>
                  </a:lnTo>
                  <a:lnTo>
                    <a:pt x="179" y="103"/>
                  </a:lnTo>
                  <a:lnTo>
                    <a:pt x="197" y="91"/>
                  </a:lnTo>
                  <a:lnTo>
                    <a:pt x="215" y="79"/>
                  </a:lnTo>
                  <a:lnTo>
                    <a:pt x="234" y="68"/>
                  </a:lnTo>
                  <a:lnTo>
                    <a:pt x="254" y="57"/>
                  </a:lnTo>
                  <a:lnTo>
                    <a:pt x="275" y="49"/>
                  </a:lnTo>
                  <a:lnTo>
                    <a:pt x="295" y="39"/>
                  </a:lnTo>
                  <a:lnTo>
                    <a:pt x="318" y="32"/>
                  </a:lnTo>
                  <a:lnTo>
                    <a:pt x="341" y="24"/>
                  </a:lnTo>
                  <a:lnTo>
                    <a:pt x="364" y="18"/>
                  </a:lnTo>
                  <a:lnTo>
                    <a:pt x="388" y="13"/>
                  </a:lnTo>
                  <a:lnTo>
                    <a:pt x="414" y="8"/>
                  </a:lnTo>
                  <a:lnTo>
                    <a:pt x="438" y="5"/>
                  </a:lnTo>
                  <a:lnTo>
                    <a:pt x="459" y="2"/>
                  </a:lnTo>
                  <a:lnTo>
                    <a:pt x="480" y="1"/>
                  </a:lnTo>
                  <a:lnTo>
                    <a:pt x="501" y="0"/>
                  </a:lnTo>
                  <a:lnTo>
                    <a:pt x="523" y="0"/>
                  </a:lnTo>
                  <a:lnTo>
                    <a:pt x="543" y="0"/>
                  </a:lnTo>
                  <a:lnTo>
                    <a:pt x="562" y="1"/>
                  </a:lnTo>
                  <a:lnTo>
                    <a:pt x="583" y="2"/>
                  </a:lnTo>
                  <a:lnTo>
                    <a:pt x="604" y="5"/>
                  </a:lnTo>
                  <a:lnTo>
                    <a:pt x="630" y="8"/>
                  </a:lnTo>
                  <a:lnTo>
                    <a:pt x="655" y="13"/>
                  </a:lnTo>
                  <a:lnTo>
                    <a:pt x="678" y="18"/>
                  </a:lnTo>
                  <a:lnTo>
                    <a:pt x="701" y="24"/>
                  </a:lnTo>
                  <a:lnTo>
                    <a:pt x="725" y="32"/>
                  </a:lnTo>
                  <a:lnTo>
                    <a:pt x="746" y="39"/>
                  </a:lnTo>
                  <a:lnTo>
                    <a:pt x="768" y="48"/>
                  </a:lnTo>
                  <a:lnTo>
                    <a:pt x="787" y="57"/>
                  </a:lnTo>
                  <a:lnTo>
                    <a:pt x="807" y="67"/>
                  </a:lnTo>
                  <a:lnTo>
                    <a:pt x="827" y="78"/>
                  </a:lnTo>
                  <a:lnTo>
                    <a:pt x="845" y="91"/>
                  </a:lnTo>
                  <a:lnTo>
                    <a:pt x="862" y="103"/>
                  </a:lnTo>
                  <a:lnTo>
                    <a:pt x="880" y="116"/>
                  </a:lnTo>
                  <a:lnTo>
                    <a:pt x="896" y="130"/>
                  </a:lnTo>
                  <a:lnTo>
                    <a:pt x="912" y="146"/>
                  </a:lnTo>
                  <a:lnTo>
                    <a:pt x="926" y="161"/>
                  </a:lnTo>
                  <a:lnTo>
                    <a:pt x="940" y="178"/>
                  </a:lnTo>
                  <a:lnTo>
                    <a:pt x="953" y="195"/>
                  </a:lnTo>
                  <a:lnTo>
                    <a:pt x="966" y="212"/>
                  </a:lnTo>
                  <a:lnTo>
                    <a:pt x="977" y="230"/>
                  </a:lnTo>
                  <a:lnTo>
                    <a:pt x="988" y="249"/>
                  </a:lnTo>
                  <a:lnTo>
                    <a:pt x="998" y="269"/>
                  </a:lnTo>
                  <a:lnTo>
                    <a:pt x="1006" y="289"/>
                  </a:lnTo>
                  <a:lnTo>
                    <a:pt x="1014" y="309"/>
                  </a:lnTo>
                  <a:lnTo>
                    <a:pt x="1021" y="331"/>
                  </a:lnTo>
                  <a:lnTo>
                    <a:pt x="1026" y="353"/>
                  </a:lnTo>
                  <a:lnTo>
                    <a:pt x="1031" y="375"/>
                  </a:lnTo>
                  <a:lnTo>
                    <a:pt x="1036" y="399"/>
                  </a:lnTo>
                  <a:lnTo>
                    <a:pt x="1038" y="422"/>
                  </a:lnTo>
                  <a:lnTo>
                    <a:pt x="1041" y="447"/>
                  </a:lnTo>
                  <a:lnTo>
                    <a:pt x="1042" y="471"/>
                  </a:lnTo>
                  <a:lnTo>
                    <a:pt x="1043" y="497"/>
                  </a:lnTo>
                  <a:lnTo>
                    <a:pt x="1042" y="524"/>
                  </a:lnTo>
                  <a:lnTo>
                    <a:pt x="1041" y="549"/>
                  </a:lnTo>
                  <a:lnTo>
                    <a:pt x="1038" y="574"/>
                  </a:lnTo>
                  <a:lnTo>
                    <a:pt x="1036" y="599"/>
                  </a:lnTo>
                  <a:lnTo>
                    <a:pt x="1032" y="622"/>
                  </a:lnTo>
                  <a:lnTo>
                    <a:pt x="1027" y="646"/>
                  </a:lnTo>
                  <a:lnTo>
                    <a:pt x="1021" y="668"/>
                  </a:lnTo>
                  <a:lnTo>
                    <a:pt x="1015" y="690"/>
                  </a:lnTo>
                  <a:lnTo>
                    <a:pt x="1006" y="711"/>
                  </a:lnTo>
                  <a:lnTo>
                    <a:pt x="999" y="731"/>
                  </a:lnTo>
                  <a:lnTo>
                    <a:pt x="989" y="751"/>
                  </a:lnTo>
                  <a:lnTo>
                    <a:pt x="979" y="771"/>
                  </a:lnTo>
                  <a:lnTo>
                    <a:pt x="968" y="789"/>
                  </a:lnTo>
                  <a:lnTo>
                    <a:pt x="956" y="808"/>
                  </a:lnTo>
                  <a:lnTo>
                    <a:pt x="942" y="825"/>
                  </a:lnTo>
                  <a:lnTo>
                    <a:pt x="929" y="842"/>
                  </a:lnTo>
                  <a:lnTo>
                    <a:pt x="914" y="858"/>
                  </a:lnTo>
                  <a:lnTo>
                    <a:pt x="899" y="873"/>
                  </a:lnTo>
                  <a:lnTo>
                    <a:pt x="883" y="887"/>
                  </a:lnTo>
                  <a:lnTo>
                    <a:pt x="866" y="901"/>
                  </a:lnTo>
                  <a:lnTo>
                    <a:pt x="849" y="913"/>
                  </a:lnTo>
                  <a:lnTo>
                    <a:pt x="830" y="925"/>
                  </a:lnTo>
                  <a:lnTo>
                    <a:pt x="811" y="937"/>
                  </a:lnTo>
                  <a:lnTo>
                    <a:pt x="791" y="948"/>
                  </a:lnTo>
                  <a:lnTo>
                    <a:pt x="770" y="956"/>
                  </a:lnTo>
                  <a:lnTo>
                    <a:pt x="749" y="966"/>
                  </a:lnTo>
                  <a:lnTo>
                    <a:pt x="727" y="973"/>
                  </a:lnTo>
                  <a:lnTo>
                    <a:pt x="704" y="981"/>
                  </a:lnTo>
                  <a:lnTo>
                    <a:pt x="680" y="987"/>
                  </a:lnTo>
                  <a:lnTo>
                    <a:pt x="656" y="992"/>
                  </a:lnTo>
                  <a:lnTo>
                    <a:pt x="630" y="997"/>
                  </a:lnTo>
                  <a:lnTo>
                    <a:pt x="604" y="1000"/>
                  </a:lnTo>
                  <a:lnTo>
                    <a:pt x="583" y="1003"/>
                  </a:lnTo>
                  <a:lnTo>
                    <a:pt x="562" y="1004"/>
                  </a:lnTo>
                  <a:lnTo>
                    <a:pt x="543" y="1005"/>
                  </a:lnTo>
                  <a:lnTo>
                    <a:pt x="523" y="1007"/>
                  </a:lnTo>
                  <a:lnTo>
                    <a:pt x="501" y="1005"/>
                  </a:lnTo>
                  <a:lnTo>
                    <a:pt x="480" y="1004"/>
                  </a:lnTo>
                  <a:lnTo>
                    <a:pt x="459" y="1003"/>
                  </a:lnTo>
                  <a:lnTo>
                    <a:pt x="438" y="1000"/>
                  </a:lnTo>
                  <a:lnTo>
                    <a:pt x="414" y="997"/>
                  </a:lnTo>
                  <a:lnTo>
                    <a:pt x="389" y="992"/>
                  </a:lnTo>
                  <a:lnTo>
                    <a:pt x="364" y="987"/>
                  </a:lnTo>
                  <a:lnTo>
                    <a:pt x="341" y="981"/>
                  </a:lnTo>
                  <a:lnTo>
                    <a:pt x="319" y="973"/>
                  </a:lnTo>
                  <a:lnTo>
                    <a:pt x="297" y="965"/>
                  </a:lnTo>
                  <a:lnTo>
                    <a:pt x="276" y="956"/>
                  </a:lnTo>
                  <a:lnTo>
                    <a:pt x="255" y="946"/>
                  </a:lnTo>
                  <a:lnTo>
                    <a:pt x="235" y="935"/>
                  </a:lnTo>
                  <a:lnTo>
                    <a:pt x="217" y="924"/>
                  </a:lnTo>
                  <a:lnTo>
                    <a:pt x="198" y="912"/>
                  </a:lnTo>
                  <a:lnTo>
                    <a:pt x="180" y="898"/>
                  </a:lnTo>
                  <a:lnTo>
                    <a:pt x="163" y="885"/>
                  </a:lnTo>
                  <a:lnTo>
                    <a:pt x="147" y="869"/>
                  </a:lnTo>
                  <a:lnTo>
                    <a:pt x="132" y="854"/>
                  </a:lnTo>
                  <a:lnTo>
                    <a:pt x="116" y="837"/>
                  </a:lnTo>
                  <a:lnTo>
                    <a:pt x="102" y="820"/>
                  </a:lnTo>
                  <a:lnTo>
                    <a:pt x="89" y="801"/>
                  </a:lnTo>
                  <a:lnTo>
                    <a:pt x="77" y="783"/>
                  </a:lnTo>
                  <a:lnTo>
                    <a:pt x="65" y="765"/>
                  </a:lnTo>
                  <a:lnTo>
                    <a:pt x="54" y="745"/>
                  </a:lnTo>
                  <a:lnTo>
                    <a:pt x="46" y="725"/>
                  </a:lnTo>
                  <a:lnTo>
                    <a:pt x="37" y="706"/>
                  </a:lnTo>
                  <a:lnTo>
                    <a:pt x="29" y="685"/>
                  </a:lnTo>
                  <a:lnTo>
                    <a:pt x="22" y="663"/>
                  </a:lnTo>
                  <a:lnTo>
                    <a:pt x="16" y="641"/>
                  </a:lnTo>
                  <a:lnTo>
                    <a:pt x="11" y="618"/>
                  </a:lnTo>
                  <a:lnTo>
                    <a:pt x="8" y="595"/>
                  </a:lnTo>
                  <a:lnTo>
                    <a:pt x="4" y="572"/>
                  </a:lnTo>
                  <a:lnTo>
                    <a:pt x="1" y="549"/>
                  </a:lnTo>
                  <a:lnTo>
                    <a:pt x="0" y="524"/>
                  </a:lnTo>
                  <a:lnTo>
                    <a:pt x="0" y="499"/>
                  </a:lnTo>
                  <a:close/>
                  <a:moveTo>
                    <a:pt x="523" y="828"/>
                  </a:moveTo>
                  <a:lnTo>
                    <a:pt x="535" y="827"/>
                  </a:lnTo>
                  <a:lnTo>
                    <a:pt x="548" y="827"/>
                  </a:lnTo>
                  <a:lnTo>
                    <a:pt x="560" y="825"/>
                  </a:lnTo>
                  <a:lnTo>
                    <a:pt x="572" y="824"/>
                  </a:lnTo>
                  <a:lnTo>
                    <a:pt x="583" y="820"/>
                  </a:lnTo>
                  <a:lnTo>
                    <a:pt x="594" y="817"/>
                  </a:lnTo>
                  <a:lnTo>
                    <a:pt x="605" y="813"/>
                  </a:lnTo>
                  <a:lnTo>
                    <a:pt x="615" y="809"/>
                  </a:lnTo>
                  <a:lnTo>
                    <a:pt x="625" y="803"/>
                  </a:lnTo>
                  <a:lnTo>
                    <a:pt x="634" y="798"/>
                  </a:lnTo>
                  <a:lnTo>
                    <a:pt x="644" y="790"/>
                  </a:lnTo>
                  <a:lnTo>
                    <a:pt x="652" y="784"/>
                  </a:lnTo>
                  <a:lnTo>
                    <a:pt x="660" y="777"/>
                  </a:lnTo>
                  <a:lnTo>
                    <a:pt x="667" y="768"/>
                  </a:lnTo>
                  <a:lnTo>
                    <a:pt x="674" y="760"/>
                  </a:lnTo>
                  <a:lnTo>
                    <a:pt x="682" y="750"/>
                  </a:lnTo>
                  <a:lnTo>
                    <a:pt x="688" y="740"/>
                  </a:lnTo>
                  <a:lnTo>
                    <a:pt x="694" y="729"/>
                  </a:lnTo>
                  <a:lnTo>
                    <a:pt x="700" y="717"/>
                  </a:lnTo>
                  <a:lnTo>
                    <a:pt x="705" y="704"/>
                  </a:lnTo>
                  <a:lnTo>
                    <a:pt x="715" y="677"/>
                  </a:lnTo>
                  <a:lnTo>
                    <a:pt x="722" y="648"/>
                  </a:lnTo>
                  <a:lnTo>
                    <a:pt x="727" y="615"/>
                  </a:lnTo>
                  <a:lnTo>
                    <a:pt x="732" y="579"/>
                  </a:lnTo>
                  <a:lnTo>
                    <a:pt x="735" y="541"/>
                  </a:lnTo>
                  <a:lnTo>
                    <a:pt x="736" y="499"/>
                  </a:lnTo>
                  <a:lnTo>
                    <a:pt x="735" y="459"/>
                  </a:lnTo>
                  <a:lnTo>
                    <a:pt x="732" y="421"/>
                  </a:lnTo>
                  <a:lnTo>
                    <a:pt x="727" y="386"/>
                  </a:lnTo>
                  <a:lnTo>
                    <a:pt x="722" y="355"/>
                  </a:lnTo>
                  <a:lnTo>
                    <a:pt x="715" y="325"/>
                  </a:lnTo>
                  <a:lnTo>
                    <a:pt x="705" y="299"/>
                  </a:lnTo>
                  <a:lnTo>
                    <a:pt x="700" y="287"/>
                  </a:lnTo>
                  <a:lnTo>
                    <a:pt x="694" y="275"/>
                  </a:lnTo>
                  <a:lnTo>
                    <a:pt x="688" y="265"/>
                  </a:lnTo>
                  <a:lnTo>
                    <a:pt x="682" y="255"/>
                  </a:lnTo>
                  <a:lnTo>
                    <a:pt x="674" y="245"/>
                  </a:lnTo>
                  <a:lnTo>
                    <a:pt x="667" y="237"/>
                  </a:lnTo>
                  <a:lnTo>
                    <a:pt x="660" y="228"/>
                  </a:lnTo>
                  <a:lnTo>
                    <a:pt x="652" y="221"/>
                  </a:lnTo>
                  <a:lnTo>
                    <a:pt x="644" y="213"/>
                  </a:lnTo>
                  <a:lnTo>
                    <a:pt x="634" y="207"/>
                  </a:lnTo>
                  <a:lnTo>
                    <a:pt x="625" y="202"/>
                  </a:lnTo>
                  <a:lnTo>
                    <a:pt x="615" y="196"/>
                  </a:lnTo>
                  <a:lnTo>
                    <a:pt x="605" y="192"/>
                  </a:lnTo>
                  <a:lnTo>
                    <a:pt x="594" y="189"/>
                  </a:lnTo>
                  <a:lnTo>
                    <a:pt x="583" y="185"/>
                  </a:lnTo>
                  <a:lnTo>
                    <a:pt x="572" y="183"/>
                  </a:lnTo>
                  <a:lnTo>
                    <a:pt x="560" y="180"/>
                  </a:lnTo>
                  <a:lnTo>
                    <a:pt x="548" y="179"/>
                  </a:lnTo>
                  <a:lnTo>
                    <a:pt x="535" y="178"/>
                  </a:lnTo>
                  <a:lnTo>
                    <a:pt x="523" y="178"/>
                  </a:lnTo>
                  <a:lnTo>
                    <a:pt x="509" y="178"/>
                  </a:lnTo>
                  <a:lnTo>
                    <a:pt x="497" y="179"/>
                  </a:lnTo>
                  <a:lnTo>
                    <a:pt x="486" y="180"/>
                  </a:lnTo>
                  <a:lnTo>
                    <a:pt x="474" y="183"/>
                  </a:lnTo>
                  <a:lnTo>
                    <a:pt x="463" y="185"/>
                  </a:lnTo>
                  <a:lnTo>
                    <a:pt x="453" y="189"/>
                  </a:lnTo>
                  <a:lnTo>
                    <a:pt x="442" y="192"/>
                  </a:lnTo>
                  <a:lnTo>
                    <a:pt x="432" y="196"/>
                  </a:lnTo>
                  <a:lnTo>
                    <a:pt x="422" y="202"/>
                  </a:lnTo>
                  <a:lnTo>
                    <a:pt x="414" y="207"/>
                  </a:lnTo>
                  <a:lnTo>
                    <a:pt x="405" y="213"/>
                  </a:lnTo>
                  <a:lnTo>
                    <a:pt x="396" y="221"/>
                  </a:lnTo>
                  <a:lnTo>
                    <a:pt x="388" y="228"/>
                  </a:lnTo>
                  <a:lnTo>
                    <a:pt x="380" y="237"/>
                  </a:lnTo>
                  <a:lnTo>
                    <a:pt x="373" y="245"/>
                  </a:lnTo>
                  <a:lnTo>
                    <a:pt x="366" y="255"/>
                  </a:lnTo>
                  <a:lnTo>
                    <a:pt x="359" y="265"/>
                  </a:lnTo>
                  <a:lnTo>
                    <a:pt x="353" y="275"/>
                  </a:lnTo>
                  <a:lnTo>
                    <a:pt x="347" y="287"/>
                  </a:lnTo>
                  <a:lnTo>
                    <a:pt x="342" y="299"/>
                  </a:lnTo>
                  <a:lnTo>
                    <a:pt x="337" y="312"/>
                  </a:lnTo>
                  <a:lnTo>
                    <a:pt x="332" y="325"/>
                  </a:lnTo>
                  <a:lnTo>
                    <a:pt x="329" y="340"/>
                  </a:lnTo>
                  <a:lnTo>
                    <a:pt x="325" y="355"/>
                  </a:lnTo>
                  <a:lnTo>
                    <a:pt x="319" y="386"/>
                  </a:lnTo>
                  <a:lnTo>
                    <a:pt x="315" y="421"/>
                  </a:lnTo>
                  <a:lnTo>
                    <a:pt x="311" y="459"/>
                  </a:lnTo>
                  <a:lnTo>
                    <a:pt x="311" y="499"/>
                  </a:lnTo>
                  <a:lnTo>
                    <a:pt x="311" y="540"/>
                  </a:lnTo>
                  <a:lnTo>
                    <a:pt x="315" y="578"/>
                  </a:lnTo>
                  <a:lnTo>
                    <a:pt x="319" y="614"/>
                  </a:lnTo>
                  <a:lnTo>
                    <a:pt x="325" y="646"/>
                  </a:lnTo>
                  <a:lnTo>
                    <a:pt x="329" y="661"/>
                  </a:lnTo>
                  <a:lnTo>
                    <a:pt x="332" y="675"/>
                  </a:lnTo>
                  <a:lnTo>
                    <a:pt x="336" y="690"/>
                  </a:lnTo>
                  <a:lnTo>
                    <a:pt x="341" y="702"/>
                  </a:lnTo>
                  <a:lnTo>
                    <a:pt x="347" y="714"/>
                  </a:lnTo>
                  <a:lnTo>
                    <a:pt x="352" y="727"/>
                  </a:lnTo>
                  <a:lnTo>
                    <a:pt x="358" y="738"/>
                  </a:lnTo>
                  <a:lnTo>
                    <a:pt x="364" y="747"/>
                  </a:lnTo>
                  <a:lnTo>
                    <a:pt x="372" y="757"/>
                  </a:lnTo>
                  <a:lnTo>
                    <a:pt x="379" y="767"/>
                  </a:lnTo>
                  <a:lnTo>
                    <a:pt x="386" y="776"/>
                  </a:lnTo>
                  <a:lnTo>
                    <a:pt x="395" y="783"/>
                  </a:lnTo>
                  <a:lnTo>
                    <a:pt x="404" y="790"/>
                  </a:lnTo>
                  <a:lnTo>
                    <a:pt x="412" y="797"/>
                  </a:lnTo>
                  <a:lnTo>
                    <a:pt x="421" y="803"/>
                  </a:lnTo>
                  <a:lnTo>
                    <a:pt x="431" y="808"/>
                  </a:lnTo>
                  <a:lnTo>
                    <a:pt x="441" y="813"/>
                  </a:lnTo>
                  <a:lnTo>
                    <a:pt x="452" y="816"/>
                  </a:lnTo>
                  <a:lnTo>
                    <a:pt x="463" y="820"/>
                  </a:lnTo>
                  <a:lnTo>
                    <a:pt x="474" y="822"/>
                  </a:lnTo>
                  <a:lnTo>
                    <a:pt x="485" y="825"/>
                  </a:lnTo>
                  <a:lnTo>
                    <a:pt x="497" y="827"/>
                  </a:lnTo>
                  <a:lnTo>
                    <a:pt x="509" y="827"/>
                  </a:lnTo>
                  <a:lnTo>
                    <a:pt x="523" y="828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15360" y="331920"/>
              <a:ext cx="55440" cy="85680"/>
            </a:xfrm>
            <a:custGeom>
              <a:avLst/>
              <a:gdLst/>
              <a:ahLst/>
              <a:rect l="l" t="t" r="r" b="b"/>
              <a:pathLst>
                <a:path w="678" h="992">
                  <a:moveTo>
                    <a:pt x="0" y="992"/>
                  </a:moveTo>
                  <a:lnTo>
                    <a:pt x="0" y="930"/>
                  </a:lnTo>
                  <a:lnTo>
                    <a:pt x="0" y="924"/>
                  </a:lnTo>
                  <a:lnTo>
                    <a:pt x="2" y="918"/>
                  </a:lnTo>
                  <a:lnTo>
                    <a:pt x="4" y="912"/>
                  </a:lnTo>
                  <a:lnTo>
                    <a:pt x="7" y="907"/>
                  </a:lnTo>
                  <a:lnTo>
                    <a:pt x="10" y="902"/>
                  </a:lnTo>
                  <a:lnTo>
                    <a:pt x="14" y="898"/>
                  </a:lnTo>
                  <a:lnTo>
                    <a:pt x="19" y="893"/>
                  </a:lnTo>
                  <a:lnTo>
                    <a:pt x="25" y="890"/>
                  </a:lnTo>
                  <a:lnTo>
                    <a:pt x="41" y="885"/>
                  </a:lnTo>
                  <a:lnTo>
                    <a:pt x="66" y="879"/>
                  </a:lnTo>
                  <a:lnTo>
                    <a:pt x="73" y="873"/>
                  </a:lnTo>
                  <a:lnTo>
                    <a:pt x="77" y="868"/>
                  </a:lnTo>
                  <a:lnTo>
                    <a:pt x="79" y="857"/>
                  </a:lnTo>
                  <a:lnTo>
                    <a:pt x="80" y="850"/>
                  </a:lnTo>
                  <a:lnTo>
                    <a:pt x="80" y="822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5"/>
                  </a:lnTo>
                  <a:lnTo>
                    <a:pt x="80" y="223"/>
                  </a:lnTo>
                  <a:lnTo>
                    <a:pt x="80" y="207"/>
                  </a:lnTo>
                  <a:lnTo>
                    <a:pt x="80" y="189"/>
                  </a:lnTo>
                  <a:lnTo>
                    <a:pt x="79" y="185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3" y="178"/>
                  </a:lnTo>
                  <a:lnTo>
                    <a:pt x="37" y="169"/>
                  </a:lnTo>
                  <a:lnTo>
                    <a:pt x="29" y="165"/>
                  </a:lnTo>
                  <a:lnTo>
                    <a:pt x="21" y="163"/>
                  </a:lnTo>
                  <a:lnTo>
                    <a:pt x="15" y="158"/>
                  </a:lnTo>
                  <a:lnTo>
                    <a:pt x="10" y="153"/>
                  </a:lnTo>
                  <a:lnTo>
                    <a:pt x="5" y="147"/>
                  </a:lnTo>
                  <a:lnTo>
                    <a:pt x="3" y="141"/>
                  </a:lnTo>
                  <a:lnTo>
                    <a:pt x="2" y="133"/>
                  </a:lnTo>
                  <a:lnTo>
                    <a:pt x="0" y="125"/>
                  </a:lnTo>
                  <a:lnTo>
                    <a:pt x="0" y="63"/>
                  </a:lnTo>
                  <a:lnTo>
                    <a:pt x="361" y="63"/>
                  </a:lnTo>
                  <a:lnTo>
                    <a:pt x="361" y="140"/>
                  </a:lnTo>
                  <a:lnTo>
                    <a:pt x="387" y="106"/>
                  </a:lnTo>
                  <a:lnTo>
                    <a:pt x="399" y="93"/>
                  </a:lnTo>
                  <a:lnTo>
                    <a:pt x="413" y="79"/>
                  </a:lnTo>
                  <a:lnTo>
                    <a:pt x="425" y="68"/>
                  </a:lnTo>
                  <a:lnTo>
                    <a:pt x="440" y="57"/>
                  </a:lnTo>
                  <a:lnTo>
                    <a:pt x="453" y="47"/>
                  </a:lnTo>
                  <a:lnTo>
                    <a:pt x="468" y="39"/>
                  </a:lnTo>
                  <a:lnTo>
                    <a:pt x="484" y="30"/>
                  </a:lnTo>
                  <a:lnTo>
                    <a:pt x="500" y="24"/>
                  </a:lnTo>
                  <a:lnTo>
                    <a:pt x="516" y="18"/>
                  </a:lnTo>
                  <a:lnTo>
                    <a:pt x="533" y="13"/>
                  </a:lnTo>
                  <a:lnTo>
                    <a:pt x="550" y="9"/>
                  </a:lnTo>
                  <a:lnTo>
                    <a:pt x="569" y="6"/>
                  </a:lnTo>
                  <a:lnTo>
                    <a:pt x="588" y="3"/>
                  </a:lnTo>
                  <a:lnTo>
                    <a:pt x="608" y="1"/>
                  </a:lnTo>
                  <a:lnTo>
                    <a:pt x="629" y="0"/>
                  </a:lnTo>
                  <a:lnTo>
                    <a:pt x="650" y="0"/>
                  </a:lnTo>
                  <a:lnTo>
                    <a:pt x="678" y="0"/>
                  </a:lnTo>
                  <a:lnTo>
                    <a:pt x="678" y="311"/>
                  </a:lnTo>
                  <a:lnTo>
                    <a:pt x="645" y="314"/>
                  </a:lnTo>
                  <a:lnTo>
                    <a:pt x="611" y="314"/>
                  </a:lnTo>
                  <a:lnTo>
                    <a:pt x="585" y="313"/>
                  </a:lnTo>
                  <a:lnTo>
                    <a:pt x="568" y="311"/>
                  </a:lnTo>
                  <a:lnTo>
                    <a:pt x="558" y="310"/>
                  </a:lnTo>
                  <a:lnTo>
                    <a:pt x="554" y="309"/>
                  </a:lnTo>
                  <a:lnTo>
                    <a:pt x="552" y="305"/>
                  </a:lnTo>
                  <a:lnTo>
                    <a:pt x="548" y="303"/>
                  </a:lnTo>
                  <a:lnTo>
                    <a:pt x="545" y="298"/>
                  </a:lnTo>
                  <a:lnTo>
                    <a:pt x="539" y="288"/>
                  </a:lnTo>
                  <a:lnTo>
                    <a:pt x="534" y="273"/>
                  </a:lnTo>
                  <a:lnTo>
                    <a:pt x="531" y="265"/>
                  </a:lnTo>
                  <a:lnTo>
                    <a:pt x="527" y="252"/>
                  </a:lnTo>
                  <a:lnTo>
                    <a:pt x="524" y="245"/>
                  </a:lnTo>
                  <a:lnTo>
                    <a:pt x="521" y="239"/>
                  </a:lnTo>
                  <a:lnTo>
                    <a:pt x="518" y="233"/>
                  </a:lnTo>
                  <a:lnTo>
                    <a:pt x="513" y="229"/>
                  </a:lnTo>
                  <a:lnTo>
                    <a:pt x="510" y="225"/>
                  </a:lnTo>
                  <a:lnTo>
                    <a:pt x="505" y="223"/>
                  </a:lnTo>
                  <a:lnTo>
                    <a:pt x="500" y="222"/>
                  </a:lnTo>
                  <a:lnTo>
                    <a:pt x="494" y="221"/>
                  </a:lnTo>
                  <a:lnTo>
                    <a:pt x="486" y="222"/>
                  </a:lnTo>
                  <a:lnTo>
                    <a:pt x="478" y="225"/>
                  </a:lnTo>
                  <a:lnTo>
                    <a:pt x="468" y="230"/>
                  </a:lnTo>
                  <a:lnTo>
                    <a:pt x="458" y="238"/>
                  </a:lnTo>
                  <a:lnTo>
                    <a:pt x="436" y="252"/>
                  </a:lnTo>
                  <a:lnTo>
                    <a:pt x="433" y="254"/>
                  </a:lnTo>
                  <a:lnTo>
                    <a:pt x="419" y="270"/>
                  </a:lnTo>
                  <a:lnTo>
                    <a:pt x="414" y="276"/>
                  </a:lnTo>
                  <a:lnTo>
                    <a:pt x="403" y="284"/>
                  </a:lnTo>
                  <a:lnTo>
                    <a:pt x="397" y="292"/>
                  </a:lnTo>
                  <a:lnTo>
                    <a:pt x="392" y="298"/>
                  </a:lnTo>
                  <a:lnTo>
                    <a:pt x="392" y="299"/>
                  </a:lnTo>
                  <a:lnTo>
                    <a:pt x="392" y="302"/>
                  </a:lnTo>
                  <a:lnTo>
                    <a:pt x="392" y="810"/>
                  </a:lnTo>
                  <a:lnTo>
                    <a:pt x="392" y="822"/>
                  </a:lnTo>
                  <a:lnTo>
                    <a:pt x="392" y="847"/>
                  </a:lnTo>
                  <a:lnTo>
                    <a:pt x="394" y="854"/>
                  </a:lnTo>
                  <a:lnTo>
                    <a:pt x="398" y="860"/>
                  </a:lnTo>
                  <a:lnTo>
                    <a:pt x="400" y="865"/>
                  </a:lnTo>
                  <a:lnTo>
                    <a:pt x="403" y="868"/>
                  </a:lnTo>
                  <a:lnTo>
                    <a:pt x="408" y="874"/>
                  </a:lnTo>
                  <a:lnTo>
                    <a:pt x="413" y="877"/>
                  </a:lnTo>
                  <a:lnTo>
                    <a:pt x="414" y="879"/>
                  </a:lnTo>
                  <a:lnTo>
                    <a:pt x="416" y="879"/>
                  </a:lnTo>
                  <a:lnTo>
                    <a:pt x="442" y="885"/>
                  </a:lnTo>
                  <a:lnTo>
                    <a:pt x="457" y="890"/>
                  </a:lnTo>
                  <a:lnTo>
                    <a:pt x="463" y="893"/>
                  </a:lnTo>
                  <a:lnTo>
                    <a:pt x="468" y="898"/>
                  </a:lnTo>
                  <a:lnTo>
                    <a:pt x="472" y="902"/>
                  </a:lnTo>
                  <a:lnTo>
                    <a:pt x="475" y="907"/>
                  </a:lnTo>
                  <a:lnTo>
                    <a:pt x="478" y="912"/>
                  </a:lnTo>
                  <a:lnTo>
                    <a:pt x="480" y="917"/>
                  </a:lnTo>
                  <a:lnTo>
                    <a:pt x="480" y="923"/>
                  </a:lnTo>
                  <a:lnTo>
                    <a:pt x="481" y="928"/>
                  </a:lnTo>
                  <a:lnTo>
                    <a:pt x="481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70800" y="333360"/>
              <a:ext cx="82800" cy="85680"/>
            </a:xfrm>
            <a:custGeom>
              <a:avLst/>
              <a:gdLst/>
              <a:ahLst/>
              <a:rect l="l" t="t" r="r" b="b"/>
              <a:pathLst>
                <a:path w="1010" h="996">
                  <a:moveTo>
                    <a:pt x="622" y="311"/>
                  </a:moveTo>
                  <a:lnTo>
                    <a:pt x="622" y="273"/>
                  </a:lnTo>
                  <a:lnTo>
                    <a:pt x="622" y="263"/>
                  </a:lnTo>
                  <a:lnTo>
                    <a:pt x="621" y="252"/>
                  </a:lnTo>
                  <a:lnTo>
                    <a:pt x="619" y="243"/>
                  </a:lnTo>
                  <a:lnTo>
                    <a:pt x="616" y="235"/>
                  </a:lnTo>
                  <a:lnTo>
                    <a:pt x="614" y="226"/>
                  </a:lnTo>
                  <a:lnTo>
                    <a:pt x="609" y="219"/>
                  </a:lnTo>
                  <a:lnTo>
                    <a:pt x="605" y="213"/>
                  </a:lnTo>
                  <a:lnTo>
                    <a:pt x="599" y="206"/>
                  </a:lnTo>
                  <a:lnTo>
                    <a:pt x="593" y="202"/>
                  </a:lnTo>
                  <a:lnTo>
                    <a:pt x="585" y="195"/>
                  </a:lnTo>
                  <a:lnTo>
                    <a:pt x="577" y="192"/>
                  </a:lnTo>
                  <a:lnTo>
                    <a:pt x="567" y="187"/>
                  </a:lnTo>
                  <a:lnTo>
                    <a:pt x="557" y="183"/>
                  </a:lnTo>
                  <a:lnTo>
                    <a:pt x="545" y="179"/>
                  </a:lnTo>
                  <a:lnTo>
                    <a:pt x="532" y="176"/>
                  </a:lnTo>
                  <a:lnTo>
                    <a:pt x="518" y="173"/>
                  </a:lnTo>
                  <a:lnTo>
                    <a:pt x="502" y="171"/>
                  </a:lnTo>
                  <a:lnTo>
                    <a:pt x="487" y="171"/>
                  </a:lnTo>
                  <a:lnTo>
                    <a:pt x="473" y="170"/>
                  </a:lnTo>
                  <a:lnTo>
                    <a:pt x="461" y="170"/>
                  </a:lnTo>
                  <a:lnTo>
                    <a:pt x="446" y="170"/>
                  </a:lnTo>
                  <a:lnTo>
                    <a:pt x="428" y="171"/>
                  </a:lnTo>
                  <a:lnTo>
                    <a:pt x="409" y="172"/>
                  </a:lnTo>
                  <a:lnTo>
                    <a:pt x="389" y="175"/>
                  </a:lnTo>
                  <a:lnTo>
                    <a:pt x="350" y="181"/>
                  </a:lnTo>
                  <a:lnTo>
                    <a:pt x="320" y="188"/>
                  </a:lnTo>
                  <a:lnTo>
                    <a:pt x="296" y="194"/>
                  </a:lnTo>
                  <a:lnTo>
                    <a:pt x="279" y="200"/>
                  </a:lnTo>
                  <a:lnTo>
                    <a:pt x="272" y="204"/>
                  </a:lnTo>
                  <a:lnTo>
                    <a:pt x="264" y="209"/>
                  </a:lnTo>
                  <a:lnTo>
                    <a:pt x="258" y="214"/>
                  </a:lnTo>
                  <a:lnTo>
                    <a:pt x="251" y="220"/>
                  </a:lnTo>
                  <a:lnTo>
                    <a:pt x="236" y="235"/>
                  </a:lnTo>
                  <a:lnTo>
                    <a:pt x="220" y="253"/>
                  </a:lnTo>
                  <a:lnTo>
                    <a:pt x="211" y="264"/>
                  </a:lnTo>
                  <a:lnTo>
                    <a:pt x="205" y="268"/>
                  </a:lnTo>
                  <a:lnTo>
                    <a:pt x="197" y="270"/>
                  </a:lnTo>
                  <a:lnTo>
                    <a:pt x="187" y="273"/>
                  </a:lnTo>
                  <a:lnTo>
                    <a:pt x="176" y="275"/>
                  </a:lnTo>
                  <a:lnTo>
                    <a:pt x="163" y="276"/>
                  </a:lnTo>
                  <a:lnTo>
                    <a:pt x="146" y="278"/>
                  </a:lnTo>
                  <a:lnTo>
                    <a:pt x="128" y="278"/>
                  </a:lnTo>
                  <a:lnTo>
                    <a:pt x="106" y="279"/>
                  </a:lnTo>
                  <a:lnTo>
                    <a:pt x="76" y="276"/>
                  </a:lnTo>
                  <a:lnTo>
                    <a:pt x="76" y="53"/>
                  </a:lnTo>
                  <a:lnTo>
                    <a:pt x="122" y="41"/>
                  </a:lnTo>
                  <a:lnTo>
                    <a:pt x="158" y="32"/>
                  </a:lnTo>
                  <a:lnTo>
                    <a:pt x="193" y="24"/>
                  </a:lnTo>
                  <a:lnTo>
                    <a:pt x="227" y="17"/>
                  </a:lnTo>
                  <a:lnTo>
                    <a:pt x="261" y="11"/>
                  </a:lnTo>
                  <a:lnTo>
                    <a:pt x="293" y="6"/>
                  </a:lnTo>
                  <a:lnTo>
                    <a:pt x="321" y="3"/>
                  </a:lnTo>
                  <a:lnTo>
                    <a:pt x="349" y="1"/>
                  </a:lnTo>
                  <a:lnTo>
                    <a:pt x="375" y="0"/>
                  </a:lnTo>
                  <a:lnTo>
                    <a:pt x="446" y="1"/>
                  </a:lnTo>
                  <a:lnTo>
                    <a:pt x="514" y="5"/>
                  </a:lnTo>
                  <a:lnTo>
                    <a:pt x="545" y="8"/>
                  </a:lnTo>
                  <a:lnTo>
                    <a:pt x="575" y="10"/>
                  </a:lnTo>
                  <a:lnTo>
                    <a:pt x="604" y="14"/>
                  </a:lnTo>
                  <a:lnTo>
                    <a:pt x="632" y="17"/>
                  </a:lnTo>
                  <a:lnTo>
                    <a:pt x="658" y="22"/>
                  </a:lnTo>
                  <a:lnTo>
                    <a:pt x="682" y="27"/>
                  </a:lnTo>
                  <a:lnTo>
                    <a:pt x="706" y="33"/>
                  </a:lnTo>
                  <a:lnTo>
                    <a:pt x="728" y="39"/>
                  </a:lnTo>
                  <a:lnTo>
                    <a:pt x="749" y="47"/>
                  </a:lnTo>
                  <a:lnTo>
                    <a:pt x="769" y="54"/>
                  </a:lnTo>
                  <a:lnTo>
                    <a:pt x="786" y="62"/>
                  </a:lnTo>
                  <a:lnTo>
                    <a:pt x="803" y="70"/>
                  </a:lnTo>
                  <a:lnTo>
                    <a:pt x="819" y="80"/>
                  </a:lnTo>
                  <a:lnTo>
                    <a:pt x="834" y="90"/>
                  </a:lnTo>
                  <a:lnTo>
                    <a:pt x="847" y="100"/>
                  </a:lnTo>
                  <a:lnTo>
                    <a:pt x="860" y="111"/>
                  </a:lnTo>
                  <a:lnTo>
                    <a:pt x="871" y="123"/>
                  </a:lnTo>
                  <a:lnTo>
                    <a:pt x="882" y="135"/>
                  </a:lnTo>
                  <a:lnTo>
                    <a:pt x="890" y="149"/>
                  </a:lnTo>
                  <a:lnTo>
                    <a:pt x="899" y="162"/>
                  </a:lnTo>
                  <a:lnTo>
                    <a:pt x="906" y="177"/>
                  </a:lnTo>
                  <a:lnTo>
                    <a:pt x="914" y="192"/>
                  </a:lnTo>
                  <a:lnTo>
                    <a:pt x="919" y="208"/>
                  </a:lnTo>
                  <a:lnTo>
                    <a:pt x="924" y="225"/>
                  </a:lnTo>
                  <a:lnTo>
                    <a:pt x="927" y="242"/>
                  </a:lnTo>
                  <a:lnTo>
                    <a:pt x="930" y="261"/>
                  </a:lnTo>
                  <a:lnTo>
                    <a:pt x="931" y="279"/>
                  </a:lnTo>
                  <a:lnTo>
                    <a:pt x="931" y="299"/>
                  </a:lnTo>
                  <a:lnTo>
                    <a:pt x="931" y="764"/>
                  </a:lnTo>
                  <a:lnTo>
                    <a:pt x="931" y="792"/>
                  </a:lnTo>
                  <a:lnTo>
                    <a:pt x="931" y="803"/>
                  </a:lnTo>
                  <a:lnTo>
                    <a:pt x="937" y="835"/>
                  </a:lnTo>
                  <a:lnTo>
                    <a:pt x="949" y="856"/>
                  </a:lnTo>
                  <a:lnTo>
                    <a:pt x="973" y="866"/>
                  </a:lnTo>
                  <a:lnTo>
                    <a:pt x="981" y="870"/>
                  </a:lnTo>
                  <a:lnTo>
                    <a:pt x="989" y="873"/>
                  </a:lnTo>
                  <a:lnTo>
                    <a:pt x="996" y="878"/>
                  </a:lnTo>
                  <a:lnTo>
                    <a:pt x="1001" y="883"/>
                  </a:lnTo>
                  <a:lnTo>
                    <a:pt x="1005" y="889"/>
                  </a:lnTo>
                  <a:lnTo>
                    <a:pt x="1007" y="895"/>
                  </a:lnTo>
                  <a:lnTo>
                    <a:pt x="1010" y="901"/>
                  </a:lnTo>
                  <a:lnTo>
                    <a:pt x="1010" y="909"/>
                  </a:lnTo>
                  <a:lnTo>
                    <a:pt x="1010" y="973"/>
                  </a:lnTo>
                  <a:lnTo>
                    <a:pt x="633" y="973"/>
                  </a:lnTo>
                  <a:lnTo>
                    <a:pt x="633" y="920"/>
                  </a:lnTo>
                  <a:lnTo>
                    <a:pt x="605" y="938"/>
                  </a:lnTo>
                  <a:lnTo>
                    <a:pt x="577" y="953"/>
                  </a:lnTo>
                  <a:lnTo>
                    <a:pt x="562" y="960"/>
                  </a:lnTo>
                  <a:lnTo>
                    <a:pt x="547" y="967"/>
                  </a:lnTo>
                  <a:lnTo>
                    <a:pt x="532" y="973"/>
                  </a:lnTo>
                  <a:lnTo>
                    <a:pt x="516" y="978"/>
                  </a:lnTo>
                  <a:lnTo>
                    <a:pt x="502" y="981"/>
                  </a:lnTo>
                  <a:lnTo>
                    <a:pt x="486" y="986"/>
                  </a:lnTo>
                  <a:lnTo>
                    <a:pt x="471" y="989"/>
                  </a:lnTo>
                  <a:lnTo>
                    <a:pt x="455" y="991"/>
                  </a:lnTo>
                  <a:lnTo>
                    <a:pt x="439" y="994"/>
                  </a:lnTo>
                  <a:lnTo>
                    <a:pt x="423" y="995"/>
                  </a:lnTo>
                  <a:lnTo>
                    <a:pt x="407" y="996"/>
                  </a:lnTo>
                  <a:lnTo>
                    <a:pt x="391" y="996"/>
                  </a:lnTo>
                  <a:lnTo>
                    <a:pt x="359" y="996"/>
                  </a:lnTo>
                  <a:lnTo>
                    <a:pt x="328" y="995"/>
                  </a:lnTo>
                  <a:lnTo>
                    <a:pt x="301" y="994"/>
                  </a:lnTo>
                  <a:lnTo>
                    <a:pt x="275" y="991"/>
                  </a:lnTo>
                  <a:lnTo>
                    <a:pt x="251" y="989"/>
                  </a:lnTo>
                  <a:lnTo>
                    <a:pt x="230" y="985"/>
                  </a:lnTo>
                  <a:lnTo>
                    <a:pt x="210" y="980"/>
                  </a:lnTo>
                  <a:lnTo>
                    <a:pt x="193" y="975"/>
                  </a:lnTo>
                  <a:lnTo>
                    <a:pt x="176" y="970"/>
                  </a:lnTo>
                  <a:lnTo>
                    <a:pt x="161" y="963"/>
                  </a:lnTo>
                  <a:lnTo>
                    <a:pt x="145" y="954"/>
                  </a:lnTo>
                  <a:lnTo>
                    <a:pt x="130" y="946"/>
                  </a:lnTo>
                  <a:lnTo>
                    <a:pt x="115" y="935"/>
                  </a:lnTo>
                  <a:lnTo>
                    <a:pt x="101" y="924"/>
                  </a:lnTo>
                  <a:lnTo>
                    <a:pt x="87" y="910"/>
                  </a:lnTo>
                  <a:lnTo>
                    <a:pt x="74" y="897"/>
                  </a:lnTo>
                  <a:lnTo>
                    <a:pt x="56" y="876"/>
                  </a:lnTo>
                  <a:lnTo>
                    <a:pt x="42" y="854"/>
                  </a:lnTo>
                  <a:lnTo>
                    <a:pt x="28" y="831"/>
                  </a:lnTo>
                  <a:lnTo>
                    <a:pt x="18" y="808"/>
                  </a:lnTo>
                  <a:lnTo>
                    <a:pt x="10" y="785"/>
                  </a:lnTo>
                  <a:lnTo>
                    <a:pt x="4" y="760"/>
                  </a:lnTo>
                  <a:lnTo>
                    <a:pt x="1" y="736"/>
                  </a:lnTo>
                  <a:lnTo>
                    <a:pt x="0" y="711"/>
                  </a:lnTo>
                  <a:lnTo>
                    <a:pt x="0" y="691"/>
                  </a:lnTo>
                  <a:lnTo>
                    <a:pt x="4" y="669"/>
                  </a:lnTo>
                  <a:lnTo>
                    <a:pt x="7" y="646"/>
                  </a:lnTo>
                  <a:lnTo>
                    <a:pt x="15" y="620"/>
                  </a:lnTo>
                  <a:lnTo>
                    <a:pt x="18" y="607"/>
                  </a:lnTo>
                  <a:lnTo>
                    <a:pt x="22" y="594"/>
                  </a:lnTo>
                  <a:lnTo>
                    <a:pt x="27" y="582"/>
                  </a:lnTo>
                  <a:lnTo>
                    <a:pt x="33" y="571"/>
                  </a:lnTo>
                  <a:lnTo>
                    <a:pt x="39" y="559"/>
                  </a:lnTo>
                  <a:lnTo>
                    <a:pt x="47" y="548"/>
                  </a:lnTo>
                  <a:lnTo>
                    <a:pt x="54" y="537"/>
                  </a:lnTo>
                  <a:lnTo>
                    <a:pt x="61" y="526"/>
                  </a:lnTo>
                  <a:lnTo>
                    <a:pt x="70" y="515"/>
                  </a:lnTo>
                  <a:lnTo>
                    <a:pt x="79" y="505"/>
                  </a:lnTo>
                  <a:lnTo>
                    <a:pt x="88" y="495"/>
                  </a:lnTo>
                  <a:lnTo>
                    <a:pt x="99" y="485"/>
                  </a:lnTo>
                  <a:lnTo>
                    <a:pt x="122" y="467"/>
                  </a:lnTo>
                  <a:lnTo>
                    <a:pt x="145" y="450"/>
                  </a:lnTo>
                  <a:lnTo>
                    <a:pt x="176" y="431"/>
                  </a:lnTo>
                  <a:lnTo>
                    <a:pt x="210" y="414"/>
                  </a:lnTo>
                  <a:lnTo>
                    <a:pt x="247" y="398"/>
                  </a:lnTo>
                  <a:lnTo>
                    <a:pt x="288" y="382"/>
                  </a:lnTo>
                  <a:lnTo>
                    <a:pt x="331" y="369"/>
                  </a:lnTo>
                  <a:lnTo>
                    <a:pt x="379" y="355"/>
                  </a:lnTo>
                  <a:lnTo>
                    <a:pt x="429" y="343"/>
                  </a:lnTo>
                  <a:lnTo>
                    <a:pt x="483" y="332"/>
                  </a:lnTo>
                  <a:lnTo>
                    <a:pt x="503" y="328"/>
                  </a:lnTo>
                  <a:lnTo>
                    <a:pt x="521" y="326"/>
                  </a:lnTo>
                  <a:lnTo>
                    <a:pt x="541" y="322"/>
                  </a:lnTo>
                  <a:lnTo>
                    <a:pt x="559" y="318"/>
                  </a:lnTo>
                  <a:lnTo>
                    <a:pt x="622" y="311"/>
                  </a:lnTo>
                  <a:close/>
                  <a:moveTo>
                    <a:pt x="603" y="504"/>
                  </a:moveTo>
                  <a:lnTo>
                    <a:pt x="573" y="507"/>
                  </a:lnTo>
                  <a:lnTo>
                    <a:pt x="550" y="511"/>
                  </a:lnTo>
                  <a:lnTo>
                    <a:pt x="527" y="515"/>
                  </a:lnTo>
                  <a:lnTo>
                    <a:pt x="508" y="518"/>
                  </a:lnTo>
                  <a:lnTo>
                    <a:pt x="491" y="523"/>
                  </a:lnTo>
                  <a:lnTo>
                    <a:pt x="464" y="533"/>
                  </a:lnTo>
                  <a:lnTo>
                    <a:pt x="439" y="540"/>
                  </a:lnTo>
                  <a:lnTo>
                    <a:pt x="419" y="548"/>
                  </a:lnTo>
                  <a:lnTo>
                    <a:pt x="404" y="555"/>
                  </a:lnTo>
                  <a:lnTo>
                    <a:pt x="392" y="561"/>
                  </a:lnTo>
                  <a:lnTo>
                    <a:pt x="381" y="569"/>
                  </a:lnTo>
                  <a:lnTo>
                    <a:pt x="370" y="576"/>
                  </a:lnTo>
                  <a:lnTo>
                    <a:pt x="361" y="583"/>
                  </a:lnTo>
                  <a:lnTo>
                    <a:pt x="350" y="596"/>
                  </a:lnTo>
                  <a:lnTo>
                    <a:pt x="341" y="609"/>
                  </a:lnTo>
                  <a:lnTo>
                    <a:pt x="332" y="623"/>
                  </a:lnTo>
                  <a:lnTo>
                    <a:pt x="325" y="637"/>
                  </a:lnTo>
                  <a:lnTo>
                    <a:pt x="318" y="652"/>
                  </a:lnTo>
                  <a:lnTo>
                    <a:pt x="315" y="666"/>
                  </a:lnTo>
                  <a:lnTo>
                    <a:pt x="311" y="680"/>
                  </a:lnTo>
                  <a:lnTo>
                    <a:pt x="311" y="693"/>
                  </a:lnTo>
                  <a:lnTo>
                    <a:pt x="311" y="707"/>
                  </a:lnTo>
                  <a:lnTo>
                    <a:pt x="312" y="721"/>
                  </a:lnTo>
                  <a:lnTo>
                    <a:pt x="315" y="733"/>
                  </a:lnTo>
                  <a:lnTo>
                    <a:pt x="318" y="744"/>
                  </a:lnTo>
                  <a:lnTo>
                    <a:pt x="322" y="755"/>
                  </a:lnTo>
                  <a:lnTo>
                    <a:pt x="327" y="765"/>
                  </a:lnTo>
                  <a:lnTo>
                    <a:pt x="333" y="774"/>
                  </a:lnTo>
                  <a:lnTo>
                    <a:pt x="341" y="781"/>
                  </a:lnTo>
                  <a:lnTo>
                    <a:pt x="348" y="788"/>
                  </a:lnTo>
                  <a:lnTo>
                    <a:pt x="357" y="795"/>
                  </a:lnTo>
                  <a:lnTo>
                    <a:pt x="366" y="800"/>
                  </a:lnTo>
                  <a:lnTo>
                    <a:pt x="377" y="803"/>
                  </a:lnTo>
                  <a:lnTo>
                    <a:pt x="389" y="807"/>
                  </a:lnTo>
                  <a:lnTo>
                    <a:pt x="401" y="809"/>
                  </a:lnTo>
                  <a:lnTo>
                    <a:pt x="414" y="811"/>
                  </a:lnTo>
                  <a:lnTo>
                    <a:pt x="429" y="811"/>
                  </a:lnTo>
                  <a:lnTo>
                    <a:pt x="443" y="811"/>
                  </a:lnTo>
                  <a:lnTo>
                    <a:pt x="452" y="811"/>
                  </a:lnTo>
                  <a:lnTo>
                    <a:pt x="467" y="811"/>
                  </a:lnTo>
                  <a:lnTo>
                    <a:pt x="481" y="808"/>
                  </a:lnTo>
                  <a:lnTo>
                    <a:pt x="496" y="804"/>
                  </a:lnTo>
                  <a:lnTo>
                    <a:pt x="510" y="801"/>
                  </a:lnTo>
                  <a:lnTo>
                    <a:pt x="525" y="795"/>
                  </a:lnTo>
                  <a:lnTo>
                    <a:pt x="540" y="787"/>
                  </a:lnTo>
                  <a:lnTo>
                    <a:pt x="555" y="779"/>
                  </a:lnTo>
                  <a:lnTo>
                    <a:pt x="569" y="769"/>
                  </a:lnTo>
                  <a:lnTo>
                    <a:pt x="585" y="757"/>
                  </a:lnTo>
                  <a:lnTo>
                    <a:pt x="593" y="749"/>
                  </a:lnTo>
                  <a:lnTo>
                    <a:pt x="601" y="741"/>
                  </a:lnTo>
                  <a:lnTo>
                    <a:pt x="609" y="731"/>
                  </a:lnTo>
                  <a:lnTo>
                    <a:pt x="615" y="721"/>
                  </a:lnTo>
                  <a:lnTo>
                    <a:pt x="622" y="709"/>
                  </a:lnTo>
                  <a:lnTo>
                    <a:pt x="622" y="502"/>
                  </a:lnTo>
                  <a:lnTo>
                    <a:pt x="603" y="504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56480" y="334800"/>
              <a:ext cx="69840" cy="84240"/>
            </a:xfrm>
            <a:custGeom>
              <a:avLst/>
              <a:gdLst/>
              <a:ahLst/>
              <a:rect l="l" t="t" r="r" b="b"/>
              <a:pathLst>
                <a:path w="857" h="983">
                  <a:moveTo>
                    <a:pt x="857" y="187"/>
                  </a:moveTo>
                  <a:lnTo>
                    <a:pt x="682" y="412"/>
                  </a:lnTo>
                  <a:lnTo>
                    <a:pt x="660" y="401"/>
                  </a:lnTo>
                  <a:lnTo>
                    <a:pt x="642" y="390"/>
                  </a:lnTo>
                  <a:lnTo>
                    <a:pt x="627" y="380"/>
                  </a:lnTo>
                  <a:lnTo>
                    <a:pt x="615" y="373"/>
                  </a:lnTo>
                  <a:lnTo>
                    <a:pt x="607" y="365"/>
                  </a:lnTo>
                  <a:lnTo>
                    <a:pt x="601" y="361"/>
                  </a:lnTo>
                  <a:lnTo>
                    <a:pt x="596" y="354"/>
                  </a:lnTo>
                  <a:lnTo>
                    <a:pt x="592" y="350"/>
                  </a:lnTo>
                  <a:lnTo>
                    <a:pt x="591" y="345"/>
                  </a:lnTo>
                  <a:lnTo>
                    <a:pt x="595" y="310"/>
                  </a:lnTo>
                  <a:lnTo>
                    <a:pt x="596" y="298"/>
                  </a:lnTo>
                  <a:lnTo>
                    <a:pt x="596" y="283"/>
                  </a:lnTo>
                  <a:lnTo>
                    <a:pt x="595" y="271"/>
                  </a:lnTo>
                  <a:lnTo>
                    <a:pt x="594" y="261"/>
                  </a:lnTo>
                  <a:lnTo>
                    <a:pt x="591" y="254"/>
                  </a:lnTo>
                  <a:lnTo>
                    <a:pt x="587" y="246"/>
                  </a:lnTo>
                  <a:lnTo>
                    <a:pt x="581" y="238"/>
                  </a:lnTo>
                  <a:lnTo>
                    <a:pt x="574" y="228"/>
                  </a:lnTo>
                  <a:lnTo>
                    <a:pt x="564" y="218"/>
                  </a:lnTo>
                  <a:lnTo>
                    <a:pt x="557" y="212"/>
                  </a:lnTo>
                  <a:lnTo>
                    <a:pt x="549" y="206"/>
                  </a:lnTo>
                  <a:lnTo>
                    <a:pt x="541" y="201"/>
                  </a:lnTo>
                  <a:lnTo>
                    <a:pt x="531" y="197"/>
                  </a:lnTo>
                  <a:lnTo>
                    <a:pt x="521" y="195"/>
                  </a:lnTo>
                  <a:lnTo>
                    <a:pt x="510" y="192"/>
                  </a:lnTo>
                  <a:lnTo>
                    <a:pt x="499" y="191"/>
                  </a:lnTo>
                  <a:lnTo>
                    <a:pt x="488" y="190"/>
                  </a:lnTo>
                  <a:lnTo>
                    <a:pt x="474" y="192"/>
                  </a:lnTo>
                  <a:lnTo>
                    <a:pt x="452" y="196"/>
                  </a:lnTo>
                  <a:lnTo>
                    <a:pt x="445" y="197"/>
                  </a:lnTo>
                  <a:lnTo>
                    <a:pt x="439" y="200"/>
                  </a:lnTo>
                  <a:lnTo>
                    <a:pt x="431" y="203"/>
                  </a:lnTo>
                  <a:lnTo>
                    <a:pt x="425" y="207"/>
                  </a:lnTo>
                  <a:lnTo>
                    <a:pt x="410" y="217"/>
                  </a:lnTo>
                  <a:lnTo>
                    <a:pt x="397" y="230"/>
                  </a:lnTo>
                  <a:lnTo>
                    <a:pt x="389" y="238"/>
                  </a:lnTo>
                  <a:lnTo>
                    <a:pt x="382" y="246"/>
                  </a:lnTo>
                  <a:lnTo>
                    <a:pt x="375" y="256"/>
                  </a:lnTo>
                  <a:lnTo>
                    <a:pt x="369" y="267"/>
                  </a:lnTo>
                  <a:lnTo>
                    <a:pt x="355" y="292"/>
                  </a:lnTo>
                  <a:lnTo>
                    <a:pt x="341" y="320"/>
                  </a:lnTo>
                  <a:lnTo>
                    <a:pt x="335" y="338"/>
                  </a:lnTo>
                  <a:lnTo>
                    <a:pt x="330" y="352"/>
                  </a:lnTo>
                  <a:lnTo>
                    <a:pt x="325" y="370"/>
                  </a:lnTo>
                  <a:lnTo>
                    <a:pt x="319" y="386"/>
                  </a:lnTo>
                  <a:lnTo>
                    <a:pt x="316" y="401"/>
                  </a:lnTo>
                  <a:lnTo>
                    <a:pt x="313" y="416"/>
                  </a:lnTo>
                  <a:lnTo>
                    <a:pt x="307" y="444"/>
                  </a:lnTo>
                  <a:lnTo>
                    <a:pt x="303" y="472"/>
                  </a:lnTo>
                  <a:lnTo>
                    <a:pt x="301" y="499"/>
                  </a:lnTo>
                  <a:lnTo>
                    <a:pt x="300" y="526"/>
                  </a:lnTo>
                  <a:lnTo>
                    <a:pt x="301" y="558"/>
                  </a:lnTo>
                  <a:lnTo>
                    <a:pt x="305" y="588"/>
                  </a:lnTo>
                  <a:lnTo>
                    <a:pt x="307" y="601"/>
                  </a:lnTo>
                  <a:lnTo>
                    <a:pt x="310" y="615"/>
                  </a:lnTo>
                  <a:lnTo>
                    <a:pt x="313" y="628"/>
                  </a:lnTo>
                  <a:lnTo>
                    <a:pt x="317" y="641"/>
                  </a:lnTo>
                  <a:lnTo>
                    <a:pt x="322" y="653"/>
                  </a:lnTo>
                  <a:lnTo>
                    <a:pt x="327" y="665"/>
                  </a:lnTo>
                  <a:lnTo>
                    <a:pt x="332" y="676"/>
                  </a:lnTo>
                  <a:lnTo>
                    <a:pt x="338" y="686"/>
                  </a:lnTo>
                  <a:lnTo>
                    <a:pt x="344" y="697"/>
                  </a:lnTo>
                  <a:lnTo>
                    <a:pt x="351" y="707"/>
                  </a:lnTo>
                  <a:lnTo>
                    <a:pt x="359" y="715"/>
                  </a:lnTo>
                  <a:lnTo>
                    <a:pt x="367" y="725"/>
                  </a:lnTo>
                  <a:lnTo>
                    <a:pt x="383" y="740"/>
                  </a:lnTo>
                  <a:lnTo>
                    <a:pt x="401" y="752"/>
                  </a:lnTo>
                  <a:lnTo>
                    <a:pt x="419" y="763"/>
                  </a:lnTo>
                  <a:lnTo>
                    <a:pt x="440" y="772"/>
                  </a:lnTo>
                  <a:lnTo>
                    <a:pt x="461" y="779"/>
                  </a:lnTo>
                  <a:lnTo>
                    <a:pt x="484" y="784"/>
                  </a:lnTo>
                  <a:lnTo>
                    <a:pt x="508" y="788"/>
                  </a:lnTo>
                  <a:lnTo>
                    <a:pt x="533" y="788"/>
                  </a:lnTo>
                  <a:lnTo>
                    <a:pt x="560" y="788"/>
                  </a:lnTo>
                  <a:lnTo>
                    <a:pt x="584" y="785"/>
                  </a:lnTo>
                  <a:lnTo>
                    <a:pt x="595" y="783"/>
                  </a:lnTo>
                  <a:lnTo>
                    <a:pt x="605" y="780"/>
                  </a:lnTo>
                  <a:lnTo>
                    <a:pt x="613" y="778"/>
                  </a:lnTo>
                  <a:lnTo>
                    <a:pt x="621" y="774"/>
                  </a:lnTo>
                  <a:lnTo>
                    <a:pt x="637" y="767"/>
                  </a:lnTo>
                  <a:lnTo>
                    <a:pt x="653" y="755"/>
                  </a:lnTo>
                  <a:lnTo>
                    <a:pt x="670" y="740"/>
                  </a:lnTo>
                  <a:lnTo>
                    <a:pt x="687" y="723"/>
                  </a:lnTo>
                  <a:lnTo>
                    <a:pt x="697" y="714"/>
                  </a:lnTo>
                  <a:lnTo>
                    <a:pt x="720" y="687"/>
                  </a:lnTo>
                  <a:lnTo>
                    <a:pt x="729" y="677"/>
                  </a:lnTo>
                  <a:lnTo>
                    <a:pt x="738" y="671"/>
                  </a:lnTo>
                  <a:lnTo>
                    <a:pt x="745" y="666"/>
                  </a:lnTo>
                  <a:lnTo>
                    <a:pt x="752" y="663"/>
                  </a:lnTo>
                  <a:lnTo>
                    <a:pt x="762" y="661"/>
                  </a:lnTo>
                  <a:lnTo>
                    <a:pt x="776" y="660"/>
                  </a:lnTo>
                  <a:lnTo>
                    <a:pt x="795" y="660"/>
                  </a:lnTo>
                  <a:lnTo>
                    <a:pt x="819" y="659"/>
                  </a:lnTo>
                  <a:lnTo>
                    <a:pt x="837" y="659"/>
                  </a:lnTo>
                  <a:lnTo>
                    <a:pt x="837" y="928"/>
                  </a:lnTo>
                  <a:lnTo>
                    <a:pt x="786" y="946"/>
                  </a:lnTo>
                  <a:lnTo>
                    <a:pt x="755" y="955"/>
                  </a:lnTo>
                  <a:lnTo>
                    <a:pt x="724" y="962"/>
                  </a:lnTo>
                  <a:lnTo>
                    <a:pt x="694" y="968"/>
                  </a:lnTo>
                  <a:lnTo>
                    <a:pt x="665" y="973"/>
                  </a:lnTo>
                  <a:lnTo>
                    <a:pt x="637" y="978"/>
                  </a:lnTo>
                  <a:lnTo>
                    <a:pt x="608" y="981"/>
                  </a:lnTo>
                  <a:lnTo>
                    <a:pt x="581" y="982"/>
                  </a:lnTo>
                  <a:lnTo>
                    <a:pt x="554" y="983"/>
                  </a:lnTo>
                  <a:lnTo>
                    <a:pt x="521" y="982"/>
                  </a:lnTo>
                  <a:lnTo>
                    <a:pt x="489" y="979"/>
                  </a:lnTo>
                  <a:lnTo>
                    <a:pt x="458" y="976"/>
                  </a:lnTo>
                  <a:lnTo>
                    <a:pt x="429" y="970"/>
                  </a:lnTo>
                  <a:lnTo>
                    <a:pt x="385" y="960"/>
                  </a:lnTo>
                  <a:lnTo>
                    <a:pt x="341" y="949"/>
                  </a:lnTo>
                  <a:lnTo>
                    <a:pt x="322" y="941"/>
                  </a:lnTo>
                  <a:lnTo>
                    <a:pt x="302" y="935"/>
                  </a:lnTo>
                  <a:lnTo>
                    <a:pt x="282" y="927"/>
                  </a:lnTo>
                  <a:lnTo>
                    <a:pt x="265" y="919"/>
                  </a:lnTo>
                  <a:lnTo>
                    <a:pt x="247" y="911"/>
                  </a:lnTo>
                  <a:lnTo>
                    <a:pt x="230" y="902"/>
                  </a:lnTo>
                  <a:lnTo>
                    <a:pt x="214" y="892"/>
                  </a:lnTo>
                  <a:lnTo>
                    <a:pt x="199" y="882"/>
                  </a:lnTo>
                  <a:lnTo>
                    <a:pt x="183" y="873"/>
                  </a:lnTo>
                  <a:lnTo>
                    <a:pt x="169" y="862"/>
                  </a:lnTo>
                  <a:lnTo>
                    <a:pt x="156" y="850"/>
                  </a:lnTo>
                  <a:lnTo>
                    <a:pt x="142" y="839"/>
                  </a:lnTo>
                  <a:lnTo>
                    <a:pt x="130" y="827"/>
                  </a:lnTo>
                  <a:lnTo>
                    <a:pt x="118" y="815"/>
                  </a:lnTo>
                  <a:lnTo>
                    <a:pt x="107" y="801"/>
                  </a:lnTo>
                  <a:lnTo>
                    <a:pt x="97" y="788"/>
                  </a:lnTo>
                  <a:lnTo>
                    <a:pt x="86" y="773"/>
                  </a:lnTo>
                  <a:lnTo>
                    <a:pt x="76" y="758"/>
                  </a:lnTo>
                  <a:lnTo>
                    <a:pt x="67" y="742"/>
                  </a:lnTo>
                  <a:lnTo>
                    <a:pt x="59" y="726"/>
                  </a:lnTo>
                  <a:lnTo>
                    <a:pt x="50" y="711"/>
                  </a:lnTo>
                  <a:lnTo>
                    <a:pt x="43" y="693"/>
                  </a:lnTo>
                  <a:lnTo>
                    <a:pt x="35" y="675"/>
                  </a:lnTo>
                  <a:lnTo>
                    <a:pt x="29" y="656"/>
                  </a:lnTo>
                  <a:lnTo>
                    <a:pt x="23" y="638"/>
                  </a:lnTo>
                  <a:lnTo>
                    <a:pt x="18" y="618"/>
                  </a:lnTo>
                  <a:lnTo>
                    <a:pt x="13" y="599"/>
                  </a:lnTo>
                  <a:lnTo>
                    <a:pt x="8" y="578"/>
                  </a:lnTo>
                  <a:lnTo>
                    <a:pt x="6" y="556"/>
                  </a:lnTo>
                  <a:lnTo>
                    <a:pt x="3" y="537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4"/>
                  </a:lnTo>
                  <a:lnTo>
                    <a:pt x="0" y="481"/>
                  </a:lnTo>
                  <a:lnTo>
                    <a:pt x="1" y="450"/>
                  </a:lnTo>
                  <a:lnTo>
                    <a:pt x="3" y="419"/>
                  </a:lnTo>
                  <a:lnTo>
                    <a:pt x="8" y="388"/>
                  </a:lnTo>
                  <a:lnTo>
                    <a:pt x="16" y="356"/>
                  </a:lnTo>
                  <a:lnTo>
                    <a:pt x="22" y="337"/>
                  </a:lnTo>
                  <a:lnTo>
                    <a:pt x="28" y="320"/>
                  </a:lnTo>
                  <a:lnTo>
                    <a:pt x="34" y="302"/>
                  </a:lnTo>
                  <a:lnTo>
                    <a:pt x="41" y="284"/>
                  </a:lnTo>
                  <a:lnTo>
                    <a:pt x="49" y="268"/>
                  </a:lnTo>
                  <a:lnTo>
                    <a:pt x="57" y="251"/>
                  </a:lnTo>
                  <a:lnTo>
                    <a:pt x="66" y="235"/>
                  </a:lnTo>
                  <a:lnTo>
                    <a:pt x="75" y="221"/>
                  </a:lnTo>
                  <a:lnTo>
                    <a:pt x="84" y="206"/>
                  </a:lnTo>
                  <a:lnTo>
                    <a:pt x="94" y="191"/>
                  </a:lnTo>
                  <a:lnTo>
                    <a:pt x="105" y="176"/>
                  </a:lnTo>
                  <a:lnTo>
                    <a:pt x="116" y="163"/>
                  </a:lnTo>
                  <a:lnTo>
                    <a:pt x="129" y="149"/>
                  </a:lnTo>
                  <a:lnTo>
                    <a:pt x="141" y="137"/>
                  </a:lnTo>
                  <a:lnTo>
                    <a:pt x="153" y="125"/>
                  </a:lnTo>
                  <a:lnTo>
                    <a:pt x="167" y="113"/>
                  </a:lnTo>
                  <a:lnTo>
                    <a:pt x="180" y="100"/>
                  </a:lnTo>
                  <a:lnTo>
                    <a:pt x="195" y="90"/>
                  </a:lnTo>
                  <a:lnTo>
                    <a:pt x="210" y="79"/>
                  </a:lnTo>
                  <a:lnTo>
                    <a:pt x="225" y="70"/>
                  </a:lnTo>
                  <a:lnTo>
                    <a:pt x="239" y="61"/>
                  </a:lnTo>
                  <a:lnTo>
                    <a:pt x="255" y="52"/>
                  </a:lnTo>
                  <a:lnTo>
                    <a:pt x="270" y="45"/>
                  </a:lnTo>
                  <a:lnTo>
                    <a:pt x="286" y="38"/>
                  </a:lnTo>
                  <a:lnTo>
                    <a:pt x="303" y="31"/>
                  </a:lnTo>
                  <a:lnTo>
                    <a:pt x="319" y="25"/>
                  </a:lnTo>
                  <a:lnTo>
                    <a:pt x="337" y="20"/>
                  </a:lnTo>
                  <a:lnTo>
                    <a:pt x="354" y="16"/>
                  </a:lnTo>
                  <a:lnTo>
                    <a:pt x="372" y="12"/>
                  </a:lnTo>
                  <a:lnTo>
                    <a:pt x="391" y="8"/>
                  </a:lnTo>
                  <a:lnTo>
                    <a:pt x="409" y="6"/>
                  </a:lnTo>
                  <a:lnTo>
                    <a:pt x="428" y="3"/>
                  </a:lnTo>
                  <a:lnTo>
                    <a:pt x="441" y="2"/>
                  </a:lnTo>
                  <a:lnTo>
                    <a:pt x="456" y="1"/>
                  </a:lnTo>
                  <a:lnTo>
                    <a:pt x="471" y="0"/>
                  </a:lnTo>
                  <a:lnTo>
                    <a:pt x="488" y="0"/>
                  </a:lnTo>
                  <a:lnTo>
                    <a:pt x="516" y="1"/>
                  </a:lnTo>
                  <a:lnTo>
                    <a:pt x="544" y="3"/>
                  </a:lnTo>
                  <a:lnTo>
                    <a:pt x="571" y="7"/>
                  </a:lnTo>
                  <a:lnTo>
                    <a:pt x="599" y="12"/>
                  </a:lnTo>
                  <a:lnTo>
                    <a:pt x="626" y="19"/>
                  </a:lnTo>
                  <a:lnTo>
                    <a:pt x="651" y="28"/>
                  </a:lnTo>
                  <a:lnTo>
                    <a:pt x="676" y="38"/>
                  </a:lnTo>
                  <a:lnTo>
                    <a:pt x="702" y="50"/>
                  </a:lnTo>
                  <a:lnTo>
                    <a:pt x="725" y="62"/>
                  </a:lnTo>
                  <a:lnTo>
                    <a:pt x="747" y="77"/>
                  </a:lnTo>
                  <a:lnTo>
                    <a:pt x="768" y="93"/>
                  </a:lnTo>
                  <a:lnTo>
                    <a:pt x="789" y="109"/>
                  </a:lnTo>
                  <a:lnTo>
                    <a:pt x="808" y="127"/>
                  </a:lnTo>
                  <a:lnTo>
                    <a:pt x="825" y="146"/>
                  </a:lnTo>
                  <a:lnTo>
                    <a:pt x="842" y="165"/>
                  </a:lnTo>
                  <a:lnTo>
                    <a:pt x="857" y="187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31360" y="298440"/>
              <a:ext cx="37800" cy="119160"/>
            </a:xfrm>
            <a:custGeom>
              <a:avLst/>
              <a:gdLst/>
              <a:ahLst/>
              <a:rect l="l" t="t" r="r" b="b"/>
              <a:pathLst>
                <a:path w="480" h="1398">
                  <a:moveTo>
                    <a:pt x="0" y="1398"/>
                  </a:moveTo>
                  <a:lnTo>
                    <a:pt x="0" y="1336"/>
                  </a:lnTo>
                  <a:lnTo>
                    <a:pt x="0" y="1328"/>
                  </a:lnTo>
                  <a:lnTo>
                    <a:pt x="4" y="1319"/>
                  </a:lnTo>
                  <a:lnTo>
                    <a:pt x="10" y="1312"/>
                  </a:lnTo>
                  <a:lnTo>
                    <a:pt x="17" y="1306"/>
                  </a:lnTo>
                  <a:lnTo>
                    <a:pt x="22" y="1302"/>
                  </a:lnTo>
                  <a:lnTo>
                    <a:pt x="45" y="1291"/>
                  </a:lnTo>
                  <a:lnTo>
                    <a:pt x="58" y="1285"/>
                  </a:lnTo>
                  <a:lnTo>
                    <a:pt x="63" y="1282"/>
                  </a:lnTo>
                  <a:lnTo>
                    <a:pt x="67" y="1280"/>
                  </a:lnTo>
                  <a:lnTo>
                    <a:pt x="71" y="1275"/>
                  </a:lnTo>
                  <a:lnTo>
                    <a:pt x="74" y="1270"/>
                  </a:lnTo>
                  <a:lnTo>
                    <a:pt x="76" y="1265"/>
                  </a:lnTo>
                  <a:lnTo>
                    <a:pt x="79" y="1258"/>
                  </a:lnTo>
                  <a:lnTo>
                    <a:pt x="79" y="1250"/>
                  </a:lnTo>
                  <a:lnTo>
                    <a:pt x="80" y="1242"/>
                  </a:lnTo>
                  <a:lnTo>
                    <a:pt x="80" y="1228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7"/>
                  </a:lnTo>
                  <a:lnTo>
                    <a:pt x="45" y="575"/>
                  </a:lnTo>
                  <a:lnTo>
                    <a:pt x="33" y="568"/>
                  </a:lnTo>
                  <a:lnTo>
                    <a:pt x="26" y="563"/>
                  </a:lnTo>
                  <a:lnTo>
                    <a:pt x="18" y="559"/>
                  </a:lnTo>
                  <a:lnTo>
                    <a:pt x="12" y="554"/>
                  </a:lnTo>
                  <a:lnTo>
                    <a:pt x="7" y="549"/>
                  </a:lnTo>
                  <a:lnTo>
                    <a:pt x="4" y="544"/>
                  </a:lnTo>
                  <a:lnTo>
                    <a:pt x="1" y="539"/>
                  </a:lnTo>
                  <a:lnTo>
                    <a:pt x="0" y="534"/>
                  </a:lnTo>
                  <a:lnTo>
                    <a:pt x="0" y="528"/>
                  </a:lnTo>
                  <a:lnTo>
                    <a:pt x="0" y="469"/>
                  </a:lnTo>
                  <a:lnTo>
                    <a:pt x="400" y="469"/>
                  </a:lnTo>
                  <a:lnTo>
                    <a:pt x="400" y="1256"/>
                  </a:lnTo>
                  <a:lnTo>
                    <a:pt x="400" y="1263"/>
                  </a:lnTo>
                  <a:lnTo>
                    <a:pt x="401" y="1268"/>
                  </a:lnTo>
                  <a:lnTo>
                    <a:pt x="402" y="1272"/>
                  </a:lnTo>
                  <a:lnTo>
                    <a:pt x="404" y="1277"/>
                  </a:lnTo>
                  <a:lnTo>
                    <a:pt x="406" y="1280"/>
                  </a:lnTo>
                  <a:lnTo>
                    <a:pt x="409" y="1282"/>
                  </a:lnTo>
                  <a:lnTo>
                    <a:pt x="412" y="1285"/>
                  </a:lnTo>
                  <a:lnTo>
                    <a:pt x="416" y="1285"/>
                  </a:lnTo>
                  <a:lnTo>
                    <a:pt x="443" y="1291"/>
                  </a:lnTo>
                  <a:lnTo>
                    <a:pt x="456" y="1295"/>
                  </a:lnTo>
                  <a:lnTo>
                    <a:pt x="461" y="1298"/>
                  </a:lnTo>
                  <a:lnTo>
                    <a:pt x="466" y="1302"/>
                  </a:lnTo>
                  <a:lnTo>
                    <a:pt x="471" y="1307"/>
                  </a:lnTo>
                  <a:lnTo>
                    <a:pt x="473" y="1312"/>
                  </a:lnTo>
                  <a:lnTo>
                    <a:pt x="476" y="1317"/>
                  </a:lnTo>
                  <a:lnTo>
                    <a:pt x="478" y="1322"/>
                  </a:lnTo>
                  <a:lnTo>
                    <a:pt x="480" y="1328"/>
                  </a:lnTo>
                  <a:lnTo>
                    <a:pt x="480" y="1334"/>
                  </a:lnTo>
                  <a:lnTo>
                    <a:pt x="480" y="1398"/>
                  </a:lnTo>
                  <a:lnTo>
                    <a:pt x="0" y="1398"/>
                  </a:lnTo>
                  <a:close/>
                  <a:moveTo>
                    <a:pt x="45" y="186"/>
                  </a:moveTo>
                  <a:lnTo>
                    <a:pt x="45" y="167"/>
                  </a:lnTo>
                  <a:lnTo>
                    <a:pt x="48" y="149"/>
                  </a:lnTo>
                  <a:lnTo>
                    <a:pt x="53" y="132"/>
                  </a:lnTo>
                  <a:lnTo>
                    <a:pt x="58" y="115"/>
                  </a:lnTo>
                  <a:lnTo>
                    <a:pt x="65" y="99"/>
                  </a:lnTo>
                  <a:lnTo>
                    <a:pt x="75" y="84"/>
                  </a:lnTo>
                  <a:lnTo>
                    <a:pt x="85" y="69"/>
                  </a:lnTo>
                  <a:lnTo>
                    <a:pt x="97" y="54"/>
                  </a:lnTo>
                  <a:lnTo>
                    <a:pt x="112" y="42"/>
                  </a:lnTo>
                  <a:lnTo>
                    <a:pt x="125" y="31"/>
                  </a:lnTo>
                  <a:lnTo>
                    <a:pt x="141" y="21"/>
                  </a:lnTo>
                  <a:lnTo>
                    <a:pt x="157" y="14"/>
                  </a:lnTo>
                  <a:lnTo>
                    <a:pt x="173" y="8"/>
                  </a:lnTo>
                  <a:lnTo>
                    <a:pt x="192" y="4"/>
                  </a:lnTo>
                  <a:lnTo>
                    <a:pt x="209" y="0"/>
                  </a:lnTo>
                  <a:lnTo>
                    <a:pt x="229" y="0"/>
                  </a:lnTo>
                  <a:lnTo>
                    <a:pt x="247" y="0"/>
                  </a:lnTo>
                  <a:lnTo>
                    <a:pt x="264" y="4"/>
                  </a:lnTo>
                  <a:lnTo>
                    <a:pt x="281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5" y="42"/>
                  </a:lnTo>
                  <a:lnTo>
                    <a:pt x="360" y="54"/>
                  </a:lnTo>
                  <a:lnTo>
                    <a:pt x="373" y="69"/>
                  </a:lnTo>
                  <a:lnTo>
                    <a:pt x="385" y="84"/>
                  </a:lnTo>
                  <a:lnTo>
                    <a:pt x="395" y="99"/>
                  </a:lnTo>
                  <a:lnTo>
                    <a:pt x="402" y="115"/>
                  </a:lnTo>
                  <a:lnTo>
                    <a:pt x="408" y="132"/>
                  </a:lnTo>
                  <a:lnTo>
                    <a:pt x="413" y="150"/>
                  </a:lnTo>
                  <a:lnTo>
                    <a:pt x="416" y="169"/>
                  </a:lnTo>
                  <a:lnTo>
                    <a:pt x="416" y="187"/>
                  </a:lnTo>
                  <a:lnTo>
                    <a:pt x="416" y="205"/>
                  </a:lnTo>
                  <a:lnTo>
                    <a:pt x="413" y="224"/>
                  </a:lnTo>
                  <a:lnTo>
                    <a:pt x="408" y="241"/>
                  </a:lnTo>
                  <a:lnTo>
                    <a:pt x="403" y="257"/>
                  </a:lnTo>
                  <a:lnTo>
                    <a:pt x="396" y="273"/>
                  </a:lnTo>
                  <a:lnTo>
                    <a:pt x="386" y="288"/>
                  </a:lnTo>
                  <a:lnTo>
                    <a:pt x="376" y="302"/>
                  </a:lnTo>
                  <a:lnTo>
                    <a:pt x="364" y="316"/>
                  </a:lnTo>
                  <a:lnTo>
                    <a:pt x="349" y="329"/>
                  </a:lnTo>
                  <a:lnTo>
                    <a:pt x="336" y="340"/>
                  </a:lnTo>
                  <a:lnTo>
                    <a:pt x="320" y="349"/>
                  </a:lnTo>
                  <a:lnTo>
                    <a:pt x="304" y="358"/>
                  </a:lnTo>
                  <a:lnTo>
                    <a:pt x="288" y="364"/>
                  </a:lnTo>
                  <a:lnTo>
                    <a:pt x="270" y="367"/>
                  </a:lnTo>
                  <a:lnTo>
                    <a:pt x="252" y="370"/>
                  </a:lnTo>
                  <a:lnTo>
                    <a:pt x="232" y="371"/>
                  </a:lnTo>
                  <a:lnTo>
                    <a:pt x="213" y="370"/>
                  </a:lnTo>
                  <a:lnTo>
                    <a:pt x="194" y="367"/>
                  </a:lnTo>
                  <a:lnTo>
                    <a:pt x="177" y="364"/>
                  </a:lnTo>
                  <a:lnTo>
                    <a:pt x="160" y="358"/>
                  </a:lnTo>
                  <a:lnTo>
                    <a:pt x="144" y="350"/>
                  </a:lnTo>
                  <a:lnTo>
                    <a:pt x="128" y="342"/>
                  </a:lnTo>
                  <a:lnTo>
                    <a:pt x="113" y="331"/>
                  </a:lnTo>
                  <a:lnTo>
                    <a:pt x="99" y="318"/>
                  </a:lnTo>
                  <a:lnTo>
                    <a:pt x="87" y="305"/>
                  </a:lnTo>
                  <a:lnTo>
                    <a:pt x="76" y="290"/>
                  </a:lnTo>
                  <a:lnTo>
                    <a:pt x="66" y="275"/>
                  </a:lnTo>
                  <a:lnTo>
                    <a:pt x="59" y="258"/>
                  </a:lnTo>
                  <a:lnTo>
                    <a:pt x="53" y="242"/>
                  </a:lnTo>
                  <a:lnTo>
                    <a:pt x="48" y="224"/>
                  </a:lnTo>
                  <a:lnTo>
                    <a:pt x="45" y="205"/>
                  </a:lnTo>
                  <a:lnTo>
                    <a:pt x="45" y="186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74200" y="303120"/>
              <a:ext cx="83880" cy="117720"/>
            </a:xfrm>
            <a:custGeom>
              <a:avLst/>
              <a:gdLst/>
              <a:ahLst/>
              <a:rect l="l" t="t" r="r" b="b"/>
              <a:pathLst>
                <a:path w="1043" h="1382">
                  <a:moveTo>
                    <a:pt x="0" y="874"/>
                  </a:moveTo>
                  <a:lnTo>
                    <a:pt x="0" y="849"/>
                  </a:lnTo>
                  <a:lnTo>
                    <a:pt x="1" y="823"/>
                  </a:lnTo>
                  <a:lnTo>
                    <a:pt x="4" y="799"/>
                  </a:lnTo>
                  <a:lnTo>
                    <a:pt x="6" y="775"/>
                  </a:lnTo>
                  <a:lnTo>
                    <a:pt x="11" y="752"/>
                  </a:lnTo>
                  <a:lnTo>
                    <a:pt x="16" y="730"/>
                  </a:lnTo>
                  <a:lnTo>
                    <a:pt x="22" y="707"/>
                  </a:lnTo>
                  <a:lnTo>
                    <a:pt x="28" y="687"/>
                  </a:lnTo>
                  <a:lnTo>
                    <a:pt x="36" y="666"/>
                  </a:lnTo>
                  <a:lnTo>
                    <a:pt x="44" y="645"/>
                  </a:lnTo>
                  <a:lnTo>
                    <a:pt x="54" y="625"/>
                  </a:lnTo>
                  <a:lnTo>
                    <a:pt x="64" y="607"/>
                  </a:lnTo>
                  <a:lnTo>
                    <a:pt x="76" y="588"/>
                  </a:lnTo>
                  <a:lnTo>
                    <a:pt x="89" y="571"/>
                  </a:lnTo>
                  <a:lnTo>
                    <a:pt x="101" y="554"/>
                  </a:lnTo>
                  <a:lnTo>
                    <a:pt x="116" y="537"/>
                  </a:lnTo>
                  <a:lnTo>
                    <a:pt x="130" y="521"/>
                  </a:lnTo>
                  <a:lnTo>
                    <a:pt x="145" y="506"/>
                  </a:lnTo>
                  <a:lnTo>
                    <a:pt x="161" y="491"/>
                  </a:lnTo>
                  <a:lnTo>
                    <a:pt x="178" y="478"/>
                  </a:lnTo>
                  <a:lnTo>
                    <a:pt x="197" y="466"/>
                  </a:lnTo>
                  <a:lnTo>
                    <a:pt x="215" y="454"/>
                  </a:lnTo>
                  <a:lnTo>
                    <a:pt x="234" y="443"/>
                  </a:lnTo>
                  <a:lnTo>
                    <a:pt x="253" y="432"/>
                  </a:lnTo>
                  <a:lnTo>
                    <a:pt x="274" y="424"/>
                  </a:lnTo>
                  <a:lnTo>
                    <a:pt x="295" y="414"/>
                  </a:lnTo>
                  <a:lnTo>
                    <a:pt x="317" y="407"/>
                  </a:lnTo>
                  <a:lnTo>
                    <a:pt x="341" y="399"/>
                  </a:lnTo>
                  <a:lnTo>
                    <a:pt x="364" y="393"/>
                  </a:lnTo>
                  <a:lnTo>
                    <a:pt x="387" y="388"/>
                  </a:lnTo>
                  <a:lnTo>
                    <a:pt x="412" y="383"/>
                  </a:lnTo>
                  <a:lnTo>
                    <a:pt x="438" y="380"/>
                  </a:lnTo>
                  <a:lnTo>
                    <a:pt x="459" y="377"/>
                  </a:lnTo>
                  <a:lnTo>
                    <a:pt x="480" y="376"/>
                  </a:lnTo>
                  <a:lnTo>
                    <a:pt x="501" y="375"/>
                  </a:lnTo>
                  <a:lnTo>
                    <a:pt x="521" y="375"/>
                  </a:lnTo>
                  <a:lnTo>
                    <a:pt x="542" y="375"/>
                  </a:lnTo>
                  <a:lnTo>
                    <a:pt x="562" y="376"/>
                  </a:lnTo>
                  <a:lnTo>
                    <a:pt x="583" y="377"/>
                  </a:lnTo>
                  <a:lnTo>
                    <a:pt x="604" y="380"/>
                  </a:lnTo>
                  <a:lnTo>
                    <a:pt x="630" y="383"/>
                  </a:lnTo>
                  <a:lnTo>
                    <a:pt x="654" y="388"/>
                  </a:lnTo>
                  <a:lnTo>
                    <a:pt x="678" y="393"/>
                  </a:lnTo>
                  <a:lnTo>
                    <a:pt x="701" y="399"/>
                  </a:lnTo>
                  <a:lnTo>
                    <a:pt x="723" y="407"/>
                  </a:lnTo>
                  <a:lnTo>
                    <a:pt x="745" y="414"/>
                  </a:lnTo>
                  <a:lnTo>
                    <a:pt x="766" y="423"/>
                  </a:lnTo>
                  <a:lnTo>
                    <a:pt x="787" y="432"/>
                  </a:lnTo>
                  <a:lnTo>
                    <a:pt x="807" y="442"/>
                  </a:lnTo>
                  <a:lnTo>
                    <a:pt x="827" y="453"/>
                  </a:lnTo>
                  <a:lnTo>
                    <a:pt x="845" y="466"/>
                  </a:lnTo>
                  <a:lnTo>
                    <a:pt x="862" y="478"/>
                  </a:lnTo>
                  <a:lnTo>
                    <a:pt x="879" y="491"/>
                  </a:lnTo>
                  <a:lnTo>
                    <a:pt x="895" y="505"/>
                  </a:lnTo>
                  <a:lnTo>
                    <a:pt x="911" y="521"/>
                  </a:lnTo>
                  <a:lnTo>
                    <a:pt x="926" y="536"/>
                  </a:lnTo>
                  <a:lnTo>
                    <a:pt x="940" y="553"/>
                  </a:lnTo>
                  <a:lnTo>
                    <a:pt x="953" y="570"/>
                  </a:lnTo>
                  <a:lnTo>
                    <a:pt x="965" y="587"/>
                  </a:lnTo>
                  <a:lnTo>
                    <a:pt x="977" y="605"/>
                  </a:lnTo>
                  <a:lnTo>
                    <a:pt x="988" y="624"/>
                  </a:lnTo>
                  <a:lnTo>
                    <a:pt x="997" y="644"/>
                  </a:lnTo>
                  <a:lnTo>
                    <a:pt x="1006" y="664"/>
                  </a:lnTo>
                  <a:lnTo>
                    <a:pt x="1013" y="684"/>
                  </a:lnTo>
                  <a:lnTo>
                    <a:pt x="1020" y="706"/>
                  </a:lnTo>
                  <a:lnTo>
                    <a:pt x="1026" y="728"/>
                  </a:lnTo>
                  <a:lnTo>
                    <a:pt x="1031" y="750"/>
                  </a:lnTo>
                  <a:lnTo>
                    <a:pt x="1036" y="774"/>
                  </a:lnTo>
                  <a:lnTo>
                    <a:pt x="1038" y="797"/>
                  </a:lnTo>
                  <a:lnTo>
                    <a:pt x="1041" y="822"/>
                  </a:lnTo>
                  <a:lnTo>
                    <a:pt x="1042" y="846"/>
                  </a:lnTo>
                  <a:lnTo>
                    <a:pt x="1043" y="872"/>
                  </a:lnTo>
                  <a:lnTo>
                    <a:pt x="1042" y="899"/>
                  </a:lnTo>
                  <a:lnTo>
                    <a:pt x="1041" y="924"/>
                  </a:lnTo>
                  <a:lnTo>
                    <a:pt x="1038" y="949"/>
                  </a:lnTo>
                  <a:lnTo>
                    <a:pt x="1036" y="974"/>
                  </a:lnTo>
                  <a:lnTo>
                    <a:pt x="1032" y="997"/>
                  </a:lnTo>
                  <a:lnTo>
                    <a:pt x="1027" y="1021"/>
                  </a:lnTo>
                  <a:lnTo>
                    <a:pt x="1021" y="1043"/>
                  </a:lnTo>
                  <a:lnTo>
                    <a:pt x="1013" y="1065"/>
                  </a:lnTo>
                  <a:lnTo>
                    <a:pt x="1006" y="1086"/>
                  </a:lnTo>
                  <a:lnTo>
                    <a:pt x="997" y="1106"/>
                  </a:lnTo>
                  <a:lnTo>
                    <a:pt x="989" y="1126"/>
                  </a:lnTo>
                  <a:lnTo>
                    <a:pt x="979" y="1146"/>
                  </a:lnTo>
                  <a:lnTo>
                    <a:pt x="968" y="1164"/>
                  </a:lnTo>
                  <a:lnTo>
                    <a:pt x="956" y="1183"/>
                  </a:lnTo>
                  <a:lnTo>
                    <a:pt x="942" y="1200"/>
                  </a:lnTo>
                  <a:lnTo>
                    <a:pt x="929" y="1217"/>
                  </a:lnTo>
                  <a:lnTo>
                    <a:pt x="914" y="1233"/>
                  </a:lnTo>
                  <a:lnTo>
                    <a:pt x="899" y="1248"/>
                  </a:lnTo>
                  <a:lnTo>
                    <a:pt x="883" y="1262"/>
                  </a:lnTo>
                  <a:lnTo>
                    <a:pt x="866" y="1276"/>
                  </a:lnTo>
                  <a:lnTo>
                    <a:pt x="849" y="1288"/>
                  </a:lnTo>
                  <a:lnTo>
                    <a:pt x="830" y="1300"/>
                  </a:lnTo>
                  <a:lnTo>
                    <a:pt x="811" y="1312"/>
                  </a:lnTo>
                  <a:lnTo>
                    <a:pt x="791" y="1323"/>
                  </a:lnTo>
                  <a:lnTo>
                    <a:pt x="770" y="1331"/>
                  </a:lnTo>
                  <a:lnTo>
                    <a:pt x="749" y="1341"/>
                  </a:lnTo>
                  <a:lnTo>
                    <a:pt x="726" y="1348"/>
                  </a:lnTo>
                  <a:lnTo>
                    <a:pt x="704" y="1356"/>
                  </a:lnTo>
                  <a:lnTo>
                    <a:pt x="679" y="1362"/>
                  </a:lnTo>
                  <a:lnTo>
                    <a:pt x="656" y="1367"/>
                  </a:lnTo>
                  <a:lnTo>
                    <a:pt x="630" y="1372"/>
                  </a:lnTo>
                  <a:lnTo>
                    <a:pt x="604" y="1375"/>
                  </a:lnTo>
                  <a:lnTo>
                    <a:pt x="583" y="1378"/>
                  </a:lnTo>
                  <a:lnTo>
                    <a:pt x="562" y="1379"/>
                  </a:lnTo>
                  <a:lnTo>
                    <a:pt x="542" y="1380"/>
                  </a:lnTo>
                  <a:lnTo>
                    <a:pt x="521" y="1382"/>
                  </a:lnTo>
                  <a:lnTo>
                    <a:pt x="501" y="1380"/>
                  </a:lnTo>
                  <a:lnTo>
                    <a:pt x="480" y="1379"/>
                  </a:lnTo>
                  <a:lnTo>
                    <a:pt x="459" y="1378"/>
                  </a:lnTo>
                  <a:lnTo>
                    <a:pt x="438" y="1375"/>
                  </a:lnTo>
                  <a:lnTo>
                    <a:pt x="412" y="1372"/>
                  </a:lnTo>
                  <a:lnTo>
                    <a:pt x="387" y="1367"/>
                  </a:lnTo>
                  <a:lnTo>
                    <a:pt x="363" y="1362"/>
                  </a:lnTo>
                  <a:lnTo>
                    <a:pt x="339" y="1356"/>
                  </a:lnTo>
                  <a:lnTo>
                    <a:pt x="316" y="1348"/>
                  </a:lnTo>
                  <a:lnTo>
                    <a:pt x="294" y="1341"/>
                  </a:lnTo>
                  <a:lnTo>
                    <a:pt x="273" y="1332"/>
                  </a:lnTo>
                  <a:lnTo>
                    <a:pt x="252" y="1323"/>
                  </a:lnTo>
                  <a:lnTo>
                    <a:pt x="232" y="1313"/>
                  </a:lnTo>
                  <a:lnTo>
                    <a:pt x="214" y="1300"/>
                  </a:lnTo>
                  <a:lnTo>
                    <a:pt x="196" y="1289"/>
                  </a:lnTo>
                  <a:lnTo>
                    <a:pt x="177" y="1276"/>
                  </a:lnTo>
                  <a:lnTo>
                    <a:pt x="160" y="1262"/>
                  </a:lnTo>
                  <a:lnTo>
                    <a:pt x="144" y="1249"/>
                  </a:lnTo>
                  <a:lnTo>
                    <a:pt x="129" y="1233"/>
                  </a:lnTo>
                  <a:lnTo>
                    <a:pt x="114" y="1217"/>
                  </a:lnTo>
                  <a:lnTo>
                    <a:pt x="100" y="1201"/>
                  </a:lnTo>
                  <a:lnTo>
                    <a:pt x="87" y="1184"/>
                  </a:lnTo>
                  <a:lnTo>
                    <a:pt x="75" y="1165"/>
                  </a:lnTo>
                  <a:lnTo>
                    <a:pt x="64" y="1147"/>
                  </a:lnTo>
                  <a:lnTo>
                    <a:pt x="54" y="1127"/>
                  </a:lnTo>
                  <a:lnTo>
                    <a:pt x="44" y="1108"/>
                  </a:lnTo>
                  <a:lnTo>
                    <a:pt x="36" y="1087"/>
                  </a:lnTo>
                  <a:lnTo>
                    <a:pt x="28" y="1066"/>
                  </a:lnTo>
                  <a:lnTo>
                    <a:pt x="21" y="1044"/>
                  </a:lnTo>
                  <a:lnTo>
                    <a:pt x="16" y="1022"/>
                  </a:lnTo>
                  <a:lnTo>
                    <a:pt x="11" y="998"/>
                  </a:lnTo>
                  <a:lnTo>
                    <a:pt x="6" y="975"/>
                  </a:lnTo>
                  <a:lnTo>
                    <a:pt x="4" y="951"/>
                  </a:lnTo>
                  <a:lnTo>
                    <a:pt x="1" y="926"/>
                  </a:lnTo>
                  <a:lnTo>
                    <a:pt x="0" y="900"/>
                  </a:lnTo>
                  <a:lnTo>
                    <a:pt x="0" y="874"/>
                  </a:lnTo>
                  <a:close/>
                  <a:moveTo>
                    <a:pt x="391" y="334"/>
                  </a:moveTo>
                  <a:lnTo>
                    <a:pt x="555" y="0"/>
                  </a:lnTo>
                  <a:lnTo>
                    <a:pt x="881" y="0"/>
                  </a:lnTo>
                  <a:lnTo>
                    <a:pt x="544" y="334"/>
                  </a:lnTo>
                  <a:lnTo>
                    <a:pt x="391" y="334"/>
                  </a:lnTo>
                  <a:close/>
                  <a:moveTo>
                    <a:pt x="521" y="1203"/>
                  </a:moveTo>
                  <a:lnTo>
                    <a:pt x="535" y="1202"/>
                  </a:lnTo>
                  <a:lnTo>
                    <a:pt x="547" y="1202"/>
                  </a:lnTo>
                  <a:lnTo>
                    <a:pt x="560" y="1200"/>
                  </a:lnTo>
                  <a:lnTo>
                    <a:pt x="572" y="1199"/>
                  </a:lnTo>
                  <a:lnTo>
                    <a:pt x="583" y="1195"/>
                  </a:lnTo>
                  <a:lnTo>
                    <a:pt x="594" y="1192"/>
                  </a:lnTo>
                  <a:lnTo>
                    <a:pt x="604" y="1188"/>
                  </a:lnTo>
                  <a:lnTo>
                    <a:pt x="615" y="1184"/>
                  </a:lnTo>
                  <a:lnTo>
                    <a:pt x="625" y="1178"/>
                  </a:lnTo>
                  <a:lnTo>
                    <a:pt x="633" y="1173"/>
                  </a:lnTo>
                  <a:lnTo>
                    <a:pt x="642" y="1165"/>
                  </a:lnTo>
                  <a:lnTo>
                    <a:pt x="651" y="1159"/>
                  </a:lnTo>
                  <a:lnTo>
                    <a:pt x="659" y="1152"/>
                  </a:lnTo>
                  <a:lnTo>
                    <a:pt x="667" y="1143"/>
                  </a:lnTo>
                  <a:lnTo>
                    <a:pt x="674" y="1135"/>
                  </a:lnTo>
                  <a:lnTo>
                    <a:pt x="681" y="1125"/>
                  </a:lnTo>
                  <a:lnTo>
                    <a:pt x="688" y="1115"/>
                  </a:lnTo>
                  <a:lnTo>
                    <a:pt x="694" y="1104"/>
                  </a:lnTo>
                  <a:lnTo>
                    <a:pt x="700" y="1092"/>
                  </a:lnTo>
                  <a:lnTo>
                    <a:pt x="705" y="1079"/>
                  </a:lnTo>
                  <a:lnTo>
                    <a:pt x="713" y="1052"/>
                  </a:lnTo>
                  <a:lnTo>
                    <a:pt x="722" y="1023"/>
                  </a:lnTo>
                  <a:lnTo>
                    <a:pt x="727" y="990"/>
                  </a:lnTo>
                  <a:lnTo>
                    <a:pt x="732" y="954"/>
                  </a:lnTo>
                  <a:lnTo>
                    <a:pt x="734" y="916"/>
                  </a:lnTo>
                  <a:lnTo>
                    <a:pt x="735" y="874"/>
                  </a:lnTo>
                  <a:lnTo>
                    <a:pt x="734" y="834"/>
                  </a:lnTo>
                  <a:lnTo>
                    <a:pt x="732" y="796"/>
                  </a:lnTo>
                  <a:lnTo>
                    <a:pt x="727" y="761"/>
                  </a:lnTo>
                  <a:lnTo>
                    <a:pt x="722" y="730"/>
                  </a:lnTo>
                  <a:lnTo>
                    <a:pt x="713" y="700"/>
                  </a:lnTo>
                  <a:lnTo>
                    <a:pt x="705" y="674"/>
                  </a:lnTo>
                  <a:lnTo>
                    <a:pt x="700" y="662"/>
                  </a:lnTo>
                  <a:lnTo>
                    <a:pt x="694" y="650"/>
                  </a:lnTo>
                  <a:lnTo>
                    <a:pt x="688" y="640"/>
                  </a:lnTo>
                  <a:lnTo>
                    <a:pt x="681" y="630"/>
                  </a:lnTo>
                  <a:lnTo>
                    <a:pt x="674" y="620"/>
                  </a:lnTo>
                  <a:lnTo>
                    <a:pt x="667" y="612"/>
                  </a:lnTo>
                  <a:lnTo>
                    <a:pt x="659" y="603"/>
                  </a:lnTo>
                  <a:lnTo>
                    <a:pt x="651" y="596"/>
                  </a:lnTo>
                  <a:lnTo>
                    <a:pt x="642" y="588"/>
                  </a:lnTo>
                  <a:lnTo>
                    <a:pt x="633" y="582"/>
                  </a:lnTo>
                  <a:lnTo>
                    <a:pt x="625" y="577"/>
                  </a:lnTo>
                  <a:lnTo>
                    <a:pt x="615" y="571"/>
                  </a:lnTo>
                  <a:lnTo>
                    <a:pt x="604" y="567"/>
                  </a:lnTo>
                  <a:lnTo>
                    <a:pt x="594" y="564"/>
                  </a:lnTo>
                  <a:lnTo>
                    <a:pt x="583" y="560"/>
                  </a:lnTo>
                  <a:lnTo>
                    <a:pt x="572" y="558"/>
                  </a:lnTo>
                  <a:lnTo>
                    <a:pt x="560" y="555"/>
                  </a:lnTo>
                  <a:lnTo>
                    <a:pt x="547" y="554"/>
                  </a:lnTo>
                  <a:lnTo>
                    <a:pt x="535" y="553"/>
                  </a:lnTo>
                  <a:lnTo>
                    <a:pt x="521" y="553"/>
                  </a:lnTo>
                  <a:lnTo>
                    <a:pt x="509" y="553"/>
                  </a:lnTo>
                  <a:lnTo>
                    <a:pt x="497" y="554"/>
                  </a:lnTo>
                  <a:lnTo>
                    <a:pt x="486" y="555"/>
                  </a:lnTo>
                  <a:lnTo>
                    <a:pt x="473" y="558"/>
                  </a:lnTo>
                  <a:lnTo>
                    <a:pt x="462" y="560"/>
                  </a:lnTo>
                  <a:lnTo>
                    <a:pt x="453" y="564"/>
                  </a:lnTo>
                  <a:lnTo>
                    <a:pt x="442" y="567"/>
                  </a:lnTo>
                  <a:lnTo>
                    <a:pt x="432" y="571"/>
                  </a:lnTo>
                  <a:lnTo>
                    <a:pt x="422" y="577"/>
                  </a:lnTo>
                  <a:lnTo>
                    <a:pt x="413" y="582"/>
                  </a:lnTo>
                  <a:lnTo>
                    <a:pt x="405" y="588"/>
                  </a:lnTo>
                  <a:lnTo>
                    <a:pt x="396" y="596"/>
                  </a:lnTo>
                  <a:lnTo>
                    <a:pt x="387" y="603"/>
                  </a:lnTo>
                  <a:lnTo>
                    <a:pt x="380" y="612"/>
                  </a:lnTo>
                  <a:lnTo>
                    <a:pt x="373" y="620"/>
                  </a:lnTo>
                  <a:lnTo>
                    <a:pt x="365" y="630"/>
                  </a:lnTo>
                  <a:lnTo>
                    <a:pt x="359" y="640"/>
                  </a:lnTo>
                  <a:lnTo>
                    <a:pt x="353" y="650"/>
                  </a:lnTo>
                  <a:lnTo>
                    <a:pt x="347" y="662"/>
                  </a:lnTo>
                  <a:lnTo>
                    <a:pt x="342" y="674"/>
                  </a:lnTo>
                  <a:lnTo>
                    <a:pt x="337" y="687"/>
                  </a:lnTo>
                  <a:lnTo>
                    <a:pt x="332" y="700"/>
                  </a:lnTo>
                  <a:lnTo>
                    <a:pt x="328" y="715"/>
                  </a:lnTo>
                  <a:lnTo>
                    <a:pt x="325" y="730"/>
                  </a:lnTo>
                  <a:lnTo>
                    <a:pt x="319" y="761"/>
                  </a:lnTo>
                  <a:lnTo>
                    <a:pt x="314" y="796"/>
                  </a:lnTo>
                  <a:lnTo>
                    <a:pt x="311" y="834"/>
                  </a:lnTo>
                  <a:lnTo>
                    <a:pt x="311" y="874"/>
                  </a:lnTo>
                  <a:lnTo>
                    <a:pt x="311" y="915"/>
                  </a:lnTo>
                  <a:lnTo>
                    <a:pt x="314" y="953"/>
                  </a:lnTo>
                  <a:lnTo>
                    <a:pt x="319" y="989"/>
                  </a:lnTo>
                  <a:lnTo>
                    <a:pt x="325" y="1021"/>
                  </a:lnTo>
                  <a:lnTo>
                    <a:pt x="327" y="1036"/>
                  </a:lnTo>
                  <a:lnTo>
                    <a:pt x="332" y="1050"/>
                  </a:lnTo>
                  <a:lnTo>
                    <a:pt x="336" y="1065"/>
                  </a:lnTo>
                  <a:lnTo>
                    <a:pt x="341" y="1077"/>
                  </a:lnTo>
                  <a:lnTo>
                    <a:pt x="346" y="1089"/>
                  </a:lnTo>
                  <a:lnTo>
                    <a:pt x="352" y="1102"/>
                  </a:lnTo>
                  <a:lnTo>
                    <a:pt x="358" y="1113"/>
                  </a:lnTo>
                  <a:lnTo>
                    <a:pt x="364" y="1122"/>
                  </a:lnTo>
                  <a:lnTo>
                    <a:pt x="371" y="1132"/>
                  </a:lnTo>
                  <a:lnTo>
                    <a:pt x="379" y="1142"/>
                  </a:lnTo>
                  <a:lnTo>
                    <a:pt x="386" y="1151"/>
                  </a:lnTo>
                  <a:lnTo>
                    <a:pt x="395" y="1158"/>
                  </a:lnTo>
                  <a:lnTo>
                    <a:pt x="403" y="1165"/>
                  </a:lnTo>
                  <a:lnTo>
                    <a:pt x="412" y="1172"/>
                  </a:lnTo>
                  <a:lnTo>
                    <a:pt x="421" y="1178"/>
                  </a:lnTo>
                  <a:lnTo>
                    <a:pt x="430" y="1183"/>
                  </a:lnTo>
                  <a:lnTo>
                    <a:pt x="440" y="1188"/>
                  </a:lnTo>
                  <a:lnTo>
                    <a:pt x="451" y="1191"/>
                  </a:lnTo>
                  <a:lnTo>
                    <a:pt x="462" y="1195"/>
                  </a:lnTo>
                  <a:lnTo>
                    <a:pt x="473" y="1197"/>
                  </a:lnTo>
                  <a:lnTo>
                    <a:pt x="485" y="1200"/>
                  </a:lnTo>
                  <a:lnTo>
                    <a:pt x="497" y="1202"/>
                  </a:lnTo>
                  <a:lnTo>
                    <a:pt x="509" y="1202"/>
                  </a:lnTo>
                  <a:lnTo>
                    <a:pt x="521" y="1203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63120" y="333360"/>
              <a:ext cx="83880" cy="84240"/>
            </a:xfrm>
            <a:custGeom>
              <a:avLst/>
              <a:gdLst/>
              <a:ahLst/>
              <a:rect l="l" t="t" r="r" b="b"/>
              <a:pathLst>
                <a:path w="1036" h="978">
                  <a:moveTo>
                    <a:pt x="0" y="978"/>
                  </a:moveTo>
                  <a:lnTo>
                    <a:pt x="0" y="916"/>
                  </a:lnTo>
                  <a:lnTo>
                    <a:pt x="0" y="909"/>
                  </a:lnTo>
                  <a:lnTo>
                    <a:pt x="3" y="903"/>
                  </a:lnTo>
                  <a:lnTo>
                    <a:pt x="5" y="897"/>
                  </a:lnTo>
                  <a:lnTo>
                    <a:pt x="10" y="890"/>
                  </a:lnTo>
                  <a:lnTo>
                    <a:pt x="15" y="886"/>
                  </a:lnTo>
                  <a:lnTo>
                    <a:pt x="21" y="881"/>
                  </a:lnTo>
                  <a:lnTo>
                    <a:pt x="30" y="877"/>
                  </a:lnTo>
                  <a:lnTo>
                    <a:pt x="38" y="873"/>
                  </a:lnTo>
                  <a:lnTo>
                    <a:pt x="62" y="865"/>
                  </a:lnTo>
                  <a:lnTo>
                    <a:pt x="65" y="862"/>
                  </a:lnTo>
                  <a:lnTo>
                    <a:pt x="69" y="859"/>
                  </a:lnTo>
                  <a:lnTo>
                    <a:pt x="72" y="851"/>
                  </a:lnTo>
                  <a:lnTo>
                    <a:pt x="75" y="843"/>
                  </a:lnTo>
                  <a:lnTo>
                    <a:pt x="75" y="835"/>
                  </a:lnTo>
                  <a:lnTo>
                    <a:pt x="75" y="807"/>
                  </a:lnTo>
                  <a:lnTo>
                    <a:pt x="75" y="793"/>
                  </a:lnTo>
                  <a:lnTo>
                    <a:pt x="75" y="246"/>
                  </a:lnTo>
                  <a:lnTo>
                    <a:pt x="75" y="218"/>
                  </a:lnTo>
                  <a:lnTo>
                    <a:pt x="75" y="197"/>
                  </a:lnTo>
                  <a:lnTo>
                    <a:pt x="69" y="172"/>
                  </a:lnTo>
                  <a:lnTo>
                    <a:pt x="62" y="161"/>
                  </a:lnTo>
                  <a:lnTo>
                    <a:pt x="36" y="156"/>
                  </a:lnTo>
                  <a:lnTo>
                    <a:pt x="24" y="151"/>
                  </a:lnTo>
                  <a:lnTo>
                    <a:pt x="17" y="146"/>
                  </a:lnTo>
                  <a:lnTo>
                    <a:pt x="12" y="143"/>
                  </a:lnTo>
                  <a:lnTo>
                    <a:pt x="9" y="139"/>
                  </a:lnTo>
                  <a:lnTo>
                    <a:pt x="6" y="134"/>
                  </a:lnTo>
                  <a:lnTo>
                    <a:pt x="3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49"/>
                  </a:lnTo>
                  <a:lnTo>
                    <a:pt x="368" y="49"/>
                  </a:lnTo>
                  <a:lnTo>
                    <a:pt x="368" y="102"/>
                  </a:lnTo>
                  <a:lnTo>
                    <a:pt x="380" y="92"/>
                  </a:lnTo>
                  <a:lnTo>
                    <a:pt x="393" y="85"/>
                  </a:lnTo>
                  <a:lnTo>
                    <a:pt x="405" y="76"/>
                  </a:lnTo>
                  <a:lnTo>
                    <a:pt x="416" y="70"/>
                  </a:lnTo>
                  <a:lnTo>
                    <a:pt x="427" y="63"/>
                  </a:lnTo>
                  <a:lnTo>
                    <a:pt x="439" y="57"/>
                  </a:lnTo>
                  <a:lnTo>
                    <a:pt x="453" y="51"/>
                  </a:lnTo>
                  <a:lnTo>
                    <a:pt x="466" y="46"/>
                  </a:lnTo>
                  <a:lnTo>
                    <a:pt x="492" y="35"/>
                  </a:lnTo>
                  <a:lnTo>
                    <a:pt x="518" y="25"/>
                  </a:lnTo>
                  <a:lnTo>
                    <a:pt x="544" y="17"/>
                  </a:lnTo>
                  <a:lnTo>
                    <a:pt x="567" y="11"/>
                  </a:lnTo>
                  <a:lnTo>
                    <a:pt x="591" y="6"/>
                  </a:lnTo>
                  <a:lnTo>
                    <a:pt x="614" y="3"/>
                  </a:lnTo>
                  <a:lnTo>
                    <a:pt x="637" y="0"/>
                  </a:lnTo>
                  <a:lnTo>
                    <a:pt x="659" y="0"/>
                  </a:lnTo>
                  <a:lnTo>
                    <a:pt x="672" y="0"/>
                  </a:lnTo>
                  <a:lnTo>
                    <a:pt x="683" y="0"/>
                  </a:lnTo>
                  <a:lnTo>
                    <a:pt x="691" y="2"/>
                  </a:lnTo>
                  <a:lnTo>
                    <a:pt x="698" y="2"/>
                  </a:lnTo>
                  <a:lnTo>
                    <a:pt x="732" y="6"/>
                  </a:lnTo>
                  <a:lnTo>
                    <a:pt x="763" y="13"/>
                  </a:lnTo>
                  <a:lnTo>
                    <a:pt x="791" y="21"/>
                  </a:lnTo>
                  <a:lnTo>
                    <a:pt x="817" y="31"/>
                  </a:lnTo>
                  <a:lnTo>
                    <a:pt x="829" y="36"/>
                  </a:lnTo>
                  <a:lnTo>
                    <a:pt x="841" y="42"/>
                  </a:lnTo>
                  <a:lnTo>
                    <a:pt x="853" y="49"/>
                  </a:lnTo>
                  <a:lnTo>
                    <a:pt x="862" y="56"/>
                  </a:lnTo>
                  <a:lnTo>
                    <a:pt x="872" y="63"/>
                  </a:lnTo>
                  <a:lnTo>
                    <a:pt x="882" y="71"/>
                  </a:lnTo>
                  <a:lnTo>
                    <a:pt x="891" y="79"/>
                  </a:lnTo>
                  <a:lnTo>
                    <a:pt x="899" y="87"/>
                  </a:lnTo>
                  <a:lnTo>
                    <a:pt x="907" y="97"/>
                  </a:lnTo>
                  <a:lnTo>
                    <a:pt x="913" y="107"/>
                  </a:lnTo>
                  <a:lnTo>
                    <a:pt x="920" y="118"/>
                  </a:lnTo>
                  <a:lnTo>
                    <a:pt x="926" y="129"/>
                  </a:lnTo>
                  <a:lnTo>
                    <a:pt x="931" y="140"/>
                  </a:lnTo>
                  <a:lnTo>
                    <a:pt x="936" y="153"/>
                  </a:lnTo>
                  <a:lnTo>
                    <a:pt x="941" y="165"/>
                  </a:lnTo>
                  <a:lnTo>
                    <a:pt x="946" y="178"/>
                  </a:lnTo>
                  <a:lnTo>
                    <a:pt x="952" y="208"/>
                  </a:lnTo>
                  <a:lnTo>
                    <a:pt x="957" y="238"/>
                  </a:lnTo>
                  <a:lnTo>
                    <a:pt x="961" y="272"/>
                  </a:lnTo>
                  <a:lnTo>
                    <a:pt x="961" y="307"/>
                  </a:lnTo>
                  <a:lnTo>
                    <a:pt x="961" y="792"/>
                  </a:lnTo>
                  <a:lnTo>
                    <a:pt x="961" y="805"/>
                  </a:lnTo>
                  <a:lnTo>
                    <a:pt x="961" y="814"/>
                  </a:lnTo>
                  <a:lnTo>
                    <a:pt x="961" y="834"/>
                  </a:lnTo>
                  <a:lnTo>
                    <a:pt x="962" y="844"/>
                  </a:lnTo>
                  <a:lnTo>
                    <a:pt x="964" y="851"/>
                  </a:lnTo>
                  <a:lnTo>
                    <a:pt x="968" y="856"/>
                  </a:lnTo>
                  <a:lnTo>
                    <a:pt x="972" y="860"/>
                  </a:lnTo>
                  <a:lnTo>
                    <a:pt x="999" y="872"/>
                  </a:lnTo>
                  <a:lnTo>
                    <a:pt x="1008" y="876"/>
                  </a:lnTo>
                  <a:lnTo>
                    <a:pt x="1015" y="881"/>
                  </a:lnTo>
                  <a:lnTo>
                    <a:pt x="1021" y="886"/>
                  </a:lnTo>
                  <a:lnTo>
                    <a:pt x="1027" y="890"/>
                  </a:lnTo>
                  <a:lnTo>
                    <a:pt x="1031" y="897"/>
                  </a:lnTo>
                  <a:lnTo>
                    <a:pt x="1033" y="903"/>
                  </a:lnTo>
                  <a:lnTo>
                    <a:pt x="1036" y="909"/>
                  </a:lnTo>
                  <a:lnTo>
                    <a:pt x="1036" y="916"/>
                  </a:lnTo>
                  <a:lnTo>
                    <a:pt x="1036" y="978"/>
                  </a:lnTo>
                  <a:lnTo>
                    <a:pt x="589" y="978"/>
                  </a:lnTo>
                  <a:lnTo>
                    <a:pt x="589" y="914"/>
                  </a:lnTo>
                  <a:lnTo>
                    <a:pt x="591" y="906"/>
                  </a:lnTo>
                  <a:lnTo>
                    <a:pt x="592" y="900"/>
                  </a:lnTo>
                  <a:lnTo>
                    <a:pt x="595" y="894"/>
                  </a:lnTo>
                  <a:lnTo>
                    <a:pt x="599" y="888"/>
                  </a:lnTo>
                  <a:lnTo>
                    <a:pt x="605" y="883"/>
                  </a:lnTo>
                  <a:lnTo>
                    <a:pt x="611" y="878"/>
                  </a:lnTo>
                  <a:lnTo>
                    <a:pt x="619" y="875"/>
                  </a:lnTo>
                  <a:lnTo>
                    <a:pt x="627" y="871"/>
                  </a:lnTo>
                  <a:lnTo>
                    <a:pt x="641" y="865"/>
                  </a:lnTo>
                  <a:lnTo>
                    <a:pt x="648" y="854"/>
                  </a:lnTo>
                  <a:lnTo>
                    <a:pt x="652" y="843"/>
                  </a:lnTo>
                  <a:lnTo>
                    <a:pt x="652" y="836"/>
                  </a:lnTo>
                  <a:lnTo>
                    <a:pt x="652" y="823"/>
                  </a:lnTo>
                  <a:lnTo>
                    <a:pt x="652" y="807"/>
                  </a:lnTo>
                  <a:lnTo>
                    <a:pt x="652" y="800"/>
                  </a:lnTo>
                  <a:lnTo>
                    <a:pt x="652" y="356"/>
                  </a:lnTo>
                  <a:lnTo>
                    <a:pt x="652" y="327"/>
                  </a:lnTo>
                  <a:lnTo>
                    <a:pt x="652" y="312"/>
                  </a:lnTo>
                  <a:lnTo>
                    <a:pt x="646" y="288"/>
                  </a:lnTo>
                  <a:lnTo>
                    <a:pt x="643" y="277"/>
                  </a:lnTo>
                  <a:lnTo>
                    <a:pt x="640" y="267"/>
                  </a:lnTo>
                  <a:lnTo>
                    <a:pt x="636" y="257"/>
                  </a:lnTo>
                  <a:lnTo>
                    <a:pt x="632" y="250"/>
                  </a:lnTo>
                  <a:lnTo>
                    <a:pt x="627" y="241"/>
                  </a:lnTo>
                  <a:lnTo>
                    <a:pt x="623" y="234"/>
                  </a:lnTo>
                  <a:lnTo>
                    <a:pt x="616" y="227"/>
                  </a:lnTo>
                  <a:lnTo>
                    <a:pt x="610" y="221"/>
                  </a:lnTo>
                  <a:lnTo>
                    <a:pt x="603" y="216"/>
                  </a:lnTo>
                  <a:lnTo>
                    <a:pt x="595" y="213"/>
                  </a:lnTo>
                  <a:lnTo>
                    <a:pt x="588" y="208"/>
                  </a:lnTo>
                  <a:lnTo>
                    <a:pt x="580" y="205"/>
                  </a:lnTo>
                  <a:lnTo>
                    <a:pt x="571" y="203"/>
                  </a:lnTo>
                  <a:lnTo>
                    <a:pt x="561" y="202"/>
                  </a:lnTo>
                  <a:lnTo>
                    <a:pt x="551" y="200"/>
                  </a:lnTo>
                  <a:lnTo>
                    <a:pt x="540" y="200"/>
                  </a:lnTo>
                  <a:lnTo>
                    <a:pt x="527" y="200"/>
                  </a:lnTo>
                  <a:lnTo>
                    <a:pt x="512" y="203"/>
                  </a:lnTo>
                  <a:lnTo>
                    <a:pt x="497" y="207"/>
                  </a:lnTo>
                  <a:lnTo>
                    <a:pt x="482" y="211"/>
                  </a:lnTo>
                  <a:lnTo>
                    <a:pt x="466" y="219"/>
                  </a:lnTo>
                  <a:lnTo>
                    <a:pt x="450" y="226"/>
                  </a:lnTo>
                  <a:lnTo>
                    <a:pt x="434" y="236"/>
                  </a:lnTo>
                  <a:lnTo>
                    <a:pt x="418" y="247"/>
                  </a:lnTo>
                  <a:lnTo>
                    <a:pt x="384" y="277"/>
                  </a:lnTo>
                  <a:lnTo>
                    <a:pt x="384" y="793"/>
                  </a:lnTo>
                  <a:lnTo>
                    <a:pt x="384" y="807"/>
                  </a:lnTo>
                  <a:lnTo>
                    <a:pt x="384" y="827"/>
                  </a:lnTo>
                  <a:lnTo>
                    <a:pt x="384" y="836"/>
                  </a:lnTo>
                  <a:lnTo>
                    <a:pt x="388" y="845"/>
                  </a:lnTo>
                  <a:lnTo>
                    <a:pt x="390" y="851"/>
                  </a:lnTo>
                  <a:lnTo>
                    <a:pt x="395" y="856"/>
                  </a:lnTo>
                  <a:lnTo>
                    <a:pt x="400" y="861"/>
                  </a:lnTo>
                  <a:lnTo>
                    <a:pt x="406" y="865"/>
                  </a:lnTo>
                  <a:lnTo>
                    <a:pt x="420" y="871"/>
                  </a:lnTo>
                  <a:lnTo>
                    <a:pt x="428" y="875"/>
                  </a:lnTo>
                  <a:lnTo>
                    <a:pt x="436" y="878"/>
                  </a:lnTo>
                  <a:lnTo>
                    <a:pt x="442" y="883"/>
                  </a:lnTo>
                  <a:lnTo>
                    <a:pt x="448" y="888"/>
                  </a:lnTo>
                  <a:lnTo>
                    <a:pt x="452" y="894"/>
                  </a:lnTo>
                  <a:lnTo>
                    <a:pt x="454" y="900"/>
                  </a:lnTo>
                  <a:lnTo>
                    <a:pt x="457" y="906"/>
                  </a:lnTo>
                  <a:lnTo>
                    <a:pt x="457" y="914"/>
                  </a:lnTo>
                  <a:lnTo>
                    <a:pt x="457" y="978"/>
                  </a:lnTo>
                  <a:lnTo>
                    <a:pt x="0" y="978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59640" y="449280"/>
              <a:ext cx="92160" cy="111240"/>
            </a:xfrm>
            <a:custGeom>
              <a:avLst/>
              <a:gdLst/>
              <a:ahLst/>
              <a:rect l="l" t="t" r="r" b="b"/>
              <a:pathLst>
                <a:path w="1128" h="1308">
                  <a:moveTo>
                    <a:pt x="0" y="1308"/>
                  </a:moveTo>
                  <a:lnTo>
                    <a:pt x="0" y="1228"/>
                  </a:lnTo>
                  <a:lnTo>
                    <a:pt x="0" y="1223"/>
                  </a:lnTo>
                  <a:lnTo>
                    <a:pt x="1" y="1216"/>
                  </a:lnTo>
                  <a:lnTo>
                    <a:pt x="5" y="1211"/>
                  </a:lnTo>
                  <a:lnTo>
                    <a:pt x="9" y="1207"/>
                  </a:lnTo>
                  <a:lnTo>
                    <a:pt x="15" y="1205"/>
                  </a:lnTo>
                  <a:lnTo>
                    <a:pt x="27" y="1196"/>
                  </a:lnTo>
                  <a:lnTo>
                    <a:pt x="42" y="1183"/>
                  </a:lnTo>
                  <a:lnTo>
                    <a:pt x="49" y="1174"/>
                  </a:lnTo>
                  <a:lnTo>
                    <a:pt x="57" y="1164"/>
                  </a:lnTo>
                  <a:lnTo>
                    <a:pt x="62" y="1156"/>
                  </a:lnTo>
                  <a:lnTo>
                    <a:pt x="65" y="1147"/>
                  </a:lnTo>
                  <a:lnTo>
                    <a:pt x="66" y="1141"/>
                  </a:lnTo>
                  <a:lnTo>
                    <a:pt x="70" y="1112"/>
                  </a:lnTo>
                  <a:lnTo>
                    <a:pt x="70" y="1083"/>
                  </a:lnTo>
                  <a:lnTo>
                    <a:pt x="70" y="194"/>
                  </a:lnTo>
                  <a:lnTo>
                    <a:pt x="70" y="185"/>
                  </a:lnTo>
                  <a:lnTo>
                    <a:pt x="68" y="175"/>
                  </a:lnTo>
                  <a:lnTo>
                    <a:pt x="65" y="165"/>
                  </a:lnTo>
                  <a:lnTo>
                    <a:pt x="60" y="154"/>
                  </a:lnTo>
                  <a:lnTo>
                    <a:pt x="55" y="145"/>
                  </a:lnTo>
                  <a:lnTo>
                    <a:pt x="52" y="137"/>
                  </a:lnTo>
                  <a:lnTo>
                    <a:pt x="47" y="131"/>
                  </a:lnTo>
                  <a:lnTo>
                    <a:pt x="42" y="126"/>
                  </a:lnTo>
                  <a:lnTo>
                    <a:pt x="38" y="122"/>
                  </a:lnTo>
                  <a:lnTo>
                    <a:pt x="16" y="104"/>
                  </a:lnTo>
                  <a:lnTo>
                    <a:pt x="9" y="97"/>
                  </a:lnTo>
                  <a:lnTo>
                    <a:pt x="1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0"/>
                  </a:lnTo>
                  <a:lnTo>
                    <a:pt x="622" y="0"/>
                  </a:lnTo>
                  <a:lnTo>
                    <a:pt x="667" y="0"/>
                  </a:lnTo>
                  <a:lnTo>
                    <a:pt x="707" y="2"/>
                  </a:lnTo>
                  <a:lnTo>
                    <a:pt x="742" y="3"/>
                  </a:lnTo>
                  <a:lnTo>
                    <a:pt x="770" y="5"/>
                  </a:lnTo>
                  <a:lnTo>
                    <a:pt x="795" y="9"/>
                  </a:lnTo>
                  <a:lnTo>
                    <a:pt x="819" y="13"/>
                  </a:lnTo>
                  <a:lnTo>
                    <a:pt x="841" y="18"/>
                  </a:lnTo>
                  <a:lnTo>
                    <a:pt x="863" y="24"/>
                  </a:lnTo>
                  <a:lnTo>
                    <a:pt x="895" y="36"/>
                  </a:lnTo>
                  <a:lnTo>
                    <a:pt x="925" y="48"/>
                  </a:lnTo>
                  <a:lnTo>
                    <a:pt x="953" y="63"/>
                  </a:lnTo>
                  <a:lnTo>
                    <a:pt x="979" y="79"/>
                  </a:lnTo>
                  <a:lnTo>
                    <a:pt x="1002" y="96"/>
                  </a:lnTo>
                  <a:lnTo>
                    <a:pt x="1025" y="113"/>
                  </a:lnTo>
                  <a:lnTo>
                    <a:pt x="1044" y="133"/>
                  </a:lnTo>
                  <a:lnTo>
                    <a:pt x="1062" y="154"/>
                  </a:lnTo>
                  <a:lnTo>
                    <a:pt x="1077" y="177"/>
                  </a:lnTo>
                  <a:lnTo>
                    <a:pt x="1091" y="201"/>
                  </a:lnTo>
                  <a:lnTo>
                    <a:pt x="1102" y="225"/>
                  </a:lnTo>
                  <a:lnTo>
                    <a:pt x="1112" y="251"/>
                  </a:lnTo>
                  <a:lnTo>
                    <a:pt x="1119" y="279"/>
                  </a:lnTo>
                  <a:lnTo>
                    <a:pt x="1124" y="307"/>
                  </a:lnTo>
                  <a:lnTo>
                    <a:pt x="1127" y="338"/>
                  </a:lnTo>
                  <a:lnTo>
                    <a:pt x="1128" y="369"/>
                  </a:lnTo>
                  <a:lnTo>
                    <a:pt x="1127" y="401"/>
                  </a:lnTo>
                  <a:lnTo>
                    <a:pt x="1123" y="436"/>
                  </a:lnTo>
                  <a:lnTo>
                    <a:pt x="1117" y="473"/>
                  </a:lnTo>
                  <a:lnTo>
                    <a:pt x="1107" y="512"/>
                  </a:lnTo>
                  <a:lnTo>
                    <a:pt x="1101" y="532"/>
                  </a:lnTo>
                  <a:lnTo>
                    <a:pt x="1095" y="553"/>
                  </a:lnTo>
                  <a:lnTo>
                    <a:pt x="1086" y="571"/>
                  </a:lnTo>
                  <a:lnTo>
                    <a:pt x="1076" y="590"/>
                  </a:lnTo>
                  <a:lnTo>
                    <a:pt x="1064" y="608"/>
                  </a:lnTo>
                  <a:lnTo>
                    <a:pt x="1052" y="625"/>
                  </a:lnTo>
                  <a:lnTo>
                    <a:pt x="1038" y="643"/>
                  </a:lnTo>
                  <a:lnTo>
                    <a:pt x="1022" y="660"/>
                  </a:lnTo>
                  <a:lnTo>
                    <a:pt x="1005" y="676"/>
                  </a:lnTo>
                  <a:lnTo>
                    <a:pt x="985" y="693"/>
                  </a:lnTo>
                  <a:lnTo>
                    <a:pt x="963" y="710"/>
                  </a:lnTo>
                  <a:lnTo>
                    <a:pt x="939" y="727"/>
                  </a:lnTo>
                  <a:lnTo>
                    <a:pt x="911" y="746"/>
                  </a:lnTo>
                  <a:lnTo>
                    <a:pt x="882" y="764"/>
                  </a:lnTo>
                  <a:lnTo>
                    <a:pt x="850" y="783"/>
                  </a:lnTo>
                  <a:lnTo>
                    <a:pt x="816" y="801"/>
                  </a:lnTo>
                  <a:lnTo>
                    <a:pt x="786" y="816"/>
                  </a:lnTo>
                  <a:lnTo>
                    <a:pt x="756" y="829"/>
                  </a:lnTo>
                  <a:lnTo>
                    <a:pt x="726" y="842"/>
                  </a:lnTo>
                  <a:lnTo>
                    <a:pt x="694" y="854"/>
                  </a:lnTo>
                  <a:lnTo>
                    <a:pt x="659" y="866"/>
                  </a:lnTo>
                  <a:lnTo>
                    <a:pt x="621" y="877"/>
                  </a:lnTo>
                  <a:lnTo>
                    <a:pt x="582" y="887"/>
                  </a:lnTo>
                  <a:lnTo>
                    <a:pt x="539" y="898"/>
                  </a:lnTo>
                  <a:lnTo>
                    <a:pt x="399" y="929"/>
                  </a:lnTo>
                  <a:lnTo>
                    <a:pt x="399" y="1114"/>
                  </a:lnTo>
                  <a:lnTo>
                    <a:pt x="399" y="1130"/>
                  </a:lnTo>
                  <a:lnTo>
                    <a:pt x="401" y="1141"/>
                  </a:lnTo>
                  <a:lnTo>
                    <a:pt x="405" y="1150"/>
                  </a:lnTo>
                  <a:lnTo>
                    <a:pt x="408" y="1160"/>
                  </a:lnTo>
                  <a:lnTo>
                    <a:pt x="415" y="1168"/>
                  </a:lnTo>
                  <a:lnTo>
                    <a:pt x="421" y="1177"/>
                  </a:lnTo>
                  <a:lnTo>
                    <a:pt x="427" y="1184"/>
                  </a:lnTo>
                  <a:lnTo>
                    <a:pt x="434" y="1191"/>
                  </a:lnTo>
                  <a:lnTo>
                    <a:pt x="443" y="1198"/>
                  </a:lnTo>
                  <a:lnTo>
                    <a:pt x="458" y="1205"/>
                  </a:lnTo>
                  <a:lnTo>
                    <a:pt x="464" y="1210"/>
                  </a:lnTo>
                  <a:lnTo>
                    <a:pt x="467" y="1215"/>
                  </a:lnTo>
                  <a:lnTo>
                    <a:pt x="471" y="1220"/>
                  </a:lnTo>
                  <a:lnTo>
                    <a:pt x="475" y="1225"/>
                  </a:lnTo>
                  <a:lnTo>
                    <a:pt x="475" y="1308"/>
                  </a:lnTo>
                  <a:lnTo>
                    <a:pt x="0" y="1308"/>
                  </a:lnTo>
                  <a:close/>
                  <a:moveTo>
                    <a:pt x="541" y="660"/>
                  </a:moveTo>
                  <a:lnTo>
                    <a:pt x="560" y="654"/>
                  </a:lnTo>
                  <a:lnTo>
                    <a:pt x="578" y="648"/>
                  </a:lnTo>
                  <a:lnTo>
                    <a:pt x="594" y="640"/>
                  </a:lnTo>
                  <a:lnTo>
                    <a:pt x="610" y="633"/>
                  </a:lnTo>
                  <a:lnTo>
                    <a:pt x="625" y="625"/>
                  </a:lnTo>
                  <a:lnTo>
                    <a:pt x="638" y="618"/>
                  </a:lnTo>
                  <a:lnTo>
                    <a:pt x="651" y="609"/>
                  </a:lnTo>
                  <a:lnTo>
                    <a:pt x="663" y="601"/>
                  </a:lnTo>
                  <a:lnTo>
                    <a:pt x="674" y="592"/>
                  </a:lnTo>
                  <a:lnTo>
                    <a:pt x="685" y="582"/>
                  </a:lnTo>
                  <a:lnTo>
                    <a:pt x="695" y="571"/>
                  </a:lnTo>
                  <a:lnTo>
                    <a:pt x="705" y="560"/>
                  </a:lnTo>
                  <a:lnTo>
                    <a:pt x="713" y="547"/>
                  </a:lnTo>
                  <a:lnTo>
                    <a:pt x="722" y="533"/>
                  </a:lnTo>
                  <a:lnTo>
                    <a:pt x="731" y="520"/>
                  </a:lnTo>
                  <a:lnTo>
                    <a:pt x="738" y="505"/>
                  </a:lnTo>
                  <a:lnTo>
                    <a:pt x="743" y="495"/>
                  </a:lnTo>
                  <a:lnTo>
                    <a:pt x="747" y="485"/>
                  </a:lnTo>
                  <a:lnTo>
                    <a:pt x="752" y="474"/>
                  </a:lnTo>
                  <a:lnTo>
                    <a:pt x="755" y="462"/>
                  </a:lnTo>
                  <a:lnTo>
                    <a:pt x="759" y="450"/>
                  </a:lnTo>
                  <a:lnTo>
                    <a:pt x="761" y="439"/>
                  </a:lnTo>
                  <a:lnTo>
                    <a:pt x="763" y="429"/>
                  </a:lnTo>
                  <a:lnTo>
                    <a:pt x="764" y="420"/>
                  </a:lnTo>
                  <a:lnTo>
                    <a:pt x="766" y="404"/>
                  </a:lnTo>
                  <a:lnTo>
                    <a:pt x="768" y="387"/>
                  </a:lnTo>
                  <a:lnTo>
                    <a:pt x="769" y="374"/>
                  </a:lnTo>
                  <a:lnTo>
                    <a:pt x="770" y="363"/>
                  </a:lnTo>
                  <a:lnTo>
                    <a:pt x="769" y="344"/>
                  </a:lnTo>
                  <a:lnTo>
                    <a:pt x="768" y="328"/>
                  </a:lnTo>
                  <a:lnTo>
                    <a:pt x="764" y="312"/>
                  </a:lnTo>
                  <a:lnTo>
                    <a:pt x="759" y="298"/>
                  </a:lnTo>
                  <a:lnTo>
                    <a:pt x="754" y="284"/>
                  </a:lnTo>
                  <a:lnTo>
                    <a:pt x="747" y="271"/>
                  </a:lnTo>
                  <a:lnTo>
                    <a:pt x="738" y="260"/>
                  </a:lnTo>
                  <a:lnTo>
                    <a:pt x="729" y="248"/>
                  </a:lnTo>
                  <a:lnTo>
                    <a:pt x="718" y="239"/>
                  </a:lnTo>
                  <a:lnTo>
                    <a:pt x="706" y="230"/>
                  </a:lnTo>
                  <a:lnTo>
                    <a:pt x="693" y="223"/>
                  </a:lnTo>
                  <a:lnTo>
                    <a:pt x="679" y="217"/>
                  </a:lnTo>
                  <a:lnTo>
                    <a:pt x="663" y="210"/>
                  </a:lnTo>
                  <a:lnTo>
                    <a:pt x="646" y="205"/>
                  </a:lnTo>
                  <a:lnTo>
                    <a:pt x="627" y="203"/>
                  </a:lnTo>
                  <a:lnTo>
                    <a:pt x="608" y="199"/>
                  </a:lnTo>
                  <a:lnTo>
                    <a:pt x="571" y="199"/>
                  </a:lnTo>
                  <a:lnTo>
                    <a:pt x="399" y="199"/>
                  </a:lnTo>
                  <a:lnTo>
                    <a:pt x="399" y="702"/>
                  </a:lnTo>
                  <a:lnTo>
                    <a:pt x="541" y="660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50000" y="479520"/>
              <a:ext cx="73080" cy="8388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1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18" y="612"/>
                  </a:lnTo>
                  <a:lnTo>
                    <a:pt x="329" y="633"/>
                  </a:lnTo>
                  <a:lnTo>
                    <a:pt x="343" y="655"/>
                  </a:lnTo>
                  <a:lnTo>
                    <a:pt x="358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6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1" y="766"/>
                  </a:lnTo>
                  <a:lnTo>
                    <a:pt x="483" y="771"/>
                  </a:lnTo>
                  <a:lnTo>
                    <a:pt x="495" y="775"/>
                  </a:lnTo>
                  <a:lnTo>
                    <a:pt x="506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5" y="782"/>
                  </a:lnTo>
                  <a:lnTo>
                    <a:pt x="558" y="784"/>
                  </a:lnTo>
                  <a:lnTo>
                    <a:pt x="570" y="782"/>
                  </a:lnTo>
                  <a:lnTo>
                    <a:pt x="584" y="782"/>
                  </a:lnTo>
                  <a:lnTo>
                    <a:pt x="597" y="780"/>
                  </a:lnTo>
                  <a:lnTo>
                    <a:pt x="611" y="777"/>
                  </a:lnTo>
                  <a:lnTo>
                    <a:pt x="624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8" y="763"/>
                  </a:lnTo>
                  <a:lnTo>
                    <a:pt x="668" y="759"/>
                  </a:lnTo>
                  <a:lnTo>
                    <a:pt x="707" y="733"/>
                  </a:lnTo>
                  <a:lnTo>
                    <a:pt x="741" y="710"/>
                  </a:lnTo>
                  <a:lnTo>
                    <a:pt x="747" y="710"/>
                  </a:lnTo>
                  <a:lnTo>
                    <a:pt x="757" y="703"/>
                  </a:lnTo>
                  <a:lnTo>
                    <a:pt x="767" y="694"/>
                  </a:lnTo>
                  <a:lnTo>
                    <a:pt x="775" y="685"/>
                  </a:lnTo>
                  <a:lnTo>
                    <a:pt x="787" y="671"/>
                  </a:lnTo>
                  <a:lnTo>
                    <a:pt x="807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2" y="634"/>
                  </a:lnTo>
                  <a:lnTo>
                    <a:pt x="846" y="633"/>
                  </a:lnTo>
                  <a:lnTo>
                    <a:pt x="862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1" y="633"/>
                  </a:lnTo>
                  <a:lnTo>
                    <a:pt x="900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6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7" y="926"/>
                  </a:lnTo>
                  <a:lnTo>
                    <a:pt x="826" y="936"/>
                  </a:lnTo>
                  <a:lnTo>
                    <a:pt x="805" y="944"/>
                  </a:lnTo>
                  <a:lnTo>
                    <a:pt x="782" y="952"/>
                  </a:lnTo>
                  <a:lnTo>
                    <a:pt x="759" y="958"/>
                  </a:lnTo>
                  <a:lnTo>
                    <a:pt x="735" y="964"/>
                  </a:lnTo>
                  <a:lnTo>
                    <a:pt x="709" y="969"/>
                  </a:lnTo>
                  <a:lnTo>
                    <a:pt x="684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1" y="979"/>
                  </a:lnTo>
                  <a:lnTo>
                    <a:pt x="505" y="978"/>
                  </a:lnTo>
                  <a:lnTo>
                    <a:pt x="479" y="976"/>
                  </a:lnTo>
                  <a:lnTo>
                    <a:pt x="455" y="973"/>
                  </a:lnTo>
                  <a:lnTo>
                    <a:pt x="430" y="970"/>
                  </a:lnTo>
                  <a:lnTo>
                    <a:pt x="407" y="965"/>
                  </a:lnTo>
                  <a:lnTo>
                    <a:pt x="383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7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38" y="904"/>
                  </a:lnTo>
                  <a:lnTo>
                    <a:pt x="221" y="893"/>
                  </a:lnTo>
                  <a:lnTo>
                    <a:pt x="203" y="881"/>
                  </a:lnTo>
                  <a:lnTo>
                    <a:pt x="187" y="867"/>
                  </a:lnTo>
                  <a:lnTo>
                    <a:pt x="169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5" y="811"/>
                  </a:lnTo>
                  <a:lnTo>
                    <a:pt x="112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5" y="684"/>
                  </a:lnTo>
                  <a:lnTo>
                    <a:pt x="37" y="663"/>
                  </a:lnTo>
                  <a:lnTo>
                    <a:pt x="29" y="642"/>
                  </a:lnTo>
                  <a:lnTo>
                    <a:pt x="22" y="620"/>
                  </a:lnTo>
                  <a:lnTo>
                    <a:pt x="16" y="598"/>
                  </a:lnTo>
                  <a:lnTo>
                    <a:pt x="8" y="567"/>
                  </a:lnTo>
                  <a:lnTo>
                    <a:pt x="3" y="537"/>
                  </a:lnTo>
                  <a:lnTo>
                    <a:pt x="0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7" y="389"/>
                  </a:lnTo>
                  <a:lnTo>
                    <a:pt x="11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5" y="323"/>
                  </a:lnTo>
                  <a:lnTo>
                    <a:pt x="32" y="307"/>
                  </a:lnTo>
                  <a:lnTo>
                    <a:pt x="39" y="290"/>
                  </a:lnTo>
                  <a:lnTo>
                    <a:pt x="46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2" y="227"/>
                  </a:lnTo>
                  <a:lnTo>
                    <a:pt x="83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6" y="155"/>
                  </a:lnTo>
                  <a:lnTo>
                    <a:pt x="142" y="138"/>
                  </a:lnTo>
                  <a:lnTo>
                    <a:pt x="158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0" y="79"/>
                  </a:lnTo>
                  <a:lnTo>
                    <a:pt x="228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1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3" y="17"/>
                  </a:lnTo>
                  <a:lnTo>
                    <a:pt x="350" y="14"/>
                  </a:lnTo>
                  <a:lnTo>
                    <a:pt x="383" y="8"/>
                  </a:lnTo>
                  <a:lnTo>
                    <a:pt x="413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8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49" y="8"/>
                  </a:lnTo>
                  <a:lnTo>
                    <a:pt x="569" y="11"/>
                  </a:lnTo>
                  <a:lnTo>
                    <a:pt x="588" y="16"/>
                  </a:lnTo>
                  <a:lnTo>
                    <a:pt x="606" y="22"/>
                  </a:lnTo>
                  <a:lnTo>
                    <a:pt x="624" y="28"/>
                  </a:lnTo>
                  <a:lnTo>
                    <a:pt x="643" y="37"/>
                  </a:lnTo>
                  <a:lnTo>
                    <a:pt x="660" y="46"/>
                  </a:lnTo>
                  <a:lnTo>
                    <a:pt x="677" y="55"/>
                  </a:lnTo>
                  <a:lnTo>
                    <a:pt x="693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1" y="102"/>
                  </a:lnTo>
                  <a:lnTo>
                    <a:pt x="756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799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4" y="221"/>
                  </a:lnTo>
                  <a:lnTo>
                    <a:pt x="843" y="241"/>
                  </a:lnTo>
                  <a:lnTo>
                    <a:pt x="852" y="261"/>
                  </a:lnTo>
                  <a:lnTo>
                    <a:pt x="859" y="281"/>
                  </a:lnTo>
                  <a:lnTo>
                    <a:pt x="866" y="302"/>
                  </a:lnTo>
                  <a:lnTo>
                    <a:pt x="872" y="324"/>
                  </a:lnTo>
                  <a:lnTo>
                    <a:pt x="875" y="348"/>
                  </a:lnTo>
                  <a:lnTo>
                    <a:pt x="879" y="370"/>
                  </a:lnTo>
                  <a:lnTo>
                    <a:pt x="882" y="394"/>
                  </a:lnTo>
                  <a:lnTo>
                    <a:pt x="883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1" y="319"/>
                  </a:lnTo>
                  <a:lnTo>
                    <a:pt x="579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8" y="265"/>
                  </a:lnTo>
                  <a:lnTo>
                    <a:pt x="563" y="253"/>
                  </a:lnTo>
                  <a:lnTo>
                    <a:pt x="557" y="243"/>
                  </a:lnTo>
                  <a:lnTo>
                    <a:pt x="551" y="234"/>
                  </a:lnTo>
                  <a:lnTo>
                    <a:pt x="542" y="226"/>
                  </a:lnTo>
                  <a:lnTo>
                    <a:pt x="535" y="219"/>
                  </a:lnTo>
                  <a:lnTo>
                    <a:pt x="525" y="211"/>
                  </a:lnTo>
                  <a:lnTo>
                    <a:pt x="515" y="206"/>
                  </a:lnTo>
                  <a:lnTo>
                    <a:pt x="504" y="202"/>
                  </a:lnTo>
                  <a:lnTo>
                    <a:pt x="493" y="199"/>
                  </a:lnTo>
                  <a:lnTo>
                    <a:pt x="481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39" y="194"/>
                  </a:lnTo>
                  <a:lnTo>
                    <a:pt x="424" y="197"/>
                  </a:lnTo>
                  <a:lnTo>
                    <a:pt x="410" y="199"/>
                  </a:lnTo>
                  <a:lnTo>
                    <a:pt x="398" y="202"/>
                  </a:lnTo>
                  <a:lnTo>
                    <a:pt x="386" y="206"/>
                  </a:lnTo>
                  <a:lnTo>
                    <a:pt x="375" y="211"/>
                  </a:lnTo>
                  <a:lnTo>
                    <a:pt x="365" y="218"/>
                  </a:lnTo>
                  <a:lnTo>
                    <a:pt x="356" y="225"/>
                  </a:lnTo>
                  <a:lnTo>
                    <a:pt x="348" y="232"/>
                  </a:lnTo>
                  <a:lnTo>
                    <a:pt x="340" y="241"/>
                  </a:lnTo>
                  <a:lnTo>
                    <a:pt x="333" y="251"/>
                  </a:lnTo>
                  <a:lnTo>
                    <a:pt x="327" y="262"/>
                  </a:lnTo>
                  <a:lnTo>
                    <a:pt x="322" y="274"/>
                  </a:lnTo>
                  <a:lnTo>
                    <a:pt x="318" y="286"/>
                  </a:lnTo>
                  <a:lnTo>
                    <a:pt x="315" y="300"/>
                  </a:lnTo>
                  <a:lnTo>
                    <a:pt x="312" y="315"/>
                  </a:lnTo>
                  <a:lnTo>
                    <a:pt x="308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9560" y="476280"/>
              <a:ext cx="54000" cy="84240"/>
            </a:xfrm>
            <a:custGeom>
              <a:avLst/>
              <a:gdLst/>
              <a:ahLst/>
              <a:rect l="l" t="t" r="r" b="b"/>
              <a:pathLst>
                <a:path w="677" h="992">
                  <a:moveTo>
                    <a:pt x="0" y="992"/>
                  </a:moveTo>
                  <a:lnTo>
                    <a:pt x="0" y="931"/>
                  </a:lnTo>
                  <a:lnTo>
                    <a:pt x="0" y="925"/>
                  </a:lnTo>
                  <a:lnTo>
                    <a:pt x="2" y="918"/>
                  </a:lnTo>
                  <a:lnTo>
                    <a:pt x="4" y="914"/>
                  </a:lnTo>
                  <a:lnTo>
                    <a:pt x="7" y="907"/>
                  </a:lnTo>
                  <a:lnTo>
                    <a:pt x="10" y="904"/>
                  </a:lnTo>
                  <a:lnTo>
                    <a:pt x="14" y="899"/>
                  </a:lnTo>
                  <a:lnTo>
                    <a:pt x="19" y="895"/>
                  </a:lnTo>
                  <a:lnTo>
                    <a:pt x="25" y="890"/>
                  </a:lnTo>
                  <a:lnTo>
                    <a:pt x="40" y="885"/>
                  </a:lnTo>
                  <a:lnTo>
                    <a:pt x="66" y="880"/>
                  </a:lnTo>
                  <a:lnTo>
                    <a:pt x="73" y="873"/>
                  </a:lnTo>
                  <a:lnTo>
                    <a:pt x="77" y="869"/>
                  </a:lnTo>
                  <a:lnTo>
                    <a:pt x="78" y="858"/>
                  </a:lnTo>
                  <a:lnTo>
                    <a:pt x="80" y="851"/>
                  </a:lnTo>
                  <a:lnTo>
                    <a:pt x="80" y="824"/>
                  </a:lnTo>
                  <a:lnTo>
                    <a:pt x="80" y="810"/>
                  </a:lnTo>
                  <a:lnTo>
                    <a:pt x="80" y="249"/>
                  </a:lnTo>
                  <a:lnTo>
                    <a:pt x="80" y="237"/>
                  </a:lnTo>
                  <a:lnTo>
                    <a:pt x="80" y="223"/>
                  </a:lnTo>
                  <a:lnTo>
                    <a:pt x="80" y="208"/>
                  </a:lnTo>
                  <a:lnTo>
                    <a:pt x="80" y="189"/>
                  </a:lnTo>
                  <a:lnTo>
                    <a:pt x="78" y="185"/>
                  </a:lnTo>
                  <a:lnTo>
                    <a:pt x="77" y="182"/>
                  </a:lnTo>
                  <a:lnTo>
                    <a:pt x="74" y="181"/>
                  </a:lnTo>
                  <a:lnTo>
                    <a:pt x="73" y="178"/>
                  </a:lnTo>
                  <a:lnTo>
                    <a:pt x="37" y="169"/>
                  </a:lnTo>
                  <a:lnTo>
                    <a:pt x="29" y="167"/>
                  </a:lnTo>
                  <a:lnTo>
                    <a:pt x="21" y="163"/>
                  </a:lnTo>
                  <a:lnTo>
                    <a:pt x="15" y="158"/>
                  </a:lnTo>
                  <a:lnTo>
                    <a:pt x="9" y="153"/>
                  </a:lnTo>
                  <a:lnTo>
                    <a:pt x="5" y="147"/>
                  </a:lnTo>
                  <a:lnTo>
                    <a:pt x="3" y="141"/>
                  </a:lnTo>
                  <a:lnTo>
                    <a:pt x="0" y="134"/>
                  </a:lnTo>
                  <a:lnTo>
                    <a:pt x="0" y="125"/>
                  </a:lnTo>
                  <a:lnTo>
                    <a:pt x="0" y="64"/>
                  </a:lnTo>
                  <a:lnTo>
                    <a:pt x="361" y="64"/>
                  </a:lnTo>
                  <a:lnTo>
                    <a:pt x="361" y="140"/>
                  </a:lnTo>
                  <a:lnTo>
                    <a:pt x="387" y="108"/>
                  </a:lnTo>
                  <a:lnTo>
                    <a:pt x="399" y="93"/>
                  </a:lnTo>
                  <a:lnTo>
                    <a:pt x="411" y="81"/>
                  </a:lnTo>
                  <a:lnTo>
                    <a:pt x="425" y="69"/>
                  </a:lnTo>
                  <a:lnTo>
                    <a:pt x="438" y="58"/>
                  </a:lnTo>
                  <a:lnTo>
                    <a:pt x="453" y="48"/>
                  </a:lnTo>
                  <a:lnTo>
                    <a:pt x="468" y="39"/>
                  </a:lnTo>
                  <a:lnTo>
                    <a:pt x="484" y="32"/>
                  </a:lnTo>
                  <a:lnTo>
                    <a:pt x="499" y="25"/>
                  </a:lnTo>
                  <a:lnTo>
                    <a:pt x="516" y="18"/>
                  </a:lnTo>
                  <a:lnTo>
                    <a:pt x="532" y="14"/>
                  </a:lnTo>
                  <a:lnTo>
                    <a:pt x="550" y="10"/>
                  </a:lnTo>
                  <a:lnTo>
                    <a:pt x="569" y="6"/>
                  </a:lnTo>
                  <a:lnTo>
                    <a:pt x="588" y="4"/>
                  </a:lnTo>
                  <a:lnTo>
                    <a:pt x="608" y="1"/>
                  </a:lnTo>
                  <a:lnTo>
                    <a:pt x="629" y="1"/>
                  </a:lnTo>
                  <a:lnTo>
                    <a:pt x="650" y="0"/>
                  </a:lnTo>
                  <a:lnTo>
                    <a:pt x="677" y="0"/>
                  </a:lnTo>
                  <a:lnTo>
                    <a:pt x="677" y="313"/>
                  </a:lnTo>
                  <a:lnTo>
                    <a:pt x="645" y="314"/>
                  </a:lnTo>
                  <a:lnTo>
                    <a:pt x="610" y="314"/>
                  </a:lnTo>
                  <a:lnTo>
                    <a:pt x="585" y="314"/>
                  </a:lnTo>
                  <a:lnTo>
                    <a:pt x="566" y="313"/>
                  </a:lnTo>
                  <a:lnTo>
                    <a:pt x="558" y="311"/>
                  </a:lnTo>
                  <a:lnTo>
                    <a:pt x="554" y="309"/>
                  </a:lnTo>
                  <a:lnTo>
                    <a:pt x="551" y="307"/>
                  </a:lnTo>
                  <a:lnTo>
                    <a:pt x="548" y="303"/>
                  </a:lnTo>
                  <a:lnTo>
                    <a:pt x="545" y="300"/>
                  </a:lnTo>
                  <a:lnTo>
                    <a:pt x="539" y="289"/>
                  </a:lnTo>
                  <a:lnTo>
                    <a:pt x="533" y="275"/>
                  </a:lnTo>
                  <a:lnTo>
                    <a:pt x="529" y="265"/>
                  </a:lnTo>
                  <a:lnTo>
                    <a:pt x="527" y="253"/>
                  </a:lnTo>
                  <a:lnTo>
                    <a:pt x="523" y="246"/>
                  </a:lnTo>
                  <a:lnTo>
                    <a:pt x="521" y="239"/>
                  </a:lnTo>
                  <a:lnTo>
                    <a:pt x="517" y="235"/>
                  </a:lnTo>
                  <a:lnTo>
                    <a:pt x="513" y="230"/>
                  </a:lnTo>
                  <a:lnTo>
                    <a:pt x="510" y="226"/>
                  </a:lnTo>
                  <a:lnTo>
                    <a:pt x="505" y="223"/>
                  </a:lnTo>
                  <a:lnTo>
                    <a:pt x="499" y="222"/>
                  </a:lnTo>
                  <a:lnTo>
                    <a:pt x="494" y="222"/>
                  </a:lnTo>
                  <a:lnTo>
                    <a:pt x="486" y="223"/>
                  </a:lnTo>
                  <a:lnTo>
                    <a:pt x="478" y="226"/>
                  </a:lnTo>
                  <a:lnTo>
                    <a:pt x="468" y="231"/>
                  </a:lnTo>
                  <a:lnTo>
                    <a:pt x="457" y="238"/>
                  </a:lnTo>
                  <a:lnTo>
                    <a:pt x="436" y="253"/>
                  </a:lnTo>
                  <a:lnTo>
                    <a:pt x="433" y="254"/>
                  </a:lnTo>
                  <a:lnTo>
                    <a:pt x="419" y="271"/>
                  </a:lnTo>
                  <a:lnTo>
                    <a:pt x="414" y="276"/>
                  </a:lnTo>
                  <a:lnTo>
                    <a:pt x="403" y="286"/>
                  </a:lnTo>
                  <a:lnTo>
                    <a:pt x="396" y="292"/>
                  </a:lnTo>
                  <a:lnTo>
                    <a:pt x="392" y="298"/>
                  </a:lnTo>
                  <a:lnTo>
                    <a:pt x="392" y="300"/>
                  </a:lnTo>
                  <a:lnTo>
                    <a:pt x="392" y="302"/>
                  </a:lnTo>
                  <a:lnTo>
                    <a:pt x="392" y="810"/>
                  </a:lnTo>
                  <a:lnTo>
                    <a:pt x="392" y="824"/>
                  </a:lnTo>
                  <a:lnTo>
                    <a:pt x="392" y="847"/>
                  </a:lnTo>
                  <a:lnTo>
                    <a:pt x="394" y="855"/>
                  </a:lnTo>
                  <a:lnTo>
                    <a:pt x="398" y="861"/>
                  </a:lnTo>
                  <a:lnTo>
                    <a:pt x="400" y="866"/>
                  </a:lnTo>
                  <a:lnTo>
                    <a:pt x="403" y="869"/>
                  </a:lnTo>
                  <a:lnTo>
                    <a:pt x="408" y="874"/>
                  </a:lnTo>
                  <a:lnTo>
                    <a:pt x="412" y="878"/>
                  </a:lnTo>
                  <a:lnTo>
                    <a:pt x="414" y="879"/>
                  </a:lnTo>
                  <a:lnTo>
                    <a:pt x="416" y="880"/>
                  </a:lnTo>
                  <a:lnTo>
                    <a:pt x="442" y="885"/>
                  </a:lnTo>
                  <a:lnTo>
                    <a:pt x="457" y="890"/>
                  </a:lnTo>
                  <a:lnTo>
                    <a:pt x="462" y="895"/>
                  </a:lnTo>
                  <a:lnTo>
                    <a:pt x="467" y="899"/>
                  </a:lnTo>
                  <a:lnTo>
                    <a:pt x="471" y="902"/>
                  </a:lnTo>
                  <a:lnTo>
                    <a:pt x="475" y="907"/>
                  </a:lnTo>
                  <a:lnTo>
                    <a:pt x="478" y="912"/>
                  </a:lnTo>
                  <a:lnTo>
                    <a:pt x="479" y="917"/>
                  </a:lnTo>
                  <a:lnTo>
                    <a:pt x="480" y="923"/>
                  </a:lnTo>
                  <a:lnTo>
                    <a:pt x="481" y="930"/>
                  </a:lnTo>
                  <a:lnTo>
                    <a:pt x="481" y="992"/>
                  </a:lnTo>
                  <a:lnTo>
                    <a:pt x="0" y="992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85000" y="477720"/>
              <a:ext cx="63720" cy="85680"/>
            </a:xfrm>
            <a:custGeom>
              <a:avLst/>
              <a:gdLst/>
              <a:ahLst/>
              <a:rect l="l" t="t" r="r" b="b"/>
              <a:pathLst>
                <a:path w="804" h="1005">
                  <a:moveTo>
                    <a:pt x="0" y="930"/>
                  </a:moveTo>
                  <a:lnTo>
                    <a:pt x="0" y="681"/>
                  </a:lnTo>
                  <a:lnTo>
                    <a:pt x="60" y="679"/>
                  </a:lnTo>
                  <a:lnTo>
                    <a:pt x="77" y="679"/>
                  </a:lnTo>
                  <a:lnTo>
                    <a:pt x="91" y="679"/>
                  </a:lnTo>
                  <a:lnTo>
                    <a:pt x="101" y="680"/>
                  </a:lnTo>
                  <a:lnTo>
                    <a:pt x="106" y="681"/>
                  </a:lnTo>
                  <a:lnTo>
                    <a:pt x="119" y="711"/>
                  </a:lnTo>
                  <a:lnTo>
                    <a:pt x="147" y="745"/>
                  </a:lnTo>
                  <a:lnTo>
                    <a:pt x="166" y="763"/>
                  </a:lnTo>
                  <a:lnTo>
                    <a:pt x="183" y="779"/>
                  </a:lnTo>
                  <a:lnTo>
                    <a:pt x="199" y="792"/>
                  </a:lnTo>
                  <a:lnTo>
                    <a:pt x="214" y="801"/>
                  </a:lnTo>
                  <a:lnTo>
                    <a:pt x="229" y="809"/>
                  </a:lnTo>
                  <a:lnTo>
                    <a:pt x="245" y="815"/>
                  </a:lnTo>
                  <a:lnTo>
                    <a:pt x="262" y="820"/>
                  </a:lnTo>
                  <a:lnTo>
                    <a:pt x="281" y="824"/>
                  </a:lnTo>
                  <a:lnTo>
                    <a:pt x="305" y="824"/>
                  </a:lnTo>
                  <a:lnTo>
                    <a:pt x="322" y="824"/>
                  </a:lnTo>
                  <a:lnTo>
                    <a:pt x="354" y="824"/>
                  </a:lnTo>
                  <a:lnTo>
                    <a:pt x="371" y="824"/>
                  </a:lnTo>
                  <a:lnTo>
                    <a:pt x="386" y="822"/>
                  </a:lnTo>
                  <a:lnTo>
                    <a:pt x="398" y="821"/>
                  </a:lnTo>
                  <a:lnTo>
                    <a:pt x="408" y="819"/>
                  </a:lnTo>
                  <a:lnTo>
                    <a:pt x="418" y="816"/>
                  </a:lnTo>
                  <a:lnTo>
                    <a:pt x="428" y="813"/>
                  </a:lnTo>
                  <a:lnTo>
                    <a:pt x="441" y="808"/>
                  </a:lnTo>
                  <a:lnTo>
                    <a:pt x="455" y="801"/>
                  </a:lnTo>
                  <a:lnTo>
                    <a:pt x="466" y="795"/>
                  </a:lnTo>
                  <a:lnTo>
                    <a:pt x="476" y="789"/>
                  </a:lnTo>
                  <a:lnTo>
                    <a:pt x="484" y="782"/>
                  </a:lnTo>
                  <a:lnTo>
                    <a:pt x="492" y="773"/>
                  </a:lnTo>
                  <a:lnTo>
                    <a:pt x="497" y="763"/>
                  </a:lnTo>
                  <a:lnTo>
                    <a:pt x="500" y="754"/>
                  </a:lnTo>
                  <a:lnTo>
                    <a:pt x="503" y="743"/>
                  </a:lnTo>
                  <a:lnTo>
                    <a:pt x="504" y="730"/>
                  </a:lnTo>
                  <a:lnTo>
                    <a:pt x="503" y="719"/>
                  </a:lnTo>
                  <a:lnTo>
                    <a:pt x="499" y="708"/>
                  </a:lnTo>
                  <a:lnTo>
                    <a:pt x="494" y="697"/>
                  </a:lnTo>
                  <a:lnTo>
                    <a:pt x="487" y="687"/>
                  </a:lnTo>
                  <a:lnTo>
                    <a:pt x="462" y="665"/>
                  </a:lnTo>
                  <a:lnTo>
                    <a:pt x="436" y="647"/>
                  </a:lnTo>
                  <a:lnTo>
                    <a:pt x="429" y="643"/>
                  </a:lnTo>
                  <a:lnTo>
                    <a:pt x="375" y="618"/>
                  </a:lnTo>
                  <a:lnTo>
                    <a:pt x="364" y="615"/>
                  </a:lnTo>
                  <a:lnTo>
                    <a:pt x="315" y="593"/>
                  </a:lnTo>
                  <a:lnTo>
                    <a:pt x="274" y="577"/>
                  </a:lnTo>
                  <a:lnTo>
                    <a:pt x="197" y="536"/>
                  </a:lnTo>
                  <a:lnTo>
                    <a:pt x="176" y="524"/>
                  </a:lnTo>
                  <a:lnTo>
                    <a:pt x="157" y="510"/>
                  </a:lnTo>
                  <a:lnTo>
                    <a:pt x="139" y="498"/>
                  </a:lnTo>
                  <a:lnTo>
                    <a:pt x="123" y="485"/>
                  </a:lnTo>
                  <a:lnTo>
                    <a:pt x="108" y="471"/>
                  </a:lnTo>
                  <a:lnTo>
                    <a:pt x="94" y="456"/>
                  </a:lnTo>
                  <a:lnTo>
                    <a:pt x="81" y="443"/>
                  </a:lnTo>
                  <a:lnTo>
                    <a:pt x="70" y="428"/>
                  </a:lnTo>
                  <a:lnTo>
                    <a:pt x="60" y="413"/>
                  </a:lnTo>
                  <a:lnTo>
                    <a:pt x="53" y="397"/>
                  </a:lnTo>
                  <a:lnTo>
                    <a:pt x="45" y="383"/>
                  </a:lnTo>
                  <a:lnTo>
                    <a:pt x="39" y="367"/>
                  </a:lnTo>
                  <a:lnTo>
                    <a:pt x="34" y="351"/>
                  </a:lnTo>
                  <a:lnTo>
                    <a:pt x="32" y="335"/>
                  </a:lnTo>
                  <a:lnTo>
                    <a:pt x="29" y="319"/>
                  </a:lnTo>
                  <a:lnTo>
                    <a:pt x="28" y="302"/>
                  </a:lnTo>
                  <a:lnTo>
                    <a:pt x="28" y="293"/>
                  </a:lnTo>
                  <a:lnTo>
                    <a:pt x="28" y="283"/>
                  </a:lnTo>
                  <a:lnTo>
                    <a:pt x="28" y="273"/>
                  </a:lnTo>
                  <a:lnTo>
                    <a:pt x="28" y="264"/>
                  </a:lnTo>
                  <a:lnTo>
                    <a:pt x="33" y="246"/>
                  </a:lnTo>
                  <a:lnTo>
                    <a:pt x="35" y="237"/>
                  </a:lnTo>
                  <a:lnTo>
                    <a:pt x="39" y="223"/>
                  </a:lnTo>
                  <a:lnTo>
                    <a:pt x="43" y="211"/>
                  </a:lnTo>
                  <a:lnTo>
                    <a:pt x="48" y="199"/>
                  </a:lnTo>
                  <a:lnTo>
                    <a:pt x="53" y="186"/>
                  </a:lnTo>
                  <a:lnTo>
                    <a:pt x="59" y="174"/>
                  </a:lnTo>
                  <a:lnTo>
                    <a:pt x="66" y="163"/>
                  </a:lnTo>
                  <a:lnTo>
                    <a:pt x="74" y="152"/>
                  </a:lnTo>
                  <a:lnTo>
                    <a:pt x="82" y="141"/>
                  </a:lnTo>
                  <a:lnTo>
                    <a:pt x="91" y="131"/>
                  </a:lnTo>
                  <a:lnTo>
                    <a:pt x="101" y="120"/>
                  </a:lnTo>
                  <a:lnTo>
                    <a:pt x="112" y="110"/>
                  </a:lnTo>
                  <a:lnTo>
                    <a:pt x="124" y="100"/>
                  </a:lnTo>
                  <a:lnTo>
                    <a:pt x="135" y="92"/>
                  </a:lnTo>
                  <a:lnTo>
                    <a:pt x="149" y="83"/>
                  </a:lnTo>
                  <a:lnTo>
                    <a:pt x="162" y="75"/>
                  </a:lnTo>
                  <a:lnTo>
                    <a:pt x="177" y="66"/>
                  </a:lnTo>
                  <a:lnTo>
                    <a:pt x="192" y="57"/>
                  </a:lnTo>
                  <a:lnTo>
                    <a:pt x="208" y="50"/>
                  </a:lnTo>
                  <a:lnTo>
                    <a:pt x="225" y="44"/>
                  </a:lnTo>
                  <a:lnTo>
                    <a:pt x="242" y="36"/>
                  </a:lnTo>
                  <a:lnTo>
                    <a:pt x="259" y="32"/>
                  </a:lnTo>
                  <a:lnTo>
                    <a:pt x="278" y="25"/>
                  </a:lnTo>
                  <a:lnTo>
                    <a:pt x="296" y="21"/>
                  </a:lnTo>
                  <a:lnTo>
                    <a:pt x="316" y="17"/>
                  </a:lnTo>
                  <a:lnTo>
                    <a:pt x="356" y="9"/>
                  </a:lnTo>
                  <a:lnTo>
                    <a:pt x="401" y="5"/>
                  </a:lnTo>
                  <a:lnTo>
                    <a:pt x="446" y="1"/>
                  </a:lnTo>
                  <a:lnTo>
                    <a:pt x="494" y="0"/>
                  </a:lnTo>
                  <a:lnTo>
                    <a:pt x="521" y="1"/>
                  </a:lnTo>
                  <a:lnTo>
                    <a:pt x="550" y="5"/>
                  </a:lnTo>
                  <a:lnTo>
                    <a:pt x="579" y="9"/>
                  </a:lnTo>
                  <a:lnTo>
                    <a:pt x="610" y="17"/>
                  </a:lnTo>
                  <a:lnTo>
                    <a:pt x="627" y="22"/>
                  </a:lnTo>
                  <a:lnTo>
                    <a:pt x="647" y="28"/>
                  </a:lnTo>
                  <a:lnTo>
                    <a:pt x="668" y="34"/>
                  </a:lnTo>
                  <a:lnTo>
                    <a:pt x="691" y="43"/>
                  </a:lnTo>
                  <a:lnTo>
                    <a:pt x="728" y="55"/>
                  </a:lnTo>
                  <a:lnTo>
                    <a:pt x="728" y="276"/>
                  </a:lnTo>
                  <a:lnTo>
                    <a:pt x="664" y="282"/>
                  </a:lnTo>
                  <a:lnTo>
                    <a:pt x="642" y="282"/>
                  </a:lnTo>
                  <a:lnTo>
                    <a:pt x="634" y="282"/>
                  </a:lnTo>
                  <a:lnTo>
                    <a:pt x="618" y="278"/>
                  </a:lnTo>
                  <a:lnTo>
                    <a:pt x="611" y="273"/>
                  </a:lnTo>
                  <a:lnTo>
                    <a:pt x="604" y="265"/>
                  </a:lnTo>
                  <a:lnTo>
                    <a:pt x="595" y="254"/>
                  </a:lnTo>
                  <a:lnTo>
                    <a:pt x="588" y="240"/>
                  </a:lnTo>
                  <a:lnTo>
                    <a:pt x="564" y="221"/>
                  </a:lnTo>
                  <a:lnTo>
                    <a:pt x="542" y="202"/>
                  </a:lnTo>
                  <a:lnTo>
                    <a:pt x="529" y="192"/>
                  </a:lnTo>
                  <a:lnTo>
                    <a:pt x="509" y="180"/>
                  </a:lnTo>
                  <a:lnTo>
                    <a:pt x="497" y="174"/>
                  </a:lnTo>
                  <a:lnTo>
                    <a:pt x="486" y="169"/>
                  </a:lnTo>
                  <a:lnTo>
                    <a:pt x="473" y="165"/>
                  </a:lnTo>
                  <a:lnTo>
                    <a:pt x="461" y="163"/>
                  </a:lnTo>
                  <a:lnTo>
                    <a:pt x="449" y="161"/>
                  </a:lnTo>
                  <a:lnTo>
                    <a:pt x="438" y="159"/>
                  </a:lnTo>
                  <a:lnTo>
                    <a:pt x="425" y="159"/>
                  </a:lnTo>
                  <a:lnTo>
                    <a:pt x="413" y="161"/>
                  </a:lnTo>
                  <a:lnTo>
                    <a:pt x="404" y="161"/>
                  </a:lnTo>
                  <a:lnTo>
                    <a:pt x="395" y="162"/>
                  </a:lnTo>
                  <a:lnTo>
                    <a:pt x="384" y="164"/>
                  </a:lnTo>
                  <a:lnTo>
                    <a:pt x="371" y="168"/>
                  </a:lnTo>
                  <a:lnTo>
                    <a:pt x="358" y="173"/>
                  </a:lnTo>
                  <a:lnTo>
                    <a:pt x="345" y="178"/>
                  </a:lnTo>
                  <a:lnTo>
                    <a:pt x="336" y="185"/>
                  </a:lnTo>
                  <a:lnTo>
                    <a:pt x="327" y="192"/>
                  </a:lnTo>
                  <a:lnTo>
                    <a:pt x="321" y="200"/>
                  </a:lnTo>
                  <a:lnTo>
                    <a:pt x="316" y="210"/>
                  </a:lnTo>
                  <a:lnTo>
                    <a:pt x="313" y="218"/>
                  </a:lnTo>
                  <a:lnTo>
                    <a:pt x="312" y="229"/>
                  </a:lnTo>
                  <a:lnTo>
                    <a:pt x="313" y="240"/>
                  </a:lnTo>
                  <a:lnTo>
                    <a:pt x="315" y="248"/>
                  </a:lnTo>
                  <a:lnTo>
                    <a:pt x="318" y="258"/>
                  </a:lnTo>
                  <a:lnTo>
                    <a:pt x="322" y="266"/>
                  </a:lnTo>
                  <a:lnTo>
                    <a:pt x="327" y="272"/>
                  </a:lnTo>
                  <a:lnTo>
                    <a:pt x="333" y="278"/>
                  </a:lnTo>
                  <a:lnTo>
                    <a:pt x="342" y="285"/>
                  </a:lnTo>
                  <a:lnTo>
                    <a:pt x="353" y="291"/>
                  </a:lnTo>
                  <a:lnTo>
                    <a:pt x="375" y="305"/>
                  </a:lnTo>
                  <a:lnTo>
                    <a:pt x="388" y="313"/>
                  </a:lnTo>
                  <a:lnTo>
                    <a:pt x="449" y="336"/>
                  </a:lnTo>
                  <a:lnTo>
                    <a:pt x="463" y="342"/>
                  </a:lnTo>
                  <a:lnTo>
                    <a:pt x="529" y="370"/>
                  </a:lnTo>
                  <a:lnTo>
                    <a:pt x="569" y="389"/>
                  </a:lnTo>
                  <a:lnTo>
                    <a:pt x="598" y="404"/>
                  </a:lnTo>
                  <a:lnTo>
                    <a:pt x="623" y="417"/>
                  </a:lnTo>
                  <a:lnTo>
                    <a:pt x="647" y="431"/>
                  </a:lnTo>
                  <a:lnTo>
                    <a:pt x="669" y="444"/>
                  </a:lnTo>
                  <a:lnTo>
                    <a:pt x="689" y="458"/>
                  </a:lnTo>
                  <a:lnTo>
                    <a:pt x="706" y="471"/>
                  </a:lnTo>
                  <a:lnTo>
                    <a:pt x="722" y="485"/>
                  </a:lnTo>
                  <a:lnTo>
                    <a:pt x="735" y="498"/>
                  </a:lnTo>
                  <a:lnTo>
                    <a:pt x="746" y="512"/>
                  </a:lnTo>
                  <a:lnTo>
                    <a:pt x="757" y="526"/>
                  </a:lnTo>
                  <a:lnTo>
                    <a:pt x="767" y="541"/>
                  </a:lnTo>
                  <a:lnTo>
                    <a:pt x="776" y="557"/>
                  </a:lnTo>
                  <a:lnTo>
                    <a:pt x="783" y="574"/>
                  </a:lnTo>
                  <a:lnTo>
                    <a:pt x="789" y="593"/>
                  </a:lnTo>
                  <a:lnTo>
                    <a:pt x="794" y="611"/>
                  </a:lnTo>
                  <a:lnTo>
                    <a:pt x="798" y="631"/>
                  </a:lnTo>
                  <a:lnTo>
                    <a:pt x="800" y="644"/>
                  </a:lnTo>
                  <a:lnTo>
                    <a:pt x="803" y="659"/>
                  </a:lnTo>
                  <a:lnTo>
                    <a:pt x="804" y="673"/>
                  </a:lnTo>
                  <a:lnTo>
                    <a:pt x="804" y="687"/>
                  </a:lnTo>
                  <a:lnTo>
                    <a:pt x="804" y="704"/>
                  </a:lnTo>
                  <a:lnTo>
                    <a:pt x="802" y="720"/>
                  </a:lnTo>
                  <a:lnTo>
                    <a:pt x="800" y="736"/>
                  </a:lnTo>
                  <a:lnTo>
                    <a:pt x="797" y="752"/>
                  </a:lnTo>
                  <a:lnTo>
                    <a:pt x="792" y="767"/>
                  </a:lnTo>
                  <a:lnTo>
                    <a:pt x="787" y="782"/>
                  </a:lnTo>
                  <a:lnTo>
                    <a:pt x="781" y="797"/>
                  </a:lnTo>
                  <a:lnTo>
                    <a:pt x="775" y="811"/>
                  </a:lnTo>
                  <a:lnTo>
                    <a:pt x="766" y="825"/>
                  </a:lnTo>
                  <a:lnTo>
                    <a:pt x="757" y="838"/>
                  </a:lnTo>
                  <a:lnTo>
                    <a:pt x="748" y="852"/>
                  </a:lnTo>
                  <a:lnTo>
                    <a:pt x="738" y="865"/>
                  </a:lnTo>
                  <a:lnTo>
                    <a:pt x="725" y="878"/>
                  </a:lnTo>
                  <a:lnTo>
                    <a:pt x="713" y="890"/>
                  </a:lnTo>
                  <a:lnTo>
                    <a:pt x="700" y="902"/>
                  </a:lnTo>
                  <a:lnTo>
                    <a:pt x="686" y="913"/>
                  </a:lnTo>
                  <a:lnTo>
                    <a:pt x="670" y="924"/>
                  </a:lnTo>
                  <a:lnTo>
                    <a:pt x="655" y="935"/>
                  </a:lnTo>
                  <a:lnTo>
                    <a:pt x="638" y="945"/>
                  </a:lnTo>
                  <a:lnTo>
                    <a:pt x="621" y="954"/>
                  </a:lnTo>
                  <a:lnTo>
                    <a:pt x="602" y="962"/>
                  </a:lnTo>
                  <a:lnTo>
                    <a:pt x="584" y="970"/>
                  </a:lnTo>
                  <a:lnTo>
                    <a:pt x="566" y="976"/>
                  </a:lnTo>
                  <a:lnTo>
                    <a:pt x="545" y="982"/>
                  </a:lnTo>
                  <a:lnTo>
                    <a:pt x="525" y="988"/>
                  </a:lnTo>
                  <a:lnTo>
                    <a:pt x="503" y="992"/>
                  </a:lnTo>
                  <a:lnTo>
                    <a:pt x="481" y="997"/>
                  </a:lnTo>
                  <a:lnTo>
                    <a:pt x="459" y="999"/>
                  </a:lnTo>
                  <a:lnTo>
                    <a:pt x="434" y="1002"/>
                  </a:lnTo>
                  <a:lnTo>
                    <a:pt x="411" y="1004"/>
                  </a:lnTo>
                  <a:lnTo>
                    <a:pt x="386" y="1005"/>
                  </a:lnTo>
                  <a:lnTo>
                    <a:pt x="360" y="1005"/>
                  </a:lnTo>
                  <a:lnTo>
                    <a:pt x="332" y="1004"/>
                  </a:lnTo>
                  <a:lnTo>
                    <a:pt x="301" y="1003"/>
                  </a:lnTo>
                  <a:lnTo>
                    <a:pt x="264" y="999"/>
                  </a:lnTo>
                  <a:lnTo>
                    <a:pt x="225" y="994"/>
                  </a:lnTo>
                  <a:lnTo>
                    <a:pt x="203" y="992"/>
                  </a:lnTo>
                  <a:lnTo>
                    <a:pt x="182" y="987"/>
                  </a:lnTo>
                  <a:lnTo>
                    <a:pt x="160" y="983"/>
                  </a:lnTo>
                  <a:lnTo>
                    <a:pt x="136" y="977"/>
                  </a:lnTo>
                  <a:lnTo>
                    <a:pt x="114" y="971"/>
                  </a:lnTo>
                  <a:lnTo>
                    <a:pt x="91" y="964"/>
                  </a:lnTo>
                  <a:lnTo>
                    <a:pt x="67" y="956"/>
                  </a:lnTo>
                  <a:lnTo>
                    <a:pt x="43" y="948"/>
                  </a:lnTo>
                  <a:lnTo>
                    <a:pt x="22" y="940"/>
                  </a:lnTo>
                  <a:lnTo>
                    <a:pt x="0" y="930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53400" y="477720"/>
              <a:ext cx="87120" cy="117720"/>
            </a:xfrm>
            <a:custGeom>
              <a:avLst/>
              <a:gdLst/>
              <a:ahLst/>
              <a:rect l="l" t="t" r="r" b="b"/>
              <a:pathLst>
                <a:path w="1076" h="1370">
                  <a:moveTo>
                    <a:pt x="0" y="1370"/>
                  </a:moveTo>
                  <a:lnTo>
                    <a:pt x="0" y="1307"/>
                  </a:lnTo>
                  <a:lnTo>
                    <a:pt x="0" y="1298"/>
                  </a:lnTo>
                  <a:lnTo>
                    <a:pt x="2" y="1291"/>
                  </a:lnTo>
                  <a:lnTo>
                    <a:pt x="5" y="1284"/>
                  </a:lnTo>
                  <a:lnTo>
                    <a:pt x="10" y="1278"/>
                  </a:lnTo>
                  <a:lnTo>
                    <a:pt x="15" y="1273"/>
                  </a:lnTo>
                  <a:lnTo>
                    <a:pt x="21" y="1270"/>
                  </a:lnTo>
                  <a:lnTo>
                    <a:pt x="30" y="1266"/>
                  </a:lnTo>
                  <a:lnTo>
                    <a:pt x="38" y="1264"/>
                  </a:lnTo>
                  <a:lnTo>
                    <a:pt x="57" y="1257"/>
                  </a:lnTo>
                  <a:lnTo>
                    <a:pt x="60" y="1255"/>
                  </a:lnTo>
                  <a:lnTo>
                    <a:pt x="65" y="1250"/>
                  </a:lnTo>
                  <a:lnTo>
                    <a:pt x="68" y="1244"/>
                  </a:lnTo>
                  <a:lnTo>
                    <a:pt x="71" y="1235"/>
                  </a:lnTo>
                  <a:lnTo>
                    <a:pt x="73" y="1228"/>
                  </a:lnTo>
                  <a:lnTo>
                    <a:pt x="76" y="1214"/>
                  </a:lnTo>
                  <a:lnTo>
                    <a:pt x="76" y="1200"/>
                  </a:lnTo>
                  <a:lnTo>
                    <a:pt x="76" y="1190"/>
                  </a:lnTo>
                  <a:lnTo>
                    <a:pt x="76" y="227"/>
                  </a:lnTo>
                  <a:lnTo>
                    <a:pt x="76" y="215"/>
                  </a:lnTo>
                  <a:lnTo>
                    <a:pt x="76" y="197"/>
                  </a:lnTo>
                  <a:lnTo>
                    <a:pt x="76" y="186"/>
                  </a:lnTo>
                  <a:lnTo>
                    <a:pt x="69" y="167"/>
                  </a:lnTo>
                  <a:lnTo>
                    <a:pt x="64" y="156"/>
                  </a:lnTo>
                  <a:lnTo>
                    <a:pt x="37" y="147"/>
                  </a:lnTo>
                  <a:lnTo>
                    <a:pt x="28" y="144"/>
                  </a:lnTo>
                  <a:lnTo>
                    <a:pt x="21" y="140"/>
                  </a:lnTo>
                  <a:lnTo>
                    <a:pt x="15" y="136"/>
                  </a:lnTo>
                  <a:lnTo>
                    <a:pt x="10" y="131"/>
                  </a:lnTo>
                  <a:lnTo>
                    <a:pt x="5" y="125"/>
                  </a:lnTo>
                  <a:lnTo>
                    <a:pt x="2" y="119"/>
                  </a:lnTo>
                  <a:lnTo>
                    <a:pt x="0" y="112"/>
                  </a:lnTo>
                  <a:lnTo>
                    <a:pt x="0" y="103"/>
                  </a:lnTo>
                  <a:lnTo>
                    <a:pt x="0" y="42"/>
                  </a:lnTo>
                  <a:lnTo>
                    <a:pt x="390" y="42"/>
                  </a:lnTo>
                  <a:lnTo>
                    <a:pt x="390" y="145"/>
                  </a:lnTo>
                  <a:lnTo>
                    <a:pt x="399" y="133"/>
                  </a:lnTo>
                  <a:lnTo>
                    <a:pt x="408" y="122"/>
                  </a:lnTo>
                  <a:lnTo>
                    <a:pt x="419" y="109"/>
                  </a:lnTo>
                  <a:lnTo>
                    <a:pt x="430" y="98"/>
                  </a:lnTo>
                  <a:lnTo>
                    <a:pt x="442" y="89"/>
                  </a:lnTo>
                  <a:lnTo>
                    <a:pt x="453" y="79"/>
                  </a:lnTo>
                  <a:lnTo>
                    <a:pt x="465" y="70"/>
                  </a:lnTo>
                  <a:lnTo>
                    <a:pt x="477" y="61"/>
                  </a:lnTo>
                  <a:lnTo>
                    <a:pt x="491" y="53"/>
                  </a:lnTo>
                  <a:lnTo>
                    <a:pt x="504" y="46"/>
                  </a:lnTo>
                  <a:lnTo>
                    <a:pt x="519" y="38"/>
                  </a:lnTo>
                  <a:lnTo>
                    <a:pt x="534" y="32"/>
                  </a:lnTo>
                  <a:lnTo>
                    <a:pt x="549" y="26"/>
                  </a:lnTo>
                  <a:lnTo>
                    <a:pt x="563" y="20"/>
                  </a:lnTo>
                  <a:lnTo>
                    <a:pt x="579" y="15"/>
                  </a:lnTo>
                  <a:lnTo>
                    <a:pt x="597" y="11"/>
                  </a:lnTo>
                  <a:lnTo>
                    <a:pt x="617" y="6"/>
                  </a:lnTo>
                  <a:lnTo>
                    <a:pt x="638" y="3"/>
                  </a:lnTo>
                  <a:lnTo>
                    <a:pt x="659" y="1"/>
                  </a:lnTo>
                  <a:lnTo>
                    <a:pt x="680" y="0"/>
                  </a:lnTo>
                  <a:lnTo>
                    <a:pt x="695" y="0"/>
                  </a:lnTo>
                  <a:lnTo>
                    <a:pt x="710" y="1"/>
                  </a:lnTo>
                  <a:lnTo>
                    <a:pt x="726" y="3"/>
                  </a:lnTo>
                  <a:lnTo>
                    <a:pt x="740" y="5"/>
                  </a:lnTo>
                  <a:lnTo>
                    <a:pt x="774" y="11"/>
                  </a:lnTo>
                  <a:lnTo>
                    <a:pt x="804" y="20"/>
                  </a:lnTo>
                  <a:lnTo>
                    <a:pt x="834" y="30"/>
                  </a:lnTo>
                  <a:lnTo>
                    <a:pt x="861" y="41"/>
                  </a:lnTo>
                  <a:lnTo>
                    <a:pt x="875" y="48"/>
                  </a:lnTo>
                  <a:lnTo>
                    <a:pt x="887" y="55"/>
                  </a:lnTo>
                  <a:lnTo>
                    <a:pt x="899" y="63"/>
                  </a:lnTo>
                  <a:lnTo>
                    <a:pt x="911" y="70"/>
                  </a:lnTo>
                  <a:lnTo>
                    <a:pt x="924" y="79"/>
                  </a:lnTo>
                  <a:lnTo>
                    <a:pt x="935" y="89"/>
                  </a:lnTo>
                  <a:lnTo>
                    <a:pt x="945" y="98"/>
                  </a:lnTo>
                  <a:lnTo>
                    <a:pt x="956" y="108"/>
                  </a:lnTo>
                  <a:lnTo>
                    <a:pt x="975" y="129"/>
                  </a:lnTo>
                  <a:lnTo>
                    <a:pt x="993" y="152"/>
                  </a:lnTo>
                  <a:lnTo>
                    <a:pt x="1009" y="178"/>
                  </a:lnTo>
                  <a:lnTo>
                    <a:pt x="1023" y="205"/>
                  </a:lnTo>
                  <a:lnTo>
                    <a:pt x="1036" y="235"/>
                  </a:lnTo>
                  <a:lnTo>
                    <a:pt x="1048" y="267"/>
                  </a:lnTo>
                  <a:lnTo>
                    <a:pt x="1057" y="300"/>
                  </a:lnTo>
                  <a:lnTo>
                    <a:pt x="1065" y="334"/>
                  </a:lnTo>
                  <a:lnTo>
                    <a:pt x="1076" y="420"/>
                  </a:lnTo>
                  <a:lnTo>
                    <a:pt x="1075" y="448"/>
                  </a:lnTo>
                  <a:lnTo>
                    <a:pt x="1074" y="475"/>
                  </a:lnTo>
                  <a:lnTo>
                    <a:pt x="1071" y="501"/>
                  </a:lnTo>
                  <a:lnTo>
                    <a:pt x="1068" y="527"/>
                  </a:lnTo>
                  <a:lnTo>
                    <a:pt x="1064" y="553"/>
                  </a:lnTo>
                  <a:lnTo>
                    <a:pt x="1058" y="577"/>
                  </a:lnTo>
                  <a:lnTo>
                    <a:pt x="1052" y="602"/>
                  </a:lnTo>
                  <a:lnTo>
                    <a:pt x="1044" y="625"/>
                  </a:lnTo>
                  <a:lnTo>
                    <a:pt x="1037" y="647"/>
                  </a:lnTo>
                  <a:lnTo>
                    <a:pt x="1027" y="669"/>
                  </a:lnTo>
                  <a:lnTo>
                    <a:pt x="1017" y="690"/>
                  </a:lnTo>
                  <a:lnTo>
                    <a:pt x="1006" y="711"/>
                  </a:lnTo>
                  <a:lnTo>
                    <a:pt x="994" y="732"/>
                  </a:lnTo>
                  <a:lnTo>
                    <a:pt x="980" y="750"/>
                  </a:lnTo>
                  <a:lnTo>
                    <a:pt x="967" y="770"/>
                  </a:lnTo>
                  <a:lnTo>
                    <a:pt x="951" y="788"/>
                  </a:lnTo>
                  <a:lnTo>
                    <a:pt x="935" y="806"/>
                  </a:lnTo>
                  <a:lnTo>
                    <a:pt x="918" y="822"/>
                  </a:lnTo>
                  <a:lnTo>
                    <a:pt x="900" y="838"/>
                  </a:lnTo>
                  <a:lnTo>
                    <a:pt x="882" y="852"/>
                  </a:lnTo>
                  <a:lnTo>
                    <a:pt x="862" y="867"/>
                  </a:lnTo>
                  <a:lnTo>
                    <a:pt x="841" y="879"/>
                  </a:lnTo>
                  <a:lnTo>
                    <a:pt x="819" y="892"/>
                  </a:lnTo>
                  <a:lnTo>
                    <a:pt x="797" y="904"/>
                  </a:lnTo>
                  <a:lnTo>
                    <a:pt x="774" y="914"/>
                  </a:lnTo>
                  <a:lnTo>
                    <a:pt x="749" y="923"/>
                  </a:lnTo>
                  <a:lnTo>
                    <a:pt x="724" y="933"/>
                  </a:lnTo>
                  <a:lnTo>
                    <a:pt x="697" y="941"/>
                  </a:lnTo>
                  <a:lnTo>
                    <a:pt x="670" y="948"/>
                  </a:lnTo>
                  <a:lnTo>
                    <a:pt x="643" y="955"/>
                  </a:lnTo>
                  <a:lnTo>
                    <a:pt x="614" y="960"/>
                  </a:lnTo>
                  <a:lnTo>
                    <a:pt x="584" y="965"/>
                  </a:lnTo>
                  <a:lnTo>
                    <a:pt x="493" y="970"/>
                  </a:lnTo>
                  <a:lnTo>
                    <a:pt x="390" y="970"/>
                  </a:lnTo>
                  <a:lnTo>
                    <a:pt x="390" y="1173"/>
                  </a:lnTo>
                  <a:lnTo>
                    <a:pt x="390" y="1186"/>
                  </a:lnTo>
                  <a:lnTo>
                    <a:pt x="390" y="1197"/>
                  </a:lnTo>
                  <a:lnTo>
                    <a:pt x="390" y="1216"/>
                  </a:lnTo>
                  <a:lnTo>
                    <a:pt x="390" y="1222"/>
                  </a:lnTo>
                  <a:lnTo>
                    <a:pt x="394" y="1233"/>
                  </a:lnTo>
                  <a:lnTo>
                    <a:pt x="397" y="1241"/>
                  </a:lnTo>
                  <a:lnTo>
                    <a:pt x="401" y="1246"/>
                  </a:lnTo>
                  <a:lnTo>
                    <a:pt x="406" y="1249"/>
                  </a:lnTo>
                  <a:lnTo>
                    <a:pt x="433" y="1254"/>
                  </a:lnTo>
                  <a:lnTo>
                    <a:pt x="439" y="1256"/>
                  </a:lnTo>
                  <a:lnTo>
                    <a:pt x="445" y="1259"/>
                  </a:lnTo>
                  <a:lnTo>
                    <a:pt x="451" y="1262"/>
                  </a:lnTo>
                  <a:lnTo>
                    <a:pt x="456" y="1265"/>
                  </a:lnTo>
                  <a:lnTo>
                    <a:pt x="461" y="1270"/>
                  </a:lnTo>
                  <a:lnTo>
                    <a:pt x="465" y="1275"/>
                  </a:lnTo>
                  <a:lnTo>
                    <a:pt x="467" y="1280"/>
                  </a:lnTo>
                  <a:lnTo>
                    <a:pt x="470" y="1284"/>
                  </a:lnTo>
                  <a:lnTo>
                    <a:pt x="470" y="1302"/>
                  </a:lnTo>
                  <a:lnTo>
                    <a:pt x="470" y="1370"/>
                  </a:lnTo>
                  <a:lnTo>
                    <a:pt x="0" y="1370"/>
                  </a:lnTo>
                  <a:close/>
                  <a:moveTo>
                    <a:pt x="429" y="787"/>
                  </a:moveTo>
                  <a:lnTo>
                    <a:pt x="471" y="786"/>
                  </a:lnTo>
                  <a:lnTo>
                    <a:pt x="510" y="782"/>
                  </a:lnTo>
                  <a:lnTo>
                    <a:pt x="529" y="780"/>
                  </a:lnTo>
                  <a:lnTo>
                    <a:pt x="546" y="777"/>
                  </a:lnTo>
                  <a:lnTo>
                    <a:pt x="563" y="774"/>
                  </a:lnTo>
                  <a:lnTo>
                    <a:pt x="581" y="770"/>
                  </a:lnTo>
                  <a:lnTo>
                    <a:pt x="595" y="765"/>
                  </a:lnTo>
                  <a:lnTo>
                    <a:pt x="611" y="760"/>
                  </a:lnTo>
                  <a:lnTo>
                    <a:pt x="625" y="754"/>
                  </a:lnTo>
                  <a:lnTo>
                    <a:pt x="640" y="748"/>
                  </a:lnTo>
                  <a:lnTo>
                    <a:pt x="652" y="741"/>
                  </a:lnTo>
                  <a:lnTo>
                    <a:pt x="664" y="733"/>
                  </a:lnTo>
                  <a:lnTo>
                    <a:pt x="676" y="726"/>
                  </a:lnTo>
                  <a:lnTo>
                    <a:pt x="688" y="717"/>
                  </a:lnTo>
                  <a:lnTo>
                    <a:pt x="697" y="709"/>
                  </a:lnTo>
                  <a:lnTo>
                    <a:pt x="707" y="699"/>
                  </a:lnTo>
                  <a:lnTo>
                    <a:pt x="717" y="689"/>
                  </a:lnTo>
                  <a:lnTo>
                    <a:pt x="726" y="678"/>
                  </a:lnTo>
                  <a:lnTo>
                    <a:pt x="733" y="667"/>
                  </a:lnTo>
                  <a:lnTo>
                    <a:pt x="740" y="655"/>
                  </a:lnTo>
                  <a:lnTo>
                    <a:pt x="747" y="642"/>
                  </a:lnTo>
                  <a:lnTo>
                    <a:pt x="752" y="630"/>
                  </a:lnTo>
                  <a:lnTo>
                    <a:pt x="758" y="616"/>
                  </a:lnTo>
                  <a:lnTo>
                    <a:pt x="761" y="602"/>
                  </a:lnTo>
                  <a:lnTo>
                    <a:pt x="765" y="588"/>
                  </a:lnTo>
                  <a:lnTo>
                    <a:pt x="769" y="572"/>
                  </a:lnTo>
                  <a:lnTo>
                    <a:pt x="770" y="558"/>
                  </a:lnTo>
                  <a:lnTo>
                    <a:pt x="772" y="542"/>
                  </a:lnTo>
                  <a:lnTo>
                    <a:pt x="774" y="524"/>
                  </a:lnTo>
                  <a:lnTo>
                    <a:pt x="774" y="507"/>
                  </a:lnTo>
                  <a:lnTo>
                    <a:pt x="774" y="483"/>
                  </a:lnTo>
                  <a:lnTo>
                    <a:pt x="771" y="458"/>
                  </a:lnTo>
                  <a:lnTo>
                    <a:pt x="769" y="434"/>
                  </a:lnTo>
                  <a:lnTo>
                    <a:pt x="765" y="408"/>
                  </a:lnTo>
                  <a:lnTo>
                    <a:pt x="760" y="384"/>
                  </a:lnTo>
                  <a:lnTo>
                    <a:pt x="754" y="362"/>
                  </a:lnTo>
                  <a:lnTo>
                    <a:pt x="748" y="343"/>
                  </a:lnTo>
                  <a:lnTo>
                    <a:pt x="740" y="325"/>
                  </a:lnTo>
                  <a:lnTo>
                    <a:pt x="734" y="312"/>
                  </a:lnTo>
                  <a:lnTo>
                    <a:pt x="728" y="298"/>
                  </a:lnTo>
                  <a:lnTo>
                    <a:pt x="721" y="287"/>
                  </a:lnTo>
                  <a:lnTo>
                    <a:pt x="712" y="276"/>
                  </a:lnTo>
                  <a:lnTo>
                    <a:pt x="705" y="267"/>
                  </a:lnTo>
                  <a:lnTo>
                    <a:pt x="696" y="257"/>
                  </a:lnTo>
                  <a:lnTo>
                    <a:pt x="686" y="248"/>
                  </a:lnTo>
                  <a:lnTo>
                    <a:pt x="678" y="241"/>
                  </a:lnTo>
                  <a:lnTo>
                    <a:pt x="667" y="235"/>
                  </a:lnTo>
                  <a:lnTo>
                    <a:pt x="657" y="228"/>
                  </a:lnTo>
                  <a:lnTo>
                    <a:pt x="646" y="224"/>
                  </a:lnTo>
                  <a:lnTo>
                    <a:pt x="635" y="220"/>
                  </a:lnTo>
                  <a:lnTo>
                    <a:pt x="622" y="216"/>
                  </a:lnTo>
                  <a:lnTo>
                    <a:pt x="610" y="215"/>
                  </a:lnTo>
                  <a:lnTo>
                    <a:pt x="598" y="214"/>
                  </a:lnTo>
                  <a:lnTo>
                    <a:pt x="584" y="213"/>
                  </a:lnTo>
                  <a:lnTo>
                    <a:pt x="567" y="214"/>
                  </a:lnTo>
                  <a:lnTo>
                    <a:pt x="551" y="216"/>
                  </a:lnTo>
                  <a:lnTo>
                    <a:pt x="535" y="220"/>
                  </a:lnTo>
                  <a:lnTo>
                    <a:pt x="520" y="226"/>
                  </a:lnTo>
                  <a:lnTo>
                    <a:pt x="506" y="233"/>
                  </a:lnTo>
                  <a:lnTo>
                    <a:pt x="491" y="242"/>
                  </a:lnTo>
                  <a:lnTo>
                    <a:pt x="476" y="253"/>
                  </a:lnTo>
                  <a:lnTo>
                    <a:pt x="462" y="265"/>
                  </a:lnTo>
                  <a:lnTo>
                    <a:pt x="435" y="295"/>
                  </a:lnTo>
                  <a:lnTo>
                    <a:pt x="428" y="306"/>
                  </a:lnTo>
                  <a:lnTo>
                    <a:pt x="413" y="325"/>
                  </a:lnTo>
                  <a:lnTo>
                    <a:pt x="407" y="334"/>
                  </a:lnTo>
                  <a:lnTo>
                    <a:pt x="402" y="343"/>
                  </a:lnTo>
                  <a:lnTo>
                    <a:pt x="399" y="351"/>
                  </a:lnTo>
                  <a:lnTo>
                    <a:pt x="396" y="360"/>
                  </a:lnTo>
                  <a:lnTo>
                    <a:pt x="392" y="370"/>
                  </a:lnTo>
                  <a:lnTo>
                    <a:pt x="391" y="380"/>
                  </a:lnTo>
                  <a:lnTo>
                    <a:pt x="390" y="389"/>
                  </a:lnTo>
                  <a:lnTo>
                    <a:pt x="390" y="400"/>
                  </a:lnTo>
                  <a:lnTo>
                    <a:pt x="390" y="785"/>
                  </a:lnTo>
                  <a:lnTo>
                    <a:pt x="429" y="787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48440" y="479520"/>
              <a:ext cx="73080" cy="8388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884" y="512"/>
                  </a:moveTo>
                  <a:lnTo>
                    <a:pt x="302" y="512"/>
                  </a:lnTo>
                  <a:lnTo>
                    <a:pt x="300" y="523"/>
                  </a:lnTo>
                  <a:lnTo>
                    <a:pt x="300" y="531"/>
                  </a:lnTo>
                  <a:lnTo>
                    <a:pt x="301" y="550"/>
                  </a:lnTo>
                  <a:lnTo>
                    <a:pt x="305" y="571"/>
                  </a:lnTo>
                  <a:lnTo>
                    <a:pt x="311" y="592"/>
                  </a:lnTo>
                  <a:lnTo>
                    <a:pt x="320" y="612"/>
                  </a:lnTo>
                  <a:lnTo>
                    <a:pt x="330" y="633"/>
                  </a:lnTo>
                  <a:lnTo>
                    <a:pt x="343" y="655"/>
                  </a:lnTo>
                  <a:lnTo>
                    <a:pt x="359" y="676"/>
                  </a:lnTo>
                  <a:lnTo>
                    <a:pt x="376" y="696"/>
                  </a:lnTo>
                  <a:lnTo>
                    <a:pt x="386" y="707"/>
                  </a:lnTo>
                  <a:lnTo>
                    <a:pt x="396" y="717"/>
                  </a:lnTo>
                  <a:lnTo>
                    <a:pt x="407" y="726"/>
                  </a:lnTo>
                  <a:lnTo>
                    <a:pt x="417" y="734"/>
                  </a:lnTo>
                  <a:lnTo>
                    <a:pt x="428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3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0" y="780"/>
                  </a:lnTo>
                  <a:lnTo>
                    <a:pt x="532" y="782"/>
                  </a:lnTo>
                  <a:lnTo>
                    <a:pt x="546" y="782"/>
                  </a:lnTo>
                  <a:lnTo>
                    <a:pt x="558" y="784"/>
                  </a:lnTo>
                  <a:lnTo>
                    <a:pt x="572" y="782"/>
                  </a:lnTo>
                  <a:lnTo>
                    <a:pt x="584" y="782"/>
                  </a:lnTo>
                  <a:lnTo>
                    <a:pt x="598" y="780"/>
                  </a:lnTo>
                  <a:lnTo>
                    <a:pt x="611" y="777"/>
                  </a:lnTo>
                  <a:lnTo>
                    <a:pt x="625" y="775"/>
                  </a:lnTo>
                  <a:lnTo>
                    <a:pt x="637" y="771"/>
                  </a:lnTo>
                  <a:lnTo>
                    <a:pt x="648" y="768"/>
                  </a:lnTo>
                  <a:lnTo>
                    <a:pt x="659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9" y="694"/>
                  </a:lnTo>
                  <a:lnTo>
                    <a:pt x="776" y="685"/>
                  </a:lnTo>
                  <a:lnTo>
                    <a:pt x="788" y="671"/>
                  </a:lnTo>
                  <a:lnTo>
                    <a:pt x="808" y="649"/>
                  </a:lnTo>
                  <a:lnTo>
                    <a:pt x="815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3" y="633"/>
                  </a:lnTo>
                  <a:lnTo>
                    <a:pt x="883" y="633"/>
                  </a:lnTo>
                  <a:lnTo>
                    <a:pt x="893" y="633"/>
                  </a:lnTo>
                  <a:lnTo>
                    <a:pt x="901" y="633"/>
                  </a:lnTo>
                  <a:lnTo>
                    <a:pt x="922" y="633"/>
                  </a:lnTo>
                  <a:lnTo>
                    <a:pt x="922" y="883"/>
                  </a:lnTo>
                  <a:lnTo>
                    <a:pt x="910" y="892"/>
                  </a:lnTo>
                  <a:lnTo>
                    <a:pt x="898" y="900"/>
                  </a:lnTo>
                  <a:lnTo>
                    <a:pt x="883" y="908"/>
                  </a:lnTo>
                  <a:lnTo>
                    <a:pt x="868" y="915"/>
                  </a:lnTo>
                  <a:lnTo>
                    <a:pt x="849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3" y="952"/>
                  </a:lnTo>
                  <a:lnTo>
                    <a:pt x="760" y="958"/>
                  </a:lnTo>
                  <a:lnTo>
                    <a:pt x="735" y="964"/>
                  </a:lnTo>
                  <a:lnTo>
                    <a:pt x="711" y="969"/>
                  </a:lnTo>
                  <a:lnTo>
                    <a:pt x="685" y="973"/>
                  </a:lnTo>
                  <a:lnTo>
                    <a:pt x="654" y="975"/>
                  </a:lnTo>
                  <a:lnTo>
                    <a:pt x="623" y="978"/>
                  </a:lnTo>
                  <a:lnTo>
                    <a:pt x="591" y="979"/>
                  </a:lnTo>
                  <a:lnTo>
                    <a:pt x="558" y="979"/>
                  </a:lnTo>
                  <a:lnTo>
                    <a:pt x="532" y="979"/>
                  </a:lnTo>
                  <a:lnTo>
                    <a:pt x="505" y="978"/>
                  </a:lnTo>
                  <a:lnTo>
                    <a:pt x="481" y="976"/>
                  </a:lnTo>
                  <a:lnTo>
                    <a:pt x="455" y="973"/>
                  </a:lnTo>
                  <a:lnTo>
                    <a:pt x="432" y="970"/>
                  </a:lnTo>
                  <a:lnTo>
                    <a:pt x="407" y="965"/>
                  </a:lnTo>
                  <a:lnTo>
                    <a:pt x="384" y="960"/>
                  </a:lnTo>
                  <a:lnTo>
                    <a:pt x="361" y="954"/>
                  </a:lnTo>
                  <a:lnTo>
                    <a:pt x="339" y="948"/>
                  </a:lnTo>
                  <a:lnTo>
                    <a:pt x="318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8" y="914"/>
                  </a:lnTo>
                  <a:lnTo>
                    <a:pt x="240" y="904"/>
                  </a:lnTo>
                  <a:lnTo>
                    <a:pt x="221" y="893"/>
                  </a:lnTo>
                  <a:lnTo>
                    <a:pt x="204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0" y="825"/>
                  </a:lnTo>
                  <a:lnTo>
                    <a:pt x="127" y="811"/>
                  </a:lnTo>
                  <a:lnTo>
                    <a:pt x="113" y="795"/>
                  </a:lnTo>
                  <a:lnTo>
                    <a:pt x="99" y="777"/>
                  </a:lnTo>
                  <a:lnTo>
                    <a:pt x="87" y="760"/>
                  </a:lnTo>
                  <a:lnTo>
                    <a:pt x="76" y="742"/>
                  </a:lnTo>
                  <a:lnTo>
                    <a:pt x="65" y="723"/>
                  </a:lnTo>
                  <a:lnTo>
                    <a:pt x="55" y="704"/>
                  </a:lnTo>
                  <a:lnTo>
                    <a:pt x="47" y="684"/>
                  </a:lnTo>
                  <a:lnTo>
                    <a:pt x="38" y="663"/>
                  </a:lnTo>
                  <a:lnTo>
                    <a:pt x="29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10" y="567"/>
                  </a:lnTo>
                  <a:lnTo>
                    <a:pt x="4" y="537"/>
                  </a:lnTo>
                  <a:lnTo>
                    <a:pt x="1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1" y="441"/>
                  </a:lnTo>
                  <a:lnTo>
                    <a:pt x="2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7" y="323"/>
                  </a:lnTo>
                  <a:lnTo>
                    <a:pt x="33" y="307"/>
                  </a:lnTo>
                  <a:lnTo>
                    <a:pt x="39" y="290"/>
                  </a:lnTo>
                  <a:lnTo>
                    <a:pt x="47" y="274"/>
                  </a:lnTo>
                  <a:lnTo>
                    <a:pt x="55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7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3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7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0" y="30"/>
                  </a:lnTo>
                  <a:lnTo>
                    <a:pt x="317" y="22"/>
                  </a:lnTo>
                  <a:lnTo>
                    <a:pt x="334" y="17"/>
                  </a:lnTo>
                  <a:lnTo>
                    <a:pt x="352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1" y="0"/>
                  </a:lnTo>
                  <a:lnTo>
                    <a:pt x="467" y="0"/>
                  </a:lnTo>
                  <a:lnTo>
                    <a:pt x="489" y="0"/>
                  </a:lnTo>
                  <a:lnTo>
                    <a:pt x="509" y="1"/>
                  </a:lnTo>
                  <a:lnTo>
                    <a:pt x="530" y="4"/>
                  </a:lnTo>
                  <a:lnTo>
                    <a:pt x="550" y="8"/>
                  </a:lnTo>
                  <a:lnTo>
                    <a:pt x="569" y="11"/>
                  </a:lnTo>
                  <a:lnTo>
                    <a:pt x="589" y="16"/>
                  </a:lnTo>
                  <a:lnTo>
                    <a:pt x="607" y="22"/>
                  </a:lnTo>
                  <a:lnTo>
                    <a:pt x="626" y="28"/>
                  </a:lnTo>
                  <a:lnTo>
                    <a:pt x="643" y="37"/>
                  </a:lnTo>
                  <a:lnTo>
                    <a:pt x="662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3" y="102"/>
                  </a:lnTo>
                  <a:lnTo>
                    <a:pt x="758" y="116"/>
                  </a:lnTo>
                  <a:lnTo>
                    <a:pt x="772" y="132"/>
                  </a:lnTo>
                  <a:lnTo>
                    <a:pt x="787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4" y="202"/>
                  </a:lnTo>
                  <a:lnTo>
                    <a:pt x="835" y="221"/>
                  </a:lnTo>
                  <a:lnTo>
                    <a:pt x="845" y="241"/>
                  </a:lnTo>
                  <a:lnTo>
                    <a:pt x="852" y="261"/>
                  </a:lnTo>
                  <a:lnTo>
                    <a:pt x="860" y="281"/>
                  </a:lnTo>
                  <a:lnTo>
                    <a:pt x="867" y="302"/>
                  </a:lnTo>
                  <a:lnTo>
                    <a:pt x="872" y="324"/>
                  </a:lnTo>
                  <a:lnTo>
                    <a:pt x="877" y="348"/>
                  </a:lnTo>
                  <a:lnTo>
                    <a:pt x="881" y="370"/>
                  </a:lnTo>
                  <a:lnTo>
                    <a:pt x="883" y="394"/>
                  </a:lnTo>
                  <a:lnTo>
                    <a:pt x="884" y="419"/>
                  </a:lnTo>
                  <a:lnTo>
                    <a:pt x="884" y="443"/>
                  </a:lnTo>
                  <a:lnTo>
                    <a:pt x="884" y="452"/>
                  </a:lnTo>
                  <a:lnTo>
                    <a:pt x="884" y="462"/>
                  </a:lnTo>
                  <a:lnTo>
                    <a:pt x="884" y="475"/>
                  </a:lnTo>
                  <a:lnTo>
                    <a:pt x="884" y="490"/>
                  </a:lnTo>
                  <a:lnTo>
                    <a:pt x="884" y="504"/>
                  </a:lnTo>
                  <a:lnTo>
                    <a:pt x="884" y="512"/>
                  </a:lnTo>
                  <a:close/>
                  <a:moveTo>
                    <a:pt x="584" y="339"/>
                  </a:moveTo>
                  <a:lnTo>
                    <a:pt x="583" y="319"/>
                  </a:lnTo>
                  <a:lnTo>
                    <a:pt x="580" y="305"/>
                  </a:lnTo>
                  <a:lnTo>
                    <a:pt x="577" y="290"/>
                  </a:lnTo>
                  <a:lnTo>
                    <a:pt x="573" y="278"/>
                  </a:lnTo>
                  <a:lnTo>
                    <a:pt x="569" y="265"/>
                  </a:lnTo>
                  <a:lnTo>
                    <a:pt x="563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5" y="202"/>
                  </a:lnTo>
                  <a:lnTo>
                    <a:pt x="494" y="199"/>
                  </a:lnTo>
                  <a:lnTo>
                    <a:pt x="482" y="197"/>
                  </a:lnTo>
                  <a:lnTo>
                    <a:pt x="468" y="194"/>
                  </a:lnTo>
                  <a:lnTo>
                    <a:pt x="455" y="194"/>
                  </a:lnTo>
                  <a:lnTo>
                    <a:pt x="440" y="194"/>
                  </a:lnTo>
                  <a:lnTo>
                    <a:pt x="425" y="197"/>
                  </a:lnTo>
                  <a:lnTo>
                    <a:pt x="412" y="199"/>
                  </a:lnTo>
                  <a:lnTo>
                    <a:pt x="400" y="202"/>
                  </a:lnTo>
                  <a:lnTo>
                    <a:pt x="387" y="206"/>
                  </a:lnTo>
                  <a:lnTo>
                    <a:pt x="376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8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8" y="262"/>
                  </a:lnTo>
                  <a:lnTo>
                    <a:pt x="323" y="274"/>
                  </a:lnTo>
                  <a:lnTo>
                    <a:pt x="318" y="286"/>
                  </a:lnTo>
                  <a:lnTo>
                    <a:pt x="316" y="300"/>
                  </a:lnTo>
                  <a:lnTo>
                    <a:pt x="314" y="315"/>
                  </a:lnTo>
                  <a:lnTo>
                    <a:pt x="310" y="339"/>
                  </a:lnTo>
                  <a:lnTo>
                    <a:pt x="584" y="33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29440" y="477720"/>
              <a:ext cx="71640" cy="84240"/>
            </a:xfrm>
            <a:custGeom>
              <a:avLst/>
              <a:gdLst/>
              <a:ahLst/>
              <a:rect l="l" t="t" r="r" b="b"/>
              <a:pathLst>
                <a:path w="857" h="984">
                  <a:moveTo>
                    <a:pt x="857" y="188"/>
                  </a:moveTo>
                  <a:lnTo>
                    <a:pt x="682" y="413"/>
                  </a:lnTo>
                  <a:lnTo>
                    <a:pt x="660" y="402"/>
                  </a:lnTo>
                  <a:lnTo>
                    <a:pt x="642" y="390"/>
                  </a:lnTo>
                  <a:lnTo>
                    <a:pt x="627" y="382"/>
                  </a:lnTo>
                  <a:lnTo>
                    <a:pt x="615" y="373"/>
                  </a:lnTo>
                  <a:lnTo>
                    <a:pt x="606" y="367"/>
                  </a:lnTo>
                  <a:lnTo>
                    <a:pt x="601" y="361"/>
                  </a:lnTo>
                  <a:lnTo>
                    <a:pt x="596" y="356"/>
                  </a:lnTo>
                  <a:lnTo>
                    <a:pt x="593" y="350"/>
                  </a:lnTo>
                  <a:lnTo>
                    <a:pt x="591" y="346"/>
                  </a:lnTo>
                  <a:lnTo>
                    <a:pt x="595" y="311"/>
                  </a:lnTo>
                  <a:lnTo>
                    <a:pt x="596" y="298"/>
                  </a:lnTo>
                  <a:lnTo>
                    <a:pt x="596" y="284"/>
                  </a:lnTo>
                  <a:lnTo>
                    <a:pt x="595" y="271"/>
                  </a:lnTo>
                  <a:lnTo>
                    <a:pt x="594" y="262"/>
                  </a:lnTo>
                  <a:lnTo>
                    <a:pt x="591" y="254"/>
                  </a:lnTo>
                  <a:lnTo>
                    <a:pt x="588" y="247"/>
                  </a:lnTo>
                  <a:lnTo>
                    <a:pt x="582" y="238"/>
                  </a:lnTo>
                  <a:lnTo>
                    <a:pt x="574" y="228"/>
                  </a:lnTo>
                  <a:lnTo>
                    <a:pt x="564" y="219"/>
                  </a:lnTo>
                  <a:lnTo>
                    <a:pt x="557" y="212"/>
                  </a:lnTo>
                  <a:lnTo>
                    <a:pt x="548" y="206"/>
                  </a:lnTo>
                  <a:lnTo>
                    <a:pt x="541" y="201"/>
                  </a:lnTo>
                  <a:lnTo>
                    <a:pt x="531" y="198"/>
                  </a:lnTo>
                  <a:lnTo>
                    <a:pt x="521" y="195"/>
                  </a:lnTo>
                  <a:lnTo>
                    <a:pt x="510" y="193"/>
                  </a:lnTo>
                  <a:lnTo>
                    <a:pt x="499" y="192"/>
                  </a:lnTo>
                  <a:lnTo>
                    <a:pt x="488" y="192"/>
                  </a:lnTo>
                  <a:lnTo>
                    <a:pt x="475" y="193"/>
                  </a:lnTo>
                  <a:lnTo>
                    <a:pt x="452" y="196"/>
                  </a:lnTo>
                  <a:lnTo>
                    <a:pt x="445" y="199"/>
                  </a:lnTo>
                  <a:lnTo>
                    <a:pt x="439" y="201"/>
                  </a:lnTo>
                  <a:lnTo>
                    <a:pt x="432" y="204"/>
                  </a:lnTo>
                  <a:lnTo>
                    <a:pt x="425" y="209"/>
                  </a:lnTo>
                  <a:lnTo>
                    <a:pt x="411" y="219"/>
                  </a:lnTo>
                  <a:lnTo>
                    <a:pt x="397" y="231"/>
                  </a:lnTo>
                  <a:lnTo>
                    <a:pt x="390" y="239"/>
                  </a:lnTo>
                  <a:lnTo>
                    <a:pt x="382" y="248"/>
                  </a:lnTo>
                  <a:lnTo>
                    <a:pt x="375" y="258"/>
                  </a:lnTo>
                  <a:lnTo>
                    <a:pt x="369" y="268"/>
                  </a:lnTo>
                  <a:lnTo>
                    <a:pt x="355" y="292"/>
                  </a:lnTo>
                  <a:lnTo>
                    <a:pt x="342" y="320"/>
                  </a:lnTo>
                  <a:lnTo>
                    <a:pt x="336" y="339"/>
                  </a:lnTo>
                  <a:lnTo>
                    <a:pt x="331" y="354"/>
                  </a:lnTo>
                  <a:lnTo>
                    <a:pt x="325" y="371"/>
                  </a:lnTo>
                  <a:lnTo>
                    <a:pt x="320" y="387"/>
                  </a:lnTo>
                  <a:lnTo>
                    <a:pt x="316" y="403"/>
                  </a:lnTo>
                  <a:lnTo>
                    <a:pt x="312" y="416"/>
                  </a:lnTo>
                  <a:lnTo>
                    <a:pt x="307" y="445"/>
                  </a:lnTo>
                  <a:lnTo>
                    <a:pt x="304" y="473"/>
                  </a:lnTo>
                  <a:lnTo>
                    <a:pt x="301" y="500"/>
                  </a:lnTo>
                  <a:lnTo>
                    <a:pt x="300" y="528"/>
                  </a:lnTo>
                  <a:lnTo>
                    <a:pt x="301" y="559"/>
                  </a:lnTo>
                  <a:lnTo>
                    <a:pt x="305" y="588"/>
                  </a:lnTo>
                  <a:lnTo>
                    <a:pt x="306" y="603"/>
                  </a:lnTo>
                  <a:lnTo>
                    <a:pt x="310" y="616"/>
                  </a:lnTo>
                  <a:lnTo>
                    <a:pt x="313" y="629"/>
                  </a:lnTo>
                  <a:lnTo>
                    <a:pt x="317" y="641"/>
                  </a:lnTo>
                  <a:lnTo>
                    <a:pt x="321" y="653"/>
                  </a:lnTo>
                  <a:lnTo>
                    <a:pt x="326" y="666"/>
                  </a:lnTo>
                  <a:lnTo>
                    <a:pt x="332" y="677"/>
                  </a:lnTo>
                  <a:lnTo>
                    <a:pt x="338" y="688"/>
                  </a:lnTo>
                  <a:lnTo>
                    <a:pt x="344" y="697"/>
                  </a:lnTo>
                  <a:lnTo>
                    <a:pt x="352" y="707"/>
                  </a:lnTo>
                  <a:lnTo>
                    <a:pt x="359" y="717"/>
                  </a:lnTo>
                  <a:lnTo>
                    <a:pt x="368" y="726"/>
                  </a:lnTo>
                  <a:lnTo>
                    <a:pt x="384" y="740"/>
                  </a:lnTo>
                  <a:lnTo>
                    <a:pt x="401" y="754"/>
                  </a:lnTo>
                  <a:lnTo>
                    <a:pt x="419" y="765"/>
                  </a:lnTo>
                  <a:lnTo>
                    <a:pt x="440" y="774"/>
                  </a:lnTo>
                  <a:lnTo>
                    <a:pt x="461" y="780"/>
                  </a:lnTo>
                  <a:lnTo>
                    <a:pt x="483" y="786"/>
                  </a:lnTo>
                  <a:lnTo>
                    <a:pt x="508" y="788"/>
                  </a:lnTo>
                  <a:lnTo>
                    <a:pt x="534" y="790"/>
                  </a:lnTo>
                  <a:lnTo>
                    <a:pt x="561" y="788"/>
                  </a:lnTo>
                  <a:lnTo>
                    <a:pt x="584" y="786"/>
                  </a:lnTo>
                  <a:lnTo>
                    <a:pt x="595" y="783"/>
                  </a:lnTo>
                  <a:lnTo>
                    <a:pt x="605" y="782"/>
                  </a:lnTo>
                  <a:lnTo>
                    <a:pt x="614" y="778"/>
                  </a:lnTo>
                  <a:lnTo>
                    <a:pt x="621" y="776"/>
                  </a:lnTo>
                  <a:lnTo>
                    <a:pt x="637" y="767"/>
                  </a:lnTo>
                  <a:lnTo>
                    <a:pt x="653" y="756"/>
                  </a:lnTo>
                  <a:lnTo>
                    <a:pt x="670" y="742"/>
                  </a:lnTo>
                  <a:lnTo>
                    <a:pt x="687" y="723"/>
                  </a:lnTo>
                  <a:lnTo>
                    <a:pt x="697" y="715"/>
                  </a:lnTo>
                  <a:lnTo>
                    <a:pt x="721" y="688"/>
                  </a:lnTo>
                  <a:lnTo>
                    <a:pt x="729" y="679"/>
                  </a:lnTo>
                  <a:lnTo>
                    <a:pt x="738" y="672"/>
                  </a:lnTo>
                  <a:lnTo>
                    <a:pt x="745" y="667"/>
                  </a:lnTo>
                  <a:lnTo>
                    <a:pt x="753" y="664"/>
                  </a:lnTo>
                  <a:lnTo>
                    <a:pt x="761" y="662"/>
                  </a:lnTo>
                  <a:lnTo>
                    <a:pt x="776" y="661"/>
                  </a:lnTo>
                  <a:lnTo>
                    <a:pt x="794" y="661"/>
                  </a:lnTo>
                  <a:lnTo>
                    <a:pt x="819" y="661"/>
                  </a:lnTo>
                  <a:lnTo>
                    <a:pt x="837" y="661"/>
                  </a:lnTo>
                  <a:lnTo>
                    <a:pt x="837" y="930"/>
                  </a:lnTo>
                  <a:lnTo>
                    <a:pt x="786" y="948"/>
                  </a:lnTo>
                  <a:lnTo>
                    <a:pt x="755" y="955"/>
                  </a:lnTo>
                  <a:lnTo>
                    <a:pt x="724" y="963"/>
                  </a:lnTo>
                  <a:lnTo>
                    <a:pt x="695" y="970"/>
                  </a:lnTo>
                  <a:lnTo>
                    <a:pt x="665" y="975"/>
                  </a:lnTo>
                  <a:lnTo>
                    <a:pt x="637" y="979"/>
                  </a:lnTo>
                  <a:lnTo>
                    <a:pt x="609" y="981"/>
                  </a:lnTo>
                  <a:lnTo>
                    <a:pt x="582" y="984"/>
                  </a:lnTo>
                  <a:lnTo>
                    <a:pt x="555" y="984"/>
                  </a:lnTo>
                  <a:lnTo>
                    <a:pt x="521" y="982"/>
                  </a:lnTo>
                  <a:lnTo>
                    <a:pt x="489" y="981"/>
                  </a:lnTo>
                  <a:lnTo>
                    <a:pt x="459" y="976"/>
                  </a:lnTo>
                  <a:lnTo>
                    <a:pt x="429" y="971"/>
                  </a:lnTo>
                  <a:lnTo>
                    <a:pt x="384" y="961"/>
                  </a:lnTo>
                  <a:lnTo>
                    <a:pt x="342" y="949"/>
                  </a:lnTo>
                  <a:lnTo>
                    <a:pt x="321" y="943"/>
                  </a:lnTo>
                  <a:lnTo>
                    <a:pt x="302" y="936"/>
                  </a:lnTo>
                  <a:lnTo>
                    <a:pt x="283" y="928"/>
                  </a:lnTo>
                  <a:lnTo>
                    <a:pt x="264" y="920"/>
                  </a:lnTo>
                  <a:lnTo>
                    <a:pt x="247" y="911"/>
                  </a:lnTo>
                  <a:lnTo>
                    <a:pt x="230" y="903"/>
                  </a:lnTo>
                  <a:lnTo>
                    <a:pt x="214" y="894"/>
                  </a:lnTo>
                  <a:lnTo>
                    <a:pt x="198" y="884"/>
                  </a:lnTo>
                  <a:lnTo>
                    <a:pt x="183" y="873"/>
                  </a:lnTo>
                  <a:lnTo>
                    <a:pt x="170" y="863"/>
                  </a:lnTo>
                  <a:lnTo>
                    <a:pt x="156" y="852"/>
                  </a:lnTo>
                  <a:lnTo>
                    <a:pt x="143" y="840"/>
                  </a:lnTo>
                  <a:lnTo>
                    <a:pt x="130" y="828"/>
                  </a:lnTo>
                  <a:lnTo>
                    <a:pt x="118" y="815"/>
                  </a:lnTo>
                  <a:lnTo>
                    <a:pt x="107" y="802"/>
                  </a:lnTo>
                  <a:lnTo>
                    <a:pt x="96" y="788"/>
                  </a:lnTo>
                  <a:lnTo>
                    <a:pt x="86" y="774"/>
                  </a:lnTo>
                  <a:lnTo>
                    <a:pt x="76" y="759"/>
                  </a:lnTo>
                  <a:lnTo>
                    <a:pt x="67" y="744"/>
                  </a:lnTo>
                  <a:lnTo>
                    <a:pt x="59" y="727"/>
                  </a:lnTo>
                  <a:lnTo>
                    <a:pt x="50" y="711"/>
                  </a:lnTo>
                  <a:lnTo>
                    <a:pt x="43" y="694"/>
                  </a:lnTo>
                  <a:lnTo>
                    <a:pt x="36" y="675"/>
                  </a:lnTo>
                  <a:lnTo>
                    <a:pt x="29" y="657"/>
                  </a:lnTo>
                  <a:lnTo>
                    <a:pt x="23" y="639"/>
                  </a:lnTo>
                  <a:lnTo>
                    <a:pt x="18" y="619"/>
                  </a:lnTo>
                  <a:lnTo>
                    <a:pt x="13" y="599"/>
                  </a:lnTo>
                  <a:lnTo>
                    <a:pt x="8" y="578"/>
                  </a:lnTo>
                  <a:lnTo>
                    <a:pt x="6" y="556"/>
                  </a:lnTo>
                  <a:lnTo>
                    <a:pt x="4" y="538"/>
                  </a:lnTo>
                  <a:lnTo>
                    <a:pt x="1" y="523"/>
                  </a:lnTo>
                  <a:lnTo>
                    <a:pt x="1" y="512"/>
                  </a:lnTo>
                  <a:lnTo>
                    <a:pt x="0" y="495"/>
                  </a:lnTo>
                  <a:lnTo>
                    <a:pt x="0" y="483"/>
                  </a:lnTo>
                  <a:lnTo>
                    <a:pt x="1" y="451"/>
                  </a:lnTo>
                  <a:lnTo>
                    <a:pt x="4" y="420"/>
                  </a:lnTo>
                  <a:lnTo>
                    <a:pt x="8" y="388"/>
                  </a:lnTo>
                  <a:lnTo>
                    <a:pt x="16" y="356"/>
                  </a:lnTo>
                  <a:lnTo>
                    <a:pt x="22" y="339"/>
                  </a:lnTo>
                  <a:lnTo>
                    <a:pt x="28" y="320"/>
                  </a:lnTo>
                  <a:lnTo>
                    <a:pt x="34" y="303"/>
                  </a:lnTo>
                  <a:lnTo>
                    <a:pt x="42" y="286"/>
                  </a:lnTo>
                  <a:lnTo>
                    <a:pt x="49" y="269"/>
                  </a:lnTo>
                  <a:lnTo>
                    <a:pt x="56" y="253"/>
                  </a:lnTo>
                  <a:lnTo>
                    <a:pt x="65" y="237"/>
                  </a:lnTo>
                  <a:lnTo>
                    <a:pt x="75" y="221"/>
                  </a:lnTo>
                  <a:lnTo>
                    <a:pt x="85" y="206"/>
                  </a:lnTo>
                  <a:lnTo>
                    <a:pt x="95" y="192"/>
                  </a:lnTo>
                  <a:lnTo>
                    <a:pt x="106" y="178"/>
                  </a:lnTo>
                  <a:lnTo>
                    <a:pt x="117" y="163"/>
                  </a:lnTo>
                  <a:lnTo>
                    <a:pt x="129" y="151"/>
                  </a:lnTo>
                  <a:lnTo>
                    <a:pt x="141" y="138"/>
                  </a:lnTo>
                  <a:lnTo>
                    <a:pt x="154" y="125"/>
                  </a:lnTo>
                  <a:lnTo>
                    <a:pt x="167" y="113"/>
                  </a:lnTo>
                  <a:lnTo>
                    <a:pt x="181" y="102"/>
                  </a:lnTo>
                  <a:lnTo>
                    <a:pt x="195" y="91"/>
                  </a:lnTo>
                  <a:lnTo>
                    <a:pt x="210" y="81"/>
                  </a:lnTo>
                  <a:lnTo>
                    <a:pt x="225" y="71"/>
                  </a:lnTo>
                  <a:lnTo>
                    <a:pt x="240" y="61"/>
                  </a:lnTo>
                  <a:lnTo>
                    <a:pt x="254" y="54"/>
                  </a:lnTo>
                  <a:lnTo>
                    <a:pt x="270" y="45"/>
                  </a:lnTo>
                  <a:lnTo>
                    <a:pt x="286" y="38"/>
                  </a:lnTo>
                  <a:lnTo>
                    <a:pt x="304" y="32"/>
                  </a:lnTo>
                  <a:lnTo>
                    <a:pt x="320" y="26"/>
                  </a:lnTo>
                  <a:lnTo>
                    <a:pt x="337" y="21"/>
                  </a:lnTo>
                  <a:lnTo>
                    <a:pt x="354" y="16"/>
                  </a:lnTo>
                  <a:lnTo>
                    <a:pt x="373" y="12"/>
                  </a:lnTo>
                  <a:lnTo>
                    <a:pt x="390" y="9"/>
                  </a:lnTo>
                  <a:lnTo>
                    <a:pt x="408" y="6"/>
                  </a:lnTo>
                  <a:lnTo>
                    <a:pt x="428" y="4"/>
                  </a:lnTo>
                  <a:lnTo>
                    <a:pt x="441" y="2"/>
                  </a:lnTo>
                  <a:lnTo>
                    <a:pt x="456" y="1"/>
                  </a:lnTo>
                  <a:lnTo>
                    <a:pt x="471" y="1"/>
                  </a:lnTo>
                  <a:lnTo>
                    <a:pt x="488" y="0"/>
                  </a:lnTo>
                  <a:lnTo>
                    <a:pt x="516" y="1"/>
                  </a:lnTo>
                  <a:lnTo>
                    <a:pt x="545" y="4"/>
                  </a:lnTo>
                  <a:lnTo>
                    <a:pt x="572" y="7"/>
                  </a:lnTo>
                  <a:lnTo>
                    <a:pt x="599" y="14"/>
                  </a:lnTo>
                  <a:lnTo>
                    <a:pt x="626" y="20"/>
                  </a:lnTo>
                  <a:lnTo>
                    <a:pt x="652" y="28"/>
                  </a:lnTo>
                  <a:lnTo>
                    <a:pt x="676" y="39"/>
                  </a:lnTo>
                  <a:lnTo>
                    <a:pt x="701" y="50"/>
                  </a:lnTo>
                  <a:lnTo>
                    <a:pt x="726" y="64"/>
                  </a:lnTo>
                  <a:lnTo>
                    <a:pt x="748" y="77"/>
                  </a:lnTo>
                  <a:lnTo>
                    <a:pt x="769" y="93"/>
                  </a:lnTo>
                  <a:lnTo>
                    <a:pt x="790" y="109"/>
                  </a:lnTo>
                  <a:lnTo>
                    <a:pt x="808" y="128"/>
                  </a:lnTo>
                  <a:lnTo>
                    <a:pt x="825" y="146"/>
                  </a:lnTo>
                  <a:lnTo>
                    <a:pt x="842" y="167"/>
                  </a:lnTo>
                  <a:lnTo>
                    <a:pt x="857" y="188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02520" y="447840"/>
              <a:ext cx="52560" cy="115560"/>
            </a:xfrm>
            <a:custGeom>
              <a:avLst/>
              <a:gdLst/>
              <a:ahLst/>
              <a:rect l="l" t="t" r="r" b="b"/>
              <a:pathLst>
                <a:path w="653" h="1349">
                  <a:moveTo>
                    <a:pt x="0" y="579"/>
                  </a:moveTo>
                  <a:lnTo>
                    <a:pt x="0" y="393"/>
                  </a:lnTo>
                  <a:lnTo>
                    <a:pt x="94" y="393"/>
                  </a:lnTo>
                  <a:lnTo>
                    <a:pt x="94" y="101"/>
                  </a:lnTo>
                  <a:lnTo>
                    <a:pt x="393" y="0"/>
                  </a:lnTo>
                  <a:lnTo>
                    <a:pt x="393" y="393"/>
                  </a:lnTo>
                  <a:lnTo>
                    <a:pt x="629" y="393"/>
                  </a:lnTo>
                  <a:lnTo>
                    <a:pt x="629" y="579"/>
                  </a:lnTo>
                  <a:lnTo>
                    <a:pt x="393" y="579"/>
                  </a:lnTo>
                  <a:lnTo>
                    <a:pt x="393" y="1055"/>
                  </a:lnTo>
                  <a:lnTo>
                    <a:pt x="393" y="1067"/>
                  </a:lnTo>
                  <a:lnTo>
                    <a:pt x="398" y="1085"/>
                  </a:lnTo>
                  <a:lnTo>
                    <a:pt x="399" y="1093"/>
                  </a:lnTo>
                  <a:lnTo>
                    <a:pt x="401" y="1100"/>
                  </a:lnTo>
                  <a:lnTo>
                    <a:pt x="402" y="1107"/>
                  </a:lnTo>
                  <a:lnTo>
                    <a:pt x="405" y="1114"/>
                  </a:lnTo>
                  <a:lnTo>
                    <a:pt x="409" y="1120"/>
                  </a:lnTo>
                  <a:lnTo>
                    <a:pt x="414" y="1126"/>
                  </a:lnTo>
                  <a:lnTo>
                    <a:pt x="419" y="1131"/>
                  </a:lnTo>
                  <a:lnTo>
                    <a:pt x="425" y="1136"/>
                  </a:lnTo>
                  <a:lnTo>
                    <a:pt x="434" y="1141"/>
                  </a:lnTo>
                  <a:lnTo>
                    <a:pt x="442" y="1144"/>
                  </a:lnTo>
                  <a:lnTo>
                    <a:pt x="451" y="1147"/>
                  </a:lnTo>
                  <a:lnTo>
                    <a:pt x="461" y="1147"/>
                  </a:lnTo>
                  <a:lnTo>
                    <a:pt x="468" y="1147"/>
                  </a:lnTo>
                  <a:lnTo>
                    <a:pt x="477" y="1144"/>
                  </a:lnTo>
                  <a:lnTo>
                    <a:pt x="485" y="1141"/>
                  </a:lnTo>
                  <a:lnTo>
                    <a:pt x="494" y="1137"/>
                  </a:lnTo>
                  <a:lnTo>
                    <a:pt x="501" y="1131"/>
                  </a:lnTo>
                  <a:lnTo>
                    <a:pt x="509" y="1123"/>
                  </a:lnTo>
                  <a:lnTo>
                    <a:pt x="516" y="1115"/>
                  </a:lnTo>
                  <a:lnTo>
                    <a:pt x="524" y="1105"/>
                  </a:lnTo>
                  <a:lnTo>
                    <a:pt x="531" y="1094"/>
                  </a:lnTo>
                  <a:lnTo>
                    <a:pt x="548" y="1066"/>
                  </a:lnTo>
                  <a:lnTo>
                    <a:pt x="552" y="1058"/>
                  </a:lnTo>
                  <a:lnTo>
                    <a:pt x="553" y="1056"/>
                  </a:lnTo>
                  <a:lnTo>
                    <a:pt x="558" y="1053"/>
                  </a:lnTo>
                  <a:lnTo>
                    <a:pt x="565" y="1051"/>
                  </a:lnTo>
                  <a:lnTo>
                    <a:pt x="575" y="1049"/>
                  </a:lnTo>
                  <a:lnTo>
                    <a:pt x="586" y="1047"/>
                  </a:lnTo>
                  <a:lnTo>
                    <a:pt x="599" y="1046"/>
                  </a:lnTo>
                  <a:lnTo>
                    <a:pt x="611" y="1046"/>
                  </a:lnTo>
                  <a:lnTo>
                    <a:pt x="624" y="1045"/>
                  </a:lnTo>
                  <a:lnTo>
                    <a:pt x="653" y="1047"/>
                  </a:lnTo>
                  <a:lnTo>
                    <a:pt x="653" y="1272"/>
                  </a:lnTo>
                  <a:lnTo>
                    <a:pt x="634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3" y="1313"/>
                  </a:lnTo>
                  <a:lnTo>
                    <a:pt x="549" y="1321"/>
                  </a:lnTo>
                  <a:lnTo>
                    <a:pt x="527" y="1328"/>
                  </a:lnTo>
                  <a:lnTo>
                    <a:pt x="504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7" y="1347"/>
                  </a:lnTo>
                  <a:lnTo>
                    <a:pt x="415" y="1348"/>
                  </a:lnTo>
                  <a:lnTo>
                    <a:pt x="393" y="1349"/>
                  </a:lnTo>
                  <a:lnTo>
                    <a:pt x="372" y="1348"/>
                  </a:lnTo>
                  <a:lnTo>
                    <a:pt x="359" y="1347"/>
                  </a:lnTo>
                  <a:lnTo>
                    <a:pt x="323" y="1343"/>
                  </a:lnTo>
                  <a:lnTo>
                    <a:pt x="291" y="1337"/>
                  </a:lnTo>
                  <a:lnTo>
                    <a:pt x="260" y="1330"/>
                  </a:lnTo>
                  <a:lnTo>
                    <a:pt x="233" y="1320"/>
                  </a:lnTo>
                  <a:lnTo>
                    <a:pt x="221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7" y="1297"/>
                  </a:lnTo>
                  <a:lnTo>
                    <a:pt x="177" y="1289"/>
                  </a:lnTo>
                  <a:lnTo>
                    <a:pt x="168" y="1282"/>
                  </a:lnTo>
                  <a:lnTo>
                    <a:pt x="158" y="1273"/>
                  </a:lnTo>
                  <a:lnTo>
                    <a:pt x="151" y="1265"/>
                  </a:lnTo>
                  <a:lnTo>
                    <a:pt x="144" y="1256"/>
                  </a:lnTo>
                  <a:lnTo>
                    <a:pt x="136" y="1246"/>
                  </a:lnTo>
                  <a:lnTo>
                    <a:pt x="130" y="1236"/>
                  </a:lnTo>
                  <a:lnTo>
                    <a:pt x="124" y="1225"/>
                  </a:lnTo>
                  <a:lnTo>
                    <a:pt x="118" y="1214"/>
                  </a:lnTo>
                  <a:lnTo>
                    <a:pt x="113" y="1203"/>
                  </a:lnTo>
                  <a:lnTo>
                    <a:pt x="109" y="1190"/>
                  </a:lnTo>
                  <a:lnTo>
                    <a:pt x="104" y="1177"/>
                  </a:lnTo>
                  <a:lnTo>
                    <a:pt x="98" y="1149"/>
                  </a:lnTo>
                  <a:lnTo>
                    <a:pt x="93" y="1119"/>
                  </a:lnTo>
                  <a:lnTo>
                    <a:pt x="89" y="1085"/>
                  </a:lnTo>
                  <a:lnTo>
                    <a:pt x="89" y="1051"/>
                  </a:lnTo>
                  <a:lnTo>
                    <a:pt x="89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55080" y="441360"/>
              <a:ext cx="38160" cy="119160"/>
            </a:xfrm>
            <a:custGeom>
              <a:avLst/>
              <a:gdLst/>
              <a:ahLst/>
              <a:rect l="l" t="t" r="r" b="b"/>
              <a:pathLst>
                <a:path w="481" h="1397">
                  <a:moveTo>
                    <a:pt x="0" y="1397"/>
                  </a:moveTo>
                  <a:lnTo>
                    <a:pt x="0" y="1336"/>
                  </a:lnTo>
                  <a:lnTo>
                    <a:pt x="1" y="1327"/>
                  </a:lnTo>
                  <a:lnTo>
                    <a:pt x="3" y="1319"/>
                  </a:lnTo>
                  <a:lnTo>
                    <a:pt x="10" y="1311"/>
                  </a:lnTo>
                  <a:lnTo>
                    <a:pt x="17" y="1305"/>
                  </a:lnTo>
                  <a:lnTo>
                    <a:pt x="22" y="1301"/>
                  </a:lnTo>
                  <a:lnTo>
                    <a:pt x="45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7" y="1279"/>
                  </a:lnTo>
                  <a:lnTo>
                    <a:pt x="71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5" y="574"/>
                  </a:lnTo>
                  <a:lnTo>
                    <a:pt x="33" y="567"/>
                  </a:lnTo>
                  <a:lnTo>
                    <a:pt x="26" y="563"/>
                  </a:lnTo>
                  <a:lnTo>
                    <a:pt x="18" y="558"/>
                  </a:lnTo>
                  <a:lnTo>
                    <a:pt x="13" y="554"/>
                  </a:lnTo>
                  <a:lnTo>
                    <a:pt x="8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1" y="469"/>
                  </a:lnTo>
                  <a:lnTo>
                    <a:pt x="401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2" y="1273"/>
                  </a:lnTo>
                  <a:lnTo>
                    <a:pt x="404" y="1277"/>
                  </a:lnTo>
                  <a:lnTo>
                    <a:pt x="407" y="1280"/>
                  </a:lnTo>
                  <a:lnTo>
                    <a:pt x="409" y="1283"/>
                  </a:lnTo>
                  <a:lnTo>
                    <a:pt x="413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6" y="1294"/>
                  </a:lnTo>
                  <a:lnTo>
                    <a:pt x="462" y="1298"/>
                  </a:lnTo>
                  <a:lnTo>
                    <a:pt x="467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7" y="1316"/>
                  </a:lnTo>
                  <a:lnTo>
                    <a:pt x="478" y="1322"/>
                  </a:lnTo>
                  <a:lnTo>
                    <a:pt x="480" y="1328"/>
                  </a:lnTo>
                  <a:lnTo>
                    <a:pt x="481" y="1335"/>
                  </a:lnTo>
                  <a:lnTo>
                    <a:pt x="481" y="1397"/>
                  </a:lnTo>
                  <a:lnTo>
                    <a:pt x="0" y="1397"/>
                  </a:lnTo>
                  <a:close/>
                  <a:moveTo>
                    <a:pt x="45" y="185"/>
                  </a:moveTo>
                  <a:lnTo>
                    <a:pt x="47" y="167"/>
                  </a:lnTo>
                  <a:lnTo>
                    <a:pt x="49" y="148"/>
                  </a:lnTo>
                  <a:lnTo>
                    <a:pt x="53" y="131"/>
                  </a:lnTo>
                  <a:lnTo>
                    <a:pt x="59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8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1" y="21"/>
                  </a:lnTo>
                  <a:lnTo>
                    <a:pt x="157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0" y="1"/>
                  </a:lnTo>
                  <a:lnTo>
                    <a:pt x="229" y="0"/>
                  </a:lnTo>
                  <a:lnTo>
                    <a:pt x="247" y="1"/>
                  </a:lnTo>
                  <a:lnTo>
                    <a:pt x="265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5" y="42"/>
                  </a:lnTo>
                  <a:lnTo>
                    <a:pt x="360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2" y="115"/>
                  </a:lnTo>
                  <a:lnTo>
                    <a:pt x="408" y="132"/>
                  </a:lnTo>
                  <a:lnTo>
                    <a:pt x="413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3" y="223"/>
                  </a:lnTo>
                  <a:lnTo>
                    <a:pt x="409" y="240"/>
                  </a:lnTo>
                  <a:lnTo>
                    <a:pt x="403" y="256"/>
                  </a:lnTo>
                  <a:lnTo>
                    <a:pt x="396" y="272"/>
                  </a:lnTo>
                  <a:lnTo>
                    <a:pt x="387" y="287"/>
                  </a:lnTo>
                  <a:lnTo>
                    <a:pt x="376" y="302"/>
                  </a:lnTo>
                  <a:lnTo>
                    <a:pt x="364" y="317"/>
                  </a:lnTo>
                  <a:lnTo>
                    <a:pt x="350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0" y="367"/>
                  </a:lnTo>
                  <a:lnTo>
                    <a:pt x="252" y="369"/>
                  </a:lnTo>
                  <a:lnTo>
                    <a:pt x="232" y="371"/>
                  </a:lnTo>
                  <a:lnTo>
                    <a:pt x="214" y="369"/>
                  </a:lnTo>
                  <a:lnTo>
                    <a:pt x="195" y="367"/>
                  </a:lnTo>
                  <a:lnTo>
                    <a:pt x="177" y="363"/>
                  </a:lnTo>
                  <a:lnTo>
                    <a:pt x="161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4" y="330"/>
                  </a:lnTo>
                  <a:lnTo>
                    <a:pt x="99" y="318"/>
                  </a:lnTo>
                  <a:lnTo>
                    <a:pt x="87" y="304"/>
                  </a:lnTo>
                  <a:lnTo>
                    <a:pt x="76" y="290"/>
                  </a:lnTo>
                  <a:lnTo>
                    <a:pt x="66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49" y="223"/>
                  </a:lnTo>
                  <a:lnTo>
                    <a:pt x="47" y="205"/>
                  </a:lnTo>
                  <a:lnTo>
                    <a:pt x="45" y="185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93240" y="480960"/>
              <a:ext cx="82440" cy="79560"/>
            </a:xfrm>
            <a:custGeom>
              <a:avLst/>
              <a:gdLst/>
              <a:ahLst/>
              <a:rect l="l" t="t" r="r" b="b"/>
              <a:pathLst>
                <a:path w="1000" h="928">
                  <a:moveTo>
                    <a:pt x="0" y="64"/>
                  </a:moveTo>
                  <a:lnTo>
                    <a:pt x="0" y="0"/>
                  </a:lnTo>
                  <a:lnTo>
                    <a:pt x="465" y="0"/>
                  </a:lnTo>
                  <a:lnTo>
                    <a:pt x="465" y="60"/>
                  </a:lnTo>
                  <a:lnTo>
                    <a:pt x="463" y="67"/>
                  </a:lnTo>
                  <a:lnTo>
                    <a:pt x="462" y="74"/>
                  </a:lnTo>
                  <a:lnTo>
                    <a:pt x="458" y="80"/>
                  </a:lnTo>
                  <a:lnTo>
                    <a:pt x="455" y="86"/>
                  </a:lnTo>
                  <a:lnTo>
                    <a:pt x="449" y="91"/>
                  </a:lnTo>
                  <a:lnTo>
                    <a:pt x="442" y="96"/>
                  </a:lnTo>
                  <a:lnTo>
                    <a:pt x="434" y="101"/>
                  </a:lnTo>
                  <a:lnTo>
                    <a:pt x="425" y="105"/>
                  </a:lnTo>
                  <a:lnTo>
                    <a:pt x="414" y="110"/>
                  </a:lnTo>
                  <a:lnTo>
                    <a:pt x="408" y="113"/>
                  </a:lnTo>
                  <a:lnTo>
                    <a:pt x="403" y="115"/>
                  </a:lnTo>
                  <a:lnTo>
                    <a:pt x="399" y="119"/>
                  </a:lnTo>
                  <a:lnTo>
                    <a:pt x="396" y="123"/>
                  </a:lnTo>
                  <a:lnTo>
                    <a:pt x="393" y="126"/>
                  </a:lnTo>
                  <a:lnTo>
                    <a:pt x="392" y="130"/>
                  </a:lnTo>
                  <a:lnTo>
                    <a:pt x="391" y="135"/>
                  </a:lnTo>
                  <a:lnTo>
                    <a:pt x="391" y="140"/>
                  </a:lnTo>
                  <a:lnTo>
                    <a:pt x="391" y="152"/>
                  </a:lnTo>
                  <a:lnTo>
                    <a:pt x="391" y="167"/>
                  </a:lnTo>
                  <a:lnTo>
                    <a:pt x="401" y="179"/>
                  </a:lnTo>
                  <a:lnTo>
                    <a:pt x="544" y="665"/>
                  </a:lnTo>
                  <a:lnTo>
                    <a:pt x="706" y="182"/>
                  </a:lnTo>
                  <a:lnTo>
                    <a:pt x="708" y="169"/>
                  </a:lnTo>
                  <a:lnTo>
                    <a:pt x="708" y="145"/>
                  </a:lnTo>
                  <a:lnTo>
                    <a:pt x="708" y="131"/>
                  </a:lnTo>
                  <a:lnTo>
                    <a:pt x="704" y="124"/>
                  </a:lnTo>
                  <a:lnTo>
                    <a:pt x="699" y="119"/>
                  </a:lnTo>
                  <a:lnTo>
                    <a:pt x="693" y="114"/>
                  </a:lnTo>
                  <a:lnTo>
                    <a:pt x="685" y="110"/>
                  </a:lnTo>
                  <a:lnTo>
                    <a:pt x="667" y="105"/>
                  </a:lnTo>
                  <a:lnTo>
                    <a:pt x="663" y="103"/>
                  </a:lnTo>
                  <a:lnTo>
                    <a:pt x="658" y="101"/>
                  </a:lnTo>
                  <a:lnTo>
                    <a:pt x="653" y="97"/>
                  </a:lnTo>
                  <a:lnTo>
                    <a:pt x="649" y="92"/>
                  </a:lnTo>
                  <a:lnTo>
                    <a:pt x="644" y="85"/>
                  </a:lnTo>
                  <a:lnTo>
                    <a:pt x="640" y="77"/>
                  </a:lnTo>
                  <a:lnTo>
                    <a:pt x="638" y="70"/>
                  </a:lnTo>
                  <a:lnTo>
                    <a:pt x="637" y="61"/>
                  </a:lnTo>
                  <a:lnTo>
                    <a:pt x="637" y="0"/>
                  </a:lnTo>
                  <a:lnTo>
                    <a:pt x="1000" y="0"/>
                  </a:lnTo>
                  <a:lnTo>
                    <a:pt x="1000" y="64"/>
                  </a:lnTo>
                  <a:lnTo>
                    <a:pt x="998" y="69"/>
                  </a:lnTo>
                  <a:lnTo>
                    <a:pt x="998" y="74"/>
                  </a:lnTo>
                  <a:lnTo>
                    <a:pt x="996" y="80"/>
                  </a:lnTo>
                  <a:lnTo>
                    <a:pt x="993" y="83"/>
                  </a:lnTo>
                  <a:lnTo>
                    <a:pt x="991" y="88"/>
                  </a:lnTo>
                  <a:lnTo>
                    <a:pt x="987" y="93"/>
                  </a:lnTo>
                  <a:lnTo>
                    <a:pt x="982" y="97"/>
                  </a:lnTo>
                  <a:lnTo>
                    <a:pt x="977" y="102"/>
                  </a:lnTo>
                  <a:lnTo>
                    <a:pt x="966" y="107"/>
                  </a:lnTo>
                  <a:lnTo>
                    <a:pt x="955" y="113"/>
                  </a:lnTo>
                  <a:lnTo>
                    <a:pt x="949" y="124"/>
                  </a:lnTo>
                  <a:lnTo>
                    <a:pt x="939" y="141"/>
                  </a:lnTo>
                  <a:lnTo>
                    <a:pt x="931" y="169"/>
                  </a:lnTo>
                  <a:lnTo>
                    <a:pt x="927" y="183"/>
                  </a:lnTo>
                  <a:lnTo>
                    <a:pt x="664" y="928"/>
                  </a:lnTo>
                  <a:lnTo>
                    <a:pt x="342" y="928"/>
                  </a:lnTo>
                  <a:lnTo>
                    <a:pt x="94" y="183"/>
                  </a:lnTo>
                  <a:lnTo>
                    <a:pt x="91" y="171"/>
                  </a:lnTo>
                  <a:lnTo>
                    <a:pt x="87" y="158"/>
                  </a:lnTo>
                  <a:lnTo>
                    <a:pt x="83" y="150"/>
                  </a:lnTo>
                  <a:lnTo>
                    <a:pt x="80" y="141"/>
                  </a:lnTo>
                  <a:lnTo>
                    <a:pt x="75" y="135"/>
                  </a:lnTo>
                  <a:lnTo>
                    <a:pt x="71" y="129"/>
                  </a:lnTo>
                  <a:lnTo>
                    <a:pt x="66" y="123"/>
                  </a:lnTo>
                  <a:lnTo>
                    <a:pt x="60" y="119"/>
                  </a:lnTo>
                  <a:lnTo>
                    <a:pt x="55" y="115"/>
                  </a:lnTo>
                  <a:lnTo>
                    <a:pt x="49" y="113"/>
                  </a:lnTo>
                  <a:lnTo>
                    <a:pt x="38" y="107"/>
                  </a:lnTo>
                  <a:lnTo>
                    <a:pt x="29" y="103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9"/>
                  </a:lnTo>
                  <a:lnTo>
                    <a:pt x="6" y="83"/>
                  </a:lnTo>
                  <a:lnTo>
                    <a:pt x="2" y="77"/>
                  </a:lnTo>
                  <a:lnTo>
                    <a:pt x="1" y="7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71000" y="477720"/>
              <a:ext cx="82440" cy="85680"/>
            </a:xfrm>
            <a:custGeom>
              <a:avLst/>
              <a:gdLst/>
              <a:ahLst/>
              <a:rect l="l" t="t" r="r" b="b"/>
              <a:pathLst>
                <a:path w="1010" h="997">
                  <a:moveTo>
                    <a:pt x="623" y="312"/>
                  </a:moveTo>
                  <a:lnTo>
                    <a:pt x="623" y="272"/>
                  </a:lnTo>
                  <a:lnTo>
                    <a:pt x="623" y="262"/>
                  </a:lnTo>
                  <a:lnTo>
                    <a:pt x="622" y="253"/>
                  </a:lnTo>
                  <a:lnTo>
                    <a:pt x="620" y="243"/>
                  </a:lnTo>
                  <a:lnTo>
                    <a:pt x="618" y="234"/>
                  </a:lnTo>
                  <a:lnTo>
                    <a:pt x="614" y="227"/>
                  </a:lnTo>
                  <a:lnTo>
                    <a:pt x="611" y="219"/>
                  </a:lnTo>
                  <a:lnTo>
                    <a:pt x="606" y="212"/>
                  </a:lnTo>
                  <a:lnTo>
                    <a:pt x="601" y="206"/>
                  </a:lnTo>
                  <a:lnTo>
                    <a:pt x="595" y="201"/>
                  </a:lnTo>
                  <a:lnTo>
                    <a:pt x="587" y="196"/>
                  </a:lnTo>
                  <a:lnTo>
                    <a:pt x="579" y="191"/>
                  </a:lnTo>
                  <a:lnTo>
                    <a:pt x="569" y="186"/>
                  </a:lnTo>
                  <a:lnTo>
                    <a:pt x="558" y="183"/>
                  </a:lnTo>
                  <a:lnTo>
                    <a:pt x="545" y="179"/>
                  </a:lnTo>
                  <a:lnTo>
                    <a:pt x="533" y="175"/>
                  </a:lnTo>
                  <a:lnTo>
                    <a:pt x="519" y="173"/>
                  </a:lnTo>
                  <a:lnTo>
                    <a:pt x="504" y="172"/>
                  </a:lnTo>
                  <a:lnTo>
                    <a:pt x="489" y="170"/>
                  </a:lnTo>
                  <a:lnTo>
                    <a:pt x="475" y="169"/>
                  </a:lnTo>
                  <a:lnTo>
                    <a:pt x="462" y="169"/>
                  </a:lnTo>
                  <a:lnTo>
                    <a:pt x="447" y="169"/>
                  </a:lnTo>
                  <a:lnTo>
                    <a:pt x="430" y="170"/>
                  </a:lnTo>
                  <a:lnTo>
                    <a:pt x="410" y="173"/>
                  </a:lnTo>
                  <a:lnTo>
                    <a:pt x="389" y="175"/>
                  </a:lnTo>
                  <a:lnTo>
                    <a:pt x="351" y="181"/>
                  </a:lnTo>
                  <a:lnTo>
                    <a:pt x="320" y="188"/>
                  </a:lnTo>
                  <a:lnTo>
                    <a:pt x="297" y="194"/>
                  </a:lnTo>
                  <a:lnTo>
                    <a:pt x="280" y="200"/>
                  </a:lnTo>
                  <a:lnTo>
                    <a:pt x="272" y="203"/>
                  </a:lnTo>
                  <a:lnTo>
                    <a:pt x="266" y="208"/>
                  </a:lnTo>
                  <a:lnTo>
                    <a:pt x="259" y="213"/>
                  </a:lnTo>
                  <a:lnTo>
                    <a:pt x="251" y="219"/>
                  </a:lnTo>
                  <a:lnTo>
                    <a:pt x="237" y="234"/>
                  </a:lnTo>
                  <a:lnTo>
                    <a:pt x="222" y="253"/>
                  </a:lnTo>
                  <a:lnTo>
                    <a:pt x="212" y="264"/>
                  </a:lnTo>
                  <a:lnTo>
                    <a:pt x="206" y="267"/>
                  </a:lnTo>
                  <a:lnTo>
                    <a:pt x="197" y="270"/>
                  </a:lnTo>
                  <a:lnTo>
                    <a:pt x="189" y="272"/>
                  </a:lnTo>
                  <a:lnTo>
                    <a:pt x="178" y="275"/>
                  </a:lnTo>
                  <a:lnTo>
                    <a:pt x="164" y="276"/>
                  </a:lnTo>
                  <a:lnTo>
                    <a:pt x="148" y="277"/>
                  </a:lnTo>
                  <a:lnTo>
                    <a:pt x="128" y="278"/>
                  </a:lnTo>
                  <a:lnTo>
                    <a:pt x="106" y="278"/>
                  </a:lnTo>
                  <a:lnTo>
                    <a:pt x="77" y="276"/>
                  </a:lnTo>
                  <a:lnTo>
                    <a:pt x="77" y="52"/>
                  </a:lnTo>
                  <a:lnTo>
                    <a:pt x="122" y="40"/>
                  </a:lnTo>
                  <a:lnTo>
                    <a:pt x="159" y="32"/>
                  </a:lnTo>
                  <a:lnTo>
                    <a:pt x="195" y="24"/>
                  </a:lnTo>
                  <a:lnTo>
                    <a:pt x="229" y="17"/>
                  </a:lnTo>
                  <a:lnTo>
                    <a:pt x="261" y="11"/>
                  </a:lnTo>
                  <a:lnTo>
                    <a:pt x="293" y="6"/>
                  </a:lnTo>
                  <a:lnTo>
                    <a:pt x="323" y="3"/>
                  </a:lnTo>
                  <a:lnTo>
                    <a:pt x="350" y="1"/>
                  </a:lnTo>
                  <a:lnTo>
                    <a:pt x="376" y="0"/>
                  </a:lnTo>
                  <a:lnTo>
                    <a:pt x="448" y="1"/>
                  </a:lnTo>
                  <a:lnTo>
                    <a:pt x="515" y="5"/>
                  </a:lnTo>
                  <a:lnTo>
                    <a:pt x="547" y="7"/>
                  </a:lnTo>
                  <a:lnTo>
                    <a:pt x="576" y="9"/>
                  </a:lnTo>
                  <a:lnTo>
                    <a:pt x="606" y="13"/>
                  </a:lnTo>
                  <a:lnTo>
                    <a:pt x="633" y="18"/>
                  </a:lnTo>
                  <a:lnTo>
                    <a:pt x="658" y="23"/>
                  </a:lnTo>
                  <a:lnTo>
                    <a:pt x="683" y="28"/>
                  </a:lnTo>
                  <a:lnTo>
                    <a:pt x="708" y="33"/>
                  </a:lnTo>
                  <a:lnTo>
                    <a:pt x="729" y="40"/>
                  </a:lnTo>
                  <a:lnTo>
                    <a:pt x="750" y="46"/>
                  </a:lnTo>
                  <a:lnTo>
                    <a:pt x="769" y="54"/>
                  </a:lnTo>
                  <a:lnTo>
                    <a:pt x="788" y="62"/>
                  </a:lnTo>
                  <a:lnTo>
                    <a:pt x="804" y="70"/>
                  </a:lnTo>
                  <a:lnTo>
                    <a:pt x="820" y="79"/>
                  </a:lnTo>
                  <a:lnTo>
                    <a:pt x="834" y="89"/>
                  </a:lnTo>
                  <a:lnTo>
                    <a:pt x="848" y="99"/>
                  </a:lnTo>
                  <a:lnTo>
                    <a:pt x="860" y="110"/>
                  </a:lnTo>
                  <a:lnTo>
                    <a:pt x="871" y="122"/>
                  </a:lnTo>
                  <a:lnTo>
                    <a:pt x="882" y="135"/>
                  </a:lnTo>
                  <a:lnTo>
                    <a:pt x="892" y="148"/>
                  </a:lnTo>
                  <a:lnTo>
                    <a:pt x="901" y="162"/>
                  </a:lnTo>
                  <a:lnTo>
                    <a:pt x="908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4" y="224"/>
                  </a:lnTo>
                  <a:lnTo>
                    <a:pt x="928" y="242"/>
                  </a:lnTo>
                  <a:lnTo>
                    <a:pt x="930" y="260"/>
                  </a:lnTo>
                  <a:lnTo>
                    <a:pt x="932" y="278"/>
                  </a:lnTo>
                  <a:lnTo>
                    <a:pt x="933" y="298"/>
                  </a:lnTo>
                  <a:lnTo>
                    <a:pt x="933" y="763"/>
                  </a:lnTo>
                  <a:lnTo>
                    <a:pt x="933" y="793"/>
                  </a:lnTo>
                  <a:lnTo>
                    <a:pt x="933" y="804"/>
                  </a:lnTo>
                  <a:lnTo>
                    <a:pt x="938" y="835"/>
                  </a:lnTo>
                  <a:lnTo>
                    <a:pt x="951" y="857"/>
                  </a:lnTo>
                  <a:lnTo>
                    <a:pt x="975" y="865"/>
                  </a:lnTo>
                  <a:lnTo>
                    <a:pt x="983" y="869"/>
                  </a:lnTo>
                  <a:lnTo>
                    <a:pt x="991" y="874"/>
                  </a:lnTo>
                  <a:lnTo>
                    <a:pt x="997" y="879"/>
                  </a:lnTo>
                  <a:lnTo>
                    <a:pt x="1002" y="884"/>
                  </a:lnTo>
                  <a:lnTo>
                    <a:pt x="1005" y="889"/>
                  </a:lnTo>
                  <a:lnTo>
                    <a:pt x="1009" y="895"/>
                  </a:lnTo>
                  <a:lnTo>
                    <a:pt x="1010" y="902"/>
                  </a:lnTo>
                  <a:lnTo>
                    <a:pt x="1010" y="910"/>
                  </a:lnTo>
                  <a:lnTo>
                    <a:pt x="1010" y="972"/>
                  </a:lnTo>
                  <a:lnTo>
                    <a:pt x="634" y="972"/>
                  </a:lnTo>
                  <a:lnTo>
                    <a:pt x="634" y="919"/>
                  </a:lnTo>
                  <a:lnTo>
                    <a:pt x="606" y="938"/>
                  </a:lnTo>
                  <a:lnTo>
                    <a:pt x="577" y="954"/>
                  </a:lnTo>
                  <a:lnTo>
                    <a:pt x="563" y="960"/>
                  </a:lnTo>
                  <a:lnTo>
                    <a:pt x="548" y="966"/>
                  </a:lnTo>
                  <a:lnTo>
                    <a:pt x="533" y="972"/>
                  </a:lnTo>
                  <a:lnTo>
                    <a:pt x="518" y="977"/>
                  </a:lnTo>
                  <a:lnTo>
                    <a:pt x="502" y="982"/>
                  </a:lnTo>
                  <a:lnTo>
                    <a:pt x="488" y="986"/>
                  </a:lnTo>
                  <a:lnTo>
                    <a:pt x="472" y="989"/>
                  </a:lnTo>
                  <a:lnTo>
                    <a:pt x="456" y="992"/>
                  </a:lnTo>
                  <a:lnTo>
                    <a:pt x="441" y="993"/>
                  </a:lnTo>
                  <a:lnTo>
                    <a:pt x="425" y="995"/>
                  </a:lnTo>
                  <a:lnTo>
                    <a:pt x="408" y="995"/>
                  </a:lnTo>
                  <a:lnTo>
                    <a:pt x="392" y="997"/>
                  </a:lnTo>
                  <a:lnTo>
                    <a:pt x="360" y="995"/>
                  </a:lnTo>
                  <a:lnTo>
                    <a:pt x="330" y="995"/>
                  </a:lnTo>
                  <a:lnTo>
                    <a:pt x="302" y="993"/>
                  </a:lnTo>
                  <a:lnTo>
                    <a:pt x="276" y="991"/>
                  </a:lnTo>
                  <a:lnTo>
                    <a:pt x="251" y="988"/>
                  </a:lnTo>
                  <a:lnTo>
                    <a:pt x="230" y="984"/>
                  </a:lnTo>
                  <a:lnTo>
                    <a:pt x="211" y="981"/>
                  </a:lnTo>
                  <a:lnTo>
                    <a:pt x="194" y="976"/>
                  </a:lnTo>
                  <a:lnTo>
                    <a:pt x="178" y="970"/>
                  </a:lnTo>
                  <a:lnTo>
                    <a:pt x="162" y="962"/>
                  </a:lnTo>
                  <a:lnTo>
                    <a:pt x="146" y="955"/>
                  </a:lnTo>
                  <a:lnTo>
                    <a:pt x="131" y="945"/>
                  </a:lnTo>
                  <a:lnTo>
                    <a:pt x="116" y="934"/>
                  </a:lnTo>
                  <a:lnTo>
                    <a:pt x="103" y="923"/>
                  </a:lnTo>
                  <a:lnTo>
                    <a:pt x="89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2" y="853"/>
                  </a:lnTo>
                  <a:lnTo>
                    <a:pt x="30" y="831"/>
                  </a:lnTo>
                  <a:lnTo>
                    <a:pt x="19" y="808"/>
                  </a:lnTo>
                  <a:lnTo>
                    <a:pt x="12" y="784"/>
                  </a:lnTo>
                  <a:lnTo>
                    <a:pt x="5" y="761"/>
                  </a:lnTo>
                  <a:lnTo>
                    <a:pt x="2" y="736"/>
                  </a:lnTo>
                  <a:lnTo>
                    <a:pt x="0" y="711"/>
                  </a:lnTo>
                  <a:lnTo>
                    <a:pt x="2" y="691"/>
                  </a:lnTo>
                  <a:lnTo>
                    <a:pt x="4" y="669"/>
                  </a:lnTo>
                  <a:lnTo>
                    <a:pt x="9" y="646"/>
                  </a:lnTo>
                  <a:lnTo>
                    <a:pt x="15" y="620"/>
                  </a:lnTo>
                  <a:lnTo>
                    <a:pt x="19" y="607"/>
                  </a:lnTo>
                  <a:lnTo>
                    <a:pt x="24" y="595"/>
                  </a:lnTo>
                  <a:lnTo>
                    <a:pt x="29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7" y="547"/>
                  </a:lnTo>
                  <a:lnTo>
                    <a:pt x="55" y="536"/>
                  </a:lnTo>
                  <a:lnTo>
                    <a:pt x="62" y="525"/>
                  </a:lnTo>
                  <a:lnTo>
                    <a:pt x="71" y="515"/>
                  </a:lnTo>
                  <a:lnTo>
                    <a:pt x="80" y="504"/>
                  </a:lnTo>
                  <a:lnTo>
                    <a:pt x="90" y="494"/>
                  </a:lnTo>
                  <a:lnTo>
                    <a:pt x="100" y="485"/>
                  </a:lnTo>
                  <a:lnTo>
                    <a:pt x="122" y="466"/>
                  </a:lnTo>
                  <a:lnTo>
                    <a:pt x="147" y="449"/>
                  </a:lnTo>
                  <a:lnTo>
                    <a:pt x="176" y="431"/>
                  </a:lnTo>
                  <a:lnTo>
                    <a:pt x="211" y="413"/>
                  </a:lnTo>
                  <a:lnTo>
                    <a:pt x="248" y="397"/>
                  </a:lnTo>
                  <a:lnTo>
                    <a:pt x="288" y="383"/>
                  </a:lnTo>
                  <a:lnTo>
                    <a:pt x="333" y="368"/>
                  </a:lnTo>
                  <a:lnTo>
                    <a:pt x="379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4" y="329"/>
                  </a:lnTo>
                  <a:lnTo>
                    <a:pt x="522" y="325"/>
                  </a:lnTo>
                  <a:lnTo>
                    <a:pt x="542" y="321"/>
                  </a:lnTo>
                  <a:lnTo>
                    <a:pt x="561" y="318"/>
                  </a:lnTo>
                  <a:lnTo>
                    <a:pt x="623" y="312"/>
                  </a:lnTo>
                  <a:close/>
                  <a:moveTo>
                    <a:pt x="603" y="503"/>
                  </a:moveTo>
                  <a:lnTo>
                    <a:pt x="574" y="507"/>
                  </a:lnTo>
                  <a:lnTo>
                    <a:pt x="550" y="510"/>
                  </a:lnTo>
                  <a:lnTo>
                    <a:pt x="529" y="514"/>
                  </a:lnTo>
                  <a:lnTo>
                    <a:pt x="510" y="519"/>
                  </a:lnTo>
                  <a:lnTo>
                    <a:pt x="492" y="524"/>
                  </a:lnTo>
                  <a:lnTo>
                    <a:pt x="464" y="533"/>
                  </a:lnTo>
                  <a:lnTo>
                    <a:pt x="441" y="540"/>
                  </a:lnTo>
                  <a:lnTo>
                    <a:pt x="421" y="547"/>
                  </a:lnTo>
                  <a:lnTo>
                    <a:pt x="405" y="555"/>
                  </a:lnTo>
                  <a:lnTo>
                    <a:pt x="393" y="561"/>
                  </a:lnTo>
                  <a:lnTo>
                    <a:pt x="382" y="568"/>
                  </a:lnTo>
                  <a:lnTo>
                    <a:pt x="372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1" y="609"/>
                  </a:lnTo>
                  <a:lnTo>
                    <a:pt x="333" y="622"/>
                  </a:lnTo>
                  <a:lnTo>
                    <a:pt x="325" y="637"/>
                  </a:lnTo>
                  <a:lnTo>
                    <a:pt x="319" y="652"/>
                  </a:lnTo>
                  <a:lnTo>
                    <a:pt x="315" y="666"/>
                  </a:lnTo>
                  <a:lnTo>
                    <a:pt x="313" y="680"/>
                  </a:lnTo>
                  <a:lnTo>
                    <a:pt x="312" y="692"/>
                  </a:lnTo>
                  <a:lnTo>
                    <a:pt x="312" y="707"/>
                  </a:lnTo>
                  <a:lnTo>
                    <a:pt x="314" y="720"/>
                  </a:lnTo>
                  <a:lnTo>
                    <a:pt x="315" y="733"/>
                  </a:lnTo>
                  <a:lnTo>
                    <a:pt x="319" y="744"/>
                  </a:lnTo>
                  <a:lnTo>
                    <a:pt x="323" y="755"/>
                  </a:lnTo>
                  <a:lnTo>
                    <a:pt x="329" y="765"/>
                  </a:lnTo>
                  <a:lnTo>
                    <a:pt x="334" y="773"/>
                  </a:lnTo>
                  <a:lnTo>
                    <a:pt x="341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8" y="799"/>
                  </a:lnTo>
                  <a:lnTo>
                    <a:pt x="378" y="804"/>
                  </a:lnTo>
                  <a:lnTo>
                    <a:pt x="390" y="806"/>
                  </a:lnTo>
                  <a:lnTo>
                    <a:pt x="403" y="809"/>
                  </a:lnTo>
                  <a:lnTo>
                    <a:pt x="416" y="810"/>
                  </a:lnTo>
                  <a:lnTo>
                    <a:pt x="430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8" y="810"/>
                  </a:lnTo>
                  <a:lnTo>
                    <a:pt x="483" y="808"/>
                  </a:lnTo>
                  <a:lnTo>
                    <a:pt x="496" y="805"/>
                  </a:lnTo>
                  <a:lnTo>
                    <a:pt x="511" y="800"/>
                  </a:lnTo>
                  <a:lnTo>
                    <a:pt x="526" y="794"/>
                  </a:lnTo>
                  <a:lnTo>
                    <a:pt x="540" y="787"/>
                  </a:lnTo>
                  <a:lnTo>
                    <a:pt x="555" y="779"/>
                  </a:lnTo>
                  <a:lnTo>
                    <a:pt x="570" y="770"/>
                  </a:lnTo>
                  <a:lnTo>
                    <a:pt x="587" y="756"/>
                  </a:lnTo>
                  <a:lnTo>
                    <a:pt x="593" y="749"/>
                  </a:lnTo>
                  <a:lnTo>
                    <a:pt x="602" y="740"/>
                  </a:lnTo>
                  <a:lnTo>
                    <a:pt x="609" y="730"/>
                  </a:lnTo>
                  <a:lnTo>
                    <a:pt x="617" y="720"/>
                  </a:lnTo>
                  <a:lnTo>
                    <a:pt x="623" y="709"/>
                  </a:lnTo>
                  <a:lnTo>
                    <a:pt x="623" y="502"/>
                  </a:lnTo>
                  <a:lnTo>
                    <a:pt x="603" y="503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94840" y="449280"/>
              <a:ext cx="115920" cy="111240"/>
            </a:xfrm>
            <a:custGeom>
              <a:avLst/>
              <a:gdLst/>
              <a:ahLst/>
              <a:rect l="l" t="t" r="r" b="b"/>
              <a:pathLst>
                <a:path w="1425" h="1308">
                  <a:moveTo>
                    <a:pt x="12" y="1209"/>
                  </a:moveTo>
                  <a:lnTo>
                    <a:pt x="32" y="1194"/>
                  </a:lnTo>
                  <a:lnTo>
                    <a:pt x="56" y="1182"/>
                  </a:lnTo>
                  <a:lnTo>
                    <a:pt x="66" y="1176"/>
                  </a:lnTo>
                  <a:lnTo>
                    <a:pt x="75" y="1168"/>
                  </a:lnTo>
                  <a:lnTo>
                    <a:pt x="85" y="1160"/>
                  </a:lnTo>
                  <a:lnTo>
                    <a:pt x="93" y="1149"/>
                  </a:lnTo>
                  <a:lnTo>
                    <a:pt x="102" y="1137"/>
                  </a:lnTo>
                  <a:lnTo>
                    <a:pt x="110" y="1125"/>
                  </a:lnTo>
                  <a:lnTo>
                    <a:pt x="118" y="1112"/>
                  </a:lnTo>
                  <a:lnTo>
                    <a:pt x="125" y="1096"/>
                  </a:lnTo>
                  <a:lnTo>
                    <a:pt x="130" y="1081"/>
                  </a:lnTo>
                  <a:lnTo>
                    <a:pt x="497" y="0"/>
                  </a:lnTo>
                  <a:lnTo>
                    <a:pt x="932" y="0"/>
                  </a:lnTo>
                  <a:lnTo>
                    <a:pt x="1324" y="1083"/>
                  </a:lnTo>
                  <a:lnTo>
                    <a:pt x="1331" y="1096"/>
                  </a:lnTo>
                  <a:lnTo>
                    <a:pt x="1338" y="1112"/>
                  </a:lnTo>
                  <a:lnTo>
                    <a:pt x="1347" y="1130"/>
                  </a:lnTo>
                  <a:lnTo>
                    <a:pt x="1354" y="1147"/>
                  </a:lnTo>
                  <a:lnTo>
                    <a:pt x="1365" y="1163"/>
                  </a:lnTo>
                  <a:lnTo>
                    <a:pt x="1392" y="1196"/>
                  </a:lnTo>
                  <a:lnTo>
                    <a:pt x="1404" y="1205"/>
                  </a:lnTo>
                  <a:lnTo>
                    <a:pt x="1412" y="1210"/>
                  </a:lnTo>
                  <a:lnTo>
                    <a:pt x="1418" y="1214"/>
                  </a:lnTo>
                  <a:lnTo>
                    <a:pt x="1423" y="1218"/>
                  </a:lnTo>
                  <a:lnTo>
                    <a:pt x="1425" y="1223"/>
                  </a:lnTo>
                  <a:lnTo>
                    <a:pt x="1425" y="1243"/>
                  </a:lnTo>
                  <a:lnTo>
                    <a:pt x="1425" y="1308"/>
                  </a:lnTo>
                  <a:lnTo>
                    <a:pt x="899" y="1308"/>
                  </a:lnTo>
                  <a:lnTo>
                    <a:pt x="899" y="1246"/>
                  </a:lnTo>
                  <a:lnTo>
                    <a:pt x="899" y="1225"/>
                  </a:lnTo>
                  <a:lnTo>
                    <a:pt x="907" y="1214"/>
                  </a:lnTo>
                  <a:lnTo>
                    <a:pt x="917" y="1205"/>
                  </a:lnTo>
                  <a:lnTo>
                    <a:pt x="930" y="1198"/>
                  </a:lnTo>
                  <a:lnTo>
                    <a:pt x="938" y="1191"/>
                  </a:lnTo>
                  <a:lnTo>
                    <a:pt x="946" y="1185"/>
                  </a:lnTo>
                  <a:lnTo>
                    <a:pt x="952" y="1178"/>
                  </a:lnTo>
                  <a:lnTo>
                    <a:pt x="957" y="1169"/>
                  </a:lnTo>
                  <a:lnTo>
                    <a:pt x="962" y="1161"/>
                  </a:lnTo>
                  <a:lnTo>
                    <a:pt x="964" y="1152"/>
                  </a:lnTo>
                  <a:lnTo>
                    <a:pt x="965" y="1141"/>
                  </a:lnTo>
                  <a:lnTo>
                    <a:pt x="966" y="1130"/>
                  </a:lnTo>
                  <a:lnTo>
                    <a:pt x="964" y="1114"/>
                  </a:lnTo>
                  <a:lnTo>
                    <a:pt x="963" y="1109"/>
                  </a:lnTo>
                  <a:lnTo>
                    <a:pt x="955" y="1083"/>
                  </a:lnTo>
                  <a:lnTo>
                    <a:pt x="887" y="846"/>
                  </a:lnTo>
                  <a:lnTo>
                    <a:pt x="489" y="846"/>
                  </a:lnTo>
                  <a:lnTo>
                    <a:pt x="418" y="1085"/>
                  </a:lnTo>
                  <a:lnTo>
                    <a:pt x="415" y="1096"/>
                  </a:lnTo>
                  <a:lnTo>
                    <a:pt x="413" y="1107"/>
                  </a:lnTo>
                  <a:lnTo>
                    <a:pt x="412" y="1117"/>
                  </a:lnTo>
                  <a:lnTo>
                    <a:pt x="411" y="1126"/>
                  </a:lnTo>
                  <a:lnTo>
                    <a:pt x="412" y="1136"/>
                  </a:lnTo>
                  <a:lnTo>
                    <a:pt x="413" y="1145"/>
                  </a:lnTo>
                  <a:lnTo>
                    <a:pt x="415" y="1153"/>
                  </a:lnTo>
                  <a:lnTo>
                    <a:pt x="420" y="1161"/>
                  </a:lnTo>
                  <a:lnTo>
                    <a:pt x="425" y="1167"/>
                  </a:lnTo>
                  <a:lnTo>
                    <a:pt x="431" y="1174"/>
                  </a:lnTo>
                  <a:lnTo>
                    <a:pt x="439" y="1179"/>
                  </a:lnTo>
                  <a:lnTo>
                    <a:pt x="447" y="1185"/>
                  </a:lnTo>
                  <a:lnTo>
                    <a:pt x="477" y="1199"/>
                  </a:lnTo>
                  <a:lnTo>
                    <a:pt x="489" y="1206"/>
                  </a:lnTo>
                  <a:lnTo>
                    <a:pt x="494" y="1210"/>
                  </a:lnTo>
                  <a:lnTo>
                    <a:pt x="499" y="1215"/>
                  </a:lnTo>
                  <a:lnTo>
                    <a:pt x="504" y="1220"/>
                  </a:lnTo>
                  <a:lnTo>
                    <a:pt x="509" y="1227"/>
                  </a:lnTo>
                  <a:lnTo>
                    <a:pt x="508" y="1246"/>
                  </a:lnTo>
                  <a:lnTo>
                    <a:pt x="508" y="1308"/>
                  </a:lnTo>
                  <a:lnTo>
                    <a:pt x="0" y="1308"/>
                  </a:lnTo>
                  <a:lnTo>
                    <a:pt x="0" y="1223"/>
                  </a:lnTo>
                  <a:lnTo>
                    <a:pt x="12" y="1209"/>
                  </a:lnTo>
                  <a:close/>
                  <a:moveTo>
                    <a:pt x="823" y="630"/>
                  </a:moveTo>
                  <a:lnTo>
                    <a:pt x="684" y="214"/>
                  </a:lnTo>
                  <a:lnTo>
                    <a:pt x="547" y="630"/>
                  </a:lnTo>
                  <a:lnTo>
                    <a:pt x="823" y="630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08960" y="477720"/>
              <a:ext cx="136440" cy="82800"/>
            </a:xfrm>
            <a:custGeom>
              <a:avLst/>
              <a:gdLst/>
              <a:ahLst/>
              <a:rect l="l" t="t" r="r" b="b"/>
              <a:pathLst>
                <a:path w="1692" h="969">
                  <a:moveTo>
                    <a:pt x="0" y="969"/>
                  </a:moveTo>
                  <a:lnTo>
                    <a:pt x="0" y="908"/>
                  </a:lnTo>
                  <a:lnTo>
                    <a:pt x="0" y="902"/>
                  </a:lnTo>
                  <a:lnTo>
                    <a:pt x="1" y="895"/>
                  </a:lnTo>
                  <a:lnTo>
                    <a:pt x="4" y="889"/>
                  </a:lnTo>
                  <a:lnTo>
                    <a:pt x="6" y="884"/>
                  </a:lnTo>
                  <a:lnTo>
                    <a:pt x="10" y="879"/>
                  </a:lnTo>
                  <a:lnTo>
                    <a:pt x="13" y="875"/>
                  </a:lnTo>
                  <a:lnTo>
                    <a:pt x="18" y="871"/>
                  </a:lnTo>
                  <a:lnTo>
                    <a:pt x="24" y="867"/>
                  </a:lnTo>
                  <a:lnTo>
                    <a:pt x="39" y="862"/>
                  </a:lnTo>
                  <a:lnTo>
                    <a:pt x="66" y="857"/>
                  </a:lnTo>
                  <a:lnTo>
                    <a:pt x="71" y="851"/>
                  </a:lnTo>
                  <a:lnTo>
                    <a:pt x="74" y="846"/>
                  </a:lnTo>
                  <a:lnTo>
                    <a:pt x="76" y="841"/>
                  </a:lnTo>
                  <a:lnTo>
                    <a:pt x="77" y="837"/>
                  </a:lnTo>
                  <a:lnTo>
                    <a:pt x="77" y="828"/>
                  </a:lnTo>
                  <a:lnTo>
                    <a:pt x="77" y="817"/>
                  </a:lnTo>
                  <a:lnTo>
                    <a:pt x="77" y="798"/>
                  </a:lnTo>
                  <a:lnTo>
                    <a:pt x="77" y="787"/>
                  </a:lnTo>
                  <a:lnTo>
                    <a:pt x="77" y="221"/>
                  </a:lnTo>
                  <a:lnTo>
                    <a:pt x="77" y="208"/>
                  </a:lnTo>
                  <a:lnTo>
                    <a:pt x="77" y="196"/>
                  </a:lnTo>
                  <a:lnTo>
                    <a:pt x="77" y="181"/>
                  </a:lnTo>
                  <a:lnTo>
                    <a:pt x="77" y="173"/>
                  </a:lnTo>
                  <a:lnTo>
                    <a:pt x="76" y="169"/>
                  </a:lnTo>
                  <a:lnTo>
                    <a:pt x="74" y="162"/>
                  </a:lnTo>
                  <a:lnTo>
                    <a:pt x="70" y="158"/>
                  </a:lnTo>
                  <a:lnTo>
                    <a:pt x="65" y="151"/>
                  </a:lnTo>
                  <a:lnTo>
                    <a:pt x="38" y="146"/>
                  </a:lnTo>
                  <a:lnTo>
                    <a:pt x="26" y="140"/>
                  </a:lnTo>
                  <a:lnTo>
                    <a:pt x="20" y="137"/>
                  </a:lnTo>
                  <a:lnTo>
                    <a:pt x="13" y="132"/>
                  </a:lnTo>
                  <a:lnTo>
                    <a:pt x="10" y="128"/>
                  </a:lnTo>
                  <a:lnTo>
                    <a:pt x="6" y="123"/>
                  </a:lnTo>
                  <a:lnTo>
                    <a:pt x="4" y="117"/>
                  </a:lnTo>
                  <a:lnTo>
                    <a:pt x="1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41"/>
                  </a:lnTo>
                  <a:lnTo>
                    <a:pt x="387" y="41"/>
                  </a:lnTo>
                  <a:lnTo>
                    <a:pt x="387" y="139"/>
                  </a:lnTo>
                  <a:lnTo>
                    <a:pt x="413" y="116"/>
                  </a:lnTo>
                  <a:lnTo>
                    <a:pt x="436" y="95"/>
                  </a:lnTo>
                  <a:lnTo>
                    <a:pt x="461" y="76"/>
                  </a:lnTo>
                  <a:lnTo>
                    <a:pt x="486" y="59"/>
                  </a:lnTo>
                  <a:lnTo>
                    <a:pt x="510" y="46"/>
                  </a:lnTo>
                  <a:lnTo>
                    <a:pt x="536" y="33"/>
                  </a:lnTo>
                  <a:lnTo>
                    <a:pt x="561" y="24"/>
                  </a:lnTo>
                  <a:lnTo>
                    <a:pt x="587" y="15"/>
                  </a:lnTo>
                  <a:lnTo>
                    <a:pt x="612" y="10"/>
                  </a:lnTo>
                  <a:lnTo>
                    <a:pt x="636" y="6"/>
                  </a:lnTo>
                  <a:lnTo>
                    <a:pt x="658" y="3"/>
                  </a:lnTo>
                  <a:lnTo>
                    <a:pt x="679" y="2"/>
                  </a:lnTo>
                  <a:lnTo>
                    <a:pt x="697" y="0"/>
                  </a:lnTo>
                  <a:lnTo>
                    <a:pt x="721" y="2"/>
                  </a:lnTo>
                  <a:lnTo>
                    <a:pt x="744" y="4"/>
                  </a:lnTo>
                  <a:lnTo>
                    <a:pt x="766" y="6"/>
                  </a:lnTo>
                  <a:lnTo>
                    <a:pt x="787" y="11"/>
                  </a:lnTo>
                  <a:lnTo>
                    <a:pt x="808" y="16"/>
                  </a:lnTo>
                  <a:lnTo>
                    <a:pt x="828" y="24"/>
                  </a:lnTo>
                  <a:lnTo>
                    <a:pt x="847" y="32"/>
                  </a:lnTo>
                  <a:lnTo>
                    <a:pt x="867" y="42"/>
                  </a:lnTo>
                  <a:lnTo>
                    <a:pt x="884" y="52"/>
                  </a:lnTo>
                  <a:lnTo>
                    <a:pt x="901" y="64"/>
                  </a:lnTo>
                  <a:lnTo>
                    <a:pt x="916" y="76"/>
                  </a:lnTo>
                  <a:lnTo>
                    <a:pt x="931" y="89"/>
                  </a:lnTo>
                  <a:lnTo>
                    <a:pt x="943" y="102"/>
                  </a:lnTo>
                  <a:lnTo>
                    <a:pt x="954" y="117"/>
                  </a:lnTo>
                  <a:lnTo>
                    <a:pt x="964" y="132"/>
                  </a:lnTo>
                  <a:lnTo>
                    <a:pt x="974" y="148"/>
                  </a:lnTo>
                  <a:lnTo>
                    <a:pt x="1002" y="123"/>
                  </a:lnTo>
                  <a:lnTo>
                    <a:pt x="1027" y="102"/>
                  </a:lnTo>
                  <a:lnTo>
                    <a:pt x="1051" y="85"/>
                  </a:lnTo>
                  <a:lnTo>
                    <a:pt x="1076" y="69"/>
                  </a:lnTo>
                  <a:lnTo>
                    <a:pt x="1101" y="56"/>
                  </a:lnTo>
                  <a:lnTo>
                    <a:pt x="1125" y="43"/>
                  </a:lnTo>
                  <a:lnTo>
                    <a:pt x="1149" y="35"/>
                  </a:lnTo>
                  <a:lnTo>
                    <a:pt x="1171" y="27"/>
                  </a:lnTo>
                  <a:lnTo>
                    <a:pt x="1192" y="22"/>
                  </a:lnTo>
                  <a:lnTo>
                    <a:pt x="1213" y="19"/>
                  </a:lnTo>
                  <a:lnTo>
                    <a:pt x="1231" y="16"/>
                  </a:lnTo>
                  <a:lnTo>
                    <a:pt x="1248" y="14"/>
                  </a:lnTo>
                  <a:lnTo>
                    <a:pt x="1264" y="11"/>
                  </a:lnTo>
                  <a:lnTo>
                    <a:pt x="1278" y="10"/>
                  </a:lnTo>
                  <a:lnTo>
                    <a:pt x="1293" y="9"/>
                  </a:lnTo>
                  <a:lnTo>
                    <a:pt x="1306" y="9"/>
                  </a:lnTo>
                  <a:lnTo>
                    <a:pt x="1321" y="8"/>
                  </a:lnTo>
                  <a:lnTo>
                    <a:pt x="1338" y="9"/>
                  </a:lnTo>
                  <a:lnTo>
                    <a:pt x="1355" y="9"/>
                  </a:lnTo>
                  <a:lnTo>
                    <a:pt x="1371" y="11"/>
                  </a:lnTo>
                  <a:lnTo>
                    <a:pt x="1387" y="13"/>
                  </a:lnTo>
                  <a:lnTo>
                    <a:pt x="1403" y="16"/>
                  </a:lnTo>
                  <a:lnTo>
                    <a:pt x="1418" y="19"/>
                  </a:lnTo>
                  <a:lnTo>
                    <a:pt x="1433" y="22"/>
                  </a:lnTo>
                  <a:lnTo>
                    <a:pt x="1446" y="27"/>
                  </a:lnTo>
                  <a:lnTo>
                    <a:pt x="1460" y="32"/>
                  </a:lnTo>
                  <a:lnTo>
                    <a:pt x="1473" y="38"/>
                  </a:lnTo>
                  <a:lnTo>
                    <a:pt x="1486" y="45"/>
                  </a:lnTo>
                  <a:lnTo>
                    <a:pt x="1497" y="52"/>
                  </a:lnTo>
                  <a:lnTo>
                    <a:pt x="1508" y="59"/>
                  </a:lnTo>
                  <a:lnTo>
                    <a:pt x="1519" y="68"/>
                  </a:lnTo>
                  <a:lnTo>
                    <a:pt x="1530" y="76"/>
                  </a:lnTo>
                  <a:lnTo>
                    <a:pt x="1539" y="85"/>
                  </a:lnTo>
                  <a:lnTo>
                    <a:pt x="1548" y="95"/>
                  </a:lnTo>
                  <a:lnTo>
                    <a:pt x="1557" y="106"/>
                  </a:lnTo>
                  <a:lnTo>
                    <a:pt x="1564" y="117"/>
                  </a:lnTo>
                  <a:lnTo>
                    <a:pt x="1572" y="128"/>
                  </a:lnTo>
                  <a:lnTo>
                    <a:pt x="1579" y="139"/>
                  </a:lnTo>
                  <a:lnTo>
                    <a:pt x="1585" y="151"/>
                  </a:lnTo>
                  <a:lnTo>
                    <a:pt x="1590" y="165"/>
                  </a:lnTo>
                  <a:lnTo>
                    <a:pt x="1595" y="177"/>
                  </a:lnTo>
                  <a:lnTo>
                    <a:pt x="1600" y="191"/>
                  </a:lnTo>
                  <a:lnTo>
                    <a:pt x="1604" y="205"/>
                  </a:lnTo>
                  <a:lnTo>
                    <a:pt x="1607" y="219"/>
                  </a:lnTo>
                  <a:lnTo>
                    <a:pt x="1610" y="235"/>
                  </a:lnTo>
                  <a:lnTo>
                    <a:pt x="1614" y="266"/>
                  </a:lnTo>
                  <a:lnTo>
                    <a:pt x="1615" y="299"/>
                  </a:lnTo>
                  <a:lnTo>
                    <a:pt x="1615" y="787"/>
                  </a:lnTo>
                  <a:lnTo>
                    <a:pt x="1615" y="798"/>
                  </a:lnTo>
                  <a:lnTo>
                    <a:pt x="1614" y="808"/>
                  </a:lnTo>
                  <a:lnTo>
                    <a:pt x="1615" y="818"/>
                  </a:lnTo>
                  <a:lnTo>
                    <a:pt x="1617" y="828"/>
                  </a:lnTo>
                  <a:lnTo>
                    <a:pt x="1620" y="837"/>
                  </a:lnTo>
                  <a:lnTo>
                    <a:pt x="1623" y="844"/>
                  </a:lnTo>
                  <a:lnTo>
                    <a:pt x="1628" y="850"/>
                  </a:lnTo>
                  <a:lnTo>
                    <a:pt x="1633" y="854"/>
                  </a:lnTo>
                  <a:lnTo>
                    <a:pt x="1638" y="856"/>
                  </a:lnTo>
                  <a:lnTo>
                    <a:pt x="1658" y="861"/>
                  </a:lnTo>
                  <a:lnTo>
                    <a:pt x="1669" y="866"/>
                  </a:lnTo>
                  <a:lnTo>
                    <a:pt x="1674" y="871"/>
                  </a:lnTo>
                  <a:lnTo>
                    <a:pt x="1679" y="875"/>
                  </a:lnTo>
                  <a:lnTo>
                    <a:pt x="1684" y="879"/>
                  </a:lnTo>
                  <a:lnTo>
                    <a:pt x="1686" y="884"/>
                  </a:lnTo>
                  <a:lnTo>
                    <a:pt x="1690" y="889"/>
                  </a:lnTo>
                  <a:lnTo>
                    <a:pt x="1691" y="895"/>
                  </a:lnTo>
                  <a:lnTo>
                    <a:pt x="1692" y="900"/>
                  </a:lnTo>
                  <a:lnTo>
                    <a:pt x="1692" y="908"/>
                  </a:lnTo>
                  <a:lnTo>
                    <a:pt x="1692" y="969"/>
                  </a:lnTo>
                  <a:lnTo>
                    <a:pt x="1245" y="969"/>
                  </a:lnTo>
                  <a:lnTo>
                    <a:pt x="1245" y="908"/>
                  </a:lnTo>
                  <a:lnTo>
                    <a:pt x="1246" y="900"/>
                  </a:lnTo>
                  <a:lnTo>
                    <a:pt x="1247" y="894"/>
                  </a:lnTo>
                  <a:lnTo>
                    <a:pt x="1251" y="888"/>
                  </a:lnTo>
                  <a:lnTo>
                    <a:pt x="1254" y="882"/>
                  </a:lnTo>
                  <a:lnTo>
                    <a:pt x="1261" y="876"/>
                  </a:lnTo>
                  <a:lnTo>
                    <a:pt x="1267" y="871"/>
                  </a:lnTo>
                  <a:lnTo>
                    <a:pt x="1275" y="867"/>
                  </a:lnTo>
                  <a:lnTo>
                    <a:pt x="1284" y="862"/>
                  </a:lnTo>
                  <a:lnTo>
                    <a:pt x="1297" y="857"/>
                  </a:lnTo>
                  <a:lnTo>
                    <a:pt x="1304" y="846"/>
                  </a:lnTo>
                  <a:lnTo>
                    <a:pt x="1304" y="837"/>
                  </a:lnTo>
                  <a:lnTo>
                    <a:pt x="1304" y="828"/>
                  </a:lnTo>
                  <a:lnTo>
                    <a:pt x="1304" y="801"/>
                  </a:lnTo>
                  <a:lnTo>
                    <a:pt x="1304" y="787"/>
                  </a:lnTo>
                  <a:lnTo>
                    <a:pt x="1304" y="312"/>
                  </a:lnTo>
                  <a:lnTo>
                    <a:pt x="1302" y="296"/>
                  </a:lnTo>
                  <a:lnTo>
                    <a:pt x="1302" y="283"/>
                  </a:lnTo>
                  <a:lnTo>
                    <a:pt x="1300" y="269"/>
                  </a:lnTo>
                  <a:lnTo>
                    <a:pt x="1299" y="258"/>
                  </a:lnTo>
                  <a:lnTo>
                    <a:pt x="1296" y="248"/>
                  </a:lnTo>
                  <a:lnTo>
                    <a:pt x="1293" y="240"/>
                  </a:lnTo>
                  <a:lnTo>
                    <a:pt x="1289" y="231"/>
                  </a:lnTo>
                  <a:lnTo>
                    <a:pt x="1285" y="225"/>
                  </a:lnTo>
                  <a:lnTo>
                    <a:pt x="1280" y="220"/>
                  </a:lnTo>
                  <a:lnTo>
                    <a:pt x="1274" y="215"/>
                  </a:lnTo>
                  <a:lnTo>
                    <a:pt x="1267" y="212"/>
                  </a:lnTo>
                  <a:lnTo>
                    <a:pt x="1258" y="208"/>
                  </a:lnTo>
                  <a:lnTo>
                    <a:pt x="1248" y="205"/>
                  </a:lnTo>
                  <a:lnTo>
                    <a:pt x="1238" y="204"/>
                  </a:lnTo>
                  <a:lnTo>
                    <a:pt x="1226" y="203"/>
                  </a:lnTo>
                  <a:lnTo>
                    <a:pt x="1214" y="203"/>
                  </a:lnTo>
                  <a:lnTo>
                    <a:pt x="1202" y="203"/>
                  </a:lnTo>
                  <a:lnTo>
                    <a:pt x="1189" y="204"/>
                  </a:lnTo>
                  <a:lnTo>
                    <a:pt x="1177" y="205"/>
                  </a:lnTo>
                  <a:lnTo>
                    <a:pt x="1165" y="209"/>
                  </a:lnTo>
                  <a:lnTo>
                    <a:pt x="1152" y="212"/>
                  </a:lnTo>
                  <a:lnTo>
                    <a:pt x="1140" y="216"/>
                  </a:lnTo>
                  <a:lnTo>
                    <a:pt x="1128" y="220"/>
                  </a:lnTo>
                  <a:lnTo>
                    <a:pt x="1115" y="226"/>
                  </a:lnTo>
                  <a:lnTo>
                    <a:pt x="1096" y="236"/>
                  </a:lnTo>
                  <a:lnTo>
                    <a:pt x="1079" y="247"/>
                  </a:lnTo>
                  <a:lnTo>
                    <a:pt x="1061" y="259"/>
                  </a:lnTo>
                  <a:lnTo>
                    <a:pt x="1047" y="273"/>
                  </a:lnTo>
                  <a:lnTo>
                    <a:pt x="1033" y="289"/>
                  </a:lnTo>
                  <a:lnTo>
                    <a:pt x="1021" y="305"/>
                  </a:lnTo>
                  <a:lnTo>
                    <a:pt x="1010" y="323"/>
                  </a:lnTo>
                  <a:lnTo>
                    <a:pt x="1001" y="343"/>
                  </a:lnTo>
                  <a:lnTo>
                    <a:pt x="995" y="381"/>
                  </a:lnTo>
                  <a:lnTo>
                    <a:pt x="995" y="423"/>
                  </a:lnTo>
                  <a:lnTo>
                    <a:pt x="995" y="787"/>
                  </a:lnTo>
                  <a:lnTo>
                    <a:pt x="995" y="798"/>
                  </a:lnTo>
                  <a:lnTo>
                    <a:pt x="995" y="817"/>
                  </a:lnTo>
                  <a:lnTo>
                    <a:pt x="995" y="828"/>
                  </a:lnTo>
                  <a:lnTo>
                    <a:pt x="995" y="837"/>
                  </a:lnTo>
                  <a:lnTo>
                    <a:pt x="999" y="844"/>
                  </a:lnTo>
                  <a:lnTo>
                    <a:pt x="1002" y="850"/>
                  </a:lnTo>
                  <a:lnTo>
                    <a:pt x="1006" y="854"/>
                  </a:lnTo>
                  <a:lnTo>
                    <a:pt x="1011" y="857"/>
                  </a:lnTo>
                  <a:lnTo>
                    <a:pt x="1024" y="862"/>
                  </a:lnTo>
                  <a:lnTo>
                    <a:pt x="1033" y="866"/>
                  </a:lnTo>
                  <a:lnTo>
                    <a:pt x="1042" y="871"/>
                  </a:lnTo>
                  <a:lnTo>
                    <a:pt x="1048" y="876"/>
                  </a:lnTo>
                  <a:lnTo>
                    <a:pt x="1053" y="881"/>
                  </a:lnTo>
                  <a:lnTo>
                    <a:pt x="1058" y="886"/>
                  </a:lnTo>
                  <a:lnTo>
                    <a:pt x="1060" y="892"/>
                  </a:lnTo>
                  <a:lnTo>
                    <a:pt x="1063" y="899"/>
                  </a:lnTo>
                  <a:lnTo>
                    <a:pt x="1063" y="907"/>
                  </a:lnTo>
                  <a:lnTo>
                    <a:pt x="1063" y="969"/>
                  </a:lnTo>
                  <a:lnTo>
                    <a:pt x="621" y="969"/>
                  </a:lnTo>
                  <a:lnTo>
                    <a:pt x="621" y="907"/>
                  </a:lnTo>
                  <a:lnTo>
                    <a:pt x="621" y="900"/>
                  </a:lnTo>
                  <a:lnTo>
                    <a:pt x="622" y="893"/>
                  </a:lnTo>
                  <a:lnTo>
                    <a:pt x="626" y="887"/>
                  </a:lnTo>
                  <a:lnTo>
                    <a:pt x="630" y="881"/>
                  </a:lnTo>
                  <a:lnTo>
                    <a:pt x="636" y="876"/>
                  </a:lnTo>
                  <a:lnTo>
                    <a:pt x="643" y="871"/>
                  </a:lnTo>
                  <a:lnTo>
                    <a:pt x="651" y="867"/>
                  </a:lnTo>
                  <a:lnTo>
                    <a:pt x="660" y="862"/>
                  </a:lnTo>
                  <a:lnTo>
                    <a:pt x="671" y="857"/>
                  </a:lnTo>
                  <a:lnTo>
                    <a:pt x="675" y="855"/>
                  </a:lnTo>
                  <a:lnTo>
                    <a:pt x="678" y="851"/>
                  </a:lnTo>
                  <a:lnTo>
                    <a:pt x="681" y="844"/>
                  </a:lnTo>
                  <a:lnTo>
                    <a:pt x="684" y="835"/>
                  </a:lnTo>
                  <a:lnTo>
                    <a:pt x="684" y="828"/>
                  </a:lnTo>
                  <a:lnTo>
                    <a:pt x="684" y="817"/>
                  </a:lnTo>
                  <a:lnTo>
                    <a:pt x="684" y="798"/>
                  </a:lnTo>
                  <a:lnTo>
                    <a:pt x="684" y="787"/>
                  </a:lnTo>
                  <a:lnTo>
                    <a:pt x="684" y="364"/>
                  </a:lnTo>
                  <a:lnTo>
                    <a:pt x="679" y="301"/>
                  </a:lnTo>
                  <a:lnTo>
                    <a:pt x="676" y="290"/>
                  </a:lnTo>
                  <a:lnTo>
                    <a:pt x="673" y="282"/>
                  </a:lnTo>
                  <a:lnTo>
                    <a:pt x="669" y="272"/>
                  </a:lnTo>
                  <a:lnTo>
                    <a:pt x="665" y="263"/>
                  </a:lnTo>
                  <a:lnTo>
                    <a:pt x="660" y="256"/>
                  </a:lnTo>
                  <a:lnTo>
                    <a:pt x="654" y="248"/>
                  </a:lnTo>
                  <a:lnTo>
                    <a:pt x="648" y="241"/>
                  </a:lnTo>
                  <a:lnTo>
                    <a:pt x="642" y="235"/>
                  </a:lnTo>
                  <a:lnTo>
                    <a:pt x="635" y="230"/>
                  </a:lnTo>
                  <a:lnTo>
                    <a:pt x="626" y="225"/>
                  </a:lnTo>
                  <a:lnTo>
                    <a:pt x="619" y="221"/>
                  </a:lnTo>
                  <a:lnTo>
                    <a:pt x="610" y="218"/>
                  </a:lnTo>
                  <a:lnTo>
                    <a:pt x="601" y="215"/>
                  </a:lnTo>
                  <a:lnTo>
                    <a:pt x="591" y="213"/>
                  </a:lnTo>
                  <a:lnTo>
                    <a:pt x="582" y="212"/>
                  </a:lnTo>
                  <a:lnTo>
                    <a:pt x="572" y="212"/>
                  </a:lnTo>
                  <a:lnTo>
                    <a:pt x="555" y="213"/>
                  </a:lnTo>
                  <a:lnTo>
                    <a:pt x="537" y="216"/>
                  </a:lnTo>
                  <a:lnTo>
                    <a:pt x="518" y="223"/>
                  </a:lnTo>
                  <a:lnTo>
                    <a:pt x="497" y="231"/>
                  </a:lnTo>
                  <a:lnTo>
                    <a:pt x="483" y="240"/>
                  </a:lnTo>
                  <a:lnTo>
                    <a:pt x="470" y="247"/>
                  </a:lnTo>
                  <a:lnTo>
                    <a:pt x="457" y="256"/>
                  </a:lnTo>
                  <a:lnTo>
                    <a:pt x="446" y="264"/>
                  </a:lnTo>
                  <a:lnTo>
                    <a:pt x="435" y="274"/>
                  </a:lnTo>
                  <a:lnTo>
                    <a:pt x="425" y="284"/>
                  </a:lnTo>
                  <a:lnTo>
                    <a:pt x="416" y="294"/>
                  </a:lnTo>
                  <a:lnTo>
                    <a:pt x="407" y="305"/>
                  </a:lnTo>
                  <a:lnTo>
                    <a:pt x="387" y="329"/>
                  </a:lnTo>
                  <a:lnTo>
                    <a:pt x="387" y="787"/>
                  </a:lnTo>
                  <a:lnTo>
                    <a:pt x="387" y="798"/>
                  </a:lnTo>
                  <a:lnTo>
                    <a:pt x="393" y="837"/>
                  </a:lnTo>
                  <a:lnTo>
                    <a:pt x="396" y="845"/>
                  </a:lnTo>
                  <a:lnTo>
                    <a:pt x="400" y="851"/>
                  </a:lnTo>
                  <a:lnTo>
                    <a:pt x="405" y="855"/>
                  </a:lnTo>
                  <a:lnTo>
                    <a:pt x="409" y="857"/>
                  </a:lnTo>
                  <a:lnTo>
                    <a:pt x="422" y="862"/>
                  </a:lnTo>
                  <a:lnTo>
                    <a:pt x="430" y="866"/>
                  </a:lnTo>
                  <a:lnTo>
                    <a:pt x="438" y="871"/>
                  </a:lnTo>
                  <a:lnTo>
                    <a:pt x="444" y="876"/>
                  </a:lnTo>
                  <a:lnTo>
                    <a:pt x="449" y="881"/>
                  </a:lnTo>
                  <a:lnTo>
                    <a:pt x="454" y="886"/>
                  </a:lnTo>
                  <a:lnTo>
                    <a:pt x="456" y="892"/>
                  </a:lnTo>
                  <a:lnTo>
                    <a:pt x="457" y="899"/>
                  </a:lnTo>
                  <a:lnTo>
                    <a:pt x="459" y="907"/>
                  </a:lnTo>
                  <a:lnTo>
                    <a:pt x="459" y="969"/>
                  </a:lnTo>
                  <a:lnTo>
                    <a:pt x="0" y="96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650440" y="449280"/>
              <a:ext cx="79200" cy="111240"/>
            </a:xfrm>
            <a:custGeom>
              <a:avLst/>
              <a:gdLst/>
              <a:ahLst/>
              <a:rect l="l" t="t" r="r" b="b"/>
              <a:pathLst>
                <a:path w="993" h="1308">
                  <a:moveTo>
                    <a:pt x="0" y="1308"/>
                  </a:moveTo>
                  <a:lnTo>
                    <a:pt x="0" y="1246"/>
                  </a:lnTo>
                  <a:lnTo>
                    <a:pt x="0" y="1239"/>
                  </a:lnTo>
                  <a:lnTo>
                    <a:pt x="1" y="1234"/>
                  </a:lnTo>
                  <a:lnTo>
                    <a:pt x="3" y="1231"/>
                  </a:lnTo>
                  <a:lnTo>
                    <a:pt x="6" y="1226"/>
                  </a:lnTo>
                  <a:lnTo>
                    <a:pt x="13" y="1216"/>
                  </a:lnTo>
                  <a:lnTo>
                    <a:pt x="23" y="1206"/>
                  </a:lnTo>
                  <a:lnTo>
                    <a:pt x="33" y="1201"/>
                  </a:lnTo>
                  <a:lnTo>
                    <a:pt x="45" y="1196"/>
                  </a:lnTo>
                  <a:lnTo>
                    <a:pt x="52" y="1193"/>
                  </a:lnTo>
                  <a:lnTo>
                    <a:pt x="60" y="1188"/>
                  </a:lnTo>
                  <a:lnTo>
                    <a:pt x="66" y="1182"/>
                  </a:lnTo>
                  <a:lnTo>
                    <a:pt x="71" y="1176"/>
                  </a:lnTo>
                  <a:lnTo>
                    <a:pt x="75" y="1168"/>
                  </a:lnTo>
                  <a:lnTo>
                    <a:pt x="77" y="1160"/>
                  </a:lnTo>
                  <a:lnTo>
                    <a:pt x="79" y="1150"/>
                  </a:lnTo>
                  <a:lnTo>
                    <a:pt x="79" y="1140"/>
                  </a:lnTo>
                  <a:lnTo>
                    <a:pt x="79" y="1126"/>
                  </a:lnTo>
                  <a:lnTo>
                    <a:pt x="79" y="183"/>
                  </a:lnTo>
                  <a:lnTo>
                    <a:pt x="79" y="169"/>
                  </a:lnTo>
                  <a:lnTo>
                    <a:pt x="78" y="158"/>
                  </a:lnTo>
                  <a:lnTo>
                    <a:pt x="76" y="148"/>
                  </a:lnTo>
                  <a:lnTo>
                    <a:pt x="73" y="139"/>
                  </a:lnTo>
                  <a:lnTo>
                    <a:pt x="70" y="133"/>
                  </a:lnTo>
                  <a:lnTo>
                    <a:pt x="63" y="124"/>
                  </a:lnTo>
                  <a:lnTo>
                    <a:pt x="59" y="118"/>
                  </a:lnTo>
                  <a:lnTo>
                    <a:pt x="55" y="115"/>
                  </a:lnTo>
                  <a:lnTo>
                    <a:pt x="51" y="112"/>
                  </a:lnTo>
                  <a:lnTo>
                    <a:pt x="39" y="107"/>
                  </a:lnTo>
                  <a:lnTo>
                    <a:pt x="29" y="104"/>
                  </a:lnTo>
                  <a:lnTo>
                    <a:pt x="22" y="99"/>
                  </a:lnTo>
                  <a:lnTo>
                    <a:pt x="14" y="94"/>
                  </a:lnTo>
                  <a:lnTo>
                    <a:pt x="9" y="88"/>
                  </a:lnTo>
                  <a:lnTo>
                    <a:pt x="4" y="83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86" y="0"/>
                  </a:lnTo>
                  <a:lnTo>
                    <a:pt x="386" y="418"/>
                  </a:lnTo>
                  <a:lnTo>
                    <a:pt x="397" y="411"/>
                  </a:lnTo>
                  <a:lnTo>
                    <a:pt x="413" y="399"/>
                  </a:lnTo>
                  <a:lnTo>
                    <a:pt x="444" y="384"/>
                  </a:lnTo>
                  <a:lnTo>
                    <a:pt x="463" y="374"/>
                  </a:lnTo>
                  <a:lnTo>
                    <a:pt x="483" y="366"/>
                  </a:lnTo>
                  <a:lnTo>
                    <a:pt x="503" y="359"/>
                  </a:lnTo>
                  <a:lnTo>
                    <a:pt x="524" y="354"/>
                  </a:lnTo>
                  <a:lnTo>
                    <a:pt x="543" y="349"/>
                  </a:lnTo>
                  <a:lnTo>
                    <a:pt x="564" y="345"/>
                  </a:lnTo>
                  <a:lnTo>
                    <a:pt x="585" y="344"/>
                  </a:lnTo>
                  <a:lnTo>
                    <a:pt x="606" y="343"/>
                  </a:lnTo>
                  <a:lnTo>
                    <a:pt x="622" y="344"/>
                  </a:lnTo>
                  <a:lnTo>
                    <a:pt x="638" y="344"/>
                  </a:lnTo>
                  <a:lnTo>
                    <a:pt x="653" y="347"/>
                  </a:lnTo>
                  <a:lnTo>
                    <a:pt x="669" y="349"/>
                  </a:lnTo>
                  <a:lnTo>
                    <a:pt x="683" y="352"/>
                  </a:lnTo>
                  <a:lnTo>
                    <a:pt x="699" y="355"/>
                  </a:lnTo>
                  <a:lnTo>
                    <a:pt x="714" y="359"/>
                  </a:lnTo>
                  <a:lnTo>
                    <a:pt x="729" y="364"/>
                  </a:lnTo>
                  <a:lnTo>
                    <a:pt x="744" y="370"/>
                  </a:lnTo>
                  <a:lnTo>
                    <a:pt x="757" y="376"/>
                  </a:lnTo>
                  <a:lnTo>
                    <a:pt x="772" y="384"/>
                  </a:lnTo>
                  <a:lnTo>
                    <a:pt x="785" y="391"/>
                  </a:lnTo>
                  <a:lnTo>
                    <a:pt x="799" y="398"/>
                  </a:lnTo>
                  <a:lnTo>
                    <a:pt x="813" y="408"/>
                  </a:lnTo>
                  <a:lnTo>
                    <a:pt x="826" y="417"/>
                  </a:lnTo>
                  <a:lnTo>
                    <a:pt x="840" y="428"/>
                  </a:lnTo>
                  <a:lnTo>
                    <a:pt x="852" y="438"/>
                  </a:lnTo>
                  <a:lnTo>
                    <a:pt x="864" y="450"/>
                  </a:lnTo>
                  <a:lnTo>
                    <a:pt x="877" y="461"/>
                  </a:lnTo>
                  <a:lnTo>
                    <a:pt x="888" y="473"/>
                  </a:lnTo>
                  <a:lnTo>
                    <a:pt x="897" y="485"/>
                  </a:lnTo>
                  <a:lnTo>
                    <a:pt x="907" y="499"/>
                  </a:lnTo>
                  <a:lnTo>
                    <a:pt x="917" y="511"/>
                  </a:lnTo>
                  <a:lnTo>
                    <a:pt x="926" y="526"/>
                  </a:lnTo>
                  <a:lnTo>
                    <a:pt x="934" y="539"/>
                  </a:lnTo>
                  <a:lnTo>
                    <a:pt x="942" y="554"/>
                  </a:lnTo>
                  <a:lnTo>
                    <a:pt x="949" y="570"/>
                  </a:lnTo>
                  <a:lnTo>
                    <a:pt x="956" y="585"/>
                  </a:lnTo>
                  <a:lnTo>
                    <a:pt x="963" y="601"/>
                  </a:lnTo>
                  <a:lnTo>
                    <a:pt x="968" y="618"/>
                  </a:lnTo>
                  <a:lnTo>
                    <a:pt x="972" y="634"/>
                  </a:lnTo>
                  <a:lnTo>
                    <a:pt x="977" y="651"/>
                  </a:lnTo>
                  <a:lnTo>
                    <a:pt x="984" y="687"/>
                  </a:lnTo>
                  <a:lnTo>
                    <a:pt x="990" y="721"/>
                  </a:lnTo>
                  <a:lnTo>
                    <a:pt x="992" y="754"/>
                  </a:lnTo>
                  <a:lnTo>
                    <a:pt x="993" y="789"/>
                  </a:lnTo>
                  <a:lnTo>
                    <a:pt x="992" y="827"/>
                  </a:lnTo>
                  <a:lnTo>
                    <a:pt x="988" y="862"/>
                  </a:lnTo>
                  <a:lnTo>
                    <a:pt x="984" y="898"/>
                  </a:lnTo>
                  <a:lnTo>
                    <a:pt x="975" y="932"/>
                  </a:lnTo>
                  <a:lnTo>
                    <a:pt x="969" y="957"/>
                  </a:lnTo>
                  <a:lnTo>
                    <a:pt x="961" y="980"/>
                  </a:lnTo>
                  <a:lnTo>
                    <a:pt x="954" y="1002"/>
                  </a:lnTo>
                  <a:lnTo>
                    <a:pt x="945" y="1024"/>
                  </a:lnTo>
                  <a:lnTo>
                    <a:pt x="937" y="1045"/>
                  </a:lnTo>
                  <a:lnTo>
                    <a:pt x="927" y="1065"/>
                  </a:lnTo>
                  <a:lnTo>
                    <a:pt x="917" y="1085"/>
                  </a:lnTo>
                  <a:lnTo>
                    <a:pt x="906" y="1103"/>
                  </a:lnTo>
                  <a:lnTo>
                    <a:pt x="895" y="1120"/>
                  </a:lnTo>
                  <a:lnTo>
                    <a:pt x="883" y="1137"/>
                  </a:lnTo>
                  <a:lnTo>
                    <a:pt x="872" y="1152"/>
                  </a:lnTo>
                  <a:lnTo>
                    <a:pt x="858" y="1168"/>
                  </a:lnTo>
                  <a:lnTo>
                    <a:pt x="845" y="1182"/>
                  </a:lnTo>
                  <a:lnTo>
                    <a:pt x="831" y="1195"/>
                  </a:lnTo>
                  <a:lnTo>
                    <a:pt x="816" y="1207"/>
                  </a:lnTo>
                  <a:lnTo>
                    <a:pt x="801" y="1220"/>
                  </a:lnTo>
                  <a:lnTo>
                    <a:pt x="785" y="1230"/>
                  </a:lnTo>
                  <a:lnTo>
                    <a:pt x="768" y="1241"/>
                  </a:lnTo>
                  <a:lnTo>
                    <a:pt x="751" y="1249"/>
                  </a:lnTo>
                  <a:lnTo>
                    <a:pt x="733" y="1258"/>
                  </a:lnTo>
                  <a:lnTo>
                    <a:pt x="713" y="1266"/>
                  </a:lnTo>
                  <a:lnTo>
                    <a:pt x="692" y="1274"/>
                  </a:lnTo>
                  <a:lnTo>
                    <a:pt x="671" y="1280"/>
                  </a:lnTo>
                  <a:lnTo>
                    <a:pt x="648" y="1286"/>
                  </a:lnTo>
                  <a:lnTo>
                    <a:pt x="624" y="1291"/>
                  </a:lnTo>
                  <a:lnTo>
                    <a:pt x="600" y="1296"/>
                  </a:lnTo>
                  <a:lnTo>
                    <a:pt x="575" y="1300"/>
                  </a:lnTo>
                  <a:lnTo>
                    <a:pt x="549" y="1303"/>
                  </a:lnTo>
                  <a:lnTo>
                    <a:pt x="521" y="1306"/>
                  </a:lnTo>
                  <a:lnTo>
                    <a:pt x="494" y="1307"/>
                  </a:lnTo>
                  <a:lnTo>
                    <a:pt x="464" y="1308"/>
                  </a:lnTo>
                  <a:lnTo>
                    <a:pt x="435" y="1308"/>
                  </a:lnTo>
                  <a:lnTo>
                    <a:pt x="330" y="1308"/>
                  </a:lnTo>
                  <a:lnTo>
                    <a:pt x="0" y="1308"/>
                  </a:lnTo>
                  <a:close/>
                  <a:moveTo>
                    <a:pt x="611" y="1081"/>
                  </a:moveTo>
                  <a:lnTo>
                    <a:pt x="622" y="1074"/>
                  </a:lnTo>
                  <a:lnTo>
                    <a:pt x="633" y="1065"/>
                  </a:lnTo>
                  <a:lnTo>
                    <a:pt x="643" y="1055"/>
                  </a:lnTo>
                  <a:lnTo>
                    <a:pt x="651" y="1045"/>
                  </a:lnTo>
                  <a:lnTo>
                    <a:pt x="660" y="1036"/>
                  </a:lnTo>
                  <a:lnTo>
                    <a:pt x="667" y="1024"/>
                  </a:lnTo>
                  <a:lnTo>
                    <a:pt x="675" y="1012"/>
                  </a:lnTo>
                  <a:lnTo>
                    <a:pt x="682" y="1000"/>
                  </a:lnTo>
                  <a:lnTo>
                    <a:pt x="688" y="988"/>
                  </a:lnTo>
                  <a:lnTo>
                    <a:pt x="693" y="974"/>
                  </a:lnTo>
                  <a:lnTo>
                    <a:pt x="697" y="961"/>
                  </a:lnTo>
                  <a:lnTo>
                    <a:pt x="701" y="945"/>
                  </a:lnTo>
                  <a:lnTo>
                    <a:pt x="704" y="930"/>
                  </a:lnTo>
                  <a:lnTo>
                    <a:pt x="706" y="914"/>
                  </a:lnTo>
                  <a:lnTo>
                    <a:pt x="707" y="897"/>
                  </a:lnTo>
                  <a:lnTo>
                    <a:pt x="708" y="880"/>
                  </a:lnTo>
                  <a:lnTo>
                    <a:pt x="707" y="849"/>
                  </a:lnTo>
                  <a:lnTo>
                    <a:pt x="704" y="819"/>
                  </a:lnTo>
                  <a:lnTo>
                    <a:pt x="699" y="791"/>
                  </a:lnTo>
                  <a:lnTo>
                    <a:pt x="693" y="764"/>
                  </a:lnTo>
                  <a:lnTo>
                    <a:pt x="685" y="740"/>
                  </a:lnTo>
                  <a:lnTo>
                    <a:pt x="675" y="716"/>
                  </a:lnTo>
                  <a:lnTo>
                    <a:pt x="662" y="694"/>
                  </a:lnTo>
                  <a:lnTo>
                    <a:pt x="649" y="675"/>
                  </a:lnTo>
                  <a:lnTo>
                    <a:pt x="642" y="665"/>
                  </a:lnTo>
                  <a:lnTo>
                    <a:pt x="634" y="656"/>
                  </a:lnTo>
                  <a:lnTo>
                    <a:pt x="626" y="648"/>
                  </a:lnTo>
                  <a:lnTo>
                    <a:pt x="618" y="640"/>
                  </a:lnTo>
                  <a:lnTo>
                    <a:pt x="608" y="633"/>
                  </a:lnTo>
                  <a:lnTo>
                    <a:pt x="600" y="627"/>
                  </a:lnTo>
                  <a:lnTo>
                    <a:pt x="591" y="621"/>
                  </a:lnTo>
                  <a:lnTo>
                    <a:pt x="581" y="616"/>
                  </a:lnTo>
                  <a:lnTo>
                    <a:pt x="571" y="611"/>
                  </a:lnTo>
                  <a:lnTo>
                    <a:pt x="560" y="607"/>
                  </a:lnTo>
                  <a:lnTo>
                    <a:pt x="551" y="603"/>
                  </a:lnTo>
                  <a:lnTo>
                    <a:pt x="539" y="601"/>
                  </a:lnTo>
                  <a:lnTo>
                    <a:pt x="528" y="598"/>
                  </a:lnTo>
                  <a:lnTo>
                    <a:pt x="516" y="597"/>
                  </a:lnTo>
                  <a:lnTo>
                    <a:pt x="505" y="596"/>
                  </a:lnTo>
                  <a:lnTo>
                    <a:pt x="493" y="596"/>
                  </a:lnTo>
                  <a:lnTo>
                    <a:pt x="479" y="596"/>
                  </a:lnTo>
                  <a:lnTo>
                    <a:pt x="468" y="597"/>
                  </a:lnTo>
                  <a:lnTo>
                    <a:pt x="456" y="600"/>
                  </a:lnTo>
                  <a:lnTo>
                    <a:pt x="446" y="602"/>
                  </a:lnTo>
                  <a:lnTo>
                    <a:pt x="435" y="606"/>
                  </a:lnTo>
                  <a:lnTo>
                    <a:pt x="426" y="609"/>
                  </a:lnTo>
                  <a:lnTo>
                    <a:pt x="418" y="614"/>
                  </a:lnTo>
                  <a:lnTo>
                    <a:pt x="410" y="621"/>
                  </a:lnTo>
                  <a:lnTo>
                    <a:pt x="403" y="627"/>
                  </a:lnTo>
                  <a:lnTo>
                    <a:pt x="397" y="634"/>
                  </a:lnTo>
                  <a:lnTo>
                    <a:pt x="392" y="641"/>
                  </a:lnTo>
                  <a:lnTo>
                    <a:pt x="388" y="649"/>
                  </a:lnTo>
                  <a:lnTo>
                    <a:pt x="386" y="656"/>
                  </a:lnTo>
                  <a:lnTo>
                    <a:pt x="385" y="665"/>
                  </a:lnTo>
                  <a:lnTo>
                    <a:pt x="385" y="675"/>
                  </a:lnTo>
                  <a:lnTo>
                    <a:pt x="386" y="683"/>
                  </a:lnTo>
                  <a:lnTo>
                    <a:pt x="386" y="1107"/>
                  </a:lnTo>
                  <a:lnTo>
                    <a:pt x="397" y="1112"/>
                  </a:lnTo>
                  <a:lnTo>
                    <a:pt x="407" y="1115"/>
                  </a:lnTo>
                  <a:lnTo>
                    <a:pt x="418" y="1119"/>
                  </a:lnTo>
                  <a:lnTo>
                    <a:pt x="430" y="1121"/>
                  </a:lnTo>
                  <a:lnTo>
                    <a:pt x="441" y="1124"/>
                  </a:lnTo>
                  <a:lnTo>
                    <a:pt x="452" y="1125"/>
                  </a:lnTo>
                  <a:lnTo>
                    <a:pt x="463" y="1126"/>
                  </a:lnTo>
                  <a:lnTo>
                    <a:pt x="474" y="1126"/>
                  </a:lnTo>
                  <a:lnTo>
                    <a:pt x="493" y="1126"/>
                  </a:lnTo>
                  <a:lnTo>
                    <a:pt x="510" y="1124"/>
                  </a:lnTo>
                  <a:lnTo>
                    <a:pt x="527" y="1120"/>
                  </a:lnTo>
                  <a:lnTo>
                    <a:pt x="544" y="1115"/>
                  </a:lnTo>
                  <a:lnTo>
                    <a:pt x="562" y="1109"/>
                  </a:lnTo>
                  <a:lnTo>
                    <a:pt x="578" y="1102"/>
                  </a:lnTo>
                  <a:lnTo>
                    <a:pt x="595" y="1092"/>
                  </a:lnTo>
                  <a:lnTo>
                    <a:pt x="611" y="1081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32880" y="441360"/>
              <a:ext cx="39600" cy="119160"/>
            </a:xfrm>
            <a:custGeom>
              <a:avLst/>
              <a:gdLst/>
              <a:ahLst/>
              <a:rect l="l" t="t" r="r" b="b"/>
              <a:pathLst>
                <a:path w="480" h="1397">
                  <a:moveTo>
                    <a:pt x="0" y="1397"/>
                  </a:moveTo>
                  <a:lnTo>
                    <a:pt x="0" y="1336"/>
                  </a:lnTo>
                  <a:lnTo>
                    <a:pt x="2" y="1327"/>
                  </a:lnTo>
                  <a:lnTo>
                    <a:pt x="4" y="1319"/>
                  </a:lnTo>
                  <a:lnTo>
                    <a:pt x="10" y="1311"/>
                  </a:lnTo>
                  <a:lnTo>
                    <a:pt x="18" y="1305"/>
                  </a:lnTo>
                  <a:lnTo>
                    <a:pt x="22" y="1301"/>
                  </a:lnTo>
                  <a:lnTo>
                    <a:pt x="46" y="1290"/>
                  </a:lnTo>
                  <a:lnTo>
                    <a:pt x="59" y="1285"/>
                  </a:lnTo>
                  <a:lnTo>
                    <a:pt x="64" y="1283"/>
                  </a:lnTo>
                  <a:lnTo>
                    <a:pt x="68" y="1279"/>
                  </a:lnTo>
                  <a:lnTo>
                    <a:pt x="72" y="1276"/>
                  </a:lnTo>
                  <a:lnTo>
                    <a:pt x="75" y="1271"/>
                  </a:lnTo>
                  <a:lnTo>
                    <a:pt x="77" y="1265"/>
                  </a:lnTo>
                  <a:lnTo>
                    <a:pt x="79" y="1257"/>
                  </a:lnTo>
                  <a:lnTo>
                    <a:pt x="80" y="1250"/>
                  </a:lnTo>
                  <a:lnTo>
                    <a:pt x="80" y="1241"/>
                  </a:lnTo>
                  <a:lnTo>
                    <a:pt x="80" y="1229"/>
                  </a:lnTo>
                  <a:lnTo>
                    <a:pt x="80" y="649"/>
                  </a:lnTo>
                  <a:lnTo>
                    <a:pt x="80" y="636"/>
                  </a:lnTo>
                  <a:lnTo>
                    <a:pt x="80" y="609"/>
                  </a:lnTo>
                  <a:lnTo>
                    <a:pt x="58" y="578"/>
                  </a:lnTo>
                  <a:lnTo>
                    <a:pt x="46" y="574"/>
                  </a:lnTo>
                  <a:lnTo>
                    <a:pt x="34" y="567"/>
                  </a:lnTo>
                  <a:lnTo>
                    <a:pt x="26" y="563"/>
                  </a:lnTo>
                  <a:lnTo>
                    <a:pt x="19" y="558"/>
                  </a:lnTo>
                  <a:lnTo>
                    <a:pt x="13" y="554"/>
                  </a:lnTo>
                  <a:lnTo>
                    <a:pt x="9" y="549"/>
                  </a:lnTo>
                  <a:lnTo>
                    <a:pt x="5" y="545"/>
                  </a:lnTo>
                  <a:lnTo>
                    <a:pt x="2" y="539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0" y="469"/>
                  </a:lnTo>
                  <a:lnTo>
                    <a:pt x="400" y="469"/>
                  </a:lnTo>
                  <a:lnTo>
                    <a:pt x="400" y="1256"/>
                  </a:lnTo>
                  <a:lnTo>
                    <a:pt x="401" y="1262"/>
                  </a:lnTo>
                  <a:lnTo>
                    <a:pt x="401" y="1268"/>
                  </a:lnTo>
                  <a:lnTo>
                    <a:pt x="403" y="1273"/>
                  </a:lnTo>
                  <a:lnTo>
                    <a:pt x="405" y="1277"/>
                  </a:lnTo>
                  <a:lnTo>
                    <a:pt x="407" y="1280"/>
                  </a:lnTo>
                  <a:lnTo>
                    <a:pt x="410" y="1283"/>
                  </a:lnTo>
                  <a:lnTo>
                    <a:pt x="414" y="1284"/>
                  </a:lnTo>
                  <a:lnTo>
                    <a:pt x="417" y="1285"/>
                  </a:lnTo>
                  <a:lnTo>
                    <a:pt x="443" y="1290"/>
                  </a:lnTo>
                  <a:lnTo>
                    <a:pt x="457" y="1294"/>
                  </a:lnTo>
                  <a:lnTo>
                    <a:pt x="462" y="1298"/>
                  </a:lnTo>
                  <a:lnTo>
                    <a:pt x="466" y="1301"/>
                  </a:lnTo>
                  <a:lnTo>
                    <a:pt x="471" y="1306"/>
                  </a:lnTo>
                  <a:lnTo>
                    <a:pt x="475" y="1311"/>
                  </a:lnTo>
                  <a:lnTo>
                    <a:pt x="478" y="1316"/>
                  </a:lnTo>
                  <a:lnTo>
                    <a:pt x="479" y="1322"/>
                  </a:lnTo>
                  <a:lnTo>
                    <a:pt x="480" y="1328"/>
                  </a:lnTo>
                  <a:lnTo>
                    <a:pt x="480" y="1335"/>
                  </a:lnTo>
                  <a:lnTo>
                    <a:pt x="480" y="1397"/>
                  </a:lnTo>
                  <a:lnTo>
                    <a:pt x="0" y="1397"/>
                  </a:lnTo>
                  <a:close/>
                  <a:moveTo>
                    <a:pt x="46" y="185"/>
                  </a:moveTo>
                  <a:lnTo>
                    <a:pt x="46" y="167"/>
                  </a:lnTo>
                  <a:lnTo>
                    <a:pt x="48" y="148"/>
                  </a:lnTo>
                  <a:lnTo>
                    <a:pt x="53" y="131"/>
                  </a:lnTo>
                  <a:lnTo>
                    <a:pt x="58" y="114"/>
                  </a:lnTo>
                  <a:lnTo>
                    <a:pt x="66" y="98"/>
                  </a:lnTo>
                  <a:lnTo>
                    <a:pt x="75" y="83"/>
                  </a:lnTo>
                  <a:lnTo>
                    <a:pt x="86" y="69"/>
                  </a:lnTo>
                  <a:lnTo>
                    <a:pt x="99" y="55"/>
                  </a:lnTo>
                  <a:lnTo>
                    <a:pt x="112" y="42"/>
                  </a:lnTo>
                  <a:lnTo>
                    <a:pt x="126" y="31"/>
                  </a:lnTo>
                  <a:lnTo>
                    <a:pt x="142" y="21"/>
                  </a:lnTo>
                  <a:lnTo>
                    <a:pt x="158" y="13"/>
                  </a:lnTo>
                  <a:lnTo>
                    <a:pt x="174" y="7"/>
                  </a:lnTo>
                  <a:lnTo>
                    <a:pt x="192" y="3"/>
                  </a:lnTo>
                  <a:lnTo>
                    <a:pt x="211" y="1"/>
                  </a:lnTo>
                  <a:lnTo>
                    <a:pt x="229" y="0"/>
                  </a:lnTo>
                  <a:lnTo>
                    <a:pt x="248" y="1"/>
                  </a:lnTo>
                  <a:lnTo>
                    <a:pt x="266" y="3"/>
                  </a:lnTo>
                  <a:lnTo>
                    <a:pt x="283" y="7"/>
                  </a:lnTo>
                  <a:lnTo>
                    <a:pt x="299" y="13"/>
                  </a:lnTo>
                  <a:lnTo>
                    <a:pt x="315" y="21"/>
                  </a:lnTo>
                  <a:lnTo>
                    <a:pt x="331" y="31"/>
                  </a:lnTo>
                  <a:lnTo>
                    <a:pt x="346" y="42"/>
                  </a:lnTo>
                  <a:lnTo>
                    <a:pt x="361" y="55"/>
                  </a:lnTo>
                  <a:lnTo>
                    <a:pt x="374" y="69"/>
                  </a:lnTo>
                  <a:lnTo>
                    <a:pt x="385" y="83"/>
                  </a:lnTo>
                  <a:lnTo>
                    <a:pt x="395" y="99"/>
                  </a:lnTo>
                  <a:lnTo>
                    <a:pt x="403" y="115"/>
                  </a:lnTo>
                  <a:lnTo>
                    <a:pt x="409" y="132"/>
                  </a:lnTo>
                  <a:lnTo>
                    <a:pt x="414" y="150"/>
                  </a:lnTo>
                  <a:lnTo>
                    <a:pt x="416" y="168"/>
                  </a:lnTo>
                  <a:lnTo>
                    <a:pt x="417" y="188"/>
                  </a:lnTo>
                  <a:lnTo>
                    <a:pt x="416" y="205"/>
                  </a:lnTo>
                  <a:lnTo>
                    <a:pt x="414" y="223"/>
                  </a:lnTo>
                  <a:lnTo>
                    <a:pt x="410" y="240"/>
                  </a:lnTo>
                  <a:lnTo>
                    <a:pt x="404" y="256"/>
                  </a:lnTo>
                  <a:lnTo>
                    <a:pt x="396" y="272"/>
                  </a:lnTo>
                  <a:lnTo>
                    <a:pt x="388" y="287"/>
                  </a:lnTo>
                  <a:lnTo>
                    <a:pt x="377" y="302"/>
                  </a:lnTo>
                  <a:lnTo>
                    <a:pt x="364" y="317"/>
                  </a:lnTo>
                  <a:lnTo>
                    <a:pt x="351" y="329"/>
                  </a:lnTo>
                  <a:lnTo>
                    <a:pt x="336" y="340"/>
                  </a:lnTo>
                  <a:lnTo>
                    <a:pt x="321" y="350"/>
                  </a:lnTo>
                  <a:lnTo>
                    <a:pt x="305" y="357"/>
                  </a:lnTo>
                  <a:lnTo>
                    <a:pt x="288" y="363"/>
                  </a:lnTo>
                  <a:lnTo>
                    <a:pt x="271" y="367"/>
                  </a:lnTo>
                  <a:lnTo>
                    <a:pt x="252" y="369"/>
                  </a:lnTo>
                  <a:lnTo>
                    <a:pt x="233" y="371"/>
                  </a:lnTo>
                  <a:lnTo>
                    <a:pt x="214" y="369"/>
                  </a:lnTo>
                  <a:lnTo>
                    <a:pt x="196" y="367"/>
                  </a:lnTo>
                  <a:lnTo>
                    <a:pt x="177" y="363"/>
                  </a:lnTo>
                  <a:lnTo>
                    <a:pt x="160" y="357"/>
                  </a:lnTo>
                  <a:lnTo>
                    <a:pt x="144" y="350"/>
                  </a:lnTo>
                  <a:lnTo>
                    <a:pt x="129" y="341"/>
                  </a:lnTo>
                  <a:lnTo>
                    <a:pt x="115" y="330"/>
                  </a:lnTo>
                  <a:lnTo>
                    <a:pt x="100" y="318"/>
                  </a:lnTo>
                  <a:lnTo>
                    <a:pt x="88" y="304"/>
                  </a:lnTo>
                  <a:lnTo>
                    <a:pt x="77" y="290"/>
                  </a:lnTo>
                  <a:lnTo>
                    <a:pt x="67" y="275"/>
                  </a:lnTo>
                  <a:lnTo>
                    <a:pt x="59" y="259"/>
                  </a:lnTo>
                  <a:lnTo>
                    <a:pt x="53" y="242"/>
                  </a:lnTo>
                  <a:lnTo>
                    <a:pt x="50" y="223"/>
                  </a:lnTo>
                  <a:lnTo>
                    <a:pt x="46" y="205"/>
                  </a:lnTo>
                  <a:lnTo>
                    <a:pt x="46" y="185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78960" y="479520"/>
              <a:ext cx="74520" cy="83880"/>
            </a:xfrm>
            <a:custGeom>
              <a:avLst/>
              <a:gdLst/>
              <a:ahLst/>
              <a:rect l="l" t="t" r="r" b="b"/>
              <a:pathLst>
                <a:path w="923" h="979">
                  <a:moveTo>
                    <a:pt x="885" y="512"/>
                  </a:moveTo>
                  <a:lnTo>
                    <a:pt x="302" y="512"/>
                  </a:lnTo>
                  <a:lnTo>
                    <a:pt x="301" y="523"/>
                  </a:lnTo>
                  <a:lnTo>
                    <a:pt x="301" y="531"/>
                  </a:lnTo>
                  <a:lnTo>
                    <a:pt x="302" y="550"/>
                  </a:lnTo>
                  <a:lnTo>
                    <a:pt x="305" y="571"/>
                  </a:lnTo>
                  <a:lnTo>
                    <a:pt x="312" y="592"/>
                  </a:lnTo>
                  <a:lnTo>
                    <a:pt x="319" y="612"/>
                  </a:lnTo>
                  <a:lnTo>
                    <a:pt x="330" y="633"/>
                  </a:lnTo>
                  <a:lnTo>
                    <a:pt x="344" y="655"/>
                  </a:lnTo>
                  <a:lnTo>
                    <a:pt x="360" y="676"/>
                  </a:lnTo>
                  <a:lnTo>
                    <a:pt x="377" y="696"/>
                  </a:lnTo>
                  <a:lnTo>
                    <a:pt x="387" y="707"/>
                  </a:lnTo>
                  <a:lnTo>
                    <a:pt x="397" y="717"/>
                  </a:lnTo>
                  <a:lnTo>
                    <a:pt x="406" y="726"/>
                  </a:lnTo>
                  <a:lnTo>
                    <a:pt x="417" y="734"/>
                  </a:lnTo>
                  <a:lnTo>
                    <a:pt x="427" y="742"/>
                  </a:lnTo>
                  <a:lnTo>
                    <a:pt x="438" y="749"/>
                  </a:lnTo>
                  <a:lnTo>
                    <a:pt x="449" y="755"/>
                  </a:lnTo>
                  <a:lnTo>
                    <a:pt x="460" y="761"/>
                  </a:lnTo>
                  <a:lnTo>
                    <a:pt x="472" y="766"/>
                  </a:lnTo>
                  <a:lnTo>
                    <a:pt x="484" y="771"/>
                  </a:lnTo>
                  <a:lnTo>
                    <a:pt x="496" y="775"/>
                  </a:lnTo>
                  <a:lnTo>
                    <a:pt x="508" y="777"/>
                  </a:lnTo>
                  <a:lnTo>
                    <a:pt x="521" y="780"/>
                  </a:lnTo>
                  <a:lnTo>
                    <a:pt x="533" y="782"/>
                  </a:lnTo>
                  <a:lnTo>
                    <a:pt x="545" y="782"/>
                  </a:lnTo>
                  <a:lnTo>
                    <a:pt x="559" y="784"/>
                  </a:lnTo>
                  <a:lnTo>
                    <a:pt x="572" y="782"/>
                  </a:lnTo>
                  <a:lnTo>
                    <a:pt x="585" y="782"/>
                  </a:lnTo>
                  <a:lnTo>
                    <a:pt x="598" y="780"/>
                  </a:lnTo>
                  <a:lnTo>
                    <a:pt x="612" y="777"/>
                  </a:lnTo>
                  <a:lnTo>
                    <a:pt x="625" y="775"/>
                  </a:lnTo>
                  <a:lnTo>
                    <a:pt x="638" y="771"/>
                  </a:lnTo>
                  <a:lnTo>
                    <a:pt x="649" y="768"/>
                  </a:lnTo>
                  <a:lnTo>
                    <a:pt x="660" y="763"/>
                  </a:lnTo>
                  <a:lnTo>
                    <a:pt x="668" y="759"/>
                  </a:lnTo>
                  <a:lnTo>
                    <a:pt x="708" y="733"/>
                  </a:lnTo>
                  <a:lnTo>
                    <a:pt x="743" y="710"/>
                  </a:lnTo>
                  <a:lnTo>
                    <a:pt x="748" y="710"/>
                  </a:lnTo>
                  <a:lnTo>
                    <a:pt x="758" y="703"/>
                  </a:lnTo>
                  <a:lnTo>
                    <a:pt x="768" y="694"/>
                  </a:lnTo>
                  <a:lnTo>
                    <a:pt x="777" y="685"/>
                  </a:lnTo>
                  <a:lnTo>
                    <a:pt x="789" y="671"/>
                  </a:lnTo>
                  <a:lnTo>
                    <a:pt x="807" y="649"/>
                  </a:lnTo>
                  <a:lnTo>
                    <a:pt x="816" y="640"/>
                  </a:lnTo>
                  <a:lnTo>
                    <a:pt x="823" y="636"/>
                  </a:lnTo>
                  <a:lnTo>
                    <a:pt x="834" y="634"/>
                  </a:lnTo>
                  <a:lnTo>
                    <a:pt x="847" y="633"/>
                  </a:lnTo>
                  <a:lnTo>
                    <a:pt x="863" y="633"/>
                  </a:lnTo>
                  <a:lnTo>
                    <a:pt x="874" y="633"/>
                  </a:lnTo>
                  <a:lnTo>
                    <a:pt x="884" y="633"/>
                  </a:lnTo>
                  <a:lnTo>
                    <a:pt x="892" y="633"/>
                  </a:lnTo>
                  <a:lnTo>
                    <a:pt x="901" y="633"/>
                  </a:lnTo>
                  <a:lnTo>
                    <a:pt x="923" y="633"/>
                  </a:lnTo>
                  <a:lnTo>
                    <a:pt x="923" y="883"/>
                  </a:lnTo>
                  <a:lnTo>
                    <a:pt x="911" y="892"/>
                  </a:lnTo>
                  <a:lnTo>
                    <a:pt x="897" y="900"/>
                  </a:lnTo>
                  <a:lnTo>
                    <a:pt x="884" y="908"/>
                  </a:lnTo>
                  <a:lnTo>
                    <a:pt x="869" y="915"/>
                  </a:lnTo>
                  <a:lnTo>
                    <a:pt x="848" y="926"/>
                  </a:lnTo>
                  <a:lnTo>
                    <a:pt x="828" y="936"/>
                  </a:lnTo>
                  <a:lnTo>
                    <a:pt x="806" y="944"/>
                  </a:lnTo>
                  <a:lnTo>
                    <a:pt x="784" y="952"/>
                  </a:lnTo>
                  <a:lnTo>
                    <a:pt x="759" y="958"/>
                  </a:lnTo>
                  <a:lnTo>
                    <a:pt x="736" y="964"/>
                  </a:lnTo>
                  <a:lnTo>
                    <a:pt x="710" y="969"/>
                  </a:lnTo>
                  <a:lnTo>
                    <a:pt x="684" y="973"/>
                  </a:lnTo>
                  <a:lnTo>
                    <a:pt x="655" y="975"/>
                  </a:lnTo>
                  <a:lnTo>
                    <a:pt x="624" y="978"/>
                  </a:lnTo>
                  <a:lnTo>
                    <a:pt x="592" y="979"/>
                  </a:lnTo>
                  <a:lnTo>
                    <a:pt x="559" y="979"/>
                  </a:lnTo>
                  <a:lnTo>
                    <a:pt x="532" y="979"/>
                  </a:lnTo>
                  <a:lnTo>
                    <a:pt x="506" y="978"/>
                  </a:lnTo>
                  <a:lnTo>
                    <a:pt x="480" y="976"/>
                  </a:lnTo>
                  <a:lnTo>
                    <a:pt x="456" y="973"/>
                  </a:lnTo>
                  <a:lnTo>
                    <a:pt x="431" y="970"/>
                  </a:lnTo>
                  <a:lnTo>
                    <a:pt x="408" y="965"/>
                  </a:lnTo>
                  <a:lnTo>
                    <a:pt x="384" y="960"/>
                  </a:lnTo>
                  <a:lnTo>
                    <a:pt x="362" y="954"/>
                  </a:lnTo>
                  <a:lnTo>
                    <a:pt x="340" y="948"/>
                  </a:lnTo>
                  <a:lnTo>
                    <a:pt x="319" y="941"/>
                  </a:lnTo>
                  <a:lnTo>
                    <a:pt x="298" y="932"/>
                  </a:lnTo>
                  <a:lnTo>
                    <a:pt x="278" y="924"/>
                  </a:lnTo>
                  <a:lnTo>
                    <a:pt x="259" y="914"/>
                  </a:lnTo>
                  <a:lnTo>
                    <a:pt x="240" y="904"/>
                  </a:lnTo>
                  <a:lnTo>
                    <a:pt x="222" y="893"/>
                  </a:lnTo>
                  <a:lnTo>
                    <a:pt x="205" y="881"/>
                  </a:lnTo>
                  <a:lnTo>
                    <a:pt x="187" y="867"/>
                  </a:lnTo>
                  <a:lnTo>
                    <a:pt x="171" y="855"/>
                  </a:lnTo>
                  <a:lnTo>
                    <a:pt x="155" y="840"/>
                  </a:lnTo>
                  <a:lnTo>
                    <a:pt x="141" y="825"/>
                  </a:lnTo>
                  <a:lnTo>
                    <a:pt x="126" y="811"/>
                  </a:lnTo>
                  <a:lnTo>
                    <a:pt x="112" y="795"/>
                  </a:lnTo>
                  <a:lnTo>
                    <a:pt x="100" y="777"/>
                  </a:lnTo>
                  <a:lnTo>
                    <a:pt x="88" y="760"/>
                  </a:lnTo>
                  <a:lnTo>
                    <a:pt x="77" y="742"/>
                  </a:lnTo>
                  <a:lnTo>
                    <a:pt x="66" y="723"/>
                  </a:lnTo>
                  <a:lnTo>
                    <a:pt x="56" y="704"/>
                  </a:lnTo>
                  <a:lnTo>
                    <a:pt x="47" y="684"/>
                  </a:lnTo>
                  <a:lnTo>
                    <a:pt x="39" y="663"/>
                  </a:lnTo>
                  <a:lnTo>
                    <a:pt x="30" y="642"/>
                  </a:lnTo>
                  <a:lnTo>
                    <a:pt x="23" y="620"/>
                  </a:lnTo>
                  <a:lnTo>
                    <a:pt x="16" y="598"/>
                  </a:lnTo>
                  <a:lnTo>
                    <a:pt x="9" y="567"/>
                  </a:lnTo>
                  <a:lnTo>
                    <a:pt x="4" y="537"/>
                  </a:lnTo>
                  <a:lnTo>
                    <a:pt x="2" y="507"/>
                  </a:lnTo>
                  <a:lnTo>
                    <a:pt x="0" y="475"/>
                  </a:lnTo>
                  <a:lnTo>
                    <a:pt x="0" y="458"/>
                  </a:lnTo>
                  <a:lnTo>
                    <a:pt x="2" y="441"/>
                  </a:lnTo>
                  <a:lnTo>
                    <a:pt x="3" y="424"/>
                  </a:lnTo>
                  <a:lnTo>
                    <a:pt x="5" y="407"/>
                  </a:lnTo>
                  <a:lnTo>
                    <a:pt x="8" y="389"/>
                  </a:lnTo>
                  <a:lnTo>
                    <a:pt x="12" y="372"/>
                  </a:lnTo>
                  <a:lnTo>
                    <a:pt x="16" y="356"/>
                  </a:lnTo>
                  <a:lnTo>
                    <a:pt x="21" y="339"/>
                  </a:lnTo>
                  <a:lnTo>
                    <a:pt x="26" y="323"/>
                  </a:lnTo>
                  <a:lnTo>
                    <a:pt x="32" y="307"/>
                  </a:lnTo>
                  <a:lnTo>
                    <a:pt x="40" y="290"/>
                  </a:lnTo>
                  <a:lnTo>
                    <a:pt x="47" y="274"/>
                  </a:lnTo>
                  <a:lnTo>
                    <a:pt x="56" y="259"/>
                  </a:lnTo>
                  <a:lnTo>
                    <a:pt x="64" y="243"/>
                  </a:lnTo>
                  <a:lnTo>
                    <a:pt x="74" y="227"/>
                  </a:lnTo>
                  <a:lnTo>
                    <a:pt x="84" y="213"/>
                  </a:lnTo>
                  <a:lnTo>
                    <a:pt x="98" y="193"/>
                  </a:lnTo>
                  <a:lnTo>
                    <a:pt x="112" y="173"/>
                  </a:lnTo>
                  <a:lnTo>
                    <a:pt x="127" y="155"/>
                  </a:lnTo>
                  <a:lnTo>
                    <a:pt x="143" y="138"/>
                  </a:lnTo>
                  <a:lnTo>
                    <a:pt x="159" y="122"/>
                  </a:lnTo>
                  <a:lnTo>
                    <a:pt x="176" y="107"/>
                  </a:lnTo>
                  <a:lnTo>
                    <a:pt x="194" y="92"/>
                  </a:lnTo>
                  <a:lnTo>
                    <a:pt x="211" y="79"/>
                  </a:lnTo>
                  <a:lnTo>
                    <a:pt x="229" y="67"/>
                  </a:lnTo>
                  <a:lnTo>
                    <a:pt x="248" y="55"/>
                  </a:lnTo>
                  <a:lnTo>
                    <a:pt x="265" y="46"/>
                  </a:lnTo>
                  <a:lnTo>
                    <a:pt x="283" y="37"/>
                  </a:lnTo>
                  <a:lnTo>
                    <a:pt x="301" y="30"/>
                  </a:lnTo>
                  <a:lnTo>
                    <a:pt x="318" y="22"/>
                  </a:lnTo>
                  <a:lnTo>
                    <a:pt x="335" y="17"/>
                  </a:lnTo>
                  <a:lnTo>
                    <a:pt x="351" y="14"/>
                  </a:lnTo>
                  <a:lnTo>
                    <a:pt x="384" y="8"/>
                  </a:lnTo>
                  <a:lnTo>
                    <a:pt x="414" y="3"/>
                  </a:lnTo>
                  <a:lnTo>
                    <a:pt x="442" y="0"/>
                  </a:lnTo>
                  <a:lnTo>
                    <a:pt x="468" y="0"/>
                  </a:lnTo>
                  <a:lnTo>
                    <a:pt x="489" y="0"/>
                  </a:lnTo>
                  <a:lnTo>
                    <a:pt x="510" y="1"/>
                  </a:lnTo>
                  <a:lnTo>
                    <a:pt x="531" y="4"/>
                  </a:lnTo>
                  <a:lnTo>
                    <a:pt x="550" y="8"/>
                  </a:lnTo>
                  <a:lnTo>
                    <a:pt x="570" y="11"/>
                  </a:lnTo>
                  <a:lnTo>
                    <a:pt x="588" y="16"/>
                  </a:lnTo>
                  <a:lnTo>
                    <a:pt x="608" y="22"/>
                  </a:lnTo>
                  <a:lnTo>
                    <a:pt x="625" y="28"/>
                  </a:lnTo>
                  <a:lnTo>
                    <a:pt x="644" y="37"/>
                  </a:lnTo>
                  <a:lnTo>
                    <a:pt x="661" y="46"/>
                  </a:lnTo>
                  <a:lnTo>
                    <a:pt x="678" y="55"/>
                  </a:lnTo>
                  <a:lnTo>
                    <a:pt x="695" y="65"/>
                  </a:lnTo>
                  <a:lnTo>
                    <a:pt x="711" y="76"/>
                  </a:lnTo>
                  <a:lnTo>
                    <a:pt x="727" y="89"/>
                  </a:lnTo>
                  <a:lnTo>
                    <a:pt x="742" y="102"/>
                  </a:lnTo>
                  <a:lnTo>
                    <a:pt x="757" y="116"/>
                  </a:lnTo>
                  <a:lnTo>
                    <a:pt x="773" y="132"/>
                  </a:lnTo>
                  <a:lnTo>
                    <a:pt x="788" y="149"/>
                  </a:lnTo>
                  <a:lnTo>
                    <a:pt x="801" y="166"/>
                  </a:lnTo>
                  <a:lnTo>
                    <a:pt x="813" y="183"/>
                  </a:lnTo>
                  <a:lnTo>
                    <a:pt x="825" y="202"/>
                  </a:lnTo>
                  <a:lnTo>
                    <a:pt x="836" y="221"/>
                  </a:lnTo>
                  <a:lnTo>
                    <a:pt x="844" y="241"/>
                  </a:lnTo>
                  <a:lnTo>
                    <a:pt x="853" y="261"/>
                  </a:lnTo>
                  <a:lnTo>
                    <a:pt x="860" y="281"/>
                  </a:lnTo>
                  <a:lnTo>
                    <a:pt x="866" y="302"/>
                  </a:lnTo>
                  <a:lnTo>
                    <a:pt x="873" y="324"/>
                  </a:lnTo>
                  <a:lnTo>
                    <a:pt x="877" y="348"/>
                  </a:lnTo>
                  <a:lnTo>
                    <a:pt x="880" y="370"/>
                  </a:lnTo>
                  <a:lnTo>
                    <a:pt x="882" y="394"/>
                  </a:lnTo>
                  <a:lnTo>
                    <a:pt x="885" y="419"/>
                  </a:lnTo>
                  <a:lnTo>
                    <a:pt x="885" y="443"/>
                  </a:lnTo>
                  <a:lnTo>
                    <a:pt x="885" y="452"/>
                  </a:lnTo>
                  <a:lnTo>
                    <a:pt x="885" y="462"/>
                  </a:lnTo>
                  <a:lnTo>
                    <a:pt x="885" y="475"/>
                  </a:lnTo>
                  <a:lnTo>
                    <a:pt x="885" y="490"/>
                  </a:lnTo>
                  <a:lnTo>
                    <a:pt x="885" y="504"/>
                  </a:lnTo>
                  <a:lnTo>
                    <a:pt x="885" y="512"/>
                  </a:lnTo>
                  <a:close/>
                  <a:moveTo>
                    <a:pt x="585" y="339"/>
                  </a:moveTo>
                  <a:lnTo>
                    <a:pt x="582" y="319"/>
                  </a:lnTo>
                  <a:lnTo>
                    <a:pt x="581" y="305"/>
                  </a:lnTo>
                  <a:lnTo>
                    <a:pt x="577" y="290"/>
                  </a:lnTo>
                  <a:lnTo>
                    <a:pt x="574" y="278"/>
                  </a:lnTo>
                  <a:lnTo>
                    <a:pt x="569" y="265"/>
                  </a:lnTo>
                  <a:lnTo>
                    <a:pt x="564" y="253"/>
                  </a:lnTo>
                  <a:lnTo>
                    <a:pt x="558" y="243"/>
                  </a:lnTo>
                  <a:lnTo>
                    <a:pt x="551" y="234"/>
                  </a:lnTo>
                  <a:lnTo>
                    <a:pt x="544" y="226"/>
                  </a:lnTo>
                  <a:lnTo>
                    <a:pt x="535" y="219"/>
                  </a:lnTo>
                  <a:lnTo>
                    <a:pt x="526" y="211"/>
                  </a:lnTo>
                  <a:lnTo>
                    <a:pt x="516" y="206"/>
                  </a:lnTo>
                  <a:lnTo>
                    <a:pt x="506" y="202"/>
                  </a:lnTo>
                  <a:lnTo>
                    <a:pt x="494" y="199"/>
                  </a:lnTo>
                  <a:lnTo>
                    <a:pt x="481" y="197"/>
                  </a:lnTo>
                  <a:lnTo>
                    <a:pt x="469" y="194"/>
                  </a:lnTo>
                  <a:lnTo>
                    <a:pt x="456" y="194"/>
                  </a:lnTo>
                  <a:lnTo>
                    <a:pt x="440" y="194"/>
                  </a:lnTo>
                  <a:lnTo>
                    <a:pt x="426" y="197"/>
                  </a:lnTo>
                  <a:lnTo>
                    <a:pt x="412" y="199"/>
                  </a:lnTo>
                  <a:lnTo>
                    <a:pt x="399" y="202"/>
                  </a:lnTo>
                  <a:lnTo>
                    <a:pt x="388" y="206"/>
                  </a:lnTo>
                  <a:lnTo>
                    <a:pt x="377" y="211"/>
                  </a:lnTo>
                  <a:lnTo>
                    <a:pt x="366" y="218"/>
                  </a:lnTo>
                  <a:lnTo>
                    <a:pt x="357" y="225"/>
                  </a:lnTo>
                  <a:lnTo>
                    <a:pt x="349" y="232"/>
                  </a:lnTo>
                  <a:lnTo>
                    <a:pt x="341" y="241"/>
                  </a:lnTo>
                  <a:lnTo>
                    <a:pt x="334" y="251"/>
                  </a:lnTo>
                  <a:lnTo>
                    <a:pt x="329" y="262"/>
                  </a:lnTo>
                  <a:lnTo>
                    <a:pt x="323" y="274"/>
                  </a:lnTo>
                  <a:lnTo>
                    <a:pt x="319" y="286"/>
                  </a:lnTo>
                  <a:lnTo>
                    <a:pt x="315" y="300"/>
                  </a:lnTo>
                  <a:lnTo>
                    <a:pt x="313" y="315"/>
                  </a:lnTo>
                  <a:lnTo>
                    <a:pt x="309" y="339"/>
                  </a:lnTo>
                  <a:lnTo>
                    <a:pt x="585" y="33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858160" y="476280"/>
              <a:ext cx="84240" cy="84240"/>
            </a:xfrm>
            <a:custGeom>
              <a:avLst/>
              <a:gdLst/>
              <a:ahLst/>
              <a:rect l="l" t="t" r="r" b="b"/>
              <a:pathLst>
                <a:path w="1036" h="977">
                  <a:moveTo>
                    <a:pt x="0" y="977"/>
                  </a:moveTo>
                  <a:lnTo>
                    <a:pt x="0" y="916"/>
                  </a:lnTo>
                  <a:lnTo>
                    <a:pt x="0" y="910"/>
                  </a:lnTo>
                  <a:lnTo>
                    <a:pt x="3" y="902"/>
                  </a:lnTo>
                  <a:lnTo>
                    <a:pt x="5" y="896"/>
                  </a:lnTo>
                  <a:lnTo>
                    <a:pt x="10" y="890"/>
                  </a:lnTo>
                  <a:lnTo>
                    <a:pt x="15" y="885"/>
                  </a:lnTo>
                  <a:lnTo>
                    <a:pt x="21" y="880"/>
                  </a:lnTo>
                  <a:lnTo>
                    <a:pt x="30" y="876"/>
                  </a:lnTo>
                  <a:lnTo>
                    <a:pt x="38" y="873"/>
                  </a:lnTo>
                  <a:lnTo>
                    <a:pt x="62" y="864"/>
                  </a:lnTo>
                  <a:lnTo>
                    <a:pt x="65" y="862"/>
                  </a:lnTo>
                  <a:lnTo>
                    <a:pt x="69" y="858"/>
                  </a:lnTo>
                  <a:lnTo>
                    <a:pt x="72" y="852"/>
                  </a:lnTo>
                  <a:lnTo>
                    <a:pt x="75" y="843"/>
                  </a:lnTo>
                  <a:lnTo>
                    <a:pt x="75" y="836"/>
                  </a:lnTo>
                  <a:lnTo>
                    <a:pt x="75" y="806"/>
                  </a:lnTo>
                  <a:lnTo>
                    <a:pt x="75" y="794"/>
                  </a:lnTo>
                  <a:lnTo>
                    <a:pt x="75" y="245"/>
                  </a:lnTo>
                  <a:lnTo>
                    <a:pt x="75" y="218"/>
                  </a:lnTo>
                  <a:lnTo>
                    <a:pt x="75" y="196"/>
                  </a:lnTo>
                  <a:lnTo>
                    <a:pt x="69" y="173"/>
                  </a:lnTo>
                  <a:lnTo>
                    <a:pt x="63" y="162"/>
                  </a:lnTo>
                  <a:lnTo>
                    <a:pt x="36" y="156"/>
                  </a:lnTo>
                  <a:lnTo>
                    <a:pt x="24" y="151"/>
                  </a:lnTo>
                  <a:lnTo>
                    <a:pt x="17" y="147"/>
                  </a:lnTo>
                  <a:lnTo>
                    <a:pt x="13" y="142"/>
                  </a:lnTo>
                  <a:lnTo>
                    <a:pt x="9" y="138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1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49"/>
                  </a:lnTo>
                  <a:lnTo>
                    <a:pt x="368" y="49"/>
                  </a:lnTo>
                  <a:lnTo>
                    <a:pt x="368" y="102"/>
                  </a:lnTo>
                  <a:lnTo>
                    <a:pt x="380" y="93"/>
                  </a:lnTo>
                  <a:lnTo>
                    <a:pt x="393" y="84"/>
                  </a:lnTo>
                  <a:lnTo>
                    <a:pt x="405" y="77"/>
                  </a:lnTo>
                  <a:lnTo>
                    <a:pt x="416" y="70"/>
                  </a:lnTo>
                  <a:lnTo>
                    <a:pt x="427" y="64"/>
                  </a:lnTo>
                  <a:lnTo>
                    <a:pt x="439" y="56"/>
                  </a:lnTo>
                  <a:lnTo>
                    <a:pt x="453" y="51"/>
                  </a:lnTo>
                  <a:lnTo>
                    <a:pt x="466" y="45"/>
                  </a:lnTo>
                  <a:lnTo>
                    <a:pt x="492" y="34"/>
                  </a:lnTo>
                  <a:lnTo>
                    <a:pt x="518" y="24"/>
                  </a:lnTo>
                  <a:lnTo>
                    <a:pt x="544" y="17"/>
                  </a:lnTo>
                  <a:lnTo>
                    <a:pt x="567" y="11"/>
                  </a:lnTo>
                  <a:lnTo>
                    <a:pt x="591" y="6"/>
                  </a:lnTo>
                  <a:lnTo>
                    <a:pt x="614" y="2"/>
                  </a:lnTo>
                  <a:lnTo>
                    <a:pt x="637" y="1"/>
                  </a:lnTo>
                  <a:lnTo>
                    <a:pt x="659" y="0"/>
                  </a:lnTo>
                  <a:lnTo>
                    <a:pt x="672" y="0"/>
                  </a:lnTo>
                  <a:lnTo>
                    <a:pt x="683" y="0"/>
                  </a:lnTo>
                  <a:lnTo>
                    <a:pt x="691" y="1"/>
                  </a:lnTo>
                  <a:lnTo>
                    <a:pt x="699" y="1"/>
                  </a:lnTo>
                  <a:lnTo>
                    <a:pt x="732" y="6"/>
                  </a:lnTo>
                  <a:lnTo>
                    <a:pt x="763" y="12"/>
                  </a:lnTo>
                  <a:lnTo>
                    <a:pt x="791" y="21"/>
                  </a:lnTo>
                  <a:lnTo>
                    <a:pt x="817" y="30"/>
                  </a:lnTo>
                  <a:lnTo>
                    <a:pt x="829" y="37"/>
                  </a:lnTo>
                  <a:lnTo>
                    <a:pt x="842" y="43"/>
                  </a:lnTo>
                  <a:lnTo>
                    <a:pt x="853" y="49"/>
                  </a:lnTo>
                  <a:lnTo>
                    <a:pt x="862" y="56"/>
                  </a:lnTo>
                  <a:lnTo>
                    <a:pt x="872" y="64"/>
                  </a:lnTo>
                  <a:lnTo>
                    <a:pt x="882" y="71"/>
                  </a:lnTo>
                  <a:lnTo>
                    <a:pt x="891" y="80"/>
                  </a:lnTo>
                  <a:lnTo>
                    <a:pt x="899" y="88"/>
                  </a:lnTo>
                  <a:lnTo>
                    <a:pt x="907" y="97"/>
                  </a:lnTo>
                  <a:lnTo>
                    <a:pt x="913" y="107"/>
                  </a:lnTo>
                  <a:lnTo>
                    <a:pt x="920" y="118"/>
                  </a:lnTo>
                  <a:lnTo>
                    <a:pt x="926" y="129"/>
                  </a:lnTo>
                  <a:lnTo>
                    <a:pt x="931" y="140"/>
                  </a:lnTo>
                  <a:lnTo>
                    <a:pt x="936" y="152"/>
                  </a:lnTo>
                  <a:lnTo>
                    <a:pt x="941" y="166"/>
                  </a:lnTo>
                  <a:lnTo>
                    <a:pt x="946" y="179"/>
                  </a:lnTo>
                  <a:lnTo>
                    <a:pt x="952" y="207"/>
                  </a:lnTo>
                  <a:lnTo>
                    <a:pt x="957" y="238"/>
                  </a:lnTo>
                  <a:lnTo>
                    <a:pt x="961" y="271"/>
                  </a:lnTo>
                  <a:lnTo>
                    <a:pt x="961" y="307"/>
                  </a:lnTo>
                  <a:lnTo>
                    <a:pt x="961" y="792"/>
                  </a:lnTo>
                  <a:lnTo>
                    <a:pt x="961" y="805"/>
                  </a:lnTo>
                  <a:lnTo>
                    <a:pt x="961" y="814"/>
                  </a:lnTo>
                  <a:lnTo>
                    <a:pt x="961" y="833"/>
                  </a:lnTo>
                  <a:lnTo>
                    <a:pt x="962" y="843"/>
                  </a:lnTo>
                  <a:lnTo>
                    <a:pt x="965" y="851"/>
                  </a:lnTo>
                  <a:lnTo>
                    <a:pt x="968" y="857"/>
                  </a:lnTo>
                  <a:lnTo>
                    <a:pt x="972" y="859"/>
                  </a:lnTo>
                  <a:lnTo>
                    <a:pt x="999" y="872"/>
                  </a:lnTo>
                  <a:lnTo>
                    <a:pt x="1008" y="876"/>
                  </a:lnTo>
                  <a:lnTo>
                    <a:pt x="1015" y="880"/>
                  </a:lnTo>
                  <a:lnTo>
                    <a:pt x="1021" y="885"/>
                  </a:lnTo>
                  <a:lnTo>
                    <a:pt x="1027" y="890"/>
                  </a:lnTo>
                  <a:lnTo>
                    <a:pt x="1031" y="896"/>
                  </a:lnTo>
                  <a:lnTo>
                    <a:pt x="1033" y="902"/>
                  </a:lnTo>
                  <a:lnTo>
                    <a:pt x="1036" y="908"/>
                  </a:lnTo>
                  <a:lnTo>
                    <a:pt x="1036" y="916"/>
                  </a:lnTo>
                  <a:lnTo>
                    <a:pt x="1036" y="977"/>
                  </a:lnTo>
                  <a:lnTo>
                    <a:pt x="589" y="977"/>
                  </a:lnTo>
                  <a:lnTo>
                    <a:pt x="589" y="915"/>
                  </a:lnTo>
                  <a:lnTo>
                    <a:pt x="591" y="907"/>
                  </a:lnTo>
                  <a:lnTo>
                    <a:pt x="592" y="900"/>
                  </a:lnTo>
                  <a:lnTo>
                    <a:pt x="596" y="894"/>
                  </a:lnTo>
                  <a:lnTo>
                    <a:pt x="599" y="889"/>
                  </a:lnTo>
                  <a:lnTo>
                    <a:pt x="605" y="884"/>
                  </a:lnTo>
                  <a:lnTo>
                    <a:pt x="612" y="879"/>
                  </a:lnTo>
                  <a:lnTo>
                    <a:pt x="619" y="874"/>
                  </a:lnTo>
                  <a:lnTo>
                    <a:pt x="629" y="870"/>
                  </a:lnTo>
                  <a:lnTo>
                    <a:pt x="641" y="865"/>
                  </a:lnTo>
                  <a:lnTo>
                    <a:pt x="648" y="853"/>
                  </a:lnTo>
                  <a:lnTo>
                    <a:pt x="652" y="843"/>
                  </a:lnTo>
                  <a:lnTo>
                    <a:pt x="652" y="836"/>
                  </a:lnTo>
                  <a:lnTo>
                    <a:pt x="652" y="824"/>
                  </a:lnTo>
                  <a:lnTo>
                    <a:pt x="652" y="806"/>
                  </a:lnTo>
                  <a:lnTo>
                    <a:pt x="652" y="799"/>
                  </a:lnTo>
                  <a:lnTo>
                    <a:pt x="652" y="356"/>
                  </a:lnTo>
                  <a:lnTo>
                    <a:pt x="652" y="326"/>
                  </a:lnTo>
                  <a:lnTo>
                    <a:pt x="652" y="313"/>
                  </a:lnTo>
                  <a:lnTo>
                    <a:pt x="646" y="287"/>
                  </a:lnTo>
                  <a:lnTo>
                    <a:pt x="644" y="276"/>
                  </a:lnTo>
                  <a:lnTo>
                    <a:pt x="640" y="266"/>
                  </a:lnTo>
                  <a:lnTo>
                    <a:pt x="636" y="258"/>
                  </a:lnTo>
                  <a:lnTo>
                    <a:pt x="632" y="249"/>
                  </a:lnTo>
                  <a:lnTo>
                    <a:pt x="628" y="240"/>
                  </a:lnTo>
                  <a:lnTo>
                    <a:pt x="623" y="234"/>
                  </a:lnTo>
                  <a:lnTo>
                    <a:pt x="616" y="227"/>
                  </a:lnTo>
                  <a:lnTo>
                    <a:pt x="610" y="222"/>
                  </a:lnTo>
                  <a:lnTo>
                    <a:pt x="603" y="216"/>
                  </a:lnTo>
                  <a:lnTo>
                    <a:pt x="596" y="212"/>
                  </a:lnTo>
                  <a:lnTo>
                    <a:pt x="588" y="208"/>
                  </a:lnTo>
                  <a:lnTo>
                    <a:pt x="580" y="205"/>
                  </a:lnTo>
                  <a:lnTo>
                    <a:pt x="571" y="202"/>
                  </a:lnTo>
                  <a:lnTo>
                    <a:pt x="561" y="201"/>
                  </a:lnTo>
                  <a:lnTo>
                    <a:pt x="551" y="200"/>
                  </a:lnTo>
                  <a:lnTo>
                    <a:pt x="541" y="200"/>
                  </a:lnTo>
                  <a:lnTo>
                    <a:pt x="527" y="200"/>
                  </a:lnTo>
                  <a:lnTo>
                    <a:pt x="512" y="202"/>
                  </a:lnTo>
                  <a:lnTo>
                    <a:pt x="497" y="206"/>
                  </a:lnTo>
                  <a:lnTo>
                    <a:pt x="482" y="211"/>
                  </a:lnTo>
                  <a:lnTo>
                    <a:pt x="466" y="218"/>
                  </a:lnTo>
                  <a:lnTo>
                    <a:pt x="450" y="226"/>
                  </a:lnTo>
                  <a:lnTo>
                    <a:pt x="436" y="235"/>
                  </a:lnTo>
                  <a:lnTo>
                    <a:pt x="418" y="247"/>
                  </a:lnTo>
                  <a:lnTo>
                    <a:pt x="384" y="276"/>
                  </a:lnTo>
                  <a:lnTo>
                    <a:pt x="384" y="794"/>
                  </a:lnTo>
                  <a:lnTo>
                    <a:pt x="384" y="806"/>
                  </a:lnTo>
                  <a:lnTo>
                    <a:pt x="384" y="826"/>
                  </a:lnTo>
                  <a:lnTo>
                    <a:pt x="384" y="836"/>
                  </a:lnTo>
                  <a:lnTo>
                    <a:pt x="388" y="845"/>
                  </a:lnTo>
                  <a:lnTo>
                    <a:pt x="390" y="851"/>
                  </a:lnTo>
                  <a:lnTo>
                    <a:pt x="395" y="857"/>
                  </a:lnTo>
                  <a:lnTo>
                    <a:pt x="400" y="860"/>
                  </a:lnTo>
                  <a:lnTo>
                    <a:pt x="406" y="865"/>
                  </a:lnTo>
                  <a:lnTo>
                    <a:pt x="420" y="870"/>
                  </a:lnTo>
                  <a:lnTo>
                    <a:pt x="428" y="874"/>
                  </a:lnTo>
                  <a:lnTo>
                    <a:pt x="436" y="879"/>
                  </a:lnTo>
                  <a:lnTo>
                    <a:pt x="443" y="884"/>
                  </a:lnTo>
                  <a:lnTo>
                    <a:pt x="448" y="889"/>
                  </a:lnTo>
                  <a:lnTo>
                    <a:pt x="452" y="894"/>
                  </a:lnTo>
                  <a:lnTo>
                    <a:pt x="455" y="900"/>
                  </a:lnTo>
                  <a:lnTo>
                    <a:pt x="457" y="907"/>
                  </a:lnTo>
                  <a:lnTo>
                    <a:pt x="457" y="915"/>
                  </a:lnTo>
                  <a:lnTo>
                    <a:pt x="457" y="977"/>
                  </a:lnTo>
                  <a:lnTo>
                    <a:pt x="0" y="977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943840" y="447840"/>
              <a:ext cx="54000" cy="115560"/>
            </a:xfrm>
            <a:custGeom>
              <a:avLst/>
              <a:gdLst/>
              <a:ahLst/>
              <a:rect l="l" t="t" r="r" b="b"/>
              <a:pathLst>
                <a:path w="655" h="1349">
                  <a:moveTo>
                    <a:pt x="0" y="579"/>
                  </a:moveTo>
                  <a:lnTo>
                    <a:pt x="0" y="393"/>
                  </a:lnTo>
                  <a:lnTo>
                    <a:pt x="95" y="393"/>
                  </a:lnTo>
                  <a:lnTo>
                    <a:pt x="95" y="101"/>
                  </a:lnTo>
                  <a:lnTo>
                    <a:pt x="394" y="0"/>
                  </a:lnTo>
                  <a:lnTo>
                    <a:pt x="394" y="393"/>
                  </a:lnTo>
                  <a:lnTo>
                    <a:pt x="630" y="393"/>
                  </a:lnTo>
                  <a:lnTo>
                    <a:pt x="630" y="579"/>
                  </a:lnTo>
                  <a:lnTo>
                    <a:pt x="394" y="579"/>
                  </a:lnTo>
                  <a:lnTo>
                    <a:pt x="394" y="1055"/>
                  </a:lnTo>
                  <a:lnTo>
                    <a:pt x="394" y="1067"/>
                  </a:lnTo>
                  <a:lnTo>
                    <a:pt x="399" y="1085"/>
                  </a:lnTo>
                  <a:lnTo>
                    <a:pt x="400" y="1093"/>
                  </a:lnTo>
                  <a:lnTo>
                    <a:pt x="401" y="1100"/>
                  </a:lnTo>
                  <a:lnTo>
                    <a:pt x="404" y="1107"/>
                  </a:lnTo>
                  <a:lnTo>
                    <a:pt x="406" y="1114"/>
                  </a:lnTo>
                  <a:lnTo>
                    <a:pt x="410" y="1120"/>
                  </a:lnTo>
                  <a:lnTo>
                    <a:pt x="415" y="1126"/>
                  </a:lnTo>
                  <a:lnTo>
                    <a:pt x="420" y="1131"/>
                  </a:lnTo>
                  <a:lnTo>
                    <a:pt x="427" y="1136"/>
                  </a:lnTo>
                  <a:lnTo>
                    <a:pt x="434" y="1141"/>
                  </a:lnTo>
                  <a:lnTo>
                    <a:pt x="443" y="1144"/>
                  </a:lnTo>
                  <a:lnTo>
                    <a:pt x="452" y="1147"/>
                  </a:lnTo>
                  <a:lnTo>
                    <a:pt x="461" y="1147"/>
                  </a:lnTo>
                  <a:lnTo>
                    <a:pt x="470" y="1147"/>
                  </a:lnTo>
                  <a:lnTo>
                    <a:pt x="479" y="1144"/>
                  </a:lnTo>
                  <a:lnTo>
                    <a:pt x="486" y="1141"/>
                  </a:lnTo>
                  <a:lnTo>
                    <a:pt x="495" y="1137"/>
                  </a:lnTo>
                  <a:lnTo>
                    <a:pt x="502" y="1131"/>
                  </a:lnTo>
                  <a:lnTo>
                    <a:pt x="509" y="1123"/>
                  </a:lnTo>
                  <a:lnTo>
                    <a:pt x="518" y="1115"/>
                  </a:lnTo>
                  <a:lnTo>
                    <a:pt x="525" y="1105"/>
                  </a:lnTo>
                  <a:lnTo>
                    <a:pt x="532" y="1094"/>
                  </a:lnTo>
                  <a:lnTo>
                    <a:pt x="549" y="1066"/>
                  </a:lnTo>
                  <a:lnTo>
                    <a:pt x="553" y="1058"/>
                  </a:lnTo>
                  <a:lnTo>
                    <a:pt x="554" y="1056"/>
                  </a:lnTo>
                  <a:lnTo>
                    <a:pt x="559" y="1053"/>
                  </a:lnTo>
                  <a:lnTo>
                    <a:pt x="566" y="1051"/>
                  </a:lnTo>
                  <a:lnTo>
                    <a:pt x="576" y="1049"/>
                  </a:lnTo>
                  <a:lnTo>
                    <a:pt x="587" y="1047"/>
                  </a:lnTo>
                  <a:lnTo>
                    <a:pt x="599" y="1046"/>
                  </a:lnTo>
                  <a:lnTo>
                    <a:pt x="612" y="1046"/>
                  </a:lnTo>
                  <a:lnTo>
                    <a:pt x="625" y="1045"/>
                  </a:lnTo>
                  <a:lnTo>
                    <a:pt x="655" y="1047"/>
                  </a:lnTo>
                  <a:lnTo>
                    <a:pt x="655" y="1272"/>
                  </a:lnTo>
                  <a:lnTo>
                    <a:pt x="635" y="1284"/>
                  </a:lnTo>
                  <a:lnTo>
                    <a:pt x="615" y="1294"/>
                  </a:lnTo>
                  <a:lnTo>
                    <a:pt x="594" y="1304"/>
                  </a:lnTo>
                  <a:lnTo>
                    <a:pt x="575" y="1313"/>
                  </a:lnTo>
                  <a:lnTo>
                    <a:pt x="551" y="1321"/>
                  </a:lnTo>
                  <a:lnTo>
                    <a:pt x="528" y="1328"/>
                  </a:lnTo>
                  <a:lnTo>
                    <a:pt x="506" y="1335"/>
                  </a:lnTo>
                  <a:lnTo>
                    <a:pt x="482" y="1340"/>
                  </a:lnTo>
                  <a:lnTo>
                    <a:pt x="460" y="1343"/>
                  </a:lnTo>
                  <a:lnTo>
                    <a:pt x="438" y="1347"/>
                  </a:lnTo>
                  <a:lnTo>
                    <a:pt x="416" y="1348"/>
                  </a:lnTo>
                  <a:lnTo>
                    <a:pt x="394" y="1349"/>
                  </a:lnTo>
                  <a:lnTo>
                    <a:pt x="373" y="1348"/>
                  </a:lnTo>
                  <a:lnTo>
                    <a:pt x="359" y="1347"/>
                  </a:lnTo>
                  <a:lnTo>
                    <a:pt x="324" y="1343"/>
                  </a:lnTo>
                  <a:lnTo>
                    <a:pt x="292" y="1337"/>
                  </a:lnTo>
                  <a:lnTo>
                    <a:pt x="262" y="1330"/>
                  </a:lnTo>
                  <a:lnTo>
                    <a:pt x="234" y="1320"/>
                  </a:lnTo>
                  <a:lnTo>
                    <a:pt x="222" y="1315"/>
                  </a:lnTo>
                  <a:lnTo>
                    <a:pt x="209" y="1309"/>
                  </a:lnTo>
                  <a:lnTo>
                    <a:pt x="198" y="1303"/>
                  </a:lnTo>
                  <a:lnTo>
                    <a:pt x="188" y="1297"/>
                  </a:lnTo>
                  <a:lnTo>
                    <a:pt x="177" y="1289"/>
                  </a:lnTo>
                  <a:lnTo>
                    <a:pt x="169" y="1282"/>
                  </a:lnTo>
                  <a:lnTo>
                    <a:pt x="160" y="1273"/>
                  </a:lnTo>
                  <a:lnTo>
                    <a:pt x="152" y="1265"/>
                  </a:lnTo>
                  <a:lnTo>
                    <a:pt x="144" y="1256"/>
                  </a:lnTo>
                  <a:lnTo>
                    <a:pt x="137" y="1246"/>
                  </a:lnTo>
                  <a:lnTo>
                    <a:pt x="131" y="1236"/>
                  </a:lnTo>
                  <a:lnTo>
                    <a:pt x="124" y="1225"/>
                  </a:lnTo>
                  <a:lnTo>
                    <a:pt x="120" y="1214"/>
                  </a:lnTo>
                  <a:lnTo>
                    <a:pt x="113" y="1203"/>
                  </a:lnTo>
                  <a:lnTo>
                    <a:pt x="110" y="1190"/>
                  </a:lnTo>
                  <a:lnTo>
                    <a:pt x="105" y="1177"/>
                  </a:lnTo>
                  <a:lnTo>
                    <a:pt x="99" y="1149"/>
                  </a:lnTo>
                  <a:lnTo>
                    <a:pt x="94" y="1119"/>
                  </a:lnTo>
                  <a:lnTo>
                    <a:pt x="91" y="1085"/>
                  </a:lnTo>
                  <a:lnTo>
                    <a:pt x="90" y="1051"/>
                  </a:lnTo>
                  <a:lnTo>
                    <a:pt x="90" y="579"/>
                  </a:lnTo>
                  <a:lnTo>
                    <a:pt x="0" y="579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999640" y="477720"/>
              <a:ext cx="81000" cy="85680"/>
            </a:xfrm>
            <a:custGeom>
              <a:avLst/>
              <a:gdLst/>
              <a:ahLst/>
              <a:rect l="l" t="t" r="r" b="b"/>
              <a:pathLst>
                <a:path w="1011" h="997">
                  <a:moveTo>
                    <a:pt x="622" y="312"/>
                  </a:moveTo>
                  <a:lnTo>
                    <a:pt x="622" y="272"/>
                  </a:lnTo>
                  <a:lnTo>
                    <a:pt x="622" y="262"/>
                  </a:lnTo>
                  <a:lnTo>
                    <a:pt x="621" y="253"/>
                  </a:lnTo>
                  <a:lnTo>
                    <a:pt x="620" y="243"/>
                  </a:lnTo>
                  <a:lnTo>
                    <a:pt x="617" y="234"/>
                  </a:lnTo>
                  <a:lnTo>
                    <a:pt x="613" y="227"/>
                  </a:lnTo>
                  <a:lnTo>
                    <a:pt x="610" y="219"/>
                  </a:lnTo>
                  <a:lnTo>
                    <a:pt x="605" y="212"/>
                  </a:lnTo>
                  <a:lnTo>
                    <a:pt x="600" y="206"/>
                  </a:lnTo>
                  <a:lnTo>
                    <a:pt x="594" y="201"/>
                  </a:lnTo>
                  <a:lnTo>
                    <a:pt x="586" y="196"/>
                  </a:lnTo>
                  <a:lnTo>
                    <a:pt x="578" y="191"/>
                  </a:lnTo>
                  <a:lnTo>
                    <a:pt x="568" y="186"/>
                  </a:lnTo>
                  <a:lnTo>
                    <a:pt x="557" y="183"/>
                  </a:lnTo>
                  <a:lnTo>
                    <a:pt x="546" y="179"/>
                  </a:lnTo>
                  <a:lnTo>
                    <a:pt x="532" y="175"/>
                  </a:lnTo>
                  <a:lnTo>
                    <a:pt x="519" y="173"/>
                  </a:lnTo>
                  <a:lnTo>
                    <a:pt x="503" y="172"/>
                  </a:lnTo>
                  <a:lnTo>
                    <a:pt x="488" y="170"/>
                  </a:lnTo>
                  <a:lnTo>
                    <a:pt x="474" y="169"/>
                  </a:lnTo>
                  <a:lnTo>
                    <a:pt x="462" y="169"/>
                  </a:lnTo>
                  <a:lnTo>
                    <a:pt x="446" y="169"/>
                  </a:lnTo>
                  <a:lnTo>
                    <a:pt x="429" y="170"/>
                  </a:lnTo>
                  <a:lnTo>
                    <a:pt x="409" y="173"/>
                  </a:lnTo>
                  <a:lnTo>
                    <a:pt x="388" y="175"/>
                  </a:lnTo>
                  <a:lnTo>
                    <a:pt x="351" y="181"/>
                  </a:lnTo>
                  <a:lnTo>
                    <a:pt x="319" y="188"/>
                  </a:lnTo>
                  <a:lnTo>
                    <a:pt x="296" y="194"/>
                  </a:lnTo>
                  <a:lnTo>
                    <a:pt x="279" y="200"/>
                  </a:lnTo>
                  <a:lnTo>
                    <a:pt x="271" y="203"/>
                  </a:lnTo>
                  <a:lnTo>
                    <a:pt x="265" y="208"/>
                  </a:lnTo>
                  <a:lnTo>
                    <a:pt x="258" y="213"/>
                  </a:lnTo>
                  <a:lnTo>
                    <a:pt x="251" y="219"/>
                  </a:lnTo>
                  <a:lnTo>
                    <a:pt x="236" y="234"/>
                  </a:lnTo>
                  <a:lnTo>
                    <a:pt x="221" y="253"/>
                  </a:lnTo>
                  <a:lnTo>
                    <a:pt x="211" y="264"/>
                  </a:lnTo>
                  <a:lnTo>
                    <a:pt x="205" y="267"/>
                  </a:lnTo>
                  <a:lnTo>
                    <a:pt x="198" y="270"/>
                  </a:lnTo>
                  <a:lnTo>
                    <a:pt x="188" y="272"/>
                  </a:lnTo>
                  <a:lnTo>
                    <a:pt x="177" y="275"/>
                  </a:lnTo>
                  <a:lnTo>
                    <a:pt x="163" y="276"/>
                  </a:lnTo>
                  <a:lnTo>
                    <a:pt x="147" y="277"/>
                  </a:lnTo>
                  <a:lnTo>
                    <a:pt x="128" y="278"/>
                  </a:lnTo>
                  <a:lnTo>
                    <a:pt x="105" y="278"/>
                  </a:lnTo>
                  <a:lnTo>
                    <a:pt x="76" y="276"/>
                  </a:lnTo>
                  <a:lnTo>
                    <a:pt x="76" y="52"/>
                  </a:lnTo>
                  <a:lnTo>
                    <a:pt x="121" y="40"/>
                  </a:lnTo>
                  <a:lnTo>
                    <a:pt x="158" y="32"/>
                  </a:lnTo>
                  <a:lnTo>
                    <a:pt x="194" y="24"/>
                  </a:lnTo>
                  <a:lnTo>
                    <a:pt x="228" y="17"/>
                  </a:lnTo>
                  <a:lnTo>
                    <a:pt x="262" y="11"/>
                  </a:lnTo>
                  <a:lnTo>
                    <a:pt x="292" y="6"/>
                  </a:lnTo>
                  <a:lnTo>
                    <a:pt x="322" y="3"/>
                  </a:lnTo>
                  <a:lnTo>
                    <a:pt x="349" y="1"/>
                  </a:lnTo>
                  <a:lnTo>
                    <a:pt x="375" y="0"/>
                  </a:lnTo>
                  <a:lnTo>
                    <a:pt x="447" y="1"/>
                  </a:lnTo>
                  <a:lnTo>
                    <a:pt x="514" y="5"/>
                  </a:lnTo>
                  <a:lnTo>
                    <a:pt x="546" y="7"/>
                  </a:lnTo>
                  <a:lnTo>
                    <a:pt x="575" y="9"/>
                  </a:lnTo>
                  <a:lnTo>
                    <a:pt x="605" y="13"/>
                  </a:lnTo>
                  <a:lnTo>
                    <a:pt x="632" y="18"/>
                  </a:lnTo>
                  <a:lnTo>
                    <a:pt x="658" y="23"/>
                  </a:lnTo>
                  <a:lnTo>
                    <a:pt x="684" y="28"/>
                  </a:lnTo>
                  <a:lnTo>
                    <a:pt x="707" y="33"/>
                  </a:lnTo>
                  <a:lnTo>
                    <a:pt x="729" y="40"/>
                  </a:lnTo>
                  <a:lnTo>
                    <a:pt x="749" y="46"/>
                  </a:lnTo>
                  <a:lnTo>
                    <a:pt x="768" y="54"/>
                  </a:lnTo>
                  <a:lnTo>
                    <a:pt x="787" y="62"/>
                  </a:lnTo>
                  <a:lnTo>
                    <a:pt x="804" y="70"/>
                  </a:lnTo>
                  <a:lnTo>
                    <a:pt x="819" y="79"/>
                  </a:lnTo>
                  <a:lnTo>
                    <a:pt x="834" y="89"/>
                  </a:lnTo>
                  <a:lnTo>
                    <a:pt x="847" y="99"/>
                  </a:lnTo>
                  <a:lnTo>
                    <a:pt x="859" y="110"/>
                  </a:lnTo>
                  <a:lnTo>
                    <a:pt x="872" y="122"/>
                  </a:lnTo>
                  <a:lnTo>
                    <a:pt x="882" y="135"/>
                  </a:lnTo>
                  <a:lnTo>
                    <a:pt x="891" y="148"/>
                  </a:lnTo>
                  <a:lnTo>
                    <a:pt x="900" y="162"/>
                  </a:lnTo>
                  <a:lnTo>
                    <a:pt x="907" y="176"/>
                  </a:lnTo>
                  <a:lnTo>
                    <a:pt x="914" y="192"/>
                  </a:lnTo>
                  <a:lnTo>
                    <a:pt x="920" y="208"/>
                  </a:lnTo>
                  <a:lnTo>
                    <a:pt x="923" y="224"/>
                  </a:lnTo>
                  <a:lnTo>
                    <a:pt x="927" y="242"/>
                  </a:lnTo>
                  <a:lnTo>
                    <a:pt x="930" y="260"/>
                  </a:lnTo>
                  <a:lnTo>
                    <a:pt x="931" y="278"/>
                  </a:lnTo>
                  <a:lnTo>
                    <a:pt x="932" y="298"/>
                  </a:lnTo>
                  <a:lnTo>
                    <a:pt x="932" y="763"/>
                  </a:lnTo>
                  <a:lnTo>
                    <a:pt x="932" y="793"/>
                  </a:lnTo>
                  <a:lnTo>
                    <a:pt x="932" y="804"/>
                  </a:lnTo>
                  <a:lnTo>
                    <a:pt x="937" y="835"/>
                  </a:lnTo>
                  <a:lnTo>
                    <a:pt x="950" y="857"/>
                  </a:lnTo>
                  <a:lnTo>
                    <a:pt x="974" y="865"/>
                  </a:lnTo>
                  <a:lnTo>
                    <a:pt x="982" y="869"/>
                  </a:lnTo>
                  <a:lnTo>
                    <a:pt x="990" y="874"/>
                  </a:lnTo>
                  <a:lnTo>
                    <a:pt x="996" y="879"/>
                  </a:lnTo>
                  <a:lnTo>
                    <a:pt x="1001" y="884"/>
                  </a:lnTo>
                  <a:lnTo>
                    <a:pt x="1005" y="889"/>
                  </a:lnTo>
                  <a:lnTo>
                    <a:pt x="1008" y="895"/>
                  </a:lnTo>
                  <a:lnTo>
                    <a:pt x="1009" y="902"/>
                  </a:lnTo>
                  <a:lnTo>
                    <a:pt x="1011" y="910"/>
                  </a:lnTo>
                  <a:lnTo>
                    <a:pt x="1011" y="972"/>
                  </a:lnTo>
                  <a:lnTo>
                    <a:pt x="633" y="972"/>
                  </a:lnTo>
                  <a:lnTo>
                    <a:pt x="633" y="919"/>
                  </a:lnTo>
                  <a:lnTo>
                    <a:pt x="605" y="938"/>
                  </a:lnTo>
                  <a:lnTo>
                    <a:pt x="577" y="954"/>
                  </a:lnTo>
                  <a:lnTo>
                    <a:pt x="562" y="960"/>
                  </a:lnTo>
                  <a:lnTo>
                    <a:pt x="547" y="966"/>
                  </a:lnTo>
                  <a:lnTo>
                    <a:pt x="532" y="972"/>
                  </a:lnTo>
                  <a:lnTo>
                    <a:pt x="517" y="977"/>
                  </a:lnTo>
                  <a:lnTo>
                    <a:pt x="501" y="982"/>
                  </a:lnTo>
                  <a:lnTo>
                    <a:pt x="487" y="986"/>
                  </a:lnTo>
                  <a:lnTo>
                    <a:pt x="471" y="989"/>
                  </a:lnTo>
                  <a:lnTo>
                    <a:pt x="456" y="992"/>
                  </a:lnTo>
                  <a:lnTo>
                    <a:pt x="440" y="993"/>
                  </a:lnTo>
                  <a:lnTo>
                    <a:pt x="424" y="995"/>
                  </a:lnTo>
                  <a:lnTo>
                    <a:pt x="408" y="995"/>
                  </a:lnTo>
                  <a:lnTo>
                    <a:pt x="391" y="997"/>
                  </a:lnTo>
                  <a:lnTo>
                    <a:pt x="359" y="995"/>
                  </a:lnTo>
                  <a:lnTo>
                    <a:pt x="329" y="995"/>
                  </a:lnTo>
                  <a:lnTo>
                    <a:pt x="301" y="993"/>
                  </a:lnTo>
                  <a:lnTo>
                    <a:pt x="275" y="991"/>
                  </a:lnTo>
                  <a:lnTo>
                    <a:pt x="252" y="988"/>
                  </a:lnTo>
                  <a:lnTo>
                    <a:pt x="230" y="984"/>
                  </a:lnTo>
                  <a:lnTo>
                    <a:pt x="210" y="981"/>
                  </a:lnTo>
                  <a:lnTo>
                    <a:pt x="193" y="976"/>
                  </a:lnTo>
                  <a:lnTo>
                    <a:pt x="177" y="970"/>
                  </a:lnTo>
                  <a:lnTo>
                    <a:pt x="161" y="962"/>
                  </a:lnTo>
                  <a:lnTo>
                    <a:pt x="146" y="955"/>
                  </a:lnTo>
                  <a:lnTo>
                    <a:pt x="130" y="945"/>
                  </a:lnTo>
                  <a:lnTo>
                    <a:pt x="115" y="934"/>
                  </a:lnTo>
                  <a:lnTo>
                    <a:pt x="102" y="923"/>
                  </a:lnTo>
                  <a:lnTo>
                    <a:pt x="88" y="911"/>
                  </a:lnTo>
                  <a:lnTo>
                    <a:pt x="75" y="896"/>
                  </a:lnTo>
                  <a:lnTo>
                    <a:pt x="57" y="875"/>
                  </a:lnTo>
                  <a:lnTo>
                    <a:pt x="41" y="853"/>
                  </a:lnTo>
                  <a:lnTo>
                    <a:pt x="29" y="831"/>
                  </a:lnTo>
                  <a:lnTo>
                    <a:pt x="18" y="808"/>
                  </a:lnTo>
                  <a:lnTo>
                    <a:pt x="11" y="784"/>
                  </a:lnTo>
                  <a:lnTo>
                    <a:pt x="5" y="761"/>
                  </a:lnTo>
                  <a:lnTo>
                    <a:pt x="1" y="736"/>
                  </a:lnTo>
                  <a:lnTo>
                    <a:pt x="0" y="711"/>
                  </a:lnTo>
                  <a:lnTo>
                    <a:pt x="1" y="691"/>
                  </a:lnTo>
                  <a:lnTo>
                    <a:pt x="3" y="669"/>
                  </a:lnTo>
                  <a:lnTo>
                    <a:pt x="8" y="646"/>
                  </a:lnTo>
                  <a:lnTo>
                    <a:pt x="14" y="620"/>
                  </a:lnTo>
                  <a:lnTo>
                    <a:pt x="18" y="607"/>
                  </a:lnTo>
                  <a:lnTo>
                    <a:pt x="23" y="595"/>
                  </a:lnTo>
                  <a:lnTo>
                    <a:pt x="28" y="583"/>
                  </a:lnTo>
                  <a:lnTo>
                    <a:pt x="34" y="571"/>
                  </a:lnTo>
                  <a:lnTo>
                    <a:pt x="40" y="558"/>
                  </a:lnTo>
                  <a:lnTo>
                    <a:pt x="46" y="547"/>
                  </a:lnTo>
                  <a:lnTo>
                    <a:pt x="54" y="536"/>
                  </a:lnTo>
                  <a:lnTo>
                    <a:pt x="62" y="525"/>
                  </a:lnTo>
                  <a:lnTo>
                    <a:pt x="70" y="515"/>
                  </a:lnTo>
                  <a:lnTo>
                    <a:pt x="80" y="504"/>
                  </a:lnTo>
                  <a:lnTo>
                    <a:pt x="89" y="494"/>
                  </a:lnTo>
                  <a:lnTo>
                    <a:pt x="99" y="485"/>
                  </a:lnTo>
                  <a:lnTo>
                    <a:pt x="121" y="466"/>
                  </a:lnTo>
                  <a:lnTo>
                    <a:pt x="146" y="449"/>
                  </a:lnTo>
                  <a:lnTo>
                    <a:pt x="177" y="431"/>
                  </a:lnTo>
                  <a:lnTo>
                    <a:pt x="210" y="413"/>
                  </a:lnTo>
                  <a:lnTo>
                    <a:pt x="247" y="397"/>
                  </a:lnTo>
                  <a:lnTo>
                    <a:pt x="287" y="383"/>
                  </a:lnTo>
                  <a:lnTo>
                    <a:pt x="332" y="368"/>
                  </a:lnTo>
                  <a:lnTo>
                    <a:pt x="378" y="355"/>
                  </a:lnTo>
                  <a:lnTo>
                    <a:pt x="430" y="342"/>
                  </a:lnTo>
                  <a:lnTo>
                    <a:pt x="484" y="331"/>
                  </a:lnTo>
                  <a:lnTo>
                    <a:pt x="503" y="329"/>
                  </a:lnTo>
                  <a:lnTo>
                    <a:pt x="522" y="325"/>
                  </a:lnTo>
                  <a:lnTo>
                    <a:pt x="541" y="321"/>
                  </a:lnTo>
                  <a:lnTo>
                    <a:pt x="561" y="318"/>
                  </a:lnTo>
                  <a:lnTo>
                    <a:pt x="622" y="312"/>
                  </a:lnTo>
                  <a:close/>
                  <a:moveTo>
                    <a:pt x="602" y="503"/>
                  </a:moveTo>
                  <a:lnTo>
                    <a:pt x="573" y="507"/>
                  </a:lnTo>
                  <a:lnTo>
                    <a:pt x="549" y="510"/>
                  </a:lnTo>
                  <a:lnTo>
                    <a:pt x="529" y="514"/>
                  </a:lnTo>
                  <a:lnTo>
                    <a:pt x="509" y="519"/>
                  </a:lnTo>
                  <a:lnTo>
                    <a:pt x="492" y="524"/>
                  </a:lnTo>
                  <a:lnTo>
                    <a:pt x="463" y="533"/>
                  </a:lnTo>
                  <a:lnTo>
                    <a:pt x="440" y="540"/>
                  </a:lnTo>
                  <a:lnTo>
                    <a:pt x="420" y="547"/>
                  </a:lnTo>
                  <a:lnTo>
                    <a:pt x="404" y="555"/>
                  </a:lnTo>
                  <a:lnTo>
                    <a:pt x="392" y="561"/>
                  </a:lnTo>
                  <a:lnTo>
                    <a:pt x="381" y="568"/>
                  </a:lnTo>
                  <a:lnTo>
                    <a:pt x="371" y="576"/>
                  </a:lnTo>
                  <a:lnTo>
                    <a:pt x="363" y="584"/>
                  </a:lnTo>
                  <a:lnTo>
                    <a:pt x="351" y="596"/>
                  </a:lnTo>
                  <a:lnTo>
                    <a:pt x="340" y="609"/>
                  </a:lnTo>
                  <a:lnTo>
                    <a:pt x="332" y="622"/>
                  </a:lnTo>
                  <a:lnTo>
                    <a:pt x="324" y="637"/>
                  </a:lnTo>
                  <a:lnTo>
                    <a:pt x="318" y="652"/>
                  </a:lnTo>
                  <a:lnTo>
                    <a:pt x="315" y="666"/>
                  </a:lnTo>
                  <a:lnTo>
                    <a:pt x="312" y="680"/>
                  </a:lnTo>
                  <a:lnTo>
                    <a:pt x="311" y="692"/>
                  </a:lnTo>
                  <a:lnTo>
                    <a:pt x="312" y="707"/>
                  </a:lnTo>
                  <a:lnTo>
                    <a:pt x="313" y="720"/>
                  </a:lnTo>
                  <a:lnTo>
                    <a:pt x="316" y="733"/>
                  </a:lnTo>
                  <a:lnTo>
                    <a:pt x="318" y="744"/>
                  </a:lnTo>
                  <a:lnTo>
                    <a:pt x="323" y="755"/>
                  </a:lnTo>
                  <a:lnTo>
                    <a:pt x="328" y="765"/>
                  </a:lnTo>
                  <a:lnTo>
                    <a:pt x="334" y="773"/>
                  </a:lnTo>
                  <a:lnTo>
                    <a:pt x="340" y="782"/>
                  </a:lnTo>
                  <a:lnTo>
                    <a:pt x="349" y="788"/>
                  </a:lnTo>
                  <a:lnTo>
                    <a:pt x="358" y="794"/>
                  </a:lnTo>
                  <a:lnTo>
                    <a:pt x="367" y="799"/>
                  </a:lnTo>
                  <a:lnTo>
                    <a:pt x="377" y="804"/>
                  </a:lnTo>
                  <a:lnTo>
                    <a:pt x="390" y="806"/>
                  </a:lnTo>
                  <a:lnTo>
                    <a:pt x="402" y="809"/>
                  </a:lnTo>
                  <a:lnTo>
                    <a:pt x="415" y="810"/>
                  </a:lnTo>
                  <a:lnTo>
                    <a:pt x="429" y="811"/>
                  </a:lnTo>
                  <a:lnTo>
                    <a:pt x="444" y="811"/>
                  </a:lnTo>
                  <a:lnTo>
                    <a:pt x="454" y="811"/>
                  </a:lnTo>
                  <a:lnTo>
                    <a:pt x="467" y="810"/>
                  </a:lnTo>
                  <a:lnTo>
                    <a:pt x="482" y="808"/>
                  </a:lnTo>
                  <a:lnTo>
                    <a:pt x="495" y="805"/>
                  </a:lnTo>
                  <a:lnTo>
                    <a:pt x="510" y="800"/>
                  </a:lnTo>
                  <a:lnTo>
                    <a:pt x="525" y="794"/>
                  </a:lnTo>
                  <a:lnTo>
                    <a:pt x="540" y="787"/>
                  </a:lnTo>
                  <a:lnTo>
                    <a:pt x="554" y="779"/>
                  </a:lnTo>
                  <a:lnTo>
                    <a:pt x="569" y="770"/>
                  </a:lnTo>
                  <a:lnTo>
                    <a:pt x="586" y="756"/>
                  </a:lnTo>
                  <a:lnTo>
                    <a:pt x="594" y="749"/>
                  </a:lnTo>
                  <a:lnTo>
                    <a:pt x="601" y="740"/>
                  </a:lnTo>
                  <a:lnTo>
                    <a:pt x="609" y="730"/>
                  </a:lnTo>
                  <a:lnTo>
                    <a:pt x="616" y="720"/>
                  </a:lnTo>
                  <a:lnTo>
                    <a:pt x="622" y="709"/>
                  </a:lnTo>
                  <a:lnTo>
                    <a:pt x="622" y="502"/>
                  </a:lnTo>
                  <a:lnTo>
                    <a:pt x="602" y="503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85320" y="449280"/>
              <a:ext cx="38160" cy="111240"/>
            </a:xfrm>
            <a:custGeom>
              <a:avLst/>
              <a:gdLst/>
              <a:ahLst/>
              <a:rect l="l" t="t" r="r" b="b"/>
              <a:pathLst>
                <a:path w="468" h="1308">
                  <a:moveTo>
                    <a:pt x="0" y="1308"/>
                  </a:moveTo>
                  <a:lnTo>
                    <a:pt x="0" y="1246"/>
                  </a:lnTo>
                  <a:lnTo>
                    <a:pt x="1" y="1238"/>
                  </a:lnTo>
                  <a:lnTo>
                    <a:pt x="3" y="1230"/>
                  </a:lnTo>
                  <a:lnTo>
                    <a:pt x="8" y="1222"/>
                  </a:lnTo>
                  <a:lnTo>
                    <a:pt x="16" y="1215"/>
                  </a:lnTo>
                  <a:lnTo>
                    <a:pt x="22" y="1209"/>
                  </a:lnTo>
                  <a:lnTo>
                    <a:pt x="29" y="1203"/>
                  </a:lnTo>
                  <a:lnTo>
                    <a:pt x="35" y="1199"/>
                  </a:lnTo>
                  <a:lnTo>
                    <a:pt x="40" y="1198"/>
                  </a:lnTo>
                  <a:lnTo>
                    <a:pt x="49" y="1194"/>
                  </a:lnTo>
                  <a:lnTo>
                    <a:pt x="55" y="1193"/>
                  </a:lnTo>
                  <a:lnTo>
                    <a:pt x="59" y="1191"/>
                  </a:lnTo>
                  <a:lnTo>
                    <a:pt x="64" y="1189"/>
                  </a:lnTo>
                  <a:lnTo>
                    <a:pt x="66" y="1187"/>
                  </a:lnTo>
                  <a:lnTo>
                    <a:pt x="70" y="1183"/>
                  </a:lnTo>
                  <a:lnTo>
                    <a:pt x="72" y="1178"/>
                  </a:lnTo>
                  <a:lnTo>
                    <a:pt x="75" y="1173"/>
                  </a:lnTo>
                  <a:lnTo>
                    <a:pt x="76" y="1167"/>
                  </a:lnTo>
                  <a:lnTo>
                    <a:pt x="80" y="1137"/>
                  </a:lnTo>
                  <a:lnTo>
                    <a:pt x="80" y="1125"/>
                  </a:lnTo>
                  <a:lnTo>
                    <a:pt x="80" y="183"/>
                  </a:lnTo>
                  <a:lnTo>
                    <a:pt x="80" y="171"/>
                  </a:lnTo>
                  <a:lnTo>
                    <a:pt x="77" y="155"/>
                  </a:lnTo>
                  <a:lnTo>
                    <a:pt x="73" y="142"/>
                  </a:lnTo>
                  <a:lnTo>
                    <a:pt x="70" y="137"/>
                  </a:lnTo>
                  <a:lnTo>
                    <a:pt x="67" y="132"/>
                  </a:lnTo>
                  <a:lnTo>
                    <a:pt x="64" y="127"/>
                  </a:lnTo>
                  <a:lnTo>
                    <a:pt x="60" y="123"/>
                  </a:lnTo>
                  <a:lnTo>
                    <a:pt x="35" y="112"/>
                  </a:lnTo>
                  <a:lnTo>
                    <a:pt x="28" y="107"/>
                  </a:lnTo>
                  <a:lnTo>
                    <a:pt x="14" y="95"/>
                  </a:lnTo>
                  <a:lnTo>
                    <a:pt x="8" y="80"/>
                  </a:lnTo>
                  <a:lnTo>
                    <a:pt x="2" y="67"/>
                  </a:lnTo>
                  <a:lnTo>
                    <a:pt x="1" y="66"/>
                  </a:lnTo>
                  <a:lnTo>
                    <a:pt x="0" y="63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1" y="1126"/>
                  </a:lnTo>
                  <a:lnTo>
                    <a:pt x="391" y="1140"/>
                  </a:lnTo>
                  <a:lnTo>
                    <a:pt x="391" y="1152"/>
                  </a:lnTo>
                  <a:lnTo>
                    <a:pt x="393" y="1160"/>
                  </a:lnTo>
                  <a:lnTo>
                    <a:pt x="396" y="1167"/>
                  </a:lnTo>
                  <a:lnTo>
                    <a:pt x="399" y="1174"/>
                  </a:lnTo>
                  <a:lnTo>
                    <a:pt x="403" y="1180"/>
                  </a:lnTo>
                  <a:lnTo>
                    <a:pt x="407" y="1185"/>
                  </a:lnTo>
                  <a:lnTo>
                    <a:pt x="412" y="1190"/>
                  </a:lnTo>
                  <a:lnTo>
                    <a:pt x="417" y="1194"/>
                  </a:lnTo>
                  <a:lnTo>
                    <a:pt x="423" y="1198"/>
                  </a:lnTo>
                  <a:lnTo>
                    <a:pt x="431" y="1203"/>
                  </a:lnTo>
                  <a:lnTo>
                    <a:pt x="455" y="1216"/>
                  </a:lnTo>
                  <a:lnTo>
                    <a:pt x="461" y="1222"/>
                  </a:lnTo>
                  <a:lnTo>
                    <a:pt x="465" y="1230"/>
                  </a:lnTo>
                  <a:lnTo>
                    <a:pt x="467" y="1237"/>
                  </a:lnTo>
                  <a:lnTo>
                    <a:pt x="468" y="1247"/>
                  </a:lnTo>
                  <a:lnTo>
                    <a:pt x="468" y="1308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c3c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7560" y="182520"/>
              <a:ext cx="28800" cy="93600"/>
            </a:xfrm>
            <a:custGeom>
              <a:avLst/>
              <a:gdLst/>
              <a:ahLst/>
              <a:rect l="l" t="t" r="r" b="b"/>
              <a:pathLst>
                <a:path w="342" h="1097">
                  <a:moveTo>
                    <a:pt x="0" y="1097"/>
                  </a:moveTo>
                  <a:lnTo>
                    <a:pt x="0" y="1030"/>
                  </a:lnTo>
                  <a:lnTo>
                    <a:pt x="16" y="1027"/>
                  </a:lnTo>
                  <a:lnTo>
                    <a:pt x="31" y="1024"/>
                  </a:lnTo>
                  <a:lnTo>
                    <a:pt x="37" y="1021"/>
                  </a:lnTo>
                  <a:lnTo>
                    <a:pt x="42" y="1019"/>
                  </a:lnTo>
                  <a:lnTo>
                    <a:pt x="47" y="1015"/>
                  </a:lnTo>
                  <a:lnTo>
                    <a:pt x="51" y="1011"/>
                  </a:lnTo>
                  <a:lnTo>
                    <a:pt x="53" y="1006"/>
                  </a:lnTo>
                  <a:lnTo>
                    <a:pt x="57" y="1001"/>
                  </a:lnTo>
                  <a:lnTo>
                    <a:pt x="58" y="995"/>
                  </a:lnTo>
                  <a:lnTo>
                    <a:pt x="61" y="989"/>
                  </a:lnTo>
                  <a:lnTo>
                    <a:pt x="63" y="973"/>
                  </a:lnTo>
                  <a:lnTo>
                    <a:pt x="64" y="954"/>
                  </a:lnTo>
                  <a:lnTo>
                    <a:pt x="64" y="144"/>
                  </a:lnTo>
                  <a:lnTo>
                    <a:pt x="63" y="125"/>
                  </a:lnTo>
                  <a:lnTo>
                    <a:pt x="61" y="109"/>
                  </a:lnTo>
                  <a:lnTo>
                    <a:pt x="58" y="101"/>
                  </a:lnTo>
                  <a:lnTo>
                    <a:pt x="57" y="97"/>
                  </a:lnTo>
                  <a:lnTo>
                    <a:pt x="53" y="90"/>
                  </a:lnTo>
                  <a:lnTo>
                    <a:pt x="51" y="87"/>
                  </a:lnTo>
                  <a:lnTo>
                    <a:pt x="47" y="83"/>
                  </a:lnTo>
                  <a:lnTo>
                    <a:pt x="42" y="79"/>
                  </a:lnTo>
                  <a:lnTo>
                    <a:pt x="37" y="77"/>
                  </a:lnTo>
                  <a:lnTo>
                    <a:pt x="31" y="74"/>
                  </a:lnTo>
                  <a:lnTo>
                    <a:pt x="16" y="71"/>
                  </a:lnTo>
                  <a:lnTo>
                    <a:pt x="0" y="68"/>
                  </a:lnTo>
                  <a:lnTo>
                    <a:pt x="0" y="0"/>
                  </a:lnTo>
                  <a:lnTo>
                    <a:pt x="342" y="0"/>
                  </a:lnTo>
                  <a:lnTo>
                    <a:pt x="342" y="67"/>
                  </a:lnTo>
                  <a:lnTo>
                    <a:pt x="326" y="71"/>
                  </a:lnTo>
                  <a:lnTo>
                    <a:pt x="313" y="74"/>
                  </a:lnTo>
                  <a:lnTo>
                    <a:pt x="307" y="77"/>
                  </a:lnTo>
                  <a:lnTo>
                    <a:pt x="302" y="81"/>
                  </a:lnTo>
                  <a:lnTo>
                    <a:pt x="297" y="84"/>
                  </a:lnTo>
                  <a:lnTo>
                    <a:pt x="293" y="88"/>
                  </a:lnTo>
                  <a:lnTo>
                    <a:pt x="290" y="93"/>
                  </a:lnTo>
                  <a:lnTo>
                    <a:pt x="287" y="98"/>
                  </a:lnTo>
                  <a:lnTo>
                    <a:pt x="285" y="103"/>
                  </a:lnTo>
                  <a:lnTo>
                    <a:pt x="283" y="110"/>
                  </a:lnTo>
                  <a:lnTo>
                    <a:pt x="280" y="125"/>
                  </a:lnTo>
                  <a:lnTo>
                    <a:pt x="280" y="142"/>
                  </a:lnTo>
                  <a:lnTo>
                    <a:pt x="280" y="956"/>
                  </a:lnTo>
                  <a:lnTo>
                    <a:pt x="280" y="973"/>
                  </a:lnTo>
                  <a:lnTo>
                    <a:pt x="283" y="988"/>
                  </a:lnTo>
                  <a:lnTo>
                    <a:pt x="285" y="994"/>
                  </a:lnTo>
                  <a:lnTo>
                    <a:pt x="287" y="1000"/>
                  </a:lnTo>
                  <a:lnTo>
                    <a:pt x="290" y="1005"/>
                  </a:lnTo>
                  <a:lnTo>
                    <a:pt x="293" y="1010"/>
                  </a:lnTo>
                  <a:lnTo>
                    <a:pt x="297" y="1014"/>
                  </a:lnTo>
                  <a:lnTo>
                    <a:pt x="302" y="1017"/>
                  </a:lnTo>
                  <a:lnTo>
                    <a:pt x="307" y="1020"/>
                  </a:lnTo>
                  <a:lnTo>
                    <a:pt x="313" y="1022"/>
                  </a:lnTo>
                  <a:lnTo>
                    <a:pt x="326" y="1027"/>
                  </a:lnTo>
                  <a:lnTo>
                    <a:pt x="342" y="1030"/>
                  </a:lnTo>
                  <a:lnTo>
                    <a:pt x="342" y="1097"/>
                  </a:lnTo>
                  <a:lnTo>
                    <a:pt x="0" y="1097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6120" y="738360"/>
              <a:ext cx="96840" cy="118800"/>
            </a:xfrm>
            <a:custGeom>
              <a:avLst/>
              <a:gdLst/>
              <a:ahLst/>
              <a:rect l="l" t="t" r="r" b="b"/>
              <a:pathLst>
                <a:path w="1180" h="1407">
                  <a:moveTo>
                    <a:pt x="0" y="337"/>
                  </a:moveTo>
                  <a:lnTo>
                    <a:pt x="0" y="0"/>
                  </a:lnTo>
                  <a:lnTo>
                    <a:pt x="1180" y="0"/>
                  </a:lnTo>
                  <a:lnTo>
                    <a:pt x="1180" y="337"/>
                  </a:lnTo>
                  <a:lnTo>
                    <a:pt x="1103" y="337"/>
                  </a:lnTo>
                  <a:lnTo>
                    <a:pt x="1081" y="337"/>
                  </a:lnTo>
                  <a:lnTo>
                    <a:pt x="1070" y="337"/>
                  </a:lnTo>
                  <a:lnTo>
                    <a:pt x="1068" y="336"/>
                  </a:lnTo>
                  <a:lnTo>
                    <a:pt x="1063" y="331"/>
                  </a:lnTo>
                  <a:lnTo>
                    <a:pt x="1058" y="325"/>
                  </a:lnTo>
                  <a:lnTo>
                    <a:pt x="1050" y="318"/>
                  </a:lnTo>
                  <a:lnTo>
                    <a:pt x="1045" y="311"/>
                  </a:lnTo>
                  <a:lnTo>
                    <a:pt x="1026" y="277"/>
                  </a:lnTo>
                  <a:lnTo>
                    <a:pt x="1020" y="268"/>
                  </a:lnTo>
                  <a:lnTo>
                    <a:pt x="1012" y="260"/>
                  </a:lnTo>
                  <a:lnTo>
                    <a:pt x="1005" y="254"/>
                  </a:lnTo>
                  <a:lnTo>
                    <a:pt x="997" y="248"/>
                  </a:lnTo>
                  <a:lnTo>
                    <a:pt x="989" y="243"/>
                  </a:lnTo>
                  <a:lnTo>
                    <a:pt x="979" y="238"/>
                  </a:lnTo>
                  <a:lnTo>
                    <a:pt x="969" y="234"/>
                  </a:lnTo>
                  <a:lnTo>
                    <a:pt x="959" y="232"/>
                  </a:lnTo>
                  <a:lnTo>
                    <a:pt x="940" y="232"/>
                  </a:lnTo>
                  <a:lnTo>
                    <a:pt x="926" y="232"/>
                  </a:lnTo>
                  <a:lnTo>
                    <a:pt x="908" y="232"/>
                  </a:lnTo>
                  <a:lnTo>
                    <a:pt x="887" y="232"/>
                  </a:lnTo>
                  <a:lnTo>
                    <a:pt x="763" y="232"/>
                  </a:lnTo>
                  <a:lnTo>
                    <a:pt x="763" y="1164"/>
                  </a:lnTo>
                  <a:lnTo>
                    <a:pt x="763" y="1173"/>
                  </a:lnTo>
                  <a:lnTo>
                    <a:pt x="763" y="1197"/>
                  </a:lnTo>
                  <a:lnTo>
                    <a:pt x="765" y="1209"/>
                  </a:lnTo>
                  <a:lnTo>
                    <a:pt x="769" y="1221"/>
                  </a:lnTo>
                  <a:lnTo>
                    <a:pt x="772" y="1231"/>
                  </a:lnTo>
                  <a:lnTo>
                    <a:pt x="776" y="1241"/>
                  </a:lnTo>
                  <a:lnTo>
                    <a:pt x="782" y="1251"/>
                  </a:lnTo>
                  <a:lnTo>
                    <a:pt x="787" y="1258"/>
                  </a:lnTo>
                  <a:lnTo>
                    <a:pt x="793" y="1266"/>
                  </a:lnTo>
                  <a:lnTo>
                    <a:pt x="801" y="1272"/>
                  </a:lnTo>
                  <a:lnTo>
                    <a:pt x="822" y="1288"/>
                  </a:lnTo>
                  <a:lnTo>
                    <a:pt x="833" y="1295"/>
                  </a:lnTo>
                  <a:lnTo>
                    <a:pt x="839" y="1300"/>
                  </a:lnTo>
                  <a:lnTo>
                    <a:pt x="844" y="1305"/>
                  </a:lnTo>
                  <a:lnTo>
                    <a:pt x="849" y="1309"/>
                  </a:lnTo>
                  <a:lnTo>
                    <a:pt x="852" y="1315"/>
                  </a:lnTo>
                  <a:lnTo>
                    <a:pt x="855" y="1320"/>
                  </a:lnTo>
                  <a:lnTo>
                    <a:pt x="857" y="1324"/>
                  </a:lnTo>
                  <a:lnTo>
                    <a:pt x="859" y="1331"/>
                  </a:lnTo>
                  <a:lnTo>
                    <a:pt x="859" y="1336"/>
                  </a:lnTo>
                  <a:lnTo>
                    <a:pt x="859" y="1407"/>
                  </a:lnTo>
                  <a:lnTo>
                    <a:pt x="325" y="1407"/>
                  </a:lnTo>
                  <a:lnTo>
                    <a:pt x="325" y="1336"/>
                  </a:lnTo>
                  <a:lnTo>
                    <a:pt x="325" y="1329"/>
                  </a:lnTo>
                  <a:lnTo>
                    <a:pt x="326" y="1324"/>
                  </a:lnTo>
                  <a:lnTo>
                    <a:pt x="328" y="1318"/>
                  </a:lnTo>
                  <a:lnTo>
                    <a:pt x="331" y="1313"/>
                  </a:lnTo>
                  <a:lnTo>
                    <a:pt x="335" y="1309"/>
                  </a:lnTo>
                  <a:lnTo>
                    <a:pt x="338" y="1304"/>
                  </a:lnTo>
                  <a:lnTo>
                    <a:pt x="343" y="1299"/>
                  </a:lnTo>
                  <a:lnTo>
                    <a:pt x="349" y="1295"/>
                  </a:lnTo>
                  <a:lnTo>
                    <a:pt x="364" y="1285"/>
                  </a:lnTo>
                  <a:lnTo>
                    <a:pt x="380" y="1272"/>
                  </a:lnTo>
                  <a:lnTo>
                    <a:pt x="387" y="1264"/>
                  </a:lnTo>
                  <a:lnTo>
                    <a:pt x="392" y="1256"/>
                  </a:lnTo>
                  <a:lnTo>
                    <a:pt x="398" y="1247"/>
                  </a:lnTo>
                  <a:lnTo>
                    <a:pt x="402" y="1239"/>
                  </a:lnTo>
                  <a:lnTo>
                    <a:pt x="406" y="1229"/>
                  </a:lnTo>
                  <a:lnTo>
                    <a:pt x="410" y="1219"/>
                  </a:lnTo>
                  <a:lnTo>
                    <a:pt x="412" y="1208"/>
                  </a:lnTo>
                  <a:lnTo>
                    <a:pt x="413" y="1197"/>
                  </a:lnTo>
                  <a:lnTo>
                    <a:pt x="413" y="1166"/>
                  </a:lnTo>
                  <a:lnTo>
                    <a:pt x="413" y="227"/>
                  </a:lnTo>
                  <a:lnTo>
                    <a:pt x="273" y="227"/>
                  </a:lnTo>
                  <a:lnTo>
                    <a:pt x="228" y="227"/>
                  </a:lnTo>
                  <a:lnTo>
                    <a:pt x="210" y="232"/>
                  </a:lnTo>
                  <a:lnTo>
                    <a:pt x="199" y="235"/>
                  </a:lnTo>
                  <a:lnTo>
                    <a:pt x="189" y="240"/>
                  </a:lnTo>
                  <a:lnTo>
                    <a:pt x="181" y="246"/>
                  </a:lnTo>
                  <a:lnTo>
                    <a:pt x="171" y="255"/>
                  </a:lnTo>
                  <a:lnTo>
                    <a:pt x="162" y="264"/>
                  </a:lnTo>
                  <a:lnTo>
                    <a:pt x="155" y="275"/>
                  </a:lnTo>
                  <a:lnTo>
                    <a:pt x="148" y="288"/>
                  </a:lnTo>
                  <a:lnTo>
                    <a:pt x="140" y="302"/>
                  </a:lnTo>
                  <a:lnTo>
                    <a:pt x="130" y="320"/>
                  </a:lnTo>
                  <a:lnTo>
                    <a:pt x="123" y="325"/>
                  </a:lnTo>
                  <a:lnTo>
                    <a:pt x="113" y="330"/>
                  </a:lnTo>
                  <a:lnTo>
                    <a:pt x="100" y="335"/>
                  </a:lnTo>
                  <a:lnTo>
                    <a:pt x="86" y="337"/>
                  </a:lnTo>
                  <a:lnTo>
                    <a:pt x="63" y="337"/>
                  </a:lnTo>
                  <a:lnTo>
                    <a:pt x="54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45320" y="735120"/>
              <a:ext cx="81000" cy="126720"/>
            </a:xfrm>
            <a:custGeom>
              <a:avLst/>
              <a:gdLst/>
              <a:ahLst/>
              <a:rect l="l" t="t" r="r" b="b"/>
              <a:pathLst>
                <a:path w="992" h="1480">
                  <a:moveTo>
                    <a:pt x="951" y="978"/>
                  </a:moveTo>
                  <a:lnTo>
                    <a:pt x="325" y="978"/>
                  </a:lnTo>
                  <a:lnTo>
                    <a:pt x="322" y="989"/>
                  </a:lnTo>
                  <a:lnTo>
                    <a:pt x="322" y="997"/>
                  </a:lnTo>
                  <a:lnTo>
                    <a:pt x="322" y="1007"/>
                  </a:lnTo>
                  <a:lnTo>
                    <a:pt x="324" y="1018"/>
                  </a:lnTo>
                  <a:lnTo>
                    <a:pt x="326" y="1029"/>
                  </a:lnTo>
                  <a:lnTo>
                    <a:pt x="327" y="1040"/>
                  </a:lnTo>
                  <a:lnTo>
                    <a:pt x="335" y="1062"/>
                  </a:lnTo>
                  <a:lnTo>
                    <a:pt x="343" y="1085"/>
                  </a:lnTo>
                  <a:lnTo>
                    <a:pt x="354" y="1107"/>
                  </a:lnTo>
                  <a:lnTo>
                    <a:pt x="369" y="1130"/>
                  </a:lnTo>
                  <a:lnTo>
                    <a:pt x="385" y="1153"/>
                  </a:lnTo>
                  <a:lnTo>
                    <a:pt x="405" y="1175"/>
                  </a:lnTo>
                  <a:lnTo>
                    <a:pt x="415" y="1186"/>
                  </a:lnTo>
                  <a:lnTo>
                    <a:pt x="426" y="1197"/>
                  </a:lnTo>
                  <a:lnTo>
                    <a:pt x="437" y="1207"/>
                  </a:lnTo>
                  <a:lnTo>
                    <a:pt x="448" y="1216"/>
                  </a:lnTo>
                  <a:lnTo>
                    <a:pt x="459" y="1224"/>
                  </a:lnTo>
                  <a:lnTo>
                    <a:pt x="471" y="1232"/>
                  </a:lnTo>
                  <a:lnTo>
                    <a:pt x="482" y="1239"/>
                  </a:lnTo>
                  <a:lnTo>
                    <a:pt x="495" y="1245"/>
                  </a:lnTo>
                  <a:lnTo>
                    <a:pt x="507" y="1250"/>
                  </a:lnTo>
                  <a:lnTo>
                    <a:pt x="519" y="1255"/>
                  </a:lnTo>
                  <a:lnTo>
                    <a:pt x="533" y="1260"/>
                  </a:lnTo>
                  <a:lnTo>
                    <a:pt x="546" y="1263"/>
                  </a:lnTo>
                  <a:lnTo>
                    <a:pt x="559" y="1265"/>
                  </a:lnTo>
                  <a:lnTo>
                    <a:pt x="572" y="1267"/>
                  </a:lnTo>
                  <a:lnTo>
                    <a:pt x="587" y="1269"/>
                  </a:lnTo>
                  <a:lnTo>
                    <a:pt x="600" y="1269"/>
                  </a:lnTo>
                  <a:lnTo>
                    <a:pt x="614" y="1269"/>
                  </a:lnTo>
                  <a:lnTo>
                    <a:pt x="629" y="1267"/>
                  </a:lnTo>
                  <a:lnTo>
                    <a:pt x="642" y="1265"/>
                  </a:lnTo>
                  <a:lnTo>
                    <a:pt x="657" y="1263"/>
                  </a:lnTo>
                  <a:lnTo>
                    <a:pt x="672" y="1259"/>
                  </a:lnTo>
                  <a:lnTo>
                    <a:pt x="685" y="1255"/>
                  </a:lnTo>
                  <a:lnTo>
                    <a:pt x="696" y="1252"/>
                  </a:lnTo>
                  <a:lnTo>
                    <a:pt x="709" y="1247"/>
                  </a:lnTo>
                  <a:lnTo>
                    <a:pt x="719" y="1243"/>
                  </a:lnTo>
                  <a:lnTo>
                    <a:pt x="762" y="1215"/>
                  </a:lnTo>
                  <a:lnTo>
                    <a:pt x="798" y="1190"/>
                  </a:lnTo>
                  <a:lnTo>
                    <a:pt x="805" y="1190"/>
                  </a:lnTo>
                  <a:lnTo>
                    <a:pt x="814" y="1183"/>
                  </a:lnTo>
                  <a:lnTo>
                    <a:pt x="826" y="1173"/>
                  </a:lnTo>
                  <a:lnTo>
                    <a:pt x="834" y="1163"/>
                  </a:lnTo>
                  <a:lnTo>
                    <a:pt x="848" y="1147"/>
                  </a:lnTo>
                  <a:lnTo>
                    <a:pt x="869" y="1124"/>
                  </a:lnTo>
                  <a:lnTo>
                    <a:pt x="877" y="1114"/>
                  </a:lnTo>
                  <a:lnTo>
                    <a:pt x="885" y="1110"/>
                  </a:lnTo>
                  <a:lnTo>
                    <a:pt x="896" y="1108"/>
                  </a:lnTo>
                  <a:lnTo>
                    <a:pt x="910" y="1107"/>
                  </a:lnTo>
                  <a:lnTo>
                    <a:pt x="928" y="1107"/>
                  </a:lnTo>
                  <a:lnTo>
                    <a:pt x="939" y="1107"/>
                  </a:lnTo>
                  <a:lnTo>
                    <a:pt x="950" y="1107"/>
                  </a:lnTo>
                  <a:lnTo>
                    <a:pt x="960" y="1107"/>
                  </a:lnTo>
                  <a:lnTo>
                    <a:pt x="968" y="1107"/>
                  </a:lnTo>
                  <a:lnTo>
                    <a:pt x="992" y="1107"/>
                  </a:lnTo>
                  <a:lnTo>
                    <a:pt x="992" y="1376"/>
                  </a:lnTo>
                  <a:lnTo>
                    <a:pt x="979" y="1385"/>
                  </a:lnTo>
                  <a:lnTo>
                    <a:pt x="965" y="1394"/>
                  </a:lnTo>
                  <a:lnTo>
                    <a:pt x="950" y="1403"/>
                  </a:lnTo>
                  <a:lnTo>
                    <a:pt x="934" y="1411"/>
                  </a:lnTo>
                  <a:lnTo>
                    <a:pt x="912" y="1422"/>
                  </a:lnTo>
                  <a:lnTo>
                    <a:pt x="889" y="1432"/>
                  </a:lnTo>
                  <a:lnTo>
                    <a:pt x="866" y="1442"/>
                  </a:lnTo>
                  <a:lnTo>
                    <a:pt x="842" y="1449"/>
                  </a:lnTo>
                  <a:lnTo>
                    <a:pt x="817" y="1457"/>
                  </a:lnTo>
                  <a:lnTo>
                    <a:pt x="791" y="1463"/>
                  </a:lnTo>
                  <a:lnTo>
                    <a:pt x="764" y="1468"/>
                  </a:lnTo>
                  <a:lnTo>
                    <a:pt x="736" y="1471"/>
                  </a:lnTo>
                  <a:lnTo>
                    <a:pt x="704" y="1475"/>
                  </a:lnTo>
                  <a:lnTo>
                    <a:pt x="671" y="1477"/>
                  </a:lnTo>
                  <a:lnTo>
                    <a:pt x="636" y="1479"/>
                  </a:lnTo>
                  <a:lnTo>
                    <a:pt x="600" y="1480"/>
                  </a:lnTo>
                  <a:lnTo>
                    <a:pt x="572" y="1479"/>
                  </a:lnTo>
                  <a:lnTo>
                    <a:pt x="544" y="1477"/>
                  </a:lnTo>
                  <a:lnTo>
                    <a:pt x="516" y="1476"/>
                  </a:lnTo>
                  <a:lnTo>
                    <a:pt x="490" y="1473"/>
                  </a:lnTo>
                  <a:lnTo>
                    <a:pt x="463" y="1469"/>
                  </a:lnTo>
                  <a:lnTo>
                    <a:pt x="438" y="1465"/>
                  </a:lnTo>
                  <a:lnTo>
                    <a:pt x="412" y="1459"/>
                  </a:lnTo>
                  <a:lnTo>
                    <a:pt x="389" y="1453"/>
                  </a:lnTo>
                  <a:lnTo>
                    <a:pt x="366" y="1446"/>
                  </a:lnTo>
                  <a:lnTo>
                    <a:pt x="342" y="1438"/>
                  </a:lnTo>
                  <a:lnTo>
                    <a:pt x="320" y="1430"/>
                  </a:lnTo>
                  <a:lnTo>
                    <a:pt x="299" y="1420"/>
                  </a:lnTo>
                  <a:lnTo>
                    <a:pt x="278" y="1410"/>
                  </a:lnTo>
                  <a:lnTo>
                    <a:pt x="257" y="1398"/>
                  </a:lnTo>
                  <a:lnTo>
                    <a:pt x="238" y="1387"/>
                  </a:lnTo>
                  <a:lnTo>
                    <a:pt x="219" y="1373"/>
                  </a:lnTo>
                  <a:lnTo>
                    <a:pt x="201" y="1360"/>
                  </a:lnTo>
                  <a:lnTo>
                    <a:pt x="183" y="1345"/>
                  </a:lnTo>
                  <a:lnTo>
                    <a:pt x="166" y="1330"/>
                  </a:lnTo>
                  <a:lnTo>
                    <a:pt x="150" y="1314"/>
                  </a:lnTo>
                  <a:lnTo>
                    <a:pt x="136" y="1298"/>
                  </a:lnTo>
                  <a:lnTo>
                    <a:pt x="121" y="1281"/>
                  </a:lnTo>
                  <a:lnTo>
                    <a:pt x="107" y="1263"/>
                  </a:lnTo>
                  <a:lnTo>
                    <a:pt x="94" y="1244"/>
                  </a:lnTo>
                  <a:lnTo>
                    <a:pt x="81" y="1224"/>
                  </a:lnTo>
                  <a:lnTo>
                    <a:pt x="70" y="1205"/>
                  </a:lnTo>
                  <a:lnTo>
                    <a:pt x="59" y="1184"/>
                  </a:lnTo>
                  <a:lnTo>
                    <a:pt x="49" y="1162"/>
                  </a:lnTo>
                  <a:lnTo>
                    <a:pt x="41" y="1140"/>
                  </a:lnTo>
                  <a:lnTo>
                    <a:pt x="32" y="1118"/>
                  </a:lnTo>
                  <a:lnTo>
                    <a:pt x="25" y="1093"/>
                  </a:lnTo>
                  <a:lnTo>
                    <a:pt x="17" y="1070"/>
                  </a:lnTo>
                  <a:lnTo>
                    <a:pt x="10" y="1037"/>
                  </a:lnTo>
                  <a:lnTo>
                    <a:pt x="4" y="1005"/>
                  </a:lnTo>
                  <a:lnTo>
                    <a:pt x="0" y="972"/>
                  </a:lnTo>
                  <a:lnTo>
                    <a:pt x="0" y="938"/>
                  </a:lnTo>
                  <a:lnTo>
                    <a:pt x="0" y="920"/>
                  </a:lnTo>
                  <a:lnTo>
                    <a:pt x="1" y="900"/>
                  </a:lnTo>
                  <a:lnTo>
                    <a:pt x="3" y="882"/>
                  </a:lnTo>
                  <a:lnTo>
                    <a:pt x="5" y="863"/>
                  </a:lnTo>
                  <a:lnTo>
                    <a:pt x="9" y="845"/>
                  </a:lnTo>
                  <a:lnTo>
                    <a:pt x="13" y="827"/>
                  </a:lnTo>
                  <a:lnTo>
                    <a:pt x="17" y="809"/>
                  </a:lnTo>
                  <a:lnTo>
                    <a:pt x="22" y="791"/>
                  </a:lnTo>
                  <a:lnTo>
                    <a:pt x="28" y="774"/>
                  </a:lnTo>
                  <a:lnTo>
                    <a:pt x="35" y="757"/>
                  </a:lnTo>
                  <a:lnTo>
                    <a:pt x="42" y="739"/>
                  </a:lnTo>
                  <a:lnTo>
                    <a:pt x="51" y="722"/>
                  </a:lnTo>
                  <a:lnTo>
                    <a:pt x="59" y="705"/>
                  </a:lnTo>
                  <a:lnTo>
                    <a:pt x="69" y="688"/>
                  </a:lnTo>
                  <a:lnTo>
                    <a:pt x="79" y="672"/>
                  </a:lnTo>
                  <a:lnTo>
                    <a:pt x="90" y="655"/>
                  </a:lnTo>
                  <a:lnTo>
                    <a:pt x="105" y="634"/>
                  </a:lnTo>
                  <a:lnTo>
                    <a:pt x="121" y="613"/>
                  </a:lnTo>
                  <a:lnTo>
                    <a:pt x="137" y="593"/>
                  </a:lnTo>
                  <a:lnTo>
                    <a:pt x="153" y="575"/>
                  </a:lnTo>
                  <a:lnTo>
                    <a:pt x="171" y="558"/>
                  </a:lnTo>
                  <a:lnTo>
                    <a:pt x="188" y="542"/>
                  </a:lnTo>
                  <a:lnTo>
                    <a:pt x="208" y="526"/>
                  </a:lnTo>
                  <a:lnTo>
                    <a:pt x="227" y="511"/>
                  </a:lnTo>
                  <a:lnTo>
                    <a:pt x="246" y="498"/>
                  </a:lnTo>
                  <a:lnTo>
                    <a:pt x="266" y="487"/>
                  </a:lnTo>
                  <a:lnTo>
                    <a:pt x="284" y="475"/>
                  </a:lnTo>
                  <a:lnTo>
                    <a:pt x="304" y="466"/>
                  </a:lnTo>
                  <a:lnTo>
                    <a:pt x="322" y="458"/>
                  </a:lnTo>
                  <a:lnTo>
                    <a:pt x="341" y="451"/>
                  </a:lnTo>
                  <a:lnTo>
                    <a:pt x="359" y="445"/>
                  </a:lnTo>
                  <a:lnTo>
                    <a:pt x="378" y="441"/>
                  </a:lnTo>
                  <a:lnTo>
                    <a:pt x="412" y="435"/>
                  </a:lnTo>
                  <a:lnTo>
                    <a:pt x="445" y="430"/>
                  </a:lnTo>
                  <a:lnTo>
                    <a:pt x="475" y="428"/>
                  </a:lnTo>
                  <a:lnTo>
                    <a:pt x="503" y="426"/>
                  </a:lnTo>
                  <a:lnTo>
                    <a:pt x="525" y="426"/>
                  </a:lnTo>
                  <a:lnTo>
                    <a:pt x="546" y="429"/>
                  </a:lnTo>
                  <a:lnTo>
                    <a:pt x="568" y="431"/>
                  </a:lnTo>
                  <a:lnTo>
                    <a:pt x="589" y="434"/>
                  </a:lnTo>
                  <a:lnTo>
                    <a:pt x="610" y="439"/>
                  </a:lnTo>
                  <a:lnTo>
                    <a:pt x="630" y="444"/>
                  </a:lnTo>
                  <a:lnTo>
                    <a:pt x="650" y="451"/>
                  </a:lnTo>
                  <a:lnTo>
                    <a:pt x="669" y="457"/>
                  </a:lnTo>
                  <a:lnTo>
                    <a:pt x="688" y="466"/>
                  </a:lnTo>
                  <a:lnTo>
                    <a:pt x="706" y="475"/>
                  </a:lnTo>
                  <a:lnTo>
                    <a:pt x="723" y="485"/>
                  </a:lnTo>
                  <a:lnTo>
                    <a:pt x="742" y="496"/>
                  </a:lnTo>
                  <a:lnTo>
                    <a:pt x="758" y="509"/>
                  </a:lnTo>
                  <a:lnTo>
                    <a:pt x="775" y="522"/>
                  </a:lnTo>
                  <a:lnTo>
                    <a:pt x="791" y="537"/>
                  </a:lnTo>
                  <a:lnTo>
                    <a:pt x="807" y="552"/>
                  </a:lnTo>
                  <a:lnTo>
                    <a:pt x="822" y="568"/>
                  </a:lnTo>
                  <a:lnTo>
                    <a:pt x="837" y="584"/>
                  </a:lnTo>
                  <a:lnTo>
                    <a:pt x="850" y="602"/>
                  </a:lnTo>
                  <a:lnTo>
                    <a:pt x="862" y="619"/>
                  </a:lnTo>
                  <a:lnTo>
                    <a:pt x="875" y="639"/>
                  </a:lnTo>
                  <a:lnTo>
                    <a:pt x="886" y="658"/>
                  </a:lnTo>
                  <a:lnTo>
                    <a:pt x="896" y="678"/>
                  </a:lnTo>
                  <a:lnTo>
                    <a:pt x="905" y="699"/>
                  </a:lnTo>
                  <a:lnTo>
                    <a:pt x="914" y="721"/>
                  </a:lnTo>
                  <a:lnTo>
                    <a:pt x="921" y="743"/>
                  </a:lnTo>
                  <a:lnTo>
                    <a:pt x="929" y="766"/>
                  </a:lnTo>
                  <a:lnTo>
                    <a:pt x="935" y="790"/>
                  </a:lnTo>
                  <a:lnTo>
                    <a:pt x="940" y="814"/>
                  </a:lnTo>
                  <a:lnTo>
                    <a:pt x="945" y="839"/>
                  </a:lnTo>
                  <a:lnTo>
                    <a:pt x="949" y="865"/>
                  </a:lnTo>
                  <a:lnTo>
                    <a:pt x="951" y="892"/>
                  </a:lnTo>
                  <a:lnTo>
                    <a:pt x="951" y="978"/>
                  </a:lnTo>
                  <a:close/>
                  <a:moveTo>
                    <a:pt x="354" y="360"/>
                  </a:moveTo>
                  <a:lnTo>
                    <a:pt x="530" y="0"/>
                  </a:lnTo>
                  <a:lnTo>
                    <a:pt x="881" y="0"/>
                  </a:lnTo>
                  <a:lnTo>
                    <a:pt x="518" y="360"/>
                  </a:lnTo>
                  <a:lnTo>
                    <a:pt x="354" y="360"/>
                  </a:lnTo>
                  <a:close/>
                  <a:moveTo>
                    <a:pt x="628" y="792"/>
                  </a:moveTo>
                  <a:lnTo>
                    <a:pt x="626" y="770"/>
                  </a:lnTo>
                  <a:lnTo>
                    <a:pt x="624" y="754"/>
                  </a:lnTo>
                  <a:lnTo>
                    <a:pt x="620" y="738"/>
                  </a:lnTo>
                  <a:lnTo>
                    <a:pt x="616" y="725"/>
                  </a:lnTo>
                  <a:lnTo>
                    <a:pt x="612" y="711"/>
                  </a:lnTo>
                  <a:lnTo>
                    <a:pt x="605" y="699"/>
                  </a:lnTo>
                  <a:lnTo>
                    <a:pt x="599" y="688"/>
                  </a:lnTo>
                  <a:lnTo>
                    <a:pt x="592" y="678"/>
                  </a:lnTo>
                  <a:lnTo>
                    <a:pt x="584" y="669"/>
                  </a:lnTo>
                  <a:lnTo>
                    <a:pt x="575" y="661"/>
                  </a:lnTo>
                  <a:lnTo>
                    <a:pt x="565" y="655"/>
                  </a:lnTo>
                  <a:lnTo>
                    <a:pt x="555" y="649"/>
                  </a:lnTo>
                  <a:lnTo>
                    <a:pt x="543" y="644"/>
                  </a:lnTo>
                  <a:lnTo>
                    <a:pt x="530" y="640"/>
                  </a:lnTo>
                  <a:lnTo>
                    <a:pt x="518" y="638"/>
                  </a:lnTo>
                  <a:lnTo>
                    <a:pt x="503" y="636"/>
                  </a:lnTo>
                  <a:lnTo>
                    <a:pt x="489" y="635"/>
                  </a:lnTo>
                  <a:lnTo>
                    <a:pt x="473" y="636"/>
                  </a:lnTo>
                  <a:lnTo>
                    <a:pt x="457" y="638"/>
                  </a:lnTo>
                  <a:lnTo>
                    <a:pt x="443" y="640"/>
                  </a:lnTo>
                  <a:lnTo>
                    <a:pt x="428" y="644"/>
                  </a:lnTo>
                  <a:lnTo>
                    <a:pt x="416" y="649"/>
                  </a:lnTo>
                  <a:lnTo>
                    <a:pt x="404" y="654"/>
                  </a:lnTo>
                  <a:lnTo>
                    <a:pt x="394" y="660"/>
                  </a:lnTo>
                  <a:lnTo>
                    <a:pt x="383" y="668"/>
                  </a:lnTo>
                  <a:lnTo>
                    <a:pt x="374" y="677"/>
                  </a:lnTo>
                  <a:lnTo>
                    <a:pt x="366" y="685"/>
                  </a:lnTo>
                  <a:lnTo>
                    <a:pt x="359" y="697"/>
                  </a:lnTo>
                  <a:lnTo>
                    <a:pt x="352" y="708"/>
                  </a:lnTo>
                  <a:lnTo>
                    <a:pt x="347" y="721"/>
                  </a:lnTo>
                  <a:lnTo>
                    <a:pt x="342" y="735"/>
                  </a:lnTo>
                  <a:lnTo>
                    <a:pt x="338" y="749"/>
                  </a:lnTo>
                  <a:lnTo>
                    <a:pt x="336" y="764"/>
                  </a:lnTo>
                  <a:lnTo>
                    <a:pt x="332" y="792"/>
                  </a:lnTo>
                  <a:lnTo>
                    <a:pt x="628" y="792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32800" y="770040"/>
              <a:ext cx="74520" cy="8892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0" y="431"/>
                  </a:lnTo>
                  <a:lnTo>
                    <a:pt x="690" y="420"/>
                  </a:lnTo>
                  <a:lnTo>
                    <a:pt x="674" y="409"/>
                  </a:lnTo>
                  <a:lnTo>
                    <a:pt x="662" y="400"/>
                  </a:lnTo>
                  <a:lnTo>
                    <a:pt x="652" y="393"/>
                  </a:lnTo>
                  <a:lnTo>
                    <a:pt x="646" y="387"/>
                  </a:lnTo>
                  <a:lnTo>
                    <a:pt x="641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1" y="321"/>
                  </a:lnTo>
                  <a:lnTo>
                    <a:pt x="641" y="305"/>
                  </a:lnTo>
                  <a:lnTo>
                    <a:pt x="640" y="291"/>
                  </a:lnTo>
                  <a:lnTo>
                    <a:pt x="639" y="281"/>
                  </a:lnTo>
                  <a:lnTo>
                    <a:pt x="636" y="273"/>
                  </a:lnTo>
                  <a:lnTo>
                    <a:pt x="631" y="264"/>
                  </a:lnTo>
                  <a:lnTo>
                    <a:pt x="625" y="256"/>
                  </a:lnTo>
                  <a:lnTo>
                    <a:pt x="618" y="246"/>
                  </a:lnTo>
                  <a:lnTo>
                    <a:pt x="607" y="235"/>
                  </a:lnTo>
                  <a:lnTo>
                    <a:pt x="599" y="227"/>
                  </a:lnTo>
                  <a:lnTo>
                    <a:pt x="591" y="221"/>
                  </a:lnTo>
                  <a:lnTo>
                    <a:pt x="581" y="216"/>
                  </a:lnTo>
                  <a:lnTo>
                    <a:pt x="571" y="213"/>
                  </a:lnTo>
                  <a:lnTo>
                    <a:pt x="561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4" y="205"/>
                  </a:lnTo>
                  <a:lnTo>
                    <a:pt x="518" y="205"/>
                  </a:lnTo>
                  <a:lnTo>
                    <a:pt x="510" y="206"/>
                  </a:lnTo>
                  <a:lnTo>
                    <a:pt x="500" y="208"/>
                  </a:lnTo>
                  <a:lnTo>
                    <a:pt x="486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4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1" y="265"/>
                  </a:lnTo>
                  <a:lnTo>
                    <a:pt x="404" y="276"/>
                  </a:lnTo>
                  <a:lnTo>
                    <a:pt x="397" y="288"/>
                  </a:lnTo>
                  <a:lnTo>
                    <a:pt x="382" y="313"/>
                  </a:lnTo>
                  <a:lnTo>
                    <a:pt x="368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5" y="415"/>
                  </a:lnTo>
                  <a:lnTo>
                    <a:pt x="340" y="432"/>
                  </a:lnTo>
                  <a:lnTo>
                    <a:pt x="336" y="447"/>
                  </a:lnTo>
                  <a:lnTo>
                    <a:pt x="330" y="478"/>
                  </a:lnTo>
                  <a:lnTo>
                    <a:pt x="326" y="507"/>
                  </a:lnTo>
                  <a:lnTo>
                    <a:pt x="324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8" y="631"/>
                  </a:lnTo>
                  <a:lnTo>
                    <a:pt x="330" y="647"/>
                  </a:lnTo>
                  <a:lnTo>
                    <a:pt x="333" y="662"/>
                  </a:lnTo>
                  <a:lnTo>
                    <a:pt x="336" y="676"/>
                  </a:lnTo>
                  <a:lnTo>
                    <a:pt x="341" y="689"/>
                  </a:lnTo>
                  <a:lnTo>
                    <a:pt x="346" y="703"/>
                  </a:lnTo>
                  <a:lnTo>
                    <a:pt x="351" y="715"/>
                  </a:lnTo>
                  <a:lnTo>
                    <a:pt x="357" y="727"/>
                  </a:lnTo>
                  <a:lnTo>
                    <a:pt x="363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7" y="770"/>
                  </a:lnTo>
                  <a:lnTo>
                    <a:pt x="395" y="780"/>
                  </a:lnTo>
                  <a:lnTo>
                    <a:pt x="404" y="787"/>
                  </a:lnTo>
                  <a:lnTo>
                    <a:pt x="412" y="796"/>
                  </a:lnTo>
                  <a:lnTo>
                    <a:pt x="422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2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6" y="839"/>
                  </a:lnTo>
                  <a:lnTo>
                    <a:pt x="521" y="844"/>
                  </a:lnTo>
                  <a:lnTo>
                    <a:pt x="547" y="846"/>
                  </a:lnTo>
                  <a:lnTo>
                    <a:pt x="574" y="847"/>
                  </a:lnTo>
                  <a:lnTo>
                    <a:pt x="603" y="847"/>
                  </a:lnTo>
                  <a:lnTo>
                    <a:pt x="629" y="844"/>
                  </a:lnTo>
                  <a:lnTo>
                    <a:pt x="640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8" y="833"/>
                  </a:lnTo>
                  <a:lnTo>
                    <a:pt x="684" y="824"/>
                  </a:lnTo>
                  <a:lnTo>
                    <a:pt x="703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5" y="738"/>
                  </a:lnTo>
                  <a:lnTo>
                    <a:pt x="784" y="728"/>
                  </a:lnTo>
                  <a:lnTo>
                    <a:pt x="794" y="721"/>
                  </a:lnTo>
                  <a:lnTo>
                    <a:pt x="801" y="716"/>
                  </a:lnTo>
                  <a:lnTo>
                    <a:pt x="810" y="714"/>
                  </a:lnTo>
                  <a:lnTo>
                    <a:pt x="820" y="711"/>
                  </a:lnTo>
                  <a:lnTo>
                    <a:pt x="834" y="710"/>
                  </a:lnTo>
                  <a:lnTo>
                    <a:pt x="855" y="710"/>
                  </a:lnTo>
                  <a:lnTo>
                    <a:pt x="881" y="709"/>
                  </a:lnTo>
                  <a:lnTo>
                    <a:pt x="901" y="709"/>
                  </a:lnTo>
                  <a:lnTo>
                    <a:pt x="901" y="998"/>
                  </a:lnTo>
                  <a:lnTo>
                    <a:pt x="845" y="1018"/>
                  </a:lnTo>
                  <a:lnTo>
                    <a:pt x="812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6" y="1048"/>
                  </a:lnTo>
                  <a:lnTo>
                    <a:pt x="686" y="1051"/>
                  </a:lnTo>
                  <a:lnTo>
                    <a:pt x="655" y="1055"/>
                  </a:lnTo>
                  <a:lnTo>
                    <a:pt x="625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2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4" y="1033"/>
                  </a:lnTo>
                  <a:lnTo>
                    <a:pt x="390" y="1027"/>
                  </a:lnTo>
                  <a:lnTo>
                    <a:pt x="368" y="1019"/>
                  </a:lnTo>
                  <a:lnTo>
                    <a:pt x="346" y="1013"/>
                  </a:lnTo>
                  <a:lnTo>
                    <a:pt x="325" y="1006"/>
                  </a:lnTo>
                  <a:lnTo>
                    <a:pt x="304" y="997"/>
                  </a:lnTo>
                  <a:lnTo>
                    <a:pt x="285" y="989"/>
                  </a:lnTo>
                  <a:lnTo>
                    <a:pt x="266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3" y="949"/>
                  </a:lnTo>
                  <a:lnTo>
                    <a:pt x="197" y="938"/>
                  </a:lnTo>
                  <a:lnTo>
                    <a:pt x="182" y="927"/>
                  </a:lnTo>
                  <a:lnTo>
                    <a:pt x="168" y="915"/>
                  </a:lnTo>
                  <a:lnTo>
                    <a:pt x="153" y="903"/>
                  </a:lnTo>
                  <a:lnTo>
                    <a:pt x="141" y="889"/>
                  </a:lnTo>
                  <a:lnTo>
                    <a:pt x="127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3" y="815"/>
                  </a:lnTo>
                  <a:lnTo>
                    <a:pt x="73" y="798"/>
                  </a:lnTo>
                  <a:lnTo>
                    <a:pt x="63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20" y="664"/>
                  </a:lnTo>
                  <a:lnTo>
                    <a:pt x="14" y="644"/>
                  </a:lnTo>
                  <a:lnTo>
                    <a:pt x="10" y="621"/>
                  </a:lnTo>
                  <a:lnTo>
                    <a:pt x="7" y="598"/>
                  </a:lnTo>
                  <a:lnTo>
                    <a:pt x="4" y="579"/>
                  </a:lnTo>
                  <a:lnTo>
                    <a:pt x="2" y="563"/>
                  </a:lnTo>
                  <a:lnTo>
                    <a:pt x="0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0" y="484"/>
                  </a:lnTo>
                  <a:lnTo>
                    <a:pt x="4" y="451"/>
                  </a:lnTo>
                  <a:lnTo>
                    <a:pt x="10" y="416"/>
                  </a:lnTo>
                  <a:lnTo>
                    <a:pt x="18" y="383"/>
                  </a:lnTo>
                  <a:lnTo>
                    <a:pt x="24" y="364"/>
                  </a:lnTo>
                  <a:lnTo>
                    <a:pt x="30" y="344"/>
                  </a:lnTo>
                  <a:lnTo>
                    <a:pt x="37" y="324"/>
                  </a:lnTo>
                  <a:lnTo>
                    <a:pt x="45" y="306"/>
                  </a:lnTo>
                  <a:lnTo>
                    <a:pt x="52" y="289"/>
                  </a:lnTo>
                  <a:lnTo>
                    <a:pt x="62" y="270"/>
                  </a:lnTo>
                  <a:lnTo>
                    <a:pt x="71" y="254"/>
                  </a:lnTo>
                  <a:lnTo>
                    <a:pt x="80" y="237"/>
                  </a:lnTo>
                  <a:lnTo>
                    <a:pt x="91" y="221"/>
                  </a:lnTo>
                  <a:lnTo>
                    <a:pt x="103" y="205"/>
                  </a:lnTo>
                  <a:lnTo>
                    <a:pt x="114" y="191"/>
                  </a:lnTo>
                  <a:lnTo>
                    <a:pt x="126" y="176"/>
                  </a:lnTo>
                  <a:lnTo>
                    <a:pt x="138" y="161"/>
                  </a:lnTo>
                  <a:lnTo>
                    <a:pt x="152" y="148"/>
                  </a:lnTo>
                  <a:lnTo>
                    <a:pt x="165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5" y="57"/>
                  </a:lnTo>
                  <a:lnTo>
                    <a:pt x="291" y="48"/>
                  </a:lnTo>
                  <a:lnTo>
                    <a:pt x="309" y="41"/>
                  </a:lnTo>
                  <a:lnTo>
                    <a:pt x="326" y="33"/>
                  </a:lnTo>
                  <a:lnTo>
                    <a:pt x="345" y="27"/>
                  </a:lnTo>
                  <a:lnTo>
                    <a:pt x="362" y="22"/>
                  </a:lnTo>
                  <a:lnTo>
                    <a:pt x="382" y="17"/>
                  </a:lnTo>
                  <a:lnTo>
                    <a:pt x="400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5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4" y="0"/>
                  </a:lnTo>
                  <a:lnTo>
                    <a:pt x="555" y="0"/>
                  </a:lnTo>
                  <a:lnTo>
                    <a:pt x="586" y="3"/>
                  </a:lnTo>
                  <a:lnTo>
                    <a:pt x="615" y="8"/>
                  </a:lnTo>
                  <a:lnTo>
                    <a:pt x="645" y="14"/>
                  </a:lnTo>
                  <a:lnTo>
                    <a:pt x="673" y="21"/>
                  </a:lnTo>
                  <a:lnTo>
                    <a:pt x="700" y="30"/>
                  </a:lnTo>
                  <a:lnTo>
                    <a:pt x="727" y="41"/>
                  </a:lnTo>
                  <a:lnTo>
                    <a:pt x="754" y="53"/>
                  </a:lnTo>
                  <a:lnTo>
                    <a:pt x="780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9" y="117"/>
                  </a:lnTo>
                  <a:lnTo>
                    <a:pt x="869" y="136"/>
                  </a:lnTo>
                  <a:lnTo>
                    <a:pt x="887" y="156"/>
                  </a:lnTo>
                  <a:lnTo>
                    <a:pt x="906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13800" y="768240"/>
              <a:ext cx="88920" cy="8892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1" y="977"/>
                  </a:lnTo>
                  <a:lnTo>
                    <a:pt x="4" y="970"/>
                  </a:lnTo>
                  <a:lnTo>
                    <a:pt x="6" y="962"/>
                  </a:lnTo>
                  <a:lnTo>
                    <a:pt x="11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2" y="938"/>
                  </a:lnTo>
                  <a:lnTo>
                    <a:pt x="68" y="929"/>
                  </a:lnTo>
                  <a:lnTo>
                    <a:pt x="71" y="927"/>
                  </a:lnTo>
                  <a:lnTo>
                    <a:pt x="75" y="922"/>
                  </a:lnTo>
                  <a:lnTo>
                    <a:pt x="78" y="914"/>
                  </a:lnTo>
                  <a:lnTo>
                    <a:pt x="81" y="906"/>
                  </a:lnTo>
                  <a:lnTo>
                    <a:pt x="81" y="897"/>
                  </a:lnTo>
                  <a:lnTo>
                    <a:pt x="81" y="867"/>
                  </a:lnTo>
                  <a:lnTo>
                    <a:pt x="81" y="853"/>
                  </a:lnTo>
                  <a:lnTo>
                    <a:pt x="81" y="262"/>
                  </a:lnTo>
                  <a:lnTo>
                    <a:pt x="81" y="234"/>
                  </a:lnTo>
                  <a:lnTo>
                    <a:pt x="81" y="210"/>
                  </a:lnTo>
                  <a:lnTo>
                    <a:pt x="75" y="185"/>
                  </a:lnTo>
                  <a:lnTo>
                    <a:pt x="68" y="173"/>
                  </a:lnTo>
                  <a:lnTo>
                    <a:pt x="38" y="167"/>
                  </a:lnTo>
                  <a:lnTo>
                    <a:pt x="26" y="162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3" y="132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10" y="99"/>
                  </a:lnTo>
                  <a:lnTo>
                    <a:pt x="423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4" y="60"/>
                  </a:lnTo>
                  <a:lnTo>
                    <a:pt x="487" y="54"/>
                  </a:lnTo>
                  <a:lnTo>
                    <a:pt x="502" y="48"/>
                  </a:lnTo>
                  <a:lnTo>
                    <a:pt x="530" y="37"/>
                  </a:lnTo>
                  <a:lnTo>
                    <a:pt x="559" y="25"/>
                  </a:lnTo>
                  <a:lnTo>
                    <a:pt x="584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3" y="0"/>
                  </a:lnTo>
                  <a:lnTo>
                    <a:pt x="734" y="0"/>
                  </a:lnTo>
                  <a:lnTo>
                    <a:pt x="743" y="0"/>
                  </a:lnTo>
                  <a:lnTo>
                    <a:pt x="752" y="1"/>
                  </a:lnTo>
                  <a:lnTo>
                    <a:pt x="787" y="6"/>
                  </a:lnTo>
                  <a:lnTo>
                    <a:pt x="821" y="13"/>
                  </a:lnTo>
                  <a:lnTo>
                    <a:pt x="837" y="17"/>
                  </a:lnTo>
                  <a:lnTo>
                    <a:pt x="851" y="22"/>
                  </a:lnTo>
                  <a:lnTo>
                    <a:pt x="866" y="27"/>
                  </a:lnTo>
                  <a:lnTo>
                    <a:pt x="880" y="32"/>
                  </a:lnTo>
                  <a:lnTo>
                    <a:pt x="892" y="38"/>
                  </a:lnTo>
                  <a:lnTo>
                    <a:pt x="905" y="45"/>
                  </a:lnTo>
                  <a:lnTo>
                    <a:pt x="916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8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6" y="104"/>
                  </a:lnTo>
                  <a:lnTo>
                    <a:pt x="983" y="114"/>
                  </a:lnTo>
                  <a:lnTo>
                    <a:pt x="990" y="126"/>
                  </a:lnTo>
                  <a:lnTo>
                    <a:pt x="996" y="137"/>
                  </a:lnTo>
                  <a:lnTo>
                    <a:pt x="1003" y="149"/>
                  </a:lnTo>
                  <a:lnTo>
                    <a:pt x="1008" y="163"/>
                  </a:lnTo>
                  <a:lnTo>
                    <a:pt x="1012" y="176"/>
                  </a:lnTo>
                  <a:lnTo>
                    <a:pt x="1017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3" y="291"/>
                  </a:lnTo>
                  <a:lnTo>
                    <a:pt x="1035" y="329"/>
                  </a:lnTo>
                  <a:lnTo>
                    <a:pt x="1035" y="851"/>
                  </a:lnTo>
                  <a:lnTo>
                    <a:pt x="1035" y="865"/>
                  </a:lnTo>
                  <a:lnTo>
                    <a:pt x="1035" y="874"/>
                  </a:lnTo>
                  <a:lnTo>
                    <a:pt x="1035" y="896"/>
                  </a:lnTo>
                  <a:lnTo>
                    <a:pt x="1036" y="907"/>
                  </a:lnTo>
                  <a:lnTo>
                    <a:pt x="1038" y="914"/>
                  </a:lnTo>
                  <a:lnTo>
                    <a:pt x="1042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5" y="941"/>
                  </a:lnTo>
                  <a:lnTo>
                    <a:pt x="1092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8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6" y="975"/>
                  </a:lnTo>
                  <a:lnTo>
                    <a:pt x="637" y="967"/>
                  </a:lnTo>
                  <a:lnTo>
                    <a:pt x="641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8" y="944"/>
                  </a:lnTo>
                  <a:lnTo>
                    <a:pt x="667" y="939"/>
                  </a:lnTo>
                  <a:lnTo>
                    <a:pt x="675" y="935"/>
                  </a:lnTo>
                  <a:lnTo>
                    <a:pt x="690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5" y="276"/>
                  </a:lnTo>
                  <a:lnTo>
                    <a:pt x="680" y="267"/>
                  </a:lnTo>
                  <a:lnTo>
                    <a:pt x="675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7" y="238"/>
                  </a:lnTo>
                  <a:lnTo>
                    <a:pt x="650" y="232"/>
                  </a:lnTo>
                  <a:lnTo>
                    <a:pt x="641" y="227"/>
                  </a:lnTo>
                  <a:lnTo>
                    <a:pt x="632" y="223"/>
                  </a:lnTo>
                  <a:lnTo>
                    <a:pt x="624" y="219"/>
                  </a:lnTo>
                  <a:lnTo>
                    <a:pt x="614" y="217"/>
                  </a:lnTo>
                  <a:lnTo>
                    <a:pt x="604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7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9" y="227"/>
                  </a:lnTo>
                  <a:lnTo>
                    <a:pt x="502" y="234"/>
                  </a:lnTo>
                  <a:lnTo>
                    <a:pt x="486" y="243"/>
                  </a:lnTo>
                  <a:lnTo>
                    <a:pt x="469" y="253"/>
                  </a:lnTo>
                  <a:lnTo>
                    <a:pt x="450" y="265"/>
                  </a:lnTo>
                  <a:lnTo>
                    <a:pt x="413" y="296"/>
                  </a:lnTo>
                  <a:lnTo>
                    <a:pt x="413" y="853"/>
                  </a:lnTo>
                  <a:lnTo>
                    <a:pt x="413" y="867"/>
                  </a:lnTo>
                  <a:lnTo>
                    <a:pt x="413" y="889"/>
                  </a:lnTo>
                  <a:lnTo>
                    <a:pt x="413" y="898"/>
                  </a:lnTo>
                  <a:lnTo>
                    <a:pt x="417" y="908"/>
                  </a:lnTo>
                  <a:lnTo>
                    <a:pt x="421" y="914"/>
                  </a:lnTo>
                  <a:lnTo>
                    <a:pt x="424" y="921"/>
                  </a:lnTo>
                  <a:lnTo>
                    <a:pt x="431" y="925"/>
                  </a:lnTo>
                  <a:lnTo>
                    <a:pt x="438" y="929"/>
                  </a:lnTo>
                  <a:lnTo>
                    <a:pt x="452" y="935"/>
                  </a:lnTo>
                  <a:lnTo>
                    <a:pt x="461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2" y="955"/>
                  </a:lnTo>
                  <a:lnTo>
                    <a:pt x="486" y="961"/>
                  </a:lnTo>
                  <a:lnTo>
                    <a:pt x="490" y="967"/>
                  </a:lnTo>
                  <a:lnTo>
                    <a:pt x="491" y="975"/>
                  </a:lnTo>
                  <a:lnTo>
                    <a:pt x="492" y="982"/>
                  </a:lnTo>
                  <a:lnTo>
                    <a:pt x="492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05600" y="730080"/>
              <a:ext cx="42840" cy="12708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1" y="1427"/>
                  </a:lnTo>
                  <a:lnTo>
                    <a:pt x="2" y="1422"/>
                  </a:lnTo>
                  <a:lnTo>
                    <a:pt x="5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4" y="1398"/>
                  </a:lnTo>
                  <a:lnTo>
                    <a:pt x="49" y="1387"/>
                  </a:lnTo>
                  <a:lnTo>
                    <a:pt x="63" y="1381"/>
                  </a:lnTo>
                  <a:lnTo>
                    <a:pt x="69" y="1379"/>
                  </a:lnTo>
                  <a:lnTo>
                    <a:pt x="72" y="1375"/>
                  </a:lnTo>
                  <a:lnTo>
                    <a:pt x="77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5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3" y="621"/>
                  </a:lnTo>
                  <a:lnTo>
                    <a:pt x="49" y="617"/>
                  </a:lnTo>
                  <a:lnTo>
                    <a:pt x="36" y="609"/>
                  </a:lnTo>
                  <a:lnTo>
                    <a:pt x="27" y="605"/>
                  </a:lnTo>
                  <a:lnTo>
                    <a:pt x="20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2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2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7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8" y="1381"/>
                  </a:lnTo>
                  <a:lnTo>
                    <a:pt x="476" y="1387"/>
                  </a:lnTo>
                  <a:lnTo>
                    <a:pt x="491" y="1391"/>
                  </a:lnTo>
                  <a:lnTo>
                    <a:pt x="497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10" y="1409"/>
                  </a:lnTo>
                  <a:lnTo>
                    <a:pt x="513" y="1416"/>
                  </a:lnTo>
                  <a:lnTo>
                    <a:pt x="515" y="1422"/>
                  </a:lnTo>
                  <a:lnTo>
                    <a:pt x="516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9" y="199"/>
                  </a:moveTo>
                  <a:lnTo>
                    <a:pt x="49" y="179"/>
                  </a:lnTo>
                  <a:lnTo>
                    <a:pt x="52" y="159"/>
                  </a:lnTo>
                  <a:lnTo>
                    <a:pt x="56" y="141"/>
                  </a:lnTo>
                  <a:lnTo>
                    <a:pt x="63" y="123"/>
                  </a:lnTo>
                  <a:lnTo>
                    <a:pt x="71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6" y="59"/>
                  </a:lnTo>
                  <a:lnTo>
                    <a:pt x="120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6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2" y="15"/>
                  </a:lnTo>
                  <a:lnTo>
                    <a:pt x="339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8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40" y="258"/>
                  </a:lnTo>
                  <a:lnTo>
                    <a:pt x="434" y="276"/>
                  </a:lnTo>
                  <a:lnTo>
                    <a:pt x="425" y="293"/>
                  </a:lnTo>
                  <a:lnTo>
                    <a:pt x="416" y="309"/>
                  </a:lnTo>
                  <a:lnTo>
                    <a:pt x="405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10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50" y="399"/>
                  </a:lnTo>
                  <a:lnTo>
                    <a:pt x="230" y="398"/>
                  </a:lnTo>
                  <a:lnTo>
                    <a:pt x="209" y="395"/>
                  </a:lnTo>
                  <a:lnTo>
                    <a:pt x="191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8" y="367"/>
                  </a:lnTo>
                  <a:lnTo>
                    <a:pt x="122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3" y="277"/>
                  </a:lnTo>
                  <a:lnTo>
                    <a:pt x="56" y="259"/>
                  </a:lnTo>
                  <a:lnTo>
                    <a:pt x="52" y="240"/>
                  </a:lnTo>
                  <a:lnTo>
                    <a:pt x="49" y="220"/>
                  </a:lnTo>
                  <a:lnTo>
                    <a:pt x="49" y="199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53480" y="770040"/>
              <a:ext cx="74520" cy="88920"/>
            </a:xfrm>
            <a:custGeom>
              <a:avLst/>
              <a:gdLst/>
              <a:ahLst/>
              <a:rect l="l" t="t" r="r" b="b"/>
              <a:pathLst>
                <a:path w="922" h="1057">
                  <a:moveTo>
                    <a:pt x="922" y="202"/>
                  </a:moveTo>
                  <a:lnTo>
                    <a:pt x="734" y="443"/>
                  </a:lnTo>
                  <a:lnTo>
                    <a:pt x="711" y="431"/>
                  </a:lnTo>
                  <a:lnTo>
                    <a:pt x="691" y="420"/>
                  </a:lnTo>
                  <a:lnTo>
                    <a:pt x="675" y="409"/>
                  </a:lnTo>
                  <a:lnTo>
                    <a:pt x="661" y="400"/>
                  </a:lnTo>
                  <a:lnTo>
                    <a:pt x="653" y="393"/>
                  </a:lnTo>
                  <a:lnTo>
                    <a:pt x="647" y="387"/>
                  </a:lnTo>
                  <a:lnTo>
                    <a:pt x="640" y="382"/>
                  </a:lnTo>
                  <a:lnTo>
                    <a:pt x="638" y="376"/>
                  </a:lnTo>
                  <a:lnTo>
                    <a:pt x="636" y="371"/>
                  </a:lnTo>
                  <a:lnTo>
                    <a:pt x="640" y="334"/>
                  </a:lnTo>
                  <a:lnTo>
                    <a:pt x="642" y="321"/>
                  </a:lnTo>
                  <a:lnTo>
                    <a:pt x="642" y="305"/>
                  </a:lnTo>
                  <a:lnTo>
                    <a:pt x="640" y="291"/>
                  </a:lnTo>
                  <a:lnTo>
                    <a:pt x="638" y="281"/>
                  </a:lnTo>
                  <a:lnTo>
                    <a:pt x="636" y="273"/>
                  </a:lnTo>
                  <a:lnTo>
                    <a:pt x="632" y="264"/>
                  </a:lnTo>
                  <a:lnTo>
                    <a:pt x="626" y="256"/>
                  </a:lnTo>
                  <a:lnTo>
                    <a:pt x="617" y="246"/>
                  </a:lnTo>
                  <a:lnTo>
                    <a:pt x="606" y="235"/>
                  </a:lnTo>
                  <a:lnTo>
                    <a:pt x="599" y="227"/>
                  </a:lnTo>
                  <a:lnTo>
                    <a:pt x="590" y="221"/>
                  </a:lnTo>
                  <a:lnTo>
                    <a:pt x="581" y="216"/>
                  </a:lnTo>
                  <a:lnTo>
                    <a:pt x="572" y="213"/>
                  </a:lnTo>
                  <a:lnTo>
                    <a:pt x="560" y="209"/>
                  </a:lnTo>
                  <a:lnTo>
                    <a:pt x="549" y="206"/>
                  </a:lnTo>
                  <a:lnTo>
                    <a:pt x="537" y="205"/>
                  </a:lnTo>
                  <a:lnTo>
                    <a:pt x="525" y="205"/>
                  </a:lnTo>
                  <a:lnTo>
                    <a:pt x="519" y="205"/>
                  </a:lnTo>
                  <a:lnTo>
                    <a:pt x="510" y="206"/>
                  </a:lnTo>
                  <a:lnTo>
                    <a:pt x="499" y="208"/>
                  </a:lnTo>
                  <a:lnTo>
                    <a:pt x="487" y="211"/>
                  </a:lnTo>
                  <a:lnTo>
                    <a:pt x="479" y="213"/>
                  </a:lnTo>
                  <a:lnTo>
                    <a:pt x="472" y="215"/>
                  </a:lnTo>
                  <a:lnTo>
                    <a:pt x="465" y="219"/>
                  </a:lnTo>
                  <a:lnTo>
                    <a:pt x="457" y="224"/>
                  </a:lnTo>
                  <a:lnTo>
                    <a:pt x="442" y="233"/>
                  </a:lnTo>
                  <a:lnTo>
                    <a:pt x="426" y="248"/>
                  </a:lnTo>
                  <a:lnTo>
                    <a:pt x="419" y="257"/>
                  </a:lnTo>
                  <a:lnTo>
                    <a:pt x="412" y="265"/>
                  </a:lnTo>
                  <a:lnTo>
                    <a:pt x="403" y="276"/>
                  </a:lnTo>
                  <a:lnTo>
                    <a:pt x="396" y="288"/>
                  </a:lnTo>
                  <a:lnTo>
                    <a:pt x="382" y="313"/>
                  </a:lnTo>
                  <a:lnTo>
                    <a:pt x="367" y="344"/>
                  </a:lnTo>
                  <a:lnTo>
                    <a:pt x="361" y="364"/>
                  </a:lnTo>
                  <a:lnTo>
                    <a:pt x="356" y="378"/>
                  </a:lnTo>
                  <a:lnTo>
                    <a:pt x="350" y="398"/>
                  </a:lnTo>
                  <a:lnTo>
                    <a:pt x="344" y="415"/>
                  </a:lnTo>
                  <a:lnTo>
                    <a:pt x="340" y="432"/>
                  </a:lnTo>
                  <a:lnTo>
                    <a:pt x="337" y="447"/>
                  </a:lnTo>
                  <a:lnTo>
                    <a:pt x="330" y="478"/>
                  </a:lnTo>
                  <a:lnTo>
                    <a:pt x="327" y="507"/>
                  </a:lnTo>
                  <a:lnTo>
                    <a:pt x="323" y="537"/>
                  </a:lnTo>
                  <a:lnTo>
                    <a:pt x="323" y="566"/>
                  </a:lnTo>
                  <a:lnTo>
                    <a:pt x="324" y="601"/>
                  </a:lnTo>
                  <a:lnTo>
                    <a:pt x="327" y="631"/>
                  </a:lnTo>
                  <a:lnTo>
                    <a:pt x="329" y="647"/>
                  </a:lnTo>
                  <a:lnTo>
                    <a:pt x="333" y="662"/>
                  </a:lnTo>
                  <a:lnTo>
                    <a:pt x="337" y="676"/>
                  </a:lnTo>
                  <a:lnTo>
                    <a:pt x="340" y="689"/>
                  </a:lnTo>
                  <a:lnTo>
                    <a:pt x="345" y="703"/>
                  </a:lnTo>
                  <a:lnTo>
                    <a:pt x="351" y="715"/>
                  </a:lnTo>
                  <a:lnTo>
                    <a:pt x="356" y="727"/>
                  </a:lnTo>
                  <a:lnTo>
                    <a:pt x="364" y="738"/>
                  </a:lnTo>
                  <a:lnTo>
                    <a:pt x="371" y="749"/>
                  </a:lnTo>
                  <a:lnTo>
                    <a:pt x="378" y="760"/>
                  </a:lnTo>
                  <a:lnTo>
                    <a:pt x="386" y="770"/>
                  </a:lnTo>
                  <a:lnTo>
                    <a:pt x="396" y="780"/>
                  </a:lnTo>
                  <a:lnTo>
                    <a:pt x="403" y="787"/>
                  </a:lnTo>
                  <a:lnTo>
                    <a:pt x="413" y="796"/>
                  </a:lnTo>
                  <a:lnTo>
                    <a:pt x="421" y="803"/>
                  </a:lnTo>
                  <a:lnTo>
                    <a:pt x="431" y="809"/>
                  </a:lnTo>
                  <a:lnTo>
                    <a:pt x="441" y="815"/>
                  </a:lnTo>
                  <a:lnTo>
                    <a:pt x="451" y="822"/>
                  </a:lnTo>
                  <a:lnTo>
                    <a:pt x="462" y="827"/>
                  </a:lnTo>
                  <a:lnTo>
                    <a:pt x="473" y="830"/>
                  </a:lnTo>
                  <a:lnTo>
                    <a:pt x="495" y="839"/>
                  </a:lnTo>
                  <a:lnTo>
                    <a:pt x="520" y="844"/>
                  </a:lnTo>
                  <a:lnTo>
                    <a:pt x="546" y="846"/>
                  </a:lnTo>
                  <a:lnTo>
                    <a:pt x="573" y="847"/>
                  </a:lnTo>
                  <a:lnTo>
                    <a:pt x="602" y="847"/>
                  </a:lnTo>
                  <a:lnTo>
                    <a:pt x="628" y="844"/>
                  </a:lnTo>
                  <a:lnTo>
                    <a:pt x="639" y="843"/>
                  </a:lnTo>
                  <a:lnTo>
                    <a:pt x="650" y="840"/>
                  </a:lnTo>
                  <a:lnTo>
                    <a:pt x="660" y="836"/>
                  </a:lnTo>
                  <a:lnTo>
                    <a:pt x="669" y="833"/>
                  </a:lnTo>
                  <a:lnTo>
                    <a:pt x="685" y="824"/>
                  </a:lnTo>
                  <a:lnTo>
                    <a:pt x="702" y="812"/>
                  </a:lnTo>
                  <a:lnTo>
                    <a:pt x="720" y="796"/>
                  </a:lnTo>
                  <a:lnTo>
                    <a:pt x="740" y="777"/>
                  </a:lnTo>
                  <a:lnTo>
                    <a:pt x="750" y="768"/>
                  </a:lnTo>
                  <a:lnTo>
                    <a:pt x="774" y="738"/>
                  </a:lnTo>
                  <a:lnTo>
                    <a:pt x="784" y="728"/>
                  </a:lnTo>
                  <a:lnTo>
                    <a:pt x="793" y="721"/>
                  </a:lnTo>
                  <a:lnTo>
                    <a:pt x="802" y="716"/>
                  </a:lnTo>
                  <a:lnTo>
                    <a:pt x="809" y="714"/>
                  </a:lnTo>
                  <a:lnTo>
                    <a:pt x="819" y="711"/>
                  </a:lnTo>
                  <a:lnTo>
                    <a:pt x="835" y="710"/>
                  </a:lnTo>
                  <a:lnTo>
                    <a:pt x="854" y="710"/>
                  </a:lnTo>
                  <a:lnTo>
                    <a:pt x="880" y="709"/>
                  </a:lnTo>
                  <a:lnTo>
                    <a:pt x="900" y="709"/>
                  </a:lnTo>
                  <a:lnTo>
                    <a:pt x="900" y="998"/>
                  </a:lnTo>
                  <a:lnTo>
                    <a:pt x="846" y="1018"/>
                  </a:lnTo>
                  <a:lnTo>
                    <a:pt x="811" y="1027"/>
                  </a:lnTo>
                  <a:lnTo>
                    <a:pt x="779" y="1035"/>
                  </a:lnTo>
                  <a:lnTo>
                    <a:pt x="747" y="1041"/>
                  </a:lnTo>
                  <a:lnTo>
                    <a:pt x="715" y="1048"/>
                  </a:lnTo>
                  <a:lnTo>
                    <a:pt x="685" y="1051"/>
                  </a:lnTo>
                  <a:lnTo>
                    <a:pt x="655" y="1055"/>
                  </a:lnTo>
                  <a:lnTo>
                    <a:pt x="626" y="1056"/>
                  </a:lnTo>
                  <a:lnTo>
                    <a:pt x="597" y="1057"/>
                  </a:lnTo>
                  <a:lnTo>
                    <a:pt x="560" y="1056"/>
                  </a:lnTo>
                  <a:lnTo>
                    <a:pt x="526" y="1054"/>
                  </a:lnTo>
                  <a:lnTo>
                    <a:pt x="493" y="1049"/>
                  </a:lnTo>
                  <a:lnTo>
                    <a:pt x="462" y="1044"/>
                  </a:lnTo>
                  <a:lnTo>
                    <a:pt x="437" y="1038"/>
                  </a:lnTo>
                  <a:lnTo>
                    <a:pt x="413" y="1033"/>
                  </a:lnTo>
                  <a:lnTo>
                    <a:pt x="390" y="1027"/>
                  </a:lnTo>
                  <a:lnTo>
                    <a:pt x="367" y="1019"/>
                  </a:lnTo>
                  <a:lnTo>
                    <a:pt x="345" y="1013"/>
                  </a:lnTo>
                  <a:lnTo>
                    <a:pt x="324" y="1006"/>
                  </a:lnTo>
                  <a:lnTo>
                    <a:pt x="305" y="997"/>
                  </a:lnTo>
                  <a:lnTo>
                    <a:pt x="285" y="989"/>
                  </a:lnTo>
                  <a:lnTo>
                    <a:pt x="265" y="980"/>
                  </a:lnTo>
                  <a:lnTo>
                    <a:pt x="248" y="970"/>
                  </a:lnTo>
                  <a:lnTo>
                    <a:pt x="230" y="960"/>
                  </a:lnTo>
                  <a:lnTo>
                    <a:pt x="214" y="949"/>
                  </a:lnTo>
                  <a:lnTo>
                    <a:pt x="198" y="938"/>
                  </a:lnTo>
                  <a:lnTo>
                    <a:pt x="182" y="927"/>
                  </a:lnTo>
                  <a:lnTo>
                    <a:pt x="167" y="915"/>
                  </a:lnTo>
                  <a:lnTo>
                    <a:pt x="153" y="903"/>
                  </a:lnTo>
                  <a:lnTo>
                    <a:pt x="140" y="889"/>
                  </a:lnTo>
                  <a:lnTo>
                    <a:pt x="128" y="876"/>
                  </a:lnTo>
                  <a:lnTo>
                    <a:pt x="115" y="862"/>
                  </a:lnTo>
                  <a:lnTo>
                    <a:pt x="104" y="847"/>
                  </a:lnTo>
                  <a:lnTo>
                    <a:pt x="93" y="831"/>
                  </a:lnTo>
                  <a:lnTo>
                    <a:pt x="82" y="815"/>
                  </a:lnTo>
                  <a:lnTo>
                    <a:pt x="72" y="798"/>
                  </a:lnTo>
                  <a:lnTo>
                    <a:pt x="64" y="781"/>
                  </a:lnTo>
                  <a:lnTo>
                    <a:pt x="55" y="764"/>
                  </a:lnTo>
                  <a:lnTo>
                    <a:pt x="46" y="746"/>
                  </a:lnTo>
                  <a:lnTo>
                    <a:pt x="39" y="726"/>
                  </a:lnTo>
                  <a:lnTo>
                    <a:pt x="32" y="706"/>
                  </a:lnTo>
                  <a:lnTo>
                    <a:pt x="25" y="685"/>
                  </a:lnTo>
                  <a:lnTo>
                    <a:pt x="19" y="664"/>
                  </a:lnTo>
                  <a:lnTo>
                    <a:pt x="14" y="644"/>
                  </a:lnTo>
                  <a:lnTo>
                    <a:pt x="9" y="621"/>
                  </a:lnTo>
                  <a:lnTo>
                    <a:pt x="6" y="598"/>
                  </a:lnTo>
                  <a:lnTo>
                    <a:pt x="3" y="579"/>
                  </a:lnTo>
                  <a:lnTo>
                    <a:pt x="2" y="563"/>
                  </a:lnTo>
                  <a:lnTo>
                    <a:pt x="1" y="550"/>
                  </a:lnTo>
                  <a:lnTo>
                    <a:pt x="0" y="532"/>
                  </a:lnTo>
                  <a:lnTo>
                    <a:pt x="0" y="517"/>
                  </a:lnTo>
                  <a:lnTo>
                    <a:pt x="1" y="484"/>
                  </a:lnTo>
                  <a:lnTo>
                    <a:pt x="5" y="451"/>
                  </a:lnTo>
                  <a:lnTo>
                    <a:pt x="9" y="416"/>
                  </a:lnTo>
                  <a:lnTo>
                    <a:pt x="17" y="383"/>
                  </a:lnTo>
                  <a:lnTo>
                    <a:pt x="23" y="364"/>
                  </a:lnTo>
                  <a:lnTo>
                    <a:pt x="29" y="344"/>
                  </a:lnTo>
                  <a:lnTo>
                    <a:pt x="36" y="324"/>
                  </a:lnTo>
                  <a:lnTo>
                    <a:pt x="44" y="306"/>
                  </a:lnTo>
                  <a:lnTo>
                    <a:pt x="52" y="289"/>
                  </a:lnTo>
                  <a:lnTo>
                    <a:pt x="61" y="270"/>
                  </a:lnTo>
                  <a:lnTo>
                    <a:pt x="71" y="254"/>
                  </a:lnTo>
                  <a:lnTo>
                    <a:pt x="81" y="237"/>
                  </a:lnTo>
                  <a:lnTo>
                    <a:pt x="91" y="221"/>
                  </a:lnTo>
                  <a:lnTo>
                    <a:pt x="102" y="205"/>
                  </a:lnTo>
                  <a:lnTo>
                    <a:pt x="114" y="191"/>
                  </a:lnTo>
                  <a:lnTo>
                    <a:pt x="125" y="176"/>
                  </a:lnTo>
                  <a:lnTo>
                    <a:pt x="139" y="161"/>
                  </a:lnTo>
                  <a:lnTo>
                    <a:pt x="152" y="148"/>
                  </a:lnTo>
                  <a:lnTo>
                    <a:pt x="166" y="134"/>
                  </a:lnTo>
                  <a:lnTo>
                    <a:pt x="180" y="121"/>
                  </a:lnTo>
                  <a:lnTo>
                    <a:pt x="195" y="108"/>
                  </a:lnTo>
                  <a:lnTo>
                    <a:pt x="210" y="97"/>
                  </a:lnTo>
                  <a:lnTo>
                    <a:pt x="226" y="86"/>
                  </a:lnTo>
                  <a:lnTo>
                    <a:pt x="242" y="75"/>
                  </a:lnTo>
                  <a:lnTo>
                    <a:pt x="258" y="65"/>
                  </a:lnTo>
                  <a:lnTo>
                    <a:pt x="274" y="57"/>
                  </a:lnTo>
                  <a:lnTo>
                    <a:pt x="291" y="48"/>
                  </a:lnTo>
                  <a:lnTo>
                    <a:pt x="308" y="41"/>
                  </a:lnTo>
                  <a:lnTo>
                    <a:pt x="327" y="33"/>
                  </a:lnTo>
                  <a:lnTo>
                    <a:pt x="344" y="27"/>
                  </a:lnTo>
                  <a:lnTo>
                    <a:pt x="362" y="22"/>
                  </a:lnTo>
                  <a:lnTo>
                    <a:pt x="381" y="17"/>
                  </a:lnTo>
                  <a:lnTo>
                    <a:pt x="401" y="12"/>
                  </a:lnTo>
                  <a:lnTo>
                    <a:pt x="420" y="9"/>
                  </a:lnTo>
                  <a:lnTo>
                    <a:pt x="440" y="6"/>
                  </a:lnTo>
                  <a:lnTo>
                    <a:pt x="460" y="4"/>
                  </a:lnTo>
                  <a:lnTo>
                    <a:pt x="476" y="1"/>
                  </a:lnTo>
                  <a:lnTo>
                    <a:pt x="490" y="0"/>
                  </a:lnTo>
                  <a:lnTo>
                    <a:pt x="506" y="0"/>
                  </a:lnTo>
                  <a:lnTo>
                    <a:pt x="525" y="0"/>
                  </a:lnTo>
                  <a:lnTo>
                    <a:pt x="556" y="0"/>
                  </a:lnTo>
                  <a:lnTo>
                    <a:pt x="585" y="3"/>
                  </a:lnTo>
                  <a:lnTo>
                    <a:pt x="616" y="8"/>
                  </a:lnTo>
                  <a:lnTo>
                    <a:pt x="644" y="14"/>
                  </a:lnTo>
                  <a:lnTo>
                    <a:pt x="672" y="21"/>
                  </a:lnTo>
                  <a:lnTo>
                    <a:pt x="701" y="30"/>
                  </a:lnTo>
                  <a:lnTo>
                    <a:pt x="728" y="41"/>
                  </a:lnTo>
                  <a:lnTo>
                    <a:pt x="755" y="53"/>
                  </a:lnTo>
                  <a:lnTo>
                    <a:pt x="779" y="68"/>
                  </a:lnTo>
                  <a:lnTo>
                    <a:pt x="804" y="82"/>
                  </a:lnTo>
                  <a:lnTo>
                    <a:pt x="827" y="100"/>
                  </a:lnTo>
                  <a:lnTo>
                    <a:pt x="848" y="117"/>
                  </a:lnTo>
                  <a:lnTo>
                    <a:pt x="869" y="136"/>
                  </a:lnTo>
                  <a:lnTo>
                    <a:pt x="888" y="156"/>
                  </a:lnTo>
                  <a:lnTo>
                    <a:pt x="905" y="178"/>
                  </a:lnTo>
                  <a:lnTo>
                    <a:pt x="922" y="202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35920" y="768240"/>
              <a:ext cx="87480" cy="9360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5" y="261"/>
                  </a:lnTo>
                  <a:lnTo>
                    <a:pt x="663" y="251"/>
                  </a:lnTo>
                  <a:lnTo>
                    <a:pt x="659" y="243"/>
                  </a:lnTo>
                  <a:lnTo>
                    <a:pt x="655" y="235"/>
                  </a:lnTo>
                  <a:lnTo>
                    <a:pt x="651" y="228"/>
                  </a:lnTo>
                  <a:lnTo>
                    <a:pt x="644" y="222"/>
                  </a:lnTo>
                  <a:lnTo>
                    <a:pt x="638" y="216"/>
                  </a:lnTo>
                  <a:lnTo>
                    <a:pt x="630" y="211"/>
                  </a:lnTo>
                  <a:lnTo>
                    <a:pt x="621" y="205"/>
                  </a:lnTo>
                  <a:lnTo>
                    <a:pt x="610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2" y="189"/>
                  </a:lnTo>
                  <a:lnTo>
                    <a:pt x="557" y="185"/>
                  </a:lnTo>
                  <a:lnTo>
                    <a:pt x="540" y="184"/>
                  </a:lnTo>
                  <a:lnTo>
                    <a:pt x="524" y="183"/>
                  </a:lnTo>
                  <a:lnTo>
                    <a:pt x="509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0" y="185"/>
                  </a:lnTo>
                  <a:lnTo>
                    <a:pt x="418" y="187"/>
                  </a:lnTo>
                  <a:lnTo>
                    <a:pt x="377" y="195"/>
                  </a:lnTo>
                  <a:lnTo>
                    <a:pt x="344" y="201"/>
                  </a:lnTo>
                  <a:lnTo>
                    <a:pt x="318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5" y="223"/>
                  </a:lnTo>
                  <a:lnTo>
                    <a:pt x="277" y="229"/>
                  </a:lnTo>
                  <a:lnTo>
                    <a:pt x="269" y="235"/>
                  </a:lnTo>
                  <a:lnTo>
                    <a:pt x="253" y="253"/>
                  </a:lnTo>
                  <a:lnTo>
                    <a:pt x="237" y="272"/>
                  </a:lnTo>
                  <a:lnTo>
                    <a:pt x="227" y="283"/>
                  </a:lnTo>
                  <a:lnTo>
                    <a:pt x="220" y="287"/>
                  </a:lnTo>
                  <a:lnTo>
                    <a:pt x="211" y="291"/>
                  </a:lnTo>
                  <a:lnTo>
                    <a:pt x="202" y="293"/>
                  </a:lnTo>
                  <a:lnTo>
                    <a:pt x="189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2" y="297"/>
                  </a:lnTo>
                  <a:lnTo>
                    <a:pt x="82" y="56"/>
                  </a:lnTo>
                  <a:lnTo>
                    <a:pt x="130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5" y="18"/>
                  </a:lnTo>
                  <a:lnTo>
                    <a:pt x="280" y="12"/>
                  </a:lnTo>
                  <a:lnTo>
                    <a:pt x="315" y="7"/>
                  </a:lnTo>
                  <a:lnTo>
                    <a:pt x="346" y="3"/>
                  </a:lnTo>
                  <a:lnTo>
                    <a:pt x="375" y="1"/>
                  </a:lnTo>
                  <a:lnTo>
                    <a:pt x="403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3" y="4"/>
                  </a:lnTo>
                  <a:lnTo>
                    <a:pt x="587" y="7"/>
                  </a:lnTo>
                  <a:lnTo>
                    <a:pt x="619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7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3" y="43"/>
                  </a:lnTo>
                  <a:lnTo>
                    <a:pt x="806" y="50"/>
                  </a:lnTo>
                  <a:lnTo>
                    <a:pt x="826" y="57"/>
                  </a:lnTo>
                  <a:lnTo>
                    <a:pt x="846" y="66"/>
                  </a:lnTo>
                  <a:lnTo>
                    <a:pt x="863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1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8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5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7" y="260"/>
                  </a:lnTo>
                  <a:lnTo>
                    <a:pt x="1000" y="280"/>
                  </a:lnTo>
                  <a:lnTo>
                    <a:pt x="1001" y="299"/>
                  </a:lnTo>
                  <a:lnTo>
                    <a:pt x="1002" y="320"/>
                  </a:lnTo>
                  <a:lnTo>
                    <a:pt x="1002" y="821"/>
                  </a:lnTo>
                  <a:lnTo>
                    <a:pt x="1002" y="852"/>
                  </a:lnTo>
                  <a:lnTo>
                    <a:pt x="1002" y="864"/>
                  </a:lnTo>
                  <a:lnTo>
                    <a:pt x="1007" y="897"/>
                  </a:lnTo>
                  <a:lnTo>
                    <a:pt x="1022" y="920"/>
                  </a:lnTo>
                  <a:lnTo>
                    <a:pt x="1047" y="930"/>
                  </a:lnTo>
                  <a:lnTo>
                    <a:pt x="1056" y="934"/>
                  </a:lnTo>
                  <a:lnTo>
                    <a:pt x="1064" y="939"/>
                  </a:lnTo>
                  <a:lnTo>
                    <a:pt x="1071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1" y="1046"/>
                  </a:lnTo>
                  <a:lnTo>
                    <a:pt x="681" y="989"/>
                  </a:lnTo>
                  <a:lnTo>
                    <a:pt x="665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4" y="1032"/>
                  </a:lnTo>
                  <a:lnTo>
                    <a:pt x="588" y="1038"/>
                  </a:lnTo>
                  <a:lnTo>
                    <a:pt x="572" y="1045"/>
                  </a:lnTo>
                  <a:lnTo>
                    <a:pt x="556" y="1051"/>
                  </a:lnTo>
                  <a:lnTo>
                    <a:pt x="540" y="1056"/>
                  </a:lnTo>
                  <a:lnTo>
                    <a:pt x="523" y="1059"/>
                  </a:lnTo>
                  <a:lnTo>
                    <a:pt x="507" y="1063"/>
                  </a:lnTo>
                  <a:lnTo>
                    <a:pt x="489" y="1065"/>
                  </a:lnTo>
                  <a:lnTo>
                    <a:pt x="472" y="1068"/>
                  </a:lnTo>
                  <a:lnTo>
                    <a:pt x="455" y="1069"/>
                  </a:lnTo>
                  <a:lnTo>
                    <a:pt x="438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3" y="1068"/>
                  </a:lnTo>
                  <a:lnTo>
                    <a:pt x="296" y="1065"/>
                  </a:lnTo>
                  <a:lnTo>
                    <a:pt x="270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89" y="1042"/>
                  </a:lnTo>
                  <a:lnTo>
                    <a:pt x="173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4" y="1005"/>
                  </a:lnTo>
                  <a:lnTo>
                    <a:pt x="109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1" y="940"/>
                  </a:lnTo>
                  <a:lnTo>
                    <a:pt x="45" y="917"/>
                  </a:lnTo>
                  <a:lnTo>
                    <a:pt x="38" y="906"/>
                  </a:lnTo>
                  <a:lnTo>
                    <a:pt x="31" y="893"/>
                  </a:lnTo>
                  <a:lnTo>
                    <a:pt x="24" y="881"/>
                  </a:lnTo>
                  <a:lnTo>
                    <a:pt x="20" y="869"/>
                  </a:lnTo>
                  <a:lnTo>
                    <a:pt x="15" y="857"/>
                  </a:lnTo>
                  <a:lnTo>
                    <a:pt x="11" y="843"/>
                  </a:lnTo>
                  <a:lnTo>
                    <a:pt x="7" y="831"/>
                  </a:lnTo>
                  <a:lnTo>
                    <a:pt x="5" y="817"/>
                  </a:lnTo>
                  <a:lnTo>
                    <a:pt x="2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8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4" y="639"/>
                  </a:lnTo>
                  <a:lnTo>
                    <a:pt x="29" y="626"/>
                  </a:lnTo>
                  <a:lnTo>
                    <a:pt x="36" y="614"/>
                  </a:lnTo>
                  <a:lnTo>
                    <a:pt x="43" y="600"/>
                  </a:lnTo>
                  <a:lnTo>
                    <a:pt x="50" y="588"/>
                  </a:lnTo>
                  <a:lnTo>
                    <a:pt x="58" y="577"/>
                  </a:lnTo>
                  <a:lnTo>
                    <a:pt x="66" y="564"/>
                  </a:lnTo>
                  <a:lnTo>
                    <a:pt x="75" y="553"/>
                  </a:lnTo>
                  <a:lnTo>
                    <a:pt x="85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0" y="502"/>
                  </a:lnTo>
                  <a:lnTo>
                    <a:pt x="156" y="482"/>
                  </a:lnTo>
                  <a:lnTo>
                    <a:pt x="172" y="472"/>
                  </a:lnTo>
                  <a:lnTo>
                    <a:pt x="189" y="464"/>
                  </a:lnTo>
                  <a:lnTo>
                    <a:pt x="207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7" y="381"/>
                  </a:lnTo>
                  <a:lnTo>
                    <a:pt x="462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1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7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2" y="580"/>
                  </a:lnTo>
                  <a:lnTo>
                    <a:pt x="451" y="589"/>
                  </a:lnTo>
                  <a:lnTo>
                    <a:pt x="435" y="596"/>
                  </a:lnTo>
                  <a:lnTo>
                    <a:pt x="422" y="602"/>
                  </a:lnTo>
                  <a:lnTo>
                    <a:pt x="409" y="611"/>
                  </a:lnTo>
                  <a:lnTo>
                    <a:pt x="398" y="618"/>
                  </a:lnTo>
                  <a:lnTo>
                    <a:pt x="390" y="627"/>
                  </a:lnTo>
                  <a:lnTo>
                    <a:pt x="377" y="641"/>
                  </a:lnTo>
                  <a:lnTo>
                    <a:pt x="366" y="654"/>
                  </a:lnTo>
                  <a:lnTo>
                    <a:pt x="357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4" y="745"/>
                  </a:lnTo>
                  <a:lnTo>
                    <a:pt x="334" y="760"/>
                  </a:lnTo>
                  <a:lnTo>
                    <a:pt x="337" y="774"/>
                  </a:lnTo>
                  <a:lnTo>
                    <a:pt x="339" y="788"/>
                  </a:lnTo>
                  <a:lnTo>
                    <a:pt x="342" y="800"/>
                  </a:lnTo>
                  <a:lnTo>
                    <a:pt x="347" y="811"/>
                  </a:lnTo>
                  <a:lnTo>
                    <a:pt x="352" y="822"/>
                  </a:lnTo>
                  <a:lnTo>
                    <a:pt x="359" y="831"/>
                  </a:lnTo>
                  <a:lnTo>
                    <a:pt x="366" y="839"/>
                  </a:lnTo>
                  <a:lnTo>
                    <a:pt x="375" y="847"/>
                  </a:lnTo>
                  <a:lnTo>
                    <a:pt x="384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18" y="866"/>
                  </a:lnTo>
                  <a:lnTo>
                    <a:pt x="432" y="870"/>
                  </a:lnTo>
                  <a:lnTo>
                    <a:pt x="446" y="871"/>
                  </a:lnTo>
                  <a:lnTo>
                    <a:pt x="461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2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48" y="860"/>
                  </a:lnTo>
                  <a:lnTo>
                    <a:pt x="564" y="854"/>
                  </a:lnTo>
                  <a:lnTo>
                    <a:pt x="580" y="847"/>
                  </a:lnTo>
                  <a:lnTo>
                    <a:pt x="596" y="837"/>
                  </a:lnTo>
                  <a:lnTo>
                    <a:pt x="612" y="826"/>
                  </a:lnTo>
                  <a:lnTo>
                    <a:pt x="630" y="812"/>
                  </a:lnTo>
                  <a:lnTo>
                    <a:pt x="638" y="805"/>
                  </a:lnTo>
                  <a:lnTo>
                    <a:pt x="647" y="795"/>
                  </a:lnTo>
                  <a:lnTo>
                    <a:pt x="654" y="785"/>
                  </a:lnTo>
                  <a:lnTo>
                    <a:pt x="662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69120" y="771480"/>
              <a:ext cx="90720" cy="125280"/>
            </a:xfrm>
            <a:custGeom>
              <a:avLst/>
              <a:gdLst/>
              <a:ahLst/>
              <a:rect l="l" t="t" r="r" b="b"/>
              <a:pathLst>
                <a:path w="1108" h="1443">
                  <a:moveTo>
                    <a:pt x="0" y="1396"/>
                  </a:moveTo>
                  <a:lnTo>
                    <a:pt x="2" y="1072"/>
                  </a:lnTo>
                  <a:lnTo>
                    <a:pt x="19" y="1067"/>
                  </a:lnTo>
                  <a:lnTo>
                    <a:pt x="33" y="1067"/>
                  </a:lnTo>
                  <a:lnTo>
                    <a:pt x="40" y="1067"/>
                  </a:lnTo>
                  <a:lnTo>
                    <a:pt x="50" y="1068"/>
                  </a:lnTo>
                  <a:lnTo>
                    <a:pt x="60" y="1070"/>
                  </a:lnTo>
                  <a:lnTo>
                    <a:pt x="68" y="1071"/>
                  </a:lnTo>
                  <a:lnTo>
                    <a:pt x="78" y="1073"/>
                  </a:lnTo>
                  <a:lnTo>
                    <a:pt x="87" y="1077"/>
                  </a:lnTo>
                  <a:lnTo>
                    <a:pt x="96" y="1081"/>
                  </a:lnTo>
                  <a:lnTo>
                    <a:pt x="104" y="1086"/>
                  </a:lnTo>
                  <a:lnTo>
                    <a:pt x="113" y="1092"/>
                  </a:lnTo>
                  <a:lnTo>
                    <a:pt x="129" y="1103"/>
                  </a:lnTo>
                  <a:lnTo>
                    <a:pt x="142" y="1115"/>
                  </a:lnTo>
                  <a:lnTo>
                    <a:pt x="176" y="1148"/>
                  </a:lnTo>
                  <a:lnTo>
                    <a:pt x="185" y="1158"/>
                  </a:lnTo>
                  <a:lnTo>
                    <a:pt x="191" y="1163"/>
                  </a:lnTo>
                  <a:lnTo>
                    <a:pt x="200" y="1168"/>
                  </a:lnTo>
                  <a:lnTo>
                    <a:pt x="212" y="1174"/>
                  </a:lnTo>
                  <a:lnTo>
                    <a:pt x="226" y="1180"/>
                  </a:lnTo>
                  <a:lnTo>
                    <a:pt x="242" y="1185"/>
                  </a:lnTo>
                  <a:lnTo>
                    <a:pt x="257" y="1189"/>
                  </a:lnTo>
                  <a:lnTo>
                    <a:pt x="270" y="1191"/>
                  </a:lnTo>
                  <a:lnTo>
                    <a:pt x="284" y="1191"/>
                  </a:lnTo>
                  <a:lnTo>
                    <a:pt x="295" y="1190"/>
                  </a:lnTo>
                  <a:lnTo>
                    <a:pt x="307" y="1188"/>
                  </a:lnTo>
                  <a:lnTo>
                    <a:pt x="319" y="1183"/>
                  </a:lnTo>
                  <a:lnTo>
                    <a:pt x="330" y="1177"/>
                  </a:lnTo>
                  <a:lnTo>
                    <a:pt x="342" y="1168"/>
                  </a:lnTo>
                  <a:lnTo>
                    <a:pt x="353" y="1158"/>
                  </a:lnTo>
                  <a:lnTo>
                    <a:pt x="362" y="1146"/>
                  </a:lnTo>
                  <a:lnTo>
                    <a:pt x="374" y="1132"/>
                  </a:lnTo>
                  <a:lnTo>
                    <a:pt x="397" y="1093"/>
                  </a:lnTo>
                  <a:lnTo>
                    <a:pt x="99" y="197"/>
                  </a:lnTo>
                  <a:lnTo>
                    <a:pt x="97" y="187"/>
                  </a:lnTo>
                  <a:lnTo>
                    <a:pt x="86" y="154"/>
                  </a:lnTo>
                  <a:lnTo>
                    <a:pt x="82" y="144"/>
                  </a:lnTo>
                  <a:lnTo>
                    <a:pt x="77" y="135"/>
                  </a:lnTo>
                  <a:lnTo>
                    <a:pt x="72" y="129"/>
                  </a:lnTo>
                  <a:lnTo>
                    <a:pt x="67" y="124"/>
                  </a:lnTo>
                  <a:lnTo>
                    <a:pt x="62" y="121"/>
                  </a:lnTo>
                  <a:lnTo>
                    <a:pt x="49" y="116"/>
                  </a:lnTo>
                  <a:lnTo>
                    <a:pt x="39" y="112"/>
                  </a:lnTo>
                  <a:lnTo>
                    <a:pt x="32" y="107"/>
                  </a:lnTo>
                  <a:lnTo>
                    <a:pt x="24" y="101"/>
                  </a:lnTo>
                  <a:lnTo>
                    <a:pt x="19" y="95"/>
                  </a:lnTo>
                  <a:lnTo>
                    <a:pt x="14" y="89"/>
                  </a:lnTo>
                  <a:lnTo>
                    <a:pt x="12" y="83"/>
                  </a:lnTo>
                  <a:lnTo>
                    <a:pt x="9" y="75"/>
                  </a:lnTo>
                  <a:lnTo>
                    <a:pt x="9" y="68"/>
                  </a:lnTo>
                  <a:lnTo>
                    <a:pt x="9" y="0"/>
                  </a:lnTo>
                  <a:lnTo>
                    <a:pt x="499" y="0"/>
                  </a:lnTo>
                  <a:lnTo>
                    <a:pt x="499" y="68"/>
                  </a:lnTo>
                  <a:lnTo>
                    <a:pt x="498" y="75"/>
                  </a:lnTo>
                  <a:lnTo>
                    <a:pt x="497" y="83"/>
                  </a:lnTo>
                  <a:lnTo>
                    <a:pt x="493" y="89"/>
                  </a:lnTo>
                  <a:lnTo>
                    <a:pt x="489" y="95"/>
                  </a:lnTo>
                  <a:lnTo>
                    <a:pt x="483" y="101"/>
                  </a:lnTo>
                  <a:lnTo>
                    <a:pt x="477" y="107"/>
                  </a:lnTo>
                  <a:lnTo>
                    <a:pt x="468" y="112"/>
                  </a:lnTo>
                  <a:lnTo>
                    <a:pt x="460" y="116"/>
                  </a:lnTo>
                  <a:lnTo>
                    <a:pt x="446" y="122"/>
                  </a:lnTo>
                  <a:lnTo>
                    <a:pt x="437" y="127"/>
                  </a:lnTo>
                  <a:lnTo>
                    <a:pt x="433" y="133"/>
                  </a:lnTo>
                  <a:lnTo>
                    <a:pt x="429" y="140"/>
                  </a:lnTo>
                  <a:lnTo>
                    <a:pt x="428" y="148"/>
                  </a:lnTo>
                  <a:lnTo>
                    <a:pt x="430" y="164"/>
                  </a:lnTo>
                  <a:lnTo>
                    <a:pt x="434" y="183"/>
                  </a:lnTo>
                  <a:lnTo>
                    <a:pt x="437" y="197"/>
                  </a:lnTo>
                  <a:lnTo>
                    <a:pt x="579" y="689"/>
                  </a:lnTo>
                  <a:lnTo>
                    <a:pt x="757" y="197"/>
                  </a:lnTo>
                  <a:lnTo>
                    <a:pt x="759" y="183"/>
                  </a:lnTo>
                  <a:lnTo>
                    <a:pt x="760" y="175"/>
                  </a:lnTo>
                  <a:lnTo>
                    <a:pt x="760" y="167"/>
                  </a:lnTo>
                  <a:lnTo>
                    <a:pt x="760" y="160"/>
                  </a:lnTo>
                  <a:lnTo>
                    <a:pt x="757" y="154"/>
                  </a:lnTo>
                  <a:lnTo>
                    <a:pt x="755" y="148"/>
                  </a:lnTo>
                  <a:lnTo>
                    <a:pt x="751" y="141"/>
                  </a:lnTo>
                  <a:lnTo>
                    <a:pt x="746" y="137"/>
                  </a:lnTo>
                  <a:lnTo>
                    <a:pt x="741" y="132"/>
                  </a:lnTo>
                  <a:lnTo>
                    <a:pt x="711" y="121"/>
                  </a:lnTo>
                  <a:lnTo>
                    <a:pt x="696" y="114"/>
                  </a:lnTo>
                  <a:lnTo>
                    <a:pt x="687" y="110"/>
                  </a:lnTo>
                  <a:lnTo>
                    <a:pt x="679" y="105"/>
                  </a:lnTo>
                  <a:lnTo>
                    <a:pt x="671" y="100"/>
                  </a:lnTo>
                  <a:lnTo>
                    <a:pt x="665" y="94"/>
                  </a:lnTo>
                  <a:lnTo>
                    <a:pt x="661" y="87"/>
                  </a:lnTo>
                  <a:lnTo>
                    <a:pt x="658" y="81"/>
                  </a:lnTo>
                  <a:lnTo>
                    <a:pt x="656" y="74"/>
                  </a:lnTo>
                  <a:lnTo>
                    <a:pt x="655" y="68"/>
                  </a:lnTo>
                  <a:lnTo>
                    <a:pt x="655" y="0"/>
                  </a:lnTo>
                  <a:lnTo>
                    <a:pt x="1108" y="0"/>
                  </a:lnTo>
                  <a:lnTo>
                    <a:pt x="1108" y="69"/>
                  </a:lnTo>
                  <a:lnTo>
                    <a:pt x="1107" y="76"/>
                  </a:lnTo>
                  <a:lnTo>
                    <a:pt x="1104" y="84"/>
                  </a:lnTo>
                  <a:lnTo>
                    <a:pt x="1102" y="90"/>
                  </a:lnTo>
                  <a:lnTo>
                    <a:pt x="1097" y="96"/>
                  </a:lnTo>
                  <a:lnTo>
                    <a:pt x="1092" y="101"/>
                  </a:lnTo>
                  <a:lnTo>
                    <a:pt x="1084" y="107"/>
                  </a:lnTo>
                  <a:lnTo>
                    <a:pt x="1076" y="112"/>
                  </a:lnTo>
                  <a:lnTo>
                    <a:pt x="1066" y="116"/>
                  </a:lnTo>
                  <a:lnTo>
                    <a:pt x="1052" y="122"/>
                  </a:lnTo>
                  <a:lnTo>
                    <a:pt x="1041" y="134"/>
                  </a:lnTo>
                  <a:lnTo>
                    <a:pt x="1035" y="144"/>
                  </a:lnTo>
                  <a:lnTo>
                    <a:pt x="1029" y="154"/>
                  </a:lnTo>
                  <a:lnTo>
                    <a:pt x="1016" y="184"/>
                  </a:lnTo>
                  <a:lnTo>
                    <a:pt x="1012" y="198"/>
                  </a:lnTo>
                  <a:lnTo>
                    <a:pt x="675" y="1077"/>
                  </a:lnTo>
                  <a:lnTo>
                    <a:pt x="656" y="1124"/>
                  </a:lnTo>
                  <a:lnTo>
                    <a:pt x="637" y="1166"/>
                  </a:lnTo>
                  <a:lnTo>
                    <a:pt x="616" y="1206"/>
                  </a:lnTo>
                  <a:lnTo>
                    <a:pt x="595" y="1242"/>
                  </a:lnTo>
                  <a:lnTo>
                    <a:pt x="584" y="1259"/>
                  </a:lnTo>
                  <a:lnTo>
                    <a:pt x="573" y="1275"/>
                  </a:lnTo>
                  <a:lnTo>
                    <a:pt x="562" y="1291"/>
                  </a:lnTo>
                  <a:lnTo>
                    <a:pt x="549" y="1304"/>
                  </a:lnTo>
                  <a:lnTo>
                    <a:pt x="537" y="1319"/>
                  </a:lnTo>
                  <a:lnTo>
                    <a:pt x="526" y="1331"/>
                  </a:lnTo>
                  <a:lnTo>
                    <a:pt x="514" y="1344"/>
                  </a:lnTo>
                  <a:lnTo>
                    <a:pt x="500" y="1355"/>
                  </a:lnTo>
                  <a:lnTo>
                    <a:pt x="488" y="1366"/>
                  </a:lnTo>
                  <a:lnTo>
                    <a:pt x="474" y="1375"/>
                  </a:lnTo>
                  <a:lnTo>
                    <a:pt x="461" y="1385"/>
                  </a:lnTo>
                  <a:lnTo>
                    <a:pt x="447" y="1394"/>
                  </a:lnTo>
                  <a:lnTo>
                    <a:pt x="433" y="1401"/>
                  </a:lnTo>
                  <a:lnTo>
                    <a:pt x="419" y="1409"/>
                  </a:lnTo>
                  <a:lnTo>
                    <a:pt x="403" y="1415"/>
                  </a:lnTo>
                  <a:lnTo>
                    <a:pt x="388" y="1421"/>
                  </a:lnTo>
                  <a:lnTo>
                    <a:pt x="374" y="1426"/>
                  </a:lnTo>
                  <a:lnTo>
                    <a:pt x="358" y="1431"/>
                  </a:lnTo>
                  <a:lnTo>
                    <a:pt x="342" y="1434"/>
                  </a:lnTo>
                  <a:lnTo>
                    <a:pt x="324" y="1438"/>
                  </a:lnTo>
                  <a:lnTo>
                    <a:pt x="308" y="1441"/>
                  </a:lnTo>
                  <a:lnTo>
                    <a:pt x="291" y="1442"/>
                  </a:lnTo>
                  <a:lnTo>
                    <a:pt x="274" y="1443"/>
                  </a:lnTo>
                  <a:lnTo>
                    <a:pt x="255" y="1443"/>
                  </a:lnTo>
                  <a:lnTo>
                    <a:pt x="227" y="1442"/>
                  </a:lnTo>
                  <a:lnTo>
                    <a:pt x="198" y="1441"/>
                  </a:lnTo>
                  <a:lnTo>
                    <a:pt x="167" y="1437"/>
                  </a:lnTo>
                  <a:lnTo>
                    <a:pt x="136" y="1431"/>
                  </a:lnTo>
                  <a:lnTo>
                    <a:pt x="99" y="1421"/>
                  </a:lnTo>
                  <a:lnTo>
                    <a:pt x="0" y="1396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04120" y="738360"/>
              <a:ext cx="98640" cy="118800"/>
            </a:xfrm>
            <a:custGeom>
              <a:avLst/>
              <a:gdLst/>
              <a:ahLst/>
              <a:rect l="l" t="t" r="r" b="b"/>
              <a:pathLst>
                <a:path w="1214" h="1407">
                  <a:moveTo>
                    <a:pt x="0" y="1407"/>
                  </a:moveTo>
                  <a:lnTo>
                    <a:pt x="0" y="1321"/>
                  </a:lnTo>
                  <a:lnTo>
                    <a:pt x="0" y="1315"/>
                  </a:lnTo>
                  <a:lnTo>
                    <a:pt x="3" y="1307"/>
                  </a:lnTo>
                  <a:lnTo>
                    <a:pt x="6" y="1302"/>
                  </a:lnTo>
                  <a:lnTo>
                    <a:pt x="10" y="1297"/>
                  </a:lnTo>
                  <a:lnTo>
                    <a:pt x="16" y="1295"/>
                  </a:lnTo>
                  <a:lnTo>
                    <a:pt x="30" y="1285"/>
                  </a:lnTo>
                  <a:lnTo>
                    <a:pt x="46" y="1272"/>
                  </a:lnTo>
                  <a:lnTo>
                    <a:pt x="54" y="1262"/>
                  </a:lnTo>
                  <a:lnTo>
                    <a:pt x="62" y="1252"/>
                  </a:lnTo>
                  <a:lnTo>
                    <a:pt x="67" y="1242"/>
                  </a:lnTo>
                  <a:lnTo>
                    <a:pt x="70" y="1232"/>
                  </a:lnTo>
                  <a:lnTo>
                    <a:pt x="73" y="1226"/>
                  </a:lnTo>
                  <a:lnTo>
                    <a:pt x="77" y="1196"/>
                  </a:lnTo>
                  <a:lnTo>
                    <a:pt x="77" y="1164"/>
                  </a:lnTo>
                  <a:lnTo>
                    <a:pt x="77" y="208"/>
                  </a:lnTo>
                  <a:lnTo>
                    <a:pt x="75" y="197"/>
                  </a:lnTo>
                  <a:lnTo>
                    <a:pt x="74" y="187"/>
                  </a:lnTo>
                  <a:lnTo>
                    <a:pt x="70" y="176"/>
                  </a:lnTo>
                  <a:lnTo>
                    <a:pt x="67" y="165"/>
                  </a:lnTo>
                  <a:lnTo>
                    <a:pt x="61" y="156"/>
                  </a:lnTo>
                  <a:lnTo>
                    <a:pt x="56" y="147"/>
                  </a:lnTo>
                  <a:lnTo>
                    <a:pt x="51" y="140"/>
                  </a:lnTo>
                  <a:lnTo>
                    <a:pt x="46" y="135"/>
                  </a:lnTo>
                  <a:lnTo>
                    <a:pt x="42" y="131"/>
                  </a:lnTo>
                  <a:lnTo>
                    <a:pt x="18" y="111"/>
                  </a:lnTo>
                  <a:lnTo>
                    <a:pt x="10" y="104"/>
                  </a:lnTo>
                  <a:lnTo>
                    <a:pt x="3" y="97"/>
                  </a:lnTo>
                  <a:lnTo>
                    <a:pt x="0" y="94"/>
                  </a:lnTo>
                  <a:lnTo>
                    <a:pt x="0" y="92"/>
                  </a:lnTo>
                  <a:lnTo>
                    <a:pt x="0" y="0"/>
                  </a:lnTo>
                  <a:lnTo>
                    <a:pt x="669" y="0"/>
                  </a:lnTo>
                  <a:lnTo>
                    <a:pt x="719" y="0"/>
                  </a:lnTo>
                  <a:lnTo>
                    <a:pt x="760" y="1"/>
                  </a:lnTo>
                  <a:lnTo>
                    <a:pt x="797" y="3"/>
                  </a:lnTo>
                  <a:lnTo>
                    <a:pt x="828" y="6"/>
                  </a:lnTo>
                  <a:lnTo>
                    <a:pt x="855" y="8"/>
                  </a:lnTo>
                  <a:lnTo>
                    <a:pt x="881" y="13"/>
                  </a:lnTo>
                  <a:lnTo>
                    <a:pt x="906" y="18"/>
                  </a:lnTo>
                  <a:lnTo>
                    <a:pt x="929" y="25"/>
                  </a:lnTo>
                  <a:lnTo>
                    <a:pt x="963" y="38"/>
                  </a:lnTo>
                  <a:lnTo>
                    <a:pt x="995" y="51"/>
                  </a:lnTo>
                  <a:lnTo>
                    <a:pt x="1026" y="67"/>
                  </a:lnTo>
                  <a:lnTo>
                    <a:pt x="1053" y="84"/>
                  </a:lnTo>
                  <a:lnTo>
                    <a:pt x="1079" y="103"/>
                  </a:lnTo>
                  <a:lnTo>
                    <a:pt x="1102" y="122"/>
                  </a:lnTo>
                  <a:lnTo>
                    <a:pt x="1113" y="132"/>
                  </a:lnTo>
                  <a:lnTo>
                    <a:pt x="1123" y="143"/>
                  </a:lnTo>
                  <a:lnTo>
                    <a:pt x="1133" y="154"/>
                  </a:lnTo>
                  <a:lnTo>
                    <a:pt x="1143" y="165"/>
                  </a:lnTo>
                  <a:lnTo>
                    <a:pt x="1152" y="178"/>
                  </a:lnTo>
                  <a:lnTo>
                    <a:pt x="1159" y="190"/>
                  </a:lnTo>
                  <a:lnTo>
                    <a:pt x="1166" y="202"/>
                  </a:lnTo>
                  <a:lnTo>
                    <a:pt x="1174" y="214"/>
                  </a:lnTo>
                  <a:lnTo>
                    <a:pt x="1180" y="228"/>
                  </a:lnTo>
                  <a:lnTo>
                    <a:pt x="1186" y="241"/>
                  </a:lnTo>
                  <a:lnTo>
                    <a:pt x="1191" y="255"/>
                  </a:lnTo>
                  <a:lnTo>
                    <a:pt x="1196" y="270"/>
                  </a:lnTo>
                  <a:lnTo>
                    <a:pt x="1203" y="299"/>
                  </a:lnTo>
                  <a:lnTo>
                    <a:pt x="1209" y="330"/>
                  </a:lnTo>
                  <a:lnTo>
                    <a:pt x="1213" y="362"/>
                  </a:lnTo>
                  <a:lnTo>
                    <a:pt x="1214" y="396"/>
                  </a:lnTo>
                  <a:lnTo>
                    <a:pt x="1213" y="413"/>
                  </a:lnTo>
                  <a:lnTo>
                    <a:pt x="1212" y="431"/>
                  </a:lnTo>
                  <a:lnTo>
                    <a:pt x="1211" y="449"/>
                  </a:lnTo>
                  <a:lnTo>
                    <a:pt x="1208" y="467"/>
                  </a:lnTo>
                  <a:lnTo>
                    <a:pt x="1201" y="508"/>
                  </a:lnTo>
                  <a:lnTo>
                    <a:pt x="1191" y="551"/>
                  </a:lnTo>
                  <a:lnTo>
                    <a:pt x="1185" y="572"/>
                  </a:lnTo>
                  <a:lnTo>
                    <a:pt x="1177" y="594"/>
                  </a:lnTo>
                  <a:lnTo>
                    <a:pt x="1168" y="614"/>
                  </a:lnTo>
                  <a:lnTo>
                    <a:pt x="1158" y="634"/>
                  </a:lnTo>
                  <a:lnTo>
                    <a:pt x="1145" y="654"/>
                  </a:lnTo>
                  <a:lnTo>
                    <a:pt x="1132" y="672"/>
                  </a:lnTo>
                  <a:lnTo>
                    <a:pt x="1117" y="691"/>
                  </a:lnTo>
                  <a:lnTo>
                    <a:pt x="1100" y="709"/>
                  </a:lnTo>
                  <a:lnTo>
                    <a:pt x="1082" y="726"/>
                  </a:lnTo>
                  <a:lnTo>
                    <a:pt x="1061" y="745"/>
                  </a:lnTo>
                  <a:lnTo>
                    <a:pt x="1037" y="763"/>
                  </a:lnTo>
                  <a:lnTo>
                    <a:pt x="1010" y="782"/>
                  </a:lnTo>
                  <a:lnTo>
                    <a:pt x="981" y="801"/>
                  </a:lnTo>
                  <a:lnTo>
                    <a:pt x="949" y="821"/>
                  </a:lnTo>
                  <a:lnTo>
                    <a:pt x="914" y="841"/>
                  </a:lnTo>
                  <a:lnTo>
                    <a:pt x="877" y="862"/>
                  </a:lnTo>
                  <a:lnTo>
                    <a:pt x="847" y="876"/>
                  </a:lnTo>
                  <a:lnTo>
                    <a:pt x="815" y="891"/>
                  </a:lnTo>
                  <a:lnTo>
                    <a:pt x="780" y="905"/>
                  </a:lnTo>
                  <a:lnTo>
                    <a:pt x="746" y="918"/>
                  </a:lnTo>
                  <a:lnTo>
                    <a:pt x="709" y="930"/>
                  </a:lnTo>
                  <a:lnTo>
                    <a:pt x="669" y="943"/>
                  </a:lnTo>
                  <a:lnTo>
                    <a:pt x="626" y="954"/>
                  </a:lnTo>
                  <a:lnTo>
                    <a:pt x="580" y="965"/>
                  </a:lnTo>
                  <a:lnTo>
                    <a:pt x="428" y="998"/>
                  </a:lnTo>
                  <a:lnTo>
                    <a:pt x="428" y="1197"/>
                  </a:lnTo>
                  <a:lnTo>
                    <a:pt x="428" y="1215"/>
                  </a:lnTo>
                  <a:lnTo>
                    <a:pt x="432" y="1226"/>
                  </a:lnTo>
                  <a:lnTo>
                    <a:pt x="436" y="1236"/>
                  </a:lnTo>
                  <a:lnTo>
                    <a:pt x="441" y="1246"/>
                  </a:lnTo>
                  <a:lnTo>
                    <a:pt x="446" y="1256"/>
                  </a:lnTo>
                  <a:lnTo>
                    <a:pt x="453" y="1264"/>
                  </a:lnTo>
                  <a:lnTo>
                    <a:pt x="460" y="1273"/>
                  </a:lnTo>
                  <a:lnTo>
                    <a:pt x="468" y="1280"/>
                  </a:lnTo>
                  <a:lnTo>
                    <a:pt x="478" y="1288"/>
                  </a:lnTo>
                  <a:lnTo>
                    <a:pt x="494" y="1295"/>
                  </a:lnTo>
                  <a:lnTo>
                    <a:pt x="498" y="1300"/>
                  </a:lnTo>
                  <a:lnTo>
                    <a:pt x="503" y="1305"/>
                  </a:lnTo>
                  <a:lnTo>
                    <a:pt x="508" y="1311"/>
                  </a:lnTo>
                  <a:lnTo>
                    <a:pt x="511" y="1317"/>
                  </a:lnTo>
                  <a:lnTo>
                    <a:pt x="511" y="1407"/>
                  </a:lnTo>
                  <a:lnTo>
                    <a:pt x="0" y="1407"/>
                  </a:lnTo>
                  <a:close/>
                  <a:moveTo>
                    <a:pt x="583" y="708"/>
                  </a:moveTo>
                  <a:lnTo>
                    <a:pt x="603" y="702"/>
                  </a:lnTo>
                  <a:lnTo>
                    <a:pt x="621" y="695"/>
                  </a:lnTo>
                  <a:lnTo>
                    <a:pt x="640" y="687"/>
                  </a:lnTo>
                  <a:lnTo>
                    <a:pt x="656" y="680"/>
                  </a:lnTo>
                  <a:lnTo>
                    <a:pt x="672" y="672"/>
                  </a:lnTo>
                  <a:lnTo>
                    <a:pt x="687" y="664"/>
                  </a:lnTo>
                  <a:lnTo>
                    <a:pt x="701" y="655"/>
                  </a:lnTo>
                  <a:lnTo>
                    <a:pt x="714" y="645"/>
                  </a:lnTo>
                  <a:lnTo>
                    <a:pt x="726" y="636"/>
                  </a:lnTo>
                  <a:lnTo>
                    <a:pt x="737" y="626"/>
                  </a:lnTo>
                  <a:lnTo>
                    <a:pt x="748" y="614"/>
                  </a:lnTo>
                  <a:lnTo>
                    <a:pt x="758" y="601"/>
                  </a:lnTo>
                  <a:lnTo>
                    <a:pt x="768" y="588"/>
                  </a:lnTo>
                  <a:lnTo>
                    <a:pt x="778" y="573"/>
                  </a:lnTo>
                  <a:lnTo>
                    <a:pt x="786" y="558"/>
                  </a:lnTo>
                  <a:lnTo>
                    <a:pt x="795" y="542"/>
                  </a:lnTo>
                  <a:lnTo>
                    <a:pt x="800" y="532"/>
                  </a:lnTo>
                  <a:lnTo>
                    <a:pt x="804" y="521"/>
                  </a:lnTo>
                  <a:lnTo>
                    <a:pt x="808" y="510"/>
                  </a:lnTo>
                  <a:lnTo>
                    <a:pt x="812" y="497"/>
                  </a:lnTo>
                  <a:lnTo>
                    <a:pt x="816" y="483"/>
                  </a:lnTo>
                  <a:lnTo>
                    <a:pt x="820" y="472"/>
                  </a:lnTo>
                  <a:lnTo>
                    <a:pt x="821" y="461"/>
                  </a:lnTo>
                  <a:lnTo>
                    <a:pt x="822" y="451"/>
                  </a:lnTo>
                  <a:lnTo>
                    <a:pt x="824" y="434"/>
                  </a:lnTo>
                  <a:lnTo>
                    <a:pt x="826" y="416"/>
                  </a:lnTo>
                  <a:lnTo>
                    <a:pt x="828" y="401"/>
                  </a:lnTo>
                  <a:lnTo>
                    <a:pt x="828" y="389"/>
                  </a:lnTo>
                  <a:lnTo>
                    <a:pt x="828" y="370"/>
                  </a:lnTo>
                  <a:lnTo>
                    <a:pt x="826" y="352"/>
                  </a:lnTo>
                  <a:lnTo>
                    <a:pt x="822" y="335"/>
                  </a:lnTo>
                  <a:lnTo>
                    <a:pt x="817" y="319"/>
                  </a:lnTo>
                  <a:lnTo>
                    <a:pt x="811" y="304"/>
                  </a:lnTo>
                  <a:lnTo>
                    <a:pt x="804" y="291"/>
                  </a:lnTo>
                  <a:lnTo>
                    <a:pt x="795" y="278"/>
                  </a:lnTo>
                  <a:lnTo>
                    <a:pt x="785" y="267"/>
                  </a:lnTo>
                  <a:lnTo>
                    <a:pt x="773" y="256"/>
                  </a:lnTo>
                  <a:lnTo>
                    <a:pt x="760" y="248"/>
                  </a:lnTo>
                  <a:lnTo>
                    <a:pt x="746" y="239"/>
                  </a:lnTo>
                  <a:lnTo>
                    <a:pt x="730" y="232"/>
                  </a:lnTo>
                  <a:lnTo>
                    <a:pt x="714" y="226"/>
                  </a:lnTo>
                  <a:lnTo>
                    <a:pt x="695" y="221"/>
                  </a:lnTo>
                  <a:lnTo>
                    <a:pt x="676" y="217"/>
                  </a:lnTo>
                  <a:lnTo>
                    <a:pt x="655" y="214"/>
                  </a:lnTo>
                  <a:lnTo>
                    <a:pt x="615" y="214"/>
                  </a:lnTo>
                  <a:lnTo>
                    <a:pt x="428" y="214"/>
                  </a:lnTo>
                  <a:lnTo>
                    <a:pt x="428" y="754"/>
                  </a:lnTo>
                  <a:lnTo>
                    <a:pt x="583" y="708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04200" y="766800"/>
              <a:ext cx="58680" cy="90360"/>
            </a:xfrm>
            <a:custGeom>
              <a:avLst/>
              <a:gdLst/>
              <a:ahLst/>
              <a:rect l="l" t="t" r="r" b="b"/>
              <a:pathLst>
                <a:path w="728" h="1067">
                  <a:moveTo>
                    <a:pt x="0" y="1067"/>
                  </a:moveTo>
                  <a:lnTo>
                    <a:pt x="0" y="1000"/>
                  </a:lnTo>
                  <a:lnTo>
                    <a:pt x="0" y="993"/>
                  </a:lnTo>
                  <a:lnTo>
                    <a:pt x="1" y="987"/>
                  </a:lnTo>
                  <a:lnTo>
                    <a:pt x="4" y="981"/>
                  </a:lnTo>
                  <a:lnTo>
                    <a:pt x="6" y="976"/>
                  </a:lnTo>
                  <a:lnTo>
                    <a:pt x="10" y="971"/>
                  </a:lnTo>
                  <a:lnTo>
                    <a:pt x="15" y="966"/>
                  </a:lnTo>
                  <a:lnTo>
                    <a:pt x="21" y="961"/>
                  </a:lnTo>
                  <a:lnTo>
                    <a:pt x="27" y="957"/>
                  </a:lnTo>
                  <a:lnTo>
                    <a:pt x="43" y="951"/>
                  </a:lnTo>
                  <a:lnTo>
                    <a:pt x="70" y="945"/>
                  </a:lnTo>
                  <a:lnTo>
                    <a:pt x="78" y="939"/>
                  </a:lnTo>
                  <a:lnTo>
                    <a:pt x="83" y="934"/>
                  </a:lnTo>
                  <a:lnTo>
                    <a:pt x="84" y="922"/>
                  </a:lnTo>
                  <a:lnTo>
                    <a:pt x="86" y="914"/>
                  </a:lnTo>
                  <a:lnTo>
                    <a:pt x="86" y="885"/>
                  </a:lnTo>
                  <a:lnTo>
                    <a:pt x="86" y="872"/>
                  </a:lnTo>
                  <a:lnTo>
                    <a:pt x="86" y="267"/>
                  </a:lnTo>
                  <a:lnTo>
                    <a:pt x="86" y="254"/>
                  </a:lnTo>
                  <a:lnTo>
                    <a:pt x="86" y="240"/>
                  </a:lnTo>
                  <a:lnTo>
                    <a:pt x="86" y="222"/>
                  </a:lnTo>
                  <a:lnTo>
                    <a:pt x="86" y="202"/>
                  </a:lnTo>
                  <a:lnTo>
                    <a:pt x="84" y="199"/>
                  </a:lnTo>
                  <a:lnTo>
                    <a:pt x="83" y="195"/>
                  </a:lnTo>
                  <a:lnTo>
                    <a:pt x="80" y="192"/>
                  </a:lnTo>
                  <a:lnTo>
                    <a:pt x="78" y="191"/>
                  </a:lnTo>
                  <a:lnTo>
                    <a:pt x="41" y="181"/>
                  </a:lnTo>
                  <a:lnTo>
                    <a:pt x="31" y="178"/>
                  </a:lnTo>
                  <a:lnTo>
                    <a:pt x="22" y="174"/>
                  </a:lnTo>
                  <a:lnTo>
                    <a:pt x="16" y="170"/>
                  </a:lnTo>
                  <a:lnTo>
                    <a:pt x="10" y="164"/>
                  </a:lnTo>
                  <a:lnTo>
                    <a:pt x="6" y="158"/>
                  </a:lnTo>
                  <a:lnTo>
                    <a:pt x="3" y="151"/>
                  </a:lnTo>
                  <a:lnTo>
                    <a:pt x="1" y="143"/>
                  </a:lnTo>
                  <a:lnTo>
                    <a:pt x="0" y="135"/>
                  </a:lnTo>
                  <a:lnTo>
                    <a:pt x="0" y="67"/>
                  </a:lnTo>
                  <a:lnTo>
                    <a:pt x="388" y="67"/>
                  </a:lnTo>
                  <a:lnTo>
                    <a:pt x="388" y="150"/>
                  </a:lnTo>
                  <a:lnTo>
                    <a:pt x="415" y="115"/>
                  </a:lnTo>
                  <a:lnTo>
                    <a:pt x="428" y="99"/>
                  </a:lnTo>
                  <a:lnTo>
                    <a:pt x="443" y="86"/>
                  </a:lnTo>
                  <a:lnTo>
                    <a:pt x="456" y="73"/>
                  </a:lnTo>
                  <a:lnTo>
                    <a:pt x="472" y="61"/>
                  </a:lnTo>
                  <a:lnTo>
                    <a:pt x="487" y="51"/>
                  </a:lnTo>
                  <a:lnTo>
                    <a:pt x="503" y="41"/>
                  </a:lnTo>
                  <a:lnTo>
                    <a:pt x="519" y="33"/>
                  </a:lnTo>
                  <a:lnTo>
                    <a:pt x="536" y="25"/>
                  </a:lnTo>
                  <a:lnTo>
                    <a:pt x="554" y="19"/>
                  </a:lnTo>
                  <a:lnTo>
                    <a:pt x="572" y="14"/>
                  </a:lnTo>
                  <a:lnTo>
                    <a:pt x="592" y="10"/>
                  </a:lnTo>
                  <a:lnTo>
                    <a:pt x="611" y="6"/>
                  </a:lnTo>
                  <a:lnTo>
                    <a:pt x="632" y="3"/>
                  </a:lnTo>
                  <a:lnTo>
                    <a:pt x="653" y="1"/>
                  </a:lnTo>
                  <a:lnTo>
                    <a:pt x="675" y="0"/>
                  </a:lnTo>
                  <a:lnTo>
                    <a:pt x="699" y="0"/>
                  </a:lnTo>
                  <a:lnTo>
                    <a:pt x="728" y="0"/>
                  </a:lnTo>
                  <a:lnTo>
                    <a:pt x="728" y="336"/>
                  </a:lnTo>
                  <a:lnTo>
                    <a:pt x="693" y="337"/>
                  </a:lnTo>
                  <a:lnTo>
                    <a:pt x="657" y="337"/>
                  </a:lnTo>
                  <a:lnTo>
                    <a:pt x="629" y="336"/>
                  </a:lnTo>
                  <a:lnTo>
                    <a:pt x="609" y="335"/>
                  </a:lnTo>
                  <a:lnTo>
                    <a:pt x="599" y="334"/>
                  </a:lnTo>
                  <a:lnTo>
                    <a:pt x="595" y="331"/>
                  </a:lnTo>
                  <a:lnTo>
                    <a:pt x="592" y="329"/>
                  </a:lnTo>
                  <a:lnTo>
                    <a:pt x="589" y="325"/>
                  </a:lnTo>
                  <a:lnTo>
                    <a:pt x="586" y="321"/>
                  </a:lnTo>
                  <a:lnTo>
                    <a:pt x="579" y="309"/>
                  </a:lnTo>
                  <a:lnTo>
                    <a:pt x="573" y="294"/>
                  </a:lnTo>
                  <a:lnTo>
                    <a:pt x="570" y="285"/>
                  </a:lnTo>
                  <a:lnTo>
                    <a:pt x="566" y="271"/>
                  </a:lnTo>
                  <a:lnTo>
                    <a:pt x="563" y="264"/>
                  </a:lnTo>
                  <a:lnTo>
                    <a:pt x="560" y="256"/>
                  </a:lnTo>
                  <a:lnTo>
                    <a:pt x="556" y="251"/>
                  </a:lnTo>
                  <a:lnTo>
                    <a:pt x="552" y="247"/>
                  </a:lnTo>
                  <a:lnTo>
                    <a:pt x="547" y="243"/>
                  </a:lnTo>
                  <a:lnTo>
                    <a:pt x="543" y="240"/>
                  </a:lnTo>
                  <a:lnTo>
                    <a:pt x="536" y="238"/>
                  </a:lnTo>
                  <a:lnTo>
                    <a:pt x="530" y="238"/>
                  </a:lnTo>
                  <a:lnTo>
                    <a:pt x="523" y="239"/>
                  </a:lnTo>
                  <a:lnTo>
                    <a:pt x="513" y="243"/>
                  </a:lnTo>
                  <a:lnTo>
                    <a:pt x="503" y="248"/>
                  </a:lnTo>
                  <a:lnTo>
                    <a:pt x="491" y="255"/>
                  </a:lnTo>
                  <a:lnTo>
                    <a:pt x="468" y="271"/>
                  </a:lnTo>
                  <a:lnTo>
                    <a:pt x="466" y="274"/>
                  </a:lnTo>
                  <a:lnTo>
                    <a:pt x="450" y="291"/>
                  </a:lnTo>
                  <a:lnTo>
                    <a:pt x="444" y="297"/>
                  </a:lnTo>
                  <a:lnTo>
                    <a:pt x="433" y="307"/>
                  </a:lnTo>
                  <a:lnTo>
                    <a:pt x="426" y="314"/>
                  </a:lnTo>
                  <a:lnTo>
                    <a:pt x="421" y="320"/>
                  </a:lnTo>
                  <a:lnTo>
                    <a:pt x="421" y="321"/>
                  </a:lnTo>
                  <a:lnTo>
                    <a:pt x="421" y="324"/>
                  </a:lnTo>
                  <a:lnTo>
                    <a:pt x="421" y="872"/>
                  </a:lnTo>
                  <a:lnTo>
                    <a:pt x="421" y="885"/>
                  </a:lnTo>
                  <a:lnTo>
                    <a:pt x="421" y="910"/>
                  </a:lnTo>
                  <a:lnTo>
                    <a:pt x="424" y="918"/>
                  </a:lnTo>
                  <a:lnTo>
                    <a:pt x="427" y="924"/>
                  </a:lnTo>
                  <a:lnTo>
                    <a:pt x="431" y="930"/>
                  </a:lnTo>
                  <a:lnTo>
                    <a:pt x="433" y="934"/>
                  </a:lnTo>
                  <a:lnTo>
                    <a:pt x="438" y="940"/>
                  </a:lnTo>
                  <a:lnTo>
                    <a:pt x="443" y="943"/>
                  </a:lnTo>
                  <a:lnTo>
                    <a:pt x="445" y="945"/>
                  </a:lnTo>
                  <a:lnTo>
                    <a:pt x="447" y="945"/>
                  </a:lnTo>
                  <a:lnTo>
                    <a:pt x="475" y="951"/>
                  </a:lnTo>
                  <a:lnTo>
                    <a:pt x="491" y="957"/>
                  </a:lnTo>
                  <a:lnTo>
                    <a:pt x="497" y="961"/>
                  </a:lnTo>
                  <a:lnTo>
                    <a:pt x="502" y="965"/>
                  </a:lnTo>
                  <a:lnTo>
                    <a:pt x="507" y="970"/>
                  </a:lnTo>
                  <a:lnTo>
                    <a:pt x="511" y="975"/>
                  </a:lnTo>
                  <a:lnTo>
                    <a:pt x="513" y="981"/>
                  </a:lnTo>
                  <a:lnTo>
                    <a:pt x="515" y="986"/>
                  </a:lnTo>
                  <a:lnTo>
                    <a:pt x="517" y="992"/>
                  </a:lnTo>
                  <a:lnTo>
                    <a:pt x="517" y="998"/>
                  </a:lnTo>
                  <a:lnTo>
                    <a:pt x="517" y="1067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462880" y="768240"/>
              <a:ext cx="92160" cy="95400"/>
            </a:xfrm>
            <a:custGeom>
              <a:avLst/>
              <a:gdLst/>
              <a:ahLst/>
              <a:rect l="l" t="t" r="r" b="b"/>
              <a:pathLst>
                <a:path w="1120" h="1083">
                  <a:moveTo>
                    <a:pt x="0" y="538"/>
                  </a:moveTo>
                  <a:lnTo>
                    <a:pt x="0" y="510"/>
                  </a:lnTo>
                  <a:lnTo>
                    <a:pt x="1" y="483"/>
                  </a:lnTo>
                  <a:lnTo>
                    <a:pt x="3" y="457"/>
                  </a:lnTo>
                  <a:lnTo>
                    <a:pt x="7" y="431"/>
                  </a:lnTo>
                  <a:lnTo>
                    <a:pt x="11" y="406"/>
                  </a:lnTo>
                  <a:lnTo>
                    <a:pt x="17" y="382"/>
                  </a:lnTo>
                  <a:lnTo>
                    <a:pt x="23" y="359"/>
                  </a:lnTo>
                  <a:lnTo>
                    <a:pt x="30" y="335"/>
                  </a:lnTo>
                  <a:lnTo>
                    <a:pt x="39" y="313"/>
                  </a:lnTo>
                  <a:lnTo>
                    <a:pt x="48" y="291"/>
                  </a:lnTo>
                  <a:lnTo>
                    <a:pt x="58" y="270"/>
                  </a:lnTo>
                  <a:lnTo>
                    <a:pt x="69" y="249"/>
                  </a:lnTo>
                  <a:lnTo>
                    <a:pt x="81" y="230"/>
                  </a:lnTo>
                  <a:lnTo>
                    <a:pt x="94" y="211"/>
                  </a:lnTo>
                  <a:lnTo>
                    <a:pt x="108" y="193"/>
                  </a:lnTo>
                  <a:lnTo>
                    <a:pt x="124" y="174"/>
                  </a:lnTo>
                  <a:lnTo>
                    <a:pt x="140" y="157"/>
                  </a:lnTo>
                  <a:lnTo>
                    <a:pt x="156" y="141"/>
                  </a:lnTo>
                  <a:lnTo>
                    <a:pt x="173" y="127"/>
                  </a:lnTo>
                  <a:lnTo>
                    <a:pt x="192" y="112"/>
                  </a:lnTo>
                  <a:lnTo>
                    <a:pt x="211" y="98"/>
                  </a:lnTo>
                  <a:lnTo>
                    <a:pt x="231" y="86"/>
                  </a:lnTo>
                  <a:lnTo>
                    <a:pt x="251" y="74"/>
                  </a:lnTo>
                  <a:lnTo>
                    <a:pt x="273" y="63"/>
                  </a:lnTo>
                  <a:lnTo>
                    <a:pt x="295" y="53"/>
                  </a:lnTo>
                  <a:lnTo>
                    <a:pt x="317" y="43"/>
                  </a:lnTo>
                  <a:lnTo>
                    <a:pt x="342" y="34"/>
                  </a:lnTo>
                  <a:lnTo>
                    <a:pt x="365" y="27"/>
                  </a:lnTo>
                  <a:lnTo>
                    <a:pt x="391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1" y="6"/>
                  </a:lnTo>
                  <a:lnTo>
                    <a:pt x="493" y="4"/>
                  </a:lnTo>
                  <a:lnTo>
                    <a:pt x="516" y="1"/>
                  </a:lnTo>
                  <a:lnTo>
                    <a:pt x="538" y="0"/>
                  </a:lnTo>
                  <a:lnTo>
                    <a:pt x="561" y="0"/>
                  </a:lnTo>
                  <a:lnTo>
                    <a:pt x="583" y="0"/>
                  </a:lnTo>
                  <a:lnTo>
                    <a:pt x="605" y="1"/>
                  </a:lnTo>
                  <a:lnTo>
                    <a:pt x="627" y="4"/>
                  </a:lnTo>
                  <a:lnTo>
                    <a:pt x="649" y="6"/>
                  </a:lnTo>
                  <a:lnTo>
                    <a:pt x="676" y="10"/>
                  </a:lnTo>
                  <a:lnTo>
                    <a:pt x="703" y="15"/>
                  </a:lnTo>
                  <a:lnTo>
                    <a:pt x="729" y="21"/>
                  </a:lnTo>
                  <a:lnTo>
                    <a:pt x="754" y="27"/>
                  </a:lnTo>
                  <a:lnTo>
                    <a:pt x="778" y="34"/>
                  </a:lnTo>
                  <a:lnTo>
                    <a:pt x="802" y="43"/>
                  </a:lnTo>
                  <a:lnTo>
                    <a:pt x="824" y="53"/>
                  </a:lnTo>
                  <a:lnTo>
                    <a:pt x="846" y="63"/>
                  </a:lnTo>
                  <a:lnTo>
                    <a:pt x="868" y="74"/>
                  </a:lnTo>
                  <a:lnTo>
                    <a:pt x="888" y="85"/>
                  </a:lnTo>
                  <a:lnTo>
                    <a:pt x="907" y="98"/>
                  </a:lnTo>
                  <a:lnTo>
                    <a:pt x="927" y="112"/>
                  </a:lnTo>
                  <a:lnTo>
                    <a:pt x="946" y="125"/>
                  </a:lnTo>
                  <a:lnTo>
                    <a:pt x="963" y="141"/>
                  </a:lnTo>
                  <a:lnTo>
                    <a:pt x="980" y="157"/>
                  </a:lnTo>
                  <a:lnTo>
                    <a:pt x="996" y="174"/>
                  </a:lnTo>
                  <a:lnTo>
                    <a:pt x="1011" y="192"/>
                  </a:lnTo>
                  <a:lnTo>
                    <a:pt x="1024" y="210"/>
                  </a:lnTo>
                  <a:lnTo>
                    <a:pt x="1038" y="228"/>
                  </a:lnTo>
                  <a:lnTo>
                    <a:pt x="1050" y="248"/>
                  </a:lnTo>
                  <a:lnTo>
                    <a:pt x="1061" y="269"/>
                  </a:lnTo>
                  <a:lnTo>
                    <a:pt x="1072" y="290"/>
                  </a:lnTo>
                  <a:lnTo>
                    <a:pt x="1081" y="312"/>
                  </a:lnTo>
                  <a:lnTo>
                    <a:pt x="1090" y="334"/>
                  </a:lnTo>
                  <a:lnTo>
                    <a:pt x="1097" y="356"/>
                  </a:lnTo>
                  <a:lnTo>
                    <a:pt x="1103" y="381"/>
                  </a:lnTo>
                  <a:lnTo>
                    <a:pt x="1108" y="404"/>
                  </a:lnTo>
                  <a:lnTo>
                    <a:pt x="1113" y="430"/>
                  </a:lnTo>
                  <a:lnTo>
                    <a:pt x="1117" y="454"/>
                  </a:lnTo>
                  <a:lnTo>
                    <a:pt x="1119" y="481"/>
                  </a:lnTo>
                  <a:lnTo>
                    <a:pt x="1120" y="508"/>
                  </a:lnTo>
                  <a:lnTo>
                    <a:pt x="1120" y="535"/>
                  </a:lnTo>
                  <a:lnTo>
                    <a:pt x="1120" y="564"/>
                  </a:lnTo>
                  <a:lnTo>
                    <a:pt x="1119" y="591"/>
                  </a:lnTo>
                  <a:lnTo>
                    <a:pt x="1117" y="618"/>
                  </a:lnTo>
                  <a:lnTo>
                    <a:pt x="1113" y="645"/>
                  </a:lnTo>
                  <a:lnTo>
                    <a:pt x="1109" y="669"/>
                  </a:lnTo>
                  <a:lnTo>
                    <a:pt x="1103" y="695"/>
                  </a:lnTo>
                  <a:lnTo>
                    <a:pt x="1097" y="718"/>
                  </a:lnTo>
                  <a:lnTo>
                    <a:pt x="1091" y="742"/>
                  </a:lnTo>
                  <a:lnTo>
                    <a:pt x="1082" y="765"/>
                  </a:lnTo>
                  <a:lnTo>
                    <a:pt x="1074" y="787"/>
                  </a:lnTo>
                  <a:lnTo>
                    <a:pt x="1062" y="809"/>
                  </a:lnTo>
                  <a:lnTo>
                    <a:pt x="1051" y="829"/>
                  </a:lnTo>
                  <a:lnTo>
                    <a:pt x="1040" y="850"/>
                  </a:lnTo>
                  <a:lnTo>
                    <a:pt x="1027" y="869"/>
                  </a:lnTo>
                  <a:lnTo>
                    <a:pt x="1013" y="888"/>
                  </a:lnTo>
                  <a:lnTo>
                    <a:pt x="998" y="906"/>
                  </a:lnTo>
                  <a:lnTo>
                    <a:pt x="982" y="923"/>
                  </a:lnTo>
                  <a:lnTo>
                    <a:pt x="967" y="939"/>
                  </a:lnTo>
                  <a:lnTo>
                    <a:pt x="949" y="955"/>
                  </a:lnTo>
                  <a:lnTo>
                    <a:pt x="931" y="970"/>
                  </a:lnTo>
                  <a:lnTo>
                    <a:pt x="911" y="984"/>
                  </a:lnTo>
                  <a:lnTo>
                    <a:pt x="891" y="996"/>
                  </a:lnTo>
                  <a:lnTo>
                    <a:pt x="872" y="1008"/>
                  </a:lnTo>
                  <a:lnTo>
                    <a:pt x="850" y="1019"/>
                  </a:lnTo>
                  <a:lnTo>
                    <a:pt x="828" y="1029"/>
                  </a:lnTo>
                  <a:lnTo>
                    <a:pt x="804" y="1039"/>
                  </a:lnTo>
                  <a:lnTo>
                    <a:pt x="781" y="1047"/>
                  </a:lnTo>
                  <a:lnTo>
                    <a:pt x="756" y="1055"/>
                  </a:lnTo>
                  <a:lnTo>
                    <a:pt x="730" y="1062"/>
                  </a:lnTo>
                  <a:lnTo>
                    <a:pt x="705" y="1067"/>
                  </a:lnTo>
                  <a:lnTo>
                    <a:pt x="677" y="1072"/>
                  </a:lnTo>
                  <a:lnTo>
                    <a:pt x="649" y="1077"/>
                  </a:lnTo>
                  <a:lnTo>
                    <a:pt x="627" y="1079"/>
                  </a:lnTo>
                  <a:lnTo>
                    <a:pt x="605" y="1081"/>
                  </a:lnTo>
                  <a:lnTo>
                    <a:pt x="583" y="1082"/>
                  </a:lnTo>
                  <a:lnTo>
                    <a:pt x="561" y="1083"/>
                  </a:lnTo>
                  <a:lnTo>
                    <a:pt x="538" y="1082"/>
                  </a:lnTo>
                  <a:lnTo>
                    <a:pt x="516" y="1081"/>
                  </a:lnTo>
                  <a:lnTo>
                    <a:pt x="493" y="1079"/>
                  </a:lnTo>
                  <a:lnTo>
                    <a:pt x="471" y="1077"/>
                  </a:lnTo>
                  <a:lnTo>
                    <a:pt x="444" y="1072"/>
                  </a:lnTo>
                  <a:lnTo>
                    <a:pt x="417" y="1067"/>
                  </a:lnTo>
                  <a:lnTo>
                    <a:pt x="391" y="1062"/>
                  </a:lnTo>
                  <a:lnTo>
                    <a:pt x="366" y="1055"/>
                  </a:lnTo>
                  <a:lnTo>
                    <a:pt x="342" y="1047"/>
                  </a:lnTo>
                  <a:lnTo>
                    <a:pt x="318" y="1039"/>
                  </a:lnTo>
                  <a:lnTo>
                    <a:pt x="296" y="1029"/>
                  </a:lnTo>
                  <a:lnTo>
                    <a:pt x="274" y="1018"/>
                  </a:lnTo>
                  <a:lnTo>
                    <a:pt x="252" y="1007"/>
                  </a:lnTo>
                  <a:lnTo>
                    <a:pt x="232" y="995"/>
                  </a:lnTo>
                  <a:lnTo>
                    <a:pt x="213" y="981"/>
                  </a:lnTo>
                  <a:lnTo>
                    <a:pt x="193" y="966"/>
                  </a:lnTo>
                  <a:lnTo>
                    <a:pt x="174" y="952"/>
                  </a:lnTo>
                  <a:lnTo>
                    <a:pt x="157" y="936"/>
                  </a:lnTo>
                  <a:lnTo>
                    <a:pt x="140" y="918"/>
                  </a:lnTo>
                  <a:lnTo>
                    <a:pt x="124" y="901"/>
                  </a:lnTo>
                  <a:lnTo>
                    <a:pt x="109" y="882"/>
                  </a:lnTo>
                  <a:lnTo>
                    <a:pt x="96" y="863"/>
                  </a:lnTo>
                  <a:lnTo>
                    <a:pt x="82" y="844"/>
                  </a:lnTo>
                  <a:lnTo>
                    <a:pt x="70" y="823"/>
                  </a:lnTo>
                  <a:lnTo>
                    <a:pt x="59" y="802"/>
                  </a:lnTo>
                  <a:lnTo>
                    <a:pt x="48" y="781"/>
                  </a:lnTo>
                  <a:lnTo>
                    <a:pt x="39" y="759"/>
                  </a:lnTo>
                  <a:lnTo>
                    <a:pt x="30" y="737"/>
                  </a:lnTo>
                  <a:lnTo>
                    <a:pt x="23" y="713"/>
                  </a:lnTo>
                  <a:lnTo>
                    <a:pt x="17" y="690"/>
                  </a:lnTo>
                  <a:lnTo>
                    <a:pt x="12" y="666"/>
                  </a:lnTo>
                  <a:lnTo>
                    <a:pt x="7" y="641"/>
                  </a:lnTo>
                  <a:lnTo>
                    <a:pt x="3" y="616"/>
                  </a:lnTo>
                  <a:lnTo>
                    <a:pt x="1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1" y="891"/>
                  </a:moveTo>
                  <a:lnTo>
                    <a:pt x="575" y="890"/>
                  </a:lnTo>
                  <a:lnTo>
                    <a:pt x="589" y="890"/>
                  </a:lnTo>
                  <a:lnTo>
                    <a:pt x="601" y="888"/>
                  </a:lnTo>
                  <a:lnTo>
                    <a:pt x="615" y="885"/>
                  </a:lnTo>
                  <a:lnTo>
                    <a:pt x="627" y="883"/>
                  </a:lnTo>
                  <a:lnTo>
                    <a:pt x="638" y="879"/>
                  </a:lnTo>
                  <a:lnTo>
                    <a:pt x="649" y="876"/>
                  </a:lnTo>
                  <a:lnTo>
                    <a:pt x="660" y="871"/>
                  </a:lnTo>
                  <a:lnTo>
                    <a:pt x="671" y="864"/>
                  </a:lnTo>
                  <a:lnTo>
                    <a:pt x="681" y="858"/>
                  </a:lnTo>
                  <a:lnTo>
                    <a:pt x="691" y="851"/>
                  </a:lnTo>
                  <a:lnTo>
                    <a:pt x="700" y="844"/>
                  </a:lnTo>
                  <a:lnTo>
                    <a:pt x="708" y="835"/>
                  </a:lnTo>
                  <a:lnTo>
                    <a:pt x="717" y="826"/>
                  </a:lnTo>
                  <a:lnTo>
                    <a:pt x="724" y="817"/>
                  </a:lnTo>
                  <a:lnTo>
                    <a:pt x="733" y="807"/>
                  </a:lnTo>
                  <a:lnTo>
                    <a:pt x="739" y="796"/>
                  </a:lnTo>
                  <a:lnTo>
                    <a:pt x="746" y="785"/>
                  </a:lnTo>
                  <a:lnTo>
                    <a:pt x="752" y="772"/>
                  </a:lnTo>
                  <a:lnTo>
                    <a:pt x="757" y="759"/>
                  </a:lnTo>
                  <a:lnTo>
                    <a:pt x="762" y="744"/>
                  </a:lnTo>
                  <a:lnTo>
                    <a:pt x="767" y="729"/>
                  </a:lnTo>
                  <a:lnTo>
                    <a:pt x="772" y="713"/>
                  </a:lnTo>
                  <a:lnTo>
                    <a:pt x="776" y="697"/>
                  </a:lnTo>
                  <a:lnTo>
                    <a:pt x="782" y="662"/>
                  </a:lnTo>
                  <a:lnTo>
                    <a:pt x="787" y="624"/>
                  </a:lnTo>
                  <a:lnTo>
                    <a:pt x="789" y="582"/>
                  </a:lnTo>
                  <a:lnTo>
                    <a:pt x="791" y="538"/>
                  </a:lnTo>
                  <a:lnTo>
                    <a:pt x="789" y="494"/>
                  </a:lnTo>
                  <a:lnTo>
                    <a:pt x="787" y="453"/>
                  </a:lnTo>
                  <a:lnTo>
                    <a:pt x="782" y="416"/>
                  </a:lnTo>
                  <a:lnTo>
                    <a:pt x="776" y="382"/>
                  </a:lnTo>
                  <a:lnTo>
                    <a:pt x="772" y="366"/>
                  </a:lnTo>
                  <a:lnTo>
                    <a:pt x="767" y="350"/>
                  </a:lnTo>
                  <a:lnTo>
                    <a:pt x="762" y="336"/>
                  </a:lnTo>
                  <a:lnTo>
                    <a:pt x="757" y="322"/>
                  </a:lnTo>
                  <a:lnTo>
                    <a:pt x="752" y="309"/>
                  </a:lnTo>
                  <a:lnTo>
                    <a:pt x="746" y="297"/>
                  </a:lnTo>
                  <a:lnTo>
                    <a:pt x="739" y="285"/>
                  </a:lnTo>
                  <a:lnTo>
                    <a:pt x="733" y="274"/>
                  </a:lnTo>
                  <a:lnTo>
                    <a:pt x="724" y="264"/>
                  </a:lnTo>
                  <a:lnTo>
                    <a:pt x="717" y="255"/>
                  </a:lnTo>
                  <a:lnTo>
                    <a:pt x="708" y="247"/>
                  </a:lnTo>
                  <a:lnTo>
                    <a:pt x="700" y="238"/>
                  </a:lnTo>
                  <a:lnTo>
                    <a:pt x="691" y="231"/>
                  </a:lnTo>
                  <a:lnTo>
                    <a:pt x="681" y="224"/>
                  </a:lnTo>
                  <a:lnTo>
                    <a:pt x="671" y="217"/>
                  </a:lnTo>
                  <a:lnTo>
                    <a:pt x="660" y="212"/>
                  </a:lnTo>
                  <a:lnTo>
                    <a:pt x="649" y="208"/>
                  </a:lnTo>
                  <a:lnTo>
                    <a:pt x="638" y="203"/>
                  </a:lnTo>
                  <a:lnTo>
                    <a:pt x="627" y="199"/>
                  </a:lnTo>
                  <a:lnTo>
                    <a:pt x="615" y="197"/>
                  </a:lnTo>
                  <a:lnTo>
                    <a:pt x="601" y="194"/>
                  </a:lnTo>
                  <a:lnTo>
                    <a:pt x="589" y="193"/>
                  </a:lnTo>
                  <a:lnTo>
                    <a:pt x="575" y="192"/>
                  </a:lnTo>
                  <a:lnTo>
                    <a:pt x="561" y="192"/>
                  </a:lnTo>
                  <a:lnTo>
                    <a:pt x="547" y="192"/>
                  </a:lnTo>
                  <a:lnTo>
                    <a:pt x="535" y="193"/>
                  </a:lnTo>
                  <a:lnTo>
                    <a:pt x="521" y="194"/>
                  </a:lnTo>
                  <a:lnTo>
                    <a:pt x="509" y="197"/>
                  </a:lnTo>
                  <a:lnTo>
                    <a:pt x="498" y="199"/>
                  </a:lnTo>
                  <a:lnTo>
                    <a:pt x="486" y="203"/>
                  </a:lnTo>
                  <a:lnTo>
                    <a:pt x="475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4" y="231"/>
                  </a:lnTo>
                  <a:lnTo>
                    <a:pt x="425" y="238"/>
                  </a:lnTo>
                  <a:lnTo>
                    <a:pt x="417" y="247"/>
                  </a:lnTo>
                  <a:lnTo>
                    <a:pt x="408" y="255"/>
                  </a:lnTo>
                  <a:lnTo>
                    <a:pt x="401" y="264"/>
                  </a:lnTo>
                  <a:lnTo>
                    <a:pt x="392" y="274"/>
                  </a:lnTo>
                  <a:lnTo>
                    <a:pt x="386" y="285"/>
                  </a:lnTo>
                  <a:lnTo>
                    <a:pt x="379" y="297"/>
                  </a:lnTo>
                  <a:lnTo>
                    <a:pt x="372" y="309"/>
                  </a:lnTo>
                  <a:lnTo>
                    <a:pt x="367" y="322"/>
                  </a:lnTo>
                  <a:lnTo>
                    <a:pt x="361" y="336"/>
                  </a:lnTo>
                  <a:lnTo>
                    <a:pt x="356" y="350"/>
                  </a:lnTo>
                  <a:lnTo>
                    <a:pt x="353" y="366"/>
                  </a:lnTo>
                  <a:lnTo>
                    <a:pt x="349" y="382"/>
                  </a:lnTo>
                  <a:lnTo>
                    <a:pt x="342" y="416"/>
                  </a:lnTo>
                  <a:lnTo>
                    <a:pt x="338" y="453"/>
                  </a:lnTo>
                  <a:lnTo>
                    <a:pt x="334" y="494"/>
                  </a:lnTo>
                  <a:lnTo>
                    <a:pt x="334" y="538"/>
                  </a:lnTo>
                  <a:lnTo>
                    <a:pt x="334" y="581"/>
                  </a:lnTo>
                  <a:lnTo>
                    <a:pt x="338" y="623"/>
                  </a:lnTo>
                  <a:lnTo>
                    <a:pt x="342" y="661"/>
                  </a:lnTo>
                  <a:lnTo>
                    <a:pt x="348" y="695"/>
                  </a:lnTo>
                  <a:lnTo>
                    <a:pt x="353" y="711"/>
                  </a:lnTo>
                  <a:lnTo>
                    <a:pt x="356" y="727"/>
                  </a:lnTo>
                  <a:lnTo>
                    <a:pt x="361" y="742"/>
                  </a:lnTo>
                  <a:lnTo>
                    <a:pt x="366" y="756"/>
                  </a:lnTo>
                  <a:lnTo>
                    <a:pt x="372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2" y="806"/>
                  </a:lnTo>
                  <a:lnTo>
                    <a:pt x="399" y="815"/>
                  </a:lnTo>
                  <a:lnTo>
                    <a:pt x="407" y="825"/>
                  </a:lnTo>
                  <a:lnTo>
                    <a:pt x="415" y="834"/>
                  </a:lnTo>
                  <a:lnTo>
                    <a:pt x="424" y="842"/>
                  </a:lnTo>
                  <a:lnTo>
                    <a:pt x="433" y="851"/>
                  </a:lnTo>
                  <a:lnTo>
                    <a:pt x="443" y="857"/>
                  </a:lnTo>
                  <a:lnTo>
                    <a:pt x="452" y="863"/>
                  </a:lnTo>
                  <a:lnTo>
                    <a:pt x="463" y="869"/>
                  </a:lnTo>
                  <a:lnTo>
                    <a:pt x="473" y="874"/>
                  </a:lnTo>
                  <a:lnTo>
                    <a:pt x="484" y="879"/>
                  </a:lnTo>
                  <a:lnTo>
                    <a:pt x="497" y="883"/>
                  </a:lnTo>
                  <a:lnTo>
                    <a:pt x="509" y="885"/>
                  </a:lnTo>
                  <a:lnTo>
                    <a:pt x="521" y="888"/>
                  </a:lnTo>
                  <a:lnTo>
                    <a:pt x="534" y="890"/>
                  </a:lnTo>
                  <a:lnTo>
                    <a:pt x="547" y="890"/>
                  </a:lnTo>
                  <a:lnTo>
                    <a:pt x="561" y="891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559720" y="735120"/>
              <a:ext cx="58680" cy="122040"/>
            </a:xfrm>
            <a:custGeom>
              <a:avLst/>
              <a:gdLst/>
              <a:ahLst/>
              <a:rect l="l" t="t" r="r" b="b"/>
              <a:pathLst>
                <a:path w="715" h="1444">
                  <a:moveTo>
                    <a:pt x="0" y="646"/>
                  </a:moveTo>
                  <a:lnTo>
                    <a:pt x="0" y="444"/>
                  </a:lnTo>
                  <a:lnTo>
                    <a:pt x="98" y="444"/>
                  </a:lnTo>
                  <a:lnTo>
                    <a:pt x="98" y="308"/>
                  </a:lnTo>
                  <a:lnTo>
                    <a:pt x="98" y="291"/>
                  </a:lnTo>
                  <a:lnTo>
                    <a:pt x="100" y="275"/>
                  </a:lnTo>
                  <a:lnTo>
                    <a:pt x="102" y="259"/>
                  </a:lnTo>
                  <a:lnTo>
                    <a:pt x="105" y="243"/>
                  </a:lnTo>
                  <a:lnTo>
                    <a:pt x="108" y="228"/>
                  </a:lnTo>
                  <a:lnTo>
                    <a:pt x="113" y="212"/>
                  </a:lnTo>
                  <a:lnTo>
                    <a:pt x="119" y="199"/>
                  </a:lnTo>
                  <a:lnTo>
                    <a:pt x="125" y="184"/>
                  </a:lnTo>
                  <a:lnTo>
                    <a:pt x="133" y="170"/>
                  </a:lnTo>
                  <a:lnTo>
                    <a:pt x="140" y="157"/>
                  </a:lnTo>
                  <a:lnTo>
                    <a:pt x="149" y="145"/>
                  </a:lnTo>
                  <a:lnTo>
                    <a:pt x="159" y="131"/>
                  </a:lnTo>
                  <a:lnTo>
                    <a:pt x="170" y="119"/>
                  </a:lnTo>
                  <a:lnTo>
                    <a:pt x="181" y="108"/>
                  </a:lnTo>
                  <a:lnTo>
                    <a:pt x="193" y="97"/>
                  </a:lnTo>
                  <a:lnTo>
                    <a:pt x="207" y="86"/>
                  </a:lnTo>
                  <a:lnTo>
                    <a:pt x="221" y="75"/>
                  </a:lnTo>
                  <a:lnTo>
                    <a:pt x="235" y="65"/>
                  </a:lnTo>
                  <a:lnTo>
                    <a:pt x="251" y="56"/>
                  </a:lnTo>
                  <a:lnTo>
                    <a:pt x="266" y="48"/>
                  </a:lnTo>
                  <a:lnTo>
                    <a:pt x="282" y="40"/>
                  </a:lnTo>
                  <a:lnTo>
                    <a:pt x="299" y="33"/>
                  </a:lnTo>
                  <a:lnTo>
                    <a:pt x="316" y="27"/>
                  </a:lnTo>
                  <a:lnTo>
                    <a:pt x="335" y="21"/>
                  </a:lnTo>
                  <a:lnTo>
                    <a:pt x="352" y="16"/>
                  </a:lnTo>
                  <a:lnTo>
                    <a:pt x="371" y="12"/>
                  </a:lnTo>
                  <a:lnTo>
                    <a:pt x="391" y="8"/>
                  </a:lnTo>
                  <a:lnTo>
                    <a:pt x="411" y="5"/>
                  </a:lnTo>
                  <a:lnTo>
                    <a:pt x="432" y="2"/>
                  </a:lnTo>
                  <a:lnTo>
                    <a:pt x="453" y="1"/>
                  </a:lnTo>
                  <a:lnTo>
                    <a:pt x="475" y="0"/>
                  </a:lnTo>
                  <a:lnTo>
                    <a:pt x="497" y="0"/>
                  </a:lnTo>
                  <a:lnTo>
                    <a:pt x="529" y="1"/>
                  </a:lnTo>
                  <a:lnTo>
                    <a:pt x="560" y="3"/>
                  </a:lnTo>
                  <a:lnTo>
                    <a:pt x="588" y="8"/>
                  </a:lnTo>
                  <a:lnTo>
                    <a:pt x="615" y="16"/>
                  </a:lnTo>
                  <a:lnTo>
                    <a:pt x="640" y="26"/>
                  </a:lnTo>
                  <a:lnTo>
                    <a:pt x="665" y="37"/>
                  </a:lnTo>
                  <a:lnTo>
                    <a:pt x="690" y="49"/>
                  </a:lnTo>
                  <a:lnTo>
                    <a:pt x="715" y="64"/>
                  </a:lnTo>
                  <a:lnTo>
                    <a:pt x="715" y="344"/>
                  </a:lnTo>
                  <a:lnTo>
                    <a:pt x="705" y="345"/>
                  </a:lnTo>
                  <a:lnTo>
                    <a:pt x="695" y="346"/>
                  </a:lnTo>
                  <a:lnTo>
                    <a:pt x="688" y="346"/>
                  </a:lnTo>
                  <a:lnTo>
                    <a:pt x="681" y="345"/>
                  </a:lnTo>
                  <a:lnTo>
                    <a:pt x="651" y="345"/>
                  </a:lnTo>
                  <a:lnTo>
                    <a:pt x="627" y="344"/>
                  </a:lnTo>
                  <a:lnTo>
                    <a:pt x="610" y="341"/>
                  </a:lnTo>
                  <a:lnTo>
                    <a:pt x="600" y="339"/>
                  </a:lnTo>
                  <a:lnTo>
                    <a:pt x="593" y="334"/>
                  </a:lnTo>
                  <a:lnTo>
                    <a:pt x="584" y="324"/>
                  </a:lnTo>
                  <a:lnTo>
                    <a:pt x="577" y="312"/>
                  </a:lnTo>
                  <a:lnTo>
                    <a:pt x="568" y="297"/>
                  </a:lnTo>
                  <a:lnTo>
                    <a:pt x="560" y="278"/>
                  </a:lnTo>
                  <a:lnTo>
                    <a:pt x="553" y="269"/>
                  </a:lnTo>
                  <a:lnTo>
                    <a:pt x="553" y="264"/>
                  </a:lnTo>
                  <a:lnTo>
                    <a:pt x="540" y="245"/>
                  </a:lnTo>
                  <a:lnTo>
                    <a:pt x="535" y="239"/>
                  </a:lnTo>
                  <a:lnTo>
                    <a:pt x="530" y="234"/>
                  </a:lnTo>
                  <a:lnTo>
                    <a:pt x="525" y="231"/>
                  </a:lnTo>
                  <a:lnTo>
                    <a:pt x="520" y="227"/>
                  </a:lnTo>
                  <a:lnTo>
                    <a:pt x="515" y="223"/>
                  </a:lnTo>
                  <a:lnTo>
                    <a:pt x="509" y="222"/>
                  </a:lnTo>
                  <a:lnTo>
                    <a:pt x="504" y="221"/>
                  </a:lnTo>
                  <a:lnTo>
                    <a:pt x="498" y="220"/>
                  </a:lnTo>
                  <a:lnTo>
                    <a:pt x="491" y="221"/>
                  </a:lnTo>
                  <a:lnTo>
                    <a:pt x="474" y="223"/>
                  </a:lnTo>
                  <a:lnTo>
                    <a:pt x="464" y="226"/>
                  </a:lnTo>
                  <a:lnTo>
                    <a:pt x="456" y="229"/>
                  </a:lnTo>
                  <a:lnTo>
                    <a:pt x="449" y="234"/>
                  </a:lnTo>
                  <a:lnTo>
                    <a:pt x="443" y="240"/>
                  </a:lnTo>
                  <a:lnTo>
                    <a:pt x="439" y="249"/>
                  </a:lnTo>
                  <a:lnTo>
                    <a:pt x="435" y="260"/>
                  </a:lnTo>
                  <a:lnTo>
                    <a:pt x="432" y="274"/>
                  </a:lnTo>
                  <a:lnTo>
                    <a:pt x="430" y="288"/>
                  </a:lnTo>
                  <a:lnTo>
                    <a:pt x="430" y="340"/>
                  </a:lnTo>
                  <a:lnTo>
                    <a:pt x="430" y="444"/>
                  </a:lnTo>
                  <a:lnTo>
                    <a:pt x="705" y="444"/>
                  </a:lnTo>
                  <a:lnTo>
                    <a:pt x="705" y="646"/>
                  </a:lnTo>
                  <a:lnTo>
                    <a:pt x="430" y="646"/>
                  </a:lnTo>
                  <a:lnTo>
                    <a:pt x="430" y="1249"/>
                  </a:lnTo>
                  <a:lnTo>
                    <a:pt x="430" y="1262"/>
                  </a:lnTo>
                  <a:lnTo>
                    <a:pt x="430" y="1277"/>
                  </a:lnTo>
                  <a:lnTo>
                    <a:pt x="430" y="1293"/>
                  </a:lnTo>
                  <a:lnTo>
                    <a:pt x="432" y="1299"/>
                  </a:lnTo>
                  <a:lnTo>
                    <a:pt x="433" y="1305"/>
                  </a:lnTo>
                  <a:lnTo>
                    <a:pt x="434" y="1310"/>
                  </a:lnTo>
                  <a:lnTo>
                    <a:pt x="437" y="1315"/>
                  </a:lnTo>
                  <a:lnTo>
                    <a:pt x="439" y="1318"/>
                  </a:lnTo>
                  <a:lnTo>
                    <a:pt x="442" y="1321"/>
                  </a:lnTo>
                  <a:lnTo>
                    <a:pt x="445" y="1323"/>
                  </a:lnTo>
                  <a:lnTo>
                    <a:pt x="449" y="1325"/>
                  </a:lnTo>
                  <a:lnTo>
                    <a:pt x="480" y="1330"/>
                  </a:lnTo>
                  <a:lnTo>
                    <a:pt x="492" y="1334"/>
                  </a:lnTo>
                  <a:lnTo>
                    <a:pt x="498" y="1338"/>
                  </a:lnTo>
                  <a:lnTo>
                    <a:pt x="503" y="1343"/>
                  </a:lnTo>
                  <a:lnTo>
                    <a:pt x="507" y="1348"/>
                  </a:lnTo>
                  <a:lnTo>
                    <a:pt x="510" y="1353"/>
                  </a:lnTo>
                  <a:lnTo>
                    <a:pt x="513" y="1358"/>
                  </a:lnTo>
                  <a:lnTo>
                    <a:pt x="515" y="1364"/>
                  </a:lnTo>
                  <a:lnTo>
                    <a:pt x="517" y="1370"/>
                  </a:lnTo>
                  <a:lnTo>
                    <a:pt x="517" y="1377"/>
                  </a:lnTo>
                  <a:lnTo>
                    <a:pt x="517" y="1444"/>
                  </a:lnTo>
                  <a:lnTo>
                    <a:pt x="7" y="1444"/>
                  </a:lnTo>
                  <a:lnTo>
                    <a:pt x="7" y="1376"/>
                  </a:lnTo>
                  <a:lnTo>
                    <a:pt x="9" y="1369"/>
                  </a:lnTo>
                  <a:lnTo>
                    <a:pt x="10" y="1363"/>
                  </a:lnTo>
                  <a:lnTo>
                    <a:pt x="12" y="1358"/>
                  </a:lnTo>
                  <a:lnTo>
                    <a:pt x="15" y="1352"/>
                  </a:lnTo>
                  <a:lnTo>
                    <a:pt x="18" y="1347"/>
                  </a:lnTo>
                  <a:lnTo>
                    <a:pt x="23" y="1343"/>
                  </a:lnTo>
                  <a:lnTo>
                    <a:pt x="28" y="1338"/>
                  </a:lnTo>
                  <a:lnTo>
                    <a:pt x="34" y="1334"/>
                  </a:lnTo>
                  <a:lnTo>
                    <a:pt x="49" y="1330"/>
                  </a:lnTo>
                  <a:lnTo>
                    <a:pt x="79" y="1323"/>
                  </a:lnTo>
                  <a:lnTo>
                    <a:pt x="85" y="1321"/>
                  </a:lnTo>
                  <a:lnTo>
                    <a:pt x="90" y="1316"/>
                  </a:lnTo>
                  <a:lnTo>
                    <a:pt x="95" y="1309"/>
                  </a:lnTo>
                  <a:lnTo>
                    <a:pt x="98" y="1300"/>
                  </a:lnTo>
                  <a:lnTo>
                    <a:pt x="98" y="1293"/>
                  </a:lnTo>
                  <a:lnTo>
                    <a:pt x="98" y="1279"/>
                  </a:lnTo>
                  <a:lnTo>
                    <a:pt x="98" y="1262"/>
                  </a:lnTo>
                  <a:lnTo>
                    <a:pt x="98" y="1249"/>
                  </a:lnTo>
                  <a:lnTo>
                    <a:pt x="98" y="646"/>
                  </a:lnTo>
                  <a:lnTo>
                    <a:pt x="0" y="646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12280" y="770040"/>
              <a:ext cx="79200" cy="91800"/>
            </a:xfrm>
            <a:custGeom>
              <a:avLst/>
              <a:gdLst/>
              <a:ahLst/>
              <a:rect l="l" t="t" r="r" b="b"/>
              <a:pathLst>
                <a:path w="991" h="1054">
                  <a:moveTo>
                    <a:pt x="951" y="552"/>
                  </a:moveTo>
                  <a:lnTo>
                    <a:pt x="325" y="552"/>
                  </a:lnTo>
                  <a:lnTo>
                    <a:pt x="322" y="563"/>
                  </a:lnTo>
                  <a:lnTo>
                    <a:pt x="322" y="571"/>
                  </a:lnTo>
                  <a:lnTo>
                    <a:pt x="322" y="581"/>
                  </a:lnTo>
                  <a:lnTo>
                    <a:pt x="323" y="592"/>
                  </a:lnTo>
                  <a:lnTo>
                    <a:pt x="325" y="603"/>
                  </a:lnTo>
                  <a:lnTo>
                    <a:pt x="327" y="614"/>
                  </a:lnTo>
                  <a:lnTo>
                    <a:pt x="333" y="636"/>
                  </a:lnTo>
                  <a:lnTo>
                    <a:pt x="343" y="659"/>
                  </a:lnTo>
                  <a:lnTo>
                    <a:pt x="354" y="681"/>
                  </a:lnTo>
                  <a:lnTo>
                    <a:pt x="369" y="704"/>
                  </a:lnTo>
                  <a:lnTo>
                    <a:pt x="385" y="727"/>
                  </a:lnTo>
                  <a:lnTo>
                    <a:pt x="405" y="749"/>
                  </a:lnTo>
                  <a:lnTo>
                    <a:pt x="414" y="760"/>
                  </a:lnTo>
                  <a:lnTo>
                    <a:pt x="426" y="771"/>
                  </a:lnTo>
                  <a:lnTo>
                    <a:pt x="437" y="781"/>
                  </a:lnTo>
                  <a:lnTo>
                    <a:pt x="448" y="790"/>
                  </a:lnTo>
                  <a:lnTo>
                    <a:pt x="459" y="798"/>
                  </a:lnTo>
                  <a:lnTo>
                    <a:pt x="471" y="806"/>
                  </a:lnTo>
                  <a:lnTo>
                    <a:pt x="482" y="813"/>
                  </a:lnTo>
                  <a:lnTo>
                    <a:pt x="494" y="819"/>
                  </a:lnTo>
                  <a:lnTo>
                    <a:pt x="507" y="824"/>
                  </a:lnTo>
                  <a:lnTo>
                    <a:pt x="519" y="829"/>
                  </a:lnTo>
                  <a:lnTo>
                    <a:pt x="533" y="834"/>
                  </a:lnTo>
                  <a:lnTo>
                    <a:pt x="545" y="837"/>
                  </a:lnTo>
                  <a:lnTo>
                    <a:pt x="558" y="839"/>
                  </a:lnTo>
                  <a:lnTo>
                    <a:pt x="572" y="841"/>
                  </a:lnTo>
                  <a:lnTo>
                    <a:pt x="587" y="843"/>
                  </a:lnTo>
                  <a:lnTo>
                    <a:pt x="600" y="843"/>
                  </a:lnTo>
                  <a:lnTo>
                    <a:pt x="614" y="843"/>
                  </a:lnTo>
                  <a:lnTo>
                    <a:pt x="628" y="841"/>
                  </a:lnTo>
                  <a:lnTo>
                    <a:pt x="642" y="839"/>
                  </a:lnTo>
                  <a:lnTo>
                    <a:pt x="657" y="837"/>
                  </a:lnTo>
                  <a:lnTo>
                    <a:pt x="672" y="833"/>
                  </a:lnTo>
                  <a:lnTo>
                    <a:pt x="684" y="829"/>
                  </a:lnTo>
                  <a:lnTo>
                    <a:pt x="696" y="826"/>
                  </a:lnTo>
                  <a:lnTo>
                    <a:pt x="708" y="821"/>
                  </a:lnTo>
                  <a:lnTo>
                    <a:pt x="718" y="817"/>
                  </a:lnTo>
                  <a:lnTo>
                    <a:pt x="761" y="789"/>
                  </a:lnTo>
                  <a:lnTo>
                    <a:pt x="798" y="764"/>
                  </a:lnTo>
                  <a:lnTo>
                    <a:pt x="804" y="764"/>
                  </a:lnTo>
                  <a:lnTo>
                    <a:pt x="814" y="757"/>
                  </a:lnTo>
                  <a:lnTo>
                    <a:pt x="825" y="747"/>
                  </a:lnTo>
                  <a:lnTo>
                    <a:pt x="834" y="737"/>
                  </a:lnTo>
                  <a:lnTo>
                    <a:pt x="847" y="721"/>
                  </a:lnTo>
                  <a:lnTo>
                    <a:pt x="868" y="698"/>
                  </a:lnTo>
                  <a:lnTo>
                    <a:pt x="876" y="688"/>
                  </a:lnTo>
                  <a:lnTo>
                    <a:pt x="884" y="684"/>
                  </a:lnTo>
                  <a:lnTo>
                    <a:pt x="895" y="682"/>
                  </a:lnTo>
                  <a:lnTo>
                    <a:pt x="910" y="681"/>
                  </a:lnTo>
                  <a:lnTo>
                    <a:pt x="927" y="681"/>
                  </a:lnTo>
                  <a:lnTo>
                    <a:pt x="938" y="681"/>
                  </a:lnTo>
                  <a:lnTo>
                    <a:pt x="950" y="681"/>
                  </a:lnTo>
                  <a:lnTo>
                    <a:pt x="959" y="681"/>
                  </a:lnTo>
                  <a:lnTo>
                    <a:pt x="968" y="681"/>
                  </a:lnTo>
                  <a:lnTo>
                    <a:pt x="991" y="681"/>
                  </a:lnTo>
                  <a:lnTo>
                    <a:pt x="991" y="950"/>
                  </a:lnTo>
                  <a:lnTo>
                    <a:pt x="979" y="959"/>
                  </a:lnTo>
                  <a:lnTo>
                    <a:pt x="964" y="968"/>
                  </a:lnTo>
                  <a:lnTo>
                    <a:pt x="950" y="977"/>
                  </a:lnTo>
                  <a:lnTo>
                    <a:pt x="934" y="985"/>
                  </a:lnTo>
                  <a:lnTo>
                    <a:pt x="911" y="996"/>
                  </a:lnTo>
                  <a:lnTo>
                    <a:pt x="889" y="1006"/>
                  </a:lnTo>
                  <a:lnTo>
                    <a:pt x="866" y="1016"/>
                  </a:lnTo>
                  <a:lnTo>
                    <a:pt x="841" y="1023"/>
                  </a:lnTo>
                  <a:lnTo>
                    <a:pt x="817" y="1031"/>
                  </a:lnTo>
                  <a:lnTo>
                    <a:pt x="791" y="1037"/>
                  </a:lnTo>
                  <a:lnTo>
                    <a:pt x="764" y="1042"/>
                  </a:lnTo>
                  <a:lnTo>
                    <a:pt x="736" y="1045"/>
                  </a:lnTo>
                  <a:lnTo>
                    <a:pt x="704" y="1049"/>
                  </a:lnTo>
                  <a:lnTo>
                    <a:pt x="670" y="1051"/>
                  </a:lnTo>
                  <a:lnTo>
                    <a:pt x="636" y="1053"/>
                  </a:lnTo>
                  <a:lnTo>
                    <a:pt x="600" y="1054"/>
                  </a:lnTo>
                  <a:lnTo>
                    <a:pt x="572" y="1053"/>
                  </a:lnTo>
                  <a:lnTo>
                    <a:pt x="544" y="1051"/>
                  </a:lnTo>
                  <a:lnTo>
                    <a:pt x="515" y="1050"/>
                  </a:lnTo>
                  <a:lnTo>
                    <a:pt x="490" y="1047"/>
                  </a:lnTo>
                  <a:lnTo>
                    <a:pt x="462" y="1043"/>
                  </a:lnTo>
                  <a:lnTo>
                    <a:pt x="438" y="1039"/>
                  </a:lnTo>
                  <a:lnTo>
                    <a:pt x="412" y="1033"/>
                  </a:lnTo>
                  <a:lnTo>
                    <a:pt x="389" y="1027"/>
                  </a:lnTo>
                  <a:lnTo>
                    <a:pt x="365" y="1020"/>
                  </a:lnTo>
                  <a:lnTo>
                    <a:pt x="342" y="1012"/>
                  </a:lnTo>
                  <a:lnTo>
                    <a:pt x="320" y="1004"/>
                  </a:lnTo>
                  <a:lnTo>
                    <a:pt x="298" y="994"/>
                  </a:lnTo>
                  <a:lnTo>
                    <a:pt x="277" y="984"/>
                  </a:lnTo>
                  <a:lnTo>
                    <a:pt x="257" y="972"/>
                  </a:lnTo>
                  <a:lnTo>
                    <a:pt x="237" y="961"/>
                  </a:lnTo>
                  <a:lnTo>
                    <a:pt x="219" y="947"/>
                  </a:lnTo>
                  <a:lnTo>
                    <a:pt x="200" y="934"/>
                  </a:lnTo>
                  <a:lnTo>
                    <a:pt x="183" y="919"/>
                  </a:lnTo>
                  <a:lnTo>
                    <a:pt x="166" y="904"/>
                  </a:lnTo>
                  <a:lnTo>
                    <a:pt x="150" y="888"/>
                  </a:lnTo>
                  <a:lnTo>
                    <a:pt x="135" y="872"/>
                  </a:lnTo>
                  <a:lnTo>
                    <a:pt x="121" y="855"/>
                  </a:lnTo>
                  <a:lnTo>
                    <a:pt x="107" y="837"/>
                  </a:lnTo>
                  <a:lnTo>
                    <a:pt x="93" y="818"/>
                  </a:lnTo>
                  <a:lnTo>
                    <a:pt x="81" y="798"/>
                  </a:lnTo>
                  <a:lnTo>
                    <a:pt x="70" y="779"/>
                  </a:lnTo>
                  <a:lnTo>
                    <a:pt x="59" y="758"/>
                  </a:lnTo>
                  <a:lnTo>
                    <a:pt x="49" y="736"/>
                  </a:lnTo>
                  <a:lnTo>
                    <a:pt x="41" y="714"/>
                  </a:lnTo>
                  <a:lnTo>
                    <a:pt x="32" y="692"/>
                  </a:lnTo>
                  <a:lnTo>
                    <a:pt x="25" y="667"/>
                  </a:lnTo>
                  <a:lnTo>
                    <a:pt x="17" y="644"/>
                  </a:lnTo>
                  <a:lnTo>
                    <a:pt x="10" y="611"/>
                  </a:lnTo>
                  <a:lnTo>
                    <a:pt x="4" y="579"/>
                  </a:lnTo>
                  <a:lnTo>
                    <a:pt x="0" y="546"/>
                  </a:lnTo>
                  <a:lnTo>
                    <a:pt x="0" y="512"/>
                  </a:lnTo>
                  <a:lnTo>
                    <a:pt x="0" y="494"/>
                  </a:lnTo>
                  <a:lnTo>
                    <a:pt x="1" y="474"/>
                  </a:lnTo>
                  <a:lnTo>
                    <a:pt x="2" y="456"/>
                  </a:lnTo>
                  <a:lnTo>
                    <a:pt x="5" y="437"/>
                  </a:lnTo>
                  <a:lnTo>
                    <a:pt x="9" y="419"/>
                  </a:lnTo>
                  <a:lnTo>
                    <a:pt x="12" y="401"/>
                  </a:lnTo>
                  <a:lnTo>
                    <a:pt x="16" y="383"/>
                  </a:lnTo>
                  <a:lnTo>
                    <a:pt x="22" y="365"/>
                  </a:lnTo>
                  <a:lnTo>
                    <a:pt x="28" y="348"/>
                  </a:lnTo>
                  <a:lnTo>
                    <a:pt x="34" y="331"/>
                  </a:lnTo>
                  <a:lnTo>
                    <a:pt x="42" y="313"/>
                  </a:lnTo>
                  <a:lnTo>
                    <a:pt x="50" y="296"/>
                  </a:lnTo>
                  <a:lnTo>
                    <a:pt x="59" y="279"/>
                  </a:lnTo>
                  <a:lnTo>
                    <a:pt x="69" y="262"/>
                  </a:lnTo>
                  <a:lnTo>
                    <a:pt x="79" y="246"/>
                  </a:lnTo>
                  <a:lnTo>
                    <a:pt x="90" y="229"/>
                  </a:lnTo>
                  <a:lnTo>
                    <a:pt x="105" y="208"/>
                  </a:lnTo>
                  <a:lnTo>
                    <a:pt x="121" y="187"/>
                  </a:lnTo>
                  <a:lnTo>
                    <a:pt x="136" y="167"/>
                  </a:lnTo>
                  <a:lnTo>
                    <a:pt x="152" y="149"/>
                  </a:lnTo>
                  <a:lnTo>
                    <a:pt x="171" y="132"/>
                  </a:lnTo>
                  <a:lnTo>
                    <a:pt x="188" y="116"/>
                  </a:lnTo>
                  <a:lnTo>
                    <a:pt x="207" y="100"/>
                  </a:lnTo>
                  <a:lnTo>
                    <a:pt x="226" y="85"/>
                  </a:lnTo>
                  <a:lnTo>
                    <a:pt x="246" y="72"/>
                  </a:lnTo>
                  <a:lnTo>
                    <a:pt x="266" y="61"/>
                  </a:lnTo>
                  <a:lnTo>
                    <a:pt x="284" y="49"/>
                  </a:lnTo>
                  <a:lnTo>
                    <a:pt x="304" y="40"/>
                  </a:lnTo>
                  <a:lnTo>
                    <a:pt x="322" y="32"/>
                  </a:lnTo>
                  <a:lnTo>
                    <a:pt x="341" y="25"/>
                  </a:lnTo>
                  <a:lnTo>
                    <a:pt x="359" y="19"/>
                  </a:lnTo>
                  <a:lnTo>
                    <a:pt x="378" y="15"/>
                  </a:lnTo>
                  <a:lnTo>
                    <a:pt x="412" y="9"/>
                  </a:lnTo>
                  <a:lnTo>
                    <a:pt x="445" y="4"/>
                  </a:lnTo>
                  <a:lnTo>
                    <a:pt x="475" y="2"/>
                  </a:lnTo>
                  <a:lnTo>
                    <a:pt x="503" y="0"/>
                  </a:lnTo>
                  <a:lnTo>
                    <a:pt x="525" y="0"/>
                  </a:lnTo>
                  <a:lnTo>
                    <a:pt x="547" y="3"/>
                  </a:lnTo>
                  <a:lnTo>
                    <a:pt x="569" y="5"/>
                  </a:lnTo>
                  <a:lnTo>
                    <a:pt x="590" y="8"/>
                  </a:lnTo>
                  <a:lnTo>
                    <a:pt x="611" y="13"/>
                  </a:lnTo>
                  <a:lnTo>
                    <a:pt x="632" y="18"/>
                  </a:lnTo>
                  <a:lnTo>
                    <a:pt x="653" y="25"/>
                  </a:lnTo>
                  <a:lnTo>
                    <a:pt x="673" y="31"/>
                  </a:lnTo>
                  <a:lnTo>
                    <a:pt x="691" y="40"/>
                  </a:lnTo>
                  <a:lnTo>
                    <a:pt x="710" y="49"/>
                  </a:lnTo>
                  <a:lnTo>
                    <a:pt x="728" y="59"/>
                  </a:lnTo>
                  <a:lnTo>
                    <a:pt x="747" y="70"/>
                  </a:lnTo>
                  <a:lnTo>
                    <a:pt x="764" y="83"/>
                  </a:lnTo>
                  <a:lnTo>
                    <a:pt x="781" y="96"/>
                  </a:lnTo>
                  <a:lnTo>
                    <a:pt x="797" y="111"/>
                  </a:lnTo>
                  <a:lnTo>
                    <a:pt x="814" y="126"/>
                  </a:lnTo>
                  <a:lnTo>
                    <a:pt x="830" y="143"/>
                  </a:lnTo>
                  <a:lnTo>
                    <a:pt x="846" y="160"/>
                  </a:lnTo>
                  <a:lnTo>
                    <a:pt x="860" y="178"/>
                  </a:lnTo>
                  <a:lnTo>
                    <a:pt x="873" y="198"/>
                  </a:lnTo>
                  <a:lnTo>
                    <a:pt x="886" y="218"/>
                  </a:lnTo>
                  <a:lnTo>
                    <a:pt x="897" y="239"/>
                  </a:lnTo>
                  <a:lnTo>
                    <a:pt x="908" y="259"/>
                  </a:lnTo>
                  <a:lnTo>
                    <a:pt x="916" y="280"/>
                  </a:lnTo>
                  <a:lnTo>
                    <a:pt x="925" y="304"/>
                  </a:lnTo>
                  <a:lnTo>
                    <a:pt x="931" y="326"/>
                  </a:lnTo>
                  <a:lnTo>
                    <a:pt x="937" y="349"/>
                  </a:lnTo>
                  <a:lnTo>
                    <a:pt x="942" y="374"/>
                  </a:lnTo>
                  <a:lnTo>
                    <a:pt x="946" y="398"/>
                  </a:lnTo>
                  <a:lnTo>
                    <a:pt x="948" y="424"/>
                  </a:lnTo>
                  <a:lnTo>
                    <a:pt x="950" y="451"/>
                  </a:lnTo>
                  <a:lnTo>
                    <a:pt x="951" y="477"/>
                  </a:lnTo>
                  <a:lnTo>
                    <a:pt x="951" y="487"/>
                  </a:lnTo>
                  <a:lnTo>
                    <a:pt x="951" y="496"/>
                  </a:lnTo>
                  <a:lnTo>
                    <a:pt x="951" y="512"/>
                  </a:lnTo>
                  <a:lnTo>
                    <a:pt x="951" y="528"/>
                  </a:lnTo>
                  <a:lnTo>
                    <a:pt x="951" y="542"/>
                  </a:lnTo>
                  <a:lnTo>
                    <a:pt x="951" y="552"/>
                  </a:lnTo>
                  <a:close/>
                  <a:moveTo>
                    <a:pt x="627" y="366"/>
                  </a:moveTo>
                  <a:lnTo>
                    <a:pt x="626" y="344"/>
                  </a:lnTo>
                  <a:lnTo>
                    <a:pt x="624" y="328"/>
                  </a:lnTo>
                  <a:lnTo>
                    <a:pt x="620" y="312"/>
                  </a:lnTo>
                  <a:lnTo>
                    <a:pt x="616" y="299"/>
                  </a:lnTo>
                  <a:lnTo>
                    <a:pt x="611" y="285"/>
                  </a:lnTo>
                  <a:lnTo>
                    <a:pt x="605" y="273"/>
                  </a:lnTo>
                  <a:lnTo>
                    <a:pt x="599" y="262"/>
                  </a:lnTo>
                  <a:lnTo>
                    <a:pt x="592" y="252"/>
                  </a:lnTo>
                  <a:lnTo>
                    <a:pt x="584" y="243"/>
                  </a:lnTo>
                  <a:lnTo>
                    <a:pt x="574" y="235"/>
                  </a:lnTo>
                  <a:lnTo>
                    <a:pt x="565" y="229"/>
                  </a:lnTo>
                  <a:lnTo>
                    <a:pt x="555" y="223"/>
                  </a:lnTo>
                  <a:lnTo>
                    <a:pt x="542" y="218"/>
                  </a:lnTo>
                  <a:lnTo>
                    <a:pt x="530" y="214"/>
                  </a:lnTo>
                  <a:lnTo>
                    <a:pt x="518" y="212"/>
                  </a:lnTo>
                  <a:lnTo>
                    <a:pt x="503" y="210"/>
                  </a:lnTo>
                  <a:lnTo>
                    <a:pt x="488" y="209"/>
                  </a:lnTo>
                  <a:lnTo>
                    <a:pt x="472" y="210"/>
                  </a:lnTo>
                  <a:lnTo>
                    <a:pt x="456" y="212"/>
                  </a:lnTo>
                  <a:lnTo>
                    <a:pt x="442" y="214"/>
                  </a:lnTo>
                  <a:lnTo>
                    <a:pt x="428" y="218"/>
                  </a:lnTo>
                  <a:lnTo>
                    <a:pt x="416" y="223"/>
                  </a:lnTo>
                  <a:lnTo>
                    <a:pt x="403" y="228"/>
                  </a:lnTo>
                  <a:lnTo>
                    <a:pt x="394" y="234"/>
                  </a:lnTo>
                  <a:lnTo>
                    <a:pt x="382" y="242"/>
                  </a:lnTo>
                  <a:lnTo>
                    <a:pt x="374" y="251"/>
                  </a:lnTo>
                  <a:lnTo>
                    <a:pt x="365" y="259"/>
                  </a:lnTo>
                  <a:lnTo>
                    <a:pt x="358" y="271"/>
                  </a:lnTo>
                  <a:lnTo>
                    <a:pt x="352" y="282"/>
                  </a:lnTo>
                  <a:lnTo>
                    <a:pt x="347" y="295"/>
                  </a:lnTo>
                  <a:lnTo>
                    <a:pt x="342" y="309"/>
                  </a:lnTo>
                  <a:lnTo>
                    <a:pt x="338" y="323"/>
                  </a:lnTo>
                  <a:lnTo>
                    <a:pt x="336" y="338"/>
                  </a:lnTo>
                  <a:lnTo>
                    <a:pt x="332" y="366"/>
                  </a:lnTo>
                  <a:lnTo>
                    <a:pt x="627" y="366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99400" y="768240"/>
              <a:ext cx="69840" cy="93600"/>
            </a:xfrm>
            <a:custGeom>
              <a:avLst/>
              <a:gdLst/>
              <a:ahLst/>
              <a:rect l="l" t="t" r="r" b="b"/>
              <a:pathLst>
                <a:path w="864" h="1080">
                  <a:moveTo>
                    <a:pt x="0" y="1000"/>
                  </a:moveTo>
                  <a:lnTo>
                    <a:pt x="0" y="733"/>
                  </a:lnTo>
                  <a:lnTo>
                    <a:pt x="63" y="729"/>
                  </a:lnTo>
                  <a:lnTo>
                    <a:pt x="83" y="729"/>
                  </a:lnTo>
                  <a:lnTo>
                    <a:pt x="98" y="730"/>
                  </a:lnTo>
                  <a:lnTo>
                    <a:pt x="108" y="731"/>
                  </a:lnTo>
                  <a:lnTo>
                    <a:pt x="113" y="733"/>
                  </a:lnTo>
                  <a:lnTo>
                    <a:pt x="129" y="765"/>
                  </a:lnTo>
                  <a:lnTo>
                    <a:pt x="157" y="800"/>
                  </a:lnTo>
                  <a:lnTo>
                    <a:pt x="178" y="820"/>
                  </a:lnTo>
                  <a:lnTo>
                    <a:pt x="196" y="837"/>
                  </a:lnTo>
                  <a:lnTo>
                    <a:pt x="214" y="851"/>
                  </a:lnTo>
                  <a:lnTo>
                    <a:pt x="230" y="862"/>
                  </a:lnTo>
                  <a:lnTo>
                    <a:pt x="246" y="870"/>
                  </a:lnTo>
                  <a:lnTo>
                    <a:pt x="263" y="876"/>
                  </a:lnTo>
                  <a:lnTo>
                    <a:pt x="281" y="881"/>
                  </a:lnTo>
                  <a:lnTo>
                    <a:pt x="302" y="885"/>
                  </a:lnTo>
                  <a:lnTo>
                    <a:pt x="328" y="885"/>
                  </a:lnTo>
                  <a:lnTo>
                    <a:pt x="345" y="885"/>
                  </a:lnTo>
                  <a:lnTo>
                    <a:pt x="381" y="885"/>
                  </a:lnTo>
                  <a:lnTo>
                    <a:pt x="399" y="885"/>
                  </a:lnTo>
                  <a:lnTo>
                    <a:pt x="415" y="884"/>
                  </a:lnTo>
                  <a:lnTo>
                    <a:pt x="428" y="882"/>
                  </a:lnTo>
                  <a:lnTo>
                    <a:pt x="439" y="880"/>
                  </a:lnTo>
                  <a:lnTo>
                    <a:pt x="448" y="878"/>
                  </a:lnTo>
                  <a:lnTo>
                    <a:pt x="461" y="874"/>
                  </a:lnTo>
                  <a:lnTo>
                    <a:pt x="473" y="868"/>
                  </a:lnTo>
                  <a:lnTo>
                    <a:pt x="488" y="862"/>
                  </a:lnTo>
                  <a:lnTo>
                    <a:pt x="500" y="855"/>
                  </a:lnTo>
                  <a:lnTo>
                    <a:pt x="511" y="848"/>
                  </a:lnTo>
                  <a:lnTo>
                    <a:pt x="521" y="839"/>
                  </a:lnTo>
                  <a:lnTo>
                    <a:pt x="528" y="831"/>
                  </a:lnTo>
                  <a:lnTo>
                    <a:pt x="533" y="821"/>
                  </a:lnTo>
                  <a:lnTo>
                    <a:pt x="538" y="810"/>
                  </a:lnTo>
                  <a:lnTo>
                    <a:pt x="541" y="798"/>
                  </a:lnTo>
                  <a:lnTo>
                    <a:pt x="541" y="785"/>
                  </a:lnTo>
                  <a:lnTo>
                    <a:pt x="539" y="773"/>
                  </a:lnTo>
                  <a:lnTo>
                    <a:pt x="537" y="761"/>
                  </a:lnTo>
                  <a:lnTo>
                    <a:pt x="531" y="750"/>
                  </a:lnTo>
                  <a:lnTo>
                    <a:pt x="524" y="739"/>
                  </a:lnTo>
                  <a:lnTo>
                    <a:pt x="496" y="715"/>
                  </a:lnTo>
                  <a:lnTo>
                    <a:pt x="469" y="696"/>
                  </a:lnTo>
                  <a:lnTo>
                    <a:pt x="461" y="692"/>
                  </a:lnTo>
                  <a:lnTo>
                    <a:pt x="402" y="664"/>
                  </a:lnTo>
                  <a:lnTo>
                    <a:pt x="391" y="660"/>
                  </a:lnTo>
                  <a:lnTo>
                    <a:pt x="338" y="637"/>
                  </a:lnTo>
                  <a:lnTo>
                    <a:pt x="295" y="620"/>
                  </a:lnTo>
                  <a:lnTo>
                    <a:pt x="210" y="577"/>
                  </a:lnTo>
                  <a:lnTo>
                    <a:pt x="189" y="563"/>
                  </a:lnTo>
                  <a:lnTo>
                    <a:pt x="168" y="548"/>
                  </a:lnTo>
                  <a:lnTo>
                    <a:pt x="150" y="535"/>
                  </a:lnTo>
                  <a:lnTo>
                    <a:pt x="131" y="520"/>
                  </a:lnTo>
                  <a:lnTo>
                    <a:pt x="115" y="505"/>
                  </a:lnTo>
                  <a:lnTo>
                    <a:pt x="100" y="491"/>
                  </a:lnTo>
                  <a:lnTo>
                    <a:pt x="87" y="475"/>
                  </a:lnTo>
                  <a:lnTo>
                    <a:pt x="76" y="460"/>
                  </a:lnTo>
                  <a:lnTo>
                    <a:pt x="65" y="444"/>
                  </a:lnTo>
                  <a:lnTo>
                    <a:pt x="56" y="428"/>
                  </a:lnTo>
                  <a:lnTo>
                    <a:pt x="47" y="411"/>
                  </a:lnTo>
                  <a:lnTo>
                    <a:pt x="41" y="394"/>
                  </a:lnTo>
                  <a:lnTo>
                    <a:pt x="36" y="378"/>
                  </a:lnTo>
                  <a:lnTo>
                    <a:pt x="33" y="359"/>
                  </a:lnTo>
                  <a:lnTo>
                    <a:pt x="32" y="342"/>
                  </a:lnTo>
                  <a:lnTo>
                    <a:pt x="30" y="324"/>
                  </a:lnTo>
                  <a:lnTo>
                    <a:pt x="30" y="314"/>
                  </a:lnTo>
                  <a:lnTo>
                    <a:pt x="30" y="304"/>
                  </a:lnTo>
                  <a:lnTo>
                    <a:pt x="30" y="294"/>
                  </a:lnTo>
                  <a:lnTo>
                    <a:pt x="30" y="283"/>
                  </a:lnTo>
                  <a:lnTo>
                    <a:pt x="35" y="265"/>
                  </a:lnTo>
                  <a:lnTo>
                    <a:pt x="38" y="254"/>
                  </a:lnTo>
                  <a:lnTo>
                    <a:pt x="41" y="240"/>
                  </a:lnTo>
                  <a:lnTo>
                    <a:pt x="45" y="227"/>
                  </a:lnTo>
                  <a:lnTo>
                    <a:pt x="51" y="213"/>
                  </a:lnTo>
                  <a:lnTo>
                    <a:pt x="56" y="200"/>
                  </a:lnTo>
                  <a:lnTo>
                    <a:pt x="63" y="187"/>
                  </a:lnTo>
                  <a:lnTo>
                    <a:pt x="71" y="175"/>
                  </a:lnTo>
                  <a:lnTo>
                    <a:pt x="78" y="163"/>
                  </a:lnTo>
                  <a:lnTo>
                    <a:pt x="88" y="152"/>
                  </a:lnTo>
                  <a:lnTo>
                    <a:pt x="98" y="140"/>
                  </a:lnTo>
                  <a:lnTo>
                    <a:pt x="108" y="130"/>
                  </a:lnTo>
                  <a:lnTo>
                    <a:pt x="120" y="119"/>
                  </a:lnTo>
                  <a:lnTo>
                    <a:pt x="132" y="108"/>
                  </a:lnTo>
                  <a:lnTo>
                    <a:pt x="146" y="98"/>
                  </a:lnTo>
                  <a:lnTo>
                    <a:pt x="159" y="88"/>
                  </a:lnTo>
                  <a:lnTo>
                    <a:pt x="174" y="79"/>
                  </a:lnTo>
                  <a:lnTo>
                    <a:pt x="190" y="71"/>
                  </a:lnTo>
                  <a:lnTo>
                    <a:pt x="206" y="62"/>
                  </a:lnTo>
                  <a:lnTo>
                    <a:pt x="223" y="54"/>
                  </a:lnTo>
                  <a:lnTo>
                    <a:pt x="241" y="46"/>
                  </a:lnTo>
                  <a:lnTo>
                    <a:pt x="259" y="40"/>
                  </a:lnTo>
                  <a:lnTo>
                    <a:pt x="279" y="33"/>
                  </a:lnTo>
                  <a:lnTo>
                    <a:pt x="298" y="28"/>
                  </a:lnTo>
                  <a:lnTo>
                    <a:pt x="318" y="22"/>
                  </a:lnTo>
                  <a:lnTo>
                    <a:pt x="339" y="18"/>
                  </a:lnTo>
                  <a:lnTo>
                    <a:pt x="361" y="13"/>
                  </a:lnTo>
                  <a:lnTo>
                    <a:pt x="383" y="9"/>
                  </a:lnTo>
                  <a:lnTo>
                    <a:pt x="407" y="7"/>
                  </a:lnTo>
                  <a:lnTo>
                    <a:pt x="430" y="4"/>
                  </a:lnTo>
                  <a:lnTo>
                    <a:pt x="479" y="1"/>
                  </a:lnTo>
                  <a:lnTo>
                    <a:pt x="531" y="0"/>
                  </a:lnTo>
                  <a:lnTo>
                    <a:pt x="560" y="1"/>
                  </a:lnTo>
                  <a:lnTo>
                    <a:pt x="591" y="4"/>
                  </a:lnTo>
                  <a:lnTo>
                    <a:pt x="622" y="9"/>
                  </a:lnTo>
                  <a:lnTo>
                    <a:pt x="655" y="18"/>
                  </a:lnTo>
                  <a:lnTo>
                    <a:pt x="674" y="23"/>
                  </a:lnTo>
                  <a:lnTo>
                    <a:pt x="694" y="29"/>
                  </a:lnTo>
                  <a:lnTo>
                    <a:pt x="718" y="36"/>
                  </a:lnTo>
                  <a:lnTo>
                    <a:pt x="742" y="45"/>
                  </a:lnTo>
                  <a:lnTo>
                    <a:pt x="782" y="59"/>
                  </a:lnTo>
                  <a:lnTo>
                    <a:pt x="782" y="297"/>
                  </a:lnTo>
                  <a:lnTo>
                    <a:pt x="713" y="303"/>
                  </a:lnTo>
                  <a:lnTo>
                    <a:pt x="690" y="303"/>
                  </a:lnTo>
                  <a:lnTo>
                    <a:pt x="682" y="303"/>
                  </a:lnTo>
                  <a:lnTo>
                    <a:pt x="665" y="299"/>
                  </a:lnTo>
                  <a:lnTo>
                    <a:pt x="656" y="293"/>
                  </a:lnTo>
                  <a:lnTo>
                    <a:pt x="648" y="284"/>
                  </a:lnTo>
                  <a:lnTo>
                    <a:pt x="640" y="273"/>
                  </a:lnTo>
                  <a:lnTo>
                    <a:pt x="632" y="257"/>
                  </a:lnTo>
                  <a:lnTo>
                    <a:pt x="606" y="237"/>
                  </a:lnTo>
                  <a:lnTo>
                    <a:pt x="583" y="217"/>
                  </a:lnTo>
                  <a:lnTo>
                    <a:pt x="569" y="207"/>
                  </a:lnTo>
                  <a:lnTo>
                    <a:pt x="547" y="194"/>
                  </a:lnTo>
                  <a:lnTo>
                    <a:pt x="535" y="187"/>
                  </a:lnTo>
                  <a:lnTo>
                    <a:pt x="521" y="181"/>
                  </a:lnTo>
                  <a:lnTo>
                    <a:pt x="509" y="178"/>
                  </a:lnTo>
                  <a:lnTo>
                    <a:pt x="495" y="174"/>
                  </a:lnTo>
                  <a:lnTo>
                    <a:pt x="483" y="173"/>
                  </a:lnTo>
                  <a:lnTo>
                    <a:pt x="469" y="171"/>
                  </a:lnTo>
                  <a:lnTo>
                    <a:pt x="456" y="171"/>
                  </a:lnTo>
                  <a:lnTo>
                    <a:pt x="444" y="171"/>
                  </a:lnTo>
                  <a:lnTo>
                    <a:pt x="434" y="173"/>
                  </a:lnTo>
                  <a:lnTo>
                    <a:pt x="423" y="174"/>
                  </a:lnTo>
                  <a:lnTo>
                    <a:pt x="412" y="176"/>
                  </a:lnTo>
                  <a:lnTo>
                    <a:pt x="398" y="180"/>
                  </a:lnTo>
                  <a:lnTo>
                    <a:pt x="383" y="185"/>
                  </a:lnTo>
                  <a:lnTo>
                    <a:pt x="371" y="191"/>
                  </a:lnTo>
                  <a:lnTo>
                    <a:pt x="360" y="199"/>
                  </a:lnTo>
                  <a:lnTo>
                    <a:pt x="351" y="206"/>
                  </a:lnTo>
                  <a:lnTo>
                    <a:pt x="344" y="214"/>
                  </a:lnTo>
                  <a:lnTo>
                    <a:pt x="339" y="224"/>
                  </a:lnTo>
                  <a:lnTo>
                    <a:pt x="337" y="235"/>
                  </a:lnTo>
                  <a:lnTo>
                    <a:pt x="335" y="246"/>
                  </a:lnTo>
                  <a:lnTo>
                    <a:pt x="337" y="257"/>
                  </a:lnTo>
                  <a:lnTo>
                    <a:pt x="338" y="266"/>
                  </a:lnTo>
                  <a:lnTo>
                    <a:pt x="341" y="277"/>
                  </a:lnTo>
                  <a:lnTo>
                    <a:pt x="345" y="286"/>
                  </a:lnTo>
                  <a:lnTo>
                    <a:pt x="350" y="292"/>
                  </a:lnTo>
                  <a:lnTo>
                    <a:pt x="357" y="299"/>
                  </a:lnTo>
                  <a:lnTo>
                    <a:pt x="367" y="305"/>
                  </a:lnTo>
                  <a:lnTo>
                    <a:pt x="378" y="313"/>
                  </a:lnTo>
                  <a:lnTo>
                    <a:pt x="402" y="329"/>
                  </a:lnTo>
                  <a:lnTo>
                    <a:pt x="418" y="336"/>
                  </a:lnTo>
                  <a:lnTo>
                    <a:pt x="483" y="362"/>
                  </a:lnTo>
                  <a:lnTo>
                    <a:pt x="498" y="368"/>
                  </a:lnTo>
                  <a:lnTo>
                    <a:pt x="569" y="399"/>
                  </a:lnTo>
                  <a:lnTo>
                    <a:pt x="612" y="418"/>
                  </a:lnTo>
                  <a:lnTo>
                    <a:pt x="642" y="433"/>
                  </a:lnTo>
                  <a:lnTo>
                    <a:pt x="670" y="448"/>
                  </a:lnTo>
                  <a:lnTo>
                    <a:pt x="696" y="462"/>
                  </a:lnTo>
                  <a:lnTo>
                    <a:pt x="719" y="477"/>
                  </a:lnTo>
                  <a:lnTo>
                    <a:pt x="740" y="492"/>
                  </a:lnTo>
                  <a:lnTo>
                    <a:pt x="758" y="507"/>
                  </a:lnTo>
                  <a:lnTo>
                    <a:pt x="776" y="521"/>
                  </a:lnTo>
                  <a:lnTo>
                    <a:pt x="789" y="535"/>
                  </a:lnTo>
                  <a:lnTo>
                    <a:pt x="803" y="550"/>
                  </a:lnTo>
                  <a:lnTo>
                    <a:pt x="814" y="566"/>
                  </a:lnTo>
                  <a:lnTo>
                    <a:pt x="824" y="582"/>
                  </a:lnTo>
                  <a:lnTo>
                    <a:pt x="833" y="599"/>
                  </a:lnTo>
                  <a:lnTo>
                    <a:pt x="841" y="617"/>
                  </a:lnTo>
                  <a:lnTo>
                    <a:pt x="848" y="637"/>
                  </a:lnTo>
                  <a:lnTo>
                    <a:pt x="853" y="657"/>
                  </a:lnTo>
                  <a:lnTo>
                    <a:pt x="858" y="679"/>
                  </a:lnTo>
                  <a:lnTo>
                    <a:pt x="861" y="693"/>
                  </a:lnTo>
                  <a:lnTo>
                    <a:pt x="863" y="708"/>
                  </a:lnTo>
                  <a:lnTo>
                    <a:pt x="864" y="723"/>
                  </a:lnTo>
                  <a:lnTo>
                    <a:pt x="864" y="739"/>
                  </a:lnTo>
                  <a:lnTo>
                    <a:pt x="864" y="756"/>
                  </a:lnTo>
                  <a:lnTo>
                    <a:pt x="862" y="774"/>
                  </a:lnTo>
                  <a:lnTo>
                    <a:pt x="859" y="792"/>
                  </a:lnTo>
                  <a:lnTo>
                    <a:pt x="856" y="808"/>
                  </a:lnTo>
                  <a:lnTo>
                    <a:pt x="852" y="825"/>
                  </a:lnTo>
                  <a:lnTo>
                    <a:pt x="846" y="841"/>
                  </a:lnTo>
                  <a:lnTo>
                    <a:pt x="840" y="857"/>
                  </a:lnTo>
                  <a:lnTo>
                    <a:pt x="832" y="871"/>
                  </a:lnTo>
                  <a:lnTo>
                    <a:pt x="824" y="887"/>
                  </a:lnTo>
                  <a:lnTo>
                    <a:pt x="815" y="901"/>
                  </a:lnTo>
                  <a:lnTo>
                    <a:pt x="804" y="916"/>
                  </a:lnTo>
                  <a:lnTo>
                    <a:pt x="793" y="930"/>
                  </a:lnTo>
                  <a:lnTo>
                    <a:pt x="781" y="944"/>
                  </a:lnTo>
                  <a:lnTo>
                    <a:pt x="767" y="956"/>
                  </a:lnTo>
                  <a:lnTo>
                    <a:pt x="752" y="970"/>
                  </a:lnTo>
                  <a:lnTo>
                    <a:pt x="738" y="982"/>
                  </a:lnTo>
                  <a:lnTo>
                    <a:pt x="720" y="994"/>
                  </a:lnTo>
                  <a:lnTo>
                    <a:pt x="703" y="1005"/>
                  </a:lnTo>
                  <a:lnTo>
                    <a:pt x="686" y="1015"/>
                  </a:lnTo>
                  <a:lnTo>
                    <a:pt x="667" y="1025"/>
                  </a:lnTo>
                  <a:lnTo>
                    <a:pt x="648" y="1033"/>
                  </a:lnTo>
                  <a:lnTo>
                    <a:pt x="628" y="1042"/>
                  </a:lnTo>
                  <a:lnTo>
                    <a:pt x="607" y="1049"/>
                  </a:lnTo>
                  <a:lnTo>
                    <a:pt x="586" y="1056"/>
                  </a:lnTo>
                  <a:lnTo>
                    <a:pt x="563" y="1062"/>
                  </a:lnTo>
                  <a:lnTo>
                    <a:pt x="541" y="1067"/>
                  </a:lnTo>
                  <a:lnTo>
                    <a:pt x="516" y="1072"/>
                  </a:lnTo>
                  <a:lnTo>
                    <a:pt x="492" y="1074"/>
                  </a:lnTo>
                  <a:lnTo>
                    <a:pt x="467" y="1078"/>
                  </a:lnTo>
                  <a:lnTo>
                    <a:pt x="441" y="1079"/>
                  </a:lnTo>
                  <a:lnTo>
                    <a:pt x="414" y="1080"/>
                  </a:lnTo>
                  <a:lnTo>
                    <a:pt x="387" y="1080"/>
                  </a:lnTo>
                  <a:lnTo>
                    <a:pt x="357" y="1080"/>
                  </a:lnTo>
                  <a:lnTo>
                    <a:pt x="323" y="1078"/>
                  </a:lnTo>
                  <a:lnTo>
                    <a:pt x="284" y="1074"/>
                  </a:lnTo>
                  <a:lnTo>
                    <a:pt x="241" y="1069"/>
                  </a:lnTo>
                  <a:lnTo>
                    <a:pt x="217" y="1065"/>
                  </a:lnTo>
                  <a:lnTo>
                    <a:pt x="194" y="1062"/>
                  </a:lnTo>
                  <a:lnTo>
                    <a:pt x="170" y="1057"/>
                  </a:lnTo>
                  <a:lnTo>
                    <a:pt x="147" y="1051"/>
                  </a:lnTo>
                  <a:lnTo>
                    <a:pt x="123" y="1043"/>
                  </a:lnTo>
                  <a:lnTo>
                    <a:pt x="97" y="1036"/>
                  </a:lnTo>
                  <a:lnTo>
                    <a:pt x="72" y="1027"/>
                  </a:lnTo>
                  <a:lnTo>
                    <a:pt x="46" y="1017"/>
                  </a:lnTo>
                  <a:lnTo>
                    <a:pt x="23" y="1010"/>
                  </a:lnTo>
                  <a:lnTo>
                    <a:pt x="0" y="1000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71040" y="730080"/>
              <a:ext cx="42840" cy="127080"/>
            </a:xfrm>
            <a:custGeom>
              <a:avLst/>
              <a:gdLst/>
              <a:ahLst/>
              <a:rect l="l" t="t" r="r" b="b"/>
              <a:pathLst>
                <a:path w="516" h="1503">
                  <a:moveTo>
                    <a:pt x="0" y="1503"/>
                  </a:moveTo>
                  <a:lnTo>
                    <a:pt x="0" y="1436"/>
                  </a:lnTo>
                  <a:lnTo>
                    <a:pt x="0" y="1432"/>
                  </a:lnTo>
                  <a:lnTo>
                    <a:pt x="0" y="1427"/>
                  </a:lnTo>
                  <a:lnTo>
                    <a:pt x="2" y="1422"/>
                  </a:lnTo>
                  <a:lnTo>
                    <a:pt x="3" y="1418"/>
                  </a:lnTo>
                  <a:lnTo>
                    <a:pt x="10" y="1409"/>
                  </a:lnTo>
                  <a:lnTo>
                    <a:pt x="18" y="1403"/>
                  </a:lnTo>
                  <a:lnTo>
                    <a:pt x="23" y="1398"/>
                  </a:lnTo>
                  <a:lnTo>
                    <a:pt x="48" y="1387"/>
                  </a:lnTo>
                  <a:lnTo>
                    <a:pt x="62" y="1381"/>
                  </a:lnTo>
                  <a:lnTo>
                    <a:pt x="67" y="1379"/>
                  </a:lnTo>
                  <a:lnTo>
                    <a:pt x="72" y="1375"/>
                  </a:lnTo>
                  <a:lnTo>
                    <a:pt x="76" y="1371"/>
                  </a:lnTo>
                  <a:lnTo>
                    <a:pt x="80" y="1365"/>
                  </a:lnTo>
                  <a:lnTo>
                    <a:pt x="82" y="1359"/>
                  </a:lnTo>
                  <a:lnTo>
                    <a:pt x="83" y="1352"/>
                  </a:lnTo>
                  <a:lnTo>
                    <a:pt x="85" y="1343"/>
                  </a:lnTo>
                  <a:lnTo>
                    <a:pt x="86" y="1335"/>
                  </a:lnTo>
                  <a:lnTo>
                    <a:pt x="86" y="1321"/>
                  </a:lnTo>
                  <a:lnTo>
                    <a:pt x="86" y="697"/>
                  </a:lnTo>
                  <a:lnTo>
                    <a:pt x="86" y="684"/>
                  </a:lnTo>
                  <a:lnTo>
                    <a:pt x="86" y="654"/>
                  </a:lnTo>
                  <a:lnTo>
                    <a:pt x="61" y="621"/>
                  </a:lnTo>
                  <a:lnTo>
                    <a:pt x="48" y="617"/>
                  </a:lnTo>
                  <a:lnTo>
                    <a:pt x="35" y="609"/>
                  </a:lnTo>
                  <a:lnTo>
                    <a:pt x="27" y="605"/>
                  </a:lnTo>
                  <a:lnTo>
                    <a:pt x="19" y="600"/>
                  </a:lnTo>
                  <a:lnTo>
                    <a:pt x="13" y="595"/>
                  </a:lnTo>
                  <a:lnTo>
                    <a:pt x="8" y="590"/>
                  </a:lnTo>
                  <a:lnTo>
                    <a:pt x="5" y="586"/>
                  </a:lnTo>
                  <a:lnTo>
                    <a:pt x="1" y="579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03"/>
                  </a:lnTo>
                  <a:lnTo>
                    <a:pt x="430" y="503"/>
                  </a:lnTo>
                  <a:lnTo>
                    <a:pt x="430" y="1350"/>
                  </a:lnTo>
                  <a:lnTo>
                    <a:pt x="430" y="1357"/>
                  </a:lnTo>
                  <a:lnTo>
                    <a:pt x="431" y="1363"/>
                  </a:lnTo>
                  <a:lnTo>
                    <a:pt x="433" y="1368"/>
                  </a:lnTo>
                  <a:lnTo>
                    <a:pt x="434" y="1373"/>
                  </a:lnTo>
                  <a:lnTo>
                    <a:pt x="436" y="1376"/>
                  </a:lnTo>
                  <a:lnTo>
                    <a:pt x="440" y="1379"/>
                  </a:lnTo>
                  <a:lnTo>
                    <a:pt x="444" y="1380"/>
                  </a:lnTo>
                  <a:lnTo>
                    <a:pt x="447" y="1381"/>
                  </a:lnTo>
                  <a:lnTo>
                    <a:pt x="476" y="1387"/>
                  </a:lnTo>
                  <a:lnTo>
                    <a:pt x="489" y="1391"/>
                  </a:lnTo>
                  <a:lnTo>
                    <a:pt x="495" y="1395"/>
                  </a:lnTo>
                  <a:lnTo>
                    <a:pt x="502" y="1400"/>
                  </a:lnTo>
                  <a:lnTo>
                    <a:pt x="505" y="1405"/>
                  </a:lnTo>
                  <a:lnTo>
                    <a:pt x="509" y="1409"/>
                  </a:lnTo>
                  <a:lnTo>
                    <a:pt x="513" y="1416"/>
                  </a:lnTo>
                  <a:lnTo>
                    <a:pt x="514" y="1422"/>
                  </a:lnTo>
                  <a:lnTo>
                    <a:pt x="515" y="1428"/>
                  </a:lnTo>
                  <a:lnTo>
                    <a:pt x="516" y="1434"/>
                  </a:lnTo>
                  <a:lnTo>
                    <a:pt x="516" y="1503"/>
                  </a:lnTo>
                  <a:lnTo>
                    <a:pt x="0" y="1503"/>
                  </a:lnTo>
                  <a:close/>
                  <a:moveTo>
                    <a:pt x="48" y="199"/>
                  </a:moveTo>
                  <a:lnTo>
                    <a:pt x="49" y="179"/>
                  </a:lnTo>
                  <a:lnTo>
                    <a:pt x="51" y="159"/>
                  </a:lnTo>
                  <a:lnTo>
                    <a:pt x="56" y="141"/>
                  </a:lnTo>
                  <a:lnTo>
                    <a:pt x="62" y="123"/>
                  </a:lnTo>
                  <a:lnTo>
                    <a:pt x="70" y="105"/>
                  </a:lnTo>
                  <a:lnTo>
                    <a:pt x="80" y="89"/>
                  </a:lnTo>
                  <a:lnTo>
                    <a:pt x="92" y="73"/>
                  </a:lnTo>
                  <a:lnTo>
                    <a:pt x="104" y="59"/>
                  </a:lnTo>
                  <a:lnTo>
                    <a:pt x="119" y="44"/>
                  </a:lnTo>
                  <a:lnTo>
                    <a:pt x="135" y="33"/>
                  </a:lnTo>
                  <a:lnTo>
                    <a:pt x="151" y="23"/>
                  </a:lnTo>
                  <a:lnTo>
                    <a:pt x="168" y="15"/>
                  </a:lnTo>
                  <a:lnTo>
                    <a:pt x="187" y="8"/>
                  </a:lnTo>
                  <a:lnTo>
                    <a:pt x="205" y="4"/>
                  </a:lnTo>
                  <a:lnTo>
                    <a:pt x="225" y="1"/>
                  </a:lnTo>
                  <a:lnTo>
                    <a:pt x="246" y="0"/>
                  </a:lnTo>
                  <a:lnTo>
                    <a:pt x="265" y="1"/>
                  </a:lnTo>
                  <a:lnTo>
                    <a:pt x="285" y="4"/>
                  </a:lnTo>
                  <a:lnTo>
                    <a:pt x="304" y="8"/>
                  </a:lnTo>
                  <a:lnTo>
                    <a:pt x="321" y="15"/>
                  </a:lnTo>
                  <a:lnTo>
                    <a:pt x="338" y="23"/>
                  </a:lnTo>
                  <a:lnTo>
                    <a:pt x="355" y="33"/>
                  </a:lnTo>
                  <a:lnTo>
                    <a:pt x="371" y="44"/>
                  </a:lnTo>
                  <a:lnTo>
                    <a:pt x="387" y="59"/>
                  </a:lnTo>
                  <a:lnTo>
                    <a:pt x="401" y="73"/>
                  </a:lnTo>
                  <a:lnTo>
                    <a:pt x="413" y="89"/>
                  </a:lnTo>
                  <a:lnTo>
                    <a:pt x="424" y="105"/>
                  </a:lnTo>
                  <a:lnTo>
                    <a:pt x="433" y="124"/>
                  </a:lnTo>
                  <a:lnTo>
                    <a:pt x="439" y="141"/>
                  </a:lnTo>
                  <a:lnTo>
                    <a:pt x="444" y="161"/>
                  </a:lnTo>
                  <a:lnTo>
                    <a:pt x="446" y="180"/>
                  </a:lnTo>
                  <a:lnTo>
                    <a:pt x="447" y="201"/>
                  </a:lnTo>
                  <a:lnTo>
                    <a:pt x="446" y="221"/>
                  </a:lnTo>
                  <a:lnTo>
                    <a:pt x="444" y="239"/>
                  </a:lnTo>
                  <a:lnTo>
                    <a:pt x="439" y="258"/>
                  </a:lnTo>
                  <a:lnTo>
                    <a:pt x="433" y="276"/>
                  </a:lnTo>
                  <a:lnTo>
                    <a:pt x="425" y="293"/>
                  </a:lnTo>
                  <a:lnTo>
                    <a:pt x="415" y="309"/>
                  </a:lnTo>
                  <a:lnTo>
                    <a:pt x="404" y="325"/>
                  </a:lnTo>
                  <a:lnTo>
                    <a:pt x="391" y="340"/>
                  </a:lnTo>
                  <a:lnTo>
                    <a:pt x="376" y="353"/>
                  </a:lnTo>
                  <a:lnTo>
                    <a:pt x="360" y="366"/>
                  </a:lnTo>
                  <a:lnTo>
                    <a:pt x="344" y="376"/>
                  </a:lnTo>
                  <a:lnTo>
                    <a:pt x="327" y="384"/>
                  </a:lnTo>
                  <a:lnTo>
                    <a:pt x="308" y="390"/>
                  </a:lnTo>
                  <a:lnTo>
                    <a:pt x="290" y="395"/>
                  </a:lnTo>
                  <a:lnTo>
                    <a:pt x="270" y="398"/>
                  </a:lnTo>
                  <a:lnTo>
                    <a:pt x="249" y="399"/>
                  </a:lnTo>
                  <a:lnTo>
                    <a:pt x="229" y="398"/>
                  </a:lnTo>
                  <a:lnTo>
                    <a:pt x="209" y="395"/>
                  </a:lnTo>
                  <a:lnTo>
                    <a:pt x="190" y="390"/>
                  </a:lnTo>
                  <a:lnTo>
                    <a:pt x="172" y="384"/>
                  </a:lnTo>
                  <a:lnTo>
                    <a:pt x="155" y="377"/>
                  </a:lnTo>
                  <a:lnTo>
                    <a:pt x="137" y="367"/>
                  </a:lnTo>
                  <a:lnTo>
                    <a:pt x="121" y="355"/>
                  </a:lnTo>
                  <a:lnTo>
                    <a:pt x="107" y="341"/>
                  </a:lnTo>
                  <a:lnTo>
                    <a:pt x="93" y="328"/>
                  </a:lnTo>
                  <a:lnTo>
                    <a:pt x="81" y="312"/>
                  </a:lnTo>
                  <a:lnTo>
                    <a:pt x="71" y="295"/>
                  </a:lnTo>
                  <a:lnTo>
                    <a:pt x="62" y="277"/>
                  </a:lnTo>
                  <a:lnTo>
                    <a:pt x="56" y="259"/>
                  </a:lnTo>
                  <a:lnTo>
                    <a:pt x="51" y="240"/>
                  </a:lnTo>
                  <a:lnTo>
                    <a:pt x="49" y="220"/>
                  </a:lnTo>
                  <a:lnTo>
                    <a:pt x="48" y="199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818560" y="768240"/>
              <a:ext cx="92160" cy="95400"/>
            </a:xfrm>
            <a:custGeom>
              <a:avLst/>
              <a:gdLst/>
              <a:ahLst/>
              <a:rect l="l" t="t" r="r" b="b"/>
              <a:pathLst>
                <a:path w="1122" h="1083">
                  <a:moveTo>
                    <a:pt x="0" y="538"/>
                  </a:moveTo>
                  <a:lnTo>
                    <a:pt x="0" y="510"/>
                  </a:lnTo>
                  <a:lnTo>
                    <a:pt x="3" y="483"/>
                  </a:lnTo>
                  <a:lnTo>
                    <a:pt x="4" y="457"/>
                  </a:lnTo>
                  <a:lnTo>
                    <a:pt x="8" y="431"/>
                  </a:lnTo>
                  <a:lnTo>
                    <a:pt x="13" y="406"/>
                  </a:lnTo>
                  <a:lnTo>
                    <a:pt x="18" y="382"/>
                  </a:lnTo>
                  <a:lnTo>
                    <a:pt x="24" y="359"/>
                  </a:lnTo>
                  <a:lnTo>
                    <a:pt x="31" y="335"/>
                  </a:lnTo>
                  <a:lnTo>
                    <a:pt x="40" y="313"/>
                  </a:lnTo>
                  <a:lnTo>
                    <a:pt x="48" y="291"/>
                  </a:lnTo>
                  <a:lnTo>
                    <a:pt x="59" y="270"/>
                  </a:lnTo>
                  <a:lnTo>
                    <a:pt x="71" y="249"/>
                  </a:lnTo>
                  <a:lnTo>
                    <a:pt x="83" y="230"/>
                  </a:lnTo>
                  <a:lnTo>
                    <a:pt x="95" y="211"/>
                  </a:lnTo>
                  <a:lnTo>
                    <a:pt x="110" y="193"/>
                  </a:lnTo>
                  <a:lnTo>
                    <a:pt x="125" y="174"/>
                  </a:lnTo>
                  <a:lnTo>
                    <a:pt x="141" y="157"/>
                  </a:lnTo>
                  <a:lnTo>
                    <a:pt x="157" y="141"/>
                  </a:lnTo>
                  <a:lnTo>
                    <a:pt x="175" y="127"/>
                  </a:lnTo>
                  <a:lnTo>
                    <a:pt x="194" y="112"/>
                  </a:lnTo>
                  <a:lnTo>
                    <a:pt x="212" y="98"/>
                  </a:lnTo>
                  <a:lnTo>
                    <a:pt x="232" y="86"/>
                  </a:lnTo>
                  <a:lnTo>
                    <a:pt x="253" y="74"/>
                  </a:lnTo>
                  <a:lnTo>
                    <a:pt x="273" y="63"/>
                  </a:lnTo>
                  <a:lnTo>
                    <a:pt x="296" y="53"/>
                  </a:lnTo>
                  <a:lnTo>
                    <a:pt x="319" y="43"/>
                  </a:lnTo>
                  <a:lnTo>
                    <a:pt x="342" y="34"/>
                  </a:lnTo>
                  <a:lnTo>
                    <a:pt x="367" y="27"/>
                  </a:lnTo>
                  <a:lnTo>
                    <a:pt x="392" y="21"/>
                  </a:lnTo>
                  <a:lnTo>
                    <a:pt x="417" y="15"/>
                  </a:lnTo>
                  <a:lnTo>
                    <a:pt x="444" y="10"/>
                  </a:lnTo>
                  <a:lnTo>
                    <a:pt x="472" y="6"/>
                  </a:lnTo>
                  <a:lnTo>
                    <a:pt x="495" y="4"/>
                  </a:lnTo>
                  <a:lnTo>
                    <a:pt x="517" y="1"/>
                  </a:lnTo>
                  <a:lnTo>
                    <a:pt x="539" y="0"/>
                  </a:lnTo>
                  <a:lnTo>
                    <a:pt x="563" y="0"/>
                  </a:lnTo>
                  <a:lnTo>
                    <a:pt x="583" y="0"/>
                  </a:lnTo>
                  <a:lnTo>
                    <a:pt x="606" y="1"/>
                  </a:lnTo>
                  <a:lnTo>
                    <a:pt x="628" y="4"/>
                  </a:lnTo>
                  <a:lnTo>
                    <a:pt x="650" y="6"/>
                  </a:lnTo>
                  <a:lnTo>
                    <a:pt x="677" y="10"/>
                  </a:lnTo>
                  <a:lnTo>
                    <a:pt x="704" y="15"/>
                  </a:lnTo>
                  <a:lnTo>
                    <a:pt x="730" y="21"/>
                  </a:lnTo>
                  <a:lnTo>
                    <a:pt x="754" y="27"/>
                  </a:lnTo>
                  <a:lnTo>
                    <a:pt x="779" y="34"/>
                  </a:lnTo>
                  <a:lnTo>
                    <a:pt x="802" y="43"/>
                  </a:lnTo>
                  <a:lnTo>
                    <a:pt x="826" y="53"/>
                  </a:lnTo>
                  <a:lnTo>
                    <a:pt x="848" y="63"/>
                  </a:lnTo>
                  <a:lnTo>
                    <a:pt x="869" y="74"/>
                  </a:lnTo>
                  <a:lnTo>
                    <a:pt x="890" y="85"/>
                  </a:lnTo>
                  <a:lnTo>
                    <a:pt x="909" y="98"/>
                  </a:lnTo>
                  <a:lnTo>
                    <a:pt x="928" y="112"/>
                  </a:lnTo>
                  <a:lnTo>
                    <a:pt x="946" y="125"/>
                  </a:lnTo>
                  <a:lnTo>
                    <a:pt x="964" y="141"/>
                  </a:lnTo>
                  <a:lnTo>
                    <a:pt x="981" y="157"/>
                  </a:lnTo>
                  <a:lnTo>
                    <a:pt x="997" y="174"/>
                  </a:lnTo>
                  <a:lnTo>
                    <a:pt x="1011" y="192"/>
                  </a:lnTo>
                  <a:lnTo>
                    <a:pt x="1026" y="210"/>
                  </a:lnTo>
                  <a:lnTo>
                    <a:pt x="1040" y="228"/>
                  </a:lnTo>
                  <a:lnTo>
                    <a:pt x="1051" y="248"/>
                  </a:lnTo>
                  <a:lnTo>
                    <a:pt x="1063" y="269"/>
                  </a:lnTo>
                  <a:lnTo>
                    <a:pt x="1073" y="290"/>
                  </a:lnTo>
                  <a:lnTo>
                    <a:pt x="1083" y="312"/>
                  </a:lnTo>
                  <a:lnTo>
                    <a:pt x="1090" y="334"/>
                  </a:lnTo>
                  <a:lnTo>
                    <a:pt x="1098" y="356"/>
                  </a:lnTo>
                  <a:lnTo>
                    <a:pt x="1104" y="381"/>
                  </a:lnTo>
                  <a:lnTo>
                    <a:pt x="1110" y="404"/>
                  </a:lnTo>
                  <a:lnTo>
                    <a:pt x="1114" y="430"/>
                  </a:lnTo>
                  <a:lnTo>
                    <a:pt x="1117" y="454"/>
                  </a:lnTo>
                  <a:lnTo>
                    <a:pt x="1120" y="481"/>
                  </a:lnTo>
                  <a:lnTo>
                    <a:pt x="1121" y="508"/>
                  </a:lnTo>
                  <a:lnTo>
                    <a:pt x="1122" y="535"/>
                  </a:lnTo>
                  <a:lnTo>
                    <a:pt x="1121" y="564"/>
                  </a:lnTo>
                  <a:lnTo>
                    <a:pt x="1120" y="591"/>
                  </a:lnTo>
                  <a:lnTo>
                    <a:pt x="1117" y="618"/>
                  </a:lnTo>
                  <a:lnTo>
                    <a:pt x="1115" y="645"/>
                  </a:lnTo>
                  <a:lnTo>
                    <a:pt x="1110" y="669"/>
                  </a:lnTo>
                  <a:lnTo>
                    <a:pt x="1105" y="695"/>
                  </a:lnTo>
                  <a:lnTo>
                    <a:pt x="1099" y="718"/>
                  </a:lnTo>
                  <a:lnTo>
                    <a:pt x="1091" y="742"/>
                  </a:lnTo>
                  <a:lnTo>
                    <a:pt x="1083" y="765"/>
                  </a:lnTo>
                  <a:lnTo>
                    <a:pt x="1074" y="787"/>
                  </a:lnTo>
                  <a:lnTo>
                    <a:pt x="1064" y="809"/>
                  </a:lnTo>
                  <a:lnTo>
                    <a:pt x="1053" y="829"/>
                  </a:lnTo>
                  <a:lnTo>
                    <a:pt x="1041" y="850"/>
                  </a:lnTo>
                  <a:lnTo>
                    <a:pt x="1029" y="869"/>
                  </a:lnTo>
                  <a:lnTo>
                    <a:pt x="1014" y="888"/>
                  </a:lnTo>
                  <a:lnTo>
                    <a:pt x="999" y="906"/>
                  </a:lnTo>
                  <a:lnTo>
                    <a:pt x="984" y="923"/>
                  </a:lnTo>
                  <a:lnTo>
                    <a:pt x="967" y="939"/>
                  </a:lnTo>
                  <a:lnTo>
                    <a:pt x="950" y="955"/>
                  </a:lnTo>
                  <a:lnTo>
                    <a:pt x="932" y="970"/>
                  </a:lnTo>
                  <a:lnTo>
                    <a:pt x="913" y="984"/>
                  </a:lnTo>
                  <a:lnTo>
                    <a:pt x="893" y="996"/>
                  </a:lnTo>
                  <a:lnTo>
                    <a:pt x="873" y="1008"/>
                  </a:lnTo>
                  <a:lnTo>
                    <a:pt x="852" y="1019"/>
                  </a:lnTo>
                  <a:lnTo>
                    <a:pt x="828" y="1029"/>
                  </a:lnTo>
                  <a:lnTo>
                    <a:pt x="806" y="1039"/>
                  </a:lnTo>
                  <a:lnTo>
                    <a:pt x="781" y="1047"/>
                  </a:lnTo>
                  <a:lnTo>
                    <a:pt x="757" y="1055"/>
                  </a:lnTo>
                  <a:lnTo>
                    <a:pt x="731" y="1062"/>
                  </a:lnTo>
                  <a:lnTo>
                    <a:pt x="705" y="1067"/>
                  </a:lnTo>
                  <a:lnTo>
                    <a:pt x="678" y="1072"/>
                  </a:lnTo>
                  <a:lnTo>
                    <a:pt x="650" y="1077"/>
                  </a:lnTo>
                  <a:lnTo>
                    <a:pt x="628" y="1079"/>
                  </a:lnTo>
                  <a:lnTo>
                    <a:pt x="606" y="1081"/>
                  </a:lnTo>
                  <a:lnTo>
                    <a:pt x="583" y="1082"/>
                  </a:lnTo>
                  <a:lnTo>
                    <a:pt x="563" y="1083"/>
                  </a:lnTo>
                  <a:lnTo>
                    <a:pt x="539" y="1082"/>
                  </a:lnTo>
                  <a:lnTo>
                    <a:pt x="517" y="1081"/>
                  </a:lnTo>
                  <a:lnTo>
                    <a:pt x="495" y="1079"/>
                  </a:lnTo>
                  <a:lnTo>
                    <a:pt x="472" y="1077"/>
                  </a:lnTo>
                  <a:lnTo>
                    <a:pt x="444" y="1072"/>
                  </a:lnTo>
                  <a:lnTo>
                    <a:pt x="419" y="1067"/>
                  </a:lnTo>
                  <a:lnTo>
                    <a:pt x="393" y="1062"/>
                  </a:lnTo>
                  <a:lnTo>
                    <a:pt x="367" y="1055"/>
                  </a:lnTo>
                  <a:lnTo>
                    <a:pt x="344" y="1047"/>
                  </a:lnTo>
                  <a:lnTo>
                    <a:pt x="320" y="1039"/>
                  </a:lnTo>
                  <a:lnTo>
                    <a:pt x="297" y="1029"/>
                  </a:lnTo>
                  <a:lnTo>
                    <a:pt x="275" y="1018"/>
                  </a:lnTo>
                  <a:lnTo>
                    <a:pt x="254" y="1007"/>
                  </a:lnTo>
                  <a:lnTo>
                    <a:pt x="233" y="995"/>
                  </a:lnTo>
                  <a:lnTo>
                    <a:pt x="213" y="981"/>
                  </a:lnTo>
                  <a:lnTo>
                    <a:pt x="195" y="966"/>
                  </a:lnTo>
                  <a:lnTo>
                    <a:pt x="176" y="952"/>
                  </a:lnTo>
                  <a:lnTo>
                    <a:pt x="158" y="936"/>
                  </a:lnTo>
                  <a:lnTo>
                    <a:pt x="142" y="918"/>
                  </a:lnTo>
                  <a:lnTo>
                    <a:pt x="126" y="901"/>
                  </a:lnTo>
                  <a:lnTo>
                    <a:pt x="110" y="882"/>
                  </a:lnTo>
                  <a:lnTo>
                    <a:pt x="96" y="863"/>
                  </a:lnTo>
                  <a:lnTo>
                    <a:pt x="83" y="844"/>
                  </a:lnTo>
                  <a:lnTo>
                    <a:pt x="71" y="823"/>
                  </a:lnTo>
                  <a:lnTo>
                    <a:pt x="59" y="802"/>
                  </a:lnTo>
                  <a:lnTo>
                    <a:pt x="50" y="781"/>
                  </a:lnTo>
                  <a:lnTo>
                    <a:pt x="40" y="759"/>
                  </a:lnTo>
                  <a:lnTo>
                    <a:pt x="31" y="737"/>
                  </a:lnTo>
                  <a:lnTo>
                    <a:pt x="24" y="713"/>
                  </a:lnTo>
                  <a:lnTo>
                    <a:pt x="18" y="690"/>
                  </a:lnTo>
                  <a:lnTo>
                    <a:pt x="13" y="666"/>
                  </a:lnTo>
                  <a:lnTo>
                    <a:pt x="8" y="641"/>
                  </a:lnTo>
                  <a:lnTo>
                    <a:pt x="4" y="616"/>
                  </a:lnTo>
                  <a:lnTo>
                    <a:pt x="3" y="591"/>
                  </a:lnTo>
                  <a:lnTo>
                    <a:pt x="0" y="564"/>
                  </a:lnTo>
                  <a:lnTo>
                    <a:pt x="0" y="538"/>
                  </a:lnTo>
                  <a:close/>
                  <a:moveTo>
                    <a:pt x="563" y="891"/>
                  </a:moveTo>
                  <a:lnTo>
                    <a:pt x="576" y="890"/>
                  </a:lnTo>
                  <a:lnTo>
                    <a:pt x="590" y="890"/>
                  </a:lnTo>
                  <a:lnTo>
                    <a:pt x="603" y="888"/>
                  </a:lnTo>
                  <a:lnTo>
                    <a:pt x="615" y="885"/>
                  </a:lnTo>
                  <a:lnTo>
                    <a:pt x="628" y="883"/>
                  </a:lnTo>
                  <a:lnTo>
                    <a:pt x="639" y="879"/>
                  </a:lnTo>
                  <a:lnTo>
                    <a:pt x="651" y="876"/>
                  </a:lnTo>
                  <a:lnTo>
                    <a:pt x="662" y="871"/>
                  </a:lnTo>
                  <a:lnTo>
                    <a:pt x="672" y="864"/>
                  </a:lnTo>
                  <a:lnTo>
                    <a:pt x="682" y="858"/>
                  </a:lnTo>
                  <a:lnTo>
                    <a:pt x="692" y="851"/>
                  </a:lnTo>
                  <a:lnTo>
                    <a:pt x="702" y="844"/>
                  </a:lnTo>
                  <a:lnTo>
                    <a:pt x="710" y="835"/>
                  </a:lnTo>
                  <a:lnTo>
                    <a:pt x="718" y="826"/>
                  </a:lnTo>
                  <a:lnTo>
                    <a:pt x="726" y="817"/>
                  </a:lnTo>
                  <a:lnTo>
                    <a:pt x="734" y="807"/>
                  </a:lnTo>
                  <a:lnTo>
                    <a:pt x="741" y="796"/>
                  </a:lnTo>
                  <a:lnTo>
                    <a:pt x="747" y="785"/>
                  </a:lnTo>
                  <a:lnTo>
                    <a:pt x="753" y="772"/>
                  </a:lnTo>
                  <a:lnTo>
                    <a:pt x="758" y="759"/>
                  </a:lnTo>
                  <a:lnTo>
                    <a:pt x="764" y="744"/>
                  </a:lnTo>
                  <a:lnTo>
                    <a:pt x="768" y="729"/>
                  </a:lnTo>
                  <a:lnTo>
                    <a:pt x="773" y="713"/>
                  </a:lnTo>
                  <a:lnTo>
                    <a:pt x="777" y="697"/>
                  </a:lnTo>
                  <a:lnTo>
                    <a:pt x="783" y="662"/>
                  </a:lnTo>
                  <a:lnTo>
                    <a:pt x="788" y="624"/>
                  </a:lnTo>
                  <a:lnTo>
                    <a:pt x="790" y="582"/>
                  </a:lnTo>
                  <a:lnTo>
                    <a:pt x="791" y="538"/>
                  </a:lnTo>
                  <a:lnTo>
                    <a:pt x="790" y="494"/>
                  </a:lnTo>
                  <a:lnTo>
                    <a:pt x="788" y="453"/>
                  </a:lnTo>
                  <a:lnTo>
                    <a:pt x="783" y="416"/>
                  </a:lnTo>
                  <a:lnTo>
                    <a:pt x="777" y="382"/>
                  </a:lnTo>
                  <a:lnTo>
                    <a:pt x="773" y="366"/>
                  </a:lnTo>
                  <a:lnTo>
                    <a:pt x="768" y="350"/>
                  </a:lnTo>
                  <a:lnTo>
                    <a:pt x="764" y="336"/>
                  </a:lnTo>
                  <a:lnTo>
                    <a:pt x="758" y="322"/>
                  </a:lnTo>
                  <a:lnTo>
                    <a:pt x="753" y="309"/>
                  </a:lnTo>
                  <a:lnTo>
                    <a:pt x="747" y="297"/>
                  </a:lnTo>
                  <a:lnTo>
                    <a:pt x="741" y="285"/>
                  </a:lnTo>
                  <a:lnTo>
                    <a:pt x="734" y="274"/>
                  </a:lnTo>
                  <a:lnTo>
                    <a:pt x="726" y="264"/>
                  </a:lnTo>
                  <a:lnTo>
                    <a:pt x="718" y="255"/>
                  </a:lnTo>
                  <a:lnTo>
                    <a:pt x="710" y="247"/>
                  </a:lnTo>
                  <a:lnTo>
                    <a:pt x="702" y="238"/>
                  </a:lnTo>
                  <a:lnTo>
                    <a:pt x="692" y="231"/>
                  </a:lnTo>
                  <a:lnTo>
                    <a:pt x="682" y="224"/>
                  </a:lnTo>
                  <a:lnTo>
                    <a:pt x="672" y="217"/>
                  </a:lnTo>
                  <a:lnTo>
                    <a:pt x="662" y="212"/>
                  </a:lnTo>
                  <a:lnTo>
                    <a:pt x="651" y="208"/>
                  </a:lnTo>
                  <a:lnTo>
                    <a:pt x="639" y="203"/>
                  </a:lnTo>
                  <a:lnTo>
                    <a:pt x="628" y="199"/>
                  </a:lnTo>
                  <a:lnTo>
                    <a:pt x="615" y="197"/>
                  </a:lnTo>
                  <a:lnTo>
                    <a:pt x="603" y="194"/>
                  </a:lnTo>
                  <a:lnTo>
                    <a:pt x="590" y="193"/>
                  </a:lnTo>
                  <a:lnTo>
                    <a:pt x="576" y="192"/>
                  </a:lnTo>
                  <a:lnTo>
                    <a:pt x="563" y="192"/>
                  </a:lnTo>
                  <a:lnTo>
                    <a:pt x="549" y="192"/>
                  </a:lnTo>
                  <a:lnTo>
                    <a:pt x="535" y="193"/>
                  </a:lnTo>
                  <a:lnTo>
                    <a:pt x="523" y="194"/>
                  </a:lnTo>
                  <a:lnTo>
                    <a:pt x="511" y="197"/>
                  </a:lnTo>
                  <a:lnTo>
                    <a:pt x="499" y="199"/>
                  </a:lnTo>
                  <a:lnTo>
                    <a:pt x="488" y="203"/>
                  </a:lnTo>
                  <a:lnTo>
                    <a:pt x="476" y="208"/>
                  </a:lnTo>
                  <a:lnTo>
                    <a:pt x="465" y="212"/>
                  </a:lnTo>
                  <a:lnTo>
                    <a:pt x="454" y="217"/>
                  </a:lnTo>
                  <a:lnTo>
                    <a:pt x="444" y="224"/>
                  </a:lnTo>
                  <a:lnTo>
                    <a:pt x="436" y="231"/>
                  </a:lnTo>
                  <a:lnTo>
                    <a:pt x="426" y="238"/>
                  </a:lnTo>
                  <a:lnTo>
                    <a:pt x="417" y="247"/>
                  </a:lnTo>
                  <a:lnTo>
                    <a:pt x="409" y="255"/>
                  </a:lnTo>
                  <a:lnTo>
                    <a:pt x="401" y="264"/>
                  </a:lnTo>
                  <a:lnTo>
                    <a:pt x="394" y="274"/>
                  </a:lnTo>
                  <a:lnTo>
                    <a:pt x="387" y="285"/>
                  </a:lnTo>
                  <a:lnTo>
                    <a:pt x="381" y="297"/>
                  </a:lnTo>
                  <a:lnTo>
                    <a:pt x="374" y="309"/>
                  </a:lnTo>
                  <a:lnTo>
                    <a:pt x="368" y="322"/>
                  </a:lnTo>
                  <a:lnTo>
                    <a:pt x="363" y="336"/>
                  </a:lnTo>
                  <a:lnTo>
                    <a:pt x="358" y="350"/>
                  </a:lnTo>
                  <a:lnTo>
                    <a:pt x="353" y="366"/>
                  </a:lnTo>
                  <a:lnTo>
                    <a:pt x="350" y="382"/>
                  </a:lnTo>
                  <a:lnTo>
                    <a:pt x="344" y="416"/>
                  </a:lnTo>
                  <a:lnTo>
                    <a:pt x="339" y="453"/>
                  </a:lnTo>
                  <a:lnTo>
                    <a:pt x="336" y="494"/>
                  </a:lnTo>
                  <a:lnTo>
                    <a:pt x="335" y="538"/>
                  </a:lnTo>
                  <a:lnTo>
                    <a:pt x="336" y="581"/>
                  </a:lnTo>
                  <a:lnTo>
                    <a:pt x="339" y="623"/>
                  </a:lnTo>
                  <a:lnTo>
                    <a:pt x="344" y="661"/>
                  </a:lnTo>
                  <a:lnTo>
                    <a:pt x="350" y="695"/>
                  </a:lnTo>
                  <a:lnTo>
                    <a:pt x="353" y="711"/>
                  </a:lnTo>
                  <a:lnTo>
                    <a:pt x="357" y="727"/>
                  </a:lnTo>
                  <a:lnTo>
                    <a:pt x="362" y="742"/>
                  </a:lnTo>
                  <a:lnTo>
                    <a:pt x="367" y="756"/>
                  </a:lnTo>
                  <a:lnTo>
                    <a:pt x="373" y="770"/>
                  </a:lnTo>
                  <a:lnTo>
                    <a:pt x="379" y="782"/>
                  </a:lnTo>
                  <a:lnTo>
                    <a:pt x="385" y="794"/>
                  </a:lnTo>
                  <a:lnTo>
                    <a:pt x="393" y="806"/>
                  </a:lnTo>
                  <a:lnTo>
                    <a:pt x="400" y="815"/>
                  </a:lnTo>
                  <a:lnTo>
                    <a:pt x="408" y="825"/>
                  </a:lnTo>
                  <a:lnTo>
                    <a:pt x="416" y="834"/>
                  </a:lnTo>
                  <a:lnTo>
                    <a:pt x="425" y="842"/>
                  </a:lnTo>
                  <a:lnTo>
                    <a:pt x="435" y="851"/>
                  </a:lnTo>
                  <a:lnTo>
                    <a:pt x="443" y="857"/>
                  </a:lnTo>
                  <a:lnTo>
                    <a:pt x="453" y="863"/>
                  </a:lnTo>
                  <a:lnTo>
                    <a:pt x="464" y="869"/>
                  </a:lnTo>
                  <a:lnTo>
                    <a:pt x="475" y="874"/>
                  </a:lnTo>
                  <a:lnTo>
                    <a:pt x="486" y="879"/>
                  </a:lnTo>
                  <a:lnTo>
                    <a:pt x="497" y="883"/>
                  </a:lnTo>
                  <a:lnTo>
                    <a:pt x="510" y="885"/>
                  </a:lnTo>
                  <a:lnTo>
                    <a:pt x="522" y="888"/>
                  </a:lnTo>
                  <a:lnTo>
                    <a:pt x="535" y="890"/>
                  </a:lnTo>
                  <a:lnTo>
                    <a:pt x="548" y="890"/>
                  </a:lnTo>
                  <a:lnTo>
                    <a:pt x="563" y="891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915400" y="768240"/>
              <a:ext cx="92160" cy="88920"/>
            </a:xfrm>
            <a:custGeom>
              <a:avLst/>
              <a:gdLst/>
              <a:ahLst/>
              <a:rect l="l" t="t" r="r" b="b"/>
              <a:pathLst>
                <a:path w="1115" h="1051">
                  <a:moveTo>
                    <a:pt x="0" y="1051"/>
                  </a:moveTo>
                  <a:lnTo>
                    <a:pt x="0" y="984"/>
                  </a:lnTo>
                  <a:lnTo>
                    <a:pt x="2" y="977"/>
                  </a:lnTo>
                  <a:lnTo>
                    <a:pt x="3" y="970"/>
                  </a:lnTo>
                  <a:lnTo>
                    <a:pt x="6" y="962"/>
                  </a:lnTo>
                  <a:lnTo>
                    <a:pt x="10" y="956"/>
                  </a:lnTo>
                  <a:lnTo>
                    <a:pt x="16" y="951"/>
                  </a:lnTo>
                  <a:lnTo>
                    <a:pt x="24" y="946"/>
                  </a:lnTo>
                  <a:lnTo>
                    <a:pt x="32" y="941"/>
                  </a:lnTo>
                  <a:lnTo>
                    <a:pt x="41" y="938"/>
                  </a:lnTo>
                  <a:lnTo>
                    <a:pt x="67" y="929"/>
                  </a:lnTo>
                  <a:lnTo>
                    <a:pt x="70" y="927"/>
                  </a:lnTo>
                  <a:lnTo>
                    <a:pt x="74" y="922"/>
                  </a:lnTo>
                  <a:lnTo>
                    <a:pt x="78" y="914"/>
                  </a:lnTo>
                  <a:lnTo>
                    <a:pt x="80" y="906"/>
                  </a:lnTo>
                  <a:lnTo>
                    <a:pt x="80" y="897"/>
                  </a:lnTo>
                  <a:lnTo>
                    <a:pt x="80" y="867"/>
                  </a:lnTo>
                  <a:lnTo>
                    <a:pt x="80" y="853"/>
                  </a:lnTo>
                  <a:lnTo>
                    <a:pt x="80" y="262"/>
                  </a:lnTo>
                  <a:lnTo>
                    <a:pt x="80" y="234"/>
                  </a:lnTo>
                  <a:lnTo>
                    <a:pt x="80" y="210"/>
                  </a:lnTo>
                  <a:lnTo>
                    <a:pt x="75" y="185"/>
                  </a:lnTo>
                  <a:lnTo>
                    <a:pt x="67" y="173"/>
                  </a:lnTo>
                  <a:lnTo>
                    <a:pt x="38" y="167"/>
                  </a:lnTo>
                  <a:lnTo>
                    <a:pt x="25" y="162"/>
                  </a:lnTo>
                  <a:lnTo>
                    <a:pt x="19" y="157"/>
                  </a:lnTo>
                  <a:lnTo>
                    <a:pt x="14" y="153"/>
                  </a:lnTo>
                  <a:lnTo>
                    <a:pt x="10" y="148"/>
                  </a:lnTo>
                  <a:lnTo>
                    <a:pt x="6" y="143"/>
                  </a:lnTo>
                  <a:lnTo>
                    <a:pt x="4" y="138"/>
                  </a:lnTo>
                  <a:lnTo>
                    <a:pt x="2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0" y="51"/>
                  </a:lnTo>
                  <a:lnTo>
                    <a:pt x="396" y="51"/>
                  </a:lnTo>
                  <a:lnTo>
                    <a:pt x="396" y="109"/>
                  </a:lnTo>
                  <a:lnTo>
                    <a:pt x="409" y="99"/>
                  </a:lnTo>
                  <a:lnTo>
                    <a:pt x="422" y="91"/>
                  </a:lnTo>
                  <a:lnTo>
                    <a:pt x="436" y="82"/>
                  </a:lnTo>
                  <a:lnTo>
                    <a:pt x="448" y="75"/>
                  </a:lnTo>
                  <a:lnTo>
                    <a:pt x="460" y="67"/>
                  </a:lnTo>
                  <a:lnTo>
                    <a:pt x="473" y="60"/>
                  </a:lnTo>
                  <a:lnTo>
                    <a:pt x="486" y="54"/>
                  </a:lnTo>
                  <a:lnTo>
                    <a:pt x="501" y="48"/>
                  </a:lnTo>
                  <a:lnTo>
                    <a:pt x="530" y="37"/>
                  </a:lnTo>
                  <a:lnTo>
                    <a:pt x="557" y="25"/>
                  </a:lnTo>
                  <a:lnTo>
                    <a:pt x="585" y="18"/>
                  </a:lnTo>
                  <a:lnTo>
                    <a:pt x="610" y="11"/>
                  </a:lnTo>
                  <a:lnTo>
                    <a:pt x="636" y="6"/>
                  </a:lnTo>
                  <a:lnTo>
                    <a:pt x="661" y="2"/>
                  </a:lnTo>
                  <a:lnTo>
                    <a:pt x="685" y="0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3" y="0"/>
                  </a:lnTo>
                  <a:lnTo>
                    <a:pt x="743" y="0"/>
                  </a:lnTo>
                  <a:lnTo>
                    <a:pt x="751" y="1"/>
                  </a:lnTo>
                  <a:lnTo>
                    <a:pt x="786" y="6"/>
                  </a:lnTo>
                  <a:lnTo>
                    <a:pt x="819" y="13"/>
                  </a:lnTo>
                  <a:lnTo>
                    <a:pt x="835" y="17"/>
                  </a:lnTo>
                  <a:lnTo>
                    <a:pt x="850" y="22"/>
                  </a:lnTo>
                  <a:lnTo>
                    <a:pt x="865" y="27"/>
                  </a:lnTo>
                  <a:lnTo>
                    <a:pt x="879" y="32"/>
                  </a:lnTo>
                  <a:lnTo>
                    <a:pt x="892" y="38"/>
                  </a:lnTo>
                  <a:lnTo>
                    <a:pt x="904" y="45"/>
                  </a:lnTo>
                  <a:lnTo>
                    <a:pt x="917" y="51"/>
                  </a:lnTo>
                  <a:lnTo>
                    <a:pt x="928" y="59"/>
                  </a:lnTo>
                  <a:lnTo>
                    <a:pt x="939" y="67"/>
                  </a:lnTo>
                  <a:lnTo>
                    <a:pt x="949" y="76"/>
                  </a:lnTo>
                  <a:lnTo>
                    <a:pt x="958" y="84"/>
                  </a:lnTo>
                  <a:lnTo>
                    <a:pt x="967" y="94"/>
                  </a:lnTo>
                  <a:lnTo>
                    <a:pt x="974" y="104"/>
                  </a:lnTo>
                  <a:lnTo>
                    <a:pt x="982" y="114"/>
                  </a:lnTo>
                  <a:lnTo>
                    <a:pt x="989" y="126"/>
                  </a:lnTo>
                  <a:lnTo>
                    <a:pt x="995" y="137"/>
                  </a:lnTo>
                  <a:lnTo>
                    <a:pt x="1002" y="149"/>
                  </a:lnTo>
                  <a:lnTo>
                    <a:pt x="1008" y="163"/>
                  </a:lnTo>
                  <a:lnTo>
                    <a:pt x="1013" y="176"/>
                  </a:lnTo>
                  <a:lnTo>
                    <a:pt x="1018" y="191"/>
                  </a:lnTo>
                  <a:lnTo>
                    <a:pt x="1021" y="206"/>
                  </a:lnTo>
                  <a:lnTo>
                    <a:pt x="1025" y="222"/>
                  </a:lnTo>
                  <a:lnTo>
                    <a:pt x="1027" y="238"/>
                  </a:lnTo>
                  <a:lnTo>
                    <a:pt x="1030" y="255"/>
                  </a:lnTo>
                  <a:lnTo>
                    <a:pt x="1032" y="291"/>
                  </a:lnTo>
                  <a:lnTo>
                    <a:pt x="1034" y="329"/>
                  </a:lnTo>
                  <a:lnTo>
                    <a:pt x="1034" y="851"/>
                  </a:lnTo>
                  <a:lnTo>
                    <a:pt x="1034" y="865"/>
                  </a:lnTo>
                  <a:lnTo>
                    <a:pt x="1034" y="874"/>
                  </a:lnTo>
                  <a:lnTo>
                    <a:pt x="1034" y="896"/>
                  </a:lnTo>
                  <a:lnTo>
                    <a:pt x="1035" y="907"/>
                  </a:lnTo>
                  <a:lnTo>
                    <a:pt x="1037" y="914"/>
                  </a:lnTo>
                  <a:lnTo>
                    <a:pt x="1041" y="921"/>
                  </a:lnTo>
                  <a:lnTo>
                    <a:pt x="1046" y="923"/>
                  </a:lnTo>
                  <a:lnTo>
                    <a:pt x="1075" y="937"/>
                  </a:lnTo>
                  <a:lnTo>
                    <a:pt x="1084" y="941"/>
                  </a:lnTo>
                  <a:lnTo>
                    <a:pt x="1093" y="946"/>
                  </a:lnTo>
                  <a:lnTo>
                    <a:pt x="1099" y="951"/>
                  </a:lnTo>
                  <a:lnTo>
                    <a:pt x="1105" y="956"/>
                  </a:lnTo>
                  <a:lnTo>
                    <a:pt x="1109" y="962"/>
                  </a:lnTo>
                  <a:lnTo>
                    <a:pt x="1112" y="970"/>
                  </a:lnTo>
                  <a:lnTo>
                    <a:pt x="1113" y="976"/>
                  </a:lnTo>
                  <a:lnTo>
                    <a:pt x="1115" y="984"/>
                  </a:lnTo>
                  <a:lnTo>
                    <a:pt x="1115" y="1051"/>
                  </a:lnTo>
                  <a:lnTo>
                    <a:pt x="635" y="1051"/>
                  </a:lnTo>
                  <a:lnTo>
                    <a:pt x="635" y="982"/>
                  </a:lnTo>
                  <a:lnTo>
                    <a:pt x="635" y="975"/>
                  </a:lnTo>
                  <a:lnTo>
                    <a:pt x="637" y="967"/>
                  </a:lnTo>
                  <a:lnTo>
                    <a:pt x="640" y="961"/>
                  </a:lnTo>
                  <a:lnTo>
                    <a:pt x="645" y="955"/>
                  </a:lnTo>
                  <a:lnTo>
                    <a:pt x="651" y="949"/>
                  </a:lnTo>
                  <a:lnTo>
                    <a:pt x="657" y="944"/>
                  </a:lnTo>
                  <a:lnTo>
                    <a:pt x="666" y="939"/>
                  </a:lnTo>
                  <a:lnTo>
                    <a:pt x="676" y="935"/>
                  </a:lnTo>
                  <a:lnTo>
                    <a:pt x="689" y="929"/>
                  </a:lnTo>
                  <a:lnTo>
                    <a:pt x="694" y="923"/>
                  </a:lnTo>
                  <a:lnTo>
                    <a:pt x="698" y="917"/>
                  </a:lnTo>
                  <a:lnTo>
                    <a:pt x="700" y="911"/>
                  </a:lnTo>
                  <a:lnTo>
                    <a:pt x="701" y="906"/>
                  </a:lnTo>
                  <a:lnTo>
                    <a:pt x="701" y="898"/>
                  </a:lnTo>
                  <a:lnTo>
                    <a:pt x="701" y="884"/>
                  </a:lnTo>
                  <a:lnTo>
                    <a:pt x="701" y="867"/>
                  </a:lnTo>
                  <a:lnTo>
                    <a:pt x="701" y="859"/>
                  </a:lnTo>
                  <a:lnTo>
                    <a:pt x="701" y="382"/>
                  </a:lnTo>
                  <a:lnTo>
                    <a:pt x="701" y="351"/>
                  </a:lnTo>
                  <a:lnTo>
                    <a:pt x="701" y="335"/>
                  </a:lnTo>
                  <a:lnTo>
                    <a:pt x="695" y="308"/>
                  </a:lnTo>
                  <a:lnTo>
                    <a:pt x="693" y="297"/>
                  </a:lnTo>
                  <a:lnTo>
                    <a:pt x="689" y="286"/>
                  </a:lnTo>
                  <a:lnTo>
                    <a:pt x="684" y="276"/>
                  </a:lnTo>
                  <a:lnTo>
                    <a:pt x="680" y="267"/>
                  </a:lnTo>
                  <a:lnTo>
                    <a:pt x="674" y="259"/>
                  </a:lnTo>
                  <a:lnTo>
                    <a:pt x="669" y="250"/>
                  </a:lnTo>
                  <a:lnTo>
                    <a:pt x="663" y="244"/>
                  </a:lnTo>
                  <a:lnTo>
                    <a:pt x="656" y="238"/>
                  </a:lnTo>
                  <a:lnTo>
                    <a:pt x="649" y="232"/>
                  </a:lnTo>
                  <a:lnTo>
                    <a:pt x="641" y="227"/>
                  </a:lnTo>
                  <a:lnTo>
                    <a:pt x="633" y="223"/>
                  </a:lnTo>
                  <a:lnTo>
                    <a:pt x="623" y="219"/>
                  </a:lnTo>
                  <a:lnTo>
                    <a:pt x="614" y="217"/>
                  </a:lnTo>
                  <a:lnTo>
                    <a:pt x="603" y="216"/>
                  </a:lnTo>
                  <a:lnTo>
                    <a:pt x="593" y="215"/>
                  </a:lnTo>
                  <a:lnTo>
                    <a:pt x="582" y="215"/>
                  </a:lnTo>
                  <a:lnTo>
                    <a:pt x="566" y="215"/>
                  </a:lnTo>
                  <a:lnTo>
                    <a:pt x="551" y="217"/>
                  </a:lnTo>
                  <a:lnTo>
                    <a:pt x="535" y="221"/>
                  </a:lnTo>
                  <a:lnTo>
                    <a:pt x="518" y="227"/>
                  </a:lnTo>
                  <a:lnTo>
                    <a:pt x="502" y="234"/>
                  </a:lnTo>
                  <a:lnTo>
                    <a:pt x="485" y="243"/>
                  </a:lnTo>
                  <a:lnTo>
                    <a:pt x="468" y="253"/>
                  </a:lnTo>
                  <a:lnTo>
                    <a:pt x="450" y="265"/>
                  </a:lnTo>
                  <a:lnTo>
                    <a:pt x="414" y="296"/>
                  </a:lnTo>
                  <a:lnTo>
                    <a:pt x="414" y="853"/>
                  </a:lnTo>
                  <a:lnTo>
                    <a:pt x="414" y="867"/>
                  </a:lnTo>
                  <a:lnTo>
                    <a:pt x="414" y="889"/>
                  </a:lnTo>
                  <a:lnTo>
                    <a:pt x="414" y="898"/>
                  </a:lnTo>
                  <a:lnTo>
                    <a:pt x="417" y="908"/>
                  </a:lnTo>
                  <a:lnTo>
                    <a:pt x="420" y="914"/>
                  </a:lnTo>
                  <a:lnTo>
                    <a:pt x="425" y="921"/>
                  </a:lnTo>
                  <a:lnTo>
                    <a:pt x="431" y="925"/>
                  </a:lnTo>
                  <a:lnTo>
                    <a:pt x="437" y="929"/>
                  </a:lnTo>
                  <a:lnTo>
                    <a:pt x="452" y="935"/>
                  </a:lnTo>
                  <a:lnTo>
                    <a:pt x="460" y="939"/>
                  </a:lnTo>
                  <a:lnTo>
                    <a:pt x="469" y="944"/>
                  </a:lnTo>
                  <a:lnTo>
                    <a:pt x="476" y="949"/>
                  </a:lnTo>
                  <a:lnTo>
                    <a:pt x="481" y="955"/>
                  </a:lnTo>
                  <a:lnTo>
                    <a:pt x="486" y="961"/>
                  </a:lnTo>
                  <a:lnTo>
                    <a:pt x="489" y="967"/>
                  </a:lnTo>
                  <a:lnTo>
                    <a:pt x="491" y="975"/>
                  </a:lnTo>
                  <a:lnTo>
                    <a:pt x="491" y="982"/>
                  </a:lnTo>
                  <a:lnTo>
                    <a:pt x="491" y="1051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012240" y="768240"/>
              <a:ext cx="87480" cy="93600"/>
            </a:xfrm>
            <a:custGeom>
              <a:avLst/>
              <a:gdLst/>
              <a:ahLst/>
              <a:rect l="l" t="t" r="r" b="b"/>
              <a:pathLst>
                <a:path w="1086" h="1070">
                  <a:moveTo>
                    <a:pt x="669" y="334"/>
                  </a:moveTo>
                  <a:lnTo>
                    <a:pt x="669" y="293"/>
                  </a:lnTo>
                  <a:lnTo>
                    <a:pt x="669" y="282"/>
                  </a:lnTo>
                  <a:lnTo>
                    <a:pt x="668" y="271"/>
                  </a:lnTo>
                  <a:lnTo>
                    <a:pt x="667" y="261"/>
                  </a:lnTo>
                  <a:lnTo>
                    <a:pt x="663" y="251"/>
                  </a:lnTo>
                  <a:lnTo>
                    <a:pt x="661" y="243"/>
                  </a:lnTo>
                  <a:lnTo>
                    <a:pt x="656" y="235"/>
                  </a:lnTo>
                  <a:lnTo>
                    <a:pt x="651" y="228"/>
                  </a:lnTo>
                  <a:lnTo>
                    <a:pt x="646" y="222"/>
                  </a:lnTo>
                  <a:lnTo>
                    <a:pt x="639" y="216"/>
                  </a:lnTo>
                  <a:lnTo>
                    <a:pt x="631" y="211"/>
                  </a:lnTo>
                  <a:lnTo>
                    <a:pt x="621" y="205"/>
                  </a:lnTo>
                  <a:lnTo>
                    <a:pt x="611" y="201"/>
                  </a:lnTo>
                  <a:lnTo>
                    <a:pt x="599" y="196"/>
                  </a:lnTo>
                  <a:lnTo>
                    <a:pt x="587" y="192"/>
                  </a:lnTo>
                  <a:lnTo>
                    <a:pt x="573" y="189"/>
                  </a:lnTo>
                  <a:lnTo>
                    <a:pt x="557" y="185"/>
                  </a:lnTo>
                  <a:lnTo>
                    <a:pt x="541" y="184"/>
                  </a:lnTo>
                  <a:lnTo>
                    <a:pt x="525" y="183"/>
                  </a:lnTo>
                  <a:lnTo>
                    <a:pt x="511" y="183"/>
                  </a:lnTo>
                  <a:lnTo>
                    <a:pt x="497" y="181"/>
                  </a:lnTo>
                  <a:lnTo>
                    <a:pt x="480" y="183"/>
                  </a:lnTo>
                  <a:lnTo>
                    <a:pt x="461" y="184"/>
                  </a:lnTo>
                  <a:lnTo>
                    <a:pt x="441" y="185"/>
                  </a:lnTo>
                  <a:lnTo>
                    <a:pt x="418" y="187"/>
                  </a:lnTo>
                  <a:lnTo>
                    <a:pt x="378" y="195"/>
                  </a:lnTo>
                  <a:lnTo>
                    <a:pt x="345" y="201"/>
                  </a:lnTo>
                  <a:lnTo>
                    <a:pt x="319" y="208"/>
                  </a:lnTo>
                  <a:lnTo>
                    <a:pt x="300" y="214"/>
                  </a:lnTo>
                  <a:lnTo>
                    <a:pt x="293" y="219"/>
                  </a:lnTo>
                  <a:lnTo>
                    <a:pt x="286" y="223"/>
                  </a:lnTo>
                  <a:lnTo>
                    <a:pt x="278" y="229"/>
                  </a:lnTo>
                  <a:lnTo>
                    <a:pt x="271" y="235"/>
                  </a:lnTo>
                  <a:lnTo>
                    <a:pt x="255" y="253"/>
                  </a:lnTo>
                  <a:lnTo>
                    <a:pt x="238" y="272"/>
                  </a:lnTo>
                  <a:lnTo>
                    <a:pt x="228" y="283"/>
                  </a:lnTo>
                  <a:lnTo>
                    <a:pt x="222" y="287"/>
                  </a:lnTo>
                  <a:lnTo>
                    <a:pt x="213" y="291"/>
                  </a:lnTo>
                  <a:lnTo>
                    <a:pt x="202" y="293"/>
                  </a:lnTo>
                  <a:lnTo>
                    <a:pt x="191" y="296"/>
                  </a:lnTo>
                  <a:lnTo>
                    <a:pt x="176" y="297"/>
                  </a:lnTo>
                  <a:lnTo>
                    <a:pt x="159" y="298"/>
                  </a:lnTo>
                  <a:lnTo>
                    <a:pt x="138" y="299"/>
                  </a:lnTo>
                  <a:lnTo>
                    <a:pt x="113" y="299"/>
                  </a:lnTo>
                  <a:lnTo>
                    <a:pt x="83" y="297"/>
                  </a:lnTo>
                  <a:lnTo>
                    <a:pt x="83" y="56"/>
                  </a:lnTo>
                  <a:lnTo>
                    <a:pt x="132" y="43"/>
                  </a:lnTo>
                  <a:lnTo>
                    <a:pt x="171" y="34"/>
                  </a:lnTo>
                  <a:lnTo>
                    <a:pt x="209" y="25"/>
                  </a:lnTo>
                  <a:lnTo>
                    <a:pt x="246" y="18"/>
                  </a:lnTo>
                  <a:lnTo>
                    <a:pt x="282" y="12"/>
                  </a:lnTo>
                  <a:lnTo>
                    <a:pt x="315" y="7"/>
                  </a:lnTo>
                  <a:lnTo>
                    <a:pt x="347" y="3"/>
                  </a:lnTo>
                  <a:lnTo>
                    <a:pt x="377" y="1"/>
                  </a:lnTo>
                  <a:lnTo>
                    <a:pt x="404" y="0"/>
                  </a:lnTo>
                  <a:lnTo>
                    <a:pt x="443" y="1"/>
                  </a:lnTo>
                  <a:lnTo>
                    <a:pt x="481" y="1"/>
                  </a:lnTo>
                  <a:lnTo>
                    <a:pt x="518" y="2"/>
                  </a:lnTo>
                  <a:lnTo>
                    <a:pt x="554" y="4"/>
                  </a:lnTo>
                  <a:lnTo>
                    <a:pt x="587" y="7"/>
                  </a:lnTo>
                  <a:lnTo>
                    <a:pt x="620" y="11"/>
                  </a:lnTo>
                  <a:lnTo>
                    <a:pt x="651" y="14"/>
                  </a:lnTo>
                  <a:lnTo>
                    <a:pt x="680" y="19"/>
                  </a:lnTo>
                  <a:lnTo>
                    <a:pt x="709" y="24"/>
                  </a:lnTo>
                  <a:lnTo>
                    <a:pt x="734" y="29"/>
                  </a:lnTo>
                  <a:lnTo>
                    <a:pt x="760" y="35"/>
                  </a:lnTo>
                  <a:lnTo>
                    <a:pt x="784" y="43"/>
                  </a:lnTo>
                  <a:lnTo>
                    <a:pt x="806" y="50"/>
                  </a:lnTo>
                  <a:lnTo>
                    <a:pt x="827" y="57"/>
                  </a:lnTo>
                  <a:lnTo>
                    <a:pt x="846" y="66"/>
                  </a:lnTo>
                  <a:lnTo>
                    <a:pt x="865" y="76"/>
                  </a:lnTo>
                  <a:lnTo>
                    <a:pt x="881" y="86"/>
                  </a:lnTo>
                  <a:lnTo>
                    <a:pt x="897" y="95"/>
                  </a:lnTo>
                  <a:lnTo>
                    <a:pt x="912" y="106"/>
                  </a:lnTo>
                  <a:lnTo>
                    <a:pt x="925" y="119"/>
                  </a:lnTo>
                  <a:lnTo>
                    <a:pt x="937" y="131"/>
                  </a:lnTo>
                  <a:lnTo>
                    <a:pt x="949" y="144"/>
                  </a:lnTo>
                  <a:lnTo>
                    <a:pt x="958" y="159"/>
                  </a:lnTo>
                  <a:lnTo>
                    <a:pt x="968" y="174"/>
                  </a:lnTo>
                  <a:lnTo>
                    <a:pt x="976" y="190"/>
                  </a:lnTo>
                  <a:lnTo>
                    <a:pt x="983" y="206"/>
                  </a:lnTo>
                  <a:lnTo>
                    <a:pt x="989" y="223"/>
                  </a:lnTo>
                  <a:lnTo>
                    <a:pt x="994" y="241"/>
                  </a:lnTo>
                  <a:lnTo>
                    <a:pt x="998" y="260"/>
                  </a:lnTo>
                  <a:lnTo>
                    <a:pt x="1000" y="280"/>
                  </a:lnTo>
                  <a:lnTo>
                    <a:pt x="1003" y="299"/>
                  </a:lnTo>
                  <a:lnTo>
                    <a:pt x="1003" y="320"/>
                  </a:lnTo>
                  <a:lnTo>
                    <a:pt x="1003" y="821"/>
                  </a:lnTo>
                  <a:lnTo>
                    <a:pt x="1003" y="852"/>
                  </a:lnTo>
                  <a:lnTo>
                    <a:pt x="1003" y="864"/>
                  </a:lnTo>
                  <a:lnTo>
                    <a:pt x="1009" y="897"/>
                  </a:lnTo>
                  <a:lnTo>
                    <a:pt x="1022" y="920"/>
                  </a:lnTo>
                  <a:lnTo>
                    <a:pt x="1048" y="930"/>
                  </a:lnTo>
                  <a:lnTo>
                    <a:pt x="1057" y="934"/>
                  </a:lnTo>
                  <a:lnTo>
                    <a:pt x="1064" y="939"/>
                  </a:lnTo>
                  <a:lnTo>
                    <a:pt x="1072" y="944"/>
                  </a:lnTo>
                  <a:lnTo>
                    <a:pt x="1076" y="950"/>
                  </a:lnTo>
                  <a:lnTo>
                    <a:pt x="1081" y="956"/>
                  </a:lnTo>
                  <a:lnTo>
                    <a:pt x="1084" y="962"/>
                  </a:lnTo>
                  <a:lnTo>
                    <a:pt x="1086" y="970"/>
                  </a:lnTo>
                  <a:lnTo>
                    <a:pt x="1086" y="977"/>
                  </a:lnTo>
                  <a:lnTo>
                    <a:pt x="1086" y="1046"/>
                  </a:lnTo>
                  <a:lnTo>
                    <a:pt x="682" y="1046"/>
                  </a:lnTo>
                  <a:lnTo>
                    <a:pt x="682" y="989"/>
                  </a:lnTo>
                  <a:lnTo>
                    <a:pt x="667" y="999"/>
                  </a:lnTo>
                  <a:lnTo>
                    <a:pt x="651" y="1008"/>
                  </a:lnTo>
                  <a:lnTo>
                    <a:pt x="636" y="1016"/>
                  </a:lnTo>
                  <a:lnTo>
                    <a:pt x="620" y="1025"/>
                  </a:lnTo>
                  <a:lnTo>
                    <a:pt x="605" y="1032"/>
                  </a:lnTo>
                  <a:lnTo>
                    <a:pt x="589" y="1038"/>
                  </a:lnTo>
                  <a:lnTo>
                    <a:pt x="573" y="1045"/>
                  </a:lnTo>
                  <a:lnTo>
                    <a:pt x="557" y="1051"/>
                  </a:lnTo>
                  <a:lnTo>
                    <a:pt x="540" y="1056"/>
                  </a:lnTo>
                  <a:lnTo>
                    <a:pt x="524" y="1059"/>
                  </a:lnTo>
                  <a:lnTo>
                    <a:pt x="507" y="1063"/>
                  </a:lnTo>
                  <a:lnTo>
                    <a:pt x="491" y="1065"/>
                  </a:lnTo>
                  <a:lnTo>
                    <a:pt x="474" y="1068"/>
                  </a:lnTo>
                  <a:lnTo>
                    <a:pt x="457" y="1069"/>
                  </a:lnTo>
                  <a:lnTo>
                    <a:pt x="439" y="1070"/>
                  </a:lnTo>
                  <a:lnTo>
                    <a:pt x="421" y="1070"/>
                  </a:lnTo>
                  <a:lnTo>
                    <a:pt x="386" y="1070"/>
                  </a:lnTo>
                  <a:lnTo>
                    <a:pt x="354" y="1069"/>
                  </a:lnTo>
                  <a:lnTo>
                    <a:pt x="324" y="1068"/>
                  </a:lnTo>
                  <a:lnTo>
                    <a:pt x="297" y="1065"/>
                  </a:lnTo>
                  <a:lnTo>
                    <a:pt x="271" y="1062"/>
                  </a:lnTo>
                  <a:lnTo>
                    <a:pt x="247" y="1058"/>
                  </a:lnTo>
                  <a:lnTo>
                    <a:pt x="226" y="1053"/>
                  </a:lnTo>
                  <a:lnTo>
                    <a:pt x="208" y="1048"/>
                  </a:lnTo>
                  <a:lnTo>
                    <a:pt x="191" y="1042"/>
                  </a:lnTo>
                  <a:lnTo>
                    <a:pt x="174" y="1035"/>
                  </a:lnTo>
                  <a:lnTo>
                    <a:pt x="156" y="1026"/>
                  </a:lnTo>
                  <a:lnTo>
                    <a:pt x="140" y="1016"/>
                  </a:lnTo>
                  <a:lnTo>
                    <a:pt x="126" y="1005"/>
                  </a:lnTo>
                  <a:lnTo>
                    <a:pt x="110" y="992"/>
                  </a:lnTo>
                  <a:lnTo>
                    <a:pt x="95" y="978"/>
                  </a:lnTo>
                  <a:lnTo>
                    <a:pt x="80" y="963"/>
                  </a:lnTo>
                  <a:lnTo>
                    <a:pt x="62" y="940"/>
                  </a:lnTo>
                  <a:lnTo>
                    <a:pt x="46" y="917"/>
                  </a:lnTo>
                  <a:lnTo>
                    <a:pt x="38" y="906"/>
                  </a:lnTo>
                  <a:lnTo>
                    <a:pt x="32" y="893"/>
                  </a:lnTo>
                  <a:lnTo>
                    <a:pt x="26" y="881"/>
                  </a:lnTo>
                  <a:lnTo>
                    <a:pt x="21" y="869"/>
                  </a:lnTo>
                  <a:lnTo>
                    <a:pt x="16" y="857"/>
                  </a:lnTo>
                  <a:lnTo>
                    <a:pt x="11" y="843"/>
                  </a:lnTo>
                  <a:lnTo>
                    <a:pt x="9" y="831"/>
                  </a:lnTo>
                  <a:lnTo>
                    <a:pt x="5" y="817"/>
                  </a:lnTo>
                  <a:lnTo>
                    <a:pt x="3" y="804"/>
                  </a:lnTo>
                  <a:lnTo>
                    <a:pt x="1" y="792"/>
                  </a:lnTo>
                  <a:lnTo>
                    <a:pt x="0" y="778"/>
                  </a:lnTo>
                  <a:lnTo>
                    <a:pt x="0" y="765"/>
                  </a:lnTo>
                  <a:lnTo>
                    <a:pt x="1" y="742"/>
                  </a:lnTo>
                  <a:lnTo>
                    <a:pt x="4" y="719"/>
                  </a:lnTo>
                  <a:lnTo>
                    <a:pt x="9" y="693"/>
                  </a:lnTo>
                  <a:lnTo>
                    <a:pt x="16" y="666"/>
                  </a:lnTo>
                  <a:lnTo>
                    <a:pt x="20" y="653"/>
                  </a:lnTo>
                  <a:lnTo>
                    <a:pt x="25" y="639"/>
                  </a:lnTo>
                  <a:lnTo>
                    <a:pt x="31" y="626"/>
                  </a:lnTo>
                  <a:lnTo>
                    <a:pt x="37" y="614"/>
                  </a:lnTo>
                  <a:lnTo>
                    <a:pt x="43" y="600"/>
                  </a:lnTo>
                  <a:lnTo>
                    <a:pt x="51" y="588"/>
                  </a:lnTo>
                  <a:lnTo>
                    <a:pt x="58" y="577"/>
                  </a:lnTo>
                  <a:lnTo>
                    <a:pt x="67" y="564"/>
                  </a:lnTo>
                  <a:lnTo>
                    <a:pt x="76" y="553"/>
                  </a:lnTo>
                  <a:lnTo>
                    <a:pt x="86" y="542"/>
                  </a:lnTo>
                  <a:lnTo>
                    <a:pt x="96" y="531"/>
                  </a:lnTo>
                  <a:lnTo>
                    <a:pt x="107" y="521"/>
                  </a:lnTo>
                  <a:lnTo>
                    <a:pt x="131" y="502"/>
                  </a:lnTo>
                  <a:lnTo>
                    <a:pt x="158" y="482"/>
                  </a:lnTo>
                  <a:lnTo>
                    <a:pt x="174" y="472"/>
                  </a:lnTo>
                  <a:lnTo>
                    <a:pt x="190" y="464"/>
                  </a:lnTo>
                  <a:lnTo>
                    <a:pt x="208" y="454"/>
                  </a:lnTo>
                  <a:lnTo>
                    <a:pt x="226" y="444"/>
                  </a:lnTo>
                  <a:lnTo>
                    <a:pt x="266" y="427"/>
                  </a:lnTo>
                  <a:lnTo>
                    <a:pt x="310" y="411"/>
                  </a:lnTo>
                  <a:lnTo>
                    <a:pt x="357" y="395"/>
                  </a:lnTo>
                  <a:lnTo>
                    <a:pt x="409" y="381"/>
                  </a:lnTo>
                  <a:lnTo>
                    <a:pt x="463" y="368"/>
                  </a:lnTo>
                  <a:lnTo>
                    <a:pt x="520" y="356"/>
                  </a:lnTo>
                  <a:lnTo>
                    <a:pt x="541" y="352"/>
                  </a:lnTo>
                  <a:lnTo>
                    <a:pt x="562" y="350"/>
                  </a:lnTo>
                  <a:lnTo>
                    <a:pt x="582" y="346"/>
                  </a:lnTo>
                  <a:lnTo>
                    <a:pt x="603" y="342"/>
                  </a:lnTo>
                  <a:lnTo>
                    <a:pt x="669" y="334"/>
                  </a:lnTo>
                  <a:close/>
                  <a:moveTo>
                    <a:pt x="648" y="541"/>
                  </a:moveTo>
                  <a:lnTo>
                    <a:pt x="616" y="545"/>
                  </a:lnTo>
                  <a:lnTo>
                    <a:pt x="592" y="548"/>
                  </a:lnTo>
                  <a:lnTo>
                    <a:pt x="568" y="552"/>
                  </a:lnTo>
                  <a:lnTo>
                    <a:pt x="548" y="557"/>
                  </a:lnTo>
                  <a:lnTo>
                    <a:pt x="529" y="563"/>
                  </a:lnTo>
                  <a:lnTo>
                    <a:pt x="498" y="572"/>
                  </a:lnTo>
                  <a:lnTo>
                    <a:pt x="474" y="580"/>
                  </a:lnTo>
                  <a:lnTo>
                    <a:pt x="453" y="589"/>
                  </a:lnTo>
                  <a:lnTo>
                    <a:pt x="436" y="596"/>
                  </a:lnTo>
                  <a:lnTo>
                    <a:pt x="422" y="602"/>
                  </a:lnTo>
                  <a:lnTo>
                    <a:pt x="410" y="611"/>
                  </a:lnTo>
                  <a:lnTo>
                    <a:pt x="400" y="618"/>
                  </a:lnTo>
                  <a:lnTo>
                    <a:pt x="390" y="627"/>
                  </a:lnTo>
                  <a:lnTo>
                    <a:pt x="378" y="641"/>
                  </a:lnTo>
                  <a:lnTo>
                    <a:pt x="367" y="654"/>
                  </a:lnTo>
                  <a:lnTo>
                    <a:pt x="358" y="669"/>
                  </a:lnTo>
                  <a:lnTo>
                    <a:pt x="349" y="685"/>
                  </a:lnTo>
                  <a:lnTo>
                    <a:pt x="343" y="701"/>
                  </a:lnTo>
                  <a:lnTo>
                    <a:pt x="338" y="715"/>
                  </a:lnTo>
                  <a:lnTo>
                    <a:pt x="336" y="730"/>
                  </a:lnTo>
                  <a:lnTo>
                    <a:pt x="335" y="745"/>
                  </a:lnTo>
                  <a:lnTo>
                    <a:pt x="336" y="760"/>
                  </a:lnTo>
                  <a:lnTo>
                    <a:pt x="337" y="774"/>
                  </a:lnTo>
                  <a:lnTo>
                    <a:pt x="340" y="788"/>
                  </a:lnTo>
                  <a:lnTo>
                    <a:pt x="343" y="800"/>
                  </a:lnTo>
                  <a:lnTo>
                    <a:pt x="347" y="811"/>
                  </a:lnTo>
                  <a:lnTo>
                    <a:pt x="353" y="822"/>
                  </a:lnTo>
                  <a:lnTo>
                    <a:pt x="359" y="831"/>
                  </a:lnTo>
                  <a:lnTo>
                    <a:pt x="367" y="839"/>
                  </a:lnTo>
                  <a:lnTo>
                    <a:pt x="375" y="847"/>
                  </a:lnTo>
                  <a:lnTo>
                    <a:pt x="385" y="854"/>
                  </a:lnTo>
                  <a:lnTo>
                    <a:pt x="395" y="859"/>
                  </a:lnTo>
                  <a:lnTo>
                    <a:pt x="406" y="864"/>
                  </a:lnTo>
                  <a:lnTo>
                    <a:pt x="420" y="866"/>
                  </a:lnTo>
                  <a:lnTo>
                    <a:pt x="432" y="870"/>
                  </a:lnTo>
                  <a:lnTo>
                    <a:pt x="447" y="871"/>
                  </a:lnTo>
                  <a:lnTo>
                    <a:pt x="463" y="871"/>
                  </a:lnTo>
                  <a:lnTo>
                    <a:pt x="477" y="871"/>
                  </a:lnTo>
                  <a:lnTo>
                    <a:pt x="487" y="871"/>
                  </a:lnTo>
                  <a:lnTo>
                    <a:pt x="503" y="871"/>
                  </a:lnTo>
                  <a:lnTo>
                    <a:pt x="518" y="869"/>
                  </a:lnTo>
                  <a:lnTo>
                    <a:pt x="534" y="865"/>
                  </a:lnTo>
                  <a:lnTo>
                    <a:pt x="550" y="860"/>
                  </a:lnTo>
                  <a:lnTo>
                    <a:pt x="565" y="854"/>
                  </a:lnTo>
                  <a:lnTo>
                    <a:pt x="581" y="847"/>
                  </a:lnTo>
                  <a:lnTo>
                    <a:pt x="597" y="837"/>
                  </a:lnTo>
                  <a:lnTo>
                    <a:pt x="613" y="826"/>
                  </a:lnTo>
                  <a:lnTo>
                    <a:pt x="631" y="812"/>
                  </a:lnTo>
                  <a:lnTo>
                    <a:pt x="639" y="805"/>
                  </a:lnTo>
                  <a:lnTo>
                    <a:pt x="647" y="795"/>
                  </a:lnTo>
                  <a:lnTo>
                    <a:pt x="655" y="785"/>
                  </a:lnTo>
                  <a:lnTo>
                    <a:pt x="663" y="774"/>
                  </a:lnTo>
                  <a:lnTo>
                    <a:pt x="669" y="762"/>
                  </a:lnTo>
                  <a:lnTo>
                    <a:pt x="669" y="540"/>
                  </a:lnTo>
                  <a:lnTo>
                    <a:pt x="648" y="541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04400" y="738360"/>
              <a:ext cx="39600" cy="118800"/>
            </a:xfrm>
            <a:custGeom>
              <a:avLst/>
              <a:gdLst/>
              <a:ahLst/>
              <a:rect l="l" t="t" r="r" b="b"/>
              <a:pathLst>
                <a:path w="503" h="1407">
                  <a:moveTo>
                    <a:pt x="0" y="1407"/>
                  </a:moveTo>
                  <a:lnTo>
                    <a:pt x="0" y="1338"/>
                  </a:lnTo>
                  <a:lnTo>
                    <a:pt x="1" y="1331"/>
                  </a:lnTo>
                  <a:lnTo>
                    <a:pt x="4" y="1322"/>
                  </a:lnTo>
                  <a:lnTo>
                    <a:pt x="9" y="1315"/>
                  </a:lnTo>
                  <a:lnTo>
                    <a:pt x="16" y="1306"/>
                  </a:lnTo>
                  <a:lnTo>
                    <a:pt x="25" y="1299"/>
                  </a:lnTo>
                  <a:lnTo>
                    <a:pt x="31" y="1293"/>
                  </a:lnTo>
                  <a:lnTo>
                    <a:pt x="38" y="1289"/>
                  </a:lnTo>
                  <a:lnTo>
                    <a:pt x="43" y="1288"/>
                  </a:lnTo>
                  <a:lnTo>
                    <a:pt x="53" y="1283"/>
                  </a:lnTo>
                  <a:lnTo>
                    <a:pt x="59" y="1283"/>
                  </a:lnTo>
                  <a:lnTo>
                    <a:pt x="64" y="1280"/>
                  </a:lnTo>
                  <a:lnTo>
                    <a:pt x="68" y="1278"/>
                  </a:lnTo>
                  <a:lnTo>
                    <a:pt x="71" y="1275"/>
                  </a:lnTo>
                  <a:lnTo>
                    <a:pt x="75" y="1270"/>
                  </a:lnTo>
                  <a:lnTo>
                    <a:pt x="77" y="1266"/>
                  </a:lnTo>
                  <a:lnTo>
                    <a:pt x="80" y="1261"/>
                  </a:lnTo>
                  <a:lnTo>
                    <a:pt x="82" y="1254"/>
                  </a:lnTo>
                  <a:lnTo>
                    <a:pt x="86" y="1223"/>
                  </a:lnTo>
                  <a:lnTo>
                    <a:pt x="86" y="1209"/>
                  </a:lnTo>
                  <a:lnTo>
                    <a:pt x="86" y="197"/>
                  </a:lnTo>
                  <a:lnTo>
                    <a:pt x="86" y="183"/>
                  </a:lnTo>
                  <a:lnTo>
                    <a:pt x="84" y="167"/>
                  </a:lnTo>
                  <a:lnTo>
                    <a:pt x="79" y="152"/>
                  </a:lnTo>
                  <a:lnTo>
                    <a:pt x="75" y="146"/>
                  </a:lnTo>
                  <a:lnTo>
                    <a:pt x="73" y="141"/>
                  </a:lnTo>
                  <a:lnTo>
                    <a:pt x="68" y="136"/>
                  </a:lnTo>
                  <a:lnTo>
                    <a:pt x="64" y="132"/>
                  </a:lnTo>
                  <a:lnTo>
                    <a:pt x="38" y="121"/>
                  </a:lnTo>
                  <a:lnTo>
                    <a:pt x="29" y="115"/>
                  </a:lnTo>
                  <a:lnTo>
                    <a:pt x="16" y="102"/>
                  </a:lnTo>
                  <a:lnTo>
                    <a:pt x="9" y="86"/>
                  </a:lnTo>
                  <a:lnTo>
                    <a:pt x="2" y="72"/>
                  </a:lnTo>
                  <a:lnTo>
                    <a:pt x="1" y="70"/>
                  </a:lnTo>
                  <a:lnTo>
                    <a:pt x="0" y="68"/>
                  </a:lnTo>
                  <a:lnTo>
                    <a:pt x="0" y="0"/>
                  </a:lnTo>
                  <a:lnTo>
                    <a:pt x="421" y="0"/>
                  </a:lnTo>
                  <a:lnTo>
                    <a:pt x="421" y="1212"/>
                  </a:lnTo>
                  <a:lnTo>
                    <a:pt x="421" y="1225"/>
                  </a:lnTo>
                  <a:lnTo>
                    <a:pt x="421" y="1239"/>
                  </a:lnTo>
                  <a:lnTo>
                    <a:pt x="423" y="1247"/>
                  </a:lnTo>
                  <a:lnTo>
                    <a:pt x="426" y="1254"/>
                  </a:lnTo>
                  <a:lnTo>
                    <a:pt x="429" y="1262"/>
                  </a:lnTo>
                  <a:lnTo>
                    <a:pt x="433" y="1268"/>
                  </a:lnTo>
                  <a:lnTo>
                    <a:pt x="438" y="1274"/>
                  </a:lnTo>
                  <a:lnTo>
                    <a:pt x="443" y="1279"/>
                  </a:lnTo>
                  <a:lnTo>
                    <a:pt x="448" y="1284"/>
                  </a:lnTo>
                  <a:lnTo>
                    <a:pt x="454" y="1288"/>
                  </a:lnTo>
                  <a:lnTo>
                    <a:pt x="464" y="1293"/>
                  </a:lnTo>
                  <a:lnTo>
                    <a:pt x="489" y="1307"/>
                  </a:lnTo>
                  <a:lnTo>
                    <a:pt x="496" y="1313"/>
                  </a:lnTo>
                  <a:lnTo>
                    <a:pt x="499" y="1321"/>
                  </a:lnTo>
                  <a:lnTo>
                    <a:pt x="502" y="1329"/>
                  </a:lnTo>
                  <a:lnTo>
                    <a:pt x="503" y="1340"/>
                  </a:lnTo>
                  <a:lnTo>
                    <a:pt x="503" y="1407"/>
                  </a:lnTo>
                  <a:lnTo>
                    <a:pt x="0" y="1407"/>
                  </a:lnTo>
                  <a:close/>
                </a:path>
              </a:pathLst>
            </a:custGeom>
            <a:solidFill>
              <a:srgbClr val="2a4c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7556400" y="611280"/>
              <a:ext cx="915840" cy="98280"/>
              <a:chOff x="7556400" y="611280"/>
              <a:chExt cx="915840" cy="98280"/>
            </a:xfrm>
          </p:grpSpPr>
          <p:sp>
            <p:nvSpPr>
              <p:cNvPr id="300" name=""/>
              <p:cNvSpPr/>
              <p:nvPr/>
            </p:nvSpPr>
            <p:spPr>
              <a:xfrm>
                <a:off x="7556400" y="642240"/>
                <a:ext cx="58680" cy="6696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8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0" y="741"/>
                    </a:lnTo>
                    <a:lnTo>
                      <a:pt x="636" y="753"/>
                    </a:lnTo>
                    <a:lnTo>
                      <a:pt x="601" y="764"/>
                    </a:lnTo>
                    <a:lnTo>
                      <a:pt x="568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0" y="786"/>
                    </a:lnTo>
                    <a:lnTo>
                      <a:pt x="406" y="786"/>
                    </a:lnTo>
                    <a:lnTo>
                      <a:pt x="381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4" y="776"/>
                    </a:lnTo>
                    <a:lnTo>
                      <a:pt x="291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1" y="752"/>
                    </a:lnTo>
                    <a:lnTo>
                      <a:pt x="213" y="745"/>
                    </a:lnTo>
                    <a:lnTo>
                      <a:pt x="194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4" y="678"/>
                    </a:lnTo>
                    <a:lnTo>
                      <a:pt x="101" y="665"/>
                    </a:lnTo>
                    <a:lnTo>
                      <a:pt x="87" y="650"/>
                    </a:lnTo>
                    <a:lnTo>
                      <a:pt x="76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5" y="586"/>
                    </a:lnTo>
                    <a:lnTo>
                      <a:pt x="37" y="569"/>
                    </a:lnTo>
                    <a:lnTo>
                      <a:pt x="29" y="551"/>
                    </a:lnTo>
                    <a:lnTo>
                      <a:pt x="22" y="532"/>
                    </a:lnTo>
                    <a:lnTo>
                      <a:pt x="16" y="512"/>
                    </a:lnTo>
                    <a:lnTo>
                      <a:pt x="11" y="493"/>
                    </a:lnTo>
                    <a:lnTo>
                      <a:pt x="7" y="472"/>
                    </a:lnTo>
                    <a:lnTo>
                      <a:pt x="5" y="450"/>
                    </a:lnTo>
                    <a:lnTo>
                      <a:pt x="2" y="428"/>
                    </a:lnTo>
                    <a:lnTo>
                      <a:pt x="1" y="406"/>
                    </a:lnTo>
                    <a:lnTo>
                      <a:pt x="0" y="382"/>
                    </a:lnTo>
                    <a:lnTo>
                      <a:pt x="1" y="363"/>
                    </a:lnTo>
                    <a:lnTo>
                      <a:pt x="2" y="342"/>
                    </a:lnTo>
                    <a:lnTo>
                      <a:pt x="4" y="322"/>
                    </a:lnTo>
                    <a:lnTo>
                      <a:pt x="7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8"/>
                    </a:lnTo>
                    <a:lnTo>
                      <a:pt x="27" y="231"/>
                    </a:lnTo>
                    <a:lnTo>
                      <a:pt x="33" y="214"/>
                    </a:lnTo>
                    <a:lnTo>
                      <a:pt x="42" y="198"/>
                    </a:lnTo>
                    <a:lnTo>
                      <a:pt x="50" y="182"/>
                    </a:lnTo>
                    <a:lnTo>
                      <a:pt x="59" y="166"/>
                    </a:lnTo>
                    <a:lnTo>
                      <a:pt x="70" y="151"/>
                    </a:lnTo>
                    <a:lnTo>
                      <a:pt x="81" y="137"/>
                    </a:lnTo>
                    <a:lnTo>
                      <a:pt x="92" y="122"/>
                    </a:lnTo>
                    <a:lnTo>
                      <a:pt x="106" y="109"/>
                    </a:lnTo>
                    <a:lnTo>
                      <a:pt x="119" y="95"/>
                    </a:lnTo>
                    <a:lnTo>
                      <a:pt x="133" y="83"/>
                    </a:lnTo>
                    <a:lnTo>
                      <a:pt x="146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5" y="27"/>
                    </a:lnTo>
                    <a:lnTo>
                      <a:pt x="241" y="21"/>
                    </a:lnTo>
                    <a:lnTo>
                      <a:pt x="258" y="15"/>
                    </a:lnTo>
                    <a:lnTo>
                      <a:pt x="275" y="10"/>
                    </a:lnTo>
                    <a:lnTo>
                      <a:pt x="294" y="7"/>
                    </a:lnTo>
                    <a:lnTo>
                      <a:pt x="312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0" y="0"/>
                    </a:lnTo>
                    <a:lnTo>
                      <a:pt x="390" y="0"/>
                    </a:lnTo>
                    <a:lnTo>
                      <a:pt x="408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8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6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1" y="57"/>
                    </a:lnTo>
                    <a:lnTo>
                      <a:pt x="584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3" y="115"/>
                    </a:lnTo>
                    <a:lnTo>
                      <a:pt x="644" y="128"/>
                    </a:lnTo>
                    <a:lnTo>
                      <a:pt x="654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1" y="188"/>
                    </a:lnTo>
                    <a:lnTo>
                      <a:pt x="689" y="206"/>
                    </a:lnTo>
                    <a:lnTo>
                      <a:pt x="696" y="223"/>
                    </a:lnTo>
                    <a:lnTo>
                      <a:pt x="702" y="240"/>
                    </a:lnTo>
                    <a:lnTo>
                      <a:pt x="707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3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2"/>
                    </a:lnTo>
                    <a:lnTo>
                      <a:pt x="218" y="470"/>
                    </a:lnTo>
                    <a:lnTo>
                      <a:pt x="226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7" y="542"/>
                    </a:lnTo>
                    <a:lnTo>
                      <a:pt x="253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7" y="582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2" y="614"/>
                    </a:lnTo>
                    <a:lnTo>
                      <a:pt x="322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6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90" y="655"/>
                    </a:lnTo>
                    <a:lnTo>
                      <a:pt x="506" y="652"/>
                    </a:lnTo>
                    <a:lnTo>
                      <a:pt x="521" y="649"/>
                    </a:lnTo>
                    <a:lnTo>
                      <a:pt x="536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0" y="611"/>
                    </a:lnTo>
                    <a:lnTo>
                      <a:pt x="610" y="601"/>
                    </a:lnTo>
                    <a:lnTo>
                      <a:pt x="620" y="591"/>
                    </a:lnTo>
                    <a:lnTo>
                      <a:pt x="627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8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7"/>
                    </a:lnTo>
                    <a:lnTo>
                      <a:pt x="478" y="177"/>
                    </a:lnTo>
                    <a:lnTo>
                      <a:pt x="471" y="167"/>
                    </a:lnTo>
                    <a:lnTo>
                      <a:pt x="461" y="159"/>
                    </a:lnTo>
                    <a:lnTo>
                      <a:pt x="451" y="151"/>
                    </a:lnTo>
                    <a:lnTo>
                      <a:pt x="440" y="145"/>
                    </a:lnTo>
                    <a:lnTo>
                      <a:pt x="429" y="139"/>
                    </a:lnTo>
                    <a:lnTo>
                      <a:pt x="417" y="136"/>
                    </a:lnTo>
                    <a:lnTo>
                      <a:pt x="403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1"/>
                    </a:lnTo>
                    <a:lnTo>
                      <a:pt x="275" y="160"/>
                    </a:lnTo>
                    <a:lnTo>
                      <a:pt x="266" y="169"/>
                    </a:lnTo>
                    <a:lnTo>
                      <a:pt x="256" y="178"/>
                    </a:lnTo>
                    <a:lnTo>
                      <a:pt x="247" y="190"/>
                    </a:lnTo>
                    <a:lnTo>
                      <a:pt x="240" y="202"/>
                    </a:lnTo>
                    <a:lnTo>
                      <a:pt x="234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1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23360" y="642240"/>
                <a:ext cx="64440" cy="6480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1" y="705"/>
                    </a:lnTo>
                    <a:lnTo>
                      <a:pt x="29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5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9" y="86"/>
                    </a:lnTo>
                    <a:lnTo>
                      <a:pt x="32" y="81"/>
                    </a:lnTo>
                    <a:lnTo>
                      <a:pt x="24" y="79"/>
                    </a:lnTo>
                    <a:lnTo>
                      <a:pt x="13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1"/>
                    </a:lnTo>
                    <a:lnTo>
                      <a:pt x="256" y="70"/>
                    </a:lnTo>
                    <a:lnTo>
                      <a:pt x="269" y="61"/>
                    </a:lnTo>
                    <a:lnTo>
                      <a:pt x="282" y="52"/>
                    </a:lnTo>
                    <a:lnTo>
                      <a:pt x="296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8" y="7"/>
                    </a:lnTo>
                    <a:lnTo>
                      <a:pt x="425" y="3"/>
                    </a:lnTo>
                    <a:lnTo>
                      <a:pt x="443" y="2"/>
                    </a:lnTo>
                    <a:lnTo>
                      <a:pt x="462" y="0"/>
                    </a:lnTo>
                    <a:lnTo>
                      <a:pt x="480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3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1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7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50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6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5" y="226"/>
                    </a:lnTo>
                    <a:lnTo>
                      <a:pt x="553" y="214"/>
                    </a:lnTo>
                    <a:lnTo>
                      <a:pt x="549" y="203"/>
                    </a:lnTo>
                    <a:lnTo>
                      <a:pt x="543" y="191"/>
                    </a:lnTo>
                    <a:lnTo>
                      <a:pt x="537" y="181"/>
                    </a:lnTo>
                    <a:lnTo>
                      <a:pt x="529" y="171"/>
                    </a:lnTo>
                    <a:lnTo>
                      <a:pt x="521" y="163"/>
                    </a:lnTo>
                    <a:lnTo>
                      <a:pt x="511" y="154"/>
                    </a:lnTo>
                    <a:lnTo>
                      <a:pt x="500" y="147"/>
                    </a:lnTo>
                    <a:lnTo>
                      <a:pt x="489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1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8" y="128"/>
                    </a:lnTo>
                    <a:lnTo>
                      <a:pt x="394" y="128"/>
                    </a:lnTo>
                    <a:lnTo>
                      <a:pt x="382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80" y="178"/>
                    </a:lnTo>
                    <a:lnTo>
                      <a:pt x="270" y="187"/>
                    </a:lnTo>
                    <a:lnTo>
                      <a:pt x="261" y="196"/>
                    </a:lnTo>
                    <a:lnTo>
                      <a:pt x="254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8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3" y="688"/>
                    </a:lnTo>
                    <a:lnTo>
                      <a:pt x="254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733520" y="613800"/>
                <a:ext cx="23760" cy="93600"/>
              </a:xfrm>
              <a:custGeom>
                <a:avLst/>
                <a:gdLst/>
                <a:ahLst/>
                <a:rect l="l" t="t" r="r" b="b"/>
                <a:pathLst>
                  <a:path w="295" h="1098">
                    <a:moveTo>
                      <a:pt x="0" y="1098"/>
                    </a:moveTo>
                    <a:lnTo>
                      <a:pt x="0" y="1043"/>
                    </a:lnTo>
                    <a:lnTo>
                      <a:pt x="12" y="1040"/>
                    </a:lnTo>
                    <a:lnTo>
                      <a:pt x="23" y="1036"/>
                    </a:lnTo>
                    <a:lnTo>
                      <a:pt x="32" y="1031"/>
                    </a:lnTo>
                    <a:lnTo>
                      <a:pt x="38" y="1025"/>
                    </a:lnTo>
                    <a:lnTo>
                      <a:pt x="40" y="1020"/>
                    </a:lnTo>
                    <a:lnTo>
                      <a:pt x="43" y="1015"/>
                    </a:lnTo>
                    <a:lnTo>
                      <a:pt x="45" y="1009"/>
                    </a:lnTo>
                    <a:lnTo>
                      <a:pt x="47" y="1001"/>
                    </a:lnTo>
                    <a:lnTo>
                      <a:pt x="49" y="984"/>
                    </a:lnTo>
                    <a:lnTo>
                      <a:pt x="49" y="962"/>
                    </a:lnTo>
                    <a:lnTo>
                      <a:pt x="49" y="952"/>
                    </a:lnTo>
                    <a:lnTo>
                      <a:pt x="49" y="110"/>
                    </a:lnTo>
                    <a:lnTo>
                      <a:pt x="49" y="95"/>
                    </a:lnTo>
                    <a:lnTo>
                      <a:pt x="47" y="84"/>
                    </a:lnTo>
                    <a:lnTo>
                      <a:pt x="43" y="74"/>
                    </a:lnTo>
                    <a:lnTo>
                      <a:pt x="38" y="68"/>
                    </a:lnTo>
                    <a:lnTo>
                      <a:pt x="32" y="63"/>
                    </a:lnTo>
                    <a:lnTo>
                      <a:pt x="23" y="59"/>
                    </a:lnTo>
                    <a:lnTo>
                      <a:pt x="12" y="57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3"/>
                    </a:lnTo>
                    <a:lnTo>
                      <a:pt x="246" y="988"/>
                    </a:lnTo>
                    <a:lnTo>
                      <a:pt x="248" y="1006"/>
                    </a:lnTo>
                    <a:lnTo>
                      <a:pt x="250" y="1013"/>
                    </a:lnTo>
                    <a:lnTo>
                      <a:pt x="252" y="1020"/>
                    </a:lnTo>
                    <a:lnTo>
                      <a:pt x="253" y="1025"/>
                    </a:lnTo>
                    <a:lnTo>
                      <a:pt x="256" y="1028"/>
                    </a:lnTo>
                    <a:lnTo>
                      <a:pt x="263" y="1034"/>
                    </a:lnTo>
                    <a:lnTo>
                      <a:pt x="270" y="1038"/>
                    </a:lnTo>
                    <a:lnTo>
                      <a:pt x="282" y="1042"/>
                    </a:lnTo>
                    <a:lnTo>
                      <a:pt x="294" y="1043"/>
                    </a:lnTo>
                    <a:lnTo>
                      <a:pt x="295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764480" y="641880"/>
                <a:ext cx="59760" cy="666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59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5"/>
                    </a:lnTo>
                    <a:lnTo>
                      <a:pt x="422" y="130"/>
                    </a:lnTo>
                    <a:lnTo>
                      <a:pt x="407" y="126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29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0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69600" y="613800"/>
                <a:ext cx="73440" cy="93600"/>
              </a:xfrm>
              <a:custGeom>
                <a:avLst/>
                <a:gdLst/>
                <a:ahLst/>
                <a:rect l="l" t="t" r="r" b="b"/>
                <a:pathLst>
                  <a:path w="908" h="1098">
                    <a:moveTo>
                      <a:pt x="0" y="1098"/>
                    </a:moveTo>
                    <a:lnTo>
                      <a:pt x="0" y="1031"/>
                    </a:lnTo>
                    <a:lnTo>
                      <a:pt x="16" y="1028"/>
                    </a:lnTo>
                    <a:lnTo>
                      <a:pt x="31" y="1025"/>
                    </a:lnTo>
                    <a:lnTo>
                      <a:pt x="37" y="1022"/>
                    </a:lnTo>
                    <a:lnTo>
                      <a:pt x="42" y="1020"/>
                    </a:lnTo>
                    <a:lnTo>
                      <a:pt x="47" y="1016"/>
                    </a:lnTo>
                    <a:lnTo>
                      <a:pt x="51" y="1012"/>
                    </a:lnTo>
                    <a:lnTo>
                      <a:pt x="53" y="1007"/>
                    </a:lnTo>
                    <a:lnTo>
                      <a:pt x="57" y="1002"/>
                    </a:lnTo>
                    <a:lnTo>
                      <a:pt x="59" y="996"/>
                    </a:lnTo>
                    <a:lnTo>
                      <a:pt x="60" y="990"/>
                    </a:lnTo>
                    <a:lnTo>
                      <a:pt x="63" y="973"/>
                    </a:lnTo>
                    <a:lnTo>
                      <a:pt x="64" y="955"/>
                    </a:lnTo>
                    <a:lnTo>
                      <a:pt x="64" y="145"/>
                    </a:lnTo>
                    <a:lnTo>
                      <a:pt x="63" y="126"/>
                    </a:lnTo>
                    <a:lnTo>
                      <a:pt x="60" y="110"/>
                    </a:lnTo>
                    <a:lnTo>
                      <a:pt x="59" y="102"/>
                    </a:lnTo>
                    <a:lnTo>
                      <a:pt x="57" y="96"/>
                    </a:lnTo>
                    <a:lnTo>
                      <a:pt x="53" y="91"/>
                    </a:lnTo>
                    <a:lnTo>
                      <a:pt x="51" y="88"/>
                    </a:lnTo>
                    <a:lnTo>
                      <a:pt x="47" y="84"/>
                    </a:lnTo>
                    <a:lnTo>
                      <a:pt x="42" y="80"/>
                    </a:lnTo>
                    <a:lnTo>
                      <a:pt x="37" y="78"/>
                    </a:lnTo>
                    <a:lnTo>
                      <a:pt x="31" y="75"/>
                    </a:lnTo>
                    <a:lnTo>
                      <a:pt x="16" y="72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8"/>
                    </a:lnTo>
                    <a:lnTo>
                      <a:pt x="840" y="218"/>
                    </a:lnTo>
                    <a:lnTo>
                      <a:pt x="837" y="207"/>
                    </a:lnTo>
                    <a:lnTo>
                      <a:pt x="833" y="197"/>
                    </a:lnTo>
                    <a:lnTo>
                      <a:pt x="828" y="187"/>
                    </a:lnTo>
                    <a:lnTo>
                      <a:pt x="824" y="179"/>
                    </a:lnTo>
                    <a:lnTo>
                      <a:pt x="819" y="171"/>
                    </a:lnTo>
                    <a:lnTo>
                      <a:pt x="813" y="164"/>
                    </a:lnTo>
                    <a:lnTo>
                      <a:pt x="808" y="159"/>
                    </a:lnTo>
                    <a:lnTo>
                      <a:pt x="802" y="154"/>
                    </a:lnTo>
                    <a:lnTo>
                      <a:pt x="795" y="150"/>
                    </a:lnTo>
                    <a:lnTo>
                      <a:pt x="786" y="147"/>
                    </a:lnTo>
                    <a:lnTo>
                      <a:pt x="776" y="143"/>
                    </a:lnTo>
                    <a:lnTo>
                      <a:pt x="764" y="140"/>
                    </a:lnTo>
                    <a:lnTo>
                      <a:pt x="749" y="139"/>
                    </a:lnTo>
                    <a:lnTo>
                      <a:pt x="734" y="138"/>
                    </a:lnTo>
                    <a:lnTo>
                      <a:pt x="717" y="137"/>
                    </a:lnTo>
                    <a:lnTo>
                      <a:pt x="698" y="137"/>
                    </a:lnTo>
                    <a:lnTo>
                      <a:pt x="276" y="137"/>
                    </a:lnTo>
                    <a:lnTo>
                      <a:pt x="276" y="429"/>
                    </a:lnTo>
                    <a:lnTo>
                      <a:pt x="548" y="429"/>
                    </a:lnTo>
                    <a:lnTo>
                      <a:pt x="587" y="428"/>
                    </a:lnTo>
                    <a:lnTo>
                      <a:pt x="619" y="424"/>
                    </a:lnTo>
                    <a:lnTo>
                      <a:pt x="631" y="423"/>
                    </a:lnTo>
                    <a:lnTo>
                      <a:pt x="642" y="419"/>
                    </a:lnTo>
                    <a:lnTo>
                      <a:pt x="651" y="417"/>
                    </a:lnTo>
                    <a:lnTo>
                      <a:pt x="658" y="413"/>
                    </a:lnTo>
                    <a:lnTo>
                      <a:pt x="664" y="408"/>
                    </a:lnTo>
                    <a:lnTo>
                      <a:pt x="671" y="403"/>
                    </a:lnTo>
                    <a:lnTo>
                      <a:pt x="675" y="397"/>
                    </a:lnTo>
                    <a:lnTo>
                      <a:pt x="680" y="391"/>
                    </a:lnTo>
                    <a:lnTo>
                      <a:pt x="684" y="384"/>
                    </a:lnTo>
                    <a:lnTo>
                      <a:pt x="688" y="375"/>
                    </a:lnTo>
                    <a:lnTo>
                      <a:pt x="690" y="366"/>
                    </a:lnTo>
                    <a:lnTo>
                      <a:pt x="693" y="355"/>
                    </a:lnTo>
                    <a:lnTo>
                      <a:pt x="757" y="355"/>
                    </a:lnTo>
                    <a:lnTo>
                      <a:pt x="757" y="629"/>
                    </a:lnTo>
                    <a:lnTo>
                      <a:pt x="693" y="629"/>
                    </a:lnTo>
                    <a:lnTo>
                      <a:pt x="691" y="619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4"/>
                    </a:lnTo>
                    <a:lnTo>
                      <a:pt x="680" y="587"/>
                    </a:lnTo>
                    <a:lnTo>
                      <a:pt x="675" y="581"/>
                    </a:lnTo>
                    <a:lnTo>
                      <a:pt x="672" y="576"/>
                    </a:lnTo>
                    <a:lnTo>
                      <a:pt x="667" y="571"/>
                    </a:lnTo>
                    <a:lnTo>
                      <a:pt x="661" y="568"/>
                    </a:lnTo>
                    <a:lnTo>
                      <a:pt x="655" y="565"/>
                    </a:lnTo>
                    <a:lnTo>
                      <a:pt x="646" y="563"/>
                    </a:lnTo>
                    <a:lnTo>
                      <a:pt x="637" y="560"/>
                    </a:lnTo>
                    <a:lnTo>
                      <a:pt x="615" y="558"/>
                    </a:lnTo>
                    <a:lnTo>
                      <a:pt x="588" y="557"/>
                    </a:lnTo>
                    <a:lnTo>
                      <a:pt x="276" y="557"/>
                    </a:lnTo>
                    <a:lnTo>
                      <a:pt x="276" y="955"/>
                    </a:lnTo>
                    <a:lnTo>
                      <a:pt x="277" y="973"/>
                    </a:lnTo>
                    <a:lnTo>
                      <a:pt x="279" y="990"/>
                    </a:lnTo>
                    <a:lnTo>
                      <a:pt x="282" y="996"/>
                    </a:lnTo>
                    <a:lnTo>
                      <a:pt x="284" y="1002"/>
                    </a:lnTo>
                    <a:lnTo>
                      <a:pt x="287" y="1007"/>
                    </a:lnTo>
                    <a:lnTo>
                      <a:pt x="290" y="1012"/>
                    </a:lnTo>
                    <a:lnTo>
                      <a:pt x="294" y="1016"/>
                    </a:lnTo>
                    <a:lnTo>
                      <a:pt x="298" y="1020"/>
                    </a:lnTo>
                    <a:lnTo>
                      <a:pt x="304" y="1022"/>
                    </a:lnTo>
                    <a:lnTo>
                      <a:pt x="310" y="1025"/>
                    </a:lnTo>
                    <a:lnTo>
                      <a:pt x="324" y="1028"/>
                    </a:lnTo>
                    <a:lnTo>
                      <a:pt x="341" y="1031"/>
                    </a:lnTo>
                    <a:lnTo>
                      <a:pt x="341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39800" y="642240"/>
                <a:ext cx="64800" cy="6696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2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5" y="501"/>
                    </a:lnTo>
                    <a:lnTo>
                      <a:pt x="231" y="526"/>
                    </a:lnTo>
                    <a:lnTo>
                      <a:pt x="241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5"/>
                    </a:lnTo>
                    <a:lnTo>
                      <a:pt x="276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300" y="623"/>
                    </a:lnTo>
                    <a:lnTo>
                      <a:pt x="307" y="629"/>
                    </a:lnTo>
                    <a:lnTo>
                      <a:pt x="317" y="634"/>
                    </a:lnTo>
                    <a:lnTo>
                      <a:pt x="326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0" y="656"/>
                    </a:lnTo>
                    <a:lnTo>
                      <a:pt x="433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0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1" y="565"/>
                    </a:lnTo>
                    <a:lnTo>
                      <a:pt x="570" y="543"/>
                    </a:lnTo>
                    <a:lnTo>
                      <a:pt x="578" y="520"/>
                    </a:lnTo>
                    <a:lnTo>
                      <a:pt x="585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5"/>
                    </a:lnTo>
                    <a:lnTo>
                      <a:pt x="594" y="318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6" y="248"/>
                    </a:lnTo>
                    <a:lnTo>
                      <a:pt x="568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1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6" y="178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1" y="233"/>
                    </a:lnTo>
                    <a:lnTo>
                      <a:pt x="231" y="253"/>
                    </a:lnTo>
                    <a:lnTo>
                      <a:pt x="225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2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7" y="780"/>
                    </a:lnTo>
                    <a:lnTo>
                      <a:pt x="296" y="775"/>
                    </a:lnTo>
                    <a:lnTo>
                      <a:pt x="278" y="770"/>
                    </a:lnTo>
                    <a:lnTo>
                      <a:pt x="258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5" y="743"/>
                    </a:lnTo>
                    <a:lnTo>
                      <a:pt x="188" y="733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3" y="632"/>
                    </a:lnTo>
                    <a:lnTo>
                      <a:pt x="62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0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5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5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2" y="166"/>
                    </a:lnTo>
                    <a:lnTo>
                      <a:pt x="73" y="151"/>
                    </a:lnTo>
                    <a:lnTo>
                      <a:pt x="84" y="137"/>
                    </a:lnTo>
                    <a:lnTo>
                      <a:pt x="98" y="122"/>
                    </a:lnTo>
                    <a:lnTo>
                      <a:pt x="112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7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6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1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4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1"/>
                    </a:lnTo>
                    <a:lnTo>
                      <a:pt x="682" y="94"/>
                    </a:lnTo>
                    <a:lnTo>
                      <a:pt x="697" y="106"/>
                    </a:lnTo>
                    <a:lnTo>
                      <a:pt x="709" y="121"/>
                    </a:lnTo>
                    <a:lnTo>
                      <a:pt x="723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3" y="197"/>
                    </a:lnTo>
                    <a:lnTo>
                      <a:pt x="772" y="213"/>
                    </a:lnTo>
                    <a:lnTo>
                      <a:pt x="779" y="230"/>
                    </a:lnTo>
                    <a:lnTo>
                      <a:pt x="786" y="248"/>
                    </a:lnTo>
                    <a:lnTo>
                      <a:pt x="792" y="267"/>
                    </a:lnTo>
                    <a:lnTo>
                      <a:pt x="797" y="287"/>
                    </a:lnTo>
                    <a:lnTo>
                      <a:pt x="800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0" y="473"/>
                    </a:lnTo>
                    <a:lnTo>
                      <a:pt x="795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2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0" y="646"/>
                    </a:lnTo>
                    <a:lnTo>
                      <a:pt x="708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5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7" y="733"/>
                    </a:lnTo>
                    <a:lnTo>
                      <a:pt x="600" y="743"/>
                    </a:lnTo>
                    <a:lnTo>
                      <a:pt x="583" y="751"/>
                    </a:lnTo>
                    <a:lnTo>
                      <a:pt x="564" y="758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8" y="775"/>
                    </a:lnTo>
                    <a:lnTo>
                      <a:pt x="487" y="780"/>
                    </a:lnTo>
                    <a:lnTo>
                      <a:pt x="467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13240" y="641880"/>
                <a:ext cx="38520" cy="6552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3" y="710"/>
                    </a:lnTo>
                    <a:lnTo>
                      <a:pt x="24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4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3"/>
                    </a:lnTo>
                    <a:lnTo>
                      <a:pt x="13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0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1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0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8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3"/>
                    </a:lnTo>
                    <a:lnTo>
                      <a:pt x="302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0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4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0" y="707"/>
                    </a:lnTo>
                    <a:lnTo>
                      <a:pt x="281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58240" y="642240"/>
                <a:ext cx="105840" cy="64800"/>
              </a:xfrm>
              <a:custGeom>
                <a:avLst/>
                <a:gdLst/>
                <a:ahLst/>
                <a:rect l="l" t="t" r="r" b="b"/>
                <a:pathLst>
                  <a:path w="1306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8"/>
                    </a:lnTo>
                    <a:lnTo>
                      <a:pt x="23" y="704"/>
                    </a:lnTo>
                    <a:lnTo>
                      <a:pt x="32" y="699"/>
                    </a:lnTo>
                    <a:lnTo>
                      <a:pt x="38" y="692"/>
                    </a:lnTo>
                    <a:lnTo>
                      <a:pt x="41" y="688"/>
                    </a:lnTo>
                    <a:lnTo>
                      <a:pt x="43" y="683"/>
                    </a:lnTo>
                    <a:lnTo>
                      <a:pt x="46" y="677"/>
                    </a:lnTo>
                    <a:lnTo>
                      <a:pt x="47" y="670"/>
                    </a:lnTo>
                    <a:lnTo>
                      <a:pt x="49" y="652"/>
                    </a:lnTo>
                    <a:lnTo>
                      <a:pt x="49" y="630"/>
                    </a:lnTo>
                    <a:lnTo>
                      <a:pt x="49" y="622"/>
                    </a:lnTo>
                    <a:lnTo>
                      <a:pt x="49" y="132"/>
                    </a:lnTo>
                    <a:lnTo>
                      <a:pt x="49" y="118"/>
                    </a:lnTo>
                    <a:lnTo>
                      <a:pt x="47" y="106"/>
                    </a:lnTo>
                    <a:lnTo>
                      <a:pt x="43" y="96"/>
                    </a:lnTo>
                    <a:lnTo>
                      <a:pt x="38" y="90"/>
                    </a:lnTo>
                    <a:lnTo>
                      <a:pt x="32" y="85"/>
                    </a:lnTo>
                    <a:lnTo>
                      <a:pt x="23" y="81"/>
                    </a:lnTo>
                    <a:lnTo>
                      <a:pt x="12" y="79"/>
                    </a:lnTo>
                    <a:lnTo>
                      <a:pt x="0" y="78"/>
                    </a:lnTo>
                    <a:lnTo>
                      <a:pt x="0" y="20"/>
                    </a:lnTo>
                    <a:lnTo>
                      <a:pt x="234" y="20"/>
                    </a:lnTo>
                    <a:lnTo>
                      <a:pt x="234" y="96"/>
                    </a:lnTo>
                    <a:lnTo>
                      <a:pt x="245" y="84"/>
                    </a:lnTo>
                    <a:lnTo>
                      <a:pt x="256" y="74"/>
                    </a:lnTo>
                    <a:lnTo>
                      <a:pt x="268" y="63"/>
                    </a:lnTo>
                    <a:lnTo>
                      <a:pt x="280" y="54"/>
                    </a:lnTo>
                    <a:lnTo>
                      <a:pt x="294" y="46"/>
                    </a:lnTo>
                    <a:lnTo>
                      <a:pt x="308" y="37"/>
                    </a:lnTo>
                    <a:lnTo>
                      <a:pt x="322" y="31"/>
                    </a:lnTo>
                    <a:lnTo>
                      <a:pt x="338" y="24"/>
                    </a:lnTo>
                    <a:lnTo>
                      <a:pt x="354" y="19"/>
                    </a:lnTo>
                    <a:lnTo>
                      <a:pt x="370" y="14"/>
                    </a:lnTo>
                    <a:lnTo>
                      <a:pt x="387" y="9"/>
                    </a:lnTo>
                    <a:lnTo>
                      <a:pt x="406" y="7"/>
                    </a:lnTo>
                    <a:lnTo>
                      <a:pt x="423" y="4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2" y="0"/>
                    </a:lnTo>
                    <a:lnTo>
                      <a:pt x="499" y="0"/>
                    </a:lnTo>
                    <a:lnTo>
                      <a:pt x="518" y="2"/>
                    </a:lnTo>
                    <a:lnTo>
                      <a:pt x="534" y="3"/>
                    </a:lnTo>
                    <a:lnTo>
                      <a:pt x="551" y="7"/>
                    </a:lnTo>
                    <a:lnTo>
                      <a:pt x="567" y="9"/>
                    </a:lnTo>
                    <a:lnTo>
                      <a:pt x="582" y="14"/>
                    </a:lnTo>
                    <a:lnTo>
                      <a:pt x="597" y="19"/>
                    </a:lnTo>
                    <a:lnTo>
                      <a:pt x="611" y="24"/>
                    </a:lnTo>
                    <a:lnTo>
                      <a:pt x="625" y="30"/>
                    </a:lnTo>
                    <a:lnTo>
                      <a:pt x="638" y="37"/>
                    </a:lnTo>
                    <a:lnTo>
                      <a:pt x="651" y="46"/>
                    </a:lnTo>
                    <a:lnTo>
                      <a:pt x="664" y="54"/>
                    </a:lnTo>
                    <a:lnTo>
                      <a:pt x="677" y="64"/>
                    </a:lnTo>
                    <a:lnTo>
                      <a:pt x="689" y="75"/>
                    </a:lnTo>
                    <a:lnTo>
                      <a:pt x="701" y="86"/>
                    </a:lnTo>
                    <a:lnTo>
                      <a:pt x="713" y="99"/>
                    </a:lnTo>
                    <a:lnTo>
                      <a:pt x="732" y="86"/>
                    </a:lnTo>
                    <a:lnTo>
                      <a:pt x="749" y="74"/>
                    </a:lnTo>
                    <a:lnTo>
                      <a:pt x="768" y="63"/>
                    </a:lnTo>
                    <a:lnTo>
                      <a:pt x="785" y="53"/>
                    </a:lnTo>
                    <a:lnTo>
                      <a:pt x="801" y="43"/>
                    </a:lnTo>
                    <a:lnTo>
                      <a:pt x="818" y="36"/>
                    </a:lnTo>
                    <a:lnTo>
                      <a:pt x="834" y="29"/>
                    </a:lnTo>
                    <a:lnTo>
                      <a:pt x="850" y="23"/>
                    </a:lnTo>
                    <a:lnTo>
                      <a:pt x="865" y="18"/>
                    </a:lnTo>
                    <a:lnTo>
                      <a:pt x="881" y="13"/>
                    </a:lnTo>
                    <a:lnTo>
                      <a:pt x="898" y="9"/>
                    </a:lnTo>
                    <a:lnTo>
                      <a:pt x="914" y="5"/>
                    </a:lnTo>
                    <a:lnTo>
                      <a:pt x="931" y="3"/>
                    </a:lnTo>
                    <a:lnTo>
                      <a:pt x="948" y="2"/>
                    </a:lnTo>
                    <a:lnTo>
                      <a:pt x="966" y="0"/>
                    </a:lnTo>
                    <a:lnTo>
                      <a:pt x="984" y="0"/>
                    </a:lnTo>
                    <a:lnTo>
                      <a:pt x="1006" y="0"/>
                    </a:lnTo>
                    <a:lnTo>
                      <a:pt x="1028" y="2"/>
                    </a:lnTo>
                    <a:lnTo>
                      <a:pt x="1048" y="5"/>
                    </a:lnTo>
                    <a:lnTo>
                      <a:pt x="1069" y="9"/>
                    </a:lnTo>
                    <a:lnTo>
                      <a:pt x="1087" y="14"/>
                    </a:lnTo>
                    <a:lnTo>
                      <a:pt x="1106" y="20"/>
                    </a:lnTo>
                    <a:lnTo>
                      <a:pt x="1123" y="26"/>
                    </a:lnTo>
                    <a:lnTo>
                      <a:pt x="1139" y="35"/>
                    </a:lnTo>
                    <a:lnTo>
                      <a:pt x="1154" y="43"/>
                    </a:lnTo>
                    <a:lnTo>
                      <a:pt x="1169" y="54"/>
                    </a:lnTo>
                    <a:lnTo>
                      <a:pt x="1182" y="66"/>
                    </a:lnTo>
                    <a:lnTo>
                      <a:pt x="1194" y="77"/>
                    </a:lnTo>
                    <a:lnTo>
                      <a:pt x="1205" y="90"/>
                    </a:lnTo>
                    <a:lnTo>
                      <a:pt x="1215" y="104"/>
                    </a:lnTo>
                    <a:lnTo>
                      <a:pt x="1224" y="120"/>
                    </a:lnTo>
                    <a:lnTo>
                      <a:pt x="1231" y="136"/>
                    </a:lnTo>
                    <a:lnTo>
                      <a:pt x="1237" y="150"/>
                    </a:lnTo>
                    <a:lnTo>
                      <a:pt x="1242" y="169"/>
                    </a:lnTo>
                    <a:lnTo>
                      <a:pt x="1247" y="188"/>
                    </a:lnTo>
                    <a:lnTo>
                      <a:pt x="1250" y="209"/>
                    </a:lnTo>
                    <a:lnTo>
                      <a:pt x="1252" y="236"/>
                    </a:lnTo>
                    <a:lnTo>
                      <a:pt x="1255" y="269"/>
                    </a:lnTo>
                    <a:lnTo>
                      <a:pt x="1256" y="310"/>
                    </a:lnTo>
                    <a:lnTo>
                      <a:pt x="1256" y="358"/>
                    </a:lnTo>
                    <a:lnTo>
                      <a:pt x="1256" y="397"/>
                    </a:lnTo>
                    <a:lnTo>
                      <a:pt x="1256" y="635"/>
                    </a:lnTo>
                    <a:lnTo>
                      <a:pt x="1256" y="656"/>
                    </a:lnTo>
                    <a:lnTo>
                      <a:pt x="1258" y="672"/>
                    </a:lnTo>
                    <a:lnTo>
                      <a:pt x="1260" y="679"/>
                    </a:lnTo>
                    <a:lnTo>
                      <a:pt x="1261" y="684"/>
                    </a:lnTo>
                    <a:lnTo>
                      <a:pt x="1263" y="689"/>
                    </a:lnTo>
                    <a:lnTo>
                      <a:pt x="1266" y="693"/>
                    </a:lnTo>
                    <a:lnTo>
                      <a:pt x="1272" y="699"/>
                    </a:lnTo>
                    <a:lnTo>
                      <a:pt x="1280" y="704"/>
                    </a:lnTo>
                    <a:lnTo>
                      <a:pt x="1292" y="708"/>
                    </a:lnTo>
                    <a:lnTo>
                      <a:pt x="1305" y="710"/>
                    </a:lnTo>
                    <a:lnTo>
                      <a:pt x="1306" y="764"/>
                    </a:lnTo>
                    <a:lnTo>
                      <a:pt x="1012" y="764"/>
                    </a:lnTo>
                    <a:lnTo>
                      <a:pt x="1012" y="710"/>
                    </a:lnTo>
                    <a:lnTo>
                      <a:pt x="1025" y="709"/>
                    </a:lnTo>
                    <a:lnTo>
                      <a:pt x="1034" y="706"/>
                    </a:lnTo>
                    <a:lnTo>
                      <a:pt x="1039" y="704"/>
                    </a:lnTo>
                    <a:lnTo>
                      <a:pt x="1043" y="702"/>
                    </a:lnTo>
                    <a:lnTo>
                      <a:pt x="1047" y="699"/>
                    </a:lnTo>
                    <a:lnTo>
                      <a:pt x="1050" y="695"/>
                    </a:lnTo>
                    <a:lnTo>
                      <a:pt x="1053" y="691"/>
                    </a:lnTo>
                    <a:lnTo>
                      <a:pt x="1054" y="686"/>
                    </a:lnTo>
                    <a:lnTo>
                      <a:pt x="1057" y="678"/>
                    </a:lnTo>
                    <a:lnTo>
                      <a:pt x="1058" y="671"/>
                    </a:lnTo>
                    <a:lnTo>
                      <a:pt x="1060" y="650"/>
                    </a:lnTo>
                    <a:lnTo>
                      <a:pt x="1060" y="625"/>
                    </a:lnTo>
                    <a:lnTo>
                      <a:pt x="1060" y="613"/>
                    </a:lnTo>
                    <a:lnTo>
                      <a:pt x="1060" y="257"/>
                    </a:lnTo>
                    <a:lnTo>
                      <a:pt x="1060" y="242"/>
                    </a:lnTo>
                    <a:lnTo>
                      <a:pt x="1058" y="228"/>
                    </a:lnTo>
                    <a:lnTo>
                      <a:pt x="1055" y="215"/>
                    </a:lnTo>
                    <a:lnTo>
                      <a:pt x="1052" y="203"/>
                    </a:lnTo>
                    <a:lnTo>
                      <a:pt x="1046" y="191"/>
                    </a:lnTo>
                    <a:lnTo>
                      <a:pt x="1039" y="181"/>
                    </a:lnTo>
                    <a:lnTo>
                      <a:pt x="1032" y="171"/>
                    </a:lnTo>
                    <a:lnTo>
                      <a:pt x="1023" y="161"/>
                    </a:lnTo>
                    <a:lnTo>
                      <a:pt x="1014" y="154"/>
                    </a:lnTo>
                    <a:lnTo>
                      <a:pt x="1002" y="147"/>
                    </a:lnTo>
                    <a:lnTo>
                      <a:pt x="991" y="140"/>
                    </a:lnTo>
                    <a:lnTo>
                      <a:pt x="978" y="136"/>
                    </a:lnTo>
                    <a:lnTo>
                      <a:pt x="964" y="132"/>
                    </a:lnTo>
                    <a:lnTo>
                      <a:pt x="951" y="129"/>
                    </a:lnTo>
                    <a:lnTo>
                      <a:pt x="936" y="128"/>
                    </a:lnTo>
                    <a:lnTo>
                      <a:pt x="919" y="127"/>
                    </a:lnTo>
                    <a:lnTo>
                      <a:pt x="908" y="128"/>
                    </a:lnTo>
                    <a:lnTo>
                      <a:pt x="897" y="128"/>
                    </a:lnTo>
                    <a:lnTo>
                      <a:pt x="886" y="131"/>
                    </a:lnTo>
                    <a:lnTo>
                      <a:pt x="873" y="133"/>
                    </a:lnTo>
                    <a:lnTo>
                      <a:pt x="862" y="136"/>
                    </a:lnTo>
                    <a:lnTo>
                      <a:pt x="851" y="139"/>
                    </a:lnTo>
                    <a:lnTo>
                      <a:pt x="840" y="144"/>
                    </a:lnTo>
                    <a:lnTo>
                      <a:pt x="829" y="149"/>
                    </a:lnTo>
                    <a:lnTo>
                      <a:pt x="818" y="154"/>
                    </a:lnTo>
                    <a:lnTo>
                      <a:pt x="808" y="160"/>
                    </a:lnTo>
                    <a:lnTo>
                      <a:pt x="797" y="167"/>
                    </a:lnTo>
                    <a:lnTo>
                      <a:pt x="787" y="175"/>
                    </a:lnTo>
                    <a:lnTo>
                      <a:pt x="777" y="182"/>
                    </a:lnTo>
                    <a:lnTo>
                      <a:pt x="769" y="191"/>
                    </a:lnTo>
                    <a:lnTo>
                      <a:pt x="760" y="201"/>
                    </a:lnTo>
                    <a:lnTo>
                      <a:pt x="752" y="210"/>
                    </a:lnTo>
                    <a:lnTo>
                      <a:pt x="752" y="635"/>
                    </a:lnTo>
                    <a:lnTo>
                      <a:pt x="752" y="656"/>
                    </a:lnTo>
                    <a:lnTo>
                      <a:pt x="754" y="672"/>
                    </a:lnTo>
                    <a:lnTo>
                      <a:pt x="755" y="679"/>
                    </a:lnTo>
                    <a:lnTo>
                      <a:pt x="756" y="684"/>
                    </a:lnTo>
                    <a:lnTo>
                      <a:pt x="759" y="689"/>
                    </a:lnTo>
                    <a:lnTo>
                      <a:pt x="761" y="693"/>
                    </a:lnTo>
                    <a:lnTo>
                      <a:pt x="766" y="698"/>
                    </a:lnTo>
                    <a:lnTo>
                      <a:pt x="776" y="703"/>
                    </a:lnTo>
                    <a:lnTo>
                      <a:pt x="787" y="708"/>
                    </a:lnTo>
                    <a:lnTo>
                      <a:pt x="801" y="711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1"/>
                    </a:lnTo>
                    <a:lnTo>
                      <a:pt x="522" y="710"/>
                    </a:lnTo>
                    <a:lnTo>
                      <a:pt x="531" y="706"/>
                    </a:lnTo>
                    <a:lnTo>
                      <a:pt x="536" y="704"/>
                    </a:lnTo>
                    <a:lnTo>
                      <a:pt x="540" y="702"/>
                    </a:lnTo>
                    <a:lnTo>
                      <a:pt x="544" y="699"/>
                    </a:lnTo>
                    <a:lnTo>
                      <a:pt x="547" y="695"/>
                    </a:lnTo>
                    <a:lnTo>
                      <a:pt x="550" y="691"/>
                    </a:lnTo>
                    <a:lnTo>
                      <a:pt x="551" y="686"/>
                    </a:lnTo>
                    <a:lnTo>
                      <a:pt x="554" y="678"/>
                    </a:lnTo>
                    <a:lnTo>
                      <a:pt x="555" y="671"/>
                    </a:lnTo>
                    <a:lnTo>
                      <a:pt x="557" y="650"/>
                    </a:lnTo>
                    <a:lnTo>
                      <a:pt x="557" y="625"/>
                    </a:lnTo>
                    <a:lnTo>
                      <a:pt x="557" y="613"/>
                    </a:lnTo>
                    <a:lnTo>
                      <a:pt x="557" y="257"/>
                    </a:lnTo>
                    <a:lnTo>
                      <a:pt x="557" y="242"/>
                    </a:lnTo>
                    <a:lnTo>
                      <a:pt x="555" y="228"/>
                    </a:lnTo>
                    <a:lnTo>
                      <a:pt x="552" y="215"/>
                    </a:lnTo>
                    <a:lnTo>
                      <a:pt x="549" y="203"/>
                    </a:lnTo>
                    <a:lnTo>
                      <a:pt x="542" y="191"/>
                    </a:lnTo>
                    <a:lnTo>
                      <a:pt x="536" y="181"/>
                    </a:lnTo>
                    <a:lnTo>
                      <a:pt x="528" y="171"/>
                    </a:lnTo>
                    <a:lnTo>
                      <a:pt x="519" y="161"/>
                    </a:lnTo>
                    <a:lnTo>
                      <a:pt x="509" y="154"/>
                    </a:lnTo>
                    <a:lnTo>
                      <a:pt x="498" y="147"/>
                    </a:lnTo>
                    <a:lnTo>
                      <a:pt x="487" y="140"/>
                    </a:lnTo>
                    <a:lnTo>
                      <a:pt x="474" y="136"/>
                    </a:lnTo>
                    <a:lnTo>
                      <a:pt x="460" y="132"/>
                    </a:lnTo>
                    <a:lnTo>
                      <a:pt x="445" y="129"/>
                    </a:lnTo>
                    <a:lnTo>
                      <a:pt x="431" y="128"/>
                    </a:lnTo>
                    <a:lnTo>
                      <a:pt x="415" y="127"/>
                    </a:lnTo>
                    <a:lnTo>
                      <a:pt x="402" y="128"/>
                    </a:lnTo>
                    <a:lnTo>
                      <a:pt x="390" y="128"/>
                    </a:lnTo>
                    <a:lnTo>
                      <a:pt x="378" y="131"/>
                    </a:lnTo>
                    <a:lnTo>
                      <a:pt x="365" y="133"/>
                    </a:lnTo>
                    <a:lnTo>
                      <a:pt x="354" y="137"/>
                    </a:lnTo>
                    <a:lnTo>
                      <a:pt x="342" y="140"/>
                    </a:lnTo>
                    <a:lnTo>
                      <a:pt x="331" y="145"/>
                    </a:lnTo>
                    <a:lnTo>
                      <a:pt x="320" y="151"/>
                    </a:lnTo>
                    <a:lnTo>
                      <a:pt x="309" y="158"/>
                    </a:lnTo>
                    <a:lnTo>
                      <a:pt x="298" y="164"/>
                    </a:lnTo>
                    <a:lnTo>
                      <a:pt x="288" y="171"/>
                    </a:lnTo>
                    <a:lnTo>
                      <a:pt x="278" y="180"/>
                    </a:lnTo>
                    <a:lnTo>
                      <a:pt x="269" y="187"/>
                    </a:lnTo>
                    <a:lnTo>
                      <a:pt x="261" y="197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30"/>
                    </a:lnTo>
                    <a:lnTo>
                      <a:pt x="246" y="655"/>
                    </a:lnTo>
                    <a:lnTo>
                      <a:pt x="248" y="673"/>
                    </a:lnTo>
                    <a:lnTo>
                      <a:pt x="250" y="681"/>
                    </a:lnTo>
                    <a:lnTo>
                      <a:pt x="251" y="687"/>
                    </a:lnTo>
                    <a:lnTo>
                      <a:pt x="253" y="692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0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170920" y="641880"/>
                <a:ext cx="59400" cy="666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0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5" y="535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8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5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60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8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0" y="766"/>
                    </a:moveTo>
                    <a:lnTo>
                      <a:pt x="510" y="681"/>
                    </a:lnTo>
                    <a:lnTo>
                      <a:pt x="499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9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7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8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4" y="744"/>
                    </a:lnTo>
                    <a:lnTo>
                      <a:pt x="102" y="738"/>
                    </a:lnTo>
                    <a:lnTo>
                      <a:pt x="93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4" y="707"/>
                    </a:lnTo>
                    <a:lnTo>
                      <a:pt x="57" y="699"/>
                    </a:lnTo>
                    <a:lnTo>
                      <a:pt x="48" y="690"/>
                    </a:lnTo>
                    <a:lnTo>
                      <a:pt x="41" y="681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2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2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0" y="480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4"/>
                    </a:lnTo>
                    <a:lnTo>
                      <a:pt x="34" y="433"/>
                    </a:lnTo>
                    <a:lnTo>
                      <a:pt x="41" y="422"/>
                    </a:lnTo>
                    <a:lnTo>
                      <a:pt x="50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2" y="383"/>
                    </a:lnTo>
                    <a:lnTo>
                      <a:pt x="93" y="374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2" y="341"/>
                    </a:lnTo>
                    <a:lnTo>
                      <a:pt x="170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0" y="239"/>
                    </a:lnTo>
                    <a:lnTo>
                      <a:pt x="507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5" y="135"/>
                    </a:lnTo>
                    <a:lnTo>
                      <a:pt x="422" y="130"/>
                    </a:lnTo>
                    <a:lnTo>
                      <a:pt x="408" y="126"/>
                    </a:lnTo>
                    <a:lnTo>
                      <a:pt x="393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5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6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2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199"/>
                    </a:lnTo>
                    <a:lnTo>
                      <a:pt x="130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0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4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29"/>
                    </a:lnTo>
                    <a:lnTo>
                      <a:pt x="572" y="36"/>
                    </a:lnTo>
                    <a:lnTo>
                      <a:pt x="583" y="41"/>
                    </a:lnTo>
                    <a:lnTo>
                      <a:pt x="596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3" y="79"/>
                    </a:lnTo>
                    <a:lnTo>
                      <a:pt x="641" y="87"/>
                    </a:lnTo>
                    <a:lnTo>
                      <a:pt x="649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3" y="673"/>
                    </a:lnTo>
                    <a:lnTo>
                      <a:pt x="697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0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238960" y="641880"/>
                <a:ext cx="59400" cy="67680"/>
              </a:xfrm>
              <a:custGeom>
                <a:avLst/>
                <a:gdLst/>
                <a:ahLst/>
                <a:rect l="l" t="t" r="r" b="b"/>
                <a:pathLst>
                  <a:path w="735" h="790">
                    <a:moveTo>
                      <a:pt x="671" y="567"/>
                    </a:moveTo>
                    <a:lnTo>
                      <a:pt x="671" y="766"/>
                    </a:lnTo>
                    <a:lnTo>
                      <a:pt x="644" y="772"/>
                    </a:lnTo>
                    <a:lnTo>
                      <a:pt x="616" y="777"/>
                    </a:lnTo>
                    <a:lnTo>
                      <a:pt x="592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4" y="788"/>
                    </a:lnTo>
                    <a:lnTo>
                      <a:pt x="503" y="790"/>
                    </a:lnTo>
                    <a:lnTo>
                      <a:pt x="481" y="790"/>
                    </a:lnTo>
                    <a:lnTo>
                      <a:pt x="455" y="790"/>
                    </a:lnTo>
                    <a:lnTo>
                      <a:pt x="430" y="788"/>
                    </a:lnTo>
                    <a:lnTo>
                      <a:pt x="404" y="786"/>
                    </a:lnTo>
                    <a:lnTo>
                      <a:pt x="379" y="782"/>
                    </a:lnTo>
                    <a:lnTo>
                      <a:pt x="356" y="778"/>
                    </a:lnTo>
                    <a:lnTo>
                      <a:pt x="332" y="774"/>
                    </a:lnTo>
                    <a:lnTo>
                      <a:pt x="309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0" y="686"/>
                    </a:lnTo>
                    <a:lnTo>
                      <a:pt x="134" y="672"/>
                    </a:lnTo>
                    <a:lnTo>
                      <a:pt x="117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2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0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1" y="330"/>
                    </a:lnTo>
                    <a:lnTo>
                      <a:pt x="4" y="311"/>
                    </a:lnTo>
                    <a:lnTo>
                      <a:pt x="8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9" y="221"/>
                    </a:lnTo>
                    <a:lnTo>
                      <a:pt x="36" y="205"/>
                    </a:lnTo>
                    <a:lnTo>
                      <a:pt x="45" y="189"/>
                    </a:lnTo>
                    <a:lnTo>
                      <a:pt x="53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7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2" y="15"/>
                    </a:lnTo>
                    <a:lnTo>
                      <a:pt x="303" y="11"/>
                    </a:lnTo>
                    <a:lnTo>
                      <a:pt x="322" y="7"/>
                    </a:lnTo>
                    <a:lnTo>
                      <a:pt x="345" y="4"/>
                    </a:lnTo>
                    <a:lnTo>
                      <a:pt x="366" y="2"/>
                    </a:lnTo>
                    <a:lnTo>
                      <a:pt x="388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59" y="2"/>
                    </a:lnTo>
                    <a:lnTo>
                      <a:pt x="482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9" y="113"/>
                    </a:lnTo>
                    <a:lnTo>
                      <a:pt x="735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0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9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1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8" y="225"/>
                    </a:lnTo>
                    <a:lnTo>
                      <a:pt x="228" y="246"/>
                    </a:lnTo>
                    <a:lnTo>
                      <a:pt x="219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6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2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4" y="584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8" y="632"/>
                    </a:lnTo>
                    <a:lnTo>
                      <a:pt x="370" y="637"/>
                    </a:lnTo>
                    <a:lnTo>
                      <a:pt x="383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59" y="631"/>
                    </a:lnTo>
                    <a:lnTo>
                      <a:pt x="567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2" y="567"/>
                    </a:lnTo>
                    <a:lnTo>
                      <a:pt x="671" y="56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01960" y="612360"/>
                <a:ext cx="24120" cy="95040"/>
              </a:xfrm>
              <a:custGeom>
                <a:avLst/>
                <a:gdLst/>
                <a:ahLst/>
                <a:rect l="l" t="t" r="r" b="b"/>
                <a:pathLst>
                  <a:path w="296" h="1111">
                    <a:moveTo>
                      <a:pt x="18" y="124"/>
                    </a:moveTo>
                    <a:lnTo>
                      <a:pt x="19" y="110"/>
                    </a:lnTo>
                    <a:lnTo>
                      <a:pt x="21" y="97"/>
                    </a:lnTo>
                    <a:lnTo>
                      <a:pt x="23" y="85"/>
                    </a:lnTo>
                    <a:lnTo>
                      <a:pt x="27" y="72"/>
                    </a:lnTo>
                    <a:lnTo>
                      <a:pt x="32" y="61"/>
                    </a:lnTo>
                    <a:lnTo>
                      <a:pt x="37" y="52"/>
                    </a:lnTo>
                    <a:lnTo>
                      <a:pt x="44" y="42"/>
                    </a:lnTo>
                    <a:lnTo>
                      <a:pt x="51" y="33"/>
                    </a:lnTo>
                    <a:lnTo>
                      <a:pt x="60" y="26"/>
                    </a:lnTo>
                    <a:lnTo>
                      <a:pt x="70" y="18"/>
                    </a:lnTo>
                    <a:lnTo>
                      <a:pt x="80" y="13"/>
                    </a:lnTo>
                    <a:lnTo>
                      <a:pt x="91" y="9"/>
                    </a:lnTo>
                    <a:lnTo>
                      <a:pt x="103" y="5"/>
                    </a:lnTo>
                    <a:lnTo>
                      <a:pt x="115" y="2"/>
                    </a:lnTo>
                    <a:lnTo>
                      <a:pt x="129" y="0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69" y="2"/>
                    </a:lnTo>
                    <a:lnTo>
                      <a:pt x="182" y="5"/>
                    </a:lnTo>
                    <a:lnTo>
                      <a:pt x="193" y="9"/>
                    </a:lnTo>
                    <a:lnTo>
                      <a:pt x="204" y="13"/>
                    </a:lnTo>
                    <a:lnTo>
                      <a:pt x="214" y="20"/>
                    </a:lnTo>
                    <a:lnTo>
                      <a:pt x="224" y="27"/>
                    </a:lnTo>
                    <a:lnTo>
                      <a:pt x="232" y="36"/>
                    </a:lnTo>
                    <a:lnTo>
                      <a:pt x="241" y="44"/>
                    </a:lnTo>
                    <a:lnTo>
                      <a:pt x="248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3" y="87"/>
                    </a:lnTo>
                    <a:lnTo>
                      <a:pt x="265" y="101"/>
                    </a:lnTo>
                    <a:lnTo>
                      <a:pt x="267" y="113"/>
                    </a:lnTo>
                    <a:lnTo>
                      <a:pt x="268" y="128"/>
                    </a:lnTo>
                    <a:lnTo>
                      <a:pt x="267" y="140"/>
                    </a:lnTo>
                    <a:lnTo>
                      <a:pt x="265" y="153"/>
                    </a:lnTo>
                    <a:lnTo>
                      <a:pt x="262" y="166"/>
                    </a:lnTo>
                    <a:lnTo>
                      <a:pt x="258" y="177"/>
                    </a:lnTo>
                    <a:lnTo>
                      <a:pt x="253" y="188"/>
                    </a:lnTo>
                    <a:lnTo>
                      <a:pt x="247" y="199"/>
                    </a:lnTo>
                    <a:lnTo>
                      <a:pt x="240" y="210"/>
                    </a:lnTo>
                    <a:lnTo>
                      <a:pt x="231" y="220"/>
                    </a:lnTo>
                    <a:lnTo>
                      <a:pt x="222" y="228"/>
                    </a:lnTo>
                    <a:lnTo>
                      <a:pt x="213" y="236"/>
                    </a:lnTo>
                    <a:lnTo>
                      <a:pt x="201" y="242"/>
                    </a:lnTo>
                    <a:lnTo>
                      <a:pt x="192" y="248"/>
                    </a:lnTo>
                    <a:lnTo>
                      <a:pt x="179" y="252"/>
                    </a:lnTo>
                    <a:lnTo>
                      <a:pt x="168" y="255"/>
                    </a:lnTo>
                    <a:lnTo>
                      <a:pt x="156" y="257"/>
                    </a:lnTo>
                    <a:lnTo>
                      <a:pt x="144" y="258"/>
                    </a:lnTo>
                    <a:lnTo>
                      <a:pt x="129" y="257"/>
                    </a:lnTo>
                    <a:lnTo>
                      <a:pt x="117" y="255"/>
                    </a:lnTo>
                    <a:lnTo>
                      <a:pt x="104" y="252"/>
                    </a:lnTo>
                    <a:lnTo>
                      <a:pt x="93" y="248"/>
                    </a:lnTo>
                    <a:lnTo>
                      <a:pt x="82" y="243"/>
                    </a:lnTo>
                    <a:lnTo>
                      <a:pt x="72" y="236"/>
                    </a:lnTo>
                    <a:lnTo>
                      <a:pt x="62" y="228"/>
                    </a:lnTo>
                    <a:lnTo>
                      <a:pt x="53" y="220"/>
                    </a:lnTo>
                    <a:lnTo>
                      <a:pt x="45" y="210"/>
                    </a:lnTo>
                    <a:lnTo>
                      <a:pt x="38" y="200"/>
                    </a:lnTo>
                    <a:lnTo>
                      <a:pt x="32" y="189"/>
                    </a:lnTo>
                    <a:lnTo>
                      <a:pt x="27" y="177"/>
                    </a:lnTo>
                    <a:lnTo>
                      <a:pt x="23" y="164"/>
                    </a:lnTo>
                    <a:lnTo>
                      <a:pt x="21" y="152"/>
                    </a:lnTo>
                    <a:lnTo>
                      <a:pt x="19" y="139"/>
                    </a:lnTo>
                    <a:lnTo>
                      <a:pt x="18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3" y="1053"/>
                    </a:lnTo>
                    <a:lnTo>
                      <a:pt x="24" y="1049"/>
                    </a:lnTo>
                    <a:lnTo>
                      <a:pt x="33" y="1044"/>
                    </a:lnTo>
                    <a:lnTo>
                      <a:pt x="39" y="1038"/>
                    </a:lnTo>
                    <a:lnTo>
                      <a:pt x="42" y="1033"/>
                    </a:lnTo>
                    <a:lnTo>
                      <a:pt x="44" y="1028"/>
                    </a:lnTo>
                    <a:lnTo>
                      <a:pt x="45" y="1022"/>
                    </a:lnTo>
                    <a:lnTo>
                      <a:pt x="48" y="1014"/>
                    </a:lnTo>
                    <a:lnTo>
                      <a:pt x="49" y="997"/>
                    </a:lnTo>
                    <a:lnTo>
                      <a:pt x="50" y="975"/>
                    </a:lnTo>
                    <a:lnTo>
                      <a:pt x="50" y="965"/>
                    </a:lnTo>
                    <a:lnTo>
                      <a:pt x="50" y="479"/>
                    </a:lnTo>
                    <a:lnTo>
                      <a:pt x="49" y="464"/>
                    </a:lnTo>
                    <a:lnTo>
                      <a:pt x="48" y="453"/>
                    </a:lnTo>
                    <a:lnTo>
                      <a:pt x="44" y="443"/>
                    </a:lnTo>
                    <a:lnTo>
                      <a:pt x="39" y="436"/>
                    </a:lnTo>
                    <a:lnTo>
                      <a:pt x="32" y="431"/>
                    </a:lnTo>
                    <a:lnTo>
                      <a:pt x="23" y="428"/>
                    </a:lnTo>
                    <a:lnTo>
                      <a:pt x="13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7" y="366"/>
                    </a:lnTo>
                    <a:lnTo>
                      <a:pt x="247" y="976"/>
                    </a:lnTo>
                    <a:lnTo>
                      <a:pt x="247" y="1001"/>
                    </a:lnTo>
                    <a:lnTo>
                      <a:pt x="249" y="1019"/>
                    </a:lnTo>
                    <a:lnTo>
                      <a:pt x="251" y="1026"/>
                    </a:lnTo>
                    <a:lnTo>
                      <a:pt x="252" y="1033"/>
                    </a:lnTo>
                    <a:lnTo>
                      <a:pt x="254" y="1038"/>
                    </a:lnTo>
                    <a:lnTo>
                      <a:pt x="257" y="1041"/>
                    </a:lnTo>
                    <a:lnTo>
                      <a:pt x="263" y="1047"/>
                    </a:lnTo>
                    <a:lnTo>
                      <a:pt x="272" y="1051"/>
                    </a:lnTo>
                    <a:lnTo>
                      <a:pt x="283" y="1055"/>
                    </a:lnTo>
                    <a:lnTo>
                      <a:pt x="295" y="1056"/>
                    </a:lnTo>
                    <a:lnTo>
                      <a:pt x="296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34360" y="611280"/>
                <a:ext cx="64800" cy="98280"/>
              </a:xfrm>
              <a:custGeom>
                <a:avLst/>
                <a:gdLst/>
                <a:ahLst/>
                <a:rect l="l" t="t" r="r" b="b"/>
                <a:pathLst>
                  <a:path w="807" h="1150">
                    <a:moveTo>
                      <a:pt x="212" y="750"/>
                    </a:moveTo>
                    <a:lnTo>
                      <a:pt x="212" y="782"/>
                    </a:lnTo>
                    <a:lnTo>
                      <a:pt x="214" y="811"/>
                    </a:lnTo>
                    <a:lnTo>
                      <a:pt x="219" y="840"/>
                    </a:lnTo>
                    <a:lnTo>
                      <a:pt x="224" y="865"/>
                    </a:lnTo>
                    <a:lnTo>
                      <a:pt x="231" y="890"/>
                    </a:lnTo>
                    <a:lnTo>
                      <a:pt x="240" y="912"/>
                    </a:lnTo>
                    <a:lnTo>
                      <a:pt x="251" y="933"/>
                    </a:lnTo>
                    <a:lnTo>
                      <a:pt x="262" y="951"/>
                    </a:lnTo>
                    <a:lnTo>
                      <a:pt x="269" y="959"/>
                    </a:lnTo>
                    <a:lnTo>
                      <a:pt x="276" y="967"/>
                    </a:lnTo>
                    <a:lnTo>
                      <a:pt x="283" y="975"/>
                    </a:lnTo>
                    <a:lnTo>
                      <a:pt x="292" y="981"/>
                    </a:lnTo>
                    <a:lnTo>
                      <a:pt x="299" y="987"/>
                    </a:lnTo>
                    <a:lnTo>
                      <a:pt x="308" y="993"/>
                    </a:lnTo>
                    <a:lnTo>
                      <a:pt x="316" y="998"/>
                    </a:lnTo>
                    <a:lnTo>
                      <a:pt x="325" y="1003"/>
                    </a:lnTo>
                    <a:lnTo>
                      <a:pt x="335" y="1007"/>
                    </a:lnTo>
                    <a:lnTo>
                      <a:pt x="344" y="1010"/>
                    </a:lnTo>
                    <a:lnTo>
                      <a:pt x="354" y="1014"/>
                    </a:lnTo>
                    <a:lnTo>
                      <a:pt x="365" y="1016"/>
                    </a:lnTo>
                    <a:lnTo>
                      <a:pt x="387" y="1019"/>
                    </a:lnTo>
                    <a:lnTo>
                      <a:pt x="411" y="1020"/>
                    </a:lnTo>
                    <a:lnTo>
                      <a:pt x="433" y="1019"/>
                    </a:lnTo>
                    <a:lnTo>
                      <a:pt x="453" y="1015"/>
                    </a:lnTo>
                    <a:lnTo>
                      <a:pt x="463" y="1013"/>
                    </a:lnTo>
                    <a:lnTo>
                      <a:pt x="472" y="1010"/>
                    </a:lnTo>
                    <a:lnTo>
                      <a:pt x="482" y="1007"/>
                    </a:lnTo>
                    <a:lnTo>
                      <a:pt x="491" y="1002"/>
                    </a:lnTo>
                    <a:lnTo>
                      <a:pt x="499" y="997"/>
                    </a:lnTo>
                    <a:lnTo>
                      <a:pt x="507" y="992"/>
                    </a:lnTo>
                    <a:lnTo>
                      <a:pt x="515" y="986"/>
                    </a:lnTo>
                    <a:lnTo>
                      <a:pt x="523" y="980"/>
                    </a:lnTo>
                    <a:lnTo>
                      <a:pt x="536" y="965"/>
                    </a:lnTo>
                    <a:lnTo>
                      <a:pt x="549" y="948"/>
                    </a:lnTo>
                    <a:lnTo>
                      <a:pt x="560" y="929"/>
                    </a:lnTo>
                    <a:lnTo>
                      <a:pt x="570" y="907"/>
                    </a:lnTo>
                    <a:lnTo>
                      <a:pt x="578" y="884"/>
                    </a:lnTo>
                    <a:lnTo>
                      <a:pt x="584" y="859"/>
                    </a:lnTo>
                    <a:lnTo>
                      <a:pt x="589" y="832"/>
                    </a:lnTo>
                    <a:lnTo>
                      <a:pt x="593" y="803"/>
                    </a:lnTo>
                    <a:lnTo>
                      <a:pt x="595" y="771"/>
                    </a:lnTo>
                    <a:lnTo>
                      <a:pt x="597" y="738"/>
                    </a:lnTo>
                    <a:lnTo>
                      <a:pt x="595" y="709"/>
                    </a:lnTo>
                    <a:lnTo>
                      <a:pt x="593" y="682"/>
                    </a:lnTo>
                    <a:lnTo>
                      <a:pt x="589" y="658"/>
                    </a:lnTo>
                    <a:lnTo>
                      <a:pt x="583" y="635"/>
                    </a:lnTo>
                    <a:lnTo>
                      <a:pt x="576" y="612"/>
                    </a:lnTo>
                    <a:lnTo>
                      <a:pt x="567" y="593"/>
                    </a:lnTo>
                    <a:lnTo>
                      <a:pt x="557" y="573"/>
                    </a:lnTo>
                    <a:lnTo>
                      <a:pt x="545" y="556"/>
                    </a:lnTo>
                    <a:lnTo>
                      <a:pt x="531" y="540"/>
                    </a:lnTo>
                    <a:lnTo>
                      <a:pt x="517" y="527"/>
                    </a:lnTo>
                    <a:lnTo>
                      <a:pt x="501" y="515"/>
                    </a:lnTo>
                    <a:lnTo>
                      <a:pt x="483" y="506"/>
                    </a:lnTo>
                    <a:lnTo>
                      <a:pt x="465" y="498"/>
                    </a:lnTo>
                    <a:lnTo>
                      <a:pt x="445" y="493"/>
                    </a:lnTo>
                    <a:lnTo>
                      <a:pt x="424" y="490"/>
                    </a:lnTo>
                    <a:lnTo>
                      <a:pt x="403" y="490"/>
                    </a:lnTo>
                    <a:lnTo>
                      <a:pt x="381" y="490"/>
                    </a:lnTo>
                    <a:lnTo>
                      <a:pt x="360" y="493"/>
                    </a:lnTo>
                    <a:lnTo>
                      <a:pt x="341" y="500"/>
                    </a:lnTo>
                    <a:lnTo>
                      <a:pt x="324" y="507"/>
                    </a:lnTo>
                    <a:lnTo>
                      <a:pt x="315" y="511"/>
                    </a:lnTo>
                    <a:lnTo>
                      <a:pt x="306" y="517"/>
                    </a:lnTo>
                    <a:lnTo>
                      <a:pt x="298" y="522"/>
                    </a:lnTo>
                    <a:lnTo>
                      <a:pt x="290" y="528"/>
                    </a:lnTo>
                    <a:lnTo>
                      <a:pt x="276" y="542"/>
                    </a:lnTo>
                    <a:lnTo>
                      <a:pt x="262" y="558"/>
                    </a:lnTo>
                    <a:lnTo>
                      <a:pt x="250" y="577"/>
                    </a:lnTo>
                    <a:lnTo>
                      <a:pt x="240" y="597"/>
                    </a:lnTo>
                    <a:lnTo>
                      <a:pt x="231" y="617"/>
                    </a:lnTo>
                    <a:lnTo>
                      <a:pt x="224" y="641"/>
                    </a:lnTo>
                    <a:lnTo>
                      <a:pt x="219" y="665"/>
                    </a:lnTo>
                    <a:lnTo>
                      <a:pt x="214" y="692"/>
                    </a:lnTo>
                    <a:lnTo>
                      <a:pt x="212" y="721"/>
                    </a:lnTo>
                    <a:lnTo>
                      <a:pt x="212" y="750"/>
                    </a:lnTo>
                    <a:close/>
                    <a:moveTo>
                      <a:pt x="401" y="1150"/>
                    </a:moveTo>
                    <a:lnTo>
                      <a:pt x="379" y="1150"/>
                    </a:lnTo>
                    <a:lnTo>
                      <a:pt x="358" y="1149"/>
                    </a:lnTo>
                    <a:lnTo>
                      <a:pt x="337" y="1147"/>
                    </a:lnTo>
                    <a:lnTo>
                      <a:pt x="316" y="1144"/>
                    </a:lnTo>
                    <a:lnTo>
                      <a:pt x="296" y="1139"/>
                    </a:lnTo>
                    <a:lnTo>
                      <a:pt x="277" y="1134"/>
                    </a:lnTo>
                    <a:lnTo>
                      <a:pt x="258" y="1129"/>
                    </a:lnTo>
                    <a:lnTo>
                      <a:pt x="240" y="1123"/>
                    </a:lnTo>
                    <a:lnTo>
                      <a:pt x="221" y="1116"/>
                    </a:lnTo>
                    <a:lnTo>
                      <a:pt x="204" y="1107"/>
                    </a:lnTo>
                    <a:lnTo>
                      <a:pt x="187" y="1097"/>
                    </a:lnTo>
                    <a:lnTo>
                      <a:pt x="171" y="1088"/>
                    </a:lnTo>
                    <a:lnTo>
                      <a:pt x="155" y="1077"/>
                    </a:lnTo>
                    <a:lnTo>
                      <a:pt x="140" y="1066"/>
                    </a:lnTo>
                    <a:lnTo>
                      <a:pt x="125" y="1053"/>
                    </a:lnTo>
                    <a:lnTo>
                      <a:pt x="112" y="1040"/>
                    </a:lnTo>
                    <a:lnTo>
                      <a:pt x="98" y="1025"/>
                    </a:lnTo>
                    <a:lnTo>
                      <a:pt x="85" y="1010"/>
                    </a:lnTo>
                    <a:lnTo>
                      <a:pt x="74" y="996"/>
                    </a:lnTo>
                    <a:lnTo>
                      <a:pt x="63" y="980"/>
                    </a:lnTo>
                    <a:lnTo>
                      <a:pt x="53" y="964"/>
                    </a:lnTo>
                    <a:lnTo>
                      <a:pt x="43" y="948"/>
                    </a:lnTo>
                    <a:lnTo>
                      <a:pt x="36" y="931"/>
                    </a:lnTo>
                    <a:lnTo>
                      <a:pt x="28" y="912"/>
                    </a:lnTo>
                    <a:lnTo>
                      <a:pt x="21" y="894"/>
                    </a:lnTo>
                    <a:lnTo>
                      <a:pt x="16" y="875"/>
                    </a:lnTo>
                    <a:lnTo>
                      <a:pt x="11" y="857"/>
                    </a:lnTo>
                    <a:lnTo>
                      <a:pt x="7" y="837"/>
                    </a:lnTo>
                    <a:lnTo>
                      <a:pt x="4" y="816"/>
                    </a:lnTo>
                    <a:lnTo>
                      <a:pt x="1" y="797"/>
                    </a:lnTo>
                    <a:lnTo>
                      <a:pt x="0" y="775"/>
                    </a:lnTo>
                    <a:lnTo>
                      <a:pt x="0" y="754"/>
                    </a:lnTo>
                    <a:lnTo>
                      <a:pt x="0" y="732"/>
                    </a:lnTo>
                    <a:lnTo>
                      <a:pt x="1" y="711"/>
                    </a:lnTo>
                    <a:lnTo>
                      <a:pt x="4" y="691"/>
                    </a:lnTo>
                    <a:lnTo>
                      <a:pt x="7" y="671"/>
                    </a:lnTo>
                    <a:lnTo>
                      <a:pt x="11" y="652"/>
                    </a:lnTo>
                    <a:lnTo>
                      <a:pt x="16" y="633"/>
                    </a:lnTo>
                    <a:lnTo>
                      <a:pt x="21" y="615"/>
                    </a:lnTo>
                    <a:lnTo>
                      <a:pt x="27" y="597"/>
                    </a:lnTo>
                    <a:lnTo>
                      <a:pt x="34" y="579"/>
                    </a:lnTo>
                    <a:lnTo>
                      <a:pt x="43" y="562"/>
                    </a:lnTo>
                    <a:lnTo>
                      <a:pt x="53" y="546"/>
                    </a:lnTo>
                    <a:lnTo>
                      <a:pt x="63" y="530"/>
                    </a:lnTo>
                    <a:lnTo>
                      <a:pt x="73" y="515"/>
                    </a:lnTo>
                    <a:lnTo>
                      <a:pt x="85" y="501"/>
                    </a:lnTo>
                    <a:lnTo>
                      <a:pt x="97" y="486"/>
                    </a:lnTo>
                    <a:lnTo>
                      <a:pt x="111" y="473"/>
                    </a:lnTo>
                    <a:lnTo>
                      <a:pt x="125" y="459"/>
                    </a:lnTo>
                    <a:lnTo>
                      <a:pt x="140" y="447"/>
                    </a:lnTo>
                    <a:lnTo>
                      <a:pt x="155" y="436"/>
                    </a:lnTo>
                    <a:lnTo>
                      <a:pt x="171" y="425"/>
                    </a:lnTo>
                    <a:lnTo>
                      <a:pt x="187" y="415"/>
                    </a:lnTo>
                    <a:lnTo>
                      <a:pt x="203" y="406"/>
                    </a:lnTo>
                    <a:lnTo>
                      <a:pt x="220" y="399"/>
                    </a:lnTo>
                    <a:lnTo>
                      <a:pt x="239" y="391"/>
                    </a:lnTo>
                    <a:lnTo>
                      <a:pt x="257" y="385"/>
                    </a:lnTo>
                    <a:lnTo>
                      <a:pt x="276" y="379"/>
                    </a:lnTo>
                    <a:lnTo>
                      <a:pt x="295" y="374"/>
                    </a:lnTo>
                    <a:lnTo>
                      <a:pt x="315" y="371"/>
                    </a:lnTo>
                    <a:lnTo>
                      <a:pt x="336" y="368"/>
                    </a:lnTo>
                    <a:lnTo>
                      <a:pt x="357" y="366"/>
                    </a:lnTo>
                    <a:lnTo>
                      <a:pt x="378" y="364"/>
                    </a:lnTo>
                    <a:lnTo>
                      <a:pt x="400" y="364"/>
                    </a:lnTo>
                    <a:lnTo>
                      <a:pt x="423" y="364"/>
                    </a:lnTo>
                    <a:lnTo>
                      <a:pt x="445" y="366"/>
                    </a:lnTo>
                    <a:lnTo>
                      <a:pt x="467" y="368"/>
                    </a:lnTo>
                    <a:lnTo>
                      <a:pt x="488" y="371"/>
                    </a:lnTo>
                    <a:lnTo>
                      <a:pt x="508" y="374"/>
                    </a:lnTo>
                    <a:lnTo>
                      <a:pt x="529" y="379"/>
                    </a:lnTo>
                    <a:lnTo>
                      <a:pt x="549" y="384"/>
                    </a:lnTo>
                    <a:lnTo>
                      <a:pt x="567" y="390"/>
                    </a:lnTo>
                    <a:lnTo>
                      <a:pt x="586" y="398"/>
                    </a:lnTo>
                    <a:lnTo>
                      <a:pt x="603" y="406"/>
                    </a:lnTo>
                    <a:lnTo>
                      <a:pt x="620" y="415"/>
                    </a:lnTo>
                    <a:lnTo>
                      <a:pt x="636" y="425"/>
                    </a:lnTo>
                    <a:lnTo>
                      <a:pt x="652" y="434"/>
                    </a:lnTo>
                    <a:lnTo>
                      <a:pt x="668" y="445"/>
                    </a:lnTo>
                    <a:lnTo>
                      <a:pt x="683" y="458"/>
                    </a:lnTo>
                    <a:lnTo>
                      <a:pt x="696" y="470"/>
                    </a:lnTo>
                    <a:lnTo>
                      <a:pt x="710" y="485"/>
                    </a:lnTo>
                    <a:lnTo>
                      <a:pt x="722" y="498"/>
                    </a:lnTo>
                    <a:lnTo>
                      <a:pt x="733" y="513"/>
                    </a:lnTo>
                    <a:lnTo>
                      <a:pt x="744" y="528"/>
                    </a:lnTo>
                    <a:lnTo>
                      <a:pt x="754" y="544"/>
                    </a:lnTo>
                    <a:lnTo>
                      <a:pt x="764" y="561"/>
                    </a:lnTo>
                    <a:lnTo>
                      <a:pt x="771" y="577"/>
                    </a:lnTo>
                    <a:lnTo>
                      <a:pt x="779" y="594"/>
                    </a:lnTo>
                    <a:lnTo>
                      <a:pt x="786" y="612"/>
                    </a:lnTo>
                    <a:lnTo>
                      <a:pt x="791" y="631"/>
                    </a:lnTo>
                    <a:lnTo>
                      <a:pt x="796" y="651"/>
                    </a:lnTo>
                    <a:lnTo>
                      <a:pt x="800" y="670"/>
                    </a:lnTo>
                    <a:lnTo>
                      <a:pt x="803" y="690"/>
                    </a:lnTo>
                    <a:lnTo>
                      <a:pt x="804" y="711"/>
                    </a:lnTo>
                    <a:lnTo>
                      <a:pt x="807" y="732"/>
                    </a:lnTo>
                    <a:lnTo>
                      <a:pt x="807" y="754"/>
                    </a:lnTo>
                    <a:lnTo>
                      <a:pt x="807" y="775"/>
                    </a:lnTo>
                    <a:lnTo>
                      <a:pt x="804" y="795"/>
                    </a:lnTo>
                    <a:lnTo>
                      <a:pt x="803" y="816"/>
                    </a:lnTo>
                    <a:lnTo>
                      <a:pt x="800" y="837"/>
                    </a:lnTo>
                    <a:lnTo>
                      <a:pt x="796" y="856"/>
                    </a:lnTo>
                    <a:lnTo>
                      <a:pt x="791" y="875"/>
                    </a:lnTo>
                    <a:lnTo>
                      <a:pt x="785" y="894"/>
                    </a:lnTo>
                    <a:lnTo>
                      <a:pt x="779" y="912"/>
                    </a:lnTo>
                    <a:lnTo>
                      <a:pt x="771" y="929"/>
                    </a:lnTo>
                    <a:lnTo>
                      <a:pt x="763" y="946"/>
                    </a:lnTo>
                    <a:lnTo>
                      <a:pt x="753" y="964"/>
                    </a:lnTo>
                    <a:lnTo>
                      <a:pt x="743" y="980"/>
                    </a:lnTo>
                    <a:lnTo>
                      <a:pt x="732" y="996"/>
                    </a:lnTo>
                    <a:lnTo>
                      <a:pt x="720" y="1010"/>
                    </a:lnTo>
                    <a:lnTo>
                      <a:pt x="707" y="1025"/>
                    </a:lnTo>
                    <a:lnTo>
                      <a:pt x="694" y="1039"/>
                    </a:lnTo>
                    <a:lnTo>
                      <a:pt x="679" y="1052"/>
                    </a:lnTo>
                    <a:lnTo>
                      <a:pt x="664" y="1066"/>
                    </a:lnTo>
                    <a:lnTo>
                      <a:pt x="648" y="1077"/>
                    </a:lnTo>
                    <a:lnTo>
                      <a:pt x="633" y="1088"/>
                    </a:lnTo>
                    <a:lnTo>
                      <a:pt x="616" y="1097"/>
                    </a:lnTo>
                    <a:lnTo>
                      <a:pt x="599" y="1107"/>
                    </a:lnTo>
                    <a:lnTo>
                      <a:pt x="582" y="1115"/>
                    </a:lnTo>
                    <a:lnTo>
                      <a:pt x="563" y="1122"/>
                    </a:lnTo>
                    <a:lnTo>
                      <a:pt x="545" y="1129"/>
                    </a:lnTo>
                    <a:lnTo>
                      <a:pt x="526" y="1134"/>
                    </a:lnTo>
                    <a:lnTo>
                      <a:pt x="507" y="1139"/>
                    </a:lnTo>
                    <a:lnTo>
                      <a:pt x="487" y="1144"/>
                    </a:lnTo>
                    <a:lnTo>
                      <a:pt x="466" y="1147"/>
                    </a:lnTo>
                    <a:lnTo>
                      <a:pt x="445" y="1149"/>
                    </a:lnTo>
                    <a:lnTo>
                      <a:pt x="423" y="1150"/>
                    </a:lnTo>
                    <a:lnTo>
                      <a:pt x="401" y="1150"/>
                    </a:lnTo>
                    <a:close/>
                    <a:moveTo>
                      <a:pt x="269" y="277"/>
                    </a:moveTo>
                    <a:lnTo>
                      <a:pt x="481" y="46"/>
                    </a:lnTo>
                    <a:lnTo>
                      <a:pt x="492" y="37"/>
                    </a:lnTo>
                    <a:lnTo>
                      <a:pt x="502" y="27"/>
                    </a:lnTo>
                    <a:lnTo>
                      <a:pt x="513" y="19"/>
                    </a:lnTo>
                    <a:lnTo>
                      <a:pt x="524" y="12"/>
                    </a:lnTo>
                    <a:lnTo>
                      <a:pt x="534" y="6"/>
                    </a:lnTo>
                    <a:lnTo>
                      <a:pt x="544" y="2"/>
                    </a:lnTo>
                    <a:lnTo>
                      <a:pt x="554" y="0"/>
                    </a:lnTo>
                    <a:lnTo>
                      <a:pt x="563" y="0"/>
                    </a:lnTo>
                    <a:lnTo>
                      <a:pt x="574" y="1"/>
                    </a:lnTo>
                    <a:lnTo>
                      <a:pt x="586" y="3"/>
                    </a:lnTo>
                    <a:lnTo>
                      <a:pt x="595" y="10"/>
                    </a:lnTo>
                    <a:lnTo>
                      <a:pt x="604" y="17"/>
                    </a:lnTo>
                    <a:lnTo>
                      <a:pt x="613" y="27"/>
                    </a:lnTo>
                    <a:lnTo>
                      <a:pt x="617" y="37"/>
                    </a:lnTo>
                    <a:lnTo>
                      <a:pt x="621" y="48"/>
                    </a:lnTo>
                    <a:lnTo>
                      <a:pt x="622" y="59"/>
                    </a:lnTo>
                    <a:lnTo>
                      <a:pt x="621" y="70"/>
                    </a:lnTo>
                    <a:lnTo>
                      <a:pt x="619" y="80"/>
                    </a:lnTo>
                    <a:lnTo>
                      <a:pt x="614" y="88"/>
                    </a:lnTo>
                    <a:lnTo>
                      <a:pt x="608" y="97"/>
                    </a:lnTo>
                    <a:lnTo>
                      <a:pt x="599" y="105"/>
                    </a:lnTo>
                    <a:lnTo>
                      <a:pt x="588" y="115"/>
                    </a:lnTo>
                    <a:lnTo>
                      <a:pt x="574" y="125"/>
                    </a:lnTo>
                    <a:lnTo>
                      <a:pt x="557" y="136"/>
                    </a:lnTo>
                    <a:lnTo>
                      <a:pt x="326" y="277"/>
                    </a:lnTo>
                    <a:lnTo>
                      <a:pt x="269" y="27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07800" y="642240"/>
                <a:ext cx="64440" cy="64800"/>
              </a:xfrm>
              <a:custGeom>
                <a:avLst/>
                <a:gdLst/>
                <a:ahLst/>
                <a:rect l="l" t="t" r="r" b="b"/>
                <a:pathLst>
                  <a:path w="802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2" y="709"/>
                    </a:lnTo>
                    <a:lnTo>
                      <a:pt x="22" y="705"/>
                    </a:lnTo>
                    <a:lnTo>
                      <a:pt x="30" y="700"/>
                    </a:lnTo>
                    <a:lnTo>
                      <a:pt x="37" y="694"/>
                    </a:lnTo>
                    <a:lnTo>
                      <a:pt x="42" y="687"/>
                    </a:lnTo>
                    <a:lnTo>
                      <a:pt x="46" y="678"/>
                    </a:lnTo>
                    <a:lnTo>
                      <a:pt x="48" y="668"/>
                    </a:lnTo>
                    <a:lnTo>
                      <a:pt x="49" y="657"/>
                    </a:lnTo>
                    <a:lnTo>
                      <a:pt x="49" y="127"/>
                    </a:lnTo>
                    <a:lnTo>
                      <a:pt x="48" y="113"/>
                    </a:lnTo>
                    <a:lnTo>
                      <a:pt x="47" y="101"/>
                    </a:lnTo>
                    <a:lnTo>
                      <a:pt x="43" y="93"/>
                    </a:lnTo>
                    <a:lnTo>
                      <a:pt x="39" y="86"/>
                    </a:lnTo>
                    <a:lnTo>
                      <a:pt x="33" y="81"/>
                    </a:lnTo>
                    <a:lnTo>
                      <a:pt x="25" y="79"/>
                    </a:lnTo>
                    <a:lnTo>
                      <a:pt x="14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4" y="19"/>
                    </a:lnTo>
                    <a:lnTo>
                      <a:pt x="234" y="93"/>
                    </a:lnTo>
                    <a:lnTo>
                      <a:pt x="245" y="81"/>
                    </a:lnTo>
                    <a:lnTo>
                      <a:pt x="257" y="70"/>
                    </a:lnTo>
                    <a:lnTo>
                      <a:pt x="269" y="61"/>
                    </a:lnTo>
                    <a:lnTo>
                      <a:pt x="283" y="52"/>
                    </a:lnTo>
                    <a:lnTo>
                      <a:pt x="296" y="45"/>
                    </a:lnTo>
                    <a:lnTo>
                      <a:pt x="311" y="36"/>
                    </a:lnTo>
                    <a:lnTo>
                      <a:pt x="326" y="30"/>
                    </a:lnTo>
                    <a:lnTo>
                      <a:pt x="342" y="24"/>
                    </a:lnTo>
                    <a:lnTo>
                      <a:pt x="358" y="18"/>
                    </a:lnTo>
                    <a:lnTo>
                      <a:pt x="374" y="13"/>
                    </a:lnTo>
                    <a:lnTo>
                      <a:pt x="391" y="9"/>
                    </a:lnTo>
                    <a:lnTo>
                      <a:pt x="408" y="7"/>
                    </a:lnTo>
                    <a:lnTo>
                      <a:pt x="426" y="3"/>
                    </a:lnTo>
                    <a:lnTo>
                      <a:pt x="444" y="2"/>
                    </a:lnTo>
                    <a:lnTo>
                      <a:pt x="462" y="0"/>
                    </a:lnTo>
                    <a:lnTo>
                      <a:pt x="481" y="0"/>
                    </a:lnTo>
                    <a:lnTo>
                      <a:pt x="515" y="2"/>
                    </a:lnTo>
                    <a:lnTo>
                      <a:pt x="547" y="4"/>
                    </a:lnTo>
                    <a:lnTo>
                      <a:pt x="562" y="8"/>
                    </a:lnTo>
                    <a:lnTo>
                      <a:pt x="577" y="10"/>
                    </a:lnTo>
                    <a:lnTo>
                      <a:pt x="592" y="14"/>
                    </a:lnTo>
                    <a:lnTo>
                      <a:pt x="604" y="19"/>
                    </a:lnTo>
                    <a:lnTo>
                      <a:pt x="617" y="24"/>
                    </a:lnTo>
                    <a:lnTo>
                      <a:pt x="630" y="29"/>
                    </a:lnTo>
                    <a:lnTo>
                      <a:pt x="641" y="35"/>
                    </a:lnTo>
                    <a:lnTo>
                      <a:pt x="652" y="41"/>
                    </a:lnTo>
                    <a:lnTo>
                      <a:pt x="662" y="48"/>
                    </a:lnTo>
                    <a:lnTo>
                      <a:pt x="672" y="57"/>
                    </a:lnTo>
                    <a:lnTo>
                      <a:pt x="680" y="64"/>
                    </a:lnTo>
                    <a:lnTo>
                      <a:pt x="689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1" y="105"/>
                    </a:lnTo>
                    <a:lnTo>
                      <a:pt x="717" y="116"/>
                    </a:lnTo>
                    <a:lnTo>
                      <a:pt x="723" y="129"/>
                    </a:lnTo>
                    <a:lnTo>
                      <a:pt x="728" y="142"/>
                    </a:lnTo>
                    <a:lnTo>
                      <a:pt x="733" y="156"/>
                    </a:lnTo>
                    <a:lnTo>
                      <a:pt x="738" y="170"/>
                    </a:lnTo>
                    <a:lnTo>
                      <a:pt x="742" y="186"/>
                    </a:lnTo>
                    <a:lnTo>
                      <a:pt x="744" y="202"/>
                    </a:lnTo>
                    <a:lnTo>
                      <a:pt x="748" y="219"/>
                    </a:lnTo>
                    <a:lnTo>
                      <a:pt x="749" y="236"/>
                    </a:lnTo>
                    <a:lnTo>
                      <a:pt x="753" y="273"/>
                    </a:lnTo>
                    <a:lnTo>
                      <a:pt x="754" y="314"/>
                    </a:lnTo>
                    <a:lnTo>
                      <a:pt x="754" y="664"/>
                    </a:lnTo>
                    <a:lnTo>
                      <a:pt x="754" y="673"/>
                    </a:lnTo>
                    <a:lnTo>
                      <a:pt x="756" y="682"/>
                    </a:lnTo>
                    <a:lnTo>
                      <a:pt x="760" y="689"/>
                    </a:lnTo>
                    <a:lnTo>
                      <a:pt x="765" y="695"/>
                    </a:lnTo>
                    <a:lnTo>
                      <a:pt x="771" y="700"/>
                    </a:lnTo>
                    <a:lnTo>
                      <a:pt x="780" y="704"/>
                    </a:lnTo>
                    <a:lnTo>
                      <a:pt x="790" y="708"/>
                    </a:lnTo>
                    <a:lnTo>
                      <a:pt x="802" y="710"/>
                    </a:lnTo>
                    <a:lnTo>
                      <a:pt x="802" y="764"/>
                    </a:lnTo>
                    <a:lnTo>
                      <a:pt x="509" y="764"/>
                    </a:lnTo>
                    <a:lnTo>
                      <a:pt x="509" y="710"/>
                    </a:lnTo>
                    <a:lnTo>
                      <a:pt x="513" y="710"/>
                    </a:lnTo>
                    <a:lnTo>
                      <a:pt x="523" y="710"/>
                    </a:lnTo>
                    <a:lnTo>
                      <a:pt x="531" y="706"/>
                    </a:lnTo>
                    <a:lnTo>
                      <a:pt x="540" y="703"/>
                    </a:lnTo>
                    <a:lnTo>
                      <a:pt x="546" y="695"/>
                    </a:lnTo>
                    <a:lnTo>
                      <a:pt x="552" y="688"/>
                    </a:lnTo>
                    <a:lnTo>
                      <a:pt x="556" y="678"/>
                    </a:lnTo>
                    <a:lnTo>
                      <a:pt x="558" y="668"/>
                    </a:lnTo>
                    <a:lnTo>
                      <a:pt x="558" y="656"/>
                    </a:lnTo>
                    <a:lnTo>
                      <a:pt x="558" y="253"/>
                    </a:lnTo>
                    <a:lnTo>
                      <a:pt x="558" y="240"/>
                    </a:lnTo>
                    <a:lnTo>
                      <a:pt x="556" y="226"/>
                    </a:lnTo>
                    <a:lnTo>
                      <a:pt x="554" y="214"/>
                    </a:lnTo>
                    <a:lnTo>
                      <a:pt x="550" y="203"/>
                    </a:lnTo>
                    <a:lnTo>
                      <a:pt x="544" y="191"/>
                    </a:lnTo>
                    <a:lnTo>
                      <a:pt x="538" y="181"/>
                    </a:lnTo>
                    <a:lnTo>
                      <a:pt x="530" y="171"/>
                    </a:lnTo>
                    <a:lnTo>
                      <a:pt x="522" y="163"/>
                    </a:lnTo>
                    <a:lnTo>
                      <a:pt x="512" y="154"/>
                    </a:lnTo>
                    <a:lnTo>
                      <a:pt x="501" y="147"/>
                    </a:lnTo>
                    <a:lnTo>
                      <a:pt x="490" y="140"/>
                    </a:lnTo>
                    <a:lnTo>
                      <a:pt x="477" y="136"/>
                    </a:lnTo>
                    <a:lnTo>
                      <a:pt x="465" y="132"/>
                    </a:lnTo>
                    <a:lnTo>
                      <a:pt x="451" y="129"/>
                    </a:lnTo>
                    <a:lnTo>
                      <a:pt x="437" y="128"/>
                    </a:lnTo>
                    <a:lnTo>
                      <a:pt x="422" y="127"/>
                    </a:lnTo>
                    <a:lnTo>
                      <a:pt x="408" y="128"/>
                    </a:lnTo>
                    <a:lnTo>
                      <a:pt x="395" y="128"/>
                    </a:lnTo>
                    <a:lnTo>
                      <a:pt x="383" y="131"/>
                    </a:lnTo>
                    <a:lnTo>
                      <a:pt x="369" y="133"/>
                    </a:lnTo>
                    <a:lnTo>
                      <a:pt x="357" y="137"/>
                    </a:lnTo>
                    <a:lnTo>
                      <a:pt x="344" y="140"/>
                    </a:lnTo>
                    <a:lnTo>
                      <a:pt x="333" y="145"/>
                    </a:lnTo>
                    <a:lnTo>
                      <a:pt x="321" y="150"/>
                    </a:lnTo>
                    <a:lnTo>
                      <a:pt x="310" y="156"/>
                    </a:lnTo>
                    <a:lnTo>
                      <a:pt x="300" y="164"/>
                    </a:lnTo>
                    <a:lnTo>
                      <a:pt x="289" y="171"/>
                    </a:lnTo>
                    <a:lnTo>
                      <a:pt x="280" y="178"/>
                    </a:lnTo>
                    <a:lnTo>
                      <a:pt x="271" y="187"/>
                    </a:lnTo>
                    <a:lnTo>
                      <a:pt x="262" y="196"/>
                    </a:lnTo>
                    <a:lnTo>
                      <a:pt x="255" y="206"/>
                    </a:lnTo>
                    <a:lnTo>
                      <a:pt x="247" y="217"/>
                    </a:lnTo>
                    <a:lnTo>
                      <a:pt x="247" y="640"/>
                    </a:lnTo>
                    <a:lnTo>
                      <a:pt x="247" y="660"/>
                    </a:lnTo>
                    <a:lnTo>
                      <a:pt x="250" y="676"/>
                    </a:lnTo>
                    <a:lnTo>
                      <a:pt x="251" y="683"/>
                    </a:lnTo>
                    <a:lnTo>
                      <a:pt x="252" y="688"/>
                    </a:lnTo>
                    <a:lnTo>
                      <a:pt x="255" y="693"/>
                    </a:lnTo>
                    <a:lnTo>
                      <a:pt x="257" y="695"/>
                    </a:lnTo>
                    <a:lnTo>
                      <a:pt x="263" y="702"/>
                    </a:lnTo>
                    <a:lnTo>
                      <a:pt x="272" y="705"/>
                    </a:lnTo>
                    <a:lnTo>
                      <a:pt x="283" y="709"/>
                    </a:lnTo>
                    <a:lnTo>
                      <a:pt x="295" y="710"/>
                    </a:lnTo>
                    <a:lnTo>
                      <a:pt x="296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642080" y="181080"/>
              <a:ext cx="1281240" cy="96480"/>
              <a:chOff x="7642080" y="181080"/>
              <a:chExt cx="1281240" cy="96480"/>
            </a:xfrm>
          </p:grpSpPr>
          <p:sp>
            <p:nvSpPr>
              <p:cNvPr id="314" name=""/>
              <p:cNvSpPr/>
              <p:nvPr/>
            </p:nvSpPr>
            <p:spPr>
              <a:xfrm>
                <a:off x="7642080" y="182160"/>
                <a:ext cx="73080" cy="93600"/>
              </a:xfrm>
              <a:custGeom>
                <a:avLst/>
                <a:gdLst/>
                <a:ahLst/>
                <a:rect l="l" t="t" r="r" b="b"/>
                <a:pathLst>
                  <a:path w="908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16" y="1027"/>
                    </a:lnTo>
                    <a:lnTo>
                      <a:pt x="31" y="1024"/>
                    </a:lnTo>
                    <a:lnTo>
                      <a:pt x="37" y="1021"/>
                    </a:lnTo>
                    <a:lnTo>
                      <a:pt x="42" y="1019"/>
                    </a:lnTo>
                    <a:lnTo>
                      <a:pt x="46" y="1015"/>
                    </a:lnTo>
                    <a:lnTo>
                      <a:pt x="51" y="1011"/>
                    </a:lnTo>
                    <a:lnTo>
                      <a:pt x="53" y="1006"/>
                    </a:lnTo>
                    <a:lnTo>
                      <a:pt x="57" y="1001"/>
                    </a:lnTo>
                    <a:lnTo>
                      <a:pt x="58" y="995"/>
                    </a:lnTo>
                    <a:lnTo>
                      <a:pt x="61" y="989"/>
                    </a:lnTo>
                    <a:lnTo>
                      <a:pt x="63" y="973"/>
                    </a:lnTo>
                    <a:lnTo>
                      <a:pt x="64" y="954"/>
                    </a:lnTo>
                    <a:lnTo>
                      <a:pt x="64" y="144"/>
                    </a:lnTo>
                    <a:lnTo>
                      <a:pt x="63" y="125"/>
                    </a:lnTo>
                    <a:lnTo>
                      <a:pt x="61" y="109"/>
                    </a:lnTo>
                    <a:lnTo>
                      <a:pt x="58" y="101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51" y="87"/>
                    </a:lnTo>
                    <a:lnTo>
                      <a:pt x="46" y="83"/>
                    </a:lnTo>
                    <a:lnTo>
                      <a:pt x="42" y="79"/>
                    </a:lnTo>
                    <a:lnTo>
                      <a:pt x="37" y="77"/>
                    </a:lnTo>
                    <a:lnTo>
                      <a:pt x="31" y="74"/>
                    </a:lnTo>
                    <a:lnTo>
                      <a:pt x="16" y="71"/>
                    </a:lnTo>
                    <a:lnTo>
                      <a:pt x="0" y="6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8" y="217"/>
                    </a:lnTo>
                    <a:lnTo>
                      <a:pt x="840" y="217"/>
                    </a:lnTo>
                    <a:lnTo>
                      <a:pt x="837" y="206"/>
                    </a:lnTo>
                    <a:lnTo>
                      <a:pt x="833" y="196"/>
                    </a:lnTo>
                    <a:lnTo>
                      <a:pt x="828" y="186"/>
                    </a:lnTo>
                    <a:lnTo>
                      <a:pt x="824" y="178"/>
                    </a:lnTo>
                    <a:lnTo>
                      <a:pt x="818" y="170"/>
                    </a:lnTo>
                    <a:lnTo>
                      <a:pt x="813" y="164"/>
                    </a:lnTo>
                    <a:lnTo>
                      <a:pt x="808" y="158"/>
                    </a:lnTo>
                    <a:lnTo>
                      <a:pt x="802" y="153"/>
                    </a:lnTo>
                    <a:lnTo>
                      <a:pt x="795" y="149"/>
                    </a:lnTo>
                    <a:lnTo>
                      <a:pt x="786" y="146"/>
                    </a:lnTo>
                    <a:lnTo>
                      <a:pt x="775" y="142"/>
                    </a:lnTo>
                    <a:lnTo>
                      <a:pt x="764" y="139"/>
                    </a:lnTo>
                    <a:lnTo>
                      <a:pt x="749" y="138"/>
                    </a:lnTo>
                    <a:lnTo>
                      <a:pt x="735" y="137"/>
                    </a:lnTo>
                    <a:lnTo>
                      <a:pt x="717" y="136"/>
                    </a:lnTo>
                    <a:lnTo>
                      <a:pt x="698" y="136"/>
                    </a:lnTo>
                    <a:lnTo>
                      <a:pt x="276" y="136"/>
                    </a:lnTo>
                    <a:lnTo>
                      <a:pt x="276" y="428"/>
                    </a:lnTo>
                    <a:lnTo>
                      <a:pt x="548" y="428"/>
                    </a:lnTo>
                    <a:lnTo>
                      <a:pt x="587" y="427"/>
                    </a:lnTo>
                    <a:lnTo>
                      <a:pt x="618" y="423"/>
                    </a:lnTo>
                    <a:lnTo>
                      <a:pt x="631" y="422"/>
                    </a:lnTo>
                    <a:lnTo>
                      <a:pt x="642" y="418"/>
                    </a:lnTo>
                    <a:lnTo>
                      <a:pt x="651" y="416"/>
                    </a:lnTo>
                    <a:lnTo>
                      <a:pt x="658" y="412"/>
                    </a:lnTo>
                    <a:lnTo>
                      <a:pt x="665" y="407"/>
                    </a:lnTo>
                    <a:lnTo>
                      <a:pt x="671" y="402"/>
                    </a:lnTo>
                    <a:lnTo>
                      <a:pt x="676" y="396"/>
                    </a:lnTo>
                    <a:lnTo>
                      <a:pt x="679" y="390"/>
                    </a:lnTo>
                    <a:lnTo>
                      <a:pt x="684" y="383"/>
                    </a:lnTo>
                    <a:lnTo>
                      <a:pt x="688" y="374"/>
                    </a:lnTo>
                    <a:lnTo>
                      <a:pt x="690" y="365"/>
                    </a:lnTo>
                    <a:lnTo>
                      <a:pt x="693" y="354"/>
                    </a:lnTo>
                    <a:lnTo>
                      <a:pt x="756" y="354"/>
                    </a:lnTo>
                    <a:lnTo>
                      <a:pt x="756" y="628"/>
                    </a:lnTo>
                    <a:lnTo>
                      <a:pt x="693" y="628"/>
                    </a:lnTo>
                    <a:lnTo>
                      <a:pt x="692" y="618"/>
                    </a:lnTo>
                    <a:lnTo>
                      <a:pt x="689" y="609"/>
                    </a:lnTo>
                    <a:lnTo>
                      <a:pt x="687" y="601"/>
                    </a:lnTo>
                    <a:lnTo>
                      <a:pt x="683" y="593"/>
                    </a:lnTo>
                    <a:lnTo>
                      <a:pt x="679" y="586"/>
                    </a:lnTo>
                    <a:lnTo>
                      <a:pt x="676" y="580"/>
                    </a:lnTo>
                    <a:lnTo>
                      <a:pt x="672" y="575"/>
                    </a:lnTo>
                    <a:lnTo>
                      <a:pt x="667" y="570"/>
                    </a:lnTo>
                    <a:lnTo>
                      <a:pt x="661" y="568"/>
                    </a:lnTo>
                    <a:lnTo>
                      <a:pt x="653" y="564"/>
                    </a:lnTo>
                    <a:lnTo>
                      <a:pt x="646" y="562"/>
                    </a:lnTo>
                    <a:lnTo>
                      <a:pt x="636" y="559"/>
                    </a:lnTo>
                    <a:lnTo>
                      <a:pt x="614" y="557"/>
                    </a:lnTo>
                    <a:lnTo>
                      <a:pt x="588" y="556"/>
                    </a:lnTo>
                    <a:lnTo>
                      <a:pt x="276" y="556"/>
                    </a:lnTo>
                    <a:lnTo>
                      <a:pt x="276" y="954"/>
                    </a:lnTo>
                    <a:lnTo>
                      <a:pt x="277" y="973"/>
                    </a:lnTo>
                    <a:lnTo>
                      <a:pt x="280" y="989"/>
                    </a:lnTo>
                    <a:lnTo>
                      <a:pt x="282" y="995"/>
                    </a:lnTo>
                    <a:lnTo>
                      <a:pt x="284" y="1001"/>
                    </a:lnTo>
                    <a:lnTo>
                      <a:pt x="287" y="1006"/>
                    </a:lnTo>
                    <a:lnTo>
                      <a:pt x="291" y="1011"/>
                    </a:lnTo>
                    <a:lnTo>
                      <a:pt x="294" y="1015"/>
                    </a:lnTo>
                    <a:lnTo>
                      <a:pt x="298" y="1019"/>
                    </a:lnTo>
                    <a:lnTo>
                      <a:pt x="304" y="1021"/>
                    </a:lnTo>
                    <a:lnTo>
                      <a:pt x="309" y="1024"/>
                    </a:lnTo>
                    <a:lnTo>
                      <a:pt x="324" y="1027"/>
                    </a:lnTo>
                    <a:lnTo>
                      <a:pt x="341" y="1030"/>
                    </a:lnTo>
                    <a:lnTo>
                      <a:pt x="341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11560" y="210240"/>
                <a:ext cx="65160" cy="673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3" y="418"/>
                    </a:lnTo>
                    <a:lnTo>
                      <a:pt x="215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5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3" y="649"/>
                    </a:lnTo>
                    <a:lnTo>
                      <a:pt x="473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8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1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6" y="407"/>
                    </a:lnTo>
                    <a:lnTo>
                      <a:pt x="596" y="374"/>
                    </a:lnTo>
                    <a:lnTo>
                      <a:pt x="596" y="346"/>
                    </a:lnTo>
                    <a:lnTo>
                      <a:pt x="594" y="319"/>
                    </a:lnTo>
                    <a:lnTo>
                      <a:pt x="589" y="294"/>
                    </a:lnTo>
                    <a:lnTo>
                      <a:pt x="584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6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9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3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5" y="328"/>
                    </a:lnTo>
                    <a:lnTo>
                      <a:pt x="213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2" y="724"/>
                    </a:lnTo>
                    <a:lnTo>
                      <a:pt x="156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6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4" y="584"/>
                    </a:lnTo>
                    <a:lnTo>
                      <a:pt x="35" y="567"/>
                    </a:lnTo>
                    <a:lnTo>
                      <a:pt x="28" y="548"/>
                    </a:lnTo>
                    <a:lnTo>
                      <a:pt x="22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3" y="452"/>
                    </a:lnTo>
                    <a:lnTo>
                      <a:pt x="2" y="433"/>
                    </a:lnTo>
                    <a:lnTo>
                      <a:pt x="1" y="411"/>
                    </a:lnTo>
                    <a:lnTo>
                      <a:pt x="0" y="390"/>
                    </a:lnTo>
                    <a:lnTo>
                      <a:pt x="1" y="368"/>
                    </a:lnTo>
                    <a:lnTo>
                      <a:pt x="2" y="347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2" y="251"/>
                    </a:lnTo>
                    <a:lnTo>
                      <a:pt x="28" y="233"/>
                    </a:lnTo>
                    <a:lnTo>
                      <a:pt x="35" y="215"/>
                    </a:lnTo>
                    <a:lnTo>
                      <a:pt x="44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8" y="122"/>
                    </a:lnTo>
                    <a:lnTo>
                      <a:pt x="110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7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6" y="2"/>
                    </a:lnTo>
                    <a:lnTo>
                      <a:pt x="379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7" y="61"/>
                    </a:lnTo>
                    <a:lnTo>
                      <a:pt x="653" y="70"/>
                    </a:lnTo>
                    <a:lnTo>
                      <a:pt x="668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5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2" y="267"/>
                    </a:lnTo>
                    <a:lnTo>
                      <a:pt x="796" y="287"/>
                    </a:lnTo>
                    <a:lnTo>
                      <a:pt x="801" y="306"/>
                    </a:lnTo>
                    <a:lnTo>
                      <a:pt x="803" y="326"/>
                    </a:lnTo>
                    <a:lnTo>
                      <a:pt x="805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5" y="431"/>
                    </a:lnTo>
                    <a:lnTo>
                      <a:pt x="803" y="452"/>
                    </a:lnTo>
                    <a:lnTo>
                      <a:pt x="801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6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4" y="600"/>
                    </a:lnTo>
                    <a:lnTo>
                      <a:pt x="744" y="616"/>
                    </a:lnTo>
                    <a:lnTo>
                      <a:pt x="733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3" y="675"/>
                    </a:lnTo>
                    <a:lnTo>
                      <a:pt x="680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600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4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85000" y="210240"/>
                <a:ext cx="38520" cy="65160"/>
              </a:xfrm>
              <a:custGeom>
                <a:avLst/>
                <a:gdLst/>
                <a:ahLst/>
                <a:rect l="l" t="t" r="r" b="b"/>
                <a:pathLst>
                  <a:path w="478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3" y="706"/>
                    </a:lnTo>
                    <a:lnTo>
                      <a:pt x="33" y="700"/>
                    </a:lnTo>
                    <a:lnTo>
                      <a:pt x="39" y="694"/>
                    </a:lnTo>
                    <a:lnTo>
                      <a:pt x="42" y="690"/>
                    </a:lnTo>
                    <a:lnTo>
                      <a:pt x="44" y="685"/>
                    </a:lnTo>
                    <a:lnTo>
                      <a:pt x="45" y="679"/>
                    </a:lnTo>
                    <a:lnTo>
                      <a:pt x="47" y="672"/>
                    </a:lnTo>
                    <a:lnTo>
                      <a:pt x="49" y="653"/>
                    </a:lnTo>
                    <a:lnTo>
                      <a:pt x="50" y="631"/>
                    </a:lnTo>
                    <a:lnTo>
                      <a:pt x="50" y="623"/>
                    </a:lnTo>
                    <a:lnTo>
                      <a:pt x="50" y="133"/>
                    </a:lnTo>
                    <a:lnTo>
                      <a:pt x="49" y="119"/>
                    </a:lnTo>
                    <a:lnTo>
                      <a:pt x="47" y="107"/>
                    </a:lnTo>
                    <a:lnTo>
                      <a:pt x="43" y="98"/>
                    </a:lnTo>
                    <a:lnTo>
                      <a:pt x="39" y="91"/>
                    </a:lnTo>
                    <a:lnTo>
                      <a:pt x="32" y="86"/>
                    </a:lnTo>
                    <a:lnTo>
                      <a:pt x="23" y="84"/>
                    </a:lnTo>
                    <a:lnTo>
                      <a:pt x="12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4" y="21"/>
                    </a:lnTo>
                    <a:lnTo>
                      <a:pt x="234" y="106"/>
                    </a:lnTo>
                    <a:lnTo>
                      <a:pt x="242" y="93"/>
                    </a:lnTo>
                    <a:lnTo>
                      <a:pt x="251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0" y="50"/>
                    </a:lnTo>
                    <a:lnTo>
                      <a:pt x="290" y="42"/>
                    </a:lnTo>
                    <a:lnTo>
                      <a:pt x="301" y="33"/>
                    </a:lnTo>
                    <a:lnTo>
                      <a:pt x="312" y="27"/>
                    </a:lnTo>
                    <a:lnTo>
                      <a:pt x="323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0" y="7"/>
                    </a:lnTo>
                    <a:lnTo>
                      <a:pt x="374" y="4"/>
                    </a:lnTo>
                    <a:lnTo>
                      <a:pt x="387" y="2"/>
                    </a:lnTo>
                    <a:lnTo>
                      <a:pt x="402" y="1"/>
                    </a:lnTo>
                    <a:lnTo>
                      <a:pt x="416" y="0"/>
                    </a:lnTo>
                    <a:lnTo>
                      <a:pt x="435" y="1"/>
                    </a:lnTo>
                    <a:lnTo>
                      <a:pt x="451" y="1"/>
                    </a:lnTo>
                    <a:lnTo>
                      <a:pt x="465" y="2"/>
                    </a:lnTo>
                    <a:lnTo>
                      <a:pt x="478" y="4"/>
                    </a:lnTo>
                    <a:lnTo>
                      <a:pt x="478" y="215"/>
                    </a:lnTo>
                    <a:lnTo>
                      <a:pt x="430" y="215"/>
                    </a:lnTo>
                    <a:lnTo>
                      <a:pt x="427" y="198"/>
                    </a:lnTo>
                    <a:lnTo>
                      <a:pt x="423" y="182"/>
                    </a:lnTo>
                    <a:lnTo>
                      <a:pt x="419" y="176"/>
                    </a:lnTo>
                    <a:lnTo>
                      <a:pt x="416" y="169"/>
                    </a:lnTo>
                    <a:lnTo>
                      <a:pt x="412" y="165"/>
                    </a:lnTo>
                    <a:lnTo>
                      <a:pt x="408" y="160"/>
                    </a:lnTo>
                    <a:lnTo>
                      <a:pt x="403" y="156"/>
                    </a:lnTo>
                    <a:lnTo>
                      <a:pt x="397" y="152"/>
                    </a:lnTo>
                    <a:lnTo>
                      <a:pt x="392" y="150"/>
                    </a:lnTo>
                    <a:lnTo>
                      <a:pt x="386" y="147"/>
                    </a:lnTo>
                    <a:lnTo>
                      <a:pt x="371" y="144"/>
                    </a:lnTo>
                    <a:lnTo>
                      <a:pt x="354" y="144"/>
                    </a:lnTo>
                    <a:lnTo>
                      <a:pt x="343" y="144"/>
                    </a:lnTo>
                    <a:lnTo>
                      <a:pt x="332" y="146"/>
                    </a:lnTo>
                    <a:lnTo>
                      <a:pt x="322" y="149"/>
                    </a:lnTo>
                    <a:lnTo>
                      <a:pt x="312" y="154"/>
                    </a:lnTo>
                    <a:lnTo>
                      <a:pt x="303" y="158"/>
                    </a:lnTo>
                    <a:lnTo>
                      <a:pt x="294" y="165"/>
                    </a:lnTo>
                    <a:lnTo>
                      <a:pt x="285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4" y="203"/>
                    </a:lnTo>
                    <a:lnTo>
                      <a:pt x="258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8" y="253"/>
                    </a:lnTo>
                    <a:lnTo>
                      <a:pt x="247" y="268"/>
                    </a:lnTo>
                    <a:lnTo>
                      <a:pt x="246" y="282"/>
                    </a:lnTo>
                    <a:lnTo>
                      <a:pt x="246" y="632"/>
                    </a:lnTo>
                    <a:lnTo>
                      <a:pt x="247" y="657"/>
                    </a:lnTo>
                    <a:lnTo>
                      <a:pt x="248" y="675"/>
                    </a:lnTo>
                    <a:lnTo>
                      <a:pt x="250" y="683"/>
                    </a:lnTo>
                    <a:lnTo>
                      <a:pt x="252" y="689"/>
                    </a:lnTo>
                    <a:lnTo>
                      <a:pt x="253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5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29640" y="210240"/>
                <a:ext cx="65160" cy="673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7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49" y="569"/>
                    </a:lnTo>
                    <a:lnTo>
                      <a:pt x="262" y="587"/>
                    </a:lnTo>
                    <a:lnTo>
                      <a:pt x="269" y="596"/>
                    </a:lnTo>
                    <a:lnTo>
                      <a:pt x="275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2" y="651"/>
                    </a:lnTo>
                    <a:lnTo>
                      <a:pt x="462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1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1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59" y="565"/>
                    </a:lnTo>
                    <a:lnTo>
                      <a:pt x="569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5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3" y="192"/>
                    </a:lnTo>
                    <a:lnTo>
                      <a:pt x="531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4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0" y="136"/>
                    </a:lnTo>
                    <a:lnTo>
                      <a:pt x="322" y="143"/>
                    </a:lnTo>
                    <a:lnTo>
                      <a:pt x="313" y="147"/>
                    </a:lnTo>
                    <a:lnTo>
                      <a:pt x="306" y="153"/>
                    </a:lnTo>
                    <a:lnTo>
                      <a:pt x="297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49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7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8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0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4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3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3" y="327"/>
                    </a:lnTo>
                    <a:lnTo>
                      <a:pt x="6" y="307"/>
                    </a:lnTo>
                    <a:lnTo>
                      <a:pt x="11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4" y="215"/>
                    </a:lnTo>
                    <a:lnTo>
                      <a:pt x="43" y="198"/>
                    </a:lnTo>
                    <a:lnTo>
                      <a:pt x="51" y="182"/>
                    </a:lnTo>
                    <a:lnTo>
                      <a:pt x="61" y="166"/>
                    </a:lnTo>
                    <a:lnTo>
                      <a:pt x="72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0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8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4" y="4"/>
                    </a:lnTo>
                    <a:lnTo>
                      <a:pt x="356" y="2"/>
                    </a:lnTo>
                    <a:lnTo>
                      <a:pt x="377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7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2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6" y="82"/>
                    </a:lnTo>
                    <a:lnTo>
                      <a:pt x="681" y="94"/>
                    </a:lnTo>
                    <a:lnTo>
                      <a:pt x="696" y="106"/>
                    </a:lnTo>
                    <a:lnTo>
                      <a:pt x="709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4" y="197"/>
                    </a:lnTo>
                    <a:lnTo>
                      <a:pt x="771" y="213"/>
                    </a:lnTo>
                    <a:lnTo>
                      <a:pt x="778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4" y="347"/>
                    </a:lnTo>
                    <a:lnTo>
                      <a:pt x="805" y="368"/>
                    </a:lnTo>
                    <a:lnTo>
                      <a:pt x="807" y="390"/>
                    </a:lnTo>
                    <a:lnTo>
                      <a:pt x="805" y="411"/>
                    </a:lnTo>
                    <a:lnTo>
                      <a:pt x="804" y="431"/>
                    </a:lnTo>
                    <a:lnTo>
                      <a:pt x="802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2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19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39800" y="182160"/>
                <a:ext cx="80640" cy="93600"/>
              </a:xfrm>
              <a:custGeom>
                <a:avLst/>
                <a:gdLst/>
                <a:ahLst/>
                <a:rect l="l" t="t" r="r" b="b"/>
                <a:pathLst>
                  <a:path w="999" h="1097">
                    <a:moveTo>
                      <a:pt x="0" y="1097"/>
                    </a:moveTo>
                    <a:lnTo>
                      <a:pt x="0" y="1030"/>
                    </a:lnTo>
                    <a:lnTo>
                      <a:pt x="5" y="1030"/>
                    </a:lnTo>
                    <a:lnTo>
                      <a:pt x="21" y="1028"/>
                    </a:lnTo>
                    <a:lnTo>
                      <a:pt x="36" y="1026"/>
                    </a:lnTo>
                    <a:lnTo>
                      <a:pt x="42" y="1024"/>
                    </a:lnTo>
                    <a:lnTo>
                      <a:pt x="47" y="1021"/>
                    </a:lnTo>
                    <a:lnTo>
                      <a:pt x="52" y="1017"/>
                    </a:lnTo>
                    <a:lnTo>
                      <a:pt x="55" y="1014"/>
                    </a:lnTo>
                    <a:lnTo>
                      <a:pt x="58" y="1009"/>
                    </a:lnTo>
                    <a:lnTo>
                      <a:pt x="61" y="1003"/>
                    </a:lnTo>
                    <a:lnTo>
                      <a:pt x="63" y="997"/>
                    </a:lnTo>
                    <a:lnTo>
                      <a:pt x="65" y="989"/>
                    </a:lnTo>
                    <a:lnTo>
                      <a:pt x="68" y="971"/>
                    </a:lnTo>
                    <a:lnTo>
                      <a:pt x="69" y="947"/>
                    </a:lnTo>
                    <a:lnTo>
                      <a:pt x="69" y="110"/>
                    </a:lnTo>
                    <a:lnTo>
                      <a:pt x="68" y="103"/>
                    </a:lnTo>
                    <a:lnTo>
                      <a:pt x="65" y="94"/>
                    </a:lnTo>
                    <a:lnTo>
                      <a:pt x="59" y="88"/>
                    </a:lnTo>
                    <a:lnTo>
                      <a:pt x="52" y="82"/>
                    </a:lnTo>
                    <a:lnTo>
                      <a:pt x="43" y="76"/>
                    </a:lnTo>
                    <a:lnTo>
                      <a:pt x="33" y="72"/>
                    </a:lnTo>
                    <a:lnTo>
                      <a:pt x="21" y="68"/>
                    </a:lnTo>
                    <a:lnTo>
                      <a:pt x="7" y="66"/>
                    </a:lnTo>
                    <a:lnTo>
                      <a:pt x="7" y="0"/>
                    </a:lnTo>
                    <a:lnTo>
                      <a:pt x="315" y="0"/>
                    </a:lnTo>
                    <a:lnTo>
                      <a:pt x="788" y="476"/>
                    </a:lnTo>
                    <a:lnTo>
                      <a:pt x="788" y="135"/>
                    </a:lnTo>
                    <a:lnTo>
                      <a:pt x="788" y="117"/>
                    </a:lnTo>
                    <a:lnTo>
                      <a:pt x="786" y="103"/>
                    </a:lnTo>
                    <a:lnTo>
                      <a:pt x="783" y="97"/>
                    </a:lnTo>
                    <a:lnTo>
                      <a:pt x="781" y="92"/>
                    </a:lnTo>
                    <a:lnTo>
                      <a:pt x="778" y="87"/>
                    </a:lnTo>
                    <a:lnTo>
                      <a:pt x="776" y="83"/>
                    </a:lnTo>
                    <a:lnTo>
                      <a:pt x="767" y="77"/>
                    </a:lnTo>
                    <a:lnTo>
                      <a:pt x="756" y="72"/>
                    </a:lnTo>
                    <a:lnTo>
                      <a:pt x="743" y="68"/>
                    </a:lnTo>
                    <a:lnTo>
                      <a:pt x="726" y="66"/>
                    </a:lnTo>
                    <a:lnTo>
                      <a:pt x="726" y="0"/>
                    </a:lnTo>
                    <a:lnTo>
                      <a:pt x="999" y="0"/>
                    </a:lnTo>
                    <a:lnTo>
                      <a:pt x="999" y="66"/>
                    </a:lnTo>
                    <a:lnTo>
                      <a:pt x="984" y="67"/>
                    </a:lnTo>
                    <a:lnTo>
                      <a:pt x="972" y="71"/>
                    </a:lnTo>
                    <a:lnTo>
                      <a:pt x="965" y="74"/>
                    </a:lnTo>
                    <a:lnTo>
                      <a:pt x="960" y="77"/>
                    </a:lnTo>
                    <a:lnTo>
                      <a:pt x="957" y="81"/>
                    </a:lnTo>
                    <a:lnTo>
                      <a:pt x="953" y="85"/>
                    </a:lnTo>
                    <a:lnTo>
                      <a:pt x="949" y="89"/>
                    </a:lnTo>
                    <a:lnTo>
                      <a:pt x="947" y="95"/>
                    </a:lnTo>
                    <a:lnTo>
                      <a:pt x="944" y="101"/>
                    </a:lnTo>
                    <a:lnTo>
                      <a:pt x="943" y="109"/>
                    </a:lnTo>
                    <a:lnTo>
                      <a:pt x="940" y="125"/>
                    </a:lnTo>
                    <a:lnTo>
                      <a:pt x="940" y="144"/>
                    </a:lnTo>
                    <a:lnTo>
                      <a:pt x="940" y="946"/>
                    </a:lnTo>
                    <a:lnTo>
                      <a:pt x="940" y="971"/>
                    </a:lnTo>
                    <a:lnTo>
                      <a:pt x="942" y="990"/>
                    </a:lnTo>
                    <a:lnTo>
                      <a:pt x="944" y="998"/>
                    </a:lnTo>
                    <a:lnTo>
                      <a:pt x="946" y="1004"/>
                    </a:lnTo>
                    <a:lnTo>
                      <a:pt x="948" y="1010"/>
                    </a:lnTo>
                    <a:lnTo>
                      <a:pt x="952" y="1014"/>
                    </a:lnTo>
                    <a:lnTo>
                      <a:pt x="956" y="1016"/>
                    </a:lnTo>
                    <a:lnTo>
                      <a:pt x="959" y="1020"/>
                    </a:lnTo>
                    <a:lnTo>
                      <a:pt x="964" y="1022"/>
                    </a:lnTo>
                    <a:lnTo>
                      <a:pt x="970" y="1025"/>
                    </a:lnTo>
                    <a:lnTo>
                      <a:pt x="983" y="1027"/>
                    </a:lnTo>
                    <a:lnTo>
                      <a:pt x="999" y="1030"/>
                    </a:lnTo>
                    <a:lnTo>
                      <a:pt x="999" y="1097"/>
                    </a:lnTo>
                    <a:lnTo>
                      <a:pt x="721" y="1097"/>
                    </a:lnTo>
                    <a:lnTo>
                      <a:pt x="721" y="1030"/>
                    </a:lnTo>
                    <a:lnTo>
                      <a:pt x="738" y="1028"/>
                    </a:lnTo>
                    <a:lnTo>
                      <a:pt x="753" y="1025"/>
                    </a:lnTo>
                    <a:lnTo>
                      <a:pt x="758" y="1022"/>
                    </a:lnTo>
                    <a:lnTo>
                      <a:pt x="764" y="1019"/>
                    </a:lnTo>
                    <a:lnTo>
                      <a:pt x="767" y="1016"/>
                    </a:lnTo>
                    <a:lnTo>
                      <a:pt x="772" y="1013"/>
                    </a:lnTo>
                    <a:lnTo>
                      <a:pt x="775" y="1008"/>
                    </a:lnTo>
                    <a:lnTo>
                      <a:pt x="777" y="1003"/>
                    </a:lnTo>
                    <a:lnTo>
                      <a:pt x="780" y="997"/>
                    </a:lnTo>
                    <a:lnTo>
                      <a:pt x="782" y="990"/>
                    </a:lnTo>
                    <a:lnTo>
                      <a:pt x="785" y="974"/>
                    </a:lnTo>
                    <a:lnTo>
                      <a:pt x="786" y="955"/>
                    </a:lnTo>
                    <a:lnTo>
                      <a:pt x="786" y="764"/>
                    </a:lnTo>
                    <a:lnTo>
                      <a:pt x="227" y="211"/>
                    </a:lnTo>
                    <a:lnTo>
                      <a:pt x="227" y="940"/>
                    </a:lnTo>
                    <a:lnTo>
                      <a:pt x="229" y="963"/>
                    </a:lnTo>
                    <a:lnTo>
                      <a:pt x="231" y="983"/>
                    </a:lnTo>
                    <a:lnTo>
                      <a:pt x="232" y="990"/>
                    </a:lnTo>
                    <a:lnTo>
                      <a:pt x="235" y="998"/>
                    </a:lnTo>
                    <a:lnTo>
                      <a:pt x="237" y="1004"/>
                    </a:lnTo>
                    <a:lnTo>
                      <a:pt x="241" y="1010"/>
                    </a:lnTo>
                    <a:lnTo>
                      <a:pt x="245" y="1014"/>
                    </a:lnTo>
                    <a:lnTo>
                      <a:pt x="248" y="1017"/>
                    </a:lnTo>
                    <a:lnTo>
                      <a:pt x="253" y="1021"/>
                    </a:lnTo>
                    <a:lnTo>
                      <a:pt x="259" y="1024"/>
                    </a:lnTo>
                    <a:lnTo>
                      <a:pt x="266" y="1026"/>
                    </a:lnTo>
                    <a:lnTo>
                      <a:pt x="272" y="1028"/>
                    </a:lnTo>
                    <a:lnTo>
                      <a:pt x="279" y="1030"/>
                    </a:lnTo>
                    <a:lnTo>
                      <a:pt x="288" y="1030"/>
                    </a:lnTo>
                    <a:lnTo>
                      <a:pt x="288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028720" y="210240"/>
                <a:ext cx="59400" cy="666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2" y="367"/>
                    </a:lnTo>
                    <a:lnTo>
                      <a:pt x="390" y="377"/>
                    </a:lnTo>
                    <a:lnTo>
                      <a:pt x="361" y="386"/>
                    </a:lnTo>
                    <a:lnTo>
                      <a:pt x="334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7" y="591"/>
                    </a:lnTo>
                    <a:lnTo>
                      <a:pt x="222" y="599"/>
                    </a:lnTo>
                    <a:lnTo>
                      <a:pt x="228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7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5" y="756"/>
                    </a:lnTo>
                    <a:lnTo>
                      <a:pt x="389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7" y="780"/>
                    </a:lnTo>
                    <a:lnTo>
                      <a:pt x="238" y="780"/>
                    </a:lnTo>
                    <a:lnTo>
                      <a:pt x="211" y="776"/>
                    </a:lnTo>
                    <a:lnTo>
                      <a:pt x="184" y="771"/>
                    </a:lnTo>
                    <a:lnTo>
                      <a:pt x="159" y="764"/>
                    </a:lnTo>
                    <a:lnTo>
                      <a:pt x="136" y="755"/>
                    </a:lnTo>
                    <a:lnTo>
                      <a:pt x="113" y="744"/>
                    </a:lnTo>
                    <a:lnTo>
                      <a:pt x="104" y="738"/>
                    </a:lnTo>
                    <a:lnTo>
                      <a:pt x="92" y="731"/>
                    </a:lnTo>
                    <a:lnTo>
                      <a:pt x="83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4" y="652"/>
                    </a:lnTo>
                    <a:lnTo>
                      <a:pt x="19" y="642"/>
                    </a:lnTo>
                    <a:lnTo>
                      <a:pt x="14" y="631"/>
                    </a:lnTo>
                    <a:lnTo>
                      <a:pt x="10" y="620"/>
                    </a:lnTo>
                    <a:lnTo>
                      <a:pt x="8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2" y="375"/>
                    </a:lnTo>
                    <a:lnTo>
                      <a:pt x="106" y="366"/>
                    </a:lnTo>
                    <a:lnTo>
                      <a:pt x="120" y="357"/>
                    </a:lnTo>
                    <a:lnTo>
                      <a:pt x="136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60" y="301"/>
                    </a:lnTo>
                    <a:lnTo>
                      <a:pt x="313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5" y="174"/>
                    </a:lnTo>
                    <a:lnTo>
                      <a:pt x="476" y="165"/>
                    </a:lnTo>
                    <a:lnTo>
                      <a:pt x="468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4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3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0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49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7" y="142"/>
                    </a:lnTo>
                    <a:lnTo>
                      <a:pt x="193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79"/>
                    </a:lnTo>
                    <a:lnTo>
                      <a:pt x="143" y="189"/>
                    </a:lnTo>
                    <a:lnTo>
                      <a:pt x="136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2" y="25"/>
                    </a:lnTo>
                    <a:lnTo>
                      <a:pt x="191" y="17"/>
                    </a:lnTo>
                    <a:lnTo>
                      <a:pt x="228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4" y="10"/>
                    </a:lnTo>
                    <a:lnTo>
                      <a:pt x="517" y="16"/>
                    </a:lnTo>
                    <a:lnTo>
                      <a:pt x="532" y="20"/>
                    </a:lnTo>
                    <a:lnTo>
                      <a:pt x="545" y="25"/>
                    </a:lnTo>
                    <a:lnTo>
                      <a:pt x="559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6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2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5" y="108"/>
                    </a:lnTo>
                    <a:lnTo>
                      <a:pt x="661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6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2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096760" y="210240"/>
                <a:ext cx="59400" cy="67320"/>
              </a:xfrm>
              <a:custGeom>
                <a:avLst/>
                <a:gdLst/>
                <a:ahLst/>
                <a:rect l="l" t="t" r="r" b="b"/>
                <a:pathLst>
                  <a:path w="736" h="790">
                    <a:moveTo>
                      <a:pt x="670" y="567"/>
                    </a:moveTo>
                    <a:lnTo>
                      <a:pt x="670" y="766"/>
                    </a:lnTo>
                    <a:lnTo>
                      <a:pt x="643" y="772"/>
                    </a:lnTo>
                    <a:lnTo>
                      <a:pt x="618" y="777"/>
                    </a:lnTo>
                    <a:lnTo>
                      <a:pt x="593" y="781"/>
                    </a:lnTo>
                    <a:lnTo>
                      <a:pt x="570" y="785"/>
                    </a:lnTo>
                    <a:lnTo>
                      <a:pt x="546" y="787"/>
                    </a:lnTo>
                    <a:lnTo>
                      <a:pt x="525" y="788"/>
                    </a:lnTo>
                    <a:lnTo>
                      <a:pt x="503" y="790"/>
                    </a:lnTo>
                    <a:lnTo>
                      <a:pt x="482" y="790"/>
                    </a:lnTo>
                    <a:lnTo>
                      <a:pt x="455" y="790"/>
                    </a:lnTo>
                    <a:lnTo>
                      <a:pt x="429" y="788"/>
                    </a:lnTo>
                    <a:lnTo>
                      <a:pt x="404" y="786"/>
                    </a:lnTo>
                    <a:lnTo>
                      <a:pt x="380" y="782"/>
                    </a:lnTo>
                    <a:lnTo>
                      <a:pt x="356" y="779"/>
                    </a:lnTo>
                    <a:lnTo>
                      <a:pt x="332" y="774"/>
                    </a:lnTo>
                    <a:lnTo>
                      <a:pt x="310" y="767"/>
                    </a:lnTo>
                    <a:lnTo>
                      <a:pt x="288" y="760"/>
                    </a:lnTo>
                    <a:lnTo>
                      <a:pt x="266" y="753"/>
                    </a:lnTo>
                    <a:lnTo>
                      <a:pt x="245" y="744"/>
                    </a:lnTo>
                    <a:lnTo>
                      <a:pt x="225" y="734"/>
                    </a:lnTo>
                    <a:lnTo>
                      <a:pt x="206" y="723"/>
                    </a:lnTo>
                    <a:lnTo>
                      <a:pt x="187" y="712"/>
                    </a:lnTo>
                    <a:lnTo>
                      <a:pt x="169" y="700"/>
                    </a:lnTo>
                    <a:lnTo>
                      <a:pt x="151" y="686"/>
                    </a:lnTo>
                    <a:lnTo>
                      <a:pt x="134" y="672"/>
                    </a:lnTo>
                    <a:lnTo>
                      <a:pt x="118" y="657"/>
                    </a:lnTo>
                    <a:lnTo>
                      <a:pt x="102" y="641"/>
                    </a:lnTo>
                    <a:lnTo>
                      <a:pt x="89" y="625"/>
                    </a:lnTo>
                    <a:lnTo>
                      <a:pt x="75" y="608"/>
                    </a:lnTo>
                    <a:lnTo>
                      <a:pt x="63" y="592"/>
                    </a:lnTo>
                    <a:lnTo>
                      <a:pt x="53" y="573"/>
                    </a:lnTo>
                    <a:lnTo>
                      <a:pt x="42" y="556"/>
                    </a:lnTo>
                    <a:lnTo>
                      <a:pt x="33" y="537"/>
                    </a:lnTo>
                    <a:lnTo>
                      <a:pt x="26" y="518"/>
                    </a:lnTo>
                    <a:lnTo>
                      <a:pt x="19" y="499"/>
                    </a:lnTo>
                    <a:lnTo>
                      <a:pt x="14" y="479"/>
                    </a:lnTo>
                    <a:lnTo>
                      <a:pt x="9" y="458"/>
                    </a:lnTo>
                    <a:lnTo>
                      <a:pt x="5" y="437"/>
                    </a:lnTo>
                    <a:lnTo>
                      <a:pt x="3" y="415"/>
                    </a:lnTo>
                    <a:lnTo>
                      <a:pt x="1" y="393"/>
                    </a:lnTo>
                    <a:lnTo>
                      <a:pt x="0" y="371"/>
                    </a:lnTo>
                    <a:lnTo>
                      <a:pt x="0" y="350"/>
                    </a:lnTo>
                    <a:lnTo>
                      <a:pt x="3" y="330"/>
                    </a:lnTo>
                    <a:lnTo>
                      <a:pt x="4" y="311"/>
                    </a:lnTo>
                    <a:lnTo>
                      <a:pt x="7" y="292"/>
                    </a:lnTo>
                    <a:lnTo>
                      <a:pt x="11" y="274"/>
                    </a:lnTo>
                    <a:lnTo>
                      <a:pt x="16" y="255"/>
                    </a:lnTo>
                    <a:lnTo>
                      <a:pt x="22" y="238"/>
                    </a:lnTo>
                    <a:lnTo>
                      <a:pt x="28" y="221"/>
                    </a:lnTo>
                    <a:lnTo>
                      <a:pt x="36" y="205"/>
                    </a:lnTo>
                    <a:lnTo>
                      <a:pt x="44" y="189"/>
                    </a:lnTo>
                    <a:lnTo>
                      <a:pt x="54" y="173"/>
                    </a:lnTo>
                    <a:lnTo>
                      <a:pt x="64" y="158"/>
                    </a:lnTo>
                    <a:lnTo>
                      <a:pt x="75" y="144"/>
                    </a:lnTo>
                    <a:lnTo>
                      <a:pt x="86" y="129"/>
                    </a:lnTo>
                    <a:lnTo>
                      <a:pt x="100" y="115"/>
                    </a:lnTo>
                    <a:lnTo>
                      <a:pt x="113" y="103"/>
                    </a:lnTo>
                    <a:lnTo>
                      <a:pt x="128" y="91"/>
                    </a:lnTo>
                    <a:lnTo>
                      <a:pt x="143" y="79"/>
                    </a:lnTo>
                    <a:lnTo>
                      <a:pt x="158" y="68"/>
                    </a:lnTo>
                    <a:lnTo>
                      <a:pt x="174" y="58"/>
                    </a:lnTo>
                    <a:lnTo>
                      <a:pt x="191" y="49"/>
                    </a:lnTo>
                    <a:lnTo>
                      <a:pt x="208" y="41"/>
                    </a:lnTo>
                    <a:lnTo>
                      <a:pt x="225" y="33"/>
                    </a:lnTo>
                    <a:lnTo>
                      <a:pt x="244" y="26"/>
                    </a:lnTo>
                    <a:lnTo>
                      <a:pt x="263" y="20"/>
                    </a:lnTo>
                    <a:lnTo>
                      <a:pt x="283" y="15"/>
                    </a:lnTo>
                    <a:lnTo>
                      <a:pt x="303" y="11"/>
                    </a:lnTo>
                    <a:lnTo>
                      <a:pt x="324" y="7"/>
                    </a:lnTo>
                    <a:lnTo>
                      <a:pt x="345" y="4"/>
                    </a:lnTo>
                    <a:lnTo>
                      <a:pt x="365" y="2"/>
                    </a:lnTo>
                    <a:lnTo>
                      <a:pt x="389" y="1"/>
                    </a:lnTo>
                    <a:lnTo>
                      <a:pt x="411" y="0"/>
                    </a:lnTo>
                    <a:lnTo>
                      <a:pt x="436" y="1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2"/>
                    </a:lnTo>
                    <a:lnTo>
                      <a:pt x="549" y="18"/>
                    </a:lnTo>
                    <a:lnTo>
                      <a:pt x="570" y="25"/>
                    </a:lnTo>
                    <a:lnTo>
                      <a:pt x="589" y="32"/>
                    </a:lnTo>
                    <a:lnTo>
                      <a:pt x="609" y="41"/>
                    </a:lnTo>
                    <a:lnTo>
                      <a:pt x="629" y="50"/>
                    </a:lnTo>
                    <a:lnTo>
                      <a:pt x="647" y="60"/>
                    </a:lnTo>
                    <a:lnTo>
                      <a:pt x="666" y="72"/>
                    </a:lnTo>
                    <a:lnTo>
                      <a:pt x="684" y="85"/>
                    </a:lnTo>
                    <a:lnTo>
                      <a:pt x="701" y="98"/>
                    </a:lnTo>
                    <a:lnTo>
                      <a:pt x="718" y="113"/>
                    </a:lnTo>
                    <a:lnTo>
                      <a:pt x="736" y="129"/>
                    </a:lnTo>
                    <a:lnTo>
                      <a:pt x="603" y="281"/>
                    </a:lnTo>
                    <a:lnTo>
                      <a:pt x="554" y="239"/>
                    </a:lnTo>
                    <a:lnTo>
                      <a:pt x="556" y="230"/>
                    </a:lnTo>
                    <a:lnTo>
                      <a:pt x="559" y="220"/>
                    </a:lnTo>
                    <a:lnTo>
                      <a:pt x="560" y="212"/>
                    </a:lnTo>
                    <a:lnTo>
                      <a:pt x="561" y="204"/>
                    </a:lnTo>
                    <a:lnTo>
                      <a:pt x="560" y="195"/>
                    </a:lnTo>
                    <a:lnTo>
                      <a:pt x="559" y="187"/>
                    </a:lnTo>
                    <a:lnTo>
                      <a:pt x="555" y="178"/>
                    </a:lnTo>
                    <a:lnTo>
                      <a:pt x="551" y="171"/>
                    </a:lnTo>
                    <a:lnTo>
                      <a:pt x="545" y="163"/>
                    </a:lnTo>
                    <a:lnTo>
                      <a:pt x="539" y="156"/>
                    </a:lnTo>
                    <a:lnTo>
                      <a:pt x="531" y="150"/>
                    </a:lnTo>
                    <a:lnTo>
                      <a:pt x="522" y="144"/>
                    </a:lnTo>
                    <a:lnTo>
                      <a:pt x="512" y="138"/>
                    </a:lnTo>
                    <a:lnTo>
                      <a:pt x="501" y="133"/>
                    </a:lnTo>
                    <a:lnTo>
                      <a:pt x="488" y="129"/>
                    </a:lnTo>
                    <a:lnTo>
                      <a:pt x="476" y="125"/>
                    </a:lnTo>
                    <a:lnTo>
                      <a:pt x="463" y="123"/>
                    </a:lnTo>
                    <a:lnTo>
                      <a:pt x="449" y="120"/>
                    </a:lnTo>
                    <a:lnTo>
                      <a:pt x="434" y="120"/>
                    </a:lnTo>
                    <a:lnTo>
                      <a:pt x="418" y="119"/>
                    </a:lnTo>
                    <a:lnTo>
                      <a:pt x="395" y="120"/>
                    </a:lnTo>
                    <a:lnTo>
                      <a:pt x="373" y="124"/>
                    </a:lnTo>
                    <a:lnTo>
                      <a:pt x="351" y="129"/>
                    </a:lnTo>
                    <a:lnTo>
                      <a:pt x="331" y="136"/>
                    </a:lnTo>
                    <a:lnTo>
                      <a:pt x="321" y="141"/>
                    </a:lnTo>
                    <a:lnTo>
                      <a:pt x="313" y="146"/>
                    </a:lnTo>
                    <a:lnTo>
                      <a:pt x="303" y="152"/>
                    </a:lnTo>
                    <a:lnTo>
                      <a:pt x="294" y="157"/>
                    </a:lnTo>
                    <a:lnTo>
                      <a:pt x="278" y="172"/>
                    </a:lnTo>
                    <a:lnTo>
                      <a:pt x="263" y="188"/>
                    </a:lnTo>
                    <a:lnTo>
                      <a:pt x="250" y="205"/>
                    </a:lnTo>
                    <a:lnTo>
                      <a:pt x="237" y="225"/>
                    </a:lnTo>
                    <a:lnTo>
                      <a:pt x="228" y="246"/>
                    </a:lnTo>
                    <a:lnTo>
                      <a:pt x="220" y="268"/>
                    </a:lnTo>
                    <a:lnTo>
                      <a:pt x="213" y="291"/>
                    </a:lnTo>
                    <a:lnTo>
                      <a:pt x="209" y="317"/>
                    </a:lnTo>
                    <a:lnTo>
                      <a:pt x="206" y="343"/>
                    </a:lnTo>
                    <a:lnTo>
                      <a:pt x="206" y="371"/>
                    </a:lnTo>
                    <a:lnTo>
                      <a:pt x="207" y="402"/>
                    </a:lnTo>
                    <a:lnTo>
                      <a:pt x="209" y="432"/>
                    </a:lnTo>
                    <a:lnTo>
                      <a:pt x="212" y="446"/>
                    </a:lnTo>
                    <a:lnTo>
                      <a:pt x="215" y="459"/>
                    </a:lnTo>
                    <a:lnTo>
                      <a:pt x="219" y="473"/>
                    </a:lnTo>
                    <a:lnTo>
                      <a:pt x="223" y="486"/>
                    </a:lnTo>
                    <a:lnTo>
                      <a:pt x="228" y="499"/>
                    </a:lnTo>
                    <a:lnTo>
                      <a:pt x="233" y="511"/>
                    </a:lnTo>
                    <a:lnTo>
                      <a:pt x="239" y="523"/>
                    </a:lnTo>
                    <a:lnTo>
                      <a:pt x="245" y="534"/>
                    </a:lnTo>
                    <a:lnTo>
                      <a:pt x="252" y="545"/>
                    </a:lnTo>
                    <a:lnTo>
                      <a:pt x="260" y="555"/>
                    </a:lnTo>
                    <a:lnTo>
                      <a:pt x="267" y="565"/>
                    </a:lnTo>
                    <a:lnTo>
                      <a:pt x="276" y="575"/>
                    </a:lnTo>
                    <a:lnTo>
                      <a:pt x="285" y="585"/>
                    </a:lnTo>
                    <a:lnTo>
                      <a:pt x="294" y="593"/>
                    </a:lnTo>
                    <a:lnTo>
                      <a:pt x="304" y="602"/>
                    </a:lnTo>
                    <a:lnTo>
                      <a:pt x="314" y="609"/>
                    </a:lnTo>
                    <a:lnTo>
                      <a:pt x="325" y="615"/>
                    </a:lnTo>
                    <a:lnTo>
                      <a:pt x="336" y="621"/>
                    </a:lnTo>
                    <a:lnTo>
                      <a:pt x="347" y="627"/>
                    </a:lnTo>
                    <a:lnTo>
                      <a:pt x="359" y="632"/>
                    </a:lnTo>
                    <a:lnTo>
                      <a:pt x="370" y="637"/>
                    </a:lnTo>
                    <a:lnTo>
                      <a:pt x="384" y="641"/>
                    </a:lnTo>
                    <a:lnTo>
                      <a:pt x="396" y="645"/>
                    </a:lnTo>
                    <a:lnTo>
                      <a:pt x="410" y="647"/>
                    </a:lnTo>
                    <a:lnTo>
                      <a:pt x="423" y="648"/>
                    </a:lnTo>
                    <a:lnTo>
                      <a:pt x="437" y="651"/>
                    </a:lnTo>
                    <a:lnTo>
                      <a:pt x="452" y="651"/>
                    </a:lnTo>
                    <a:lnTo>
                      <a:pt x="466" y="652"/>
                    </a:lnTo>
                    <a:lnTo>
                      <a:pt x="480" y="651"/>
                    </a:lnTo>
                    <a:lnTo>
                      <a:pt x="493" y="651"/>
                    </a:lnTo>
                    <a:lnTo>
                      <a:pt x="506" y="648"/>
                    </a:lnTo>
                    <a:lnTo>
                      <a:pt x="518" y="646"/>
                    </a:lnTo>
                    <a:lnTo>
                      <a:pt x="529" y="643"/>
                    </a:lnTo>
                    <a:lnTo>
                      <a:pt x="540" y="640"/>
                    </a:lnTo>
                    <a:lnTo>
                      <a:pt x="550" y="636"/>
                    </a:lnTo>
                    <a:lnTo>
                      <a:pt x="560" y="631"/>
                    </a:lnTo>
                    <a:lnTo>
                      <a:pt x="568" y="625"/>
                    </a:lnTo>
                    <a:lnTo>
                      <a:pt x="576" y="619"/>
                    </a:lnTo>
                    <a:lnTo>
                      <a:pt x="583" y="613"/>
                    </a:lnTo>
                    <a:lnTo>
                      <a:pt x="591" y="604"/>
                    </a:lnTo>
                    <a:lnTo>
                      <a:pt x="597" y="597"/>
                    </a:lnTo>
                    <a:lnTo>
                      <a:pt x="603" y="587"/>
                    </a:lnTo>
                    <a:lnTo>
                      <a:pt x="608" y="577"/>
                    </a:lnTo>
                    <a:lnTo>
                      <a:pt x="613" y="567"/>
                    </a:lnTo>
                    <a:lnTo>
                      <a:pt x="670" y="56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160120" y="181080"/>
                <a:ext cx="23760" cy="94680"/>
              </a:xfrm>
              <a:custGeom>
                <a:avLst/>
                <a:gdLst/>
                <a:ahLst/>
                <a:rect l="l" t="t" r="r" b="b"/>
                <a:pathLst>
                  <a:path w="295" h="1111">
                    <a:moveTo>
                      <a:pt x="17" y="124"/>
                    </a:moveTo>
                    <a:lnTo>
                      <a:pt x="18" y="111"/>
                    </a:lnTo>
                    <a:lnTo>
                      <a:pt x="20" y="97"/>
                    </a:lnTo>
                    <a:lnTo>
                      <a:pt x="22" y="85"/>
                    </a:lnTo>
                    <a:lnTo>
                      <a:pt x="26" y="72"/>
                    </a:lnTo>
                    <a:lnTo>
                      <a:pt x="31" y="61"/>
                    </a:lnTo>
                    <a:lnTo>
                      <a:pt x="37" y="52"/>
                    </a:lnTo>
                    <a:lnTo>
                      <a:pt x="43" y="42"/>
                    </a:lnTo>
                    <a:lnTo>
                      <a:pt x="50" y="33"/>
                    </a:lnTo>
                    <a:lnTo>
                      <a:pt x="59" y="26"/>
                    </a:lnTo>
                    <a:lnTo>
                      <a:pt x="69" y="18"/>
                    </a:lnTo>
                    <a:lnTo>
                      <a:pt x="79" y="14"/>
                    </a:lnTo>
                    <a:lnTo>
                      <a:pt x="90" y="9"/>
                    </a:lnTo>
                    <a:lnTo>
                      <a:pt x="102" y="5"/>
                    </a:lnTo>
                    <a:lnTo>
                      <a:pt x="114" y="2"/>
                    </a:lnTo>
                    <a:lnTo>
                      <a:pt x="128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8" y="2"/>
                    </a:lnTo>
                    <a:lnTo>
                      <a:pt x="181" y="5"/>
                    </a:lnTo>
                    <a:lnTo>
                      <a:pt x="192" y="9"/>
                    </a:lnTo>
                    <a:lnTo>
                      <a:pt x="203" y="14"/>
                    </a:lnTo>
                    <a:lnTo>
                      <a:pt x="213" y="20"/>
                    </a:lnTo>
                    <a:lnTo>
                      <a:pt x="222" y="27"/>
                    </a:lnTo>
                    <a:lnTo>
                      <a:pt x="232" y="36"/>
                    </a:lnTo>
                    <a:lnTo>
                      <a:pt x="240" y="44"/>
                    </a:lnTo>
                    <a:lnTo>
                      <a:pt x="247" y="54"/>
                    </a:lnTo>
                    <a:lnTo>
                      <a:pt x="253" y="65"/>
                    </a:lnTo>
                    <a:lnTo>
                      <a:pt x="258" y="76"/>
                    </a:lnTo>
                    <a:lnTo>
                      <a:pt x="262" y="88"/>
                    </a:lnTo>
                    <a:lnTo>
                      <a:pt x="264" y="101"/>
                    </a:lnTo>
                    <a:lnTo>
                      <a:pt x="266" y="113"/>
                    </a:lnTo>
                    <a:lnTo>
                      <a:pt x="267" y="128"/>
                    </a:lnTo>
                    <a:lnTo>
                      <a:pt x="266" y="140"/>
                    </a:lnTo>
                    <a:lnTo>
                      <a:pt x="264" y="153"/>
                    </a:lnTo>
                    <a:lnTo>
                      <a:pt x="261" y="166"/>
                    </a:lnTo>
                    <a:lnTo>
                      <a:pt x="257" y="177"/>
                    </a:lnTo>
                    <a:lnTo>
                      <a:pt x="252" y="188"/>
                    </a:lnTo>
                    <a:lnTo>
                      <a:pt x="246" y="199"/>
                    </a:lnTo>
                    <a:lnTo>
                      <a:pt x="238" y="210"/>
                    </a:lnTo>
                    <a:lnTo>
                      <a:pt x="230" y="220"/>
                    </a:lnTo>
                    <a:lnTo>
                      <a:pt x="221" y="228"/>
                    </a:lnTo>
                    <a:lnTo>
                      <a:pt x="211" y="236"/>
                    </a:lnTo>
                    <a:lnTo>
                      <a:pt x="200" y="243"/>
                    </a:lnTo>
                    <a:lnTo>
                      <a:pt x="190" y="248"/>
                    </a:lnTo>
                    <a:lnTo>
                      <a:pt x="179" y="252"/>
                    </a:lnTo>
                    <a:lnTo>
                      <a:pt x="167" y="255"/>
                    </a:lnTo>
                    <a:lnTo>
                      <a:pt x="155" y="257"/>
                    </a:lnTo>
                    <a:lnTo>
                      <a:pt x="143" y="258"/>
                    </a:lnTo>
                    <a:lnTo>
                      <a:pt x="129" y="257"/>
                    </a:lnTo>
                    <a:lnTo>
                      <a:pt x="115" y="255"/>
                    </a:lnTo>
                    <a:lnTo>
                      <a:pt x="103" y="252"/>
                    </a:lnTo>
                    <a:lnTo>
                      <a:pt x="92" y="248"/>
                    </a:lnTo>
                    <a:lnTo>
                      <a:pt x="81" y="243"/>
                    </a:lnTo>
                    <a:lnTo>
                      <a:pt x="71" y="236"/>
                    </a:lnTo>
                    <a:lnTo>
                      <a:pt x="61" y="228"/>
                    </a:lnTo>
                    <a:lnTo>
                      <a:pt x="53" y="220"/>
                    </a:lnTo>
                    <a:lnTo>
                      <a:pt x="44" y="210"/>
                    </a:lnTo>
                    <a:lnTo>
                      <a:pt x="37" y="200"/>
                    </a:lnTo>
                    <a:lnTo>
                      <a:pt x="31" y="189"/>
                    </a:lnTo>
                    <a:lnTo>
                      <a:pt x="27" y="177"/>
                    </a:lnTo>
                    <a:lnTo>
                      <a:pt x="22" y="165"/>
                    </a:lnTo>
                    <a:lnTo>
                      <a:pt x="20" y="152"/>
                    </a:lnTo>
                    <a:lnTo>
                      <a:pt x="18" y="139"/>
                    </a:lnTo>
                    <a:lnTo>
                      <a:pt x="17" y="124"/>
                    </a:lnTo>
                    <a:close/>
                    <a:moveTo>
                      <a:pt x="0" y="1111"/>
                    </a:moveTo>
                    <a:lnTo>
                      <a:pt x="0" y="1056"/>
                    </a:lnTo>
                    <a:lnTo>
                      <a:pt x="12" y="1054"/>
                    </a:lnTo>
                    <a:lnTo>
                      <a:pt x="23" y="1049"/>
                    </a:lnTo>
                    <a:lnTo>
                      <a:pt x="32" y="1044"/>
                    </a:lnTo>
                    <a:lnTo>
                      <a:pt x="38" y="1038"/>
                    </a:lnTo>
                    <a:lnTo>
                      <a:pt x="40" y="1034"/>
                    </a:lnTo>
                    <a:lnTo>
                      <a:pt x="43" y="1028"/>
                    </a:lnTo>
                    <a:lnTo>
                      <a:pt x="45" y="1022"/>
                    </a:lnTo>
                    <a:lnTo>
                      <a:pt x="47" y="1014"/>
                    </a:lnTo>
                    <a:lnTo>
                      <a:pt x="48" y="997"/>
                    </a:lnTo>
                    <a:lnTo>
                      <a:pt x="49" y="975"/>
                    </a:lnTo>
                    <a:lnTo>
                      <a:pt x="49" y="965"/>
                    </a:lnTo>
                    <a:lnTo>
                      <a:pt x="49" y="479"/>
                    </a:lnTo>
                    <a:lnTo>
                      <a:pt x="48" y="464"/>
                    </a:lnTo>
                    <a:lnTo>
                      <a:pt x="47" y="453"/>
                    </a:lnTo>
                    <a:lnTo>
                      <a:pt x="43" y="443"/>
                    </a:lnTo>
                    <a:lnTo>
                      <a:pt x="38" y="436"/>
                    </a:lnTo>
                    <a:lnTo>
                      <a:pt x="32" y="431"/>
                    </a:lnTo>
                    <a:lnTo>
                      <a:pt x="23" y="429"/>
                    </a:lnTo>
                    <a:lnTo>
                      <a:pt x="12" y="426"/>
                    </a:lnTo>
                    <a:lnTo>
                      <a:pt x="0" y="425"/>
                    </a:lnTo>
                    <a:lnTo>
                      <a:pt x="0" y="366"/>
                    </a:lnTo>
                    <a:lnTo>
                      <a:pt x="246" y="366"/>
                    </a:lnTo>
                    <a:lnTo>
                      <a:pt x="246" y="976"/>
                    </a:lnTo>
                    <a:lnTo>
                      <a:pt x="246" y="1001"/>
                    </a:lnTo>
                    <a:lnTo>
                      <a:pt x="248" y="1019"/>
                    </a:lnTo>
                    <a:lnTo>
                      <a:pt x="250" y="1027"/>
                    </a:lnTo>
                    <a:lnTo>
                      <a:pt x="252" y="1033"/>
                    </a:lnTo>
                    <a:lnTo>
                      <a:pt x="253" y="1038"/>
                    </a:lnTo>
                    <a:lnTo>
                      <a:pt x="256" y="1041"/>
                    </a:lnTo>
                    <a:lnTo>
                      <a:pt x="262" y="1047"/>
                    </a:lnTo>
                    <a:lnTo>
                      <a:pt x="270" y="1051"/>
                    </a:lnTo>
                    <a:lnTo>
                      <a:pt x="282" y="1055"/>
                    </a:lnTo>
                    <a:lnTo>
                      <a:pt x="294" y="1056"/>
                    </a:lnTo>
                    <a:lnTo>
                      <a:pt x="295" y="1111"/>
                    </a:lnTo>
                    <a:lnTo>
                      <a:pt x="0" y="1111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192160" y="210240"/>
                <a:ext cx="64800" cy="673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1" y="386"/>
                    </a:moveTo>
                    <a:lnTo>
                      <a:pt x="211" y="418"/>
                    </a:lnTo>
                    <a:lnTo>
                      <a:pt x="214" y="447"/>
                    </a:lnTo>
                    <a:lnTo>
                      <a:pt x="219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1" y="569"/>
                    </a:lnTo>
                    <a:lnTo>
                      <a:pt x="263" y="587"/>
                    </a:lnTo>
                    <a:lnTo>
                      <a:pt x="269" y="596"/>
                    </a:lnTo>
                    <a:lnTo>
                      <a:pt x="277" y="603"/>
                    </a:lnTo>
                    <a:lnTo>
                      <a:pt x="284" y="611"/>
                    </a:lnTo>
                    <a:lnTo>
                      <a:pt x="291" y="617"/>
                    </a:lnTo>
                    <a:lnTo>
                      <a:pt x="299" y="623"/>
                    </a:lnTo>
                    <a:lnTo>
                      <a:pt x="307" y="629"/>
                    </a:lnTo>
                    <a:lnTo>
                      <a:pt x="316" y="634"/>
                    </a:lnTo>
                    <a:lnTo>
                      <a:pt x="326" y="639"/>
                    </a:lnTo>
                    <a:lnTo>
                      <a:pt x="334" y="643"/>
                    </a:lnTo>
                    <a:lnTo>
                      <a:pt x="344" y="646"/>
                    </a:lnTo>
                    <a:lnTo>
                      <a:pt x="354" y="650"/>
                    </a:lnTo>
                    <a:lnTo>
                      <a:pt x="365" y="652"/>
                    </a:lnTo>
                    <a:lnTo>
                      <a:pt x="387" y="655"/>
                    </a:lnTo>
                    <a:lnTo>
                      <a:pt x="411" y="656"/>
                    </a:lnTo>
                    <a:lnTo>
                      <a:pt x="433" y="655"/>
                    </a:lnTo>
                    <a:lnTo>
                      <a:pt x="454" y="651"/>
                    </a:lnTo>
                    <a:lnTo>
                      <a:pt x="464" y="649"/>
                    </a:lnTo>
                    <a:lnTo>
                      <a:pt x="472" y="646"/>
                    </a:lnTo>
                    <a:lnTo>
                      <a:pt x="482" y="643"/>
                    </a:lnTo>
                    <a:lnTo>
                      <a:pt x="491" y="638"/>
                    </a:lnTo>
                    <a:lnTo>
                      <a:pt x="499" y="633"/>
                    </a:lnTo>
                    <a:lnTo>
                      <a:pt x="507" y="628"/>
                    </a:lnTo>
                    <a:lnTo>
                      <a:pt x="515" y="622"/>
                    </a:lnTo>
                    <a:lnTo>
                      <a:pt x="523" y="616"/>
                    </a:lnTo>
                    <a:lnTo>
                      <a:pt x="536" y="601"/>
                    </a:lnTo>
                    <a:lnTo>
                      <a:pt x="548" y="584"/>
                    </a:lnTo>
                    <a:lnTo>
                      <a:pt x="560" y="565"/>
                    </a:lnTo>
                    <a:lnTo>
                      <a:pt x="569" y="543"/>
                    </a:lnTo>
                    <a:lnTo>
                      <a:pt x="578" y="520"/>
                    </a:lnTo>
                    <a:lnTo>
                      <a:pt x="584" y="495"/>
                    </a:lnTo>
                    <a:lnTo>
                      <a:pt x="590" y="468"/>
                    </a:lnTo>
                    <a:lnTo>
                      <a:pt x="594" y="439"/>
                    </a:lnTo>
                    <a:lnTo>
                      <a:pt x="595" y="407"/>
                    </a:lnTo>
                    <a:lnTo>
                      <a:pt x="596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7" y="249"/>
                    </a:lnTo>
                    <a:lnTo>
                      <a:pt x="567" y="229"/>
                    </a:lnTo>
                    <a:lnTo>
                      <a:pt x="557" y="209"/>
                    </a:lnTo>
                    <a:lnTo>
                      <a:pt x="545" y="192"/>
                    </a:lnTo>
                    <a:lnTo>
                      <a:pt x="531" y="176"/>
                    </a:lnTo>
                    <a:lnTo>
                      <a:pt x="517" y="163"/>
                    </a:lnTo>
                    <a:lnTo>
                      <a:pt x="501" y="152"/>
                    </a:lnTo>
                    <a:lnTo>
                      <a:pt x="483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3" y="126"/>
                    </a:lnTo>
                    <a:lnTo>
                      <a:pt x="381" y="126"/>
                    </a:lnTo>
                    <a:lnTo>
                      <a:pt x="360" y="129"/>
                    </a:lnTo>
                    <a:lnTo>
                      <a:pt x="342" y="136"/>
                    </a:lnTo>
                    <a:lnTo>
                      <a:pt x="323" y="143"/>
                    </a:lnTo>
                    <a:lnTo>
                      <a:pt x="315" y="147"/>
                    </a:lnTo>
                    <a:lnTo>
                      <a:pt x="306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5" y="179"/>
                    </a:lnTo>
                    <a:lnTo>
                      <a:pt x="262" y="194"/>
                    </a:lnTo>
                    <a:lnTo>
                      <a:pt x="251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9" y="301"/>
                    </a:lnTo>
                    <a:lnTo>
                      <a:pt x="214" y="328"/>
                    </a:lnTo>
                    <a:lnTo>
                      <a:pt x="211" y="357"/>
                    </a:lnTo>
                    <a:lnTo>
                      <a:pt x="211" y="386"/>
                    </a:lnTo>
                    <a:close/>
                    <a:moveTo>
                      <a:pt x="402" y="786"/>
                    </a:moveTo>
                    <a:lnTo>
                      <a:pt x="380" y="786"/>
                    </a:lnTo>
                    <a:lnTo>
                      <a:pt x="358" y="785"/>
                    </a:lnTo>
                    <a:lnTo>
                      <a:pt x="337" y="783"/>
                    </a:lnTo>
                    <a:lnTo>
                      <a:pt x="316" y="780"/>
                    </a:lnTo>
                    <a:lnTo>
                      <a:pt x="296" y="775"/>
                    </a:lnTo>
                    <a:lnTo>
                      <a:pt x="277" y="770"/>
                    </a:lnTo>
                    <a:lnTo>
                      <a:pt x="258" y="765"/>
                    </a:lnTo>
                    <a:lnTo>
                      <a:pt x="240" y="759"/>
                    </a:lnTo>
                    <a:lnTo>
                      <a:pt x="221" y="752"/>
                    </a:lnTo>
                    <a:lnTo>
                      <a:pt x="204" y="743"/>
                    </a:lnTo>
                    <a:lnTo>
                      <a:pt x="188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5" y="689"/>
                    </a:lnTo>
                    <a:lnTo>
                      <a:pt x="112" y="676"/>
                    </a:lnTo>
                    <a:lnTo>
                      <a:pt x="98" y="661"/>
                    </a:lnTo>
                    <a:lnTo>
                      <a:pt x="85" y="646"/>
                    </a:lnTo>
                    <a:lnTo>
                      <a:pt x="74" y="632"/>
                    </a:lnTo>
                    <a:lnTo>
                      <a:pt x="63" y="616"/>
                    </a:lnTo>
                    <a:lnTo>
                      <a:pt x="53" y="600"/>
                    </a:lnTo>
                    <a:lnTo>
                      <a:pt x="43" y="584"/>
                    </a:lnTo>
                    <a:lnTo>
                      <a:pt x="36" y="567"/>
                    </a:lnTo>
                    <a:lnTo>
                      <a:pt x="28" y="548"/>
                    </a:lnTo>
                    <a:lnTo>
                      <a:pt x="21" y="531"/>
                    </a:lnTo>
                    <a:lnTo>
                      <a:pt x="16" y="511"/>
                    </a:lnTo>
                    <a:lnTo>
                      <a:pt x="11" y="493"/>
                    </a:lnTo>
                    <a:lnTo>
                      <a:pt x="7" y="473"/>
                    </a:lnTo>
                    <a:lnTo>
                      <a:pt x="4" y="452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2" y="347"/>
                    </a:lnTo>
                    <a:lnTo>
                      <a:pt x="4" y="327"/>
                    </a:lnTo>
                    <a:lnTo>
                      <a:pt x="7" y="307"/>
                    </a:lnTo>
                    <a:lnTo>
                      <a:pt x="11" y="288"/>
                    </a:lnTo>
                    <a:lnTo>
                      <a:pt x="16" y="269"/>
                    </a:lnTo>
                    <a:lnTo>
                      <a:pt x="21" y="251"/>
                    </a:lnTo>
                    <a:lnTo>
                      <a:pt x="28" y="233"/>
                    </a:lnTo>
                    <a:lnTo>
                      <a:pt x="36" y="215"/>
                    </a:lnTo>
                    <a:lnTo>
                      <a:pt x="43" y="198"/>
                    </a:lnTo>
                    <a:lnTo>
                      <a:pt x="53" y="182"/>
                    </a:lnTo>
                    <a:lnTo>
                      <a:pt x="63" y="166"/>
                    </a:lnTo>
                    <a:lnTo>
                      <a:pt x="74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5" y="95"/>
                    </a:lnTo>
                    <a:lnTo>
                      <a:pt x="140" y="83"/>
                    </a:lnTo>
                    <a:lnTo>
                      <a:pt x="155" y="72"/>
                    </a:lnTo>
                    <a:lnTo>
                      <a:pt x="171" y="61"/>
                    </a:lnTo>
                    <a:lnTo>
                      <a:pt x="187" y="51"/>
                    </a:lnTo>
                    <a:lnTo>
                      <a:pt x="204" y="42"/>
                    </a:lnTo>
                    <a:lnTo>
                      <a:pt x="221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5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6" y="4"/>
                    </a:lnTo>
                    <a:lnTo>
                      <a:pt x="357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3" y="0"/>
                    </a:lnTo>
                    <a:lnTo>
                      <a:pt x="445" y="2"/>
                    </a:lnTo>
                    <a:lnTo>
                      <a:pt x="467" y="4"/>
                    </a:lnTo>
                    <a:lnTo>
                      <a:pt x="488" y="7"/>
                    </a:lnTo>
                    <a:lnTo>
                      <a:pt x="509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5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8" y="82"/>
                    </a:lnTo>
                    <a:lnTo>
                      <a:pt x="683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4" y="149"/>
                    </a:lnTo>
                    <a:lnTo>
                      <a:pt x="744" y="164"/>
                    </a:lnTo>
                    <a:lnTo>
                      <a:pt x="755" y="180"/>
                    </a:lnTo>
                    <a:lnTo>
                      <a:pt x="764" y="197"/>
                    </a:lnTo>
                    <a:lnTo>
                      <a:pt x="772" y="213"/>
                    </a:lnTo>
                    <a:lnTo>
                      <a:pt x="780" y="230"/>
                    </a:lnTo>
                    <a:lnTo>
                      <a:pt x="786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799" y="306"/>
                    </a:lnTo>
                    <a:lnTo>
                      <a:pt x="803" y="326"/>
                    </a:lnTo>
                    <a:lnTo>
                      <a:pt x="806" y="347"/>
                    </a:lnTo>
                    <a:lnTo>
                      <a:pt x="807" y="368"/>
                    </a:lnTo>
                    <a:lnTo>
                      <a:pt x="807" y="390"/>
                    </a:lnTo>
                    <a:lnTo>
                      <a:pt x="807" y="411"/>
                    </a:lnTo>
                    <a:lnTo>
                      <a:pt x="806" y="431"/>
                    </a:lnTo>
                    <a:lnTo>
                      <a:pt x="803" y="452"/>
                    </a:lnTo>
                    <a:lnTo>
                      <a:pt x="799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8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4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1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9" y="713"/>
                    </a:lnTo>
                    <a:lnTo>
                      <a:pt x="633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4" y="759"/>
                    </a:lnTo>
                    <a:lnTo>
                      <a:pt x="546" y="765"/>
                    </a:lnTo>
                    <a:lnTo>
                      <a:pt x="526" y="770"/>
                    </a:lnTo>
                    <a:lnTo>
                      <a:pt x="507" y="775"/>
                    </a:lnTo>
                    <a:lnTo>
                      <a:pt x="487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2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265600" y="210240"/>
                <a:ext cx="64440" cy="65160"/>
              </a:xfrm>
              <a:custGeom>
                <a:avLst/>
                <a:gdLst/>
                <a:ahLst/>
                <a:rect l="l" t="t" r="r" b="b"/>
                <a:pathLst>
                  <a:path w="801" h="764">
                    <a:moveTo>
                      <a:pt x="0" y="764"/>
                    </a:moveTo>
                    <a:lnTo>
                      <a:pt x="0" y="710"/>
                    </a:lnTo>
                    <a:lnTo>
                      <a:pt x="11" y="709"/>
                    </a:lnTo>
                    <a:lnTo>
                      <a:pt x="21" y="705"/>
                    </a:lnTo>
                    <a:lnTo>
                      <a:pt x="28" y="700"/>
                    </a:lnTo>
                    <a:lnTo>
                      <a:pt x="36" y="694"/>
                    </a:lnTo>
                    <a:lnTo>
                      <a:pt x="41" y="687"/>
                    </a:lnTo>
                    <a:lnTo>
                      <a:pt x="44" y="678"/>
                    </a:lnTo>
                    <a:lnTo>
                      <a:pt x="47" y="668"/>
                    </a:lnTo>
                    <a:lnTo>
                      <a:pt x="48" y="657"/>
                    </a:lnTo>
                    <a:lnTo>
                      <a:pt x="48" y="127"/>
                    </a:lnTo>
                    <a:lnTo>
                      <a:pt x="47" y="113"/>
                    </a:lnTo>
                    <a:lnTo>
                      <a:pt x="46" y="101"/>
                    </a:lnTo>
                    <a:lnTo>
                      <a:pt x="42" y="93"/>
                    </a:lnTo>
                    <a:lnTo>
                      <a:pt x="38" y="86"/>
                    </a:lnTo>
                    <a:lnTo>
                      <a:pt x="32" y="82"/>
                    </a:lnTo>
                    <a:lnTo>
                      <a:pt x="23" y="79"/>
                    </a:lnTo>
                    <a:lnTo>
                      <a:pt x="12" y="77"/>
                    </a:lnTo>
                    <a:lnTo>
                      <a:pt x="0" y="75"/>
                    </a:lnTo>
                    <a:lnTo>
                      <a:pt x="0" y="19"/>
                    </a:lnTo>
                    <a:lnTo>
                      <a:pt x="233" y="19"/>
                    </a:lnTo>
                    <a:lnTo>
                      <a:pt x="233" y="93"/>
                    </a:lnTo>
                    <a:lnTo>
                      <a:pt x="244" y="82"/>
                    </a:lnTo>
                    <a:lnTo>
                      <a:pt x="256" y="70"/>
                    </a:lnTo>
                    <a:lnTo>
                      <a:pt x="268" y="61"/>
                    </a:lnTo>
                    <a:lnTo>
                      <a:pt x="282" y="52"/>
                    </a:lnTo>
                    <a:lnTo>
                      <a:pt x="295" y="45"/>
                    </a:lnTo>
                    <a:lnTo>
                      <a:pt x="310" y="36"/>
                    </a:lnTo>
                    <a:lnTo>
                      <a:pt x="325" y="30"/>
                    </a:lnTo>
                    <a:lnTo>
                      <a:pt x="341" y="24"/>
                    </a:lnTo>
                    <a:lnTo>
                      <a:pt x="357" y="18"/>
                    </a:lnTo>
                    <a:lnTo>
                      <a:pt x="373" y="13"/>
                    </a:lnTo>
                    <a:lnTo>
                      <a:pt x="390" y="9"/>
                    </a:lnTo>
                    <a:lnTo>
                      <a:pt x="407" y="7"/>
                    </a:lnTo>
                    <a:lnTo>
                      <a:pt x="424" y="3"/>
                    </a:lnTo>
                    <a:lnTo>
                      <a:pt x="443" y="2"/>
                    </a:lnTo>
                    <a:lnTo>
                      <a:pt x="461" y="0"/>
                    </a:lnTo>
                    <a:lnTo>
                      <a:pt x="480" y="0"/>
                    </a:lnTo>
                    <a:lnTo>
                      <a:pt x="514" y="2"/>
                    </a:lnTo>
                    <a:lnTo>
                      <a:pt x="546" y="4"/>
                    </a:lnTo>
                    <a:lnTo>
                      <a:pt x="562" y="8"/>
                    </a:lnTo>
                    <a:lnTo>
                      <a:pt x="576" y="10"/>
                    </a:lnTo>
                    <a:lnTo>
                      <a:pt x="591" y="14"/>
                    </a:lnTo>
                    <a:lnTo>
                      <a:pt x="604" y="19"/>
                    </a:lnTo>
                    <a:lnTo>
                      <a:pt x="616" y="24"/>
                    </a:lnTo>
                    <a:lnTo>
                      <a:pt x="629" y="29"/>
                    </a:lnTo>
                    <a:lnTo>
                      <a:pt x="640" y="35"/>
                    </a:lnTo>
                    <a:lnTo>
                      <a:pt x="651" y="41"/>
                    </a:lnTo>
                    <a:lnTo>
                      <a:pt x="661" y="48"/>
                    </a:lnTo>
                    <a:lnTo>
                      <a:pt x="670" y="57"/>
                    </a:lnTo>
                    <a:lnTo>
                      <a:pt x="679" y="64"/>
                    </a:lnTo>
                    <a:lnTo>
                      <a:pt x="688" y="74"/>
                    </a:lnTo>
                    <a:lnTo>
                      <a:pt x="696" y="83"/>
                    </a:lnTo>
                    <a:lnTo>
                      <a:pt x="704" y="94"/>
                    </a:lnTo>
                    <a:lnTo>
                      <a:pt x="710" y="105"/>
                    </a:lnTo>
                    <a:lnTo>
                      <a:pt x="716" y="116"/>
                    </a:lnTo>
                    <a:lnTo>
                      <a:pt x="722" y="129"/>
                    </a:lnTo>
                    <a:lnTo>
                      <a:pt x="727" y="142"/>
                    </a:lnTo>
                    <a:lnTo>
                      <a:pt x="732" y="156"/>
                    </a:lnTo>
                    <a:lnTo>
                      <a:pt x="737" y="170"/>
                    </a:lnTo>
                    <a:lnTo>
                      <a:pt x="741" y="186"/>
                    </a:lnTo>
                    <a:lnTo>
                      <a:pt x="743" y="202"/>
                    </a:lnTo>
                    <a:lnTo>
                      <a:pt x="747" y="219"/>
                    </a:lnTo>
                    <a:lnTo>
                      <a:pt x="749" y="236"/>
                    </a:lnTo>
                    <a:lnTo>
                      <a:pt x="752" y="273"/>
                    </a:lnTo>
                    <a:lnTo>
                      <a:pt x="753" y="314"/>
                    </a:lnTo>
                    <a:lnTo>
                      <a:pt x="753" y="664"/>
                    </a:lnTo>
                    <a:lnTo>
                      <a:pt x="753" y="673"/>
                    </a:lnTo>
                    <a:lnTo>
                      <a:pt x="755" y="682"/>
                    </a:lnTo>
                    <a:lnTo>
                      <a:pt x="759" y="689"/>
                    </a:lnTo>
                    <a:lnTo>
                      <a:pt x="764" y="695"/>
                    </a:lnTo>
                    <a:lnTo>
                      <a:pt x="770" y="700"/>
                    </a:lnTo>
                    <a:lnTo>
                      <a:pt x="779" y="704"/>
                    </a:lnTo>
                    <a:lnTo>
                      <a:pt x="789" y="708"/>
                    </a:lnTo>
                    <a:lnTo>
                      <a:pt x="801" y="710"/>
                    </a:lnTo>
                    <a:lnTo>
                      <a:pt x="801" y="764"/>
                    </a:lnTo>
                    <a:lnTo>
                      <a:pt x="508" y="764"/>
                    </a:lnTo>
                    <a:lnTo>
                      <a:pt x="508" y="710"/>
                    </a:lnTo>
                    <a:lnTo>
                      <a:pt x="512" y="710"/>
                    </a:lnTo>
                    <a:lnTo>
                      <a:pt x="522" y="710"/>
                    </a:lnTo>
                    <a:lnTo>
                      <a:pt x="531" y="707"/>
                    </a:lnTo>
                    <a:lnTo>
                      <a:pt x="539" y="703"/>
                    </a:lnTo>
                    <a:lnTo>
                      <a:pt x="545" y="695"/>
                    </a:lnTo>
                    <a:lnTo>
                      <a:pt x="551" y="688"/>
                    </a:lnTo>
                    <a:lnTo>
                      <a:pt x="555" y="678"/>
                    </a:lnTo>
                    <a:lnTo>
                      <a:pt x="557" y="668"/>
                    </a:lnTo>
                    <a:lnTo>
                      <a:pt x="557" y="656"/>
                    </a:lnTo>
                    <a:lnTo>
                      <a:pt x="557" y="253"/>
                    </a:lnTo>
                    <a:lnTo>
                      <a:pt x="557" y="240"/>
                    </a:lnTo>
                    <a:lnTo>
                      <a:pt x="555" y="226"/>
                    </a:lnTo>
                    <a:lnTo>
                      <a:pt x="552" y="214"/>
                    </a:lnTo>
                    <a:lnTo>
                      <a:pt x="549" y="203"/>
                    </a:lnTo>
                    <a:lnTo>
                      <a:pt x="543" y="192"/>
                    </a:lnTo>
                    <a:lnTo>
                      <a:pt x="536" y="181"/>
                    </a:lnTo>
                    <a:lnTo>
                      <a:pt x="529" y="171"/>
                    </a:lnTo>
                    <a:lnTo>
                      <a:pt x="520" y="163"/>
                    </a:lnTo>
                    <a:lnTo>
                      <a:pt x="511" y="154"/>
                    </a:lnTo>
                    <a:lnTo>
                      <a:pt x="499" y="147"/>
                    </a:lnTo>
                    <a:lnTo>
                      <a:pt x="488" y="140"/>
                    </a:lnTo>
                    <a:lnTo>
                      <a:pt x="476" y="136"/>
                    </a:lnTo>
                    <a:lnTo>
                      <a:pt x="464" y="132"/>
                    </a:lnTo>
                    <a:lnTo>
                      <a:pt x="450" y="129"/>
                    </a:lnTo>
                    <a:lnTo>
                      <a:pt x="436" y="128"/>
                    </a:lnTo>
                    <a:lnTo>
                      <a:pt x="421" y="127"/>
                    </a:lnTo>
                    <a:lnTo>
                      <a:pt x="407" y="128"/>
                    </a:lnTo>
                    <a:lnTo>
                      <a:pt x="394" y="129"/>
                    </a:lnTo>
                    <a:lnTo>
                      <a:pt x="381" y="131"/>
                    </a:lnTo>
                    <a:lnTo>
                      <a:pt x="369" y="133"/>
                    </a:lnTo>
                    <a:lnTo>
                      <a:pt x="356" y="137"/>
                    </a:lnTo>
                    <a:lnTo>
                      <a:pt x="345" y="140"/>
                    </a:lnTo>
                    <a:lnTo>
                      <a:pt x="332" y="145"/>
                    </a:lnTo>
                    <a:lnTo>
                      <a:pt x="321" y="150"/>
                    </a:lnTo>
                    <a:lnTo>
                      <a:pt x="309" y="156"/>
                    </a:lnTo>
                    <a:lnTo>
                      <a:pt x="299" y="164"/>
                    </a:lnTo>
                    <a:lnTo>
                      <a:pt x="288" y="171"/>
                    </a:lnTo>
                    <a:lnTo>
                      <a:pt x="279" y="179"/>
                    </a:lnTo>
                    <a:lnTo>
                      <a:pt x="269" y="187"/>
                    </a:lnTo>
                    <a:lnTo>
                      <a:pt x="261" y="196"/>
                    </a:lnTo>
                    <a:lnTo>
                      <a:pt x="253" y="206"/>
                    </a:lnTo>
                    <a:lnTo>
                      <a:pt x="246" y="217"/>
                    </a:lnTo>
                    <a:lnTo>
                      <a:pt x="246" y="640"/>
                    </a:lnTo>
                    <a:lnTo>
                      <a:pt x="247" y="660"/>
                    </a:lnTo>
                    <a:lnTo>
                      <a:pt x="249" y="676"/>
                    </a:lnTo>
                    <a:lnTo>
                      <a:pt x="250" y="683"/>
                    </a:lnTo>
                    <a:lnTo>
                      <a:pt x="252" y="688"/>
                    </a:lnTo>
                    <a:lnTo>
                      <a:pt x="253" y="693"/>
                    </a:lnTo>
                    <a:lnTo>
                      <a:pt x="256" y="695"/>
                    </a:lnTo>
                    <a:lnTo>
                      <a:pt x="262" y="702"/>
                    </a:lnTo>
                    <a:lnTo>
                      <a:pt x="271" y="705"/>
                    </a:lnTo>
                    <a:lnTo>
                      <a:pt x="282" y="709"/>
                    </a:lnTo>
                    <a:lnTo>
                      <a:pt x="294" y="710"/>
                    </a:lnTo>
                    <a:lnTo>
                      <a:pt x="295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337240" y="210240"/>
                <a:ext cx="59760" cy="666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6" y="350"/>
                    </a:moveTo>
                    <a:lnTo>
                      <a:pt x="457" y="359"/>
                    </a:lnTo>
                    <a:lnTo>
                      <a:pt x="422" y="367"/>
                    </a:lnTo>
                    <a:lnTo>
                      <a:pt x="389" y="377"/>
                    </a:lnTo>
                    <a:lnTo>
                      <a:pt x="359" y="386"/>
                    </a:lnTo>
                    <a:lnTo>
                      <a:pt x="332" y="395"/>
                    </a:lnTo>
                    <a:lnTo>
                      <a:pt x="309" y="405"/>
                    </a:lnTo>
                    <a:lnTo>
                      <a:pt x="288" y="416"/>
                    </a:lnTo>
                    <a:lnTo>
                      <a:pt x="269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29" y="462"/>
                    </a:lnTo>
                    <a:lnTo>
                      <a:pt x="220" y="475"/>
                    </a:lnTo>
                    <a:lnTo>
                      <a:pt x="213" y="489"/>
                    </a:lnTo>
                    <a:lnTo>
                      <a:pt x="208" y="503"/>
                    </a:lnTo>
                    <a:lnTo>
                      <a:pt x="204" y="519"/>
                    </a:lnTo>
                    <a:lnTo>
                      <a:pt x="204" y="535"/>
                    </a:lnTo>
                    <a:lnTo>
                      <a:pt x="204" y="548"/>
                    </a:lnTo>
                    <a:lnTo>
                      <a:pt x="205" y="559"/>
                    </a:lnTo>
                    <a:lnTo>
                      <a:pt x="208" y="570"/>
                    </a:lnTo>
                    <a:lnTo>
                      <a:pt x="211" y="581"/>
                    </a:lnTo>
                    <a:lnTo>
                      <a:pt x="215" y="591"/>
                    </a:lnTo>
                    <a:lnTo>
                      <a:pt x="221" y="599"/>
                    </a:lnTo>
                    <a:lnTo>
                      <a:pt x="227" y="608"/>
                    </a:lnTo>
                    <a:lnTo>
                      <a:pt x="235" y="615"/>
                    </a:lnTo>
                    <a:lnTo>
                      <a:pt x="243" y="623"/>
                    </a:lnTo>
                    <a:lnTo>
                      <a:pt x="252" y="629"/>
                    </a:lnTo>
                    <a:lnTo>
                      <a:pt x="262" y="634"/>
                    </a:lnTo>
                    <a:lnTo>
                      <a:pt x="272" y="637"/>
                    </a:lnTo>
                    <a:lnTo>
                      <a:pt x="283" y="641"/>
                    </a:lnTo>
                    <a:lnTo>
                      <a:pt x="294" y="643"/>
                    </a:lnTo>
                    <a:lnTo>
                      <a:pt x="306" y="645"/>
                    </a:lnTo>
                    <a:lnTo>
                      <a:pt x="319" y="645"/>
                    </a:lnTo>
                    <a:lnTo>
                      <a:pt x="338" y="645"/>
                    </a:lnTo>
                    <a:lnTo>
                      <a:pt x="358" y="641"/>
                    </a:lnTo>
                    <a:lnTo>
                      <a:pt x="379" y="636"/>
                    </a:lnTo>
                    <a:lnTo>
                      <a:pt x="398" y="629"/>
                    </a:lnTo>
                    <a:lnTo>
                      <a:pt x="418" y="619"/>
                    </a:lnTo>
                    <a:lnTo>
                      <a:pt x="442" y="604"/>
                    </a:lnTo>
                    <a:lnTo>
                      <a:pt x="467" y="587"/>
                    </a:lnTo>
                    <a:lnTo>
                      <a:pt x="496" y="567"/>
                    </a:lnTo>
                    <a:lnTo>
                      <a:pt x="496" y="350"/>
                    </a:lnTo>
                    <a:close/>
                    <a:moveTo>
                      <a:pt x="509" y="766"/>
                    </a:moveTo>
                    <a:lnTo>
                      <a:pt x="509" y="682"/>
                    </a:lnTo>
                    <a:lnTo>
                      <a:pt x="497" y="694"/>
                    </a:lnTo>
                    <a:lnTo>
                      <a:pt x="485" y="705"/>
                    </a:lnTo>
                    <a:lnTo>
                      <a:pt x="472" y="716"/>
                    </a:lnTo>
                    <a:lnTo>
                      <a:pt x="460" y="726"/>
                    </a:lnTo>
                    <a:lnTo>
                      <a:pt x="446" y="734"/>
                    </a:lnTo>
                    <a:lnTo>
                      <a:pt x="433" y="743"/>
                    </a:lnTo>
                    <a:lnTo>
                      <a:pt x="418" y="750"/>
                    </a:lnTo>
                    <a:lnTo>
                      <a:pt x="403" y="756"/>
                    </a:lnTo>
                    <a:lnTo>
                      <a:pt x="389" y="763"/>
                    </a:lnTo>
                    <a:lnTo>
                      <a:pt x="373" y="767"/>
                    </a:lnTo>
                    <a:lnTo>
                      <a:pt x="357" y="771"/>
                    </a:lnTo>
                    <a:lnTo>
                      <a:pt x="339" y="775"/>
                    </a:lnTo>
                    <a:lnTo>
                      <a:pt x="322" y="777"/>
                    </a:lnTo>
                    <a:lnTo>
                      <a:pt x="305" y="779"/>
                    </a:lnTo>
                    <a:lnTo>
                      <a:pt x="285" y="780"/>
                    </a:lnTo>
                    <a:lnTo>
                      <a:pt x="267" y="780"/>
                    </a:lnTo>
                    <a:lnTo>
                      <a:pt x="237" y="780"/>
                    </a:lnTo>
                    <a:lnTo>
                      <a:pt x="209" y="776"/>
                    </a:lnTo>
                    <a:lnTo>
                      <a:pt x="183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2" y="738"/>
                    </a:lnTo>
                    <a:lnTo>
                      <a:pt x="92" y="731"/>
                    </a:lnTo>
                    <a:lnTo>
                      <a:pt x="82" y="723"/>
                    </a:lnTo>
                    <a:lnTo>
                      <a:pt x="73" y="716"/>
                    </a:lnTo>
                    <a:lnTo>
                      <a:pt x="64" y="707"/>
                    </a:lnTo>
                    <a:lnTo>
                      <a:pt x="55" y="699"/>
                    </a:lnTo>
                    <a:lnTo>
                      <a:pt x="48" y="690"/>
                    </a:lnTo>
                    <a:lnTo>
                      <a:pt x="41" y="682"/>
                    </a:lnTo>
                    <a:lnTo>
                      <a:pt x="34" y="672"/>
                    </a:lnTo>
                    <a:lnTo>
                      <a:pt x="28" y="662"/>
                    </a:lnTo>
                    <a:lnTo>
                      <a:pt x="22" y="652"/>
                    </a:lnTo>
                    <a:lnTo>
                      <a:pt x="18" y="642"/>
                    </a:lnTo>
                    <a:lnTo>
                      <a:pt x="13" y="631"/>
                    </a:lnTo>
                    <a:lnTo>
                      <a:pt x="10" y="620"/>
                    </a:lnTo>
                    <a:lnTo>
                      <a:pt x="6" y="609"/>
                    </a:lnTo>
                    <a:lnTo>
                      <a:pt x="4" y="597"/>
                    </a:lnTo>
                    <a:lnTo>
                      <a:pt x="0" y="573"/>
                    </a:lnTo>
                    <a:lnTo>
                      <a:pt x="0" y="548"/>
                    </a:lnTo>
                    <a:lnTo>
                      <a:pt x="0" y="534"/>
                    </a:lnTo>
                    <a:lnTo>
                      <a:pt x="1" y="519"/>
                    </a:lnTo>
                    <a:lnTo>
                      <a:pt x="4" y="506"/>
                    </a:lnTo>
                    <a:lnTo>
                      <a:pt x="6" y="494"/>
                    </a:lnTo>
                    <a:lnTo>
                      <a:pt x="10" y="481"/>
                    </a:lnTo>
                    <a:lnTo>
                      <a:pt x="15" y="468"/>
                    </a:lnTo>
                    <a:lnTo>
                      <a:pt x="20" y="457"/>
                    </a:lnTo>
                    <a:lnTo>
                      <a:pt x="26" y="445"/>
                    </a:lnTo>
                    <a:lnTo>
                      <a:pt x="33" y="433"/>
                    </a:lnTo>
                    <a:lnTo>
                      <a:pt x="41" y="422"/>
                    </a:lnTo>
                    <a:lnTo>
                      <a:pt x="49" y="413"/>
                    </a:lnTo>
                    <a:lnTo>
                      <a:pt x="59" y="403"/>
                    </a:lnTo>
                    <a:lnTo>
                      <a:pt x="69" y="393"/>
                    </a:lnTo>
                    <a:lnTo>
                      <a:pt x="80" y="383"/>
                    </a:lnTo>
                    <a:lnTo>
                      <a:pt x="92" y="375"/>
                    </a:lnTo>
                    <a:lnTo>
                      <a:pt x="104" y="366"/>
                    </a:lnTo>
                    <a:lnTo>
                      <a:pt x="119" y="357"/>
                    </a:lnTo>
                    <a:lnTo>
                      <a:pt x="134" y="349"/>
                    </a:lnTo>
                    <a:lnTo>
                      <a:pt x="151" y="341"/>
                    </a:lnTo>
                    <a:lnTo>
                      <a:pt x="170" y="333"/>
                    </a:lnTo>
                    <a:lnTo>
                      <a:pt x="211" y="317"/>
                    </a:lnTo>
                    <a:lnTo>
                      <a:pt x="259" y="301"/>
                    </a:lnTo>
                    <a:lnTo>
                      <a:pt x="312" y="285"/>
                    </a:lnTo>
                    <a:lnTo>
                      <a:pt x="373" y="269"/>
                    </a:lnTo>
                    <a:lnTo>
                      <a:pt x="438" y="254"/>
                    </a:lnTo>
                    <a:lnTo>
                      <a:pt x="509" y="239"/>
                    </a:lnTo>
                    <a:lnTo>
                      <a:pt x="505" y="225"/>
                    </a:lnTo>
                    <a:lnTo>
                      <a:pt x="502" y="210"/>
                    </a:lnTo>
                    <a:lnTo>
                      <a:pt x="497" y="198"/>
                    </a:lnTo>
                    <a:lnTo>
                      <a:pt x="491" y="185"/>
                    </a:lnTo>
                    <a:lnTo>
                      <a:pt x="483" y="174"/>
                    </a:lnTo>
                    <a:lnTo>
                      <a:pt x="476" y="165"/>
                    </a:lnTo>
                    <a:lnTo>
                      <a:pt x="467" y="156"/>
                    </a:lnTo>
                    <a:lnTo>
                      <a:pt x="457" y="149"/>
                    </a:lnTo>
                    <a:lnTo>
                      <a:pt x="446" y="141"/>
                    </a:lnTo>
                    <a:lnTo>
                      <a:pt x="434" y="136"/>
                    </a:lnTo>
                    <a:lnTo>
                      <a:pt x="421" y="130"/>
                    </a:lnTo>
                    <a:lnTo>
                      <a:pt x="407" y="127"/>
                    </a:lnTo>
                    <a:lnTo>
                      <a:pt x="391" y="124"/>
                    </a:lnTo>
                    <a:lnTo>
                      <a:pt x="375" y="122"/>
                    </a:lnTo>
                    <a:lnTo>
                      <a:pt x="358" y="120"/>
                    </a:lnTo>
                    <a:lnTo>
                      <a:pt x="338" y="119"/>
                    </a:lnTo>
                    <a:lnTo>
                      <a:pt x="319" y="119"/>
                    </a:lnTo>
                    <a:lnTo>
                      <a:pt x="300" y="120"/>
                    </a:lnTo>
                    <a:lnTo>
                      <a:pt x="282" y="123"/>
                    </a:lnTo>
                    <a:lnTo>
                      <a:pt x="264" y="125"/>
                    </a:lnTo>
                    <a:lnTo>
                      <a:pt x="248" y="128"/>
                    </a:lnTo>
                    <a:lnTo>
                      <a:pt x="234" y="133"/>
                    </a:lnTo>
                    <a:lnTo>
                      <a:pt x="219" y="136"/>
                    </a:lnTo>
                    <a:lnTo>
                      <a:pt x="205" y="142"/>
                    </a:lnTo>
                    <a:lnTo>
                      <a:pt x="193" y="149"/>
                    </a:lnTo>
                    <a:lnTo>
                      <a:pt x="181" y="155"/>
                    </a:lnTo>
                    <a:lnTo>
                      <a:pt x="171" y="162"/>
                    </a:lnTo>
                    <a:lnTo>
                      <a:pt x="160" y="171"/>
                    </a:lnTo>
                    <a:lnTo>
                      <a:pt x="151" y="179"/>
                    </a:lnTo>
                    <a:lnTo>
                      <a:pt x="143" y="189"/>
                    </a:lnTo>
                    <a:lnTo>
                      <a:pt x="135" y="200"/>
                    </a:lnTo>
                    <a:lnTo>
                      <a:pt x="128" y="211"/>
                    </a:lnTo>
                    <a:lnTo>
                      <a:pt x="65" y="211"/>
                    </a:lnTo>
                    <a:lnTo>
                      <a:pt x="65" y="43"/>
                    </a:lnTo>
                    <a:lnTo>
                      <a:pt x="108" y="33"/>
                    </a:lnTo>
                    <a:lnTo>
                      <a:pt x="150" y="25"/>
                    </a:lnTo>
                    <a:lnTo>
                      <a:pt x="189" y="17"/>
                    </a:lnTo>
                    <a:lnTo>
                      <a:pt x="227" y="11"/>
                    </a:lnTo>
                    <a:lnTo>
                      <a:pt x="263" y="6"/>
                    </a:lnTo>
                    <a:lnTo>
                      <a:pt x="299" y="4"/>
                    </a:lnTo>
                    <a:lnTo>
                      <a:pt x="333" y="1"/>
                    </a:lnTo>
                    <a:lnTo>
                      <a:pt x="366" y="0"/>
                    </a:lnTo>
                    <a:lnTo>
                      <a:pt x="408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5" y="16"/>
                    </a:lnTo>
                    <a:lnTo>
                      <a:pt x="530" y="20"/>
                    </a:lnTo>
                    <a:lnTo>
                      <a:pt x="545" y="25"/>
                    </a:lnTo>
                    <a:lnTo>
                      <a:pt x="558" y="30"/>
                    </a:lnTo>
                    <a:lnTo>
                      <a:pt x="571" y="36"/>
                    </a:lnTo>
                    <a:lnTo>
                      <a:pt x="583" y="41"/>
                    </a:lnTo>
                    <a:lnTo>
                      <a:pt x="594" y="48"/>
                    </a:lnTo>
                    <a:lnTo>
                      <a:pt x="605" y="54"/>
                    </a:lnTo>
                    <a:lnTo>
                      <a:pt x="615" y="61"/>
                    </a:lnTo>
                    <a:lnTo>
                      <a:pt x="624" y="70"/>
                    </a:lnTo>
                    <a:lnTo>
                      <a:pt x="632" y="79"/>
                    </a:lnTo>
                    <a:lnTo>
                      <a:pt x="640" y="88"/>
                    </a:lnTo>
                    <a:lnTo>
                      <a:pt x="647" y="98"/>
                    </a:lnTo>
                    <a:lnTo>
                      <a:pt x="654" y="108"/>
                    </a:lnTo>
                    <a:lnTo>
                      <a:pt x="660" y="119"/>
                    </a:lnTo>
                    <a:lnTo>
                      <a:pt x="665" y="131"/>
                    </a:lnTo>
                    <a:lnTo>
                      <a:pt x="670" y="144"/>
                    </a:lnTo>
                    <a:lnTo>
                      <a:pt x="675" y="157"/>
                    </a:lnTo>
                    <a:lnTo>
                      <a:pt x="679" y="171"/>
                    </a:lnTo>
                    <a:lnTo>
                      <a:pt x="683" y="185"/>
                    </a:lnTo>
                    <a:lnTo>
                      <a:pt x="685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89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0" y="659"/>
                    </a:lnTo>
                    <a:lnTo>
                      <a:pt x="692" y="673"/>
                    </a:lnTo>
                    <a:lnTo>
                      <a:pt x="695" y="684"/>
                    </a:lnTo>
                    <a:lnTo>
                      <a:pt x="700" y="691"/>
                    </a:lnTo>
                    <a:lnTo>
                      <a:pt x="706" y="697"/>
                    </a:lnTo>
                    <a:lnTo>
                      <a:pt x="713" y="702"/>
                    </a:lnTo>
                    <a:lnTo>
                      <a:pt x="724" y="705"/>
                    </a:lnTo>
                    <a:lnTo>
                      <a:pt x="737" y="706"/>
                    </a:lnTo>
                    <a:lnTo>
                      <a:pt x="738" y="766"/>
                    </a:lnTo>
                    <a:lnTo>
                      <a:pt x="509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405640" y="182160"/>
                <a:ext cx="23760" cy="93600"/>
              </a:xfrm>
              <a:custGeom>
                <a:avLst/>
                <a:gdLst/>
                <a:ahLst/>
                <a:rect l="l" t="t" r="r" b="b"/>
                <a:pathLst>
                  <a:path w="296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3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9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6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472600" y="210240"/>
                <a:ext cx="55080" cy="67320"/>
              </a:xfrm>
              <a:custGeom>
                <a:avLst/>
                <a:gdLst/>
                <a:ahLst/>
                <a:rect l="l" t="t" r="r" b="b"/>
                <a:pathLst>
                  <a:path w="683" h="786">
                    <a:moveTo>
                      <a:pt x="120" y="506"/>
                    </a:moveTo>
                    <a:lnTo>
                      <a:pt x="173" y="553"/>
                    </a:lnTo>
                    <a:lnTo>
                      <a:pt x="169" y="565"/>
                    </a:lnTo>
                    <a:lnTo>
                      <a:pt x="168" y="574"/>
                    </a:lnTo>
                    <a:lnTo>
                      <a:pt x="166" y="581"/>
                    </a:lnTo>
                    <a:lnTo>
                      <a:pt x="165" y="589"/>
                    </a:lnTo>
                    <a:lnTo>
                      <a:pt x="166" y="597"/>
                    </a:lnTo>
                    <a:lnTo>
                      <a:pt x="169" y="606"/>
                    </a:lnTo>
                    <a:lnTo>
                      <a:pt x="171" y="614"/>
                    </a:lnTo>
                    <a:lnTo>
                      <a:pt x="176" y="622"/>
                    </a:lnTo>
                    <a:lnTo>
                      <a:pt x="182" y="629"/>
                    </a:lnTo>
                    <a:lnTo>
                      <a:pt x="191" y="635"/>
                    </a:lnTo>
                    <a:lnTo>
                      <a:pt x="200" y="643"/>
                    </a:lnTo>
                    <a:lnTo>
                      <a:pt x="211" y="648"/>
                    </a:lnTo>
                    <a:lnTo>
                      <a:pt x="222" y="654"/>
                    </a:lnTo>
                    <a:lnTo>
                      <a:pt x="235" y="657"/>
                    </a:lnTo>
                    <a:lnTo>
                      <a:pt x="249" y="661"/>
                    </a:lnTo>
                    <a:lnTo>
                      <a:pt x="264" y="665"/>
                    </a:lnTo>
                    <a:lnTo>
                      <a:pt x="280" y="667"/>
                    </a:lnTo>
                    <a:lnTo>
                      <a:pt x="297" y="668"/>
                    </a:lnTo>
                    <a:lnTo>
                      <a:pt x="315" y="670"/>
                    </a:lnTo>
                    <a:lnTo>
                      <a:pt x="334" y="670"/>
                    </a:lnTo>
                    <a:lnTo>
                      <a:pt x="351" y="670"/>
                    </a:lnTo>
                    <a:lnTo>
                      <a:pt x="368" y="668"/>
                    </a:lnTo>
                    <a:lnTo>
                      <a:pt x="383" y="666"/>
                    </a:lnTo>
                    <a:lnTo>
                      <a:pt x="398" y="664"/>
                    </a:lnTo>
                    <a:lnTo>
                      <a:pt x="411" y="660"/>
                    </a:lnTo>
                    <a:lnTo>
                      <a:pt x="424" y="656"/>
                    </a:lnTo>
                    <a:lnTo>
                      <a:pt x="436" y="650"/>
                    </a:lnTo>
                    <a:lnTo>
                      <a:pt x="446" y="645"/>
                    </a:lnTo>
                    <a:lnTo>
                      <a:pt x="456" y="638"/>
                    </a:lnTo>
                    <a:lnTo>
                      <a:pt x="464" y="630"/>
                    </a:lnTo>
                    <a:lnTo>
                      <a:pt x="470" y="623"/>
                    </a:lnTo>
                    <a:lnTo>
                      <a:pt x="476" y="614"/>
                    </a:lnTo>
                    <a:lnTo>
                      <a:pt x="481" y="605"/>
                    </a:lnTo>
                    <a:lnTo>
                      <a:pt x="484" y="596"/>
                    </a:lnTo>
                    <a:lnTo>
                      <a:pt x="486" y="585"/>
                    </a:lnTo>
                    <a:lnTo>
                      <a:pt x="486" y="574"/>
                    </a:lnTo>
                    <a:lnTo>
                      <a:pt x="486" y="567"/>
                    </a:lnTo>
                    <a:lnTo>
                      <a:pt x="484" y="558"/>
                    </a:lnTo>
                    <a:lnTo>
                      <a:pt x="481" y="551"/>
                    </a:lnTo>
                    <a:lnTo>
                      <a:pt x="478" y="543"/>
                    </a:lnTo>
                    <a:lnTo>
                      <a:pt x="473" y="536"/>
                    </a:lnTo>
                    <a:lnTo>
                      <a:pt x="467" y="528"/>
                    </a:lnTo>
                    <a:lnTo>
                      <a:pt x="458" y="521"/>
                    </a:lnTo>
                    <a:lnTo>
                      <a:pt x="451" y="515"/>
                    </a:lnTo>
                    <a:lnTo>
                      <a:pt x="441" y="508"/>
                    </a:lnTo>
                    <a:lnTo>
                      <a:pt x="430" y="501"/>
                    </a:lnTo>
                    <a:lnTo>
                      <a:pt x="417" y="494"/>
                    </a:lnTo>
                    <a:lnTo>
                      <a:pt x="404" y="488"/>
                    </a:lnTo>
                    <a:lnTo>
                      <a:pt x="374" y="476"/>
                    </a:lnTo>
                    <a:lnTo>
                      <a:pt x="341" y="465"/>
                    </a:lnTo>
                    <a:lnTo>
                      <a:pt x="323" y="460"/>
                    </a:lnTo>
                    <a:lnTo>
                      <a:pt x="307" y="455"/>
                    </a:lnTo>
                    <a:lnTo>
                      <a:pt x="292" y="450"/>
                    </a:lnTo>
                    <a:lnTo>
                      <a:pt x="280" y="446"/>
                    </a:lnTo>
                    <a:lnTo>
                      <a:pt x="249" y="435"/>
                    </a:lnTo>
                    <a:lnTo>
                      <a:pt x="221" y="424"/>
                    </a:lnTo>
                    <a:lnTo>
                      <a:pt x="195" y="413"/>
                    </a:lnTo>
                    <a:lnTo>
                      <a:pt x="171" y="401"/>
                    </a:lnTo>
                    <a:lnTo>
                      <a:pt x="150" y="390"/>
                    </a:lnTo>
                    <a:lnTo>
                      <a:pt x="131" y="377"/>
                    </a:lnTo>
                    <a:lnTo>
                      <a:pt x="115" y="365"/>
                    </a:lnTo>
                    <a:lnTo>
                      <a:pt x="100" y="353"/>
                    </a:lnTo>
                    <a:lnTo>
                      <a:pt x="88" y="339"/>
                    </a:lnTo>
                    <a:lnTo>
                      <a:pt x="77" y="326"/>
                    </a:lnTo>
                    <a:lnTo>
                      <a:pt x="68" y="310"/>
                    </a:lnTo>
                    <a:lnTo>
                      <a:pt x="61" y="294"/>
                    </a:lnTo>
                    <a:lnTo>
                      <a:pt x="55" y="278"/>
                    </a:lnTo>
                    <a:lnTo>
                      <a:pt x="51" y="261"/>
                    </a:lnTo>
                    <a:lnTo>
                      <a:pt x="48" y="242"/>
                    </a:lnTo>
                    <a:lnTo>
                      <a:pt x="47" y="223"/>
                    </a:lnTo>
                    <a:lnTo>
                      <a:pt x="47" y="209"/>
                    </a:lnTo>
                    <a:lnTo>
                      <a:pt x="48" y="197"/>
                    </a:lnTo>
                    <a:lnTo>
                      <a:pt x="51" y="185"/>
                    </a:lnTo>
                    <a:lnTo>
                      <a:pt x="53" y="174"/>
                    </a:lnTo>
                    <a:lnTo>
                      <a:pt x="56" y="161"/>
                    </a:lnTo>
                    <a:lnTo>
                      <a:pt x="59" y="150"/>
                    </a:lnTo>
                    <a:lnTo>
                      <a:pt x="63" y="140"/>
                    </a:lnTo>
                    <a:lnTo>
                      <a:pt x="69" y="129"/>
                    </a:lnTo>
                    <a:lnTo>
                      <a:pt x="74" y="120"/>
                    </a:lnTo>
                    <a:lnTo>
                      <a:pt x="80" y="110"/>
                    </a:lnTo>
                    <a:lnTo>
                      <a:pt x="88" y="101"/>
                    </a:lnTo>
                    <a:lnTo>
                      <a:pt x="95" y="91"/>
                    </a:lnTo>
                    <a:lnTo>
                      <a:pt x="104" y="83"/>
                    </a:lnTo>
                    <a:lnTo>
                      <a:pt x="114" y="74"/>
                    </a:lnTo>
                    <a:lnTo>
                      <a:pt x="122" y="67"/>
                    </a:lnTo>
                    <a:lnTo>
                      <a:pt x="133" y="59"/>
                    </a:lnTo>
                    <a:lnTo>
                      <a:pt x="144" y="52"/>
                    </a:lnTo>
                    <a:lnTo>
                      <a:pt x="155" y="46"/>
                    </a:lnTo>
                    <a:lnTo>
                      <a:pt x="168" y="40"/>
                    </a:lnTo>
                    <a:lnTo>
                      <a:pt x="180" y="34"/>
                    </a:lnTo>
                    <a:lnTo>
                      <a:pt x="207" y="24"/>
                    </a:lnTo>
                    <a:lnTo>
                      <a:pt x="235" y="15"/>
                    </a:lnTo>
                    <a:lnTo>
                      <a:pt x="266" y="9"/>
                    </a:lnTo>
                    <a:lnTo>
                      <a:pt x="299" y="4"/>
                    </a:lnTo>
                    <a:lnTo>
                      <a:pt x="334" y="0"/>
                    </a:lnTo>
                    <a:lnTo>
                      <a:pt x="372" y="0"/>
                    </a:lnTo>
                    <a:lnTo>
                      <a:pt x="390" y="0"/>
                    </a:lnTo>
                    <a:lnTo>
                      <a:pt x="410" y="2"/>
                    </a:lnTo>
                    <a:lnTo>
                      <a:pt x="428" y="3"/>
                    </a:lnTo>
                    <a:lnTo>
                      <a:pt x="448" y="5"/>
                    </a:lnTo>
                    <a:lnTo>
                      <a:pt x="467" y="8"/>
                    </a:lnTo>
                    <a:lnTo>
                      <a:pt x="485" y="12"/>
                    </a:lnTo>
                    <a:lnTo>
                      <a:pt x="503" y="15"/>
                    </a:lnTo>
                    <a:lnTo>
                      <a:pt x="522" y="20"/>
                    </a:lnTo>
                    <a:lnTo>
                      <a:pt x="540" y="26"/>
                    </a:lnTo>
                    <a:lnTo>
                      <a:pt x="558" y="32"/>
                    </a:lnTo>
                    <a:lnTo>
                      <a:pt x="576" y="39"/>
                    </a:lnTo>
                    <a:lnTo>
                      <a:pt x="593" y="46"/>
                    </a:lnTo>
                    <a:lnTo>
                      <a:pt x="611" y="53"/>
                    </a:lnTo>
                    <a:lnTo>
                      <a:pt x="628" y="62"/>
                    </a:lnTo>
                    <a:lnTo>
                      <a:pt x="644" y="72"/>
                    </a:lnTo>
                    <a:lnTo>
                      <a:pt x="661" y="82"/>
                    </a:lnTo>
                    <a:lnTo>
                      <a:pt x="560" y="245"/>
                    </a:lnTo>
                    <a:lnTo>
                      <a:pt x="505" y="223"/>
                    </a:lnTo>
                    <a:lnTo>
                      <a:pt x="506" y="218"/>
                    </a:lnTo>
                    <a:lnTo>
                      <a:pt x="507" y="212"/>
                    </a:lnTo>
                    <a:lnTo>
                      <a:pt x="508" y="206"/>
                    </a:lnTo>
                    <a:lnTo>
                      <a:pt x="508" y="194"/>
                    </a:lnTo>
                    <a:lnTo>
                      <a:pt x="507" y="186"/>
                    </a:lnTo>
                    <a:lnTo>
                      <a:pt x="506" y="177"/>
                    </a:lnTo>
                    <a:lnTo>
                      <a:pt x="502" y="170"/>
                    </a:lnTo>
                    <a:lnTo>
                      <a:pt x="499" y="163"/>
                    </a:lnTo>
                    <a:lnTo>
                      <a:pt x="494" y="155"/>
                    </a:lnTo>
                    <a:lnTo>
                      <a:pt x="486" y="149"/>
                    </a:lnTo>
                    <a:lnTo>
                      <a:pt x="479" y="143"/>
                    </a:lnTo>
                    <a:lnTo>
                      <a:pt x="470" y="137"/>
                    </a:lnTo>
                    <a:lnTo>
                      <a:pt x="459" y="132"/>
                    </a:lnTo>
                    <a:lnTo>
                      <a:pt x="448" y="128"/>
                    </a:lnTo>
                    <a:lnTo>
                      <a:pt x="437" y="125"/>
                    </a:lnTo>
                    <a:lnTo>
                      <a:pt x="424" y="121"/>
                    </a:lnTo>
                    <a:lnTo>
                      <a:pt x="410" y="118"/>
                    </a:lnTo>
                    <a:lnTo>
                      <a:pt x="395" y="117"/>
                    </a:lnTo>
                    <a:lnTo>
                      <a:pt x="380" y="116"/>
                    </a:lnTo>
                    <a:lnTo>
                      <a:pt x="363" y="116"/>
                    </a:lnTo>
                    <a:lnTo>
                      <a:pt x="349" y="116"/>
                    </a:lnTo>
                    <a:lnTo>
                      <a:pt x="335" y="117"/>
                    </a:lnTo>
                    <a:lnTo>
                      <a:pt x="321" y="118"/>
                    </a:lnTo>
                    <a:lnTo>
                      <a:pt x="309" y="121"/>
                    </a:lnTo>
                    <a:lnTo>
                      <a:pt x="298" y="123"/>
                    </a:lnTo>
                    <a:lnTo>
                      <a:pt x="287" y="126"/>
                    </a:lnTo>
                    <a:lnTo>
                      <a:pt x="278" y="129"/>
                    </a:lnTo>
                    <a:lnTo>
                      <a:pt x="270" y="134"/>
                    </a:lnTo>
                    <a:lnTo>
                      <a:pt x="262" y="139"/>
                    </a:lnTo>
                    <a:lnTo>
                      <a:pt x="256" y="144"/>
                    </a:lnTo>
                    <a:lnTo>
                      <a:pt x="250" y="150"/>
                    </a:lnTo>
                    <a:lnTo>
                      <a:pt x="246" y="156"/>
                    </a:lnTo>
                    <a:lnTo>
                      <a:pt x="243" y="163"/>
                    </a:lnTo>
                    <a:lnTo>
                      <a:pt x="240" y="170"/>
                    </a:lnTo>
                    <a:lnTo>
                      <a:pt x="238" y="179"/>
                    </a:lnTo>
                    <a:lnTo>
                      <a:pt x="238" y="186"/>
                    </a:lnTo>
                    <a:lnTo>
                      <a:pt x="238" y="192"/>
                    </a:lnTo>
                    <a:lnTo>
                      <a:pt x="240" y="197"/>
                    </a:lnTo>
                    <a:lnTo>
                      <a:pt x="243" y="203"/>
                    </a:lnTo>
                    <a:lnTo>
                      <a:pt x="245" y="208"/>
                    </a:lnTo>
                    <a:lnTo>
                      <a:pt x="250" y="213"/>
                    </a:lnTo>
                    <a:lnTo>
                      <a:pt x="255" y="219"/>
                    </a:lnTo>
                    <a:lnTo>
                      <a:pt x="261" y="224"/>
                    </a:lnTo>
                    <a:lnTo>
                      <a:pt x="269" y="229"/>
                    </a:lnTo>
                    <a:lnTo>
                      <a:pt x="286" y="239"/>
                    </a:lnTo>
                    <a:lnTo>
                      <a:pt x="307" y="249"/>
                    </a:lnTo>
                    <a:lnTo>
                      <a:pt x="333" y="258"/>
                    </a:lnTo>
                    <a:lnTo>
                      <a:pt x="361" y="268"/>
                    </a:lnTo>
                    <a:lnTo>
                      <a:pt x="385" y="276"/>
                    </a:lnTo>
                    <a:lnTo>
                      <a:pt x="408" y="282"/>
                    </a:lnTo>
                    <a:lnTo>
                      <a:pt x="427" y="288"/>
                    </a:lnTo>
                    <a:lnTo>
                      <a:pt x="443" y="294"/>
                    </a:lnTo>
                    <a:lnTo>
                      <a:pt x="475" y="305"/>
                    </a:lnTo>
                    <a:lnTo>
                      <a:pt x="505" y="316"/>
                    </a:lnTo>
                    <a:lnTo>
                      <a:pt x="532" y="328"/>
                    </a:lnTo>
                    <a:lnTo>
                      <a:pt x="556" y="341"/>
                    </a:lnTo>
                    <a:lnTo>
                      <a:pt x="579" y="353"/>
                    </a:lnTo>
                    <a:lnTo>
                      <a:pt x="597" y="365"/>
                    </a:lnTo>
                    <a:lnTo>
                      <a:pt x="614" y="379"/>
                    </a:lnTo>
                    <a:lnTo>
                      <a:pt x="629" y="392"/>
                    </a:lnTo>
                    <a:lnTo>
                      <a:pt x="642" y="407"/>
                    </a:lnTo>
                    <a:lnTo>
                      <a:pt x="652" y="422"/>
                    </a:lnTo>
                    <a:lnTo>
                      <a:pt x="662" y="438"/>
                    </a:lnTo>
                    <a:lnTo>
                      <a:pt x="670" y="455"/>
                    </a:lnTo>
                    <a:lnTo>
                      <a:pt x="676" y="473"/>
                    </a:lnTo>
                    <a:lnTo>
                      <a:pt x="679" y="492"/>
                    </a:lnTo>
                    <a:lnTo>
                      <a:pt x="682" y="511"/>
                    </a:lnTo>
                    <a:lnTo>
                      <a:pt x="683" y="532"/>
                    </a:lnTo>
                    <a:lnTo>
                      <a:pt x="683" y="546"/>
                    </a:lnTo>
                    <a:lnTo>
                      <a:pt x="682" y="559"/>
                    </a:lnTo>
                    <a:lnTo>
                      <a:pt x="679" y="573"/>
                    </a:lnTo>
                    <a:lnTo>
                      <a:pt x="677" y="586"/>
                    </a:lnTo>
                    <a:lnTo>
                      <a:pt x="673" y="598"/>
                    </a:lnTo>
                    <a:lnTo>
                      <a:pt x="670" y="611"/>
                    </a:lnTo>
                    <a:lnTo>
                      <a:pt x="665" y="623"/>
                    </a:lnTo>
                    <a:lnTo>
                      <a:pt x="660" y="634"/>
                    </a:lnTo>
                    <a:lnTo>
                      <a:pt x="654" y="645"/>
                    </a:lnTo>
                    <a:lnTo>
                      <a:pt x="646" y="656"/>
                    </a:lnTo>
                    <a:lnTo>
                      <a:pt x="639" y="667"/>
                    </a:lnTo>
                    <a:lnTo>
                      <a:pt x="630" y="677"/>
                    </a:lnTo>
                    <a:lnTo>
                      <a:pt x="620" y="688"/>
                    </a:lnTo>
                    <a:lnTo>
                      <a:pt x="611" y="698"/>
                    </a:lnTo>
                    <a:lnTo>
                      <a:pt x="599" y="707"/>
                    </a:lnTo>
                    <a:lnTo>
                      <a:pt x="588" y="715"/>
                    </a:lnTo>
                    <a:lnTo>
                      <a:pt x="576" y="724"/>
                    </a:lnTo>
                    <a:lnTo>
                      <a:pt x="564" y="732"/>
                    </a:lnTo>
                    <a:lnTo>
                      <a:pt x="550" y="740"/>
                    </a:lnTo>
                    <a:lnTo>
                      <a:pt x="537" y="747"/>
                    </a:lnTo>
                    <a:lnTo>
                      <a:pt x="523" y="753"/>
                    </a:lnTo>
                    <a:lnTo>
                      <a:pt x="508" y="759"/>
                    </a:lnTo>
                    <a:lnTo>
                      <a:pt x="494" y="764"/>
                    </a:lnTo>
                    <a:lnTo>
                      <a:pt x="478" y="769"/>
                    </a:lnTo>
                    <a:lnTo>
                      <a:pt x="462" y="773"/>
                    </a:lnTo>
                    <a:lnTo>
                      <a:pt x="446" y="777"/>
                    </a:lnTo>
                    <a:lnTo>
                      <a:pt x="428" y="780"/>
                    </a:lnTo>
                    <a:lnTo>
                      <a:pt x="411" y="783"/>
                    </a:lnTo>
                    <a:lnTo>
                      <a:pt x="374" y="785"/>
                    </a:lnTo>
                    <a:lnTo>
                      <a:pt x="336" y="786"/>
                    </a:lnTo>
                    <a:lnTo>
                      <a:pt x="312" y="786"/>
                    </a:lnTo>
                    <a:lnTo>
                      <a:pt x="287" y="785"/>
                    </a:lnTo>
                    <a:lnTo>
                      <a:pt x="262" y="783"/>
                    </a:lnTo>
                    <a:lnTo>
                      <a:pt x="239" y="779"/>
                    </a:lnTo>
                    <a:lnTo>
                      <a:pt x="217" y="775"/>
                    </a:lnTo>
                    <a:lnTo>
                      <a:pt x="195" y="770"/>
                    </a:lnTo>
                    <a:lnTo>
                      <a:pt x="173" y="765"/>
                    </a:lnTo>
                    <a:lnTo>
                      <a:pt x="152" y="758"/>
                    </a:lnTo>
                    <a:lnTo>
                      <a:pt x="132" y="751"/>
                    </a:lnTo>
                    <a:lnTo>
                      <a:pt x="112" y="742"/>
                    </a:lnTo>
                    <a:lnTo>
                      <a:pt x="93" y="732"/>
                    </a:lnTo>
                    <a:lnTo>
                      <a:pt x="73" y="722"/>
                    </a:lnTo>
                    <a:lnTo>
                      <a:pt x="55" y="711"/>
                    </a:lnTo>
                    <a:lnTo>
                      <a:pt x="36" y="699"/>
                    </a:lnTo>
                    <a:lnTo>
                      <a:pt x="18" y="686"/>
                    </a:lnTo>
                    <a:lnTo>
                      <a:pt x="0" y="672"/>
                    </a:lnTo>
                    <a:lnTo>
                      <a:pt x="120" y="50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37760" y="210240"/>
                <a:ext cx="64800" cy="67320"/>
              </a:xfrm>
              <a:custGeom>
                <a:avLst/>
                <a:gdLst/>
                <a:ahLst/>
                <a:rect l="l" t="t" r="r" b="b"/>
                <a:pathLst>
                  <a:path w="807" h="786">
                    <a:moveTo>
                      <a:pt x="210" y="386"/>
                    </a:moveTo>
                    <a:lnTo>
                      <a:pt x="212" y="418"/>
                    </a:lnTo>
                    <a:lnTo>
                      <a:pt x="214" y="447"/>
                    </a:lnTo>
                    <a:lnTo>
                      <a:pt x="218" y="476"/>
                    </a:lnTo>
                    <a:lnTo>
                      <a:pt x="224" y="501"/>
                    </a:lnTo>
                    <a:lnTo>
                      <a:pt x="231" y="526"/>
                    </a:lnTo>
                    <a:lnTo>
                      <a:pt x="240" y="548"/>
                    </a:lnTo>
                    <a:lnTo>
                      <a:pt x="250" y="569"/>
                    </a:lnTo>
                    <a:lnTo>
                      <a:pt x="262" y="587"/>
                    </a:lnTo>
                    <a:lnTo>
                      <a:pt x="270" y="596"/>
                    </a:lnTo>
                    <a:lnTo>
                      <a:pt x="276" y="603"/>
                    </a:lnTo>
                    <a:lnTo>
                      <a:pt x="283" y="611"/>
                    </a:lnTo>
                    <a:lnTo>
                      <a:pt x="290" y="617"/>
                    </a:lnTo>
                    <a:lnTo>
                      <a:pt x="299" y="623"/>
                    </a:lnTo>
                    <a:lnTo>
                      <a:pt x="308" y="629"/>
                    </a:lnTo>
                    <a:lnTo>
                      <a:pt x="316" y="634"/>
                    </a:lnTo>
                    <a:lnTo>
                      <a:pt x="325" y="639"/>
                    </a:lnTo>
                    <a:lnTo>
                      <a:pt x="335" y="643"/>
                    </a:lnTo>
                    <a:lnTo>
                      <a:pt x="345" y="646"/>
                    </a:lnTo>
                    <a:lnTo>
                      <a:pt x="354" y="650"/>
                    </a:lnTo>
                    <a:lnTo>
                      <a:pt x="364" y="652"/>
                    </a:lnTo>
                    <a:lnTo>
                      <a:pt x="386" y="655"/>
                    </a:lnTo>
                    <a:lnTo>
                      <a:pt x="411" y="656"/>
                    </a:lnTo>
                    <a:lnTo>
                      <a:pt x="432" y="655"/>
                    </a:lnTo>
                    <a:lnTo>
                      <a:pt x="453" y="651"/>
                    </a:lnTo>
                    <a:lnTo>
                      <a:pt x="463" y="649"/>
                    </a:lnTo>
                    <a:lnTo>
                      <a:pt x="472" y="646"/>
                    </a:lnTo>
                    <a:lnTo>
                      <a:pt x="481" y="643"/>
                    </a:lnTo>
                    <a:lnTo>
                      <a:pt x="490" y="638"/>
                    </a:lnTo>
                    <a:lnTo>
                      <a:pt x="498" y="633"/>
                    </a:lnTo>
                    <a:lnTo>
                      <a:pt x="507" y="628"/>
                    </a:lnTo>
                    <a:lnTo>
                      <a:pt x="514" y="622"/>
                    </a:lnTo>
                    <a:lnTo>
                      <a:pt x="522" y="616"/>
                    </a:lnTo>
                    <a:lnTo>
                      <a:pt x="536" y="601"/>
                    </a:lnTo>
                    <a:lnTo>
                      <a:pt x="549" y="584"/>
                    </a:lnTo>
                    <a:lnTo>
                      <a:pt x="560" y="565"/>
                    </a:lnTo>
                    <a:lnTo>
                      <a:pt x="570" y="543"/>
                    </a:lnTo>
                    <a:lnTo>
                      <a:pt x="577" y="520"/>
                    </a:lnTo>
                    <a:lnTo>
                      <a:pt x="584" y="495"/>
                    </a:lnTo>
                    <a:lnTo>
                      <a:pt x="589" y="468"/>
                    </a:lnTo>
                    <a:lnTo>
                      <a:pt x="593" y="439"/>
                    </a:lnTo>
                    <a:lnTo>
                      <a:pt x="595" y="407"/>
                    </a:lnTo>
                    <a:lnTo>
                      <a:pt x="597" y="374"/>
                    </a:lnTo>
                    <a:lnTo>
                      <a:pt x="595" y="346"/>
                    </a:lnTo>
                    <a:lnTo>
                      <a:pt x="593" y="319"/>
                    </a:lnTo>
                    <a:lnTo>
                      <a:pt x="589" y="294"/>
                    </a:lnTo>
                    <a:lnTo>
                      <a:pt x="583" y="271"/>
                    </a:lnTo>
                    <a:lnTo>
                      <a:pt x="576" y="249"/>
                    </a:lnTo>
                    <a:lnTo>
                      <a:pt x="567" y="229"/>
                    </a:lnTo>
                    <a:lnTo>
                      <a:pt x="556" y="209"/>
                    </a:lnTo>
                    <a:lnTo>
                      <a:pt x="544" y="192"/>
                    </a:lnTo>
                    <a:lnTo>
                      <a:pt x="530" y="176"/>
                    </a:lnTo>
                    <a:lnTo>
                      <a:pt x="516" y="163"/>
                    </a:lnTo>
                    <a:lnTo>
                      <a:pt x="500" y="152"/>
                    </a:lnTo>
                    <a:lnTo>
                      <a:pt x="484" y="142"/>
                    </a:lnTo>
                    <a:lnTo>
                      <a:pt x="465" y="134"/>
                    </a:lnTo>
                    <a:lnTo>
                      <a:pt x="445" y="129"/>
                    </a:lnTo>
                    <a:lnTo>
                      <a:pt x="425" y="126"/>
                    </a:lnTo>
                    <a:lnTo>
                      <a:pt x="402" y="126"/>
                    </a:lnTo>
                    <a:lnTo>
                      <a:pt x="381" y="126"/>
                    </a:lnTo>
                    <a:lnTo>
                      <a:pt x="361" y="129"/>
                    </a:lnTo>
                    <a:lnTo>
                      <a:pt x="341" y="136"/>
                    </a:lnTo>
                    <a:lnTo>
                      <a:pt x="322" y="143"/>
                    </a:lnTo>
                    <a:lnTo>
                      <a:pt x="314" y="147"/>
                    </a:lnTo>
                    <a:lnTo>
                      <a:pt x="305" y="153"/>
                    </a:lnTo>
                    <a:lnTo>
                      <a:pt x="298" y="158"/>
                    </a:lnTo>
                    <a:lnTo>
                      <a:pt x="290" y="164"/>
                    </a:lnTo>
                    <a:lnTo>
                      <a:pt x="276" y="179"/>
                    </a:lnTo>
                    <a:lnTo>
                      <a:pt x="262" y="194"/>
                    </a:lnTo>
                    <a:lnTo>
                      <a:pt x="250" y="213"/>
                    </a:lnTo>
                    <a:lnTo>
                      <a:pt x="240" y="233"/>
                    </a:lnTo>
                    <a:lnTo>
                      <a:pt x="231" y="253"/>
                    </a:lnTo>
                    <a:lnTo>
                      <a:pt x="224" y="277"/>
                    </a:lnTo>
                    <a:lnTo>
                      <a:pt x="218" y="301"/>
                    </a:lnTo>
                    <a:lnTo>
                      <a:pt x="214" y="328"/>
                    </a:lnTo>
                    <a:lnTo>
                      <a:pt x="212" y="357"/>
                    </a:lnTo>
                    <a:lnTo>
                      <a:pt x="210" y="386"/>
                    </a:lnTo>
                    <a:close/>
                    <a:moveTo>
                      <a:pt x="401" y="786"/>
                    </a:moveTo>
                    <a:lnTo>
                      <a:pt x="379" y="786"/>
                    </a:lnTo>
                    <a:lnTo>
                      <a:pt x="358" y="785"/>
                    </a:lnTo>
                    <a:lnTo>
                      <a:pt x="336" y="783"/>
                    </a:lnTo>
                    <a:lnTo>
                      <a:pt x="316" y="780"/>
                    </a:lnTo>
                    <a:lnTo>
                      <a:pt x="297" y="775"/>
                    </a:lnTo>
                    <a:lnTo>
                      <a:pt x="277" y="770"/>
                    </a:lnTo>
                    <a:lnTo>
                      <a:pt x="257" y="765"/>
                    </a:lnTo>
                    <a:lnTo>
                      <a:pt x="239" y="759"/>
                    </a:lnTo>
                    <a:lnTo>
                      <a:pt x="222" y="752"/>
                    </a:lnTo>
                    <a:lnTo>
                      <a:pt x="204" y="743"/>
                    </a:lnTo>
                    <a:lnTo>
                      <a:pt x="187" y="734"/>
                    </a:lnTo>
                    <a:lnTo>
                      <a:pt x="171" y="724"/>
                    </a:lnTo>
                    <a:lnTo>
                      <a:pt x="155" y="713"/>
                    </a:lnTo>
                    <a:lnTo>
                      <a:pt x="140" y="702"/>
                    </a:lnTo>
                    <a:lnTo>
                      <a:pt x="126" y="689"/>
                    </a:lnTo>
                    <a:lnTo>
                      <a:pt x="111" y="676"/>
                    </a:lnTo>
                    <a:lnTo>
                      <a:pt x="97" y="661"/>
                    </a:lnTo>
                    <a:lnTo>
                      <a:pt x="85" y="646"/>
                    </a:lnTo>
                    <a:lnTo>
                      <a:pt x="73" y="632"/>
                    </a:lnTo>
                    <a:lnTo>
                      <a:pt x="63" y="616"/>
                    </a:lnTo>
                    <a:lnTo>
                      <a:pt x="52" y="600"/>
                    </a:lnTo>
                    <a:lnTo>
                      <a:pt x="43" y="584"/>
                    </a:lnTo>
                    <a:lnTo>
                      <a:pt x="35" y="567"/>
                    </a:lnTo>
                    <a:lnTo>
                      <a:pt x="27" y="548"/>
                    </a:lnTo>
                    <a:lnTo>
                      <a:pt x="21" y="531"/>
                    </a:lnTo>
                    <a:lnTo>
                      <a:pt x="15" y="511"/>
                    </a:lnTo>
                    <a:lnTo>
                      <a:pt x="11" y="493"/>
                    </a:lnTo>
                    <a:lnTo>
                      <a:pt x="6" y="473"/>
                    </a:lnTo>
                    <a:lnTo>
                      <a:pt x="4" y="452"/>
                    </a:lnTo>
                    <a:lnTo>
                      <a:pt x="1" y="433"/>
                    </a:lnTo>
                    <a:lnTo>
                      <a:pt x="0" y="411"/>
                    </a:lnTo>
                    <a:lnTo>
                      <a:pt x="0" y="390"/>
                    </a:lnTo>
                    <a:lnTo>
                      <a:pt x="0" y="368"/>
                    </a:lnTo>
                    <a:lnTo>
                      <a:pt x="1" y="347"/>
                    </a:lnTo>
                    <a:lnTo>
                      <a:pt x="4" y="327"/>
                    </a:lnTo>
                    <a:lnTo>
                      <a:pt x="6" y="307"/>
                    </a:lnTo>
                    <a:lnTo>
                      <a:pt x="10" y="288"/>
                    </a:lnTo>
                    <a:lnTo>
                      <a:pt x="15" y="269"/>
                    </a:lnTo>
                    <a:lnTo>
                      <a:pt x="21" y="251"/>
                    </a:lnTo>
                    <a:lnTo>
                      <a:pt x="27" y="233"/>
                    </a:lnTo>
                    <a:lnTo>
                      <a:pt x="35" y="215"/>
                    </a:lnTo>
                    <a:lnTo>
                      <a:pt x="43" y="198"/>
                    </a:lnTo>
                    <a:lnTo>
                      <a:pt x="52" y="182"/>
                    </a:lnTo>
                    <a:lnTo>
                      <a:pt x="62" y="166"/>
                    </a:lnTo>
                    <a:lnTo>
                      <a:pt x="73" y="152"/>
                    </a:lnTo>
                    <a:lnTo>
                      <a:pt x="85" y="137"/>
                    </a:lnTo>
                    <a:lnTo>
                      <a:pt x="97" y="122"/>
                    </a:lnTo>
                    <a:lnTo>
                      <a:pt x="111" y="109"/>
                    </a:lnTo>
                    <a:lnTo>
                      <a:pt x="124" y="95"/>
                    </a:lnTo>
                    <a:lnTo>
                      <a:pt x="139" y="83"/>
                    </a:lnTo>
                    <a:lnTo>
                      <a:pt x="155" y="72"/>
                    </a:lnTo>
                    <a:lnTo>
                      <a:pt x="170" y="61"/>
                    </a:lnTo>
                    <a:lnTo>
                      <a:pt x="187" y="51"/>
                    </a:lnTo>
                    <a:lnTo>
                      <a:pt x="203" y="42"/>
                    </a:lnTo>
                    <a:lnTo>
                      <a:pt x="220" y="35"/>
                    </a:lnTo>
                    <a:lnTo>
                      <a:pt x="239" y="28"/>
                    </a:lnTo>
                    <a:lnTo>
                      <a:pt x="257" y="21"/>
                    </a:lnTo>
                    <a:lnTo>
                      <a:pt x="276" y="15"/>
                    </a:lnTo>
                    <a:lnTo>
                      <a:pt x="295" y="10"/>
                    </a:lnTo>
                    <a:lnTo>
                      <a:pt x="315" y="7"/>
                    </a:lnTo>
                    <a:lnTo>
                      <a:pt x="335" y="4"/>
                    </a:lnTo>
                    <a:lnTo>
                      <a:pt x="356" y="2"/>
                    </a:lnTo>
                    <a:lnTo>
                      <a:pt x="378" y="0"/>
                    </a:lnTo>
                    <a:lnTo>
                      <a:pt x="400" y="0"/>
                    </a:lnTo>
                    <a:lnTo>
                      <a:pt x="422" y="0"/>
                    </a:lnTo>
                    <a:lnTo>
                      <a:pt x="445" y="2"/>
                    </a:lnTo>
                    <a:lnTo>
                      <a:pt x="466" y="4"/>
                    </a:lnTo>
                    <a:lnTo>
                      <a:pt x="488" y="7"/>
                    </a:lnTo>
                    <a:lnTo>
                      <a:pt x="508" y="10"/>
                    </a:lnTo>
                    <a:lnTo>
                      <a:pt x="529" y="15"/>
                    </a:lnTo>
                    <a:lnTo>
                      <a:pt x="548" y="20"/>
                    </a:lnTo>
                    <a:lnTo>
                      <a:pt x="567" y="26"/>
                    </a:lnTo>
                    <a:lnTo>
                      <a:pt x="584" y="34"/>
                    </a:lnTo>
                    <a:lnTo>
                      <a:pt x="603" y="42"/>
                    </a:lnTo>
                    <a:lnTo>
                      <a:pt x="620" y="51"/>
                    </a:lnTo>
                    <a:lnTo>
                      <a:pt x="636" y="61"/>
                    </a:lnTo>
                    <a:lnTo>
                      <a:pt x="652" y="70"/>
                    </a:lnTo>
                    <a:lnTo>
                      <a:pt x="667" y="82"/>
                    </a:lnTo>
                    <a:lnTo>
                      <a:pt x="682" y="94"/>
                    </a:lnTo>
                    <a:lnTo>
                      <a:pt x="696" y="106"/>
                    </a:lnTo>
                    <a:lnTo>
                      <a:pt x="710" y="121"/>
                    </a:lnTo>
                    <a:lnTo>
                      <a:pt x="722" y="134"/>
                    </a:lnTo>
                    <a:lnTo>
                      <a:pt x="733" y="149"/>
                    </a:lnTo>
                    <a:lnTo>
                      <a:pt x="744" y="164"/>
                    </a:lnTo>
                    <a:lnTo>
                      <a:pt x="754" y="180"/>
                    </a:lnTo>
                    <a:lnTo>
                      <a:pt x="763" y="197"/>
                    </a:lnTo>
                    <a:lnTo>
                      <a:pt x="771" y="213"/>
                    </a:lnTo>
                    <a:lnTo>
                      <a:pt x="779" y="230"/>
                    </a:lnTo>
                    <a:lnTo>
                      <a:pt x="785" y="249"/>
                    </a:lnTo>
                    <a:lnTo>
                      <a:pt x="791" y="267"/>
                    </a:lnTo>
                    <a:lnTo>
                      <a:pt x="796" y="287"/>
                    </a:lnTo>
                    <a:lnTo>
                      <a:pt x="800" y="306"/>
                    </a:lnTo>
                    <a:lnTo>
                      <a:pt x="802" y="326"/>
                    </a:lnTo>
                    <a:lnTo>
                      <a:pt x="805" y="347"/>
                    </a:lnTo>
                    <a:lnTo>
                      <a:pt x="806" y="368"/>
                    </a:lnTo>
                    <a:lnTo>
                      <a:pt x="807" y="390"/>
                    </a:lnTo>
                    <a:lnTo>
                      <a:pt x="806" y="411"/>
                    </a:lnTo>
                    <a:lnTo>
                      <a:pt x="805" y="431"/>
                    </a:lnTo>
                    <a:lnTo>
                      <a:pt x="802" y="452"/>
                    </a:lnTo>
                    <a:lnTo>
                      <a:pt x="800" y="473"/>
                    </a:lnTo>
                    <a:lnTo>
                      <a:pt x="796" y="492"/>
                    </a:lnTo>
                    <a:lnTo>
                      <a:pt x="791" y="511"/>
                    </a:lnTo>
                    <a:lnTo>
                      <a:pt x="785" y="530"/>
                    </a:lnTo>
                    <a:lnTo>
                      <a:pt x="779" y="548"/>
                    </a:lnTo>
                    <a:lnTo>
                      <a:pt x="771" y="565"/>
                    </a:lnTo>
                    <a:lnTo>
                      <a:pt x="763" y="583"/>
                    </a:lnTo>
                    <a:lnTo>
                      <a:pt x="753" y="600"/>
                    </a:lnTo>
                    <a:lnTo>
                      <a:pt x="743" y="616"/>
                    </a:lnTo>
                    <a:lnTo>
                      <a:pt x="732" y="632"/>
                    </a:lnTo>
                    <a:lnTo>
                      <a:pt x="720" y="646"/>
                    </a:lnTo>
                    <a:lnTo>
                      <a:pt x="707" y="661"/>
                    </a:lnTo>
                    <a:lnTo>
                      <a:pt x="694" y="675"/>
                    </a:lnTo>
                    <a:lnTo>
                      <a:pt x="679" y="688"/>
                    </a:lnTo>
                    <a:lnTo>
                      <a:pt x="664" y="702"/>
                    </a:lnTo>
                    <a:lnTo>
                      <a:pt x="648" y="713"/>
                    </a:lnTo>
                    <a:lnTo>
                      <a:pt x="632" y="724"/>
                    </a:lnTo>
                    <a:lnTo>
                      <a:pt x="616" y="734"/>
                    </a:lnTo>
                    <a:lnTo>
                      <a:pt x="599" y="743"/>
                    </a:lnTo>
                    <a:lnTo>
                      <a:pt x="582" y="752"/>
                    </a:lnTo>
                    <a:lnTo>
                      <a:pt x="563" y="759"/>
                    </a:lnTo>
                    <a:lnTo>
                      <a:pt x="545" y="765"/>
                    </a:lnTo>
                    <a:lnTo>
                      <a:pt x="527" y="770"/>
                    </a:lnTo>
                    <a:lnTo>
                      <a:pt x="507" y="775"/>
                    </a:lnTo>
                    <a:lnTo>
                      <a:pt x="486" y="780"/>
                    </a:lnTo>
                    <a:lnTo>
                      <a:pt x="466" y="783"/>
                    </a:lnTo>
                    <a:lnTo>
                      <a:pt x="445" y="785"/>
                    </a:lnTo>
                    <a:lnTo>
                      <a:pt x="423" y="786"/>
                    </a:lnTo>
                    <a:lnTo>
                      <a:pt x="401" y="78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10840" y="182160"/>
                <a:ext cx="64440" cy="93600"/>
              </a:xfrm>
              <a:custGeom>
                <a:avLst/>
                <a:gdLst/>
                <a:ahLst/>
                <a:rect l="l" t="t" r="r" b="b"/>
                <a:pathLst>
                  <a:path w="798" h="1097">
                    <a:moveTo>
                      <a:pt x="245" y="978"/>
                    </a:moveTo>
                    <a:lnTo>
                      <a:pt x="254" y="978"/>
                    </a:lnTo>
                    <a:lnTo>
                      <a:pt x="265" y="978"/>
                    </a:lnTo>
                    <a:lnTo>
                      <a:pt x="276" y="979"/>
                    </a:lnTo>
                    <a:lnTo>
                      <a:pt x="283" y="979"/>
                    </a:lnTo>
                    <a:lnTo>
                      <a:pt x="320" y="978"/>
                    </a:lnTo>
                    <a:lnTo>
                      <a:pt x="353" y="974"/>
                    </a:lnTo>
                    <a:lnTo>
                      <a:pt x="370" y="972"/>
                    </a:lnTo>
                    <a:lnTo>
                      <a:pt x="385" y="970"/>
                    </a:lnTo>
                    <a:lnTo>
                      <a:pt x="401" y="966"/>
                    </a:lnTo>
                    <a:lnTo>
                      <a:pt x="416" y="962"/>
                    </a:lnTo>
                    <a:lnTo>
                      <a:pt x="429" y="957"/>
                    </a:lnTo>
                    <a:lnTo>
                      <a:pt x="443" y="952"/>
                    </a:lnTo>
                    <a:lnTo>
                      <a:pt x="456" y="946"/>
                    </a:lnTo>
                    <a:lnTo>
                      <a:pt x="469" y="940"/>
                    </a:lnTo>
                    <a:lnTo>
                      <a:pt x="481" y="933"/>
                    </a:lnTo>
                    <a:lnTo>
                      <a:pt x="492" y="925"/>
                    </a:lnTo>
                    <a:lnTo>
                      <a:pt x="503" y="918"/>
                    </a:lnTo>
                    <a:lnTo>
                      <a:pt x="514" y="909"/>
                    </a:lnTo>
                    <a:lnTo>
                      <a:pt x="523" y="901"/>
                    </a:lnTo>
                    <a:lnTo>
                      <a:pt x="533" y="891"/>
                    </a:lnTo>
                    <a:lnTo>
                      <a:pt x="541" y="881"/>
                    </a:lnTo>
                    <a:lnTo>
                      <a:pt x="549" y="870"/>
                    </a:lnTo>
                    <a:lnTo>
                      <a:pt x="556" y="860"/>
                    </a:lnTo>
                    <a:lnTo>
                      <a:pt x="563" y="848"/>
                    </a:lnTo>
                    <a:lnTo>
                      <a:pt x="570" y="837"/>
                    </a:lnTo>
                    <a:lnTo>
                      <a:pt x="575" y="825"/>
                    </a:lnTo>
                    <a:lnTo>
                      <a:pt x="579" y="811"/>
                    </a:lnTo>
                    <a:lnTo>
                      <a:pt x="583" y="799"/>
                    </a:lnTo>
                    <a:lnTo>
                      <a:pt x="587" y="785"/>
                    </a:lnTo>
                    <a:lnTo>
                      <a:pt x="589" y="771"/>
                    </a:lnTo>
                    <a:lnTo>
                      <a:pt x="592" y="756"/>
                    </a:lnTo>
                    <a:lnTo>
                      <a:pt x="593" y="741"/>
                    </a:lnTo>
                    <a:lnTo>
                      <a:pt x="594" y="725"/>
                    </a:lnTo>
                    <a:lnTo>
                      <a:pt x="594" y="709"/>
                    </a:lnTo>
                    <a:lnTo>
                      <a:pt x="594" y="682"/>
                    </a:lnTo>
                    <a:lnTo>
                      <a:pt x="592" y="655"/>
                    </a:lnTo>
                    <a:lnTo>
                      <a:pt x="588" y="631"/>
                    </a:lnTo>
                    <a:lnTo>
                      <a:pt x="583" y="607"/>
                    </a:lnTo>
                    <a:lnTo>
                      <a:pt x="576" y="585"/>
                    </a:lnTo>
                    <a:lnTo>
                      <a:pt x="568" y="566"/>
                    </a:lnTo>
                    <a:lnTo>
                      <a:pt x="559" y="547"/>
                    </a:lnTo>
                    <a:lnTo>
                      <a:pt x="547" y="530"/>
                    </a:lnTo>
                    <a:lnTo>
                      <a:pt x="535" y="514"/>
                    </a:lnTo>
                    <a:lnTo>
                      <a:pt x="522" y="500"/>
                    </a:lnTo>
                    <a:lnTo>
                      <a:pt x="507" y="489"/>
                    </a:lnTo>
                    <a:lnTo>
                      <a:pt x="492" y="480"/>
                    </a:lnTo>
                    <a:lnTo>
                      <a:pt x="475" y="472"/>
                    </a:lnTo>
                    <a:lnTo>
                      <a:pt x="458" y="467"/>
                    </a:lnTo>
                    <a:lnTo>
                      <a:pt x="439" y="465"/>
                    </a:lnTo>
                    <a:lnTo>
                      <a:pt x="420" y="464"/>
                    </a:lnTo>
                    <a:lnTo>
                      <a:pt x="396" y="465"/>
                    </a:lnTo>
                    <a:lnTo>
                      <a:pt x="373" y="467"/>
                    </a:lnTo>
                    <a:lnTo>
                      <a:pt x="351" y="471"/>
                    </a:lnTo>
                    <a:lnTo>
                      <a:pt x="330" y="477"/>
                    </a:lnTo>
                    <a:lnTo>
                      <a:pt x="309" y="485"/>
                    </a:lnTo>
                    <a:lnTo>
                      <a:pt x="288" y="493"/>
                    </a:lnTo>
                    <a:lnTo>
                      <a:pt x="266" y="504"/>
                    </a:lnTo>
                    <a:lnTo>
                      <a:pt x="245" y="516"/>
                    </a:lnTo>
                    <a:lnTo>
                      <a:pt x="245" y="978"/>
                    </a:lnTo>
                    <a:close/>
                    <a:moveTo>
                      <a:pt x="235" y="396"/>
                    </a:moveTo>
                    <a:lnTo>
                      <a:pt x="262" y="380"/>
                    </a:lnTo>
                    <a:lnTo>
                      <a:pt x="290" y="367"/>
                    </a:lnTo>
                    <a:lnTo>
                      <a:pt x="321" y="356"/>
                    </a:lnTo>
                    <a:lnTo>
                      <a:pt x="351" y="347"/>
                    </a:lnTo>
                    <a:lnTo>
                      <a:pt x="383" y="340"/>
                    </a:lnTo>
                    <a:lnTo>
                      <a:pt x="415" y="335"/>
                    </a:lnTo>
                    <a:lnTo>
                      <a:pt x="447" y="331"/>
                    </a:lnTo>
                    <a:lnTo>
                      <a:pt x="480" y="330"/>
                    </a:lnTo>
                    <a:lnTo>
                      <a:pt x="498" y="331"/>
                    </a:lnTo>
                    <a:lnTo>
                      <a:pt x="515" y="331"/>
                    </a:lnTo>
                    <a:lnTo>
                      <a:pt x="533" y="333"/>
                    </a:lnTo>
                    <a:lnTo>
                      <a:pt x="550" y="336"/>
                    </a:lnTo>
                    <a:lnTo>
                      <a:pt x="566" y="340"/>
                    </a:lnTo>
                    <a:lnTo>
                      <a:pt x="582" y="343"/>
                    </a:lnTo>
                    <a:lnTo>
                      <a:pt x="598" y="348"/>
                    </a:lnTo>
                    <a:lnTo>
                      <a:pt x="613" y="354"/>
                    </a:lnTo>
                    <a:lnTo>
                      <a:pt x="626" y="361"/>
                    </a:lnTo>
                    <a:lnTo>
                      <a:pt x="641" y="368"/>
                    </a:lnTo>
                    <a:lnTo>
                      <a:pt x="654" y="375"/>
                    </a:lnTo>
                    <a:lnTo>
                      <a:pt x="667" y="384"/>
                    </a:lnTo>
                    <a:lnTo>
                      <a:pt x="679" y="394"/>
                    </a:lnTo>
                    <a:lnTo>
                      <a:pt x="691" y="403"/>
                    </a:lnTo>
                    <a:lnTo>
                      <a:pt x="702" y="415"/>
                    </a:lnTo>
                    <a:lnTo>
                      <a:pt x="714" y="427"/>
                    </a:lnTo>
                    <a:lnTo>
                      <a:pt x="723" y="439"/>
                    </a:lnTo>
                    <a:lnTo>
                      <a:pt x="733" y="451"/>
                    </a:lnTo>
                    <a:lnTo>
                      <a:pt x="743" y="465"/>
                    </a:lnTo>
                    <a:lnTo>
                      <a:pt x="750" y="480"/>
                    </a:lnTo>
                    <a:lnTo>
                      <a:pt x="759" y="494"/>
                    </a:lnTo>
                    <a:lnTo>
                      <a:pt x="765" y="509"/>
                    </a:lnTo>
                    <a:lnTo>
                      <a:pt x="771" y="525"/>
                    </a:lnTo>
                    <a:lnTo>
                      <a:pt x="777" y="541"/>
                    </a:lnTo>
                    <a:lnTo>
                      <a:pt x="782" y="558"/>
                    </a:lnTo>
                    <a:lnTo>
                      <a:pt x="787" y="575"/>
                    </a:lnTo>
                    <a:lnTo>
                      <a:pt x="791" y="593"/>
                    </a:lnTo>
                    <a:lnTo>
                      <a:pt x="793" y="611"/>
                    </a:lnTo>
                    <a:lnTo>
                      <a:pt x="796" y="631"/>
                    </a:lnTo>
                    <a:lnTo>
                      <a:pt x="797" y="650"/>
                    </a:lnTo>
                    <a:lnTo>
                      <a:pt x="798" y="670"/>
                    </a:lnTo>
                    <a:lnTo>
                      <a:pt x="798" y="691"/>
                    </a:lnTo>
                    <a:lnTo>
                      <a:pt x="798" y="713"/>
                    </a:lnTo>
                    <a:lnTo>
                      <a:pt x="797" y="735"/>
                    </a:lnTo>
                    <a:lnTo>
                      <a:pt x="795" y="757"/>
                    </a:lnTo>
                    <a:lnTo>
                      <a:pt x="791" y="777"/>
                    </a:lnTo>
                    <a:lnTo>
                      <a:pt x="786" y="798"/>
                    </a:lnTo>
                    <a:lnTo>
                      <a:pt x="781" y="817"/>
                    </a:lnTo>
                    <a:lnTo>
                      <a:pt x="775" y="837"/>
                    </a:lnTo>
                    <a:lnTo>
                      <a:pt x="768" y="855"/>
                    </a:lnTo>
                    <a:lnTo>
                      <a:pt x="759" y="873"/>
                    </a:lnTo>
                    <a:lnTo>
                      <a:pt x="750" y="891"/>
                    </a:lnTo>
                    <a:lnTo>
                      <a:pt x="739" y="908"/>
                    </a:lnTo>
                    <a:lnTo>
                      <a:pt x="728" y="924"/>
                    </a:lnTo>
                    <a:lnTo>
                      <a:pt x="716" y="940"/>
                    </a:lnTo>
                    <a:lnTo>
                      <a:pt x="702" y="955"/>
                    </a:lnTo>
                    <a:lnTo>
                      <a:pt x="689" y="971"/>
                    </a:lnTo>
                    <a:lnTo>
                      <a:pt x="674" y="984"/>
                    </a:lnTo>
                    <a:lnTo>
                      <a:pt x="658" y="998"/>
                    </a:lnTo>
                    <a:lnTo>
                      <a:pt x="641" y="1011"/>
                    </a:lnTo>
                    <a:lnTo>
                      <a:pt x="624" y="1022"/>
                    </a:lnTo>
                    <a:lnTo>
                      <a:pt x="607" y="1033"/>
                    </a:lnTo>
                    <a:lnTo>
                      <a:pt x="587" y="1044"/>
                    </a:lnTo>
                    <a:lnTo>
                      <a:pt x="568" y="1053"/>
                    </a:lnTo>
                    <a:lnTo>
                      <a:pt x="549" y="1062"/>
                    </a:lnTo>
                    <a:lnTo>
                      <a:pt x="528" y="1069"/>
                    </a:lnTo>
                    <a:lnTo>
                      <a:pt x="507" y="1076"/>
                    </a:lnTo>
                    <a:lnTo>
                      <a:pt x="485" y="1081"/>
                    </a:lnTo>
                    <a:lnTo>
                      <a:pt x="463" y="1086"/>
                    </a:lnTo>
                    <a:lnTo>
                      <a:pt x="439" y="1090"/>
                    </a:lnTo>
                    <a:lnTo>
                      <a:pt x="416" y="1094"/>
                    </a:lnTo>
                    <a:lnTo>
                      <a:pt x="391" y="1096"/>
                    </a:lnTo>
                    <a:lnTo>
                      <a:pt x="367" y="1097"/>
                    </a:lnTo>
                    <a:lnTo>
                      <a:pt x="341" y="1097"/>
                    </a:lnTo>
                    <a:lnTo>
                      <a:pt x="0" y="1097"/>
                    </a:ln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2" y="1020"/>
                    </a:lnTo>
                    <a:lnTo>
                      <a:pt x="44" y="1014"/>
                    </a:lnTo>
                    <a:lnTo>
                      <a:pt x="46" y="1008"/>
                    </a:lnTo>
                    <a:lnTo>
                      <a:pt x="48" y="1000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35" y="39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683560" y="210240"/>
                <a:ext cx="38520" cy="65160"/>
              </a:xfrm>
              <a:custGeom>
                <a:avLst/>
                <a:gdLst/>
                <a:ahLst/>
                <a:rect l="l" t="t" r="r" b="b"/>
                <a:pathLst>
                  <a:path w="480" h="766">
                    <a:moveTo>
                      <a:pt x="0" y="766"/>
                    </a:moveTo>
                    <a:lnTo>
                      <a:pt x="0" y="712"/>
                    </a:lnTo>
                    <a:lnTo>
                      <a:pt x="14" y="710"/>
                    </a:lnTo>
                    <a:lnTo>
                      <a:pt x="25" y="706"/>
                    </a:lnTo>
                    <a:lnTo>
                      <a:pt x="33" y="700"/>
                    </a:lnTo>
                    <a:lnTo>
                      <a:pt x="40" y="694"/>
                    </a:lnTo>
                    <a:lnTo>
                      <a:pt x="42" y="690"/>
                    </a:lnTo>
                    <a:lnTo>
                      <a:pt x="45" y="685"/>
                    </a:lnTo>
                    <a:lnTo>
                      <a:pt x="46" y="679"/>
                    </a:lnTo>
                    <a:lnTo>
                      <a:pt x="48" y="672"/>
                    </a:lnTo>
                    <a:lnTo>
                      <a:pt x="49" y="653"/>
                    </a:lnTo>
                    <a:lnTo>
                      <a:pt x="51" y="631"/>
                    </a:lnTo>
                    <a:lnTo>
                      <a:pt x="51" y="623"/>
                    </a:lnTo>
                    <a:lnTo>
                      <a:pt x="51" y="133"/>
                    </a:lnTo>
                    <a:lnTo>
                      <a:pt x="49" y="119"/>
                    </a:lnTo>
                    <a:lnTo>
                      <a:pt x="48" y="107"/>
                    </a:lnTo>
                    <a:lnTo>
                      <a:pt x="45" y="98"/>
                    </a:lnTo>
                    <a:lnTo>
                      <a:pt x="40" y="91"/>
                    </a:lnTo>
                    <a:lnTo>
                      <a:pt x="32" y="86"/>
                    </a:lnTo>
                    <a:lnTo>
                      <a:pt x="24" y="84"/>
                    </a:lnTo>
                    <a:lnTo>
                      <a:pt x="14" y="81"/>
                    </a:lnTo>
                    <a:lnTo>
                      <a:pt x="0" y="80"/>
                    </a:lnTo>
                    <a:lnTo>
                      <a:pt x="0" y="21"/>
                    </a:lnTo>
                    <a:lnTo>
                      <a:pt x="235" y="21"/>
                    </a:lnTo>
                    <a:lnTo>
                      <a:pt x="235" y="106"/>
                    </a:lnTo>
                    <a:lnTo>
                      <a:pt x="243" y="93"/>
                    </a:lnTo>
                    <a:lnTo>
                      <a:pt x="252" y="81"/>
                    </a:lnTo>
                    <a:lnTo>
                      <a:pt x="261" y="70"/>
                    </a:lnTo>
                    <a:lnTo>
                      <a:pt x="271" y="59"/>
                    </a:lnTo>
                    <a:lnTo>
                      <a:pt x="281" y="50"/>
                    </a:lnTo>
                    <a:lnTo>
                      <a:pt x="291" y="42"/>
                    </a:lnTo>
                    <a:lnTo>
                      <a:pt x="302" y="33"/>
                    </a:lnTo>
                    <a:lnTo>
                      <a:pt x="313" y="27"/>
                    </a:lnTo>
                    <a:lnTo>
                      <a:pt x="325" y="21"/>
                    </a:lnTo>
                    <a:lnTo>
                      <a:pt x="336" y="15"/>
                    </a:lnTo>
                    <a:lnTo>
                      <a:pt x="348" y="11"/>
                    </a:lnTo>
                    <a:lnTo>
                      <a:pt x="362" y="7"/>
                    </a:lnTo>
                    <a:lnTo>
                      <a:pt x="374" y="4"/>
                    </a:lnTo>
                    <a:lnTo>
                      <a:pt x="388" y="2"/>
                    </a:lnTo>
                    <a:lnTo>
                      <a:pt x="402" y="1"/>
                    </a:lnTo>
                    <a:lnTo>
                      <a:pt x="417" y="0"/>
                    </a:lnTo>
                    <a:lnTo>
                      <a:pt x="436" y="1"/>
                    </a:lnTo>
                    <a:lnTo>
                      <a:pt x="452" y="1"/>
                    </a:lnTo>
                    <a:lnTo>
                      <a:pt x="466" y="2"/>
                    </a:lnTo>
                    <a:lnTo>
                      <a:pt x="480" y="4"/>
                    </a:lnTo>
                    <a:lnTo>
                      <a:pt x="480" y="215"/>
                    </a:lnTo>
                    <a:lnTo>
                      <a:pt x="431" y="215"/>
                    </a:lnTo>
                    <a:lnTo>
                      <a:pt x="428" y="198"/>
                    </a:lnTo>
                    <a:lnTo>
                      <a:pt x="423" y="182"/>
                    </a:lnTo>
                    <a:lnTo>
                      <a:pt x="420" y="176"/>
                    </a:lnTo>
                    <a:lnTo>
                      <a:pt x="417" y="169"/>
                    </a:lnTo>
                    <a:lnTo>
                      <a:pt x="412" y="165"/>
                    </a:lnTo>
                    <a:lnTo>
                      <a:pt x="409" y="160"/>
                    </a:lnTo>
                    <a:lnTo>
                      <a:pt x="404" y="156"/>
                    </a:lnTo>
                    <a:lnTo>
                      <a:pt x="399" y="152"/>
                    </a:lnTo>
                    <a:lnTo>
                      <a:pt x="393" y="150"/>
                    </a:lnTo>
                    <a:lnTo>
                      <a:pt x="386" y="147"/>
                    </a:lnTo>
                    <a:lnTo>
                      <a:pt x="372" y="144"/>
                    </a:lnTo>
                    <a:lnTo>
                      <a:pt x="356" y="144"/>
                    </a:lnTo>
                    <a:lnTo>
                      <a:pt x="343" y="144"/>
                    </a:lnTo>
                    <a:lnTo>
                      <a:pt x="334" y="146"/>
                    </a:lnTo>
                    <a:lnTo>
                      <a:pt x="323" y="149"/>
                    </a:lnTo>
                    <a:lnTo>
                      <a:pt x="313" y="154"/>
                    </a:lnTo>
                    <a:lnTo>
                      <a:pt x="304" y="158"/>
                    </a:lnTo>
                    <a:lnTo>
                      <a:pt x="294" y="165"/>
                    </a:lnTo>
                    <a:lnTo>
                      <a:pt x="286" y="173"/>
                    </a:lnTo>
                    <a:lnTo>
                      <a:pt x="278" y="182"/>
                    </a:lnTo>
                    <a:lnTo>
                      <a:pt x="271" y="193"/>
                    </a:lnTo>
                    <a:lnTo>
                      <a:pt x="265" y="203"/>
                    </a:lnTo>
                    <a:lnTo>
                      <a:pt x="259" y="215"/>
                    </a:lnTo>
                    <a:lnTo>
                      <a:pt x="255" y="227"/>
                    </a:lnTo>
                    <a:lnTo>
                      <a:pt x="251" y="239"/>
                    </a:lnTo>
                    <a:lnTo>
                      <a:pt x="249" y="253"/>
                    </a:lnTo>
                    <a:lnTo>
                      <a:pt x="247" y="268"/>
                    </a:lnTo>
                    <a:lnTo>
                      <a:pt x="247" y="282"/>
                    </a:lnTo>
                    <a:lnTo>
                      <a:pt x="247" y="632"/>
                    </a:lnTo>
                    <a:lnTo>
                      <a:pt x="247" y="657"/>
                    </a:lnTo>
                    <a:lnTo>
                      <a:pt x="250" y="675"/>
                    </a:lnTo>
                    <a:lnTo>
                      <a:pt x="251" y="683"/>
                    </a:lnTo>
                    <a:lnTo>
                      <a:pt x="252" y="689"/>
                    </a:lnTo>
                    <a:lnTo>
                      <a:pt x="255" y="694"/>
                    </a:lnTo>
                    <a:lnTo>
                      <a:pt x="256" y="697"/>
                    </a:lnTo>
                    <a:lnTo>
                      <a:pt x="262" y="704"/>
                    </a:lnTo>
                    <a:lnTo>
                      <a:pt x="271" y="707"/>
                    </a:lnTo>
                    <a:lnTo>
                      <a:pt x="282" y="711"/>
                    </a:lnTo>
                    <a:lnTo>
                      <a:pt x="295" y="712"/>
                    </a:lnTo>
                    <a:lnTo>
                      <a:pt x="297" y="766"/>
                    </a:lnTo>
                    <a:lnTo>
                      <a:pt x="0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28200" y="210240"/>
                <a:ext cx="59040" cy="6732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9" y="541"/>
                    </a:moveTo>
                    <a:lnTo>
                      <a:pt x="705" y="541"/>
                    </a:lnTo>
                    <a:lnTo>
                      <a:pt x="705" y="726"/>
                    </a:lnTo>
                    <a:lnTo>
                      <a:pt x="671" y="741"/>
                    </a:lnTo>
                    <a:lnTo>
                      <a:pt x="636" y="753"/>
                    </a:lnTo>
                    <a:lnTo>
                      <a:pt x="602" y="764"/>
                    </a:lnTo>
                    <a:lnTo>
                      <a:pt x="569" y="772"/>
                    </a:lnTo>
                    <a:lnTo>
                      <a:pt x="535" y="778"/>
                    </a:lnTo>
                    <a:lnTo>
                      <a:pt x="501" y="783"/>
                    </a:lnTo>
                    <a:lnTo>
                      <a:pt x="466" y="785"/>
                    </a:lnTo>
                    <a:lnTo>
                      <a:pt x="431" y="786"/>
                    </a:lnTo>
                    <a:lnTo>
                      <a:pt x="406" y="786"/>
                    </a:lnTo>
                    <a:lnTo>
                      <a:pt x="382" y="785"/>
                    </a:lnTo>
                    <a:lnTo>
                      <a:pt x="358" y="783"/>
                    </a:lnTo>
                    <a:lnTo>
                      <a:pt x="335" y="780"/>
                    </a:lnTo>
                    <a:lnTo>
                      <a:pt x="313" y="777"/>
                    </a:lnTo>
                    <a:lnTo>
                      <a:pt x="292" y="772"/>
                    </a:lnTo>
                    <a:lnTo>
                      <a:pt x="271" y="765"/>
                    </a:lnTo>
                    <a:lnTo>
                      <a:pt x="251" y="759"/>
                    </a:lnTo>
                    <a:lnTo>
                      <a:pt x="232" y="752"/>
                    </a:lnTo>
                    <a:lnTo>
                      <a:pt x="213" y="745"/>
                    </a:lnTo>
                    <a:lnTo>
                      <a:pt x="195" y="736"/>
                    </a:lnTo>
                    <a:lnTo>
                      <a:pt x="177" y="726"/>
                    </a:lnTo>
                    <a:lnTo>
                      <a:pt x="161" y="715"/>
                    </a:lnTo>
                    <a:lnTo>
                      <a:pt x="145" y="704"/>
                    </a:lnTo>
                    <a:lnTo>
                      <a:pt x="129" y="692"/>
                    </a:lnTo>
                    <a:lnTo>
                      <a:pt x="115" y="678"/>
                    </a:lnTo>
                    <a:lnTo>
                      <a:pt x="101" y="665"/>
                    </a:lnTo>
                    <a:lnTo>
                      <a:pt x="88" y="650"/>
                    </a:lnTo>
                    <a:lnTo>
                      <a:pt x="77" y="635"/>
                    </a:lnTo>
                    <a:lnTo>
                      <a:pt x="65" y="619"/>
                    </a:lnTo>
                    <a:lnTo>
                      <a:pt x="54" y="603"/>
                    </a:lnTo>
                    <a:lnTo>
                      <a:pt x="46" y="586"/>
                    </a:lnTo>
                    <a:lnTo>
                      <a:pt x="37" y="569"/>
                    </a:lnTo>
                    <a:lnTo>
                      <a:pt x="30" y="551"/>
                    </a:lnTo>
                    <a:lnTo>
                      <a:pt x="22" y="532"/>
                    </a:lnTo>
                    <a:lnTo>
                      <a:pt x="16" y="513"/>
                    </a:lnTo>
                    <a:lnTo>
                      <a:pt x="11" y="493"/>
                    </a:lnTo>
                    <a:lnTo>
                      <a:pt x="8" y="472"/>
                    </a:lnTo>
                    <a:lnTo>
                      <a:pt x="5" y="450"/>
                    </a:lnTo>
                    <a:lnTo>
                      <a:pt x="3" y="428"/>
                    </a:lnTo>
                    <a:lnTo>
                      <a:pt x="2" y="406"/>
                    </a:lnTo>
                    <a:lnTo>
                      <a:pt x="0" y="382"/>
                    </a:lnTo>
                    <a:lnTo>
                      <a:pt x="2" y="363"/>
                    </a:lnTo>
                    <a:lnTo>
                      <a:pt x="3" y="342"/>
                    </a:lnTo>
                    <a:lnTo>
                      <a:pt x="4" y="322"/>
                    </a:lnTo>
                    <a:lnTo>
                      <a:pt x="8" y="304"/>
                    </a:lnTo>
                    <a:lnTo>
                      <a:pt x="11" y="285"/>
                    </a:lnTo>
                    <a:lnTo>
                      <a:pt x="15" y="267"/>
                    </a:lnTo>
                    <a:lnTo>
                      <a:pt x="21" y="249"/>
                    </a:lnTo>
                    <a:lnTo>
                      <a:pt x="27" y="231"/>
                    </a:lnTo>
                    <a:lnTo>
                      <a:pt x="34" y="214"/>
                    </a:lnTo>
                    <a:lnTo>
                      <a:pt x="42" y="198"/>
                    </a:lnTo>
                    <a:lnTo>
                      <a:pt x="51" y="182"/>
                    </a:lnTo>
                    <a:lnTo>
                      <a:pt x="59" y="166"/>
                    </a:lnTo>
                    <a:lnTo>
                      <a:pt x="70" y="152"/>
                    </a:lnTo>
                    <a:lnTo>
                      <a:pt x="81" y="137"/>
                    </a:lnTo>
                    <a:lnTo>
                      <a:pt x="93" y="122"/>
                    </a:lnTo>
                    <a:lnTo>
                      <a:pt x="106" y="109"/>
                    </a:lnTo>
                    <a:lnTo>
                      <a:pt x="120" y="95"/>
                    </a:lnTo>
                    <a:lnTo>
                      <a:pt x="133" y="83"/>
                    </a:lnTo>
                    <a:lnTo>
                      <a:pt x="147" y="72"/>
                    </a:lnTo>
                    <a:lnTo>
                      <a:pt x="161" y="61"/>
                    </a:lnTo>
                    <a:lnTo>
                      <a:pt x="177" y="52"/>
                    </a:lnTo>
                    <a:lnTo>
                      <a:pt x="192" y="42"/>
                    </a:lnTo>
                    <a:lnTo>
                      <a:pt x="208" y="35"/>
                    </a:lnTo>
                    <a:lnTo>
                      <a:pt x="224" y="28"/>
                    </a:lnTo>
                    <a:lnTo>
                      <a:pt x="241" y="21"/>
                    </a:lnTo>
                    <a:lnTo>
                      <a:pt x="259" y="15"/>
                    </a:lnTo>
                    <a:lnTo>
                      <a:pt x="276" y="10"/>
                    </a:lnTo>
                    <a:lnTo>
                      <a:pt x="294" y="7"/>
                    </a:lnTo>
                    <a:lnTo>
                      <a:pt x="313" y="4"/>
                    </a:lnTo>
                    <a:lnTo>
                      <a:pt x="331" y="2"/>
                    </a:lnTo>
                    <a:lnTo>
                      <a:pt x="351" y="0"/>
                    </a:lnTo>
                    <a:lnTo>
                      <a:pt x="371" y="0"/>
                    </a:lnTo>
                    <a:lnTo>
                      <a:pt x="390" y="0"/>
                    </a:lnTo>
                    <a:lnTo>
                      <a:pt x="409" y="2"/>
                    </a:lnTo>
                    <a:lnTo>
                      <a:pt x="427" y="4"/>
                    </a:lnTo>
                    <a:lnTo>
                      <a:pt x="444" y="7"/>
                    </a:lnTo>
                    <a:lnTo>
                      <a:pt x="462" y="10"/>
                    </a:lnTo>
                    <a:lnTo>
                      <a:pt x="479" y="14"/>
                    </a:lnTo>
                    <a:lnTo>
                      <a:pt x="496" y="20"/>
                    </a:lnTo>
                    <a:lnTo>
                      <a:pt x="512" y="25"/>
                    </a:lnTo>
                    <a:lnTo>
                      <a:pt x="527" y="32"/>
                    </a:lnTo>
                    <a:lnTo>
                      <a:pt x="541" y="40"/>
                    </a:lnTo>
                    <a:lnTo>
                      <a:pt x="556" y="48"/>
                    </a:lnTo>
                    <a:lnTo>
                      <a:pt x="570" y="57"/>
                    </a:lnTo>
                    <a:lnTo>
                      <a:pt x="583" y="67"/>
                    </a:lnTo>
                    <a:lnTo>
                      <a:pt x="597" y="78"/>
                    </a:lnTo>
                    <a:lnTo>
                      <a:pt x="609" y="89"/>
                    </a:lnTo>
                    <a:lnTo>
                      <a:pt x="621" y="101"/>
                    </a:lnTo>
                    <a:lnTo>
                      <a:pt x="634" y="115"/>
                    </a:lnTo>
                    <a:lnTo>
                      <a:pt x="645" y="128"/>
                    </a:lnTo>
                    <a:lnTo>
                      <a:pt x="655" y="143"/>
                    </a:lnTo>
                    <a:lnTo>
                      <a:pt x="664" y="158"/>
                    </a:lnTo>
                    <a:lnTo>
                      <a:pt x="673" y="172"/>
                    </a:lnTo>
                    <a:lnTo>
                      <a:pt x="682" y="188"/>
                    </a:lnTo>
                    <a:lnTo>
                      <a:pt x="689" y="206"/>
                    </a:lnTo>
                    <a:lnTo>
                      <a:pt x="695" y="223"/>
                    </a:lnTo>
                    <a:lnTo>
                      <a:pt x="703" y="240"/>
                    </a:lnTo>
                    <a:lnTo>
                      <a:pt x="708" y="258"/>
                    </a:lnTo>
                    <a:lnTo>
                      <a:pt x="712" y="278"/>
                    </a:lnTo>
                    <a:lnTo>
                      <a:pt x="717" y="296"/>
                    </a:lnTo>
                    <a:lnTo>
                      <a:pt x="721" y="317"/>
                    </a:lnTo>
                    <a:lnTo>
                      <a:pt x="724" y="338"/>
                    </a:lnTo>
                    <a:lnTo>
                      <a:pt x="726" y="359"/>
                    </a:lnTo>
                    <a:lnTo>
                      <a:pt x="727" y="381"/>
                    </a:lnTo>
                    <a:lnTo>
                      <a:pt x="207" y="382"/>
                    </a:lnTo>
                    <a:lnTo>
                      <a:pt x="209" y="413"/>
                    </a:lnTo>
                    <a:lnTo>
                      <a:pt x="213" y="443"/>
                    </a:lnTo>
                    <a:lnTo>
                      <a:pt x="218" y="470"/>
                    </a:lnTo>
                    <a:lnTo>
                      <a:pt x="227" y="495"/>
                    </a:lnTo>
                    <a:lnTo>
                      <a:pt x="230" y="508"/>
                    </a:lnTo>
                    <a:lnTo>
                      <a:pt x="235" y="520"/>
                    </a:lnTo>
                    <a:lnTo>
                      <a:pt x="241" y="531"/>
                    </a:lnTo>
                    <a:lnTo>
                      <a:pt x="248" y="542"/>
                    </a:lnTo>
                    <a:lnTo>
                      <a:pt x="254" y="553"/>
                    </a:lnTo>
                    <a:lnTo>
                      <a:pt x="261" y="564"/>
                    </a:lnTo>
                    <a:lnTo>
                      <a:pt x="268" y="574"/>
                    </a:lnTo>
                    <a:lnTo>
                      <a:pt x="276" y="583"/>
                    </a:lnTo>
                    <a:lnTo>
                      <a:pt x="284" y="591"/>
                    </a:lnTo>
                    <a:lnTo>
                      <a:pt x="293" y="600"/>
                    </a:lnTo>
                    <a:lnTo>
                      <a:pt x="303" y="608"/>
                    </a:lnTo>
                    <a:lnTo>
                      <a:pt x="311" y="614"/>
                    </a:lnTo>
                    <a:lnTo>
                      <a:pt x="321" y="622"/>
                    </a:lnTo>
                    <a:lnTo>
                      <a:pt x="332" y="628"/>
                    </a:lnTo>
                    <a:lnTo>
                      <a:pt x="342" y="633"/>
                    </a:lnTo>
                    <a:lnTo>
                      <a:pt x="353" y="638"/>
                    </a:lnTo>
                    <a:lnTo>
                      <a:pt x="364" y="643"/>
                    </a:lnTo>
                    <a:lnTo>
                      <a:pt x="377" y="646"/>
                    </a:lnTo>
                    <a:lnTo>
                      <a:pt x="389" y="649"/>
                    </a:lnTo>
                    <a:lnTo>
                      <a:pt x="401" y="651"/>
                    </a:lnTo>
                    <a:lnTo>
                      <a:pt x="426" y="655"/>
                    </a:lnTo>
                    <a:lnTo>
                      <a:pt x="454" y="656"/>
                    </a:lnTo>
                    <a:lnTo>
                      <a:pt x="471" y="656"/>
                    </a:lnTo>
                    <a:lnTo>
                      <a:pt x="489" y="655"/>
                    </a:lnTo>
                    <a:lnTo>
                      <a:pt x="506" y="652"/>
                    </a:lnTo>
                    <a:lnTo>
                      <a:pt x="522" y="649"/>
                    </a:lnTo>
                    <a:lnTo>
                      <a:pt x="537" y="645"/>
                    </a:lnTo>
                    <a:lnTo>
                      <a:pt x="551" y="640"/>
                    </a:lnTo>
                    <a:lnTo>
                      <a:pt x="565" y="634"/>
                    </a:lnTo>
                    <a:lnTo>
                      <a:pt x="577" y="627"/>
                    </a:lnTo>
                    <a:lnTo>
                      <a:pt x="589" y="619"/>
                    </a:lnTo>
                    <a:lnTo>
                      <a:pt x="601" y="611"/>
                    </a:lnTo>
                    <a:lnTo>
                      <a:pt x="610" y="601"/>
                    </a:lnTo>
                    <a:lnTo>
                      <a:pt x="619" y="591"/>
                    </a:lnTo>
                    <a:lnTo>
                      <a:pt x="628" y="580"/>
                    </a:lnTo>
                    <a:lnTo>
                      <a:pt x="636" y="568"/>
                    </a:lnTo>
                    <a:lnTo>
                      <a:pt x="642" y="555"/>
                    </a:lnTo>
                    <a:lnTo>
                      <a:pt x="649" y="541"/>
                    </a:lnTo>
                    <a:close/>
                    <a:moveTo>
                      <a:pt x="219" y="274"/>
                    </a:moveTo>
                    <a:lnTo>
                      <a:pt x="507" y="274"/>
                    </a:lnTo>
                    <a:lnTo>
                      <a:pt x="506" y="257"/>
                    </a:lnTo>
                    <a:lnTo>
                      <a:pt x="503" y="241"/>
                    </a:lnTo>
                    <a:lnTo>
                      <a:pt x="501" y="226"/>
                    </a:lnTo>
                    <a:lnTo>
                      <a:pt x="497" y="213"/>
                    </a:lnTo>
                    <a:lnTo>
                      <a:pt x="492" y="199"/>
                    </a:lnTo>
                    <a:lnTo>
                      <a:pt x="486" y="188"/>
                    </a:lnTo>
                    <a:lnTo>
                      <a:pt x="479" y="177"/>
                    </a:lnTo>
                    <a:lnTo>
                      <a:pt x="471" y="167"/>
                    </a:lnTo>
                    <a:lnTo>
                      <a:pt x="462" y="159"/>
                    </a:lnTo>
                    <a:lnTo>
                      <a:pt x="452" y="152"/>
                    </a:lnTo>
                    <a:lnTo>
                      <a:pt x="441" y="145"/>
                    </a:lnTo>
                    <a:lnTo>
                      <a:pt x="430" y="139"/>
                    </a:lnTo>
                    <a:lnTo>
                      <a:pt x="417" y="136"/>
                    </a:lnTo>
                    <a:lnTo>
                      <a:pt x="404" y="133"/>
                    </a:lnTo>
                    <a:lnTo>
                      <a:pt x="389" y="131"/>
                    </a:lnTo>
                    <a:lnTo>
                      <a:pt x="374" y="131"/>
                    </a:lnTo>
                    <a:lnTo>
                      <a:pt x="357" y="131"/>
                    </a:lnTo>
                    <a:lnTo>
                      <a:pt x="342" y="133"/>
                    </a:lnTo>
                    <a:lnTo>
                      <a:pt x="327" y="136"/>
                    </a:lnTo>
                    <a:lnTo>
                      <a:pt x="314" y="140"/>
                    </a:lnTo>
                    <a:lnTo>
                      <a:pt x="300" y="145"/>
                    </a:lnTo>
                    <a:lnTo>
                      <a:pt x="288" y="152"/>
                    </a:lnTo>
                    <a:lnTo>
                      <a:pt x="276" y="160"/>
                    </a:lnTo>
                    <a:lnTo>
                      <a:pt x="266" y="169"/>
                    </a:lnTo>
                    <a:lnTo>
                      <a:pt x="256" y="179"/>
                    </a:lnTo>
                    <a:lnTo>
                      <a:pt x="248" y="190"/>
                    </a:lnTo>
                    <a:lnTo>
                      <a:pt x="240" y="202"/>
                    </a:lnTo>
                    <a:lnTo>
                      <a:pt x="233" y="214"/>
                    </a:lnTo>
                    <a:lnTo>
                      <a:pt x="228" y="228"/>
                    </a:lnTo>
                    <a:lnTo>
                      <a:pt x="224" y="242"/>
                    </a:lnTo>
                    <a:lnTo>
                      <a:pt x="222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32600" y="182160"/>
                <a:ext cx="23760" cy="93600"/>
              </a:xfrm>
              <a:custGeom>
                <a:avLst/>
                <a:gdLst/>
                <a:ahLst/>
                <a:rect l="l" t="t" r="r" b="b"/>
                <a:pathLst>
                  <a:path w="295" h="1097">
                    <a:moveTo>
                      <a:pt x="0" y="1097"/>
                    </a:moveTo>
                    <a:lnTo>
                      <a:pt x="0" y="1042"/>
                    </a:lnTo>
                    <a:lnTo>
                      <a:pt x="13" y="1040"/>
                    </a:lnTo>
                    <a:lnTo>
                      <a:pt x="24" y="1035"/>
                    </a:lnTo>
                    <a:lnTo>
                      <a:pt x="33" y="1030"/>
                    </a:lnTo>
                    <a:lnTo>
                      <a:pt x="39" y="1024"/>
                    </a:lnTo>
                    <a:lnTo>
                      <a:pt x="41" y="1020"/>
                    </a:lnTo>
                    <a:lnTo>
                      <a:pt x="44" y="1014"/>
                    </a:lnTo>
                    <a:lnTo>
                      <a:pt x="45" y="1008"/>
                    </a:lnTo>
                    <a:lnTo>
                      <a:pt x="46" y="1000"/>
                    </a:lnTo>
                    <a:lnTo>
                      <a:pt x="49" y="983"/>
                    </a:lnTo>
                    <a:lnTo>
                      <a:pt x="50" y="961"/>
                    </a:lnTo>
                    <a:lnTo>
                      <a:pt x="50" y="951"/>
                    </a:lnTo>
                    <a:lnTo>
                      <a:pt x="50" y="109"/>
                    </a:lnTo>
                    <a:lnTo>
                      <a:pt x="49" y="94"/>
                    </a:lnTo>
                    <a:lnTo>
                      <a:pt x="46" y="83"/>
                    </a:lnTo>
                    <a:lnTo>
                      <a:pt x="44" y="73"/>
                    </a:lnTo>
                    <a:lnTo>
                      <a:pt x="39" y="67"/>
                    </a:lnTo>
                    <a:lnTo>
                      <a:pt x="32" y="62"/>
                    </a:lnTo>
                    <a:lnTo>
                      <a:pt x="23" y="58"/>
                    </a:lnTo>
                    <a:lnTo>
                      <a:pt x="12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6" y="0"/>
                    </a:lnTo>
                    <a:lnTo>
                      <a:pt x="246" y="962"/>
                    </a:lnTo>
                    <a:lnTo>
                      <a:pt x="247" y="987"/>
                    </a:lnTo>
                    <a:lnTo>
                      <a:pt x="248" y="1005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4" y="1024"/>
                    </a:lnTo>
                    <a:lnTo>
                      <a:pt x="257" y="1027"/>
                    </a:lnTo>
                    <a:lnTo>
                      <a:pt x="263" y="1033"/>
                    </a:lnTo>
                    <a:lnTo>
                      <a:pt x="271" y="1037"/>
                    </a:lnTo>
                    <a:lnTo>
                      <a:pt x="281" y="1041"/>
                    </a:lnTo>
                    <a:lnTo>
                      <a:pt x="295" y="1042"/>
                    </a:lnTo>
                    <a:lnTo>
                      <a:pt x="295" y="1097"/>
                    </a:lnTo>
                    <a:lnTo>
                      <a:pt x="0" y="109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63560" y="210240"/>
                <a:ext cx="59760" cy="6660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9" y="359"/>
                    </a:lnTo>
                    <a:lnTo>
                      <a:pt x="423" y="367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5"/>
                    </a:lnTo>
                    <a:lnTo>
                      <a:pt x="310" y="405"/>
                    </a:lnTo>
                    <a:lnTo>
                      <a:pt x="288" y="416"/>
                    </a:lnTo>
                    <a:lnTo>
                      <a:pt x="271" y="426"/>
                    </a:lnTo>
                    <a:lnTo>
                      <a:pt x="255" y="437"/>
                    </a:lnTo>
                    <a:lnTo>
                      <a:pt x="241" y="449"/>
                    </a:lnTo>
                    <a:lnTo>
                      <a:pt x="230" y="462"/>
                    </a:lnTo>
                    <a:lnTo>
                      <a:pt x="221" y="475"/>
                    </a:lnTo>
                    <a:lnTo>
                      <a:pt x="214" y="489"/>
                    </a:lnTo>
                    <a:lnTo>
                      <a:pt x="209" y="503"/>
                    </a:lnTo>
                    <a:lnTo>
                      <a:pt x="206" y="519"/>
                    </a:lnTo>
                    <a:lnTo>
                      <a:pt x="204" y="535"/>
                    </a:lnTo>
                    <a:lnTo>
                      <a:pt x="206" y="548"/>
                    </a:lnTo>
                    <a:lnTo>
                      <a:pt x="207" y="559"/>
                    </a:lnTo>
                    <a:lnTo>
                      <a:pt x="209" y="570"/>
                    </a:lnTo>
                    <a:lnTo>
                      <a:pt x="213" y="581"/>
                    </a:lnTo>
                    <a:lnTo>
                      <a:pt x="217" y="591"/>
                    </a:lnTo>
                    <a:lnTo>
                      <a:pt x="223" y="599"/>
                    </a:lnTo>
                    <a:lnTo>
                      <a:pt x="229" y="608"/>
                    </a:lnTo>
                    <a:lnTo>
                      <a:pt x="236" y="615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2" y="634"/>
                    </a:lnTo>
                    <a:lnTo>
                      <a:pt x="273" y="637"/>
                    </a:lnTo>
                    <a:lnTo>
                      <a:pt x="283" y="641"/>
                    </a:lnTo>
                    <a:lnTo>
                      <a:pt x="295" y="643"/>
                    </a:lnTo>
                    <a:lnTo>
                      <a:pt x="308" y="645"/>
                    </a:lnTo>
                    <a:lnTo>
                      <a:pt x="320" y="645"/>
                    </a:lnTo>
                    <a:lnTo>
                      <a:pt x="340" y="645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20" y="619"/>
                    </a:lnTo>
                    <a:lnTo>
                      <a:pt x="443" y="604"/>
                    </a:lnTo>
                    <a:lnTo>
                      <a:pt x="469" y="587"/>
                    </a:lnTo>
                    <a:lnTo>
                      <a:pt x="497" y="567"/>
                    </a:lnTo>
                    <a:lnTo>
                      <a:pt x="497" y="350"/>
                    </a:lnTo>
                    <a:close/>
                    <a:moveTo>
                      <a:pt x="511" y="766"/>
                    </a:moveTo>
                    <a:lnTo>
                      <a:pt x="511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4" y="716"/>
                    </a:lnTo>
                    <a:lnTo>
                      <a:pt x="460" y="726"/>
                    </a:lnTo>
                    <a:lnTo>
                      <a:pt x="447" y="734"/>
                    </a:lnTo>
                    <a:lnTo>
                      <a:pt x="433" y="743"/>
                    </a:lnTo>
                    <a:lnTo>
                      <a:pt x="420" y="750"/>
                    </a:lnTo>
                    <a:lnTo>
                      <a:pt x="405" y="756"/>
                    </a:lnTo>
                    <a:lnTo>
                      <a:pt x="390" y="763"/>
                    </a:lnTo>
                    <a:lnTo>
                      <a:pt x="374" y="767"/>
                    </a:lnTo>
                    <a:lnTo>
                      <a:pt x="358" y="771"/>
                    </a:lnTo>
                    <a:lnTo>
                      <a:pt x="341" y="775"/>
                    </a:lnTo>
                    <a:lnTo>
                      <a:pt x="324" y="777"/>
                    </a:lnTo>
                    <a:lnTo>
                      <a:pt x="305" y="779"/>
                    </a:lnTo>
                    <a:lnTo>
                      <a:pt x="287" y="780"/>
                    </a:lnTo>
                    <a:lnTo>
                      <a:pt x="268" y="780"/>
                    </a:lnTo>
                    <a:lnTo>
                      <a:pt x="239" y="780"/>
                    </a:lnTo>
                    <a:lnTo>
                      <a:pt x="210" y="776"/>
                    </a:lnTo>
                    <a:lnTo>
                      <a:pt x="185" y="771"/>
                    </a:lnTo>
                    <a:lnTo>
                      <a:pt x="159" y="764"/>
                    </a:lnTo>
                    <a:lnTo>
                      <a:pt x="135" y="755"/>
                    </a:lnTo>
                    <a:lnTo>
                      <a:pt x="113" y="744"/>
                    </a:lnTo>
                    <a:lnTo>
                      <a:pt x="103" y="738"/>
                    </a:lnTo>
                    <a:lnTo>
                      <a:pt x="94" y="731"/>
                    </a:lnTo>
                    <a:lnTo>
                      <a:pt x="84" y="723"/>
                    </a:lnTo>
                    <a:lnTo>
                      <a:pt x="74" y="716"/>
                    </a:lnTo>
                    <a:lnTo>
                      <a:pt x="65" y="707"/>
                    </a:lnTo>
                    <a:lnTo>
                      <a:pt x="57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6" y="672"/>
                    </a:lnTo>
                    <a:lnTo>
                      <a:pt x="30" y="662"/>
                    </a:lnTo>
                    <a:lnTo>
                      <a:pt x="23" y="652"/>
                    </a:lnTo>
                    <a:lnTo>
                      <a:pt x="19" y="642"/>
                    </a:lnTo>
                    <a:lnTo>
                      <a:pt x="15" y="631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3"/>
                    </a:lnTo>
                    <a:lnTo>
                      <a:pt x="0" y="548"/>
                    </a:lnTo>
                    <a:lnTo>
                      <a:pt x="1" y="534"/>
                    </a:lnTo>
                    <a:lnTo>
                      <a:pt x="3" y="519"/>
                    </a:lnTo>
                    <a:lnTo>
                      <a:pt x="4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5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3" y="433"/>
                    </a:lnTo>
                    <a:lnTo>
                      <a:pt x="42" y="422"/>
                    </a:lnTo>
                    <a:lnTo>
                      <a:pt x="51" y="413"/>
                    </a:lnTo>
                    <a:lnTo>
                      <a:pt x="59" y="403"/>
                    </a:lnTo>
                    <a:lnTo>
                      <a:pt x="70" y="393"/>
                    </a:lnTo>
                    <a:lnTo>
                      <a:pt x="81" y="383"/>
                    </a:lnTo>
                    <a:lnTo>
                      <a:pt x="94" y="375"/>
                    </a:lnTo>
                    <a:lnTo>
                      <a:pt x="106" y="366"/>
                    </a:lnTo>
                    <a:lnTo>
                      <a:pt x="119" y="357"/>
                    </a:lnTo>
                    <a:lnTo>
                      <a:pt x="135" y="349"/>
                    </a:lnTo>
                    <a:lnTo>
                      <a:pt x="153" y="341"/>
                    </a:lnTo>
                    <a:lnTo>
                      <a:pt x="171" y="333"/>
                    </a:lnTo>
                    <a:lnTo>
                      <a:pt x="213" y="317"/>
                    </a:lnTo>
                    <a:lnTo>
                      <a:pt x="260" y="301"/>
                    </a:lnTo>
                    <a:lnTo>
                      <a:pt x="314" y="285"/>
                    </a:lnTo>
                    <a:lnTo>
                      <a:pt x="373" y="269"/>
                    </a:lnTo>
                    <a:lnTo>
                      <a:pt x="439" y="254"/>
                    </a:lnTo>
                    <a:lnTo>
                      <a:pt x="511" y="239"/>
                    </a:lnTo>
                    <a:lnTo>
                      <a:pt x="507" y="225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5"/>
                    </a:lnTo>
                    <a:lnTo>
                      <a:pt x="485" y="174"/>
                    </a:lnTo>
                    <a:lnTo>
                      <a:pt x="477" y="165"/>
                    </a:lnTo>
                    <a:lnTo>
                      <a:pt x="467" y="156"/>
                    </a:lnTo>
                    <a:lnTo>
                      <a:pt x="458" y="149"/>
                    </a:lnTo>
                    <a:lnTo>
                      <a:pt x="447" y="141"/>
                    </a:lnTo>
                    <a:lnTo>
                      <a:pt x="436" y="136"/>
                    </a:lnTo>
                    <a:lnTo>
                      <a:pt x="422" y="130"/>
                    </a:lnTo>
                    <a:lnTo>
                      <a:pt x="407" y="127"/>
                    </a:lnTo>
                    <a:lnTo>
                      <a:pt x="392" y="124"/>
                    </a:lnTo>
                    <a:lnTo>
                      <a:pt x="376" y="122"/>
                    </a:lnTo>
                    <a:lnTo>
                      <a:pt x="358" y="120"/>
                    </a:lnTo>
                    <a:lnTo>
                      <a:pt x="340" y="119"/>
                    </a:lnTo>
                    <a:lnTo>
                      <a:pt x="320" y="119"/>
                    </a:lnTo>
                    <a:lnTo>
                      <a:pt x="301" y="120"/>
                    </a:lnTo>
                    <a:lnTo>
                      <a:pt x="283" y="123"/>
                    </a:lnTo>
                    <a:lnTo>
                      <a:pt x="266" y="125"/>
                    </a:lnTo>
                    <a:lnTo>
                      <a:pt x="250" y="128"/>
                    </a:lnTo>
                    <a:lnTo>
                      <a:pt x="234" y="133"/>
                    </a:lnTo>
                    <a:lnTo>
                      <a:pt x="220" y="136"/>
                    </a:lnTo>
                    <a:lnTo>
                      <a:pt x="207" y="142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1" y="179"/>
                    </a:lnTo>
                    <a:lnTo>
                      <a:pt x="144" y="189"/>
                    </a:lnTo>
                    <a:lnTo>
                      <a:pt x="135" y="200"/>
                    </a:lnTo>
                    <a:lnTo>
                      <a:pt x="129" y="211"/>
                    </a:lnTo>
                    <a:lnTo>
                      <a:pt x="67" y="211"/>
                    </a:lnTo>
                    <a:lnTo>
                      <a:pt x="67" y="43"/>
                    </a:lnTo>
                    <a:lnTo>
                      <a:pt x="110" y="33"/>
                    </a:lnTo>
                    <a:lnTo>
                      <a:pt x="151" y="25"/>
                    </a:lnTo>
                    <a:lnTo>
                      <a:pt x="191" y="17"/>
                    </a:lnTo>
                    <a:lnTo>
                      <a:pt x="229" y="11"/>
                    </a:lnTo>
                    <a:lnTo>
                      <a:pt x="265" y="6"/>
                    </a:lnTo>
                    <a:lnTo>
                      <a:pt x="300" y="4"/>
                    </a:lnTo>
                    <a:lnTo>
                      <a:pt x="335" y="1"/>
                    </a:lnTo>
                    <a:lnTo>
                      <a:pt x="368" y="0"/>
                    </a:lnTo>
                    <a:lnTo>
                      <a:pt x="410" y="1"/>
                    </a:lnTo>
                    <a:lnTo>
                      <a:pt x="448" y="5"/>
                    </a:lnTo>
                    <a:lnTo>
                      <a:pt x="483" y="10"/>
                    </a:lnTo>
                    <a:lnTo>
                      <a:pt x="517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60" y="30"/>
                    </a:lnTo>
                    <a:lnTo>
                      <a:pt x="572" y="36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5" y="61"/>
                    </a:lnTo>
                    <a:lnTo>
                      <a:pt x="625" y="70"/>
                    </a:lnTo>
                    <a:lnTo>
                      <a:pt x="634" y="79"/>
                    </a:lnTo>
                    <a:lnTo>
                      <a:pt x="641" y="88"/>
                    </a:lnTo>
                    <a:lnTo>
                      <a:pt x="648" y="98"/>
                    </a:lnTo>
                    <a:lnTo>
                      <a:pt x="656" y="108"/>
                    </a:lnTo>
                    <a:lnTo>
                      <a:pt x="662" y="119"/>
                    </a:lnTo>
                    <a:lnTo>
                      <a:pt x="667" y="131"/>
                    </a:lnTo>
                    <a:lnTo>
                      <a:pt x="672" y="144"/>
                    </a:lnTo>
                    <a:lnTo>
                      <a:pt x="677" y="157"/>
                    </a:lnTo>
                    <a:lnTo>
                      <a:pt x="680" y="171"/>
                    </a:lnTo>
                    <a:lnTo>
                      <a:pt x="683" y="185"/>
                    </a:lnTo>
                    <a:lnTo>
                      <a:pt x="686" y="200"/>
                    </a:lnTo>
                    <a:lnTo>
                      <a:pt x="688" y="216"/>
                    </a:lnTo>
                    <a:lnTo>
                      <a:pt x="689" y="232"/>
                    </a:lnTo>
                    <a:lnTo>
                      <a:pt x="690" y="249"/>
                    </a:lnTo>
                    <a:lnTo>
                      <a:pt x="690" y="268"/>
                    </a:lnTo>
                    <a:lnTo>
                      <a:pt x="690" y="643"/>
                    </a:lnTo>
                    <a:lnTo>
                      <a:pt x="691" y="659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1"/>
                    </a:lnTo>
                    <a:lnTo>
                      <a:pt x="706" y="697"/>
                    </a:lnTo>
                    <a:lnTo>
                      <a:pt x="715" y="702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6"/>
                    </a:lnTo>
                    <a:lnTo>
                      <a:pt x="511" y="766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8866080" y="287280"/>
              <a:ext cx="268560" cy="98640"/>
              <a:chOff x="8866080" y="287280"/>
              <a:chExt cx="268560" cy="98640"/>
            </a:xfrm>
          </p:grpSpPr>
          <p:sp>
            <p:nvSpPr>
              <p:cNvPr id="334" name=""/>
              <p:cNvSpPr/>
              <p:nvPr/>
            </p:nvSpPr>
            <p:spPr>
              <a:xfrm>
                <a:off x="8866080" y="287280"/>
                <a:ext cx="65880" cy="98640"/>
              </a:xfrm>
              <a:custGeom>
                <a:avLst/>
                <a:gdLst/>
                <a:ahLst/>
                <a:rect l="l" t="t" r="r" b="b"/>
                <a:pathLst>
                  <a:path w="812" h="1120">
                    <a:moveTo>
                      <a:pt x="572" y="452"/>
                    </a:moveTo>
                    <a:lnTo>
                      <a:pt x="551" y="452"/>
                    </a:lnTo>
                    <a:lnTo>
                      <a:pt x="530" y="453"/>
                    </a:lnTo>
                    <a:lnTo>
                      <a:pt x="509" y="453"/>
                    </a:lnTo>
                    <a:lnTo>
                      <a:pt x="489" y="455"/>
                    </a:lnTo>
                    <a:lnTo>
                      <a:pt x="471" y="457"/>
                    </a:lnTo>
                    <a:lnTo>
                      <a:pt x="453" y="460"/>
                    </a:lnTo>
                    <a:lnTo>
                      <a:pt x="434" y="463"/>
                    </a:lnTo>
                    <a:lnTo>
                      <a:pt x="417" y="468"/>
                    </a:lnTo>
                    <a:lnTo>
                      <a:pt x="401" y="471"/>
                    </a:lnTo>
                    <a:lnTo>
                      <a:pt x="385" y="478"/>
                    </a:lnTo>
                    <a:lnTo>
                      <a:pt x="369" y="482"/>
                    </a:lnTo>
                    <a:lnTo>
                      <a:pt x="355" y="490"/>
                    </a:lnTo>
                    <a:lnTo>
                      <a:pt x="341" y="496"/>
                    </a:lnTo>
                    <a:lnTo>
                      <a:pt x="327" y="505"/>
                    </a:lnTo>
                    <a:lnTo>
                      <a:pt x="315" y="512"/>
                    </a:lnTo>
                    <a:lnTo>
                      <a:pt x="303" y="522"/>
                    </a:lnTo>
                    <a:lnTo>
                      <a:pt x="291" y="530"/>
                    </a:lnTo>
                    <a:lnTo>
                      <a:pt x="280" y="541"/>
                    </a:lnTo>
                    <a:lnTo>
                      <a:pt x="269" y="551"/>
                    </a:lnTo>
                    <a:lnTo>
                      <a:pt x="261" y="562"/>
                    </a:lnTo>
                    <a:lnTo>
                      <a:pt x="252" y="575"/>
                    </a:lnTo>
                    <a:lnTo>
                      <a:pt x="243" y="587"/>
                    </a:lnTo>
                    <a:lnTo>
                      <a:pt x="236" y="600"/>
                    </a:lnTo>
                    <a:lnTo>
                      <a:pt x="230" y="613"/>
                    </a:lnTo>
                    <a:lnTo>
                      <a:pt x="224" y="627"/>
                    </a:lnTo>
                    <a:lnTo>
                      <a:pt x="218" y="642"/>
                    </a:lnTo>
                    <a:lnTo>
                      <a:pt x="214" y="657"/>
                    </a:lnTo>
                    <a:lnTo>
                      <a:pt x="210" y="673"/>
                    </a:lnTo>
                    <a:lnTo>
                      <a:pt x="207" y="689"/>
                    </a:lnTo>
                    <a:lnTo>
                      <a:pt x="204" y="705"/>
                    </a:lnTo>
                    <a:lnTo>
                      <a:pt x="203" y="723"/>
                    </a:lnTo>
                    <a:lnTo>
                      <a:pt x="202" y="740"/>
                    </a:lnTo>
                    <a:lnTo>
                      <a:pt x="202" y="759"/>
                    </a:lnTo>
                    <a:lnTo>
                      <a:pt x="202" y="786"/>
                    </a:lnTo>
                    <a:lnTo>
                      <a:pt x="204" y="812"/>
                    </a:lnTo>
                    <a:lnTo>
                      <a:pt x="208" y="836"/>
                    </a:lnTo>
                    <a:lnTo>
                      <a:pt x="214" y="858"/>
                    </a:lnTo>
                    <a:lnTo>
                      <a:pt x="221" y="880"/>
                    </a:lnTo>
                    <a:lnTo>
                      <a:pt x="230" y="900"/>
                    </a:lnTo>
                    <a:lnTo>
                      <a:pt x="240" y="918"/>
                    </a:lnTo>
                    <a:lnTo>
                      <a:pt x="252" y="936"/>
                    </a:lnTo>
                    <a:lnTo>
                      <a:pt x="264" y="950"/>
                    </a:lnTo>
                    <a:lnTo>
                      <a:pt x="279" y="964"/>
                    </a:lnTo>
                    <a:lnTo>
                      <a:pt x="294" y="975"/>
                    </a:lnTo>
                    <a:lnTo>
                      <a:pt x="311" y="983"/>
                    </a:lnTo>
                    <a:lnTo>
                      <a:pt x="328" y="991"/>
                    </a:lnTo>
                    <a:lnTo>
                      <a:pt x="347" y="996"/>
                    </a:lnTo>
                    <a:lnTo>
                      <a:pt x="366" y="999"/>
                    </a:lnTo>
                    <a:lnTo>
                      <a:pt x="387" y="1001"/>
                    </a:lnTo>
                    <a:lnTo>
                      <a:pt x="401" y="999"/>
                    </a:lnTo>
                    <a:lnTo>
                      <a:pt x="414" y="998"/>
                    </a:lnTo>
                    <a:lnTo>
                      <a:pt x="428" y="996"/>
                    </a:lnTo>
                    <a:lnTo>
                      <a:pt x="441" y="993"/>
                    </a:lnTo>
                    <a:lnTo>
                      <a:pt x="455" y="988"/>
                    </a:lnTo>
                    <a:lnTo>
                      <a:pt x="467" y="983"/>
                    </a:lnTo>
                    <a:lnTo>
                      <a:pt x="480" y="977"/>
                    </a:lnTo>
                    <a:lnTo>
                      <a:pt x="492" y="970"/>
                    </a:lnTo>
                    <a:lnTo>
                      <a:pt x="504" y="963"/>
                    </a:lnTo>
                    <a:lnTo>
                      <a:pt x="515" y="954"/>
                    </a:lnTo>
                    <a:lnTo>
                      <a:pt x="526" y="944"/>
                    </a:lnTo>
                    <a:lnTo>
                      <a:pt x="537" y="934"/>
                    </a:lnTo>
                    <a:lnTo>
                      <a:pt x="546" y="923"/>
                    </a:lnTo>
                    <a:lnTo>
                      <a:pt x="556" y="912"/>
                    </a:lnTo>
                    <a:lnTo>
                      <a:pt x="563" y="900"/>
                    </a:lnTo>
                    <a:lnTo>
                      <a:pt x="572" y="888"/>
                    </a:lnTo>
                    <a:lnTo>
                      <a:pt x="572" y="452"/>
                    </a:lnTo>
                    <a:close/>
                    <a:moveTo>
                      <a:pt x="812" y="1098"/>
                    </a:moveTo>
                    <a:lnTo>
                      <a:pt x="579" y="1098"/>
                    </a:lnTo>
                    <a:lnTo>
                      <a:pt x="579" y="1025"/>
                    </a:lnTo>
                    <a:lnTo>
                      <a:pt x="568" y="1037"/>
                    </a:lnTo>
                    <a:lnTo>
                      <a:pt x="556" y="1047"/>
                    </a:lnTo>
                    <a:lnTo>
                      <a:pt x="544" y="1058"/>
                    </a:lnTo>
                    <a:lnTo>
                      <a:pt x="530" y="1067"/>
                    </a:lnTo>
                    <a:lnTo>
                      <a:pt x="518" y="1076"/>
                    </a:lnTo>
                    <a:lnTo>
                      <a:pt x="503" y="1083"/>
                    </a:lnTo>
                    <a:lnTo>
                      <a:pt x="488" y="1090"/>
                    </a:lnTo>
                    <a:lnTo>
                      <a:pt x="473" y="1096"/>
                    </a:lnTo>
                    <a:lnTo>
                      <a:pt x="459" y="1103"/>
                    </a:lnTo>
                    <a:lnTo>
                      <a:pt x="441" y="1106"/>
                    </a:lnTo>
                    <a:lnTo>
                      <a:pt x="426" y="1111"/>
                    </a:lnTo>
                    <a:lnTo>
                      <a:pt x="407" y="1114"/>
                    </a:lnTo>
                    <a:lnTo>
                      <a:pt x="390" y="1116"/>
                    </a:lnTo>
                    <a:lnTo>
                      <a:pt x="370" y="1118"/>
                    </a:lnTo>
                    <a:lnTo>
                      <a:pt x="352" y="1120"/>
                    </a:lnTo>
                    <a:lnTo>
                      <a:pt x="331" y="1120"/>
                    </a:lnTo>
                    <a:lnTo>
                      <a:pt x="312" y="1120"/>
                    </a:lnTo>
                    <a:lnTo>
                      <a:pt x="294" y="1118"/>
                    </a:lnTo>
                    <a:lnTo>
                      <a:pt x="277" y="1116"/>
                    </a:lnTo>
                    <a:lnTo>
                      <a:pt x="259" y="1114"/>
                    </a:lnTo>
                    <a:lnTo>
                      <a:pt x="242" y="1111"/>
                    </a:lnTo>
                    <a:lnTo>
                      <a:pt x="226" y="1106"/>
                    </a:lnTo>
                    <a:lnTo>
                      <a:pt x="210" y="1101"/>
                    </a:lnTo>
                    <a:lnTo>
                      <a:pt x="194" y="1096"/>
                    </a:lnTo>
                    <a:lnTo>
                      <a:pt x="180" y="1090"/>
                    </a:lnTo>
                    <a:lnTo>
                      <a:pt x="165" y="1083"/>
                    </a:lnTo>
                    <a:lnTo>
                      <a:pt x="151" y="1076"/>
                    </a:lnTo>
                    <a:lnTo>
                      <a:pt x="138" y="1067"/>
                    </a:lnTo>
                    <a:lnTo>
                      <a:pt x="125" y="1058"/>
                    </a:lnTo>
                    <a:lnTo>
                      <a:pt x="113" y="1048"/>
                    </a:lnTo>
                    <a:lnTo>
                      <a:pt x="101" y="1037"/>
                    </a:lnTo>
                    <a:lnTo>
                      <a:pt x="90" y="1026"/>
                    </a:lnTo>
                    <a:lnTo>
                      <a:pt x="79" y="1014"/>
                    </a:lnTo>
                    <a:lnTo>
                      <a:pt x="69" y="1002"/>
                    </a:lnTo>
                    <a:lnTo>
                      <a:pt x="59" y="988"/>
                    </a:lnTo>
                    <a:lnTo>
                      <a:pt x="50" y="975"/>
                    </a:lnTo>
                    <a:lnTo>
                      <a:pt x="42" y="961"/>
                    </a:lnTo>
                    <a:lnTo>
                      <a:pt x="34" y="947"/>
                    </a:lnTo>
                    <a:lnTo>
                      <a:pt x="28" y="932"/>
                    </a:lnTo>
                    <a:lnTo>
                      <a:pt x="22" y="916"/>
                    </a:lnTo>
                    <a:lnTo>
                      <a:pt x="17" y="900"/>
                    </a:lnTo>
                    <a:lnTo>
                      <a:pt x="12" y="884"/>
                    </a:lnTo>
                    <a:lnTo>
                      <a:pt x="9" y="867"/>
                    </a:lnTo>
                    <a:lnTo>
                      <a:pt x="5" y="850"/>
                    </a:lnTo>
                    <a:lnTo>
                      <a:pt x="2" y="831"/>
                    </a:lnTo>
                    <a:lnTo>
                      <a:pt x="1" y="813"/>
                    </a:lnTo>
                    <a:lnTo>
                      <a:pt x="0" y="794"/>
                    </a:lnTo>
                    <a:lnTo>
                      <a:pt x="0" y="775"/>
                    </a:lnTo>
                    <a:lnTo>
                      <a:pt x="0" y="748"/>
                    </a:lnTo>
                    <a:lnTo>
                      <a:pt x="2" y="722"/>
                    </a:lnTo>
                    <a:lnTo>
                      <a:pt x="5" y="697"/>
                    </a:lnTo>
                    <a:lnTo>
                      <a:pt x="9" y="674"/>
                    </a:lnTo>
                    <a:lnTo>
                      <a:pt x="13" y="651"/>
                    </a:lnTo>
                    <a:lnTo>
                      <a:pt x="20" y="629"/>
                    </a:lnTo>
                    <a:lnTo>
                      <a:pt x="26" y="606"/>
                    </a:lnTo>
                    <a:lnTo>
                      <a:pt x="34" y="586"/>
                    </a:lnTo>
                    <a:lnTo>
                      <a:pt x="43" y="566"/>
                    </a:lnTo>
                    <a:lnTo>
                      <a:pt x="53" y="546"/>
                    </a:lnTo>
                    <a:lnTo>
                      <a:pt x="64" y="528"/>
                    </a:lnTo>
                    <a:lnTo>
                      <a:pt x="77" y="509"/>
                    </a:lnTo>
                    <a:lnTo>
                      <a:pt x="90" y="493"/>
                    </a:lnTo>
                    <a:lnTo>
                      <a:pt x="104" y="476"/>
                    </a:lnTo>
                    <a:lnTo>
                      <a:pt x="120" y="462"/>
                    </a:lnTo>
                    <a:lnTo>
                      <a:pt x="136" y="447"/>
                    </a:lnTo>
                    <a:lnTo>
                      <a:pt x="155" y="433"/>
                    </a:lnTo>
                    <a:lnTo>
                      <a:pt x="173" y="420"/>
                    </a:lnTo>
                    <a:lnTo>
                      <a:pt x="192" y="409"/>
                    </a:lnTo>
                    <a:lnTo>
                      <a:pt x="213" y="398"/>
                    </a:lnTo>
                    <a:lnTo>
                      <a:pt x="235" y="387"/>
                    </a:lnTo>
                    <a:lnTo>
                      <a:pt x="257" y="378"/>
                    </a:lnTo>
                    <a:lnTo>
                      <a:pt x="280" y="369"/>
                    </a:lnTo>
                    <a:lnTo>
                      <a:pt x="304" y="362"/>
                    </a:lnTo>
                    <a:lnTo>
                      <a:pt x="330" y="355"/>
                    </a:lnTo>
                    <a:lnTo>
                      <a:pt x="355" y="350"/>
                    </a:lnTo>
                    <a:lnTo>
                      <a:pt x="382" y="345"/>
                    </a:lnTo>
                    <a:lnTo>
                      <a:pt x="411" y="340"/>
                    </a:lnTo>
                    <a:lnTo>
                      <a:pt x="440" y="338"/>
                    </a:lnTo>
                    <a:lnTo>
                      <a:pt x="470" y="335"/>
                    </a:lnTo>
                    <a:lnTo>
                      <a:pt x="501" y="334"/>
                    </a:lnTo>
                    <a:lnTo>
                      <a:pt x="533" y="334"/>
                    </a:lnTo>
                    <a:lnTo>
                      <a:pt x="573" y="334"/>
                    </a:lnTo>
                    <a:lnTo>
                      <a:pt x="573" y="136"/>
                    </a:lnTo>
                    <a:lnTo>
                      <a:pt x="572" y="112"/>
                    </a:lnTo>
                    <a:lnTo>
                      <a:pt x="571" y="93"/>
                    </a:lnTo>
                    <a:lnTo>
                      <a:pt x="569" y="86"/>
                    </a:lnTo>
                    <a:lnTo>
                      <a:pt x="567" y="80"/>
                    </a:lnTo>
                    <a:lnTo>
                      <a:pt x="564" y="75"/>
                    </a:lnTo>
                    <a:lnTo>
                      <a:pt x="562" y="71"/>
                    </a:lnTo>
                    <a:lnTo>
                      <a:pt x="556" y="65"/>
                    </a:lnTo>
                    <a:lnTo>
                      <a:pt x="547" y="61"/>
                    </a:lnTo>
                    <a:lnTo>
                      <a:pt x="535" y="58"/>
                    </a:lnTo>
                    <a:lnTo>
                      <a:pt x="521" y="55"/>
                    </a:lnTo>
                    <a:lnTo>
                      <a:pt x="521" y="0"/>
                    </a:lnTo>
                    <a:lnTo>
                      <a:pt x="763" y="0"/>
                    </a:lnTo>
                    <a:lnTo>
                      <a:pt x="763" y="986"/>
                    </a:lnTo>
                    <a:lnTo>
                      <a:pt x="763" y="1001"/>
                    </a:lnTo>
                    <a:lnTo>
                      <a:pt x="765" y="1012"/>
                    </a:lnTo>
                    <a:lnTo>
                      <a:pt x="769" y="1021"/>
                    </a:lnTo>
                    <a:lnTo>
                      <a:pt x="774" y="1029"/>
                    </a:lnTo>
                    <a:lnTo>
                      <a:pt x="781" y="1035"/>
                    </a:lnTo>
                    <a:lnTo>
                      <a:pt x="790" y="1039"/>
                    </a:lnTo>
                    <a:lnTo>
                      <a:pt x="799" y="1041"/>
                    </a:lnTo>
                    <a:lnTo>
                      <a:pt x="812" y="1042"/>
                    </a:lnTo>
                    <a:lnTo>
                      <a:pt x="812" y="1098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939520" y="316800"/>
                <a:ext cx="59040" cy="69120"/>
              </a:xfrm>
              <a:custGeom>
                <a:avLst/>
                <a:gdLst/>
                <a:ahLst/>
                <a:rect l="l" t="t" r="r" b="b"/>
                <a:pathLst>
                  <a:path w="727" h="786">
                    <a:moveTo>
                      <a:pt x="647" y="540"/>
                    </a:moveTo>
                    <a:lnTo>
                      <a:pt x="704" y="540"/>
                    </a:lnTo>
                    <a:lnTo>
                      <a:pt x="704" y="726"/>
                    </a:lnTo>
                    <a:lnTo>
                      <a:pt x="669" y="740"/>
                    </a:lnTo>
                    <a:lnTo>
                      <a:pt x="635" y="753"/>
                    </a:lnTo>
                    <a:lnTo>
                      <a:pt x="602" y="762"/>
                    </a:lnTo>
                    <a:lnTo>
                      <a:pt x="567" y="771"/>
                    </a:lnTo>
                    <a:lnTo>
                      <a:pt x="534" y="777"/>
                    </a:lnTo>
                    <a:lnTo>
                      <a:pt x="500" y="782"/>
                    </a:lnTo>
                    <a:lnTo>
                      <a:pt x="465" y="784"/>
                    </a:lnTo>
                    <a:lnTo>
                      <a:pt x="429" y="786"/>
                    </a:lnTo>
                    <a:lnTo>
                      <a:pt x="405" y="786"/>
                    </a:lnTo>
                    <a:lnTo>
                      <a:pt x="380" y="784"/>
                    </a:lnTo>
                    <a:lnTo>
                      <a:pt x="357" y="782"/>
                    </a:lnTo>
                    <a:lnTo>
                      <a:pt x="335" y="780"/>
                    </a:lnTo>
                    <a:lnTo>
                      <a:pt x="313" y="776"/>
                    </a:lnTo>
                    <a:lnTo>
                      <a:pt x="290" y="771"/>
                    </a:lnTo>
                    <a:lnTo>
                      <a:pt x="269" y="765"/>
                    </a:lnTo>
                    <a:lnTo>
                      <a:pt x="250" y="759"/>
                    </a:lnTo>
                    <a:lnTo>
                      <a:pt x="230" y="751"/>
                    </a:lnTo>
                    <a:lnTo>
                      <a:pt x="212" y="744"/>
                    </a:lnTo>
                    <a:lnTo>
                      <a:pt x="193" y="735"/>
                    </a:lnTo>
                    <a:lnTo>
                      <a:pt x="176" y="726"/>
                    </a:lnTo>
                    <a:lnTo>
                      <a:pt x="160" y="714"/>
                    </a:lnTo>
                    <a:lnTo>
                      <a:pt x="144" y="703"/>
                    </a:lnTo>
                    <a:lnTo>
                      <a:pt x="128" y="691"/>
                    </a:lnTo>
                    <a:lnTo>
                      <a:pt x="113" y="678"/>
                    </a:lnTo>
                    <a:lnTo>
                      <a:pt x="100" y="664"/>
                    </a:lnTo>
                    <a:lnTo>
                      <a:pt x="87" y="649"/>
                    </a:lnTo>
                    <a:lnTo>
                      <a:pt x="75" y="635"/>
                    </a:lnTo>
                    <a:lnTo>
                      <a:pt x="64" y="619"/>
                    </a:lnTo>
                    <a:lnTo>
                      <a:pt x="53" y="603"/>
                    </a:lnTo>
                    <a:lnTo>
                      <a:pt x="44" y="586"/>
                    </a:lnTo>
                    <a:lnTo>
                      <a:pt x="36" y="568"/>
                    </a:lnTo>
                    <a:lnTo>
                      <a:pt x="28" y="550"/>
                    </a:lnTo>
                    <a:lnTo>
                      <a:pt x="21" y="532"/>
                    </a:lnTo>
                    <a:lnTo>
                      <a:pt x="16" y="512"/>
                    </a:lnTo>
                    <a:lnTo>
                      <a:pt x="11" y="491"/>
                    </a:lnTo>
                    <a:lnTo>
                      <a:pt x="6" y="471"/>
                    </a:lnTo>
                    <a:lnTo>
                      <a:pt x="4" y="449"/>
                    </a:lnTo>
                    <a:lnTo>
                      <a:pt x="1" y="427"/>
                    </a:lnTo>
                    <a:lnTo>
                      <a:pt x="0" y="405"/>
                    </a:lnTo>
                    <a:lnTo>
                      <a:pt x="0" y="382"/>
                    </a:lnTo>
                    <a:lnTo>
                      <a:pt x="0" y="361"/>
                    </a:lnTo>
                    <a:lnTo>
                      <a:pt x="1" y="341"/>
                    </a:lnTo>
                    <a:lnTo>
                      <a:pt x="4" y="322"/>
                    </a:lnTo>
                    <a:lnTo>
                      <a:pt x="6" y="303"/>
                    </a:lnTo>
                    <a:lnTo>
                      <a:pt x="10" y="284"/>
                    </a:lnTo>
                    <a:lnTo>
                      <a:pt x="15" y="266"/>
                    </a:lnTo>
                    <a:lnTo>
                      <a:pt x="20" y="248"/>
                    </a:lnTo>
                    <a:lnTo>
                      <a:pt x="26" y="231"/>
                    </a:lnTo>
                    <a:lnTo>
                      <a:pt x="33" y="214"/>
                    </a:lnTo>
                    <a:lnTo>
                      <a:pt x="41" y="198"/>
                    </a:lnTo>
                    <a:lnTo>
                      <a:pt x="49" y="182"/>
                    </a:lnTo>
                    <a:lnTo>
                      <a:pt x="59" y="166"/>
                    </a:lnTo>
                    <a:lnTo>
                      <a:pt x="69" y="151"/>
                    </a:lnTo>
                    <a:lnTo>
                      <a:pt x="80" y="136"/>
                    </a:lnTo>
                    <a:lnTo>
                      <a:pt x="92" y="121"/>
                    </a:lnTo>
                    <a:lnTo>
                      <a:pt x="105" y="108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0"/>
                    </a:lnTo>
                    <a:lnTo>
                      <a:pt x="176" y="50"/>
                    </a:lnTo>
                    <a:lnTo>
                      <a:pt x="191" y="42"/>
                    </a:lnTo>
                    <a:lnTo>
                      <a:pt x="207" y="34"/>
                    </a:lnTo>
                    <a:lnTo>
                      <a:pt x="224" y="27"/>
                    </a:lnTo>
                    <a:lnTo>
                      <a:pt x="240" y="21"/>
                    </a:lnTo>
                    <a:lnTo>
                      <a:pt x="257" y="15"/>
                    </a:lnTo>
                    <a:lnTo>
                      <a:pt x="276" y="10"/>
                    </a:lnTo>
                    <a:lnTo>
                      <a:pt x="293" y="6"/>
                    </a:lnTo>
                    <a:lnTo>
                      <a:pt x="311" y="4"/>
                    </a:lnTo>
                    <a:lnTo>
                      <a:pt x="331" y="1"/>
                    </a:lnTo>
                    <a:lnTo>
                      <a:pt x="349" y="0"/>
                    </a:lnTo>
                    <a:lnTo>
                      <a:pt x="369" y="0"/>
                    </a:lnTo>
                    <a:lnTo>
                      <a:pt x="389" y="0"/>
                    </a:lnTo>
                    <a:lnTo>
                      <a:pt x="407" y="1"/>
                    </a:lnTo>
                    <a:lnTo>
                      <a:pt x="426" y="4"/>
                    </a:lnTo>
                    <a:lnTo>
                      <a:pt x="444" y="6"/>
                    </a:lnTo>
                    <a:lnTo>
                      <a:pt x="461" y="10"/>
                    </a:lnTo>
                    <a:lnTo>
                      <a:pt x="477" y="13"/>
                    </a:lnTo>
                    <a:lnTo>
                      <a:pt x="495" y="18"/>
                    </a:lnTo>
                    <a:lnTo>
                      <a:pt x="511" y="24"/>
                    </a:lnTo>
                    <a:lnTo>
                      <a:pt x="525" y="32"/>
                    </a:lnTo>
                    <a:lnTo>
                      <a:pt x="541" y="39"/>
                    </a:lnTo>
                    <a:lnTo>
                      <a:pt x="555" y="48"/>
                    </a:lnTo>
                    <a:lnTo>
                      <a:pt x="570" y="56"/>
                    </a:lnTo>
                    <a:lnTo>
                      <a:pt x="583" y="66"/>
                    </a:lnTo>
                    <a:lnTo>
                      <a:pt x="595" y="77"/>
                    </a:lnTo>
                    <a:lnTo>
                      <a:pt x="609" y="88"/>
                    </a:lnTo>
                    <a:lnTo>
                      <a:pt x="621" y="101"/>
                    </a:lnTo>
                    <a:lnTo>
                      <a:pt x="632" y="114"/>
                    </a:lnTo>
                    <a:lnTo>
                      <a:pt x="643" y="128"/>
                    </a:lnTo>
                    <a:lnTo>
                      <a:pt x="653" y="142"/>
                    </a:lnTo>
                    <a:lnTo>
                      <a:pt x="663" y="157"/>
                    </a:lnTo>
                    <a:lnTo>
                      <a:pt x="672" y="172"/>
                    </a:lnTo>
                    <a:lnTo>
                      <a:pt x="680" y="188"/>
                    </a:lnTo>
                    <a:lnTo>
                      <a:pt x="688" y="205"/>
                    </a:lnTo>
                    <a:lnTo>
                      <a:pt x="695" y="222"/>
                    </a:lnTo>
                    <a:lnTo>
                      <a:pt x="701" y="239"/>
                    </a:lnTo>
                    <a:lnTo>
                      <a:pt x="706" y="258"/>
                    </a:lnTo>
                    <a:lnTo>
                      <a:pt x="711" y="276"/>
                    </a:lnTo>
                    <a:lnTo>
                      <a:pt x="716" y="296"/>
                    </a:lnTo>
                    <a:lnTo>
                      <a:pt x="720" y="317"/>
                    </a:lnTo>
                    <a:lnTo>
                      <a:pt x="722" y="338"/>
                    </a:lnTo>
                    <a:lnTo>
                      <a:pt x="725" y="358"/>
                    </a:lnTo>
                    <a:lnTo>
                      <a:pt x="727" y="381"/>
                    </a:lnTo>
                    <a:lnTo>
                      <a:pt x="206" y="381"/>
                    </a:lnTo>
                    <a:lnTo>
                      <a:pt x="208" y="412"/>
                    </a:lnTo>
                    <a:lnTo>
                      <a:pt x="212" y="442"/>
                    </a:lnTo>
                    <a:lnTo>
                      <a:pt x="218" y="469"/>
                    </a:lnTo>
                    <a:lnTo>
                      <a:pt x="225" y="495"/>
                    </a:lnTo>
                    <a:lnTo>
                      <a:pt x="229" y="507"/>
                    </a:lnTo>
                    <a:lnTo>
                      <a:pt x="235" y="519"/>
                    </a:lnTo>
                    <a:lnTo>
                      <a:pt x="240" y="530"/>
                    </a:lnTo>
                    <a:lnTo>
                      <a:pt x="246" y="541"/>
                    </a:lnTo>
                    <a:lnTo>
                      <a:pt x="252" y="552"/>
                    </a:lnTo>
                    <a:lnTo>
                      <a:pt x="260" y="562"/>
                    </a:lnTo>
                    <a:lnTo>
                      <a:pt x="267" y="572"/>
                    </a:lnTo>
                    <a:lnTo>
                      <a:pt x="276" y="582"/>
                    </a:lnTo>
                    <a:lnTo>
                      <a:pt x="284" y="590"/>
                    </a:lnTo>
                    <a:lnTo>
                      <a:pt x="293" y="599"/>
                    </a:lnTo>
                    <a:lnTo>
                      <a:pt x="301" y="606"/>
                    </a:lnTo>
                    <a:lnTo>
                      <a:pt x="311" y="614"/>
                    </a:lnTo>
                    <a:lnTo>
                      <a:pt x="321" y="621"/>
                    </a:lnTo>
                    <a:lnTo>
                      <a:pt x="331" y="627"/>
                    </a:lnTo>
                    <a:lnTo>
                      <a:pt x="342" y="632"/>
                    </a:lnTo>
                    <a:lnTo>
                      <a:pt x="352" y="637"/>
                    </a:lnTo>
                    <a:lnTo>
                      <a:pt x="364" y="642"/>
                    </a:lnTo>
                    <a:lnTo>
                      <a:pt x="375" y="646"/>
                    </a:lnTo>
                    <a:lnTo>
                      <a:pt x="388" y="648"/>
                    </a:lnTo>
                    <a:lnTo>
                      <a:pt x="400" y="651"/>
                    </a:lnTo>
                    <a:lnTo>
                      <a:pt x="426" y="654"/>
                    </a:lnTo>
                    <a:lnTo>
                      <a:pt x="453" y="656"/>
                    </a:lnTo>
                    <a:lnTo>
                      <a:pt x="471" y="656"/>
                    </a:lnTo>
                    <a:lnTo>
                      <a:pt x="488" y="654"/>
                    </a:lnTo>
                    <a:lnTo>
                      <a:pt x="504" y="652"/>
                    </a:lnTo>
                    <a:lnTo>
                      <a:pt x="520" y="648"/>
                    </a:lnTo>
                    <a:lnTo>
                      <a:pt x="535" y="645"/>
                    </a:lnTo>
                    <a:lnTo>
                      <a:pt x="550" y="640"/>
                    </a:lnTo>
                    <a:lnTo>
                      <a:pt x="563" y="633"/>
                    </a:lnTo>
                    <a:lnTo>
                      <a:pt x="576" y="626"/>
                    </a:lnTo>
                    <a:lnTo>
                      <a:pt x="588" y="619"/>
                    </a:lnTo>
                    <a:lnTo>
                      <a:pt x="599" y="610"/>
                    </a:lnTo>
                    <a:lnTo>
                      <a:pt x="609" y="600"/>
                    </a:lnTo>
                    <a:lnTo>
                      <a:pt x="619" y="590"/>
                    </a:lnTo>
                    <a:lnTo>
                      <a:pt x="627" y="579"/>
                    </a:lnTo>
                    <a:lnTo>
                      <a:pt x="635" y="567"/>
                    </a:lnTo>
                    <a:lnTo>
                      <a:pt x="641" y="554"/>
                    </a:lnTo>
                    <a:lnTo>
                      <a:pt x="647" y="540"/>
                    </a:lnTo>
                    <a:close/>
                    <a:moveTo>
                      <a:pt x="219" y="274"/>
                    </a:moveTo>
                    <a:lnTo>
                      <a:pt x="506" y="274"/>
                    </a:lnTo>
                    <a:lnTo>
                      <a:pt x="504" y="256"/>
                    </a:lnTo>
                    <a:lnTo>
                      <a:pt x="502" y="241"/>
                    </a:lnTo>
                    <a:lnTo>
                      <a:pt x="500" y="226"/>
                    </a:lnTo>
                    <a:lnTo>
                      <a:pt x="496" y="212"/>
                    </a:lnTo>
                    <a:lnTo>
                      <a:pt x="491" y="199"/>
                    </a:lnTo>
                    <a:lnTo>
                      <a:pt x="485" y="187"/>
                    </a:lnTo>
                    <a:lnTo>
                      <a:pt x="477" y="177"/>
                    </a:lnTo>
                    <a:lnTo>
                      <a:pt x="470" y="167"/>
                    </a:lnTo>
                    <a:lnTo>
                      <a:pt x="460" y="158"/>
                    </a:lnTo>
                    <a:lnTo>
                      <a:pt x="450" y="151"/>
                    </a:lnTo>
                    <a:lnTo>
                      <a:pt x="440" y="144"/>
                    </a:lnTo>
                    <a:lnTo>
                      <a:pt x="428" y="139"/>
                    </a:lnTo>
                    <a:lnTo>
                      <a:pt x="416" y="135"/>
                    </a:lnTo>
                    <a:lnTo>
                      <a:pt x="402" y="132"/>
                    </a:lnTo>
                    <a:lnTo>
                      <a:pt x="388" y="130"/>
                    </a:lnTo>
                    <a:lnTo>
                      <a:pt x="373" y="130"/>
                    </a:lnTo>
                    <a:lnTo>
                      <a:pt x="357" y="130"/>
                    </a:lnTo>
                    <a:lnTo>
                      <a:pt x="341" y="132"/>
                    </a:lnTo>
                    <a:lnTo>
                      <a:pt x="326" y="135"/>
                    </a:lnTo>
                    <a:lnTo>
                      <a:pt x="313" y="140"/>
                    </a:lnTo>
                    <a:lnTo>
                      <a:pt x="299" y="145"/>
                    </a:lnTo>
                    <a:lnTo>
                      <a:pt x="287" y="151"/>
                    </a:lnTo>
                    <a:lnTo>
                      <a:pt x="276" y="159"/>
                    </a:lnTo>
                    <a:lnTo>
                      <a:pt x="265" y="168"/>
                    </a:lnTo>
                    <a:lnTo>
                      <a:pt x="255" y="178"/>
                    </a:lnTo>
                    <a:lnTo>
                      <a:pt x="246" y="189"/>
                    </a:lnTo>
                    <a:lnTo>
                      <a:pt x="239" y="201"/>
                    </a:lnTo>
                    <a:lnTo>
                      <a:pt x="233" y="214"/>
                    </a:lnTo>
                    <a:lnTo>
                      <a:pt x="228" y="227"/>
                    </a:lnTo>
                    <a:lnTo>
                      <a:pt x="223" y="242"/>
                    </a:lnTo>
                    <a:lnTo>
                      <a:pt x="220" y="258"/>
                    </a:lnTo>
                    <a:lnTo>
                      <a:pt x="219" y="274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043560" y="28728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297" h="1098">
                    <a:moveTo>
                      <a:pt x="0" y="1098"/>
                    </a:moveTo>
                    <a:lnTo>
                      <a:pt x="0" y="1042"/>
                    </a:lnTo>
                    <a:lnTo>
                      <a:pt x="14" y="1040"/>
                    </a:lnTo>
                    <a:lnTo>
                      <a:pt x="25" y="1035"/>
                    </a:lnTo>
                    <a:lnTo>
                      <a:pt x="33" y="1030"/>
                    </a:lnTo>
                    <a:lnTo>
                      <a:pt x="40" y="1024"/>
                    </a:lnTo>
                    <a:lnTo>
                      <a:pt x="42" y="1019"/>
                    </a:lnTo>
                    <a:lnTo>
                      <a:pt x="45" y="1014"/>
                    </a:lnTo>
                    <a:lnTo>
                      <a:pt x="46" y="1008"/>
                    </a:lnTo>
                    <a:lnTo>
                      <a:pt x="48" y="1001"/>
                    </a:lnTo>
                    <a:lnTo>
                      <a:pt x="49" y="983"/>
                    </a:lnTo>
                    <a:lnTo>
                      <a:pt x="51" y="961"/>
                    </a:lnTo>
                    <a:lnTo>
                      <a:pt x="51" y="951"/>
                    </a:lnTo>
                    <a:lnTo>
                      <a:pt x="51" y="109"/>
                    </a:lnTo>
                    <a:lnTo>
                      <a:pt x="49" y="94"/>
                    </a:lnTo>
                    <a:lnTo>
                      <a:pt x="48" y="83"/>
                    </a:lnTo>
                    <a:lnTo>
                      <a:pt x="45" y="74"/>
                    </a:lnTo>
                    <a:lnTo>
                      <a:pt x="40" y="67"/>
                    </a:lnTo>
                    <a:lnTo>
                      <a:pt x="32" y="61"/>
                    </a:lnTo>
                    <a:lnTo>
                      <a:pt x="24" y="59"/>
                    </a:lnTo>
                    <a:lnTo>
                      <a:pt x="14" y="56"/>
                    </a:lnTo>
                    <a:lnTo>
                      <a:pt x="0" y="55"/>
                    </a:lnTo>
                    <a:lnTo>
                      <a:pt x="0" y="0"/>
                    </a:lnTo>
                    <a:lnTo>
                      <a:pt x="247" y="0"/>
                    </a:lnTo>
                    <a:lnTo>
                      <a:pt x="247" y="963"/>
                    </a:lnTo>
                    <a:lnTo>
                      <a:pt x="247" y="987"/>
                    </a:lnTo>
                    <a:lnTo>
                      <a:pt x="250" y="1006"/>
                    </a:lnTo>
                    <a:lnTo>
                      <a:pt x="251" y="1013"/>
                    </a:lnTo>
                    <a:lnTo>
                      <a:pt x="252" y="1019"/>
                    </a:lnTo>
                    <a:lnTo>
                      <a:pt x="255" y="1024"/>
                    </a:lnTo>
                    <a:lnTo>
                      <a:pt x="257" y="1028"/>
                    </a:lnTo>
                    <a:lnTo>
                      <a:pt x="263" y="1034"/>
                    </a:lnTo>
                    <a:lnTo>
                      <a:pt x="272" y="1037"/>
                    </a:lnTo>
                    <a:lnTo>
                      <a:pt x="283" y="1041"/>
                    </a:lnTo>
                    <a:lnTo>
                      <a:pt x="295" y="1042"/>
                    </a:lnTo>
                    <a:lnTo>
                      <a:pt x="297" y="1098"/>
                    </a:lnTo>
                    <a:lnTo>
                      <a:pt x="0" y="1098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9075240" y="316080"/>
                <a:ext cx="59400" cy="68760"/>
              </a:xfrm>
              <a:custGeom>
                <a:avLst/>
                <a:gdLst/>
                <a:ahLst/>
                <a:rect l="l" t="t" r="r" b="b"/>
                <a:pathLst>
                  <a:path w="738" h="780">
                    <a:moveTo>
                      <a:pt x="497" y="350"/>
                    </a:moveTo>
                    <a:lnTo>
                      <a:pt x="458" y="359"/>
                    </a:lnTo>
                    <a:lnTo>
                      <a:pt x="423" y="368"/>
                    </a:lnTo>
                    <a:lnTo>
                      <a:pt x="390" y="377"/>
                    </a:lnTo>
                    <a:lnTo>
                      <a:pt x="360" y="386"/>
                    </a:lnTo>
                    <a:lnTo>
                      <a:pt x="333" y="396"/>
                    </a:lnTo>
                    <a:lnTo>
                      <a:pt x="310" y="406"/>
                    </a:lnTo>
                    <a:lnTo>
                      <a:pt x="289" y="417"/>
                    </a:lnTo>
                    <a:lnTo>
                      <a:pt x="270" y="426"/>
                    </a:lnTo>
                    <a:lnTo>
                      <a:pt x="256" y="438"/>
                    </a:lnTo>
                    <a:lnTo>
                      <a:pt x="242" y="450"/>
                    </a:lnTo>
                    <a:lnTo>
                      <a:pt x="230" y="462"/>
                    </a:lnTo>
                    <a:lnTo>
                      <a:pt x="221" y="476"/>
                    </a:lnTo>
                    <a:lnTo>
                      <a:pt x="214" y="489"/>
                    </a:lnTo>
                    <a:lnTo>
                      <a:pt x="209" y="504"/>
                    </a:lnTo>
                    <a:lnTo>
                      <a:pt x="205" y="520"/>
                    </a:lnTo>
                    <a:lnTo>
                      <a:pt x="204" y="536"/>
                    </a:lnTo>
                    <a:lnTo>
                      <a:pt x="205" y="548"/>
                    </a:lnTo>
                    <a:lnTo>
                      <a:pt x="206" y="559"/>
                    </a:lnTo>
                    <a:lnTo>
                      <a:pt x="209" y="570"/>
                    </a:lnTo>
                    <a:lnTo>
                      <a:pt x="212" y="581"/>
                    </a:lnTo>
                    <a:lnTo>
                      <a:pt x="216" y="591"/>
                    </a:lnTo>
                    <a:lnTo>
                      <a:pt x="222" y="600"/>
                    </a:lnTo>
                    <a:lnTo>
                      <a:pt x="228" y="608"/>
                    </a:lnTo>
                    <a:lnTo>
                      <a:pt x="236" y="616"/>
                    </a:lnTo>
                    <a:lnTo>
                      <a:pt x="244" y="623"/>
                    </a:lnTo>
                    <a:lnTo>
                      <a:pt x="253" y="629"/>
                    </a:lnTo>
                    <a:lnTo>
                      <a:pt x="263" y="634"/>
                    </a:lnTo>
                    <a:lnTo>
                      <a:pt x="273" y="638"/>
                    </a:lnTo>
                    <a:lnTo>
                      <a:pt x="284" y="641"/>
                    </a:lnTo>
                    <a:lnTo>
                      <a:pt x="295" y="644"/>
                    </a:lnTo>
                    <a:lnTo>
                      <a:pt x="307" y="645"/>
                    </a:lnTo>
                    <a:lnTo>
                      <a:pt x="319" y="645"/>
                    </a:lnTo>
                    <a:lnTo>
                      <a:pt x="339" y="644"/>
                    </a:lnTo>
                    <a:lnTo>
                      <a:pt x="359" y="641"/>
                    </a:lnTo>
                    <a:lnTo>
                      <a:pt x="379" y="636"/>
                    </a:lnTo>
                    <a:lnTo>
                      <a:pt x="399" y="629"/>
                    </a:lnTo>
                    <a:lnTo>
                      <a:pt x="419" y="618"/>
                    </a:lnTo>
                    <a:lnTo>
                      <a:pt x="442" y="605"/>
                    </a:lnTo>
                    <a:lnTo>
                      <a:pt x="468" y="587"/>
                    </a:lnTo>
                    <a:lnTo>
                      <a:pt x="497" y="568"/>
                    </a:lnTo>
                    <a:lnTo>
                      <a:pt x="497" y="350"/>
                    </a:lnTo>
                    <a:close/>
                    <a:moveTo>
                      <a:pt x="510" y="767"/>
                    </a:moveTo>
                    <a:lnTo>
                      <a:pt x="510" y="682"/>
                    </a:lnTo>
                    <a:lnTo>
                      <a:pt x="498" y="694"/>
                    </a:lnTo>
                    <a:lnTo>
                      <a:pt x="486" y="705"/>
                    </a:lnTo>
                    <a:lnTo>
                      <a:pt x="473" y="716"/>
                    </a:lnTo>
                    <a:lnTo>
                      <a:pt x="461" y="726"/>
                    </a:lnTo>
                    <a:lnTo>
                      <a:pt x="447" y="735"/>
                    </a:lnTo>
                    <a:lnTo>
                      <a:pt x="433" y="743"/>
                    </a:lnTo>
                    <a:lnTo>
                      <a:pt x="419" y="751"/>
                    </a:lnTo>
                    <a:lnTo>
                      <a:pt x="404" y="757"/>
                    </a:lnTo>
                    <a:lnTo>
                      <a:pt x="390" y="762"/>
                    </a:lnTo>
                    <a:lnTo>
                      <a:pt x="374" y="767"/>
                    </a:lnTo>
                    <a:lnTo>
                      <a:pt x="358" y="772"/>
                    </a:lnTo>
                    <a:lnTo>
                      <a:pt x="340" y="774"/>
                    </a:lnTo>
                    <a:lnTo>
                      <a:pt x="323" y="778"/>
                    </a:lnTo>
                    <a:lnTo>
                      <a:pt x="306" y="779"/>
                    </a:lnTo>
                    <a:lnTo>
                      <a:pt x="286" y="780"/>
                    </a:lnTo>
                    <a:lnTo>
                      <a:pt x="268" y="780"/>
                    </a:lnTo>
                    <a:lnTo>
                      <a:pt x="238" y="779"/>
                    </a:lnTo>
                    <a:lnTo>
                      <a:pt x="210" y="776"/>
                    </a:lnTo>
                    <a:lnTo>
                      <a:pt x="184" y="772"/>
                    </a:lnTo>
                    <a:lnTo>
                      <a:pt x="160" y="764"/>
                    </a:lnTo>
                    <a:lnTo>
                      <a:pt x="136" y="756"/>
                    </a:lnTo>
                    <a:lnTo>
                      <a:pt x="114" y="745"/>
                    </a:lnTo>
                    <a:lnTo>
                      <a:pt x="103" y="738"/>
                    </a:lnTo>
                    <a:lnTo>
                      <a:pt x="93" y="731"/>
                    </a:lnTo>
                    <a:lnTo>
                      <a:pt x="83" y="724"/>
                    </a:lnTo>
                    <a:lnTo>
                      <a:pt x="73" y="716"/>
                    </a:lnTo>
                    <a:lnTo>
                      <a:pt x="65" y="708"/>
                    </a:lnTo>
                    <a:lnTo>
                      <a:pt x="56" y="699"/>
                    </a:lnTo>
                    <a:lnTo>
                      <a:pt x="49" y="690"/>
                    </a:lnTo>
                    <a:lnTo>
                      <a:pt x="42" y="682"/>
                    </a:lnTo>
                    <a:lnTo>
                      <a:pt x="35" y="672"/>
                    </a:lnTo>
                    <a:lnTo>
                      <a:pt x="29" y="662"/>
                    </a:lnTo>
                    <a:lnTo>
                      <a:pt x="23" y="652"/>
                    </a:lnTo>
                    <a:lnTo>
                      <a:pt x="18" y="641"/>
                    </a:lnTo>
                    <a:lnTo>
                      <a:pt x="14" y="632"/>
                    </a:lnTo>
                    <a:lnTo>
                      <a:pt x="11" y="620"/>
                    </a:lnTo>
                    <a:lnTo>
                      <a:pt x="7" y="609"/>
                    </a:lnTo>
                    <a:lnTo>
                      <a:pt x="5" y="597"/>
                    </a:lnTo>
                    <a:lnTo>
                      <a:pt x="1" y="574"/>
                    </a:lnTo>
                    <a:lnTo>
                      <a:pt x="0" y="548"/>
                    </a:lnTo>
                    <a:lnTo>
                      <a:pt x="1" y="535"/>
                    </a:lnTo>
                    <a:lnTo>
                      <a:pt x="2" y="520"/>
                    </a:lnTo>
                    <a:lnTo>
                      <a:pt x="3" y="506"/>
                    </a:lnTo>
                    <a:lnTo>
                      <a:pt x="7" y="494"/>
                    </a:lnTo>
                    <a:lnTo>
                      <a:pt x="11" y="481"/>
                    </a:lnTo>
                    <a:lnTo>
                      <a:pt x="16" y="468"/>
                    </a:lnTo>
                    <a:lnTo>
                      <a:pt x="21" y="457"/>
                    </a:lnTo>
                    <a:lnTo>
                      <a:pt x="27" y="445"/>
                    </a:lnTo>
                    <a:lnTo>
                      <a:pt x="34" y="434"/>
                    </a:lnTo>
                    <a:lnTo>
                      <a:pt x="42" y="423"/>
                    </a:lnTo>
                    <a:lnTo>
                      <a:pt x="50" y="413"/>
                    </a:lnTo>
                    <a:lnTo>
                      <a:pt x="60" y="403"/>
                    </a:lnTo>
                    <a:lnTo>
                      <a:pt x="70" y="393"/>
                    </a:lnTo>
                    <a:lnTo>
                      <a:pt x="81" y="384"/>
                    </a:lnTo>
                    <a:lnTo>
                      <a:pt x="93" y="375"/>
                    </a:lnTo>
                    <a:lnTo>
                      <a:pt x="105" y="366"/>
                    </a:lnTo>
                    <a:lnTo>
                      <a:pt x="120" y="358"/>
                    </a:lnTo>
                    <a:lnTo>
                      <a:pt x="135" y="349"/>
                    </a:lnTo>
                    <a:lnTo>
                      <a:pt x="152" y="342"/>
                    </a:lnTo>
                    <a:lnTo>
                      <a:pt x="171" y="333"/>
                    </a:lnTo>
                    <a:lnTo>
                      <a:pt x="212" y="317"/>
                    </a:lnTo>
                    <a:lnTo>
                      <a:pt x="259" y="301"/>
                    </a:lnTo>
                    <a:lnTo>
                      <a:pt x="313" y="285"/>
                    </a:lnTo>
                    <a:lnTo>
                      <a:pt x="372" y="269"/>
                    </a:lnTo>
                    <a:lnTo>
                      <a:pt x="439" y="255"/>
                    </a:lnTo>
                    <a:lnTo>
                      <a:pt x="510" y="239"/>
                    </a:lnTo>
                    <a:lnTo>
                      <a:pt x="506" y="224"/>
                    </a:lnTo>
                    <a:lnTo>
                      <a:pt x="503" y="210"/>
                    </a:lnTo>
                    <a:lnTo>
                      <a:pt x="498" y="198"/>
                    </a:lnTo>
                    <a:lnTo>
                      <a:pt x="492" y="186"/>
                    </a:lnTo>
                    <a:lnTo>
                      <a:pt x="484" y="175"/>
                    </a:lnTo>
                    <a:lnTo>
                      <a:pt x="477" y="165"/>
                    </a:lnTo>
                    <a:lnTo>
                      <a:pt x="468" y="156"/>
                    </a:lnTo>
                    <a:lnTo>
                      <a:pt x="457" y="149"/>
                    </a:lnTo>
                    <a:lnTo>
                      <a:pt x="447" y="142"/>
                    </a:lnTo>
                    <a:lnTo>
                      <a:pt x="435" y="135"/>
                    </a:lnTo>
                    <a:lnTo>
                      <a:pt x="422" y="131"/>
                    </a:lnTo>
                    <a:lnTo>
                      <a:pt x="408" y="127"/>
                    </a:lnTo>
                    <a:lnTo>
                      <a:pt x="392" y="123"/>
                    </a:lnTo>
                    <a:lnTo>
                      <a:pt x="376" y="122"/>
                    </a:lnTo>
                    <a:lnTo>
                      <a:pt x="359" y="120"/>
                    </a:lnTo>
                    <a:lnTo>
                      <a:pt x="339" y="120"/>
                    </a:lnTo>
                    <a:lnTo>
                      <a:pt x="319" y="120"/>
                    </a:lnTo>
                    <a:lnTo>
                      <a:pt x="301" y="121"/>
                    </a:lnTo>
                    <a:lnTo>
                      <a:pt x="283" y="123"/>
                    </a:lnTo>
                    <a:lnTo>
                      <a:pt x="265" y="126"/>
                    </a:lnTo>
                    <a:lnTo>
                      <a:pt x="249" y="128"/>
                    </a:lnTo>
                    <a:lnTo>
                      <a:pt x="235" y="133"/>
                    </a:lnTo>
                    <a:lnTo>
                      <a:pt x="220" y="137"/>
                    </a:lnTo>
                    <a:lnTo>
                      <a:pt x="206" y="143"/>
                    </a:lnTo>
                    <a:lnTo>
                      <a:pt x="194" y="149"/>
                    </a:lnTo>
                    <a:lnTo>
                      <a:pt x="182" y="155"/>
                    </a:lnTo>
                    <a:lnTo>
                      <a:pt x="171" y="162"/>
                    </a:lnTo>
                    <a:lnTo>
                      <a:pt x="161" y="171"/>
                    </a:lnTo>
                    <a:lnTo>
                      <a:pt x="152" y="180"/>
                    </a:lnTo>
                    <a:lnTo>
                      <a:pt x="144" y="190"/>
                    </a:lnTo>
                    <a:lnTo>
                      <a:pt x="136" y="199"/>
                    </a:lnTo>
                    <a:lnTo>
                      <a:pt x="129" y="210"/>
                    </a:lnTo>
                    <a:lnTo>
                      <a:pt x="66" y="210"/>
                    </a:lnTo>
                    <a:lnTo>
                      <a:pt x="66" y="43"/>
                    </a:lnTo>
                    <a:lnTo>
                      <a:pt x="109" y="32"/>
                    </a:lnTo>
                    <a:lnTo>
                      <a:pt x="151" y="24"/>
                    </a:lnTo>
                    <a:lnTo>
                      <a:pt x="190" y="18"/>
                    </a:lnTo>
                    <a:lnTo>
                      <a:pt x="228" y="11"/>
                    </a:lnTo>
                    <a:lnTo>
                      <a:pt x="264" y="7"/>
                    </a:lnTo>
                    <a:lnTo>
                      <a:pt x="300" y="3"/>
                    </a:lnTo>
                    <a:lnTo>
                      <a:pt x="334" y="2"/>
                    </a:lnTo>
                    <a:lnTo>
                      <a:pt x="367" y="0"/>
                    </a:lnTo>
                    <a:lnTo>
                      <a:pt x="409" y="2"/>
                    </a:lnTo>
                    <a:lnTo>
                      <a:pt x="449" y="4"/>
                    </a:lnTo>
                    <a:lnTo>
                      <a:pt x="484" y="9"/>
                    </a:lnTo>
                    <a:lnTo>
                      <a:pt x="516" y="16"/>
                    </a:lnTo>
                    <a:lnTo>
                      <a:pt x="531" y="20"/>
                    </a:lnTo>
                    <a:lnTo>
                      <a:pt x="546" y="25"/>
                    </a:lnTo>
                    <a:lnTo>
                      <a:pt x="559" y="30"/>
                    </a:lnTo>
                    <a:lnTo>
                      <a:pt x="572" y="35"/>
                    </a:lnTo>
                    <a:lnTo>
                      <a:pt x="584" y="41"/>
                    </a:lnTo>
                    <a:lnTo>
                      <a:pt x="595" y="48"/>
                    </a:lnTo>
                    <a:lnTo>
                      <a:pt x="606" y="54"/>
                    </a:lnTo>
                    <a:lnTo>
                      <a:pt x="616" y="62"/>
                    </a:lnTo>
                    <a:lnTo>
                      <a:pt x="625" y="70"/>
                    </a:lnTo>
                    <a:lnTo>
                      <a:pt x="633" y="79"/>
                    </a:lnTo>
                    <a:lnTo>
                      <a:pt x="641" y="88"/>
                    </a:lnTo>
                    <a:lnTo>
                      <a:pt x="648" y="97"/>
                    </a:lnTo>
                    <a:lnTo>
                      <a:pt x="655" y="108"/>
                    </a:lnTo>
                    <a:lnTo>
                      <a:pt x="661" y="120"/>
                    </a:lnTo>
                    <a:lnTo>
                      <a:pt x="666" y="132"/>
                    </a:lnTo>
                    <a:lnTo>
                      <a:pt x="671" y="144"/>
                    </a:lnTo>
                    <a:lnTo>
                      <a:pt x="676" y="158"/>
                    </a:lnTo>
                    <a:lnTo>
                      <a:pt x="680" y="171"/>
                    </a:lnTo>
                    <a:lnTo>
                      <a:pt x="684" y="186"/>
                    </a:lnTo>
                    <a:lnTo>
                      <a:pt x="686" y="201"/>
                    </a:lnTo>
                    <a:lnTo>
                      <a:pt x="687" y="217"/>
                    </a:lnTo>
                    <a:lnTo>
                      <a:pt x="690" y="232"/>
                    </a:lnTo>
                    <a:lnTo>
                      <a:pt x="690" y="250"/>
                    </a:lnTo>
                    <a:lnTo>
                      <a:pt x="691" y="267"/>
                    </a:lnTo>
                    <a:lnTo>
                      <a:pt x="691" y="644"/>
                    </a:lnTo>
                    <a:lnTo>
                      <a:pt x="691" y="660"/>
                    </a:lnTo>
                    <a:lnTo>
                      <a:pt x="693" y="673"/>
                    </a:lnTo>
                    <a:lnTo>
                      <a:pt x="696" y="684"/>
                    </a:lnTo>
                    <a:lnTo>
                      <a:pt x="701" y="692"/>
                    </a:lnTo>
                    <a:lnTo>
                      <a:pt x="707" y="698"/>
                    </a:lnTo>
                    <a:lnTo>
                      <a:pt x="714" y="703"/>
                    </a:lnTo>
                    <a:lnTo>
                      <a:pt x="725" y="705"/>
                    </a:lnTo>
                    <a:lnTo>
                      <a:pt x="738" y="706"/>
                    </a:lnTo>
                    <a:lnTo>
                      <a:pt x="738" y="767"/>
                    </a:lnTo>
                    <a:lnTo>
                      <a:pt x="510" y="767"/>
                    </a:lnTo>
                    <a:close/>
                  </a:path>
                </a:pathLst>
              </a:custGeom>
              <a:solidFill>
                <a:srgbClr val="c3c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 rot="18000600">
            <a:off x="176760" y="533880"/>
            <a:ext cx="1270080" cy="916200"/>
          </a:xfrm>
          <a:custGeom>
            <a:avLst/>
            <a:gdLst/>
            <a:ahLst/>
            <a:rect l="l" t="t" r="r" b="b"/>
            <a:pathLst>
              <a:path w="5156" h="3904">
                <a:moveTo>
                  <a:pt x="3" y="3804"/>
                </a:moveTo>
                <a:lnTo>
                  <a:pt x="4" y="3820"/>
                </a:lnTo>
                <a:lnTo>
                  <a:pt x="5" y="3833"/>
                </a:lnTo>
                <a:lnTo>
                  <a:pt x="7" y="3845"/>
                </a:lnTo>
                <a:lnTo>
                  <a:pt x="9" y="3857"/>
                </a:lnTo>
                <a:lnTo>
                  <a:pt x="11" y="3866"/>
                </a:lnTo>
                <a:lnTo>
                  <a:pt x="14" y="3875"/>
                </a:lnTo>
                <a:lnTo>
                  <a:pt x="17" y="3882"/>
                </a:lnTo>
                <a:lnTo>
                  <a:pt x="20" y="3889"/>
                </a:lnTo>
                <a:lnTo>
                  <a:pt x="25" y="3894"/>
                </a:lnTo>
                <a:lnTo>
                  <a:pt x="29" y="3898"/>
                </a:lnTo>
                <a:lnTo>
                  <a:pt x="33" y="3900"/>
                </a:lnTo>
                <a:lnTo>
                  <a:pt x="38" y="3903"/>
                </a:lnTo>
                <a:lnTo>
                  <a:pt x="43" y="3904"/>
                </a:lnTo>
                <a:lnTo>
                  <a:pt x="47" y="3904"/>
                </a:lnTo>
                <a:lnTo>
                  <a:pt x="52" y="3904"/>
                </a:lnTo>
                <a:lnTo>
                  <a:pt x="57" y="3902"/>
                </a:lnTo>
                <a:lnTo>
                  <a:pt x="64" y="3901"/>
                </a:lnTo>
                <a:lnTo>
                  <a:pt x="69" y="3898"/>
                </a:lnTo>
                <a:lnTo>
                  <a:pt x="74" y="3895"/>
                </a:lnTo>
                <a:lnTo>
                  <a:pt x="79" y="3892"/>
                </a:lnTo>
                <a:lnTo>
                  <a:pt x="90" y="3882"/>
                </a:lnTo>
                <a:lnTo>
                  <a:pt x="101" y="3872"/>
                </a:lnTo>
                <a:lnTo>
                  <a:pt x="111" y="3861"/>
                </a:lnTo>
                <a:lnTo>
                  <a:pt x="120" y="3847"/>
                </a:lnTo>
                <a:lnTo>
                  <a:pt x="128" y="3835"/>
                </a:lnTo>
                <a:lnTo>
                  <a:pt x="136" y="3822"/>
                </a:lnTo>
                <a:lnTo>
                  <a:pt x="180" y="3760"/>
                </a:lnTo>
                <a:lnTo>
                  <a:pt x="228" y="3695"/>
                </a:lnTo>
                <a:lnTo>
                  <a:pt x="280" y="3628"/>
                </a:lnTo>
                <a:lnTo>
                  <a:pt x="332" y="3560"/>
                </a:lnTo>
                <a:lnTo>
                  <a:pt x="386" y="3494"/>
                </a:lnTo>
                <a:lnTo>
                  <a:pt x="439" y="3429"/>
                </a:lnTo>
                <a:lnTo>
                  <a:pt x="490" y="3366"/>
                </a:lnTo>
                <a:lnTo>
                  <a:pt x="538" y="3308"/>
                </a:lnTo>
                <a:lnTo>
                  <a:pt x="598" y="3272"/>
                </a:lnTo>
                <a:lnTo>
                  <a:pt x="661" y="3239"/>
                </a:lnTo>
                <a:lnTo>
                  <a:pt x="728" y="3208"/>
                </a:lnTo>
                <a:lnTo>
                  <a:pt x="799" y="3179"/>
                </a:lnTo>
                <a:lnTo>
                  <a:pt x="872" y="3151"/>
                </a:lnTo>
                <a:lnTo>
                  <a:pt x="948" y="3125"/>
                </a:lnTo>
                <a:lnTo>
                  <a:pt x="1026" y="3101"/>
                </a:lnTo>
                <a:lnTo>
                  <a:pt x="1108" y="3077"/>
                </a:lnTo>
                <a:lnTo>
                  <a:pt x="1190" y="3054"/>
                </a:lnTo>
                <a:lnTo>
                  <a:pt x="1275" y="3033"/>
                </a:lnTo>
                <a:lnTo>
                  <a:pt x="1363" y="3011"/>
                </a:lnTo>
                <a:lnTo>
                  <a:pt x="1451" y="2991"/>
                </a:lnTo>
                <a:lnTo>
                  <a:pt x="1632" y="2947"/>
                </a:lnTo>
                <a:lnTo>
                  <a:pt x="1818" y="2903"/>
                </a:lnTo>
                <a:lnTo>
                  <a:pt x="1913" y="2880"/>
                </a:lnTo>
                <a:lnTo>
                  <a:pt x="2008" y="2855"/>
                </a:lnTo>
                <a:lnTo>
                  <a:pt x="2102" y="2828"/>
                </a:lnTo>
                <a:lnTo>
                  <a:pt x="2198" y="2800"/>
                </a:lnTo>
                <a:lnTo>
                  <a:pt x="2293" y="2771"/>
                </a:lnTo>
                <a:lnTo>
                  <a:pt x="2387" y="2739"/>
                </a:lnTo>
                <a:lnTo>
                  <a:pt x="2482" y="2705"/>
                </a:lnTo>
                <a:lnTo>
                  <a:pt x="2576" y="2668"/>
                </a:lnTo>
                <a:lnTo>
                  <a:pt x="2669" y="2629"/>
                </a:lnTo>
                <a:lnTo>
                  <a:pt x="2762" y="2586"/>
                </a:lnTo>
                <a:lnTo>
                  <a:pt x="2852" y="2540"/>
                </a:lnTo>
                <a:lnTo>
                  <a:pt x="2942" y="2492"/>
                </a:lnTo>
                <a:lnTo>
                  <a:pt x="3030" y="2438"/>
                </a:lnTo>
                <a:lnTo>
                  <a:pt x="3117" y="2382"/>
                </a:lnTo>
                <a:lnTo>
                  <a:pt x="3201" y="2321"/>
                </a:lnTo>
                <a:lnTo>
                  <a:pt x="3284" y="2255"/>
                </a:lnTo>
                <a:lnTo>
                  <a:pt x="3310" y="2234"/>
                </a:lnTo>
                <a:lnTo>
                  <a:pt x="3336" y="2210"/>
                </a:lnTo>
                <a:lnTo>
                  <a:pt x="3362" y="2185"/>
                </a:lnTo>
                <a:lnTo>
                  <a:pt x="3388" y="2160"/>
                </a:lnTo>
                <a:lnTo>
                  <a:pt x="3415" y="2133"/>
                </a:lnTo>
                <a:lnTo>
                  <a:pt x="3441" y="2105"/>
                </a:lnTo>
                <a:lnTo>
                  <a:pt x="3467" y="2076"/>
                </a:lnTo>
                <a:lnTo>
                  <a:pt x="3494" y="2046"/>
                </a:lnTo>
                <a:lnTo>
                  <a:pt x="3521" y="2016"/>
                </a:lnTo>
                <a:lnTo>
                  <a:pt x="3549" y="1983"/>
                </a:lnTo>
                <a:lnTo>
                  <a:pt x="3575" y="1949"/>
                </a:lnTo>
                <a:lnTo>
                  <a:pt x="3603" y="1915"/>
                </a:lnTo>
                <a:lnTo>
                  <a:pt x="3660" y="1841"/>
                </a:lnTo>
                <a:lnTo>
                  <a:pt x="3717" y="1763"/>
                </a:lnTo>
                <a:lnTo>
                  <a:pt x="3776" y="1679"/>
                </a:lnTo>
                <a:lnTo>
                  <a:pt x="3838" y="1591"/>
                </a:lnTo>
                <a:lnTo>
                  <a:pt x="3900" y="1497"/>
                </a:lnTo>
                <a:lnTo>
                  <a:pt x="3966" y="1399"/>
                </a:lnTo>
                <a:lnTo>
                  <a:pt x="4034" y="1294"/>
                </a:lnTo>
                <a:lnTo>
                  <a:pt x="4106" y="1184"/>
                </a:lnTo>
                <a:lnTo>
                  <a:pt x="4179" y="1068"/>
                </a:lnTo>
                <a:lnTo>
                  <a:pt x="4257" y="947"/>
                </a:lnTo>
                <a:lnTo>
                  <a:pt x="4307" y="879"/>
                </a:lnTo>
                <a:lnTo>
                  <a:pt x="4359" y="802"/>
                </a:lnTo>
                <a:lnTo>
                  <a:pt x="4417" y="719"/>
                </a:lnTo>
                <a:lnTo>
                  <a:pt x="4476" y="632"/>
                </a:lnTo>
                <a:lnTo>
                  <a:pt x="4507" y="589"/>
                </a:lnTo>
                <a:lnTo>
                  <a:pt x="4539" y="546"/>
                </a:lnTo>
                <a:lnTo>
                  <a:pt x="4571" y="503"/>
                </a:lnTo>
                <a:lnTo>
                  <a:pt x="4603" y="462"/>
                </a:lnTo>
                <a:lnTo>
                  <a:pt x="4636" y="420"/>
                </a:lnTo>
                <a:lnTo>
                  <a:pt x="4669" y="381"/>
                </a:lnTo>
                <a:lnTo>
                  <a:pt x="4703" y="344"/>
                </a:lnTo>
                <a:lnTo>
                  <a:pt x="4736" y="310"/>
                </a:lnTo>
                <a:lnTo>
                  <a:pt x="4748" y="299"/>
                </a:lnTo>
                <a:lnTo>
                  <a:pt x="4759" y="289"/>
                </a:lnTo>
                <a:lnTo>
                  <a:pt x="4772" y="280"/>
                </a:lnTo>
                <a:lnTo>
                  <a:pt x="4784" y="270"/>
                </a:lnTo>
                <a:lnTo>
                  <a:pt x="4796" y="262"/>
                </a:lnTo>
                <a:lnTo>
                  <a:pt x="4810" y="254"/>
                </a:lnTo>
                <a:lnTo>
                  <a:pt x="4823" y="248"/>
                </a:lnTo>
                <a:lnTo>
                  <a:pt x="4835" y="240"/>
                </a:lnTo>
                <a:lnTo>
                  <a:pt x="4862" y="229"/>
                </a:lnTo>
                <a:lnTo>
                  <a:pt x="4890" y="219"/>
                </a:lnTo>
                <a:lnTo>
                  <a:pt x="4918" y="210"/>
                </a:lnTo>
                <a:lnTo>
                  <a:pt x="4945" y="201"/>
                </a:lnTo>
                <a:lnTo>
                  <a:pt x="5001" y="189"/>
                </a:lnTo>
                <a:lnTo>
                  <a:pt x="5056" y="177"/>
                </a:lnTo>
                <a:lnTo>
                  <a:pt x="5082" y="169"/>
                </a:lnTo>
                <a:lnTo>
                  <a:pt x="5108" y="163"/>
                </a:lnTo>
                <a:lnTo>
                  <a:pt x="5133" y="155"/>
                </a:lnTo>
                <a:lnTo>
                  <a:pt x="5156" y="146"/>
                </a:lnTo>
                <a:lnTo>
                  <a:pt x="5136" y="126"/>
                </a:lnTo>
                <a:lnTo>
                  <a:pt x="5115" y="108"/>
                </a:lnTo>
                <a:lnTo>
                  <a:pt x="5094" y="91"/>
                </a:lnTo>
                <a:lnTo>
                  <a:pt x="5071" y="76"/>
                </a:lnTo>
                <a:lnTo>
                  <a:pt x="5048" y="61"/>
                </a:lnTo>
                <a:lnTo>
                  <a:pt x="5026" y="50"/>
                </a:lnTo>
                <a:lnTo>
                  <a:pt x="5002" y="39"/>
                </a:lnTo>
                <a:lnTo>
                  <a:pt x="4978" y="30"/>
                </a:lnTo>
                <a:lnTo>
                  <a:pt x="4954" y="21"/>
                </a:lnTo>
                <a:lnTo>
                  <a:pt x="4929" y="14"/>
                </a:lnTo>
                <a:lnTo>
                  <a:pt x="4904" y="9"/>
                </a:lnTo>
                <a:lnTo>
                  <a:pt x="4879" y="5"/>
                </a:lnTo>
                <a:lnTo>
                  <a:pt x="4853" y="2"/>
                </a:lnTo>
                <a:lnTo>
                  <a:pt x="4827" y="1"/>
                </a:lnTo>
                <a:lnTo>
                  <a:pt x="4800" y="0"/>
                </a:lnTo>
                <a:lnTo>
                  <a:pt x="4774" y="1"/>
                </a:lnTo>
                <a:lnTo>
                  <a:pt x="4746" y="3"/>
                </a:lnTo>
                <a:lnTo>
                  <a:pt x="4718" y="6"/>
                </a:lnTo>
                <a:lnTo>
                  <a:pt x="4690" y="10"/>
                </a:lnTo>
                <a:lnTo>
                  <a:pt x="4663" y="15"/>
                </a:lnTo>
                <a:lnTo>
                  <a:pt x="4634" y="21"/>
                </a:lnTo>
                <a:lnTo>
                  <a:pt x="4605" y="29"/>
                </a:lnTo>
                <a:lnTo>
                  <a:pt x="4576" y="37"/>
                </a:lnTo>
                <a:lnTo>
                  <a:pt x="4546" y="46"/>
                </a:lnTo>
                <a:lnTo>
                  <a:pt x="4517" y="56"/>
                </a:lnTo>
                <a:lnTo>
                  <a:pt x="4487" y="68"/>
                </a:lnTo>
                <a:lnTo>
                  <a:pt x="4456" y="80"/>
                </a:lnTo>
                <a:lnTo>
                  <a:pt x="4426" y="92"/>
                </a:lnTo>
                <a:lnTo>
                  <a:pt x="4395" y="106"/>
                </a:lnTo>
                <a:lnTo>
                  <a:pt x="4364" y="121"/>
                </a:lnTo>
                <a:lnTo>
                  <a:pt x="4332" y="136"/>
                </a:lnTo>
                <a:lnTo>
                  <a:pt x="4302" y="152"/>
                </a:lnTo>
                <a:lnTo>
                  <a:pt x="4092" y="154"/>
                </a:lnTo>
                <a:lnTo>
                  <a:pt x="3883" y="156"/>
                </a:lnTo>
                <a:lnTo>
                  <a:pt x="3677" y="160"/>
                </a:lnTo>
                <a:lnTo>
                  <a:pt x="3474" y="166"/>
                </a:lnTo>
                <a:lnTo>
                  <a:pt x="3272" y="175"/>
                </a:lnTo>
                <a:lnTo>
                  <a:pt x="3073" y="186"/>
                </a:lnTo>
                <a:lnTo>
                  <a:pt x="2878" y="201"/>
                </a:lnTo>
                <a:lnTo>
                  <a:pt x="2687" y="220"/>
                </a:lnTo>
                <a:lnTo>
                  <a:pt x="2499" y="244"/>
                </a:lnTo>
                <a:lnTo>
                  <a:pt x="2316" y="272"/>
                </a:lnTo>
                <a:lnTo>
                  <a:pt x="2137" y="306"/>
                </a:lnTo>
                <a:lnTo>
                  <a:pt x="1965" y="347"/>
                </a:lnTo>
                <a:lnTo>
                  <a:pt x="1796" y="395"/>
                </a:lnTo>
                <a:lnTo>
                  <a:pt x="1634" y="449"/>
                </a:lnTo>
                <a:lnTo>
                  <a:pt x="1478" y="512"/>
                </a:lnTo>
                <a:lnTo>
                  <a:pt x="1329" y="582"/>
                </a:lnTo>
                <a:lnTo>
                  <a:pt x="1186" y="662"/>
                </a:lnTo>
                <a:lnTo>
                  <a:pt x="1050" y="751"/>
                </a:lnTo>
                <a:lnTo>
                  <a:pt x="922" y="849"/>
                </a:lnTo>
                <a:lnTo>
                  <a:pt x="802" y="959"/>
                </a:lnTo>
                <a:lnTo>
                  <a:pt x="690" y="1080"/>
                </a:lnTo>
                <a:lnTo>
                  <a:pt x="586" y="1211"/>
                </a:lnTo>
                <a:lnTo>
                  <a:pt x="492" y="1355"/>
                </a:lnTo>
                <a:lnTo>
                  <a:pt x="406" y="1513"/>
                </a:lnTo>
                <a:lnTo>
                  <a:pt x="331" y="1682"/>
                </a:lnTo>
                <a:lnTo>
                  <a:pt x="265" y="1865"/>
                </a:lnTo>
                <a:lnTo>
                  <a:pt x="210" y="2064"/>
                </a:lnTo>
                <a:lnTo>
                  <a:pt x="166" y="2276"/>
                </a:lnTo>
                <a:lnTo>
                  <a:pt x="132" y="2504"/>
                </a:lnTo>
                <a:lnTo>
                  <a:pt x="109" y="2747"/>
                </a:lnTo>
                <a:lnTo>
                  <a:pt x="99" y="3007"/>
                </a:lnTo>
                <a:lnTo>
                  <a:pt x="100" y="3284"/>
                </a:lnTo>
                <a:lnTo>
                  <a:pt x="85" y="3325"/>
                </a:lnTo>
                <a:lnTo>
                  <a:pt x="73" y="3365"/>
                </a:lnTo>
                <a:lnTo>
                  <a:pt x="61" y="3403"/>
                </a:lnTo>
                <a:lnTo>
                  <a:pt x="49" y="3441"/>
                </a:lnTo>
                <a:lnTo>
                  <a:pt x="39" y="3477"/>
                </a:lnTo>
                <a:lnTo>
                  <a:pt x="31" y="3512"/>
                </a:lnTo>
                <a:lnTo>
                  <a:pt x="23" y="3547"/>
                </a:lnTo>
                <a:lnTo>
                  <a:pt x="16" y="3580"/>
                </a:lnTo>
                <a:lnTo>
                  <a:pt x="11" y="3612"/>
                </a:lnTo>
                <a:lnTo>
                  <a:pt x="6" y="3643"/>
                </a:lnTo>
                <a:lnTo>
                  <a:pt x="3" y="3673"/>
                </a:lnTo>
                <a:lnTo>
                  <a:pt x="1" y="3701"/>
                </a:lnTo>
                <a:lnTo>
                  <a:pt x="0" y="3728"/>
                </a:lnTo>
                <a:lnTo>
                  <a:pt x="0" y="3755"/>
                </a:lnTo>
                <a:lnTo>
                  <a:pt x="1" y="3781"/>
                </a:lnTo>
                <a:lnTo>
                  <a:pt x="3" y="3804"/>
                </a:lnTo>
              </a:path>
            </a:pathLst>
          </a:custGeom>
          <a:solidFill>
            <a:srgbClr val="003366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000600">
            <a:off x="1015920" y="536040"/>
            <a:ext cx="722520" cy="303480"/>
          </a:xfrm>
          <a:custGeom>
            <a:avLst/>
            <a:gdLst/>
            <a:ahLst/>
            <a:rect l="l" t="t" r="r" b="b"/>
            <a:pathLst>
              <a:path w="2928" h="1244">
                <a:moveTo>
                  <a:pt x="23" y="679"/>
                </a:moveTo>
                <a:lnTo>
                  <a:pt x="14" y="690"/>
                </a:lnTo>
                <a:lnTo>
                  <a:pt x="8" y="699"/>
                </a:lnTo>
                <a:lnTo>
                  <a:pt x="3" y="706"/>
                </a:lnTo>
                <a:lnTo>
                  <a:pt x="1" y="713"/>
                </a:lnTo>
                <a:lnTo>
                  <a:pt x="0" y="719"/>
                </a:lnTo>
                <a:lnTo>
                  <a:pt x="2" y="724"/>
                </a:lnTo>
                <a:lnTo>
                  <a:pt x="4" y="727"/>
                </a:lnTo>
                <a:lnTo>
                  <a:pt x="9" y="730"/>
                </a:lnTo>
                <a:lnTo>
                  <a:pt x="14" y="732"/>
                </a:lnTo>
                <a:lnTo>
                  <a:pt x="20" y="733"/>
                </a:lnTo>
                <a:lnTo>
                  <a:pt x="26" y="734"/>
                </a:lnTo>
                <a:lnTo>
                  <a:pt x="33" y="734"/>
                </a:lnTo>
                <a:lnTo>
                  <a:pt x="48" y="732"/>
                </a:lnTo>
                <a:lnTo>
                  <a:pt x="61" y="729"/>
                </a:lnTo>
                <a:lnTo>
                  <a:pt x="96" y="723"/>
                </a:lnTo>
                <a:lnTo>
                  <a:pt x="133" y="717"/>
                </a:lnTo>
                <a:lnTo>
                  <a:pt x="172" y="711"/>
                </a:lnTo>
                <a:lnTo>
                  <a:pt x="211" y="706"/>
                </a:lnTo>
                <a:lnTo>
                  <a:pt x="251" y="702"/>
                </a:lnTo>
                <a:lnTo>
                  <a:pt x="290" y="698"/>
                </a:lnTo>
                <a:lnTo>
                  <a:pt x="327" y="694"/>
                </a:lnTo>
                <a:lnTo>
                  <a:pt x="362" y="691"/>
                </a:lnTo>
                <a:lnTo>
                  <a:pt x="394" y="698"/>
                </a:lnTo>
                <a:lnTo>
                  <a:pt x="426" y="708"/>
                </a:lnTo>
                <a:lnTo>
                  <a:pt x="458" y="720"/>
                </a:lnTo>
                <a:lnTo>
                  <a:pt x="491" y="733"/>
                </a:lnTo>
                <a:lnTo>
                  <a:pt x="524" y="748"/>
                </a:lnTo>
                <a:lnTo>
                  <a:pt x="558" y="764"/>
                </a:lnTo>
                <a:lnTo>
                  <a:pt x="592" y="781"/>
                </a:lnTo>
                <a:lnTo>
                  <a:pt x="627" y="801"/>
                </a:lnTo>
                <a:lnTo>
                  <a:pt x="697" y="841"/>
                </a:lnTo>
                <a:lnTo>
                  <a:pt x="769" y="884"/>
                </a:lnTo>
                <a:lnTo>
                  <a:pt x="843" y="929"/>
                </a:lnTo>
                <a:lnTo>
                  <a:pt x="919" y="976"/>
                </a:lnTo>
                <a:lnTo>
                  <a:pt x="958" y="999"/>
                </a:lnTo>
                <a:lnTo>
                  <a:pt x="997" y="1022"/>
                </a:lnTo>
                <a:lnTo>
                  <a:pt x="1037" y="1045"/>
                </a:lnTo>
                <a:lnTo>
                  <a:pt x="1078" y="1066"/>
                </a:lnTo>
                <a:lnTo>
                  <a:pt x="1119" y="1088"/>
                </a:lnTo>
                <a:lnTo>
                  <a:pt x="1161" y="1108"/>
                </a:lnTo>
                <a:lnTo>
                  <a:pt x="1204" y="1128"/>
                </a:lnTo>
                <a:lnTo>
                  <a:pt x="1247" y="1146"/>
                </a:lnTo>
                <a:lnTo>
                  <a:pt x="1290" y="1164"/>
                </a:lnTo>
                <a:lnTo>
                  <a:pt x="1334" y="1179"/>
                </a:lnTo>
                <a:lnTo>
                  <a:pt x="1380" y="1195"/>
                </a:lnTo>
                <a:lnTo>
                  <a:pt x="1426" y="1208"/>
                </a:lnTo>
                <a:lnTo>
                  <a:pt x="1472" y="1219"/>
                </a:lnTo>
                <a:lnTo>
                  <a:pt x="1520" y="1229"/>
                </a:lnTo>
                <a:lnTo>
                  <a:pt x="1568" y="1236"/>
                </a:lnTo>
                <a:lnTo>
                  <a:pt x="1616" y="1241"/>
                </a:lnTo>
                <a:lnTo>
                  <a:pt x="1648" y="1243"/>
                </a:lnTo>
                <a:lnTo>
                  <a:pt x="1682" y="1244"/>
                </a:lnTo>
                <a:lnTo>
                  <a:pt x="1717" y="1243"/>
                </a:lnTo>
                <a:lnTo>
                  <a:pt x="1754" y="1241"/>
                </a:lnTo>
                <a:lnTo>
                  <a:pt x="1793" y="1238"/>
                </a:lnTo>
                <a:lnTo>
                  <a:pt x="1833" y="1233"/>
                </a:lnTo>
                <a:lnTo>
                  <a:pt x="1877" y="1228"/>
                </a:lnTo>
                <a:lnTo>
                  <a:pt x="1921" y="1220"/>
                </a:lnTo>
                <a:lnTo>
                  <a:pt x="1968" y="1212"/>
                </a:lnTo>
                <a:lnTo>
                  <a:pt x="2017" y="1203"/>
                </a:lnTo>
                <a:lnTo>
                  <a:pt x="2069" y="1193"/>
                </a:lnTo>
                <a:lnTo>
                  <a:pt x="2123" y="1181"/>
                </a:lnTo>
                <a:lnTo>
                  <a:pt x="2180" y="1169"/>
                </a:lnTo>
                <a:lnTo>
                  <a:pt x="2240" y="1156"/>
                </a:lnTo>
                <a:lnTo>
                  <a:pt x="2301" y="1142"/>
                </a:lnTo>
                <a:lnTo>
                  <a:pt x="2367" y="1127"/>
                </a:lnTo>
                <a:lnTo>
                  <a:pt x="2405" y="1121"/>
                </a:lnTo>
                <a:lnTo>
                  <a:pt x="2448" y="1112"/>
                </a:lnTo>
                <a:lnTo>
                  <a:pt x="2495" y="1104"/>
                </a:lnTo>
                <a:lnTo>
                  <a:pt x="2543" y="1095"/>
                </a:lnTo>
                <a:lnTo>
                  <a:pt x="2591" y="1087"/>
                </a:lnTo>
                <a:lnTo>
                  <a:pt x="2641" y="1080"/>
                </a:lnTo>
                <a:lnTo>
                  <a:pt x="2666" y="1077"/>
                </a:lnTo>
                <a:lnTo>
                  <a:pt x="2689" y="1075"/>
                </a:lnTo>
                <a:lnTo>
                  <a:pt x="2712" y="1073"/>
                </a:lnTo>
                <a:lnTo>
                  <a:pt x="2734" y="1073"/>
                </a:lnTo>
                <a:lnTo>
                  <a:pt x="2749" y="1073"/>
                </a:lnTo>
                <a:lnTo>
                  <a:pt x="2763" y="1075"/>
                </a:lnTo>
                <a:lnTo>
                  <a:pt x="2777" y="1078"/>
                </a:lnTo>
                <a:lnTo>
                  <a:pt x="2790" y="1083"/>
                </a:lnTo>
                <a:lnTo>
                  <a:pt x="2803" y="1088"/>
                </a:lnTo>
                <a:lnTo>
                  <a:pt x="2816" y="1093"/>
                </a:lnTo>
                <a:lnTo>
                  <a:pt x="2827" y="1099"/>
                </a:lnTo>
                <a:lnTo>
                  <a:pt x="2839" y="1106"/>
                </a:lnTo>
                <a:lnTo>
                  <a:pt x="2862" y="1120"/>
                </a:lnTo>
                <a:lnTo>
                  <a:pt x="2884" y="1133"/>
                </a:lnTo>
                <a:lnTo>
                  <a:pt x="2906" y="1146"/>
                </a:lnTo>
                <a:lnTo>
                  <a:pt x="2928" y="1157"/>
                </a:lnTo>
                <a:lnTo>
                  <a:pt x="2927" y="1143"/>
                </a:lnTo>
                <a:lnTo>
                  <a:pt x="2926" y="1130"/>
                </a:lnTo>
                <a:lnTo>
                  <a:pt x="2925" y="1118"/>
                </a:lnTo>
                <a:lnTo>
                  <a:pt x="2922" y="1105"/>
                </a:lnTo>
                <a:lnTo>
                  <a:pt x="2920" y="1093"/>
                </a:lnTo>
                <a:lnTo>
                  <a:pt x="2915" y="1082"/>
                </a:lnTo>
                <a:lnTo>
                  <a:pt x="2911" y="1070"/>
                </a:lnTo>
                <a:lnTo>
                  <a:pt x="2906" y="1060"/>
                </a:lnTo>
                <a:lnTo>
                  <a:pt x="2901" y="1049"/>
                </a:lnTo>
                <a:lnTo>
                  <a:pt x="2895" y="1038"/>
                </a:lnTo>
                <a:lnTo>
                  <a:pt x="2889" y="1029"/>
                </a:lnTo>
                <a:lnTo>
                  <a:pt x="2882" y="1019"/>
                </a:lnTo>
                <a:lnTo>
                  <a:pt x="2874" y="1010"/>
                </a:lnTo>
                <a:lnTo>
                  <a:pt x="2866" y="1000"/>
                </a:lnTo>
                <a:lnTo>
                  <a:pt x="2857" y="991"/>
                </a:lnTo>
                <a:lnTo>
                  <a:pt x="2848" y="983"/>
                </a:lnTo>
                <a:lnTo>
                  <a:pt x="2828" y="966"/>
                </a:lnTo>
                <a:lnTo>
                  <a:pt x="2806" y="951"/>
                </a:lnTo>
                <a:lnTo>
                  <a:pt x="2783" y="938"/>
                </a:lnTo>
                <a:lnTo>
                  <a:pt x="2758" y="923"/>
                </a:lnTo>
                <a:lnTo>
                  <a:pt x="2731" y="911"/>
                </a:lnTo>
                <a:lnTo>
                  <a:pt x="2703" y="900"/>
                </a:lnTo>
                <a:lnTo>
                  <a:pt x="2674" y="888"/>
                </a:lnTo>
                <a:lnTo>
                  <a:pt x="2642" y="878"/>
                </a:lnTo>
                <a:lnTo>
                  <a:pt x="2572" y="810"/>
                </a:lnTo>
                <a:lnTo>
                  <a:pt x="2503" y="743"/>
                </a:lnTo>
                <a:lnTo>
                  <a:pt x="2433" y="676"/>
                </a:lnTo>
                <a:lnTo>
                  <a:pt x="2363" y="612"/>
                </a:lnTo>
                <a:lnTo>
                  <a:pt x="2294" y="549"/>
                </a:lnTo>
                <a:lnTo>
                  <a:pt x="2224" y="487"/>
                </a:lnTo>
                <a:lnTo>
                  <a:pt x="2155" y="428"/>
                </a:lnTo>
                <a:lnTo>
                  <a:pt x="2085" y="372"/>
                </a:lnTo>
                <a:lnTo>
                  <a:pt x="2015" y="318"/>
                </a:lnTo>
                <a:lnTo>
                  <a:pt x="1945" y="268"/>
                </a:lnTo>
                <a:lnTo>
                  <a:pt x="1876" y="221"/>
                </a:lnTo>
                <a:lnTo>
                  <a:pt x="1805" y="178"/>
                </a:lnTo>
                <a:lnTo>
                  <a:pt x="1734" y="138"/>
                </a:lnTo>
                <a:lnTo>
                  <a:pt x="1662" y="103"/>
                </a:lnTo>
                <a:lnTo>
                  <a:pt x="1590" y="73"/>
                </a:lnTo>
                <a:lnTo>
                  <a:pt x="1518" y="47"/>
                </a:lnTo>
                <a:lnTo>
                  <a:pt x="1444" y="26"/>
                </a:lnTo>
                <a:lnTo>
                  <a:pt x="1369" y="12"/>
                </a:lnTo>
                <a:lnTo>
                  <a:pt x="1295" y="3"/>
                </a:lnTo>
                <a:lnTo>
                  <a:pt x="1219" y="0"/>
                </a:lnTo>
                <a:lnTo>
                  <a:pt x="1143" y="3"/>
                </a:lnTo>
                <a:lnTo>
                  <a:pt x="1065" y="12"/>
                </a:lnTo>
                <a:lnTo>
                  <a:pt x="987" y="29"/>
                </a:lnTo>
                <a:lnTo>
                  <a:pt x="908" y="53"/>
                </a:lnTo>
                <a:lnTo>
                  <a:pt x="826" y="84"/>
                </a:lnTo>
                <a:lnTo>
                  <a:pt x="745" y="124"/>
                </a:lnTo>
                <a:lnTo>
                  <a:pt x="662" y="171"/>
                </a:lnTo>
                <a:lnTo>
                  <a:pt x="577" y="227"/>
                </a:lnTo>
                <a:lnTo>
                  <a:pt x="491" y="291"/>
                </a:lnTo>
                <a:lnTo>
                  <a:pt x="404" y="365"/>
                </a:lnTo>
                <a:lnTo>
                  <a:pt x="315" y="447"/>
                </a:lnTo>
                <a:lnTo>
                  <a:pt x="226" y="539"/>
                </a:lnTo>
                <a:lnTo>
                  <a:pt x="190" y="557"/>
                </a:lnTo>
                <a:lnTo>
                  <a:pt x="157" y="575"/>
                </a:lnTo>
                <a:lnTo>
                  <a:pt x="128" y="592"/>
                </a:lnTo>
                <a:lnTo>
                  <a:pt x="101" y="609"/>
                </a:lnTo>
                <a:lnTo>
                  <a:pt x="76" y="627"/>
                </a:lnTo>
                <a:lnTo>
                  <a:pt x="56" y="644"/>
                </a:lnTo>
                <a:lnTo>
                  <a:pt x="47" y="654"/>
                </a:lnTo>
                <a:lnTo>
                  <a:pt x="37" y="662"/>
                </a:lnTo>
                <a:lnTo>
                  <a:pt x="30" y="671"/>
                </a:lnTo>
                <a:lnTo>
                  <a:pt x="23" y="679"/>
                </a:lnTo>
              </a:path>
            </a:pathLst>
          </a:custGeom>
          <a:solidFill>
            <a:srgbClr val="003366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000600">
            <a:off x="-107640" y="1204560"/>
            <a:ext cx="358920" cy="76212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003366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8000600">
            <a:off x="116280" y="505440"/>
            <a:ext cx="1270080" cy="915840"/>
          </a:xfrm>
          <a:custGeom>
            <a:avLst/>
            <a:gdLst/>
            <a:ahLst/>
            <a:rect l="l" t="t" r="r" b="b"/>
            <a:pathLst>
              <a:path w="5156" h="3904">
                <a:moveTo>
                  <a:pt x="3" y="3804"/>
                </a:moveTo>
                <a:lnTo>
                  <a:pt x="4" y="3820"/>
                </a:lnTo>
                <a:lnTo>
                  <a:pt x="5" y="3833"/>
                </a:lnTo>
                <a:lnTo>
                  <a:pt x="7" y="3845"/>
                </a:lnTo>
                <a:lnTo>
                  <a:pt x="9" y="3857"/>
                </a:lnTo>
                <a:lnTo>
                  <a:pt x="11" y="3866"/>
                </a:lnTo>
                <a:lnTo>
                  <a:pt x="14" y="3875"/>
                </a:lnTo>
                <a:lnTo>
                  <a:pt x="17" y="3882"/>
                </a:lnTo>
                <a:lnTo>
                  <a:pt x="20" y="3889"/>
                </a:lnTo>
                <a:lnTo>
                  <a:pt x="25" y="3894"/>
                </a:lnTo>
                <a:lnTo>
                  <a:pt x="29" y="3898"/>
                </a:lnTo>
                <a:lnTo>
                  <a:pt x="33" y="3900"/>
                </a:lnTo>
                <a:lnTo>
                  <a:pt x="38" y="3903"/>
                </a:lnTo>
                <a:lnTo>
                  <a:pt x="43" y="3904"/>
                </a:lnTo>
                <a:lnTo>
                  <a:pt x="47" y="3904"/>
                </a:lnTo>
                <a:lnTo>
                  <a:pt x="52" y="3904"/>
                </a:lnTo>
                <a:lnTo>
                  <a:pt x="57" y="3902"/>
                </a:lnTo>
                <a:lnTo>
                  <a:pt x="64" y="3901"/>
                </a:lnTo>
                <a:lnTo>
                  <a:pt x="69" y="3898"/>
                </a:lnTo>
                <a:lnTo>
                  <a:pt x="74" y="3895"/>
                </a:lnTo>
                <a:lnTo>
                  <a:pt x="79" y="3892"/>
                </a:lnTo>
                <a:lnTo>
                  <a:pt x="90" y="3882"/>
                </a:lnTo>
                <a:lnTo>
                  <a:pt x="101" y="3872"/>
                </a:lnTo>
                <a:lnTo>
                  <a:pt x="111" y="3861"/>
                </a:lnTo>
                <a:lnTo>
                  <a:pt x="120" y="3847"/>
                </a:lnTo>
                <a:lnTo>
                  <a:pt x="128" y="3835"/>
                </a:lnTo>
                <a:lnTo>
                  <a:pt x="136" y="3822"/>
                </a:lnTo>
                <a:lnTo>
                  <a:pt x="180" y="3760"/>
                </a:lnTo>
                <a:lnTo>
                  <a:pt x="228" y="3695"/>
                </a:lnTo>
                <a:lnTo>
                  <a:pt x="280" y="3628"/>
                </a:lnTo>
                <a:lnTo>
                  <a:pt x="332" y="3560"/>
                </a:lnTo>
                <a:lnTo>
                  <a:pt x="386" y="3494"/>
                </a:lnTo>
                <a:lnTo>
                  <a:pt x="439" y="3429"/>
                </a:lnTo>
                <a:lnTo>
                  <a:pt x="490" y="3366"/>
                </a:lnTo>
                <a:lnTo>
                  <a:pt x="538" y="3308"/>
                </a:lnTo>
                <a:lnTo>
                  <a:pt x="598" y="3272"/>
                </a:lnTo>
                <a:lnTo>
                  <a:pt x="661" y="3239"/>
                </a:lnTo>
                <a:lnTo>
                  <a:pt x="728" y="3208"/>
                </a:lnTo>
                <a:lnTo>
                  <a:pt x="799" y="3179"/>
                </a:lnTo>
                <a:lnTo>
                  <a:pt x="872" y="3151"/>
                </a:lnTo>
                <a:lnTo>
                  <a:pt x="948" y="3125"/>
                </a:lnTo>
                <a:lnTo>
                  <a:pt x="1026" y="3101"/>
                </a:lnTo>
                <a:lnTo>
                  <a:pt x="1108" y="3077"/>
                </a:lnTo>
                <a:lnTo>
                  <a:pt x="1190" y="3054"/>
                </a:lnTo>
                <a:lnTo>
                  <a:pt x="1275" y="3033"/>
                </a:lnTo>
                <a:lnTo>
                  <a:pt x="1363" y="3011"/>
                </a:lnTo>
                <a:lnTo>
                  <a:pt x="1451" y="2991"/>
                </a:lnTo>
                <a:lnTo>
                  <a:pt x="1632" y="2947"/>
                </a:lnTo>
                <a:lnTo>
                  <a:pt x="1818" y="2903"/>
                </a:lnTo>
                <a:lnTo>
                  <a:pt x="1913" y="2880"/>
                </a:lnTo>
                <a:lnTo>
                  <a:pt x="2008" y="2855"/>
                </a:lnTo>
                <a:lnTo>
                  <a:pt x="2102" y="2828"/>
                </a:lnTo>
                <a:lnTo>
                  <a:pt x="2198" y="2800"/>
                </a:lnTo>
                <a:lnTo>
                  <a:pt x="2293" y="2771"/>
                </a:lnTo>
                <a:lnTo>
                  <a:pt x="2387" y="2739"/>
                </a:lnTo>
                <a:lnTo>
                  <a:pt x="2482" y="2705"/>
                </a:lnTo>
                <a:lnTo>
                  <a:pt x="2576" y="2668"/>
                </a:lnTo>
                <a:lnTo>
                  <a:pt x="2669" y="2629"/>
                </a:lnTo>
                <a:lnTo>
                  <a:pt x="2762" y="2586"/>
                </a:lnTo>
                <a:lnTo>
                  <a:pt x="2852" y="2540"/>
                </a:lnTo>
                <a:lnTo>
                  <a:pt x="2942" y="2492"/>
                </a:lnTo>
                <a:lnTo>
                  <a:pt x="3030" y="2438"/>
                </a:lnTo>
                <a:lnTo>
                  <a:pt x="3117" y="2382"/>
                </a:lnTo>
                <a:lnTo>
                  <a:pt x="3201" y="2321"/>
                </a:lnTo>
                <a:lnTo>
                  <a:pt x="3284" y="2255"/>
                </a:lnTo>
                <a:lnTo>
                  <a:pt x="3310" y="2234"/>
                </a:lnTo>
                <a:lnTo>
                  <a:pt x="3336" y="2210"/>
                </a:lnTo>
                <a:lnTo>
                  <a:pt x="3362" y="2185"/>
                </a:lnTo>
                <a:lnTo>
                  <a:pt x="3388" y="2160"/>
                </a:lnTo>
                <a:lnTo>
                  <a:pt x="3415" y="2133"/>
                </a:lnTo>
                <a:lnTo>
                  <a:pt x="3441" y="2105"/>
                </a:lnTo>
                <a:lnTo>
                  <a:pt x="3467" y="2076"/>
                </a:lnTo>
                <a:lnTo>
                  <a:pt x="3494" y="2046"/>
                </a:lnTo>
                <a:lnTo>
                  <a:pt x="3521" y="2016"/>
                </a:lnTo>
                <a:lnTo>
                  <a:pt x="3549" y="1983"/>
                </a:lnTo>
                <a:lnTo>
                  <a:pt x="3575" y="1949"/>
                </a:lnTo>
                <a:lnTo>
                  <a:pt x="3603" y="1915"/>
                </a:lnTo>
                <a:lnTo>
                  <a:pt x="3660" y="1841"/>
                </a:lnTo>
                <a:lnTo>
                  <a:pt x="3717" y="1763"/>
                </a:lnTo>
                <a:lnTo>
                  <a:pt x="3776" y="1679"/>
                </a:lnTo>
                <a:lnTo>
                  <a:pt x="3838" y="1591"/>
                </a:lnTo>
                <a:lnTo>
                  <a:pt x="3900" y="1497"/>
                </a:lnTo>
                <a:lnTo>
                  <a:pt x="3966" y="1399"/>
                </a:lnTo>
                <a:lnTo>
                  <a:pt x="4034" y="1294"/>
                </a:lnTo>
                <a:lnTo>
                  <a:pt x="4106" y="1184"/>
                </a:lnTo>
                <a:lnTo>
                  <a:pt x="4179" y="1068"/>
                </a:lnTo>
                <a:lnTo>
                  <a:pt x="4257" y="947"/>
                </a:lnTo>
                <a:lnTo>
                  <a:pt x="4307" y="879"/>
                </a:lnTo>
                <a:lnTo>
                  <a:pt x="4359" y="802"/>
                </a:lnTo>
                <a:lnTo>
                  <a:pt x="4417" y="719"/>
                </a:lnTo>
                <a:lnTo>
                  <a:pt x="4476" y="632"/>
                </a:lnTo>
                <a:lnTo>
                  <a:pt x="4507" y="589"/>
                </a:lnTo>
                <a:lnTo>
                  <a:pt x="4539" y="546"/>
                </a:lnTo>
                <a:lnTo>
                  <a:pt x="4571" y="503"/>
                </a:lnTo>
                <a:lnTo>
                  <a:pt x="4603" y="462"/>
                </a:lnTo>
                <a:lnTo>
                  <a:pt x="4636" y="420"/>
                </a:lnTo>
                <a:lnTo>
                  <a:pt x="4669" y="381"/>
                </a:lnTo>
                <a:lnTo>
                  <a:pt x="4703" y="344"/>
                </a:lnTo>
                <a:lnTo>
                  <a:pt x="4736" y="310"/>
                </a:lnTo>
                <a:lnTo>
                  <a:pt x="4748" y="299"/>
                </a:lnTo>
                <a:lnTo>
                  <a:pt x="4759" y="289"/>
                </a:lnTo>
                <a:lnTo>
                  <a:pt x="4772" y="280"/>
                </a:lnTo>
                <a:lnTo>
                  <a:pt x="4784" y="270"/>
                </a:lnTo>
                <a:lnTo>
                  <a:pt x="4796" y="262"/>
                </a:lnTo>
                <a:lnTo>
                  <a:pt x="4810" y="254"/>
                </a:lnTo>
                <a:lnTo>
                  <a:pt x="4823" y="248"/>
                </a:lnTo>
                <a:lnTo>
                  <a:pt x="4835" y="240"/>
                </a:lnTo>
                <a:lnTo>
                  <a:pt x="4862" y="229"/>
                </a:lnTo>
                <a:lnTo>
                  <a:pt x="4890" y="219"/>
                </a:lnTo>
                <a:lnTo>
                  <a:pt x="4918" y="210"/>
                </a:lnTo>
                <a:lnTo>
                  <a:pt x="4945" y="201"/>
                </a:lnTo>
                <a:lnTo>
                  <a:pt x="5001" y="189"/>
                </a:lnTo>
                <a:lnTo>
                  <a:pt x="5056" y="177"/>
                </a:lnTo>
                <a:lnTo>
                  <a:pt x="5082" y="169"/>
                </a:lnTo>
                <a:lnTo>
                  <a:pt x="5108" y="163"/>
                </a:lnTo>
                <a:lnTo>
                  <a:pt x="5133" y="155"/>
                </a:lnTo>
                <a:lnTo>
                  <a:pt x="5156" y="146"/>
                </a:lnTo>
                <a:lnTo>
                  <a:pt x="5136" y="126"/>
                </a:lnTo>
                <a:lnTo>
                  <a:pt x="5115" y="108"/>
                </a:lnTo>
                <a:lnTo>
                  <a:pt x="5094" y="91"/>
                </a:lnTo>
                <a:lnTo>
                  <a:pt x="5071" y="76"/>
                </a:lnTo>
                <a:lnTo>
                  <a:pt x="5048" y="61"/>
                </a:lnTo>
                <a:lnTo>
                  <a:pt x="5026" y="50"/>
                </a:lnTo>
                <a:lnTo>
                  <a:pt x="5002" y="39"/>
                </a:lnTo>
                <a:lnTo>
                  <a:pt x="4978" y="30"/>
                </a:lnTo>
                <a:lnTo>
                  <a:pt x="4954" y="21"/>
                </a:lnTo>
                <a:lnTo>
                  <a:pt x="4929" y="14"/>
                </a:lnTo>
                <a:lnTo>
                  <a:pt x="4904" y="9"/>
                </a:lnTo>
                <a:lnTo>
                  <a:pt x="4879" y="5"/>
                </a:lnTo>
                <a:lnTo>
                  <a:pt x="4853" y="2"/>
                </a:lnTo>
                <a:lnTo>
                  <a:pt x="4827" y="1"/>
                </a:lnTo>
                <a:lnTo>
                  <a:pt x="4800" y="0"/>
                </a:lnTo>
                <a:lnTo>
                  <a:pt x="4774" y="1"/>
                </a:lnTo>
                <a:lnTo>
                  <a:pt x="4746" y="3"/>
                </a:lnTo>
                <a:lnTo>
                  <a:pt x="4718" y="6"/>
                </a:lnTo>
                <a:lnTo>
                  <a:pt x="4690" y="10"/>
                </a:lnTo>
                <a:lnTo>
                  <a:pt x="4663" y="15"/>
                </a:lnTo>
                <a:lnTo>
                  <a:pt x="4634" y="21"/>
                </a:lnTo>
                <a:lnTo>
                  <a:pt x="4605" y="29"/>
                </a:lnTo>
                <a:lnTo>
                  <a:pt x="4576" y="37"/>
                </a:lnTo>
                <a:lnTo>
                  <a:pt x="4546" y="46"/>
                </a:lnTo>
                <a:lnTo>
                  <a:pt x="4517" y="56"/>
                </a:lnTo>
                <a:lnTo>
                  <a:pt x="4487" y="68"/>
                </a:lnTo>
                <a:lnTo>
                  <a:pt x="4456" y="80"/>
                </a:lnTo>
                <a:lnTo>
                  <a:pt x="4426" y="92"/>
                </a:lnTo>
                <a:lnTo>
                  <a:pt x="4395" y="106"/>
                </a:lnTo>
                <a:lnTo>
                  <a:pt x="4364" y="121"/>
                </a:lnTo>
                <a:lnTo>
                  <a:pt x="4332" y="136"/>
                </a:lnTo>
                <a:lnTo>
                  <a:pt x="4302" y="152"/>
                </a:lnTo>
                <a:lnTo>
                  <a:pt x="4092" y="154"/>
                </a:lnTo>
                <a:lnTo>
                  <a:pt x="3883" y="156"/>
                </a:lnTo>
                <a:lnTo>
                  <a:pt x="3677" y="160"/>
                </a:lnTo>
                <a:lnTo>
                  <a:pt x="3474" y="166"/>
                </a:lnTo>
                <a:lnTo>
                  <a:pt x="3272" y="175"/>
                </a:lnTo>
                <a:lnTo>
                  <a:pt x="3073" y="186"/>
                </a:lnTo>
                <a:lnTo>
                  <a:pt x="2878" y="201"/>
                </a:lnTo>
                <a:lnTo>
                  <a:pt x="2687" y="220"/>
                </a:lnTo>
                <a:lnTo>
                  <a:pt x="2499" y="244"/>
                </a:lnTo>
                <a:lnTo>
                  <a:pt x="2316" y="272"/>
                </a:lnTo>
                <a:lnTo>
                  <a:pt x="2137" y="306"/>
                </a:lnTo>
                <a:lnTo>
                  <a:pt x="1965" y="347"/>
                </a:lnTo>
                <a:lnTo>
                  <a:pt x="1796" y="395"/>
                </a:lnTo>
                <a:lnTo>
                  <a:pt x="1634" y="449"/>
                </a:lnTo>
                <a:lnTo>
                  <a:pt x="1478" y="512"/>
                </a:lnTo>
                <a:lnTo>
                  <a:pt x="1329" y="582"/>
                </a:lnTo>
                <a:lnTo>
                  <a:pt x="1186" y="662"/>
                </a:lnTo>
                <a:lnTo>
                  <a:pt x="1050" y="751"/>
                </a:lnTo>
                <a:lnTo>
                  <a:pt x="922" y="849"/>
                </a:lnTo>
                <a:lnTo>
                  <a:pt x="802" y="959"/>
                </a:lnTo>
                <a:lnTo>
                  <a:pt x="690" y="1080"/>
                </a:lnTo>
                <a:lnTo>
                  <a:pt x="586" y="1211"/>
                </a:lnTo>
                <a:lnTo>
                  <a:pt x="492" y="1355"/>
                </a:lnTo>
                <a:lnTo>
                  <a:pt x="406" y="1513"/>
                </a:lnTo>
                <a:lnTo>
                  <a:pt x="331" y="1682"/>
                </a:lnTo>
                <a:lnTo>
                  <a:pt x="265" y="1865"/>
                </a:lnTo>
                <a:lnTo>
                  <a:pt x="210" y="2064"/>
                </a:lnTo>
                <a:lnTo>
                  <a:pt x="166" y="2276"/>
                </a:lnTo>
                <a:lnTo>
                  <a:pt x="132" y="2504"/>
                </a:lnTo>
                <a:lnTo>
                  <a:pt x="109" y="2747"/>
                </a:lnTo>
                <a:lnTo>
                  <a:pt x="99" y="3007"/>
                </a:lnTo>
                <a:lnTo>
                  <a:pt x="100" y="3284"/>
                </a:lnTo>
                <a:lnTo>
                  <a:pt x="85" y="3325"/>
                </a:lnTo>
                <a:lnTo>
                  <a:pt x="73" y="3365"/>
                </a:lnTo>
                <a:lnTo>
                  <a:pt x="61" y="3403"/>
                </a:lnTo>
                <a:lnTo>
                  <a:pt x="49" y="3441"/>
                </a:lnTo>
                <a:lnTo>
                  <a:pt x="39" y="3477"/>
                </a:lnTo>
                <a:lnTo>
                  <a:pt x="31" y="3512"/>
                </a:lnTo>
                <a:lnTo>
                  <a:pt x="23" y="3547"/>
                </a:lnTo>
                <a:lnTo>
                  <a:pt x="16" y="3580"/>
                </a:lnTo>
                <a:lnTo>
                  <a:pt x="11" y="3612"/>
                </a:lnTo>
                <a:lnTo>
                  <a:pt x="6" y="3643"/>
                </a:lnTo>
                <a:lnTo>
                  <a:pt x="3" y="3673"/>
                </a:lnTo>
                <a:lnTo>
                  <a:pt x="1" y="3701"/>
                </a:lnTo>
                <a:lnTo>
                  <a:pt x="0" y="3728"/>
                </a:lnTo>
                <a:lnTo>
                  <a:pt x="0" y="3755"/>
                </a:lnTo>
                <a:lnTo>
                  <a:pt x="1" y="3781"/>
                </a:lnTo>
                <a:lnTo>
                  <a:pt x="3" y="3804"/>
                </a:lnTo>
              </a:path>
            </a:pathLst>
          </a:custGeom>
          <a:solidFill>
            <a:srgbClr val="7586b1">
              <a:alpha val="46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8000600">
            <a:off x="955800" y="506520"/>
            <a:ext cx="722160" cy="303120"/>
          </a:xfrm>
          <a:custGeom>
            <a:avLst/>
            <a:gdLst/>
            <a:ahLst/>
            <a:rect l="l" t="t" r="r" b="b"/>
            <a:pathLst>
              <a:path w="2928" h="1244">
                <a:moveTo>
                  <a:pt x="23" y="679"/>
                </a:moveTo>
                <a:lnTo>
                  <a:pt x="14" y="690"/>
                </a:lnTo>
                <a:lnTo>
                  <a:pt x="8" y="699"/>
                </a:lnTo>
                <a:lnTo>
                  <a:pt x="3" y="706"/>
                </a:lnTo>
                <a:lnTo>
                  <a:pt x="1" y="713"/>
                </a:lnTo>
                <a:lnTo>
                  <a:pt x="0" y="719"/>
                </a:lnTo>
                <a:lnTo>
                  <a:pt x="2" y="724"/>
                </a:lnTo>
                <a:lnTo>
                  <a:pt x="4" y="727"/>
                </a:lnTo>
                <a:lnTo>
                  <a:pt x="9" y="730"/>
                </a:lnTo>
                <a:lnTo>
                  <a:pt x="14" y="732"/>
                </a:lnTo>
                <a:lnTo>
                  <a:pt x="20" y="733"/>
                </a:lnTo>
                <a:lnTo>
                  <a:pt x="26" y="734"/>
                </a:lnTo>
                <a:lnTo>
                  <a:pt x="33" y="734"/>
                </a:lnTo>
                <a:lnTo>
                  <a:pt x="48" y="732"/>
                </a:lnTo>
                <a:lnTo>
                  <a:pt x="61" y="729"/>
                </a:lnTo>
                <a:lnTo>
                  <a:pt x="96" y="723"/>
                </a:lnTo>
                <a:lnTo>
                  <a:pt x="133" y="717"/>
                </a:lnTo>
                <a:lnTo>
                  <a:pt x="172" y="711"/>
                </a:lnTo>
                <a:lnTo>
                  <a:pt x="211" y="706"/>
                </a:lnTo>
                <a:lnTo>
                  <a:pt x="251" y="702"/>
                </a:lnTo>
                <a:lnTo>
                  <a:pt x="290" y="698"/>
                </a:lnTo>
                <a:lnTo>
                  <a:pt x="327" y="694"/>
                </a:lnTo>
                <a:lnTo>
                  <a:pt x="362" y="691"/>
                </a:lnTo>
                <a:lnTo>
                  <a:pt x="394" y="698"/>
                </a:lnTo>
                <a:lnTo>
                  <a:pt x="426" y="708"/>
                </a:lnTo>
                <a:lnTo>
                  <a:pt x="458" y="720"/>
                </a:lnTo>
                <a:lnTo>
                  <a:pt x="491" y="733"/>
                </a:lnTo>
                <a:lnTo>
                  <a:pt x="524" y="748"/>
                </a:lnTo>
                <a:lnTo>
                  <a:pt x="558" y="764"/>
                </a:lnTo>
                <a:lnTo>
                  <a:pt x="592" y="781"/>
                </a:lnTo>
                <a:lnTo>
                  <a:pt x="627" y="801"/>
                </a:lnTo>
                <a:lnTo>
                  <a:pt x="697" y="841"/>
                </a:lnTo>
                <a:lnTo>
                  <a:pt x="769" y="884"/>
                </a:lnTo>
                <a:lnTo>
                  <a:pt x="843" y="929"/>
                </a:lnTo>
                <a:lnTo>
                  <a:pt x="919" y="976"/>
                </a:lnTo>
                <a:lnTo>
                  <a:pt x="958" y="999"/>
                </a:lnTo>
                <a:lnTo>
                  <a:pt x="997" y="1022"/>
                </a:lnTo>
                <a:lnTo>
                  <a:pt x="1037" y="1045"/>
                </a:lnTo>
                <a:lnTo>
                  <a:pt x="1078" y="1066"/>
                </a:lnTo>
                <a:lnTo>
                  <a:pt x="1119" y="1088"/>
                </a:lnTo>
                <a:lnTo>
                  <a:pt x="1161" y="1108"/>
                </a:lnTo>
                <a:lnTo>
                  <a:pt x="1204" y="1128"/>
                </a:lnTo>
                <a:lnTo>
                  <a:pt x="1247" y="1146"/>
                </a:lnTo>
                <a:lnTo>
                  <a:pt x="1290" y="1164"/>
                </a:lnTo>
                <a:lnTo>
                  <a:pt x="1334" y="1179"/>
                </a:lnTo>
                <a:lnTo>
                  <a:pt x="1380" y="1195"/>
                </a:lnTo>
                <a:lnTo>
                  <a:pt x="1426" y="1208"/>
                </a:lnTo>
                <a:lnTo>
                  <a:pt x="1472" y="1219"/>
                </a:lnTo>
                <a:lnTo>
                  <a:pt x="1520" y="1229"/>
                </a:lnTo>
                <a:lnTo>
                  <a:pt x="1568" y="1236"/>
                </a:lnTo>
                <a:lnTo>
                  <a:pt x="1616" y="1241"/>
                </a:lnTo>
                <a:lnTo>
                  <a:pt x="1648" y="1243"/>
                </a:lnTo>
                <a:lnTo>
                  <a:pt x="1682" y="1244"/>
                </a:lnTo>
                <a:lnTo>
                  <a:pt x="1717" y="1243"/>
                </a:lnTo>
                <a:lnTo>
                  <a:pt x="1754" y="1241"/>
                </a:lnTo>
                <a:lnTo>
                  <a:pt x="1793" y="1238"/>
                </a:lnTo>
                <a:lnTo>
                  <a:pt x="1833" y="1233"/>
                </a:lnTo>
                <a:lnTo>
                  <a:pt x="1877" y="1228"/>
                </a:lnTo>
                <a:lnTo>
                  <a:pt x="1921" y="1220"/>
                </a:lnTo>
                <a:lnTo>
                  <a:pt x="1968" y="1212"/>
                </a:lnTo>
                <a:lnTo>
                  <a:pt x="2017" y="1203"/>
                </a:lnTo>
                <a:lnTo>
                  <a:pt x="2069" y="1193"/>
                </a:lnTo>
                <a:lnTo>
                  <a:pt x="2123" y="1181"/>
                </a:lnTo>
                <a:lnTo>
                  <a:pt x="2180" y="1169"/>
                </a:lnTo>
                <a:lnTo>
                  <a:pt x="2240" y="1156"/>
                </a:lnTo>
                <a:lnTo>
                  <a:pt x="2301" y="1142"/>
                </a:lnTo>
                <a:lnTo>
                  <a:pt x="2367" y="1127"/>
                </a:lnTo>
                <a:lnTo>
                  <a:pt x="2405" y="1121"/>
                </a:lnTo>
                <a:lnTo>
                  <a:pt x="2448" y="1112"/>
                </a:lnTo>
                <a:lnTo>
                  <a:pt x="2495" y="1104"/>
                </a:lnTo>
                <a:lnTo>
                  <a:pt x="2543" y="1095"/>
                </a:lnTo>
                <a:lnTo>
                  <a:pt x="2591" y="1087"/>
                </a:lnTo>
                <a:lnTo>
                  <a:pt x="2641" y="1080"/>
                </a:lnTo>
                <a:lnTo>
                  <a:pt x="2666" y="1077"/>
                </a:lnTo>
                <a:lnTo>
                  <a:pt x="2689" y="1075"/>
                </a:lnTo>
                <a:lnTo>
                  <a:pt x="2712" y="1073"/>
                </a:lnTo>
                <a:lnTo>
                  <a:pt x="2734" y="1073"/>
                </a:lnTo>
                <a:lnTo>
                  <a:pt x="2749" y="1073"/>
                </a:lnTo>
                <a:lnTo>
                  <a:pt x="2763" y="1075"/>
                </a:lnTo>
                <a:lnTo>
                  <a:pt x="2777" y="1078"/>
                </a:lnTo>
                <a:lnTo>
                  <a:pt x="2790" y="1083"/>
                </a:lnTo>
                <a:lnTo>
                  <a:pt x="2803" y="1088"/>
                </a:lnTo>
                <a:lnTo>
                  <a:pt x="2816" y="1093"/>
                </a:lnTo>
                <a:lnTo>
                  <a:pt x="2827" y="1099"/>
                </a:lnTo>
                <a:lnTo>
                  <a:pt x="2839" y="1106"/>
                </a:lnTo>
                <a:lnTo>
                  <a:pt x="2862" y="1120"/>
                </a:lnTo>
                <a:lnTo>
                  <a:pt x="2884" y="1133"/>
                </a:lnTo>
                <a:lnTo>
                  <a:pt x="2906" y="1146"/>
                </a:lnTo>
                <a:lnTo>
                  <a:pt x="2928" y="1157"/>
                </a:lnTo>
                <a:lnTo>
                  <a:pt x="2927" y="1143"/>
                </a:lnTo>
                <a:lnTo>
                  <a:pt x="2926" y="1130"/>
                </a:lnTo>
                <a:lnTo>
                  <a:pt x="2925" y="1118"/>
                </a:lnTo>
                <a:lnTo>
                  <a:pt x="2922" y="1105"/>
                </a:lnTo>
                <a:lnTo>
                  <a:pt x="2920" y="1093"/>
                </a:lnTo>
                <a:lnTo>
                  <a:pt x="2915" y="1082"/>
                </a:lnTo>
                <a:lnTo>
                  <a:pt x="2911" y="1070"/>
                </a:lnTo>
                <a:lnTo>
                  <a:pt x="2906" y="1060"/>
                </a:lnTo>
                <a:lnTo>
                  <a:pt x="2901" y="1049"/>
                </a:lnTo>
                <a:lnTo>
                  <a:pt x="2895" y="1038"/>
                </a:lnTo>
                <a:lnTo>
                  <a:pt x="2889" y="1029"/>
                </a:lnTo>
                <a:lnTo>
                  <a:pt x="2882" y="1019"/>
                </a:lnTo>
                <a:lnTo>
                  <a:pt x="2874" y="1010"/>
                </a:lnTo>
                <a:lnTo>
                  <a:pt x="2866" y="1000"/>
                </a:lnTo>
                <a:lnTo>
                  <a:pt x="2857" y="991"/>
                </a:lnTo>
                <a:lnTo>
                  <a:pt x="2848" y="983"/>
                </a:lnTo>
                <a:lnTo>
                  <a:pt x="2828" y="966"/>
                </a:lnTo>
                <a:lnTo>
                  <a:pt x="2806" y="951"/>
                </a:lnTo>
                <a:lnTo>
                  <a:pt x="2783" y="938"/>
                </a:lnTo>
                <a:lnTo>
                  <a:pt x="2758" y="923"/>
                </a:lnTo>
                <a:lnTo>
                  <a:pt x="2731" y="911"/>
                </a:lnTo>
                <a:lnTo>
                  <a:pt x="2703" y="900"/>
                </a:lnTo>
                <a:lnTo>
                  <a:pt x="2674" y="888"/>
                </a:lnTo>
                <a:lnTo>
                  <a:pt x="2642" y="878"/>
                </a:lnTo>
                <a:lnTo>
                  <a:pt x="2572" y="810"/>
                </a:lnTo>
                <a:lnTo>
                  <a:pt x="2503" y="743"/>
                </a:lnTo>
                <a:lnTo>
                  <a:pt x="2433" y="676"/>
                </a:lnTo>
                <a:lnTo>
                  <a:pt x="2363" y="612"/>
                </a:lnTo>
                <a:lnTo>
                  <a:pt x="2294" y="549"/>
                </a:lnTo>
                <a:lnTo>
                  <a:pt x="2224" y="487"/>
                </a:lnTo>
                <a:lnTo>
                  <a:pt x="2155" y="428"/>
                </a:lnTo>
                <a:lnTo>
                  <a:pt x="2085" y="372"/>
                </a:lnTo>
                <a:lnTo>
                  <a:pt x="2015" y="318"/>
                </a:lnTo>
                <a:lnTo>
                  <a:pt x="1945" y="268"/>
                </a:lnTo>
                <a:lnTo>
                  <a:pt x="1876" y="221"/>
                </a:lnTo>
                <a:lnTo>
                  <a:pt x="1805" y="178"/>
                </a:lnTo>
                <a:lnTo>
                  <a:pt x="1734" y="138"/>
                </a:lnTo>
                <a:lnTo>
                  <a:pt x="1662" y="103"/>
                </a:lnTo>
                <a:lnTo>
                  <a:pt x="1590" y="73"/>
                </a:lnTo>
                <a:lnTo>
                  <a:pt x="1518" y="47"/>
                </a:lnTo>
                <a:lnTo>
                  <a:pt x="1444" y="26"/>
                </a:lnTo>
                <a:lnTo>
                  <a:pt x="1369" y="12"/>
                </a:lnTo>
                <a:lnTo>
                  <a:pt x="1295" y="3"/>
                </a:lnTo>
                <a:lnTo>
                  <a:pt x="1219" y="0"/>
                </a:lnTo>
                <a:lnTo>
                  <a:pt x="1143" y="3"/>
                </a:lnTo>
                <a:lnTo>
                  <a:pt x="1065" y="12"/>
                </a:lnTo>
                <a:lnTo>
                  <a:pt x="987" y="29"/>
                </a:lnTo>
                <a:lnTo>
                  <a:pt x="908" y="53"/>
                </a:lnTo>
                <a:lnTo>
                  <a:pt x="826" y="84"/>
                </a:lnTo>
                <a:lnTo>
                  <a:pt x="745" y="124"/>
                </a:lnTo>
                <a:lnTo>
                  <a:pt x="662" y="171"/>
                </a:lnTo>
                <a:lnTo>
                  <a:pt x="577" y="227"/>
                </a:lnTo>
                <a:lnTo>
                  <a:pt x="491" y="291"/>
                </a:lnTo>
                <a:lnTo>
                  <a:pt x="404" y="365"/>
                </a:lnTo>
                <a:lnTo>
                  <a:pt x="315" y="447"/>
                </a:lnTo>
                <a:lnTo>
                  <a:pt x="226" y="539"/>
                </a:lnTo>
                <a:lnTo>
                  <a:pt x="190" y="557"/>
                </a:lnTo>
                <a:lnTo>
                  <a:pt x="157" y="575"/>
                </a:lnTo>
                <a:lnTo>
                  <a:pt x="128" y="592"/>
                </a:lnTo>
                <a:lnTo>
                  <a:pt x="101" y="609"/>
                </a:lnTo>
                <a:lnTo>
                  <a:pt x="76" y="627"/>
                </a:lnTo>
                <a:lnTo>
                  <a:pt x="56" y="644"/>
                </a:lnTo>
                <a:lnTo>
                  <a:pt x="47" y="654"/>
                </a:lnTo>
                <a:lnTo>
                  <a:pt x="37" y="662"/>
                </a:lnTo>
                <a:lnTo>
                  <a:pt x="30" y="671"/>
                </a:lnTo>
                <a:lnTo>
                  <a:pt x="23" y="679"/>
                </a:lnTo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8000600">
            <a:off x="-168120" y="1174320"/>
            <a:ext cx="358920" cy="76176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8000600">
            <a:off x="154800" y="715320"/>
            <a:ext cx="907920" cy="528480"/>
          </a:xfrm>
          <a:custGeom>
            <a:avLst/>
            <a:gdLst/>
            <a:ahLst/>
            <a:rect l="l" t="t" r="r" b="b"/>
            <a:pathLst>
              <a:path w="3736" h="2244">
                <a:moveTo>
                  <a:pt x="3736" y="0"/>
                </a:moveTo>
                <a:lnTo>
                  <a:pt x="3603" y="8"/>
                </a:lnTo>
                <a:lnTo>
                  <a:pt x="3408" y="11"/>
                </a:lnTo>
                <a:lnTo>
                  <a:pt x="3218" y="15"/>
                </a:lnTo>
                <a:lnTo>
                  <a:pt x="3032" y="22"/>
                </a:lnTo>
                <a:lnTo>
                  <a:pt x="2850" y="32"/>
                </a:lnTo>
                <a:lnTo>
                  <a:pt x="2673" y="44"/>
                </a:lnTo>
                <a:lnTo>
                  <a:pt x="2501" y="60"/>
                </a:lnTo>
                <a:lnTo>
                  <a:pt x="2333" y="78"/>
                </a:lnTo>
                <a:lnTo>
                  <a:pt x="2170" y="100"/>
                </a:lnTo>
                <a:lnTo>
                  <a:pt x="2012" y="126"/>
                </a:lnTo>
                <a:lnTo>
                  <a:pt x="1860" y="156"/>
                </a:lnTo>
                <a:lnTo>
                  <a:pt x="1712" y="190"/>
                </a:lnTo>
                <a:lnTo>
                  <a:pt x="1570" y="228"/>
                </a:lnTo>
                <a:lnTo>
                  <a:pt x="1433" y="271"/>
                </a:lnTo>
                <a:lnTo>
                  <a:pt x="1303" y="318"/>
                </a:lnTo>
                <a:lnTo>
                  <a:pt x="1176" y="371"/>
                </a:lnTo>
                <a:lnTo>
                  <a:pt x="1057" y="429"/>
                </a:lnTo>
                <a:lnTo>
                  <a:pt x="943" y="492"/>
                </a:lnTo>
                <a:lnTo>
                  <a:pt x="835" y="561"/>
                </a:lnTo>
                <a:lnTo>
                  <a:pt x="732" y="636"/>
                </a:lnTo>
                <a:lnTo>
                  <a:pt x="636" y="717"/>
                </a:lnTo>
                <a:lnTo>
                  <a:pt x="547" y="805"/>
                </a:lnTo>
                <a:lnTo>
                  <a:pt x="463" y="898"/>
                </a:lnTo>
                <a:lnTo>
                  <a:pt x="386" y="999"/>
                </a:lnTo>
                <a:lnTo>
                  <a:pt x="315" y="1106"/>
                </a:lnTo>
                <a:lnTo>
                  <a:pt x="251" y="1221"/>
                </a:lnTo>
                <a:lnTo>
                  <a:pt x="195" y="1343"/>
                </a:lnTo>
                <a:lnTo>
                  <a:pt x="144" y="1473"/>
                </a:lnTo>
                <a:lnTo>
                  <a:pt x="101" y="1611"/>
                </a:lnTo>
                <a:lnTo>
                  <a:pt x="65" y="1757"/>
                </a:lnTo>
                <a:lnTo>
                  <a:pt x="36" y="1910"/>
                </a:lnTo>
                <a:lnTo>
                  <a:pt x="15" y="2074"/>
                </a:lnTo>
                <a:lnTo>
                  <a:pt x="0" y="2244"/>
                </a:lnTo>
                <a:lnTo>
                  <a:pt x="109" y="2092"/>
                </a:lnTo>
                <a:lnTo>
                  <a:pt x="226" y="1945"/>
                </a:lnTo>
                <a:lnTo>
                  <a:pt x="349" y="1805"/>
                </a:lnTo>
                <a:lnTo>
                  <a:pt x="479" y="1671"/>
                </a:lnTo>
                <a:lnTo>
                  <a:pt x="615" y="1542"/>
                </a:lnTo>
                <a:lnTo>
                  <a:pt x="754" y="1420"/>
                </a:lnTo>
                <a:lnTo>
                  <a:pt x="899" y="1303"/>
                </a:lnTo>
                <a:lnTo>
                  <a:pt x="1047" y="1192"/>
                </a:lnTo>
                <a:lnTo>
                  <a:pt x="1198" y="1087"/>
                </a:lnTo>
                <a:lnTo>
                  <a:pt x="1350" y="988"/>
                </a:lnTo>
                <a:lnTo>
                  <a:pt x="1503" y="893"/>
                </a:lnTo>
                <a:lnTo>
                  <a:pt x="1658" y="805"/>
                </a:lnTo>
                <a:lnTo>
                  <a:pt x="1812" y="720"/>
                </a:lnTo>
                <a:lnTo>
                  <a:pt x="1965" y="642"/>
                </a:lnTo>
                <a:lnTo>
                  <a:pt x="2116" y="568"/>
                </a:lnTo>
                <a:lnTo>
                  <a:pt x="2265" y="500"/>
                </a:lnTo>
                <a:lnTo>
                  <a:pt x="2411" y="436"/>
                </a:lnTo>
                <a:lnTo>
                  <a:pt x="2552" y="377"/>
                </a:lnTo>
                <a:lnTo>
                  <a:pt x="2690" y="323"/>
                </a:lnTo>
                <a:lnTo>
                  <a:pt x="2823" y="273"/>
                </a:lnTo>
                <a:lnTo>
                  <a:pt x="2948" y="228"/>
                </a:lnTo>
                <a:lnTo>
                  <a:pt x="3069" y="187"/>
                </a:lnTo>
                <a:lnTo>
                  <a:pt x="3181" y="150"/>
                </a:lnTo>
                <a:lnTo>
                  <a:pt x="3285" y="119"/>
                </a:lnTo>
                <a:lnTo>
                  <a:pt x="3379" y="90"/>
                </a:lnTo>
                <a:lnTo>
                  <a:pt x="3465" y="66"/>
                </a:lnTo>
                <a:lnTo>
                  <a:pt x="3540" y="46"/>
                </a:lnTo>
                <a:lnTo>
                  <a:pt x="3605" y="29"/>
                </a:lnTo>
                <a:lnTo>
                  <a:pt x="3657" y="17"/>
                </a:lnTo>
                <a:lnTo>
                  <a:pt x="3696" y="7"/>
                </a:lnTo>
                <a:lnTo>
                  <a:pt x="3723" y="2"/>
                </a:lnTo>
                <a:lnTo>
                  <a:pt x="3736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170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8000600">
            <a:off x="225360" y="693720"/>
            <a:ext cx="951120" cy="636480"/>
          </a:xfrm>
          <a:custGeom>
            <a:avLst/>
            <a:gdLst/>
            <a:ahLst/>
            <a:rect l="l" t="t" r="r" b="b"/>
            <a:pathLst>
              <a:path w="3911" h="2822">
                <a:moveTo>
                  <a:pt x="0" y="2822"/>
                </a:moveTo>
                <a:lnTo>
                  <a:pt x="66" y="2682"/>
                </a:lnTo>
                <a:lnTo>
                  <a:pt x="139" y="2545"/>
                </a:lnTo>
                <a:lnTo>
                  <a:pt x="217" y="2412"/>
                </a:lnTo>
                <a:lnTo>
                  <a:pt x="299" y="2281"/>
                </a:lnTo>
                <a:lnTo>
                  <a:pt x="386" y="2154"/>
                </a:lnTo>
                <a:lnTo>
                  <a:pt x="478" y="2031"/>
                </a:lnTo>
                <a:lnTo>
                  <a:pt x="575" y="1912"/>
                </a:lnTo>
                <a:lnTo>
                  <a:pt x="674" y="1794"/>
                </a:lnTo>
                <a:lnTo>
                  <a:pt x="779" y="1681"/>
                </a:lnTo>
                <a:lnTo>
                  <a:pt x="887" y="1572"/>
                </a:lnTo>
                <a:lnTo>
                  <a:pt x="999" y="1465"/>
                </a:lnTo>
                <a:lnTo>
                  <a:pt x="1115" y="1363"/>
                </a:lnTo>
                <a:lnTo>
                  <a:pt x="1233" y="1263"/>
                </a:lnTo>
                <a:lnTo>
                  <a:pt x="1355" y="1166"/>
                </a:lnTo>
                <a:lnTo>
                  <a:pt x="1481" y="1074"/>
                </a:lnTo>
                <a:lnTo>
                  <a:pt x="1608" y="984"/>
                </a:lnTo>
                <a:lnTo>
                  <a:pt x="1739" y="898"/>
                </a:lnTo>
                <a:lnTo>
                  <a:pt x="1873" y="814"/>
                </a:lnTo>
                <a:lnTo>
                  <a:pt x="2008" y="735"/>
                </a:lnTo>
                <a:lnTo>
                  <a:pt x="2146" y="659"/>
                </a:lnTo>
                <a:lnTo>
                  <a:pt x="2286" y="586"/>
                </a:lnTo>
                <a:lnTo>
                  <a:pt x="2427" y="516"/>
                </a:lnTo>
                <a:lnTo>
                  <a:pt x="2571" y="450"/>
                </a:lnTo>
                <a:lnTo>
                  <a:pt x="2716" y="386"/>
                </a:lnTo>
                <a:lnTo>
                  <a:pt x="2862" y="327"/>
                </a:lnTo>
                <a:lnTo>
                  <a:pt x="3010" y="270"/>
                </a:lnTo>
                <a:lnTo>
                  <a:pt x="3158" y="217"/>
                </a:lnTo>
                <a:lnTo>
                  <a:pt x="3308" y="167"/>
                </a:lnTo>
                <a:lnTo>
                  <a:pt x="3458" y="121"/>
                </a:lnTo>
                <a:lnTo>
                  <a:pt x="3609" y="77"/>
                </a:lnTo>
                <a:lnTo>
                  <a:pt x="3760" y="37"/>
                </a:lnTo>
                <a:lnTo>
                  <a:pt x="3911" y="0"/>
                </a:lnTo>
                <a:lnTo>
                  <a:pt x="3862" y="115"/>
                </a:lnTo>
                <a:lnTo>
                  <a:pt x="3813" y="227"/>
                </a:lnTo>
                <a:lnTo>
                  <a:pt x="3762" y="334"/>
                </a:lnTo>
                <a:lnTo>
                  <a:pt x="3713" y="438"/>
                </a:lnTo>
                <a:lnTo>
                  <a:pt x="3662" y="538"/>
                </a:lnTo>
                <a:lnTo>
                  <a:pt x="3612" y="634"/>
                </a:lnTo>
                <a:lnTo>
                  <a:pt x="3561" y="727"/>
                </a:lnTo>
                <a:lnTo>
                  <a:pt x="3509" y="816"/>
                </a:lnTo>
                <a:lnTo>
                  <a:pt x="3456" y="903"/>
                </a:lnTo>
                <a:lnTo>
                  <a:pt x="3402" y="987"/>
                </a:lnTo>
                <a:lnTo>
                  <a:pt x="3347" y="1067"/>
                </a:lnTo>
                <a:lnTo>
                  <a:pt x="3291" y="1144"/>
                </a:lnTo>
                <a:lnTo>
                  <a:pt x="3234" y="1220"/>
                </a:lnTo>
                <a:lnTo>
                  <a:pt x="3175" y="1292"/>
                </a:lnTo>
                <a:lnTo>
                  <a:pt x="3114" y="1361"/>
                </a:lnTo>
                <a:lnTo>
                  <a:pt x="3051" y="1428"/>
                </a:lnTo>
                <a:lnTo>
                  <a:pt x="2988" y="1494"/>
                </a:lnTo>
                <a:lnTo>
                  <a:pt x="2922" y="1557"/>
                </a:lnTo>
                <a:lnTo>
                  <a:pt x="2854" y="1618"/>
                </a:lnTo>
                <a:lnTo>
                  <a:pt x="2783" y="1676"/>
                </a:lnTo>
                <a:lnTo>
                  <a:pt x="2711" y="1733"/>
                </a:lnTo>
                <a:lnTo>
                  <a:pt x="2636" y="1788"/>
                </a:lnTo>
                <a:lnTo>
                  <a:pt x="2558" y="1842"/>
                </a:lnTo>
                <a:lnTo>
                  <a:pt x="2477" y="1893"/>
                </a:lnTo>
                <a:lnTo>
                  <a:pt x="2395" y="1945"/>
                </a:lnTo>
                <a:lnTo>
                  <a:pt x="2309" y="1994"/>
                </a:lnTo>
                <a:lnTo>
                  <a:pt x="2219" y="2042"/>
                </a:lnTo>
                <a:lnTo>
                  <a:pt x="2128" y="2089"/>
                </a:lnTo>
                <a:lnTo>
                  <a:pt x="2032" y="2135"/>
                </a:lnTo>
                <a:lnTo>
                  <a:pt x="1933" y="2180"/>
                </a:lnTo>
                <a:lnTo>
                  <a:pt x="1830" y="2225"/>
                </a:lnTo>
                <a:lnTo>
                  <a:pt x="1725" y="2269"/>
                </a:lnTo>
                <a:lnTo>
                  <a:pt x="1681" y="2286"/>
                </a:lnTo>
                <a:lnTo>
                  <a:pt x="1637" y="2302"/>
                </a:lnTo>
                <a:lnTo>
                  <a:pt x="1593" y="2315"/>
                </a:lnTo>
                <a:lnTo>
                  <a:pt x="1548" y="2328"/>
                </a:lnTo>
                <a:lnTo>
                  <a:pt x="1502" y="2342"/>
                </a:lnTo>
                <a:lnTo>
                  <a:pt x="1456" y="2353"/>
                </a:lnTo>
                <a:lnTo>
                  <a:pt x="1409" y="2364"/>
                </a:lnTo>
                <a:lnTo>
                  <a:pt x="1361" y="2375"/>
                </a:lnTo>
                <a:lnTo>
                  <a:pt x="1265" y="2395"/>
                </a:lnTo>
                <a:lnTo>
                  <a:pt x="1165" y="2415"/>
                </a:lnTo>
                <a:lnTo>
                  <a:pt x="1063" y="2435"/>
                </a:lnTo>
                <a:lnTo>
                  <a:pt x="957" y="2458"/>
                </a:lnTo>
                <a:lnTo>
                  <a:pt x="904" y="2470"/>
                </a:lnTo>
                <a:lnTo>
                  <a:pt x="849" y="2483"/>
                </a:lnTo>
                <a:lnTo>
                  <a:pt x="794" y="2497"/>
                </a:lnTo>
                <a:lnTo>
                  <a:pt x="738" y="2511"/>
                </a:lnTo>
                <a:lnTo>
                  <a:pt x="680" y="2528"/>
                </a:lnTo>
                <a:lnTo>
                  <a:pt x="623" y="2545"/>
                </a:lnTo>
                <a:lnTo>
                  <a:pt x="564" y="2564"/>
                </a:lnTo>
                <a:lnTo>
                  <a:pt x="506" y="2584"/>
                </a:lnTo>
                <a:lnTo>
                  <a:pt x="445" y="2607"/>
                </a:lnTo>
                <a:lnTo>
                  <a:pt x="384" y="2632"/>
                </a:lnTo>
                <a:lnTo>
                  <a:pt x="323" y="2657"/>
                </a:lnTo>
                <a:lnTo>
                  <a:pt x="260" y="2685"/>
                </a:lnTo>
                <a:lnTo>
                  <a:pt x="196" y="2716"/>
                </a:lnTo>
                <a:lnTo>
                  <a:pt x="131" y="2749"/>
                </a:lnTo>
                <a:lnTo>
                  <a:pt x="66" y="2784"/>
                </a:lnTo>
                <a:lnTo>
                  <a:pt x="0" y="2822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170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8000600">
            <a:off x="1075320" y="543600"/>
            <a:ext cx="449280" cy="174600"/>
          </a:xfrm>
          <a:custGeom>
            <a:avLst/>
            <a:gdLst/>
            <a:ahLst/>
            <a:rect l="l" t="t" r="r" b="b"/>
            <a:pathLst>
              <a:path w="1973" h="778">
                <a:moveTo>
                  <a:pt x="1973" y="778"/>
                </a:moveTo>
                <a:lnTo>
                  <a:pt x="1925" y="737"/>
                </a:lnTo>
                <a:lnTo>
                  <a:pt x="1861" y="674"/>
                </a:lnTo>
                <a:lnTo>
                  <a:pt x="1796" y="613"/>
                </a:lnTo>
                <a:lnTo>
                  <a:pt x="1732" y="554"/>
                </a:lnTo>
                <a:lnTo>
                  <a:pt x="1668" y="499"/>
                </a:lnTo>
                <a:lnTo>
                  <a:pt x="1606" y="444"/>
                </a:lnTo>
                <a:lnTo>
                  <a:pt x="1544" y="393"/>
                </a:lnTo>
                <a:lnTo>
                  <a:pt x="1482" y="344"/>
                </a:lnTo>
                <a:lnTo>
                  <a:pt x="1421" y="298"/>
                </a:lnTo>
                <a:lnTo>
                  <a:pt x="1361" y="255"/>
                </a:lnTo>
                <a:lnTo>
                  <a:pt x="1300" y="215"/>
                </a:lnTo>
                <a:lnTo>
                  <a:pt x="1240" y="178"/>
                </a:lnTo>
                <a:lnTo>
                  <a:pt x="1181" y="144"/>
                </a:lnTo>
                <a:lnTo>
                  <a:pt x="1121" y="114"/>
                </a:lnTo>
                <a:lnTo>
                  <a:pt x="1062" y="86"/>
                </a:lnTo>
                <a:lnTo>
                  <a:pt x="1004" y="62"/>
                </a:lnTo>
                <a:lnTo>
                  <a:pt x="945" y="42"/>
                </a:lnTo>
                <a:lnTo>
                  <a:pt x="887" y="25"/>
                </a:lnTo>
                <a:lnTo>
                  <a:pt x="828" y="13"/>
                </a:lnTo>
                <a:lnTo>
                  <a:pt x="769" y="5"/>
                </a:lnTo>
                <a:lnTo>
                  <a:pt x="712" y="0"/>
                </a:lnTo>
                <a:lnTo>
                  <a:pt x="653" y="0"/>
                </a:lnTo>
                <a:lnTo>
                  <a:pt x="594" y="3"/>
                </a:lnTo>
                <a:lnTo>
                  <a:pt x="536" y="11"/>
                </a:lnTo>
                <a:lnTo>
                  <a:pt x="477" y="23"/>
                </a:lnTo>
                <a:lnTo>
                  <a:pt x="419" y="41"/>
                </a:lnTo>
                <a:lnTo>
                  <a:pt x="360" y="62"/>
                </a:lnTo>
                <a:lnTo>
                  <a:pt x="300" y="89"/>
                </a:lnTo>
                <a:lnTo>
                  <a:pt x="242" y="121"/>
                </a:lnTo>
                <a:lnTo>
                  <a:pt x="182" y="157"/>
                </a:lnTo>
                <a:lnTo>
                  <a:pt x="121" y="198"/>
                </a:lnTo>
                <a:lnTo>
                  <a:pt x="61" y="246"/>
                </a:lnTo>
                <a:lnTo>
                  <a:pt x="0" y="297"/>
                </a:lnTo>
                <a:lnTo>
                  <a:pt x="86" y="283"/>
                </a:lnTo>
                <a:lnTo>
                  <a:pt x="173" y="272"/>
                </a:lnTo>
                <a:lnTo>
                  <a:pt x="260" y="266"/>
                </a:lnTo>
                <a:lnTo>
                  <a:pt x="347" y="264"/>
                </a:lnTo>
                <a:lnTo>
                  <a:pt x="434" y="266"/>
                </a:lnTo>
                <a:lnTo>
                  <a:pt x="520" y="271"/>
                </a:lnTo>
                <a:lnTo>
                  <a:pt x="606" y="281"/>
                </a:lnTo>
                <a:lnTo>
                  <a:pt x="691" y="292"/>
                </a:lnTo>
                <a:lnTo>
                  <a:pt x="775" y="306"/>
                </a:lnTo>
                <a:lnTo>
                  <a:pt x="859" y="324"/>
                </a:lnTo>
                <a:lnTo>
                  <a:pt x="941" y="342"/>
                </a:lnTo>
                <a:lnTo>
                  <a:pt x="1021" y="364"/>
                </a:lnTo>
                <a:lnTo>
                  <a:pt x="1099" y="386"/>
                </a:lnTo>
                <a:lnTo>
                  <a:pt x="1176" y="410"/>
                </a:lnTo>
                <a:lnTo>
                  <a:pt x="1250" y="436"/>
                </a:lnTo>
                <a:lnTo>
                  <a:pt x="1322" y="462"/>
                </a:lnTo>
                <a:lnTo>
                  <a:pt x="1391" y="488"/>
                </a:lnTo>
                <a:lnTo>
                  <a:pt x="1457" y="515"/>
                </a:lnTo>
                <a:lnTo>
                  <a:pt x="1520" y="543"/>
                </a:lnTo>
                <a:lnTo>
                  <a:pt x="1581" y="570"/>
                </a:lnTo>
                <a:lnTo>
                  <a:pt x="1637" y="595"/>
                </a:lnTo>
                <a:lnTo>
                  <a:pt x="1690" y="621"/>
                </a:lnTo>
                <a:lnTo>
                  <a:pt x="1739" y="646"/>
                </a:lnTo>
                <a:lnTo>
                  <a:pt x="1785" y="669"/>
                </a:lnTo>
                <a:lnTo>
                  <a:pt x="1861" y="711"/>
                </a:lnTo>
                <a:lnTo>
                  <a:pt x="1919" y="744"/>
                </a:lnTo>
                <a:lnTo>
                  <a:pt x="1956" y="768"/>
                </a:lnTo>
                <a:lnTo>
                  <a:pt x="1973" y="778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170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8000600">
            <a:off x="1102320" y="616320"/>
            <a:ext cx="492480" cy="138240"/>
          </a:xfrm>
          <a:custGeom>
            <a:avLst/>
            <a:gdLst/>
            <a:ahLst/>
            <a:rect l="l" t="t" r="r" b="b"/>
            <a:pathLst>
              <a:path w="2220" h="663">
                <a:moveTo>
                  <a:pt x="0" y="124"/>
                </a:moveTo>
                <a:lnTo>
                  <a:pt x="68" y="99"/>
                </a:lnTo>
                <a:lnTo>
                  <a:pt x="137" y="78"/>
                </a:lnTo>
                <a:lnTo>
                  <a:pt x="207" y="59"/>
                </a:lnTo>
                <a:lnTo>
                  <a:pt x="277" y="43"/>
                </a:lnTo>
                <a:lnTo>
                  <a:pt x="347" y="29"/>
                </a:lnTo>
                <a:lnTo>
                  <a:pt x="418" y="19"/>
                </a:lnTo>
                <a:lnTo>
                  <a:pt x="489" y="11"/>
                </a:lnTo>
                <a:lnTo>
                  <a:pt x="561" y="5"/>
                </a:lnTo>
                <a:lnTo>
                  <a:pt x="632" y="1"/>
                </a:lnTo>
                <a:lnTo>
                  <a:pt x="704" y="0"/>
                </a:lnTo>
                <a:lnTo>
                  <a:pt x="776" y="2"/>
                </a:lnTo>
                <a:lnTo>
                  <a:pt x="848" y="6"/>
                </a:lnTo>
                <a:lnTo>
                  <a:pt x="920" y="12"/>
                </a:lnTo>
                <a:lnTo>
                  <a:pt x="992" y="20"/>
                </a:lnTo>
                <a:lnTo>
                  <a:pt x="1064" y="30"/>
                </a:lnTo>
                <a:lnTo>
                  <a:pt x="1135" y="43"/>
                </a:lnTo>
                <a:lnTo>
                  <a:pt x="1207" y="56"/>
                </a:lnTo>
                <a:lnTo>
                  <a:pt x="1278" y="72"/>
                </a:lnTo>
                <a:lnTo>
                  <a:pt x="1349" y="91"/>
                </a:lnTo>
                <a:lnTo>
                  <a:pt x="1420" y="110"/>
                </a:lnTo>
                <a:lnTo>
                  <a:pt x="1490" y="132"/>
                </a:lnTo>
                <a:lnTo>
                  <a:pt x="1560" y="156"/>
                </a:lnTo>
                <a:lnTo>
                  <a:pt x="1629" y="180"/>
                </a:lnTo>
                <a:lnTo>
                  <a:pt x="1698" y="207"/>
                </a:lnTo>
                <a:lnTo>
                  <a:pt x="1766" y="235"/>
                </a:lnTo>
                <a:lnTo>
                  <a:pt x="1833" y="265"/>
                </a:lnTo>
                <a:lnTo>
                  <a:pt x="1899" y="296"/>
                </a:lnTo>
                <a:lnTo>
                  <a:pt x="1966" y="328"/>
                </a:lnTo>
                <a:lnTo>
                  <a:pt x="2031" y="362"/>
                </a:lnTo>
                <a:lnTo>
                  <a:pt x="2095" y="397"/>
                </a:lnTo>
                <a:lnTo>
                  <a:pt x="2157" y="433"/>
                </a:lnTo>
                <a:lnTo>
                  <a:pt x="2220" y="470"/>
                </a:lnTo>
                <a:lnTo>
                  <a:pt x="2166" y="493"/>
                </a:lnTo>
                <a:lnTo>
                  <a:pt x="2113" y="514"/>
                </a:lnTo>
                <a:lnTo>
                  <a:pt x="2062" y="533"/>
                </a:lnTo>
                <a:lnTo>
                  <a:pt x="2011" y="551"/>
                </a:lnTo>
                <a:lnTo>
                  <a:pt x="1962" y="567"/>
                </a:lnTo>
                <a:lnTo>
                  <a:pt x="1914" y="583"/>
                </a:lnTo>
                <a:lnTo>
                  <a:pt x="1866" y="597"/>
                </a:lnTo>
                <a:lnTo>
                  <a:pt x="1819" y="609"/>
                </a:lnTo>
                <a:lnTo>
                  <a:pt x="1774" y="621"/>
                </a:lnTo>
                <a:lnTo>
                  <a:pt x="1729" y="631"/>
                </a:lnTo>
                <a:lnTo>
                  <a:pt x="1683" y="639"/>
                </a:lnTo>
                <a:lnTo>
                  <a:pt x="1640" y="646"/>
                </a:lnTo>
                <a:lnTo>
                  <a:pt x="1596" y="652"/>
                </a:lnTo>
                <a:lnTo>
                  <a:pt x="1553" y="657"/>
                </a:lnTo>
                <a:lnTo>
                  <a:pt x="1510" y="661"/>
                </a:lnTo>
                <a:lnTo>
                  <a:pt x="1467" y="662"/>
                </a:lnTo>
                <a:lnTo>
                  <a:pt x="1425" y="663"/>
                </a:lnTo>
                <a:lnTo>
                  <a:pt x="1383" y="662"/>
                </a:lnTo>
                <a:lnTo>
                  <a:pt x="1340" y="660"/>
                </a:lnTo>
                <a:lnTo>
                  <a:pt x="1298" y="657"/>
                </a:lnTo>
                <a:lnTo>
                  <a:pt x="1255" y="651"/>
                </a:lnTo>
                <a:lnTo>
                  <a:pt x="1212" y="645"/>
                </a:lnTo>
                <a:lnTo>
                  <a:pt x="1169" y="637"/>
                </a:lnTo>
                <a:lnTo>
                  <a:pt x="1125" y="628"/>
                </a:lnTo>
                <a:lnTo>
                  <a:pt x="1082" y="618"/>
                </a:lnTo>
                <a:lnTo>
                  <a:pt x="1036" y="606"/>
                </a:lnTo>
                <a:lnTo>
                  <a:pt x="991" y="593"/>
                </a:lnTo>
                <a:lnTo>
                  <a:pt x="945" y="578"/>
                </a:lnTo>
                <a:lnTo>
                  <a:pt x="898" y="562"/>
                </a:lnTo>
                <a:lnTo>
                  <a:pt x="851" y="544"/>
                </a:lnTo>
                <a:lnTo>
                  <a:pt x="803" y="526"/>
                </a:lnTo>
                <a:lnTo>
                  <a:pt x="752" y="505"/>
                </a:lnTo>
                <a:lnTo>
                  <a:pt x="733" y="497"/>
                </a:lnTo>
                <a:lnTo>
                  <a:pt x="713" y="488"/>
                </a:lnTo>
                <a:lnTo>
                  <a:pt x="694" y="478"/>
                </a:lnTo>
                <a:lnTo>
                  <a:pt x="675" y="467"/>
                </a:lnTo>
                <a:lnTo>
                  <a:pt x="636" y="446"/>
                </a:lnTo>
                <a:lnTo>
                  <a:pt x="598" y="422"/>
                </a:lnTo>
                <a:lnTo>
                  <a:pt x="559" y="396"/>
                </a:lnTo>
                <a:lnTo>
                  <a:pt x="520" y="371"/>
                </a:lnTo>
                <a:lnTo>
                  <a:pt x="479" y="344"/>
                </a:lnTo>
                <a:lnTo>
                  <a:pt x="437" y="317"/>
                </a:lnTo>
                <a:lnTo>
                  <a:pt x="393" y="289"/>
                </a:lnTo>
                <a:lnTo>
                  <a:pt x="347" y="263"/>
                </a:lnTo>
                <a:lnTo>
                  <a:pt x="322" y="249"/>
                </a:lnTo>
                <a:lnTo>
                  <a:pt x="298" y="236"/>
                </a:lnTo>
                <a:lnTo>
                  <a:pt x="272" y="224"/>
                </a:lnTo>
                <a:lnTo>
                  <a:pt x="246" y="210"/>
                </a:lnTo>
                <a:lnTo>
                  <a:pt x="219" y="198"/>
                </a:lnTo>
                <a:lnTo>
                  <a:pt x="191" y="187"/>
                </a:lnTo>
                <a:lnTo>
                  <a:pt x="161" y="175"/>
                </a:lnTo>
                <a:lnTo>
                  <a:pt x="131" y="164"/>
                </a:lnTo>
                <a:lnTo>
                  <a:pt x="100" y="153"/>
                </a:lnTo>
                <a:lnTo>
                  <a:pt x="68" y="142"/>
                </a:lnTo>
                <a:lnTo>
                  <a:pt x="34" y="133"/>
                </a:lnTo>
                <a:lnTo>
                  <a:pt x="0" y="12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170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8000600">
            <a:off x="-106920" y="1337040"/>
            <a:ext cx="195480" cy="498600"/>
          </a:xfrm>
          <a:custGeom>
            <a:avLst/>
            <a:gdLst/>
            <a:ahLst/>
            <a:rect l="l" t="t" r="r" b="b"/>
            <a:pathLst>
              <a:path w="792" h="2198">
                <a:moveTo>
                  <a:pt x="792" y="0"/>
                </a:moveTo>
                <a:lnTo>
                  <a:pt x="750" y="53"/>
                </a:lnTo>
                <a:lnTo>
                  <a:pt x="683" y="128"/>
                </a:lnTo>
                <a:lnTo>
                  <a:pt x="619" y="202"/>
                </a:lnTo>
                <a:lnTo>
                  <a:pt x="559" y="276"/>
                </a:lnTo>
                <a:lnTo>
                  <a:pt x="500" y="348"/>
                </a:lnTo>
                <a:lnTo>
                  <a:pt x="443" y="420"/>
                </a:lnTo>
                <a:lnTo>
                  <a:pt x="390" y="491"/>
                </a:lnTo>
                <a:lnTo>
                  <a:pt x="339" y="562"/>
                </a:lnTo>
                <a:lnTo>
                  <a:pt x="292" y="632"/>
                </a:lnTo>
                <a:lnTo>
                  <a:pt x="248" y="701"/>
                </a:lnTo>
                <a:lnTo>
                  <a:pt x="207" y="770"/>
                </a:lnTo>
                <a:lnTo>
                  <a:pt x="169" y="838"/>
                </a:lnTo>
                <a:lnTo>
                  <a:pt x="135" y="905"/>
                </a:lnTo>
                <a:lnTo>
                  <a:pt x="104" y="972"/>
                </a:lnTo>
                <a:lnTo>
                  <a:pt x="77" y="1039"/>
                </a:lnTo>
                <a:lnTo>
                  <a:pt x="54" y="1104"/>
                </a:lnTo>
                <a:lnTo>
                  <a:pt x="35" y="1170"/>
                </a:lnTo>
                <a:lnTo>
                  <a:pt x="20" y="1236"/>
                </a:lnTo>
                <a:lnTo>
                  <a:pt x="9" y="1301"/>
                </a:lnTo>
                <a:lnTo>
                  <a:pt x="2" y="1366"/>
                </a:lnTo>
                <a:lnTo>
                  <a:pt x="0" y="1430"/>
                </a:lnTo>
                <a:lnTo>
                  <a:pt x="3" y="1494"/>
                </a:lnTo>
                <a:lnTo>
                  <a:pt x="10" y="1558"/>
                </a:lnTo>
                <a:lnTo>
                  <a:pt x="22" y="1623"/>
                </a:lnTo>
                <a:lnTo>
                  <a:pt x="39" y="1686"/>
                </a:lnTo>
                <a:lnTo>
                  <a:pt x="61" y="1750"/>
                </a:lnTo>
                <a:lnTo>
                  <a:pt x="87" y="1814"/>
                </a:lnTo>
                <a:lnTo>
                  <a:pt x="120" y="1878"/>
                </a:lnTo>
                <a:lnTo>
                  <a:pt x="157" y="1942"/>
                </a:lnTo>
                <a:lnTo>
                  <a:pt x="201" y="2005"/>
                </a:lnTo>
                <a:lnTo>
                  <a:pt x="250" y="2069"/>
                </a:lnTo>
                <a:lnTo>
                  <a:pt x="305" y="2134"/>
                </a:lnTo>
                <a:lnTo>
                  <a:pt x="365" y="2198"/>
                </a:lnTo>
                <a:lnTo>
                  <a:pt x="345" y="2104"/>
                </a:lnTo>
                <a:lnTo>
                  <a:pt x="328" y="2009"/>
                </a:lnTo>
                <a:lnTo>
                  <a:pt x="317" y="1914"/>
                </a:lnTo>
                <a:lnTo>
                  <a:pt x="311" y="1818"/>
                </a:lnTo>
                <a:lnTo>
                  <a:pt x="309" y="1722"/>
                </a:lnTo>
                <a:lnTo>
                  <a:pt x="310" y="1627"/>
                </a:lnTo>
                <a:lnTo>
                  <a:pt x="315" y="1531"/>
                </a:lnTo>
                <a:lnTo>
                  <a:pt x="323" y="1437"/>
                </a:lnTo>
                <a:lnTo>
                  <a:pt x="334" y="1343"/>
                </a:lnTo>
                <a:lnTo>
                  <a:pt x="349" y="1250"/>
                </a:lnTo>
                <a:lnTo>
                  <a:pt x="366" y="1159"/>
                </a:lnTo>
                <a:lnTo>
                  <a:pt x="385" y="1069"/>
                </a:lnTo>
                <a:lnTo>
                  <a:pt x="405" y="982"/>
                </a:lnTo>
                <a:lnTo>
                  <a:pt x="428" y="897"/>
                </a:lnTo>
                <a:lnTo>
                  <a:pt x="453" y="813"/>
                </a:lnTo>
                <a:lnTo>
                  <a:pt x="477" y="733"/>
                </a:lnTo>
                <a:lnTo>
                  <a:pt x="503" y="656"/>
                </a:lnTo>
                <a:lnTo>
                  <a:pt x="530" y="581"/>
                </a:lnTo>
                <a:lnTo>
                  <a:pt x="556" y="510"/>
                </a:lnTo>
                <a:lnTo>
                  <a:pt x="582" y="442"/>
                </a:lnTo>
                <a:lnTo>
                  <a:pt x="609" y="378"/>
                </a:lnTo>
                <a:lnTo>
                  <a:pt x="634" y="319"/>
                </a:lnTo>
                <a:lnTo>
                  <a:pt x="658" y="263"/>
                </a:lnTo>
                <a:lnTo>
                  <a:pt x="682" y="213"/>
                </a:lnTo>
                <a:lnTo>
                  <a:pt x="704" y="166"/>
                </a:lnTo>
                <a:lnTo>
                  <a:pt x="724" y="125"/>
                </a:lnTo>
                <a:lnTo>
                  <a:pt x="743" y="90"/>
                </a:lnTo>
                <a:lnTo>
                  <a:pt x="758" y="59"/>
                </a:lnTo>
                <a:lnTo>
                  <a:pt x="782" y="17"/>
                </a:lnTo>
                <a:lnTo>
                  <a:pt x="792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170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8000600">
            <a:off x="-33120" y="1251000"/>
            <a:ext cx="146160" cy="514440"/>
          </a:xfrm>
          <a:custGeom>
            <a:avLst/>
            <a:gdLst/>
            <a:ahLst/>
            <a:rect l="l" t="t" r="r" b="b"/>
            <a:pathLst>
              <a:path w="697" h="2464">
                <a:moveTo>
                  <a:pt x="175" y="2464"/>
                </a:moveTo>
                <a:lnTo>
                  <a:pt x="144" y="2390"/>
                </a:lnTo>
                <a:lnTo>
                  <a:pt x="117" y="2315"/>
                </a:lnTo>
                <a:lnTo>
                  <a:pt x="93" y="2240"/>
                </a:lnTo>
                <a:lnTo>
                  <a:pt x="71" y="2164"/>
                </a:lnTo>
                <a:lnTo>
                  <a:pt x="53" y="2087"/>
                </a:lnTo>
                <a:lnTo>
                  <a:pt x="37" y="2010"/>
                </a:lnTo>
                <a:lnTo>
                  <a:pt x="25" y="1932"/>
                </a:lnTo>
                <a:lnTo>
                  <a:pt x="15" y="1853"/>
                </a:lnTo>
                <a:lnTo>
                  <a:pt x="7" y="1774"/>
                </a:lnTo>
                <a:lnTo>
                  <a:pt x="2" y="1695"/>
                </a:lnTo>
                <a:lnTo>
                  <a:pt x="0" y="1616"/>
                </a:lnTo>
                <a:lnTo>
                  <a:pt x="1" y="1537"/>
                </a:lnTo>
                <a:lnTo>
                  <a:pt x="3" y="1456"/>
                </a:lnTo>
                <a:lnTo>
                  <a:pt x="8" y="1377"/>
                </a:lnTo>
                <a:lnTo>
                  <a:pt x="17" y="1297"/>
                </a:lnTo>
                <a:lnTo>
                  <a:pt x="26" y="1218"/>
                </a:lnTo>
                <a:lnTo>
                  <a:pt x="38" y="1138"/>
                </a:lnTo>
                <a:lnTo>
                  <a:pt x="52" y="1058"/>
                </a:lnTo>
                <a:lnTo>
                  <a:pt x="68" y="979"/>
                </a:lnTo>
                <a:lnTo>
                  <a:pt x="87" y="900"/>
                </a:lnTo>
                <a:lnTo>
                  <a:pt x="107" y="822"/>
                </a:lnTo>
                <a:lnTo>
                  <a:pt x="129" y="744"/>
                </a:lnTo>
                <a:lnTo>
                  <a:pt x="152" y="667"/>
                </a:lnTo>
                <a:lnTo>
                  <a:pt x="178" y="589"/>
                </a:lnTo>
                <a:lnTo>
                  <a:pt x="206" y="513"/>
                </a:lnTo>
                <a:lnTo>
                  <a:pt x="236" y="437"/>
                </a:lnTo>
                <a:lnTo>
                  <a:pt x="266" y="362"/>
                </a:lnTo>
                <a:lnTo>
                  <a:pt x="298" y="288"/>
                </a:lnTo>
                <a:lnTo>
                  <a:pt x="332" y="214"/>
                </a:lnTo>
                <a:lnTo>
                  <a:pt x="367" y="142"/>
                </a:lnTo>
                <a:lnTo>
                  <a:pt x="404" y="70"/>
                </a:lnTo>
                <a:lnTo>
                  <a:pt x="441" y="0"/>
                </a:lnTo>
                <a:lnTo>
                  <a:pt x="469" y="59"/>
                </a:lnTo>
                <a:lnTo>
                  <a:pt x="494" y="115"/>
                </a:lnTo>
                <a:lnTo>
                  <a:pt x="519" y="172"/>
                </a:lnTo>
                <a:lnTo>
                  <a:pt x="541" y="226"/>
                </a:lnTo>
                <a:lnTo>
                  <a:pt x="562" y="280"/>
                </a:lnTo>
                <a:lnTo>
                  <a:pt x="581" y="332"/>
                </a:lnTo>
                <a:lnTo>
                  <a:pt x="599" y="384"/>
                </a:lnTo>
                <a:lnTo>
                  <a:pt x="615" y="434"/>
                </a:lnTo>
                <a:lnTo>
                  <a:pt x="631" y="485"/>
                </a:lnTo>
                <a:lnTo>
                  <a:pt x="644" y="534"/>
                </a:lnTo>
                <a:lnTo>
                  <a:pt x="655" y="582"/>
                </a:lnTo>
                <a:lnTo>
                  <a:pt x="666" y="631"/>
                </a:lnTo>
                <a:lnTo>
                  <a:pt x="675" y="678"/>
                </a:lnTo>
                <a:lnTo>
                  <a:pt x="682" y="725"/>
                </a:lnTo>
                <a:lnTo>
                  <a:pt x="688" y="772"/>
                </a:lnTo>
                <a:lnTo>
                  <a:pt x="692" y="819"/>
                </a:lnTo>
                <a:lnTo>
                  <a:pt x="694" y="866"/>
                </a:lnTo>
                <a:lnTo>
                  <a:pt x="697" y="912"/>
                </a:lnTo>
                <a:lnTo>
                  <a:pt x="697" y="960"/>
                </a:lnTo>
                <a:lnTo>
                  <a:pt x="694" y="1007"/>
                </a:lnTo>
                <a:lnTo>
                  <a:pt x="691" y="1054"/>
                </a:lnTo>
                <a:lnTo>
                  <a:pt x="686" y="1102"/>
                </a:lnTo>
                <a:lnTo>
                  <a:pt x="680" y="1150"/>
                </a:lnTo>
                <a:lnTo>
                  <a:pt x="673" y="1198"/>
                </a:lnTo>
                <a:lnTo>
                  <a:pt x="664" y="1248"/>
                </a:lnTo>
                <a:lnTo>
                  <a:pt x="652" y="1297"/>
                </a:lnTo>
                <a:lnTo>
                  <a:pt x="640" y="1347"/>
                </a:lnTo>
                <a:lnTo>
                  <a:pt x="627" y="1399"/>
                </a:lnTo>
                <a:lnTo>
                  <a:pt x="611" y="1451"/>
                </a:lnTo>
                <a:lnTo>
                  <a:pt x="595" y="1505"/>
                </a:lnTo>
                <a:lnTo>
                  <a:pt x="576" y="1559"/>
                </a:lnTo>
                <a:lnTo>
                  <a:pt x="557" y="1615"/>
                </a:lnTo>
                <a:lnTo>
                  <a:pt x="548" y="1637"/>
                </a:lnTo>
                <a:lnTo>
                  <a:pt x="539" y="1659"/>
                </a:lnTo>
                <a:lnTo>
                  <a:pt x="529" y="1682"/>
                </a:lnTo>
                <a:lnTo>
                  <a:pt x="519" y="1703"/>
                </a:lnTo>
                <a:lnTo>
                  <a:pt x="497" y="1746"/>
                </a:lnTo>
                <a:lnTo>
                  <a:pt x="472" y="1790"/>
                </a:lnTo>
                <a:lnTo>
                  <a:pt x="447" y="1834"/>
                </a:lnTo>
                <a:lnTo>
                  <a:pt x="420" y="1879"/>
                </a:lnTo>
                <a:lnTo>
                  <a:pt x="393" y="1925"/>
                </a:lnTo>
                <a:lnTo>
                  <a:pt x="365" y="1973"/>
                </a:lnTo>
                <a:lnTo>
                  <a:pt x="338" y="2023"/>
                </a:lnTo>
                <a:lnTo>
                  <a:pt x="310" y="2076"/>
                </a:lnTo>
                <a:lnTo>
                  <a:pt x="296" y="2102"/>
                </a:lnTo>
                <a:lnTo>
                  <a:pt x="284" y="2131"/>
                </a:lnTo>
                <a:lnTo>
                  <a:pt x="271" y="2160"/>
                </a:lnTo>
                <a:lnTo>
                  <a:pt x="258" y="2189"/>
                </a:lnTo>
                <a:lnTo>
                  <a:pt x="246" y="2220"/>
                </a:lnTo>
                <a:lnTo>
                  <a:pt x="235" y="2251"/>
                </a:lnTo>
                <a:lnTo>
                  <a:pt x="223" y="2284"/>
                </a:lnTo>
                <a:lnTo>
                  <a:pt x="212" y="2318"/>
                </a:lnTo>
                <a:lnTo>
                  <a:pt x="202" y="2352"/>
                </a:lnTo>
                <a:lnTo>
                  <a:pt x="192" y="2388"/>
                </a:lnTo>
                <a:lnTo>
                  <a:pt x="183" y="2425"/>
                </a:lnTo>
                <a:lnTo>
                  <a:pt x="175" y="246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170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rot="14371200">
            <a:off x="6489000" y="522360"/>
            <a:ext cx="752400" cy="606240"/>
          </a:xfrm>
          <a:custGeom>
            <a:avLst/>
            <a:gdLst/>
            <a:ahLst/>
            <a:rect l="l" t="t" r="r" b="b"/>
            <a:pathLst>
              <a:path w="5156" h="3904">
                <a:moveTo>
                  <a:pt x="3" y="3804"/>
                </a:moveTo>
                <a:lnTo>
                  <a:pt x="4" y="3820"/>
                </a:lnTo>
                <a:lnTo>
                  <a:pt x="5" y="3833"/>
                </a:lnTo>
                <a:lnTo>
                  <a:pt x="7" y="3845"/>
                </a:lnTo>
                <a:lnTo>
                  <a:pt x="9" y="3857"/>
                </a:lnTo>
                <a:lnTo>
                  <a:pt x="11" y="3866"/>
                </a:lnTo>
                <a:lnTo>
                  <a:pt x="14" y="3875"/>
                </a:lnTo>
                <a:lnTo>
                  <a:pt x="17" y="3882"/>
                </a:lnTo>
                <a:lnTo>
                  <a:pt x="20" y="3889"/>
                </a:lnTo>
                <a:lnTo>
                  <a:pt x="25" y="3894"/>
                </a:lnTo>
                <a:lnTo>
                  <a:pt x="29" y="3898"/>
                </a:lnTo>
                <a:lnTo>
                  <a:pt x="33" y="3900"/>
                </a:lnTo>
                <a:lnTo>
                  <a:pt x="38" y="3903"/>
                </a:lnTo>
                <a:lnTo>
                  <a:pt x="43" y="3904"/>
                </a:lnTo>
                <a:lnTo>
                  <a:pt x="47" y="3904"/>
                </a:lnTo>
                <a:lnTo>
                  <a:pt x="52" y="3904"/>
                </a:lnTo>
                <a:lnTo>
                  <a:pt x="57" y="3902"/>
                </a:lnTo>
                <a:lnTo>
                  <a:pt x="64" y="3901"/>
                </a:lnTo>
                <a:lnTo>
                  <a:pt x="69" y="3898"/>
                </a:lnTo>
                <a:lnTo>
                  <a:pt x="74" y="3895"/>
                </a:lnTo>
                <a:lnTo>
                  <a:pt x="79" y="3892"/>
                </a:lnTo>
                <a:lnTo>
                  <a:pt x="90" y="3882"/>
                </a:lnTo>
                <a:lnTo>
                  <a:pt x="101" y="3872"/>
                </a:lnTo>
                <a:lnTo>
                  <a:pt x="111" y="3861"/>
                </a:lnTo>
                <a:lnTo>
                  <a:pt x="120" y="3847"/>
                </a:lnTo>
                <a:lnTo>
                  <a:pt x="128" y="3835"/>
                </a:lnTo>
                <a:lnTo>
                  <a:pt x="136" y="3822"/>
                </a:lnTo>
                <a:lnTo>
                  <a:pt x="180" y="3760"/>
                </a:lnTo>
                <a:lnTo>
                  <a:pt x="228" y="3695"/>
                </a:lnTo>
                <a:lnTo>
                  <a:pt x="280" y="3628"/>
                </a:lnTo>
                <a:lnTo>
                  <a:pt x="332" y="3560"/>
                </a:lnTo>
                <a:lnTo>
                  <a:pt x="386" y="3494"/>
                </a:lnTo>
                <a:lnTo>
                  <a:pt x="439" y="3429"/>
                </a:lnTo>
                <a:lnTo>
                  <a:pt x="490" y="3366"/>
                </a:lnTo>
                <a:lnTo>
                  <a:pt x="538" y="3308"/>
                </a:lnTo>
                <a:lnTo>
                  <a:pt x="598" y="3272"/>
                </a:lnTo>
                <a:lnTo>
                  <a:pt x="661" y="3239"/>
                </a:lnTo>
                <a:lnTo>
                  <a:pt x="728" y="3208"/>
                </a:lnTo>
                <a:lnTo>
                  <a:pt x="799" y="3179"/>
                </a:lnTo>
                <a:lnTo>
                  <a:pt x="872" y="3151"/>
                </a:lnTo>
                <a:lnTo>
                  <a:pt x="948" y="3125"/>
                </a:lnTo>
                <a:lnTo>
                  <a:pt x="1026" y="3101"/>
                </a:lnTo>
                <a:lnTo>
                  <a:pt x="1108" y="3077"/>
                </a:lnTo>
                <a:lnTo>
                  <a:pt x="1190" y="3054"/>
                </a:lnTo>
                <a:lnTo>
                  <a:pt x="1275" y="3033"/>
                </a:lnTo>
                <a:lnTo>
                  <a:pt x="1363" y="3011"/>
                </a:lnTo>
                <a:lnTo>
                  <a:pt x="1451" y="2991"/>
                </a:lnTo>
                <a:lnTo>
                  <a:pt x="1632" y="2947"/>
                </a:lnTo>
                <a:lnTo>
                  <a:pt x="1818" y="2903"/>
                </a:lnTo>
                <a:lnTo>
                  <a:pt x="1913" y="2880"/>
                </a:lnTo>
                <a:lnTo>
                  <a:pt x="2008" y="2855"/>
                </a:lnTo>
                <a:lnTo>
                  <a:pt x="2102" y="2828"/>
                </a:lnTo>
                <a:lnTo>
                  <a:pt x="2198" y="2800"/>
                </a:lnTo>
                <a:lnTo>
                  <a:pt x="2293" y="2771"/>
                </a:lnTo>
                <a:lnTo>
                  <a:pt x="2387" y="2739"/>
                </a:lnTo>
                <a:lnTo>
                  <a:pt x="2482" y="2705"/>
                </a:lnTo>
                <a:lnTo>
                  <a:pt x="2576" y="2668"/>
                </a:lnTo>
                <a:lnTo>
                  <a:pt x="2669" y="2629"/>
                </a:lnTo>
                <a:lnTo>
                  <a:pt x="2762" y="2586"/>
                </a:lnTo>
                <a:lnTo>
                  <a:pt x="2852" y="2540"/>
                </a:lnTo>
                <a:lnTo>
                  <a:pt x="2942" y="2492"/>
                </a:lnTo>
                <a:lnTo>
                  <a:pt x="3030" y="2438"/>
                </a:lnTo>
                <a:lnTo>
                  <a:pt x="3117" y="2382"/>
                </a:lnTo>
                <a:lnTo>
                  <a:pt x="3201" y="2321"/>
                </a:lnTo>
                <a:lnTo>
                  <a:pt x="3284" y="2255"/>
                </a:lnTo>
                <a:lnTo>
                  <a:pt x="3310" y="2234"/>
                </a:lnTo>
                <a:lnTo>
                  <a:pt x="3336" y="2210"/>
                </a:lnTo>
                <a:lnTo>
                  <a:pt x="3362" y="2185"/>
                </a:lnTo>
                <a:lnTo>
                  <a:pt x="3388" y="2160"/>
                </a:lnTo>
                <a:lnTo>
                  <a:pt x="3415" y="2133"/>
                </a:lnTo>
                <a:lnTo>
                  <a:pt x="3441" y="2105"/>
                </a:lnTo>
                <a:lnTo>
                  <a:pt x="3467" y="2076"/>
                </a:lnTo>
                <a:lnTo>
                  <a:pt x="3494" y="2046"/>
                </a:lnTo>
                <a:lnTo>
                  <a:pt x="3521" y="2016"/>
                </a:lnTo>
                <a:lnTo>
                  <a:pt x="3549" y="1983"/>
                </a:lnTo>
                <a:lnTo>
                  <a:pt x="3575" y="1949"/>
                </a:lnTo>
                <a:lnTo>
                  <a:pt x="3603" y="1915"/>
                </a:lnTo>
                <a:lnTo>
                  <a:pt x="3660" y="1841"/>
                </a:lnTo>
                <a:lnTo>
                  <a:pt x="3717" y="1763"/>
                </a:lnTo>
                <a:lnTo>
                  <a:pt x="3776" y="1679"/>
                </a:lnTo>
                <a:lnTo>
                  <a:pt x="3838" y="1591"/>
                </a:lnTo>
                <a:lnTo>
                  <a:pt x="3900" y="1497"/>
                </a:lnTo>
                <a:lnTo>
                  <a:pt x="3966" y="1399"/>
                </a:lnTo>
                <a:lnTo>
                  <a:pt x="4034" y="1294"/>
                </a:lnTo>
                <a:lnTo>
                  <a:pt x="4106" y="1184"/>
                </a:lnTo>
                <a:lnTo>
                  <a:pt x="4179" y="1068"/>
                </a:lnTo>
                <a:lnTo>
                  <a:pt x="4257" y="947"/>
                </a:lnTo>
                <a:lnTo>
                  <a:pt x="4307" y="879"/>
                </a:lnTo>
                <a:lnTo>
                  <a:pt x="4359" y="802"/>
                </a:lnTo>
                <a:lnTo>
                  <a:pt x="4417" y="719"/>
                </a:lnTo>
                <a:lnTo>
                  <a:pt x="4476" y="632"/>
                </a:lnTo>
                <a:lnTo>
                  <a:pt x="4507" y="589"/>
                </a:lnTo>
                <a:lnTo>
                  <a:pt x="4539" y="546"/>
                </a:lnTo>
                <a:lnTo>
                  <a:pt x="4571" y="503"/>
                </a:lnTo>
                <a:lnTo>
                  <a:pt x="4603" y="462"/>
                </a:lnTo>
                <a:lnTo>
                  <a:pt x="4636" y="420"/>
                </a:lnTo>
                <a:lnTo>
                  <a:pt x="4669" y="381"/>
                </a:lnTo>
                <a:lnTo>
                  <a:pt x="4703" y="344"/>
                </a:lnTo>
                <a:lnTo>
                  <a:pt x="4736" y="310"/>
                </a:lnTo>
                <a:lnTo>
                  <a:pt x="4748" y="299"/>
                </a:lnTo>
                <a:lnTo>
                  <a:pt x="4759" y="289"/>
                </a:lnTo>
                <a:lnTo>
                  <a:pt x="4772" y="280"/>
                </a:lnTo>
                <a:lnTo>
                  <a:pt x="4784" y="270"/>
                </a:lnTo>
                <a:lnTo>
                  <a:pt x="4796" y="262"/>
                </a:lnTo>
                <a:lnTo>
                  <a:pt x="4810" y="254"/>
                </a:lnTo>
                <a:lnTo>
                  <a:pt x="4823" y="248"/>
                </a:lnTo>
                <a:lnTo>
                  <a:pt x="4835" y="240"/>
                </a:lnTo>
                <a:lnTo>
                  <a:pt x="4862" y="229"/>
                </a:lnTo>
                <a:lnTo>
                  <a:pt x="4890" y="219"/>
                </a:lnTo>
                <a:lnTo>
                  <a:pt x="4918" y="210"/>
                </a:lnTo>
                <a:lnTo>
                  <a:pt x="4945" y="201"/>
                </a:lnTo>
                <a:lnTo>
                  <a:pt x="5001" y="189"/>
                </a:lnTo>
                <a:lnTo>
                  <a:pt x="5056" y="177"/>
                </a:lnTo>
                <a:lnTo>
                  <a:pt x="5082" y="169"/>
                </a:lnTo>
                <a:lnTo>
                  <a:pt x="5108" y="163"/>
                </a:lnTo>
                <a:lnTo>
                  <a:pt x="5133" y="155"/>
                </a:lnTo>
                <a:lnTo>
                  <a:pt x="5156" y="146"/>
                </a:lnTo>
                <a:lnTo>
                  <a:pt x="5136" y="126"/>
                </a:lnTo>
                <a:lnTo>
                  <a:pt x="5115" y="108"/>
                </a:lnTo>
                <a:lnTo>
                  <a:pt x="5094" y="91"/>
                </a:lnTo>
                <a:lnTo>
                  <a:pt x="5071" y="76"/>
                </a:lnTo>
                <a:lnTo>
                  <a:pt x="5048" y="61"/>
                </a:lnTo>
                <a:lnTo>
                  <a:pt x="5026" y="50"/>
                </a:lnTo>
                <a:lnTo>
                  <a:pt x="5002" y="39"/>
                </a:lnTo>
                <a:lnTo>
                  <a:pt x="4978" y="30"/>
                </a:lnTo>
                <a:lnTo>
                  <a:pt x="4954" y="21"/>
                </a:lnTo>
                <a:lnTo>
                  <a:pt x="4929" y="14"/>
                </a:lnTo>
                <a:lnTo>
                  <a:pt x="4904" y="9"/>
                </a:lnTo>
                <a:lnTo>
                  <a:pt x="4879" y="5"/>
                </a:lnTo>
                <a:lnTo>
                  <a:pt x="4853" y="2"/>
                </a:lnTo>
                <a:lnTo>
                  <a:pt x="4827" y="1"/>
                </a:lnTo>
                <a:lnTo>
                  <a:pt x="4800" y="0"/>
                </a:lnTo>
                <a:lnTo>
                  <a:pt x="4774" y="1"/>
                </a:lnTo>
                <a:lnTo>
                  <a:pt x="4746" y="3"/>
                </a:lnTo>
                <a:lnTo>
                  <a:pt x="4718" y="6"/>
                </a:lnTo>
                <a:lnTo>
                  <a:pt x="4690" y="10"/>
                </a:lnTo>
                <a:lnTo>
                  <a:pt x="4663" y="15"/>
                </a:lnTo>
                <a:lnTo>
                  <a:pt x="4634" y="21"/>
                </a:lnTo>
                <a:lnTo>
                  <a:pt x="4605" y="29"/>
                </a:lnTo>
                <a:lnTo>
                  <a:pt x="4576" y="37"/>
                </a:lnTo>
                <a:lnTo>
                  <a:pt x="4546" y="46"/>
                </a:lnTo>
                <a:lnTo>
                  <a:pt x="4517" y="56"/>
                </a:lnTo>
                <a:lnTo>
                  <a:pt x="4487" y="68"/>
                </a:lnTo>
                <a:lnTo>
                  <a:pt x="4456" y="80"/>
                </a:lnTo>
                <a:lnTo>
                  <a:pt x="4426" y="92"/>
                </a:lnTo>
                <a:lnTo>
                  <a:pt x="4395" y="106"/>
                </a:lnTo>
                <a:lnTo>
                  <a:pt x="4364" y="121"/>
                </a:lnTo>
                <a:lnTo>
                  <a:pt x="4332" y="136"/>
                </a:lnTo>
                <a:lnTo>
                  <a:pt x="4302" y="152"/>
                </a:lnTo>
                <a:lnTo>
                  <a:pt x="4092" y="154"/>
                </a:lnTo>
                <a:lnTo>
                  <a:pt x="3883" y="156"/>
                </a:lnTo>
                <a:lnTo>
                  <a:pt x="3677" y="160"/>
                </a:lnTo>
                <a:lnTo>
                  <a:pt x="3474" y="166"/>
                </a:lnTo>
                <a:lnTo>
                  <a:pt x="3272" y="175"/>
                </a:lnTo>
                <a:lnTo>
                  <a:pt x="3073" y="186"/>
                </a:lnTo>
                <a:lnTo>
                  <a:pt x="2878" y="201"/>
                </a:lnTo>
                <a:lnTo>
                  <a:pt x="2687" y="220"/>
                </a:lnTo>
                <a:lnTo>
                  <a:pt x="2499" y="244"/>
                </a:lnTo>
                <a:lnTo>
                  <a:pt x="2316" y="272"/>
                </a:lnTo>
                <a:lnTo>
                  <a:pt x="2137" y="306"/>
                </a:lnTo>
                <a:lnTo>
                  <a:pt x="1965" y="347"/>
                </a:lnTo>
                <a:lnTo>
                  <a:pt x="1796" y="395"/>
                </a:lnTo>
                <a:lnTo>
                  <a:pt x="1634" y="449"/>
                </a:lnTo>
                <a:lnTo>
                  <a:pt x="1478" y="512"/>
                </a:lnTo>
                <a:lnTo>
                  <a:pt x="1329" y="582"/>
                </a:lnTo>
                <a:lnTo>
                  <a:pt x="1186" y="662"/>
                </a:lnTo>
                <a:lnTo>
                  <a:pt x="1050" y="751"/>
                </a:lnTo>
                <a:lnTo>
                  <a:pt x="922" y="849"/>
                </a:lnTo>
                <a:lnTo>
                  <a:pt x="802" y="959"/>
                </a:lnTo>
                <a:lnTo>
                  <a:pt x="690" y="1080"/>
                </a:lnTo>
                <a:lnTo>
                  <a:pt x="586" y="1211"/>
                </a:lnTo>
                <a:lnTo>
                  <a:pt x="492" y="1355"/>
                </a:lnTo>
                <a:lnTo>
                  <a:pt x="406" y="1513"/>
                </a:lnTo>
                <a:lnTo>
                  <a:pt x="331" y="1682"/>
                </a:lnTo>
                <a:lnTo>
                  <a:pt x="265" y="1865"/>
                </a:lnTo>
                <a:lnTo>
                  <a:pt x="210" y="2064"/>
                </a:lnTo>
                <a:lnTo>
                  <a:pt x="166" y="2276"/>
                </a:lnTo>
                <a:lnTo>
                  <a:pt x="132" y="2504"/>
                </a:lnTo>
                <a:lnTo>
                  <a:pt x="109" y="2747"/>
                </a:lnTo>
                <a:lnTo>
                  <a:pt x="99" y="3007"/>
                </a:lnTo>
                <a:lnTo>
                  <a:pt x="100" y="3284"/>
                </a:lnTo>
                <a:lnTo>
                  <a:pt x="85" y="3325"/>
                </a:lnTo>
                <a:lnTo>
                  <a:pt x="73" y="3365"/>
                </a:lnTo>
                <a:lnTo>
                  <a:pt x="61" y="3403"/>
                </a:lnTo>
                <a:lnTo>
                  <a:pt x="49" y="3441"/>
                </a:lnTo>
                <a:lnTo>
                  <a:pt x="39" y="3477"/>
                </a:lnTo>
                <a:lnTo>
                  <a:pt x="31" y="3512"/>
                </a:lnTo>
                <a:lnTo>
                  <a:pt x="23" y="3547"/>
                </a:lnTo>
                <a:lnTo>
                  <a:pt x="16" y="3580"/>
                </a:lnTo>
                <a:lnTo>
                  <a:pt x="11" y="3612"/>
                </a:lnTo>
                <a:lnTo>
                  <a:pt x="6" y="3643"/>
                </a:lnTo>
                <a:lnTo>
                  <a:pt x="3" y="3673"/>
                </a:lnTo>
                <a:lnTo>
                  <a:pt x="1" y="3701"/>
                </a:lnTo>
                <a:lnTo>
                  <a:pt x="0" y="3728"/>
                </a:lnTo>
                <a:lnTo>
                  <a:pt x="0" y="3755"/>
                </a:lnTo>
                <a:lnTo>
                  <a:pt x="1" y="3781"/>
                </a:lnTo>
                <a:lnTo>
                  <a:pt x="3" y="3804"/>
                </a:lnTo>
              </a:path>
            </a:pathLst>
          </a:custGeom>
          <a:solidFill>
            <a:srgbClr val="2a4caa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rot="14371200">
            <a:off x="7007400" y="890280"/>
            <a:ext cx="428760" cy="200160"/>
          </a:xfrm>
          <a:custGeom>
            <a:avLst/>
            <a:gdLst/>
            <a:ahLst/>
            <a:rect l="l" t="t" r="r" b="b"/>
            <a:pathLst>
              <a:path w="2928" h="1244">
                <a:moveTo>
                  <a:pt x="23" y="679"/>
                </a:moveTo>
                <a:lnTo>
                  <a:pt x="14" y="690"/>
                </a:lnTo>
                <a:lnTo>
                  <a:pt x="8" y="699"/>
                </a:lnTo>
                <a:lnTo>
                  <a:pt x="3" y="706"/>
                </a:lnTo>
                <a:lnTo>
                  <a:pt x="1" y="713"/>
                </a:lnTo>
                <a:lnTo>
                  <a:pt x="0" y="719"/>
                </a:lnTo>
                <a:lnTo>
                  <a:pt x="2" y="724"/>
                </a:lnTo>
                <a:lnTo>
                  <a:pt x="4" y="727"/>
                </a:lnTo>
                <a:lnTo>
                  <a:pt x="9" y="730"/>
                </a:lnTo>
                <a:lnTo>
                  <a:pt x="14" y="732"/>
                </a:lnTo>
                <a:lnTo>
                  <a:pt x="20" y="733"/>
                </a:lnTo>
                <a:lnTo>
                  <a:pt x="26" y="734"/>
                </a:lnTo>
                <a:lnTo>
                  <a:pt x="33" y="734"/>
                </a:lnTo>
                <a:lnTo>
                  <a:pt x="48" y="732"/>
                </a:lnTo>
                <a:lnTo>
                  <a:pt x="61" y="729"/>
                </a:lnTo>
                <a:lnTo>
                  <a:pt x="96" y="723"/>
                </a:lnTo>
                <a:lnTo>
                  <a:pt x="133" y="717"/>
                </a:lnTo>
                <a:lnTo>
                  <a:pt x="172" y="711"/>
                </a:lnTo>
                <a:lnTo>
                  <a:pt x="211" y="706"/>
                </a:lnTo>
                <a:lnTo>
                  <a:pt x="251" y="702"/>
                </a:lnTo>
                <a:lnTo>
                  <a:pt x="290" y="698"/>
                </a:lnTo>
                <a:lnTo>
                  <a:pt x="327" y="694"/>
                </a:lnTo>
                <a:lnTo>
                  <a:pt x="362" y="691"/>
                </a:lnTo>
                <a:lnTo>
                  <a:pt x="394" y="698"/>
                </a:lnTo>
                <a:lnTo>
                  <a:pt x="426" y="708"/>
                </a:lnTo>
                <a:lnTo>
                  <a:pt x="458" y="720"/>
                </a:lnTo>
                <a:lnTo>
                  <a:pt x="491" y="733"/>
                </a:lnTo>
                <a:lnTo>
                  <a:pt x="524" y="748"/>
                </a:lnTo>
                <a:lnTo>
                  <a:pt x="558" y="764"/>
                </a:lnTo>
                <a:lnTo>
                  <a:pt x="592" y="781"/>
                </a:lnTo>
                <a:lnTo>
                  <a:pt x="627" y="801"/>
                </a:lnTo>
                <a:lnTo>
                  <a:pt x="697" y="841"/>
                </a:lnTo>
                <a:lnTo>
                  <a:pt x="769" y="884"/>
                </a:lnTo>
                <a:lnTo>
                  <a:pt x="843" y="929"/>
                </a:lnTo>
                <a:lnTo>
                  <a:pt x="919" y="976"/>
                </a:lnTo>
                <a:lnTo>
                  <a:pt x="958" y="999"/>
                </a:lnTo>
                <a:lnTo>
                  <a:pt x="997" y="1022"/>
                </a:lnTo>
                <a:lnTo>
                  <a:pt x="1037" y="1045"/>
                </a:lnTo>
                <a:lnTo>
                  <a:pt x="1078" y="1066"/>
                </a:lnTo>
                <a:lnTo>
                  <a:pt x="1119" y="1088"/>
                </a:lnTo>
                <a:lnTo>
                  <a:pt x="1161" y="1108"/>
                </a:lnTo>
                <a:lnTo>
                  <a:pt x="1204" y="1128"/>
                </a:lnTo>
                <a:lnTo>
                  <a:pt x="1247" y="1146"/>
                </a:lnTo>
                <a:lnTo>
                  <a:pt x="1290" y="1164"/>
                </a:lnTo>
                <a:lnTo>
                  <a:pt x="1334" y="1179"/>
                </a:lnTo>
                <a:lnTo>
                  <a:pt x="1380" y="1195"/>
                </a:lnTo>
                <a:lnTo>
                  <a:pt x="1426" y="1208"/>
                </a:lnTo>
                <a:lnTo>
                  <a:pt x="1472" y="1219"/>
                </a:lnTo>
                <a:lnTo>
                  <a:pt x="1520" y="1229"/>
                </a:lnTo>
                <a:lnTo>
                  <a:pt x="1568" y="1236"/>
                </a:lnTo>
                <a:lnTo>
                  <a:pt x="1616" y="1241"/>
                </a:lnTo>
                <a:lnTo>
                  <a:pt x="1648" y="1243"/>
                </a:lnTo>
                <a:lnTo>
                  <a:pt x="1682" y="1244"/>
                </a:lnTo>
                <a:lnTo>
                  <a:pt x="1717" y="1243"/>
                </a:lnTo>
                <a:lnTo>
                  <a:pt x="1754" y="1241"/>
                </a:lnTo>
                <a:lnTo>
                  <a:pt x="1793" y="1238"/>
                </a:lnTo>
                <a:lnTo>
                  <a:pt x="1833" y="1233"/>
                </a:lnTo>
                <a:lnTo>
                  <a:pt x="1877" y="1228"/>
                </a:lnTo>
                <a:lnTo>
                  <a:pt x="1921" y="1220"/>
                </a:lnTo>
                <a:lnTo>
                  <a:pt x="1968" y="1212"/>
                </a:lnTo>
                <a:lnTo>
                  <a:pt x="2017" y="1203"/>
                </a:lnTo>
                <a:lnTo>
                  <a:pt x="2069" y="1193"/>
                </a:lnTo>
                <a:lnTo>
                  <a:pt x="2123" y="1181"/>
                </a:lnTo>
                <a:lnTo>
                  <a:pt x="2180" y="1169"/>
                </a:lnTo>
                <a:lnTo>
                  <a:pt x="2240" y="1156"/>
                </a:lnTo>
                <a:lnTo>
                  <a:pt x="2301" y="1142"/>
                </a:lnTo>
                <a:lnTo>
                  <a:pt x="2367" y="1127"/>
                </a:lnTo>
                <a:lnTo>
                  <a:pt x="2405" y="1121"/>
                </a:lnTo>
                <a:lnTo>
                  <a:pt x="2448" y="1112"/>
                </a:lnTo>
                <a:lnTo>
                  <a:pt x="2495" y="1104"/>
                </a:lnTo>
                <a:lnTo>
                  <a:pt x="2543" y="1095"/>
                </a:lnTo>
                <a:lnTo>
                  <a:pt x="2591" y="1087"/>
                </a:lnTo>
                <a:lnTo>
                  <a:pt x="2641" y="1080"/>
                </a:lnTo>
                <a:lnTo>
                  <a:pt x="2666" y="1077"/>
                </a:lnTo>
                <a:lnTo>
                  <a:pt x="2689" y="1075"/>
                </a:lnTo>
                <a:lnTo>
                  <a:pt x="2712" y="1073"/>
                </a:lnTo>
                <a:lnTo>
                  <a:pt x="2734" y="1073"/>
                </a:lnTo>
                <a:lnTo>
                  <a:pt x="2749" y="1073"/>
                </a:lnTo>
                <a:lnTo>
                  <a:pt x="2763" y="1075"/>
                </a:lnTo>
                <a:lnTo>
                  <a:pt x="2777" y="1078"/>
                </a:lnTo>
                <a:lnTo>
                  <a:pt x="2790" y="1083"/>
                </a:lnTo>
                <a:lnTo>
                  <a:pt x="2803" y="1088"/>
                </a:lnTo>
                <a:lnTo>
                  <a:pt x="2816" y="1093"/>
                </a:lnTo>
                <a:lnTo>
                  <a:pt x="2827" y="1099"/>
                </a:lnTo>
                <a:lnTo>
                  <a:pt x="2839" y="1106"/>
                </a:lnTo>
                <a:lnTo>
                  <a:pt x="2862" y="1120"/>
                </a:lnTo>
                <a:lnTo>
                  <a:pt x="2884" y="1133"/>
                </a:lnTo>
                <a:lnTo>
                  <a:pt x="2906" y="1146"/>
                </a:lnTo>
                <a:lnTo>
                  <a:pt x="2928" y="1157"/>
                </a:lnTo>
                <a:lnTo>
                  <a:pt x="2927" y="1143"/>
                </a:lnTo>
                <a:lnTo>
                  <a:pt x="2926" y="1130"/>
                </a:lnTo>
                <a:lnTo>
                  <a:pt x="2925" y="1118"/>
                </a:lnTo>
                <a:lnTo>
                  <a:pt x="2922" y="1105"/>
                </a:lnTo>
                <a:lnTo>
                  <a:pt x="2920" y="1093"/>
                </a:lnTo>
                <a:lnTo>
                  <a:pt x="2915" y="1082"/>
                </a:lnTo>
                <a:lnTo>
                  <a:pt x="2911" y="1070"/>
                </a:lnTo>
                <a:lnTo>
                  <a:pt x="2906" y="1060"/>
                </a:lnTo>
                <a:lnTo>
                  <a:pt x="2901" y="1049"/>
                </a:lnTo>
                <a:lnTo>
                  <a:pt x="2895" y="1038"/>
                </a:lnTo>
                <a:lnTo>
                  <a:pt x="2889" y="1029"/>
                </a:lnTo>
                <a:lnTo>
                  <a:pt x="2882" y="1019"/>
                </a:lnTo>
                <a:lnTo>
                  <a:pt x="2874" y="1010"/>
                </a:lnTo>
                <a:lnTo>
                  <a:pt x="2866" y="1000"/>
                </a:lnTo>
                <a:lnTo>
                  <a:pt x="2857" y="991"/>
                </a:lnTo>
                <a:lnTo>
                  <a:pt x="2848" y="983"/>
                </a:lnTo>
                <a:lnTo>
                  <a:pt x="2828" y="966"/>
                </a:lnTo>
                <a:lnTo>
                  <a:pt x="2806" y="951"/>
                </a:lnTo>
                <a:lnTo>
                  <a:pt x="2783" y="938"/>
                </a:lnTo>
                <a:lnTo>
                  <a:pt x="2758" y="923"/>
                </a:lnTo>
                <a:lnTo>
                  <a:pt x="2731" y="911"/>
                </a:lnTo>
                <a:lnTo>
                  <a:pt x="2703" y="900"/>
                </a:lnTo>
                <a:lnTo>
                  <a:pt x="2674" y="888"/>
                </a:lnTo>
                <a:lnTo>
                  <a:pt x="2642" y="878"/>
                </a:lnTo>
                <a:lnTo>
                  <a:pt x="2572" y="810"/>
                </a:lnTo>
                <a:lnTo>
                  <a:pt x="2503" y="743"/>
                </a:lnTo>
                <a:lnTo>
                  <a:pt x="2433" y="676"/>
                </a:lnTo>
                <a:lnTo>
                  <a:pt x="2363" y="612"/>
                </a:lnTo>
                <a:lnTo>
                  <a:pt x="2294" y="549"/>
                </a:lnTo>
                <a:lnTo>
                  <a:pt x="2224" y="487"/>
                </a:lnTo>
                <a:lnTo>
                  <a:pt x="2155" y="428"/>
                </a:lnTo>
                <a:lnTo>
                  <a:pt x="2085" y="372"/>
                </a:lnTo>
                <a:lnTo>
                  <a:pt x="2015" y="318"/>
                </a:lnTo>
                <a:lnTo>
                  <a:pt x="1945" y="268"/>
                </a:lnTo>
                <a:lnTo>
                  <a:pt x="1876" y="221"/>
                </a:lnTo>
                <a:lnTo>
                  <a:pt x="1805" y="178"/>
                </a:lnTo>
                <a:lnTo>
                  <a:pt x="1734" y="138"/>
                </a:lnTo>
                <a:lnTo>
                  <a:pt x="1662" y="103"/>
                </a:lnTo>
                <a:lnTo>
                  <a:pt x="1590" y="73"/>
                </a:lnTo>
                <a:lnTo>
                  <a:pt x="1518" y="47"/>
                </a:lnTo>
                <a:lnTo>
                  <a:pt x="1444" y="26"/>
                </a:lnTo>
                <a:lnTo>
                  <a:pt x="1369" y="12"/>
                </a:lnTo>
                <a:lnTo>
                  <a:pt x="1295" y="3"/>
                </a:lnTo>
                <a:lnTo>
                  <a:pt x="1219" y="0"/>
                </a:lnTo>
                <a:lnTo>
                  <a:pt x="1143" y="3"/>
                </a:lnTo>
                <a:lnTo>
                  <a:pt x="1065" y="12"/>
                </a:lnTo>
                <a:lnTo>
                  <a:pt x="987" y="29"/>
                </a:lnTo>
                <a:lnTo>
                  <a:pt x="908" y="53"/>
                </a:lnTo>
                <a:lnTo>
                  <a:pt x="826" y="84"/>
                </a:lnTo>
                <a:lnTo>
                  <a:pt x="745" y="124"/>
                </a:lnTo>
                <a:lnTo>
                  <a:pt x="662" y="171"/>
                </a:lnTo>
                <a:lnTo>
                  <a:pt x="577" y="227"/>
                </a:lnTo>
                <a:lnTo>
                  <a:pt x="491" y="291"/>
                </a:lnTo>
                <a:lnTo>
                  <a:pt x="404" y="365"/>
                </a:lnTo>
                <a:lnTo>
                  <a:pt x="315" y="447"/>
                </a:lnTo>
                <a:lnTo>
                  <a:pt x="226" y="539"/>
                </a:lnTo>
                <a:lnTo>
                  <a:pt x="190" y="557"/>
                </a:lnTo>
                <a:lnTo>
                  <a:pt x="157" y="575"/>
                </a:lnTo>
                <a:lnTo>
                  <a:pt x="128" y="592"/>
                </a:lnTo>
                <a:lnTo>
                  <a:pt x="101" y="609"/>
                </a:lnTo>
                <a:lnTo>
                  <a:pt x="76" y="627"/>
                </a:lnTo>
                <a:lnTo>
                  <a:pt x="56" y="644"/>
                </a:lnTo>
                <a:lnTo>
                  <a:pt x="47" y="654"/>
                </a:lnTo>
                <a:lnTo>
                  <a:pt x="37" y="662"/>
                </a:lnTo>
                <a:lnTo>
                  <a:pt x="30" y="671"/>
                </a:lnTo>
                <a:lnTo>
                  <a:pt x="23" y="679"/>
                </a:lnTo>
              </a:path>
            </a:pathLst>
          </a:custGeom>
          <a:solidFill>
            <a:srgbClr val="003366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rot="14371200">
            <a:off x="6294960" y="237240"/>
            <a:ext cx="212760" cy="50508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003366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rot="14371200">
            <a:off x="6450840" y="541440"/>
            <a:ext cx="752400" cy="606240"/>
          </a:xfrm>
          <a:custGeom>
            <a:avLst/>
            <a:gdLst/>
            <a:ahLst/>
            <a:rect l="l" t="t" r="r" b="b"/>
            <a:pathLst>
              <a:path w="5156" h="3904">
                <a:moveTo>
                  <a:pt x="3" y="3804"/>
                </a:moveTo>
                <a:lnTo>
                  <a:pt x="4" y="3820"/>
                </a:lnTo>
                <a:lnTo>
                  <a:pt x="5" y="3833"/>
                </a:lnTo>
                <a:lnTo>
                  <a:pt x="7" y="3845"/>
                </a:lnTo>
                <a:lnTo>
                  <a:pt x="9" y="3857"/>
                </a:lnTo>
                <a:lnTo>
                  <a:pt x="11" y="3866"/>
                </a:lnTo>
                <a:lnTo>
                  <a:pt x="14" y="3875"/>
                </a:lnTo>
                <a:lnTo>
                  <a:pt x="17" y="3882"/>
                </a:lnTo>
                <a:lnTo>
                  <a:pt x="20" y="3889"/>
                </a:lnTo>
                <a:lnTo>
                  <a:pt x="25" y="3894"/>
                </a:lnTo>
                <a:lnTo>
                  <a:pt x="29" y="3898"/>
                </a:lnTo>
                <a:lnTo>
                  <a:pt x="33" y="3900"/>
                </a:lnTo>
                <a:lnTo>
                  <a:pt x="38" y="3903"/>
                </a:lnTo>
                <a:lnTo>
                  <a:pt x="43" y="3904"/>
                </a:lnTo>
                <a:lnTo>
                  <a:pt x="47" y="3904"/>
                </a:lnTo>
                <a:lnTo>
                  <a:pt x="52" y="3904"/>
                </a:lnTo>
                <a:lnTo>
                  <a:pt x="57" y="3902"/>
                </a:lnTo>
                <a:lnTo>
                  <a:pt x="64" y="3901"/>
                </a:lnTo>
                <a:lnTo>
                  <a:pt x="69" y="3898"/>
                </a:lnTo>
                <a:lnTo>
                  <a:pt x="74" y="3895"/>
                </a:lnTo>
                <a:lnTo>
                  <a:pt x="79" y="3892"/>
                </a:lnTo>
                <a:lnTo>
                  <a:pt x="90" y="3882"/>
                </a:lnTo>
                <a:lnTo>
                  <a:pt x="101" y="3872"/>
                </a:lnTo>
                <a:lnTo>
                  <a:pt x="111" y="3861"/>
                </a:lnTo>
                <a:lnTo>
                  <a:pt x="120" y="3847"/>
                </a:lnTo>
                <a:lnTo>
                  <a:pt x="128" y="3835"/>
                </a:lnTo>
                <a:lnTo>
                  <a:pt x="136" y="3822"/>
                </a:lnTo>
                <a:lnTo>
                  <a:pt x="180" y="3760"/>
                </a:lnTo>
                <a:lnTo>
                  <a:pt x="228" y="3695"/>
                </a:lnTo>
                <a:lnTo>
                  <a:pt x="280" y="3628"/>
                </a:lnTo>
                <a:lnTo>
                  <a:pt x="332" y="3560"/>
                </a:lnTo>
                <a:lnTo>
                  <a:pt x="386" y="3494"/>
                </a:lnTo>
                <a:lnTo>
                  <a:pt x="439" y="3429"/>
                </a:lnTo>
                <a:lnTo>
                  <a:pt x="490" y="3366"/>
                </a:lnTo>
                <a:lnTo>
                  <a:pt x="538" y="3308"/>
                </a:lnTo>
                <a:lnTo>
                  <a:pt x="598" y="3272"/>
                </a:lnTo>
                <a:lnTo>
                  <a:pt x="661" y="3239"/>
                </a:lnTo>
                <a:lnTo>
                  <a:pt x="728" y="3208"/>
                </a:lnTo>
                <a:lnTo>
                  <a:pt x="799" y="3179"/>
                </a:lnTo>
                <a:lnTo>
                  <a:pt x="872" y="3151"/>
                </a:lnTo>
                <a:lnTo>
                  <a:pt x="948" y="3125"/>
                </a:lnTo>
                <a:lnTo>
                  <a:pt x="1026" y="3101"/>
                </a:lnTo>
                <a:lnTo>
                  <a:pt x="1108" y="3077"/>
                </a:lnTo>
                <a:lnTo>
                  <a:pt x="1190" y="3054"/>
                </a:lnTo>
                <a:lnTo>
                  <a:pt x="1275" y="3033"/>
                </a:lnTo>
                <a:lnTo>
                  <a:pt x="1363" y="3011"/>
                </a:lnTo>
                <a:lnTo>
                  <a:pt x="1451" y="2991"/>
                </a:lnTo>
                <a:lnTo>
                  <a:pt x="1632" y="2947"/>
                </a:lnTo>
                <a:lnTo>
                  <a:pt x="1818" y="2903"/>
                </a:lnTo>
                <a:lnTo>
                  <a:pt x="1913" y="2880"/>
                </a:lnTo>
                <a:lnTo>
                  <a:pt x="2008" y="2855"/>
                </a:lnTo>
                <a:lnTo>
                  <a:pt x="2102" y="2828"/>
                </a:lnTo>
                <a:lnTo>
                  <a:pt x="2198" y="2800"/>
                </a:lnTo>
                <a:lnTo>
                  <a:pt x="2293" y="2771"/>
                </a:lnTo>
                <a:lnTo>
                  <a:pt x="2387" y="2739"/>
                </a:lnTo>
                <a:lnTo>
                  <a:pt x="2482" y="2705"/>
                </a:lnTo>
                <a:lnTo>
                  <a:pt x="2576" y="2668"/>
                </a:lnTo>
                <a:lnTo>
                  <a:pt x="2669" y="2629"/>
                </a:lnTo>
                <a:lnTo>
                  <a:pt x="2762" y="2586"/>
                </a:lnTo>
                <a:lnTo>
                  <a:pt x="2852" y="2540"/>
                </a:lnTo>
                <a:lnTo>
                  <a:pt x="2942" y="2492"/>
                </a:lnTo>
                <a:lnTo>
                  <a:pt x="3030" y="2438"/>
                </a:lnTo>
                <a:lnTo>
                  <a:pt x="3117" y="2382"/>
                </a:lnTo>
                <a:lnTo>
                  <a:pt x="3201" y="2321"/>
                </a:lnTo>
                <a:lnTo>
                  <a:pt x="3284" y="2255"/>
                </a:lnTo>
                <a:lnTo>
                  <a:pt x="3310" y="2234"/>
                </a:lnTo>
                <a:lnTo>
                  <a:pt x="3336" y="2210"/>
                </a:lnTo>
                <a:lnTo>
                  <a:pt x="3362" y="2185"/>
                </a:lnTo>
                <a:lnTo>
                  <a:pt x="3388" y="2160"/>
                </a:lnTo>
                <a:lnTo>
                  <a:pt x="3415" y="2133"/>
                </a:lnTo>
                <a:lnTo>
                  <a:pt x="3441" y="2105"/>
                </a:lnTo>
                <a:lnTo>
                  <a:pt x="3467" y="2076"/>
                </a:lnTo>
                <a:lnTo>
                  <a:pt x="3494" y="2046"/>
                </a:lnTo>
                <a:lnTo>
                  <a:pt x="3521" y="2016"/>
                </a:lnTo>
                <a:lnTo>
                  <a:pt x="3549" y="1983"/>
                </a:lnTo>
                <a:lnTo>
                  <a:pt x="3575" y="1949"/>
                </a:lnTo>
                <a:lnTo>
                  <a:pt x="3603" y="1915"/>
                </a:lnTo>
                <a:lnTo>
                  <a:pt x="3660" y="1841"/>
                </a:lnTo>
                <a:lnTo>
                  <a:pt x="3717" y="1763"/>
                </a:lnTo>
                <a:lnTo>
                  <a:pt x="3776" y="1679"/>
                </a:lnTo>
                <a:lnTo>
                  <a:pt x="3838" y="1591"/>
                </a:lnTo>
                <a:lnTo>
                  <a:pt x="3900" y="1497"/>
                </a:lnTo>
                <a:lnTo>
                  <a:pt x="3966" y="1399"/>
                </a:lnTo>
                <a:lnTo>
                  <a:pt x="4034" y="1294"/>
                </a:lnTo>
                <a:lnTo>
                  <a:pt x="4106" y="1184"/>
                </a:lnTo>
                <a:lnTo>
                  <a:pt x="4179" y="1068"/>
                </a:lnTo>
                <a:lnTo>
                  <a:pt x="4257" y="947"/>
                </a:lnTo>
                <a:lnTo>
                  <a:pt x="4307" y="879"/>
                </a:lnTo>
                <a:lnTo>
                  <a:pt x="4359" y="802"/>
                </a:lnTo>
                <a:lnTo>
                  <a:pt x="4417" y="719"/>
                </a:lnTo>
                <a:lnTo>
                  <a:pt x="4476" y="632"/>
                </a:lnTo>
                <a:lnTo>
                  <a:pt x="4507" y="589"/>
                </a:lnTo>
                <a:lnTo>
                  <a:pt x="4539" y="546"/>
                </a:lnTo>
                <a:lnTo>
                  <a:pt x="4571" y="503"/>
                </a:lnTo>
                <a:lnTo>
                  <a:pt x="4603" y="462"/>
                </a:lnTo>
                <a:lnTo>
                  <a:pt x="4636" y="420"/>
                </a:lnTo>
                <a:lnTo>
                  <a:pt x="4669" y="381"/>
                </a:lnTo>
                <a:lnTo>
                  <a:pt x="4703" y="344"/>
                </a:lnTo>
                <a:lnTo>
                  <a:pt x="4736" y="310"/>
                </a:lnTo>
                <a:lnTo>
                  <a:pt x="4748" y="299"/>
                </a:lnTo>
                <a:lnTo>
                  <a:pt x="4759" y="289"/>
                </a:lnTo>
                <a:lnTo>
                  <a:pt x="4772" y="280"/>
                </a:lnTo>
                <a:lnTo>
                  <a:pt x="4784" y="270"/>
                </a:lnTo>
                <a:lnTo>
                  <a:pt x="4796" y="262"/>
                </a:lnTo>
                <a:lnTo>
                  <a:pt x="4810" y="254"/>
                </a:lnTo>
                <a:lnTo>
                  <a:pt x="4823" y="248"/>
                </a:lnTo>
                <a:lnTo>
                  <a:pt x="4835" y="240"/>
                </a:lnTo>
                <a:lnTo>
                  <a:pt x="4862" y="229"/>
                </a:lnTo>
                <a:lnTo>
                  <a:pt x="4890" y="219"/>
                </a:lnTo>
                <a:lnTo>
                  <a:pt x="4918" y="210"/>
                </a:lnTo>
                <a:lnTo>
                  <a:pt x="4945" y="201"/>
                </a:lnTo>
                <a:lnTo>
                  <a:pt x="5001" y="189"/>
                </a:lnTo>
                <a:lnTo>
                  <a:pt x="5056" y="177"/>
                </a:lnTo>
                <a:lnTo>
                  <a:pt x="5082" y="169"/>
                </a:lnTo>
                <a:lnTo>
                  <a:pt x="5108" y="163"/>
                </a:lnTo>
                <a:lnTo>
                  <a:pt x="5133" y="155"/>
                </a:lnTo>
                <a:lnTo>
                  <a:pt x="5156" y="146"/>
                </a:lnTo>
                <a:lnTo>
                  <a:pt x="5136" y="126"/>
                </a:lnTo>
                <a:lnTo>
                  <a:pt x="5115" y="108"/>
                </a:lnTo>
                <a:lnTo>
                  <a:pt x="5094" y="91"/>
                </a:lnTo>
                <a:lnTo>
                  <a:pt x="5071" y="76"/>
                </a:lnTo>
                <a:lnTo>
                  <a:pt x="5048" y="61"/>
                </a:lnTo>
                <a:lnTo>
                  <a:pt x="5026" y="50"/>
                </a:lnTo>
                <a:lnTo>
                  <a:pt x="5002" y="39"/>
                </a:lnTo>
                <a:lnTo>
                  <a:pt x="4978" y="30"/>
                </a:lnTo>
                <a:lnTo>
                  <a:pt x="4954" y="21"/>
                </a:lnTo>
                <a:lnTo>
                  <a:pt x="4929" y="14"/>
                </a:lnTo>
                <a:lnTo>
                  <a:pt x="4904" y="9"/>
                </a:lnTo>
                <a:lnTo>
                  <a:pt x="4879" y="5"/>
                </a:lnTo>
                <a:lnTo>
                  <a:pt x="4853" y="2"/>
                </a:lnTo>
                <a:lnTo>
                  <a:pt x="4827" y="1"/>
                </a:lnTo>
                <a:lnTo>
                  <a:pt x="4800" y="0"/>
                </a:lnTo>
                <a:lnTo>
                  <a:pt x="4774" y="1"/>
                </a:lnTo>
                <a:lnTo>
                  <a:pt x="4746" y="3"/>
                </a:lnTo>
                <a:lnTo>
                  <a:pt x="4718" y="6"/>
                </a:lnTo>
                <a:lnTo>
                  <a:pt x="4690" y="10"/>
                </a:lnTo>
                <a:lnTo>
                  <a:pt x="4663" y="15"/>
                </a:lnTo>
                <a:lnTo>
                  <a:pt x="4634" y="21"/>
                </a:lnTo>
                <a:lnTo>
                  <a:pt x="4605" y="29"/>
                </a:lnTo>
                <a:lnTo>
                  <a:pt x="4576" y="37"/>
                </a:lnTo>
                <a:lnTo>
                  <a:pt x="4546" y="46"/>
                </a:lnTo>
                <a:lnTo>
                  <a:pt x="4517" y="56"/>
                </a:lnTo>
                <a:lnTo>
                  <a:pt x="4487" y="68"/>
                </a:lnTo>
                <a:lnTo>
                  <a:pt x="4456" y="80"/>
                </a:lnTo>
                <a:lnTo>
                  <a:pt x="4426" y="92"/>
                </a:lnTo>
                <a:lnTo>
                  <a:pt x="4395" y="106"/>
                </a:lnTo>
                <a:lnTo>
                  <a:pt x="4364" y="121"/>
                </a:lnTo>
                <a:lnTo>
                  <a:pt x="4332" y="136"/>
                </a:lnTo>
                <a:lnTo>
                  <a:pt x="4302" y="152"/>
                </a:lnTo>
                <a:lnTo>
                  <a:pt x="4092" y="154"/>
                </a:lnTo>
                <a:lnTo>
                  <a:pt x="3883" y="156"/>
                </a:lnTo>
                <a:lnTo>
                  <a:pt x="3677" y="160"/>
                </a:lnTo>
                <a:lnTo>
                  <a:pt x="3474" y="166"/>
                </a:lnTo>
                <a:lnTo>
                  <a:pt x="3272" y="175"/>
                </a:lnTo>
                <a:lnTo>
                  <a:pt x="3073" y="186"/>
                </a:lnTo>
                <a:lnTo>
                  <a:pt x="2878" y="201"/>
                </a:lnTo>
                <a:lnTo>
                  <a:pt x="2687" y="220"/>
                </a:lnTo>
                <a:lnTo>
                  <a:pt x="2499" y="244"/>
                </a:lnTo>
                <a:lnTo>
                  <a:pt x="2316" y="272"/>
                </a:lnTo>
                <a:lnTo>
                  <a:pt x="2137" y="306"/>
                </a:lnTo>
                <a:lnTo>
                  <a:pt x="1965" y="347"/>
                </a:lnTo>
                <a:lnTo>
                  <a:pt x="1796" y="395"/>
                </a:lnTo>
                <a:lnTo>
                  <a:pt x="1634" y="449"/>
                </a:lnTo>
                <a:lnTo>
                  <a:pt x="1478" y="512"/>
                </a:lnTo>
                <a:lnTo>
                  <a:pt x="1329" y="582"/>
                </a:lnTo>
                <a:lnTo>
                  <a:pt x="1186" y="662"/>
                </a:lnTo>
                <a:lnTo>
                  <a:pt x="1050" y="751"/>
                </a:lnTo>
                <a:lnTo>
                  <a:pt x="922" y="849"/>
                </a:lnTo>
                <a:lnTo>
                  <a:pt x="802" y="959"/>
                </a:lnTo>
                <a:lnTo>
                  <a:pt x="690" y="1080"/>
                </a:lnTo>
                <a:lnTo>
                  <a:pt x="586" y="1211"/>
                </a:lnTo>
                <a:lnTo>
                  <a:pt x="492" y="1355"/>
                </a:lnTo>
                <a:lnTo>
                  <a:pt x="406" y="1513"/>
                </a:lnTo>
                <a:lnTo>
                  <a:pt x="331" y="1682"/>
                </a:lnTo>
                <a:lnTo>
                  <a:pt x="265" y="1865"/>
                </a:lnTo>
                <a:lnTo>
                  <a:pt x="210" y="2064"/>
                </a:lnTo>
                <a:lnTo>
                  <a:pt x="166" y="2276"/>
                </a:lnTo>
                <a:lnTo>
                  <a:pt x="132" y="2504"/>
                </a:lnTo>
                <a:lnTo>
                  <a:pt x="109" y="2747"/>
                </a:lnTo>
                <a:lnTo>
                  <a:pt x="99" y="3007"/>
                </a:lnTo>
                <a:lnTo>
                  <a:pt x="100" y="3284"/>
                </a:lnTo>
                <a:lnTo>
                  <a:pt x="85" y="3325"/>
                </a:lnTo>
                <a:lnTo>
                  <a:pt x="73" y="3365"/>
                </a:lnTo>
                <a:lnTo>
                  <a:pt x="61" y="3403"/>
                </a:lnTo>
                <a:lnTo>
                  <a:pt x="49" y="3441"/>
                </a:lnTo>
                <a:lnTo>
                  <a:pt x="39" y="3477"/>
                </a:lnTo>
                <a:lnTo>
                  <a:pt x="31" y="3512"/>
                </a:lnTo>
                <a:lnTo>
                  <a:pt x="23" y="3547"/>
                </a:lnTo>
                <a:lnTo>
                  <a:pt x="16" y="3580"/>
                </a:lnTo>
                <a:lnTo>
                  <a:pt x="11" y="3612"/>
                </a:lnTo>
                <a:lnTo>
                  <a:pt x="6" y="3643"/>
                </a:lnTo>
                <a:lnTo>
                  <a:pt x="3" y="3673"/>
                </a:lnTo>
                <a:lnTo>
                  <a:pt x="1" y="3701"/>
                </a:lnTo>
                <a:lnTo>
                  <a:pt x="0" y="3728"/>
                </a:lnTo>
                <a:lnTo>
                  <a:pt x="0" y="3755"/>
                </a:lnTo>
                <a:lnTo>
                  <a:pt x="1" y="3781"/>
                </a:lnTo>
                <a:lnTo>
                  <a:pt x="3" y="3804"/>
                </a:lnTo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rot="14371200">
            <a:off x="6968880" y="910080"/>
            <a:ext cx="426960" cy="200160"/>
          </a:xfrm>
          <a:custGeom>
            <a:avLst/>
            <a:gdLst/>
            <a:ahLst/>
            <a:rect l="l" t="t" r="r" b="b"/>
            <a:pathLst>
              <a:path w="2928" h="1244">
                <a:moveTo>
                  <a:pt x="23" y="679"/>
                </a:moveTo>
                <a:lnTo>
                  <a:pt x="14" y="690"/>
                </a:lnTo>
                <a:lnTo>
                  <a:pt x="8" y="699"/>
                </a:lnTo>
                <a:lnTo>
                  <a:pt x="3" y="706"/>
                </a:lnTo>
                <a:lnTo>
                  <a:pt x="1" y="713"/>
                </a:lnTo>
                <a:lnTo>
                  <a:pt x="0" y="719"/>
                </a:lnTo>
                <a:lnTo>
                  <a:pt x="2" y="724"/>
                </a:lnTo>
                <a:lnTo>
                  <a:pt x="4" y="727"/>
                </a:lnTo>
                <a:lnTo>
                  <a:pt x="9" y="730"/>
                </a:lnTo>
                <a:lnTo>
                  <a:pt x="14" y="732"/>
                </a:lnTo>
                <a:lnTo>
                  <a:pt x="20" y="733"/>
                </a:lnTo>
                <a:lnTo>
                  <a:pt x="26" y="734"/>
                </a:lnTo>
                <a:lnTo>
                  <a:pt x="33" y="734"/>
                </a:lnTo>
                <a:lnTo>
                  <a:pt x="48" y="732"/>
                </a:lnTo>
                <a:lnTo>
                  <a:pt x="61" y="729"/>
                </a:lnTo>
                <a:lnTo>
                  <a:pt x="96" y="723"/>
                </a:lnTo>
                <a:lnTo>
                  <a:pt x="133" y="717"/>
                </a:lnTo>
                <a:lnTo>
                  <a:pt x="172" y="711"/>
                </a:lnTo>
                <a:lnTo>
                  <a:pt x="211" y="706"/>
                </a:lnTo>
                <a:lnTo>
                  <a:pt x="251" y="702"/>
                </a:lnTo>
                <a:lnTo>
                  <a:pt x="290" y="698"/>
                </a:lnTo>
                <a:lnTo>
                  <a:pt x="327" y="694"/>
                </a:lnTo>
                <a:lnTo>
                  <a:pt x="362" y="691"/>
                </a:lnTo>
                <a:lnTo>
                  <a:pt x="394" y="698"/>
                </a:lnTo>
                <a:lnTo>
                  <a:pt x="426" y="708"/>
                </a:lnTo>
                <a:lnTo>
                  <a:pt x="458" y="720"/>
                </a:lnTo>
                <a:lnTo>
                  <a:pt x="491" y="733"/>
                </a:lnTo>
                <a:lnTo>
                  <a:pt x="524" y="748"/>
                </a:lnTo>
                <a:lnTo>
                  <a:pt x="558" y="764"/>
                </a:lnTo>
                <a:lnTo>
                  <a:pt x="592" y="781"/>
                </a:lnTo>
                <a:lnTo>
                  <a:pt x="627" y="801"/>
                </a:lnTo>
                <a:lnTo>
                  <a:pt x="697" y="841"/>
                </a:lnTo>
                <a:lnTo>
                  <a:pt x="769" y="884"/>
                </a:lnTo>
                <a:lnTo>
                  <a:pt x="843" y="929"/>
                </a:lnTo>
                <a:lnTo>
                  <a:pt x="919" y="976"/>
                </a:lnTo>
                <a:lnTo>
                  <a:pt x="958" y="999"/>
                </a:lnTo>
                <a:lnTo>
                  <a:pt x="997" y="1022"/>
                </a:lnTo>
                <a:lnTo>
                  <a:pt x="1037" y="1045"/>
                </a:lnTo>
                <a:lnTo>
                  <a:pt x="1078" y="1066"/>
                </a:lnTo>
                <a:lnTo>
                  <a:pt x="1119" y="1088"/>
                </a:lnTo>
                <a:lnTo>
                  <a:pt x="1161" y="1108"/>
                </a:lnTo>
                <a:lnTo>
                  <a:pt x="1204" y="1128"/>
                </a:lnTo>
                <a:lnTo>
                  <a:pt x="1247" y="1146"/>
                </a:lnTo>
                <a:lnTo>
                  <a:pt x="1290" y="1164"/>
                </a:lnTo>
                <a:lnTo>
                  <a:pt x="1334" y="1179"/>
                </a:lnTo>
                <a:lnTo>
                  <a:pt x="1380" y="1195"/>
                </a:lnTo>
                <a:lnTo>
                  <a:pt x="1426" y="1208"/>
                </a:lnTo>
                <a:lnTo>
                  <a:pt x="1472" y="1219"/>
                </a:lnTo>
                <a:lnTo>
                  <a:pt x="1520" y="1229"/>
                </a:lnTo>
                <a:lnTo>
                  <a:pt x="1568" y="1236"/>
                </a:lnTo>
                <a:lnTo>
                  <a:pt x="1616" y="1241"/>
                </a:lnTo>
                <a:lnTo>
                  <a:pt x="1648" y="1243"/>
                </a:lnTo>
                <a:lnTo>
                  <a:pt x="1682" y="1244"/>
                </a:lnTo>
                <a:lnTo>
                  <a:pt x="1717" y="1243"/>
                </a:lnTo>
                <a:lnTo>
                  <a:pt x="1754" y="1241"/>
                </a:lnTo>
                <a:lnTo>
                  <a:pt x="1793" y="1238"/>
                </a:lnTo>
                <a:lnTo>
                  <a:pt x="1833" y="1233"/>
                </a:lnTo>
                <a:lnTo>
                  <a:pt x="1877" y="1228"/>
                </a:lnTo>
                <a:lnTo>
                  <a:pt x="1921" y="1220"/>
                </a:lnTo>
                <a:lnTo>
                  <a:pt x="1968" y="1212"/>
                </a:lnTo>
                <a:lnTo>
                  <a:pt x="2017" y="1203"/>
                </a:lnTo>
                <a:lnTo>
                  <a:pt x="2069" y="1193"/>
                </a:lnTo>
                <a:lnTo>
                  <a:pt x="2123" y="1181"/>
                </a:lnTo>
                <a:lnTo>
                  <a:pt x="2180" y="1169"/>
                </a:lnTo>
                <a:lnTo>
                  <a:pt x="2240" y="1156"/>
                </a:lnTo>
                <a:lnTo>
                  <a:pt x="2301" y="1142"/>
                </a:lnTo>
                <a:lnTo>
                  <a:pt x="2367" y="1127"/>
                </a:lnTo>
                <a:lnTo>
                  <a:pt x="2405" y="1121"/>
                </a:lnTo>
                <a:lnTo>
                  <a:pt x="2448" y="1112"/>
                </a:lnTo>
                <a:lnTo>
                  <a:pt x="2495" y="1104"/>
                </a:lnTo>
                <a:lnTo>
                  <a:pt x="2543" y="1095"/>
                </a:lnTo>
                <a:lnTo>
                  <a:pt x="2591" y="1087"/>
                </a:lnTo>
                <a:lnTo>
                  <a:pt x="2641" y="1080"/>
                </a:lnTo>
                <a:lnTo>
                  <a:pt x="2666" y="1077"/>
                </a:lnTo>
                <a:lnTo>
                  <a:pt x="2689" y="1075"/>
                </a:lnTo>
                <a:lnTo>
                  <a:pt x="2712" y="1073"/>
                </a:lnTo>
                <a:lnTo>
                  <a:pt x="2734" y="1073"/>
                </a:lnTo>
                <a:lnTo>
                  <a:pt x="2749" y="1073"/>
                </a:lnTo>
                <a:lnTo>
                  <a:pt x="2763" y="1075"/>
                </a:lnTo>
                <a:lnTo>
                  <a:pt x="2777" y="1078"/>
                </a:lnTo>
                <a:lnTo>
                  <a:pt x="2790" y="1083"/>
                </a:lnTo>
                <a:lnTo>
                  <a:pt x="2803" y="1088"/>
                </a:lnTo>
                <a:lnTo>
                  <a:pt x="2816" y="1093"/>
                </a:lnTo>
                <a:lnTo>
                  <a:pt x="2827" y="1099"/>
                </a:lnTo>
                <a:lnTo>
                  <a:pt x="2839" y="1106"/>
                </a:lnTo>
                <a:lnTo>
                  <a:pt x="2862" y="1120"/>
                </a:lnTo>
                <a:lnTo>
                  <a:pt x="2884" y="1133"/>
                </a:lnTo>
                <a:lnTo>
                  <a:pt x="2906" y="1146"/>
                </a:lnTo>
                <a:lnTo>
                  <a:pt x="2928" y="1157"/>
                </a:lnTo>
                <a:lnTo>
                  <a:pt x="2927" y="1143"/>
                </a:lnTo>
                <a:lnTo>
                  <a:pt x="2926" y="1130"/>
                </a:lnTo>
                <a:lnTo>
                  <a:pt x="2925" y="1118"/>
                </a:lnTo>
                <a:lnTo>
                  <a:pt x="2922" y="1105"/>
                </a:lnTo>
                <a:lnTo>
                  <a:pt x="2920" y="1093"/>
                </a:lnTo>
                <a:lnTo>
                  <a:pt x="2915" y="1082"/>
                </a:lnTo>
                <a:lnTo>
                  <a:pt x="2911" y="1070"/>
                </a:lnTo>
                <a:lnTo>
                  <a:pt x="2906" y="1060"/>
                </a:lnTo>
                <a:lnTo>
                  <a:pt x="2901" y="1049"/>
                </a:lnTo>
                <a:lnTo>
                  <a:pt x="2895" y="1038"/>
                </a:lnTo>
                <a:lnTo>
                  <a:pt x="2889" y="1029"/>
                </a:lnTo>
                <a:lnTo>
                  <a:pt x="2882" y="1019"/>
                </a:lnTo>
                <a:lnTo>
                  <a:pt x="2874" y="1010"/>
                </a:lnTo>
                <a:lnTo>
                  <a:pt x="2866" y="1000"/>
                </a:lnTo>
                <a:lnTo>
                  <a:pt x="2857" y="991"/>
                </a:lnTo>
                <a:lnTo>
                  <a:pt x="2848" y="983"/>
                </a:lnTo>
                <a:lnTo>
                  <a:pt x="2828" y="966"/>
                </a:lnTo>
                <a:lnTo>
                  <a:pt x="2806" y="951"/>
                </a:lnTo>
                <a:lnTo>
                  <a:pt x="2783" y="938"/>
                </a:lnTo>
                <a:lnTo>
                  <a:pt x="2758" y="923"/>
                </a:lnTo>
                <a:lnTo>
                  <a:pt x="2731" y="911"/>
                </a:lnTo>
                <a:lnTo>
                  <a:pt x="2703" y="900"/>
                </a:lnTo>
                <a:lnTo>
                  <a:pt x="2674" y="888"/>
                </a:lnTo>
                <a:lnTo>
                  <a:pt x="2642" y="878"/>
                </a:lnTo>
                <a:lnTo>
                  <a:pt x="2572" y="810"/>
                </a:lnTo>
                <a:lnTo>
                  <a:pt x="2503" y="743"/>
                </a:lnTo>
                <a:lnTo>
                  <a:pt x="2433" y="676"/>
                </a:lnTo>
                <a:lnTo>
                  <a:pt x="2363" y="612"/>
                </a:lnTo>
                <a:lnTo>
                  <a:pt x="2294" y="549"/>
                </a:lnTo>
                <a:lnTo>
                  <a:pt x="2224" y="487"/>
                </a:lnTo>
                <a:lnTo>
                  <a:pt x="2155" y="428"/>
                </a:lnTo>
                <a:lnTo>
                  <a:pt x="2085" y="372"/>
                </a:lnTo>
                <a:lnTo>
                  <a:pt x="2015" y="318"/>
                </a:lnTo>
                <a:lnTo>
                  <a:pt x="1945" y="268"/>
                </a:lnTo>
                <a:lnTo>
                  <a:pt x="1876" y="221"/>
                </a:lnTo>
                <a:lnTo>
                  <a:pt x="1805" y="178"/>
                </a:lnTo>
                <a:lnTo>
                  <a:pt x="1734" y="138"/>
                </a:lnTo>
                <a:lnTo>
                  <a:pt x="1662" y="103"/>
                </a:lnTo>
                <a:lnTo>
                  <a:pt x="1590" y="73"/>
                </a:lnTo>
                <a:lnTo>
                  <a:pt x="1518" y="47"/>
                </a:lnTo>
                <a:lnTo>
                  <a:pt x="1444" y="26"/>
                </a:lnTo>
                <a:lnTo>
                  <a:pt x="1369" y="12"/>
                </a:lnTo>
                <a:lnTo>
                  <a:pt x="1295" y="3"/>
                </a:lnTo>
                <a:lnTo>
                  <a:pt x="1219" y="0"/>
                </a:lnTo>
                <a:lnTo>
                  <a:pt x="1143" y="3"/>
                </a:lnTo>
                <a:lnTo>
                  <a:pt x="1065" y="12"/>
                </a:lnTo>
                <a:lnTo>
                  <a:pt x="987" y="29"/>
                </a:lnTo>
                <a:lnTo>
                  <a:pt x="908" y="53"/>
                </a:lnTo>
                <a:lnTo>
                  <a:pt x="826" y="84"/>
                </a:lnTo>
                <a:lnTo>
                  <a:pt x="745" y="124"/>
                </a:lnTo>
                <a:lnTo>
                  <a:pt x="662" y="171"/>
                </a:lnTo>
                <a:lnTo>
                  <a:pt x="577" y="227"/>
                </a:lnTo>
                <a:lnTo>
                  <a:pt x="491" y="291"/>
                </a:lnTo>
                <a:lnTo>
                  <a:pt x="404" y="365"/>
                </a:lnTo>
                <a:lnTo>
                  <a:pt x="315" y="447"/>
                </a:lnTo>
                <a:lnTo>
                  <a:pt x="226" y="539"/>
                </a:lnTo>
                <a:lnTo>
                  <a:pt x="190" y="557"/>
                </a:lnTo>
                <a:lnTo>
                  <a:pt x="157" y="575"/>
                </a:lnTo>
                <a:lnTo>
                  <a:pt x="128" y="592"/>
                </a:lnTo>
                <a:lnTo>
                  <a:pt x="101" y="609"/>
                </a:lnTo>
                <a:lnTo>
                  <a:pt x="76" y="627"/>
                </a:lnTo>
                <a:lnTo>
                  <a:pt x="56" y="644"/>
                </a:lnTo>
                <a:lnTo>
                  <a:pt x="47" y="654"/>
                </a:lnTo>
                <a:lnTo>
                  <a:pt x="37" y="662"/>
                </a:lnTo>
                <a:lnTo>
                  <a:pt x="30" y="671"/>
                </a:lnTo>
                <a:lnTo>
                  <a:pt x="23" y="679"/>
                </a:lnTo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rot="14371200">
            <a:off x="6256080" y="258120"/>
            <a:ext cx="212760" cy="50472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rot="14371200">
            <a:off x="6465960" y="666360"/>
            <a:ext cx="536400" cy="349200"/>
          </a:xfrm>
          <a:custGeom>
            <a:avLst/>
            <a:gdLst/>
            <a:ahLst/>
            <a:rect l="l" t="t" r="r" b="b"/>
            <a:pathLst>
              <a:path w="3736" h="2244">
                <a:moveTo>
                  <a:pt x="3736" y="0"/>
                </a:moveTo>
                <a:lnTo>
                  <a:pt x="3603" y="8"/>
                </a:lnTo>
                <a:lnTo>
                  <a:pt x="3408" y="11"/>
                </a:lnTo>
                <a:lnTo>
                  <a:pt x="3218" y="15"/>
                </a:lnTo>
                <a:lnTo>
                  <a:pt x="3032" y="22"/>
                </a:lnTo>
                <a:lnTo>
                  <a:pt x="2850" y="32"/>
                </a:lnTo>
                <a:lnTo>
                  <a:pt x="2673" y="44"/>
                </a:lnTo>
                <a:lnTo>
                  <a:pt x="2501" y="60"/>
                </a:lnTo>
                <a:lnTo>
                  <a:pt x="2333" y="78"/>
                </a:lnTo>
                <a:lnTo>
                  <a:pt x="2170" y="100"/>
                </a:lnTo>
                <a:lnTo>
                  <a:pt x="2012" y="126"/>
                </a:lnTo>
                <a:lnTo>
                  <a:pt x="1860" y="156"/>
                </a:lnTo>
                <a:lnTo>
                  <a:pt x="1712" y="190"/>
                </a:lnTo>
                <a:lnTo>
                  <a:pt x="1570" y="228"/>
                </a:lnTo>
                <a:lnTo>
                  <a:pt x="1433" y="271"/>
                </a:lnTo>
                <a:lnTo>
                  <a:pt x="1303" y="318"/>
                </a:lnTo>
                <a:lnTo>
                  <a:pt x="1176" y="371"/>
                </a:lnTo>
                <a:lnTo>
                  <a:pt x="1057" y="429"/>
                </a:lnTo>
                <a:lnTo>
                  <a:pt x="943" y="492"/>
                </a:lnTo>
                <a:lnTo>
                  <a:pt x="835" y="561"/>
                </a:lnTo>
                <a:lnTo>
                  <a:pt x="732" y="636"/>
                </a:lnTo>
                <a:lnTo>
                  <a:pt x="636" y="717"/>
                </a:lnTo>
                <a:lnTo>
                  <a:pt x="547" y="805"/>
                </a:lnTo>
                <a:lnTo>
                  <a:pt x="463" y="898"/>
                </a:lnTo>
                <a:lnTo>
                  <a:pt x="386" y="999"/>
                </a:lnTo>
                <a:lnTo>
                  <a:pt x="315" y="1106"/>
                </a:lnTo>
                <a:lnTo>
                  <a:pt x="251" y="1221"/>
                </a:lnTo>
                <a:lnTo>
                  <a:pt x="195" y="1343"/>
                </a:lnTo>
                <a:lnTo>
                  <a:pt x="144" y="1473"/>
                </a:lnTo>
                <a:lnTo>
                  <a:pt x="101" y="1611"/>
                </a:lnTo>
                <a:lnTo>
                  <a:pt x="65" y="1757"/>
                </a:lnTo>
                <a:lnTo>
                  <a:pt x="36" y="1910"/>
                </a:lnTo>
                <a:lnTo>
                  <a:pt x="15" y="2074"/>
                </a:lnTo>
                <a:lnTo>
                  <a:pt x="0" y="2244"/>
                </a:lnTo>
                <a:lnTo>
                  <a:pt x="109" y="2092"/>
                </a:lnTo>
                <a:lnTo>
                  <a:pt x="226" y="1945"/>
                </a:lnTo>
                <a:lnTo>
                  <a:pt x="349" y="1805"/>
                </a:lnTo>
                <a:lnTo>
                  <a:pt x="479" y="1671"/>
                </a:lnTo>
                <a:lnTo>
                  <a:pt x="615" y="1542"/>
                </a:lnTo>
                <a:lnTo>
                  <a:pt x="754" y="1420"/>
                </a:lnTo>
                <a:lnTo>
                  <a:pt x="899" y="1303"/>
                </a:lnTo>
                <a:lnTo>
                  <a:pt x="1047" y="1192"/>
                </a:lnTo>
                <a:lnTo>
                  <a:pt x="1198" y="1087"/>
                </a:lnTo>
                <a:lnTo>
                  <a:pt x="1350" y="988"/>
                </a:lnTo>
                <a:lnTo>
                  <a:pt x="1503" y="893"/>
                </a:lnTo>
                <a:lnTo>
                  <a:pt x="1658" y="805"/>
                </a:lnTo>
                <a:lnTo>
                  <a:pt x="1812" y="720"/>
                </a:lnTo>
                <a:lnTo>
                  <a:pt x="1965" y="642"/>
                </a:lnTo>
                <a:lnTo>
                  <a:pt x="2116" y="568"/>
                </a:lnTo>
                <a:lnTo>
                  <a:pt x="2265" y="500"/>
                </a:lnTo>
                <a:lnTo>
                  <a:pt x="2411" y="436"/>
                </a:lnTo>
                <a:lnTo>
                  <a:pt x="2552" y="377"/>
                </a:lnTo>
                <a:lnTo>
                  <a:pt x="2690" y="323"/>
                </a:lnTo>
                <a:lnTo>
                  <a:pt x="2823" y="273"/>
                </a:lnTo>
                <a:lnTo>
                  <a:pt x="2948" y="228"/>
                </a:lnTo>
                <a:lnTo>
                  <a:pt x="3069" y="187"/>
                </a:lnTo>
                <a:lnTo>
                  <a:pt x="3181" y="150"/>
                </a:lnTo>
                <a:lnTo>
                  <a:pt x="3285" y="119"/>
                </a:lnTo>
                <a:lnTo>
                  <a:pt x="3379" y="90"/>
                </a:lnTo>
                <a:lnTo>
                  <a:pt x="3465" y="66"/>
                </a:lnTo>
                <a:lnTo>
                  <a:pt x="3540" y="46"/>
                </a:lnTo>
                <a:lnTo>
                  <a:pt x="3605" y="29"/>
                </a:lnTo>
                <a:lnTo>
                  <a:pt x="3657" y="17"/>
                </a:lnTo>
                <a:lnTo>
                  <a:pt x="3696" y="7"/>
                </a:lnTo>
                <a:lnTo>
                  <a:pt x="3723" y="2"/>
                </a:lnTo>
                <a:lnTo>
                  <a:pt x="3736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7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rot="14371200">
            <a:off x="6511320" y="605520"/>
            <a:ext cx="563760" cy="422280"/>
          </a:xfrm>
          <a:custGeom>
            <a:avLst/>
            <a:gdLst/>
            <a:ahLst/>
            <a:rect l="l" t="t" r="r" b="b"/>
            <a:pathLst>
              <a:path w="3911" h="2822">
                <a:moveTo>
                  <a:pt x="0" y="2822"/>
                </a:moveTo>
                <a:lnTo>
                  <a:pt x="66" y="2682"/>
                </a:lnTo>
                <a:lnTo>
                  <a:pt x="139" y="2545"/>
                </a:lnTo>
                <a:lnTo>
                  <a:pt x="217" y="2412"/>
                </a:lnTo>
                <a:lnTo>
                  <a:pt x="299" y="2281"/>
                </a:lnTo>
                <a:lnTo>
                  <a:pt x="386" y="2154"/>
                </a:lnTo>
                <a:lnTo>
                  <a:pt x="478" y="2031"/>
                </a:lnTo>
                <a:lnTo>
                  <a:pt x="575" y="1912"/>
                </a:lnTo>
                <a:lnTo>
                  <a:pt x="674" y="1794"/>
                </a:lnTo>
                <a:lnTo>
                  <a:pt x="779" y="1681"/>
                </a:lnTo>
                <a:lnTo>
                  <a:pt x="887" y="1572"/>
                </a:lnTo>
                <a:lnTo>
                  <a:pt x="999" y="1465"/>
                </a:lnTo>
                <a:lnTo>
                  <a:pt x="1115" y="1363"/>
                </a:lnTo>
                <a:lnTo>
                  <a:pt x="1233" y="1263"/>
                </a:lnTo>
                <a:lnTo>
                  <a:pt x="1355" y="1166"/>
                </a:lnTo>
                <a:lnTo>
                  <a:pt x="1481" y="1074"/>
                </a:lnTo>
                <a:lnTo>
                  <a:pt x="1608" y="984"/>
                </a:lnTo>
                <a:lnTo>
                  <a:pt x="1739" y="898"/>
                </a:lnTo>
                <a:lnTo>
                  <a:pt x="1873" y="814"/>
                </a:lnTo>
                <a:lnTo>
                  <a:pt x="2008" y="735"/>
                </a:lnTo>
                <a:lnTo>
                  <a:pt x="2146" y="659"/>
                </a:lnTo>
                <a:lnTo>
                  <a:pt x="2286" y="586"/>
                </a:lnTo>
                <a:lnTo>
                  <a:pt x="2427" y="516"/>
                </a:lnTo>
                <a:lnTo>
                  <a:pt x="2571" y="450"/>
                </a:lnTo>
                <a:lnTo>
                  <a:pt x="2716" y="386"/>
                </a:lnTo>
                <a:lnTo>
                  <a:pt x="2862" y="327"/>
                </a:lnTo>
                <a:lnTo>
                  <a:pt x="3010" y="270"/>
                </a:lnTo>
                <a:lnTo>
                  <a:pt x="3158" y="217"/>
                </a:lnTo>
                <a:lnTo>
                  <a:pt x="3308" y="167"/>
                </a:lnTo>
                <a:lnTo>
                  <a:pt x="3458" y="121"/>
                </a:lnTo>
                <a:lnTo>
                  <a:pt x="3609" y="77"/>
                </a:lnTo>
                <a:lnTo>
                  <a:pt x="3760" y="37"/>
                </a:lnTo>
                <a:lnTo>
                  <a:pt x="3911" y="0"/>
                </a:lnTo>
                <a:lnTo>
                  <a:pt x="3862" y="115"/>
                </a:lnTo>
                <a:lnTo>
                  <a:pt x="3813" y="227"/>
                </a:lnTo>
                <a:lnTo>
                  <a:pt x="3762" y="334"/>
                </a:lnTo>
                <a:lnTo>
                  <a:pt x="3713" y="438"/>
                </a:lnTo>
                <a:lnTo>
                  <a:pt x="3662" y="538"/>
                </a:lnTo>
                <a:lnTo>
                  <a:pt x="3612" y="634"/>
                </a:lnTo>
                <a:lnTo>
                  <a:pt x="3561" y="727"/>
                </a:lnTo>
                <a:lnTo>
                  <a:pt x="3509" y="816"/>
                </a:lnTo>
                <a:lnTo>
                  <a:pt x="3456" y="903"/>
                </a:lnTo>
                <a:lnTo>
                  <a:pt x="3402" y="987"/>
                </a:lnTo>
                <a:lnTo>
                  <a:pt x="3347" y="1067"/>
                </a:lnTo>
                <a:lnTo>
                  <a:pt x="3291" y="1144"/>
                </a:lnTo>
                <a:lnTo>
                  <a:pt x="3234" y="1220"/>
                </a:lnTo>
                <a:lnTo>
                  <a:pt x="3175" y="1292"/>
                </a:lnTo>
                <a:lnTo>
                  <a:pt x="3114" y="1361"/>
                </a:lnTo>
                <a:lnTo>
                  <a:pt x="3051" y="1428"/>
                </a:lnTo>
                <a:lnTo>
                  <a:pt x="2988" y="1494"/>
                </a:lnTo>
                <a:lnTo>
                  <a:pt x="2922" y="1557"/>
                </a:lnTo>
                <a:lnTo>
                  <a:pt x="2854" y="1618"/>
                </a:lnTo>
                <a:lnTo>
                  <a:pt x="2783" y="1676"/>
                </a:lnTo>
                <a:lnTo>
                  <a:pt x="2711" y="1733"/>
                </a:lnTo>
                <a:lnTo>
                  <a:pt x="2636" y="1788"/>
                </a:lnTo>
                <a:lnTo>
                  <a:pt x="2558" y="1842"/>
                </a:lnTo>
                <a:lnTo>
                  <a:pt x="2477" y="1893"/>
                </a:lnTo>
                <a:lnTo>
                  <a:pt x="2395" y="1945"/>
                </a:lnTo>
                <a:lnTo>
                  <a:pt x="2309" y="1994"/>
                </a:lnTo>
                <a:lnTo>
                  <a:pt x="2219" y="2042"/>
                </a:lnTo>
                <a:lnTo>
                  <a:pt x="2128" y="2089"/>
                </a:lnTo>
                <a:lnTo>
                  <a:pt x="2032" y="2135"/>
                </a:lnTo>
                <a:lnTo>
                  <a:pt x="1933" y="2180"/>
                </a:lnTo>
                <a:lnTo>
                  <a:pt x="1830" y="2225"/>
                </a:lnTo>
                <a:lnTo>
                  <a:pt x="1725" y="2269"/>
                </a:lnTo>
                <a:lnTo>
                  <a:pt x="1681" y="2286"/>
                </a:lnTo>
                <a:lnTo>
                  <a:pt x="1637" y="2302"/>
                </a:lnTo>
                <a:lnTo>
                  <a:pt x="1593" y="2315"/>
                </a:lnTo>
                <a:lnTo>
                  <a:pt x="1548" y="2328"/>
                </a:lnTo>
                <a:lnTo>
                  <a:pt x="1502" y="2342"/>
                </a:lnTo>
                <a:lnTo>
                  <a:pt x="1456" y="2353"/>
                </a:lnTo>
                <a:lnTo>
                  <a:pt x="1409" y="2364"/>
                </a:lnTo>
                <a:lnTo>
                  <a:pt x="1361" y="2375"/>
                </a:lnTo>
                <a:lnTo>
                  <a:pt x="1265" y="2395"/>
                </a:lnTo>
                <a:lnTo>
                  <a:pt x="1165" y="2415"/>
                </a:lnTo>
                <a:lnTo>
                  <a:pt x="1063" y="2435"/>
                </a:lnTo>
                <a:lnTo>
                  <a:pt x="957" y="2458"/>
                </a:lnTo>
                <a:lnTo>
                  <a:pt x="904" y="2470"/>
                </a:lnTo>
                <a:lnTo>
                  <a:pt x="849" y="2483"/>
                </a:lnTo>
                <a:lnTo>
                  <a:pt x="794" y="2497"/>
                </a:lnTo>
                <a:lnTo>
                  <a:pt x="738" y="2511"/>
                </a:lnTo>
                <a:lnTo>
                  <a:pt x="680" y="2528"/>
                </a:lnTo>
                <a:lnTo>
                  <a:pt x="623" y="2545"/>
                </a:lnTo>
                <a:lnTo>
                  <a:pt x="564" y="2564"/>
                </a:lnTo>
                <a:lnTo>
                  <a:pt x="506" y="2584"/>
                </a:lnTo>
                <a:lnTo>
                  <a:pt x="445" y="2607"/>
                </a:lnTo>
                <a:lnTo>
                  <a:pt x="384" y="2632"/>
                </a:lnTo>
                <a:lnTo>
                  <a:pt x="323" y="2657"/>
                </a:lnTo>
                <a:lnTo>
                  <a:pt x="260" y="2685"/>
                </a:lnTo>
                <a:lnTo>
                  <a:pt x="196" y="2716"/>
                </a:lnTo>
                <a:lnTo>
                  <a:pt x="131" y="2749"/>
                </a:lnTo>
                <a:lnTo>
                  <a:pt x="66" y="2784"/>
                </a:lnTo>
                <a:lnTo>
                  <a:pt x="0" y="2822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7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rot="14371200">
            <a:off x="7035480" y="970560"/>
            <a:ext cx="266760" cy="115560"/>
          </a:xfrm>
          <a:custGeom>
            <a:avLst/>
            <a:gdLst/>
            <a:ahLst/>
            <a:rect l="l" t="t" r="r" b="b"/>
            <a:pathLst>
              <a:path w="1973" h="778">
                <a:moveTo>
                  <a:pt x="1973" y="778"/>
                </a:moveTo>
                <a:lnTo>
                  <a:pt x="1925" y="737"/>
                </a:lnTo>
                <a:lnTo>
                  <a:pt x="1861" y="674"/>
                </a:lnTo>
                <a:lnTo>
                  <a:pt x="1796" y="613"/>
                </a:lnTo>
                <a:lnTo>
                  <a:pt x="1732" y="554"/>
                </a:lnTo>
                <a:lnTo>
                  <a:pt x="1668" y="499"/>
                </a:lnTo>
                <a:lnTo>
                  <a:pt x="1606" y="444"/>
                </a:lnTo>
                <a:lnTo>
                  <a:pt x="1544" y="393"/>
                </a:lnTo>
                <a:lnTo>
                  <a:pt x="1482" y="344"/>
                </a:lnTo>
                <a:lnTo>
                  <a:pt x="1421" y="298"/>
                </a:lnTo>
                <a:lnTo>
                  <a:pt x="1361" y="255"/>
                </a:lnTo>
                <a:lnTo>
                  <a:pt x="1300" y="215"/>
                </a:lnTo>
                <a:lnTo>
                  <a:pt x="1240" y="178"/>
                </a:lnTo>
                <a:lnTo>
                  <a:pt x="1181" y="144"/>
                </a:lnTo>
                <a:lnTo>
                  <a:pt x="1121" y="114"/>
                </a:lnTo>
                <a:lnTo>
                  <a:pt x="1062" y="86"/>
                </a:lnTo>
                <a:lnTo>
                  <a:pt x="1004" y="62"/>
                </a:lnTo>
                <a:lnTo>
                  <a:pt x="945" y="42"/>
                </a:lnTo>
                <a:lnTo>
                  <a:pt x="887" y="25"/>
                </a:lnTo>
                <a:lnTo>
                  <a:pt x="828" y="13"/>
                </a:lnTo>
                <a:lnTo>
                  <a:pt x="769" y="5"/>
                </a:lnTo>
                <a:lnTo>
                  <a:pt x="712" y="0"/>
                </a:lnTo>
                <a:lnTo>
                  <a:pt x="653" y="0"/>
                </a:lnTo>
                <a:lnTo>
                  <a:pt x="594" y="3"/>
                </a:lnTo>
                <a:lnTo>
                  <a:pt x="536" y="11"/>
                </a:lnTo>
                <a:lnTo>
                  <a:pt x="477" y="23"/>
                </a:lnTo>
                <a:lnTo>
                  <a:pt x="419" y="41"/>
                </a:lnTo>
                <a:lnTo>
                  <a:pt x="360" y="62"/>
                </a:lnTo>
                <a:lnTo>
                  <a:pt x="300" y="89"/>
                </a:lnTo>
                <a:lnTo>
                  <a:pt x="242" y="121"/>
                </a:lnTo>
                <a:lnTo>
                  <a:pt x="182" y="157"/>
                </a:lnTo>
                <a:lnTo>
                  <a:pt x="121" y="198"/>
                </a:lnTo>
                <a:lnTo>
                  <a:pt x="61" y="246"/>
                </a:lnTo>
                <a:lnTo>
                  <a:pt x="0" y="297"/>
                </a:lnTo>
                <a:lnTo>
                  <a:pt x="86" y="283"/>
                </a:lnTo>
                <a:lnTo>
                  <a:pt x="173" y="272"/>
                </a:lnTo>
                <a:lnTo>
                  <a:pt x="260" y="266"/>
                </a:lnTo>
                <a:lnTo>
                  <a:pt x="347" y="264"/>
                </a:lnTo>
                <a:lnTo>
                  <a:pt x="434" y="266"/>
                </a:lnTo>
                <a:lnTo>
                  <a:pt x="520" y="271"/>
                </a:lnTo>
                <a:lnTo>
                  <a:pt x="606" y="281"/>
                </a:lnTo>
                <a:lnTo>
                  <a:pt x="691" y="292"/>
                </a:lnTo>
                <a:lnTo>
                  <a:pt x="775" y="306"/>
                </a:lnTo>
                <a:lnTo>
                  <a:pt x="859" y="324"/>
                </a:lnTo>
                <a:lnTo>
                  <a:pt x="941" y="342"/>
                </a:lnTo>
                <a:lnTo>
                  <a:pt x="1021" y="364"/>
                </a:lnTo>
                <a:lnTo>
                  <a:pt x="1099" y="386"/>
                </a:lnTo>
                <a:lnTo>
                  <a:pt x="1176" y="410"/>
                </a:lnTo>
                <a:lnTo>
                  <a:pt x="1250" y="436"/>
                </a:lnTo>
                <a:lnTo>
                  <a:pt x="1322" y="462"/>
                </a:lnTo>
                <a:lnTo>
                  <a:pt x="1391" y="488"/>
                </a:lnTo>
                <a:lnTo>
                  <a:pt x="1457" y="515"/>
                </a:lnTo>
                <a:lnTo>
                  <a:pt x="1520" y="543"/>
                </a:lnTo>
                <a:lnTo>
                  <a:pt x="1581" y="570"/>
                </a:lnTo>
                <a:lnTo>
                  <a:pt x="1637" y="595"/>
                </a:lnTo>
                <a:lnTo>
                  <a:pt x="1690" y="621"/>
                </a:lnTo>
                <a:lnTo>
                  <a:pt x="1739" y="646"/>
                </a:lnTo>
                <a:lnTo>
                  <a:pt x="1785" y="669"/>
                </a:lnTo>
                <a:lnTo>
                  <a:pt x="1861" y="711"/>
                </a:lnTo>
                <a:lnTo>
                  <a:pt x="1919" y="744"/>
                </a:lnTo>
                <a:lnTo>
                  <a:pt x="1956" y="768"/>
                </a:lnTo>
                <a:lnTo>
                  <a:pt x="1973" y="778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7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rot="14371200">
            <a:off x="7057800" y="947520"/>
            <a:ext cx="291960" cy="92160"/>
          </a:xfrm>
          <a:custGeom>
            <a:avLst/>
            <a:gdLst/>
            <a:ahLst/>
            <a:rect l="l" t="t" r="r" b="b"/>
            <a:pathLst>
              <a:path w="2220" h="663">
                <a:moveTo>
                  <a:pt x="0" y="124"/>
                </a:moveTo>
                <a:lnTo>
                  <a:pt x="68" y="99"/>
                </a:lnTo>
                <a:lnTo>
                  <a:pt x="137" y="78"/>
                </a:lnTo>
                <a:lnTo>
                  <a:pt x="207" y="59"/>
                </a:lnTo>
                <a:lnTo>
                  <a:pt x="277" y="43"/>
                </a:lnTo>
                <a:lnTo>
                  <a:pt x="347" y="29"/>
                </a:lnTo>
                <a:lnTo>
                  <a:pt x="418" y="19"/>
                </a:lnTo>
                <a:lnTo>
                  <a:pt x="489" y="11"/>
                </a:lnTo>
                <a:lnTo>
                  <a:pt x="561" y="5"/>
                </a:lnTo>
                <a:lnTo>
                  <a:pt x="632" y="1"/>
                </a:lnTo>
                <a:lnTo>
                  <a:pt x="704" y="0"/>
                </a:lnTo>
                <a:lnTo>
                  <a:pt x="776" y="2"/>
                </a:lnTo>
                <a:lnTo>
                  <a:pt x="848" y="6"/>
                </a:lnTo>
                <a:lnTo>
                  <a:pt x="920" y="12"/>
                </a:lnTo>
                <a:lnTo>
                  <a:pt x="992" y="20"/>
                </a:lnTo>
                <a:lnTo>
                  <a:pt x="1064" y="30"/>
                </a:lnTo>
                <a:lnTo>
                  <a:pt x="1135" y="43"/>
                </a:lnTo>
                <a:lnTo>
                  <a:pt x="1207" y="56"/>
                </a:lnTo>
                <a:lnTo>
                  <a:pt x="1278" y="72"/>
                </a:lnTo>
                <a:lnTo>
                  <a:pt x="1349" y="91"/>
                </a:lnTo>
                <a:lnTo>
                  <a:pt x="1420" y="110"/>
                </a:lnTo>
                <a:lnTo>
                  <a:pt x="1490" y="132"/>
                </a:lnTo>
                <a:lnTo>
                  <a:pt x="1560" y="156"/>
                </a:lnTo>
                <a:lnTo>
                  <a:pt x="1629" y="180"/>
                </a:lnTo>
                <a:lnTo>
                  <a:pt x="1698" y="207"/>
                </a:lnTo>
                <a:lnTo>
                  <a:pt x="1766" y="235"/>
                </a:lnTo>
                <a:lnTo>
                  <a:pt x="1833" y="265"/>
                </a:lnTo>
                <a:lnTo>
                  <a:pt x="1899" y="296"/>
                </a:lnTo>
                <a:lnTo>
                  <a:pt x="1966" y="328"/>
                </a:lnTo>
                <a:lnTo>
                  <a:pt x="2031" y="362"/>
                </a:lnTo>
                <a:lnTo>
                  <a:pt x="2095" y="397"/>
                </a:lnTo>
                <a:lnTo>
                  <a:pt x="2157" y="433"/>
                </a:lnTo>
                <a:lnTo>
                  <a:pt x="2220" y="470"/>
                </a:lnTo>
                <a:lnTo>
                  <a:pt x="2166" y="493"/>
                </a:lnTo>
                <a:lnTo>
                  <a:pt x="2113" y="514"/>
                </a:lnTo>
                <a:lnTo>
                  <a:pt x="2062" y="533"/>
                </a:lnTo>
                <a:lnTo>
                  <a:pt x="2011" y="551"/>
                </a:lnTo>
                <a:lnTo>
                  <a:pt x="1962" y="567"/>
                </a:lnTo>
                <a:lnTo>
                  <a:pt x="1914" y="583"/>
                </a:lnTo>
                <a:lnTo>
                  <a:pt x="1866" y="597"/>
                </a:lnTo>
                <a:lnTo>
                  <a:pt x="1819" y="609"/>
                </a:lnTo>
                <a:lnTo>
                  <a:pt x="1774" y="621"/>
                </a:lnTo>
                <a:lnTo>
                  <a:pt x="1729" y="631"/>
                </a:lnTo>
                <a:lnTo>
                  <a:pt x="1683" y="639"/>
                </a:lnTo>
                <a:lnTo>
                  <a:pt x="1640" y="646"/>
                </a:lnTo>
                <a:lnTo>
                  <a:pt x="1596" y="652"/>
                </a:lnTo>
                <a:lnTo>
                  <a:pt x="1553" y="657"/>
                </a:lnTo>
                <a:lnTo>
                  <a:pt x="1510" y="661"/>
                </a:lnTo>
                <a:lnTo>
                  <a:pt x="1467" y="662"/>
                </a:lnTo>
                <a:lnTo>
                  <a:pt x="1425" y="663"/>
                </a:lnTo>
                <a:lnTo>
                  <a:pt x="1383" y="662"/>
                </a:lnTo>
                <a:lnTo>
                  <a:pt x="1340" y="660"/>
                </a:lnTo>
                <a:lnTo>
                  <a:pt x="1298" y="657"/>
                </a:lnTo>
                <a:lnTo>
                  <a:pt x="1255" y="651"/>
                </a:lnTo>
                <a:lnTo>
                  <a:pt x="1212" y="645"/>
                </a:lnTo>
                <a:lnTo>
                  <a:pt x="1169" y="637"/>
                </a:lnTo>
                <a:lnTo>
                  <a:pt x="1125" y="628"/>
                </a:lnTo>
                <a:lnTo>
                  <a:pt x="1082" y="618"/>
                </a:lnTo>
                <a:lnTo>
                  <a:pt x="1036" y="606"/>
                </a:lnTo>
                <a:lnTo>
                  <a:pt x="991" y="593"/>
                </a:lnTo>
                <a:lnTo>
                  <a:pt x="945" y="578"/>
                </a:lnTo>
                <a:lnTo>
                  <a:pt x="898" y="562"/>
                </a:lnTo>
                <a:lnTo>
                  <a:pt x="851" y="544"/>
                </a:lnTo>
                <a:lnTo>
                  <a:pt x="803" y="526"/>
                </a:lnTo>
                <a:lnTo>
                  <a:pt x="752" y="505"/>
                </a:lnTo>
                <a:lnTo>
                  <a:pt x="733" y="497"/>
                </a:lnTo>
                <a:lnTo>
                  <a:pt x="713" y="488"/>
                </a:lnTo>
                <a:lnTo>
                  <a:pt x="694" y="478"/>
                </a:lnTo>
                <a:lnTo>
                  <a:pt x="675" y="467"/>
                </a:lnTo>
                <a:lnTo>
                  <a:pt x="636" y="446"/>
                </a:lnTo>
                <a:lnTo>
                  <a:pt x="598" y="422"/>
                </a:lnTo>
                <a:lnTo>
                  <a:pt x="559" y="396"/>
                </a:lnTo>
                <a:lnTo>
                  <a:pt x="520" y="371"/>
                </a:lnTo>
                <a:lnTo>
                  <a:pt x="479" y="344"/>
                </a:lnTo>
                <a:lnTo>
                  <a:pt x="437" y="317"/>
                </a:lnTo>
                <a:lnTo>
                  <a:pt x="393" y="289"/>
                </a:lnTo>
                <a:lnTo>
                  <a:pt x="347" y="263"/>
                </a:lnTo>
                <a:lnTo>
                  <a:pt x="322" y="249"/>
                </a:lnTo>
                <a:lnTo>
                  <a:pt x="298" y="236"/>
                </a:lnTo>
                <a:lnTo>
                  <a:pt x="272" y="224"/>
                </a:lnTo>
                <a:lnTo>
                  <a:pt x="246" y="210"/>
                </a:lnTo>
                <a:lnTo>
                  <a:pt x="219" y="198"/>
                </a:lnTo>
                <a:lnTo>
                  <a:pt x="191" y="187"/>
                </a:lnTo>
                <a:lnTo>
                  <a:pt x="161" y="175"/>
                </a:lnTo>
                <a:lnTo>
                  <a:pt x="131" y="164"/>
                </a:lnTo>
                <a:lnTo>
                  <a:pt x="100" y="153"/>
                </a:lnTo>
                <a:lnTo>
                  <a:pt x="68" y="142"/>
                </a:lnTo>
                <a:lnTo>
                  <a:pt x="34" y="133"/>
                </a:lnTo>
                <a:lnTo>
                  <a:pt x="0" y="12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7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rot="14371200">
            <a:off x="6291720" y="326160"/>
            <a:ext cx="115920" cy="330480"/>
          </a:xfrm>
          <a:custGeom>
            <a:avLst/>
            <a:gdLst/>
            <a:ahLst/>
            <a:rect l="l" t="t" r="r" b="b"/>
            <a:pathLst>
              <a:path w="792" h="2198">
                <a:moveTo>
                  <a:pt x="792" y="0"/>
                </a:moveTo>
                <a:lnTo>
                  <a:pt x="750" y="53"/>
                </a:lnTo>
                <a:lnTo>
                  <a:pt x="683" y="128"/>
                </a:lnTo>
                <a:lnTo>
                  <a:pt x="619" y="202"/>
                </a:lnTo>
                <a:lnTo>
                  <a:pt x="559" y="276"/>
                </a:lnTo>
                <a:lnTo>
                  <a:pt x="500" y="348"/>
                </a:lnTo>
                <a:lnTo>
                  <a:pt x="443" y="420"/>
                </a:lnTo>
                <a:lnTo>
                  <a:pt x="390" y="491"/>
                </a:lnTo>
                <a:lnTo>
                  <a:pt x="339" y="562"/>
                </a:lnTo>
                <a:lnTo>
                  <a:pt x="292" y="632"/>
                </a:lnTo>
                <a:lnTo>
                  <a:pt x="248" y="701"/>
                </a:lnTo>
                <a:lnTo>
                  <a:pt x="207" y="770"/>
                </a:lnTo>
                <a:lnTo>
                  <a:pt x="169" y="838"/>
                </a:lnTo>
                <a:lnTo>
                  <a:pt x="135" y="905"/>
                </a:lnTo>
                <a:lnTo>
                  <a:pt x="104" y="972"/>
                </a:lnTo>
                <a:lnTo>
                  <a:pt x="77" y="1039"/>
                </a:lnTo>
                <a:lnTo>
                  <a:pt x="54" y="1104"/>
                </a:lnTo>
                <a:lnTo>
                  <a:pt x="35" y="1170"/>
                </a:lnTo>
                <a:lnTo>
                  <a:pt x="20" y="1236"/>
                </a:lnTo>
                <a:lnTo>
                  <a:pt x="9" y="1301"/>
                </a:lnTo>
                <a:lnTo>
                  <a:pt x="2" y="1366"/>
                </a:lnTo>
                <a:lnTo>
                  <a:pt x="0" y="1430"/>
                </a:lnTo>
                <a:lnTo>
                  <a:pt x="3" y="1494"/>
                </a:lnTo>
                <a:lnTo>
                  <a:pt x="10" y="1558"/>
                </a:lnTo>
                <a:lnTo>
                  <a:pt x="22" y="1623"/>
                </a:lnTo>
                <a:lnTo>
                  <a:pt x="39" y="1686"/>
                </a:lnTo>
                <a:lnTo>
                  <a:pt x="61" y="1750"/>
                </a:lnTo>
                <a:lnTo>
                  <a:pt x="87" y="1814"/>
                </a:lnTo>
                <a:lnTo>
                  <a:pt x="120" y="1878"/>
                </a:lnTo>
                <a:lnTo>
                  <a:pt x="157" y="1942"/>
                </a:lnTo>
                <a:lnTo>
                  <a:pt x="201" y="2005"/>
                </a:lnTo>
                <a:lnTo>
                  <a:pt x="250" y="2069"/>
                </a:lnTo>
                <a:lnTo>
                  <a:pt x="305" y="2134"/>
                </a:lnTo>
                <a:lnTo>
                  <a:pt x="365" y="2198"/>
                </a:lnTo>
                <a:lnTo>
                  <a:pt x="345" y="2104"/>
                </a:lnTo>
                <a:lnTo>
                  <a:pt x="328" y="2009"/>
                </a:lnTo>
                <a:lnTo>
                  <a:pt x="317" y="1914"/>
                </a:lnTo>
                <a:lnTo>
                  <a:pt x="311" y="1818"/>
                </a:lnTo>
                <a:lnTo>
                  <a:pt x="309" y="1722"/>
                </a:lnTo>
                <a:lnTo>
                  <a:pt x="310" y="1627"/>
                </a:lnTo>
                <a:lnTo>
                  <a:pt x="315" y="1531"/>
                </a:lnTo>
                <a:lnTo>
                  <a:pt x="323" y="1437"/>
                </a:lnTo>
                <a:lnTo>
                  <a:pt x="334" y="1343"/>
                </a:lnTo>
                <a:lnTo>
                  <a:pt x="349" y="1250"/>
                </a:lnTo>
                <a:lnTo>
                  <a:pt x="366" y="1159"/>
                </a:lnTo>
                <a:lnTo>
                  <a:pt x="385" y="1069"/>
                </a:lnTo>
                <a:lnTo>
                  <a:pt x="405" y="982"/>
                </a:lnTo>
                <a:lnTo>
                  <a:pt x="428" y="897"/>
                </a:lnTo>
                <a:lnTo>
                  <a:pt x="453" y="813"/>
                </a:lnTo>
                <a:lnTo>
                  <a:pt x="477" y="733"/>
                </a:lnTo>
                <a:lnTo>
                  <a:pt x="503" y="656"/>
                </a:lnTo>
                <a:lnTo>
                  <a:pt x="530" y="581"/>
                </a:lnTo>
                <a:lnTo>
                  <a:pt x="556" y="510"/>
                </a:lnTo>
                <a:lnTo>
                  <a:pt x="582" y="442"/>
                </a:lnTo>
                <a:lnTo>
                  <a:pt x="609" y="378"/>
                </a:lnTo>
                <a:lnTo>
                  <a:pt x="634" y="319"/>
                </a:lnTo>
                <a:lnTo>
                  <a:pt x="658" y="263"/>
                </a:lnTo>
                <a:lnTo>
                  <a:pt x="682" y="213"/>
                </a:lnTo>
                <a:lnTo>
                  <a:pt x="704" y="166"/>
                </a:lnTo>
                <a:lnTo>
                  <a:pt x="724" y="125"/>
                </a:lnTo>
                <a:lnTo>
                  <a:pt x="743" y="90"/>
                </a:lnTo>
                <a:lnTo>
                  <a:pt x="758" y="59"/>
                </a:lnTo>
                <a:lnTo>
                  <a:pt x="782" y="17"/>
                </a:lnTo>
                <a:lnTo>
                  <a:pt x="792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7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rot="14371200">
            <a:off x="6337080" y="366480"/>
            <a:ext cx="87480" cy="341280"/>
          </a:xfrm>
          <a:custGeom>
            <a:avLst/>
            <a:gdLst/>
            <a:ahLst/>
            <a:rect l="l" t="t" r="r" b="b"/>
            <a:pathLst>
              <a:path w="697" h="2464">
                <a:moveTo>
                  <a:pt x="175" y="2464"/>
                </a:moveTo>
                <a:lnTo>
                  <a:pt x="144" y="2390"/>
                </a:lnTo>
                <a:lnTo>
                  <a:pt x="117" y="2315"/>
                </a:lnTo>
                <a:lnTo>
                  <a:pt x="93" y="2240"/>
                </a:lnTo>
                <a:lnTo>
                  <a:pt x="71" y="2164"/>
                </a:lnTo>
                <a:lnTo>
                  <a:pt x="53" y="2087"/>
                </a:lnTo>
                <a:lnTo>
                  <a:pt x="37" y="2010"/>
                </a:lnTo>
                <a:lnTo>
                  <a:pt x="25" y="1932"/>
                </a:lnTo>
                <a:lnTo>
                  <a:pt x="15" y="1853"/>
                </a:lnTo>
                <a:lnTo>
                  <a:pt x="7" y="1774"/>
                </a:lnTo>
                <a:lnTo>
                  <a:pt x="2" y="1695"/>
                </a:lnTo>
                <a:lnTo>
                  <a:pt x="0" y="1616"/>
                </a:lnTo>
                <a:lnTo>
                  <a:pt x="1" y="1537"/>
                </a:lnTo>
                <a:lnTo>
                  <a:pt x="3" y="1456"/>
                </a:lnTo>
                <a:lnTo>
                  <a:pt x="8" y="1377"/>
                </a:lnTo>
                <a:lnTo>
                  <a:pt x="17" y="1297"/>
                </a:lnTo>
                <a:lnTo>
                  <a:pt x="26" y="1218"/>
                </a:lnTo>
                <a:lnTo>
                  <a:pt x="38" y="1138"/>
                </a:lnTo>
                <a:lnTo>
                  <a:pt x="52" y="1058"/>
                </a:lnTo>
                <a:lnTo>
                  <a:pt x="68" y="979"/>
                </a:lnTo>
                <a:lnTo>
                  <a:pt x="87" y="900"/>
                </a:lnTo>
                <a:lnTo>
                  <a:pt x="107" y="822"/>
                </a:lnTo>
                <a:lnTo>
                  <a:pt x="129" y="744"/>
                </a:lnTo>
                <a:lnTo>
                  <a:pt x="152" y="667"/>
                </a:lnTo>
                <a:lnTo>
                  <a:pt x="178" y="589"/>
                </a:lnTo>
                <a:lnTo>
                  <a:pt x="206" y="513"/>
                </a:lnTo>
                <a:lnTo>
                  <a:pt x="236" y="437"/>
                </a:lnTo>
                <a:lnTo>
                  <a:pt x="266" y="362"/>
                </a:lnTo>
                <a:lnTo>
                  <a:pt x="298" y="288"/>
                </a:lnTo>
                <a:lnTo>
                  <a:pt x="332" y="214"/>
                </a:lnTo>
                <a:lnTo>
                  <a:pt x="367" y="142"/>
                </a:lnTo>
                <a:lnTo>
                  <a:pt x="404" y="70"/>
                </a:lnTo>
                <a:lnTo>
                  <a:pt x="441" y="0"/>
                </a:lnTo>
                <a:lnTo>
                  <a:pt x="469" y="59"/>
                </a:lnTo>
                <a:lnTo>
                  <a:pt x="494" y="115"/>
                </a:lnTo>
                <a:lnTo>
                  <a:pt x="519" y="172"/>
                </a:lnTo>
                <a:lnTo>
                  <a:pt x="541" y="226"/>
                </a:lnTo>
                <a:lnTo>
                  <a:pt x="562" y="280"/>
                </a:lnTo>
                <a:lnTo>
                  <a:pt x="581" y="332"/>
                </a:lnTo>
                <a:lnTo>
                  <a:pt x="599" y="384"/>
                </a:lnTo>
                <a:lnTo>
                  <a:pt x="615" y="434"/>
                </a:lnTo>
                <a:lnTo>
                  <a:pt x="631" y="485"/>
                </a:lnTo>
                <a:lnTo>
                  <a:pt x="644" y="534"/>
                </a:lnTo>
                <a:lnTo>
                  <a:pt x="655" y="582"/>
                </a:lnTo>
                <a:lnTo>
                  <a:pt x="666" y="631"/>
                </a:lnTo>
                <a:lnTo>
                  <a:pt x="675" y="678"/>
                </a:lnTo>
                <a:lnTo>
                  <a:pt x="682" y="725"/>
                </a:lnTo>
                <a:lnTo>
                  <a:pt x="688" y="772"/>
                </a:lnTo>
                <a:lnTo>
                  <a:pt x="692" y="819"/>
                </a:lnTo>
                <a:lnTo>
                  <a:pt x="694" y="866"/>
                </a:lnTo>
                <a:lnTo>
                  <a:pt x="697" y="912"/>
                </a:lnTo>
                <a:lnTo>
                  <a:pt x="697" y="960"/>
                </a:lnTo>
                <a:lnTo>
                  <a:pt x="694" y="1007"/>
                </a:lnTo>
                <a:lnTo>
                  <a:pt x="691" y="1054"/>
                </a:lnTo>
                <a:lnTo>
                  <a:pt x="686" y="1102"/>
                </a:lnTo>
                <a:lnTo>
                  <a:pt x="680" y="1150"/>
                </a:lnTo>
                <a:lnTo>
                  <a:pt x="673" y="1198"/>
                </a:lnTo>
                <a:lnTo>
                  <a:pt x="664" y="1248"/>
                </a:lnTo>
                <a:lnTo>
                  <a:pt x="652" y="1297"/>
                </a:lnTo>
                <a:lnTo>
                  <a:pt x="640" y="1347"/>
                </a:lnTo>
                <a:lnTo>
                  <a:pt x="627" y="1399"/>
                </a:lnTo>
                <a:lnTo>
                  <a:pt x="611" y="1451"/>
                </a:lnTo>
                <a:lnTo>
                  <a:pt x="595" y="1505"/>
                </a:lnTo>
                <a:lnTo>
                  <a:pt x="576" y="1559"/>
                </a:lnTo>
                <a:lnTo>
                  <a:pt x="557" y="1615"/>
                </a:lnTo>
                <a:lnTo>
                  <a:pt x="548" y="1637"/>
                </a:lnTo>
                <a:lnTo>
                  <a:pt x="539" y="1659"/>
                </a:lnTo>
                <a:lnTo>
                  <a:pt x="529" y="1682"/>
                </a:lnTo>
                <a:lnTo>
                  <a:pt x="519" y="1703"/>
                </a:lnTo>
                <a:lnTo>
                  <a:pt x="497" y="1746"/>
                </a:lnTo>
                <a:lnTo>
                  <a:pt x="472" y="1790"/>
                </a:lnTo>
                <a:lnTo>
                  <a:pt x="447" y="1834"/>
                </a:lnTo>
                <a:lnTo>
                  <a:pt x="420" y="1879"/>
                </a:lnTo>
                <a:lnTo>
                  <a:pt x="393" y="1925"/>
                </a:lnTo>
                <a:lnTo>
                  <a:pt x="365" y="1973"/>
                </a:lnTo>
                <a:lnTo>
                  <a:pt x="338" y="2023"/>
                </a:lnTo>
                <a:lnTo>
                  <a:pt x="310" y="2076"/>
                </a:lnTo>
                <a:lnTo>
                  <a:pt x="296" y="2102"/>
                </a:lnTo>
                <a:lnTo>
                  <a:pt x="284" y="2131"/>
                </a:lnTo>
                <a:lnTo>
                  <a:pt x="271" y="2160"/>
                </a:lnTo>
                <a:lnTo>
                  <a:pt x="258" y="2189"/>
                </a:lnTo>
                <a:lnTo>
                  <a:pt x="246" y="2220"/>
                </a:lnTo>
                <a:lnTo>
                  <a:pt x="235" y="2251"/>
                </a:lnTo>
                <a:lnTo>
                  <a:pt x="223" y="2284"/>
                </a:lnTo>
                <a:lnTo>
                  <a:pt x="212" y="2318"/>
                </a:lnTo>
                <a:lnTo>
                  <a:pt x="202" y="2352"/>
                </a:lnTo>
                <a:lnTo>
                  <a:pt x="192" y="2388"/>
                </a:lnTo>
                <a:lnTo>
                  <a:pt x="183" y="2425"/>
                </a:lnTo>
                <a:lnTo>
                  <a:pt x="175" y="246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87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rot="15328800">
            <a:off x="1557720" y="1592640"/>
            <a:ext cx="738000" cy="978120"/>
          </a:xfrm>
          <a:custGeom>
            <a:avLst/>
            <a:gdLst/>
            <a:ahLst/>
            <a:rect l="l" t="t" r="r" b="b"/>
            <a:pathLst>
              <a:path w="5156" h="3904">
                <a:moveTo>
                  <a:pt x="3" y="3804"/>
                </a:moveTo>
                <a:lnTo>
                  <a:pt x="4" y="3820"/>
                </a:lnTo>
                <a:lnTo>
                  <a:pt x="5" y="3833"/>
                </a:lnTo>
                <a:lnTo>
                  <a:pt x="7" y="3845"/>
                </a:lnTo>
                <a:lnTo>
                  <a:pt x="9" y="3857"/>
                </a:lnTo>
                <a:lnTo>
                  <a:pt x="11" y="3866"/>
                </a:lnTo>
                <a:lnTo>
                  <a:pt x="14" y="3875"/>
                </a:lnTo>
                <a:lnTo>
                  <a:pt x="17" y="3882"/>
                </a:lnTo>
                <a:lnTo>
                  <a:pt x="20" y="3889"/>
                </a:lnTo>
                <a:lnTo>
                  <a:pt x="25" y="3894"/>
                </a:lnTo>
                <a:lnTo>
                  <a:pt x="29" y="3898"/>
                </a:lnTo>
                <a:lnTo>
                  <a:pt x="33" y="3900"/>
                </a:lnTo>
                <a:lnTo>
                  <a:pt x="38" y="3903"/>
                </a:lnTo>
                <a:lnTo>
                  <a:pt x="43" y="3904"/>
                </a:lnTo>
                <a:lnTo>
                  <a:pt x="47" y="3904"/>
                </a:lnTo>
                <a:lnTo>
                  <a:pt x="52" y="3904"/>
                </a:lnTo>
                <a:lnTo>
                  <a:pt x="57" y="3902"/>
                </a:lnTo>
                <a:lnTo>
                  <a:pt x="64" y="3901"/>
                </a:lnTo>
                <a:lnTo>
                  <a:pt x="69" y="3898"/>
                </a:lnTo>
                <a:lnTo>
                  <a:pt x="74" y="3895"/>
                </a:lnTo>
                <a:lnTo>
                  <a:pt x="79" y="3892"/>
                </a:lnTo>
                <a:lnTo>
                  <a:pt x="90" y="3882"/>
                </a:lnTo>
                <a:lnTo>
                  <a:pt x="101" y="3872"/>
                </a:lnTo>
                <a:lnTo>
                  <a:pt x="111" y="3861"/>
                </a:lnTo>
                <a:lnTo>
                  <a:pt x="120" y="3847"/>
                </a:lnTo>
                <a:lnTo>
                  <a:pt x="128" y="3835"/>
                </a:lnTo>
                <a:lnTo>
                  <a:pt x="136" y="3822"/>
                </a:lnTo>
                <a:lnTo>
                  <a:pt x="180" y="3760"/>
                </a:lnTo>
                <a:lnTo>
                  <a:pt x="228" y="3695"/>
                </a:lnTo>
                <a:lnTo>
                  <a:pt x="280" y="3628"/>
                </a:lnTo>
                <a:lnTo>
                  <a:pt x="332" y="3560"/>
                </a:lnTo>
                <a:lnTo>
                  <a:pt x="386" y="3494"/>
                </a:lnTo>
                <a:lnTo>
                  <a:pt x="439" y="3429"/>
                </a:lnTo>
                <a:lnTo>
                  <a:pt x="490" y="3366"/>
                </a:lnTo>
                <a:lnTo>
                  <a:pt x="538" y="3308"/>
                </a:lnTo>
                <a:lnTo>
                  <a:pt x="598" y="3272"/>
                </a:lnTo>
                <a:lnTo>
                  <a:pt x="661" y="3239"/>
                </a:lnTo>
                <a:lnTo>
                  <a:pt x="728" y="3208"/>
                </a:lnTo>
                <a:lnTo>
                  <a:pt x="799" y="3179"/>
                </a:lnTo>
                <a:lnTo>
                  <a:pt x="872" y="3151"/>
                </a:lnTo>
                <a:lnTo>
                  <a:pt x="948" y="3125"/>
                </a:lnTo>
                <a:lnTo>
                  <a:pt x="1026" y="3101"/>
                </a:lnTo>
                <a:lnTo>
                  <a:pt x="1108" y="3077"/>
                </a:lnTo>
                <a:lnTo>
                  <a:pt x="1190" y="3054"/>
                </a:lnTo>
                <a:lnTo>
                  <a:pt x="1275" y="3033"/>
                </a:lnTo>
                <a:lnTo>
                  <a:pt x="1363" y="3011"/>
                </a:lnTo>
                <a:lnTo>
                  <a:pt x="1451" y="2991"/>
                </a:lnTo>
                <a:lnTo>
                  <a:pt x="1632" y="2947"/>
                </a:lnTo>
                <a:lnTo>
                  <a:pt x="1818" y="2903"/>
                </a:lnTo>
                <a:lnTo>
                  <a:pt x="1913" y="2880"/>
                </a:lnTo>
                <a:lnTo>
                  <a:pt x="2008" y="2855"/>
                </a:lnTo>
                <a:lnTo>
                  <a:pt x="2102" y="2828"/>
                </a:lnTo>
                <a:lnTo>
                  <a:pt x="2198" y="2800"/>
                </a:lnTo>
                <a:lnTo>
                  <a:pt x="2293" y="2771"/>
                </a:lnTo>
                <a:lnTo>
                  <a:pt x="2387" y="2739"/>
                </a:lnTo>
                <a:lnTo>
                  <a:pt x="2482" y="2705"/>
                </a:lnTo>
                <a:lnTo>
                  <a:pt x="2576" y="2668"/>
                </a:lnTo>
                <a:lnTo>
                  <a:pt x="2669" y="2629"/>
                </a:lnTo>
                <a:lnTo>
                  <a:pt x="2762" y="2586"/>
                </a:lnTo>
                <a:lnTo>
                  <a:pt x="2852" y="2540"/>
                </a:lnTo>
                <a:lnTo>
                  <a:pt x="2942" y="2492"/>
                </a:lnTo>
                <a:lnTo>
                  <a:pt x="3030" y="2438"/>
                </a:lnTo>
                <a:lnTo>
                  <a:pt x="3117" y="2382"/>
                </a:lnTo>
                <a:lnTo>
                  <a:pt x="3201" y="2321"/>
                </a:lnTo>
                <a:lnTo>
                  <a:pt x="3284" y="2255"/>
                </a:lnTo>
                <a:lnTo>
                  <a:pt x="3310" y="2234"/>
                </a:lnTo>
                <a:lnTo>
                  <a:pt x="3336" y="2210"/>
                </a:lnTo>
                <a:lnTo>
                  <a:pt x="3362" y="2185"/>
                </a:lnTo>
                <a:lnTo>
                  <a:pt x="3388" y="2160"/>
                </a:lnTo>
                <a:lnTo>
                  <a:pt x="3415" y="2133"/>
                </a:lnTo>
                <a:lnTo>
                  <a:pt x="3441" y="2105"/>
                </a:lnTo>
                <a:lnTo>
                  <a:pt x="3467" y="2076"/>
                </a:lnTo>
                <a:lnTo>
                  <a:pt x="3494" y="2046"/>
                </a:lnTo>
                <a:lnTo>
                  <a:pt x="3521" y="2016"/>
                </a:lnTo>
                <a:lnTo>
                  <a:pt x="3549" y="1983"/>
                </a:lnTo>
                <a:lnTo>
                  <a:pt x="3575" y="1949"/>
                </a:lnTo>
                <a:lnTo>
                  <a:pt x="3603" y="1915"/>
                </a:lnTo>
                <a:lnTo>
                  <a:pt x="3660" y="1841"/>
                </a:lnTo>
                <a:lnTo>
                  <a:pt x="3717" y="1763"/>
                </a:lnTo>
                <a:lnTo>
                  <a:pt x="3776" y="1679"/>
                </a:lnTo>
                <a:lnTo>
                  <a:pt x="3838" y="1591"/>
                </a:lnTo>
                <a:lnTo>
                  <a:pt x="3900" y="1497"/>
                </a:lnTo>
                <a:lnTo>
                  <a:pt x="3966" y="1399"/>
                </a:lnTo>
                <a:lnTo>
                  <a:pt x="4034" y="1294"/>
                </a:lnTo>
                <a:lnTo>
                  <a:pt x="4106" y="1184"/>
                </a:lnTo>
                <a:lnTo>
                  <a:pt x="4179" y="1068"/>
                </a:lnTo>
                <a:lnTo>
                  <a:pt x="4257" y="947"/>
                </a:lnTo>
                <a:lnTo>
                  <a:pt x="4307" y="879"/>
                </a:lnTo>
                <a:lnTo>
                  <a:pt x="4359" y="802"/>
                </a:lnTo>
                <a:lnTo>
                  <a:pt x="4417" y="719"/>
                </a:lnTo>
                <a:lnTo>
                  <a:pt x="4476" y="632"/>
                </a:lnTo>
                <a:lnTo>
                  <a:pt x="4507" y="589"/>
                </a:lnTo>
                <a:lnTo>
                  <a:pt x="4539" y="546"/>
                </a:lnTo>
                <a:lnTo>
                  <a:pt x="4571" y="503"/>
                </a:lnTo>
                <a:lnTo>
                  <a:pt x="4603" y="462"/>
                </a:lnTo>
                <a:lnTo>
                  <a:pt x="4636" y="420"/>
                </a:lnTo>
                <a:lnTo>
                  <a:pt x="4669" y="381"/>
                </a:lnTo>
                <a:lnTo>
                  <a:pt x="4703" y="344"/>
                </a:lnTo>
                <a:lnTo>
                  <a:pt x="4736" y="310"/>
                </a:lnTo>
                <a:lnTo>
                  <a:pt x="4748" y="299"/>
                </a:lnTo>
                <a:lnTo>
                  <a:pt x="4759" y="289"/>
                </a:lnTo>
                <a:lnTo>
                  <a:pt x="4772" y="280"/>
                </a:lnTo>
                <a:lnTo>
                  <a:pt x="4784" y="270"/>
                </a:lnTo>
                <a:lnTo>
                  <a:pt x="4796" y="262"/>
                </a:lnTo>
                <a:lnTo>
                  <a:pt x="4810" y="254"/>
                </a:lnTo>
                <a:lnTo>
                  <a:pt x="4823" y="248"/>
                </a:lnTo>
                <a:lnTo>
                  <a:pt x="4835" y="240"/>
                </a:lnTo>
                <a:lnTo>
                  <a:pt x="4862" y="229"/>
                </a:lnTo>
                <a:lnTo>
                  <a:pt x="4890" y="219"/>
                </a:lnTo>
                <a:lnTo>
                  <a:pt x="4918" y="210"/>
                </a:lnTo>
                <a:lnTo>
                  <a:pt x="4945" y="201"/>
                </a:lnTo>
                <a:lnTo>
                  <a:pt x="5001" y="189"/>
                </a:lnTo>
                <a:lnTo>
                  <a:pt x="5056" y="177"/>
                </a:lnTo>
                <a:lnTo>
                  <a:pt x="5082" y="169"/>
                </a:lnTo>
                <a:lnTo>
                  <a:pt x="5108" y="163"/>
                </a:lnTo>
                <a:lnTo>
                  <a:pt x="5133" y="155"/>
                </a:lnTo>
                <a:lnTo>
                  <a:pt x="5156" y="146"/>
                </a:lnTo>
                <a:lnTo>
                  <a:pt x="5136" y="126"/>
                </a:lnTo>
                <a:lnTo>
                  <a:pt x="5115" y="108"/>
                </a:lnTo>
                <a:lnTo>
                  <a:pt x="5094" y="91"/>
                </a:lnTo>
                <a:lnTo>
                  <a:pt x="5071" y="76"/>
                </a:lnTo>
                <a:lnTo>
                  <a:pt x="5048" y="61"/>
                </a:lnTo>
                <a:lnTo>
                  <a:pt x="5026" y="50"/>
                </a:lnTo>
                <a:lnTo>
                  <a:pt x="5002" y="39"/>
                </a:lnTo>
                <a:lnTo>
                  <a:pt x="4978" y="30"/>
                </a:lnTo>
                <a:lnTo>
                  <a:pt x="4954" y="21"/>
                </a:lnTo>
                <a:lnTo>
                  <a:pt x="4929" y="14"/>
                </a:lnTo>
                <a:lnTo>
                  <a:pt x="4904" y="9"/>
                </a:lnTo>
                <a:lnTo>
                  <a:pt x="4879" y="5"/>
                </a:lnTo>
                <a:lnTo>
                  <a:pt x="4853" y="2"/>
                </a:lnTo>
                <a:lnTo>
                  <a:pt x="4827" y="1"/>
                </a:lnTo>
                <a:lnTo>
                  <a:pt x="4800" y="0"/>
                </a:lnTo>
                <a:lnTo>
                  <a:pt x="4774" y="1"/>
                </a:lnTo>
                <a:lnTo>
                  <a:pt x="4746" y="3"/>
                </a:lnTo>
                <a:lnTo>
                  <a:pt x="4718" y="6"/>
                </a:lnTo>
                <a:lnTo>
                  <a:pt x="4690" y="10"/>
                </a:lnTo>
                <a:lnTo>
                  <a:pt x="4663" y="15"/>
                </a:lnTo>
                <a:lnTo>
                  <a:pt x="4634" y="21"/>
                </a:lnTo>
                <a:lnTo>
                  <a:pt x="4605" y="29"/>
                </a:lnTo>
                <a:lnTo>
                  <a:pt x="4576" y="37"/>
                </a:lnTo>
                <a:lnTo>
                  <a:pt x="4546" y="46"/>
                </a:lnTo>
                <a:lnTo>
                  <a:pt x="4517" y="56"/>
                </a:lnTo>
                <a:lnTo>
                  <a:pt x="4487" y="68"/>
                </a:lnTo>
                <a:lnTo>
                  <a:pt x="4456" y="80"/>
                </a:lnTo>
                <a:lnTo>
                  <a:pt x="4426" y="92"/>
                </a:lnTo>
                <a:lnTo>
                  <a:pt x="4395" y="106"/>
                </a:lnTo>
                <a:lnTo>
                  <a:pt x="4364" y="121"/>
                </a:lnTo>
                <a:lnTo>
                  <a:pt x="4332" y="136"/>
                </a:lnTo>
                <a:lnTo>
                  <a:pt x="4302" y="152"/>
                </a:lnTo>
                <a:lnTo>
                  <a:pt x="4092" y="154"/>
                </a:lnTo>
                <a:lnTo>
                  <a:pt x="3883" y="156"/>
                </a:lnTo>
                <a:lnTo>
                  <a:pt x="3677" y="160"/>
                </a:lnTo>
                <a:lnTo>
                  <a:pt x="3474" y="166"/>
                </a:lnTo>
                <a:lnTo>
                  <a:pt x="3272" y="175"/>
                </a:lnTo>
                <a:lnTo>
                  <a:pt x="3073" y="186"/>
                </a:lnTo>
                <a:lnTo>
                  <a:pt x="2878" y="201"/>
                </a:lnTo>
                <a:lnTo>
                  <a:pt x="2687" y="220"/>
                </a:lnTo>
                <a:lnTo>
                  <a:pt x="2499" y="244"/>
                </a:lnTo>
                <a:lnTo>
                  <a:pt x="2316" y="272"/>
                </a:lnTo>
                <a:lnTo>
                  <a:pt x="2137" y="306"/>
                </a:lnTo>
                <a:lnTo>
                  <a:pt x="1965" y="347"/>
                </a:lnTo>
                <a:lnTo>
                  <a:pt x="1796" y="395"/>
                </a:lnTo>
                <a:lnTo>
                  <a:pt x="1634" y="449"/>
                </a:lnTo>
                <a:lnTo>
                  <a:pt x="1478" y="512"/>
                </a:lnTo>
                <a:lnTo>
                  <a:pt x="1329" y="582"/>
                </a:lnTo>
                <a:lnTo>
                  <a:pt x="1186" y="662"/>
                </a:lnTo>
                <a:lnTo>
                  <a:pt x="1050" y="751"/>
                </a:lnTo>
                <a:lnTo>
                  <a:pt x="922" y="849"/>
                </a:lnTo>
                <a:lnTo>
                  <a:pt x="802" y="959"/>
                </a:lnTo>
                <a:lnTo>
                  <a:pt x="690" y="1080"/>
                </a:lnTo>
                <a:lnTo>
                  <a:pt x="586" y="1211"/>
                </a:lnTo>
                <a:lnTo>
                  <a:pt x="492" y="1355"/>
                </a:lnTo>
                <a:lnTo>
                  <a:pt x="406" y="1513"/>
                </a:lnTo>
                <a:lnTo>
                  <a:pt x="331" y="1682"/>
                </a:lnTo>
                <a:lnTo>
                  <a:pt x="265" y="1865"/>
                </a:lnTo>
                <a:lnTo>
                  <a:pt x="210" y="2064"/>
                </a:lnTo>
                <a:lnTo>
                  <a:pt x="166" y="2276"/>
                </a:lnTo>
                <a:lnTo>
                  <a:pt x="132" y="2504"/>
                </a:lnTo>
                <a:lnTo>
                  <a:pt x="109" y="2747"/>
                </a:lnTo>
                <a:lnTo>
                  <a:pt x="99" y="3007"/>
                </a:lnTo>
                <a:lnTo>
                  <a:pt x="100" y="3284"/>
                </a:lnTo>
                <a:lnTo>
                  <a:pt x="85" y="3325"/>
                </a:lnTo>
                <a:lnTo>
                  <a:pt x="73" y="3365"/>
                </a:lnTo>
                <a:lnTo>
                  <a:pt x="61" y="3403"/>
                </a:lnTo>
                <a:lnTo>
                  <a:pt x="49" y="3441"/>
                </a:lnTo>
                <a:lnTo>
                  <a:pt x="39" y="3477"/>
                </a:lnTo>
                <a:lnTo>
                  <a:pt x="31" y="3512"/>
                </a:lnTo>
                <a:lnTo>
                  <a:pt x="23" y="3547"/>
                </a:lnTo>
                <a:lnTo>
                  <a:pt x="16" y="3580"/>
                </a:lnTo>
                <a:lnTo>
                  <a:pt x="11" y="3612"/>
                </a:lnTo>
                <a:lnTo>
                  <a:pt x="6" y="3643"/>
                </a:lnTo>
                <a:lnTo>
                  <a:pt x="3" y="3673"/>
                </a:lnTo>
                <a:lnTo>
                  <a:pt x="1" y="3701"/>
                </a:lnTo>
                <a:lnTo>
                  <a:pt x="0" y="3728"/>
                </a:lnTo>
                <a:lnTo>
                  <a:pt x="0" y="3755"/>
                </a:lnTo>
                <a:lnTo>
                  <a:pt x="1" y="3781"/>
                </a:lnTo>
                <a:lnTo>
                  <a:pt x="3" y="3804"/>
                </a:lnTo>
              </a:path>
            </a:pathLst>
          </a:custGeom>
          <a:solidFill>
            <a:srgbClr val="003366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rot="15328800">
            <a:off x="1497240" y="1589400"/>
            <a:ext cx="738000" cy="977760"/>
          </a:xfrm>
          <a:custGeom>
            <a:avLst/>
            <a:gdLst/>
            <a:ahLst/>
            <a:rect l="l" t="t" r="r" b="b"/>
            <a:pathLst>
              <a:path w="5156" h="3904">
                <a:moveTo>
                  <a:pt x="3" y="3804"/>
                </a:moveTo>
                <a:lnTo>
                  <a:pt x="4" y="3820"/>
                </a:lnTo>
                <a:lnTo>
                  <a:pt x="5" y="3833"/>
                </a:lnTo>
                <a:lnTo>
                  <a:pt x="7" y="3845"/>
                </a:lnTo>
                <a:lnTo>
                  <a:pt x="9" y="3857"/>
                </a:lnTo>
                <a:lnTo>
                  <a:pt x="11" y="3866"/>
                </a:lnTo>
                <a:lnTo>
                  <a:pt x="14" y="3875"/>
                </a:lnTo>
                <a:lnTo>
                  <a:pt x="17" y="3882"/>
                </a:lnTo>
                <a:lnTo>
                  <a:pt x="20" y="3889"/>
                </a:lnTo>
                <a:lnTo>
                  <a:pt x="25" y="3894"/>
                </a:lnTo>
                <a:lnTo>
                  <a:pt x="29" y="3898"/>
                </a:lnTo>
                <a:lnTo>
                  <a:pt x="33" y="3900"/>
                </a:lnTo>
                <a:lnTo>
                  <a:pt x="38" y="3903"/>
                </a:lnTo>
                <a:lnTo>
                  <a:pt x="43" y="3904"/>
                </a:lnTo>
                <a:lnTo>
                  <a:pt x="47" y="3904"/>
                </a:lnTo>
                <a:lnTo>
                  <a:pt x="52" y="3904"/>
                </a:lnTo>
                <a:lnTo>
                  <a:pt x="57" y="3902"/>
                </a:lnTo>
                <a:lnTo>
                  <a:pt x="64" y="3901"/>
                </a:lnTo>
                <a:lnTo>
                  <a:pt x="69" y="3898"/>
                </a:lnTo>
                <a:lnTo>
                  <a:pt x="74" y="3895"/>
                </a:lnTo>
                <a:lnTo>
                  <a:pt x="79" y="3892"/>
                </a:lnTo>
                <a:lnTo>
                  <a:pt x="90" y="3882"/>
                </a:lnTo>
                <a:lnTo>
                  <a:pt x="101" y="3872"/>
                </a:lnTo>
                <a:lnTo>
                  <a:pt x="111" y="3861"/>
                </a:lnTo>
                <a:lnTo>
                  <a:pt x="120" y="3847"/>
                </a:lnTo>
                <a:lnTo>
                  <a:pt x="128" y="3835"/>
                </a:lnTo>
                <a:lnTo>
                  <a:pt x="136" y="3822"/>
                </a:lnTo>
                <a:lnTo>
                  <a:pt x="180" y="3760"/>
                </a:lnTo>
                <a:lnTo>
                  <a:pt x="228" y="3695"/>
                </a:lnTo>
                <a:lnTo>
                  <a:pt x="280" y="3628"/>
                </a:lnTo>
                <a:lnTo>
                  <a:pt x="332" y="3560"/>
                </a:lnTo>
                <a:lnTo>
                  <a:pt x="386" y="3494"/>
                </a:lnTo>
                <a:lnTo>
                  <a:pt x="439" y="3429"/>
                </a:lnTo>
                <a:lnTo>
                  <a:pt x="490" y="3366"/>
                </a:lnTo>
                <a:lnTo>
                  <a:pt x="538" y="3308"/>
                </a:lnTo>
                <a:lnTo>
                  <a:pt x="598" y="3272"/>
                </a:lnTo>
                <a:lnTo>
                  <a:pt x="661" y="3239"/>
                </a:lnTo>
                <a:lnTo>
                  <a:pt x="728" y="3208"/>
                </a:lnTo>
                <a:lnTo>
                  <a:pt x="799" y="3179"/>
                </a:lnTo>
                <a:lnTo>
                  <a:pt x="872" y="3151"/>
                </a:lnTo>
                <a:lnTo>
                  <a:pt x="948" y="3125"/>
                </a:lnTo>
                <a:lnTo>
                  <a:pt x="1026" y="3101"/>
                </a:lnTo>
                <a:lnTo>
                  <a:pt x="1108" y="3077"/>
                </a:lnTo>
                <a:lnTo>
                  <a:pt x="1190" y="3054"/>
                </a:lnTo>
                <a:lnTo>
                  <a:pt x="1275" y="3033"/>
                </a:lnTo>
                <a:lnTo>
                  <a:pt x="1363" y="3011"/>
                </a:lnTo>
                <a:lnTo>
                  <a:pt x="1451" y="2991"/>
                </a:lnTo>
                <a:lnTo>
                  <a:pt x="1632" y="2947"/>
                </a:lnTo>
                <a:lnTo>
                  <a:pt x="1818" y="2903"/>
                </a:lnTo>
                <a:lnTo>
                  <a:pt x="1913" y="2880"/>
                </a:lnTo>
                <a:lnTo>
                  <a:pt x="2008" y="2855"/>
                </a:lnTo>
                <a:lnTo>
                  <a:pt x="2102" y="2828"/>
                </a:lnTo>
                <a:lnTo>
                  <a:pt x="2198" y="2800"/>
                </a:lnTo>
                <a:lnTo>
                  <a:pt x="2293" y="2771"/>
                </a:lnTo>
                <a:lnTo>
                  <a:pt x="2387" y="2739"/>
                </a:lnTo>
                <a:lnTo>
                  <a:pt x="2482" y="2705"/>
                </a:lnTo>
                <a:lnTo>
                  <a:pt x="2576" y="2668"/>
                </a:lnTo>
                <a:lnTo>
                  <a:pt x="2669" y="2629"/>
                </a:lnTo>
                <a:lnTo>
                  <a:pt x="2762" y="2586"/>
                </a:lnTo>
                <a:lnTo>
                  <a:pt x="2852" y="2540"/>
                </a:lnTo>
                <a:lnTo>
                  <a:pt x="2942" y="2492"/>
                </a:lnTo>
                <a:lnTo>
                  <a:pt x="3030" y="2438"/>
                </a:lnTo>
                <a:lnTo>
                  <a:pt x="3117" y="2382"/>
                </a:lnTo>
                <a:lnTo>
                  <a:pt x="3201" y="2321"/>
                </a:lnTo>
                <a:lnTo>
                  <a:pt x="3284" y="2255"/>
                </a:lnTo>
                <a:lnTo>
                  <a:pt x="3310" y="2234"/>
                </a:lnTo>
                <a:lnTo>
                  <a:pt x="3336" y="2210"/>
                </a:lnTo>
                <a:lnTo>
                  <a:pt x="3362" y="2185"/>
                </a:lnTo>
                <a:lnTo>
                  <a:pt x="3388" y="2160"/>
                </a:lnTo>
                <a:lnTo>
                  <a:pt x="3415" y="2133"/>
                </a:lnTo>
                <a:lnTo>
                  <a:pt x="3441" y="2105"/>
                </a:lnTo>
                <a:lnTo>
                  <a:pt x="3467" y="2076"/>
                </a:lnTo>
                <a:lnTo>
                  <a:pt x="3494" y="2046"/>
                </a:lnTo>
                <a:lnTo>
                  <a:pt x="3521" y="2016"/>
                </a:lnTo>
                <a:lnTo>
                  <a:pt x="3549" y="1983"/>
                </a:lnTo>
                <a:lnTo>
                  <a:pt x="3575" y="1949"/>
                </a:lnTo>
                <a:lnTo>
                  <a:pt x="3603" y="1915"/>
                </a:lnTo>
                <a:lnTo>
                  <a:pt x="3660" y="1841"/>
                </a:lnTo>
                <a:lnTo>
                  <a:pt x="3717" y="1763"/>
                </a:lnTo>
                <a:lnTo>
                  <a:pt x="3776" y="1679"/>
                </a:lnTo>
                <a:lnTo>
                  <a:pt x="3838" y="1591"/>
                </a:lnTo>
                <a:lnTo>
                  <a:pt x="3900" y="1497"/>
                </a:lnTo>
                <a:lnTo>
                  <a:pt x="3966" y="1399"/>
                </a:lnTo>
                <a:lnTo>
                  <a:pt x="4034" y="1294"/>
                </a:lnTo>
                <a:lnTo>
                  <a:pt x="4106" y="1184"/>
                </a:lnTo>
                <a:lnTo>
                  <a:pt x="4179" y="1068"/>
                </a:lnTo>
                <a:lnTo>
                  <a:pt x="4257" y="947"/>
                </a:lnTo>
                <a:lnTo>
                  <a:pt x="4307" y="879"/>
                </a:lnTo>
                <a:lnTo>
                  <a:pt x="4359" y="802"/>
                </a:lnTo>
                <a:lnTo>
                  <a:pt x="4417" y="719"/>
                </a:lnTo>
                <a:lnTo>
                  <a:pt x="4476" y="632"/>
                </a:lnTo>
                <a:lnTo>
                  <a:pt x="4507" y="589"/>
                </a:lnTo>
                <a:lnTo>
                  <a:pt x="4539" y="546"/>
                </a:lnTo>
                <a:lnTo>
                  <a:pt x="4571" y="503"/>
                </a:lnTo>
                <a:lnTo>
                  <a:pt x="4603" y="462"/>
                </a:lnTo>
                <a:lnTo>
                  <a:pt x="4636" y="420"/>
                </a:lnTo>
                <a:lnTo>
                  <a:pt x="4669" y="381"/>
                </a:lnTo>
                <a:lnTo>
                  <a:pt x="4703" y="344"/>
                </a:lnTo>
                <a:lnTo>
                  <a:pt x="4736" y="310"/>
                </a:lnTo>
                <a:lnTo>
                  <a:pt x="4748" y="299"/>
                </a:lnTo>
                <a:lnTo>
                  <a:pt x="4759" y="289"/>
                </a:lnTo>
                <a:lnTo>
                  <a:pt x="4772" y="280"/>
                </a:lnTo>
                <a:lnTo>
                  <a:pt x="4784" y="270"/>
                </a:lnTo>
                <a:lnTo>
                  <a:pt x="4796" y="262"/>
                </a:lnTo>
                <a:lnTo>
                  <a:pt x="4810" y="254"/>
                </a:lnTo>
                <a:lnTo>
                  <a:pt x="4823" y="248"/>
                </a:lnTo>
                <a:lnTo>
                  <a:pt x="4835" y="240"/>
                </a:lnTo>
                <a:lnTo>
                  <a:pt x="4862" y="229"/>
                </a:lnTo>
                <a:lnTo>
                  <a:pt x="4890" y="219"/>
                </a:lnTo>
                <a:lnTo>
                  <a:pt x="4918" y="210"/>
                </a:lnTo>
                <a:lnTo>
                  <a:pt x="4945" y="201"/>
                </a:lnTo>
                <a:lnTo>
                  <a:pt x="5001" y="189"/>
                </a:lnTo>
                <a:lnTo>
                  <a:pt x="5056" y="177"/>
                </a:lnTo>
                <a:lnTo>
                  <a:pt x="5082" y="169"/>
                </a:lnTo>
                <a:lnTo>
                  <a:pt x="5108" y="163"/>
                </a:lnTo>
                <a:lnTo>
                  <a:pt x="5133" y="155"/>
                </a:lnTo>
                <a:lnTo>
                  <a:pt x="5156" y="146"/>
                </a:lnTo>
                <a:lnTo>
                  <a:pt x="5136" y="126"/>
                </a:lnTo>
                <a:lnTo>
                  <a:pt x="5115" y="108"/>
                </a:lnTo>
                <a:lnTo>
                  <a:pt x="5094" y="91"/>
                </a:lnTo>
                <a:lnTo>
                  <a:pt x="5071" y="76"/>
                </a:lnTo>
                <a:lnTo>
                  <a:pt x="5048" y="61"/>
                </a:lnTo>
                <a:lnTo>
                  <a:pt x="5026" y="50"/>
                </a:lnTo>
                <a:lnTo>
                  <a:pt x="5002" y="39"/>
                </a:lnTo>
                <a:lnTo>
                  <a:pt x="4978" y="30"/>
                </a:lnTo>
                <a:lnTo>
                  <a:pt x="4954" y="21"/>
                </a:lnTo>
                <a:lnTo>
                  <a:pt x="4929" y="14"/>
                </a:lnTo>
                <a:lnTo>
                  <a:pt x="4904" y="9"/>
                </a:lnTo>
                <a:lnTo>
                  <a:pt x="4879" y="5"/>
                </a:lnTo>
                <a:lnTo>
                  <a:pt x="4853" y="2"/>
                </a:lnTo>
                <a:lnTo>
                  <a:pt x="4827" y="1"/>
                </a:lnTo>
                <a:lnTo>
                  <a:pt x="4800" y="0"/>
                </a:lnTo>
                <a:lnTo>
                  <a:pt x="4774" y="1"/>
                </a:lnTo>
                <a:lnTo>
                  <a:pt x="4746" y="3"/>
                </a:lnTo>
                <a:lnTo>
                  <a:pt x="4718" y="6"/>
                </a:lnTo>
                <a:lnTo>
                  <a:pt x="4690" y="10"/>
                </a:lnTo>
                <a:lnTo>
                  <a:pt x="4663" y="15"/>
                </a:lnTo>
                <a:lnTo>
                  <a:pt x="4634" y="21"/>
                </a:lnTo>
                <a:lnTo>
                  <a:pt x="4605" y="29"/>
                </a:lnTo>
                <a:lnTo>
                  <a:pt x="4576" y="37"/>
                </a:lnTo>
                <a:lnTo>
                  <a:pt x="4546" y="46"/>
                </a:lnTo>
                <a:lnTo>
                  <a:pt x="4517" y="56"/>
                </a:lnTo>
                <a:lnTo>
                  <a:pt x="4487" y="68"/>
                </a:lnTo>
                <a:lnTo>
                  <a:pt x="4456" y="80"/>
                </a:lnTo>
                <a:lnTo>
                  <a:pt x="4426" y="92"/>
                </a:lnTo>
                <a:lnTo>
                  <a:pt x="4395" y="106"/>
                </a:lnTo>
                <a:lnTo>
                  <a:pt x="4364" y="121"/>
                </a:lnTo>
                <a:lnTo>
                  <a:pt x="4332" y="136"/>
                </a:lnTo>
                <a:lnTo>
                  <a:pt x="4302" y="152"/>
                </a:lnTo>
                <a:lnTo>
                  <a:pt x="4092" y="154"/>
                </a:lnTo>
                <a:lnTo>
                  <a:pt x="3883" y="156"/>
                </a:lnTo>
                <a:lnTo>
                  <a:pt x="3677" y="160"/>
                </a:lnTo>
                <a:lnTo>
                  <a:pt x="3474" y="166"/>
                </a:lnTo>
                <a:lnTo>
                  <a:pt x="3272" y="175"/>
                </a:lnTo>
                <a:lnTo>
                  <a:pt x="3073" y="186"/>
                </a:lnTo>
                <a:lnTo>
                  <a:pt x="2878" y="201"/>
                </a:lnTo>
                <a:lnTo>
                  <a:pt x="2687" y="220"/>
                </a:lnTo>
                <a:lnTo>
                  <a:pt x="2499" y="244"/>
                </a:lnTo>
                <a:lnTo>
                  <a:pt x="2316" y="272"/>
                </a:lnTo>
                <a:lnTo>
                  <a:pt x="2137" y="306"/>
                </a:lnTo>
                <a:lnTo>
                  <a:pt x="1965" y="347"/>
                </a:lnTo>
                <a:lnTo>
                  <a:pt x="1796" y="395"/>
                </a:lnTo>
                <a:lnTo>
                  <a:pt x="1634" y="449"/>
                </a:lnTo>
                <a:lnTo>
                  <a:pt x="1478" y="512"/>
                </a:lnTo>
                <a:lnTo>
                  <a:pt x="1329" y="582"/>
                </a:lnTo>
                <a:lnTo>
                  <a:pt x="1186" y="662"/>
                </a:lnTo>
                <a:lnTo>
                  <a:pt x="1050" y="751"/>
                </a:lnTo>
                <a:lnTo>
                  <a:pt x="922" y="849"/>
                </a:lnTo>
                <a:lnTo>
                  <a:pt x="802" y="959"/>
                </a:lnTo>
                <a:lnTo>
                  <a:pt x="690" y="1080"/>
                </a:lnTo>
                <a:lnTo>
                  <a:pt x="586" y="1211"/>
                </a:lnTo>
                <a:lnTo>
                  <a:pt x="492" y="1355"/>
                </a:lnTo>
                <a:lnTo>
                  <a:pt x="406" y="1513"/>
                </a:lnTo>
                <a:lnTo>
                  <a:pt x="331" y="1682"/>
                </a:lnTo>
                <a:lnTo>
                  <a:pt x="265" y="1865"/>
                </a:lnTo>
                <a:lnTo>
                  <a:pt x="210" y="2064"/>
                </a:lnTo>
                <a:lnTo>
                  <a:pt x="166" y="2276"/>
                </a:lnTo>
                <a:lnTo>
                  <a:pt x="132" y="2504"/>
                </a:lnTo>
                <a:lnTo>
                  <a:pt x="109" y="2747"/>
                </a:lnTo>
                <a:lnTo>
                  <a:pt x="99" y="3007"/>
                </a:lnTo>
                <a:lnTo>
                  <a:pt x="100" y="3284"/>
                </a:lnTo>
                <a:lnTo>
                  <a:pt x="85" y="3325"/>
                </a:lnTo>
                <a:lnTo>
                  <a:pt x="73" y="3365"/>
                </a:lnTo>
                <a:lnTo>
                  <a:pt x="61" y="3403"/>
                </a:lnTo>
                <a:lnTo>
                  <a:pt x="49" y="3441"/>
                </a:lnTo>
                <a:lnTo>
                  <a:pt x="39" y="3477"/>
                </a:lnTo>
                <a:lnTo>
                  <a:pt x="31" y="3512"/>
                </a:lnTo>
                <a:lnTo>
                  <a:pt x="23" y="3547"/>
                </a:lnTo>
                <a:lnTo>
                  <a:pt x="16" y="3580"/>
                </a:lnTo>
                <a:lnTo>
                  <a:pt x="11" y="3612"/>
                </a:lnTo>
                <a:lnTo>
                  <a:pt x="6" y="3643"/>
                </a:lnTo>
                <a:lnTo>
                  <a:pt x="3" y="3673"/>
                </a:lnTo>
                <a:lnTo>
                  <a:pt x="1" y="3701"/>
                </a:lnTo>
                <a:lnTo>
                  <a:pt x="0" y="3728"/>
                </a:lnTo>
                <a:lnTo>
                  <a:pt x="0" y="3755"/>
                </a:lnTo>
                <a:lnTo>
                  <a:pt x="1" y="3781"/>
                </a:lnTo>
                <a:lnTo>
                  <a:pt x="3" y="3804"/>
                </a:lnTo>
              </a:path>
            </a:pathLst>
          </a:custGeom>
          <a:solidFill>
            <a:srgbClr val="7586b1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rot="15328800">
            <a:off x="1463760" y="1740600"/>
            <a:ext cx="527040" cy="563760"/>
          </a:xfrm>
          <a:custGeom>
            <a:avLst/>
            <a:gdLst/>
            <a:ahLst/>
            <a:rect l="l" t="t" r="r" b="b"/>
            <a:pathLst>
              <a:path w="3736" h="2244">
                <a:moveTo>
                  <a:pt x="3736" y="0"/>
                </a:moveTo>
                <a:lnTo>
                  <a:pt x="3603" y="8"/>
                </a:lnTo>
                <a:lnTo>
                  <a:pt x="3408" y="11"/>
                </a:lnTo>
                <a:lnTo>
                  <a:pt x="3218" y="15"/>
                </a:lnTo>
                <a:lnTo>
                  <a:pt x="3032" y="22"/>
                </a:lnTo>
                <a:lnTo>
                  <a:pt x="2850" y="32"/>
                </a:lnTo>
                <a:lnTo>
                  <a:pt x="2673" y="44"/>
                </a:lnTo>
                <a:lnTo>
                  <a:pt x="2501" y="60"/>
                </a:lnTo>
                <a:lnTo>
                  <a:pt x="2333" y="78"/>
                </a:lnTo>
                <a:lnTo>
                  <a:pt x="2170" y="100"/>
                </a:lnTo>
                <a:lnTo>
                  <a:pt x="2012" y="126"/>
                </a:lnTo>
                <a:lnTo>
                  <a:pt x="1860" y="156"/>
                </a:lnTo>
                <a:lnTo>
                  <a:pt x="1712" y="190"/>
                </a:lnTo>
                <a:lnTo>
                  <a:pt x="1570" y="228"/>
                </a:lnTo>
                <a:lnTo>
                  <a:pt x="1433" y="271"/>
                </a:lnTo>
                <a:lnTo>
                  <a:pt x="1303" y="318"/>
                </a:lnTo>
                <a:lnTo>
                  <a:pt x="1176" y="371"/>
                </a:lnTo>
                <a:lnTo>
                  <a:pt x="1057" y="429"/>
                </a:lnTo>
                <a:lnTo>
                  <a:pt x="943" y="492"/>
                </a:lnTo>
                <a:lnTo>
                  <a:pt x="835" y="561"/>
                </a:lnTo>
                <a:lnTo>
                  <a:pt x="732" y="636"/>
                </a:lnTo>
                <a:lnTo>
                  <a:pt x="636" y="717"/>
                </a:lnTo>
                <a:lnTo>
                  <a:pt x="547" y="805"/>
                </a:lnTo>
                <a:lnTo>
                  <a:pt x="463" y="898"/>
                </a:lnTo>
                <a:lnTo>
                  <a:pt x="386" y="999"/>
                </a:lnTo>
                <a:lnTo>
                  <a:pt x="315" y="1106"/>
                </a:lnTo>
                <a:lnTo>
                  <a:pt x="251" y="1221"/>
                </a:lnTo>
                <a:lnTo>
                  <a:pt x="195" y="1343"/>
                </a:lnTo>
                <a:lnTo>
                  <a:pt x="144" y="1473"/>
                </a:lnTo>
                <a:lnTo>
                  <a:pt x="101" y="1611"/>
                </a:lnTo>
                <a:lnTo>
                  <a:pt x="65" y="1757"/>
                </a:lnTo>
                <a:lnTo>
                  <a:pt x="36" y="1910"/>
                </a:lnTo>
                <a:lnTo>
                  <a:pt x="15" y="2074"/>
                </a:lnTo>
                <a:lnTo>
                  <a:pt x="0" y="2244"/>
                </a:lnTo>
                <a:lnTo>
                  <a:pt x="109" y="2092"/>
                </a:lnTo>
                <a:lnTo>
                  <a:pt x="226" y="1945"/>
                </a:lnTo>
                <a:lnTo>
                  <a:pt x="349" y="1805"/>
                </a:lnTo>
                <a:lnTo>
                  <a:pt x="479" y="1671"/>
                </a:lnTo>
                <a:lnTo>
                  <a:pt x="615" y="1542"/>
                </a:lnTo>
                <a:lnTo>
                  <a:pt x="754" y="1420"/>
                </a:lnTo>
                <a:lnTo>
                  <a:pt x="899" y="1303"/>
                </a:lnTo>
                <a:lnTo>
                  <a:pt x="1047" y="1192"/>
                </a:lnTo>
                <a:lnTo>
                  <a:pt x="1198" y="1087"/>
                </a:lnTo>
                <a:lnTo>
                  <a:pt x="1350" y="988"/>
                </a:lnTo>
                <a:lnTo>
                  <a:pt x="1503" y="893"/>
                </a:lnTo>
                <a:lnTo>
                  <a:pt x="1658" y="805"/>
                </a:lnTo>
                <a:lnTo>
                  <a:pt x="1812" y="720"/>
                </a:lnTo>
                <a:lnTo>
                  <a:pt x="1965" y="642"/>
                </a:lnTo>
                <a:lnTo>
                  <a:pt x="2116" y="568"/>
                </a:lnTo>
                <a:lnTo>
                  <a:pt x="2265" y="500"/>
                </a:lnTo>
                <a:lnTo>
                  <a:pt x="2411" y="436"/>
                </a:lnTo>
                <a:lnTo>
                  <a:pt x="2552" y="377"/>
                </a:lnTo>
                <a:lnTo>
                  <a:pt x="2690" y="323"/>
                </a:lnTo>
                <a:lnTo>
                  <a:pt x="2823" y="273"/>
                </a:lnTo>
                <a:lnTo>
                  <a:pt x="2948" y="228"/>
                </a:lnTo>
                <a:lnTo>
                  <a:pt x="3069" y="187"/>
                </a:lnTo>
                <a:lnTo>
                  <a:pt x="3181" y="150"/>
                </a:lnTo>
                <a:lnTo>
                  <a:pt x="3285" y="119"/>
                </a:lnTo>
                <a:lnTo>
                  <a:pt x="3379" y="90"/>
                </a:lnTo>
                <a:lnTo>
                  <a:pt x="3465" y="66"/>
                </a:lnTo>
                <a:lnTo>
                  <a:pt x="3540" y="46"/>
                </a:lnTo>
                <a:lnTo>
                  <a:pt x="3605" y="29"/>
                </a:lnTo>
                <a:lnTo>
                  <a:pt x="3657" y="17"/>
                </a:lnTo>
                <a:lnTo>
                  <a:pt x="3696" y="7"/>
                </a:lnTo>
                <a:lnTo>
                  <a:pt x="3723" y="2"/>
                </a:lnTo>
                <a:lnTo>
                  <a:pt x="3736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83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rot="15328800">
            <a:off x="1545120" y="1694880"/>
            <a:ext cx="552600" cy="680760"/>
          </a:xfrm>
          <a:custGeom>
            <a:avLst/>
            <a:gdLst/>
            <a:ahLst/>
            <a:rect l="l" t="t" r="r" b="b"/>
            <a:pathLst>
              <a:path w="3911" h="2822">
                <a:moveTo>
                  <a:pt x="0" y="2822"/>
                </a:moveTo>
                <a:lnTo>
                  <a:pt x="66" y="2682"/>
                </a:lnTo>
                <a:lnTo>
                  <a:pt x="139" y="2545"/>
                </a:lnTo>
                <a:lnTo>
                  <a:pt x="217" y="2412"/>
                </a:lnTo>
                <a:lnTo>
                  <a:pt x="299" y="2281"/>
                </a:lnTo>
                <a:lnTo>
                  <a:pt x="386" y="2154"/>
                </a:lnTo>
                <a:lnTo>
                  <a:pt x="478" y="2031"/>
                </a:lnTo>
                <a:lnTo>
                  <a:pt x="575" y="1912"/>
                </a:lnTo>
                <a:lnTo>
                  <a:pt x="674" y="1794"/>
                </a:lnTo>
                <a:lnTo>
                  <a:pt x="779" y="1681"/>
                </a:lnTo>
                <a:lnTo>
                  <a:pt x="887" y="1572"/>
                </a:lnTo>
                <a:lnTo>
                  <a:pt x="999" y="1465"/>
                </a:lnTo>
                <a:lnTo>
                  <a:pt x="1115" y="1363"/>
                </a:lnTo>
                <a:lnTo>
                  <a:pt x="1233" y="1263"/>
                </a:lnTo>
                <a:lnTo>
                  <a:pt x="1355" y="1166"/>
                </a:lnTo>
                <a:lnTo>
                  <a:pt x="1481" y="1074"/>
                </a:lnTo>
                <a:lnTo>
                  <a:pt x="1608" y="984"/>
                </a:lnTo>
                <a:lnTo>
                  <a:pt x="1739" y="898"/>
                </a:lnTo>
                <a:lnTo>
                  <a:pt x="1873" y="814"/>
                </a:lnTo>
                <a:lnTo>
                  <a:pt x="2008" y="735"/>
                </a:lnTo>
                <a:lnTo>
                  <a:pt x="2146" y="659"/>
                </a:lnTo>
                <a:lnTo>
                  <a:pt x="2286" y="586"/>
                </a:lnTo>
                <a:lnTo>
                  <a:pt x="2427" y="516"/>
                </a:lnTo>
                <a:lnTo>
                  <a:pt x="2571" y="450"/>
                </a:lnTo>
                <a:lnTo>
                  <a:pt x="2716" y="386"/>
                </a:lnTo>
                <a:lnTo>
                  <a:pt x="2862" y="327"/>
                </a:lnTo>
                <a:lnTo>
                  <a:pt x="3010" y="270"/>
                </a:lnTo>
                <a:lnTo>
                  <a:pt x="3158" y="217"/>
                </a:lnTo>
                <a:lnTo>
                  <a:pt x="3308" y="167"/>
                </a:lnTo>
                <a:lnTo>
                  <a:pt x="3458" y="121"/>
                </a:lnTo>
                <a:lnTo>
                  <a:pt x="3609" y="77"/>
                </a:lnTo>
                <a:lnTo>
                  <a:pt x="3760" y="37"/>
                </a:lnTo>
                <a:lnTo>
                  <a:pt x="3911" y="0"/>
                </a:lnTo>
                <a:lnTo>
                  <a:pt x="3862" y="115"/>
                </a:lnTo>
                <a:lnTo>
                  <a:pt x="3813" y="227"/>
                </a:lnTo>
                <a:lnTo>
                  <a:pt x="3762" y="334"/>
                </a:lnTo>
                <a:lnTo>
                  <a:pt x="3713" y="438"/>
                </a:lnTo>
                <a:lnTo>
                  <a:pt x="3662" y="538"/>
                </a:lnTo>
                <a:lnTo>
                  <a:pt x="3612" y="634"/>
                </a:lnTo>
                <a:lnTo>
                  <a:pt x="3561" y="727"/>
                </a:lnTo>
                <a:lnTo>
                  <a:pt x="3509" y="816"/>
                </a:lnTo>
                <a:lnTo>
                  <a:pt x="3456" y="903"/>
                </a:lnTo>
                <a:lnTo>
                  <a:pt x="3402" y="987"/>
                </a:lnTo>
                <a:lnTo>
                  <a:pt x="3347" y="1067"/>
                </a:lnTo>
                <a:lnTo>
                  <a:pt x="3291" y="1144"/>
                </a:lnTo>
                <a:lnTo>
                  <a:pt x="3234" y="1220"/>
                </a:lnTo>
                <a:lnTo>
                  <a:pt x="3175" y="1292"/>
                </a:lnTo>
                <a:lnTo>
                  <a:pt x="3114" y="1361"/>
                </a:lnTo>
                <a:lnTo>
                  <a:pt x="3051" y="1428"/>
                </a:lnTo>
                <a:lnTo>
                  <a:pt x="2988" y="1494"/>
                </a:lnTo>
                <a:lnTo>
                  <a:pt x="2922" y="1557"/>
                </a:lnTo>
                <a:lnTo>
                  <a:pt x="2854" y="1618"/>
                </a:lnTo>
                <a:lnTo>
                  <a:pt x="2783" y="1676"/>
                </a:lnTo>
                <a:lnTo>
                  <a:pt x="2711" y="1733"/>
                </a:lnTo>
                <a:lnTo>
                  <a:pt x="2636" y="1788"/>
                </a:lnTo>
                <a:lnTo>
                  <a:pt x="2558" y="1842"/>
                </a:lnTo>
                <a:lnTo>
                  <a:pt x="2477" y="1893"/>
                </a:lnTo>
                <a:lnTo>
                  <a:pt x="2395" y="1945"/>
                </a:lnTo>
                <a:lnTo>
                  <a:pt x="2309" y="1994"/>
                </a:lnTo>
                <a:lnTo>
                  <a:pt x="2219" y="2042"/>
                </a:lnTo>
                <a:lnTo>
                  <a:pt x="2128" y="2089"/>
                </a:lnTo>
                <a:lnTo>
                  <a:pt x="2032" y="2135"/>
                </a:lnTo>
                <a:lnTo>
                  <a:pt x="1933" y="2180"/>
                </a:lnTo>
                <a:lnTo>
                  <a:pt x="1830" y="2225"/>
                </a:lnTo>
                <a:lnTo>
                  <a:pt x="1725" y="2269"/>
                </a:lnTo>
                <a:lnTo>
                  <a:pt x="1681" y="2286"/>
                </a:lnTo>
                <a:lnTo>
                  <a:pt x="1637" y="2302"/>
                </a:lnTo>
                <a:lnTo>
                  <a:pt x="1593" y="2315"/>
                </a:lnTo>
                <a:lnTo>
                  <a:pt x="1548" y="2328"/>
                </a:lnTo>
                <a:lnTo>
                  <a:pt x="1502" y="2342"/>
                </a:lnTo>
                <a:lnTo>
                  <a:pt x="1456" y="2353"/>
                </a:lnTo>
                <a:lnTo>
                  <a:pt x="1409" y="2364"/>
                </a:lnTo>
                <a:lnTo>
                  <a:pt x="1361" y="2375"/>
                </a:lnTo>
                <a:lnTo>
                  <a:pt x="1265" y="2395"/>
                </a:lnTo>
                <a:lnTo>
                  <a:pt x="1165" y="2415"/>
                </a:lnTo>
                <a:lnTo>
                  <a:pt x="1063" y="2435"/>
                </a:lnTo>
                <a:lnTo>
                  <a:pt x="957" y="2458"/>
                </a:lnTo>
                <a:lnTo>
                  <a:pt x="904" y="2470"/>
                </a:lnTo>
                <a:lnTo>
                  <a:pt x="849" y="2483"/>
                </a:lnTo>
                <a:lnTo>
                  <a:pt x="794" y="2497"/>
                </a:lnTo>
                <a:lnTo>
                  <a:pt x="738" y="2511"/>
                </a:lnTo>
                <a:lnTo>
                  <a:pt x="680" y="2528"/>
                </a:lnTo>
                <a:lnTo>
                  <a:pt x="623" y="2545"/>
                </a:lnTo>
                <a:lnTo>
                  <a:pt x="564" y="2564"/>
                </a:lnTo>
                <a:lnTo>
                  <a:pt x="506" y="2584"/>
                </a:lnTo>
                <a:lnTo>
                  <a:pt x="445" y="2607"/>
                </a:lnTo>
                <a:lnTo>
                  <a:pt x="384" y="2632"/>
                </a:lnTo>
                <a:lnTo>
                  <a:pt x="323" y="2657"/>
                </a:lnTo>
                <a:lnTo>
                  <a:pt x="260" y="2685"/>
                </a:lnTo>
                <a:lnTo>
                  <a:pt x="196" y="2716"/>
                </a:lnTo>
                <a:lnTo>
                  <a:pt x="131" y="2749"/>
                </a:lnTo>
                <a:lnTo>
                  <a:pt x="66" y="2784"/>
                </a:lnTo>
                <a:lnTo>
                  <a:pt x="0" y="2822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830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74280" y="2490120"/>
            <a:ext cx="598320" cy="604440"/>
            <a:chOff x="674280" y="2490120"/>
            <a:chExt cx="598320" cy="604440"/>
          </a:xfrm>
        </p:grpSpPr>
        <p:sp>
          <p:nvSpPr>
            <p:cNvPr id="367" name=""/>
            <p:cNvSpPr/>
            <p:nvPr/>
          </p:nvSpPr>
          <p:spPr>
            <a:xfrm flipH="1" rot="6765000">
              <a:off x="731520" y="2561400"/>
              <a:ext cx="428400" cy="41004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rot="6765000">
              <a:off x="786600" y="2612880"/>
              <a:ext cx="426960" cy="410760"/>
            </a:xfrm>
            <a:custGeom>
              <a:avLst/>
              <a:gdLst/>
              <a:ahLst/>
              <a:rect l="l" t="t" r="r" b="b"/>
              <a:pathLst>
                <a:path w="2928" h="1244">
                  <a:moveTo>
                    <a:pt x="23" y="679"/>
                  </a:moveTo>
                  <a:lnTo>
                    <a:pt x="14" y="690"/>
                  </a:lnTo>
                  <a:lnTo>
                    <a:pt x="8" y="699"/>
                  </a:lnTo>
                  <a:lnTo>
                    <a:pt x="3" y="706"/>
                  </a:lnTo>
                  <a:lnTo>
                    <a:pt x="1" y="713"/>
                  </a:lnTo>
                  <a:lnTo>
                    <a:pt x="0" y="719"/>
                  </a:lnTo>
                  <a:lnTo>
                    <a:pt x="2" y="724"/>
                  </a:lnTo>
                  <a:lnTo>
                    <a:pt x="4" y="727"/>
                  </a:lnTo>
                  <a:lnTo>
                    <a:pt x="9" y="730"/>
                  </a:lnTo>
                  <a:lnTo>
                    <a:pt x="14" y="732"/>
                  </a:lnTo>
                  <a:lnTo>
                    <a:pt x="20" y="733"/>
                  </a:lnTo>
                  <a:lnTo>
                    <a:pt x="26" y="734"/>
                  </a:lnTo>
                  <a:lnTo>
                    <a:pt x="33" y="734"/>
                  </a:lnTo>
                  <a:lnTo>
                    <a:pt x="48" y="732"/>
                  </a:lnTo>
                  <a:lnTo>
                    <a:pt x="61" y="729"/>
                  </a:lnTo>
                  <a:lnTo>
                    <a:pt x="96" y="723"/>
                  </a:lnTo>
                  <a:lnTo>
                    <a:pt x="133" y="717"/>
                  </a:lnTo>
                  <a:lnTo>
                    <a:pt x="172" y="711"/>
                  </a:lnTo>
                  <a:lnTo>
                    <a:pt x="211" y="706"/>
                  </a:lnTo>
                  <a:lnTo>
                    <a:pt x="251" y="702"/>
                  </a:lnTo>
                  <a:lnTo>
                    <a:pt x="290" y="698"/>
                  </a:lnTo>
                  <a:lnTo>
                    <a:pt x="327" y="694"/>
                  </a:lnTo>
                  <a:lnTo>
                    <a:pt x="362" y="691"/>
                  </a:lnTo>
                  <a:lnTo>
                    <a:pt x="394" y="698"/>
                  </a:lnTo>
                  <a:lnTo>
                    <a:pt x="426" y="708"/>
                  </a:lnTo>
                  <a:lnTo>
                    <a:pt x="458" y="720"/>
                  </a:lnTo>
                  <a:lnTo>
                    <a:pt x="491" y="733"/>
                  </a:lnTo>
                  <a:lnTo>
                    <a:pt x="524" y="748"/>
                  </a:lnTo>
                  <a:lnTo>
                    <a:pt x="558" y="764"/>
                  </a:lnTo>
                  <a:lnTo>
                    <a:pt x="592" y="781"/>
                  </a:lnTo>
                  <a:lnTo>
                    <a:pt x="627" y="801"/>
                  </a:lnTo>
                  <a:lnTo>
                    <a:pt x="697" y="841"/>
                  </a:lnTo>
                  <a:lnTo>
                    <a:pt x="769" y="884"/>
                  </a:lnTo>
                  <a:lnTo>
                    <a:pt x="843" y="929"/>
                  </a:lnTo>
                  <a:lnTo>
                    <a:pt x="919" y="976"/>
                  </a:lnTo>
                  <a:lnTo>
                    <a:pt x="958" y="999"/>
                  </a:lnTo>
                  <a:lnTo>
                    <a:pt x="997" y="1022"/>
                  </a:lnTo>
                  <a:lnTo>
                    <a:pt x="1037" y="1045"/>
                  </a:lnTo>
                  <a:lnTo>
                    <a:pt x="1078" y="1066"/>
                  </a:lnTo>
                  <a:lnTo>
                    <a:pt x="1119" y="1088"/>
                  </a:lnTo>
                  <a:lnTo>
                    <a:pt x="1161" y="1108"/>
                  </a:lnTo>
                  <a:lnTo>
                    <a:pt x="1204" y="1128"/>
                  </a:lnTo>
                  <a:lnTo>
                    <a:pt x="1247" y="1146"/>
                  </a:lnTo>
                  <a:lnTo>
                    <a:pt x="1290" y="1164"/>
                  </a:lnTo>
                  <a:lnTo>
                    <a:pt x="1334" y="1179"/>
                  </a:lnTo>
                  <a:lnTo>
                    <a:pt x="1380" y="1195"/>
                  </a:lnTo>
                  <a:lnTo>
                    <a:pt x="1426" y="1208"/>
                  </a:lnTo>
                  <a:lnTo>
                    <a:pt x="1472" y="1219"/>
                  </a:lnTo>
                  <a:lnTo>
                    <a:pt x="1520" y="1229"/>
                  </a:lnTo>
                  <a:lnTo>
                    <a:pt x="1568" y="1236"/>
                  </a:lnTo>
                  <a:lnTo>
                    <a:pt x="1616" y="1241"/>
                  </a:lnTo>
                  <a:lnTo>
                    <a:pt x="1648" y="1243"/>
                  </a:lnTo>
                  <a:lnTo>
                    <a:pt x="1682" y="1244"/>
                  </a:lnTo>
                  <a:lnTo>
                    <a:pt x="1717" y="1243"/>
                  </a:lnTo>
                  <a:lnTo>
                    <a:pt x="1754" y="1241"/>
                  </a:lnTo>
                  <a:lnTo>
                    <a:pt x="1793" y="1238"/>
                  </a:lnTo>
                  <a:lnTo>
                    <a:pt x="1833" y="1233"/>
                  </a:lnTo>
                  <a:lnTo>
                    <a:pt x="1877" y="1228"/>
                  </a:lnTo>
                  <a:lnTo>
                    <a:pt x="1921" y="1220"/>
                  </a:lnTo>
                  <a:lnTo>
                    <a:pt x="1968" y="1212"/>
                  </a:lnTo>
                  <a:lnTo>
                    <a:pt x="2017" y="1203"/>
                  </a:lnTo>
                  <a:lnTo>
                    <a:pt x="2069" y="1193"/>
                  </a:lnTo>
                  <a:lnTo>
                    <a:pt x="2123" y="1181"/>
                  </a:lnTo>
                  <a:lnTo>
                    <a:pt x="2180" y="1169"/>
                  </a:lnTo>
                  <a:lnTo>
                    <a:pt x="2240" y="1156"/>
                  </a:lnTo>
                  <a:lnTo>
                    <a:pt x="2301" y="1142"/>
                  </a:lnTo>
                  <a:lnTo>
                    <a:pt x="2367" y="1127"/>
                  </a:lnTo>
                  <a:lnTo>
                    <a:pt x="2405" y="1121"/>
                  </a:lnTo>
                  <a:lnTo>
                    <a:pt x="2448" y="1112"/>
                  </a:lnTo>
                  <a:lnTo>
                    <a:pt x="2495" y="1104"/>
                  </a:lnTo>
                  <a:lnTo>
                    <a:pt x="2543" y="1095"/>
                  </a:lnTo>
                  <a:lnTo>
                    <a:pt x="2591" y="1087"/>
                  </a:lnTo>
                  <a:lnTo>
                    <a:pt x="2641" y="1080"/>
                  </a:lnTo>
                  <a:lnTo>
                    <a:pt x="2666" y="1077"/>
                  </a:lnTo>
                  <a:lnTo>
                    <a:pt x="2689" y="1075"/>
                  </a:lnTo>
                  <a:lnTo>
                    <a:pt x="2712" y="1073"/>
                  </a:lnTo>
                  <a:lnTo>
                    <a:pt x="2734" y="1073"/>
                  </a:lnTo>
                  <a:lnTo>
                    <a:pt x="2749" y="1073"/>
                  </a:lnTo>
                  <a:lnTo>
                    <a:pt x="2763" y="1075"/>
                  </a:lnTo>
                  <a:lnTo>
                    <a:pt x="2777" y="1078"/>
                  </a:lnTo>
                  <a:lnTo>
                    <a:pt x="2790" y="1083"/>
                  </a:lnTo>
                  <a:lnTo>
                    <a:pt x="2803" y="1088"/>
                  </a:lnTo>
                  <a:lnTo>
                    <a:pt x="2816" y="1093"/>
                  </a:lnTo>
                  <a:lnTo>
                    <a:pt x="2827" y="1099"/>
                  </a:lnTo>
                  <a:lnTo>
                    <a:pt x="2839" y="1106"/>
                  </a:lnTo>
                  <a:lnTo>
                    <a:pt x="2862" y="1120"/>
                  </a:lnTo>
                  <a:lnTo>
                    <a:pt x="2884" y="1133"/>
                  </a:lnTo>
                  <a:lnTo>
                    <a:pt x="2906" y="1146"/>
                  </a:lnTo>
                  <a:lnTo>
                    <a:pt x="2928" y="1157"/>
                  </a:lnTo>
                  <a:lnTo>
                    <a:pt x="2927" y="1143"/>
                  </a:lnTo>
                  <a:lnTo>
                    <a:pt x="2926" y="1130"/>
                  </a:lnTo>
                  <a:lnTo>
                    <a:pt x="2925" y="1118"/>
                  </a:lnTo>
                  <a:lnTo>
                    <a:pt x="2922" y="1105"/>
                  </a:lnTo>
                  <a:lnTo>
                    <a:pt x="2920" y="1093"/>
                  </a:lnTo>
                  <a:lnTo>
                    <a:pt x="2915" y="1082"/>
                  </a:lnTo>
                  <a:lnTo>
                    <a:pt x="2911" y="1070"/>
                  </a:lnTo>
                  <a:lnTo>
                    <a:pt x="2906" y="1060"/>
                  </a:lnTo>
                  <a:lnTo>
                    <a:pt x="2901" y="1049"/>
                  </a:lnTo>
                  <a:lnTo>
                    <a:pt x="2895" y="1038"/>
                  </a:lnTo>
                  <a:lnTo>
                    <a:pt x="2889" y="1029"/>
                  </a:lnTo>
                  <a:lnTo>
                    <a:pt x="2882" y="1019"/>
                  </a:lnTo>
                  <a:lnTo>
                    <a:pt x="2874" y="1010"/>
                  </a:lnTo>
                  <a:lnTo>
                    <a:pt x="2866" y="1000"/>
                  </a:lnTo>
                  <a:lnTo>
                    <a:pt x="2857" y="991"/>
                  </a:lnTo>
                  <a:lnTo>
                    <a:pt x="2848" y="983"/>
                  </a:lnTo>
                  <a:lnTo>
                    <a:pt x="2828" y="966"/>
                  </a:lnTo>
                  <a:lnTo>
                    <a:pt x="2806" y="951"/>
                  </a:lnTo>
                  <a:lnTo>
                    <a:pt x="2783" y="938"/>
                  </a:lnTo>
                  <a:lnTo>
                    <a:pt x="2758" y="923"/>
                  </a:lnTo>
                  <a:lnTo>
                    <a:pt x="2731" y="911"/>
                  </a:lnTo>
                  <a:lnTo>
                    <a:pt x="2703" y="900"/>
                  </a:lnTo>
                  <a:lnTo>
                    <a:pt x="2674" y="888"/>
                  </a:lnTo>
                  <a:lnTo>
                    <a:pt x="2642" y="878"/>
                  </a:lnTo>
                  <a:lnTo>
                    <a:pt x="2572" y="810"/>
                  </a:lnTo>
                  <a:lnTo>
                    <a:pt x="2503" y="743"/>
                  </a:lnTo>
                  <a:lnTo>
                    <a:pt x="2433" y="676"/>
                  </a:lnTo>
                  <a:lnTo>
                    <a:pt x="2363" y="612"/>
                  </a:lnTo>
                  <a:lnTo>
                    <a:pt x="2294" y="549"/>
                  </a:lnTo>
                  <a:lnTo>
                    <a:pt x="2224" y="487"/>
                  </a:lnTo>
                  <a:lnTo>
                    <a:pt x="2155" y="428"/>
                  </a:lnTo>
                  <a:lnTo>
                    <a:pt x="2085" y="372"/>
                  </a:lnTo>
                  <a:lnTo>
                    <a:pt x="2015" y="318"/>
                  </a:lnTo>
                  <a:lnTo>
                    <a:pt x="1945" y="268"/>
                  </a:lnTo>
                  <a:lnTo>
                    <a:pt x="1876" y="221"/>
                  </a:lnTo>
                  <a:lnTo>
                    <a:pt x="1805" y="178"/>
                  </a:lnTo>
                  <a:lnTo>
                    <a:pt x="1734" y="138"/>
                  </a:lnTo>
                  <a:lnTo>
                    <a:pt x="1662" y="103"/>
                  </a:lnTo>
                  <a:lnTo>
                    <a:pt x="1590" y="73"/>
                  </a:lnTo>
                  <a:lnTo>
                    <a:pt x="1518" y="47"/>
                  </a:lnTo>
                  <a:lnTo>
                    <a:pt x="1444" y="26"/>
                  </a:lnTo>
                  <a:lnTo>
                    <a:pt x="1369" y="12"/>
                  </a:lnTo>
                  <a:lnTo>
                    <a:pt x="1295" y="3"/>
                  </a:lnTo>
                  <a:lnTo>
                    <a:pt x="1219" y="0"/>
                  </a:lnTo>
                  <a:lnTo>
                    <a:pt x="1143" y="3"/>
                  </a:lnTo>
                  <a:lnTo>
                    <a:pt x="1065" y="12"/>
                  </a:lnTo>
                  <a:lnTo>
                    <a:pt x="987" y="29"/>
                  </a:lnTo>
                  <a:lnTo>
                    <a:pt x="908" y="53"/>
                  </a:lnTo>
                  <a:lnTo>
                    <a:pt x="826" y="84"/>
                  </a:lnTo>
                  <a:lnTo>
                    <a:pt x="745" y="124"/>
                  </a:lnTo>
                  <a:lnTo>
                    <a:pt x="662" y="171"/>
                  </a:lnTo>
                  <a:lnTo>
                    <a:pt x="577" y="227"/>
                  </a:lnTo>
                  <a:lnTo>
                    <a:pt x="491" y="291"/>
                  </a:lnTo>
                  <a:lnTo>
                    <a:pt x="404" y="365"/>
                  </a:lnTo>
                  <a:lnTo>
                    <a:pt x="315" y="447"/>
                  </a:lnTo>
                  <a:lnTo>
                    <a:pt x="226" y="539"/>
                  </a:lnTo>
                  <a:lnTo>
                    <a:pt x="190" y="557"/>
                  </a:lnTo>
                  <a:lnTo>
                    <a:pt x="157" y="575"/>
                  </a:lnTo>
                  <a:lnTo>
                    <a:pt x="128" y="592"/>
                  </a:lnTo>
                  <a:lnTo>
                    <a:pt x="101" y="609"/>
                  </a:lnTo>
                  <a:lnTo>
                    <a:pt x="76" y="627"/>
                  </a:lnTo>
                  <a:lnTo>
                    <a:pt x="56" y="644"/>
                  </a:lnTo>
                  <a:lnTo>
                    <a:pt x="47" y="654"/>
                  </a:lnTo>
                  <a:lnTo>
                    <a:pt x="37" y="662"/>
                  </a:lnTo>
                  <a:lnTo>
                    <a:pt x="30" y="671"/>
                  </a:lnTo>
                  <a:lnTo>
                    <a:pt x="23" y="679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rot="6765000">
              <a:off x="891720" y="2708640"/>
              <a:ext cx="266760" cy="236880"/>
            </a:xfrm>
            <a:custGeom>
              <a:avLst/>
              <a:gdLst/>
              <a:ahLst/>
              <a:rect l="l" t="t" r="r" b="b"/>
              <a:pathLst>
                <a:path w="1973" h="778">
                  <a:moveTo>
                    <a:pt x="1973" y="778"/>
                  </a:moveTo>
                  <a:lnTo>
                    <a:pt x="1925" y="737"/>
                  </a:lnTo>
                  <a:lnTo>
                    <a:pt x="1861" y="674"/>
                  </a:lnTo>
                  <a:lnTo>
                    <a:pt x="1796" y="613"/>
                  </a:lnTo>
                  <a:lnTo>
                    <a:pt x="1732" y="554"/>
                  </a:lnTo>
                  <a:lnTo>
                    <a:pt x="1668" y="499"/>
                  </a:lnTo>
                  <a:lnTo>
                    <a:pt x="1606" y="444"/>
                  </a:lnTo>
                  <a:lnTo>
                    <a:pt x="1544" y="393"/>
                  </a:lnTo>
                  <a:lnTo>
                    <a:pt x="1482" y="344"/>
                  </a:lnTo>
                  <a:lnTo>
                    <a:pt x="1421" y="298"/>
                  </a:lnTo>
                  <a:lnTo>
                    <a:pt x="1361" y="255"/>
                  </a:lnTo>
                  <a:lnTo>
                    <a:pt x="1300" y="215"/>
                  </a:lnTo>
                  <a:lnTo>
                    <a:pt x="1240" y="178"/>
                  </a:lnTo>
                  <a:lnTo>
                    <a:pt x="1181" y="144"/>
                  </a:lnTo>
                  <a:lnTo>
                    <a:pt x="1121" y="114"/>
                  </a:lnTo>
                  <a:lnTo>
                    <a:pt x="1062" y="86"/>
                  </a:lnTo>
                  <a:lnTo>
                    <a:pt x="1004" y="62"/>
                  </a:lnTo>
                  <a:lnTo>
                    <a:pt x="945" y="42"/>
                  </a:lnTo>
                  <a:lnTo>
                    <a:pt x="887" y="25"/>
                  </a:lnTo>
                  <a:lnTo>
                    <a:pt x="828" y="13"/>
                  </a:lnTo>
                  <a:lnTo>
                    <a:pt x="769" y="5"/>
                  </a:lnTo>
                  <a:lnTo>
                    <a:pt x="712" y="0"/>
                  </a:lnTo>
                  <a:lnTo>
                    <a:pt x="653" y="0"/>
                  </a:lnTo>
                  <a:lnTo>
                    <a:pt x="594" y="3"/>
                  </a:lnTo>
                  <a:lnTo>
                    <a:pt x="536" y="11"/>
                  </a:lnTo>
                  <a:lnTo>
                    <a:pt x="477" y="23"/>
                  </a:lnTo>
                  <a:lnTo>
                    <a:pt x="419" y="41"/>
                  </a:lnTo>
                  <a:lnTo>
                    <a:pt x="360" y="62"/>
                  </a:lnTo>
                  <a:lnTo>
                    <a:pt x="300" y="89"/>
                  </a:lnTo>
                  <a:lnTo>
                    <a:pt x="242" y="121"/>
                  </a:lnTo>
                  <a:lnTo>
                    <a:pt x="182" y="157"/>
                  </a:lnTo>
                  <a:lnTo>
                    <a:pt x="121" y="198"/>
                  </a:lnTo>
                  <a:lnTo>
                    <a:pt x="61" y="246"/>
                  </a:lnTo>
                  <a:lnTo>
                    <a:pt x="0" y="297"/>
                  </a:lnTo>
                  <a:lnTo>
                    <a:pt x="86" y="283"/>
                  </a:lnTo>
                  <a:lnTo>
                    <a:pt x="173" y="272"/>
                  </a:lnTo>
                  <a:lnTo>
                    <a:pt x="260" y="266"/>
                  </a:lnTo>
                  <a:lnTo>
                    <a:pt x="347" y="264"/>
                  </a:lnTo>
                  <a:lnTo>
                    <a:pt x="434" y="266"/>
                  </a:lnTo>
                  <a:lnTo>
                    <a:pt x="520" y="271"/>
                  </a:lnTo>
                  <a:lnTo>
                    <a:pt x="606" y="281"/>
                  </a:lnTo>
                  <a:lnTo>
                    <a:pt x="691" y="292"/>
                  </a:lnTo>
                  <a:lnTo>
                    <a:pt x="775" y="306"/>
                  </a:lnTo>
                  <a:lnTo>
                    <a:pt x="859" y="324"/>
                  </a:lnTo>
                  <a:lnTo>
                    <a:pt x="941" y="342"/>
                  </a:lnTo>
                  <a:lnTo>
                    <a:pt x="1021" y="364"/>
                  </a:lnTo>
                  <a:lnTo>
                    <a:pt x="1099" y="386"/>
                  </a:lnTo>
                  <a:lnTo>
                    <a:pt x="1176" y="410"/>
                  </a:lnTo>
                  <a:lnTo>
                    <a:pt x="1250" y="436"/>
                  </a:lnTo>
                  <a:lnTo>
                    <a:pt x="1322" y="462"/>
                  </a:lnTo>
                  <a:lnTo>
                    <a:pt x="1391" y="488"/>
                  </a:lnTo>
                  <a:lnTo>
                    <a:pt x="1457" y="515"/>
                  </a:lnTo>
                  <a:lnTo>
                    <a:pt x="1520" y="543"/>
                  </a:lnTo>
                  <a:lnTo>
                    <a:pt x="1581" y="570"/>
                  </a:lnTo>
                  <a:lnTo>
                    <a:pt x="1637" y="595"/>
                  </a:lnTo>
                  <a:lnTo>
                    <a:pt x="1690" y="621"/>
                  </a:lnTo>
                  <a:lnTo>
                    <a:pt x="1739" y="646"/>
                  </a:lnTo>
                  <a:lnTo>
                    <a:pt x="1785" y="669"/>
                  </a:lnTo>
                  <a:lnTo>
                    <a:pt x="1861" y="711"/>
                  </a:lnTo>
                  <a:lnTo>
                    <a:pt x="1919" y="744"/>
                  </a:lnTo>
                  <a:lnTo>
                    <a:pt x="1956" y="768"/>
                  </a:lnTo>
                  <a:lnTo>
                    <a:pt x="1973" y="778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rot="6765000">
              <a:off x="820440" y="2702520"/>
              <a:ext cx="291960" cy="189000"/>
            </a:xfrm>
            <a:custGeom>
              <a:avLst/>
              <a:gdLst/>
              <a:ahLst/>
              <a:rect l="l" t="t" r="r" b="b"/>
              <a:pathLst>
                <a:path w="2220" h="663">
                  <a:moveTo>
                    <a:pt x="0" y="124"/>
                  </a:moveTo>
                  <a:lnTo>
                    <a:pt x="68" y="99"/>
                  </a:lnTo>
                  <a:lnTo>
                    <a:pt x="137" y="78"/>
                  </a:lnTo>
                  <a:lnTo>
                    <a:pt x="207" y="59"/>
                  </a:lnTo>
                  <a:lnTo>
                    <a:pt x="277" y="43"/>
                  </a:lnTo>
                  <a:lnTo>
                    <a:pt x="347" y="29"/>
                  </a:lnTo>
                  <a:lnTo>
                    <a:pt x="418" y="19"/>
                  </a:lnTo>
                  <a:lnTo>
                    <a:pt x="489" y="11"/>
                  </a:lnTo>
                  <a:lnTo>
                    <a:pt x="561" y="5"/>
                  </a:lnTo>
                  <a:lnTo>
                    <a:pt x="632" y="1"/>
                  </a:lnTo>
                  <a:lnTo>
                    <a:pt x="704" y="0"/>
                  </a:lnTo>
                  <a:lnTo>
                    <a:pt x="776" y="2"/>
                  </a:lnTo>
                  <a:lnTo>
                    <a:pt x="848" y="6"/>
                  </a:lnTo>
                  <a:lnTo>
                    <a:pt x="920" y="12"/>
                  </a:lnTo>
                  <a:lnTo>
                    <a:pt x="992" y="20"/>
                  </a:lnTo>
                  <a:lnTo>
                    <a:pt x="1064" y="30"/>
                  </a:lnTo>
                  <a:lnTo>
                    <a:pt x="1135" y="43"/>
                  </a:lnTo>
                  <a:lnTo>
                    <a:pt x="1207" y="56"/>
                  </a:lnTo>
                  <a:lnTo>
                    <a:pt x="1278" y="72"/>
                  </a:lnTo>
                  <a:lnTo>
                    <a:pt x="1349" y="91"/>
                  </a:lnTo>
                  <a:lnTo>
                    <a:pt x="1420" y="110"/>
                  </a:lnTo>
                  <a:lnTo>
                    <a:pt x="1490" y="132"/>
                  </a:lnTo>
                  <a:lnTo>
                    <a:pt x="1560" y="156"/>
                  </a:lnTo>
                  <a:lnTo>
                    <a:pt x="1629" y="180"/>
                  </a:lnTo>
                  <a:lnTo>
                    <a:pt x="1698" y="207"/>
                  </a:lnTo>
                  <a:lnTo>
                    <a:pt x="1766" y="235"/>
                  </a:lnTo>
                  <a:lnTo>
                    <a:pt x="1833" y="265"/>
                  </a:lnTo>
                  <a:lnTo>
                    <a:pt x="1899" y="296"/>
                  </a:lnTo>
                  <a:lnTo>
                    <a:pt x="1966" y="328"/>
                  </a:lnTo>
                  <a:lnTo>
                    <a:pt x="2031" y="362"/>
                  </a:lnTo>
                  <a:lnTo>
                    <a:pt x="2095" y="397"/>
                  </a:lnTo>
                  <a:lnTo>
                    <a:pt x="2157" y="433"/>
                  </a:lnTo>
                  <a:lnTo>
                    <a:pt x="2220" y="470"/>
                  </a:lnTo>
                  <a:lnTo>
                    <a:pt x="2166" y="493"/>
                  </a:lnTo>
                  <a:lnTo>
                    <a:pt x="2113" y="514"/>
                  </a:lnTo>
                  <a:lnTo>
                    <a:pt x="2062" y="533"/>
                  </a:lnTo>
                  <a:lnTo>
                    <a:pt x="2011" y="551"/>
                  </a:lnTo>
                  <a:lnTo>
                    <a:pt x="1962" y="567"/>
                  </a:lnTo>
                  <a:lnTo>
                    <a:pt x="1914" y="583"/>
                  </a:lnTo>
                  <a:lnTo>
                    <a:pt x="1866" y="597"/>
                  </a:lnTo>
                  <a:lnTo>
                    <a:pt x="1819" y="609"/>
                  </a:lnTo>
                  <a:lnTo>
                    <a:pt x="1774" y="621"/>
                  </a:lnTo>
                  <a:lnTo>
                    <a:pt x="1729" y="631"/>
                  </a:lnTo>
                  <a:lnTo>
                    <a:pt x="1683" y="639"/>
                  </a:lnTo>
                  <a:lnTo>
                    <a:pt x="1640" y="646"/>
                  </a:lnTo>
                  <a:lnTo>
                    <a:pt x="1596" y="652"/>
                  </a:lnTo>
                  <a:lnTo>
                    <a:pt x="1553" y="657"/>
                  </a:lnTo>
                  <a:lnTo>
                    <a:pt x="1510" y="661"/>
                  </a:lnTo>
                  <a:lnTo>
                    <a:pt x="1467" y="662"/>
                  </a:lnTo>
                  <a:lnTo>
                    <a:pt x="1425" y="663"/>
                  </a:lnTo>
                  <a:lnTo>
                    <a:pt x="1383" y="662"/>
                  </a:lnTo>
                  <a:lnTo>
                    <a:pt x="1340" y="660"/>
                  </a:lnTo>
                  <a:lnTo>
                    <a:pt x="1298" y="657"/>
                  </a:lnTo>
                  <a:lnTo>
                    <a:pt x="1255" y="651"/>
                  </a:lnTo>
                  <a:lnTo>
                    <a:pt x="1212" y="645"/>
                  </a:lnTo>
                  <a:lnTo>
                    <a:pt x="1169" y="637"/>
                  </a:lnTo>
                  <a:lnTo>
                    <a:pt x="1125" y="628"/>
                  </a:lnTo>
                  <a:lnTo>
                    <a:pt x="1082" y="618"/>
                  </a:lnTo>
                  <a:lnTo>
                    <a:pt x="1036" y="606"/>
                  </a:lnTo>
                  <a:lnTo>
                    <a:pt x="991" y="593"/>
                  </a:lnTo>
                  <a:lnTo>
                    <a:pt x="945" y="578"/>
                  </a:lnTo>
                  <a:lnTo>
                    <a:pt x="898" y="562"/>
                  </a:lnTo>
                  <a:lnTo>
                    <a:pt x="851" y="544"/>
                  </a:lnTo>
                  <a:lnTo>
                    <a:pt x="803" y="526"/>
                  </a:lnTo>
                  <a:lnTo>
                    <a:pt x="752" y="505"/>
                  </a:lnTo>
                  <a:lnTo>
                    <a:pt x="733" y="497"/>
                  </a:lnTo>
                  <a:lnTo>
                    <a:pt x="713" y="488"/>
                  </a:lnTo>
                  <a:lnTo>
                    <a:pt x="694" y="478"/>
                  </a:lnTo>
                  <a:lnTo>
                    <a:pt x="675" y="467"/>
                  </a:lnTo>
                  <a:lnTo>
                    <a:pt x="636" y="446"/>
                  </a:lnTo>
                  <a:lnTo>
                    <a:pt x="598" y="422"/>
                  </a:lnTo>
                  <a:lnTo>
                    <a:pt x="559" y="396"/>
                  </a:lnTo>
                  <a:lnTo>
                    <a:pt x="520" y="371"/>
                  </a:lnTo>
                  <a:lnTo>
                    <a:pt x="479" y="344"/>
                  </a:lnTo>
                  <a:lnTo>
                    <a:pt x="437" y="317"/>
                  </a:lnTo>
                  <a:lnTo>
                    <a:pt x="393" y="289"/>
                  </a:lnTo>
                  <a:lnTo>
                    <a:pt x="347" y="263"/>
                  </a:lnTo>
                  <a:lnTo>
                    <a:pt x="322" y="249"/>
                  </a:lnTo>
                  <a:lnTo>
                    <a:pt x="298" y="236"/>
                  </a:lnTo>
                  <a:lnTo>
                    <a:pt x="272" y="224"/>
                  </a:lnTo>
                  <a:lnTo>
                    <a:pt x="246" y="210"/>
                  </a:lnTo>
                  <a:lnTo>
                    <a:pt x="219" y="198"/>
                  </a:lnTo>
                  <a:lnTo>
                    <a:pt x="191" y="187"/>
                  </a:lnTo>
                  <a:lnTo>
                    <a:pt x="161" y="175"/>
                  </a:lnTo>
                  <a:lnTo>
                    <a:pt x="131" y="164"/>
                  </a:lnTo>
                  <a:lnTo>
                    <a:pt x="100" y="153"/>
                  </a:lnTo>
                  <a:lnTo>
                    <a:pt x="68" y="142"/>
                  </a:lnTo>
                  <a:lnTo>
                    <a:pt x="34" y="133"/>
                  </a:lnTo>
                  <a:lnTo>
                    <a:pt x="0" y="12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 flipH="1" rot="5952600">
            <a:off x="2252160" y="666360"/>
            <a:ext cx="443160" cy="61452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003366">
              <a:alpha val="52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5952600">
            <a:off x="2325240" y="663120"/>
            <a:ext cx="443160" cy="614520"/>
          </a:xfrm>
          <a:custGeom>
            <a:avLst/>
            <a:gdLst/>
            <a:ahLst/>
            <a:rect l="l" t="t" r="r" b="b"/>
            <a:pathLst>
              <a:path w="1349" h="3248">
                <a:moveTo>
                  <a:pt x="813" y="3227"/>
                </a:moveTo>
                <a:lnTo>
                  <a:pt x="825" y="3236"/>
                </a:lnTo>
                <a:lnTo>
                  <a:pt x="835" y="3242"/>
                </a:lnTo>
                <a:lnTo>
                  <a:pt x="843" y="3246"/>
                </a:lnTo>
                <a:lnTo>
                  <a:pt x="851" y="3248"/>
                </a:lnTo>
                <a:lnTo>
                  <a:pt x="857" y="3248"/>
                </a:lnTo>
                <a:lnTo>
                  <a:pt x="863" y="3246"/>
                </a:lnTo>
                <a:lnTo>
                  <a:pt x="866" y="3243"/>
                </a:lnTo>
                <a:lnTo>
                  <a:pt x="869" y="3239"/>
                </a:lnTo>
                <a:lnTo>
                  <a:pt x="871" y="3234"/>
                </a:lnTo>
                <a:lnTo>
                  <a:pt x="872" y="3227"/>
                </a:lnTo>
                <a:lnTo>
                  <a:pt x="873" y="3219"/>
                </a:lnTo>
                <a:lnTo>
                  <a:pt x="872" y="3212"/>
                </a:lnTo>
                <a:lnTo>
                  <a:pt x="871" y="3204"/>
                </a:lnTo>
                <a:lnTo>
                  <a:pt x="870" y="3197"/>
                </a:lnTo>
                <a:lnTo>
                  <a:pt x="868" y="3189"/>
                </a:lnTo>
                <a:lnTo>
                  <a:pt x="865" y="3181"/>
                </a:lnTo>
                <a:lnTo>
                  <a:pt x="856" y="3143"/>
                </a:lnTo>
                <a:lnTo>
                  <a:pt x="848" y="3102"/>
                </a:lnTo>
                <a:lnTo>
                  <a:pt x="841" y="3060"/>
                </a:lnTo>
                <a:lnTo>
                  <a:pt x="833" y="3017"/>
                </a:lnTo>
                <a:lnTo>
                  <a:pt x="826" y="2974"/>
                </a:lnTo>
                <a:lnTo>
                  <a:pt x="819" y="2930"/>
                </a:lnTo>
                <a:lnTo>
                  <a:pt x="813" y="2889"/>
                </a:lnTo>
                <a:lnTo>
                  <a:pt x="807" y="2851"/>
                </a:lnTo>
                <a:lnTo>
                  <a:pt x="814" y="2816"/>
                </a:lnTo>
                <a:lnTo>
                  <a:pt x="824" y="2780"/>
                </a:lnTo>
                <a:lnTo>
                  <a:pt x="835" y="2744"/>
                </a:lnTo>
                <a:lnTo>
                  <a:pt x="847" y="2707"/>
                </a:lnTo>
                <a:lnTo>
                  <a:pt x="862" y="2670"/>
                </a:lnTo>
                <a:lnTo>
                  <a:pt x="878" y="2632"/>
                </a:lnTo>
                <a:lnTo>
                  <a:pt x="896" y="2593"/>
                </a:lnTo>
                <a:lnTo>
                  <a:pt x="915" y="2555"/>
                </a:lnTo>
                <a:lnTo>
                  <a:pt x="955" y="2475"/>
                </a:lnTo>
                <a:lnTo>
                  <a:pt x="999" y="2394"/>
                </a:lnTo>
                <a:lnTo>
                  <a:pt x="1046" y="2309"/>
                </a:lnTo>
                <a:lnTo>
                  <a:pt x="1093" y="2223"/>
                </a:lnTo>
                <a:lnTo>
                  <a:pt x="1116" y="2179"/>
                </a:lnTo>
                <a:lnTo>
                  <a:pt x="1139" y="2134"/>
                </a:lnTo>
                <a:lnTo>
                  <a:pt x="1162" y="2089"/>
                </a:lnTo>
                <a:lnTo>
                  <a:pt x="1184" y="2043"/>
                </a:lnTo>
                <a:lnTo>
                  <a:pt x="1205" y="1997"/>
                </a:lnTo>
                <a:lnTo>
                  <a:pt x="1226" y="1949"/>
                </a:lnTo>
                <a:lnTo>
                  <a:pt x="1245" y="1901"/>
                </a:lnTo>
                <a:lnTo>
                  <a:pt x="1264" y="1853"/>
                </a:lnTo>
                <a:lnTo>
                  <a:pt x="1280" y="1804"/>
                </a:lnTo>
                <a:lnTo>
                  <a:pt x="1296" y="1754"/>
                </a:lnTo>
                <a:lnTo>
                  <a:pt x="1310" y="1703"/>
                </a:lnTo>
                <a:lnTo>
                  <a:pt x="1321" y="1652"/>
                </a:lnTo>
                <a:lnTo>
                  <a:pt x="1332" y="1601"/>
                </a:lnTo>
                <a:lnTo>
                  <a:pt x="1340" y="1548"/>
                </a:lnTo>
                <a:lnTo>
                  <a:pt x="1346" y="1495"/>
                </a:lnTo>
                <a:lnTo>
                  <a:pt x="1349" y="1441"/>
                </a:lnTo>
                <a:lnTo>
                  <a:pt x="1349" y="1405"/>
                </a:lnTo>
                <a:lnTo>
                  <a:pt x="1348" y="1368"/>
                </a:lnTo>
                <a:lnTo>
                  <a:pt x="1346" y="1329"/>
                </a:lnTo>
                <a:lnTo>
                  <a:pt x="1342" y="1288"/>
                </a:lnTo>
                <a:lnTo>
                  <a:pt x="1336" y="1246"/>
                </a:lnTo>
                <a:lnTo>
                  <a:pt x="1329" y="1202"/>
                </a:lnTo>
                <a:lnTo>
                  <a:pt x="1320" y="1155"/>
                </a:lnTo>
                <a:lnTo>
                  <a:pt x="1310" y="1106"/>
                </a:lnTo>
                <a:lnTo>
                  <a:pt x="1299" y="1054"/>
                </a:lnTo>
                <a:lnTo>
                  <a:pt x="1285" y="1001"/>
                </a:lnTo>
                <a:lnTo>
                  <a:pt x="1272" y="944"/>
                </a:lnTo>
                <a:lnTo>
                  <a:pt x="1257" y="885"/>
                </a:lnTo>
                <a:lnTo>
                  <a:pt x="1240" y="823"/>
                </a:lnTo>
                <a:lnTo>
                  <a:pt x="1223" y="758"/>
                </a:lnTo>
                <a:lnTo>
                  <a:pt x="1203" y="690"/>
                </a:lnTo>
                <a:lnTo>
                  <a:pt x="1184" y="619"/>
                </a:lnTo>
                <a:lnTo>
                  <a:pt x="1174" y="577"/>
                </a:lnTo>
                <a:lnTo>
                  <a:pt x="1164" y="530"/>
                </a:lnTo>
                <a:lnTo>
                  <a:pt x="1152" y="480"/>
                </a:lnTo>
                <a:lnTo>
                  <a:pt x="1139" y="427"/>
                </a:lnTo>
                <a:lnTo>
                  <a:pt x="1127" y="374"/>
                </a:lnTo>
                <a:lnTo>
                  <a:pt x="1117" y="320"/>
                </a:lnTo>
                <a:lnTo>
                  <a:pt x="1113" y="293"/>
                </a:lnTo>
                <a:lnTo>
                  <a:pt x="1109" y="268"/>
                </a:lnTo>
                <a:lnTo>
                  <a:pt x="1106" y="242"/>
                </a:lnTo>
                <a:lnTo>
                  <a:pt x="1105" y="217"/>
                </a:lnTo>
                <a:lnTo>
                  <a:pt x="1105" y="201"/>
                </a:lnTo>
                <a:lnTo>
                  <a:pt x="1106" y="185"/>
                </a:lnTo>
                <a:lnTo>
                  <a:pt x="1109" y="170"/>
                </a:lnTo>
                <a:lnTo>
                  <a:pt x="1113" y="156"/>
                </a:lnTo>
                <a:lnTo>
                  <a:pt x="1118" y="141"/>
                </a:lnTo>
                <a:lnTo>
                  <a:pt x="1123" y="127"/>
                </a:lnTo>
                <a:lnTo>
                  <a:pt x="1129" y="113"/>
                </a:lnTo>
                <a:lnTo>
                  <a:pt x="1136" y="100"/>
                </a:lnTo>
                <a:lnTo>
                  <a:pt x="1150" y="74"/>
                </a:lnTo>
                <a:lnTo>
                  <a:pt x="1164" y="50"/>
                </a:lnTo>
                <a:lnTo>
                  <a:pt x="1170" y="37"/>
                </a:lnTo>
                <a:lnTo>
                  <a:pt x="1176" y="25"/>
                </a:lnTo>
                <a:lnTo>
                  <a:pt x="1183" y="13"/>
                </a:lnTo>
                <a:lnTo>
                  <a:pt x="1187" y="0"/>
                </a:lnTo>
                <a:lnTo>
                  <a:pt x="1172" y="1"/>
                </a:lnTo>
                <a:lnTo>
                  <a:pt x="1158" y="3"/>
                </a:lnTo>
                <a:lnTo>
                  <a:pt x="1144" y="5"/>
                </a:lnTo>
                <a:lnTo>
                  <a:pt x="1131" y="8"/>
                </a:lnTo>
                <a:lnTo>
                  <a:pt x="1118" y="13"/>
                </a:lnTo>
                <a:lnTo>
                  <a:pt x="1105" y="17"/>
                </a:lnTo>
                <a:lnTo>
                  <a:pt x="1093" y="22"/>
                </a:lnTo>
                <a:lnTo>
                  <a:pt x="1081" y="28"/>
                </a:lnTo>
                <a:lnTo>
                  <a:pt x="1069" y="34"/>
                </a:lnTo>
                <a:lnTo>
                  <a:pt x="1059" y="41"/>
                </a:lnTo>
                <a:lnTo>
                  <a:pt x="1048" y="50"/>
                </a:lnTo>
                <a:lnTo>
                  <a:pt x="1037" y="58"/>
                </a:lnTo>
                <a:lnTo>
                  <a:pt x="1027" y="67"/>
                </a:lnTo>
                <a:lnTo>
                  <a:pt x="1018" y="76"/>
                </a:lnTo>
                <a:lnTo>
                  <a:pt x="1009" y="86"/>
                </a:lnTo>
                <a:lnTo>
                  <a:pt x="999" y="97"/>
                </a:lnTo>
                <a:lnTo>
                  <a:pt x="991" y="107"/>
                </a:lnTo>
                <a:lnTo>
                  <a:pt x="983" y="120"/>
                </a:lnTo>
                <a:lnTo>
                  <a:pt x="975" y="131"/>
                </a:lnTo>
                <a:lnTo>
                  <a:pt x="968" y="144"/>
                </a:lnTo>
                <a:lnTo>
                  <a:pt x="952" y="171"/>
                </a:lnTo>
                <a:lnTo>
                  <a:pt x="939" y="199"/>
                </a:lnTo>
                <a:lnTo>
                  <a:pt x="926" y="229"/>
                </a:lnTo>
                <a:lnTo>
                  <a:pt x="915" y="260"/>
                </a:lnTo>
                <a:lnTo>
                  <a:pt x="905" y="294"/>
                </a:lnTo>
                <a:lnTo>
                  <a:pt x="896" y="328"/>
                </a:lnTo>
                <a:lnTo>
                  <a:pt x="824" y="410"/>
                </a:lnTo>
                <a:lnTo>
                  <a:pt x="754" y="490"/>
                </a:lnTo>
                <a:lnTo>
                  <a:pt x="684" y="570"/>
                </a:lnTo>
                <a:lnTo>
                  <a:pt x="616" y="650"/>
                </a:lnTo>
                <a:lnTo>
                  <a:pt x="550" y="729"/>
                </a:lnTo>
                <a:lnTo>
                  <a:pt x="486" y="810"/>
                </a:lnTo>
                <a:lnTo>
                  <a:pt x="424" y="889"/>
                </a:lnTo>
                <a:lnTo>
                  <a:pt x="366" y="969"/>
                </a:lnTo>
                <a:lnTo>
                  <a:pt x="310" y="1048"/>
                </a:lnTo>
                <a:lnTo>
                  <a:pt x="259" y="1128"/>
                </a:lnTo>
                <a:lnTo>
                  <a:pt x="210" y="1209"/>
                </a:lnTo>
                <a:lnTo>
                  <a:pt x="166" y="1289"/>
                </a:lnTo>
                <a:lnTo>
                  <a:pt x="127" y="1369"/>
                </a:lnTo>
                <a:lnTo>
                  <a:pt x="92" y="1449"/>
                </a:lnTo>
                <a:lnTo>
                  <a:pt x="62" y="1531"/>
                </a:lnTo>
                <a:lnTo>
                  <a:pt x="38" y="1612"/>
                </a:lnTo>
                <a:lnTo>
                  <a:pt x="19" y="1694"/>
                </a:lnTo>
                <a:lnTo>
                  <a:pt x="6" y="1776"/>
                </a:lnTo>
                <a:lnTo>
                  <a:pt x="0" y="1860"/>
                </a:lnTo>
                <a:lnTo>
                  <a:pt x="1" y="1943"/>
                </a:lnTo>
                <a:lnTo>
                  <a:pt x="8" y="2027"/>
                </a:lnTo>
                <a:lnTo>
                  <a:pt x="23" y="2112"/>
                </a:lnTo>
                <a:lnTo>
                  <a:pt x="45" y="2198"/>
                </a:lnTo>
                <a:lnTo>
                  <a:pt x="76" y="2285"/>
                </a:lnTo>
                <a:lnTo>
                  <a:pt x="115" y="2371"/>
                </a:lnTo>
                <a:lnTo>
                  <a:pt x="162" y="2459"/>
                </a:lnTo>
                <a:lnTo>
                  <a:pt x="219" y="2549"/>
                </a:lnTo>
                <a:lnTo>
                  <a:pt x="285" y="2638"/>
                </a:lnTo>
                <a:lnTo>
                  <a:pt x="360" y="2730"/>
                </a:lnTo>
                <a:lnTo>
                  <a:pt x="445" y="2822"/>
                </a:lnTo>
                <a:lnTo>
                  <a:pt x="541" y="2916"/>
                </a:lnTo>
                <a:lnTo>
                  <a:pt x="648" y="3011"/>
                </a:lnTo>
                <a:lnTo>
                  <a:pt x="669" y="3049"/>
                </a:lnTo>
                <a:lnTo>
                  <a:pt x="690" y="3084"/>
                </a:lnTo>
                <a:lnTo>
                  <a:pt x="710" y="3116"/>
                </a:lnTo>
                <a:lnTo>
                  <a:pt x="732" y="3144"/>
                </a:lnTo>
                <a:lnTo>
                  <a:pt x="753" y="3169"/>
                </a:lnTo>
                <a:lnTo>
                  <a:pt x="772" y="3192"/>
                </a:lnTo>
                <a:lnTo>
                  <a:pt x="782" y="3201"/>
                </a:lnTo>
                <a:lnTo>
                  <a:pt x="793" y="3210"/>
                </a:lnTo>
                <a:lnTo>
                  <a:pt x="803" y="3218"/>
                </a:lnTo>
                <a:lnTo>
                  <a:pt x="813" y="3227"/>
                </a:lnTo>
                <a:close/>
              </a:path>
            </a:pathLst>
          </a:custGeom>
          <a:solidFill>
            <a:srgbClr val="9bcbe3">
              <a:alpha val="19000"/>
            </a:srgbClr>
          </a:soli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rot="5952600">
            <a:off x="2412720" y="806040"/>
            <a:ext cx="242640" cy="401760"/>
          </a:xfrm>
          <a:custGeom>
            <a:avLst/>
            <a:gdLst/>
            <a:ahLst/>
            <a:rect l="l" t="t" r="r" b="b"/>
            <a:pathLst>
              <a:path w="792" h="2198">
                <a:moveTo>
                  <a:pt x="792" y="0"/>
                </a:moveTo>
                <a:lnTo>
                  <a:pt x="750" y="53"/>
                </a:lnTo>
                <a:lnTo>
                  <a:pt x="683" y="128"/>
                </a:lnTo>
                <a:lnTo>
                  <a:pt x="619" y="202"/>
                </a:lnTo>
                <a:lnTo>
                  <a:pt x="559" y="276"/>
                </a:lnTo>
                <a:lnTo>
                  <a:pt x="500" y="348"/>
                </a:lnTo>
                <a:lnTo>
                  <a:pt x="443" y="420"/>
                </a:lnTo>
                <a:lnTo>
                  <a:pt x="390" y="491"/>
                </a:lnTo>
                <a:lnTo>
                  <a:pt x="339" y="562"/>
                </a:lnTo>
                <a:lnTo>
                  <a:pt x="292" y="632"/>
                </a:lnTo>
                <a:lnTo>
                  <a:pt x="248" y="701"/>
                </a:lnTo>
                <a:lnTo>
                  <a:pt x="207" y="770"/>
                </a:lnTo>
                <a:lnTo>
                  <a:pt x="169" y="838"/>
                </a:lnTo>
                <a:lnTo>
                  <a:pt x="135" y="905"/>
                </a:lnTo>
                <a:lnTo>
                  <a:pt x="104" y="972"/>
                </a:lnTo>
                <a:lnTo>
                  <a:pt x="77" y="1039"/>
                </a:lnTo>
                <a:lnTo>
                  <a:pt x="54" y="1104"/>
                </a:lnTo>
                <a:lnTo>
                  <a:pt x="35" y="1170"/>
                </a:lnTo>
                <a:lnTo>
                  <a:pt x="20" y="1236"/>
                </a:lnTo>
                <a:lnTo>
                  <a:pt x="9" y="1301"/>
                </a:lnTo>
                <a:lnTo>
                  <a:pt x="2" y="1366"/>
                </a:lnTo>
                <a:lnTo>
                  <a:pt x="0" y="1430"/>
                </a:lnTo>
                <a:lnTo>
                  <a:pt x="3" y="1494"/>
                </a:lnTo>
                <a:lnTo>
                  <a:pt x="10" y="1558"/>
                </a:lnTo>
                <a:lnTo>
                  <a:pt x="22" y="1623"/>
                </a:lnTo>
                <a:lnTo>
                  <a:pt x="39" y="1686"/>
                </a:lnTo>
                <a:lnTo>
                  <a:pt x="61" y="1750"/>
                </a:lnTo>
                <a:lnTo>
                  <a:pt x="87" y="1814"/>
                </a:lnTo>
                <a:lnTo>
                  <a:pt x="120" y="1878"/>
                </a:lnTo>
                <a:lnTo>
                  <a:pt x="157" y="1942"/>
                </a:lnTo>
                <a:lnTo>
                  <a:pt x="201" y="2005"/>
                </a:lnTo>
                <a:lnTo>
                  <a:pt x="250" y="2069"/>
                </a:lnTo>
                <a:lnTo>
                  <a:pt x="305" y="2134"/>
                </a:lnTo>
                <a:lnTo>
                  <a:pt x="365" y="2198"/>
                </a:lnTo>
                <a:lnTo>
                  <a:pt x="345" y="2104"/>
                </a:lnTo>
                <a:lnTo>
                  <a:pt x="328" y="2009"/>
                </a:lnTo>
                <a:lnTo>
                  <a:pt x="317" y="1914"/>
                </a:lnTo>
                <a:lnTo>
                  <a:pt x="311" y="1818"/>
                </a:lnTo>
                <a:lnTo>
                  <a:pt x="309" y="1722"/>
                </a:lnTo>
                <a:lnTo>
                  <a:pt x="310" y="1627"/>
                </a:lnTo>
                <a:lnTo>
                  <a:pt x="315" y="1531"/>
                </a:lnTo>
                <a:lnTo>
                  <a:pt x="323" y="1437"/>
                </a:lnTo>
                <a:lnTo>
                  <a:pt x="334" y="1343"/>
                </a:lnTo>
                <a:lnTo>
                  <a:pt x="349" y="1250"/>
                </a:lnTo>
                <a:lnTo>
                  <a:pt x="366" y="1159"/>
                </a:lnTo>
                <a:lnTo>
                  <a:pt x="385" y="1069"/>
                </a:lnTo>
                <a:lnTo>
                  <a:pt x="405" y="982"/>
                </a:lnTo>
                <a:lnTo>
                  <a:pt x="428" y="897"/>
                </a:lnTo>
                <a:lnTo>
                  <a:pt x="453" y="813"/>
                </a:lnTo>
                <a:lnTo>
                  <a:pt x="477" y="733"/>
                </a:lnTo>
                <a:lnTo>
                  <a:pt x="503" y="656"/>
                </a:lnTo>
                <a:lnTo>
                  <a:pt x="530" y="581"/>
                </a:lnTo>
                <a:lnTo>
                  <a:pt x="556" y="510"/>
                </a:lnTo>
                <a:lnTo>
                  <a:pt x="582" y="442"/>
                </a:lnTo>
                <a:lnTo>
                  <a:pt x="609" y="378"/>
                </a:lnTo>
                <a:lnTo>
                  <a:pt x="634" y="319"/>
                </a:lnTo>
                <a:lnTo>
                  <a:pt x="658" y="263"/>
                </a:lnTo>
                <a:lnTo>
                  <a:pt x="682" y="213"/>
                </a:lnTo>
                <a:lnTo>
                  <a:pt x="704" y="166"/>
                </a:lnTo>
                <a:lnTo>
                  <a:pt x="724" y="125"/>
                </a:lnTo>
                <a:lnTo>
                  <a:pt x="743" y="90"/>
                </a:lnTo>
                <a:lnTo>
                  <a:pt x="758" y="59"/>
                </a:lnTo>
                <a:lnTo>
                  <a:pt x="782" y="17"/>
                </a:lnTo>
                <a:lnTo>
                  <a:pt x="792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4052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rot="5952600">
            <a:off x="2478240" y="712800"/>
            <a:ext cx="182520" cy="415800"/>
          </a:xfrm>
          <a:custGeom>
            <a:avLst/>
            <a:gdLst/>
            <a:ahLst/>
            <a:rect l="l" t="t" r="r" b="b"/>
            <a:pathLst>
              <a:path w="697" h="2464">
                <a:moveTo>
                  <a:pt x="175" y="2464"/>
                </a:moveTo>
                <a:lnTo>
                  <a:pt x="144" y="2390"/>
                </a:lnTo>
                <a:lnTo>
                  <a:pt x="117" y="2315"/>
                </a:lnTo>
                <a:lnTo>
                  <a:pt x="93" y="2240"/>
                </a:lnTo>
                <a:lnTo>
                  <a:pt x="71" y="2164"/>
                </a:lnTo>
                <a:lnTo>
                  <a:pt x="53" y="2087"/>
                </a:lnTo>
                <a:lnTo>
                  <a:pt x="37" y="2010"/>
                </a:lnTo>
                <a:lnTo>
                  <a:pt x="25" y="1932"/>
                </a:lnTo>
                <a:lnTo>
                  <a:pt x="15" y="1853"/>
                </a:lnTo>
                <a:lnTo>
                  <a:pt x="7" y="1774"/>
                </a:lnTo>
                <a:lnTo>
                  <a:pt x="2" y="1695"/>
                </a:lnTo>
                <a:lnTo>
                  <a:pt x="0" y="1616"/>
                </a:lnTo>
                <a:lnTo>
                  <a:pt x="1" y="1537"/>
                </a:lnTo>
                <a:lnTo>
                  <a:pt x="3" y="1456"/>
                </a:lnTo>
                <a:lnTo>
                  <a:pt x="8" y="1377"/>
                </a:lnTo>
                <a:lnTo>
                  <a:pt x="17" y="1297"/>
                </a:lnTo>
                <a:lnTo>
                  <a:pt x="26" y="1218"/>
                </a:lnTo>
                <a:lnTo>
                  <a:pt x="38" y="1138"/>
                </a:lnTo>
                <a:lnTo>
                  <a:pt x="52" y="1058"/>
                </a:lnTo>
                <a:lnTo>
                  <a:pt x="68" y="979"/>
                </a:lnTo>
                <a:lnTo>
                  <a:pt x="87" y="900"/>
                </a:lnTo>
                <a:lnTo>
                  <a:pt x="107" y="822"/>
                </a:lnTo>
                <a:lnTo>
                  <a:pt x="129" y="744"/>
                </a:lnTo>
                <a:lnTo>
                  <a:pt x="152" y="667"/>
                </a:lnTo>
                <a:lnTo>
                  <a:pt x="178" y="589"/>
                </a:lnTo>
                <a:lnTo>
                  <a:pt x="206" y="513"/>
                </a:lnTo>
                <a:lnTo>
                  <a:pt x="236" y="437"/>
                </a:lnTo>
                <a:lnTo>
                  <a:pt x="266" y="362"/>
                </a:lnTo>
                <a:lnTo>
                  <a:pt x="298" y="288"/>
                </a:lnTo>
                <a:lnTo>
                  <a:pt x="332" y="214"/>
                </a:lnTo>
                <a:lnTo>
                  <a:pt x="367" y="142"/>
                </a:lnTo>
                <a:lnTo>
                  <a:pt x="404" y="70"/>
                </a:lnTo>
                <a:lnTo>
                  <a:pt x="441" y="0"/>
                </a:lnTo>
                <a:lnTo>
                  <a:pt x="469" y="59"/>
                </a:lnTo>
                <a:lnTo>
                  <a:pt x="494" y="115"/>
                </a:lnTo>
                <a:lnTo>
                  <a:pt x="519" y="172"/>
                </a:lnTo>
                <a:lnTo>
                  <a:pt x="541" y="226"/>
                </a:lnTo>
                <a:lnTo>
                  <a:pt x="562" y="280"/>
                </a:lnTo>
                <a:lnTo>
                  <a:pt x="581" y="332"/>
                </a:lnTo>
                <a:lnTo>
                  <a:pt x="599" y="384"/>
                </a:lnTo>
                <a:lnTo>
                  <a:pt x="615" y="434"/>
                </a:lnTo>
                <a:lnTo>
                  <a:pt x="631" y="485"/>
                </a:lnTo>
                <a:lnTo>
                  <a:pt x="644" y="534"/>
                </a:lnTo>
                <a:lnTo>
                  <a:pt x="655" y="582"/>
                </a:lnTo>
                <a:lnTo>
                  <a:pt x="666" y="631"/>
                </a:lnTo>
                <a:lnTo>
                  <a:pt x="675" y="678"/>
                </a:lnTo>
                <a:lnTo>
                  <a:pt x="682" y="725"/>
                </a:lnTo>
                <a:lnTo>
                  <a:pt x="688" y="772"/>
                </a:lnTo>
                <a:lnTo>
                  <a:pt x="692" y="819"/>
                </a:lnTo>
                <a:lnTo>
                  <a:pt x="694" y="866"/>
                </a:lnTo>
                <a:lnTo>
                  <a:pt x="697" y="912"/>
                </a:lnTo>
                <a:lnTo>
                  <a:pt x="697" y="960"/>
                </a:lnTo>
                <a:lnTo>
                  <a:pt x="694" y="1007"/>
                </a:lnTo>
                <a:lnTo>
                  <a:pt x="691" y="1054"/>
                </a:lnTo>
                <a:lnTo>
                  <a:pt x="686" y="1102"/>
                </a:lnTo>
                <a:lnTo>
                  <a:pt x="680" y="1150"/>
                </a:lnTo>
                <a:lnTo>
                  <a:pt x="673" y="1198"/>
                </a:lnTo>
                <a:lnTo>
                  <a:pt x="664" y="1248"/>
                </a:lnTo>
                <a:lnTo>
                  <a:pt x="652" y="1297"/>
                </a:lnTo>
                <a:lnTo>
                  <a:pt x="640" y="1347"/>
                </a:lnTo>
                <a:lnTo>
                  <a:pt x="627" y="1399"/>
                </a:lnTo>
                <a:lnTo>
                  <a:pt x="611" y="1451"/>
                </a:lnTo>
                <a:lnTo>
                  <a:pt x="595" y="1505"/>
                </a:lnTo>
                <a:lnTo>
                  <a:pt x="576" y="1559"/>
                </a:lnTo>
                <a:lnTo>
                  <a:pt x="557" y="1615"/>
                </a:lnTo>
                <a:lnTo>
                  <a:pt x="548" y="1637"/>
                </a:lnTo>
                <a:lnTo>
                  <a:pt x="539" y="1659"/>
                </a:lnTo>
                <a:lnTo>
                  <a:pt x="529" y="1682"/>
                </a:lnTo>
                <a:lnTo>
                  <a:pt x="519" y="1703"/>
                </a:lnTo>
                <a:lnTo>
                  <a:pt x="497" y="1746"/>
                </a:lnTo>
                <a:lnTo>
                  <a:pt x="472" y="1790"/>
                </a:lnTo>
                <a:lnTo>
                  <a:pt x="447" y="1834"/>
                </a:lnTo>
                <a:lnTo>
                  <a:pt x="420" y="1879"/>
                </a:lnTo>
                <a:lnTo>
                  <a:pt x="393" y="1925"/>
                </a:lnTo>
                <a:lnTo>
                  <a:pt x="365" y="1973"/>
                </a:lnTo>
                <a:lnTo>
                  <a:pt x="338" y="2023"/>
                </a:lnTo>
                <a:lnTo>
                  <a:pt x="310" y="2076"/>
                </a:lnTo>
                <a:lnTo>
                  <a:pt x="296" y="2102"/>
                </a:lnTo>
                <a:lnTo>
                  <a:pt x="284" y="2131"/>
                </a:lnTo>
                <a:lnTo>
                  <a:pt x="271" y="2160"/>
                </a:lnTo>
                <a:lnTo>
                  <a:pt x="258" y="2189"/>
                </a:lnTo>
                <a:lnTo>
                  <a:pt x="246" y="2220"/>
                </a:lnTo>
                <a:lnTo>
                  <a:pt x="235" y="2251"/>
                </a:lnTo>
                <a:lnTo>
                  <a:pt x="223" y="2284"/>
                </a:lnTo>
                <a:lnTo>
                  <a:pt x="212" y="2318"/>
                </a:lnTo>
                <a:lnTo>
                  <a:pt x="202" y="2352"/>
                </a:lnTo>
                <a:lnTo>
                  <a:pt x="192" y="2388"/>
                </a:lnTo>
                <a:lnTo>
                  <a:pt x="183" y="2425"/>
                </a:lnTo>
                <a:lnTo>
                  <a:pt x="175" y="246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f"/>
              </a:gs>
              <a:gs pos="100000">
                <a:srgbClr val="000066"/>
              </a:gs>
            </a:gsLst>
            <a:lin ang="14052000"/>
          </a:gradFill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981600" y="5928840"/>
            <a:ext cx="1064520" cy="1040760"/>
            <a:chOff x="3981600" y="5928840"/>
            <a:chExt cx="1064520" cy="1040760"/>
          </a:xfrm>
        </p:grpSpPr>
        <p:sp>
          <p:nvSpPr>
            <p:cNvPr id="376" name=""/>
            <p:cNvSpPr/>
            <p:nvPr/>
          </p:nvSpPr>
          <p:spPr>
            <a:xfrm flipH="1" rot="18076200">
              <a:off x="4177800" y="6079320"/>
              <a:ext cx="707760" cy="77400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rot="18076200">
              <a:off x="4142520" y="6044760"/>
              <a:ext cx="707760" cy="775080"/>
            </a:xfrm>
            <a:custGeom>
              <a:avLst/>
              <a:gdLst/>
              <a:ahLst/>
              <a:rect l="l" t="t" r="r" b="b"/>
              <a:pathLst>
                <a:path w="5156" h="3904">
                  <a:moveTo>
                    <a:pt x="3" y="3804"/>
                  </a:moveTo>
                  <a:lnTo>
                    <a:pt x="4" y="3820"/>
                  </a:lnTo>
                  <a:lnTo>
                    <a:pt x="5" y="3833"/>
                  </a:lnTo>
                  <a:lnTo>
                    <a:pt x="7" y="3845"/>
                  </a:lnTo>
                  <a:lnTo>
                    <a:pt x="9" y="3857"/>
                  </a:lnTo>
                  <a:lnTo>
                    <a:pt x="11" y="3866"/>
                  </a:lnTo>
                  <a:lnTo>
                    <a:pt x="14" y="3875"/>
                  </a:lnTo>
                  <a:lnTo>
                    <a:pt x="17" y="3882"/>
                  </a:lnTo>
                  <a:lnTo>
                    <a:pt x="20" y="3889"/>
                  </a:lnTo>
                  <a:lnTo>
                    <a:pt x="25" y="3894"/>
                  </a:lnTo>
                  <a:lnTo>
                    <a:pt x="29" y="3898"/>
                  </a:lnTo>
                  <a:lnTo>
                    <a:pt x="33" y="3900"/>
                  </a:lnTo>
                  <a:lnTo>
                    <a:pt x="38" y="3903"/>
                  </a:lnTo>
                  <a:lnTo>
                    <a:pt x="43" y="3904"/>
                  </a:lnTo>
                  <a:lnTo>
                    <a:pt x="47" y="3904"/>
                  </a:lnTo>
                  <a:lnTo>
                    <a:pt x="52" y="3904"/>
                  </a:lnTo>
                  <a:lnTo>
                    <a:pt x="57" y="3902"/>
                  </a:lnTo>
                  <a:lnTo>
                    <a:pt x="64" y="3901"/>
                  </a:lnTo>
                  <a:lnTo>
                    <a:pt x="69" y="3898"/>
                  </a:lnTo>
                  <a:lnTo>
                    <a:pt x="74" y="3895"/>
                  </a:lnTo>
                  <a:lnTo>
                    <a:pt x="79" y="3892"/>
                  </a:lnTo>
                  <a:lnTo>
                    <a:pt x="90" y="3882"/>
                  </a:lnTo>
                  <a:lnTo>
                    <a:pt x="101" y="3872"/>
                  </a:lnTo>
                  <a:lnTo>
                    <a:pt x="111" y="3861"/>
                  </a:lnTo>
                  <a:lnTo>
                    <a:pt x="120" y="3847"/>
                  </a:lnTo>
                  <a:lnTo>
                    <a:pt x="128" y="3835"/>
                  </a:lnTo>
                  <a:lnTo>
                    <a:pt x="136" y="3822"/>
                  </a:lnTo>
                  <a:lnTo>
                    <a:pt x="180" y="3760"/>
                  </a:lnTo>
                  <a:lnTo>
                    <a:pt x="228" y="3695"/>
                  </a:lnTo>
                  <a:lnTo>
                    <a:pt x="280" y="3628"/>
                  </a:lnTo>
                  <a:lnTo>
                    <a:pt x="332" y="3560"/>
                  </a:lnTo>
                  <a:lnTo>
                    <a:pt x="386" y="3494"/>
                  </a:lnTo>
                  <a:lnTo>
                    <a:pt x="439" y="3429"/>
                  </a:lnTo>
                  <a:lnTo>
                    <a:pt x="490" y="3366"/>
                  </a:lnTo>
                  <a:lnTo>
                    <a:pt x="538" y="3308"/>
                  </a:lnTo>
                  <a:lnTo>
                    <a:pt x="598" y="3272"/>
                  </a:lnTo>
                  <a:lnTo>
                    <a:pt x="661" y="3239"/>
                  </a:lnTo>
                  <a:lnTo>
                    <a:pt x="728" y="3208"/>
                  </a:lnTo>
                  <a:lnTo>
                    <a:pt x="799" y="3179"/>
                  </a:lnTo>
                  <a:lnTo>
                    <a:pt x="872" y="3151"/>
                  </a:lnTo>
                  <a:lnTo>
                    <a:pt x="948" y="3125"/>
                  </a:lnTo>
                  <a:lnTo>
                    <a:pt x="1026" y="3101"/>
                  </a:lnTo>
                  <a:lnTo>
                    <a:pt x="1108" y="3077"/>
                  </a:lnTo>
                  <a:lnTo>
                    <a:pt x="1190" y="3054"/>
                  </a:lnTo>
                  <a:lnTo>
                    <a:pt x="1275" y="3033"/>
                  </a:lnTo>
                  <a:lnTo>
                    <a:pt x="1363" y="3011"/>
                  </a:lnTo>
                  <a:lnTo>
                    <a:pt x="1451" y="2991"/>
                  </a:lnTo>
                  <a:lnTo>
                    <a:pt x="1632" y="2947"/>
                  </a:lnTo>
                  <a:lnTo>
                    <a:pt x="1818" y="2903"/>
                  </a:lnTo>
                  <a:lnTo>
                    <a:pt x="1913" y="2880"/>
                  </a:lnTo>
                  <a:lnTo>
                    <a:pt x="2008" y="2855"/>
                  </a:lnTo>
                  <a:lnTo>
                    <a:pt x="2102" y="2828"/>
                  </a:lnTo>
                  <a:lnTo>
                    <a:pt x="2198" y="2800"/>
                  </a:lnTo>
                  <a:lnTo>
                    <a:pt x="2293" y="2771"/>
                  </a:lnTo>
                  <a:lnTo>
                    <a:pt x="2387" y="2739"/>
                  </a:lnTo>
                  <a:lnTo>
                    <a:pt x="2482" y="2705"/>
                  </a:lnTo>
                  <a:lnTo>
                    <a:pt x="2576" y="2668"/>
                  </a:lnTo>
                  <a:lnTo>
                    <a:pt x="2669" y="2629"/>
                  </a:lnTo>
                  <a:lnTo>
                    <a:pt x="2762" y="2586"/>
                  </a:lnTo>
                  <a:lnTo>
                    <a:pt x="2852" y="2540"/>
                  </a:lnTo>
                  <a:lnTo>
                    <a:pt x="2942" y="2492"/>
                  </a:lnTo>
                  <a:lnTo>
                    <a:pt x="3030" y="2438"/>
                  </a:lnTo>
                  <a:lnTo>
                    <a:pt x="3117" y="2382"/>
                  </a:lnTo>
                  <a:lnTo>
                    <a:pt x="3201" y="2321"/>
                  </a:lnTo>
                  <a:lnTo>
                    <a:pt x="3284" y="2255"/>
                  </a:lnTo>
                  <a:lnTo>
                    <a:pt x="3310" y="2234"/>
                  </a:lnTo>
                  <a:lnTo>
                    <a:pt x="3336" y="2210"/>
                  </a:lnTo>
                  <a:lnTo>
                    <a:pt x="3362" y="2185"/>
                  </a:lnTo>
                  <a:lnTo>
                    <a:pt x="3388" y="2160"/>
                  </a:lnTo>
                  <a:lnTo>
                    <a:pt x="3415" y="2133"/>
                  </a:lnTo>
                  <a:lnTo>
                    <a:pt x="3441" y="2105"/>
                  </a:lnTo>
                  <a:lnTo>
                    <a:pt x="3467" y="2076"/>
                  </a:lnTo>
                  <a:lnTo>
                    <a:pt x="3494" y="2046"/>
                  </a:lnTo>
                  <a:lnTo>
                    <a:pt x="3521" y="2016"/>
                  </a:lnTo>
                  <a:lnTo>
                    <a:pt x="3549" y="1983"/>
                  </a:lnTo>
                  <a:lnTo>
                    <a:pt x="3575" y="1949"/>
                  </a:lnTo>
                  <a:lnTo>
                    <a:pt x="3603" y="1915"/>
                  </a:lnTo>
                  <a:lnTo>
                    <a:pt x="3660" y="1841"/>
                  </a:lnTo>
                  <a:lnTo>
                    <a:pt x="3717" y="1763"/>
                  </a:lnTo>
                  <a:lnTo>
                    <a:pt x="3776" y="1679"/>
                  </a:lnTo>
                  <a:lnTo>
                    <a:pt x="3838" y="1591"/>
                  </a:lnTo>
                  <a:lnTo>
                    <a:pt x="3900" y="1497"/>
                  </a:lnTo>
                  <a:lnTo>
                    <a:pt x="3966" y="1399"/>
                  </a:lnTo>
                  <a:lnTo>
                    <a:pt x="4034" y="1294"/>
                  </a:lnTo>
                  <a:lnTo>
                    <a:pt x="4106" y="1184"/>
                  </a:lnTo>
                  <a:lnTo>
                    <a:pt x="4179" y="1068"/>
                  </a:lnTo>
                  <a:lnTo>
                    <a:pt x="4257" y="947"/>
                  </a:lnTo>
                  <a:lnTo>
                    <a:pt x="4307" y="879"/>
                  </a:lnTo>
                  <a:lnTo>
                    <a:pt x="4359" y="802"/>
                  </a:lnTo>
                  <a:lnTo>
                    <a:pt x="4417" y="719"/>
                  </a:lnTo>
                  <a:lnTo>
                    <a:pt x="4476" y="632"/>
                  </a:lnTo>
                  <a:lnTo>
                    <a:pt x="4507" y="589"/>
                  </a:lnTo>
                  <a:lnTo>
                    <a:pt x="4539" y="546"/>
                  </a:lnTo>
                  <a:lnTo>
                    <a:pt x="4571" y="503"/>
                  </a:lnTo>
                  <a:lnTo>
                    <a:pt x="4603" y="462"/>
                  </a:lnTo>
                  <a:lnTo>
                    <a:pt x="4636" y="420"/>
                  </a:lnTo>
                  <a:lnTo>
                    <a:pt x="4669" y="381"/>
                  </a:lnTo>
                  <a:lnTo>
                    <a:pt x="4703" y="344"/>
                  </a:lnTo>
                  <a:lnTo>
                    <a:pt x="4736" y="310"/>
                  </a:lnTo>
                  <a:lnTo>
                    <a:pt x="4748" y="299"/>
                  </a:lnTo>
                  <a:lnTo>
                    <a:pt x="4759" y="289"/>
                  </a:lnTo>
                  <a:lnTo>
                    <a:pt x="4772" y="280"/>
                  </a:lnTo>
                  <a:lnTo>
                    <a:pt x="4784" y="270"/>
                  </a:lnTo>
                  <a:lnTo>
                    <a:pt x="4796" y="262"/>
                  </a:lnTo>
                  <a:lnTo>
                    <a:pt x="4810" y="254"/>
                  </a:lnTo>
                  <a:lnTo>
                    <a:pt x="4823" y="248"/>
                  </a:lnTo>
                  <a:lnTo>
                    <a:pt x="4835" y="240"/>
                  </a:lnTo>
                  <a:lnTo>
                    <a:pt x="4862" y="229"/>
                  </a:lnTo>
                  <a:lnTo>
                    <a:pt x="4890" y="219"/>
                  </a:lnTo>
                  <a:lnTo>
                    <a:pt x="4918" y="210"/>
                  </a:lnTo>
                  <a:lnTo>
                    <a:pt x="4945" y="201"/>
                  </a:lnTo>
                  <a:lnTo>
                    <a:pt x="5001" y="189"/>
                  </a:lnTo>
                  <a:lnTo>
                    <a:pt x="5056" y="177"/>
                  </a:lnTo>
                  <a:lnTo>
                    <a:pt x="5082" y="169"/>
                  </a:lnTo>
                  <a:lnTo>
                    <a:pt x="5108" y="163"/>
                  </a:lnTo>
                  <a:lnTo>
                    <a:pt x="5133" y="155"/>
                  </a:lnTo>
                  <a:lnTo>
                    <a:pt x="5156" y="146"/>
                  </a:lnTo>
                  <a:lnTo>
                    <a:pt x="5136" y="126"/>
                  </a:lnTo>
                  <a:lnTo>
                    <a:pt x="5115" y="108"/>
                  </a:lnTo>
                  <a:lnTo>
                    <a:pt x="5094" y="91"/>
                  </a:lnTo>
                  <a:lnTo>
                    <a:pt x="5071" y="76"/>
                  </a:lnTo>
                  <a:lnTo>
                    <a:pt x="5048" y="61"/>
                  </a:lnTo>
                  <a:lnTo>
                    <a:pt x="5026" y="50"/>
                  </a:lnTo>
                  <a:lnTo>
                    <a:pt x="5002" y="39"/>
                  </a:lnTo>
                  <a:lnTo>
                    <a:pt x="4978" y="30"/>
                  </a:lnTo>
                  <a:lnTo>
                    <a:pt x="4954" y="21"/>
                  </a:lnTo>
                  <a:lnTo>
                    <a:pt x="4929" y="14"/>
                  </a:lnTo>
                  <a:lnTo>
                    <a:pt x="4904" y="9"/>
                  </a:lnTo>
                  <a:lnTo>
                    <a:pt x="4879" y="5"/>
                  </a:lnTo>
                  <a:lnTo>
                    <a:pt x="4853" y="2"/>
                  </a:lnTo>
                  <a:lnTo>
                    <a:pt x="4827" y="1"/>
                  </a:lnTo>
                  <a:lnTo>
                    <a:pt x="4800" y="0"/>
                  </a:lnTo>
                  <a:lnTo>
                    <a:pt x="4774" y="1"/>
                  </a:lnTo>
                  <a:lnTo>
                    <a:pt x="4746" y="3"/>
                  </a:lnTo>
                  <a:lnTo>
                    <a:pt x="4718" y="6"/>
                  </a:lnTo>
                  <a:lnTo>
                    <a:pt x="4690" y="10"/>
                  </a:lnTo>
                  <a:lnTo>
                    <a:pt x="4663" y="15"/>
                  </a:lnTo>
                  <a:lnTo>
                    <a:pt x="4634" y="21"/>
                  </a:lnTo>
                  <a:lnTo>
                    <a:pt x="4605" y="29"/>
                  </a:lnTo>
                  <a:lnTo>
                    <a:pt x="4576" y="37"/>
                  </a:lnTo>
                  <a:lnTo>
                    <a:pt x="4546" y="46"/>
                  </a:lnTo>
                  <a:lnTo>
                    <a:pt x="4517" y="56"/>
                  </a:lnTo>
                  <a:lnTo>
                    <a:pt x="4487" y="68"/>
                  </a:lnTo>
                  <a:lnTo>
                    <a:pt x="4456" y="80"/>
                  </a:lnTo>
                  <a:lnTo>
                    <a:pt x="4426" y="92"/>
                  </a:lnTo>
                  <a:lnTo>
                    <a:pt x="4395" y="106"/>
                  </a:lnTo>
                  <a:lnTo>
                    <a:pt x="4364" y="121"/>
                  </a:lnTo>
                  <a:lnTo>
                    <a:pt x="4332" y="136"/>
                  </a:lnTo>
                  <a:lnTo>
                    <a:pt x="4302" y="152"/>
                  </a:lnTo>
                  <a:lnTo>
                    <a:pt x="4092" y="154"/>
                  </a:lnTo>
                  <a:lnTo>
                    <a:pt x="3883" y="156"/>
                  </a:lnTo>
                  <a:lnTo>
                    <a:pt x="3677" y="160"/>
                  </a:lnTo>
                  <a:lnTo>
                    <a:pt x="3474" y="166"/>
                  </a:lnTo>
                  <a:lnTo>
                    <a:pt x="3272" y="175"/>
                  </a:lnTo>
                  <a:lnTo>
                    <a:pt x="3073" y="186"/>
                  </a:lnTo>
                  <a:lnTo>
                    <a:pt x="2878" y="201"/>
                  </a:lnTo>
                  <a:lnTo>
                    <a:pt x="2687" y="220"/>
                  </a:lnTo>
                  <a:lnTo>
                    <a:pt x="2499" y="244"/>
                  </a:lnTo>
                  <a:lnTo>
                    <a:pt x="2316" y="272"/>
                  </a:lnTo>
                  <a:lnTo>
                    <a:pt x="2137" y="306"/>
                  </a:lnTo>
                  <a:lnTo>
                    <a:pt x="1965" y="347"/>
                  </a:lnTo>
                  <a:lnTo>
                    <a:pt x="1796" y="395"/>
                  </a:lnTo>
                  <a:lnTo>
                    <a:pt x="1634" y="449"/>
                  </a:lnTo>
                  <a:lnTo>
                    <a:pt x="1478" y="512"/>
                  </a:lnTo>
                  <a:lnTo>
                    <a:pt x="1329" y="582"/>
                  </a:lnTo>
                  <a:lnTo>
                    <a:pt x="1186" y="662"/>
                  </a:lnTo>
                  <a:lnTo>
                    <a:pt x="1050" y="751"/>
                  </a:lnTo>
                  <a:lnTo>
                    <a:pt x="922" y="849"/>
                  </a:lnTo>
                  <a:lnTo>
                    <a:pt x="802" y="959"/>
                  </a:lnTo>
                  <a:lnTo>
                    <a:pt x="690" y="1080"/>
                  </a:lnTo>
                  <a:lnTo>
                    <a:pt x="586" y="1211"/>
                  </a:lnTo>
                  <a:lnTo>
                    <a:pt x="492" y="1355"/>
                  </a:lnTo>
                  <a:lnTo>
                    <a:pt x="406" y="1513"/>
                  </a:lnTo>
                  <a:lnTo>
                    <a:pt x="331" y="1682"/>
                  </a:lnTo>
                  <a:lnTo>
                    <a:pt x="265" y="1865"/>
                  </a:lnTo>
                  <a:lnTo>
                    <a:pt x="210" y="2064"/>
                  </a:lnTo>
                  <a:lnTo>
                    <a:pt x="166" y="2276"/>
                  </a:lnTo>
                  <a:lnTo>
                    <a:pt x="132" y="2504"/>
                  </a:lnTo>
                  <a:lnTo>
                    <a:pt x="109" y="2747"/>
                  </a:lnTo>
                  <a:lnTo>
                    <a:pt x="99" y="3007"/>
                  </a:lnTo>
                  <a:lnTo>
                    <a:pt x="100" y="3284"/>
                  </a:lnTo>
                  <a:lnTo>
                    <a:pt x="85" y="3325"/>
                  </a:lnTo>
                  <a:lnTo>
                    <a:pt x="73" y="3365"/>
                  </a:lnTo>
                  <a:lnTo>
                    <a:pt x="61" y="3403"/>
                  </a:lnTo>
                  <a:lnTo>
                    <a:pt x="49" y="3441"/>
                  </a:lnTo>
                  <a:lnTo>
                    <a:pt x="39" y="3477"/>
                  </a:lnTo>
                  <a:lnTo>
                    <a:pt x="31" y="3512"/>
                  </a:lnTo>
                  <a:lnTo>
                    <a:pt x="23" y="3547"/>
                  </a:lnTo>
                  <a:lnTo>
                    <a:pt x="16" y="3580"/>
                  </a:lnTo>
                  <a:lnTo>
                    <a:pt x="11" y="3612"/>
                  </a:lnTo>
                  <a:lnTo>
                    <a:pt x="6" y="3643"/>
                  </a:lnTo>
                  <a:lnTo>
                    <a:pt x="3" y="3673"/>
                  </a:lnTo>
                  <a:lnTo>
                    <a:pt x="1" y="3701"/>
                  </a:lnTo>
                  <a:lnTo>
                    <a:pt x="0" y="3728"/>
                  </a:lnTo>
                  <a:lnTo>
                    <a:pt x="0" y="3755"/>
                  </a:lnTo>
                  <a:lnTo>
                    <a:pt x="1" y="3781"/>
                  </a:lnTo>
                  <a:lnTo>
                    <a:pt x="3" y="3804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rot="18076200">
              <a:off x="4197960" y="6099120"/>
              <a:ext cx="505080" cy="446040"/>
            </a:xfrm>
            <a:custGeom>
              <a:avLst/>
              <a:gdLst/>
              <a:ahLst/>
              <a:rect l="l" t="t" r="r" b="b"/>
              <a:pathLst>
                <a:path w="3736" h="2244">
                  <a:moveTo>
                    <a:pt x="3736" y="0"/>
                  </a:moveTo>
                  <a:lnTo>
                    <a:pt x="3603" y="8"/>
                  </a:lnTo>
                  <a:lnTo>
                    <a:pt x="3408" y="11"/>
                  </a:lnTo>
                  <a:lnTo>
                    <a:pt x="3218" y="15"/>
                  </a:lnTo>
                  <a:lnTo>
                    <a:pt x="3032" y="22"/>
                  </a:lnTo>
                  <a:lnTo>
                    <a:pt x="2850" y="32"/>
                  </a:lnTo>
                  <a:lnTo>
                    <a:pt x="2673" y="44"/>
                  </a:lnTo>
                  <a:lnTo>
                    <a:pt x="2501" y="60"/>
                  </a:lnTo>
                  <a:lnTo>
                    <a:pt x="2333" y="78"/>
                  </a:lnTo>
                  <a:lnTo>
                    <a:pt x="2170" y="100"/>
                  </a:lnTo>
                  <a:lnTo>
                    <a:pt x="2012" y="126"/>
                  </a:lnTo>
                  <a:lnTo>
                    <a:pt x="1860" y="156"/>
                  </a:lnTo>
                  <a:lnTo>
                    <a:pt x="1712" y="190"/>
                  </a:lnTo>
                  <a:lnTo>
                    <a:pt x="1570" y="228"/>
                  </a:lnTo>
                  <a:lnTo>
                    <a:pt x="1433" y="271"/>
                  </a:lnTo>
                  <a:lnTo>
                    <a:pt x="1303" y="318"/>
                  </a:lnTo>
                  <a:lnTo>
                    <a:pt x="1176" y="371"/>
                  </a:lnTo>
                  <a:lnTo>
                    <a:pt x="1057" y="429"/>
                  </a:lnTo>
                  <a:lnTo>
                    <a:pt x="943" y="492"/>
                  </a:lnTo>
                  <a:lnTo>
                    <a:pt x="835" y="561"/>
                  </a:lnTo>
                  <a:lnTo>
                    <a:pt x="732" y="636"/>
                  </a:lnTo>
                  <a:lnTo>
                    <a:pt x="636" y="717"/>
                  </a:lnTo>
                  <a:lnTo>
                    <a:pt x="547" y="805"/>
                  </a:lnTo>
                  <a:lnTo>
                    <a:pt x="463" y="898"/>
                  </a:lnTo>
                  <a:lnTo>
                    <a:pt x="386" y="999"/>
                  </a:lnTo>
                  <a:lnTo>
                    <a:pt x="315" y="1106"/>
                  </a:lnTo>
                  <a:lnTo>
                    <a:pt x="251" y="1221"/>
                  </a:lnTo>
                  <a:lnTo>
                    <a:pt x="195" y="1343"/>
                  </a:lnTo>
                  <a:lnTo>
                    <a:pt x="144" y="1473"/>
                  </a:lnTo>
                  <a:lnTo>
                    <a:pt x="101" y="1611"/>
                  </a:lnTo>
                  <a:lnTo>
                    <a:pt x="65" y="1757"/>
                  </a:lnTo>
                  <a:lnTo>
                    <a:pt x="36" y="1910"/>
                  </a:lnTo>
                  <a:lnTo>
                    <a:pt x="15" y="2074"/>
                  </a:lnTo>
                  <a:lnTo>
                    <a:pt x="0" y="2244"/>
                  </a:lnTo>
                  <a:lnTo>
                    <a:pt x="109" y="2092"/>
                  </a:lnTo>
                  <a:lnTo>
                    <a:pt x="226" y="1945"/>
                  </a:lnTo>
                  <a:lnTo>
                    <a:pt x="349" y="1805"/>
                  </a:lnTo>
                  <a:lnTo>
                    <a:pt x="479" y="1671"/>
                  </a:lnTo>
                  <a:lnTo>
                    <a:pt x="615" y="1542"/>
                  </a:lnTo>
                  <a:lnTo>
                    <a:pt x="754" y="1420"/>
                  </a:lnTo>
                  <a:lnTo>
                    <a:pt x="899" y="1303"/>
                  </a:lnTo>
                  <a:lnTo>
                    <a:pt x="1047" y="1192"/>
                  </a:lnTo>
                  <a:lnTo>
                    <a:pt x="1198" y="1087"/>
                  </a:lnTo>
                  <a:lnTo>
                    <a:pt x="1350" y="988"/>
                  </a:lnTo>
                  <a:lnTo>
                    <a:pt x="1503" y="893"/>
                  </a:lnTo>
                  <a:lnTo>
                    <a:pt x="1658" y="805"/>
                  </a:lnTo>
                  <a:lnTo>
                    <a:pt x="1812" y="720"/>
                  </a:lnTo>
                  <a:lnTo>
                    <a:pt x="1965" y="642"/>
                  </a:lnTo>
                  <a:lnTo>
                    <a:pt x="2116" y="568"/>
                  </a:lnTo>
                  <a:lnTo>
                    <a:pt x="2265" y="500"/>
                  </a:lnTo>
                  <a:lnTo>
                    <a:pt x="2411" y="436"/>
                  </a:lnTo>
                  <a:lnTo>
                    <a:pt x="2552" y="377"/>
                  </a:lnTo>
                  <a:lnTo>
                    <a:pt x="2690" y="323"/>
                  </a:lnTo>
                  <a:lnTo>
                    <a:pt x="2823" y="273"/>
                  </a:lnTo>
                  <a:lnTo>
                    <a:pt x="2948" y="228"/>
                  </a:lnTo>
                  <a:lnTo>
                    <a:pt x="3069" y="187"/>
                  </a:lnTo>
                  <a:lnTo>
                    <a:pt x="3181" y="150"/>
                  </a:lnTo>
                  <a:lnTo>
                    <a:pt x="3285" y="119"/>
                  </a:lnTo>
                  <a:lnTo>
                    <a:pt x="3379" y="90"/>
                  </a:lnTo>
                  <a:lnTo>
                    <a:pt x="3465" y="66"/>
                  </a:lnTo>
                  <a:lnTo>
                    <a:pt x="3540" y="46"/>
                  </a:lnTo>
                  <a:lnTo>
                    <a:pt x="3605" y="29"/>
                  </a:lnTo>
                  <a:lnTo>
                    <a:pt x="3657" y="17"/>
                  </a:lnTo>
                  <a:lnTo>
                    <a:pt x="3696" y="7"/>
                  </a:lnTo>
                  <a:lnTo>
                    <a:pt x="3723" y="2"/>
                  </a:lnTo>
                  <a:lnTo>
                    <a:pt x="373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18076200">
              <a:off x="4235040" y="6110640"/>
              <a:ext cx="530280" cy="539280"/>
            </a:xfrm>
            <a:custGeom>
              <a:avLst/>
              <a:gdLst/>
              <a:ahLst/>
              <a:rect l="l" t="t" r="r" b="b"/>
              <a:pathLst>
                <a:path w="3911" h="2822">
                  <a:moveTo>
                    <a:pt x="0" y="2822"/>
                  </a:moveTo>
                  <a:lnTo>
                    <a:pt x="66" y="2682"/>
                  </a:lnTo>
                  <a:lnTo>
                    <a:pt x="139" y="2545"/>
                  </a:lnTo>
                  <a:lnTo>
                    <a:pt x="217" y="2412"/>
                  </a:lnTo>
                  <a:lnTo>
                    <a:pt x="299" y="2281"/>
                  </a:lnTo>
                  <a:lnTo>
                    <a:pt x="386" y="2154"/>
                  </a:lnTo>
                  <a:lnTo>
                    <a:pt x="478" y="2031"/>
                  </a:lnTo>
                  <a:lnTo>
                    <a:pt x="575" y="1912"/>
                  </a:lnTo>
                  <a:lnTo>
                    <a:pt x="674" y="1794"/>
                  </a:lnTo>
                  <a:lnTo>
                    <a:pt x="779" y="1681"/>
                  </a:lnTo>
                  <a:lnTo>
                    <a:pt x="887" y="1572"/>
                  </a:lnTo>
                  <a:lnTo>
                    <a:pt x="999" y="1465"/>
                  </a:lnTo>
                  <a:lnTo>
                    <a:pt x="1115" y="1363"/>
                  </a:lnTo>
                  <a:lnTo>
                    <a:pt x="1233" y="1263"/>
                  </a:lnTo>
                  <a:lnTo>
                    <a:pt x="1355" y="1166"/>
                  </a:lnTo>
                  <a:lnTo>
                    <a:pt x="1481" y="1074"/>
                  </a:lnTo>
                  <a:lnTo>
                    <a:pt x="1608" y="984"/>
                  </a:lnTo>
                  <a:lnTo>
                    <a:pt x="1739" y="898"/>
                  </a:lnTo>
                  <a:lnTo>
                    <a:pt x="1873" y="814"/>
                  </a:lnTo>
                  <a:lnTo>
                    <a:pt x="2008" y="735"/>
                  </a:lnTo>
                  <a:lnTo>
                    <a:pt x="2146" y="659"/>
                  </a:lnTo>
                  <a:lnTo>
                    <a:pt x="2286" y="586"/>
                  </a:lnTo>
                  <a:lnTo>
                    <a:pt x="2427" y="516"/>
                  </a:lnTo>
                  <a:lnTo>
                    <a:pt x="2571" y="450"/>
                  </a:lnTo>
                  <a:lnTo>
                    <a:pt x="2716" y="386"/>
                  </a:lnTo>
                  <a:lnTo>
                    <a:pt x="2862" y="327"/>
                  </a:lnTo>
                  <a:lnTo>
                    <a:pt x="3010" y="270"/>
                  </a:lnTo>
                  <a:lnTo>
                    <a:pt x="3158" y="217"/>
                  </a:lnTo>
                  <a:lnTo>
                    <a:pt x="3308" y="167"/>
                  </a:lnTo>
                  <a:lnTo>
                    <a:pt x="3458" y="121"/>
                  </a:lnTo>
                  <a:lnTo>
                    <a:pt x="3609" y="77"/>
                  </a:lnTo>
                  <a:lnTo>
                    <a:pt x="3760" y="37"/>
                  </a:lnTo>
                  <a:lnTo>
                    <a:pt x="3911" y="0"/>
                  </a:lnTo>
                  <a:lnTo>
                    <a:pt x="3862" y="115"/>
                  </a:lnTo>
                  <a:lnTo>
                    <a:pt x="3813" y="227"/>
                  </a:lnTo>
                  <a:lnTo>
                    <a:pt x="3762" y="334"/>
                  </a:lnTo>
                  <a:lnTo>
                    <a:pt x="3713" y="438"/>
                  </a:lnTo>
                  <a:lnTo>
                    <a:pt x="3662" y="538"/>
                  </a:lnTo>
                  <a:lnTo>
                    <a:pt x="3612" y="634"/>
                  </a:lnTo>
                  <a:lnTo>
                    <a:pt x="3561" y="727"/>
                  </a:lnTo>
                  <a:lnTo>
                    <a:pt x="3509" y="816"/>
                  </a:lnTo>
                  <a:lnTo>
                    <a:pt x="3456" y="903"/>
                  </a:lnTo>
                  <a:lnTo>
                    <a:pt x="3402" y="987"/>
                  </a:lnTo>
                  <a:lnTo>
                    <a:pt x="3347" y="1067"/>
                  </a:lnTo>
                  <a:lnTo>
                    <a:pt x="3291" y="1144"/>
                  </a:lnTo>
                  <a:lnTo>
                    <a:pt x="3234" y="1220"/>
                  </a:lnTo>
                  <a:lnTo>
                    <a:pt x="3175" y="1292"/>
                  </a:lnTo>
                  <a:lnTo>
                    <a:pt x="3114" y="1361"/>
                  </a:lnTo>
                  <a:lnTo>
                    <a:pt x="3051" y="1428"/>
                  </a:lnTo>
                  <a:lnTo>
                    <a:pt x="2988" y="1494"/>
                  </a:lnTo>
                  <a:lnTo>
                    <a:pt x="2922" y="1557"/>
                  </a:lnTo>
                  <a:lnTo>
                    <a:pt x="2854" y="1618"/>
                  </a:lnTo>
                  <a:lnTo>
                    <a:pt x="2783" y="1676"/>
                  </a:lnTo>
                  <a:lnTo>
                    <a:pt x="2711" y="1733"/>
                  </a:lnTo>
                  <a:lnTo>
                    <a:pt x="2636" y="1788"/>
                  </a:lnTo>
                  <a:lnTo>
                    <a:pt x="2558" y="1842"/>
                  </a:lnTo>
                  <a:lnTo>
                    <a:pt x="2477" y="1893"/>
                  </a:lnTo>
                  <a:lnTo>
                    <a:pt x="2395" y="1945"/>
                  </a:lnTo>
                  <a:lnTo>
                    <a:pt x="2309" y="1994"/>
                  </a:lnTo>
                  <a:lnTo>
                    <a:pt x="2219" y="2042"/>
                  </a:lnTo>
                  <a:lnTo>
                    <a:pt x="2128" y="2089"/>
                  </a:lnTo>
                  <a:lnTo>
                    <a:pt x="2032" y="2135"/>
                  </a:lnTo>
                  <a:lnTo>
                    <a:pt x="1933" y="2180"/>
                  </a:lnTo>
                  <a:lnTo>
                    <a:pt x="1830" y="2225"/>
                  </a:lnTo>
                  <a:lnTo>
                    <a:pt x="1725" y="2269"/>
                  </a:lnTo>
                  <a:lnTo>
                    <a:pt x="1681" y="2286"/>
                  </a:lnTo>
                  <a:lnTo>
                    <a:pt x="1637" y="2302"/>
                  </a:lnTo>
                  <a:lnTo>
                    <a:pt x="1593" y="2315"/>
                  </a:lnTo>
                  <a:lnTo>
                    <a:pt x="1548" y="2328"/>
                  </a:lnTo>
                  <a:lnTo>
                    <a:pt x="1502" y="2342"/>
                  </a:lnTo>
                  <a:lnTo>
                    <a:pt x="1456" y="2353"/>
                  </a:lnTo>
                  <a:lnTo>
                    <a:pt x="1409" y="2364"/>
                  </a:lnTo>
                  <a:lnTo>
                    <a:pt x="1361" y="2375"/>
                  </a:lnTo>
                  <a:lnTo>
                    <a:pt x="1265" y="2395"/>
                  </a:lnTo>
                  <a:lnTo>
                    <a:pt x="1165" y="2415"/>
                  </a:lnTo>
                  <a:lnTo>
                    <a:pt x="1063" y="2435"/>
                  </a:lnTo>
                  <a:lnTo>
                    <a:pt x="957" y="2458"/>
                  </a:lnTo>
                  <a:lnTo>
                    <a:pt x="904" y="2470"/>
                  </a:lnTo>
                  <a:lnTo>
                    <a:pt x="849" y="2483"/>
                  </a:lnTo>
                  <a:lnTo>
                    <a:pt x="794" y="2497"/>
                  </a:lnTo>
                  <a:lnTo>
                    <a:pt x="738" y="2511"/>
                  </a:lnTo>
                  <a:lnTo>
                    <a:pt x="680" y="2528"/>
                  </a:lnTo>
                  <a:lnTo>
                    <a:pt x="623" y="2545"/>
                  </a:lnTo>
                  <a:lnTo>
                    <a:pt x="564" y="2564"/>
                  </a:lnTo>
                  <a:lnTo>
                    <a:pt x="506" y="2584"/>
                  </a:lnTo>
                  <a:lnTo>
                    <a:pt x="445" y="2607"/>
                  </a:lnTo>
                  <a:lnTo>
                    <a:pt x="384" y="2632"/>
                  </a:lnTo>
                  <a:lnTo>
                    <a:pt x="323" y="2657"/>
                  </a:lnTo>
                  <a:lnTo>
                    <a:pt x="260" y="2685"/>
                  </a:lnTo>
                  <a:lnTo>
                    <a:pt x="196" y="2716"/>
                  </a:lnTo>
                  <a:lnTo>
                    <a:pt x="131" y="2749"/>
                  </a:lnTo>
                  <a:lnTo>
                    <a:pt x="66" y="2784"/>
                  </a:lnTo>
                  <a:lnTo>
                    <a:pt x="0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503880" y="4724280"/>
            <a:ext cx="580680" cy="572760"/>
            <a:chOff x="3503880" y="4724280"/>
            <a:chExt cx="580680" cy="572760"/>
          </a:xfrm>
        </p:grpSpPr>
        <p:sp>
          <p:nvSpPr>
            <p:cNvPr id="381" name=""/>
            <p:cNvSpPr/>
            <p:nvPr/>
          </p:nvSpPr>
          <p:spPr>
            <a:xfrm flipH="1" rot="2775000">
              <a:off x="3647160" y="477396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2775000">
              <a:off x="3682080" y="473904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2775000">
              <a:off x="3758760" y="4845240"/>
              <a:ext cx="140400" cy="33192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2775000">
              <a:off x="3735360" y="4793040"/>
              <a:ext cx="106200" cy="34308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526560" y="5703480"/>
            <a:ext cx="572400" cy="293400"/>
            <a:chOff x="3526560" y="5703480"/>
            <a:chExt cx="572400" cy="293400"/>
          </a:xfrm>
        </p:grpSpPr>
        <p:sp>
          <p:nvSpPr>
            <p:cNvPr id="386" name=""/>
            <p:cNvSpPr/>
            <p:nvPr/>
          </p:nvSpPr>
          <p:spPr>
            <a:xfrm flipH="1" rot="5621400">
              <a:off x="3657960" y="559512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621400">
              <a:off x="3707280" y="559728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621400">
              <a:off x="3765240" y="5709960"/>
              <a:ext cx="140400" cy="33192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rot="5621400">
              <a:off x="3789360" y="5643000"/>
              <a:ext cx="106200" cy="34308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52000" y="2908080"/>
            <a:ext cx="540360" cy="601560"/>
            <a:chOff x="252000" y="2908080"/>
            <a:chExt cx="540360" cy="601560"/>
          </a:xfrm>
        </p:grpSpPr>
        <p:sp>
          <p:nvSpPr>
            <p:cNvPr id="391" name=""/>
            <p:cNvSpPr/>
            <p:nvPr/>
          </p:nvSpPr>
          <p:spPr>
            <a:xfrm flipH="1" flipV="1" rot="8588400">
              <a:off x="406800" y="297468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>
                <a:alpha val="52000"/>
              </a:srgbClr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588400">
              <a:off x="378000" y="2934360"/>
              <a:ext cx="258840" cy="507600"/>
            </a:xfrm>
            <a:custGeom>
              <a:avLst/>
              <a:gdLst/>
              <a:ahLst/>
              <a:rect l="l" t="t" r="r" b="b"/>
              <a:pathLst>
                <a:path w="1349" h="3248">
                  <a:moveTo>
                    <a:pt x="813" y="3227"/>
                  </a:moveTo>
                  <a:lnTo>
                    <a:pt x="825" y="3236"/>
                  </a:lnTo>
                  <a:lnTo>
                    <a:pt x="835" y="3242"/>
                  </a:lnTo>
                  <a:lnTo>
                    <a:pt x="843" y="3246"/>
                  </a:lnTo>
                  <a:lnTo>
                    <a:pt x="851" y="3248"/>
                  </a:lnTo>
                  <a:lnTo>
                    <a:pt x="857" y="3248"/>
                  </a:lnTo>
                  <a:lnTo>
                    <a:pt x="863" y="3246"/>
                  </a:lnTo>
                  <a:lnTo>
                    <a:pt x="866" y="3243"/>
                  </a:lnTo>
                  <a:lnTo>
                    <a:pt x="869" y="3239"/>
                  </a:lnTo>
                  <a:lnTo>
                    <a:pt x="871" y="3234"/>
                  </a:lnTo>
                  <a:lnTo>
                    <a:pt x="872" y="3227"/>
                  </a:lnTo>
                  <a:lnTo>
                    <a:pt x="873" y="3219"/>
                  </a:lnTo>
                  <a:lnTo>
                    <a:pt x="872" y="3212"/>
                  </a:lnTo>
                  <a:lnTo>
                    <a:pt x="871" y="3204"/>
                  </a:lnTo>
                  <a:lnTo>
                    <a:pt x="870" y="3197"/>
                  </a:lnTo>
                  <a:lnTo>
                    <a:pt x="868" y="3189"/>
                  </a:lnTo>
                  <a:lnTo>
                    <a:pt x="865" y="3181"/>
                  </a:lnTo>
                  <a:lnTo>
                    <a:pt x="856" y="3143"/>
                  </a:lnTo>
                  <a:lnTo>
                    <a:pt x="848" y="3102"/>
                  </a:lnTo>
                  <a:lnTo>
                    <a:pt x="841" y="3060"/>
                  </a:lnTo>
                  <a:lnTo>
                    <a:pt x="833" y="3017"/>
                  </a:lnTo>
                  <a:lnTo>
                    <a:pt x="826" y="2974"/>
                  </a:lnTo>
                  <a:lnTo>
                    <a:pt x="819" y="2930"/>
                  </a:lnTo>
                  <a:lnTo>
                    <a:pt x="813" y="2889"/>
                  </a:lnTo>
                  <a:lnTo>
                    <a:pt x="807" y="2851"/>
                  </a:lnTo>
                  <a:lnTo>
                    <a:pt x="814" y="2816"/>
                  </a:lnTo>
                  <a:lnTo>
                    <a:pt x="824" y="2780"/>
                  </a:lnTo>
                  <a:lnTo>
                    <a:pt x="835" y="2744"/>
                  </a:lnTo>
                  <a:lnTo>
                    <a:pt x="847" y="2707"/>
                  </a:lnTo>
                  <a:lnTo>
                    <a:pt x="862" y="2670"/>
                  </a:lnTo>
                  <a:lnTo>
                    <a:pt x="878" y="2632"/>
                  </a:lnTo>
                  <a:lnTo>
                    <a:pt x="896" y="2593"/>
                  </a:lnTo>
                  <a:lnTo>
                    <a:pt x="915" y="2555"/>
                  </a:lnTo>
                  <a:lnTo>
                    <a:pt x="955" y="2475"/>
                  </a:lnTo>
                  <a:lnTo>
                    <a:pt x="999" y="2394"/>
                  </a:lnTo>
                  <a:lnTo>
                    <a:pt x="1046" y="2309"/>
                  </a:lnTo>
                  <a:lnTo>
                    <a:pt x="1093" y="2223"/>
                  </a:lnTo>
                  <a:lnTo>
                    <a:pt x="1116" y="2179"/>
                  </a:lnTo>
                  <a:lnTo>
                    <a:pt x="1139" y="2134"/>
                  </a:lnTo>
                  <a:lnTo>
                    <a:pt x="1162" y="2089"/>
                  </a:lnTo>
                  <a:lnTo>
                    <a:pt x="1184" y="2043"/>
                  </a:lnTo>
                  <a:lnTo>
                    <a:pt x="1205" y="1997"/>
                  </a:lnTo>
                  <a:lnTo>
                    <a:pt x="1226" y="1949"/>
                  </a:lnTo>
                  <a:lnTo>
                    <a:pt x="1245" y="1901"/>
                  </a:lnTo>
                  <a:lnTo>
                    <a:pt x="1264" y="1853"/>
                  </a:lnTo>
                  <a:lnTo>
                    <a:pt x="1280" y="1804"/>
                  </a:lnTo>
                  <a:lnTo>
                    <a:pt x="1296" y="1754"/>
                  </a:lnTo>
                  <a:lnTo>
                    <a:pt x="1310" y="1703"/>
                  </a:lnTo>
                  <a:lnTo>
                    <a:pt x="1321" y="1652"/>
                  </a:lnTo>
                  <a:lnTo>
                    <a:pt x="1332" y="1601"/>
                  </a:lnTo>
                  <a:lnTo>
                    <a:pt x="1340" y="1548"/>
                  </a:lnTo>
                  <a:lnTo>
                    <a:pt x="1346" y="1495"/>
                  </a:lnTo>
                  <a:lnTo>
                    <a:pt x="1349" y="1441"/>
                  </a:lnTo>
                  <a:lnTo>
                    <a:pt x="1349" y="1405"/>
                  </a:lnTo>
                  <a:lnTo>
                    <a:pt x="1348" y="1368"/>
                  </a:lnTo>
                  <a:lnTo>
                    <a:pt x="1346" y="1329"/>
                  </a:lnTo>
                  <a:lnTo>
                    <a:pt x="1342" y="1288"/>
                  </a:lnTo>
                  <a:lnTo>
                    <a:pt x="1336" y="1246"/>
                  </a:lnTo>
                  <a:lnTo>
                    <a:pt x="1329" y="1202"/>
                  </a:lnTo>
                  <a:lnTo>
                    <a:pt x="1320" y="1155"/>
                  </a:lnTo>
                  <a:lnTo>
                    <a:pt x="1310" y="1106"/>
                  </a:lnTo>
                  <a:lnTo>
                    <a:pt x="1299" y="1054"/>
                  </a:lnTo>
                  <a:lnTo>
                    <a:pt x="1285" y="1001"/>
                  </a:lnTo>
                  <a:lnTo>
                    <a:pt x="1272" y="944"/>
                  </a:lnTo>
                  <a:lnTo>
                    <a:pt x="1257" y="885"/>
                  </a:lnTo>
                  <a:lnTo>
                    <a:pt x="1240" y="823"/>
                  </a:lnTo>
                  <a:lnTo>
                    <a:pt x="1223" y="758"/>
                  </a:lnTo>
                  <a:lnTo>
                    <a:pt x="1203" y="690"/>
                  </a:lnTo>
                  <a:lnTo>
                    <a:pt x="1184" y="619"/>
                  </a:lnTo>
                  <a:lnTo>
                    <a:pt x="1174" y="577"/>
                  </a:lnTo>
                  <a:lnTo>
                    <a:pt x="1164" y="530"/>
                  </a:lnTo>
                  <a:lnTo>
                    <a:pt x="1152" y="480"/>
                  </a:lnTo>
                  <a:lnTo>
                    <a:pt x="1139" y="427"/>
                  </a:lnTo>
                  <a:lnTo>
                    <a:pt x="1127" y="374"/>
                  </a:lnTo>
                  <a:lnTo>
                    <a:pt x="1117" y="320"/>
                  </a:lnTo>
                  <a:lnTo>
                    <a:pt x="1113" y="293"/>
                  </a:lnTo>
                  <a:lnTo>
                    <a:pt x="1109" y="268"/>
                  </a:lnTo>
                  <a:lnTo>
                    <a:pt x="1106" y="242"/>
                  </a:lnTo>
                  <a:lnTo>
                    <a:pt x="1105" y="217"/>
                  </a:lnTo>
                  <a:lnTo>
                    <a:pt x="1105" y="201"/>
                  </a:lnTo>
                  <a:lnTo>
                    <a:pt x="1106" y="185"/>
                  </a:lnTo>
                  <a:lnTo>
                    <a:pt x="1109" y="170"/>
                  </a:lnTo>
                  <a:lnTo>
                    <a:pt x="1113" y="156"/>
                  </a:lnTo>
                  <a:lnTo>
                    <a:pt x="1118" y="141"/>
                  </a:lnTo>
                  <a:lnTo>
                    <a:pt x="1123" y="127"/>
                  </a:lnTo>
                  <a:lnTo>
                    <a:pt x="1129" y="113"/>
                  </a:lnTo>
                  <a:lnTo>
                    <a:pt x="1136" y="100"/>
                  </a:lnTo>
                  <a:lnTo>
                    <a:pt x="1150" y="74"/>
                  </a:lnTo>
                  <a:lnTo>
                    <a:pt x="1164" y="50"/>
                  </a:lnTo>
                  <a:lnTo>
                    <a:pt x="1170" y="37"/>
                  </a:lnTo>
                  <a:lnTo>
                    <a:pt x="1176" y="25"/>
                  </a:lnTo>
                  <a:lnTo>
                    <a:pt x="1183" y="13"/>
                  </a:lnTo>
                  <a:lnTo>
                    <a:pt x="1187" y="0"/>
                  </a:lnTo>
                  <a:lnTo>
                    <a:pt x="1172" y="1"/>
                  </a:lnTo>
                  <a:lnTo>
                    <a:pt x="1158" y="3"/>
                  </a:lnTo>
                  <a:lnTo>
                    <a:pt x="1144" y="5"/>
                  </a:lnTo>
                  <a:lnTo>
                    <a:pt x="1131" y="8"/>
                  </a:lnTo>
                  <a:lnTo>
                    <a:pt x="1118" y="13"/>
                  </a:lnTo>
                  <a:lnTo>
                    <a:pt x="1105" y="17"/>
                  </a:lnTo>
                  <a:lnTo>
                    <a:pt x="1093" y="22"/>
                  </a:lnTo>
                  <a:lnTo>
                    <a:pt x="1081" y="28"/>
                  </a:lnTo>
                  <a:lnTo>
                    <a:pt x="1069" y="34"/>
                  </a:lnTo>
                  <a:lnTo>
                    <a:pt x="1059" y="41"/>
                  </a:lnTo>
                  <a:lnTo>
                    <a:pt x="1048" y="50"/>
                  </a:lnTo>
                  <a:lnTo>
                    <a:pt x="1037" y="58"/>
                  </a:lnTo>
                  <a:lnTo>
                    <a:pt x="1027" y="67"/>
                  </a:lnTo>
                  <a:lnTo>
                    <a:pt x="1018" y="76"/>
                  </a:lnTo>
                  <a:lnTo>
                    <a:pt x="1009" y="86"/>
                  </a:lnTo>
                  <a:lnTo>
                    <a:pt x="999" y="97"/>
                  </a:lnTo>
                  <a:lnTo>
                    <a:pt x="991" y="107"/>
                  </a:lnTo>
                  <a:lnTo>
                    <a:pt x="983" y="120"/>
                  </a:lnTo>
                  <a:lnTo>
                    <a:pt x="975" y="131"/>
                  </a:lnTo>
                  <a:lnTo>
                    <a:pt x="968" y="144"/>
                  </a:lnTo>
                  <a:lnTo>
                    <a:pt x="952" y="171"/>
                  </a:lnTo>
                  <a:lnTo>
                    <a:pt x="939" y="199"/>
                  </a:lnTo>
                  <a:lnTo>
                    <a:pt x="926" y="229"/>
                  </a:lnTo>
                  <a:lnTo>
                    <a:pt x="915" y="260"/>
                  </a:lnTo>
                  <a:lnTo>
                    <a:pt x="905" y="294"/>
                  </a:lnTo>
                  <a:lnTo>
                    <a:pt x="896" y="328"/>
                  </a:lnTo>
                  <a:lnTo>
                    <a:pt x="824" y="410"/>
                  </a:lnTo>
                  <a:lnTo>
                    <a:pt x="754" y="490"/>
                  </a:lnTo>
                  <a:lnTo>
                    <a:pt x="684" y="570"/>
                  </a:lnTo>
                  <a:lnTo>
                    <a:pt x="616" y="650"/>
                  </a:lnTo>
                  <a:lnTo>
                    <a:pt x="550" y="729"/>
                  </a:lnTo>
                  <a:lnTo>
                    <a:pt x="486" y="810"/>
                  </a:lnTo>
                  <a:lnTo>
                    <a:pt x="424" y="889"/>
                  </a:lnTo>
                  <a:lnTo>
                    <a:pt x="366" y="969"/>
                  </a:lnTo>
                  <a:lnTo>
                    <a:pt x="310" y="1048"/>
                  </a:lnTo>
                  <a:lnTo>
                    <a:pt x="259" y="1128"/>
                  </a:lnTo>
                  <a:lnTo>
                    <a:pt x="210" y="1209"/>
                  </a:lnTo>
                  <a:lnTo>
                    <a:pt x="166" y="1289"/>
                  </a:lnTo>
                  <a:lnTo>
                    <a:pt x="127" y="1369"/>
                  </a:lnTo>
                  <a:lnTo>
                    <a:pt x="92" y="1449"/>
                  </a:lnTo>
                  <a:lnTo>
                    <a:pt x="62" y="1531"/>
                  </a:lnTo>
                  <a:lnTo>
                    <a:pt x="38" y="1612"/>
                  </a:lnTo>
                  <a:lnTo>
                    <a:pt x="19" y="1694"/>
                  </a:lnTo>
                  <a:lnTo>
                    <a:pt x="6" y="1776"/>
                  </a:lnTo>
                  <a:lnTo>
                    <a:pt x="0" y="1860"/>
                  </a:lnTo>
                  <a:lnTo>
                    <a:pt x="1" y="1943"/>
                  </a:lnTo>
                  <a:lnTo>
                    <a:pt x="8" y="2027"/>
                  </a:lnTo>
                  <a:lnTo>
                    <a:pt x="23" y="2112"/>
                  </a:lnTo>
                  <a:lnTo>
                    <a:pt x="45" y="2198"/>
                  </a:lnTo>
                  <a:lnTo>
                    <a:pt x="76" y="2285"/>
                  </a:lnTo>
                  <a:lnTo>
                    <a:pt x="115" y="2371"/>
                  </a:lnTo>
                  <a:lnTo>
                    <a:pt x="162" y="2459"/>
                  </a:lnTo>
                  <a:lnTo>
                    <a:pt x="219" y="2549"/>
                  </a:lnTo>
                  <a:lnTo>
                    <a:pt x="285" y="2638"/>
                  </a:lnTo>
                  <a:lnTo>
                    <a:pt x="360" y="2730"/>
                  </a:lnTo>
                  <a:lnTo>
                    <a:pt x="445" y="2822"/>
                  </a:lnTo>
                  <a:lnTo>
                    <a:pt x="541" y="2916"/>
                  </a:lnTo>
                  <a:lnTo>
                    <a:pt x="648" y="3011"/>
                  </a:lnTo>
                  <a:lnTo>
                    <a:pt x="669" y="3049"/>
                  </a:lnTo>
                  <a:lnTo>
                    <a:pt x="690" y="3084"/>
                  </a:lnTo>
                  <a:lnTo>
                    <a:pt x="710" y="3116"/>
                  </a:lnTo>
                  <a:lnTo>
                    <a:pt x="732" y="3144"/>
                  </a:lnTo>
                  <a:lnTo>
                    <a:pt x="753" y="3169"/>
                  </a:lnTo>
                  <a:lnTo>
                    <a:pt x="772" y="3192"/>
                  </a:lnTo>
                  <a:lnTo>
                    <a:pt x="782" y="3201"/>
                  </a:lnTo>
                  <a:lnTo>
                    <a:pt x="793" y="3210"/>
                  </a:lnTo>
                  <a:lnTo>
                    <a:pt x="803" y="3218"/>
                  </a:lnTo>
                  <a:lnTo>
                    <a:pt x="813" y="3227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 rot="8588400">
              <a:off x="416880" y="3038040"/>
              <a:ext cx="140400" cy="331920"/>
            </a:xfrm>
            <a:custGeom>
              <a:avLst/>
              <a:gdLst/>
              <a:ahLst/>
              <a:rect l="l" t="t" r="r" b="b"/>
              <a:pathLst>
                <a:path w="792" h="2198">
                  <a:moveTo>
                    <a:pt x="792" y="0"/>
                  </a:moveTo>
                  <a:lnTo>
                    <a:pt x="750" y="53"/>
                  </a:lnTo>
                  <a:lnTo>
                    <a:pt x="683" y="128"/>
                  </a:lnTo>
                  <a:lnTo>
                    <a:pt x="619" y="202"/>
                  </a:lnTo>
                  <a:lnTo>
                    <a:pt x="559" y="276"/>
                  </a:lnTo>
                  <a:lnTo>
                    <a:pt x="500" y="348"/>
                  </a:lnTo>
                  <a:lnTo>
                    <a:pt x="443" y="420"/>
                  </a:lnTo>
                  <a:lnTo>
                    <a:pt x="390" y="491"/>
                  </a:lnTo>
                  <a:lnTo>
                    <a:pt x="339" y="562"/>
                  </a:lnTo>
                  <a:lnTo>
                    <a:pt x="292" y="632"/>
                  </a:lnTo>
                  <a:lnTo>
                    <a:pt x="248" y="701"/>
                  </a:lnTo>
                  <a:lnTo>
                    <a:pt x="207" y="770"/>
                  </a:lnTo>
                  <a:lnTo>
                    <a:pt x="169" y="838"/>
                  </a:lnTo>
                  <a:lnTo>
                    <a:pt x="135" y="905"/>
                  </a:lnTo>
                  <a:lnTo>
                    <a:pt x="104" y="972"/>
                  </a:lnTo>
                  <a:lnTo>
                    <a:pt x="77" y="1039"/>
                  </a:lnTo>
                  <a:lnTo>
                    <a:pt x="54" y="1104"/>
                  </a:lnTo>
                  <a:lnTo>
                    <a:pt x="35" y="1170"/>
                  </a:lnTo>
                  <a:lnTo>
                    <a:pt x="20" y="1236"/>
                  </a:lnTo>
                  <a:lnTo>
                    <a:pt x="9" y="1301"/>
                  </a:lnTo>
                  <a:lnTo>
                    <a:pt x="2" y="1366"/>
                  </a:lnTo>
                  <a:lnTo>
                    <a:pt x="0" y="1430"/>
                  </a:lnTo>
                  <a:lnTo>
                    <a:pt x="3" y="1494"/>
                  </a:lnTo>
                  <a:lnTo>
                    <a:pt x="10" y="1558"/>
                  </a:lnTo>
                  <a:lnTo>
                    <a:pt x="22" y="1623"/>
                  </a:lnTo>
                  <a:lnTo>
                    <a:pt x="39" y="1686"/>
                  </a:lnTo>
                  <a:lnTo>
                    <a:pt x="61" y="1750"/>
                  </a:lnTo>
                  <a:lnTo>
                    <a:pt x="87" y="1814"/>
                  </a:lnTo>
                  <a:lnTo>
                    <a:pt x="120" y="1878"/>
                  </a:lnTo>
                  <a:lnTo>
                    <a:pt x="157" y="1942"/>
                  </a:lnTo>
                  <a:lnTo>
                    <a:pt x="201" y="2005"/>
                  </a:lnTo>
                  <a:lnTo>
                    <a:pt x="250" y="2069"/>
                  </a:lnTo>
                  <a:lnTo>
                    <a:pt x="305" y="2134"/>
                  </a:lnTo>
                  <a:lnTo>
                    <a:pt x="365" y="2198"/>
                  </a:lnTo>
                  <a:lnTo>
                    <a:pt x="345" y="2104"/>
                  </a:lnTo>
                  <a:lnTo>
                    <a:pt x="328" y="2009"/>
                  </a:lnTo>
                  <a:lnTo>
                    <a:pt x="317" y="1914"/>
                  </a:lnTo>
                  <a:lnTo>
                    <a:pt x="311" y="1818"/>
                  </a:lnTo>
                  <a:lnTo>
                    <a:pt x="309" y="1722"/>
                  </a:lnTo>
                  <a:lnTo>
                    <a:pt x="310" y="1627"/>
                  </a:lnTo>
                  <a:lnTo>
                    <a:pt x="315" y="1531"/>
                  </a:lnTo>
                  <a:lnTo>
                    <a:pt x="323" y="1437"/>
                  </a:lnTo>
                  <a:lnTo>
                    <a:pt x="334" y="1343"/>
                  </a:lnTo>
                  <a:lnTo>
                    <a:pt x="349" y="1250"/>
                  </a:lnTo>
                  <a:lnTo>
                    <a:pt x="366" y="1159"/>
                  </a:lnTo>
                  <a:lnTo>
                    <a:pt x="385" y="1069"/>
                  </a:lnTo>
                  <a:lnTo>
                    <a:pt x="405" y="982"/>
                  </a:lnTo>
                  <a:lnTo>
                    <a:pt x="428" y="897"/>
                  </a:lnTo>
                  <a:lnTo>
                    <a:pt x="453" y="813"/>
                  </a:lnTo>
                  <a:lnTo>
                    <a:pt x="477" y="733"/>
                  </a:lnTo>
                  <a:lnTo>
                    <a:pt x="503" y="656"/>
                  </a:lnTo>
                  <a:lnTo>
                    <a:pt x="530" y="581"/>
                  </a:lnTo>
                  <a:lnTo>
                    <a:pt x="556" y="510"/>
                  </a:lnTo>
                  <a:lnTo>
                    <a:pt x="582" y="442"/>
                  </a:lnTo>
                  <a:lnTo>
                    <a:pt x="609" y="378"/>
                  </a:lnTo>
                  <a:lnTo>
                    <a:pt x="634" y="319"/>
                  </a:lnTo>
                  <a:lnTo>
                    <a:pt x="658" y="263"/>
                  </a:lnTo>
                  <a:lnTo>
                    <a:pt x="682" y="213"/>
                  </a:lnTo>
                  <a:lnTo>
                    <a:pt x="704" y="166"/>
                  </a:lnTo>
                  <a:lnTo>
                    <a:pt x="724" y="125"/>
                  </a:lnTo>
                  <a:lnTo>
                    <a:pt x="743" y="90"/>
                  </a:lnTo>
                  <a:lnTo>
                    <a:pt x="758" y="59"/>
                  </a:lnTo>
                  <a:lnTo>
                    <a:pt x="782" y="17"/>
                  </a:lnTo>
                  <a:lnTo>
                    <a:pt x="792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 rot="8588400">
              <a:off x="482040" y="2992320"/>
              <a:ext cx="106200" cy="343080"/>
            </a:xfrm>
            <a:custGeom>
              <a:avLst/>
              <a:gdLst/>
              <a:ahLst/>
              <a:rect l="l" t="t" r="r" b="b"/>
              <a:pathLst>
                <a:path w="697" h="2464">
                  <a:moveTo>
                    <a:pt x="175" y="2464"/>
                  </a:moveTo>
                  <a:lnTo>
                    <a:pt x="144" y="2390"/>
                  </a:lnTo>
                  <a:lnTo>
                    <a:pt x="117" y="2315"/>
                  </a:lnTo>
                  <a:lnTo>
                    <a:pt x="93" y="2240"/>
                  </a:lnTo>
                  <a:lnTo>
                    <a:pt x="71" y="2164"/>
                  </a:lnTo>
                  <a:lnTo>
                    <a:pt x="53" y="2087"/>
                  </a:lnTo>
                  <a:lnTo>
                    <a:pt x="37" y="2010"/>
                  </a:lnTo>
                  <a:lnTo>
                    <a:pt x="25" y="1932"/>
                  </a:lnTo>
                  <a:lnTo>
                    <a:pt x="15" y="1853"/>
                  </a:lnTo>
                  <a:lnTo>
                    <a:pt x="7" y="1774"/>
                  </a:lnTo>
                  <a:lnTo>
                    <a:pt x="2" y="1695"/>
                  </a:lnTo>
                  <a:lnTo>
                    <a:pt x="0" y="1616"/>
                  </a:lnTo>
                  <a:lnTo>
                    <a:pt x="1" y="1537"/>
                  </a:lnTo>
                  <a:lnTo>
                    <a:pt x="3" y="1456"/>
                  </a:lnTo>
                  <a:lnTo>
                    <a:pt x="8" y="1377"/>
                  </a:lnTo>
                  <a:lnTo>
                    <a:pt x="17" y="1297"/>
                  </a:lnTo>
                  <a:lnTo>
                    <a:pt x="26" y="1218"/>
                  </a:lnTo>
                  <a:lnTo>
                    <a:pt x="38" y="1138"/>
                  </a:lnTo>
                  <a:lnTo>
                    <a:pt x="52" y="1058"/>
                  </a:lnTo>
                  <a:lnTo>
                    <a:pt x="68" y="979"/>
                  </a:lnTo>
                  <a:lnTo>
                    <a:pt x="87" y="900"/>
                  </a:lnTo>
                  <a:lnTo>
                    <a:pt x="107" y="822"/>
                  </a:lnTo>
                  <a:lnTo>
                    <a:pt x="129" y="744"/>
                  </a:lnTo>
                  <a:lnTo>
                    <a:pt x="152" y="667"/>
                  </a:lnTo>
                  <a:lnTo>
                    <a:pt x="178" y="589"/>
                  </a:lnTo>
                  <a:lnTo>
                    <a:pt x="206" y="513"/>
                  </a:lnTo>
                  <a:lnTo>
                    <a:pt x="236" y="437"/>
                  </a:lnTo>
                  <a:lnTo>
                    <a:pt x="266" y="362"/>
                  </a:lnTo>
                  <a:lnTo>
                    <a:pt x="298" y="288"/>
                  </a:lnTo>
                  <a:lnTo>
                    <a:pt x="332" y="214"/>
                  </a:lnTo>
                  <a:lnTo>
                    <a:pt x="367" y="142"/>
                  </a:lnTo>
                  <a:lnTo>
                    <a:pt x="404" y="70"/>
                  </a:lnTo>
                  <a:lnTo>
                    <a:pt x="441" y="0"/>
                  </a:lnTo>
                  <a:lnTo>
                    <a:pt x="469" y="59"/>
                  </a:lnTo>
                  <a:lnTo>
                    <a:pt x="494" y="115"/>
                  </a:lnTo>
                  <a:lnTo>
                    <a:pt x="519" y="172"/>
                  </a:lnTo>
                  <a:lnTo>
                    <a:pt x="541" y="226"/>
                  </a:lnTo>
                  <a:lnTo>
                    <a:pt x="562" y="280"/>
                  </a:lnTo>
                  <a:lnTo>
                    <a:pt x="581" y="332"/>
                  </a:lnTo>
                  <a:lnTo>
                    <a:pt x="599" y="384"/>
                  </a:lnTo>
                  <a:lnTo>
                    <a:pt x="615" y="434"/>
                  </a:lnTo>
                  <a:lnTo>
                    <a:pt x="631" y="485"/>
                  </a:lnTo>
                  <a:lnTo>
                    <a:pt x="644" y="534"/>
                  </a:lnTo>
                  <a:lnTo>
                    <a:pt x="655" y="582"/>
                  </a:lnTo>
                  <a:lnTo>
                    <a:pt x="666" y="631"/>
                  </a:lnTo>
                  <a:lnTo>
                    <a:pt x="675" y="678"/>
                  </a:lnTo>
                  <a:lnTo>
                    <a:pt x="682" y="725"/>
                  </a:lnTo>
                  <a:lnTo>
                    <a:pt x="688" y="772"/>
                  </a:lnTo>
                  <a:lnTo>
                    <a:pt x="692" y="819"/>
                  </a:lnTo>
                  <a:lnTo>
                    <a:pt x="694" y="866"/>
                  </a:lnTo>
                  <a:lnTo>
                    <a:pt x="697" y="912"/>
                  </a:lnTo>
                  <a:lnTo>
                    <a:pt x="697" y="960"/>
                  </a:lnTo>
                  <a:lnTo>
                    <a:pt x="694" y="1007"/>
                  </a:lnTo>
                  <a:lnTo>
                    <a:pt x="691" y="1054"/>
                  </a:lnTo>
                  <a:lnTo>
                    <a:pt x="686" y="1102"/>
                  </a:lnTo>
                  <a:lnTo>
                    <a:pt x="680" y="1150"/>
                  </a:lnTo>
                  <a:lnTo>
                    <a:pt x="673" y="1198"/>
                  </a:lnTo>
                  <a:lnTo>
                    <a:pt x="664" y="1248"/>
                  </a:lnTo>
                  <a:lnTo>
                    <a:pt x="652" y="1297"/>
                  </a:lnTo>
                  <a:lnTo>
                    <a:pt x="640" y="1347"/>
                  </a:lnTo>
                  <a:lnTo>
                    <a:pt x="627" y="1399"/>
                  </a:lnTo>
                  <a:lnTo>
                    <a:pt x="611" y="1451"/>
                  </a:lnTo>
                  <a:lnTo>
                    <a:pt x="595" y="1505"/>
                  </a:lnTo>
                  <a:lnTo>
                    <a:pt x="576" y="1559"/>
                  </a:lnTo>
                  <a:lnTo>
                    <a:pt x="557" y="1615"/>
                  </a:lnTo>
                  <a:lnTo>
                    <a:pt x="548" y="1637"/>
                  </a:lnTo>
                  <a:lnTo>
                    <a:pt x="539" y="1659"/>
                  </a:lnTo>
                  <a:lnTo>
                    <a:pt x="529" y="1682"/>
                  </a:lnTo>
                  <a:lnTo>
                    <a:pt x="519" y="1703"/>
                  </a:lnTo>
                  <a:lnTo>
                    <a:pt x="497" y="1746"/>
                  </a:lnTo>
                  <a:lnTo>
                    <a:pt x="472" y="1790"/>
                  </a:lnTo>
                  <a:lnTo>
                    <a:pt x="447" y="1834"/>
                  </a:lnTo>
                  <a:lnTo>
                    <a:pt x="420" y="1879"/>
                  </a:lnTo>
                  <a:lnTo>
                    <a:pt x="393" y="1925"/>
                  </a:lnTo>
                  <a:lnTo>
                    <a:pt x="365" y="1973"/>
                  </a:lnTo>
                  <a:lnTo>
                    <a:pt x="338" y="2023"/>
                  </a:lnTo>
                  <a:lnTo>
                    <a:pt x="310" y="2076"/>
                  </a:lnTo>
                  <a:lnTo>
                    <a:pt x="296" y="2102"/>
                  </a:lnTo>
                  <a:lnTo>
                    <a:pt x="284" y="2131"/>
                  </a:lnTo>
                  <a:lnTo>
                    <a:pt x="271" y="2160"/>
                  </a:lnTo>
                  <a:lnTo>
                    <a:pt x="258" y="2189"/>
                  </a:lnTo>
                  <a:lnTo>
                    <a:pt x="246" y="2220"/>
                  </a:lnTo>
                  <a:lnTo>
                    <a:pt x="235" y="2251"/>
                  </a:lnTo>
                  <a:lnTo>
                    <a:pt x="223" y="2284"/>
                  </a:lnTo>
                  <a:lnTo>
                    <a:pt x="212" y="2318"/>
                  </a:lnTo>
                  <a:lnTo>
                    <a:pt x="202" y="2352"/>
                  </a:lnTo>
                  <a:lnTo>
                    <a:pt x="192" y="2388"/>
                  </a:lnTo>
                  <a:lnTo>
                    <a:pt x="183" y="2425"/>
                  </a:lnTo>
                  <a:lnTo>
                    <a:pt x="175" y="246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f"/>
                </a:gs>
                <a:gs pos="100000">
                  <a:srgbClr val="000066"/>
                </a:gs>
              </a:gsLst>
              <a:lin ang="5478000"/>
            </a:gradFill>
            <a:ln w="0">
              <a:noFill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52280" y="4202280"/>
            <a:ext cx="1238400" cy="2236680"/>
          </a:xfrm>
          <a:custGeom>
            <a:avLst/>
            <a:gdLst/>
            <a:ahLst/>
            <a:rect l="l" t="t" r="r" b="b"/>
            <a:pathLst>
              <a:path w="4845" h="8988">
                <a:moveTo>
                  <a:pt x="4306" y="2475"/>
                </a:moveTo>
                <a:lnTo>
                  <a:pt x="4215" y="2369"/>
                </a:lnTo>
                <a:lnTo>
                  <a:pt x="4124" y="2265"/>
                </a:lnTo>
                <a:lnTo>
                  <a:pt x="4031" y="2162"/>
                </a:lnTo>
                <a:lnTo>
                  <a:pt x="3937" y="2062"/>
                </a:lnTo>
                <a:lnTo>
                  <a:pt x="3841" y="1963"/>
                </a:lnTo>
                <a:lnTo>
                  <a:pt x="3744" y="1865"/>
                </a:lnTo>
                <a:lnTo>
                  <a:pt x="3646" y="1770"/>
                </a:lnTo>
                <a:lnTo>
                  <a:pt x="3547" y="1676"/>
                </a:lnTo>
                <a:lnTo>
                  <a:pt x="3446" y="1584"/>
                </a:lnTo>
                <a:lnTo>
                  <a:pt x="3343" y="1495"/>
                </a:lnTo>
                <a:lnTo>
                  <a:pt x="3239" y="1407"/>
                </a:lnTo>
                <a:lnTo>
                  <a:pt x="3133" y="1320"/>
                </a:lnTo>
                <a:lnTo>
                  <a:pt x="3026" y="1236"/>
                </a:lnTo>
                <a:lnTo>
                  <a:pt x="2918" y="1155"/>
                </a:lnTo>
                <a:lnTo>
                  <a:pt x="2807" y="1074"/>
                </a:lnTo>
                <a:lnTo>
                  <a:pt x="2696" y="996"/>
                </a:lnTo>
                <a:lnTo>
                  <a:pt x="2582" y="920"/>
                </a:lnTo>
                <a:lnTo>
                  <a:pt x="2467" y="846"/>
                </a:lnTo>
                <a:lnTo>
                  <a:pt x="2349" y="774"/>
                </a:lnTo>
                <a:lnTo>
                  <a:pt x="2231" y="704"/>
                </a:lnTo>
                <a:lnTo>
                  <a:pt x="2110" y="636"/>
                </a:lnTo>
                <a:lnTo>
                  <a:pt x="1987" y="570"/>
                </a:lnTo>
                <a:lnTo>
                  <a:pt x="1863" y="508"/>
                </a:lnTo>
                <a:lnTo>
                  <a:pt x="1737" y="446"/>
                </a:lnTo>
                <a:lnTo>
                  <a:pt x="1609" y="387"/>
                </a:lnTo>
                <a:lnTo>
                  <a:pt x="1479" y="331"/>
                </a:lnTo>
                <a:lnTo>
                  <a:pt x="1346" y="276"/>
                </a:lnTo>
                <a:lnTo>
                  <a:pt x="1213" y="225"/>
                </a:lnTo>
                <a:lnTo>
                  <a:pt x="1076" y="175"/>
                </a:lnTo>
                <a:lnTo>
                  <a:pt x="938" y="128"/>
                </a:lnTo>
                <a:lnTo>
                  <a:pt x="798" y="83"/>
                </a:lnTo>
                <a:lnTo>
                  <a:pt x="655" y="41"/>
                </a:lnTo>
                <a:lnTo>
                  <a:pt x="627" y="29"/>
                </a:lnTo>
                <a:lnTo>
                  <a:pt x="599" y="20"/>
                </a:lnTo>
                <a:lnTo>
                  <a:pt x="569" y="13"/>
                </a:lnTo>
                <a:lnTo>
                  <a:pt x="538" y="7"/>
                </a:lnTo>
                <a:lnTo>
                  <a:pt x="507" y="3"/>
                </a:lnTo>
                <a:lnTo>
                  <a:pt x="475" y="1"/>
                </a:lnTo>
                <a:lnTo>
                  <a:pt x="442" y="0"/>
                </a:lnTo>
                <a:lnTo>
                  <a:pt x="410" y="2"/>
                </a:lnTo>
                <a:lnTo>
                  <a:pt x="378" y="4"/>
                </a:lnTo>
                <a:lnTo>
                  <a:pt x="346" y="9"/>
                </a:lnTo>
                <a:lnTo>
                  <a:pt x="314" y="15"/>
                </a:lnTo>
                <a:lnTo>
                  <a:pt x="283" y="22"/>
                </a:lnTo>
                <a:lnTo>
                  <a:pt x="252" y="32"/>
                </a:lnTo>
                <a:lnTo>
                  <a:pt x="222" y="43"/>
                </a:lnTo>
                <a:lnTo>
                  <a:pt x="194" y="56"/>
                </a:lnTo>
                <a:lnTo>
                  <a:pt x="167" y="69"/>
                </a:lnTo>
                <a:lnTo>
                  <a:pt x="141" y="85"/>
                </a:lnTo>
                <a:lnTo>
                  <a:pt x="117" y="102"/>
                </a:lnTo>
                <a:lnTo>
                  <a:pt x="95" y="121"/>
                </a:lnTo>
                <a:lnTo>
                  <a:pt x="74" y="141"/>
                </a:lnTo>
                <a:lnTo>
                  <a:pt x="56" y="163"/>
                </a:lnTo>
                <a:lnTo>
                  <a:pt x="39" y="186"/>
                </a:lnTo>
                <a:lnTo>
                  <a:pt x="26" y="210"/>
                </a:lnTo>
                <a:lnTo>
                  <a:pt x="15" y="236"/>
                </a:lnTo>
                <a:lnTo>
                  <a:pt x="7" y="263"/>
                </a:lnTo>
                <a:lnTo>
                  <a:pt x="2" y="292"/>
                </a:lnTo>
                <a:lnTo>
                  <a:pt x="0" y="320"/>
                </a:lnTo>
                <a:lnTo>
                  <a:pt x="1" y="352"/>
                </a:lnTo>
                <a:lnTo>
                  <a:pt x="6" y="384"/>
                </a:lnTo>
                <a:lnTo>
                  <a:pt x="15" y="418"/>
                </a:lnTo>
                <a:lnTo>
                  <a:pt x="28" y="452"/>
                </a:lnTo>
                <a:lnTo>
                  <a:pt x="44" y="488"/>
                </a:lnTo>
                <a:lnTo>
                  <a:pt x="146" y="677"/>
                </a:lnTo>
                <a:lnTo>
                  <a:pt x="245" y="868"/>
                </a:lnTo>
                <a:lnTo>
                  <a:pt x="339" y="1060"/>
                </a:lnTo>
                <a:lnTo>
                  <a:pt x="431" y="1254"/>
                </a:lnTo>
                <a:lnTo>
                  <a:pt x="519" y="1450"/>
                </a:lnTo>
                <a:lnTo>
                  <a:pt x="604" y="1647"/>
                </a:lnTo>
                <a:lnTo>
                  <a:pt x="685" y="1847"/>
                </a:lnTo>
                <a:lnTo>
                  <a:pt x="763" y="2047"/>
                </a:lnTo>
                <a:lnTo>
                  <a:pt x="838" y="2250"/>
                </a:lnTo>
                <a:lnTo>
                  <a:pt x="911" y="2454"/>
                </a:lnTo>
                <a:lnTo>
                  <a:pt x="981" y="2658"/>
                </a:lnTo>
                <a:lnTo>
                  <a:pt x="1048" y="2864"/>
                </a:lnTo>
                <a:lnTo>
                  <a:pt x="1112" y="3072"/>
                </a:lnTo>
                <a:lnTo>
                  <a:pt x="1174" y="3279"/>
                </a:lnTo>
                <a:lnTo>
                  <a:pt x="1233" y="3488"/>
                </a:lnTo>
                <a:lnTo>
                  <a:pt x="1291" y="3698"/>
                </a:lnTo>
                <a:lnTo>
                  <a:pt x="1345" y="3909"/>
                </a:lnTo>
                <a:lnTo>
                  <a:pt x="1399" y="4120"/>
                </a:lnTo>
                <a:lnTo>
                  <a:pt x="1450" y="4333"/>
                </a:lnTo>
                <a:lnTo>
                  <a:pt x="1499" y="4544"/>
                </a:lnTo>
                <a:lnTo>
                  <a:pt x="1547" y="4757"/>
                </a:lnTo>
                <a:lnTo>
                  <a:pt x="1592" y="4970"/>
                </a:lnTo>
                <a:lnTo>
                  <a:pt x="1637" y="5184"/>
                </a:lnTo>
                <a:lnTo>
                  <a:pt x="1680" y="5397"/>
                </a:lnTo>
                <a:lnTo>
                  <a:pt x="1721" y="5611"/>
                </a:lnTo>
                <a:lnTo>
                  <a:pt x="1761" y="5825"/>
                </a:lnTo>
                <a:lnTo>
                  <a:pt x="1801" y="6039"/>
                </a:lnTo>
                <a:lnTo>
                  <a:pt x="1839" y="6252"/>
                </a:lnTo>
                <a:lnTo>
                  <a:pt x="1876" y="6465"/>
                </a:lnTo>
                <a:lnTo>
                  <a:pt x="1912" y="6678"/>
                </a:lnTo>
                <a:lnTo>
                  <a:pt x="1948" y="6890"/>
                </a:lnTo>
                <a:lnTo>
                  <a:pt x="1983" y="7102"/>
                </a:lnTo>
                <a:lnTo>
                  <a:pt x="1987" y="7124"/>
                </a:lnTo>
                <a:lnTo>
                  <a:pt x="1991" y="7145"/>
                </a:lnTo>
                <a:lnTo>
                  <a:pt x="1997" y="7164"/>
                </a:lnTo>
                <a:lnTo>
                  <a:pt x="2002" y="7184"/>
                </a:lnTo>
                <a:lnTo>
                  <a:pt x="2008" y="7202"/>
                </a:lnTo>
                <a:lnTo>
                  <a:pt x="2014" y="7221"/>
                </a:lnTo>
                <a:lnTo>
                  <a:pt x="2020" y="7238"/>
                </a:lnTo>
                <a:lnTo>
                  <a:pt x="2027" y="7255"/>
                </a:lnTo>
                <a:lnTo>
                  <a:pt x="2035" y="7271"/>
                </a:lnTo>
                <a:lnTo>
                  <a:pt x="2043" y="7286"/>
                </a:lnTo>
                <a:lnTo>
                  <a:pt x="2051" y="7301"/>
                </a:lnTo>
                <a:lnTo>
                  <a:pt x="2059" y="7315"/>
                </a:lnTo>
                <a:lnTo>
                  <a:pt x="2069" y="7329"/>
                </a:lnTo>
                <a:lnTo>
                  <a:pt x="2078" y="7342"/>
                </a:lnTo>
                <a:lnTo>
                  <a:pt x="2088" y="7354"/>
                </a:lnTo>
                <a:lnTo>
                  <a:pt x="2098" y="7367"/>
                </a:lnTo>
                <a:lnTo>
                  <a:pt x="2109" y="7378"/>
                </a:lnTo>
                <a:lnTo>
                  <a:pt x="2119" y="7388"/>
                </a:lnTo>
                <a:lnTo>
                  <a:pt x="2130" y="7399"/>
                </a:lnTo>
                <a:lnTo>
                  <a:pt x="2142" y="7408"/>
                </a:lnTo>
                <a:lnTo>
                  <a:pt x="2153" y="7417"/>
                </a:lnTo>
                <a:lnTo>
                  <a:pt x="2164" y="7425"/>
                </a:lnTo>
                <a:lnTo>
                  <a:pt x="2177" y="7434"/>
                </a:lnTo>
                <a:lnTo>
                  <a:pt x="2189" y="7441"/>
                </a:lnTo>
                <a:lnTo>
                  <a:pt x="2201" y="7448"/>
                </a:lnTo>
                <a:lnTo>
                  <a:pt x="2215" y="7454"/>
                </a:lnTo>
                <a:lnTo>
                  <a:pt x="2228" y="7460"/>
                </a:lnTo>
                <a:lnTo>
                  <a:pt x="2240" y="7465"/>
                </a:lnTo>
                <a:lnTo>
                  <a:pt x="2255" y="7470"/>
                </a:lnTo>
                <a:lnTo>
                  <a:pt x="2268" y="7474"/>
                </a:lnTo>
                <a:lnTo>
                  <a:pt x="2281" y="7478"/>
                </a:lnTo>
                <a:lnTo>
                  <a:pt x="2296" y="7481"/>
                </a:lnTo>
                <a:lnTo>
                  <a:pt x="2389" y="7501"/>
                </a:lnTo>
                <a:lnTo>
                  <a:pt x="2481" y="7524"/>
                </a:lnTo>
                <a:lnTo>
                  <a:pt x="2573" y="7549"/>
                </a:lnTo>
                <a:lnTo>
                  <a:pt x="2662" y="7575"/>
                </a:lnTo>
                <a:lnTo>
                  <a:pt x="2751" y="7604"/>
                </a:lnTo>
                <a:lnTo>
                  <a:pt x="2838" y="7635"/>
                </a:lnTo>
                <a:lnTo>
                  <a:pt x="2924" y="7668"/>
                </a:lnTo>
                <a:lnTo>
                  <a:pt x="3009" y="7703"/>
                </a:lnTo>
                <a:lnTo>
                  <a:pt x="3093" y="7739"/>
                </a:lnTo>
                <a:lnTo>
                  <a:pt x="3175" y="7778"/>
                </a:lnTo>
                <a:lnTo>
                  <a:pt x="3258" y="7818"/>
                </a:lnTo>
                <a:lnTo>
                  <a:pt x="3339" y="7859"/>
                </a:lnTo>
                <a:lnTo>
                  <a:pt x="3419" y="7903"/>
                </a:lnTo>
                <a:lnTo>
                  <a:pt x="3498" y="7948"/>
                </a:lnTo>
                <a:lnTo>
                  <a:pt x="3578" y="7994"/>
                </a:lnTo>
                <a:lnTo>
                  <a:pt x="3655" y="8042"/>
                </a:lnTo>
                <a:lnTo>
                  <a:pt x="3733" y="8092"/>
                </a:lnTo>
                <a:lnTo>
                  <a:pt x="3809" y="8143"/>
                </a:lnTo>
                <a:lnTo>
                  <a:pt x="3885" y="8196"/>
                </a:lnTo>
                <a:lnTo>
                  <a:pt x="3961" y="8250"/>
                </a:lnTo>
                <a:lnTo>
                  <a:pt x="4036" y="8305"/>
                </a:lnTo>
                <a:lnTo>
                  <a:pt x="4110" y="8361"/>
                </a:lnTo>
                <a:lnTo>
                  <a:pt x="4184" y="8419"/>
                </a:lnTo>
                <a:lnTo>
                  <a:pt x="4258" y="8477"/>
                </a:lnTo>
                <a:lnTo>
                  <a:pt x="4333" y="8538"/>
                </a:lnTo>
                <a:lnTo>
                  <a:pt x="4406" y="8599"/>
                </a:lnTo>
                <a:lnTo>
                  <a:pt x="4479" y="8662"/>
                </a:lnTo>
                <a:lnTo>
                  <a:pt x="4553" y="8724"/>
                </a:lnTo>
                <a:lnTo>
                  <a:pt x="4626" y="8789"/>
                </a:lnTo>
                <a:lnTo>
                  <a:pt x="4699" y="8854"/>
                </a:lnTo>
                <a:lnTo>
                  <a:pt x="4771" y="8921"/>
                </a:lnTo>
                <a:lnTo>
                  <a:pt x="4845" y="8988"/>
                </a:lnTo>
                <a:lnTo>
                  <a:pt x="4780" y="8463"/>
                </a:lnTo>
                <a:lnTo>
                  <a:pt x="4674" y="8368"/>
                </a:lnTo>
                <a:lnTo>
                  <a:pt x="4562" y="8270"/>
                </a:lnTo>
                <a:lnTo>
                  <a:pt x="4502" y="8219"/>
                </a:lnTo>
                <a:lnTo>
                  <a:pt x="4442" y="8168"/>
                </a:lnTo>
                <a:lnTo>
                  <a:pt x="4380" y="8116"/>
                </a:lnTo>
                <a:lnTo>
                  <a:pt x="4316" y="8064"/>
                </a:lnTo>
                <a:lnTo>
                  <a:pt x="4250" y="8012"/>
                </a:lnTo>
                <a:lnTo>
                  <a:pt x="4183" y="7960"/>
                </a:lnTo>
                <a:lnTo>
                  <a:pt x="4114" y="7908"/>
                </a:lnTo>
                <a:lnTo>
                  <a:pt x="4046" y="7856"/>
                </a:lnTo>
                <a:lnTo>
                  <a:pt x="3975" y="7805"/>
                </a:lnTo>
                <a:lnTo>
                  <a:pt x="3903" y="7753"/>
                </a:lnTo>
                <a:lnTo>
                  <a:pt x="3829" y="7703"/>
                </a:lnTo>
                <a:lnTo>
                  <a:pt x="3754" y="7654"/>
                </a:lnTo>
                <a:lnTo>
                  <a:pt x="3679" y="7605"/>
                </a:lnTo>
                <a:lnTo>
                  <a:pt x="3603" y="7558"/>
                </a:lnTo>
                <a:lnTo>
                  <a:pt x="3525" y="7513"/>
                </a:lnTo>
                <a:lnTo>
                  <a:pt x="3447" y="7467"/>
                </a:lnTo>
                <a:lnTo>
                  <a:pt x="3369" y="7425"/>
                </a:lnTo>
                <a:lnTo>
                  <a:pt x="3288" y="7384"/>
                </a:lnTo>
                <a:lnTo>
                  <a:pt x="3208" y="7344"/>
                </a:lnTo>
                <a:lnTo>
                  <a:pt x="3127" y="7307"/>
                </a:lnTo>
                <a:lnTo>
                  <a:pt x="3046" y="7272"/>
                </a:lnTo>
                <a:lnTo>
                  <a:pt x="2963" y="7239"/>
                </a:lnTo>
                <a:lnTo>
                  <a:pt x="2881" y="7208"/>
                </a:lnTo>
                <a:lnTo>
                  <a:pt x="2798" y="7181"/>
                </a:lnTo>
                <a:lnTo>
                  <a:pt x="2715" y="7155"/>
                </a:lnTo>
                <a:lnTo>
                  <a:pt x="2631" y="7133"/>
                </a:lnTo>
                <a:lnTo>
                  <a:pt x="2548" y="7114"/>
                </a:lnTo>
                <a:lnTo>
                  <a:pt x="2464" y="7097"/>
                </a:lnTo>
                <a:lnTo>
                  <a:pt x="2444" y="7093"/>
                </a:lnTo>
                <a:lnTo>
                  <a:pt x="2427" y="7089"/>
                </a:lnTo>
                <a:lnTo>
                  <a:pt x="2412" y="7083"/>
                </a:lnTo>
                <a:lnTo>
                  <a:pt x="2399" y="7076"/>
                </a:lnTo>
                <a:lnTo>
                  <a:pt x="2387" y="7068"/>
                </a:lnTo>
                <a:lnTo>
                  <a:pt x="2377" y="7060"/>
                </a:lnTo>
                <a:lnTo>
                  <a:pt x="2369" y="7051"/>
                </a:lnTo>
                <a:lnTo>
                  <a:pt x="2362" y="7041"/>
                </a:lnTo>
                <a:lnTo>
                  <a:pt x="2356" y="7029"/>
                </a:lnTo>
                <a:lnTo>
                  <a:pt x="2350" y="7018"/>
                </a:lnTo>
                <a:lnTo>
                  <a:pt x="2346" y="7007"/>
                </a:lnTo>
                <a:lnTo>
                  <a:pt x="2343" y="6993"/>
                </a:lnTo>
                <a:lnTo>
                  <a:pt x="2337" y="6967"/>
                </a:lnTo>
                <a:lnTo>
                  <a:pt x="2333" y="6937"/>
                </a:lnTo>
                <a:lnTo>
                  <a:pt x="2302" y="6726"/>
                </a:lnTo>
                <a:lnTo>
                  <a:pt x="2270" y="6516"/>
                </a:lnTo>
                <a:lnTo>
                  <a:pt x="2237" y="6308"/>
                </a:lnTo>
                <a:lnTo>
                  <a:pt x="2203" y="6101"/>
                </a:lnTo>
                <a:lnTo>
                  <a:pt x="2169" y="5894"/>
                </a:lnTo>
                <a:lnTo>
                  <a:pt x="2133" y="5688"/>
                </a:lnTo>
                <a:lnTo>
                  <a:pt x="2097" y="5484"/>
                </a:lnTo>
                <a:lnTo>
                  <a:pt x="2059" y="5280"/>
                </a:lnTo>
                <a:lnTo>
                  <a:pt x="2020" y="5076"/>
                </a:lnTo>
                <a:lnTo>
                  <a:pt x="1979" y="4875"/>
                </a:lnTo>
                <a:lnTo>
                  <a:pt x="1937" y="4673"/>
                </a:lnTo>
                <a:lnTo>
                  <a:pt x="1893" y="4472"/>
                </a:lnTo>
                <a:lnTo>
                  <a:pt x="1847" y="4273"/>
                </a:lnTo>
                <a:lnTo>
                  <a:pt x="1800" y="4073"/>
                </a:lnTo>
                <a:lnTo>
                  <a:pt x="1750" y="3875"/>
                </a:lnTo>
                <a:lnTo>
                  <a:pt x="1698" y="3677"/>
                </a:lnTo>
                <a:lnTo>
                  <a:pt x="1645" y="3480"/>
                </a:lnTo>
                <a:lnTo>
                  <a:pt x="1588" y="3284"/>
                </a:lnTo>
                <a:lnTo>
                  <a:pt x="1530" y="3088"/>
                </a:lnTo>
                <a:lnTo>
                  <a:pt x="1469" y="2893"/>
                </a:lnTo>
                <a:lnTo>
                  <a:pt x="1405" y="2698"/>
                </a:lnTo>
                <a:lnTo>
                  <a:pt x="1338" y="2504"/>
                </a:lnTo>
                <a:lnTo>
                  <a:pt x="1269" y="2311"/>
                </a:lnTo>
                <a:lnTo>
                  <a:pt x="1197" y="2117"/>
                </a:lnTo>
                <a:lnTo>
                  <a:pt x="1122" y="1925"/>
                </a:lnTo>
                <a:lnTo>
                  <a:pt x="1044" y="1733"/>
                </a:lnTo>
                <a:lnTo>
                  <a:pt x="962" y="1541"/>
                </a:lnTo>
                <a:lnTo>
                  <a:pt x="877" y="1350"/>
                </a:lnTo>
                <a:lnTo>
                  <a:pt x="789" y="1159"/>
                </a:lnTo>
                <a:lnTo>
                  <a:pt x="696" y="968"/>
                </a:lnTo>
                <a:lnTo>
                  <a:pt x="601" y="778"/>
                </a:lnTo>
                <a:lnTo>
                  <a:pt x="502" y="588"/>
                </a:lnTo>
                <a:lnTo>
                  <a:pt x="498" y="583"/>
                </a:lnTo>
                <a:lnTo>
                  <a:pt x="496" y="578"/>
                </a:lnTo>
                <a:lnTo>
                  <a:pt x="493" y="572"/>
                </a:lnTo>
                <a:lnTo>
                  <a:pt x="492" y="567"/>
                </a:lnTo>
                <a:lnTo>
                  <a:pt x="491" y="561"/>
                </a:lnTo>
                <a:lnTo>
                  <a:pt x="491" y="556"/>
                </a:lnTo>
                <a:lnTo>
                  <a:pt x="491" y="551"/>
                </a:lnTo>
                <a:lnTo>
                  <a:pt x="493" y="545"/>
                </a:lnTo>
                <a:lnTo>
                  <a:pt x="494" y="540"/>
                </a:lnTo>
                <a:lnTo>
                  <a:pt x="496" y="533"/>
                </a:lnTo>
                <a:lnTo>
                  <a:pt x="499" y="528"/>
                </a:lnTo>
                <a:lnTo>
                  <a:pt x="502" y="523"/>
                </a:lnTo>
                <a:lnTo>
                  <a:pt x="511" y="512"/>
                </a:lnTo>
                <a:lnTo>
                  <a:pt x="522" y="502"/>
                </a:lnTo>
                <a:lnTo>
                  <a:pt x="534" y="493"/>
                </a:lnTo>
                <a:lnTo>
                  <a:pt x="548" y="485"/>
                </a:lnTo>
                <a:lnTo>
                  <a:pt x="564" y="478"/>
                </a:lnTo>
                <a:lnTo>
                  <a:pt x="581" y="473"/>
                </a:lnTo>
                <a:lnTo>
                  <a:pt x="600" y="468"/>
                </a:lnTo>
                <a:lnTo>
                  <a:pt x="620" y="465"/>
                </a:lnTo>
                <a:lnTo>
                  <a:pt x="642" y="464"/>
                </a:lnTo>
                <a:lnTo>
                  <a:pt x="664" y="466"/>
                </a:lnTo>
                <a:lnTo>
                  <a:pt x="759" y="479"/>
                </a:lnTo>
                <a:lnTo>
                  <a:pt x="857" y="497"/>
                </a:lnTo>
                <a:lnTo>
                  <a:pt x="957" y="521"/>
                </a:lnTo>
                <a:lnTo>
                  <a:pt x="1058" y="550"/>
                </a:lnTo>
                <a:lnTo>
                  <a:pt x="1162" y="583"/>
                </a:lnTo>
                <a:lnTo>
                  <a:pt x="1268" y="622"/>
                </a:lnTo>
                <a:lnTo>
                  <a:pt x="1377" y="665"/>
                </a:lnTo>
                <a:lnTo>
                  <a:pt x="1487" y="713"/>
                </a:lnTo>
                <a:lnTo>
                  <a:pt x="1598" y="767"/>
                </a:lnTo>
                <a:lnTo>
                  <a:pt x="1712" y="824"/>
                </a:lnTo>
                <a:lnTo>
                  <a:pt x="1826" y="886"/>
                </a:lnTo>
                <a:lnTo>
                  <a:pt x="1942" y="952"/>
                </a:lnTo>
                <a:lnTo>
                  <a:pt x="2058" y="1022"/>
                </a:lnTo>
                <a:lnTo>
                  <a:pt x="2177" y="1097"/>
                </a:lnTo>
                <a:lnTo>
                  <a:pt x="2295" y="1175"/>
                </a:lnTo>
                <a:lnTo>
                  <a:pt x="2414" y="1257"/>
                </a:lnTo>
                <a:lnTo>
                  <a:pt x="2535" y="1344"/>
                </a:lnTo>
                <a:lnTo>
                  <a:pt x="2655" y="1433"/>
                </a:lnTo>
                <a:lnTo>
                  <a:pt x="2775" y="1527"/>
                </a:lnTo>
                <a:lnTo>
                  <a:pt x="2896" y="1625"/>
                </a:lnTo>
                <a:lnTo>
                  <a:pt x="3017" y="1724"/>
                </a:lnTo>
                <a:lnTo>
                  <a:pt x="3138" y="1828"/>
                </a:lnTo>
                <a:lnTo>
                  <a:pt x="3259" y="1934"/>
                </a:lnTo>
                <a:lnTo>
                  <a:pt x="3379" y="2044"/>
                </a:lnTo>
                <a:lnTo>
                  <a:pt x="3498" y="2157"/>
                </a:lnTo>
                <a:lnTo>
                  <a:pt x="3618" y="2273"/>
                </a:lnTo>
                <a:lnTo>
                  <a:pt x="3737" y="2391"/>
                </a:lnTo>
                <a:lnTo>
                  <a:pt x="3854" y="2511"/>
                </a:lnTo>
                <a:lnTo>
                  <a:pt x="3970" y="2635"/>
                </a:lnTo>
                <a:lnTo>
                  <a:pt x="4087" y="2761"/>
                </a:lnTo>
                <a:lnTo>
                  <a:pt x="4201" y="2889"/>
                </a:lnTo>
                <a:lnTo>
                  <a:pt x="4314" y="3019"/>
                </a:lnTo>
                <a:lnTo>
                  <a:pt x="4358" y="3019"/>
                </a:lnTo>
                <a:lnTo>
                  <a:pt x="4398" y="3019"/>
                </a:lnTo>
                <a:lnTo>
                  <a:pt x="4435" y="3017"/>
                </a:lnTo>
                <a:lnTo>
                  <a:pt x="4468" y="3015"/>
                </a:lnTo>
                <a:lnTo>
                  <a:pt x="4497" y="3011"/>
                </a:lnTo>
                <a:lnTo>
                  <a:pt x="4524" y="3006"/>
                </a:lnTo>
                <a:lnTo>
                  <a:pt x="4546" y="3000"/>
                </a:lnTo>
                <a:lnTo>
                  <a:pt x="4565" y="2992"/>
                </a:lnTo>
                <a:lnTo>
                  <a:pt x="4581" y="2984"/>
                </a:lnTo>
                <a:lnTo>
                  <a:pt x="4595" y="2975"/>
                </a:lnTo>
                <a:lnTo>
                  <a:pt x="4605" y="2965"/>
                </a:lnTo>
                <a:lnTo>
                  <a:pt x="4612" y="2952"/>
                </a:lnTo>
                <a:lnTo>
                  <a:pt x="4616" y="2940"/>
                </a:lnTo>
                <a:lnTo>
                  <a:pt x="4618" y="2926"/>
                </a:lnTo>
                <a:lnTo>
                  <a:pt x="4617" y="2910"/>
                </a:lnTo>
                <a:lnTo>
                  <a:pt x="4614" y="2894"/>
                </a:lnTo>
                <a:lnTo>
                  <a:pt x="4608" y="2876"/>
                </a:lnTo>
                <a:lnTo>
                  <a:pt x="4600" y="2858"/>
                </a:lnTo>
                <a:lnTo>
                  <a:pt x="4590" y="2838"/>
                </a:lnTo>
                <a:lnTo>
                  <a:pt x="4578" y="2817"/>
                </a:lnTo>
                <a:lnTo>
                  <a:pt x="4564" y="2795"/>
                </a:lnTo>
                <a:lnTo>
                  <a:pt x="4548" y="2771"/>
                </a:lnTo>
                <a:lnTo>
                  <a:pt x="4530" y="2748"/>
                </a:lnTo>
                <a:lnTo>
                  <a:pt x="4510" y="2722"/>
                </a:lnTo>
                <a:lnTo>
                  <a:pt x="4466" y="2667"/>
                </a:lnTo>
                <a:lnTo>
                  <a:pt x="4418" y="2608"/>
                </a:lnTo>
                <a:lnTo>
                  <a:pt x="4363" y="2544"/>
                </a:lnTo>
                <a:lnTo>
                  <a:pt x="4306" y="2475"/>
                </a:lnTo>
                <a:close/>
              </a:path>
            </a:pathLst>
          </a:custGeom>
          <a:solidFill>
            <a:srgbClr val="2a4caa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4e1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8fa4e1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499"/>
              </a:spcBef>
              <a:buClr>
                <a:srgbClr val="2a4ca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mbiental.uaslp.mx/foroslp/desc.htm" TargetMode="External"/><Relationship Id="rId3" Type="http://schemas.openxmlformats.org/officeDocument/2006/relationships/hyperlink" Target="http://mx.groups.yahoo.com/group/pots/links" TargetMode="External"/><Relationship Id="rId4" Type="http://schemas.openxmlformats.org/officeDocument/2006/relationships/hyperlink" Target="http://enlaces.ucv.cl/pags/enla_rura/docs/6PowerPoint.pdf" TargetMode="External"/><Relationship Id="rId5" Type="http://schemas.openxmlformats.org/officeDocument/2006/relationships/hyperlink" Target="http://enlaces.ucv.cl/pags/enla_rura/docs/6PowerPoint.pdf" TargetMode="External"/><Relationship Id="rId6" Type="http://schemas.openxmlformats.org/officeDocument/2006/relationships/hyperlink" Target="http://enlaces.ucv.cl/pags/enla_rura/docs/6PowerPoint.pdf" TargetMode="External"/><Relationship Id="rId7" Type="http://schemas.openxmlformats.org/officeDocument/2006/relationships/hyperlink" Target="http://enlaces.ucv.cl/pags/enla_rura/docs/6PowerPoint.pdf" TargetMode="External"/><Relationship Id="rId8" Type="http://schemas.openxmlformats.org/officeDocument/2006/relationships/hyperlink" Target="http://enlaces.ucv.cl/pags/enla_rura/docs/6PowerPoint.pdf" TargetMode="External"/><Relationship Id="rId9" Type="http://schemas.openxmlformats.org/officeDocument/2006/relationships/hyperlink" Target="http://enlaces.ucv.cl/pags/enla_rura/docs/6PowerPoint.pdf" TargetMode="External"/><Relationship Id="rId10" Type="http://schemas.openxmlformats.org/officeDocument/2006/relationships/hyperlink" Target="http://enlaces.ucv.cl/pags/enla_rura/docs/6PowerPoint.pdf" TargetMode="External"/><Relationship Id="rId11" Type="http://schemas.openxmlformats.org/officeDocument/2006/relationships/hyperlink" Target="http://enlaces.ucv.cl/pags/enla_rura/docs/6PowerPoint.pdf" TargetMode="External"/><Relationship Id="rId12" Type="http://schemas.openxmlformats.org/officeDocument/2006/relationships/hyperlink" Target="http://enlaces.ucv.cl/pags/enla_rura/docs/6PowerPoint.pdf" TargetMode="External"/><Relationship Id="rId13" Type="http://schemas.openxmlformats.org/officeDocument/2006/relationships/hyperlink" Target="http://enlaces.ucv.cl/pags/enla_rura/docs/6PowerPoint.pdf" TargetMode="External"/><Relationship Id="rId14" Type="http://schemas.openxmlformats.org/officeDocument/2006/relationships/hyperlink" Target="http://enlaces.ucv.cl/pags/enla_rura/docs/6PowerPoint.pdf" TargetMode="External"/><Relationship Id="rId15" Type="http://schemas.openxmlformats.org/officeDocument/2006/relationships/hyperlink" Target="http://enlaces.ucv.cl/pags/enla_rura/docs/6PowerPoint.pdf" TargetMode="External"/><Relationship Id="rId16" Type="http://schemas.openxmlformats.org/officeDocument/2006/relationships/hyperlink" Target="http://enlaces.ucv.cl/pags/enla_rura/docs/6PowerPoint.pdf" TargetMode="External"/><Relationship Id="rId17" Type="http://schemas.openxmlformats.org/officeDocument/2006/relationships/hyperlink" Target="http://enlaces.ucv.cl/pags/enla_rura/docs/6PowerPoint.pdf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mbiental.uaslp.mx/" TargetMode="External"/><Relationship Id="rId3" Type="http://schemas.openxmlformats.org/officeDocument/2006/relationships/hyperlink" Target="http://www.ambiental.ws/complexus" TargetMode="External"/><Relationship Id="rId4" Type="http://schemas.openxmlformats.org/officeDocument/2006/relationships/hyperlink" Target="http://www.ugto.mx/pimaug/" TargetMode="External"/><Relationship Id="rId5" Type="http://schemas.openxmlformats.org/officeDocument/2006/relationships/hyperlink" Target="http://www.anuies.mx/" TargetMode="External"/><Relationship Id="rId6" Type="http://schemas.openxmlformats.org/officeDocument/2006/relationships/hyperlink" Target="http://www.unam.mx/cesu/" TargetMode="External"/><Relationship Id="rId7" Type="http://schemas.openxmlformats.org/officeDocument/2006/relationships/hyperlink" Target="http://www.sesic.sep.gob.mx/" TargetMode="External"/><Relationship Id="rId8" Type="http://schemas.openxmlformats.org/officeDocument/2006/relationships/hyperlink" Target="http://www.semarnat.gob.mx/" TargetMode="External"/><Relationship Id="rId9" Type="http://schemas.openxmlformats.org/officeDocument/2006/relationships/hyperlink" Target="http://www.segam.gob.mx/" TargetMode="Externa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48760" y="200160"/>
            <a:ext cx="48387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strucciones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39960" y="1063440"/>
            <a:ext cx="7681680" cy="57942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Cuando hayas terminado de revisar estas instrucciones, puedes borrar la página.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Esta plantilla contiene cuatro tipos de diapositivas: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1 para título principal (incorporada al “patrón”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1 para texto normal (idem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1 para transición entre temas (necesitas copiar y pegar para crear varias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1 para colocar gráficas o esquemas (idem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Además contiene 13 combinaciones de colores que se ajustan automáticamente, incluyendo el logotipo (Menú “ver”, opción “barra de tareas”, ventana “estilo de diapositiva”, opción “combinaciones de colores”)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Eres libre de realizar los cambios que gustes. En ese caso te recomendamos: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Ajustar las combinaciones de colores para homogeneizar los resultados en todas las diapositivas.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No mezclar demasiados colores y demasiados tipos de letras.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Ajustar la tipografía directamente sobre el patrón (Menú “ver”, opción “patrón”, etc. Los patrones son las formatos básicos en que se basan todas las diapositivas y están “detrás” de todas las demás.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Las imágenes que están fuera de cuadro no se proyectarán. Para modificarlas, es necesario ir a la vista “patrón” en menú “Ver”, opción “patrón de diapositivas”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Más plantillas, tips, etc. aquí: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2"/>
              </a:rPr>
              <a:t>http://ambiental.uaslp.mx/foroslp/desc.htm</a:t>
            </a: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3"/>
              </a:rPr>
              <a:t>http://mx.groups.yahoo.com/group/pots/links</a:t>
            </a: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c3c0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 Narrow"/>
              </a:rPr>
              <a:t>Te recomendamos este excelente manual sobre PowerPoint: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buClr>
                <a:srgbClr val="8fa4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4"/>
              </a:rPr>
              <a:t>http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5"/>
              </a:rPr>
              <a:t>://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6"/>
              </a:rPr>
              <a:t>enlaces.ucv.cl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7"/>
              </a:rPr>
              <a:t>/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8"/>
              </a:rPr>
              <a:t>pags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9"/>
              </a:rPr>
              <a:t>/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0"/>
              </a:rPr>
              <a:t>enla_rura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1"/>
              </a:rPr>
              <a:t>/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2"/>
              </a:rPr>
              <a:t>docs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3"/>
              </a:rPr>
              <a:t>/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4"/>
              </a:rPr>
              <a:t>6PowerPoint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5"/>
              </a:rPr>
              <a:t>.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6"/>
              </a:rPr>
              <a:t>pdf</a:t>
            </a:r>
            <a:r>
              <a:rPr b="1" lang="es-MX" sz="1400" spc="-1" strike="noStrike" u="sng">
                <a:solidFill>
                  <a:srgbClr val="8fa4e1"/>
                </a:solidFill>
                <a:uFillTx/>
                <a:latin typeface="Arial Narrow"/>
                <a:hlinkClick r:id="rId17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499920" y="1739520"/>
            <a:ext cx="560556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324320" y="4088880"/>
            <a:ext cx="478152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4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5400" y="2019240"/>
            <a:ext cx="1930320" cy="2457360"/>
          </a:xfrm>
          <a:custGeom>
            <a:avLst/>
            <a:gdLst/>
            <a:ahLst/>
            <a:rect l="l" t="t" r="r" b="b"/>
            <a:pathLst>
              <a:path w="644" h="1382">
                <a:moveTo>
                  <a:pt x="642" y="607"/>
                </a:moveTo>
                <a:lnTo>
                  <a:pt x="641" y="597"/>
                </a:lnTo>
                <a:lnTo>
                  <a:pt x="637" y="586"/>
                </a:lnTo>
                <a:lnTo>
                  <a:pt x="635" y="577"/>
                </a:lnTo>
                <a:lnTo>
                  <a:pt x="631" y="566"/>
                </a:lnTo>
                <a:lnTo>
                  <a:pt x="630" y="555"/>
                </a:lnTo>
                <a:lnTo>
                  <a:pt x="626" y="544"/>
                </a:lnTo>
                <a:lnTo>
                  <a:pt x="622" y="533"/>
                </a:lnTo>
                <a:lnTo>
                  <a:pt x="621" y="522"/>
                </a:lnTo>
                <a:lnTo>
                  <a:pt x="613" y="500"/>
                </a:lnTo>
                <a:lnTo>
                  <a:pt x="606" y="478"/>
                </a:lnTo>
                <a:lnTo>
                  <a:pt x="599" y="455"/>
                </a:lnTo>
                <a:lnTo>
                  <a:pt x="591" y="433"/>
                </a:lnTo>
                <a:lnTo>
                  <a:pt x="582" y="411"/>
                </a:lnTo>
                <a:lnTo>
                  <a:pt x="575" y="389"/>
                </a:lnTo>
                <a:lnTo>
                  <a:pt x="568" y="369"/>
                </a:lnTo>
                <a:lnTo>
                  <a:pt x="560" y="348"/>
                </a:lnTo>
                <a:lnTo>
                  <a:pt x="551" y="326"/>
                </a:lnTo>
                <a:lnTo>
                  <a:pt x="542" y="306"/>
                </a:lnTo>
                <a:lnTo>
                  <a:pt x="535" y="286"/>
                </a:lnTo>
                <a:lnTo>
                  <a:pt x="526" y="264"/>
                </a:lnTo>
                <a:lnTo>
                  <a:pt x="517" y="244"/>
                </a:lnTo>
                <a:lnTo>
                  <a:pt x="508" y="222"/>
                </a:lnTo>
                <a:lnTo>
                  <a:pt x="499" y="202"/>
                </a:lnTo>
                <a:lnTo>
                  <a:pt x="489" y="180"/>
                </a:lnTo>
                <a:lnTo>
                  <a:pt x="480" y="162"/>
                </a:lnTo>
                <a:lnTo>
                  <a:pt x="469" y="142"/>
                </a:lnTo>
                <a:lnTo>
                  <a:pt x="460" y="122"/>
                </a:lnTo>
                <a:lnTo>
                  <a:pt x="449" y="102"/>
                </a:lnTo>
                <a:lnTo>
                  <a:pt x="437" y="82"/>
                </a:lnTo>
                <a:lnTo>
                  <a:pt x="424" y="64"/>
                </a:lnTo>
                <a:lnTo>
                  <a:pt x="411" y="46"/>
                </a:lnTo>
                <a:lnTo>
                  <a:pt x="397" y="30"/>
                </a:lnTo>
                <a:lnTo>
                  <a:pt x="391" y="24"/>
                </a:lnTo>
                <a:lnTo>
                  <a:pt x="386" y="20"/>
                </a:lnTo>
                <a:lnTo>
                  <a:pt x="382" y="17"/>
                </a:lnTo>
                <a:lnTo>
                  <a:pt x="377" y="11"/>
                </a:lnTo>
                <a:lnTo>
                  <a:pt x="371" y="8"/>
                </a:lnTo>
                <a:lnTo>
                  <a:pt x="364" y="6"/>
                </a:lnTo>
                <a:lnTo>
                  <a:pt x="358" y="2"/>
                </a:lnTo>
                <a:lnTo>
                  <a:pt x="351" y="0"/>
                </a:lnTo>
                <a:lnTo>
                  <a:pt x="349" y="2"/>
                </a:lnTo>
                <a:lnTo>
                  <a:pt x="349" y="2"/>
                </a:lnTo>
                <a:lnTo>
                  <a:pt x="347" y="4"/>
                </a:lnTo>
                <a:lnTo>
                  <a:pt x="346" y="6"/>
                </a:lnTo>
                <a:lnTo>
                  <a:pt x="346" y="8"/>
                </a:lnTo>
                <a:lnTo>
                  <a:pt x="344" y="10"/>
                </a:lnTo>
                <a:lnTo>
                  <a:pt x="342" y="11"/>
                </a:lnTo>
                <a:lnTo>
                  <a:pt x="340" y="13"/>
                </a:lnTo>
                <a:lnTo>
                  <a:pt x="333" y="39"/>
                </a:lnTo>
                <a:lnTo>
                  <a:pt x="327" y="66"/>
                </a:lnTo>
                <a:lnTo>
                  <a:pt x="324" y="95"/>
                </a:lnTo>
                <a:lnTo>
                  <a:pt x="322" y="122"/>
                </a:lnTo>
                <a:lnTo>
                  <a:pt x="322" y="151"/>
                </a:lnTo>
                <a:lnTo>
                  <a:pt x="322" y="179"/>
                </a:lnTo>
                <a:lnTo>
                  <a:pt x="324" y="208"/>
                </a:lnTo>
                <a:lnTo>
                  <a:pt x="324" y="235"/>
                </a:lnTo>
                <a:lnTo>
                  <a:pt x="326" y="246"/>
                </a:lnTo>
                <a:lnTo>
                  <a:pt x="326" y="255"/>
                </a:lnTo>
                <a:lnTo>
                  <a:pt x="327" y="264"/>
                </a:lnTo>
                <a:lnTo>
                  <a:pt x="327" y="275"/>
                </a:lnTo>
                <a:lnTo>
                  <a:pt x="329" y="284"/>
                </a:lnTo>
                <a:lnTo>
                  <a:pt x="329" y="293"/>
                </a:lnTo>
                <a:lnTo>
                  <a:pt x="331" y="302"/>
                </a:lnTo>
                <a:lnTo>
                  <a:pt x="333" y="311"/>
                </a:lnTo>
                <a:lnTo>
                  <a:pt x="333" y="311"/>
                </a:lnTo>
                <a:lnTo>
                  <a:pt x="333" y="311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31" y="313"/>
                </a:lnTo>
                <a:lnTo>
                  <a:pt x="329" y="313"/>
                </a:lnTo>
                <a:lnTo>
                  <a:pt x="324" y="313"/>
                </a:lnTo>
                <a:lnTo>
                  <a:pt x="318" y="311"/>
                </a:lnTo>
                <a:lnTo>
                  <a:pt x="315" y="308"/>
                </a:lnTo>
                <a:lnTo>
                  <a:pt x="309" y="306"/>
                </a:lnTo>
                <a:lnTo>
                  <a:pt x="304" y="304"/>
                </a:lnTo>
                <a:lnTo>
                  <a:pt x="298" y="302"/>
                </a:lnTo>
                <a:lnTo>
                  <a:pt x="291" y="302"/>
                </a:lnTo>
                <a:lnTo>
                  <a:pt x="286" y="302"/>
                </a:lnTo>
                <a:lnTo>
                  <a:pt x="282" y="306"/>
                </a:lnTo>
                <a:lnTo>
                  <a:pt x="280" y="309"/>
                </a:lnTo>
                <a:lnTo>
                  <a:pt x="278" y="313"/>
                </a:lnTo>
                <a:lnTo>
                  <a:pt x="278" y="318"/>
                </a:lnTo>
                <a:lnTo>
                  <a:pt x="278" y="322"/>
                </a:lnTo>
                <a:lnTo>
                  <a:pt x="278" y="328"/>
                </a:lnTo>
                <a:lnTo>
                  <a:pt x="278" y="333"/>
                </a:lnTo>
                <a:lnTo>
                  <a:pt x="276" y="338"/>
                </a:lnTo>
                <a:lnTo>
                  <a:pt x="276" y="338"/>
                </a:lnTo>
                <a:lnTo>
                  <a:pt x="276" y="340"/>
                </a:lnTo>
                <a:lnTo>
                  <a:pt x="276" y="340"/>
                </a:lnTo>
                <a:lnTo>
                  <a:pt x="276" y="342"/>
                </a:lnTo>
                <a:lnTo>
                  <a:pt x="276" y="342"/>
                </a:lnTo>
                <a:lnTo>
                  <a:pt x="276" y="342"/>
                </a:lnTo>
                <a:lnTo>
                  <a:pt x="276" y="344"/>
                </a:lnTo>
                <a:lnTo>
                  <a:pt x="276" y="344"/>
                </a:lnTo>
                <a:lnTo>
                  <a:pt x="267" y="326"/>
                </a:lnTo>
                <a:lnTo>
                  <a:pt x="258" y="304"/>
                </a:lnTo>
                <a:lnTo>
                  <a:pt x="251" y="282"/>
                </a:lnTo>
                <a:lnTo>
                  <a:pt x="246" y="260"/>
                </a:lnTo>
                <a:lnTo>
                  <a:pt x="238" y="239"/>
                </a:lnTo>
                <a:lnTo>
                  <a:pt x="233" y="215"/>
                </a:lnTo>
                <a:lnTo>
                  <a:pt x="227" y="191"/>
                </a:lnTo>
                <a:lnTo>
                  <a:pt x="222" y="169"/>
                </a:lnTo>
                <a:lnTo>
                  <a:pt x="216" y="157"/>
                </a:lnTo>
                <a:lnTo>
                  <a:pt x="213" y="142"/>
                </a:lnTo>
                <a:lnTo>
                  <a:pt x="209" y="128"/>
                </a:lnTo>
                <a:lnTo>
                  <a:pt x="206" y="113"/>
                </a:lnTo>
                <a:lnTo>
                  <a:pt x="202" y="100"/>
                </a:lnTo>
                <a:lnTo>
                  <a:pt x="195" y="88"/>
                </a:lnTo>
                <a:lnTo>
                  <a:pt x="185" y="77"/>
                </a:lnTo>
                <a:lnTo>
                  <a:pt x="171" y="70"/>
                </a:lnTo>
                <a:lnTo>
                  <a:pt x="167" y="68"/>
                </a:lnTo>
                <a:lnTo>
                  <a:pt x="164" y="66"/>
                </a:lnTo>
                <a:lnTo>
                  <a:pt x="160" y="64"/>
                </a:lnTo>
                <a:lnTo>
                  <a:pt x="156" y="62"/>
                </a:lnTo>
                <a:lnTo>
                  <a:pt x="153" y="62"/>
                </a:lnTo>
                <a:lnTo>
                  <a:pt x="149" y="62"/>
                </a:lnTo>
                <a:lnTo>
                  <a:pt x="145" y="62"/>
                </a:lnTo>
                <a:lnTo>
                  <a:pt x="142" y="62"/>
                </a:lnTo>
                <a:lnTo>
                  <a:pt x="136" y="86"/>
                </a:lnTo>
                <a:lnTo>
                  <a:pt x="135" y="111"/>
                </a:lnTo>
                <a:lnTo>
                  <a:pt x="135" y="137"/>
                </a:lnTo>
                <a:lnTo>
                  <a:pt x="138" y="162"/>
                </a:lnTo>
                <a:lnTo>
                  <a:pt x="142" y="189"/>
                </a:lnTo>
                <a:lnTo>
                  <a:pt x="145" y="215"/>
                </a:lnTo>
                <a:lnTo>
                  <a:pt x="149" y="242"/>
                </a:lnTo>
                <a:lnTo>
                  <a:pt x="153" y="268"/>
                </a:lnTo>
                <a:lnTo>
                  <a:pt x="155" y="280"/>
                </a:lnTo>
                <a:lnTo>
                  <a:pt x="156" y="293"/>
                </a:lnTo>
                <a:lnTo>
                  <a:pt x="160" y="306"/>
                </a:lnTo>
                <a:lnTo>
                  <a:pt x="162" y="318"/>
                </a:lnTo>
                <a:lnTo>
                  <a:pt x="165" y="331"/>
                </a:lnTo>
                <a:lnTo>
                  <a:pt x="167" y="344"/>
                </a:lnTo>
                <a:lnTo>
                  <a:pt x="169" y="357"/>
                </a:lnTo>
                <a:lnTo>
                  <a:pt x="171" y="369"/>
                </a:lnTo>
                <a:lnTo>
                  <a:pt x="133" y="368"/>
                </a:lnTo>
                <a:lnTo>
                  <a:pt x="131" y="380"/>
                </a:lnTo>
                <a:lnTo>
                  <a:pt x="129" y="395"/>
                </a:lnTo>
                <a:lnTo>
                  <a:pt x="129" y="409"/>
                </a:lnTo>
                <a:lnTo>
                  <a:pt x="131" y="424"/>
                </a:lnTo>
                <a:lnTo>
                  <a:pt x="133" y="437"/>
                </a:lnTo>
                <a:lnTo>
                  <a:pt x="135" y="451"/>
                </a:lnTo>
                <a:lnTo>
                  <a:pt x="136" y="466"/>
                </a:lnTo>
                <a:lnTo>
                  <a:pt x="138" y="480"/>
                </a:lnTo>
                <a:lnTo>
                  <a:pt x="158" y="578"/>
                </a:lnTo>
                <a:lnTo>
                  <a:pt x="147" y="558"/>
                </a:lnTo>
                <a:lnTo>
                  <a:pt x="140" y="538"/>
                </a:lnTo>
                <a:lnTo>
                  <a:pt x="131" y="517"/>
                </a:lnTo>
                <a:lnTo>
                  <a:pt x="124" y="495"/>
                </a:lnTo>
                <a:lnTo>
                  <a:pt x="116" y="473"/>
                </a:lnTo>
                <a:lnTo>
                  <a:pt x="109" y="451"/>
                </a:lnTo>
                <a:lnTo>
                  <a:pt x="102" y="429"/>
                </a:lnTo>
                <a:lnTo>
                  <a:pt x="94" y="409"/>
                </a:lnTo>
                <a:lnTo>
                  <a:pt x="91" y="400"/>
                </a:lnTo>
                <a:lnTo>
                  <a:pt x="87" y="389"/>
                </a:lnTo>
                <a:lnTo>
                  <a:pt x="84" y="380"/>
                </a:lnTo>
                <a:lnTo>
                  <a:pt x="78" y="371"/>
                </a:lnTo>
                <a:lnTo>
                  <a:pt x="71" y="364"/>
                </a:lnTo>
                <a:lnTo>
                  <a:pt x="64" y="357"/>
                </a:lnTo>
                <a:lnTo>
                  <a:pt x="54" y="351"/>
                </a:lnTo>
                <a:lnTo>
                  <a:pt x="45" y="348"/>
                </a:lnTo>
                <a:lnTo>
                  <a:pt x="40" y="348"/>
                </a:lnTo>
                <a:lnTo>
                  <a:pt x="36" y="346"/>
                </a:lnTo>
                <a:lnTo>
                  <a:pt x="33" y="344"/>
                </a:lnTo>
                <a:lnTo>
                  <a:pt x="29" y="344"/>
                </a:lnTo>
                <a:lnTo>
                  <a:pt x="23" y="342"/>
                </a:lnTo>
                <a:lnTo>
                  <a:pt x="20" y="342"/>
                </a:lnTo>
                <a:lnTo>
                  <a:pt x="16" y="344"/>
                </a:lnTo>
                <a:lnTo>
                  <a:pt x="13" y="346"/>
                </a:lnTo>
                <a:lnTo>
                  <a:pt x="9" y="355"/>
                </a:lnTo>
                <a:lnTo>
                  <a:pt x="5" y="362"/>
                </a:lnTo>
                <a:lnTo>
                  <a:pt x="3" y="371"/>
                </a:lnTo>
                <a:lnTo>
                  <a:pt x="2" y="380"/>
                </a:lnTo>
                <a:lnTo>
                  <a:pt x="2" y="391"/>
                </a:lnTo>
                <a:lnTo>
                  <a:pt x="2" y="400"/>
                </a:lnTo>
                <a:lnTo>
                  <a:pt x="2" y="409"/>
                </a:lnTo>
                <a:lnTo>
                  <a:pt x="0" y="418"/>
                </a:lnTo>
                <a:lnTo>
                  <a:pt x="2" y="444"/>
                </a:lnTo>
                <a:lnTo>
                  <a:pt x="3" y="469"/>
                </a:lnTo>
                <a:lnTo>
                  <a:pt x="5" y="495"/>
                </a:lnTo>
                <a:lnTo>
                  <a:pt x="7" y="520"/>
                </a:lnTo>
                <a:lnTo>
                  <a:pt x="11" y="546"/>
                </a:lnTo>
                <a:lnTo>
                  <a:pt x="13" y="569"/>
                </a:lnTo>
                <a:lnTo>
                  <a:pt x="16" y="595"/>
                </a:lnTo>
                <a:lnTo>
                  <a:pt x="20" y="618"/>
                </a:lnTo>
                <a:lnTo>
                  <a:pt x="25" y="644"/>
                </a:lnTo>
                <a:lnTo>
                  <a:pt x="31" y="667"/>
                </a:lnTo>
                <a:lnTo>
                  <a:pt x="34" y="691"/>
                </a:lnTo>
                <a:lnTo>
                  <a:pt x="40" y="713"/>
                </a:lnTo>
                <a:lnTo>
                  <a:pt x="45" y="736"/>
                </a:lnTo>
                <a:lnTo>
                  <a:pt x="51" y="760"/>
                </a:lnTo>
                <a:lnTo>
                  <a:pt x="56" y="782"/>
                </a:lnTo>
                <a:lnTo>
                  <a:pt x="64" y="805"/>
                </a:lnTo>
                <a:lnTo>
                  <a:pt x="67" y="816"/>
                </a:lnTo>
                <a:lnTo>
                  <a:pt x="69" y="827"/>
                </a:lnTo>
                <a:lnTo>
                  <a:pt x="73" y="840"/>
                </a:lnTo>
                <a:lnTo>
                  <a:pt x="76" y="851"/>
                </a:lnTo>
                <a:lnTo>
                  <a:pt x="78" y="862"/>
                </a:lnTo>
                <a:lnTo>
                  <a:pt x="82" y="875"/>
                </a:lnTo>
                <a:lnTo>
                  <a:pt x="85" y="885"/>
                </a:lnTo>
                <a:lnTo>
                  <a:pt x="89" y="896"/>
                </a:lnTo>
                <a:lnTo>
                  <a:pt x="89" y="898"/>
                </a:lnTo>
                <a:lnTo>
                  <a:pt x="89" y="900"/>
                </a:lnTo>
                <a:lnTo>
                  <a:pt x="89" y="902"/>
                </a:lnTo>
                <a:lnTo>
                  <a:pt x="91" y="904"/>
                </a:lnTo>
                <a:lnTo>
                  <a:pt x="91" y="905"/>
                </a:lnTo>
                <a:lnTo>
                  <a:pt x="91" y="907"/>
                </a:lnTo>
                <a:lnTo>
                  <a:pt x="93" y="909"/>
                </a:lnTo>
                <a:lnTo>
                  <a:pt x="93" y="911"/>
                </a:lnTo>
                <a:lnTo>
                  <a:pt x="85" y="904"/>
                </a:lnTo>
                <a:lnTo>
                  <a:pt x="82" y="896"/>
                </a:lnTo>
                <a:lnTo>
                  <a:pt x="76" y="887"/>
                </a:lnTo>
                <a:lnTo>
                  <a:pt x="73" y="878"/>
                </a:lnTo>
                <a:lnTo>
                  <a:pt x="67" y="869"/>
                </a:lnTo>
                <a:lnTo>
                  <a:pt x="62" y="862"/>
                </a:lnTo>
                <a:lnTo>
                  <a:pt x="54" y="856"/>
                </a:lnTo>
                <a:lnTo>
                  <a:pt x="44" y="855"/>
                </a:lnTo>
                <a:lnTo>
                  <a:pt x="40" y="855"/>
                </a:lnTo>
                <a:lnTo>
                  <a:pt x="34" y="855"/>
                </a:lnTo>
                <a:lnTo>
                  <a:pt x="31" y="856"/>
                </a:lnTo>
                <a:lnTo>
                  <a:pt x="27" y="856"/>
                </a:lnTo>
                <a:lnTo>
                  <a:pt x="22" y="858"/>
                </a:lnTo>
                <a:lnTo>
                  <a:pt x="20" y="860"/>
                </a:lnTo>
                <a:lnTo>
                  <a:pt x="16" y="862"/>
                </a:lnTo>
                <a:lnTo>
                  <a:pt x="14" y="865"/>
                </a:lnTo>
                <a:lnTo>
                  <a:pt x="14" y="891"/>
                </a:lnTo>
                <a:lnTo>
                  <a:pt x="14" y="915"/>
                </a:lnTo>
                <a:lnTo>
                  <a:pt x="16" y="940"/>
                </a:lnTo>
                <a:lnTo>
                  <a:pt x="20" y="965"/>
                </a:lnTo>
                <a:lnTo>
                  <a:pt x="23" y="991"/>
                </a:lnTo>
                <a:lnTo>
                  <a:pt x="27" y="1014"/>
                </a:lnTo>
                <a:lnTo>
                  <a:pt x="31" y="1040"/>
                </a:lnTo>
                <a:lnTo>
                  <a:pt x="34" y="1064"/>
                </a:lnTo>
                <a:lnTo>
                  <a:pt x="40" y="1087"/>
                </a:lnTo>
                <a:lnTo>
                  <a:pt x="45" y="1111"/>
                </a:lnTo>
                <a:lnTo>
                  <a:pt x="51" y="1134"/>
                </a:lnTo>
                <a:lnTo>
                  <a:pt x="56" y="1156"/>
                </a:lnTo>
                <a:lnTo>
                  <a:pt x="62" y="1180"/>
                </a:lnTo>
                <a:lnTo>
                  <a:pt x="67" y="1202"/>
                </a:lnTo>
                <a:lnTo>
                  <a:pt x="73" y="1225"/>
                </a:lnTo>
                <a:lnTo>
                  <a:pt x="80" y="1247"/>
                </a:lnTo>
                <a:lnTo>
                  <a:pt x="85" y="1265"/>
                </a:lnTo>
                <a:lnTo>
                  <a:pt x="91" y="1283"/>
                </a:lnTo>
                <a:lnTo>
                  <a:pt x="96" y="1302"/>
                </a:lnTo>
                <a:lnTo>
                  <a:pt x="102" y="1318"/>
                </a:lnTo>
                <a:lnTo>
                  <a:pt x="107" y="1336"/>
                </a:lnTo>
                <a:lnTo>
                  <a:pt x="114" y="1352"/>
                </a:lnTo>
                <a:lnTo>
                  <a:pt x="125" y="1367"/>
                </a:lnTo>
                <a:lnTo>
                  <a:pt x="138" y="1382"/>
                </a:lnTo>
                <a:lnTo>
                  <a:pt x="140" y="1382"/>
                </a:lnTo>
                <a:lnTo>
                  <a:pt x="140" y="1382"/>
                </a:lnTo>
                <a:lnTo>
                  <a:pt x="142" y="1382"/>
                </a:lnTo>
                <a:lnTo>
                  <a:pt x="144" y="1382"/>
                </a:lnTo>
                <a:lnTo>
                  <a:pt x="144" y="1380"/>
                </a:lnTo>
                <a:lnTo>
                  <a:pt x="145" y="1380"/>
                </a:lnTo>
                <a:lnTo>
                  <a:pt x="145" y="1378"/>
                </a:lnTo>
                <a:lnTo>
                  <a:pt x="147" y="1378"/>
                </a:lnTo>
                <a:lnTo>
                  <a:pt x="142" y="1354"/>
                </a:lnTo>
                <a:lnTo>
                  <a:pt x="135" y="1332"/>
                </a:lnTo>
                <a:lnTo>
                  <a:pt x="127" y="1311"/>
                </a:lnTo>
                <a:lnTo>
                  <a:pt x="120" y="1291"/>
                </a:lnTo>
                <a:lnTo>
                  <a:pt x="113" y="1269"/>
                </a:lnTo>
                <a:lnTo>
                  <a:pt x="105" y="1247"/>
                </a:lnTo>
                <a:lnTo>
                  <a:pt x="98" y="1225"/>
                </a:lnTo>
                <a:lnTo>
                  <a:pt x="94" y="1202"/>
                </a:lnTo>
                <a:lnTo>
                  <a:pt x="93" y="1194"/>
                </a:lnTo>
                <a:lnTo>
                  <a:pt x="91" y="1187"/>
                </a:lnTo>
                <a:lnTo>
                  <a:pt x="87" y="1180"/>
                </a:lnTo>
                <a:lnTo>
                  <a:pt x="85" y="1173"/>
                </a:lnTo>
                <a:lnTo>
                  <a:pt x="84" y="1165"/>
                </a:lnTo>
                <a:lnTo>
                  <a:pt x="82" y="1158"/>
                </a:lnTo>
                <a:lnTo>
                  <a:pt x="80" y="1151"/>
                </a:lnTo>
                <a:lnTo>
                  <a:pt x="78" y="1143"/>
                </a:lnTo>
                <a:lnTo>
                  <a:pt x="73" y="1122"/>
                </a:lnTo>
                <a:lnTo>
                  <a:pt x="69" y="1098"/>
                </a:lnTo>
                <a:lnTo>
                  <a:pt x="64" y="1073"/>
                </a:lnTo>
                <a:lnTo>
                  <a:pt x="60" y="1049"/>
                </a:lnTo>
                <a:lnTo>
                  <a:pt x="56" y="1024"/>
                </a:lnTo>
                <a:lnTo>
                  <a:pt x="53" y="1000"/>
                </a:lnTo>
                <a:lnTo>
                  <a:pt x="51" y="974"/>
                </a:lnTo>
                <a:lnTo>
                  <a:pt x="51" y="949"/>
                </a:lnTo>
                <a:lnTo>
                  <a:pt x="51" y="945"/>
                </a:lnTo>
                <a:lnTo>
                  <a:pt x="51" y="942"/>
                </a:lnTo>
                <a:lnTo>
                  <a:pt x="51" y="938"/>
                </a:lnTo>
                <a:lnTo>
                  <a:pt x="51" y="935"/>
                </a:lnTo>
                <a:lnTo>
                  <a:pt x="51" y="931"/>
                </a:lnTo>
                <a:lnTo>
                  <a:pt x="51" y="927"/>
                </a:lnTo>
                <a:lnTo>
                  <a:pt x="53" y="924"/>
                </a:lnTo>
                <a:lnTo>
                  <a:pt x="53" y="920"/>
                </a:lnTo>
                <a:lnTo>
                  <a:pt x="65" y="936"/>
                </a:lnTo>
                <a:lnTo>
                  <a:pt x="76" y="956"/>
                </a:lnTo>
                <a:lnTo>
                  <a:pt x="85" y="976"/>
                </a:lnTo>
                <a:lnTo>
                  <a:pt x="94" y="996"/>
                </a:lnTo>
                <a:lnTo>
                  <a:pt x="105" y="1016"/>
                </a:lnTo>
                <a:lnTo>
                  <a:pt x="114" y="1036"/>
                </a:lnTo>
                <a:lnTo>
                  <a:pt x="124" y="1058"/>
                </a:lnTo>
                <a:lnTo>
                  <a:pt x="133" y="1078"/>
                </a:lnTo>
                <a:lnTo>
                  <a:pt x="138" y="1089"/>
                </a:lnTo>
                <a:lnTo>
                  <a:pt x="144" y="1102"/>
                </a:lnTo>
                <a:lnTo>
                  <a:pt x="149" y="1114"/>
                </a:lnTo>
                <a:lnTo>
                  <a:pt x="153" y="1125"/>
                </a:lnTo>
                <a:lnTo>
                  <a:pt x="158" y="1138"/>
                </a:lnTo>
                <a:lnTo>
                  <a:pt x="164" y="1151"/>
                </a:lnTo>
                <a:lnTo>
                  <a:pt x="167" y="1162"/>
                </a:lnTo>
                <a:lnTo>
                  <a:pt x="171" y="1174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6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78"/>
                </a:lnTo>
                <a:lnTo>
                  <a:pt x="171" y="1180"/>
                </a:lnTo>
                <a:lnTo>
                  <a:pt x="173" y="1180"/>
                </a:lnTo>
                <a:lnTo>
                  <a:pt x="173" y="1180"/>
                </a:lnTo>
                <a:lnTo>
                  <a:pt x="173" y="1182"/>
                </a:lnTo>
                <a:lnTo>
                  <a:pt x="173" y="1182"/>
                </a:lnTo>
                <a:lnTo>
                  <a:pt x="171" y="1183"/>
                </a:lnTo>
                <a:lnTo>
                  <a:pt x="176" y="1191"/>
                </a:lnTo>
                <a:lnTo>
                  <a:pt x="180" y="1200"/>
                </a:lnTo>
                <a:lnTo>
                  <a:pt x="184" y="1207"/>
                </a:lnTo>
                <a:lnTo>
                  <a:pt x="187" y="1216"/>
                </a:lnTo>
                <a:lnTo>
                  <a:pt x="191" y="1225"/>
                </a:lnTo>
                <a:lnTo>
                  <a:pt x="195" y="1233"/>
                </a:lnTo>
                <a:lnTo>
                  <a:pt x="198" y="1242"/>
                </a:lnTo>
                <a:lnTo>
                  <a:pt x="200" y="1251"/>
                </a:lnTo>
                <a:lnTo>
                  <a:pt x="204" y="1253"/>
                </a:lnTo>
                <a:lnTo>
                  <a:pt x="206" y="1254"/>
                </a:lnTo>
                <a:lnTo>
                  <a:pt x="209" y="1254"/>
                </a:lnTo>
                <a:lnTo>
                  <a:pt x="213" y="1254"/>
                </a:lnTo>
                <a:lnTo>
                  <a:pt x="216" y="1254"/>
                </a:lnTo>
                <a:lnTo>
                  <a:pt x="220" y="1254"/>
                </a:lnTo>
                <a:lnTo>
                  <a:pt x="222" y="1254"/>
                </a:lnTo>
                <a:lnTo>
                  <a:pt x="226" y="1253"/>
                </a:lnTo>
                <a:lnTo>
                  <a:pt x="227" y="1253"/>
                </a:lnTo>
                <a:lnTo>
                  <a:pt x="229" y="1251"/>
                </a:lnTo>
                <a:lnTo>
                  <a:pt x="231" y="1251"/>
                </a:lnTo>
                <a:lnTo>
                  <a:pt x="233" y="1249"/>
                </a:lnTo>
                <a:lnTo>
                  <a:pt x="233" y="1247"/>
                </a:lnTo>
                <a:lnTo>
                  <a:pt x="233" y="1247"/>
                </a:lnTo>
                <a:lnTo>
                  <a:pt x="235" y="1245"/>
                </a:lnTo>
                <a:lnTo>
                  <a:pt x="235" y="1243"/>
                </a:lnTo>
                <a:lnTo>
                  <a:pt x="235" y="1218"/>
                </a:lnTo>
                <a:lnTo>
                  <a:pt x="231" y="1193"/>
                </a:lnTo>
                <a:lnTo>
                  <a:pt x="226" y="1169"/>
                </a:lnTo>
                <a:lnTo>
                  <a:pt x="220" y="1145"/>
                </a:lnTo>
                <a:lnTo>
                  <a:pt x="213" y="1124"/>
                </a:lnTo>
                <a:lnTo>
                  <a:pt x="206" y="1102"/>
                </a:lnTo>
                <a:lnTo>
                  <a:pt x="198" y="1080"/>
                </a:lnTo>
                <a:lnTo>
                  <a:pt x="191" y="1058"/>
                </a:lnTo>
                <a:lnTo>
                  <a:pt x="187" y="1047"/>
                </a:lnTo>
                <a:lnTo>
                  <a:pt x="184" y="1036"/>
                </a:lnTo>
                <a:lnTo>
                  <a:pt x="180" y="1025"/>
                </a:lnTo>
                <a:lnTo>
                  <a:pt x="176" y="1014"/>
                </a:lnTo>
                <a:lnTo>
                  <a:pt x="173" y="1004"/>
                </a:lnTo>
                <a:lnTo>
                  <a:pt x="169" y="993"/>
                </a:lnTo>
                <a:lnTo>
                  <a:pt x="165" y="982"/>
                </a:lnTo>
                <a:lnTo>
                  <a:pt x="162" y="969"/>
                </a:lnTo>
                <a:lnTo>
                  <a:pt x="155" y="947"/>
                </a:lnTo>
                <a:lnTo>
                  <a:pt x="149" y="925"/>
                </a:lnTo>
                <a:lnTo>
                  <a:pt x="142" y="902"/>
                </a:lnTo>
                <a:lnTo>
                  <a:pt x="136" y="880"/>
                </a:lnTo>
                <a:lnTo>
                  <a:pt x="131" y="856"/>
                </a:lnTo>
                <a:lnTo>
                  <a:pt x="125" y="835"/>
                </a:lnTo>
                <a:lnTo>
                  <a:pt x="120" y="811"/>
                </a:lnTo>
                <a:lnTo>
                  <a:pt x="114" y="787"/>
                </a:lnTo>
                <a:lnTo>
                  <a:pt x="109" y="766"/>
                </a:lnTo>
                <a:lnTo>
                  <a:pt x="104" y="742"/>
                </a:lnTo>
                <a:lnTo>
                  <a:pt x="98" y="718"/>
                </a:lnTo>
                <a:lnTo>
                  <a:pt x="94" y="695"/>
                </a:lnTo>
                <a:lnTo>
                  <a:pt x="89" y="671"/>
                </a:lnTo>
                <a:lnTo>
                  <a:pt x="84" y="647"/>
                </a:lnTo>
                <a:lnTo>
                  <a:pt x="80" y="624"/>
                </a:lnTo>
                <a:lnTo>
                  <a:pt x="76" y="600"/>
                </a:lnTo>
                <a:lnTo>
                  <a:pt x="73" y="578"/>
                </a:lnTo>
                <a:lnTo>
                  <a:pt x="69" y="558"/>
                </a:lnTo>
                <a:lnTo>
                  <a:pt x="65" y="538"/>
                </a:lnTo>
                <a:lnTo>
                  <a:pt x="62" y="517"/>
                </a:lnTo>
                <a:lnTo>
                  <a:pt x="60" y="497"/>
                </a:lnTo>
                <a:lnTo>
                  <a:pt x="56" y="475"/>
                </a:lnTo>
                <a:lnTo>
                  <a:pt x="54" y="455"/>
                </a:lnTo>
                <a:lnTo>
                  <a:pt x="54" y="433"/>
                </a:lnTo>
                <a:lnTo>
                  <a:pt x="54" y="433"/>
                </a:lnTo>
                <a:lnTo>
                  <a:pt x="54" y="433"/>
                </a:lnTo>
                <a:lnTo>
                  <a:pt x="54" y="433"/>
                </a:lnTo>
                <a:lnTo>
                  <a:pt x="54" y="431"/>
                </a:lnTo>
                <a:lnTo>
                  <a:pt x="54" y="431"/>
                </a:lnTo>
                <a:lnTo>
                  <a:pt x="56" y="431"/>
                </a:lnTo>
                <a:lnTo>
                  <a:pt x="56" y="431"/>
                </a:lnTo>
                <a:lnTo>
                  <a:pt x="56" y="431"/>
                </a:lnTo>
                <a:lnTo>
                  <a:pt x="65" y="451"/>
                </a:lnTo>
                <a:lnTo>
                  <a:pt x="74" y="471"/>
                </a:lnTo>
                <a:lnTo>
                  <a:pt x="82" y="493"/>
                </a:lnTo>
                <a:lnTo>
                  <a:pt x="89" y="513"/>
                </a:lnTo>
                <a:lnTo>
                  <a:pt x="96" y="535"/>
                </a:lnTo>
                <a:lnTo>
                  <a:pt x="104" y="557"/>
                </a:lnTo>
                <a:lnTo>
                  <a:pt x="111" y="578"/>
                </a:lnTo>
                <a:lnTo>
                  <a:pt x="120" y="600"/>
                </a:lnTo>
                <a:lnTo>
                  <a:pt x="127" y="622"/>
                </a:lnTo>
                <a:lnTo>
                  <a:pt x="135" y="644"/>
                </a:lnTo>
                <a:lnTo>
                  <a:pt x="142" y="664"/>
                </a:lnTo>
                <a:lnTo>
                  <a:pt x="149" y="686"/>
                </a:lnTo>
                <a:lnTo>
                  <a:pt x="158" y="707"/>
                </a:lnTo>
                <a:lnTo>
                  <a:pt x="165" y="727"/>
                </a:lnTo>
                <a:lnTo>
                  <a:pt x="175" y="749"/>
                </a:lnTo>
                <a:lnTo>
                  <a:pt x="184" y="769"/>
                </a:lnTo>
                <a:lnTo>
                  <a:pt x="185" y="775"/>
                </a:lnTo>
                <a:lnTo>
                  <a:pt x="189" y="780"/>
                </a:lnTo>
                <a:lnTo>
                  <a:pt x="193" y="785"/>
                </a:lnTo>
                <a:lnTo>
                  <a:pt x="195" y="791"/>
                </a:lnTo>
                <a:lnTo>
                  <a:pt x="198" y="796"/>
                </a:lnTo>
                <a:lnTo>
                  <a:pt x="204" y="800"/>
                </a:lnTo>
                <a:lnTo>
                  <a:pt x="209" y="802"/>
                </a:lnTo>
                <a:lnTo>
                  <a:pt x="215" y="804"/>
                </a:lnTo>
                <a:lnTo>
                  <a:pt x="216" y="804"/>
                </a:lnTo>
                <a:lnTo>
                  <a:pt x="218" y="804"/>
                </a:lnTo>
                <a:lnTo>
                  <a:pt x="220" y="805"/>
                </a:lnTo>
                <a:lnTo>
                  <a:pt x="222" y="805"/>
                </a:lnTo>
                <a:lnTo>
                  <a:pt x="224" y="805"/>
                </a:lnTo>
                <a:lnTo>
                  <a:pt x="226" y="805"/>
                </a:lnTo>
                <a:lnTo>
                  <a:pt x="227" y="805"/>
                </a:lnTo>
                <a:lnTo>
                  <a:pt x="229" y="805"/>
                </a:lnTo>
                <a:lnTo>
                  <a:pt x="242" y="804"/>
                </a:lnTo>
                <a:lnTo>
                  <a:pt x="240" y="780"/>
                </a:lnTo>
                <a:lnTo>
                  <a:pt x="236" y="756"/>
                </a:lnTo>
                <a:lnTo>
                  <a:pt x="231" y="735"/>
                </a:lnTo>
                <a:lnTo>
                  <a:pt x="226" y="711"/>
                </a:lnTo>
                <a:lnTo>
                  <a:pt x="218" y="689"/>
                </a:lnTo>
                <a:lnTo>
                  <a:pt x="213" y="666"/>
                </a:lnTo>
                <a:lnTo>
                  <a:pt x="207" y="642"/>
                </a:lnTo>
                <a:lnTo>
                  <a:pt x="202" y="620"/>
                </a:lnTo>
                <a:lnTo>
                  <a:pt x="198" y="602"/>
                </a:lnTo>
                <a:lnTo>
                  <a:pt x="195" y="586"/>
                </a:lnTo>
                <a:lnTo>
                  <a:pt x="191" y="569"/>
                </a:lnTo>
                <a:lnTo>
                  <a:pt x="187" y="553"/>
                </a:lnTo>
                <a:lnTo>
                  <a:pt x="185" y="535"/>
                </a:lnTo>
                <a:lnTo>
                  <a:pt x="184" y="518"/>
                </a:lnTo>
                <a:lnTo>
                  <a:pt x="182" y="500"/>
                </a:lnTo>
                <a:lnTo>
                  <a:pt x="180" y="482"/>
                </a:lnTo>
                <a:lnTo>
                  <a:pt x="189" y="504"/>
                </a:lnTo>
                <a:lnTo>
                  <a:pt x="196" y="524"/>
                </a:lnTo>
                <a:lnTo>
                  <a:pt x="204" y="546"/>
                </a:lnTo>
                <a:lnTo>
                  <a:pt x="211" y="567"/>
                </a:lnTo>
                <a:lnTo>
                  <a:pt x="218" y="589"/>
                </a:lnTo>
                <a:lnTo>
                  <a:pt x="226" y="609"/>
                </a:lnTo>
                <a:lnTo>
                  <a:pt x="235" y="631"/>
                </a:lnTo>
                <a:lnTo>
                  <a:pt x="244" y="653"/>
                </a:lnTo>
                <a:lnTo>
                  <a:pt x="247" y="660"/>
                </a:lnTo>
                <a:lnTo>
                  <a:pt x="251" y="669"/>
                </a:lnTo>
                <a:lnTo>
                  <a:pt x="255" y="678"/>
                </a:lnTo>
                <a:lnTo>
                  <a:pt x="256" y="687"/>
                </a:lnTo>
                <a:lnTo>
                  <a:pt x="260" y="696"/>
                </a:lnTo>
                <a:lnTo>
                  <a:pt x="266" y="704"/>
                </a:lnTo>
                <a:lnTo>
                  <a:pt x="271" y="711"/>
                </a:lnTo>
                <a:lnTo>
                  <a:pt x="278" y="718"/>
                </a:lnTo>
                <a:lnTo>
                  <a:pt x="284" y="718"/>
                </a:lnTo>
                <a:lnTo>
                  <a:pt x="287" y="720"/>
                </a:lnTo>
                <a:lnTo>
                  <a:pt x="293" y="720"/>
                </a:lnTo>
                <a:lnTo>
                  <a:pt x="297" y="722"/>
                </a:lnTo>
                <a:lnTo>
                  <a:pt x="302" y="722"/>
                </a:lnTo>
                <a:lnTo>
                  <a:pt x="306" y="722"/>
                </a:lnTo>
                <a:lnTo>
                  <a:pt x="311" y="724"/>
                </a:lnTo>
                <a:lnTo>
                  <a:pt x="315" y="724"/>
                </a:lnTo>
                <a:lnTo>
                  <a:pt x="317" y="724"/>
                </a:lnTo>
                <a:lnTo>
                  <a:pt x="318" y="722"/>
                </a:lnTo>
                <a:lnTo>
                  <a:pt x="318" y="720"/>
                </a:lnTo>
                <a:lnTo>
                  <a:pt x="320" y="718"/>
                </a:lnTo>
                <a:lnTo>
                  <a:pt x="320" y="716"/>
                </a:lnTo>
                <a:lnTo>
                  <a:pt x="320" y="715"/>
                </a:lnTo>
                <a:lnTo>
                  <a:pt x="318" y="713"/>
                </a:lnTo>
                <a:lnTo>
                  <a:pt x="318" y="711"/>
                </a:lnTo>
                <a:lnTo>
                  <a:pt x="313" y="687"/>
                </a:lnTo>
                <a:lnTo>
                  <a:pt x="306" y="666"/>
                </a:lnTo>
                <a:lnTo>
                  <a:pt x="298" y="644"/>
                </a:lnTo>
                <a:lnTo>
                  <a:pt x="291" y="622"/>
                </a:lnTo>
                <a:lnTo>
                  <a:pt x="284" y="602"/>
                </a:lnTo>
                <a:lnTo>
                  <a:pt x="275" y="580"/>
                </a:lnTo>
                <a:lnTo>
                  <a:pt x="267" y="560"/>
                </a:lnTo>
                <a:lnTo>
                  <a:pt x="258" y="538"/>
                </a:lnTo>
                <a:lnTo>
                  <a:pt x="251" y="517"/>
                </a:lnTo>
                <a:lnTo>
                  <a:pt x="246" y="495"/>
                </a:lnTo>
                <a:lnTo>
                  <a:pt x="238" y="473"/>
                </a:lnTo>
                <a:lnTo>
                  <a:pt x="231" y="449"/>
                </a:lnTo>
                <a:lnTo>
                  <a:pt x="226" y="428"/>
                </a:lnTo>
                <a:lnTo>
                  <a:pt x="220" y="404"/>
                </a:lnTo>
                <a:lnTo>
                  <a:pt x="215" y="382"/>
                </a:lnTo>
                <a:lnTo>
                  <a:pt x="209" y="357"/>
                </a:lnTo>
                <a:lnTo>
                  <a:pt x="204" y="337"/>
                </a:lnTo>
                <a:lnTo>
                  <a:pt x="200" y="317"/>
                </a:lnTo>
                <a:lnTo>
                  <a:pt x="196" y="298"/>
                </a:lnTo>
                <a:lnTo>
                  <a:pt x="193" y="277"/>
                </a:lnTo>
                <a:lnTo>
                  <a:pt x="189" y="257"/>
                </a:lnTo>
                <a:lnTo>
                  <a:pt x="185" y="237"/>
                </a:lnTo>
                <a:lnTo>
                  <a:pt x="182" y="217"/>
                </a:lnTo>
                <a:lnTo>
                  <a:pt x="180" y="195"/>
                </a:lnTo>
                <a:lnTo>
                  <a:pt x="189" y="215"/>
                </a:lnTo>
                <a:lnTo>
                  <a:pt x="198" y="237"/>
                </a:lnTo>
                <a:lnTo>
                  <a:pt x="204" y="258"/>
                </a:lnTo>
                <a:lnTo>
                  <a:pt x="211" y="280"/>
                </a:lnTo>
                <a:lnTo>
                  <a:pt x="216" y="302"/>
                </a:lnTo>
                <a:lnTo>
                  <a:pt x="224" y="326"/>
                </a:lnTo>
                <a:lnTo>
                  <a:pt x="229" y="348"/>
                </a:lnTo>
                <a:lnTo>
                  <a:pt x="238" y="369"/>
                </a:lnTo>
                <a:lnTo>
                  <a:pt x="246" y="391"/>
                </a:lnTo>
                <a:lnTo>
                  <a:pt x="253" y="413"/>
                </a:lnTo>
                <a:lnTo>
                  <a:pt x="260" y="435"/>
                </a:lnTo>
                <a:lnTo>
                  <a:pt x="267" y="457"/>
                </a:lnTo>
                <a:lnTo>
                  <a:pt x="275" y="478"/>
                </a:lnTo>
                <a:lnTo>
                  <a:pt x="284" y="500"/>
                </a:lnTo>
                <a:lnTo>
                  <a:pt x="291" y="522"/>
                </a:lnTo>
                <a:lnTo>
                  <a:pt x="298" y="544"/>
                </a:lnTo>
                <a:lnTo>
                  <a:pt x="302" y="549"/>
                </a:lnTo>
                <a:lnTo>
                  <a:pt x="307" y="553"/>
                </a:lnTo>
                <a:lnTo>
                  <a:pt x="315" y="555"/>
                </a:lnTo>
                <a:lnTo>
                  <a:pt x="320" y="557"/>
                </a:lnTo>
                <a:lnTo>
                  <a:pt x="327" y="558"/>
                </a:lnTo>
                <a:lnTo>
                  <a:pt x="335" y="558"/>
                </a:lnTo>
                <a:lnTo>
                  <a:pt x="342" y="560"/>
                </a:lnTo>
                <a:lnTo>
                  <a:pt x="347" y="560"/>
                </a:lnTo>
                <a:lnTo>
                  <a:pt x="349" y="560"/>
                </a:lnTo>
                <a:lnTo>
                  <a:pt x="351" y="560"/>
                </a:lnTo>
                <a:lnTo>
                  <a:pt x="353" y="560"/>
                </a:lnTo>
                <a:lnTo>
                  <a:pt x="353" y="558"/>
                </a:lnTo>
                <a:lnTo>
                  <a:pt x="355" y="558"/>
                </a:lnTo>
                <a:lnTo>
                  <a:pt x="355" y="558"/>
                </a:lnTo>
                <a:lnTo>
                  <a:pt x="357" y="558"/>
                </a:lnTo>
                <a:lnTo>
                  <a:pt x="357" y="558"/>
                </a:lnTo>
                <a:lnTo>
                  <a:pt x="357" y="557"/>
                </a:lnTo>
                <a:lnTo>
                  <a:pt x="358" y="557"/>
                </a:lnTo>
                <a:lnTo>
                  <a:pt x="358" y="557"/>
                </a:lnTo>
                <a:lnTo>
                  <a:pt x="358" y="555"/>
                </a:lnTo>
                <a:lnTo>
                  <a:pt x="360" y="555"/>
                </a:lnTo>
                <a:lnTo>
                  <a:pt x="360" y="555"/>
                </a:lnTo>
                <a:lnTo>
                  <a:pt x="360" y="555"/>
                </a:lnTo>
                <a:lnTo>
                  <a:pt x="360" y="553"/>
                </a:lnTo>
                <a:lnTo>
                  <a:pt x="358" y="537"/>
                </a:lnTo>
                <a:lnTo>
                  <a:pt x="355" y="520"/>
                </a:lnTo>
                <a:lnTo>
                  <a:pt x="349" y="506"/>
                </a:lnTo>
                <a:lnTo>
                  <a:pt x="346" y="489"/>
                </a:lnTo>
                <a:lnTo>
                  <a:pt x="340" y="473"/>
                </a:lnTo>
                <a:lnTo>
                  <a:pt x="337" y="457"/>
                </a:lnTo>
                <a:lnTo>
                  <a:pt x="335" y="440"/>
                </a:lnTo>
                <a:lnTo>
                  <a:pt x="333" y="422"/>
                </a:lnTo>
                <a:lnTo>
                  <a:pt x="338" y="429"/>
                </a:lnTo>
                <a:lnTo>
                  <a:pt x="344" y="435"/>
                </a:lnTo>
                <a:lnTo>
                  <a:pt x="351" y="438"/>
                </a:lnTo>
                <a:lnTo>
                  <a:pt x="358" y="442"/>
                </a:lnTo>
                <a:lnTo>
                  <a:pt x="368" y="444"/>
                </a:lnTo>
                <a:lnTo>
                  <a:pt x="375" y="446"/>
                </a:lnTo>
                <a:lnTo>
                  <a:pt x="384" y="447"/>
                </a:lnTo>
                <a:lnTo>
                  <a:pt x="393" y="447"/>
                </a:lnTo>
                <a:lnTo>
                  <a:pt x="393" y="447"/>
                </a:lnTo>
                <a:lnTo>
                  <a:pt x="393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7"/>
                </a:lnTo>
                <a:lnTo>
                  <a:pt x="395" y="446"/>
                </a:lnTo>
                <a:lnTo>
                  <a:pt x="395" y="446"/>
                </a:lnTo>
                <a:lnTo>
                  <a:pt x="397" y="440"/>
                </a:lnTo>
                <a:lnTo>
                  <a:pt x="398" y="433"/>
                </a:lnTo>
                <a:lnTo>
                  <a:pt x="398" y="426"/>
                </a:lnTo>
                <a:lnTo>
                  <a:pt x="397" y="418"/>
                </a:lnTo>
                <a:lnTo>
                  <a:pt x="397" y="413"/>
                </a:lnTo>
                <a:lnTo>
                  <a:pt x="395" y="404"/>
                </a:lnTo>
                <a:lnTo>
                  <a:pt x="395" y="397"/>
                </a:lnTo>
                <a:lnTo>
                  <a:pt x="393" y="389"/>
                </a:lnTo>
                <a:lnTo>
                  <a:pt x="389" y="364"/>
                </a:lnTo>
                <a:lnTo>
                  <a:pt x="386" y="340"/>
                </a:lnTo>
                <a:lnTo>
                  <a:pt x="382" y="315"/>
                </a:lnTo>
                <a:lnTo>
                  <a:pt x="378" y="289"/>
                </a:lnTo>
                <a:lnTo>
                  <a:pt x="377" y="266"/>
                </a:lnTo>
                <a:lnTo>
                  <a:pt x="373" y="240"/>
                </a:lnTo>
                <a:lnTo>
                  <a:pt x="371" y="217"/>
                </a:lnTo>
                <a:lnTo>
                  <a:pt x="371" y="191"/>
                </a:lnTo>
                <a:lnTo>
                  <a:pt x="371" y="177"/>
                </a:lnTo>
                <a:lnTo>
                  <a:pt x="371" y="162"/>
                </a:lnTo>
                <a:lnTo>
                  <a:pt x="371" y="149"/>
                </a:lnTo>
                <a:lnTo>
                  <a:pt x="373" y="135"/>
                </a:lnTo>
                <a:lnTo>
                  <a:pt x="373" y="122"/>
                </a:lnTo>
                <a:lnTo>
                  <a:pt x="375" y="109"/>
                </a:lnTo>
                <a:lnTo>
                  <a:pt x="375" y="95"/>
                </a:lnTo>
                <a:lnTo>
                  <a:pt x="377" y="82"/>
                </a:lnTo>
                <a:lnTo>
                  <a:pt x="386" y="89"/>
                </a:lnTo>
                <a:lnTo>
                  <a:pt x="395" y="99"/>
                </a:lnTo>
                <a:lnTo>
                  <a:pt x="402" y="108"/>
                </a:lnTo>
                <a:lnTo>
                  <a:pt x="411" y="119"/>
                </a:lnTo>
                <a:lnTo>
                  <a:pt x="418" y="129"/>
                </a:lnTo>
                <a:lnTo>
                  <a:pt x="426" y="142"/>
                </a:lnTo>
                <a:lnTo>
                  <a:pt x="435" y="153"/>
                </a:lnTo>
                <a:lnTo>
                  <a:pt x="442" y="166"/>
                </a:lnTo>
                <a:lnTo>
                  <a:pt x="455" y="186"/>
                </a:lnTo>
                <a:lnTo>
                  <a:pt x="466" y="208"/>
                </a:lnTo>
                <a:lnTo>
                  <a:pt x="475" y="228"/>
                </a:lnTo>
                <a:lnTo>
                  <a:pt x="486" y="246"/>
                </a:lnTo>
                <a:lnTo>
                  <a:pt x="495" y="266"/>
                </a:lnTo>
                <a:lnTo>
                  <a:pt x="504" y="286"/>
                </a:lnTo>
                <a:lnTo>
                  <a:pt x="513" y="306"/>
                </a:lnTo>
                <a:lnTo>
                  <a:pt x="524" y="324"/>
                </a:lnTo>
                <a:lnTo>
                  <a:pt x="533" y="346"/>
                </a:lnTo>
                <a:lnTo>
                  <a:pt x="544" y="366"/>
                </a:lnTo>
                <a:lnTo>
                  <a:pt x="553" y="388"/>
                </a:lnTo>
                <a:lnTo>
                  <a:pt x="562" y="408"/>
                </a:lnTo>
                <a:lnTo>
                  <a:pt x="571" y="429"/>
                </a:lnTo>
                <a:lnTo>
                  <a:pt x="580" y="449"/>
                </a:lnTo>
                <a:lnTo>
                  <a:pt x="588" y="471"/>
                </a:lnTo>
                <a:lnTo>
                  <a:pt x="595" y="491"/>
                </a:lnTo>
                <a:lnTo>
                  <a:pt x="602" y="506"/>
                </a:lnTo>
                <a:lnTo>
                  <a:pt x="608" y="520"/>
                </a:lnTo>
                <a:lnTo>
                  <a:pt x="613" y="535"/>
                </a:lnTo>
                <a:lnTo>
                  <a:pt x="619" y="551"/>
                </a:lnTo>
                <a:lnTo>
                  <a:pt x="624" y="566"/>
                </a:lnTo>
                <a:lnTo>
                  <a:pt x="630" y="580"/>
                </a:lnTo>
                <a:lnTo>
                  <a:pt x="635" y="595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2" y="609"/>
                </a:lnTo>
                <a:lnTo>
                  <a:pt x="644" y="607"/>
                </a:lnTo>
                <a:lnTo>
                  <a:pt x="642" y="607"/>
                </a:lnTo>
                <a:close/>
              </a:path>
            </a:pathLst>
          </a:custGeom>
          <a:solidFill>
            <a:srgbClr val="00006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19360" y="3156120"/>
            <a:ext cx="47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Times New Roman"/>
              </a:rPr>
              <a:t>Aquí va el </a:t>
            </a:r>
            <a:br>
              <a:rPr sz="3600"/>
            </a:br>
            <a:r>
              <a:rPr b="1" lang="es-MX" sz="3600" spc="-1" strike="noStrike">
                <a:solidFill>
                  <a:srgbClr val="ffffcc"/>
                </a:solidFill>
                <a:latin typeface="Times New Roman"/>
              </a:rPr>
              <a:t>subtítulo o sub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46200" y="1503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sta diapositiva es para insertar gráf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0" cy="651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28760" y="76320"/>
            <a:ext cx="3105000" cy="1873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79520" y="4113360"/>
            <a:ext cx="4603680" cy="1067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2"/>
              </a:rPr>
              <a:t>UASLP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3"/>
              </a:rPr>
              <a:t>Complexus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4"/>
              </a:rPr>
              <a:t>Univ. de Guanajuato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5"/>
              </a:rPr>
              <a:t>ANUIES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6"/>
              </a:rPr>
              <a:t>CESU-UNAM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  </a:t>
            </a: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7"/>
              </a:rPr>
              <a:t>SEP-SESIC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y SEIT,  </a:t>
            </a: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8"/>
              </a:rPr>
              <a:t>SEMARNAT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s-MX" sz="1600" spc="-1" strike="noStrike" u="sng">
                <a:solidFill>
                  <a:srgbClr val="8fa4e1"/>
                </a:solidFill>
                <a:uFillTx/>
                <a:latin typeface="Arial Narrow"/>
                <a:hlinkClick r:id="rId9"/>
              </a:rPr>
              <a:t>SEGAM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-Gob. Edo SLP, Conacyt-SIGHO, ANAAE, CIIDET,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ANEA, A.C., CEC-UIC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08160" y="4087800"/>
            <a:ext cx="3160080" cy="201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8fa4e1"/>
                </a:solidFill>
                <a:latin typeface="Arial"/>
              </a:rPr>
              <a:t>Créditos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seño del logotipo y otras imágenes: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Luz María Hernández Nieto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iseño de la plantilla: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Luz María Nieto Carave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Modificada por:</a:t>
            </a:r>
            <a:br>
              <a:rPr sz="1400"/>
            </a:b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(Pon aquí tu nomb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8600" y="5630760"/>
            <a:ext cx="45781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ambiental.uaslp.mx/foroslp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0"/>
          <a:stretch/>
        </p:blipFill>
        <p:spPr>
          <a:xfrm>
            <a:off x="457200" y="2176560"/>
            <a:ext cx="3392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1:33:00Z</dcterms:created>
  <dc:creator>Luz María Nieto Caraveo</dc:creator>
  <dc:description>Plantilla opcional para ponentes del I Foro Nacional sobre la Incorporación de la Perspectiva Ambiental en la Formación Técnica y Profesional.</dc:description>
  <dc:language>en-US</dc:language>
  <cp:lastModifiedBy>Lmnieto</cp:lastModifiedBy>
  <dcterms:modified xsi:type="dcterms:W3CDTF">2003-05-26T01:48:28Z</dcterms:modified>
  <cp:revision>55</cp:revision>
  <dc:subject/>
  <dc:title>Tema "Matices"</dc:title>
</cp:coreProperties>
</file>