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52560" y="209520"/>
            <a:ext cx="7524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39600" y="1197000"/>
            <a:ext cx="7624440" cy="253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39600" y="3974040"/>
            <a:ext cx="7624440" cy="253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52560" y="209520"/>
            <a:ext cx="7524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39600" y="1197000"/>
            <a:ext cx="3720600" cy="253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46680" y="1197000"/>
            <a:ext cx="3720600" cy="253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39600" y="3974040"/>
            <a:ext cx="3720600" cy="253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46680" y="3974040"/>
            <a:ext cx="3720600" cy="253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52560" y="209520"/>
            <a:ext cx="7524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39600" y="1197000"/>
            <a:ext cx="2454840" cy="253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17560" y="1197000"/>
            <a:ext cx="2454840" cy="253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95520" y="1197000"/>
            <a:ext cx="2454840" cy="253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39600" y="3974040"/>
            <a:ext cx="2454840" cy="253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17560" y="3974040"/>
            <a:ext cx="2454840" cy="253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95520" y="3974040"/>
            <a:ext cx="2454840" cy="253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52560" y="209520"/>
            <a:ext cx="7524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939600" y="1197000"/>
            <a:ext cx="7624440" cy="53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99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52560" y="209520"/>
            <a:ext cx="7524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39600" y="1197000"/>
            <a:ext cx="7624440" cy="53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52560" y="209520"/>
            <a:ext cx="7524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39600" y="1197000"/>
            <a:ext cx="3720600" cy="53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46680" y="1197000"/>
            <a:ext cx="3720600" cy="53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52560" y="209520"/>
            <a:ext cx="7524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52560" y="209520"/>
            <a:ext cx="7524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99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52560" y="209520"/>
            <a:ext cx="7524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39600" y="1197000"/>
            <a:ext cx="3720600" cy="253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46680" y="1197000"/>
            <a:ext cx="3720600" cy="53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39600" y="3974040"/>
            <a:ext cx="3720600" cy="253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560" y="209520"/>
            <a:ext cx="7524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39600" y="1197000"/>
            <a:ext cx="7624440" cy="53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99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52560" y="209520"/>
            <a:ext cx="7524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39600" y="1197000"/>
            <a:ext cx="3720600" cy="53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46680" y="1197000"/>
            <a:ext cx="3720600" cy="253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46680" y="3974040"/>
            <a:ext cx="3720600" cy="253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52560" y="209520"/>
            <a:ext cx="7524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39600" y="1197000"/>
            <a:ext cx="3720600" cy="253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46680" y="1197000"/>
            <a:ext cx="3720600" cy="253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39600" y="3974040"/>
            <a:ext cx="7624440" cy="253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52560" y="209520"/>
            <a:ext cx="7524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39600" y="1197000"/>
            <a:ext cx="7624440" cy="253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939600" y="3974040"/>
            <a:ext cx="7624440" cy="253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52560" y="209520"/>
            <a:ext cx="7524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39600" y="1197000"/>
            <a:ext cx="3720600" cy="253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46680" y="1197000"/>
            <a:ext cx="3720600" cy="253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39600" y="3974040"/>
            <a:ext cx="3720600" cy="253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846680" y="3974040"/>
            <a:ext cx="3720600" cy="253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52560" y="209520"/>
            <a:ext cx="7524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39600" y="1197000"/>
            <a:ext cx="2454840" cy="253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17560" y="1197000"/>
            <a:ext cx="2454840" cy="253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95520" y="1197000"/>
            <a:ext cx="2454840" cy="253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939600" y="3974040"/>
            <a:ext cx="2454840" cy="253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17560" y="3974040"/>
            <a:ext cx="2454840" cy="253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95520" y="3974040"/>
            <a:ext cx="2454840" cy="253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52560" y="209520"/>
            <a:ext cx="7524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39600" y="1197000"/>
            <a:ext cx="7624440" cy="53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52560" y="209520"/>
            <a:ext cx="7524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39600" y="1197000"/>
            <a:ext cx="3720600" cy="53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46680" y="1197000"/>
            <a:ext cx="3720600" cy="53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52560" y="209520"/>
            <a:ext cx="7524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52560" y="209520"/>
            <a:ext cx="7524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99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560" y="209520"/>
            <a:ext cx="7524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39600" y="1197000"/>
            <a:ext cx="3720600" cy="253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46680" y="1197000"/>
            <a:ext cx="3720600" cy="53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39600" y="3974040"/>
            <a:ext cx="3720600" cy="253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560" y="209520"/>
            <a:ext cx="7524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39600" y="1197000"/>
            <a:ext cx="3720600" cy="53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46680" y="1197000"/>
            <a:ext cx="3720600" cy="253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46680" y="3974040"/>
            <a:ext cx="3720600" cy="253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560" y="209520"/>
            <a:ext cx="7524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39600" y="1197000"/>
            <a:ext cx="3720600" cy="253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46680" y="1197000"/>
            <a:ext cx="3720600" cy="253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39600" y="3974040"/>
            <a:ext cx="7624440" cy="253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6762600">
            <a:off x="4656600" y="5527080"/>
            <a:ext cx="4749840" cy="4224240"/>
          </a:xfrm>
          <a:prstGeom prst="roundRect">
            <a:avLst>
              <a:gd name="adj" fmla="val 551"/>
            </a:avLst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3916440"/>
            <a:ext cx="3095640" cy="2941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>
          <a:xfrm>
            <a:off x="5268960" y="6589800"/>
            <a:ext cx="3875040" cy="2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99"/>
                </a:solidFill>
                <a:latin typeface="Arial"/>
              </a:rPr>
              <a:t>9 al 13 de junio de 2003 – UASLP - San Luis Potosí, SLP, Méxic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952560" y="209520"/>
            <a:ext cx="7524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939600" y="1197000"/>
            <a:ext cx="7624440" cy="53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"/>
          <p:cNvSpPr/>
          <p:nvPr/>
        </p:nvSpPr>
        <p:spPr>
          <a:xfrm>
            <a:off x="5943600" y="-571680"/>
            <a:ext cx="4152960" cy="365796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3873800">
            <a:off x="-3156480" y="491040"/>
            <a:ext cx="4749840" cy="4224240"/>
          </a:xfrm>
          <a:prstGeom prst="roundRect">
            <a:avLst>
              <a:gd name="adj" fmla="val 16667"/>
            </a:avLst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349880" cy="4172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99920" y="2997360"/>
            <a:ext cx="56055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2"/>
          </p:nvPr>
        </p:nvSpPr>
        <p:spPr>
          <a:xfrm>
            <a:off x="6275520" y="6165720"/>
            <a:ext cx="2830320" cy="2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9 al 13 de junio de 20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3"/>
          </p:nvPr>
        </p:nvSpPr>
        <p:spPr>
          <a:xfrm>
            <a:off x="5673600" y="6481800"/>
            <a:ext cx="3432240" cy="2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UASLP, San Luis Potosí, SLP, Méx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rot="8203200">
            <a:off x="1333440" y="5029200"/>
            <a:ext cx="4152960" cy="365760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2296800">
            <a:off x="7157520" y="287280"/>
            <a:ext cx="4749840" cy="422424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461880" y="4140360"/>
            <a:ext cx="2428920" cy="10270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rot="17986800">
            <a:off x="3421440" y="-3292920"/>
            <a:ext cx="4749840" cy="4224240"/>
          </a:xfrm>
          <a:prstGeom prst="roundRect">
            <a:avLst>
              <a:gd name="adj" fmla="val 16667"/>
            </a:avLst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 Narrow"/>
              </a:rPr>
              <a:t>Click to edit the outline text format</a:t>
            </a:r>
            <a:endParaRPr b="1" lang="en-US" sz="2800" spc="-1" strike="noStrike">
              <a:solidFill>
                <a:srgbClr val="ff9900"/>
              </a:solidFill>
              <a:latin typeface="Arial Narrow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 Narrow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ambiental.uaslp.mx/foroslp/desc.htm" TargetMode="External"/><Relationship Id="rId2" Type="http://schemas.openxmlformats.org/officeDocument/2006/relationships/hyperlink" Target="http://mx.groups.yahoo.com/group/pots/links" TargetMode="External"/><Relationship Id="rId3" Type="http://schemas.openxmlformats.org/officeDocument/2006/relationships/hyperlink" Target="http://enlaces.ucv.cl/pags/enla_rura/docs/6PowerPoint.pdf" TargetMode="External"/><Relationship Id="rId4" Type="http://schemas.openxmlformats.org/officeDocument/2006/relationships/hyperlink" Target="http://enlaces.ucv.cl/pags/enla_rura/docs/6PowerPoint.pdf" TargetMode="External"/><Relationship Id="rId5" Type="http://schemas.openxmlformats.org/officeDocument/2006/relationships/hyperlink" Target="http://enlaces.ucv.cl/pags/enla_rura/docs/6PowerPoint.pdf" TargetMode="External"/><Relationship Id="rId6" Type="http://schemas.openxmlformats.org/officeDocument/2006/relationships/hyperlink" Target="http://enlaces.ucv.cl/pags/enla_rura/docs/6PowerPoint.pdf" TargetMode="External"/><Relationship Id="rId7" Type="http://schemas.openxmlformats.org/officeDocument/2006/relationships/hyperlink" Target="http://enlaces.ucv.cl/pags/enla_rura/docs/6PowerPoint.pdf" TargetMode="External"/><Relationship Id="rId8" Type="http://schemas.openxmlformats.org/officeDocument/2006/relationships/hyperlink" Target="http://enlaces.ucv.cl/pags/enla_rura/docs/6PowerPoint.pdf" TargetMode="External"/><Relationship Id="rId9" Type="http://schemas.openxmlformats.org/officeDocument/2006/relationships/hyperlink" Target="http://enlaces.ucv.cl/pags/enla_rura/docs/6PowerPoint.pdf" TargetMode="External"/><Relationship Id="rId10" Type="http://schemas.openxmlformats.org/officeDocument/2006/relationships/hyperlink" Target="http://enlaces.ucv.cl/pags/enla_rura/docs/6PowerPoint.pdf" TargetMode="External"/><Relationship Id="rId11" Type="http://schemas.openxmlformats.org/officeDocument/2006/relationships/hyperlink" Target="http://enlaces.ucv.cl/pags/enla_rura/docs/6PowerPoint.pdf" TargetMode="External"/><Relationship Id="rId12" Type="http://schemas.openxmlformats.org/officeDocument/2006/relationships/hyperlink" Target="http://enlaces.ucv.cl/pags/enla_rura/docs/6PowerPoint.pdf" TargetMode="External"/><Relationship Id="rId13" Type="http://schemas.openxmlformats.org/officeDocument/2006/relationships/hyperlink" Target="http://enlaces.ucv.cl/pags/enla_rura/docs/6PowerPoint.pdf" TargetMode="External"/><Relationship Id="rId14" Type="http://schemas.openxmlformats.org/officeDocument/2006/relationships/hyperlink" Target="http://enlaces.ucv.cl/pags/enla_rura/docs/6PowerPoint.pdf" TargetMode="External"/><Relationship Id="rId15" Type="http://schemas.openxmlformats.org/officeDocument/2006/relationships/hyperlink" Target="http://enlaces.ucv.cl/pags/enla_rura/docs/6PowerPoint.pdf" TargetMode="External"/><Relationship Id="rId16" Type="http://schemas.openxmlformats.org/officeDocument/2006/relationships/hyperlink" Target="http://enlaces.ucv.cl/pags/enla_rura/docs/6PowerPoint.pdf" TargetMode="External"/><Relationship Id="rId1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http://ambiental.uaslp.mx/" TargetMode="External"/><Relationship Id="rId3" Type="http://schemas.openxmlformats.org/officeDocument/2006/relationships/hyperlink" Target="http://www.ambiental.ws/complexus" TargetMode="External"/><Relationship Id="rId4" Type="http://schemas.openxmlformats.org/officeDocument/2006/relationships/hyperlink" Target="http://www.ugto.mx/pimaug/" TargetMode="External"/><Relationship Id="rId5" Type="http://schemas.openxmlformats.org/officeDocument/2006/relationships/hyperlink" Target="http://www.anuies.mx/" TargetMode="External"/><Relationship Id="rId6" Type="http://schemas.openxmlformats.org/officeDocument/2006/relationships/hyperlink" Target="http://www.unam.mx/cesu/" TargetMode="External"/><Relationship Id="rId7" Type="http://schemas.openxmlformats.org/officeDocument/2006/relationships/hyperlink" Target="http://www.sesic.sep.gob.mx/" TargetMode="External"/><Relationship Id="rId8" Type="http://schemas.openxmlformats.org/officeDocument/2006/relationships/hyperlink" Target="http://www.semarnat.gob.mx/" TargetMode="External"/><Relationship Id="rId9" Type="http://schemas.openxmlformats.org/officeDocument/2006/relationships/hyperlink" Target="http://www.segam.gob.mx/" TargetMode="External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48760" y="200160"/>
            <a:ext cx="483876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Instrucciones</a:t>
            </a:r>
            <a:endParaRPr b="1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54160" y="996480"/>
            <a:ext cx="732312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 Narrow"/>
              </a:rPr>
              <a:t>Cuando hayas terminado de revisar estas instrucciones, puedes borrar la página.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 Narrow"/>
              </a:rPr>
              <a:t>Esta plantilla contiene cuatro tipos de diapositivas: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 Narrow"/>
              </a:rPr>
              <a:t>1 para título principal (incorporada al “patrón”)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 Narrow"/>
              </a:rPr>
              <a:t>1 para texto normal (idem)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 Narrow"/>
              </a:rPr>
              <a:t>1 para transición entre temas (necesitas copiar y pegar para crear varias)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 Narrow"/>
              </a:rPr>
              <a:t>1 para colocar gráficas o esquemas (idem)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 Narrow"/>
              </a:rPr>
              <a:t>Además contiene 13 combinaciones de colores que se ajustan automáticamente, incluyendo el logotipo (Menú “ver”, opción “barra de tareas”, ventana “estilo de diapositiva”, opción “combinaciones de colores”)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 Narrow"/>
              </a:rPr>
              <a:t>Eres libre de realizar los cambios que gustes. En ese caso te recomendamos: 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 Narrow"/>
              </a:rPr>
              <a:t>Ajustar las combinaciones de colores para homogeneizar los resultados en todas las diapositivas.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 Narrow"/>
              </a:rPr>
              <a:t>No mezclar demasiados colores y demasiados tipos de letras. 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 Narrow"/>
              </a:rPr>
              <a:t>Ajustar la tipografía directamente sobre el patrón (Menú “ver”, opción “patrón”, etc. Los patrones son las formatos básicos en que se basan todas las diapositivas y están “detrás” de todas las demás.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 Narrow"/>
              </a:rPr>
              <a:t>Las imágenes que están fuera de cuadro no se proyectarán. Para modificarlas, es necesario ir a la vista “patrón” en menú “Ver”, opción “patrón de diapositivas”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 Narrow"/>
              </a:rPr>
              <a:t>Más plantillas, tips, etc. aquí: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 u="sng">
                <a:solidFill>
                  <a:srgbClr val="ff9900"/>
                </a:solidFill>
                <a:uFillTx/>
                <a:latin typeface="Arial Narrow"/>
                <a:hlinkClick r:id="rId1"/>
              </a:rPr>
              <a:t>http://ambiental.uaslp.mx/foroslp/desc.htm</a:t>
            </a:r>
            <a:r>
              <a:rPr b="1" lang="es-MX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 u="sng">
                <a:solidFill>
                  <a:srgbClr val="ff9900"/>
                </a:solidFill>
                <a:uFillTx/>
                <a:latin typeface="Arial Narrow"/>
                <a:hlinkClick r:id="rId2"/>
              </a:rPr>
              <a:t>http://mx.groups.yahoo.com/group/pots/links</a:t>
            </a:r>
            <a:r>
              <a:rPr b="1" lang="es-MX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 Narrow"/>
              </a:rPr>
              <a:t>Te recomendamos este excelente manual sobre PowerPoint: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 u="sng">
                <a:solidFill>
                  <a:srgbClr val="ff9900"/>
                </a:solidFill>
                <a:uFillTx/>
                <a:latin typeface="Arial Narrow"/>
                <a:hlinkClick r:id="rId3"/>
              </a:rPr>
              <a:t>http</a:t>
            </a:r>
            <a:r>
              <a:rPr b="1" lang="es-MX" sz="1600" spc="-1" strike="noStrike" u="sng">
                <a:solidFill>
                  <a:srgbClr val="ff9900"/>
                </a:solidFill>
                <a:uFillTx/>
                <a:latin typeface="Arial Narrow"/>
                <a:hlinkClick r:id="rId4"/>
              </a:rPr>
              <a:t>://</a:t>
            </a:r>
            <a:r>
              <a:rPr b="1" lang="es-MX" sz="1600" spc="-1" strike="noStrike" u="sng">
                <a:solidFill>
                  <a:srgbClr val="ff9900"/>
                </a:solidFill>
                <a:uFillTx/>
                <a:latin typeface="Arial Narrow"/>
                <a:hlinkClick r:id="rId5"/>
              </a:rPr>
              <a:t>enlaces.ucv.cl</a:t>
            </a:r>
            <a:r>
              <a:rPr b="1" lang="es-MX" sz="1600" spc="-1" strike="noStrike" u="sng">
                <a:solidFill>
                  <a:srgbClr val="ff9900"/>
                </a:solidFill>
                <a:uFillTx/>
                <a:latin typeface="Arial Narrow"/>
                <a:hlinkClick r:id="rId6"/>
              </a:rPr>
              <a:t>/</a:t>
            </a:r>
            <a:r>
              <a:rPr b="1" lang="es-MX" sz="1600" spc="-1" strike="noStrike" u="sng">
                <a:solidFill>
                  <a:srgbClr val="ff9900"/>
                </a:solidFill>
                <a:uFillTx/>
                <a:latin typeface="Arial Narrow"/>
                <a:hlinkClick r:id="rId7"/>
              </a:rPr>
              <a:t>pags</a:t>
            </a:r>
            <a:r>
              <a:rPr b="1" lang="es-MX" sz="1600" spc="-1" strike="noStrike" u="sng">
                <a:solidFill>
                  <a:srgbClr val="ff9900"/>
                </a:solidFill>
                <a:uFillTx/>
                <a:latin typeface="Arial Narrow"/>
                <a:hlinkClick r:id="rId8"/>
              </a:rPr>
              <a:t>/</a:t>
            </a:r>
            <a:r>
              <a:rPr b="1" lang="es-MX" sz="1600" spc="-1" strike="noStrike" u="sng">
                <a:solidFill>
                  <a:srgbClr val="ff9900"/>
                </a:solidFill>
                <a:uFillTx/>
                <a:latin typeface="Arial Narrow"/>
                <a:hlinkClick r:id="rId9"/>
              </a:rPr>
              <a:t>enla_rura</a:t>
            </a:r>
            <a:r>
              <a:rPr b="1" lang="es-MX" sz="1600" spc="-1" strike="noStrike" u="sng">
                <a:solidFill>
                  <a:srgbClr val="ff9900"/>
                </a:solidFill>
                <a:uFillTx/>
                <a:latin typeface="Arial Narrow"/>
                <a:hlinkClick r:id="rId10"/>
              </a:rPr>
              <a:t>/</a:t>
            </a:r>
            <a:r>
              <a:rPr b="1" lang="es-MX" sz="1600" spc="-1" strike="noStrike" u="sng">
                <a:solidFill>
                  <a:srgbClr val="ff9900"/>
                </a:solidFill>
                <a:uFillTx/>
                <a:latin typeface="Arial Narrow"/>
                <a:hlinkClick r:id="rId11"/>
              </a:rPr>
              <a:t>docs</a:t>
            </a:r>
            <a:r>
              <a:rPr b="1" lang="es-MX" sz="1600" spc="-1" strike="noStrike" u="sng">
                <a:solidFill>
                  <a:srgbClr val="ff9900"/>
                </a:solidFill>
                <a:uFillTx/>
                <a:latin typeface="Arial Narrow"/>
                <a:hlinkClick r:id="rId12"/>
              </a:rPr>
              <a:t>/</a:t>
            </a:r>
            <a:r>
              <a:rPr b="1" lang="es-MX" sz="1600" spc="-1" strike="noStrike" u="sng">
                <a:solidFill>
                  <a:srgbClr val="ff9900"/>
                </a:solidFill>
                <a:uFillTx/>
                <a:latin typeface="Arial Narrow"/>
                <a:hlinkClick r:id="rId13"/>
              </a:rPr>
              <a:t>6PowerPoint</a:t>
            </a:r>
            <a:r>
              <a:rPr b="1" lang="es-MX" sz="1600" spc="-1" strike="noStrike" u="sng">
                <a:solidFill>
                  <a:srgbClr val="ff9900"/>
                </a:solidFill>
                <a:uFillTx/>
                <a:latin typeface="Arial Narrow"/>
                <a:hlinkClick r:id="rId14"/>
              </a:rPr>
              <a:t>.</a:t>
            </a:r>
            <a:r>
              <a:rPr b="1" lang="es-MX" sz="1600" spc="-1" strike="noStrike" u="sng">
                <a:solidFill>
                  <a:srgbClr val="ff9900"/>
                </a:solidFill>
                <a:uFillTx/>
                <a:latin typeface="Arial Narrow"/>
                <a:hlinkClick r:id="rId15"/>
              </a:rPr>
              <a:t>pdf</a:t>
            </a:r>
            <a:r>
              <a:rPr b="1" lang="es-MX" sz="1600" spc="-1" strike="noStrike" u="sng">
                <a:solidFill>
                  <a:srgbClr val="ff9900"/>
                </a:solidFill>
                <a:uFillTx/>
                <a:latin typeface="Arial Narrow"/>
                <a:hlinkClick r:id="rId16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499920" y="2997360"/>
            <a:ext cx="56055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324320" y="4870080"/>
            <a:ext cx="4781520" cy="11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99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679920" y="2532240"/>
            <a:ext cx="479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99"/>
                </a:solidFill>
                <a:latin typeface="Times New Roman"/>
              </a:rPr>
              <a:t>Aquí va el </a:t>
            </a:r>
            <a:br>
              <a:rPr sz="3600"/>
            </a:br>
            <a:r>
              <a:rPr b="1" lang="es-MX" sz="3600" spc="-1" strike="noStrike">
                <a:solidFill>
                  <a:srgbClr val="000099"/>
                </a:solidFill>
                <a:latin typeface="Times New Roman"/>
              </a:rPr>
              <a:t>subtítulo o subte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0" y="0"/>
            <a:ext cx="4219560" cy="6858000"/>
            <a:chOff x="0" y="0"/>
            <a:chExt cx="4219560" cy="6858000"/>
          </a:xfrm>
        </p:grpSpPr>
        <p:sp>
          <p:nvSpPr>
            <p:cNvPr id="94" name=""/>
            <p:cNvSpPr/>
            <p:nvPr/>
          </p:nvSpPr>
          <p:spPr>
            <a:xfrm>
              <a:off x="0" y="0"/>
              <a:ext cx="332424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5" name="" descr=""/>
            <p:cNvPicPr/>
            <p:nvPr/>
          </p:nvPicPr>
          <p:blipFill>
            <a:blip r:embed="rId1"/>
            <a:stretch/>
          </p:blipFill>
          <p:spPr>
            <a:xfrm>
              <a:off x="0" y="2809800"/>
              <a:ext cx="4219560" cy="4048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efefe">
                  <a:alpha val="43137"/>
                </a:srgbClr>
              </a:gs>
              <a:gs pos="50000">
                <a:srgbClr val="ffffff">
                  <a:alpha val="90196"/>
                </a:srgbClr>
              </a:gs>
              <a:gs pos="100000">
                <a:srgbClr val="fefefe">
                  <a:alpha val="43137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46200" y="1503360"/>
            <a:ext cx="428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Esta diapositiva es para insertar gráf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9144000" cy="656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28760" y="76320"/>
            <a:ext cx="3105000" cy="18730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79520" y="4113360"/>
            <a:ext cx="4603680" cy="106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 u="sng">
                <a:solidFill>
                  <a:srgbClr val="ff9900"/>
                </a:solidFill>
                <a:uFillTx/>
                <a:latin typeface="Arial Narrow"/>
                <a:hlinkClick r:id="rId2"/>
              </a:rPr>
              <a:t>UASLP</a:t>
            </a:r>
            <a:r>
              <a:rPr b="0" lang="es-MX" sz="16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0" lang="es-MX" sz="1600" spc="-1" strike="noStrike" u="sng">
                <a:solidFill>
                  <a:srgbClr val="ff9900"/>
                </a:solidFill>
                <a:uFillTx/>
                <a:latin typeface="Arial Narrow"/>
                <a:hlinkClick r:id="rId3"/>
              </a:rPr>
              <a:t>Complexus</a:t>
            </a:r>
            <a:r>
              <a:rPr b="0" lang="es-MX" sz="16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0" lang="es-MX" sz="1600" spc="-1" strike="noStrike" u="sng">
                <a:solidFill>
                  <a:srgbClr val="ff9900"/>
                </a:solidFill>
                <a:uFillTx/>
                <a:latin typeface="Arial Narrow"/>
                <a:hlinkClick r:id="rId4"/>
              </a:rPr>
              <a:t>Univ. de Guanajuato</a:t>
            </a:r>
            <a:r>
              <a:rPr b="0" lang="es-MX" sz="16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0" lang="es-MX" sz="1600" spc="-1" strike="noStrike" u="sng">
                <a:solidFill>
                  <a:srgbClr val="ff9900"/>
                </a:solidFill>
                <a:uFillTx/>
                <a:latin typeface="Arial Narrow"/>
                <a:hlinkClick r:id="rId5"/>
              </a:rPr>
              <a:t>ANUIES</a:t>
            </a:r>
            <a:r>
              <a:rPr b="0" lang="es-MX" sz="16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0" lang="es-MX" sz="1600" spc="-1" strike="noStrike" u="sng">
                <a:solidFill>
                  <a:srgbClr val="ff9900"/>
                </a:solidFill>
                <a:uFillTx/>
                <a:latin typeface="Arial Narrow"/>
                <a:hlinkClick r:id="rId6"/>
              </a:rPr>
              <a:t>CESU-UNAM</a:t>
            </a:r>
            <a:r>
              <a:rPr b="0" lang="es-MX" sz="1600" spc="-1" strike="noStrike">
                <a:solidFill>
                  <a:srgbClr val="000000"/>
                </a:solidFill>
                <a:latin typeface="Arial Narrow"/>
              </a:rPr>
              <a:t>,  </a:t>
            </a:r>
            <a:r>
              <a:rPr b="0" lang="es-MX" sz="1600" spc="-1" strike="noStrike" u="sng">
                <a:solidFill>
                  <a:srgbClr val="ff9900"/>
                </a:solidFill>
                <a:uFillTx/>
                <a:latin typeface="Arial Narrow"/>
                <a:hlinkClick r:id="rId7"/>
              </a:rPr>
              <a:t>SEP-SESIC</a:t>
            </a:r>
            <a:r>
              <a:rPr b="0" lang="es-MX" sz="1600" spc="-1" strike="noStrike">
                <a:solidFill>
                  <a:srgbClr val="000000"/>
                </a:solidFill>
                <a:latin typeface="Arial Narrow"/>
              </a:rPr>
              <a:t> y SEIT,  </a:t>
            </a:r>
            <a:r>
              <a:rPr b="0" lang="es-MX" sz="1600" spc="-1" strike="noStrike" u="sng">
                <a:solidFill>
                  <a:srgbClr val="ff9900"/>
                </a:solidFill>
                <a:uFillTx/>
                <a:latin typeface="Arial Narrow"/>
                <a:hlinkClick r:id="rId8"/>
              </a:rPr>
              <a:t>SEMARNAT</a:t>
            </a:r>
            <a:r>
              <a:rPr b="0" lang="es-MX" sz="16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0" lang="es-MX" sz="1600" spc="-1" strike="noStrike" u="sng">
                <a:solidFill>
                  <a:srgbClr val="ff9900"/>
                </a:solidFill>
                <a:uFillTx/>
                <a:latin typeface="Arial Narrow"/>
                <a:hlinkClick r:id="rId9"/>
              </a:rPr>
              <a:t>SEGAM</a:t>
            </a:r>
            <a:r>
              <a:rPr b="0" lang="es-MX" sz="1600" spc="-1" strike="noStrike">
                <a:solidFill>
                  <a:srgbClr val="000000"/>
                </a:solidFill>
                <a:latin typeface="Arial Narrow"/>
              </a:rPr>
              <a:t>-Gob. Edo SLP, Conacyt-SIGHO, ANAAE, CIIDET, </a:t>
            </a:r>
            <a:br>
              <a:rPr sz="1600"/>
            </a:br>
            <a:r>
              <a:rPr b="0" lang="es-MX" sz="1600" spc="-1" strike="noStrike">
                <a:solidFill>
                  <a:srgbClr val="000000"/>
                </a:solidFill>
                <a:latin typeface="Arial Narrow"/>
              </a:rPr>
              <a:t>ANEA, A.C., CEC-UIC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708160" y="4087800"/>
            <a:ext cx="3160080" cy="201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9900"/>
                </a:solidFill>
                <a:latin typeface="Arial"/>
              </a:rPr>
              <a:t>Créditos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1400"/>
            </a:br>
            <a:br>
              <a:rPr sz="1400"/>
            </a:b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Diseño del logotipo y otras imágenes:</a:t>
            </a:r>
            <a:br>
              <a:rPr sz="1400"/>
            </a:b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Luz María Hernández Nieto</a:t>
            </a:r>
            <a:br>
              <a:rPr sz="1400"/>
            </a:b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Diseño de la plantilla:</a:t>
            </a:r>
            <a:br>
              <a:rPr sz="1400"/>
            </a:b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Luz María Nieto Carave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Modificada por:</a:t>
            </a:r>
            <a:br>
              <a:rPr sz="1400"/>
            </a:b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(Pon aquí tu nombr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98600" y="5630760"/>
            <a:ext cx="45781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ttp://ambiental.uaslp.mx/foroslp/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0"/>
          <a:stretch/>
        </p:blipFill>
        <p:spPr>
          <a:xfrm>
            <a:off x="457200" y="2176560"/>
            <a:ext cx="3392640" cy="157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1T21:33:00Z</dcterms:created>
  <dc:creator>Luz María Nieto Caraveo</dc:creator>
  <dc:description>Plantilla opcional para ponentes del I Foro Nacional sobre la Incorporación de la Perspectiva Ambiental en la Formación Técnica y Profesional.</dc:description>
  <dc:language>en-US</dc:language>
  <cp:lastModifiedBy>Lmnieto</cp:lastModifiedBy>
  <dcterms:modified xsi:type="dcterms:W3CDTF">2003-05-26T01:49:01Z</dcterms:modified>
  <cp:revision>64</cp:revision>
  <dc:subject/>
  <dc:title>Tema "Manchas"</dc:title>
</cp:coreProperties>
</file>